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7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5.jpeg" ContentType="image/jpeg"/>
  <Override PartName="/ppt/media/image10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F3035-1869-491E-BCDC-F7B5517CDC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ackage #1, the student took an FWS job.  Later, the student was awarded an outside merit scholarship, which caused an overaward of $110.  The FAO spoke with the student who decided to just decline the entire FWS award, as he really the time to study.  In both packages, there is room for a parent PLUS lo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5407"/>
                </a:solidFill>
                <a:latin typeface="Times New Roman"/>
              </a:rPr>
              <a:t>Package #2 gives the student a subsidized loan by following the Chapter 30 exclusion.</a:t>
            </a:r>
            <a:r>
              <a:rPr b="1" lang="en-US" sz="2400" spc="-1" strike="noStrike">
                <a:solidFill>
                  <a:srgbClr val="007aa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5407"/>
                </a:solidFill>
                <a:latin typeface="Times New Roman"/>
              </a:rPr>
              <a:t>Even though remaining need is negative, package #2 has no overaward.   In package #3, by excluding the sub, the student has remaining need for campus-based aid.</a:t>
            </a:r>
            <a:r>
              <a:rPr b="1" lang="en-US" sz="2400" spc="-1" strike="noStrike">
                <a:solidFill>
                  <a:srgbClr val="cc5407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age #2 could be for the student who did not want to work.  In that case, there is still room the parent to borrow a PLUS loan, additional FSEOG, or Perkins Lo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8DDD1-25CE-4462-BEF9-242DBA3869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32921-F03F-4232-81A0-AE064FF90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2D5E4-7812-4EF1-9AB2-AD45FACAC4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21E6F-25F2-4102-9FC9-C36145A858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7DF93-AAF2-449B-90BD-D95DED5D6F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962DC-E7E8-4907-9CCF-D9212D887B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E73D2-5F2C-497E-9BE1-64B9DFC0AA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9BFCD-E0C3-42D0-96EB-2602AC2EE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B4A0F-0724-4BE2-8CD3-6E9654E421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ED3DF-FF2E-4B20-8173-D208C7DD4E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1FB2C-43E0-409D-AD20-675AA3038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B2583-EBBA-44A5-A63F-9F8C13864B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CD34-CB21-46D0-9734-0BEBC3009AD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FF-08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WARDING AID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nda Coffe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oundation of Aid Packag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ll Gr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es only to undergraduate students who have not received a bachelor’s or first professional degr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d using student’s COA, EFC, and ED’s Pell payment/disbursement schedu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other aid is considered in determining Pell elig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2604F-F01D-493E-B69A-D9B7640B830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Beyond the Found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3048120"/>
            <a:ext cx="5105160" cy="2875680"/>
          </a:xfrm>
          <a:prstGeom prst="rect">
            <a:avLst/>
          </a:prstGeom>
          <a:noFill/>
          <a:ln w="38160">
            <a:solidFill>
              <a:srgbClr val="cc5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45788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COA</a:t>
            </a: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$20,000</a:t>
            </a:r>
            <a:br>
              <a:rPr sz="2800"/>
            </a:b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-EFC</a:t>
            </a: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1,000</a:t>
            </a:r>
            <a:br>
              <a:rPr sz="2800"/>
            </a:b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-P</a:t>
            </a:r>
            <a:r>
              <a:rPr b="0" lang="en-US" sz="2800" spc="-1" strike="noStrike" u="sng">
                <a:solidFill>
                  <a:srgbClr val="007aa9"/>
                </a:solidFill>
                <a:uFillTx/>
                <a:latin typeface="Verdana"/>
              </a:rPr>
              <a:t>ell</a:t>
            </a:r>
            <a:r>
              <a:rPr b="0" lang="en-US" sz="2800" spc="-1" strike="noStrike" u="sng">
                <a:solidFill>
                  <a:srgbClr val="007aa9"/>
                </a:solidFill>
                <a:uFillTx/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7aa9"/>
                </a:solidFill>
                <a:uFillTx/>
                <a:latin typeface="Verdana"/>
              </a:rPr>
              <a:t>3,781</a:t>
            </a:r>
            <a:br>
              <a:rPr sz="2800"/>
            </a:b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=Remaining Need   </a:t>
            </a: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  $15,2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45788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calculating any Pell eligibility, use your packaging policy to take into account other sources of assistance available to the stu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4E13A-A70B-475D-A852-AAD37740C9B6}" type="slidenum">
              <a:t>11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cademic Competitiveness Grant ACG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 school graduate, from rigorous high school curricul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.S. Citize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eral Pell Grant recipient in same award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or second academic year student in a two or four year degree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ll-time enroll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mulative G.P.A. of at least 3.0 for second academic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FEA12-D0DE-4D13-A0E9-DDD5FE7BC8E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ational SMART Gran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.S. citiz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eral Pell Grant recipient in same award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r fourth academic year student in an eligible bachelor’s degree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ll-time enroll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joring in an eligible maj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mulative GPA of at least 3.0 prior to each disburs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EB3B5-AD54-4EE2-B3BF-86EBC225FE5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EACH Gran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graduate and Master’s Degree programs of stu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must meet specific academic qualif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need 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minimum enrollment status is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ximum award amount per year based upon enrollment stat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76BB1-7A02-44BC-9232-F50D2E7EA6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FEL/DL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graduate and graduate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s at least half-time enroll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s determination of Pell Grant elig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s determination of subsidized eligibility prior to awarding unsubsidized fu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s annual and aggregate lim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5CFF9-F7BB-4020-9EF1-47A47BC23DA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ampus-Based Ai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SEOG, FWS, and Perkins Lo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make funds reasonably available to all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minimum enrollment status is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44202-D4C6-409F-A34C-EC242154442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SEOG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y to undergraduate students who have not received a bachelor’s or first professional degr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award to students with lowest EFC who will also receive Pell Grant in that award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imum award is $1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ximum award is $4,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8CF3A-2562-4AD8-B88E-F4E42559497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ederal Work-Study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graduate and graduate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-based part-time employ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minimum or maximum aw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look at willingness to 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pay at least federal minimum w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A64BA-98D9-4805-B79B-E683DBDB2D1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erkins Loa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graduate and graduate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ive priority to students with exceptional need, as defined by sch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look at student’s willingness to rep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s annual and aggregate loan lim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A5431-BE2B-4134-8FE5-B294F961DEC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Is Packaging?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ding the best combination of aid programs to meet the student’s financial need, us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utory/regulatory lim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 resources at the sch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itutional poli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477120" y="4419720"/>
            <a:ext cx="2286000" cy="201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50E24-FD41-46C7-9442-E870EF2CEEF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vailable Institutional Ai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within aid office’s control and n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nal criteria and packaging poli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stantships and fellowshi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uition and fee wai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-based employ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324560" y="2819520"/>
            <a:ext cx="1819440" cy="145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C6BC3-B542-44D0-8B20-8A97FAC5340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utside Aid Student May Receiv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e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larships (organizations, merit, etc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 educational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loyer tuition assis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ternative education lo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553080" y="4894200"/>
            <a:ext cx="2362320" cy="19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4E2D4-6B77-4AF5-A6A2-1321DBD9275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Exceptions For Montgomery GI Bill &amp; AmeriCorps Benefit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exclude Chapter 30 VA benefits and AmeriCorps benefits as EFA when determining subsidized loan elig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include Chapter 30 VA benefits and AmeriCorps benefits as EFA for all other Title IV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, may exclude from EFA any portion of subsidized loan amou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mount of Chapter 30 or AmeriCorps benefits for campus-based, ACG, and National SMART Gr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6B5E4-87FF-4C97-9291-96F3B702253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mplete Aid Packag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Of Attend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Expected Family Con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stimated Financial Assis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 Ne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952880" y="1599840"/>
            <a:ext cx="4191120" cy="4343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114880" y="3478320"/>
            <a:ext cx="4029120" cy="337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461A3-CCAA-47F5-A949-A3921076296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ample Aid Packag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1523880"/>
            <a:ext cx="4876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99960"/>
                <a:tab algn="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COA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$20,000</a:t>
            </a:r>
            <a:br>
              <a:rPr sz="2400"/>
            </a:b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7aa9"/>
                </a:solidFill>
                <a:uFillTx/>
                <a:latin typeface="Arial"/>
              </a:rPr>
              <a:t>EFC</a:t>
            </a:r>
            <a:r>
              <a:rPr b="0" lang="en-US" sz="2400" spc="-1" strike="noStrike" u="sng">
                <a:solidFill>
                  <a:srgbClr val="007aa9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7aa9"/>
                </a:solidFill>
                <a:uFillTx/>
                <a:latin typeface="Arial"/>
              </a:rPr>
              <a:t>2,205</a:t>
            </a:r>
            <a:br>
              <a:rPr sz="2400"/>
            </a:b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Need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$17,795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Pell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$2,481</a:t>
            </a:r>
            <a:br>
              <a:rPr sz="2400"/>
            </a:b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Stafford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$3,500</a:t>
            </a:r>
            <a:br>
              <a:rPr sz="2400"/>
            </a:b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FSEOG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$1,500</a:t>
            </a:r>
            <a:br>
              <a:rPr sz="2400"/>
            </a:b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-   ACG                          $  750       -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FWS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$2,500</a:t>
            </a:r>
            <a:br>
              <a:rPr sz="2400"/>
            </a:b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7aa9"/>
                </a:solidFill>
                <a:uFillTx/>
                <a:latin typeface="Arial"/>
              </a:rPr>
              <a:t>Scholarship</a:t>
            </a:r>
            <a:r>
              <a:rPr b="0" lang="en-US" sz="2400" spc="-1" strike="noStrike" u="sng">
                <a:solidFill>
                  <a:srgbClr val="007aa9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7aa9"/>
                </a:solidFill>
                <a:uFillTx/>
                <a:latin typeface="Arial"/>
              </a:rPr>
              <a:t>$5,000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Unmet Need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$2,064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3733920"/>
            <a:ext cx="2362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3200400"/>
            <a:ext cx="533160" cy="1981080"/>
          </a:xfrm>
          <a:custGeom>
            <a:avLst/>
            <a:gdLst>
              <a:gd name="textAreaLeft" fmla="*/ 0 w 533160"/>
              <a:gd name="textAreaRight" fmla="*/ 374040 w 533160"/>
              <a:gd name="textAreaTop" fmla="*/ 82440 h 1981080"/>
              <a:gd name="textAreaBottom" fmla="*/ 189864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cc5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00800" y="3124080"/>
            <a:ext cx="2743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Estimated Financial Assistance (EF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$15,7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983DC-04B1-489F-93CB-64A77D773C8B}" type="slidenum">
              <a:t>24</a:t>
            </a:fld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ackaging Case Studi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4410000" cy="42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90F8E-F580-41C9-AA99-59B39C214F9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homas At Art &amp; Design Community Colleg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525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omas is a dependent student who graduated from high school in June 2006. He originally wanted to be a doctor, but has decided to follow his heart and major in fashion design. He has decided to attend Art &amp; Design Community College to get his AA prior to going on to a 4-year colle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3200400" cy="317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3C1B1-7915-4C17-AAA8-CA0DF7D371A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68544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homas At ADCC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#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8,0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8,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EF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1,0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1,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7,0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7,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ll Gra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,78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,78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75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75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SEO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,0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,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t Scholarshi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,0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,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W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,5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sidized Lo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,5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,5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erit Scholarshi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2,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tal Ai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2,53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2,03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aining Ne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,469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,96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93F24-41C3-4FE1-B5B3-75EA78989A3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George At XYZ State University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serving his country as a medic in the military, George has decided to return to college. His career goal is to be a physical therapist.  He has been volunteering at a local hospital since his discharge and is really excited about school.  George has $9,600 in Chapter 30, Montgomery GI Bill VA benefits to use for schoo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B6EFA-9750-42F1-931F-24D8C39903D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George At XYZ State University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#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#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4,90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4,9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,80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ll Gra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,98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,98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30 V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9,60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19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,11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sidized Loa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519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3,5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aining Ne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,61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33D0C-F678-4EC3-87E8-34C7FCD32EF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rior To Packaging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m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developed packaging poli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ed Title IV academic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ed payment peri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ed cost(s) of attend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ISIR with official EF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determine Pell Grant eligibility and ne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60CC3-ACE8-4429-9231-C047EE453B3C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George At XYZ State University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4,90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4,9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,80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ll Gra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,98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,98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30 V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9,60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96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sidized Loa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350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aining Ne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2,98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1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mpus-based Ai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1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28CAE-7F46-4740-8473-E7416904B3D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carlett At University Of Aeronautical Studi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790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high achiever since she won her state spelling bee as a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grader, Scarlett is determined to become an aeronautical engineer. She is a dependent US citizen, with a 3.98 GPA and in her third academic year. She is living at home with her parents &amp; nine broth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324480" y="1752480"/>
            <a:ext cx="2819520" cy="393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E186C-82A7-4BAB-9411-A16A92ADB108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carlett At UA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#1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A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5,0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5,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F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5,0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5,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ll Gra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,73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,73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SEO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tional SMAR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,0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,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sidized Lo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,5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,5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W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,0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ademic Awar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,5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,5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ASA Scholarshi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4,5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4,5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tal Ai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,73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8,73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aining Ne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,269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,26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29542-8F6A-4701-9432-2A153441DA30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1447920"/>
            <a:ext cx="8076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r feedback and comments are appreci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666880"/>
            <a:ext cx="6324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nda Coff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Offi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16-268-04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nda.coffey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EDB62-C412-48AB-B7B7-2CDD3D4D708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Is Need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A – EFC = Ne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A varies by school and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C is taken from ISI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is filled with available aid programs and other resou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2819520" y="4343400"/>
            <a:ext cx="3200400" cy="1556280"/>
          </a:xfrm>
          <a:prstGeom prst="rect">
            <a:avLst/>
          </a:prstGeom>
          <a:noFill/>
          <a:ln w="38160">
            <a:solidFill>
              <a:srgbClr val="cc5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r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7aa9"/>
                </a:solidFill>
                <a:latin typeface="Arial"/>
              </a:rPr>
              <a:t>COA</a:t>
            </a:r>
            <a:r>
              <a:rPr b="0" lang="en-US" sz="32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aa9"/>
                </a:solidFill>
                <a:latin typeface="Arial"/>
              </a:rPr>
              <a:t>$20,000</a:t>
            </a:r>
            <a:br>
              <a:rPr sz="3200"/>
            </a:br>
            <a:r>
              <a:rPr b="0" lang="en-US" sz="3200" spc="-1" strike="noStrike">
                <a:solidFill>
                  <a:srgbClr val="007aa9"/>
                </a:solidFill>
                <a:latin typeface="Arial"/>
              </a:rPr>
              <a:t>-  </a:t>
            </a:r>
            <a:r>
              <a:rPr b="0" lang="en-US" sz="3200" spc="-1" strike="noStrike" u="sng">
                <a:solidFill>
                  <a:srgbClr val="007aa9"/>
                </a:solidFill>
                <a:uFillTx/>
                <a:latin typeface="Arial"/>
              </a:rPr>
              <a:t>EFC</a:t>
            </a:r>
            <a:r>
              <a:rPr b="0" lang="en-US" sz="3200" spc="-1" strike="noStrike" u="sng">
                <a:solidFill>
                  <a:srgbClr val="007aa9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7aa9"/>
                </a:solidFill>
                <a:uFillTx/>
                <a:latin typeface="Arial"/>
              </a:rPr>
              <a:t>1000</a:t>
            </a:r>
            <a:br>
              <a:rPr sz="3200"/>
            </a:br>
            <a:r>
              <a:rPr b="0" lang="en-US" sz="3200" spc="-1" strike="noStrike">
                <a:solidFill>
                  <a:srgbClr val="007aa9"/>
                </a:solidFill>
                <a:latin typeface="Arial"/>
              </a:rPr>
              <a:t>= Need</a:t>
            </a:r>
            <a:r>
              <a:rPr b="0" lang="en-US" sz="32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aa9"/>
                </a:solidFill>
                <a:latin typeface="Arial"/>
              </a:rPr>
              <a:t>$19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7FC8A-BB8D-4D89-BE96-E5FC78C5F81D}" type="slidenum">
              <a:t>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st Of Attendanc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4000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uition and F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oks and Supp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por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om and Bo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al Expen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0840" y="1523520"/>
            <a:ext cx="4187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an F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end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ability Related Expen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y-Abroad Expen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B7387-9C72-4F26-93C0-77767A36D84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stimated Financial Assistance (EFA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4000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grant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educational Lo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larshi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t earnings from need-based employ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 educational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Exception for Chapter 3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3920" y="1523520"/>
            <a:ext cx="4000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loyer tuition reimburs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uition and fee wai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llowship and assistantshi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educational benefit paid because of postsecondary enroll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75747-F196-41BE-8590-17F98C1EE55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ackaging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86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ic Ne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A - EFC = Ne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$14,000 - 1000 = $13,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Bas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A - EFC - EFA = Ne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$14,000 - 1000 - 13,000 = 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n-Need 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A - EFA = Ne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$14,000 - $13,000 = $1,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74EF5-DFBC-4467-8A13-374A5563812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ackaging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bination of student aid and EFC must not exceed student’s CO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financial aid from any source becomes available after packaging, awards must be reduced until total package does not exceed CO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8BE0C-6DDF-4835-9CC8-7D46C4E4642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itle IV Aid Program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ll Gr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ademic Competitiveness Gr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SMART Gr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CH Gr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mpus-Based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SEO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eral Work-Stu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kins Lo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FEL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98760" cy="428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25B3F-BCBA-4438-AFA5-1E9160980A4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Amy Luycx</cp:lastModifiedBy>
  <dcterms:modified xsi:type="dcterms:W3CDTF">2008-11-04T12:52:27Z</dcterms:modified>
  <cp:revision>81</cp:revision>
  <dc:subject/>
  <dc:title>PowerPoint Presentation</dc:title>
</cp:coreProperties>
</file>