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7742D-95E4-4477-9F03-82570C3A5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ckage #1, the student took an FWS job.  Later, the student was awarded an outside merit scholarship, which caused an overaward of $110.  The FAO spoke with the student who decided to just decline the entire FWS award, as he really the time to study.  In both packages, there is room for a parent PLU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Package #2 gives the student a subsidized loan by following the Chapter 30 exclusion.</a:t>
            </a:r>
            <a:r>
              <a:rPr b="1" lang="en-US" sz="2400" spc="-1" strike="noStrike">
                <a:solidFill>
                  <a:srgbClr val="007aa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Even though remaining need is negative, package #2 has no overaward.   In package #3, by excluding the sub, the student has remaining need for campus-based aid.</a:t>
            </a: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#2 could be for the student who did not want to work.  In that case, there is still room the parent to borrow a PLUS loan, additional FSEOG, or Perkin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1296-96AC-4F6B-8FF5-E77082BFC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D158-61D4-41BA-933B-ACB376CC4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FAE4-0664-4BF1-A8C7-EDC1ED90C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A90C-A9F1-43FC-84D8-A96638CC2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5B64-13FD-48C3-904D-4A997851E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4B7C-3B9F-4354-85B7-072848007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A4DC-0D95-400B-9269-EF9E4AEE1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03C7-9535-49FC-99E2-2D0DF275C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D07C-C44B-4950-949F-709501364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8907-D072-422F-B91F-F2295A9C7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601E-DE7B-4C82-89C9-55BA6DA6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4984-3710-4703-B8B8-6134C237F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D485-8E0F-4A8A-802F-A186C04B54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FF-0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 A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undation of Aid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es only to undergraduate students who have not received a bachelor’s or first 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d using student’s COA, EFC, and ED’s Pell payment/disbursement sche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other aid is considered in determining Pell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0029-8188-4C70-80F9-6505D2A7F2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eyond the Found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048120"/>
            <a:ext cx="5105160" cy="28756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$20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EFC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1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P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ell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3,781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=Remaining Need  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$15,2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calculating any Pell eligibility, use your packaging policy to take into account other sources of assistance available to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B143-F46B-4ECA-9D16-62A1F2107892}" type="slidenum">
              <a:t>11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ademic Competitiveness Grant AC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graduate, from rigorous high school curricu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Citiz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or second academic year student in a two or four year degre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ulative G.P.A. of at least 3.0 for second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7E1E-5F2B-42AA-8568-EFDB3F67A7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SMART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citiz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r fourth academic year student in an eligible bachelor’s degre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ing in an eligible maj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ulative GPA of at least 3.0 prior to each dis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5BED-74DF-482D-9EE6-E1EE217DED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EACH Gra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Master’s Degree programs of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meet specific academic 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need 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inimum enrollment status i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amount per year based upon enroll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AFC8-4CF1-455A-A65A-D66EDD111A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/D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at least half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determination of Pell Grant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determination of subsidized eligibility prior to awarding unsubsidized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 annual and aggregate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D13D-BBCE-4B93-9319-47CFE16DB2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mpus-Based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, FWS, and Perkins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make funds reasonably available to all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inimum enrollment status i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D774-894C-443A-8CD7-41BBD77DA0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EO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to undergraduate students who have not received a bachelor’s or first 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award to students with lowest EFC who will also receive Pell Grant in that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award is $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ward is $4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E804-66A9-4AF6-A035-A9CF5B4F307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Work-Stud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 part-time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inimum or maximum a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ook at willingness to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pay at least federal minimum w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1AAE-5261-4E11-A574-EA2937AC423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rkins Loa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priority to students with exceptional need, as defined by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ook at student’s willingness to re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s annual and aggregate loan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B185-1ED8-4CD2-9D0F-5A6EF67B26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Packaging?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the best combination of aid programs to meet the student’s financial need, u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tory/regulatory li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resources at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al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28600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22C4-19E0-4C13-A408-6094B8E39F8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vailable Institutional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within aid office’s control and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criteria and packaging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antships and fellow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-bas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24560" y="2819520"/>
            <a:ext cx="181944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6A23-BAC0-4BB4-B237-F337D397059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utside Aid Student May Rece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 (organizations, merit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tuition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education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53080" y="4894200"/>
            <a:ext cx="236232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5D33-5F26-4B1D-8CDB-64306760B1C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xceptions For Montgomery GI Bill &amp; AmeriCorps Benefi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exclude Chapter 30 VA benefits and AmeriCorps benefits as EFA when determining subsidized loan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include Chapter 30 VA benefits and AmeriCorps benefits as EFA for all othe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, may exclude from EFA any portion of subsidized loan amou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mount of Chapter 30 or AmeriCorps benefits for campus-based, ACG, and 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1F87-4C03-4565-8332-2B836735F8F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mplete Aid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Of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stimated Financi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59984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14880" y="3478320"/>
            <a:ext cx="4029120" cy="33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F227-2B3F-4758-AC33-AAAF313626C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mple Aid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52388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9960"/>
                <a:tab algn="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2,205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7,79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Pell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481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Staffor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3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SEOG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   ACG                          $  750       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WS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Scholarship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$5,000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Unmet 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064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73392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200400"/>
            <a:ext cx="533160" cy="1981080"/>
          </a:xfrm>
          <a:custGeom>
            <a:avLst/>
            <a:gdLst>
              <a:gd name="textAreaLeft" fmla="*/ 0 w 533160"/>
              <a:gd name="textAreaRight" fmla="*/ 374040 w 5331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124080"/>
            <a:ext cx="2743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Estimated Financial Assistance (EF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5,7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4E6E-9495-496D-B214-9C2F006BA6DC}" type="slidenum">
              <a:t>2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ckaging Case Stud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4410000" cy="42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3A80-BB02-49F9-B7CC-E6515F1B230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omas At Art &amp; Design Community Colle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omas is a dependent student who graduated from high school in June 2006. He originally wanted to be a doctor, but has decided to follow his heart and major in fashion design. He has decided to attend Art &amp; Design Community College to get his AA prior to going on to a 4-year colle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3200400" cy="31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167A-EC38-4AD3-A589-B0692FF946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omas At ADC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F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78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78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5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 Schola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rit Schola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i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,53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,0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46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9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191D-EA96-486F-B048-EBE28700C3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e At XYZ State University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serving his country as a medic in the military, George has decided to return to college. His career goal is to be a physical therapist.  He has been volunteering at a local hospital since his discharge and is really excited about school.  George has $9,600 in Chapter 30, Montgomery GI Bill VA benefits to use for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0268-D011-4721-BDE5-9708B840F18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,6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,1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5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,6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4745-CD1C-44B3-A910-D481A3F48C1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To Pack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developed packaging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Title IV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payment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cost(s) of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ISIR with official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etermine Pell Grant eligibility and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A746-FEA2-42B9-94D0-C19C7DE43FD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9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,6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6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5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2,9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1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DD11-3CFA-4C62-9ACF-E4C1D60E746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arlett At University Of Aeronautical Stud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igh achiever since she won her state spelling bee as 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ader, Scarlett is determined to become an aeronautical engineer. She is a dependent US citizen, with a 3.98 GPA and in her third academic year. She is living at home with her parents &amp; nine br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819520" cy="393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F814-0357-4ED1-8567-3E6266AA628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arlett At UA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73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7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ional SMAR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ademic Awa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ASA Schola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,73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8,7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,26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,2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B39B-4980-4676-B38C-5CD5769998C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4479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feedback and comments are apprec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66880"/>
            <a:ext cx="6324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16-268-04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da.coffey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720F-ACE5-431D-81B7-386C39D80D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Ne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– EFC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varies by school and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is taken from IS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is filled with available aid programs and other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3200400" cy="15562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-  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1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= Need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19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E115-6B25-41E4-8564-F4CD2E67BF62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st Of Attend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s and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om and 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0840" y="1523520"/>
            <a:ext cx="4187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bility Related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y-Abroad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AB7F-A4DE-44A8-885B-84D83E8659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stimated Financial Assistance (EFA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grant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educational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earnings from need-bas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xception for Chapter 3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tuition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 and assistant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educational benefit paid because of postsecondary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8668-3C58-4599-899F-3ECCF3D634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- EFC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= $13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Bas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- EFC - EFA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- 13,000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Need 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 - EFA =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$13,000 = $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CF4F-1E13-4E08-A86C-A28D563AE3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student aid and EFC must not exceed student’s C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inancial aid from any source becomes available after packaging, awards must be reduced until total package does not exceed C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4047-1520-4779-9F54-511A692616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tle IV Aid Progr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Competitiveness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Work-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kins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9876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0DCA-D4EE-46C4-A644-968C3A4981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my Luycx</cp:lastModifiedBy>
  <dcterms:modified xsi:type="dcterms:W3CDTF">2008-11-04T12:52:27Z</dcterms:modified>
  <cp:revision>81</cp:revision>
  <dc:subject/>
  <dc:title>PowerPoint Presentation</dc:title>
</cp:coreProperties>
</file>