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4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5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6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8984E-DD4A-4370-90F6-34C645CD37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279440" y="3472920"/>
            <a:ext cx="7042320" cy="329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” added for 03-04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07/08, deadline date is expected to be September 24, 200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8E687-0A40-4170-B7C9-214B1064CE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D1512-48FB-4C7E-9B42-A9694E1A0C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CF4A4-7206-4192-8209-5F08506490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75138-25DA-4AA0-A06B-DC034B1B66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8F8F0-E84B-4F16-8D53-263BA4926E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1E68B-DE04-420F-879E-233D982500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D7206-324C-491A-9744-B889190950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86211-3162-4AE8-A078-89898DDA2B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99DE8-C515-4467-A620-9EECAC3FE2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24BC3-50E0-4531-BA39-A518C01937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1622D-C0EC-4BF7-9AC9-39A8FB1830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5EC02-1386-4021-9301-E148742775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BF2E7-16EF-472D-8FC4-EFC58BED12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18907-2F54-408E-ABF5-428DB9F441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E164B-23A9-4046-8ECA-A6CA0D7293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F3752-A5FB-4A20-A634-5D4F9BB59C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B31ED-C4BD-4320-A62A-800CBB93A2A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0AC0-3D0B-41CD-A841-33B3EF0686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EE87-195B-42B1-9FFD-0E2F21E0D7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21DF-B98A-401A-95E5-CE9D40BB758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461E-62B3-49BB-8B1F-3D58CA6D8CA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4F57-56F7-4251-A906-59AD4FD906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41355-292D-4455-884C-8109D56E12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D430-4048-47C2-A7CC-279AD0DCFC7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08F4-7FEB-439D-9872-E4E071DDF7A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ED5E-2901-4341-A134-DEB899D904E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6455-80C4-4698-A5AF-6D76DC13EF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5167-253F-4F96-8C8E-1C7352680E3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1E0E-2A8E-45B1-A278-F616A20781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86F8-F40A-41F3-9979-E779C9C76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E6CC7-E4B6-4819-A8DC-C58ECC4A6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C226D-DEC6-4501-9160-D7E3E0811B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F2AED-689C-4606-97BC-8E5E66B603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B9EB4-713D-47E4-A6F7-1709629065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2A241-808E-455A-903B-847E579F0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0EA13-029F-42A7-BA20-3FFAB18CF1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720C-592F-4136-96B5-26E78546606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98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DB33-EC63-4C68-A1E4-FD8D58BB727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98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3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DD0E-10A9-4D08-8D19-F30C513B454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Verific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rginia Hag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755280" y="1295280"/>
            <a:ext cx="317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FF-0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Data Must Be Verified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rtain untaxed income and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al Security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ild sup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RA/Keogh ded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eign income exclu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rned Income Cred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est on tax-free bo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4537-ABDF-4ECB-8653-D63BF67EEE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Data Must Be Verified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selected applic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determines data elements to be ver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requirement to verify same data elements as CPS selec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22C9-B301-4861-BAAF-ECA619B14F12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Documents Are Needed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434600"/>
            <a:ext cx="4457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taxable income, base year tax retur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untaxed income and benefi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ication Workshe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ficial agency docum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ed stat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e FSA Handboo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1" name="Rectangle 3"/>
          <p:cNvGraphicFramePr/>
          <p:nvPr/>
        </p:nvGraphicFramePr>
        <p:xfrm>
          <a:off x="4495680" y="1371600"/>
          <a:ext cx="339408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371600"/>
                    <a:ext cx="33940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Rectangle 3"/>
          <p:cNvGraphicFramePr/>
          <p:nvPr/>
        </p:nvGraphicFramePr>
        <p:xfrm>
          <a:off x="5486400" y="1981080"/>
          <a:ext cx="3351240" cy="419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1981080"/>
                    <a:ext cx="33512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4961-82A9-43A2-8FEC-CEEA041A5D4E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mpleting The Proces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30556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are the verification documents with the original FAFSA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reate own checklist/spreadshe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use verification tool on FAA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tha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 is correc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ons must be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use tolerance option if all errors are dollar amount err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B4B9-6EF7-4484-8801-31358C733F6A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550880"/>
            <a:ext cx="91440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S Mincho"/>
              </a:rPr>
              <a:t>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Tax Return Filed?                                     WILL F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Type of 2007 Tax Return Used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  10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Eligible to File 1040A or 1040EZ?               N0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Adjusted Gross Income                             4500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U.S. Income Tax Paid                                 33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Exemptions Claimed                                      0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Father's Income Earned From Work            4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Mother's Income Earned From Work                 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Total from Worksheet A                                   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Total from Worksheet B                                   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Mincho"/>
              </a:rPr>
              <a:t>Total from Worksheet C                                   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S Mincho"/>
              </a:rPr>
              <a:t>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SIR Data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4F80-B5BF-4D53-9FBD-BAE475AD1C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117880" y="574560"/>
            <a:ext cx="16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609480"/>
            <a:ext cx="53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ax Return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52280" y="1822320"/>
          <a:ext cx="8839440" cy="32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22320"/>
                    <a:ext cx="8839440" cy="32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251E-B98E-4B24-9AF4-7AF9671D47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17040" y="430200"/>
            <a:ext cx="38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ax Return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52280" y="965160"/>
          <a:ext cx="8839440" cy="492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65160"/>
                    <a:ext cx="8839440" cy="49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8BED-98BE-4038-935C-E5DAC9C63F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0" y="1676520"/>
          <a:ext cx="9144000" cy="2735280"/>
        </p:xfrm>
        <a:graphic>
          <a:graphicData uri="http://schemas.openxmlformats.org/drawingml/2006/table">
            <a:tbl>
              <a:tblPr/>
              <a:tblGrid>
                <a:gridCol w="1676520"/>
                <a:gridCol w="2057400"/>
                <a:gridCol w="266688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8"/>
                        </a:spcBef>
                        <a:spcAft>
                          <a:spcPts val="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IR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x Return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tch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5,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0,2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xes Pa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3,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2,6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kst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kst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1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ample Comparis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1632960" y="5315040"/>
            <a:ext cx="54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This ISIR requires correction!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4865-9EB4-49AF-8AD9-812C8BF369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Verification Status Cod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d when reporting Pell, ACG, SMART and Direct Loan payments to C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 - Verifi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 - Selected, but not ver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 - Paid without Docum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lank - ISIR not selected by CPS or sch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71F5-D1B0-4A02-B49B-AF55EC3A8ED5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Verification Toleranc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recalculation or reprocessing necessary 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is no change in non-dollar items used to calculate EF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is no dollar error in excess of $400 as calculated by the following formu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6298-1946-4318-8A25-22F0B92053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Is Verification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 by which certain required data reported on the FAFSA is reviewed for accuracy and complete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tect taxpayer dollars and program integr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A904-320B-43FA-B6FA-930773FF81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$400 Net Tolerance Op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750680"/>
            <a:ext cx="3809880" cy="2973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iginal Dat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Inco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11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axes P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Tot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00240" y="1676520"/>
            <a:ext cx="3957480" cy="3200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ed Da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Inco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11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axes P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 Tot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8006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pare the two total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llar change amount &lt; or = to 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AB3D-7CF8-4E68-88AA-E2D7C8527A26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nterim Disbursemen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re is no conflicting docum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Pell, ACG, National SMART Grant,  FSEOG and Perk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may make one disbursement for applicant’s first paymen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FWS, student employee may work for a maximum of 60 consecutive days from start of enroll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7E36-E734-42E6-9E5D-0DE6A0AF2333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nterim Disbursemen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re is no conflicting docum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Direct Loan and FF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may certify/originate subsidized lo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may certify/originate/disburse unsubsidized and PL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TEACH Gr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may disburs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0CFB-CDEC-474D-98A5-50F9C79D76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Verification Deadlin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896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y the earlier of 120 calendar days after student’s last date of enrollment OR date specified in Federal Regis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must provide all verification docum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IR must be corrected, if necess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0166-5985-4B2D-A83B-5193DBFF48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Update Applicant Inform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ll students, must always update dependency status if it changes during an award year*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students selected for verification by CPS, must always update household size and number in college at the time of verification*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4952880"/>
            <a:ext cx="678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*</a:t>
            </a: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Unless the reason is a change in the student’s marital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827E-C0C2-46D4-A18E-C35183C2FC4C}" type="slidenum">
              <a:t>2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member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flicting information must be resolved, regardless of verification stat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parate process from ver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olves any information of which the school has knowledg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resolve before disbursing any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38A6-C354-45E3-99B7-66B09E2D0B7A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152388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r feedback and comments are appreciat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419720"/>
            <a:ext cx="6172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1828800">
              <a:lnSpc>
                <a:spcPct val="115000"/>
              </a:lnSpc>
              <a:spcBef>
                <a:spcPts val="499"/>
              </a:spcBef>
              <a:buClr>
                <a:srgbClr val="007aa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2971800"/>
            <a:ext cx="685800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rginia Hag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Offi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15-486-562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rginia.w.hagins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F01D-E177-4C30-A1B3-CDA2FC3F1C7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quired Policies &amp; Procedur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icant’s responsibil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r explanation of documentation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adlines for student to provide documentation and consequences of failure to meet deadli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hod by which student is notified of award changes resulting from ver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dures for correction of FAFSA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dures for referring overpayments to 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12E5-1A37-4A57-8F76-7E28FB106F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otice To Selected Studen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must provide a written statement providing a clear explanation of the documentation requirements and the applicant’s responsibilities with regard to the verification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7B4D-DE7C-4E54-A4BF-DD74273CD0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ow Are Applicants Selected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PS sel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its that identify inconsistencies and potential err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ndom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sel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teria determined by sch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76DB-F24A-49DD-81B4-8C6207D962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Verification Exclus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52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is incarcer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is recent immigrant – either calendar year of award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is dece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is Pacific Island resi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ouse/parent unavail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ysical or mental incapa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ves in foreign country and cannot be reached through normal means of commun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A3B6-08A5-4926-B2E7-4536088D69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ow Many Must Be Verified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ed by the C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l requirement to verify all those selected by CP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stop at 30% of your applicant pool, if CPS selects more than 3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6FED-D06F-48B0-90BB-78837DB05BAD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30% Verification Op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3997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school is required to verify more than 30% of its total number of Title IV applic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must defin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otal number of Title IV applic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19720" y="1523520"/>
            <a:ext cx="4378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uld be total number of students w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to the sch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roll at the sch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 Title IV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an ISIR received by the sch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4764-1766-430F-B492-15EB0BC48E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Data Must Be Verified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d for CPS-selected appl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justed Gross Income (AGI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.S. Income tax p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sehold s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umber in colle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rtain untaxed income and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1E7F-B05A-4B3D-B630-6A4B41B8B021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22:38:33Z</dcterms:created>
  <dc:creator>jamie.malone</dc:creator>
  <dc:description/>
  <dc:language>en-US</dc:language>
  <cp:lastModifiedBy>Amy Luycx</cp:lastModifiedBy>
  <dcterms:modified xsi:type="dcterms:W3CDTF">2008-11-04T12:50:58Z</dcterms:modified>
  <cp:revision>27</cp:revision>
  <dc:subject/>
  <dc:title>PowerPoint Presentation</dc:title>
</cp:coreProperties>
</file>