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2DA0-F59D-403A-B53D-5358C3CB7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29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” added for 03-04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07/08, deadline date is expected to be September 24,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01B6-4F92-4EA6-A624-5444AEA20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7981-9464-47C8-8F2B-C5E82AE64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E2DF-ECBA-480D-B1E3-645DBE85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43C1-7B4C-4BA4-807D-2218C5388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025A-A6DD-4A49-BD79-3ADD911E42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CA05-9C49-40B1-92EF-65BBE6A5C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99AE-1576-4493-A2AC-EAB31A5AE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B0F8-8191-4ED6-9B67-793790B01E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743C-EF70-46A1-8217-5762F98FF9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4C11-7CFC-4A12-9F58-FF437AB7F3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A5DC-18B0-47E1-8244-B3A9926D4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F30A-707D-44C5-BA43-9FCD9FB2A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6A1F-4C39-4731-B6F7-1C75471C4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B470-ECB4-487B-A820-C719964261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A7DE-E0D9-46F8-966E-8D65019CE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7591-2025-4851-8868-4C5DF1ADC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86FA-AB36-48A1-943F-76833A9042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534-96A8-4B91-955C-1D656BEA15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0D2-52A3-4749-8BB4-256B5A0E25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9EB-82EF-43A0-A263-A7DD8DDA36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45D-7A6B-4DE8-B253-686778F212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E04-C9B4-4243-B873-58F13A896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3479-E45F-4CC8-B550-6D817FDF6F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DA-2368-4449-8EF9-85E005CB25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342-ED76-4ECF-A11E-2BC0FACF74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549-7C65-4927-93FC-524E843247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45F-E451-462D-A60C-6F905CDC66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2B2-3A7F-47F7-A5ED-FD2C5F0B98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AC3-0194-44D1-A420-2FFC40A908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1DD-96F1-45C8-A045-44DA4477A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6BCD-5844-44BB-B7EB-820B9C8BB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7163-0E1A-4887-9499-29AF8B1FD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F2B0-12A7-494B-B9E0-B85E0F300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E46E-1509-42F0-A383-F2CA4898D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F688-CAF7-40DC-A896-FFF480637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F017-81CC-4381-89B2-A663CB9FB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242-09B5-4F6B-960E-E9E5E4D30F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0E4-8E3B-4BFA-B35F-9B4579632F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B0F-C7AE-4AFB-93CA-4D4FFBCC5A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ginia Ha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55280" y="1295280"/>
            <a:ext cx="31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untaxed income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Security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/Keogh d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eign income ex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ed Income Cre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on tax-free b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87A-C1C0-4A4B-AEE1-68F2F0E3A4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elected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termines data elements to be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quirement to verify same data elements as CPS selec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192-C22E-48E2-9834-56B622CA71E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ocuments Are Need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434600"/>
            <a:ext cx="4457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axable income, base year tax ret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untaxed income and 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Work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agency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FSA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Rectangle 3"/>
          <p:cNvGraphicFramePr/>
          <p:nvPr/>
        </p:nvGraphicFramePr>
        <p:xfrm>
          <a:off x="4495680" y="1371600"/>
          <a:ext cx="3394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371600"/>
                    <a:ext cx="3394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Rectangle 3"/>
          <p:cNvGraphicFramePr/>
          <p:nvPr/>
        </p:nvGraphicFramePr>
        <p:xfrm>
          <a:off x="5486400" y="1981080"/>
          <a:ext cx="335124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3351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0F4-2B8F-4386-9030-782F1E697EF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mpleting The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verification documents with the original FAFSA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reate own checklist/spread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use verification tool on FA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th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s corre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ons must be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use tolerance option if all errors are dollar amount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E32-1211-4F26-BA2A-63ED66F2411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5088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ax Return Filed?                                     WILL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ype of 2007 Tax Return Used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 1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Eligible to File 1040A or 1040EZ?               N0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Adjusted Gross Income                             450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U.S. Income Tax Paid                                 33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Exemptions Claimed                                      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Father's Income Earned From Work            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Mother's Income Earned From Work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A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B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C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SIR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E35-F9B9-43EC-9DD3-A36FDC21A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17880" y="574560"/>
            <a:ext cx="16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09480"/>
            <a:ext cx="53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ax Return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1822320"/>
          <a:ext cx="8839440" cy="32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2320"/>
                    <a:ext cx="8839440" cy="32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C42-D7FF-4F7B-8757-2CBC66DC8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7040" y="430200"/>
            <a:ext cx="38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ax Return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965160"/>
          <a:ext cx="883944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65160"/>
                    <a:ext cx="883944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7BA-F39E-4274-8CEA-AC5566C9A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1676520"/>
          <a:ext cx="9144000" cy="2735280"/>
        </p:xfrm>
        <a:graphic>
          <a:graphicData uri="http://schemas.openxmlformats.org/drawingml/2006/table">
            <a:tbl>
              <a:tblPr/>
              <a:tblGrid>
                <a:gridCol w="1676520"/>
                <a:gridCol w="2057400"/>
                <a:gridCol w="26668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I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 Retur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,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2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,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2,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ks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ks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mple Comparis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632960" y="531504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is ISIR requires correction!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6DB-3473-48FB-AB47-A8398FD272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Status Co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hen reporting Pell, ACG, SMART and Direct Loan pay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- Verif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- Selected, but not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 - Paid without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nk - ISIR not selected by CPS o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17D-6733-4410-B5A8-064A868423C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Toler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calculation or reprocessing necessary 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no change in non-dollar items used to calculate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no dollar error in excess of $400 as calculated by the following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6E9-A7D2-476B-A360-490E767D5B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Verification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by which certain required data reported on the FAFSA is reviewed for accuracy and complet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tect taxpayer dollars and program 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939-6476-4A08-B94F-C57BC95BEE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$400 Net Tolerance Op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50680"/>
            <a:ext cx="3809880" cy="297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al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0240" y="1676520"/>
            <a:ext cx="3957480" cy="3200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ed 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800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are the two total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llar change amount &lt; or = to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905-B2D5-405E-9E38-D11E45F7755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im Disburs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is no conflic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CG, National SMART Grant,  FSEOG and Perk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make one disbursement for applicant’s first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FWS, student employee may work for a maximum of 60 consecutive days from start of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CE7-A785-45CA-822D-F4D9BD6A7FB5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im Disburs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is no conflic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irect Loan and FF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certify/originate subsidize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certify/originate/disburse unsubsidized and P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7A4-02D0-40F4-B652-9250BDEB15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Dead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e earlier of 120 calendar days after student’s last date of enrollment OR date specified in Federal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provide all verification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must be corrected, if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1B9-3927-4FF4-887B-6E9855CBA9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date Applican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students, must always update dependency status if it changes during an award year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students selected for verification by CPS, must always update household size and number in college at the time of verification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49528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*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Unless the reason is a change in the student’s marital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037-FBB2-4F72-A45F-FE0D38F9AA4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member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licting information must be resolved, regardless of verification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process from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 any information of which the school has knowled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solve before disbursing any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D23-0A34-4F07-A8DA-8929E2668B7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5238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971800"/>
            <a:ext cx="6858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ginia Ha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15-486-56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ginia.w.hagin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620-9699-4136-8FA2-02BEBCEDE9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quired Policies &amp; Procedur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nt’s responsi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explanation of documentatio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dlines for student to provide documentation and consequences of failure to meet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by which student is notified of award changes resulting from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for correction of FAFS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for referring overpayments to 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BCA-22C2-4486-954E-FBF962198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ce To Selected Stud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provide a written statement providing a clear explanation of the documentation requirements and the applicant’s responsibilities with regard to the verific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5D4-0B8A-42D9-BE6D-1C83CC1191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Are Applicants Select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s that identify inconsistencies and potential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eria determined by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715-0BBF-4CD2-AAEF-0E9EEBF6EA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Exclu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incarc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recent immigrant – either calendar year of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dece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Pacific Island 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use/parent un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or mental in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s in foreign country and cannot be reached through normal means of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3F0-6CDA-4DF1-9546-86B3DA28B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Many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ed by the C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requirement to verify all those selected by CP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stop at 30% of your applicant pool, if CPS selects more than 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059-D58B-423B-862C-F97156188DE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0% Verification Op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99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chool is required to verify more than 30% of its total number of Title IV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def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otal number of Title IV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19720" y="1523520"/>
            <a:ext cx="437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ld be total number of student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o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an ISIR received by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51F-3873-49FE-8AB2-A08C911354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for CPS-selected appl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Gross Income (AG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Income tax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hold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untaxed income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2B9-B135-484D-8524-B9C0E0FC0E0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22:38:33Z</dcterms:created>
  <dc:creator>jamie.malone</dc:creator>
  <dc:description/>
  <dc:language>en-US</dc:language>
  <cp:lastModifiedBy>Amy Luycx</cp:lastModifiedBy>
  <dcterms:modified xsi:type="dcterms:W3CDTF">2008-11-04T12:50:58Z</dcterms:modified>
  <cp:revision>27</cp:revision>
  <dc:subject/>
  <dc:title>PowerPoint Presentation</dc:title>
</cp:coreProperties>
</file>