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CASHREG.WAV" ContentType="audio/x-wav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4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5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6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B8F5A-4285-49E3-9A47-063BF93E2C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/6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9400" cy="2744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students with no dependents other than spouse do not qualify for automatic zero EFC calc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7EAB-E4D1-471E-8DE4-1491D07FA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CE31B-1134-4728-A817-6698E5153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DABE-FAAA-4058-B38B-FFF4E62DD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C7E3-8C0C-4C8A-A19E-8C0FB4391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A28D3-1838-47B9-8828-C15FED1BB4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C297-2E6D-4E20-85EC-3036D679E4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59567-F693-4D51-BC31-1131097606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90447-F4CB-4066-8597-D94675706D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D79BE-C58C-4207-B2AC-DDE9243660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7115F-FF54-4514-AA02-BB219AE2B0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82DF-067C-4AEA-88BB-299416C0B6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748D-2404-4DFB-88F9-12C0F4A4C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7EE95-F050-4042-B814-26D3C3203A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EFDC-CD9D-43AD-9F72-6E2448250A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E7F2D-5616-4401-AD8B-94B22C8DE5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8EA7-C852-458A-B89B-B179574210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97606-6331-48EA-BD26-B7C9897993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7C9-41A8-4AA9-9599-8651E043BA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70E-17C7-4D4A-BA31-E2E5CC28E9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EF67-DD89-49B9-B84B-56804DF48E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AB3-EF97-4493-930D-1B20E56B82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FBC-2AC4-4164-A33E-FB82A51E5A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4AEA-C8AF-445B-88FF-8D62DCDB51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C5D-0612-4F9A-97AA-A52DC74AC8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809-0046-4616-8683-078FB1B9A0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1FA-8A34-4642-BD62-FFF84AC80D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6A6B-E280-4991-BDF2-4D29D602F1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C281-BAED-4FD6-A5E2-CB9D26CEB2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A9D7-F9DA-4698-ADEC-B7C68E2450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B6A-891A-4D45-BF15-2076B3C98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5320-583C-4D38-B492-35C67ADF0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B48B-0933-4AB8-955A-4FF42ABF3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6AAC-E59C-4CD5-8BBB-242F15529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9E5F-47F0-415D-8BC3-C56FA0604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003C-36ED-4285-99CF-9501D4897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2C86-88B2-41A1-9160-C1C1A58D6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3B8E-B343-46DB-A79B-817C6F0CF37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BE8F-C1ED-434F-80E3-764B362F489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C3B6-E567-454A-9349-6C60E83A380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FF-05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49280" y="216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Expected Family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ianna Dee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lternate EFC Formula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ified formu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s are not considered in the calc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omatic Zero EFC formu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taxed income and assets are not considered in the calc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262-9034-4694-86B3-EB8F99E0C1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implified Formula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950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dependent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s’ AGI or income earned from work &lt; $50,000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s  are no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equir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file IRS form 10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of FAFSA household received federal means-test benef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D0A-CFCC-4017-86AE-536FEA8E3689}" type="slidenum">
              <a:t>11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implified Formul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ll independent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(and spouse) AGI or income earned from work &lt; $50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(and spouse) not required to file IRS form 10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of FAFSA household received federal means-test benef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AAF-0D72-4E6A-9BEB-229AA8E666E6}" type="slidenum">
              <a:t>12</a:t>
            </a:fld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tomatic Zero EFC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dependent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s’ AGI or income earned from work is $20,000 or le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s are not required to file IRS form 10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of FAFSA household received federal means-test benef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0ADE-1C50-4BCB-9BF7-F2C3F0180D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tomatic Zero EFC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independent students wit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ents other than a sp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’s (and spouse’s) AGI or income earned from work is $20,000 or 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(and spouse) not required to file IRS form 10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of FAFSA household received federal means-test benef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DB88-93DB-4C06-836D-8B5230619FA5}" type="slidenum">
              <a:t>14</a:t>
            </a:fld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NT &amp; Automatic 0 EFC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Means-Tested Benefit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emental Security Income (SS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orary Assistance for Needy Families (TANF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Supplemental Nutrition Program for Women, Infants, and Children (WI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od Sta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e or Reduced Price Lun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FCA5-0256-4C67-93E0-7E8729027009}" type="slidenum">
              <a:t>15</a:t>
            </a:fld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EFC Famil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parents, one wor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children in fami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hild in colle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ve in Illino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der parent is age 4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FF99-EBBF-4C0E-B582-E05943DAEBDA}" type="slidenum">
              <a:t>16</a:t>
            </a:fld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eatment of Income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Income (T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 year income from all taxab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untaxable 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xclusions on FAFSA Worksheet 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Total 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B55-0E99-47AC-90C7-57EB3BFDA9E9}" type="slidenum">
              <a:t>17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eatment of Income 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 Income (AI) is portion o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me remaining for discretionar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 Allowa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Available 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CD9-DEFB-4A04-9A43-1091C8C0418F}" type="slidenum">
              <a:t>18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tal Allowan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ances for tax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 S. Income tax p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 of state and other tax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 of resid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ount of total in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Security ta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Rectangle 3" descr=""/>
          <p:cNvPicPr/>
          <p:nvPr/>
        </p:nvPicPr>
        <p:blipFill>
          <a:blip r:embed="rId1"/>
          <a:stretch/>
        </p:blipFill>
        <p:spPr>
          <a:xfrm>
            <a:off x="5146560" y="2895480"/>
            <a:ext cx="3997440" cy="278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937A-0917-4B77-991B-2568C2F596CB}" type="slidenum">
              <a:t>19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FC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ected Family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sure of what the student and family can be expected to contribute to student’s cos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AE3-48AA-47A6-A785-2A3F546A5FCF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tal Allowan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me Protection Allowance (IP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s amount needed for basic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Bureau of Labor Statistics lower budget expenditures adjusted for CP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s with each household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reases with each member in colle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3B9-DB4F-4E75-911C-7597EA13BBAA}" type="slidenum">
              <a:t>20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tal Allowances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79" name="Rectangle 3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3476880" cy="39621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loyment expense allow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dditional costs when both parents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es to working single parent fami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54080" y="2590920"/>
            <a:ext cx="31845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49B-CDE1-40CF-A3A8-BC5B9FB893A7}" type="slidenum">
              <a:t>21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eatment of Asse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14378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s def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sh, savings, chec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ments and tru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l estate equ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siness/farm equity (not family own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ects first 60% of equity up to $105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reases protection percentage after $105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3AA-645E-4441-AA88-8ED2084368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988920" cy="2305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eatment of Asse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sh, savings, chec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Net worth of real estate and invest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djusted net worth of business/fa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Total Net Wo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3429000" cy="157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56F-6046-4F78-BC65-1D298735C8D3}" type="slidenum">
              <a:t>23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6120" y="762120"/>
            <a:ext cx="8562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eatment of Parents’ Asse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4600" y="1726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Net Wo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 Savings and Asse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rotection Allow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Discretionary Net Wo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943600" y="3809880"/>
            <a:ext cx="1808280" cy="195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8FA-85D4-46F3-9BBB-377BFF87D80D}" type="slidenum">
              <a:t>24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eatment of Parents’ Assets 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 Savings and Asset Prot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ects assets for retirement and future education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es when parent is age 26 or ol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s with 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usted for marital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2FA-6D6A-4641-A82A-678425D5DD95}" type="slidenum">
              <a:t>25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440" y="762120"/>
            <a:ext cx="8540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eatment of Parents’ Assets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retionary Net Wo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2% asset conversion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Contribution from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D2A-4B9B-49AE-956E-0A5987FC4D96}" type="slidenum">
              <a:t>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djusted Available Incom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s’ Available Income (+/-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arents’ contribution from assets (+/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Total Adjusted Available Income (+/-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0F1-E139-48BA-8D8B-1B55EBFB4CC1}" type="slidenum">
              <a:t>27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5240" y="685440"/>
            <a:ext cx="858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Determining Parents’ Contribu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4360" y="1536840"/>
            <a:ext cx="7953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income increases, amount needed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 household expenses decre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retionary income incre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me available for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usted Available Income (AA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AI contribution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Total Parents’ Contribution from A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5FB-0648-4244-83C2-A0D1B02F88AE}" type="slidenum">
              <a:t>28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6120" y="762120"/>
            <a:ext cx="8562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termining Parents’ Contribu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contribution from AAI is divid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nly among all household members i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e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PC from AAI / Number in Colle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9 month PC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331-8269-4E8D-BAE5-9804EC650C4E}" type="slidenum">
              <a:t>29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5240" y="533160"/>
            <a:ext cx="8583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pected Family Contribution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0440" y="15822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d from data collected on the FAF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ula is in statu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ed to measure the family’s financial str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 publishes updated tables each year in the Federal Regi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3E9-F386-4A08-9C7C-832FC3D52FEE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5240" y="762120"/>
            <a:ext cx="8583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termining Dependent Student’s Contribu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of student taxable + untax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taxes p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 of state and other tax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3,080 IP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llowance for parents’ negative A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Available income (A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50% assessment of 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Student contribution from 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EDB-2D16-4C40-A620-0A86206168D3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240" y="762120"/>
            <a:ext cx="8583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termining Student’s Contribu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7680" y="1794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sh, savings, chec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Net worth of real estate and invest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djusted net worth of business/fa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Total Net Wor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2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Student contribution from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976320" y="4156200"/>
            <a:ext cx="380052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66C-C19A-4711-9083-F0A06F643D8A}" type="slidenum">
              <a:t>31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termining EFC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s’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Student’s contribution from 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tudent’s contribution from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9 month 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400800" y="4114800"/>
            <a:ext cx="1292400" cy="19065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410080" y="4876920"/>
            <a:ext cx="105588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75A-4F73-42A1-92C5-5816BBBD8204}" type="slidenum">
              <a:t>32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f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160" y="1269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were two family members in colleg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PA is $21,02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allowances against parent’s income  are $28,5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AI is $14,20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PC is 157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EFC is 159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9CA-F98E-4534-8568-7FD5E3A47CC1}" type="slidenum">
              <a:t>33</a:t>
            </a:fld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sour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8-2009 FSA Handbook, Application &amp; Verification Guide, Chapter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C Formula Guide on IF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20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ifap.ed.gov/efcinformation/0809EFCFormulaGuide.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084-813E-4F44-975C-C99176FF306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469800" y="1487520"/>
            <a:ext cx="80773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r feedback and comments are appreci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8400" y="2781360"/>
            <a:ext cx="7232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ianna Dee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Offi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6-615-25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ianna.deeken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319-694B-4EB5-9383-AB81A988CA8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inciples of Need Analysi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ily has primary responsibility to pay for educational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and parents are expected to contribute to the extent they are 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ilies should be evaluated in an equitable and consistent mann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C28-6716-40A5-8956-9CBC83478DC3}" type="slidenum">
              <a:t>4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ed Analysis Concep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-based funds are available to assist with educational costs that exceed the family’s ability to p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sses family’s financial strength at the time of appl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ily resources are devoted first to basic subsist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919-E19F-4412-83B7-1A147EBF52E3}" type="slidenum">
              <a:t>5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actors that affect EFC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xable and untaxed 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xes p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ber in Househ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ber in Colle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 of the older par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ber of wage ear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791320" y="2666880"/>
            <a:ext cx="26622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2DEF-CADC-492C-BD3C-FF07EAE19194}" type="slidenum">
              <a:t>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FC Calcul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C result on page 1 of ISIR is a 9 month 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 specifies how an EFC must be calculated for periods of other than nine mon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ults show on ISIR by number of mon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 month EFC must be used for Pell Grant 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4445-57F7-4679-BD3D-B7D0B30A93E3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is EFC Determin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54440" y="1523520"/>
            <a:ext cx="4184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distinct  formul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omatic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tretch/>
        </p:blipFill>
        <p:spPr>
          <a:xfrm>
            <a:off x="304920" y="2297160"/>
            <a:ext cx="4184640" cy="279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D44-1A6B-457F-ADD2-FB360D05E370}" type="slidenum">
              <a:t>8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gular Formul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versions of regular formu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ent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 students without dependents other than a sp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 students with dependents other than a sp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033-DCF8-4001-A255-BB84CAE399B6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07:13:24Z</dcterms:created>
  <dc:creator>EPMDEEKEN</dc:creator>
  <dc:description/>
  <dc:language>en-US</dc:language>
  <cp:lastModifiedBy>Amy Luycx</cp:lastModifiedBy>
  <dcterms:modified xsi:type="dcterms:W3CDTF">2008-11-04T12:47:36Z</dcterms:modified>
  <cp:revision>47</cp:revision>
  <dc:subject/>
  <dc:title>Need Analysis in Special Circumstances</dc:title>
</cp:coreProperties>
</file>