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CASHREG.WAV" ContentType="audio/x-wav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AEE48-F997-4234-8BB4-97B094665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6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9400" cy="2744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students with no dependents other than spouse do not qualify for automatic zero EFC cal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F872-9E48-4094-A25F-60FAF7726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C4E1-BA61-4083-9D2D-29DDFAF83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969E-8B54-4B3B-8696-368EC461A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A69F-6AB3-4BA8-81D1-F900F2A15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3422-6682-436A-9E7A-4361B1662E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71E7-5655-4F00-A369-4C58B6811D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55EA-476C-4818-AEB5-67E43F5652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D77D-11FE-474C-BDC3-67C97DAD51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3DF0-ED80-4D1F-BDB2-CECCADFED5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28EE-CBD3-4E38-A76D-7B999225AD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4E54-D0DD-4B69-AA3F-F1EE22D889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BD7F-4770-4BF7-B537-23775C8B3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A603-9EA9-4D34-A930-8630E5B65F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8B64-DE37-4007-89B8-BA730B8225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D44A-DD56-4F37-92C1-CA4A8C7E51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5CF7-F4A1-44EA-9025-D8DF23FC3C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AA1A-AEEB-43A1-A96F-277A0F5C34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E2A-C205-487E-A0E0-C99A46D5CD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FE0-4601-46B8-8189-5F4E266646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B5E-082A-47B3-8318-92DB80D31D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D2F-429C-490F-9575-2EDB873055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67A-A3EE-4266-9D01-40AFB08F62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018C-DE16-414B-9443-83CEC5211B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B00-0925-46E8-8CF2-9A23747496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057-F0BB-4B90-809F-9E5BF49D7B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F67-72C8-4A3B-8399-99B0CE1832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3B6-FD55-4CDE-BA50-2791AC1E78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702-F5E3-4786-8C39-25CD048CA7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79C-CC2C-41EA-BE2E-7E108D0CDB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722-A942-4C8C-9FAE-2F167169F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4F76-249E-4D45-82CD-C87C57E30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D603-98E5-4903-8ABC-34A58FA0C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1D65-9304-413F-A104-9C356838B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28A0-9797-4B56-AB61-23BBC1EDF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4DDA-AF4D-4F2B-9CEE-2F6EEAA48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F7B2-8698-49E3-892F-49CADB865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4DFE-DFAC-418E-8958-8E8E0CBA9B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6555-CF00-47D5-A16A-ADB277EF101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224B-6506-4533-80A8-8C6296781A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FF-05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49280" y="216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Expected Family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ianna Dee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lternate EFC Formula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fied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s are not considered in the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ic Zero EFC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taxed income and assets are not considered in the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BE0-493A-4EB4-B046-75404DD4D6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implified Formula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950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AGI or income earned from work &lt; $50,000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  are no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quir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3DA-1B7D-4B1E-B0B4-F1E3D1DA9D75}" type="slidenum">
              <a:t>1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implified Formul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ll in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AGI or income earned from work &lt; $50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110-A9FF-4640-A3C8-C10E18AC8043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tomatic Zero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AGI or income earned from work is $20,000 or l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 are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11C-387B-49B7-87BC-D6C907A75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tomatic Zero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independent students wit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s other than a sp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’s (and spouse’s) AGI or income earned from work is $20,000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100-A35A-4562-911B-46E595604AAF}" type="slidenum">
              <a:t>14</a:t>
            </a:fld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NT &amp; Automatic 0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Means-Tested Benefi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emental Security Income (SS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orary Assistance for Needy Families (TAN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Supplemental Nutrition Program for Women, Infants, and Children (W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ta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 or Reduced Price Lun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032-B23C-413C-B8E4-16E3FF5832B7}" type="slidenum">
              <a:t>15</a:t>
            </a:fld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EFC Famil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parents, one wor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hildren in fam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hild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 in Illino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parent is age 4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980-1052-443B-9B22-36BDD1295E20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Income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come (T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year income from all taxab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untaxable 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lusions on FAFSA Worksheet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F4C-781D-47DA-8BB7-2B76C33DFCE6}" type="slidenum">
              <a:t>1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Income 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 Income (AI) is portion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 remaining for discretiona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 Allow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Available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D2D-4C36-45F6-84F5-15B57FB1D521}" type="slidenum">
              <a:t>1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llowa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ances for ta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 S. Income tax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 of state and other ta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of resi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ount of total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Security t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Rectangle 3" descr=""/>
          <p:cNvPicPr/>
          <p:nvPr/>
        </p:nvPicPr>
        <p:blipFill>
          <a:blip r:embed="rId1"/>
          <a:stretch/>
        </p:blipFill>
        <p:spPr>
          <a:xfrm>
            <a:off x="5146560" y="2895480"/>
            <a:ext cx="399744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62F-0C53-4F46-BA00-302F479AE087}" type="slidenum">
              <a:t>1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cted Family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 of what the student and family can be expected to contribute to student’s cos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D60-D024-4CA6-9CDE-D9986EF25AE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llowa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 Protection Allowance (IP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 amount needed for basic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Bureau of Labor Statistics lower budget expenditures adjusted for CP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s with each household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es with each member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F14-2DDC-42F5-BF65-558467771059}" type="slidenum">
              <a:t>2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llowance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9" name="Rectangl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3476880" cy="3962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ment expense allow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dditional costs when both parents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es to working single parent fami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54080" y="2590920"/>
            <a:ext cx="31845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F46-F9ED-420E-BE27-86978CAA20E2}" type="slidenum">
              <a:t>2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Ass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437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s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ments and tru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l estate equ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/farm equity (not family own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s first 60% of equity up to $105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es protection percentage after $105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9A4-A08B-412B-9D97-79643159BB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988920" cy="230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Ass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Net worth of real estate and invest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djusted net worth of business/f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3429000" cy="15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673-F5E8-4F6F-8C15-55E8C2D344CE}" type="slidenum">
              <a:t>2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6120" y="762120"/>
            <a:ext cx="8562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Parents’ Ass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1726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Savings and Ass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otection Allow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Discretionary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43600" y="3809880"/>
            <a:ext cx="1808280" cy="19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817-87FB-4D67-B10E-1578F7030A44}" type="slidenum">
              <a:t>2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Parents’ Assets 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Savings and Asset Prot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s assets for retirement and future education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es when parent is age 26 or o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s with 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ed for marital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E3B-8774-4C01-823C-35468D123EF5}" type="slidenum">
              <a:t>2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440" y="7621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Parents’ Asset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etionary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2% asset conversion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Contribution from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C73-4EFB-4068-B05B-5A1A79A6DE30}" type="slidenum">
              <a:t>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justed Available Incom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Available Income (+/-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arents’ contribution from assets (+/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Adjusted Available Income (+/-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FB1-A90B-4811-8B98-0D878708A94C}" type="slidenum">
              <a:t>2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5240" y="685440"/>
            <a:ext cx="858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Determining Parents’ Contribu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4360" y="1536840"/>
            <a:ext cx="7953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income increases, amount needed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household expenses de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etionary income in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 available for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ed Available Income (AA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AI contribution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Parents’ Contribution from A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9B2-8186-42E9-B081-28DCA15EA888}" type="slidenum">
              <a:t>2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6120" y="762120"/>
            <a:ext cx="8562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Parents’ Contribu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contribution from AAI is divid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ly among all household members 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PC from AAI / Number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9 month PC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B5F-32D0-48FA-906A-4190C904068F}" type="slidenum">
              <a:t>2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5240" y="533160"/>
            <a:ext cx="8583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pected Family Contribution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0440" y="15822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d from data collected on the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 is in stat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ed to measure the family’s financial str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 publishes updated tables each year in the Federal Regi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EE7-767C-4F26-8C36-F518C965817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5240" y="762120"/>
            <a:ext cx="8583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Dependent Student’s Contribu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of student taxable + unta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taxes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 of state and other ta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3,080 I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owance for parents’ negative A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Available income (A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50% assessment of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Student contribution from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BF8-C62C-4196-9857-75CD24EBDEF4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62120"/>
            <a:ext cx="8583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Student’s Contribu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7680" y="1794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Net worth of real estate and invest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djusted net worth of business/f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2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Student contribution from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976320" y="4156200"/>
            <a:ext cx="380052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542-ED15-4F55-90C1-415FAE7AADE9}" type="slidenum">
              <a:t>3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Student’s contribution from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udent’s contribution from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9 month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1292400" cy="1906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410080" y="4876920"/>
            <a:ext cx="10558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320-B9AF-454A-B676-3BB1FDC45223}" type="slidenum">
              <a:t>3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f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269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were two family members in colle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PA is $21,0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allowances against parent’s income  are $28,5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AI is $14,2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PC is 157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EFC is 15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F82-1FA4-49FB-AD0D-90A238802F27}" type="slidenum">
              <a:t>33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-2009 FSA Handbook, Application &amp; Verification Guide, Chapter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 Formula Guide on IF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ifap.ed.gov/efcinformation/0809EFCFormulaGuide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558-68F3-45DC-BA48-00DFD8E79B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469800" y="1487520"/>
            <a:ext cx="80773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feedback and comments are apprec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400" y="2781360"/>
            <a:ext cx="7232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ianna Dee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6-615-25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ianna.deeke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36A-F28D-4CF6-9D6C-EEBDD9BA76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nciples of Need Analysi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has primary responsibility to pay for educational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and parents are expected to contribute to the extent they are 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ies should be evaluated in an equitable and consistent man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EB2-C523-4479-A9DE-2531DC3C539B}" type="slidenum">
              <a:t>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ed Analysis Concep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 funds are available to assist with educational costs that exceed the family’s ability to 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es family’s financial strength at the time of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resources are devoted first to basic subsist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812-6BE4-4116-8939-2DA650010CBA}" type="slidenum">
              <a:t>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actors that affect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able and untaxed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in House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 of the older par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of wage ear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6622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4A3-B92A-4C34-B2B1-E49F3B7466B1}" type="slidenum">
              <a:t>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C Calcu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 result on page 1 of ISIR is a 9 month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specifies how an EFC must be calculated for periods of other than nine mon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 show on ISIR by number of mon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 month EFC must be used for Pell Grant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7F5-D739-4135-916A-A7D837CA724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is EFC Determin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54440" y="1523520"/>
            <a:ext cx="418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distinct  form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ic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tretch/>
        </p:blipFill>
        <p:spPr>
          <a:xfrm>
            <a:off x="304920" y="2297160"/>
            <a:ext cx="4184640" cy="27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FFA-20C2-4E3B-A2BD-58FE681DE012}" type="slidenum">
              <a:t>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gular Formul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versions of regular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students without dependents other than a sp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students with dependents other than a sp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9B1-6702-4298-9B68-8764A92582B9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7:13:24Z</dcterms:created>
  <dc:creator>EPMDEEKEN</dc:creator>
  <dc:description/>
  <dc:language>en-US</dc:language>
  <cp:lastModifiedBy>Amy Luycx</cp:lastModifiedBy>
  <dcterms:modified xsi:type="dcterms:W3CDTF">2008-11-04T12:47:36Z</dcterms:modified>
  <cp:revision>47</cp:revision>
  <dc:subject/>
  <dc:title>Need Analysis in Special Circumstances</dc:title>
</cp:coreProperties>
</file>