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3CA0-8300-46EB-832C-DE6EF9838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9465-102A-458E-BAF0-DCF31B283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92ED-D1E5-44F3-84C7-1DD37621F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558B-8B33-49EE-909B-909C690C9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90A4-C5B6-46DF-804F-4E4776184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2B54-0708-482C-BD22-D7A293270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5BB7-FB49-423B-B1F8-A97593CCA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91CE-7157-4BC9-9ACC-4720139C9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02A6-17E8-4C39-A55C-FD3F3A4E1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1C5D-F36D-45E3-A7C6-381FD53E6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7B79-7637-429B-BC0B-071FE8BAE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436E-0185-4694-A17C-284BAA480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D81-3557-462D-A8CA-1E8AE6753A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elcome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To Las Vegas &amp; FSA’s 2008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all Confere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0" y="38095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ndy Sant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ndra.santana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46-428-375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9:14:53Z</dcterms:created>
  <dc:creator>Jamie A. Malone</dc:creator>
  <dc:description/>
  <dc:language>en-US</dc:language>
  <cp:lastModifiedBy>Amy Luycx</cp:lastModifiedBy>
  <dcterms:modified xsi:type="dcterms:W3CDTF">2008-11-03T19:25:14Z</dcterms:modified>
  <cp:revision>54</cp:revision>
  <dc:subject/>
  <dc:title>So, This Is Your First EAC….</dc:title>
</cp:coreProperties>
</file>