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CDD7-3281-4096-8104-D374BD02E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E501-14AE-4DE8-AFCA-272DA2367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70D9-BD28-46DB-86E5-36520A52E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13F4-5B45-4286-8AF5-973AF21B9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6BEF-71E9-4E35-AEAB-F7E3BF559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E9FC-D5EF-4D11-A53B-238400EF1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09DA-1956-4457-BA61-F9E9CE417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4779-C78D-4AAD-ABB1-7C7E09A4C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0FB7-48AB-4A20-9F98-462708A2E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B62E-41BF-40C1-86BC-4FBC449DE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9431-EF9B-4BA4-A7CD-464B2095A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277E-B36C-4B95-B847-3605706CB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755D-A506-4403-9CC8-9F801F1128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elcome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To Las Vegas &amp; FSA’s 2008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all Confere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0" y="38095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ndy Sant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ndra.santana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46-428-375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9:14:53Z</dcterms:created>
  <dc:creator>Jamie A. Malone</dc:creator>
  <dc:description/>
  <dc:language>en-US</dc:language>
  <cp:lastModifiedBy>Amy Luycx</cp:lastModifiedBy>
  <dcterms:modified xsi:type="dcterms:W3CDTF">2008-11-03T19:25:14Z</dcterms:modified>
  <cp:revision>54</cp:revision>
  <dc:subject/>
  <dc:title>So, This Is Your First EAC….</dc:title>
</cp:coreProperties>
</file>