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99DD-FCBF-44B2-92DF-30981457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4A87-13AB-4DF7-AABD-BDD05DC6D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93AA-7FCE-4522-8F44-0C7A2799F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EDE8-E5F1-4FB4-B52A-AF04DD0DB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5ABF-573A-4E50-B9BA-2C5929603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C1E7-28EF-4A7F-BCD6-517C0EC4D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1C34-16E0-4027-ABCF-F523158E8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BD33-5FFA-4A5C-8184-3D61CACA9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98E6-CB7D-468B-AEB6-4A397DCFC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02F6-7C01-4FD8-A775-43B62E493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C7A1-B521-4578-A820-FEA9FAF3F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872C-F2EA-45E4-BC88-8FBABC7BB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95E-39C1-488D-9B99-93EC0A3BA8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C-3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rds of a F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699000"/>
            <a:ext cx="79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y 2, 7:30 a.m. - 8:30 a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eer Schools - Vendom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year Schools - Vendom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year Private Schools – Vendom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uate Schools – Rivoli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year Public Schools – Rivol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4T16:31:48Z</dcterms:modified>
  <cp:revision>248</cp:revision>
  <dc:subject/>
  <dc:title>PowerPoint Presentation</dc:title>
</cp:coreProperties>
</file>