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F742-C0A5-47C0-AD0B-CCBB7ACCB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EE89-4D34-4207-B8A0-EE5F688B3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413A-3AD7-4A06-B7A1-8242AE976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A9517-06DE-461A-A7C5-369F6B911E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A4D18-B0AF-4974-A3D9-AA5F1ACDB1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87682-4A9A-47B9-B05F-E66FD9BB0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0F83F-CD50-4E51-8826-629AC0CE1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D5A58-8C8C-478A-9BF0-9E0B200F8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9F944-3933-4A00-B945-1188D59D1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450AC-77DE-4181-A60E-0FC70C754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015F-70FE-4274-AA70-E1124BA2F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ABAE-AE4C-421C-9455-6CB4EDCD4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9E4B-7BE2-49B5-9A4A-406007ACE74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C-35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irds of a Feath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ess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3699000"/>
            <a:ext cx="797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y 2, 7:30 a.m. - 8:30 a.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eer Schools - Vendom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-year Schools - Vendom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-year Private Schools – Vendom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duate Schools – Rivoli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-year Public Schools – Rivoli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my Luycx</cp:lastModifiedBy>
  <dcterms:modified xsi:type="dcterms:W3CDTF">2008-11-04T16:31:48Z</dcterms:modified>
  <cp:revision>248</cp:revision>
  <dc:subject/>
  <dc:title>PowerPoint Presentation</dc:title>
</cp:coreProperties>
</file>