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56E73-EAAB-45FF-9C46-F9AF96EA7E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502A2-4013-4DB8-9C3E-CD55F74912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EAAAA-CA61-41D8-9F06-35C9386EBB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39217-69EB-4F2D-96BE-7607AFCB5B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3B853B-4AC7-4662-9F64-318E7716B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50BD3A-B8B0-4036-98EB-CDE51B864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FCB2B2-6952-4E83-B4CF-C341FEA5C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EE9100-6413-463F-8893-6AC739875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5BB172-001C-4ACA-983B-348502760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781300-26D3-4C56-B461-392A39884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391853-84A9-4406-AB1B-D81322F3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9AF79-9F15-436B-9694-8A632E3850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41C239-C3A3-4F0D-8EC3-3C13C3F7C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AF7BA3-AF69-42F2-9730-DADCC7D13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50D85C-EA00-4396-AF16-4EEEDD704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2B32C7-112B-4520-AA44-5284CC0B8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43031C-B4D7-4167-BF01-098F9C3A3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B8A830-D438-458E-9AD0-0C3586F60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53A6BF-AA51-4A73-AACB-D55A577FC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17FF8C-082F-41B4-ABC2-1432A825A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AA49E9-E21E-4F20-8106-6B7445563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F39151-3E1A-4B5F-886E-89D196ACE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225C8-FF4C-447F-A1AA-E3070F96356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30802D-C853-428F-A813-FF9AE5D78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77B9E8-F860-4EF6-A603-E3BC753E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CE43B0-97CD-4301-A2C3-615CFD12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62EA42-6E9B-4021-B845-4137DAFA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24F482-6313-4759-B02F-09675A745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5B6300-DB0C-4083-B966-93422C880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D0DB62-0672-4BC1-8E0C-51D60547A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F7C54-8781-4689-920F-9B06295D77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02523-964D-4D1A-B733-C120C1993C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390DD-F23A-43FE-883D-0880108DFF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CB3D1-8AE5-420F-8C38-47C0EF2454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F844F-07EA-4E5A-9112-72733AA349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7C480-7F0D-4980-B92D-BF814C9244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7C2B7-B92A-4171-93E0-B623D72D0A0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9" descr="4-color R Logo"/>
          <p:cNvPicPr/>
          <p:nvPr/>
        </p:nvPicPr>
        <p:blipFill>
          <a:blip r:embed="rId4"/>
          <a:stretch/>
        </p:blipFill>
        <p:spPr>
          <a:xfrm>
            <a:off x="304920" y="6168960"/>
            <a:ext cx="2743200" cy="53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12995-788A-4449-8BA8-C6BC78DC5E0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43F8D-0512-4FBF-B956-4C36FF2C0E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3FC0A-E808-4EEA-A2C2-419B7417492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E1CF6-1AED-4B82-A54E-EFAC7BE8FA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cpssaig@ed.gov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ession C-32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761760" y="1905120"/>
            <a:ext cx="73911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AIG Mailbox Tool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Dconnect 7.2 and TDCommunityManager (TDCM) Hands-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za Veneg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.S. Department of Edu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e Rag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ng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Understanding File Storag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8040" y="1827000"/>
            <a:ext cx="7690680" cy="3167640"/>
            <a:chOff x="608040" y="1827000"/>
            <a:chExt cx="7690680" cy="3167640"/>
          </a:xfrm>
        </p:grpSpPr>
        <p:sp>
          <p:nvSpPr>
            <p:cNvPr id="167" name=""/>
            <p:cNvSpPr/>
            <p:nvPr/>
          </p:nvSpPr>
          <p:spPr>
            <a:xfrm>
              <a:off x="3623760" y="1827000"/>
              <a:ext cx="1960200" cy="3167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AIG Mailbox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08040" y="2883240"/>
              <a:ext cx="2406240" cy="1357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8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274320" rIns="274320" tIns="137160" bIns="137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80"/>
                  </a:solidFill>
                  <a:latin typeface="Arial"/>
                </a:rPr>
                <a:t>EDconnect Softwa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8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80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000080"/>
                  </a:solidFill>
                  <a:latin typeface="Arial"/>
                </a:rPr>
                <a:t>Mailbox Query View </a:t>
              </a:r>
              <a:r>
                <a:rPr b="0" i="1" lang="en-US" sz="1400" spc="-1" strike="noStrike">
                  <a:solidFill>
                    <a:srgbClr val="000080"/>
                  </a:solidFill>
                  <a:latin typeface="Arial"/>
                </a:rPr>
                <a:t>(available statu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8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80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000080"/>
                  </a:solidFill>
                  <a:latin typeface="Arial"/>
                </a:rPr>
                <a:t>Received File View </a:t>
              </a:r>
              <a:r>
                <a:rPr b="0" i="1" lang="en-US" sz="1400" spc="-1" strike="noStrike">
                  <a:solidFill>
                    <a:srgbClr val="000080"/>
                  </a:solidFill>
                  <a:latin typeface="Arial"/>
                </a:rPr>
                <a:t>(received statu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186960" y="2883240"/>
              <a:ext cx="2111760" cy="1357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8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274320" rIns="274320" tIns="137160" bIns="137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80"/>
                  </a:solidFill>
                  <a:latin typeface="Arial"/>
                </a:rPr>
                <a:t>TDCM Web To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8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80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000080"/>
                  </a:solidFill>
                  <a:latin typeface="Arial"/>
                </a:rPr>
                <a:t>Messages Tab </a:t>
              </a:r>
              <a:r>
                <a:rPr b="0" i="1" lang="en-US" sz="1400" spc="-1" strike="noStrike">
                  <a:solidFill>
                    <a:srgbClr val="000080"/>
                  </a:solidFill>
                  <a:latin typeface="Arial"/>
                </a:rPr>
                <a:t>(view only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8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80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000080"/>
                  </a:solidFill>
                  <a:latin typeface="Arial"/>
                </a:rPr>
                <a:t>Archive Tab </a:t>
              </a:r>
              <a:r>
                <a:rPr b="0" i="1" lang="en-US" sz="1400" spc="-1" strike="noStrike">
                  <a:solidFill>
                    <a:srgbClr val="000080"/>
                  </a:solidFill>
                  <a:latin typeface="Arial"/>
                </a:rPr>
                <a:t>(restore file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925080" y="2430360"/>
              <a:ext cx="1356840" cy="904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80"/>
                  </a:solidFill>
                  <a:latin typeface="Arial"/>
                </a:rPr>
                <a:t>Available Files Databa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925080" y="3787920"/>
              <a:ext cx="1356840" cy="904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80"/>
                  </a:solidFill>
                  <a:latin typeface="Arial"/>
                </a:rPr>
                <a:t>Archived Files Databa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5281920" y="3787920"/>
              <a:ext cx="1055160" cy="6044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020400" y="3335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2869560" y="2731680"/>
              <a:ext cx="1055520" cy="6040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2869560" y="3184200"/>
              <a:ext cx="1055520" cy="6030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 flipV="1">
              <a:off x="5281920" y="2882880"/>
              <a:ext cx="1055160" cy="4518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2654A-30BF-44E4-B926-680C20A217C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Understanding File Storage 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4000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Available Files Datab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es in Available status and &lt; 180 days ol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es in Received status and &lt; 10 days ol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es Restored from Archiv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876920" y="1600200"/>
            <a:ext cx="4000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Archive Files Databas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eived files =&gt; 10 days and &lt; 180 days ol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8F36E-2969-42B0-87B3-20116CB1B9C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Beyond the Basic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ctivity Lo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vestigating transmission   erro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erifying transmission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ceiving files to multiple folde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storing file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607A3-8E62-427C-86E8-49B13FF53D1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EDconnect &amp; TDCM – Hands-on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Dconne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urity View to change passw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ulating the Transmission Queu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ery and Receive file View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tivity Log vie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DC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ssage Tab to view files and change status of fi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rchive Tab to restore files so they may be received aga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ips &amp; Tri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896F5-52C2-4B08-9F9A-0FAEDE17C60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ontact Information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e appreciate your feedback and comments. We can be reached at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4"/>
              </a:spcBef>
              <a:spcAft>
                <a:spcPts val="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PS/SAIG Technical Sup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one: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800-330-594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ail: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Verdana"/>
                <a:hlinkClick r:id="rId1"/>
              </a:rPr>
              <a:t>cpssaig@ed.gov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4"/>
              </a:spcBef>
              <a:spcAft>
                <a:spcPts val="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za.Venegas@ed.gov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6A628-AE51-4DFB-B5A1-63AF57A9549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Agenda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AIG System Overview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AIG Suite Componen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AIG System Security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nderstanding Mailbox Storag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Hands-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4FC60-9805-48CA-91BD-2BBEB2EEC01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AIG System Overview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rcRect l="14584" t="23427" r="20834" b="47942"/>
          <a:stretch/>
        </p:blipFill>
        <p:spPr>
          <a:xfrm>
            <a:off x="5105520" y="2514600"/>
            <a:ext cx="2133360" cy="15019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286000" y="4343400"/>
            <a:ext cx="1371600" cy="1054080"/>
          </a:xfrm>
          <a:prstGeom prst="rect">
            <a:avLst/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aa9"/>
                </a:solidFill>
                <a:latin typeface="Arial"/>
              </a:rPr>
              <a:t>EDconn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0" y="3048120"/>
            <a:ext cx="1428840" cy="1149120"/>
          </a:xfrm>
          <a:prstGeom prst="rect">
            <a:avLst/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inframe &a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dr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aa9"/>
                </a:solidFill>
                <a:latin typeface="Arial"/>
              </a:rPr>
              <a:t>TD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229280" y="4533840"/>
            <a:ext cx="1422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62520" y="4229280"/>
            <a:ext cx="1117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76920" y="1600200"/>
            <a:ext cx="2590560" cy="5335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IG 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76920" y="2133720"/>
            <a:ext cx="2590560" cy="3429000"/>
          </a:xfrm>
          <a:prstGeom prst="rect">
            <a:avLst/>
          </a:prstGeom>
          <a:noFill/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09880" y="403848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a9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733920" y="3429000"/>
            <a:ext cx="1206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Bk Avenir Book"/>
              </a:rPr>
              <a:t>SSL 3.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733920" y="4572000"/>
            <a:ext cx="1206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Bk Avenir Book"/>
              </a:rPr>
              <a:t>SSL 3.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33920" y="3581280"/>
            <a:ext cx="1143000" cy="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657600" y="4724280"/>
            <a:ext cx="1219320" cy="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676520" y="3124080"/>
          <a:ext cx="866520" cy="1676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3124080"/>
                    <a:ext cx="86652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 flipH="1">
            <a:off x="746712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8153280" y="396252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20120" y="2666880"/>
            <a:ext cx="1218960" cy="1524240"/>
          </a:xfrm>
          <a:prstGeom prst="rect">
            <a:avLst/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SL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S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133720"/>
            <a:ext cx="27432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7aa9"/>
                </a:solidFill>
                <a:latin typeface="Arial"/>
              </a:rPr>
              <a:t>https://www.saigportal.ed.g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21557400">
            <a:off x="380520" y="4494240"/>
            <a:ext cx="118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aa9"/>
                </a:solidFill>
                <a:latin typeface="Arial"/>
              </a:rPr>
              <a:t>3rd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aa9"/>
                </a:solidFill>
                <a:latin typeface="Arial"/>
              </a:rPr>
              <a:t>Servic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20120" y="1905120"/>
            <a:ext cx="121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aa9"/>
                </a:solidFill>
                <a:latin typeface="Arial"/>
              </a:rPr>
              <a:t>F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aa9"/>
                </a:solidFill>
                <a:latin typeface="Arial"/>
              </a:rPr>
              <a:t>Applic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aa9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21592200">
            <a:off x="228240" y="3427920"/>
            <a:ext cx="1501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aa9"/>
                </a:solidFill>
                <a:latin typeface="Arial"/>
              </a:rPr>
              <a:t>Postsecondar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aa9"/>
                </a:solidFill>
                <a:latin typeface="Arial"/>
              </a:rPr>
              <a:t>Institu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21598800">
            <a:off x="152280" y="3854520"/>
            <a:ext cx="1730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aa9"/>
                </a:solidFill>
                <a:latin typeface="Arial"/>
              </a:rPr>
              <a:t>State Scholarship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aa9"/>
                </a:solidFill>
                <a:latin typeface="Arial"/>
              </a:rPr>
              <a:t>Guaranty Agen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5334120" y="4114800"/>
            <a:ext cx="1447560" cy="132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6ABE9-871D-461C-BA59-A5E6D2582E1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AIG Suite Component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EDconnect -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C software used to send and receive data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TDCommunity Manager (TDCM)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– Web tool used for tracking data sent and received on SAI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TDClient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 Mainframe and Mid-Range Client software used to send and receive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84537-2CD2-41F1-A1E3-E5330FC4AE3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EDconnect v7.2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520" y="4038480"/>
            <a:ext cx="8370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ndows based software used to transmit TitleIV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wnload software at</a:t>
            </a:r>
            <a:r>
              <a:rPr b="1" i="1" lang="en-US" sz="28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http://fsadownload.ed.gov/softedconnect.ht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24584" t="29067" r="24729" b="32975"/>
          <a:stretch/>
        </p:blipFill>
        <p:spPr>
          <a:xfrm>
            <a:off x="2438280" y="1447920"/>
            <a:ext cx="419112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5F61D-13FD-4255-B94B-9DCC1F3C661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TDCommunity Manager (TDCM)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DCM - view network traffic in your SAIG mailbo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rnet address: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https://www.saigportal.ed.go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39"/>
              </a:spcBef>
              <a:spcAft>
                <a:spcPts val="13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ownload the TDCM User’s Guide at </a:t>
            </a:r>
            <a:r>
              <a:rPr b="1" i="1" lang="en-US" sz="2200" spc="-1" strike="noStrike">
                <a:solidFill>
                  <a:srgbClr val="000000"/>
                </a:solidFill>
                <a:latin typeface="Verdana"/>
              </a:rPr>
              <a:t>http://fsadownload.ed.gov/softedconnect.ht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8" name="Rectangle 3" descr=""/>
          <p:cNvPicPr/>
          <p:nvPr/>
        </p:nvPicPr>
        <p:blipFill>
          <a:blip r:embed="rId1"/>
          <a:srcRect l="0" t="7810" r="0" b="42734"/>
          <a:stretch/>
        </p:blipFill>
        <p:spPr>
          <a:xfrm>
            <a:off x="4191120" y="3429000"/>
            <a:ext cx="4187880" cy="320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4E962-2BF6-420C-9FC7-9B107663DD4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TDClien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9"/>
              </a:spcBef>
              <a:spcAft>
                <a:spcPts val="13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wnload the Host Communication Guide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rom the web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</a:t>
            </a:r>
            <a:r>
              <a:rPr b="1" i="1" lang="en-US" sz="2200" spc="-1" strike="noStrike">
                <a:solidFill>
                  <a:srgbClr val="000000"/>
                </a:solidFill>
                <a:latin typeface="Verdana"/>
              </a:rPr>
              <a:t>http://fsadownload.ed.gov/mainframeguide.ht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quest TDClient software via CPS/SAIG Technical Support at 800-330-594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JCL or Scripts to execute TDCl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allation, setup questions? Contact CPS/SAIG Technical Sup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DE315-BEAA-4A90-9461-C29B66FDD66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AIG System Security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Dconne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word chang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tting up multiple us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ynchronize network Password across multiple platfo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Dconne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DCl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DC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97610-ACF3-4B05-9338-D43971CF828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AIG System Security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75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etwork Password Ru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ust begin with an alpha charac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ust be a minimum length of eight charac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ust contain at least one upper case and one lower case alpha character, plus one numeric charac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not be any of the last five passwords u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r will be locked out after three failures (Call CPS/SAIG Technical Support to reset password or wait 30 minutes for lock to clear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contain special keyboard characters, such as @, #, $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BE2C0-4029-432C-9591-860BF98DEA5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18:31:25Z</dcterms:created>
  <dc:creator>andrew.jones</dc:creator>
  <dc:description/>
  <dc:language>en-US</dc:language>
  <cp:lastModifiedBy>Amy Luycx</cp:lastModifiedBy>
  <dcterms:modified xsi:type="dcterms:W3CDTF">2008-09-10T16:05:32Z</dcterms:modified>
  <cp:revision>216</cp:revision>
  <dc:subject/>
  <dc:title>PowerPoint Presentation</dc:title>
</cp:coreProperties>
</file>