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8A4E2-4C1E-4872-BC23-028EAF516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AAA6-98A0-4EAE-8349-E2824A509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F82D-3049-479E-A320-91129488A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9C7A-AA6E-4F4C-9294-DEAE1FCF8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2FAA8-7F4B-4CA1-B848-80D93CC8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200FB-FAEB-4049-8220-577F7E4A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A5F13-5F3B-4952-8153-B24E6D92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DA716-6415-48F0-8D0A-38D919A1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B37D6-94DB-41F2-B45B-400783F2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C4F24-3EF9-4843-AF57-13F2DD8E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7A0B8-2942-4993-85D9-484E0F4F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10DA-0E41-4836-8583-B6DADAA22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71C7E-3D70-4E68-8195-1A9A3175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6D57D-2D58-4012-BC56-489F31DE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2A572-FE48-4EA2-A0C2-DD2C0A52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90895-E7CD-4AB6-9A59-E4C7047F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44C78-B35C-4A77-830C-EC74041D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F3C302-72A8-409A-A613-F9A07200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5B8156-1443-4B51-A18D-C4D0ACDD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1681E0-61CC-4912-9DA2-28E14415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19BD53-832F-4C2F-A062-995462FF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C34D88-31FA-443B-866C-9872C849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D832-FDD4-4A84-BD46-B689FD4B3E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DB99E2-1DA2-43F6-ADB1-9C1859BC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1BAC8D-89F1-48CE-9075-AB39CB2F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4AEE82-37BC-4ADA-95E5-87D64F90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E565FD-2FE9-490F-893D-4F958D95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0FB697-2340-4B8B-88E6-3C6CFDAF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F71695-65EA-4EDB-B064-C5BDB79D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75D980-D5A8-4423-8569-B4B656B1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4650-964C-4AC5-9E67-679EF56B1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74E5-752A-4C46-A86F-839BEDB88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211B-7EF8-48E5-8766-6398356A9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09BE-E91E-4D68-90B5-2BC8E1E18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E4EA-6369-4572-AF98-6AF46A5E0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8C8C-01D7-40FE-AB63-646BD346B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D3E2-F06F-45FD-9331-99C4C392E21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4051-D0A1-41BC-AA43-F2DE62310E1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A573-BE68-42AE-831B-2DD5E2458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E5A5-5537-4E28-9C97-91CD75FB86F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F639-7D81-4C19-B1E3-3FDE30DC4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cpssaig@ed.go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C-32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391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AIG Mailbox Too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Dconnect 7.2 and TDCommunityManager (TDCM) Hands-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za Veneg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e Ra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ng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Understanding File Stor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8040" y="1827000"/>
            <a:ext cx="7690680" cy="3167640"/>
            <a:chOff x="608040" y="1827000"/>
            <a:chExt cx="7690680" cy="3167640"/>
          </a:xfrm>
        </p:grpSpPr>
        <p:sp>
          <p:nvSpPr>
            <p:cNvPr id="167" name=""/>
            <p:cNvSpPr/>
            <p:nvPr/>
          </p:nvSpPr>
          <p:spPr>
            <a:xfrm>
              <a:off x="3623760" y="1827000"/>
              <a:ext cx="1960200" cy="316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AIG Mailbox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8040" y="2883240"/>
              <a:ext cx="2406240" cy="13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74320" rIns="274320" tIns="137160" bIns="137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EDconnect Soft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8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Mailbox Query View </a:t>
              </a:r>
              <a:r>
                <a:rPr b="0" i="1" lang="en-US" sz="1400" spc="-1" strike="noStrike">
                  <a:solidFill>
                    <a:srgbClr val="000080"/>
                  </a:solidFill>
                  <a:latin typeface="Arial"/>
                </a:rPr>
                <a:t>(available statu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8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Received File View </a:t>
              </a:r>
              <a:r>
                <a:rPr b="0" i="1" lang="en-US" sz="1400" spc="-1" strike="noStrike">
                  <a:solidFill>
                    <a:srgbClr val="000080"/>
                  </a:solidFill>
                  <a:latin typeface="Arial"/>
                </a:rPr>
                <a:t>(received statu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86960" y="2883240"/>
              <a:ext cx="2111760" cy="13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74320" rIns="274320" tIns="137160" bIns="137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TDCM Web 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8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Messages Tab </a:t>
              </a:r>
              <a:r>
                <a:rPr b="0" i="1" lang="en-US" sz="1400" spc="-1" strike="noStrike">
                  <a:solidFill>
                    <a:srgbClr val="000080"/>
                  </a:solidFill>
                  <a:latin typeface="Arial"/>
                </a:rPr>
                <a:t>(view onl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8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Archive Tab </a:t>
              </a:r>
              <a:r>
                <a:rPr b="0" i="1" lang="en-US" sz="1400" spc="-1" strike="noStrike">
                  <a:solidFill>
                    <a:srgbClr val="000080"/>
                  </a:solidFill>
                  <a:latin typeface="Arial"/>
                </a:rPr>
                <a:t>(restore fil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25080" y="2430360"/>
              <a:ext cx="1356840" cy="90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Available Files Data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25080" y="3787920"/>
              <a:ext cx="1356840" cy="90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Archived Files Data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281920" y="3787920"/>
              <a:ext cx="1055160" cy="6044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20400" y="3335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869560" y="2731680"/>
              <a:ext cx="1055520" cy="60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869560" y="3184200"/>
              <a:ext cx="1055520" cy="6030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281920" y="2882880"/>
              <a:ext cx="1055160" cy="451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8DCF-C2DF-4054-BEBF-870C8FDB23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Understanding File Storage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00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vailable Files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es in Available status and &lt; 180 days 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es in Received status and &lt; 10 days 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es Restored from Arch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76920" y="1600200"/>
            <a:ext cx="400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rchive Files Databa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files =&gt; 10 days and &lt; 180 days 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68E80-371F-480A-9458-821B8D2798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Beyond the Basic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tivity Lo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vestigating transmission   err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rifying transmis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ceiving files to multiple fold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storing file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90D4F-2574-4FA5-A27E-5CCC279C09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Dconnect &amp; TDCM – Hands-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conn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 View to change pass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ng the Transmission Que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ry and Receive file Vie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ity Log 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DC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ssage Tab to view files and change status of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chive Tab to restore files so they may be received ag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ps &amp; Tri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B194-5D0B-40FC-AB30-C15765A14A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appreciate your feedback and comments. We can be reached a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PS/SAIG Technical Sup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00-330-59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cpssaig@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za.Venegas@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1F73A-8873-449E-9482-96D2515F98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 System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 Suite Compon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 System Security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derstanding Mailbox Storag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ands-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84F4-5422-46B2-871B-C12F769EDE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IG System Overview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4584" t="23427" r="20834" b="47942"/>
          <a:stretch/>
        </p:blipFill>
        <p:spPr>
          <a:xfrm>
            <a:off x="5105520" y="2514600"/>
            <a:ext cx="2133360" cy="1501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0" y="4343400"/>
            <a:ext cx="1371600" cy="10540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aa9"/>
                </a:solidFill>
                <a:latin typeface="Arial"/>
              </a:rPr>
              <a:t>ED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3048120"/>
            <a:ext cx="1428840" cy="114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frame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dr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aa9"/>
                </a:solidFill>
                <a:latin typeface="Arial"/>
              </a:rPr>
              <a:t>TD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29280" y="4533840"/>
            <a:ext cx="142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229280"/>
            <a:ext cx="1117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1600200"/>
            <a:ext cx="2590560" cy="533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IG 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2133720"/>
            <a:ext cx="2590560" cy="3429000"/>
          </a:xfrm>
          <a:prstGeom prst="rect">
            <a:avLst/>
          </a:prstGeom>
          <a:noFill/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40384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a9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3429000"/>
            <a:ext cx="120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Bk Avenir Book"/>
              </a:rPr>
              <a:t>SSL 3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4572000"/>
            <a:ext cx="120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Bk Avenir Book"/>
              </a:rPr>
              <a:t>SSL 3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3581280"/>
            <a:ext cx="114300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4724280"/>
            <a:ext cx="121932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76520" y="3124080"/>
          <a:ext cx="866520" cy="1676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3124080"/>
                    <a:ext cx="8665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 flipH="1">
            <a:off x="746712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153280" y="3962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0120" y="2666880"/>
            <a:ext cx="1218960" cy="152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S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133720"/>
            <a:ext cx="2743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https://www.saigportal.ed.g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21557400">
            <a:off x="380520" y="4494240"/>
            <a:ext cx="118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3rd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Servic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0120" y="190512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F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Appli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1592200">
            <a:off x="228240" y="3427920"/>
            <a:ext cx="150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Postsecond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Instit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1598800">
            <a:off x="152280" y="3854520"/>
            <a:ext cx="173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State Scholarship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Guaranty 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334120" y="4114800"/>
            <a:ext cx="1447560" cy="132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9D55-FA92-4819-87A6-0E10C2391E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IG Suite Compon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EDconnect 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C software used to send and receive dat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DCommunity Manager (TDCM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Web tool used for tracking data sent and received on SA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DCli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Mainframe and Mid-Range Client software used to send and receive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4DFC2-1F7E-4673-AA6D-4F72DA4055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Dconnect v7.2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4038480"/>
            <a:ext cx="8370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ndows based software used to transmit TitleIV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wnload software at</a:t>
            </a: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http://fsadownload.ed.gov/softedconnect.ht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24584" t="29067" r="24729" b="32975"/>
          <a:stretch/>
        </p:blipFill>
        <p:spPr>
          <a:xfrm>
            <a:off x="2438280" y="1447920"/>
            <a:ext cx="419112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BA52-4E6F-42FD-B470-AB901063EA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DCommunity Manager (TDCM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DCM - view network traffic in your SAIG mailbo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net address: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ttps://www.saigportal.ed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wnload the TDCM User’s Guide at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http://fsadownload.ed.gov/softedconnect.ht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Rectangle 3" descr=""/>
          <p:cNvPicPr/>
          <p:nvPr/>
        </p:nvPicPr>
        <p:blipFill>
          <a:blip r:embed="rId1"/>
          <a:srcRect l="0" t="7810" r="0" b="42734"/>
          <a:stretch/>
        </p:blipFill>
        <p:spPr>
          <a:xfrm>
            <a:off x="4191120" y="3429000"/>
            <a:ext cx="418788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4851-BD04-46A1-AEA1-3358B798E4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DCli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wnload the Host Communication Guid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m the web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http://fsadownload.ed.gov/mainframeguide.ht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est TDClient software via CPS/SAIG Technical Support at 800-330-59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JCL or Scripts to execute TDCl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llation, setup questions? Contact CPS/SAIG Technical Sup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F3D1-931E-464D-907C-9B00A7D927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IG System Secur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Dconn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word chang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tting up multiple us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ynchronize network Password across multiple plat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conn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DCl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DC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FA19E-AF84-45AB-9803-34E41F53EA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IG System Secur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7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twork Password 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begin with an alpha charac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be a minimum length of eight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contain at least one upper case and one lower case alpha character, plus one numeric charac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not be any of the last five passwords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will be locked out after three failures (Call CPS/SAIG Technical Support to reset password or wait 30 minutes for lock to cle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contain special keyboard characters, such as @, #, 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E7F8-6049-4982-88A6-A5CCA69B99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my Luycx</cp:lastModifiedBy>
  <dcterms:modified xsi:type="dcterms:W3CDTF">2008-09-10T16:05:32Z</dcterms:modified>
  <cp:revision>216</cp:revision>
  <dc:subject/>
  <dc:title>PowerPoint Presentation</dc:title>
</cp:coreProperties>
</file>