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7A4C-4763-4D5E-813B-1A658026A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6B61-0FDE-4530-9C66-AECBE1E24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14A6-22F5-4191-AF8E-EEF63F41A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E64F-1B12-44B4-9B9B-D6C7D31135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2111B-DE05-4228-BC56-42D5A691E8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95539-6923-4DCC-A6C6-A52F2298D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EC01-70EC-4388-92F2-D4D2E3C5C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3890-F01C-4460-92BD-E0E2DACF7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79BA-36B5-4A12-ABB5-9E11D63BE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F759-B893-4D3F-BEC0-AF9FB3DB4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8C13-41D1-4542-8439-EFB9F0B56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9C586-AEFD-470F-A44F-C7F798230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6B45-66ED-4DD2-9755-9F4A33823F1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699160" y="6289560"/>
            <a:ext cx="26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C-31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5407"/>
                </a:solidFill>
                <a:latin typeface="Verdana"/>
              </a:rPr>
              <a:t>Campus-Based Allocation Formula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n Madze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ISAP Part II—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ctions D, E and F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rollment and tuition reve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ll, academic competitive, and national SMART gr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e grants and scholarshi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igible aid applic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endent undergraduates (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t undergraduates (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t grad/profess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2977-95D7-4D73-AD0F-34029CFFD2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nstitutional Nee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68" name="Rectangle 3"/>
          <p:cNvGraphicFramePr/>
          <p:nvPr/>
        </p:nvGraphicFramePr>
        <p:xfrm>
          <a:off x="228600" y="1523880"/>
          <a:ext cx="82296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229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B228-059F-4919-B038-DF40184CAD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nstitutional Nee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71" name="Rectangle 3"/>
          <p:cNvGraphicFramePr/>
          <p:nvPr/>
        </p:nvGraphicFramePr>
        <p:xfrm>
          <a:off x="0" y="1447920"/>
          <a:ext cx="89154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89154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A6EA-C19D-48E5-BAB6-5646C25099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alculating Institutional Nee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74" name="Rectangle 3"/>
          <p:cNvGraphicFramePr/>
          <p:nvPr/>
        </p:nvGraphicFramePr>
        <p:xfrm>
          <a:off x="533520" y="1600200"/>
          <a:ext cx="8001000" cy="409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0100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72C8-C15A-4080-B187-37B1728851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lculating FSEOG Nee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77" name="Rectangle 3"/>
          <p:cNvGraphicFramePr/>
          <p:nvPr/>
        </p:nvGraphicFramePr>
        <p:xfrm>
          <a:off x="609480" y="1676520"/>
          <a:ext cx="79250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2548-8763-49AC-999F-7A0C180DEC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lculating Self-Help Nee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80" name="Rectangle 3"/>
          <p:cNvGraphicFramePr/>
          <p:nvPr/>
        </p:nvGraphicFramePr>
        <p:xfrm>
          <a:off x="609480" y="1447920"/>
          <a:ext cx="78487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848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FCBD5-0566-4596-8804-3AE7F31864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mpus-Based Need: Summar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4191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ancial Ne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pendents      33,315,38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dependents     6,769,03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ll Grants                1,432,25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ap Grants                    35,17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stitutional Need  38,616,99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190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SEOG Ne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pendents     12,729,5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dependents    4,874,00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ll Grant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1,432,25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ap Grants                   35,17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SEOG Need            16,136,08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lf-Help Ne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pendents      20,585,87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dependents     1,895,03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lf-Help Need       22,480,90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919E-927B-48F7-8F20-B76F0F8153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ISAP Part II, Section F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86" name="Rectangle 3"/>
          <p:cNvGraphicFramePr/>
          <p:nvPr/>
        </p:nvGraphicFramePr>
        <p:xfrm>
          <a:off x="1893960" y="2438280"/>
          <a:ext cx="5022720" cy="21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438280"/>
                    <a:ext cx="5022720" cy="21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74320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33520" y="1528920"/>
            <a:ext cx="807696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8FA6B-3687-4F65-9636-F33561C3C7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3440" y="609120"/>
            <a:ext cx="794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istribution of EAAs, 2006-07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Rectangle 3"/>
          <p:cNvGraphicFramePr/>
          <p:nvPr/>
        </p:nvGraphicFramePr>
        <p:xfrm>
          <a:off x="304920" y="1333440"/>
          <a:ext cx="8534160" cy="46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33440"/>
                    <a:ext cx="853416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CAFF-ACD0-491A-AA8F-E1237BB508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andard EFCs, 2006-07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95" name="Rectangle 3"/>
          <p:cNvGraphicFramePr/>
          <p:nvPr/>
        </p:nvGraphicFramePr>
        <p:xfrm>
          <a:off x="228600" y="1442880"/>
          <a:ext cx="8686800" cy="45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2880"/>
                    <a:ext cx="868680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746F-8893-43D5-B4C0-6567F7DD69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n Today’s Session –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rief History of the Formu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tailed Explan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ays to Better Target Funds to Needy Stud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38E2-2F1E-44BC-A673-BA9FEEDF62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mpus-Based Programs:</a:t>
            </a:r>
            <a:br>
              <a:rPr sz="40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st of Attendance, 2006-07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Rectangle 3"/>
          <p:cNvGraphicFramePr/>
          <p:nvPr/>
        </p:nvGraphicFramePr>
        <p:xfrm>
          <a:off x="496800" y="1989000"/>
          <a:ext cx="8113680" cy="27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989000"/>
                    <a:ext cx="81136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7443-671B-49F2-A169-51EA73ED6A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uture Eligible Aid Applicant Gri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-228600" y="2133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400" spc="-1" strike="noStrike">
                <a:solidFill>
                  <a:srgbClr val="007aa9"/>
                </a:solidFill>
                <a:latin typeface="Times New Roman"/>
                <a:ea typeface="Times New Roman"/>
              </a:rPr>
              <a:t>?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4A33-0D4A-4AD9-9D42-D997D9EAEB8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mpus-Based Programs Fund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153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llow the stud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vide more “fair share” fun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lign formula EFCs with actual EFC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0EF7-8DFF-47DB-A41C-34B48C2F4A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Your feedback and comments are appreciated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 202-502-781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   dan.madzelan@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:     202-502-787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F1FB-405C-40AD-9C23-D348A19655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 (Very) Brief Histor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uff “Panel of Experts” (1977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itial Implementation (1978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EA Reauthorizations, 1980-200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6517-4A8D-4856-9858-22FFFCBC33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nstitutional Alloc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9720" y="1684080"/>
            <a:ext cx="7112160" cy="35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75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lesser of—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quest for funds, o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greater of—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ase guarantee, o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ir share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7DFF-A831-4B23-A30D-2E249A5142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nstitutional Alloc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5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ase guarantee/prior expenditu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ir share of program fu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itutional ne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ncial need min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federal grants min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 state gr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7EAC-A2E0-47B8-8906-F7EB3FC86F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Allocation Formula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54" name="Rectangle 3"/>
          <p:cNvGraphicFramePr/>
          <p:nvPr/>
        </p:nvGraphicFramePr>
        <p:xfrm>
          <a:off x="609480" y="1447920"/>
          <a:ext cx="76899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689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5FE4-11AA-49A1-ADA1-50F4BA8C88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Allocation Formula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57" name="Rectangle 3"/>
          <p:cNvGraphicFramePr/>
          <p:nvPr/>
        </p:nvGraphicFramePr>
        <p:xfrm>
          <a:off x="685800" y="1752480"/>
          <a:ext cx="7772400" cy="383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72400" cy="38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3E7F-D4EC-4394-86F7-BAC589BF26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Allocation Formula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60" name="Rectangle 3"/>
          <p:cNvGraphicFramePr/>
          <p:nvPr/>
        </p:nvGraphicFramePr>
        <p:xfrm>
          <a:off x="762120" y="1749600"/>
          <a:ext cx="7696080" cy="411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49600"/>
                    <a:ext cx="7696080" cy="41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C1E0-05C1-4856-949B-8AB7FECBFF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Allocation Formula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63" name="Rectangle 3"/>
          <p:cNvGraphicFramePr/>
          <p:nvPr/>
        </p:nvGraphicFramePr>
        <p:xfrm>
          <a:off x="685800" y="1752480"/>
          <a:ext cx="77724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8E31-6874-4134-9DFF-81AEB83F86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my Luycx</cp:lastModifiedBy>
  <dcterms:modified xsi:type="dcterms:W3CDTF">2008-11-03T19:11:23Z</dcterms:modified>
  <cp:revision>224</cp:revision>
  <dc:subject/>
  <dc:title>PowerPoint Presentation</dc:title>
</cp:coreProperties>
</file>