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FA21-8C51-4A69-80F9-79B0D444C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A91D-3401-4CC3-BBBC-7198B21A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144E-5A12-4C4D-B999-21A5C3754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789F-ADE1-4B9A-AA07-E3527C5D6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903B-BE1F-450C-9CA7-A0EBE2739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CCF0-B07D-499D-8135-5D400DCB2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E859-FE98-414D-BD4E-E2D7AD104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B990-2722-4F28-AE39-AD230D30F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9C1E-760E-4553-AFD3-59BED4307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1A14-C258-4E27-9150-3DA2A1F2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71A9-9710-4234-AEBD-F06ECA1A0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E841-83CE-409F-BE04-77B117BC1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DD0-8DD1-4472-B113-570149960F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699160" y="62895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3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Campus-Based Allocation Formu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SAP Part II—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ctions D, E and 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rollment and tuition reve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, academic competitive,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grants and scholar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igible aid applic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undergraduates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undergraduates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grad/profes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39BD-F7F6-4DC2-B9EF-DFA1C062A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228600" y="1523880"/>
          <a:ext cx="8229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C901-0D45-4783-9916-5D8E2996F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1" name="Rectangle 3"/>
          <p:cNvGraphicFramePr/>
          <p:nvPr/>
        </p:nvGraphicFramePr>
        <p:xfrm>
          <a:off x="0" y="1447920"/>
          <a:ext cx="8915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15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60B3-E630-4EA6-96BF-52817E7536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lculating Institutional Ne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533520" y="1600200"/>
          <a:ext cx="800100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151C-0281-4738-9D76-8C5469925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ng FSEOG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7" name="Rectangle 3"/>
          <p:cNvGraphicFramePr/>
          <p:nvPr/>
        </p:nvGraphicFramePr>
        <p:xfrm>
          <a:off x="609480" y="1676520"/>
          <a:ext cx="79250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1CDA-ABFC-496D-8989-3DC5889DA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ng Self-Help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0" name="Rectangle 3"/>
          <p:cNvGraphicFramePr/>
          <p:nvPr/>
        </p:nvGraphicFramePr>
        <p:xfrm>
          <a:off x="609480" y="1447920"/>
          <a:ext cx="7848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48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B146-6593-4B5E-BA24-D3C690965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Need: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ial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 33,315,3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 6,769,0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ll Grants                1,432,2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p Grants                    35,17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stitutional Need  38,616,99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EOG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12,729,5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4,874,0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ll Grant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1,432,2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p Grants                   35,17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EOG Need            16,136,0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f-Help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 20,585,87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 1,895,0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f-Help Need       22,480,9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C601-CED2-44A2-A64F-93CC8FC07F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SAP Part II, Section 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1893960" y="2438280"/>
          <a:ext cx="5022720" cy="21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438280"/>
                    <a:ext cx="5022720" cy="21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74320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520" y="1528920"/>
            <a:ext cx="807696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FD4A-1947-4A8D-AD33-D7515406F2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440" y="609120"/>
            <a:ext cx="794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tribution of EAAs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Rectangle 3"/>
          <p:cNvGraphicFramePr/>
          <p:nvPr/>
        </p:nvGraphicFramePr>
        <p:xfrm>
          <a:off x="304920" y="1333440"/>
          <a:ext cx="853416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33440"/>
                    <a:ext cx="853416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9F7D-0CEE-49C7-B187-5015C97D1F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ndard EFCs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5" name="Rectangle 3"/>
          <p:cNvGraphicFramePr/>
          <p:nvPr/>
        </p:nvGraphicFramePr>
        <p:xfrm>
          <a:off x="228600" y="1442880"/>
          <a:ext cx="868680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2880"/>
                    <a:ext cx="86868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2637-7E53-4C81-92B4-19A283B766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 Today’s Session –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ief History of the Formu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ailed Expla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ays to Better Target Funds to Needy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6FF1-70EE-4F02-8AA7-824CFD72D4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Programs:</a:t>
            </a:r>
            <a:br>
              <a:rPr sz="40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st of Attendance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Rectangle 3"/>
          <p:cNvGraphicFramePr/>
          <p:nvPr/>
        </p:nvGraphicFramePr>
        <p:xfrm>
          <a:off x="496800" y="1989000"/>
          <a:ext cx="811368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989000"/>
                    <a:ext cx="8113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B2B5-B2C6-4B2C-A255-773A68FED6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uture Eligible Aid Applicant Gr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-228600" y="21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7aa9"/>
                </a:solidFill>
                <a:latin typeface="Times New Roman"/>
                <a:ea typeface="Times New Roman"/>
              </a:rPr>
              <a:t>?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4171-A22C-4364-8F81-6EC93BE534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Programs Fun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llow the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more “fair share” fun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ign formula EFCs with actual EF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8F79-BA80-4368-9466-2C75E82924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202-502-78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 dan.madzelan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   202-502-78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08B9-0060-4BC6-9371-D1A9C8EB08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(Very) Brief Histo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uff “Panel of Experts” (1977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Implementation (1978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A Reauthorizations, 1980-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32AA-8C6B-43BB-9880-D9C10D1D8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l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9720" y="1684080"/>
            <a:ext cx="711216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lesser of—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est for funds, 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greater of—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 guarantee, 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ir share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FD04-BB77-4AFC-902C-387E2F088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l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5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 guarantee/prior expendi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ir share of program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ne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ncial need min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federal grants min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stat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1CD-A428-4A4E-B5B0-8F0353FB8A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609480" y="1447920"/>
          <a:ext cx="7689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68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ED73-F80B-4CE1-A89B-F89B94AD5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685800" y="1752480"/>
          <a:ext cx="7772400" cy="38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792B-AE5F-49DC-9948-ACFDCB70D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762120" y="1749600"/>
          <a:ext cx="7696080" cy="411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49600"/>
                    <a:ext cx="769608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C9FB-5F67-4371-90B9-CFAAA83AF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685800" y="1752480"/>
          <a:ext cx="7772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2BF9-E082-402E-8270-E583E3538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9:11:23Z</dcterms:modified>
  <cp:revision>224</cp:revision>
  <dc:subject/>
  <dc:title>PowerPoint Presentation</dc:title>
</cp:coreProperties>
</file>