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9E2C-355D-4F0B-8CA8-B206874C8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8A2B-0D41-4355-BFBD-839105F38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9C7D-92D1-476A-A592-C7EA38DAB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CCFF-E249-455E-A942-1C591303C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56C5-1910-440D-99B3-C289AB96B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C9F2-EC19-4530-855A-3240144A4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23D9-129B-4E07-A59A-0966A729C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4EFA-604F-4CC3-8414-314755E46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662F-C7CA-4F0D-9BA4-F11D514B0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9D77-1A21-46AB-A119-F3A7FD031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D231-4F0D-4969-9867-101032C8F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1EF8-B66F-4315-ACAA-E995BF655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3438-251C-4158-8B6F-BD60B8679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3D8B-B810-43FB-9A89-03C35090B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F9A9-704B-4527-8322-E973C1B205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mailto:Tom.Beckerle@ed.gov" TargetMode="External"/><Relationship Id="rId2" Type="http://schemas.openxmlformats.org/officeDocument/2006/relationships/hyperlink" Target="mailto:Laura.Hall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3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364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p 10 Audit and Program Review Findings and How To Identify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m Becker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ura H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results of Corrective Action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t work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changes needed to improve proces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specific procedures for CAP action i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le person/office to ensure CAP is implemented/moni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77120" y="5410080"/>
            <a:ext cx="205740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E177-B576-4293-9C9D-E25BD780EF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s not made within allowable timeframe (45 day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dequate system in place to identify/track official and unofficial withdrawa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ystem in place to track number of days remaining to return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coordination between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 Made L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86600" y="531036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F8DB-F654-47EF-AFF9-B734D26FC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Unearned Pell Grant funds were returned between 76 and 158 days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Ensure a knowledgeable person has responsibility for tracking the return of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 Made L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553080" y="4724280"/>
            <a:ext cx="205740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2563-2E23-456F-8143-953232CE3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 processes and procedures to track/monitor the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timely communication between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R2T4 on the Web report fe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3080" y="4267080"/>
            <a:ext cx="228600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2DAE-0E93-443C-B60C-697DD6017B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alculation Erro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25640"/>
            <a:ext cx="85341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institutional charges for th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d breaks not inclu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withdrawal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out-of-date R2T4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hematical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1812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C6B4-6D59-48DC-9780-0340AFBB34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alculation Erro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25640"/>
            <a:ext cx="85341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R2T4 calculation based on incorrect number of days in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Review and modify R2T4 policies and procedures to ensure a correct understanding of the calculation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180504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3525-D3EE-4618-B98D-F3E58961CD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rrect institutional charge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rate if all charges assessed upfr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 when to include book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R2T4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Web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1812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D78E-6DEC-4E7B-A5C4-B2C98D9470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trance/Exit Counseling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 counseling not conducted/not documented for first-time, first-year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t counseling materials not mailed to students who failed to complete in-person or on-line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t counseling not conducted for withdrawn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3060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AB8C-C671-4268-93C6-27BE8BCD35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trance/Exit Counseling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School’s system failed to identify all students who ceased enrollment on at least a half-time basis, resulting in exit counseling materials not mailed to withdrawn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Assign responsibility for monitoring the exit interview process; modify automated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53DE-9416-442B-98B6-54100D0D0A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ss for documenting student comple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ensuring communication between Registrar, Educational, and Financial Aid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k support from lenders/GAs or ED (for Direct Loa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staff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Coach, Module 4: Loan Counsel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3706-D0F2-4F89-95F7-C0B3644877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Finding-Failure to Tak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Status-Inaccurate/Untimely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C983-7877-47E7-B837-00863E93E3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mittal File not returned within 30 days of receipt of Roster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incorrect enrollment status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” for graduated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graduated effective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(s) reported as withdrawn for summer break even though expected to return in the f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Status-Inaccurate or Untimely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43800" y="4876920"/>
            <a:ext cx="10508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F4AB-4E7C-499C-A1F5-775D12AB0B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Status-Inaccurate or Untimely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ird-party servic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ailed to transmit enrollment data to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ailed to ensure file was submitted by servicer 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choo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ponsible for timely response to NS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43800" y="4876920"/>
            <a:ext cx="10508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C4D5-88F8-4FBA-8FBF-AC7DF7B8C5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Status-Inaccurate or Untimely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Student enrollment status and/or effective date reported incorrectly; SSCR Submittal Files returned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Provide training to personnel on correct status/dates; implement monitoring system to ensure timely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83480" y="5140440"/>
            <a:ext cx="96192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1447-C667-442D-AA0E-EFABAB6DC2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ss for enrollment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accurate enrollment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correct status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, D, F, G, H, L, W, X, 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y for monitoring the SSCR reporting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SSCR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knowledgement/Error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0508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7350-FFF3-4A5F-83D7-4B745F65A9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s to anything other than an unqualified opin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es serious deficiencies/areas of concern in the compliance audit and/or audited financial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5000" y="3962520"/>
            <a:ext cx="19764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C5F4-E87C-43FE-B9CD-D839C71C73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reconcile program accou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Perkins defaul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going problems with incorrect R2T4 calc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dequate accounting systems and/or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internal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92744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2DC0-5C32-4288-8E14-7A27633DA4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Lack of Administrative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R2T4 Calculations, Improper Academic Progress Standards, Inadequate Account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Review and revise policies and procedures; implement accounting system in accordance with generally accepted accounting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2F38-2BB2-455A-A3E5-254BAD0500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monthly reconciliation of Title IV program accou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d implement a Perkins default manage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training on how to correctly calculate R2T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Coach, Module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92744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0FA0-08EB-4FE6-BA9C-9D74027880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Vio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Worksheet not sig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taxed income not ver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licting data on ISIR and verification documents not res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corrections not proc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2895480" cy="16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B018-A8E2-4C21-B7AD-FBD3704E66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Vio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Incomplete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tax return submitted for parent even though earned income required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number in household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Follow published verification procedures; ensure all required items are verified; document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F3C9-03CF-473D-B6CB-B7FEA32C9F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or Opinion Cited i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Over/Under 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onfirmation Report Filed Late/Not Filed/Not Retained for Five Years/Inaccurate (similar to #5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6511-54B4-41F5-B043-19CA08046B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verification process to ensure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a self-assessment by reviewing a random sample of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Verification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developed or ED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2895480" cy="16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79FE-C575-49CE-8FFC-6EEE3055CC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Grant Over/Under 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ments not made for change in enrollment status between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dance not documented in all coursework counted in the enroll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es or compressed cours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Pell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ccurate proration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91520" y="464832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8836-5928-40C1-B33D-5616BC0DB1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Grant Over/Under 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ISIR correction resulted in an increase to the EFC; however, aid was not recalculated/re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 procedures to ensure all subsequent ISIRs are reviewed and aid is adjusted according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91520" y="464832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EA61-2033-45D5-8768-296224A8A0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rrect enroll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rrect Pell Formula/Sched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that student began attendance in all cours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rate when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91520" y="4648320"/>
            <a:ext cx="14014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CD94-079C-409D-AF93-53A1132CAD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Credit Balance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cess in place to determine when a credit balance has been cre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balances not released to students within required 14-day timefra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balances held without student author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5238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975A-0910-4D01-961E-664CD142D8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udent Credit Balance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Credit balance held for 111 days without student autho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 and implement procedures and controls to identify and release credit balances 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52388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0C4A-E5B5-4935-8A4A-CAC00FB144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process to determine when a credit balance is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system to track number of days remaining to release funds tim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 new regulations regarding prior year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reate more credit balances if entire program cost is charged upfr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5332320"/>
            <a:ext cx="13716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44F5-ADD3-47CB-AC70-82F358FEF9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085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48CC-D609-401B-AC2F-78C1AB5E8E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e Awareness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to Title IV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Policy Not Adequately Developed /Moni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35053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541800">
            <a:off x="8153280" y="38858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6FC0-FF5B-46C3-9E77-0665E08354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in Student Files Missing or Inco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ll Over/Under 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nsumer Information Requirements        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mproper/Undocumented Dependency Overr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ack of Administrative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1541800">
            <a:off x="8077320" y="289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38862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41800">
            <a:off x="8077320" y="4723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8720-5FD1-4A17-9E84-601B14AD94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e Awareness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to Title IV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Policy Not Adequately Developed and/or Moni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541800">
            <a:off x="7924680" y="39621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D7F3-8CB6-4D71-BB22-5D0505B54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ime Awareness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 not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al report not published and/or distributed annually to current students/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report statistics on website or crimes reported in wrong categ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provide timely warnings and/or notifications of crimes com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05720" y="5268960"/>
            <a:ext cx="1752480" cy="14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0EB2-D4B3-4996-9493-CA6D118390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rime Awareness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Failed to develop/disclose procedures when a student reports a crime to campus pastoral counselors/professional counsel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/disclose procedures to guide counselors in their dealings with stud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629400" y="5207040"/>
            <a:ext cx="1854360" cy="15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1BDA-8503-4DF6-A834-4CF83F65255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ss for gathering crime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person(s) responsible for campus crime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communications plan for timely warnings and not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2057400" cy="171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92D4-4FFC-4E1E-9BCF-EC2439F6D7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Policy Not Adequately Developed/Monitor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 fails to address require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ative, quantitative, completion rate, and/or maximum time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 less strict than policy for non-Title IV recipi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standards not consistently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d disbursed to students who were not meeting minimum SAP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37160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41EB-6CE2-4D80-8D90-FBF1DCB0F0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Policy Not Adequately Developed/Monitor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Students were not meeting minimum GPA at the end of a probationary period and were therefore not eligible for aid; however, school disbursed the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Develop procedures to ensure policy is followed; check SAP prior to disbursing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37160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3FA7-BA21-4CC3-8E37-E13B06FFD1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dequate SAP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components, remedial and repeat coursework, probationary periods, appeal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each student’s file to reflect eligibility for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your written polic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11160" cy="16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91B8-3B11-4CF6-A87F-B003F05D0A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 in Student Files Missing or Inconsist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data (admissions, registrar) conflicts with ISI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IR data conflicts with other documentation in financial aid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ocumentation to support professional judgment/dependency overr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ed to retain ISIR used to establish a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35400" y="5505480"/>
            <a:ext cx="323712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54A4-9D78-4EEF-B623-04EFE34032D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 in Student Files Missing or Inconsist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Income on ISIR conflicts with income reported on Institutional Non Tax-Filer Form; inconsistency not res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Design process to ensure all conflicts are researched and res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135400" y="5505480"/>
            <a:ext cx="323712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FE30-84CB-4796-AF56-1ECB50FBC9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 attention to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your own ‘review’ of student f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subsequent IS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mmunication with other offices at the institution to identify and address inconsist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35400" y="5505480"/>
            <a:ext cx="323712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F4D1-8742-4964-9A99-0A67BB0BD7B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ten verification policy not provided to students selected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2T4 policy not published or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awal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explanation of R2T4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policy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08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D21A-BFB9-496A-A862-883247DA22D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: Top 10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in Student Files Missing or Inconsis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ll Over/Under 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nsumer Information Requirements        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mproper/Undocumented Dependency Overr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ack of Administrative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541800">
            <a:off x="8077320" y="289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38862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1541800">
            <a:off x="8077320" y="4647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6227-2F54-4529-AF10-084B943471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Written verification policy did not include the require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dlines, consequences, notifications, procedure for correcting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Revise policy to include all require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748560" y="5127480"/>
            <a:ext cx="1535040" cy="15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4D72-626D-4439-810C-00C8A7DF5B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required consumer information is accurate, complete, and provided to students in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someone is available during normal operating hours to address student questions or concerns about consumer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88280" y="4716360"/>
            <a:ext cx="1908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EE6C-4F62-4E3B-B06A-6039F218C7D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mproper/Undocumented Dependency Overrid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cy override performed for invalid rea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was self-suffic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(s) didn’t claim student on tax retu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ocumentation in student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confirm continued unusual circumstance in new award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781680" y="5376960"/>
            <a:ext cx="1447920" cy="13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7524-3CB0-48A0-8E5F-9407EA4565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mproper/Undocumented Dependency Overrid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Routinely performed dependency overrides for students whose parents reside in a foreign country and the students supported themsel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velop policies that conform to Title IV rules; obtain adequate documentation to support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usu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ircum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2177-2018-4DB1-A8B7-E1D26DF5144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written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decisions by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your process does not allow for ‘mass’ D/O based on similar situ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, document, documen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06480" cy="165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2A9F-63F3-4ED6-B7C6-22055585044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ack of Administrative Capabil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cates numerous/significant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areas of noncompliance invol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ion of du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quate checks and bal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of internal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equate staff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41640" cy="16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3885-5209-414F-A5A4-3AB2E4AB799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ack of Administrative Capabil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Late R2T4, incorrect COA used for awarding, incomplete verification, loans not prorated, Perkins Loan Program not adequately administ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Designate capable individual(s) to oversee financial aid process; develop and implement internal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608880" y="5403960"/>
            <a:ext cx="16840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A091-F0BF-4755-B04C-2DDB9BAA057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re and retain adequate number of experienced person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process of timely communication between all relevant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that no one person or office has the ability to awar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isburse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Compliance Solu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41640" cy="16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570C-DE55-4FD1-9AF1-4D7818593F8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assessment tool designed to assist schools in evaluating their financial aid policies, processes,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ssessment modules on Students, Schools, Managing Funds, and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http://www.ifap.ed.gov/qahome/fsaassessment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E13C-F847-4F56-AF10-398835E4707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10420" r="6250" b="7294"/>
          <a:stretch/>
        </p:blipFill>
        <p:spPr>
          <a:xfrm>
            <a:off x="0" y="-5724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275A-32F9-4C89-BF04-970542DFE5E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dings on Both Lis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to Title IV Calculation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Made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Over/Underpay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/Exit Counseling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62920" y="1828800"/>
            <a:ext cx="304560" cy="2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86600" y="22860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486400" y="27432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32004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543800" y="3657600"/>
            <a:ext cx="304920" cy="281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238880" y="419112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BA31-0CD2-480B-A267-8351705148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03C1-E479-4A79-9C3F-01515B1D3C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80880" y="1447920"/>
            <a:ext cx="853452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m Becker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816) 268-04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Tom.Beckerl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ura 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404) 562-62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Laura.Hall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DD4B-49A1-44DF-84FD-98B7F1C83CB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085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969D-C3F1-417E-95D6-0193A0CA1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eat Finding-Failure to Tak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ve A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finding(s) identified in subsequent audit(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ailed to adequately develop, implement, and/or monitor procedures to ensure Corrective Action Plan was follow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53080" y="5486400"/>
            <a:ext cx="205740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6FBA-5364-4913-BFD0-975C6EC885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peat Finding-Failure to Tak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ve A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Repeat findings for Pell Overpayments, Student Status Confirmation Report Submitted Late, and Credit Balance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  Determine why CAP was not effective and make adjustments as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53080" y="5486400"/>
            <a:ext cx="205740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C99B-687F-4CA0-A1CD-54139694F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Laura Hall</dc:creator>
  <dc:description>Presentation for the 2008 FSA Conferences.</dc:description>
  <dc:language>en-US</dc:language>
  <cp:lastModifiedBy>Amy Luycx</cp:lastModifiedBy>
  <dcterms:modified xsi:type="dcterms:W3CDTF">2008-09-10T16:05:49Z</dcterms:modified>
  <cp:revision>249</cp:revision>
  <dc:subject>Top 10 Audit and Program Review Findings</dc:subject>
  <dc:title>PowerPoint Presentation</dc:title>
</cp:coreProperties>
</file>