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DDFD-D171-463E-A70F-A987DBB3F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3BAB-0AB3-4A5A-9B68-3B5D3E9A4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1B9E-4129-40BB-90EB-902726C99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C9BA-C95D-42B8-9290-4E6A8EE8D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DEF5-E106-4E53-9AAA-060BE2690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C3BC-D9EB-4330-8E39-F84110DEE9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CEC2-4D87-48D5-B3D3-9F86FD86E9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24FD-52A6-4F40-91F8-0D942E6D0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D354-F92A-44CA-B8D2-AA616E8F9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4AF7-DA4C-4D78-911C-6DEDBA763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49B9-43AF-417F-9FD0-038D0BE84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768D-16DC-435A-B4D4-E0756E2DB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D922-FC28-4C9B-88D0-330326845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D0EA-545E-47BC-B48C-65B1EEF30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FC80-3167-4134-9F8B-64DACAC331A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mailto:Tom.Beckerle@ed.gov" TargetMode="External"/><Relationship Id="rId2" Type="http://schemas.openxmlformats.org/officeDocument/2006/relationships/hyperlink" Target="mailto:Laura.Hall@ed.g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C-30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364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op 10 Audit and Program Review Findings and How To Identify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m Becker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ura H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results of Corrective Action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it working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changes needed to improve proces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specific procedures for CAP action i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le person/office to ensure CAP is implemented/monito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477120" y="5410080"/>
            <a:ext cx="2057400" cy="114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EC47-1886-4DA5-B89A-29913B2B8A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s not made within allowable timeframe (45 day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dequate system in place to identify/track official and unofficial withdrawa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system in place to track number of days remaining to return f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ck of coordination between off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turn of Title IV Funds Made Lat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86600" y="5310360"/>
            <a:ext cx="1676520" cy="15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B112-C319-4B74-B071-4C2A3C6F30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 Unearned Pell Grant funds were returned between 76 and 158 days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Ensure a knowledgeable person has responsibility for tracking the return of f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turn of Title IV Funds Made Lat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553080" y="4724280"/>
            <a:ext cx="205740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173E-6391-4D93-8E7E-A2618BBF0A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 processes and procedures to track/monitor the dead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timely communication between off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R2T4 on the Web report fe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553080" y="4267080"/>
            <a:ext cx="2286000" cy="21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A7CF-6ABF-41C7-8D6C-5FDB631E41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2T4 Calculation Erro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25640"/>
            <a:ext cx="853416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rrect institutional charges for the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d breaks not inclu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rrect withdrawal 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out-of-date R2T4 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hematical err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4114800"/>
            <a:ext cx="21812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A2A8-7940-462E-8E9C-87CC6087A9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2T4 Calculation Erro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25640"/>
            <a:ext cx="853416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R2T4 calculation based on incorrect number of days in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Review and modify R2T4 policies and procedures to ensure a correct understanding of the calculation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9400" y="4800600"/>
            <a:ext cx="180504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B78B-CA3D-4EE2-954D-D97D181886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orrect institutional charges for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rate if all charges assessed upfro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 when to include book char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R2T4 Workshe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Web Appl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p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00800" y="4114800"/>
            <a:ext cx="21812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99F0-F603-49F3-AA77-0E9115F088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ntrance/Exit Counseling Deficienci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ance counseling not conducted/not documented for first-time, first-year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t counseling materials not mailed to students who failed to complete in-person or on-line couns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t counseling not conducted for withdrawn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83060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F1EB-863D-4702-9707-7ADEC022A7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ntrance/Exit Counseling Deficienci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School’s system failed to identify all students who ceased enrollment on at least a half-time basis, resulting in exit counseling materials not mailed to withdrawn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Assign responsibility for monitoring the exit interview process; modify automated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D8BB-FEDD-47D2-91C6-8080083003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991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ss for documenting student comple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ensuring communication between Registrar, Educational, and Financial Aid Off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k support from lenders/GAs or ED (for Direct Loa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staff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A Coach, Module 4: Loan Counsel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7ABE-82EF-410C-851D-8F7D22A2B1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udit Findings: Top 10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Finding-Failure to Tak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of Title IV Funds Made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of Title IV Funds Calculation Err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ance/Exit Counseling Deficienci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Status-Inaccurate/Untimely 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F027-EBF3-4907-BE12-05F119D0AD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mittal File not returned within 30 days of receipt of Roster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incorrect enrollment status c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” for graduated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rrect graduated effective 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(s) reported as withdrawn for summer break even though expected to return in the f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4560" y="6858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udent Status-Inaccurate or Untimely Report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43800" y="4876920"/>
            <a:ext cx="10508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6B6B3-5816-48D1-BA15-263738392C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udent Status-Inaccurate or Untimely Report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ird-party servic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failed to transmit enrollment data to servic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failed to ensure file was submitted by servicer tim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choo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ponsible for timely response to NSL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43800" y="4876920"/>
            <a:ext cx="10508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2191-0198-4B8D-A1F1-DA5134C53A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udent Status-Inaccurate or Untimely Report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Student enrollment status and/or effective date reported incorrectly; SSCR Submittal Files returned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Provide training to personnel on correct status/dates; implement monitoring system to ensure timely 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83480" y="5140440"/>
            <a:ext cx="96192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0771-F303-453A-B8C3-9174DEFD4B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ss for enrollment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tain accurate enrollment rec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 correct status c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, D, F, G, H, L, W, X, 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y for monitoring the SSCR reporting dead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tain SSCR doc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knowledgement/Error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91520" y="4800600"/>
            <a:ext cx="10508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BC0B-1102-45F4-B090-E4C98B39E5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uditor’s Opinion Cited in Audi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s to anything other than an unqualified opin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es serious deficiencies/areas of concern in the compliance audit and/or audited financial stat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715000" y="3962520"/>
            <a:ext cx="19764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C275-52C2-46CC-9CF0-8BDB5FFE0C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uditor’s Opinion Cited in Audi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ure to reconcile program accou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Perkins default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-going problems with incorrect R2T4 calc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dequate accounting systems and/or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ck of internal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192744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4359-4F91-42DA-BF8A-60593EAE1D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uditor’s Opinion Cited in Audi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Lack of Administrative Cap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rrect R2T4 Calculations, Improper Academic Progress Standards, Inadequate Accounting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Review and revise policies and procedures; implement accounting system in accordance with generally accepted accounting princi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C86A-2A92-46D2-ADA7-3A3B98F8B1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 monthly reconciliation of Title IV program accou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nd implement a Perkins default management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training on how to correctly calculate R2T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A Coach, Module 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192744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CD2E-D8E2-4EF2-8D54-BA52B84282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Viola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Worksheet not sig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taxed income not ver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licting data on ISIR and verification documents not res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d corrections not proce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943600" y="4724280"/>
            <a:ext cx="2895480" cy="164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5C66-C4C7-4C62-BB5C-D4D43E5948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Viola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Incomplete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tax return submitted for parent even though earned income required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rrect number in household 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 Follow published verification procedures; ensure all required items are verified; document student fi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5B26-B00F-4929-940F-F231B8275F8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udit Findings: Top 10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tor Opinion Cited i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Vio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Over/Under Pay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Confirmation Report Filed Late/Not Filed/Not Retained for Five Years/Inaccurate (similar to #5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Credit Balance De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D1A5-A48A-46E2-BB5A-8620D4980F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verification process to ensure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 a self-assessment by reviewing a random sample of student fi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Verification Workshe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developed or ED workshe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43600" y="4724280"/>
            <a:ext cx="2895480" cy="164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6E48-713D-43C2-B66B-FB73C9E67B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ell Grant Over/Under Paym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ustments not made for change in enrollment status between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dance not documented in all coursework counted in the enrollment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es or compressed course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rrect Pell Formu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ccurate proration calc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rrect 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91520" y="4648320"/>
            <a:ext cx="140148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FC79-B36A-4388-BE5D-FC85005475E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ell Grant Over/Under Paym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ISIR correction resulted in an increase to the EFC; however, aid was not recalculated/reduc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Develop procedures to ensure all subsequent ISIRs are reviewed and aid is adjusted according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91520" y="4648320"/>
            <a:ext cx="140148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FD08F-4F8F-401C-A178-6D3C0FE8AE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orrect enrollment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orrect Pell Formula/Schedu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that student began attendance in all course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rate when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391520" y="4648320"/>
            <a:ext cx="140148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4D7E-464C-4C69-B7DC-8A4EF72B8B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udent Credit Balance Deficienci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process in place to determine when a credit balance has been creat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balances not released to students within required 14-day timefra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balances held without student authoriz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162920" y="4800600"/>
            <a:ext cx="1523880" cy="151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BF1A-0D3B-48B0-A059-94AB745CE15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udent Credit Balance Deficienci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Credit balance held for 111 days without student autho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Develop and implement procedures and controls to identify and release credit balances tim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162920" y="4800600"/>
            <a:ext cx="1523880" cy="151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E912-1E19-4D3F-B8B7-F8B398816DB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process to determine when a credit balance is cre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system to track number of days remaining to release funds tim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 new regulations regarding prior year char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reate more credit balances if entire program cost is charged upfro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934320" y="5332320"/>
            <a:ext cx="1371600" cy="136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04D5-BEF4-4680-867F-7F08C26A734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720" y="3085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gram Review Finding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8FE1-53B8-4D24-9C2A-C40FD663A7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gram Review Findings: Top 10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Violation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me Awareness Requirements Not M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to Title IV Calculation Err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ance/Exit Counseling De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P Policy Not Adequately Developed /Monito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of Title IV Funds Made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35053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1541800">
            <a:off x="8153280" y="38858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E6FF-593A-4CB0-AD67-39D5F93F427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gram Review Findings: Top 10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Credit Balance De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in Student Files Missing or Inconsis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Pell Over/Under Pay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Consumer Information Requirements         Not M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mproper/Undocumented Dependency Overri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Lack of Administrative Cap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25909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21541800">
            <a:off x="8077320" y="2895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388620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1541800">
            <a:off x="8077320" y="4723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430B-6E35-462E-90E0-0BAEC8B58D6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gram Review Findings: Top 10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Violation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me Awareness Requirements Not M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to Title IV Calculation Err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ance/Exit Counseling De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P Policy Not Adequately Developed and/or Monito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of Title IV Funds Made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36576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1541800">
            <a:off x="7924680" y="39621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FCE2-EED9-4C6B-BDA9-88442285E1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rime Awareness Requirements Not Me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ies and procedures not develo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nual report not published and/or distributed annually to current students/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ure to report statistics on website or crimes reported in wrong categ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ure to provide timely warnings and/or notifications of crimes commit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705720" y="5268960"/>
            <a:ext cx="1752480" cy="145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C285-A4EB-4F72-AFDB-4E10C59E541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rime Awareness Requirements Not Me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Failed to develop/disclose procedures when a student reports a crime to campus pastoral counselors/professional counselo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Develop/disclose procedures to guide counselors in their dealings with stude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629400" y="5207040"/>
            <a:ext cx="1854360" cy="15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E9DA-B9BB-4694-9C83-C76003C9C35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ss for gathering crime stat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person(s) responsible for campus crime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communications plan for timely warnings and not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629400" y="4724280"/>
            <a:ext cx="2057400" cy="171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660F-F49E-4F30-80AC-890D1A121A3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P Policy Not Adequately Developed/Monitore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y fails to address required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ative, quantitative, completion rate, and/or maximum timefr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y less strict than policy for non-Title IV recipie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P standards not consistently appl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d disbursed to students who were not meeting minimum SAP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086600" y="5334120"/>
            <a:ext cx="137160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A38A-5DB8-4124-A168-FE88C6CD28D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P Policy Not Adequately Developed/Monitore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 Students were not meeting minimum GPA at the end of a probationary period and were therefore not eligible for aid; however, school disbursed the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 Develop procedures to ensure policy is followed; check SAP prior to disbursing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086600" y="5334120"/>
            <a:ext cx="137160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0A5A-0D03-4831-85BE-DAEECCE2F2C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dequate SAP poli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d components, remedial and repeat coursework, probationary periods, appeal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each student’s file to reflect eligibility for disburs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your written policy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811160" cy="166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355D-4D22-433D-B53E-79C9A22A44B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formation in Student Files Missing or Inconsist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al data (admissions, registrar) conflicts with ISIR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IR data conflicts with other documentation in financial aid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ocumentation to support professional judgment/dependency overr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ed to retain ISIR used to establish a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135400" y="5505480"/>
            <a:ext cx="3237120" cy="13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5EA8-72CE-44E1-AD35-BE06C474C87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formation in Student Files Missing or Inconsist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Income on ISIR conflicts with income reported on Institutional Non Tax-Filer Form; inconsistency not res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 Design process to ensure all conflicts are researched and res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135400" y="5505480"/>
            <a:ext cx="3237120" cy="13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BCD4-BE70-4973-8678-2A9351B14B9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y attention to student fi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 your own ‘review’ of student fi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subsequent ISI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mmunication with other offices at the institution to identify and address inconsist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35400" y="5505480"/>
            <a:ext cx="3237120" cy="13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08CA-1644-4174-9779-18BC92B387A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 Requirements Not Me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ten verification policy not provided to students selected for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2T4 policy not published or incomple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drawal poli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c explanation of R2T4 calc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P policy incomple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0800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3FBD-EDFD-46FA-B1F8-1E60A421E66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gram Review Findings: Top 10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Credit Balance De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in Student Files Missing or Inconsis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Pell Over/Under Pay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Consumer Information Requirements         Not M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mproper/Undocumented Dependency Overri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Lack of Administrative Cap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7696080" y="25909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21541800">
            <a:off x="8077320" y="2895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388620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21541800">
            <a:off x="8077320" y="46479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B04A-8C45-4A19-866B-7C1EF2900E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 Requirements Not Me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Written verification policy did not include the required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adlines, consequences, notifications, procedure for correcting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 Revise policy to include all required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748560" y="5127480"/>
            <a:ext cx="1535040" cy="15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E66D-0708-40F1-9D28-7475DEE6EB1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required consumer information is accurate, complete, and provided to students in wri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someone is available during normal operating hours to address student questions or concerns about consumer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488280" y="4716360"/>
            <a:ext cx="190800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A9FD-78DB-4918-BE9A-57B05B55372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mproper/Undocumented Dependency Overrid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endency override performed for invalid reas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was self-suffic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(s) didn’t claim student on tax retu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ocumentation in student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ure to confirm continued unusual circumstance in new award yea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781680" y="5376960"/>
            <a:ext cx="1447920" cy="132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9792-1FEA-464E-9A72-4A02379C924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mproper/Undocumented Dependency Overrid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Routinely performed dependency overrides for students whose parents reside in a foreign country and the students supported themsel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Develop policies that conform to Title IV rules; obtain adequate documentation to support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nusu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ircum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A970-49D9-4878-B3F1-A544C176009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written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decisions by committ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your process does not allow for ‘mass’ D/O based on similar situ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, document, documen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806480" cy="165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445A-EEC5-43A3-9E9D-B97636E9333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ack of Administrative Capabilit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es numerous/significant find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common areas of noncompliance invol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paration of du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equate checks and bala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of internal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equate staff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141640" cy="16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0338-15DD-4806-97AE-B16550593CC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ack of Administrative Capabilit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Late R2T4, incorrect COA used for awarding, incomplete verification, loans not prorated, Perkins Loan Program not adequately administ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Designate capable individual(s) to oversee financial aid process; develop and implement internal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608880" y="5403960"/>
            <a:ext cx="168408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38D3-9339-4336-9DF7-317160AB38C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re and retain adequate number of experienced personn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process of timely communication between all relevant off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that no one person or office has the ability to awar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isburse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141640" cy="16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E1B5-30AC-4C0B-824A-442450A84C2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f-assessment tool designed to assist schools in evaluating their financial aid policies, processes,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assessment modules on Students, Schools, Managing Funds, and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Verdana"/>
              </a:rPr>
              <a:t>http://www.ifap.ed.gov/qahome/fsaassessment.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A Assess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AD68-DDA2-4101-AFF7-34500D1EFC5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10420" r="6250" b="7294"/>
          <a:stretch/>
        </p:blipFill>
        <p:spPr>
          <a:xfrm>
            <a:off x="0" y="-5724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08F64-261F-4E20-AE91-9D8C924425A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ndings on Both Lis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to Title IV Calculation Err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of Title IV Funds Made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Over/Underpay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Vio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ance/Exit Counseling De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Credit Balance De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62920" y="1828800"/>
            <a:ext cx="304560" cy="281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86600" y="2286000"/>
            <a:ext cx="304920" cy="281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486400" y="2743200"/>
            <a:ext cx="304920" cy="28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3200400"/>
            <a:ext cx="304920" cy="281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7543800" y="3657600"/>
            <a:ext cx="304920" cy="281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7238880" y="4191120"/>
            <a:ext cx="304920" cy="28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7DB6-8803-4BA9-9901-E5678586AF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A452-9BE2-4E12-B9D0-4BA893FC2CA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80880" y="1447920"/>
            <a:ext cx="853452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m Becker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816) 268-04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Tom.Beckerle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ura H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404) 562-62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Laura.Hall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12EF-799C-4942-8E70-E2AC6910B38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085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udit Finding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7463-724D-40B2-8B41-1D85190A59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eat Finding-Failure to Take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rrective Ac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e finding(s) identified in subsequent audit(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failed to adequately develop, implement, and/or monitor procedures to ensure Corrective Action Plan was follow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553080" y="5486400"/>
            <a:ext cx="2057400" cy="114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0686-6D53-4DF2-9E99-A4A3AF9465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eat Finding-Failure to Take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rrective Ac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Repeat findings for Pell Overpayments, Student Status Confirmation Report Submitted Late, and Credit Balance De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 Determine why CAP was not effective and make adjustments as necess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53080" y="5486400"/>
            <a:ext cx="2057400" cy="114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3FF3-1813-48C5-9BA0-82AB493446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Laura Hall</dc:creator>
  <dc:description>Presentation for the 2008 FSA Conferences.</dc:description>
  <dc:language>en-US</dc:language>
  <cp:lastModifiedBy>Amy Luycx</cp:lastModifiedBy>
  <dcterms:modified xsi:type="dcterms:W3CDTF">2008-09-10T16:05:49Z</dcterms:modified>
  <cp:revision>249</cp:revision>
  <dc:subject>Top 10 Audit and Program Review Findings</dc:subject>
  <dc:title>PowerPoint Presentation</dc:title>
</cp:coreProperties>
</file>