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7D6-825D-40D5-BE08-FEA9F041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0D8A-B8E6-4B3C-B895-9EB5CA1C2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E197-771D-4226-9EB1-86DEFE5A7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A77C-9338-4533-9AA7-F5B0015FF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6617-BCF0-4FA9-98FE-CD0EA1818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CA24-714C-4722-AD1C-87011EB24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EA67-5FEF-4E40-85B6-9903CA73B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D41D-79C5-44CF-80EB-3C15C8DDB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13B4-08BE-456D-AFDC-F188F8A1F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972D-D71B-469E-A936-E15900D80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1D60-70BB-4926-B3E2-7C6B25184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0D5C-5375-4FE7-9F07-7FF66297B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B183-E722-4A6D-AC7C-9559564F0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2631-E763-41AB-91BF-C06DD3E74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B3F8-75EA-4D02-A3F6-E3E1807244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ligcert.ed.gov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mailto:douglas.laine@ed.gov" TargetMode="External"/><Relationship Id="rId2" Type="http://schemas.openxmlformats.org/officeDocument/2006/relationships/hyperlink" Target="mailto:betty.coughlin@ed.gov" TargetMode="External"/><Relationship Id="rId3" Type="http://schemas.openxmlformats.org/officeDocument/2006/relationships/hyperlink" Target="mailto:julie.arthur@ed.g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2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Keeping Your School's Title IV Participation Curr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verything you need to know about adding new programs and locations, and reporting critical information about your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wait for approval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 term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level of off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degree programs beyond current appr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001000" y="457200"/>
            <a:ext cx="958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3E92-23F6-48DE-885B-E389FEF6CE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-term programs (300–599 clock hours) must always be approved prior to disbursing Title IV aid (includes graduate short-term program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short-term programs must have been provided continuously for at least 12 months and meet 70 percent completion and placement rate thresho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958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2CCF-5AC9-457D-85DA-C322DD25AB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the level of off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previously offered only AA or AS degrees, adds BA or BS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previously offered one-year non-degree programs, now offers two-year non-degre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959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8F57-F44F-4867-9260-726880E8DE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degree programs beyond current appr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prepares students for gainful employment in dissimilar or unrelated  occupations as the currently approved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959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95F6-1C54-4956-9BC8-CAC42D74A2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may self-determine program eligibility if add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gree program at level currently ap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on degree program that prepares students for gainful employment in same or related recognized occupation as a currently approved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t re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1822320" cy="18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612A-0AA2-4935-A849-3F9DE8B992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port and Wait – Other Changes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report and wait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tution changes its primary, institution-wide accrediting agency*, or state authorizing ag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n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n ownershi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the change must be approved, but prior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change, the institution must notify FSA in writing when it begins the process to change its accrediting agency, including the reason for th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104904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05E3-F2E9-425B-AD47-18E713B14A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port and Wait – Other Changes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report and wait 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new Title IV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-Based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104904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31EE-F795-4204-9F5C-4D5A28910F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nd 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ain changes must be reported within 10 days of th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must have prior approval from state and accreditor, if applic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ly complete application must be sub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23120" y="4800600"/>
            <a:ext cx="1311120" cy="1905120"/>
            <a:chOff x="7323120" y="4800600"/>
            <a:chExt cx="1311120" cy="1905120"/>
          </a:xfrm>
        </p:grpSpPr>
        <p:sp>
          <p:nvSpPr>
            <p:cNvPr id="130" name=""/>
            <p:cNvSpPr/>
            <p:nvPr/>
          </p:nvSpPr>
          <p:spPr>
            <a:xfrm>
              <a:off x="7383600" y="4863960"/>
              <a:ext cx="1182600" cy="169092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85000" y="4998960"/>
              <a:ext cx="392040" cy="39384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88240" y="5497560"/>
              <a:ext cx="393840" cy="39348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80320" y="6019920"/>
              <a:ext cx="392040" cy="39348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0120" y="4800600"/>
              <a:ext cx="696960" cy="179064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31040" y="4800600"/>
              <a:ext cx="103320" cy="179388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23120" y="4937040"/>
              <a:ext cx="366840" cy="4190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6360" y="5486400"/>
              <a:ext cx="368280" cy="41904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600" y="6035760"/>
              <a:ext cx="369720" cy="4176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64520" y="4941720"/>
              <a:ext cx="369720" cy="4194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55160" y="5489640"/>
              <a:ext cx="376200" cy="4190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56600" y="6039000"/>
              <a:ext cx="369720" cy="4190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5640" y="4989600"/>
              <a:ext cx="412560" cy="4143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01000" y="5310360"/>
              <a:ext cx="57240" cy="903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72400" y="5486400"/>
              <a:ext cx="412920" cy="41580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97760" y="5807160"/>
              <a:ext cx="57240" cy="921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5640" y="5999040"/>
              <a:ext cx="414360" cy="41616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440" y="6321600"/>
              <a:ext cx="57240" cy="903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83360" y="568908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86760" y="6210360"/>
              <a:ext cx="30492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83360" y="640080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6000" y="6362640"/>
              <a:ext cx="25380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75400" y="586728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161200" y="586692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628040" y="6337080"/>
              <a:ext cx="203040" cy="291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75400" y="6222960"/>
              <a:ext cx="304920" cy="18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85240" y="6400800"/>
              <a:ext cx="1522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779960" y="6400800"/>
              <a:ext cx="1270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475040" y="6286680"/>
              <a:ext cx="304920" cy="11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61200" y="6248520"/>
              <a:ext cx="30492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8040" y="5715000"/>
              <a:ext cx="2286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110440" y="5727600"/>
              <a:ext cx="15264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4920" y="3581280"/>
            <a:ext cx="69339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B9B2-F339-46F9-808F-599F47D69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’s and Location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308640" y="4559400"/>
            <a:ext cx="1182600" cy="1690560"/>
          </a:xfrm>
          <a:custGeom>
            <a:avLst/>
            <a:gdLst/>
            <a:ahLst/>
            <a:rect l="l" t="t" r="r" b="b"/>
            <a:pathLst>
              <a:path w="2236" h="3196">
                <a:moveTo>
                  <a:pt x="18" y="224"/>
                </a:moveTo>
                <a:lnTo>
                  <a:pt x="519" y="224"/>
                </a:lnTo>
                <a:lnTo>
                  <a:pt x="546" y="9"/>
                </a:lnTo>
                <a:lnTo>
                  <a:pt x="1667" y="0"/>
                </a:lnTo>
                <a:lnTo>
                  <a:pt x="1685" y="197"/>
                </a:lnTo>
                <a:lnTo>
                  <a:pt x="2236" y="233"/>
                </a:lnTo>
                <a:lnTo>
                  <a:pt x="2042" y="496"/>
                </a:lnTo>
                <a:lnTo>
                  <a:pt x="1975" y="743"/>
                </a:lnTo>
                <a:lnTo>
                  <a:pt x="1676" y="871"/>
                </a:lnTo>
                <a:lnTo>
                  <a:pt x="1692" y="1287"/>
                </a:lnTo>
                <a:lnTo>
                  <a:pt x="2211" y="1287"/>
                </a:lnTo>
                <a:lnTo>
                  <a:pt x="1966" y="1783"/>
                </a:lnTo>
                <a:lnTo>
                  <a:pt x="1685" y="1911"/>
                </a:lnTo>
                <a:lnTo>
                  <a:pt x="1685" y="2293"/>
                </a:lnTo>
                <a:lnTo>
                  <a:pt x="2170" y="2311"/>
                </a:lnTo>
                <a:lnTo>
                  <a:pt x="1912" y="2880"/>
                </a:lnTo>
                <a:lnTo>
                  <a:pt x="1685" y="2940"/>
                </a:lnTo>
                <a:lnTo>
                  <a:pt x="1692" y="3178"/>
                </a:lnTo>
                <a:lnTo>
                  <a:pt x="588" y="3196"/>
                </a:lnTo>
                <a:lnTo>
                  <a:pt x="570" y="2924"/>
                </a:lnTo>
                <a:lnTo>
                  <a:pt x="341" y="2889"/>
                </a:lnTo>
                <a:lnTo>
                  <a:pt x="42" y="2302"/>
                </a:lnTo>
                <a:lnTo>
                  <a:pt x="588" y="2293"/>
                </a:lnTo>
                <a:lnTo>
                  <a:pt x="561" y="1875"/>
                </a:lnTo>
                <a:lnTo>
                  <a:pt x="341" y="1851"/>
                </a:lnTo>
                <a:lnTo>
                  <a:pt x="0" y="1246"/>
                </a:lnTo>
                <a:lnTo>
                  <a:pt x="561" y="1246"/>
                </a:lnTo>
                <a:lnTo>
                  <a:pt x="570" y="862"/>
                </a:lnTo>
                <a:lnTo>
                  <a:pt x="391" y="811"/>
                </a:lnTo>
                <a:lnTo>
                  <a:pt x="255" y="649"/>
                </a:lnTo>
                <a:lnTo>
                  <a:pt x="18" y="224"/>
                </a:lnTo>
                <a:lnTo>
                  <a:pt x="18" y="22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10400" y="4694400"/>
            <a:ext cx="392040" cy="393480"/>
          </a:xfrm>
          <a:custGeom>
            <a:avLst/>
            <a:gdLst/>
            <a:ahLst/>
            <a:rect l="l" t="t" r="r" b="b"/>
            <a:pathLst>
              <a:path w="741" h="744">
                <a:moveTo>
                  <a:pt x="431" y="738"/>
                </a:moveTo>
                <a:lnTo>
                  <a:pt x="370" y="744"/>
                </a:lnTo>
                <a:lnTo>
                  <a:pt x="309" y="738"/>
                </a:lnTo>
                <a:lnTo>
                  <a:pt x="250" y="725"/>
                </a:lnTo>
                <a:lnTo>
                  <a:pt x="193" y="700"/>
                </a:lnTo>
                <a:lnTo>
                  <a:pt x="141" y="665"/>
                </a:lnTo>
                <a:lnTo>
                  <a:pt x="97" y="625"/>
                </a:lnTo>
                <a:lnTo>
                  <a:pt x="60" y="576"/>
                </a:lnTo>
                <a:lnTo>
                  <a:pt x="30" y="521"/>
                </a:lnTo>
                <a:lnTo>
                  <a:pt x="11" y="464"/>
                </a:lnTo>
                <a:lnTo>
                  <a:pt x="0" y="404"/>
                </a:lnTo>
                <a:lnTo>
                  <a:pt x="0" y="341"/>
                </a:lnTo>
                <a:lnTo>
                  <a:pt x="9" y="282"/>
                </a:lnTo>
                <a:lnTo>
                  <a:pt x="30" y="222"/>
                </a:lnTo>
                <a:lnTo>
                  <a:pt x="58" y="168"/>
                </a:lnTo>
                <a:lnTo>
                  <a:pt x="97" y="121"/>
                </a:lnTo>
                <a:lnTo>
                  <a:pt x="140" y="79"/>
                </a:lnTo>
                <a:lnTo>
                  <a:pt x="192" y="44"/>
                </a:lnTo>
                <a:lnTo>
                  <a:pt x="248" y="20"/>
                </a:lnTo>
                <a:lnTo>
                  <a:pt x="308" y="6"/>
                </a:lnTo>
                <a:lnTo>
                  <a:pt x="369" y="0"/>
                </a:lnTo>
                <a:lnTo>
                  <a:pt x="430" y="3"/>
                </a:lnTo>
                <a:lnTo>
                  <a:pt x="489" y="20"/>
                </a:lnTo>
                <a:lnTo>
                  <a:pt x="546" y="44"/>
                </a:lnTo>
                <a:lnTo>
                  <a:pt x="598" y="78"/>
                </a:lnTo>
                <a:lnTo>
                  <a:pt x="642" y="119"/>
                </a:lnTo>
                <a:lnTo>
                  <a:pt x="680" y="167"/>
                </a:lnTo>
                <a:lnTo>
                  <a:pt x="709" y="221"/>
                </a:lnTo>
                <a:lnTo>
                  <a:pt x="730" y="279"/>
                </a:lnTo>
                <a:lnTo>
                  <a:pt x="741" y="340"/>
                </a:lnTo>
                <a:lnTo>
                  <a:pt x="741" y="401"/>
                </a:lnTo>
                <a:lnTo>
                  <a:pt x="730" y="463"/>
                </a:lnTo>
                <a:lnTo>
                  <a:pt x="711" y="520"/>
                </a:lnTo>
                <a:lnTo>
                  <a:pt x="681" y="575"/>
                </a:lnTo>
                <a:lnTo>
                  <a:pt x="645" y="624"/>
                </a:lnTo>
                <a:lnTo>
                  <a:pt x="599" y="665"/>
                </a:lnTo>
                <a:lnTo>
                  <a:pt x="547" y="698"/>
                </a:lnTo>
                <a:lnTo>
                  <a:pt x="491" y="723"/>
                </a:lnTo>
                <a:lnTo>
                  <a:pt x="431" y="738"/>
                </a:lnTo>
                <a:lnTo>
                  <a:pt x="431" y="738"/>
                </a:lnTo>
                <a:close/>
              </a:path>
            </a:pathLst>
          </a:cu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3640" y="5192640"/>
            <a:ext cx="393480" cy="393840"/>
          </a:xfrm>
          <a:custGeom>
            <a:avLst/>
            <a:gdLst/>
            <a:ahLst/>
            <a:rect l="l" t="t" r="r" b="b"/>
            <a:pathLst>
              <a:path w="742" h="743">
                <a:moveTo>
                  <a:pt x="433" y="737"/>
                </a:moveTo>
                <a:lnTo>
                  <a:pt x="372" y="743"/>
                </a:lnTo>
                <a:lnTo>
                  <a:pt x="311" y="737"/>
                </a:lnTo>
                <a:lnTo>
                  <a:pt x="251" y="724"/>
                </a:lnTo>
                <a:lnTo>
                  <a:pt x="195" y="699"/>
                </a:lnTo>
                <a:lnTo>
                  <a:pt x="143" y="666"/>
                </a:lnTo>
                <a:lnTo>
                  <a:pt x="97" y="624"/>
                </a:lnTo>
                <a:lnTo>
                  <a:pt x="61" y="575"/>
                </a:lnTo>
                <a:lnTo>
                  <a:pt x="31" y="520"/>
                </a:lnTo>
                <a:lnTo>
                  <a:pt x="11" y="462"/>
                </a:lnTo>
                <a:lnTo>
                  <a:pt x="2" y="403"/>
                </a:lnTo>
                <a:lnTo>
                  <a:pt x="0" y="340"/>
                </a:lnTo>
                <a:lnTo>
                  <a:pt x="11" y="281"/>
                </a:lnTo>
                <a:lnTo>
                  <a:pt x="30" y="223"/>
                </a:lnTo>
                <a:lnTo>
                  <a:pt x="58" y="169"/>
                </a:lnTo>
                <a:lnTo>
                  <a:pt x="97" y="120"/>
                </a:lnTo>
                <a:lnTo>
                  <a:pt x="141" y="78"/>
                </a:lnTo>
                <a:lnTo>
                  <a:pt x="193" y="44"/>
                </a:lnTo>
                <a:lnTo>
                  <a:pt x="250" y="19"/>
                </a:lnTo>
                <a:lnTo>
                  <a:pt x="308" y="4"/>
                </a:lnTo>
                <a:lnTo>
                  <a:pt x="370" y="0"/>
                </a:lnTo>
                <a:lnTo>
                  <a:pt x="431" y="3"/>
                </a:lnTo>
                <a:lnTo>
                  <a:pt x="491" y="19"/>
                </a:lnTo>
                <a:lnTo>
                  <a:pt x="546" y="43"/>
                </a:lnTo>
                <a:lnTo>
                  <a:pt x="599" y="75"/>
                </a:lnTo>
                <a:lnTo>
                  <a:pt x="644" y="119"/>
                </a:lnTo>
                <a:lnTo>
                  <a:pt x="681" y="165"/>
                </a:lnTo>
                <a:lnTo>
                  <a:pt x="711" y="220"/>
                </a:lnTo>
                <a:lnTo>
                  <a:pt x="730" y="279"/>
                </a:lnTo>
                <a:lnTo>
                  <a:pt x="740" y="339"/>
                </a:lnTo>
                <a:lnTo>
                  <a:pt x="742" y="400"/>
                </a:lnTo>
                <a:lnTo>
                  <a:pt x="732" y="461"/>
                </a:lnTo>
                <a:lnTo>
                  <a:pt x="712" y="519"/>
                </a:lnTo>
                <a:lnTo>
                  <a:pt x="682" y="572"/>
                </a:lnTo>
                <a:lnTo>
                  <a:pt x="644" y="621"/>
                </a:lnTo>
                <a:lnTo>
                  <a:pt x="601" y="664"/>
                </a:lnTo>
                <a:lnTo>
                  <a:pt x="547" y="697"/>
                </a:lnTo>
                <a:lnTo>
                  <a:pt x="492" y="721"/>
                </a:lnTo>
                <a:lnTo>
                  <a:pt x="433" y="737"/>
                </a:lnTo>
                <a:lnTo>
                  <a:pt x="433" y="737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715000"/>
            <a:ext cx="392040" cy="393840"/>
          </a:xfrm>
          <a:custGeom>
            <a:avLst/>
            <a:gdLst/>
            <a:ahLst/>
            <a:rect l="l" t="t" r="r" b="b"/>
            <a:pathLst>
              <a:path w="740" h="745">
                <a:moveTo>
                  <a:pt x="432" y="739"/>
                </a:moveTo>
                <a:lnTo>
                  <a:pt x="371" y="745"/>
                </a:lnTo>
                <a:lnTo>
                  <a:pt x="310" y="739"/>
                </a:lnTo>
                <a:lnTo>
                  <a:pt x="251" y="724"/>
                </a:lnTo>
                <a:lnTo>
                  <a:pt x="193" y="699"/>
                </a:lnTo>
                <a:lnTo>
                  <a:pt x="142" y="666"/>
                </a:lnTo>
                <a:lnTo>
                  <a:pt x="98" y="625"/>
                </a:lnTo>
                <a:lnTo>
                  <a:pt x="59" y="577"/>
                </a:lnTo>
                <a:lnTo>
                  <a:pt x="31" y="524"/>
                </a:lnTo>
                <a:lnTo>
                  <a:pt x="10" y="466"/>
                </a:lnTo>
                <a:lnTo>
                  <a:pt x="0" y="405"/>
                </a:lnTo>
                <a:lnTo>
                  <a:pt x="0" y="342"/>
                </a:lnTo>
                <a:lnTo>
                  <a:pt x="10" y="281"/>
                </a:lnTo>
                <a:lnTo>
                  <a:pt x="29" y="225"/>
                </a:lnTo>
                <a:lnTo>
                  <a:pt x="59" y="170"/>
                </a:lnTo>
                <a:lnTo>
                  <a:pt x="96" y="120"/>
                </a:lnTo>
                <a:lnTo>
                  <a:pt x="141" y="79"/>
                </a:lnTo>
                <a:lnTo>
                  <a:pt x="191" y="46"/>
                </a:lnTo>
                <a:lnTo>
                  <a:pt x="248" y="21"/>
                </a:lnTo>
                <a:lnTo>
                  <a:pt x="309" y="4"/>
                </a:lnTo>
                <a:lnTo>
                  <a:pt x="370" y="0"/>
                </a:lnTo>
                <a:lnTo>
                  <a:pt x="431" y="4"/>
                </a:lnTo>
                <a:lnTo>
                  <a:pt x="490" y="19"/>
                </a:lnTo>
                <a:lnTo>
                  <a:pt x="547" y="43"/>
                </a:lnTo>
                <a:lnTo>
                  <a:pt x="597" y="79"/>
                </a:lnTo>
                <a:lnTo>
                  <a:pt x="642" y="119"/>
                </a:lnTo>
                <a:lnTo>
                  <a:pt x="680" y="168"/>
                </a:lnTo>
                <a:lnTo>
                  <a:pt x="710" y="222"/>
                </a:lnTo>
                <a:lnTo>
                  <a:pt x="730" y="280"/>
                </a:lnTo>
                <a:lnTo>
                  <a:pt x="740" y="341"/>
                </a:lnTo>
                <a:lnTo>
                  <a:pt x="740" y="402"/>
                </a:lnTo>
                <a:lnTo>
                  <a:pt x="731" y="461"/>
                </a:lnTo>
                <a:lnTo>
                  <a:pt x="710" y="521"/>
                </a:lnTo>
                <a:lnTo>
                  <a:pt x="682" y="576"/>
                </a:lnTo>
                <a:lnTo>
                  <a:pt x="645" y="623"/>
                </a:lnTo>
                <a:lnTo>
                  <a:pt x="599" y="665"/>
                </a:lnTo>
                <a:lnTo>
                  <a:pt x="548" y="699"/>
                </a:lnTo>
                <a:lnTo>
                  <a:pt x="492" y="724"/>
                </a:lnTo>
                <a:lnTo>
                  <a:pt x="432" y="739"/>
                </a:lnTo>
                <a:lnTo>
                  <a:pt x="432" y="73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4495680"/>
            <a:ext cx="696960" cy="1791000"/>
          </a:xfrm>
          <a:custGeom>
            <a:avLst/>
            <a:gdLst/>
            <a:ahLst/>
            <a:rect l="l" t="t" r="r" b="b"/>
            <a:pathLst>
              <a:path w="1317" h="3383">
                <a:moveTo>
                  <a:pt x="0" y="0"/>
                </a:moveTo>
                <a:lnTo>
                  <a:pt x="0" y="3383"/>
                </a:lnTo>
                <a:lnTo>
                  <a:pt x="1317" y="3383"/>
                </a:lnTo>
                <a:lnTo>
                  <a:pt x="1256" y="3176"/>
                </a:lnTo>
                <a:lnTo>
                  <a:pt x="183" y="3176"/>
                </a:lnTo>
                <a:lnTo>
                  <a:pt x="183" y="227"/>
                </a:lnTo>
                <a:lnTo>
                  <a:pt x="1271" y="224"/>
                </a:lnTo>
                <a:lnTo>
                  <a:pt x="129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56440" y="4495680"/>
            <a:ext cx="103320" cy="1793880"/>
          </a:xfrm>
          <a:custGeom>
            <a:avLst/>
            <a:gdLst/>
            <a:ahLst/>
            <a:rect l="l" t="t" r="r" b="b"/>
            <a:pathLst>
              <a:path w="195" h="3389">
                <a:moveTo>
                  <a:pt x="0" y="145"/>
                </a:moveTo>
                <a:lnTo>
                  <a:pt x="0" y="3269"/>
                </a:lnTo>
                <a:lnTo>
                  <a:pt x="195" y="3389"/>
                </a:lnTo>
                <a:lnTo>
                  <a:pt x="187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632480"/>
            <a:ext cx="366480" cy="419040"/>
          </a:xfrm>
          <a:custGeom>
            <a:avLst/>
            <a:gdLst/>
            <a:ahLst/>
            <a:rect l="l" t="t" r="r" b="b"/>
            <a:pathLst>
              <a:path w="694" h="791">
                <a:moveTo>
                  <a:pt x="694" y="0"/>
                </a:moveTo>
                <a:lnTo>
                  <a:pt x="0" y="0"/>
                </a:lnTo>
                <a:lnTo>
                  <a:pt x="242" y="412"/>
                </a:lnTo>
                <a:lnTo>
                  <a:pt x="293" y="583"/>
                </a:lnTo>
                <a:lnTo>
                  <a:pt x="343" y="671"/>
                </a:lnTo>
                <a:lnTo>
                  <a:pt x="401" y="735"/>
                </a:lnTo>
                <a:lnTo>
                  <a:pt x="494" y="776"/>
                </a:lnTo>
                <a:lnTo>
                  <a:pt x="687" y="791"/>
                </a:lnTo>
                <a:lnTo>
                  <a:pt x="694" y="620"/>
                </a:lnTo>
                <a:lnTo>
                  <a:pt x="544" y="605"/>
                </a:lnTo>
                <a:lnTo>
                  <a:pt x="465" y="541"/>
                </a:lnTo>
                <a:lnTo>
                  <a:pt x="422" y="454"/>
                </a:lnTo>
                <a:lnTo>
                  <a:pt x="378" y="346"/>
                </a:lnTo>
                <a:lnTo>
                  <a:pt x="277" y="153"/>
                </a:lnTo>
                <a:lnTo>
                  <a:pt x="690" y="153"/>
                </a:lnTo>
                <a:lnTo>
                  <a:pt x="694" y="0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51400" y="5181480"/>
            <a:ext cx="368640" cy="419400"/>
          </a:xfrm>
          <a:custGeom>
            <a:avLst/>
            <a:gdLst/>
            <a:ahLst/>
            <a:rect l="l" t="t" r="r" b="b"/>
            <a:pathLst>
              <a:path w="697" h="790">
                <a:moveTo>
                  <a:pt x="697" y="0"/>
                </a:moveTo>
                <a:lnTo>
                  <a:pt x="0" y="0"/>
                </a:lnTo>
                <a:lnTo>
                  <a:pt x="245" y="409"/>
                </a:lnTo>
                <a:lnTo>
                  <a:pt x="294" y="582"/>
                </a:lnTo>
                <a:lnTo>
                  <a:pt x="345" y="668"/>
                </a:lnTo>
                <a:lnTo>
                  <a:pt x="401" y="734"/>
                </a:lnTo>
                <a:lnTo>
                  <a:pt x="496" y="777"/>
                </a:lnTo>
                <a:lnTo>
                  <a:pt x="690" y="790"/>
                </a:lnTo>
                <a:lnTo>
                  <a:pt x="697" y="618"/>
                </a:lnTo>
                <a:lnTo>
                  <a:pt x="546" y="604"/>
                </a:lnTo>
                <a:lnTo>
                  <a:pt x="467" y="539"/>
                </a:lnTo>
                <a:lnTo>
                  <a:pt x="425" y="452"/>
                </a:lnTo>
                <a:lnTo>
                  <a:pt x="381" y="344"/>
                </a:lnTo>
                <a:lnTo>
                  <a:pt x="271" y="147"/>
                </a:lnTo>
                <a:lnTo>
                  <a:pt x="679" y="147"/>
                </a:lnTo>
                <a:lnTo>
                  <a:pt x="697" y="0"/>
                </a:lnTo>
                <a:lnTo>
                  <a:pt x="69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54640" y="5730840"/>
            <a:ext cx="370080" cy="41760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698" y="0"/>
                </a:moveTo>
                <a:lnTo>
                  <a:pt x="0" y="0"/>
                </a:lnTo>
                <a:lnTo>
                  <a:pt x="244" y="409"/>
                </a:lnTo>
                <a:lnTo>
                  <a:pt x="295" y="583"/>
                </a:lnTo>
                <a:lnTo>
                  <a:pt x="345" y="667"/>
                </a:lnTo>
                <a:lnTo>
                  <a:pt x="403" y="733"/>
                </a:lnTo>
                <a:lnTo>
                  <a:pt x="495" y="776"/>
                </a:lnTo>
                <a:lnTo>
                  <a:pt x="690" y="791"/>
                </a:lnTo>
                <a:lnTo>
                  <a:pt x="698" y="618"/>
                </a:lnTo>
                <a:lnTo>
                  <a:pt x="547" y="604"/>
                </a:lnTo>
                <a:lnTo>
                  <a:pt x="469" y="538"/>
                </a:lnTo>
                <a:lnTo>
                  <a:pt x="424" y="453"/>
                </a:lnTo>
                <a:lnTo>
                  <a:pt x="381" y="345"/>
                </a:lnTo>
                <a:lnTo>
                  <a:pt x="278" y="168"/>
                </a:lnTo>
                <a:lnTo>
                  <a:pt x="698" y="168"/>
                </a:lnTo>
                <a:lnTo>
                  <a:pt x="698" y="0"/>
                </a:lnTo>
                <a:lnTo>
                  <a:pt x="69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920" y="4637160"/>
            <a:ext cx="369720" cy="41904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1" y="0"/>
                </a:moveTo>
                <a:lnTo>
                  <a:pt x="698" y="0"/>
                </a:lnTo>
                <a:lnTo>
                  <a:pt x="453" y="409"/>
                </a:lnTo>
                <a:lnTo>
                  <a:pt x="402" y="583"/>
                </a:lnTo>
                <a:lnTo>
                  <a:pt x="353" y="668"/>
                </a:lnTo>
                <a:lnTo>
                  <a:pt x="295" y="733"/>
                </a:lnTo>
                <a:lnTo>
                  <a:pt x="202" y="776"/>
                </a:lnTo>
                <a:lnTo>
                  <a:pt x="7" y="791"/>
                </a:lnTo>
                <a:lnTo>
                  <a:pt x="0" y="581"/>
                </a:lnTo>
                <a:lnTo>
                  <a:pt x="163" y="577"/>
                </a:lnTo>
                <a:lnTo>
                  <a:pt x="231" y="538"/>
                </a:lnTo>
                <a:lnTo>
                  <a:pt x="273" y="453"/>
                </a:lnTo>
                <a:lnTo>
                  <a:pt x="316" y="345"/>
                </a:lnTo>
                <a:lnTo>
                  <a:pt x="435" y="144"/>
                </a:lnTo>
                <a:lnTo>
                  <a:pt x="7" y="144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5184720"/>
            <a:ext cx="376200" cy="419040"/>
          </a:xfrm>
          <a:custGeom>
            <a:avLst/>
            <a:gdLst/>
            <a:ahLst/>
            <a:rect l="l" t="t" r="r" b="b"/>
            <a:pathLst>
              <a:path w="711" h="792">
                <a:moveTo>
                  <a:pt x="14" y="0"/>
                </a:moveTo>
                <a:lnTo>
                  <a:pt x="711" y="0"/>
                </a:lnTo>
                <a:lnTo>
                  <a:pt x="466" y="411"/>
                </a:lnTo>
                <a:lnTo>
                  <a:pt x="415" y="583"/>
                </a:lnTo>
                <a:lnTo>
                  <a:pt x="364" y="670"/>
                </a:lnTo>
                <a:lnTo>
                  <a:pt x="306" y="734"/>
                </a:lnTo>
                <a:lnTo>
                  <a:pt x="214" y="778"/>
                </a:lnTo>
                <a:lnTo>
                  <a:pt x="21" y="792"/>
                </a:lnTo>
                <a:lnTo>
                  <a:pt x="14" y="620"/>
                </a:lnTo>
                <a:lnTo>
                  <a:pt x="164" y="604"/>
                </a:lnTo>
                <a:lnTo>
                  <a:pt x="243" y="540"/>
                </a:lnTo>
                <a:lnTo>
                  <a:pt x="286" y="454"/>
                </a:lnTo>
                <a:lnTo>
                  <a:pt x="330" y="345"/>
                </a:lnTo>
                <a:lnTo>
                  <a:pt x="436" y="170"/>
                </a:lnTo>
                <a:lnTo>
                  <a:pt x="0" y="17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82000" y="5734080"/>
            <a:ext cx="369720" cy="419040"/>
          </a:xfrm>
          <a:custGeom>
            <a:avLst/>
            <a:gdLst/>
            <a:ahLst/>
            <a:rect l="l" t="t" r="r" b="b"/>
            <a:pathLst>
              <a:path w="697" h="793">
                <a:moveTo>
                  <a:pt x="0" y="0"/>
                </a:moveTo>
                <a:lnTo>
                  <a:pt x="697" y="0"/>
                </a:lnTo>
                <a:lnTo>
                  <a:pt x="452" y="411"/>
                </a:lnTo>
                <a:lnTo>
                  <a:pt x="404" y="582"/>
                </a:lnTo>
                <a:lnTo>
                  <a:pt x="353" y="669"/>
                </a:lnTo>
                <a:lnTo>
                  <a:pt x="296" y="735"/>
                </a:lnTo>
                <a:lnTo>
                  <a:pt x="200" y="777"/>
                </a:lnTo>
                <a:lnTo>
                  <a:pt x="7" y="793"/>
                </a:lnTo>
                <a:lnTo>
                  <a:pt x="0" y="619"/>
                </a:lnTo>
                <a:lnTo>
                  <a:pt x="151" y="605"/>
                </a:lnTo>
                <a:lnTo>
                  <a:pt x="230" y="540"/>
                </a:lnTo>
                <a:lnTo>
                  <a:pt x="275" y="452"/>
                </a:lnTo>
                <a:lnTo>
                  <a:pt x="316" y="347"/>
                </a:lnTo>
                <a:lnTo>
                  <a:pt x="437" y="164"/>
                </a:lnTo>
                <a:lnTo>
                  <a:pt x="15" y="16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0680" y="4684680"/>
            <a:ext cx="412920" cy="4143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8" y="763"/>
                </a:moveTo>
                <a:lnTo>
                  <a:pt x="577" y="736"/>
                </a:lnTo>
                <a:lnTo>
                  <a:pt x="631" y="699"/>
                </a:lnTo>
                <a:lnTo>
                  <a:pt x="678" y="656"/>
                </a:lnTo>
                <a:lnTo>
                  <a:pt x="718" y="605"/>
                </a:lnTo>
                <a:lnTo>
                  <a:pt x="748" y="547"/>
                </a:lnTo>
                <a:lnTo>
                  <a:pt x="769" y="486"/>
                </a:lnTo>
                <a:lnTo>
                  <a:pt x="779" y="424"/>
                </a:lnTo>
                <a:lnTo>
                  <a:pt x="779" y="358"/>
                </a:lnTo>
                <a:lnTo>
                  <a:pt x="769" y="293"/>
                </a:lnTo>
                <a:lnTo>
                  <a:pt x="748" y="232"/>
                </a:lnTo>
                <a:lnTo>
                  <a:pt x="717" y="177"/>
                </a:lnTo>
                <a:lnTo>
                  <a:pt x="677" y="126"/>
                </a:lnTo>
                <a:lnTo>
                  <a:pt x="629" y="81"/>
                </a:lnTo>
                <a:lnTo>
                  <a:pt x="576" y="47"/>
                </a:lnTo>
                <a:lnTo>
                  <a:pt x="516" y="20"/>
                </a:lnTo>
                <a:lnTo>
                  <a:pt x="454" y="4"/>
                </a:lnTo>
                <a:lnTo>
                  <a:pt x="388" y="0"/>
                </a:lnTo>
                <a:lnTo>
                  <a:pt x="324" y="4"/>
                </a:lnTo>
                <a:lnTo>
                  <a:pt x="260" y="20"/>
                </a:lnTo>
                <a:lnTo>
                  <a:pt x="204" y="47"/>
                </a:lnTo>
                <a:lnTo>
                  <a:pt x="149" y="83"/>
                </a:lnTo>
                <a:lnTo>
                  <a:pt x="101" y="127"/>
                </a:lnTo>
                <a:lnTo>
                  <a:pt x="61" y="178"/>
                </a:lnTo>
                <a:lnTo>
                  <a:pt x="30" y="236"/>
                </a:lnTo>
                <a:lnTo>
                  <a:pt x="9" y="297"/>
                </a:lnTo>
                <a:lnTo>
                  <a:pt x="0" y="360"/>
                </a:lnTo>
                <a:lnTo>
                  <a:pt x="0" y="425"/>
                </a:lnTo>
                <a:lnTo>
                  <a:pt x="11" y="489"/>
                </a:lnTo>
                <a:lnTo>
                  <a:pt x="32" y="550"/>
                </a:lnTo>
                <a:lnTo>
                  <a:pt x="64" y="606"/>
                </a:lnTo>
                <a:lnTo>
                  <a:pt x="101" y="657"/>
                </a:lnTo>
                <a:lnTo>
                  <a:pt x="150" y="702"/>
                </a:lnTo>
                <a:lnTo>
                  <a:pt x="205" y="736"/>
                </a:lnTo>
                <a:lnTo>
                  <a:pt x="265" y="763"/>
                </a:lnTo>
                <a:lnTo>
                  <a:pt x="327" y="778"/>
                </a:lnTo>
                <a:lnTo>
                  <a:pt x="390" y="784"/>
                </a:lnTo>
                <a:lnTo>
                  <a:pt x="457" y="778"/>
                </a:lnTo>
                <a:lnTo>
                  <a:pt x="430" y="618"/>
                </a:lnTo>
                <a:lnTo>
                  <a:pt x="391" y="623"/>
                </a:lnTo>
                <a:lnTo>
                  <a:pt x="354" y="618"/>
                </a:lnTo>
                <a:lnTo>
                  <a:pt x="317" y="609"/>
                </a:lnTo>
                <a:lnTo>
                  <a:pt x="281" y="595"/>
                </a:lnTo>
                <a:lnTo>
                  <a:pt x="250" y="575"/>
                </a:lnTo>
                <a:lnTo>
                  <a:pt x="222" y="548"/>
                </a:lnTo>
                <a:lnTo>
                  <a:pt x="198" y="519"/>
                </a:lnTo>
                <a:lnTo>
                  <a:pt x="180" y="486"/>
                </a:lnTo>
                <a:lnTo>
                  <a:pt x="167" y="450"/>
                </a:lnTo>
                <a:lnTo>
                  <a:pt x="161" y="413"/>
                </a:lnTo>
                <a:lnTo>
                  <a:pt x="159" y="374"/>
                </a:lnTo>
                <a:lnTo>
                  <a:pt x="167" y="337"/>
                </a:lnTo>
                <a:lnTo>
                  <a:pt x="179" y="300"/>
                </a:lnTo>
                <a:lnTo>
                  <a:pt x="197" y="267"/>
                </a:lnTo>
                <a:lnTo>
                  <a:pt x="219" y="238"/>
                </a:lnTo>
                <a:lnTo>
                  <a:pt x="247" y="211"/>
                </a:lnTo>
                <a:lnTo>
                  <a:pt x="278" y="190"/>
                </a:lnTo>
                <a:lnTo>
                  <a:pt x="314" y="175"/>
                </a:lnTo>
                <a:lnTo>
                  <a:pt x="350" y="163"/>
                </a:lnTo>
                <a:lnTo>
                  <a:pt x="387" y="160"/>
                </a:lnTo>
                <a:lnTo>
                  <a:pt x="426" y="163"/>
                </a:lnTo>
                <a:lnTo>
                  <a:pt x="461" y="172"/>
                </a:lnTo>
                <a:lnTo>
                  <a:pt x="497" y="188"/>
                </a:lnTo>
                <a:lnTo>
                  <a:pt x="530" y="208"/>
                </a:lnTo>
                <a:lnTo>
                  <a:pt x="558" y="235"/>
                </a:lnTo>
                <a:lnTo>
                  <a:pt x="580" y="264"/>
                </a:lnTo>
                <a:lnTo>
                  <a:pt x="599" y="297"/>
                </a:lnTo>
                <a:lnTo>
                  <a:pt x="611" y="331"/>
                </a:lnTo>
                <a:lnTo>
                  <a:pt x="619" y="370"/>
                </a:lnTo>
                <a:lnTo>
                  <a:pt x="619" y="409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59" y="545"/>
                </a:lnTo>
                <a:lnTo>
                  <a:pt x="534" y="572"/>
                </a:lnTo>
                <a:lnTo>
                  <a:pt x="501" y="593"/>
                </a:lnTo>
                <a:lnTo>
                  <a:pt x="467" y="608"/>
                </a:lnTo>
                <a:lnTo>
                  <a:pt x="518" y="763"/>
                </a:lnTo>
                <a:lnTo>
                  <a:pt x="518" y="7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6400" y="5005440"/>
            <a:ext cx="56880" cy="9036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0" y="11"/>
                </a:moveTo>
                <a:lnTo>
                  <a:pt x="52" y="0"/>
                </a:lnTo>
                <a:lnTo>
                  <a:pt x="108" y="148"/>
                </a:lnTo>
                <a:lnTo>
                  <a:pt x="93" y="157"/>
                </a:lnTo>
                <a:lnTo>
                  <a:pt x="28" y="172"/>
                </a:lnTo>
                <a:lnTo>
                  <a:pt x="4" y="160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7800" y="5181480"/>
            <a:ext cx="412560" cy="4161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6" y="760"/>
                </a:moveTo>
                <a:lnTo>
                  <a:pt x="576" y="735"/>
                </a:lnTo>
                <a:lnTo>
                  <a:pt x="631" y="699"/>
                </a:lnTo>
                <a:lnTo>
                  <a:pt x="677" y="656"/>
                </a:lnTo>
                <a:lnTo>
                  <a:pt x="717" y="606"/>
                </a:lnTo>
                <a:lnTo>
                  <a:pt x="747" y="548"/>
                </a:lnTo>
                <a:lnTo>
                  <a:pt x="767" y="487"/>
                </a:lnTo>
                <a:lnTo>
                  <a:pt x="779" y="421"/>
                </a:lnTo>
                <a:lnTo>
                  <a:pt x="779" y="357"/>
                </a:lnTo>
                <a:lnTo>
                  <a:pt x="767" y="293"/>
                </a:lnTo>
                <a:lnTo>
                  <a:pt x="747" y="232"/>
                </a:lnTo>
                <a:lnTo>
                  <a:pt x="715" y="176"/>
                </a:lnTo>
                <a:lnTo>
                  <a:pt x="675" y="125"/>
                </a:lnTo>
                <a:lnTo>
                  <a:pt x="629" y="82"/>
                </a:lnTo>
                <a:lnTo>
                  <a:pt x="574" y="45"/>
                </a:lnTo>
                <a:lnTo>
                  <a:pt x="515" y="21"/>
                </a:lnTo>
                <a:lnTo>
                  <a:pt x="452" y="5"/>
                </a:lnTo>
                <a:lnTo>
                  <a:pt x="387" y="0"/>
                </a:lnTo>
                <a:lnTo>
                  <a:pt x="323" y="5"/>
                </a:lnTo>
                <a:lnTo>
                  <a:pt x="261" y="21"/>
                </a:lnTo>
                <a:lnTo>
                  <a:pt x="203" y="46"/>
                </a:lnTo>
                <a:lnTo>
                  <a:pt x="148" y="82"/>
                </a:lnTo>
                <a:lnTo>
                  <a:pt x="101" y="128"/>
                </a:lnTo>
                <a:lnTo>
                  <a:pt x="61" y="179"/>
                </a:lnTo>
                <a:lnTo>
                  <a:pt x="32" y="234"/>
                </a:lnTo>
                <a:lnTo>
                  <a:pt x="11" y="296"/>
                </a:lnTo>
                <a:lnTo>
                  <a:pt x="0" y="360"/>
                </a:lnTo>
                <a:lnTo>
                  <a:pt x="0" y="426"/>
                </a:lnTo>
                <a:lnTo>
                  <a:pt x="11" y="488"/>
                </a:lnTo>
                <a:lnTo>
                  <a:pt x="32" y="549"/>
                </a:lnTo>
                <a:lnTo>
                  <a:pt x="63" y="607"/>
                </a:lnTo>
                <a:lnTo>
                  <a:pt x="103" y="658"/>
                </a:lnTo>
                <a:lnTo>
                  <a:pt x="151" y="701"/>
                </a:lnTo>
                <a:lnTo>
                  <a:pt x="204" y="737"/>
                </a:lnTo>
                <a:lnTo>
                  <a:pt x="264" y="763"/>
                </a:lnTo>
                <a:lnTo>
                  <a:pt x="326" y="778"/>
                </a:lnTo>
                <a:lnTo>
                  <a:pt x="390" y="784"/>
                </a:lnTo>
                <a:lnTo>
                  <a:pt x="455" y="778"/>
                </a:lnTo>
                <a:lnTo>
                  <a:pt x="430" y="618"/>
                </a:lnTo>
                <a:lnTo>
                  <a:pt x="391" y="621"/>
                </a:lnTo>
                <a:lnTo>
                  <a:pt x="353" y="619"/>
                </a:lnTo>
                <a:lnTo>
                  <a:pt x="316" y="610"/>
                </a:lnTo>
                <a:lnTo>
                  <a:pt x="281" y="595"/>
                </a:lnTo>
                <a:lnTo>
                  <a:pt x="250" y="573"/>
                </a:lnTo>
                <a:lnTo>
                  <a:pt x="222" y="549"/>
                </a:lnTo>
                <a:lnTo>
                  <a:pt x="197" y="519"/>
                </a:lnTo>
                <a:lnTo>
                  <a:pt x="180" y="487"/>
                </a:lnTo>
                <a:lnTo>
                  <a:pt x="167" y="449"/>
                </a:lnTo>
                <a:lnTo>
                  <a:pt x="161" y="412"/>
                </a:lnTo>
                <a:lnTo>
                  <a:pt x="161" y="374"/>
                </a:lnTo>
                <a:lnTo>
                  <a:pt x="165" y="338"/>
                </a:lnTo>
                <a:lnTo>
                  <a:pt x="177" y="301"/>
                </a:lnTo>
                <a:lnTo>
                  <a:pt x="195" y="268"/>
                </a:lnTo>
                <a:lnTo>
                  <a:pt x="217" y="237"/>
                </a:lnTo>
                <a:lnTo>
                  <a:pt x="246" y="211"/>
                </a:lnTo>
                <a:lnTo>
                  <a:pt x="277" y="191"/>
                </a:lnTo>
                <a:lnTo>
                  <a:pt x="313" y="174"/>
                </a:lnTo>
                <a:lnTo>
                  <a:pt x="350" y="164"/>
                </a:lnTo>
                <a:lnTo>
                  <a:pt x="387" y="161"/>
                </a:lnTo>
                <a:lnTo>
                  <a:pt x="424" y="164"/>
                </a:lnTo>
                <a:lnTo>
                  <a:pt x="461" y="173"/>
                </a:lnTo>
                <a:lnTo>
                  <a:pt x="495" y="188"/>
                </a:lnTo>
                <a:lnTo>
                  <a:pt x="530" y="208"/>
                </a:lnTo>
                <a:lnTo>
                  <a:pt x="556" y="234"/>
                </a:lnTo>
                <a:lnTo>
                  <a:pt x="580" y="263"/>
                </a:lnTo>
                <a:lnTo>
                  <a:pt x="599" y="298"/>
                </a:lnTo>
                <a:lnTo>
                  <a:pt x="611" y="332"/>
                </a:lnTo>
                <a:lnTo>
                  <a:pt x="617" y="371"/>
                </a:lnTo>
                <a:lnTo>
                  <a:pt x="617" y="408"/>
                </a:lnTo>
                <a:lnTo>
                  <a:pt x="613" y="446"/>
                </a:lnTo>
                <a:lnTo>
                  <a:pt x="601" y="481"/>
                </a:lnTo>
                <a:lnTo>
                  <a:pt x="583" y="516"/>
                </a:lnTo>
                <a:lnTo>
                  <a:pt x="561" y="546"/>
                </a:lnTo>
                <a:lnTo>
                  <a:pt x="533" y="571"/>
                </a:lnTo>
                <a:lnTo>
                  <a:pt x="501" y="592"/>
                </a:lnTo>
                <a:lnTo>
                  <a:pt x="466" y="609"/>
                </a:lnTo>
                <a:lnTo>
                  <a:pt x="516" y="760"/>
                </a:lnTo>
                <a:lnTo>
                  <a:pt x="516" y="76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3160" y="5502240"/>
            <a:ext cx="57240" cy="921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2"/>
                </a:moveTo>
                <a:lnTo>
                  <a:pt x="52" y="0"/>
                </a:lnTo>
                <a:lnTo>
                  <a:pt x="109" y="148"/>
                </a:lnTo>
                <a:lnTo>
                  <a:pt x="94" y="154"/>
                </a:lnTo>
                <a:lnTo>
                  <a:pt x="28" y="172"/>
                </a:lnTo>
                <a:lnTo>
                  <a:pt x="6" y="160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0680" y="5694480"/>
            <a:ext cx="414360" cy="415800"/>
          </a:xfrm>
          <a:custGeom>
            <a:avLst/>
            <a:gdLst/>
            <a:ahLst/>
            <a:rect l="l" t="t" r="r" b="b"/>
            <a:pathLst>
              <a:path w="781" h="784">
                <a:moveTo>
                  <a:pt x="519" y="763"/>
                </a:moveTo>
                <a:lnTo>
                  <a:pt x="579" y="737"/>
                </a:lnTo>
                <a:lnTo>
                  <a:pt x="631" y="700"/>
                </a:lnTo>
                <a:lnTo>
                  <a:pt x="680" y="656"/>
                </a:lnTo>
                <a:lnTo>
                  <a:pt x="718" y="605"/>
                </a:lnTo>
                <a:lnTo>
                  <a:pt x="750" y="549"/>
                </a:lnTo>
                <a:lnTo>
                  <a:pt x="770" y="486"/>
                </a:lnTo>
                <a:lnTo>
                  <a:pt x="781" y="424"/>
                </a:lnTo>
                <a:lnTo>
                  <a:pt x="779" y="358"/>
                </a:lnTo>
                <a:lnTo>
                  <a:pt x="769" y="294"/>
                </a:lnTo>
                <a:lnTo>
                  <a:pt x="748" y="233"/>
                </a:lnTo>
                <a:lnTo>
                  <a:pt x="717" y="177"/>
                </a:lnTo>
                <a:lnTo>
                  <a:pt x="678" y="126"/>
                </a:lnTo>
                <a:lnTo>
                  <a:pt x="629" y="83"/>
                </a:lnTo>
                <a:lnTo>
                  <a:pt x="576" y="47"/>
                </a:lnTo>
                <a:lnTo>
                  <a:pt x="516" y="20"/>
                </a:lnTo>
                <a:lnTo>
                  <a:pt x="454" y="6"/>
                </a:lnTo>
                <a:lnTo>
                  <a:pt x="390" y="0"/>
                </a:lnTo>
                <a:lnTo>
                  <a:pt x="326" y="6"/>
                </a:lnTo>
                <a:lnTo>
                  <a:pt x="263" y="23"/>
                </a:lnTo>
                <a:lnTo>
                  <a:pt x="204" y="47"/>
                </a:lnTo>
                <a:lnTo>
                  <a:pt x="149" y="84"/>
                </a:lnTo>
                <a:lnTo>
                  <a:pt x="101" y="128"/>
                </a:lnTo>
                <a:lnTo>
                  <a:pt x="61" y="178"/>
                </a:lnTo>
                <a:lnTo>
                  <a:pt x="32" y="236"/>
                </a:lnTo>
                <a:lnTo>
                  <a:pt x="11" y="297"/>
                </a:lnTo>
                <a:lnTo>
                  <a:pt x="0" y="361"/>
                </a:lnTo>
                <a:lnTo>
                  <a:pt x="0" y="425"/>
                </a:lnTo>
                <a:lnTo>
                  <a:pt x="11" y="491"/>
                </a:lnTo>
                <a:lnTo>
                  <a:pt x="32" y="552"/>
                </a:lnTo>
                <a:lnTo>
                  <a:pt x="64" y="607"/>
                </a:lnTo>
                <a:lnTo>
                  <a:pt x="104" y="659"/>
                </a:lnTo>
                <a:lnTo>
                  <a:pt x="150" y="702"/>
                </a:lnTo>
                <a:lnTo>
                  <a:pt x="205" y="737"/>
                </a:lnTo>
                <a:lnTo>
                  <a:pt x="265" y="763"/>
                </a:lnTo>
                <a:lnTo>
                  <a:pt x="327" y="779"/>
                </a:lnTo>
                <a:lnTo>
                  <a:pt x="391" y="784"/>
                </a:lnTo>
                <a:lnTo>
                  <a:pt x="457" y="779"/>
                </a:lnTo>
                <a:lnTo>
                  <a:pt x="430" y="620"/>
                </a:lnTo>
                <a:lnTo>
                  <a:pt x="394" y="623"/>
                </a:lnTo>
                <a:lnTo>
                  <a:pt x="356" y="620"/>
                </a:lnTo>
                <a:lnTo>
                  <a:pt x="318" y="611"/>
                </a:lnTo>
                <a:lnTo>
                  <a:pt x="284" y="595"/>
                </a:lnTo>
                <a:lnTo>
                  <a:pt x="250" y="575"/>
                </a:lnTo>
                <a:lnTo>
                  <a:pt x="222" y="550"/>
                </a:lnTo>
                <a:lnTo>
                  <a:pt x="200" y="520"/>
                </a:lnTo>
                <a:lnTo>
                  <a:pt x="180" y="486"/>
                </a:lnTo>
                <a:lnTo>
                  <a:pt x="168" y="452"/>
                </a:lnTo>
                <a:lnTo>
                  <a:pt x="161" y="413"/>
                </a:lnTo>
                <a:lnTo>
                  <a:pt x="161" y="374"/>
                </a:lnTo>
                <a:lnTo>
                  <a:pt x="167" y="337"/>
                </a:lnTo>
                <a:lnTo>
                  <a:pt x="179" y="302"/>
                </a:lnTo>
                <a:lnTo>
                  <a:pt x="197" y="267"/>
                </a:lnTo>
                <a:lnTo>
                  <a:pt x="220" y="238"/>
                </a:lnTo>
                <a:lnTo>
                  <a:pt x="247" y="212"/>
                </a:lnTo>
                <a:lnTo>
                  <a:pt x="280" y="192"/>
                </a:lnTo>
                <a:lnTo>
                  <a:pt x="314" y="175"/>
                </a:lnTo>
                <a:lnTo>
                  <a:pt x="350" y="165"/>
                </a:lnTo>
                <a:lnTo>
                  <a:pt x="388" y="162"/>
                </a:lnTo>
                <a:lnTo>
                  <a:pt x="427" y="165"/>
                </a:lnTo>
                <a:lnTo>
                  <a:pt x="464" y="174"/>
                </a:lnTo>
                <a:lnTo>
                  <a:pt x="498" y="189"/>
                </a:lnTo>
                <a:lnTo>
                  <a:pt x="530" y="208"/>
                </a:lnTo>
                <a:lnTo>
                  <a:pt x="558" y="235"/>
                </a:lnTo>
                <a:lnTo>
                  <a:pt x="583" y="264"/>
                </a:lnTo>
                <a:lnTo>
                  <a:pt x="599" y="297"/>
                </a:lnTo>
                <a:lnTo>
                  <a:pt x="614" y="334"/>
                </a:lnTo>
                <a:lnTo>
                  <a:pt x="619" y="372"/>
                </a:lnTo>
                <a:lnTo>
                  <a:pt x="620" y="410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61" y="546"/>
                </a:lnTo>
                <a:lnTo>
                  <a:pt x="534" y="572"/>
                </a:lnTo>
                <a:lnTo>
                  <a:pt x="501" y="593"/>
                </a:lnTo>
                <a:lnTo>
                  <a:pt x="467" y="610"/>
                </a:lnTo>
                <a:lnTo>
                  <a:pt x="519" y="763"/>
                </a:lnTo>
                <a:lnTo>
                  <a:pt x="519" y="7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27840" y="6016680"/>
            <a:ext cx="57240" cy="903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1"/>
                </a:moveTo>
                <a:lnTo>
                  <a:pt x="52" y="0"/>
                </a:lnTo>
                <a:lnTo>
                  <a:pt x="109" y="147"/>
                </a:lnTo>
                <a:lnTo>
                  <a:pt x="94" y="156"/>
                </a:lnTo>
                <a:lnTo>
                  <a:pt x="27" y="172"/>
                </a:lnTo>
                <a:lnTo>
                  <a:pt x="4" y="15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908760" y="5384880"/>
            <a:ext cx="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2160" y="5905440"/>
            <a:ext cx="3045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08760" y="609588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61040" y="6058080"/>
            <a:ext cx="254160" cy="190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556272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086600" y="556236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553080" y="6032160"/>
            <a:ext cx="203400" cy="291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918040"/>
            <a:ext cx="30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6095880"/>
            <a:ext cx="15264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05720" y="6095880"/>
            <a:ext cx="12672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400440" y="5981760"/>
            <a:ext cx="304920" cy="11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5943600"/>
            <a:ext cx="30492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5410080"/>
            <a:ext cx="22860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035480" y="5423040"/>
            <a:ext cx="15228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2F92-AB7F-4181-92F0-5B141B887B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educational measurement (e.g. change from clock hours to credit hours, or semester credit hours to quarter credit hou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e in level of offering (e.g., institution drops its graduate program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6308640" y="4559400"/>
            <a:ext cx="1182600" cy="1690560"/>
          </a:xfrm>
          <a:custGeom>
            <a:avLst/>
            <a:gdLst/>
            <a:ahLst/>
            <a:rect l="l" t="t" r="r" b="b"/>
            <a:pathLst>
              <a:path w="2236" h="3196">
                <a:moveTo>
                  <a:pt x="18" y="224"/>
                </a:moveTo>
                <a:lnTo>
                  <a:pt x="519" y="224"/>
                </a:lnTo>
                <a:lnTo>
                  <a:pt x="546" y="9"/>
                </a:lnTo>
                <a:lnTo>
                  <a:pt x="1667" y="0"/>
                </a:lnTo>
                <a:lnTo>
                  <a:pt x="1685" y="197"/>
                </a:lnTo>
                <a:lnTo>
                  <a:pt x="2236" y="233"/>
                </a:lnTo>
                <a:lnTo>
                  <a:pt x="2042" y="496"/>
                </a:lnTo>
                <a:lnTo>
                  <a:pt x="1975" y="743"/>
                </a:lnTo>
                <a:lnTo>
                  <a:pt x="1676" y="871"/>
                </a:lnTo>
                <a:lnTo>
                  <a:pt x="1692" y="1287"/>
                </a:lnTo>
                <a:lnTo>
                  <a:pt x="2211" y="1287"/>
                </a:lnTo>
                <a:lnTo>
                  <a:pt x="1966" y="1783"/>
                </a:lnTo>
                <a:lnTo>
                  <a:pt x="1685" y="1911"/>
                </a:lnTo>
                <a:lnTo>
                  <a:pt x="1685" y="2293"/>
                </a:lnTo>
                <a:lnTo>
                  <a:pt x="2170" y="2311"/>
                </a:lnTo>
                <a:lnTo>
                  <a:pt x="1912" y="2880"/>
                </a:lnTo>
                <a:lnTo>
                  <a:pt x="1685" y="2940"/>
                </a:lnTo>
                <a:lnTo>
                  <a:pt x="1692" y="3178"/>
                </a:lnTo>
                <a:lnTo>
                  <a:pt x="588" y="3196"/>
                </a:lnTo>
                <a:lnTo>
                  <a:pt x="570" y="2924"/>
                </a:lnTo>
                <a:lnTo>
                  <a:pt x="341" y="2889"/>
                </a:lnTo>
                <a:lnTo>
                  <a:pt x="42" y="2302"/>
                </a:lnTo>
                <a:lnTo>
                  <a:pt x="588" y="2293"/>
                </a:lnTo>
                <a:lnTo>
                  <a:pt x="561" y="1875"/>
                </a:lnTo>
                <a:lnTo>
                  <a:pt x="341" y="1851"/>
                </a:lnTo>
                <a:lnTo>
                  <a:pt x="0" y="1246"/>
                </a:lnTo>
                <a:lnTo>
                  <a:pt x="561" y="1246"/>
                </a:lnTo>
                <a:lnTo>
                  <a:pt x="570" y="862"/>
                </a:lnTo>
                <a:lnTo>
                  <a:pt x="391" y="811"/>
                </a:lnTo>
                <a:lnTo>
                  <a:pt x="255" y="649"/>
                </a:lnTo>
                <a:lnTo>
                  <a:pt x="18" y="224"/>
                </a:lnTo>
                <a:lnTo>
                  <a:pt x="18" y="22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0400" y="4694400"/>
            <a:ext cx="392040" cy="393480"/>
          </a:xfrm>
          <a:custGeom>
            <a:avLst/>
            <a:gdLst/>
            <a:ahLst/>
            <a:rect l="l" t="t" r="r" b="b"/>
            <a:pathLst>
              <a:path w="741" h="744">
                <a:moveTo>
                  <a:pt x="431" y="738"/>
                </a:moveTo>
                <a:lnTo>
                  <a:pt x="370" y="744"/>
                </a:lnTo>
                <a:lnTo>
                  <a:pt x="309" y="738"/>
                </a:lnTo>
                <a:lnTo>
                  <a:pt x="250" y="725"/>
                </a:lnTo>
                <a:lnTo>
                  <a:pt x="193" y="700"/>
                </a:lnTo>
                <a:lnTo>
                  <a:pt x="141" y="665"/>
                </a:lnTo>
                <a:lnTo>
                  <a:pt x="97" y="625"/>
                </a:lnTo>
                <a:lnTo>
                  <a:pt x="60" y="576"/>
                </a:lnTo>
                <a:lnTo>
                  <a:pt x="30" y="521"/>
                </a:lnTo>
                <a:lnTo>
                  <a:pt x="11" y="464"/>
                </a:lnTo>
                <a:lnTo>
                  <a:pt x="0" y="404"/>
                </a:lnTo>
                <a:lnTo>
                  <a:pt x="0" y="341"/>
                </a:lnTo>
                <a:lnTo>
                  <a:pt x="9" y="282"/>
                </a:lnTo>
                <a:lnTo>
                  <a:pt x="30" y="222"/>
                </a:lnTo>
                <a:lnTo>
                  <a:pt x="58" y="168"/>
                </a:lnTo>
                <a:lnTo>
                  <a:pt x="97" y="121"/>
                </a:lnTo>
                <a:lnTo>
                  <a:pt x="140" y="79"/>
                </a:lnTo>
                <a:lnTo>
                  <a:pt x="192" y="44"/>
                </a:lnTo>
                <a:lnTo>
                  <a:pt x="248" y="20"/>
                </a:lnTo>
                <a:lnTo>
                  <a:pt x="308" y="6"/>
                </a:lnTo>
                <a:lnTo>
                  <a:pt x="369" y="0"/>
                </a:lnTo>
                <a:lnTo>
                  <a:pt x="430" y="3"/>
                </a:lnTo>
                <a:lnTo>
                  <a:pt x="489" y="20"/>
                </a:lnTo>
                <a:lnTo>
                  <a:pt x="546" y="44"/>
                </a:lnTo>
                <a:lnTo>
                  <a:pt x="598" y="78"/>
                </a:lnTo>
                <a:lnTo>
                  <a:pt x="642" y="119"/>
                </a:lnTo>
                <a:lnTo>
                  <a:pt x="680" y="167"/>
                </a:lnTo>
                <a:lnTo>
                  <a:pt x="709" y="221"/>
                </a:lnTo>
                <a:lnTo>
                  <a:pt x="730" y="279"/>
                </a:lnTo>
                <a:lnTo>
                  <a:pt x="741" y="340"/>
                </a:lnTo>
                <a:lnTo>
                  <a:pt x="741" y="401"/>
                </a:lnTo>
                <a:lnTo>
                  <a:pt x="730" y="463"/>
                </a:lnTo>
                <a:lnTo>
                  <a:pt x="711" y="520"/>
                </a:lnTo>
                <a:lnTo>
                  <a:pt x="681" y="575"/>
                </a:lnTo>
                <a:lnTo>
                  <a:pt x="645" y="624"/>
                </a:lnTo>
                <a:lnTo>
                  <a:pt x="599" y="665"/>
                </a:lnTo>
                <a:lnTo>
                  <a:pt x="547" y="698"/>
                </a:lnTo>
                <a:lnTo>
                  <a:pt x="491" y="723"/>
                </a:lnTo>
                <a:lnTo>
                  <a:pt x="431" y="738"/>
                </a:lnTo>
                <a:lnTo>
                  <a:pt x="431" y="738"/>
                </a:lnTo>
                <a:close/>
              </a:path>
            </a:pathLst>
          </a:cu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3640" y="5192640"/>
            <a:ext cx="393480" cy="393840"/>
          </a:xfrm>
          <a:custGeom>
            <a:avLst/>
            <a:gdLst/>
            <a:ahLst/>
            <a:rect l="l" t="t" r="r" b="b"/>
            <a:pathLst>
              <a:path w="742" h="743">
                <a:moveTo>
                  <a:pt x="433" y="737"/>
                </a:moveTo>
                <a:lnTo>
                  <a:pt x="372" y="743"/>
                </a:lnTo>
                <a:lnTo>
                  <a:pt x="311" y="737"/>
                </a:lnTo>
                <a:lnTo>
                  <a:pt x="251" y="724"/>
                </a:lnTo>
                <a:lnTo>
                  <a:pt x="195" y="699"/>
                </a:lnTo>
                <a:lnTo>
                  <a:pt x="143" y="666"/>
                </a:lnTo>
                <a:lnTo>
                  <a:pt x="97" y="624"/>
                </a:lnTo>
                <a:lnTo>
                  <a:pt x="61" y="575"/>
                </a:lnTo>
                <a:lnTo>
                  <a:pt x="31" y="520"/>
                </a:lnTo>
                <a:lnTo>
                  <a:pt x="11" y="462"/>
                </a:lnTo>
                <a:lnTo>
                  <a:pt x="2" y="403"/>
                </a:lnTo>
                <a:lnTo>
                  <a:pt x="0" y="340"/>
                </a:lnTo>
                <a:lnTo>
                  <a:pt x="11" y="281"/>
                </a:lnTo>
                <a:lnTo>
                  <a:pt x="30" y="223"/>
                </a:lnTo>
                <a:lnTo>
                  <a:pt x="58" y="169"/>
                </a:lnTo>
                <a:lnTo>
                  <a:pt x="97" y="120"/>
                </a:lnTo>
                <a:lnTo>
                  <a:pt x="141" y="78"/>
                </a:lnTo>
                <a:lnTo>
                  <a:pt x="193" y="44"/>
                </a:lnTo>
                <a:lnTo>
                  <a:pt x="250" y="19"/>
                </a:lnTo>
                <a:lnTo>
                  <a:pt x="308" y="4"/>
                </a:lnTo>
                <a:lnTo>
                  <a:pt x="370" y="0"/>
                </a:lnTo>
                <a:lnTo>
                  <a:pt x="431" y="3"/>
                </a:lnTo>
                <a:lnTo>
                  <a:pt x="491" y="19"/>
                </a:lnTo>
                <a:lnTo>
                  <a:pt x="546" y="43"/>
                </a:lnTo>
                <a:lnTo>
                  <a:pt x="599" y="75"/>
                </a:lnTo>
                <a:lnTo>
                  <a:pt x="644" y="119"/>
                </a:lnTo>
                <a:lnTo>
                  <a:pt x="681" y="165"/>
                </a:lnTo>
                <a:lnTo>
                  <a:pt x="711" y="220"/>
                </a:lnTo>
                <a:lnTo>
                  <a:pt x="730" y="279"/>
                </a:lnTo>
                <a:lnTo>
                  <a:pt x="740" y="339"/>
                </a:lnTo>
                <a:lnTo>
                  <a:pt x="742" y="400"/>
                </a:lnTo>
                <a:lnTo>
                  <a:pt x="732" y="461"/>
                </a:lnTo>
                <a:lnTo>
                  <a:pt x="712" y="519"/>
                </a:lnTo>
                <a:lnTo>
                  <a:pt x="682" y="572"/>
                </a:lnTo>
                <a:lnTo>
                  <a:pt x="644" y="621"/>
                </a:lnTo>
                <a:lnTo>
                  <a:pt x="601" y="664"/>
                </a:lnTo>
                <a:lnTo>
                  <a:pt x="547" y="697"/>
                </a:lnTo>
                <a:lnTo>
                  <a:pt x="492" y="721"/>
                </a:lnTo>
                <a:lnTo>
                  <a:pt x="433" y="737"/>
                </a:lnTo>
                <a:lnTo>
                  <a:pt x="433" y="737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5715000"/>
            <a:ext cx="392040" cy="393840"/>
          </a:xfrm>
          <a:custGeom>
            <a:avLst/>
            <a:gdLst/>
            <a:ahLst/>
            <a:rect l="l" t="t" r="r" b="b"/>
            <a:pathLst>
              <a:path w="740" h="745">
                <a:moveTo>
                  <a:pt x="432" y="739"/>
                </a:moveTo>
                <a:lnTo>
                  <a:pt x="371" y="745"/>
                </a:lnTo>
                <a:lnTo>
                  <a:pt x="310" y="739"/>
                </a:lnTo>
                <a:lnTo>
                  <a:pt x="251" y="724"/>
                </a:lnTo>
                <a:lnTo>
                  <a:pt x="193" y="699"/>
                </a:lnTo>
                <a:lnTo>
                  <a:pt x="142" y="666"/>
                </a:lnTo>
                <a:lnTo>
                  <a:pt x="98" y="625"/>
                </a:lnTo>
                <a:lnTo>
                  <a:pt x="59" y="577"/>
                </a:lnTo>
                <a:lnTo>
                  <a:pt x="31" y="524"/>
                </a:lnTo>
                <a:lnTo>
                  <a:pt x="10" y="466"/>
                </a:lnTo>
                <a:lnTo>
                  <a:pt x="0" y="405"/>
                </a:lnTo>
                <a:lnTo>
                  <a:pt x="0" y="342"/>
                </a:lnTo>
                <a:lnTo>
                  <a:pt x="10" y="281"/>
                </a:lnTo>
                <a:lnTo>
                  <a:pt x="29" y="225"/>
                </a:lnTo>
                <a:lnTo>
                  <a:pt x="59" y="170"/>
                </a:lnTo>
                <a:lnTo>
                  <a:pt x="96" y="120"/>
                </a:lnTo>
                <a:lnTo>
                  <a:pt x="141" y="79"/>
                </a:lnTo>
                <a:lnTo>
                  <a:pt x="191" y="46"/>
                </a:lnTo>
                <a:lnTo>
                  <a:pt x="248" y="21"/>
                </a:lnTo>
                <a:lnTo>
                  <a:pt x="309" y="4"/>
                </a:lnTo>
                <a:lnTo>
                  <a:pt x="370" y="0"/>
                </a:lnTo>
                <a:lnTo>
                  <a:pt x="431" y="4"/>
                </a:lnTo>
                <a:lnTo>
                  <a:pt x="490" y="19"/>
                </a:lnTo>
                <a:lnTo>
                  <a:pt x="547" y="43"/>
                </a:lnTo>
                <a:lnTo>
                  <a:pt x="597" y="79"/>
                </a:lnTo>
                <a:lnTo>
                  <a:pt x="642" y="119"/>
                </a:lnTo>
                <a:lnTo>
                  <a:pt x="680" y="168"/>
                </a:lnTo>
                <a:lnTo>
                  <a:pt x="710" y="222"/>
                </a:lnTo>
                <a:lnTo>
                  <a:pt x="730" y="280"/>
                </a:lnTo>
                <a:lnTo>
                  <a:pt x="740" y="341"/>
                </a:lnTo>
                <a:lnTo>
                  <a:pt x="740" y="402"/>
                </a:lnTo>
                <a:lnTo>
                  <a:pt x="731" y="461"/>
                </a:lnTo>
                <a:lnTo>
                  <a:pt x="710" y="521"/>
                </a:lnTo>
                <a:lnTo>
                  <a:pt x="682" y="576"/>
                </a:lnTo>
                <a:lnTo>
                  <a:pt x="645" y="623"/>
                </a:lnTo>
                <a:lnTo>
                  <a:pt x="599" y="665"/>
                </a:lnTo>
                <a:lnTo>
                  <a:pt x="548" y="699"/>
                </a:lnTo>
                <a:lnTo>
                  <a:pt x="492" y="724"/>
                </a:lnTo>
                <a:lnTo>
                  <a:pt x="432" y="739"/>
                </a:lnTo>
                <a:lnTo>
                  <a:pt x="432" y="73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4495680"/>
            <a:ext cx="696960" cy="1791000"/>
          </a:xfrm>
          <a:custGeom>
            <a:avLst/>
            <a:gdLst/>
            <a:ahLst/>
            <a:rect l="l" t="t" r="r" b="b"/>
            <a:pathLst>
              <a:path w="1317" h="3383">
                <a:moveTo>
                  <a:pt x="0" y="0"/>
                </a:moveTo>
                <a:lnTo>
                  <a:pt x="0" y="3383"/>
                </a:lnTo>
                <a:lnTo>
                  <a:pt x="1317" y="3383"/>
                </a:lnTo>
                <a:lnTo>
                  <a:pt x="1256" y="3176"/>
                </a:lnTo>
                <a:lnTo>
                  <a:pt x="183" y="3176"/>
                </a:lnTo>
                <a:lnTo>
                  <a:pt x="183" y="227"/>
                </a:lnTo>
                <a:lnTo>
                  <a:pt x="1271" y="224"/>
                </a:lnTo>
                <a:lnTo>
                  <a:pt x="129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56440" y="4495680"/>
            <a:ext cx="103320" cy="1793880"/>
          </a:xfrm>
          <a:custGeom>
            <a:avLst/>
            <a:gdLst/>
            <a:ahLst/>
            <a:rect l="l" t="t" r="r" b="b"/>
            <a:pathLst>
              <a:path w="195" h="3389">
                <a:moveTo>
                  <a:pt x="0" y="145"/>
                </a:moveTo>
                <a:lnTo>
                  <a:pt x="0" y="3269"/>
                </a:lnTo>
                <a:lnTo>
                  <a:pt x="195" y="3389"/>
                </a:lnTo>
                <a:lnTo>
                  <a:pt x="187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4632480"/>
            <a:ext cx="366480" cy="419040"/>
          </a:xfrm>
          <a:custGeom>
            <a:avLst/>
            <a:gdLst/>
            <a:ahLst/>
            <a:rect l="l" t="t" r="r" b="b"/>
            <a:pathLst>
              <a:path w="694" h="791">
                <a:moveTo>
                  <a:pt x="694" y="0"/>
                </a:moveTo>
                <a:lnTo>
                  <a:pt x="0" y="0"/>
                </a:lnTo>
                <a:lnTo>
                  <a:pt x="242" y="412"/>
                </a:lnTo>
                <a:lnTo>
                  <a:pt x="293" y="583"/>
                </a:lnTo>
                <a:lnTo>
                  <a:pt x="343" y="671"/>
                </a:lnTo>
                <a:lnTo>
                  <a:pt x="401" y="735"/>
                </a:lnTo>
                <a:lnTo>
                  <a:pt x="494" y="776"/>
                </a:lnTo>
                <a:lnTo>
                  <a:pt x="687" y="791"/>
                </a:lnTo>
                <a:lnTo>
                  <a:pt x="694" y="620"/>
                </a:lnTo>
                <a:lnTo>
                  <a:pt x="544" y="605"/>
                </a:lnTo>
                <a:lnTo>
                  <a:pt x="465" y="541"/>
                </a:lnTo>
                <a:lnTo>
                  <a:pt x="422" y="454"/>
                </a:lnTo>
                <a:lnTo>
                  <a:pt x="378" y="346"/>
                </a:lnTo>
                <a:lnTo>
                  <a:pt x="277" y="153"/>
                </a:lnTo>
                <a:lnTo>
                  <a:pt x="690" y="153"/>
                </a:lnTo>
                <a:lnTo>
                  <a:pt x="694" y="0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51400" y="5181480"/>
            <a:ext cx="368640" cy="419400"/>
          </a:xfrm>
          <a:custGeom>
            <a:avLst/>
            <a:gdLst/>
            <a:ahLst/>
            <a:rect l="l" t="t" r="r" b="b"/>
            <a:pathLst>
              <a:path w="697" h="790">
                <a:moveTo>
                  <a:pt x="697" y="0"/>
                </a:moveTo>
                <a:lnTo>
                  <a:pt x="0" y="0"/>
                </a:lnTo>
                <a:lnTo>
                  <a:pt x="245" y="409"/>
                </a:lnTo>
                <a:lnTo>
                  <a:pt x="294" y="582"/>
                </a:lnTo>
                <a:lnTo>
                  <a:pt x="345" y="668"/>
                </a:lnTo>
                <a:lnTo>
                  <a:pt x="401" y="734"/>
                </a:lnTo>
                <a:lnTo>
                  <a:pt x="496" y="777"/>
                </a:lnTo>
                <a:lnTo>
                  <a:pt x="690" y="790"/>
                </a:lnTo>
                <a:lnTo>
                  <a:pt x="697" y="618"/>
                </a:lnTo>
                <a:lnTo>
                  <a:pt x="546" y="604"/>
                </a:lnTo>
                <a:lnTo>
                  <a:pt x="467" y="539"/>
                </a:lnTo>
                <a:lnTo>
                  <a:pt x="425" y="452"/>
                </a:lnTo>
                <a:lnTo>
                  <a:pt x="381" y="344"/>
                </a:lnTo>
                <a:lnTo>
                  <a:pt x="271" y="147"/>
                </a:lnTo>
                <a:lnTo>
                  <a:pt x="679" y="147"/>
                </a:lnTo>
                <a:lnTo>
                  <a:pt x="697" y="0"/>
                </a:lnTo>
                <a:lnTo>
                  <a:pt x="69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54640" y="5730840"/>
            <a:ext cx="370080" cy="41760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698" y="0"/>
                </a:moveTo>
                <a:lnTo>
                  <a:pt x="0" y="0"/>
                </a:lnTo>
                <a:lnTo>
                  <a:pt x="244" y="409"/>
                </a:lnTo>
                <a:lnTo>
                  <a:pt x="295" y="583"/>
                </a:lnTo>
                <a:lnTo>
                  <a:pt x="345" y="667"/>
                </a:lnTo>
                <a:lnTo>
                  <a:pt x="403" y="733"/>
                </a:lnTo>
                <a:lnTo>
                  <a:pt x="495" y="776"/>
                </a:lnTo>
                <a:lnTo>
                  <a:pt x="690" y="791"/>
                </a:lnTo>
                <a:lnTo>
                  <a:pt x="698" y="618"/>
                </a:lnTo>
                <a:lnTo>
                  <a:pt x="547" y="604"/>
                </a:lnTo>
                <a:lnTo>
                  <a:pt x="469" y="538"/>
                </a:lnTo>
                <a:lnTo>
                  <a:pt x="424" y="453"/>
                </a:lnTo>
                <a:lnTo>
                  <a:pt x="381" y="345"/>
                </a:lnTo>
                <a:lnTo>
                  <a:pt x="278" y="168"/>
                </a:lnTo>
                <a:lnTo>
                  <a:pt x="698" y="168"/>
                </a:lnTo>
                <a:lnTo>
                  <a:pt x="698" y="0"/>
                </a:lnTo>
                <a:lnTo>
                  <a:pt x="69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89920" y="4637160"/>
            <a:ext cx="369720" cy="41904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1" y="0"/>
                </a:moveTo>
                <a:lnTo>
                  <a:pt x="698" y="0"/>
                </a:lnTo>
                <a:lnTo>
                  <a:pt x="453" y="409"/>
                </a:lnTo>
                <a:lnTo>
                  <a:pt x="402" y="583"/>
                </a:lnTo>
                <a:lnTo>
                  <a:pt x="353" y="668"/>
                </a:lnTo>
                <a:lnTo>
                  <a:pt x="295" y="733"/>
                </a:lnTo>
                <a:lnTo>
                  <a:pt x="202" y="776"/>
                </a:lnTo>
                <a:lnTo>
                  <a:pt x="7" y="791"/>
                </a:lnTo>
                <a:lnTo>
                  <a:pt x="0" y="581"/>
                </a:lnTo>
                <a:lnTo>
                  <a:pt x="163" y="577"/>
                </a:lnTo>
                <a:lnTo>
                  <a:pt x="231" y="538"/>
                </a:lnTo>
                <a:lnTo>
                  <a:pt x="273" y="453"/>
                </a:lnTo>
                <a:lnTo>
                  <a:pt x="316" y="345"/>
                </a:lnTo>
                <a:lnTo>
                  <a:pt x="435" y="144"/>
                </a:lnTo>
                <a:lnTo>
                  <a:pt x="7" y="144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80200" y="5184720"/>
            <a:ext cx="376200" cy="419040"/>
          </a:xfrm>
          <a:custGeom>
            <a:avLst/>
            <a:gdLst/>
            <a:ahLst/>
            <a:rect l="l" t="t" r="r" b="b"/>
            <a:pathLst>
              <a:path w="711" h="792">
                <a:moveTo>
                  <a:pt x="14" y="0"/>
                </a:moveTo>
                <a:lnTo>
                  <a:pt x="711" y="0"/>
                </a:lnTo>
                <a:lnTo>
                  <a:pt x="466" y="411"/>
                </a:lnTo>
                <a:lnTo>
                  <a:pt x="415" y="583"/>
                </a:lnTo>
                <a:lnTo>
                  <a:pt x="364" y="670"/>
                </a:lnTo>
                <a:lnTo>
                  <a:pt x="306" y="734"/>
                </a:lnTo>
                <a:lnTo>
                  <a:pt x="214" y="778"/>
                </a:lnTo>
                <a:lnTo>
                  <a:pt x="21" y="792"/>
                </a:lnTo>
                <a:lnTo>
                  <a:pt x="14" y="620"/>
                </a:lnTo>
                <a:lnTo>
                  <a:pt x="164" y="604"/>
                </a:lnTo>
                <a:lnTo>
                  <a:pt x="243" y="540"/>
                </a:lnTo>
                <a:lnTo>
                  <a:pt x="286" y="454"/>
                </a:lnTo>
                <a:lnTo>
                  <a:pt x="330" y="345"/>
                </a:lnTo>
                <a:lnTo>
                  <a:pt x="436" y="170"/>
                </a:lnTo>
                <a:lnTo>
                  <a:pt x="0" y="17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82000" y="5734080"/>
            <a:ext cx="369720" cy="419040"/>
          </a:xfrm>
          <a:custGeom>
            <a:avLst/>
            <a:gdLst/>
            <a:ahLst/>
            <a:rect l="l" t="t" r="r" b="b"/>
            <a:pathLst>
              <a:path w="697" h="793">
                <a:moveTo>
                  <a:pt x="0" y="0"/>
                </a:moveTo>
                <a:lnTo>
                  <a:pt x="697" y="0"/>
                </a:lnTo>
                <a:lnTo>
                  <a:pt x="452" y="411"/>
                </a:lnTo>
                <a:lnTo>
                  <a:pt x="404" y="582"/>
                </a:lnTo>
                <a:lnTo>
                  <a:pt x="353" y="669"/>
                </a:lnTo>
                <a:lnTo>
                  <a:pt x="296" y="735"/>
                </a:lnTo>
                <a:lnTo>
                  <a:pt x="200" y="777"/>
                </a:lnTo>
                <a:lnTo>
                  <a:pt x="7" y="793"/>
                </a:lnTo>
                <a:lnTo>
                  <a:pt x="0" y="619"/>
                </a:lnTo>
                <a:lnTo>
                  <a:pt x="151" y="605"/>
                </a:lnTo>
                <a:lnTo>
                  <a:pt x="230" y="540"/>
                </a:lnTo>
                <a:lnTo>
                  <a:pt x="275" y="452"/>
                </a:lnTo>
                <a:lnTo>
                  <a:pt x="316" y="347"/>
                </a:lnTo>
                <a:lnTo>
                  <a:pt x="437" y="164"/>
                </a:lnTo>
                <a:lnTo>
                  <a:pt x="15" y="16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0680" y="4684680"/>
            <a:ext cx="412920" cy="4143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8" y="763"/>
                </a:moveTo>
                <a:lnTo>
                  <a:pt x="577" y="736"/>
                </a:lnTo>
                <a:lnTo>
                  <a:pt x="631" y="699"/>
                </a:lnTo>
                <a:lnTo>
                  <a:pt x="678" y="656"/>
                </a:lnTo>
                <a:lnTo>
                  <a:pt x="718" y="605"/>
                </a:lnTo>
                <a:lnTo>
                  <a:pt x="748" y="547"/>
                </a:lnTo>
                <a:lnTo>
                  <a:pt x="769" y="486"/>
                </a:lnTo>
                <a:lnTo>
                  <a:pt x="779" y="424"/>
                </a:lnTo>
                <a:lnTo>
                  <a:pt x="779" y="358"/>
                </a:lnTo>
                <a:lnTo>
                  <a:pt x="769" y="293"/>
                </a:lnTo>
                <a:lnTo>
                  <a:pt x="748" y="232"/>
                </a:lnTo>
                <a:lnTo>
                  <a:pt x="717" y="177"/>
                </a:lnTo>
                <a:lnTo>
                  <a:pt x="677" y="126"/>
                </a:lnTo>
                <a:lnTo>
                  <a:pt x="629" y="81"/>
                </a:lnTo>
                <a:lnTo>
                  <a:pt x="576" y="47"/>
                </a:lnTo>
                <a:lnTo>
                  <a:pt x="516" y="20"/>
                </a:lnTo>
                <a:lnTo>
                  <a:pt x="454" y="4"/>
                </a:lnTo>
                <a:lnTo>
                  <a:pt x="388" y="0"/>
                </a:lnTo>
                <a:lnTo>
                  <a:pt x="324" y="4"/>
                </a:lnTo>
                <a:lnTo>
                  <a:pt x="260" y="20"/>
                </a:lnTo>
                <a:lnTo>
                  <a:pt x="204" y="47"/>
                </a:lnTo>
                <a:lnTo>
                  <a:pt x="149" y="83"/>
                </a:lnTo>
                <a:lnTo>
                  <a:pt x="101" y="127"/>
                </a:lnTo>
                <a:lnTo>
                  <a:pt x="61" y="178"/>
                </a:lnTo>
                <a:lnTo>
                  <a:pt x="30" y="236"/>
                </a:lnTo>
                <a:lnTo>
                  <a:pt x="9" y="297"/>
                </a:lnTo>
                <a:lnTo>
                  <a:pt x="0" y="360"/>
                </a:lnTo>
                <a:lnTo>
                  <a:pt x="0" y="425"/>
                </a:lnTo>
                <a:lnTo>
                  <a:pt x="11" y="489"/>
                </a:lnTo>
                <a:lnTo>
                  <a:pt x="32" y="550"/>
                </a:lnTo>
                <a:lnTo>
                  <a:pt x="64" y="606"/>
                </a:lnTo>
                <a:lnTo>
                  <a:pt x="101" y="657"/>
                </a:lnTo>
                <a:lnTo>
                  <a:pt x="150" y="702"/>
                </a:lnTo>
                <a:lnTo>
                  <a:pt x="205" y="736"/>
                </a:lnTo>
                <a:lnTo>
                  <a:pt x="265" y="763"/>
                </a:lnTo>
                <a:lnTo>
                  <a:pt x="327" y="778"/>
                </a:lnTo>
                <a:lnTo>
                  <a:pt x="390" y="784"/>
                </a:lnTo>
                <a:lnTo>
                  <a:pt x="457" y="778"/>
                </a:lnTo>
                <a:lnTo>
                  <a:pt x="430" y="618"/>
                </a:lnTo>
                <a:lnTo>
                  <a:pt x="391" y="623"/>
                </a:lnTo>
                <a:lnTo>
                  <a:pt x="354" y="618"/>
                </a:lnTo>
                <a:lnTo>
                  <a:pt x="317" y="609"/>
                </a:lnTo>
                <a:lnTo>
                  <a:pt x="281" y="595"/>
                </a:lnTo>
                <a:lnTo>
                  <a:pt x="250" y="575"/>
                </a:lnTo>
                <a:lnTo>
                  <a:pt x="222" y="548"/>
                </a:lnTo>
                <a:lnTo>
                  <a:pt x="198" y="519"/>
                </a:lnTo>
                <a:lnTo>
                  <a:pt x="180" y="486"/>
                </a:lnTo>
                <a:lnTo>
                  <a:pt x="167" y="450"/>
                </a:lnTo>
                <a:lnTo>
                  <a:pt x="161" y="413"/>
                </a:lnTo>
                <a:lnTo>
                  <a:pt x="159" y="374"/>
                </a:lnTo>
                <a:lnTo>
                  <a:pt x="167" y="337"/>
                </a:lnTo>
                <a:lnTo>
                  <a:pt x="179" y="300"/>
                </a:lnTo>
                <a:lnTo>
                  <a:pt x="197" y="267"/>
                </a:lnTo>
                <a:lnTo>
                  <a:pt x="219" y="238"/>
                </a:lnTo>
                <a:lnTo>
                  <a:pt x="247" y="211"/>
                </a:lnTo>
                <a:lnTo>
                  <a:pt x="278" y="190"/>
                </a:lnTo>
                <a:lnTo>
                  <a:pt x="314" y="175"/>
                </a:lnTo>
                <a:lnTo>
                  <a:pt x="350" y="163"/>
                </a:lnTo>
                <a:lnTo>
                  <a:pt x="387" y="160"/>
                </a:lnTo>
                <a:lnTo>
                  <a:pt x="426" y="163"/>
                </a:lnTo>
                <a:lnTo>
                  <a:pt x="461" y="172"/>
                </a:lnTo>
                <a:lnTo>
                  <a:pt x="497" y="188"/>
                </a:lnTo>
                <a:lnTo>
                  <a:pt x="530" y="208"/>
                </a:lnTo>
                <a:lnTo>
                  <a:pt x="558" y="235"/>
                </a:lnTo>
                <a:lnTo>
                  <a:pt x="580" y="264"/>
                </a:lnTo>
                <a:lnTo>
                  <a:pt x="599" y="297"/>
                </a:lnTo>
                <a:lnTo>
                  <a:pt x="611" y="331"/>
                </a:lnTo>
                <a:lnTo>
                  <a:pt x="619" y="370"/>
                </a:lnTo>
                <a:lnTo>
                  <a:pt x="619" y="409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59" y="545"/>
                </a:lnTo>
                <a:lnTo>
                  <a:pt x="534" y="572"/>
                </a:lnTo>
                <a:lnTo>
                  <a:pt x="501" y="593"/>
                </a:lnTo>
                <a:lnTo>
                  <a:pt x="467" y="608"/>
                </a:lnTo>
                <a:lnTo>
                  <a:pt x="518" y="763"/>
                </a:lnTo>
                <a:lnTo>
                  <a:pt x="518" y="7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26400" y="5005440"/>
            <a:ext cx="56880" cy="9036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0" y="11"/>
                </a:moveTo>
                <a:lnTo>
                  <a:pt x="52" y="0"/>
                </a:lnTo>
                <a:lnTo>
                  <a:pt x="108" y="148"/>
                </a:lnTo>
                <a:lnTo>
                  <a:pt x="93" y="157"/>
                </a:lnTo>
                <a:lnTo>
                  <a:pt x="28" y="172"/>
                </a:lnTo>
                <a:lnTo>
                  <a:pt x="4" y="160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97800" y="5181480"/>
            <a:ext cx="412560" cy="4161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6" y="760"/>
                </a:moveTo>
                <a:lnTo>
                  <a:pt x="576" y="735"/>
                </a:lnTo>
                <a:lnTo>
                  <a:pt x="631" y="699"/>
                </a:lnTo>
                <a:lnTo>
                  <a:pt x="677" y="656"/>
                </a:lnTo>
                <a:lnTo>
                  <a:pt x="717" y="606"/>
                </a:lnTo>
                <a:lnTo>
                  <a:pt x="747" y="548"/>
                </a:lnTo>
                <a:lnTo>
                  <a:pt x="767" y="487"/>
                </a:lnTo>
                <a:lnTo>
                  <a:pt x="779" y="421"/>
                </a:lnTo>
                <a:lnTo>
                  <a:pt x="779" y="357"/>
                </a:lnTo>
                <a:lnTo>
                  <a:pt x="767" y="293"/>
                </a:lnTo>
                <a:lnTo>
                  <a:pt x="747" y="232"/>
                </a:lnTo>
                <a:lnTo>
                  <a:pt x="715" y="176"/>
                </a:lnTo>
                <a:lnTo>
                  <a:pt x="675" y="125"/>
                </a:lnTo>
                <a:lnTo>
                  <a:pt x="629" y="82"/>
                </a:lnTo>
                <a:lnTo>
                  <a:pt x="574" y="45"/>
                </a:lnTo>
                <a:lnTo>
                  <a:pt x="515" y="21"/>
                </a:lnTo>
                <a:lnTo>
                  <a:pt x="452" y="5"/>
                </a:lnTo>
                <a:lnTo>
                  <a:pt x="387" y="0"/>
                </a:lnTo>
                <a:lnTo>
                  <a:pt x="323" y="5"/>
                </a:lnTo>
                <a:lnTo>
                  <a:pt x="261" y="21"/>
                </a:lnTo>
                <a:lnTo>
                  <a:pt x="203" y="46"/>
                </a:lnTo>
                <a:lnTo>
                  <a:pt x="148" y="82"/>
                </a:lnTo>
                <a:lnTo>
                  <a:pt x="101" y="128"/>
                </a:lnTo>
                <a:lnTo>
                  <a:pt x="61" y="179"/>
                </a:lnTo>
                <a:lnTo>
                  <a:pt x="32" y="234"/>
                </a:lnTo>
                <a:lnTo>
                  <a:pt x="11" y="296"/>
                </a:lnTo>
                <a:lnTo>
                  <a:pt x="0" y="360"/>
                </a:lnTo>
                <a:lnTo>
                  <a:pt x="0" y="426"/>
                </a:lnTo>
                <a:lnTo>
                  <a:pt x="11" y="488"/>
                </a:lnTo>
                <a:lnTo>
                  <a:pt x="32" y="549"/>
                </a:lnTo>
                <a:lnTo>
                  <a:pt x="63" y="607"/>
                </a:lnTo>
                <a:lnTo>
                  <a:pt x="103" y="658"/>
                </a:lnTo>
                <a:lnTo>
                  <a:pt x="151" y="701"/>
                </a:lnTo>
                <a:lnTo>
                  <a:pt x="204" y="737"/>
                </a:lnTo>
                <a:lnTo>
                  <a:pt x="264" y="763"/>
                </a:lnTo>
                <a:lnTo>
                  <a:pt x="326" y="778"/>
                </a:lnTo>
                <a:lnTo>
                  <a:pt x="390" y="784"/>
                </a:lnTo>
                <a:lnTo>
                  <a:pt x="455" y="778"/>
                </a:lnTo>
                <a:lnTo>
                  <a:pt x="430" y="618"/>
                </a:lnTo>
                <a:lnTo>
                  <a:pt x="391" y="621"/>
                </a:lnTo>
                <a:lnTo>
                  <a:pt x="353" y="619"/>
                </a:lnTo>
                <a:lnTo>
                  <a:pt x="316" y="610"/>
                </a:lnTo>
                <a:lnTo>
                  <a:pt x="281" y="595"/>
                </a:lnTo>
                <a:lnTo>
                  <a:pt x="250" y="573"/>
                </a:lnTo>
                <a:lnTo>
                  <a:pt x="222" y="549"/>
                </a:lnTo>
                <a:lnTo>
                  <a:pt x="197" y="519"/>
                </a:lnTo>
                <a:lnTo>
                  <a:pt x="180" y="487"/>
                </a:lnTo>
                <a:lnTo>
                  <a:pt x="167" y="449"/>
                </a:lnTo>
                <a:lnTo>
                  <a:pt x="161" y="412"/>
                </a:lnTo>
                <a:lnTo>
                  <a:pt x="161" y="374"/>
                </a:lnTo>
                <a:lnTo>
                  <a:pt x="165" y="338"/>
                </a:lnTo>
                <a:lnTo>
                  <a:pt x="177" y="301"/>
                </a:lnTo>
                <a:lnTo>
                  <a:pt x="195" y="268"/>
                </a:lnTo>
                <a:lnTo>
                  <a:pt x="217" y="237"/>
                </a:lnTo>
                <a:lnTo>
                  <a:pt x="246" y="211"/>
                </a:lnTo>
                <a:lnTo>
                  <a:pt x="277" y="191"/>
                </a:lnTo>
                <a:lnTo>
                  <a:pt x="313" y="174"/>
                </a:lnTo>
                <a:lnTo>
                  <a:pt x="350" y="164"/>
                </a:lnTo>
                <a:lnTo>
                  <a:pt x="387" y="161"/>
                </a:lnTo>
                <a:lnTo>
                  <a:pt x="424" y="164"/>
                </a:lnTo>
                <a:lnTo>
                  <a:pt x="461" y="173"/>
                </a:lnTo>
                <a:lnTo>
                  <a:pt x="495" y="188"/>
                </a:lnTo>
                <a:lnTo>
                  <a:pt x="530" y="208"/>
                </a:lnTo>
                <a:lnTo>
                  <a:pt x="556" y="234"/>
                </a:lnTo>
                <a:lnTo>
                  <a:pt x="580" y="263"/>
                </a:lnTo>
                <a:lnTo>
                  <a:pt x="599" y="298"/>
                </a:lnTo>
                <a:lnTo>
                  <a:pt x="611" y="332"/>
                </a:lnTo>
                <a:lnTo>
                  <a:pt x="617" y="371"/>
                </a:lnTo>
                <a:lnTo>
                  <a:pt x="617" y="408"/>
                </a:lnTo>
                <a:lnTo>
                  <a:pt x="613" y="446"/>
                </a:lnTo>
                <a:lnTo>
                  <a:pt x="601" y="481"/>
                </a:lnTo>
                <a:lnTo>
                  <a:pt x="583" y="516"/>
                </a:lnTo>
                <a:lnTo>
                  <a:pt x="561" y="546"/>
                </a:lnTo>
                <a:lnTo>
                  <a:pt x="533" y="571"/>
                </a:lnTo>
                <a:lnTo>
                  <a:pt x="501" y="592"/>
                </a:lnTo>
                <a:lnTo>
                  <a:pt x="466" y="609"/>
                </a:lnTo>
                <a:lnTo>
                  <a:pt x="516" y="760"/>
                </a:lnTo>
                <a:lnTo>
                  <a:pt x="516" y="76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23160" y="5502240"/>
            <a:ext cx="57240" cy="921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2"/>
                </a:moveTo>
                <a:lnTo>
                  <a:pt x="52" y="0"/>
                </a:lnTo>
                <a:lnTo>
                  <a:pt x="109" y="148"/>
                </a:lnTo>
                <a:lnTo>
                  <a:pt x="94" y="154"/>
                </a:lnTo>
                <a:lnTo>
                  <a:pt x="28" y="172"/>
                </a:lnTo>
                <a:lnTo>
                  <a:pt x="6" y="160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0680" y="5694480"/>
            <a:ext cx="414360" cy="415800"/>
          </a:xfrm>
          <a:custGeom>
            <a:avLst/>
            <a:gdLst/>
            <a:ahLst/>
            <a:rect l="l" t="t" r="r" b="b"/>
            <a:pathLst>
              <a:path w="781" h="784">
                <a:moveTo>
                  <a:pt x="519" y="763"/>
                </a:moveTo>
                <a:lnTo>
                  <a:pt x="579" y="737"/>
                </a:lnTo>
                <a:lnTo>
                  <a:pt x="631" y="700"/>
                </a:lnTo>
                <a:lnTo>
                  <a:pt x="680" y="656"/>
                </a:lnTo>
                <a:lnTo>
                  <a:pt x="718" y="605"/>
                </a:lnTo>
                <a:lnTo>
                  <a:pt x="750" y="549"/>
                </a:lnTo>
                <a:lnTo>
                  <a:pt x="770" y="486"/>
                </a:lnTo>
                <a:lnTo>
                  <a:pt x="781" y="424"/>
                </a:lnTo>
                <a:lnTo>
                  <a:pt x="779" y="358"/>
                </a:lnTo>
                <a:lnTo>
                  <a:pt x="769" y="294"/>
                </a:lnTo>
                <a:lnTo>
                  <a:pt x="748" y="233"/>
                </a:lnTo>
                <a:lnTo>
                  <a:pt x="717" y="177"/>
                </a:lnTo>
                <a:lnTo>
                  <a:pt x="678" y="126"/>
                </a:lnTo>
                <a:lnTo>
                  <a:pt x="629" y="83"/>
                </a:lnTo>
                <a:lnTo>
                  <a:pt x="576" y="47"/>
                </a:lnTo>
                <a:lnTo>
                  <a:pt x="516" y="20"/>
                </a:lnTo>
                <a:lnTo>
                  <a:pt x="454" y="6"/>
                </a:lnTo>
                <a:lnTo>
                  <a:pt x="390" y="0"/>
                </a:lnTo>
                <a:lnTo>
                  <a:pt x="326" y="6"/>
                </a:lnTo>
                <a:lnTo>
                  <a:pt x="263" y="23"/>
                </a:lnTo>
                <a:lnTo>
                  <a:pt x="204" y="47"/>
                </a:lnTo>
                <a:lnTo>
                  <a:pt x="149" y="84"/>
                </a:lnTo>
                <a:lnTo>
                  <a:pt x="101" y="128"/>
                </a:lnTo>
                <a:lnTo>
                  <a:pt x="61" y="178"/>
                </a:lnTo>
                <a:lnTo>
                  <a:pt x="32" y="236"/>
                </a:lnTo>
                <a:lnTo>
                  <a:pt x="11" y="297"/>
                </a:lnTo>
                <a:lnTo>
                  <a:pt x="0" y="361"/>
                </a:lnTo>
                <a:lnTo>
                  <a:pt x="0" y="425"/>
                </a:lnTo>
                <a:lnTo>
                  <a:pt x="11" y="491"/>
                </a:lnTo>
                <a:lnTo>
                  <a:pt x="32" y="552"/>
                </a:lnTo>
                <a:lnTo>
                  <a:pt x="64" y="607"/>
                </a:lnTo>
                <a:lnTo>
                  <a:pt x="104" y="659"/>
                </a:lnTo>
                <a:lnTo>
                  <a:pt x="150" y="702"/>
                </a:lnTo>
                <a:lnTo>
                  <a:pt x="205" y="737"/>
                </a:lnTo>
                <a:lnTo>
                  <a:pt x="265" y="763"/>
                </a:lnTo>
                <a:lnTo>
                  <a:pt x="327" y="779"/>
                </a:lnTo>
                <a:lnTo>
                  <a:pt x="391" y="784"/>
                </a:lnTo>
                <a:lnTo>
                  <a:pt x="457" y="779"/>
                </a:lnTo>
                <a:lnTo>
                  <a:pt x="430" y="620"/>
                </a:lnTo>
                <a:lnTo>
                  <a:pt x="394" y="623"/>
                </a:lnTo>
                <a:lnTo>
                  <a:pt x="356" y="620"/>
                </a:lnTo>
                <a:lnTo>
                  <a:pt x="318" y="611"/>
                </a:lnTo>
                <a:lnTo>
                  <a:pt x="284" y="595"/>
                </a:lnTo>
                <a:lnTo>
                  <a:pt x="250" y="575"/>
                </a:lnTo>
                <a:lnTo>
                  <a:pt x="222" y="550"/>
                </a:lnTo>
                <a:lnTo>
                  <a:pt x="200" y="520"/>
                </a:lnTo>
                <a:lnTo>
                  <a:pt x="180" y="486"/>
                </a:lnTo>
                <a:lnTo>
                  <a:pt x="168" y="452"/>
                </a:lnTo>
                <a:lnTo>
                  <a:pt x="161" y="413"/>
                </a:lnTo>
                <a:lnTo>
                  <a:pt x="161" y="374"/>
                </a:lnTo>
                <a:lnTo>
                  <a:pt x="167" y="337"/>
                </a:lnTo>
                <a:lnTo>
                  <a:pt x="179" y="302"/>
                </a:lnTo>
                <a:lnTo>
                  <a:pt x="197" y="267"/>
                </a:lnTo>
                <a:lnTo>
                  <a:pt x="220" y="238"/>
                </a:lnTo>
                <a:lnTo>
                  <a:pt x="247" y="212"/>
                </a:lnTo>
                <a:lnTo>
                  <a:pt x="280" y="192"/>
                </a:lnTo>
                <a:lnTo>
                  <a:pt x="314" y="175"/>
                </a:lnTo>
                <a:lnTo>
                  <a:pt x="350" y="165"/>
                </a:lnTo>
                <a:lnTo>
                  <a:pt x="388" y="162"/>
                </a:lnTo>
                <a:lnTo>
                  <a:pt x="427" y="165"/>
                </a:lnTo>
                <a:lnTo>
                  <a:pt x="464" y="174"/>
                </a:lnTo>
                <a:lnTo>
                  <a:pt x="498" y="189"/>
                </a:lnTo>
                <a:lnTo>
                  <a:pt x="530" y="208"/>
                </a:lnTo>
                <a:lnTo>
                  <a:pt x="558" y="235"/>
                </a:lnTo>
                <a:lnTo>
                  <a:pt x="583" y="264"/>
                </a:lnTo>
                <a:lnTo>
                  <a:pt x="599" y="297"/>
                </a:lnTo>
                <a:lnTo>
                  <a:pt x="614" y="334"/>
                </a:lnTo>
                <a:lnTo>
                  <a:pt x="619" y="372"/>
                </a:lnTo>
                <a:lnTo>
                  <a:pt x="620" y="410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61" y="546"/>
                </a:lnTo>
                <a:lnTo>
                  <a:pt x="534" y="572"/>
                </a:lnTo>
                <a:lnTo>
                  <a:pt x="501" y="593"/>
                </a:lnTo>
                <a:lnTo>
                  <a:pt x="467" y="610"/>
                </a:lnTo>
                <a:lnTo>
                  <a:pt x="519" y="763"/>
                </a:lnTo>
                <a:lnTo>
                  <a:pt x="519" y="7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27840" y="6016680"/>
            <a:ext cx="57240" cy="903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1"/>
                </a:moveTo>
                <a:lnTo>
                  <a:pt x="52" y="0"/>
                </a:lnTo>
                <a:lnTo>
                  <a:pt x="109" y="147"/>
                </a:lnTo>
                <a:lnTo>
                  <a:pt x="94" y="156"/>
                </a:lnTo>
                <a:lnTo>
                  <a:pt x="27" y="172"/>
                </a:lnTo>
                <a:lnTo>
                  <a:pt x="4" y="15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908760" y="5384880"/>
            <a:ext cx="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12160" y="5905440"/>
            <a:ext cx="3045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8760" y="609588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61040" y="6058080"/>
            <a:ext cx="254160" cy="190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56272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86600" y="556236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53080" y="6032160"/>
            <a:ext cx="203400" cy="291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5918040"/>
            <a:ext cx="30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6095880"/>
            <a:ext cx="15264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705720" y="6095880"/>
            <a:ext cx="12672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400440" y="5981760"/>
            <a:ext cx="304920" cy="11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943600"/>
            <a:ext cx="30492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5410080"/>
            <a:ext cx="22860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35480" y="5423040"/>
            <a:ext cx="15228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7785-7DF9-4F14-9CAB-C4ADDF1455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esent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glas La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lie Arth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9F96-79E5-4377-9390-AC23BA2315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a person’s ability to affect the actions of the institution inclu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in levels of ownershi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officia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cal Off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Aid Administrat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924680" y="5181480"/>
            <a:ext cx="1006200" cy="1447560"/>
            <a:chOff x="7924680" y="5181480"/>
            <a:chExt cx="1006200" cy="1447560"/>
          </a:xfrm>
        </p:grpSpPr>
        <p:sp>
          <p:nvSpPr>
            <p:cNvPr id="234" name=""/>
            <p:cNvSpPr/>
            <p:nvPr/>
          </p:nvSpPr>
          <p:spPr>
            <a:xfrm>
              <a:off x="7970760" y="5229720"/>
              <a:ext cx="907920" cy="128484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79280" y="5332320"/>
              <a:ext cx="300960" cy="29880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81440" y="5711040"/>
              <a:ext cx="302040" cy="29916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75680" y="6108120"/>
              <a:ext cx="300960" cy="29916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8320" y="5181480"/>
              <a:ext cx="534960" cy="136116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21640" y="5181480"/>
              <a:ext cx="79200" cy="136332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24680" y="5285160"/>
              <a:ext cx="281160" cy="3182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6840" y="5702400"/>
              <a:ext cx="282960" cy="31860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9360" y="6120000"/>
              <a:ext cx="284040" cy="31716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47200" y="5288760"/>
              <a:ext cx="283680" cy="31824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9640" y="5704920"/>
              <a:ext cx="288720" cy="3182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41080" y="6122520"/>
              <a:ext cx="283680" cy="3182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71720" y="5325120"/>
              <a:ext cx="316800" cy="31464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44880" y="5568840"/>
              <a:ext cx="43560" cy="6840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560" y="5702400"/>
              <a:ext cx="316440" cy="31608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360" y="5946480"/>
              <a:ext cx="43920" cy="6984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1720" y="6092640"/>
              <a:ext cx="317880" cy="31572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45960" y="6337440"/>
              <a:ext cx="43920" cy="6840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431560" y="5856840"/>
              <a:ext cx="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7440" y="6252840"/>
              <a:ext cx="233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31560" y="6397560"/>
              <a:ext cx="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48200" y="6368760"/>
              <a:ext cx="195120" cy="1447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41320" y="5992200"/>
              <a:ext cx="234000" cy="173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568000" y="5992200"/>
              <a:ext cx="234000" cy="173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8158320" y="6349320"/>
              <a:ext cx="155880" cy="2217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41320" y="6262200"/>
              <a:ext cx="234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09320" y="6397560"/>
              <a:ext cx="11700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8275680" y="6397560"/>
              <a:ext cx="9720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041320" y="6310800"/>
              <a:ext cx="234000" cy="864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68000" y="6281640"/>
              <a:ext cx="234000" cy="115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58320" y="5876280"/>
              <a:ext cx="17532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529120" y="5886000"/>
              <a:ext cx="11664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C111-0713-44AB-8432-936F58E4E4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ure of a branch campus or additional location that the institution was required to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vernance of a public institution (e.g., change from county control to state contro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/drop third-party servic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315200" y="4724280"/>
            <a:ext cx="1311120" cy="1905120"/>
            <a:chOff x="7315200" y="4724280"/>
            <a:chExt cx="1311120" cy="1905120"/>
          </a:xfrm>
        </p:grpSpPr>
        <p:sp>
          <p:nvSpPr>
            <p:cNvPr id="269" name=""/>
            <p:cNvSpPr/>
            <p:nvPr/>
          </p:nvSpPr>
          <p:spPr>
            <a:xfrm>
              <a:off x="7375320" y="4788000"/>
              <a:ext cx="1182600" cy="169056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7080" y="4923000"/>
              <a:ext cx="392040" cy="39348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80320" y="5421240"/>
              <a:ext cx="393480" cy="39384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72400" y="5943600"/>
              <a:ext cx="392040" cy="39384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9760" y="4724280"/>
              <a:ext cx="696960" cy="179100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23120" y="4724280"/>
              <a:ext cx="103320" cy="179388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4861080"/>
              <a:ext cx="366480" cy="4190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18080" y="5410080"/>
              <a:ext cx="368640" cy="41940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21320" y="5959440"/>
              <a:ext cx="370080" cy="4176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56600" y="4865760"/>
              <a:ext cx="369720" cy="41904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46880" y="5413320"/>
              <a:ext cx="376200" cy="4190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8680" y="5962680"/>
              <a:ext cx="369720" cy="4190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67360" y="4913280"/>
              <a:ext cx="412920" cy="4143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93080" y="5234040"/>
              <a:ext cx="56880" cy="903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64480" y="5410080"/>
              <a:ext cx="412560" cy="4161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9840" y="5730840"/>
              <a:ext cx="57240" cy="921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67360" y="5923080"/>
              <a:ext cx="414360" cy="41580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94520" y="6245280"/>
              <a:ext cx="57240" cy="903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975440" y="5613480"/>
              <a:ext cx="0" cy="304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78840" y="6134040"/>
              <a:ext cx="3045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75440" y="6324480"/>
              <a:ext cx="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27720" y="6286680"/>
              <a:ext cx="2541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67480" y="579132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153280" y="579096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619760" y="6260760"/>
              <a:ext cx="203400" cy="291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7480" y="6146640"/>
              <a:ext cx="3049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76960" y="6324480"/>
              <a:ext cx="15264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772400" y="6324480"/>
              <a:ext cx="12672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467120" y="6210360"/>
              <a:ext cx="304920" cy="11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6172200"/>
              <a:ext cx="30492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9760" y="5638680"/>
              <a:ext cx="2286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102160" y="5651640"/>
              <a:ext cx="152280" cy="304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700C-EC38-4720-9084-12227A0502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eign gift reporting (HEA Sec. 117 and DCL GEN-04-11)—must report applicable gifts by January 31 or July 31, depending upon when gift recei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ary withdrawal from some or all Title IV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6308640" y="4559400"/>
            <a:ext cx="1182600" cy="1690560"/>
          </a:xfrm>
          <a:custGeom>
            <a:avLst/>
            <a:gdLst/>
            <a:ahLst/>
            <a:rect l="l" t="t" r="r" b="b"/>
            <a:pathLst>
              <a:path w="2236" h="3196">
                <a:moveTo>
                  <a:pt x="18" y="224"/>
                </a:moveTo>
                <a:lnTo>
                  <a:pt x="519" y="224"/>
                </a:lnTo>
                <a:lnTo>
                  <a:pt x="546" y="9"/>
                </a:lnTo>
                <a:lnTo>
                  <a:pt x="1667" y="0"/>
                </a:lnTo>
                <a:lnTo>
                  <a:pt x="1685" y="197"/>
                </a:lnTo>
                <a:lnTo>
                  <a:pt x="2236" y="233"/>
                </a:lnTo>
                <a:lnTo>
                  <a:pt x="2042" y="496"/>
                </a:lnTo>
                <a:lnTo>
                  <a:pt x="1975" y="743"/>
                </a:lnTo>
                <a:lnTo>
                  <a:pt x="1676" y="871"/>
                </a:lnTo>
                <a:lnTo>
                  <a:pt x="1692" y="1287"/>
                </a:lnTo>
                <a:lnTo>
                  <a:pt x="2211" y="1287"/>
                </a:lnTo>
                <a:lnTo>
                  <a:pt x="1966" y="1783"/>
                </a:lnTo>
                <a:lnTo>
                  <a:pt x="1685" y="1911"/>
                </a:lnTo>
                <a:lnTo>
                  <a:pt x="1685" y="2293"/>
                </a:lnTo>
                <a:lnTo>
                  <a:pt x="2170" y="2311"/>
                </a:lnTo>
                <a:lnTo>
                  <a:pt x="1912" y="2880"/>
                </a:lnTo>
                <a:lnTo>
                  <a:pt x="1685" y="2940"/>
                </a:lnTo>
                <a:lnTo>
                  <a:pt x="1692" y="3178"/>
                </a:lnTo>
                <a:lnTo>
                  <a:pt x="588" y="3196"/>
                </a:lnTo>
                <a:lnTo>
                  <a:pt x="570" y="2924"/>
                </a:lnTo>
                <a:lnTo>
                  <a:pt x="341" y="2889"/>
                </a:lnTo>
                <a:lnTo>
                  <a:pt x="42" y="2302"/>
                </a:lnTo>
                <a:lnTo>
                  <a:pt x="588" y="2293"/>
                </a:lnTo>
                <a:lnTo>
                  <a:pt x="561" y="1875"/>
                </a:lnTo>
                <a:lnTo>
                  <a:pt x="341" y="1851"/>
                </a:lnTo>
                <a:lnTo>
                  <a:pt x="0" y="1246"/>
                </a:lnTo>
                <a:lnTo>
                  <a:pt x="561" y="1246"/>
                </a:lnTo>
                <a:lnTo>
                  <a:pt x="570" y="862"/>
                </a:lnTo>
                <a:lnTo>
                  <a:pt x="391" y="811"/>
                </a:lnTo>
                <a:lnTo>
                  <a:pt x="255" y="649"/>
                </a:lnTo>
                <a:lnTo>
                  <a:pt x="18" y="224"/>
                </a:lnTo>
                <a:lnTo>
                  <a:pt x="18" y="22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10400" y="4694400"/>
            <a:ext cx="392040" cy="393480"/>
          </a:xfrm>
          <a:custGeom>
            <a:avLst/>
            <a:gdLst/>
            <a:ahLst/>
            <a:rect l="l" t="t" r="r" b="b"/>
            <a:pathLst>
              <a:path w="741" h="744">
                <a:moveTo>
                  <a:pt x="431" y="738"/>
                </a:moveTo>
                <a:lnTo>
                  <a:pt x="370" y="744"/>
                </a:lnTo>
                <a:lnTo>
                  <a:pt x="309" y="738"/>
                </a:lnTo>
                <a:lnTo>
                  <a:pt x="250" y="725"/>
                </a:lnTo>
                <a:lnTo>
                  <a:pt x="193" y="700"/>
                </a:lnTo>
                <a:lnTo>
                  <a:pt x="141" y="665"/>
                </a:lnTo>
                <a:lnTo>
                  <a:pt x="97" y="625"/>
                </a:lnTo>
                <a:lnTo>
                  <a:pt x="60" y="576"/>
                </a:lnTo>
                <a:lnTo>
                  <a:pt x="30" y="521"/>
                </a:lnTo>
                <a:lnTo>
                  <a:pt x="11" y="464"/>
                </a:lnTo>
                <a:lnTo>
                  <a:pt x="0" y="404"/>
                </a:lnTo>
                <a:lnTo>
                  <a:pt x="0" y="341"/>
                </a:lnTo>
                <a:lnTo>
                  <a:pt x="9" y="282"/>
                </a:lnTo>
                <a:lnTo>
                  <a:pt x="30" y="222"/>
                </a:lnTo>
                <a:lnTo>
                  <a:pt x="58" y="168"/>
                </a:lnTo>
                <a:lnTo>
                  <a:pt x="97" y="121"/>
                </a:lnTo>
                <a:lnTo>
                  <a:pt x="140" y="79"/>
                </a:lnTo>
                <a:lnTo>
                  <a:pt x="192" y="44"/>
                </a:lnTo>
                <a:lnTo>
                  <a:pt x="248" y="20"/>
                </a:lnTo>
                <a:lnTo>
                  <a:pt x="308" y="6"/>
                </a:lnTo>
                <a:lnTo>
                  <a:pt x="369" y="0"/>
                </a:lnTo>
                <a:lnTo>
                  <a:pt x="430" y="3"/>
                </a:lnTo>
                <a:lnTo>
                  <a:pt x="489" y="20"/>
                </a:lnTo>
                <a:lnTo>
                  <a:pt x="546" y="44"/>
                </a:lnTo>
                <a:lnTo>
                  <a:pt x="598" y="78"/>
                </a:lnTo>
                <a:lnTo>
                  <a:pt x="642" y="119"/>
                </a:lnTo>
                <a:lnTo>
                  <a:pt x="680" y="167"/>
                </a:lnTo>
                <a:lnTo>
                  <a:pt x="709" y="221"/>
                </a:lnTo>
                <a:lnTo>
                  <a:pt x="730" y="279"/>
                </a:lnTo>
                <a:lnTo>
                  <a:pt x="741" y="340"/>
                </a:lnTo>
                <a:lnTo>
                  <a:pt x="741" y="401"/>
                </a:lnTo>
                <a:lnTo>
                  <a:pt x="730" y="463"/>
                </a:lnTo>
                <a:lnTo>
                  <a:pt x="711" y="520"/>
                </a:lnTo>
                <a:lnTo>
                  <a:pt x="681" y="575"/>
                </a:lnTo>
                <a:lnTo>
                  <a:pt x="645" y="624"/>
                </a:lnTo>
                <a:lnTo>
                  <a:pt x="599" y="665"/>
                </a:lnTo>
                <a:lnTo>
                  <a:pt x="547" y="698"/>
                </a:lnTo>
                <a:lnTo>
                  <a:pt x="491" y="723"/>
                </a:lnTo>
                <a:lnTo>
                  <a:pt x="431" y="738"/>
                </a:lnTo>
                <a:lnTo>
                  <a:pt x="431" y="738"/>
                </a:lnTo>
                <a:close/>
              </a:path>
            </a:pathLst>
          </a:cu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13640" y="5192640"/>
            <a:ext cx="393480" cy="393840"/>
          </a:xfrm>
          <a:custGeom>
            <a:avLst/>
            <a:gdLst/>
            <a:ahLst/>
            <a:rect l="l" t="t" r="r" b="b"/>
            <a:pathLst>
              <a:path w="742" h="743">
                <a:moveTo>
                  <a:pt x="433" y="737"/>
                </a:moveTo>
                <a:lnTo>
                  <a:pt x="372" y="743"/>
                </a:lnTo>
                <a:lnTo>
                  <a:pt x="311" y="737"/>
                </a:lnTo>
                <a:lnTo>
                  <a:pt x="251" y="724"/>
                </a:lnTo>
                <a:lnTo>
                  <a:pt x="195" y="699"/>
                </a:lnTo>
                <a:lnTo>
                  <a:pt x="143" y="666"/>
                </a:lnTo>
                <a:lnTo>
                  <a:pt x="97" y="624"/>
                </a:lnTo>
                <a:lnTo>
                  <a:pt x="61" y="575"/>
                </a:lnTo>
                <a:lnTo>
                  <a:pt x="31" y="520"/>
                </a:lnTo>
                <a:lnTo>
                  <a:pt x="11" y="462"/>
                </a:lnTo>
                <a:lnTo>
                  <a:pt x="2" y="403"/>
                </a:lnTo>
                <a:lnTo>
                  <a:pt x="0" y="340"/>
                </a:lnTo>
                <a:lnTo>
                  <a:pt x="11" y="281"/>
                </a:lnTo>
                <a:lnTo>
                  <a:pt x="30" y="223"/>
                </a:lnTo>
                <a:lnTo>
                  <a:pt x="58" y="169"/>
                </a:lnTo>
                <a:lnTo>
                  <a:pt x="97" y="120"/>
                </a:lnTo>
                <a:lnTo>
                  <a:pt x="141" y="78"/>
                </a:lnTo>
                <a:lnTo>
                  <a:pt x="193" y="44"/>
                </a:lnTo>
                <a:lnTo>
                  <a:pt x="250" y="19"/>
                </a:lnTo>
                <a:lnTo>
                  <a:pt x="308" y="4"/>
                </a:lnTo>
                <a:lnTo>
                  <a:pt x="370" y="0"/>
                </a:lnTo>
                <a:lnTo>
                  <a:pt x="431" y="3"/>
                </a:lnTo>
                <a:lnTo>
                  <a:pt x="491" y="19"/>
                </a:lnTo>
                <a:lnTo>
                  <a:pt x="546" y="43"/>
                </a:lnTo>
                <a:lnTo>
                  <a:pt x="599" y="75"/>
                </a:lnTo>
                <a:lnTo>
                  <a:pt x="644" y="119"/>
                </a:lnTo>
                <a:lnTo>
                  <a:pt x="681" y="165"/>
                </a:lnTo>
                <a:lnTo>
                  <a:pt x="711" y="220"/>
                </a:lnTo>
                <a:lnTo>
                  <a:pt x="730" y="279"/>
                </a:lnTo>
                <a:lnTo>
                  <a:pt x="740" y="339"/>
                </a:lnTo>
                <a:lnTo>
                  <a:pt x="742" y="400"/>
                </a:lnTo>
                <a:lnTo>
                  <a:pt x="732" y="461"/>
                </a:lnTo>
                <a:lnTo>
                  <a:pt x="712" y="519"/>
                </a:lnTo>
                <a:lnTo>
                  <a:pt x="682" y="572"/>
                </a:lnTo>
                <a:lnTo>
                  <a:pt x="644" y="621"/>
                </a:lnTo>
                <a:lnTo>
                  <a:pt x="601" y="664"/>
                </a:lnTo>
                <a:lnTo>
                  <a:pt x="547" y="697"/>
                </a:lnTo>
                <a:lnTo>
                  <a:pt x="492" y="721"/>
                </a:lnTo>
                <a:lnTo>
                  <a:pt x="433" y="737"/>
                </a:lnTo>
                <a:lnTo>
                  <a:pt x="433" y="737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5715000"/>
            <a:ext cx="392040" cy="393840"/>
          </a:xfrm>
          <a:custGeom>
            <a:avLst/>
            <a:gdLst/>
            <a:ahLst/>
            <a:rect l="l" t="t" r="r" b="b"/>
            <a:pathLst>
              <a:path w="740" h="745">
                <a:moveTo>
                  <a:pt x="432" y="739"/>
                </a:moveTo>
                <a:lnTo>
                  <a:pt x="371" y="745"/>
                </a:lnTo>
                <a:lnTo>
                  <a:pt x="310" y="739"/>
                </a:lnTo>
                <a:lnTo>
                  <a:pt x="251" y="724"/>
                </a:lnTo>
                <a:lnTo>
                  <a:pt x="193" y="699"/>
                </a:lnTo>
                <a:lnTo>
                  <a:pt x="142" y="666"/>
                </a:lnTo>
                <a:lnTo>
                  <a:pt x="98" y="625"/>
                </a:lnTo>
                <a:lnTo>
                  <a:pt x="59" y="577"/>
                </a:lnTo>
                <a:lnTo>
                  <a:pt x="31" y="524"/>
                </a:lnTo>
                <a:lnTo>
                  <a:pt x="10" y="466"/>
                </a:lnTo>
                <a:lnTo>
                  <a:pt x="0" y="405"/>
                </a:lnTo>
                <a:lnTo>
                  <a:pt x="0" y="342"/>
                </a:lnTo>
                <a:lnTo>
                  <a:pt x="10" y="281"/>
                </a:lnTo>
                <a:lnTo>
                  <a:pt x="29" y="225"/>
                </a:lnTo>
                <a:lnTo>
                  <a:pt x="59" y="170"/>
                </a:lnTo>
                <a:lnTo>
                  <a:pt x="96" y="120"/>
                </a:lnTo>
                <a:lnTo>
                  <a:pt x="141" y="79"/>
                </a:lnTo>
                <a:lnTo>
                  <a:pt x="191" y="46"/>
                </a:lnTo>
                <a:lnTo>
                  <a:pt x="248" y="21"/>
                </a:lnTo>
                <a:lnTo>
                  <a:pt x="309" y="4"/>
                </a:lnTo>
                <a:lnTo>
                  <a:pt x="370" y="0"/>
                </a:lnTo>
                <a:lnTo>
                  <a:pt x="431" y="4"/>
                </a:lnTo>
                <a:lnTo>
                  <a:pt x="490" y="19"/>
                </a:lnTo>
                <a:lnTo>
                  <a:pt x="547" y="43"/>
                </a:lnTo>
                <a:lnTo>
                  <a:pt x="597" y="79"/>
                </a:lnTo>
                <a:lnTo>
                  <a:pt x="642" y="119"/>
                </a:lnTo>
                <a:lnTo>
                  <a:pt x="680" y="168"/>
                </a:lnTo>
                <a:lnTo>
                  <a:pt x="710" y="222"/>
                </a:lnTo>
                <a:lnTo>
                  <a:pt x="730" y="280"/>
                </a:lnTo>
                <a:lnTo>
                  <a:pt x="740" y="341"/>
                </a:lnTo>
                <a:lnTo>
                  <a:pt x="740" y="402"/>
                </a:lnTo>
                <a:lnTo>
                  <a:pt x="731" y="461"/>
                </a:lnTo>
                <a:lnTo>
                  <a:pt x="710" y="521"/>
                </a:lnTo>
                <a:lnTo>
                  <a:pt x="682" y="576"/>
                </a:lnTo>
                <a:lnTo>
                  <a:pt x="645" y="623"/>
                </a:lnTo>
                <a:lnTo>
                  <a:pt x="599" y="665"/>
                </a:lnTo>
                <a:lnTo>
                  <a:pt x="548" y="699"/>
                </a:lnTo>
                <a:lnTo>
                  <a:pt x="492" y="724"/>
                </a:lnTo>
                <a:lnTo>
                  <a:pt x="432" y="739"/>
                </a:lnTo>
                <a:lnTo>
                  <a:pt x="432" y="73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4495680"/>
            <a:ext cx="696960" cy="1791000"/>
          </a:xfrm>
          <a:custGeom>
            <a:avLst/>
            <a:gdLst/>
            <a:ahLst/>
            <a:rect l="l" t="t" r="r" b="b"/>
            <a:pathLst>
              <a:path w="1317" h="3383">
                <a:moveTo>
                  <a:pt x="0" y="0"/>
                </a:moveTo>
                <a:lnTo>
                  <a:pt x="0" y="3383"/>
                </a:lnTo>
                <a:lnTo>
                  <a:pt x="1317" y="3383"/>
                </a:lnTo>
                <a:lnTo>
                  <a:pt x="1256" y="3176"/>
                </a:lnTo>
                <a:lnTo>
                  <a:pt x="183" y="3176"/>
                </a:lnTo>
                <a:lnTo>
                  <a:pt x="183" y="227"/>
                </a:lnTo>
                <a:lnTo>
                  <a:pt x="1271" y="224"/>
                </a:lnTo>
                <a:lnTo>
                  <a:pt x="129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56440" y="4495680"/>
            <a:ext cx="103320" cy="1793880"/>
          </a:xfrm>
          <a:custGeom>
            <a:avLst/>
            <a:gdLst/>
            <a:ahLst/>
            <a:rect l="l" t="t" r="r" b="b"/>
            <a:pathLst>
              <a:path w="195" h="3389">
                <a:moveTo>
                  <a:pt x="0" y="145"/>
                </a:moveTo>
                <a:lnTo>
                  <a:pt x="0" y="3269"/>
                </a:lnTo>
                <a:lnTo>
                  <a:pt x="195" y="3389"/>
                </a:lnTo>
                <a:lnTo>
                  <a:pt x="187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4632480"/>
            <a:ext cx="366480" cy="419040"/>
          </a:xfrm>
          <a:custGeom>
            <a:avLst/>
            <a:gdLst/>
            <a:ahLst/>
            <a:rect l="l" t="t" r="r" b="b"/>
            <a:pathLst>
              <a:path w="694" h="791">
                <a:moveTo>
                  <a:pt x="694" y="0"/>
                </a:moveTo>
                <a:lnTo>
                  <a:pt x="0" y="0"/>
                </a:lnTo>
                <a:lnTo>
                  <a:pt x="242" y="412"/>
                </a:lnTo>
                <a:lnTo>
                  <a:pt x="293" y="583"/>
                </a:lnTo>
                <a:lnTo>
                  <a:pt x="343" y="671"/>
                </a:lnTo>
                <a:lnTo>
                  <a:pt x="401" y="735"/>
                </a:lnTo>
                <a:lnTo>
                  <a:pt x="494" y="776"/>
                </a:lnTo>
                <a:lnTo>
                  <a:pt x="687" y="791"/>
                </a:lnTo>
                <a:lnTo>
                  <a:pt x="694" y="620"/>
                </a:lnTo>
                <a:lnTo>
                  <a:pt x="544" y="605"/>
                </a:lnTo>
                <a:lnTo>
                  <a:pt x="465" y="541"/>
                </a:lnTo>
                <a:lnTo>
                  <a:pt x="422" y="454"/>
                </a:lnTo>
                <a:lnTo>
                  <a:pt x="378" y="346"/>
                </a:lnTo>
                <a:lnTo>
                  <a:pt x="277" y="153"/>
                </a:lnTo>
                <a:lnTo>
                  <a:pt x="690" y="153"/>
                </a:lnTo>
                <a:lnTo>
                  <a:pt x="694" y="0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51400" y="5181480"/>
            <a:ext cx="368640" cy="419400"/>
          </a:xfrm>
          <a:custGeom>
            <a:avLst/>
            <a:gdLst/>
            <a:ahLst/>
            <a:rect l="l" t="t" r="r" b="b"/>
            <a:pathLst>
              <a:path w="697" h="790">
                <a:moveTo>
                  <a:pt x="697" y="0"/>
                </a:moveTo>
                <a:lnTo>
                  <a:pt x="0" y="0"/>
                </a:lnTo>
                <a:lnTo>
                  <a:pt x="245" y="409"/>
                </a:lnTo>
                <a:lnTo>
                  <a:pt x="294" y="582"/>
                </a:lnTo>
                <a:lnTo>
                  <a:pt x="345" y="668"/>
                </a:lnTo>
                <a:lnTo>
                  <a:pt x="401" y="734"/>
                </a:lnTo>
                <a:lnTo>
                  <a:pt x="496" y="777"/>
                </a:lnTo>
                <a:lnTo>
                  <a:pt x="690" y="790"/>
                </a:lnTo>
                <a:lnTo>
                  <a:pt x="697" y="618"/>
                </a:lnTo>
                <a:lnTo>
                  <a:pt x="546" y="604"/>
                </a:lnTo>
                <a:lnTo>
                  <a:pt x="467" y="539"/>
                </a:lnTo>
                <a:lnTo>
                  <a:pt x="425" y="452"/>
                </a:lnTo>
                <a:lnTo>
                  <a:pt x="381" y="344"/>
                </a:lnTo>
                <a:lnTo>
                  <a:pt x="271" y="147"/>
                </a:lnTo>
                <a:lnTo>
                  <a:pt x="679" y="147"/>
                </a:lnTo>
                <a:lnTo>
                  <a:pt x="697" y="0"/>
                </a:lnTo>
                <a:lnTo>
                  <a:pt x="69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54640" y="5730840"/>
            <a:ext cx="370080" cy="41760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698" y="0"/>
                </a:moveTo>
                <a:lnTo>
                  <a:pt x="0" y="0"/>
                </a:lnTo>
                <a:lnTo>
                  <a:pt x="244" y="409"/>
                </a:lnTo>
                <a:lnTo>
                  <a:pt x="295" y="583"/>
                </a:lnTo>
                <a:lnTo>
                  <a:pt x="345" y="667"/>
                </a:lnTo>
                <a:lnTo>
                  <a:pt x="403" y="733"/>
                </a:lnTo>
                <a:lnTo>
                  <a:pt x="495" y="776"/>
                </a:lnTo>
                <a:lnTo>
                  <a:pt x="690" y="791"/>
                </a:lnTo>
                <a:lnTo>
                  <a:pt x="698" y="618"/>
                </a:lnTo>
                <a:lnTo>
                  <a:pt x="547" y="604"/>
                </a:lnTo>
                <a:lnTo>
                  <a:pt x="469" y="538"/>
                </a:lnTo>
                <a:lnTo>
                  <a:pt x="424" y="453"/>
                </a:lnTo>
                <a:lnTo>
                  <a:pt x="381" y="345"/>
                </a:lnTo>
                <a:lnTo>
                  <a:pt x="278" y="168"/>
                </a:lnTo>
                <a:lnTo>
                  <a:pt x="698" y="168"/>
                </a:lnTo>
                <a:lnTo>
                  <a:pt x="698" y="0"/>
                </a:lnTo>
                <a:lnTo>
                  <a:pt x="69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9920" y="4637160"/>
            <a:ext cx="369720" cy="41904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1" y="0"/>
                </a:moveTo>
                <a:lnTo>
                  <a:pt x="698" y="0"/>
                </a:lnTo>
                <a:lnTo>
                  <a:pt x="453" y="409"/>
                </a:lnTo>
                <a:lnTo>
                  <a:pt x="402" y="583"/>
                </a:lnTo>
                <a:lnTo>
                  <a:pt x="353" y="668"/>
                </a:lnTo>
                <a:lnTo>
                  <a:pt x="295" y="733"/>
                </a:lnTo>
                <a:lnTo>
                  <a:pt x="202" y="776"/>
                </a:lnTo>
                <a:lnTo>
                  <a:pt x="7" y="791"/>
                </a:lnTo>
                <a:lnTo>
                  <a:pt x="0" y="581"/>
                </a:lnTo>
                <a:lnTo>
                  <a:pt x="163" y="577"/>
                </a:lnTo>
                <a:lnTo>
                  <a:pt x="231" y="538"/>
                </a:lnTo>
                <a:lnTo>
                  <a:pt x="273" y="453"/>
                </a:lnTo>
                <a:lnTo>
                  <a:pt x="316" y="345"/>
                </a:lnTo>
                <a:lnTo>
                  <a:pt x="435" y="144"/>
                </a:lnTo>
                <a:lnTo>
                  <a:pt x="7" y="144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80200" y="5184720"/>
            <a:ext cx="376200" cy="419040"/>
          </a:xfrm>
          <a:custGeom>
            <a:avLst/>
            <a:gdLst/>
            <a:ahLst/>
            <a:rect l="l" t="t" r="r" b="b"/>
            <a:pathLst>
              <a:path w="711" h="792">
                <a:moveTo>
                  <a:pt x="14" y="0"/>
                </a:moveTo>
                <a:lnTo>
                  <a:pt x="711" y="0"/>
                </a:lnTo>
                <a:lnTo>
                  <a:pt x="466" y="411"/>
                </a:lnTo>
                <a:lnTo>
                  <a:pt x="415" y="583"/>
                </a:lnTo>
                <a:lnTo>
                  <a:pt x="364" y="670"/>
                </a:lnTo>
                <a:lnTo>
                  <a:pt x="306" y="734"/>
                </a:lnTo>
                <a:lnTo>
                  <a:pt x="214" y="778"/>
                </a:lnTo>
                <a:lnTo>
                  <a:pt x="21" y="792"/>
                </a:lnTo>
                <a:lnTo>
                  <a:pt x="14" y="620"/>
                </a:lnTo>
                <a:lnTo>
                  <a:pt x="164" y="604"/>
                </a:lnTo>
                <a:lnTo>
                  <a:pt x="243" y="540"/>
                </a:lnTo>
                <a:lnTo>
                  <a:pt x="286" y="454"/>
                </a:lnTo>
                <a:lnTo>
                  <a:pt x="330" y="345"/>
                </a:lnTo>
                <a:lnTo>
                  <a:pt x="436" y="170"/>
                </a:lnTo>
                <a:lnTo>
                  <a:pt x="0" y="17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82000" y="5734080"/>
            <a:ext cx="369720" cy="419040"/>
          </a:xfrm>
          <a:custGeom>
            <a:avLst/>
            <a:gdLst/>
            <a:ahLst/>
            <a:rect l="l" t="t" r="r" b="b"/>
            <a:pathLst>
              <a:path w="697" h="793">
                <a:moveTo>
                  <a:pt x="0" y="0"/>
                </a:moveTo>
                <a:lnTo>
                  <a:pt x="697" y="0"/>
                </a:lnTo>
                <a:lnTo>
                  <a:pt x="452" y="411"/>
                </a:lnTo>
                <a:lnTo>
                  <a:pt x="404" y="582"/>
                </a:lnTo>
                <a:lnTo>
                  <a:pt x="353" y="669"/>
                </a:lnTo>
                <a:lnTo>
                  <a:pt x="296" y="735"/>
                </a:lnTo>
                <a:lnTo>
                  <a:pt x="200" y="777"/>
                </a:lnTo>
                <a:lnTo>
                  <a:pt x="7" y="793"/>
                </a:lnTo>
                <a:lnTo>
                  <a:pt x="0" y="619"/>
                </a:lnTo>
                <a:lnTo>
                  <a:pt x="151" y="605"/>
                </a:lnTo>
                <a:lnTo>
                  <a:pt x="230" y="540"/>
                </a:lnTo>
                <a:lnTo>
                  <a:pt x="275" y="452"/>
                </a:lnTo>
                <a:lnTo>
                  <a:pt x="316" y="347"/>
                </a:lnTo>
                <a:lnTo>
                  <a:pt x="437" y="164"/>
                </a:lnTo>
                <a:lnTo>
                  <a:pt x="15" y="16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0680" y="4684680"/>
            <a:ext cx="412920" cy="4143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8" y="763"/>
                </a:moveTo>
                <a:lnTo>
                  <a:pt x="577" y="736"/>
                </a:lnTo>
                <a:lnTo>
                  <a:pt x="631" y="699"/>
                </a:lnTo>
                <a:lnTo>
                  <a:pt x="678" y="656"/>
                </a:lnTo>
                <a:lnTo>
                  <a:pt x="718" y="605"/>
                </a:lnTo>
                <a:lnTo>
                  <a:pt x="748" y="547"/>
                </a:lnTo>
                <a:lnTo>
                  <a:pt x="769" y="486"/>
                </a:lnTo>
                <a:lnTo>
                  <a:pt x="779" y="424"/>
                </a:lnTo>
                <a:lnTo>
                  <a:pt x="779" y="358"/>
                </a:lnTo>
                <a:lnTo>
                  <a:pt x="769" y="293"/>
                </a:lnTo>
                <a:lnTo>
                  <a:pt x="748" y="232"/>
                </a:lnTo>
                <a:lnTo>
                  <a:pt x="717" y="177"/>
                </a:lnTo>
                <a:lnTo>
                  <a:pt x="677" y="126"/>
                </a:lnTo>
                <a:lnTo>
                  <a:pt x="629" y="81"/>
                </a:lnTo>
                <a:lnTo>
                  <a:pt x="576" y="47"/>
                </a:lnTo>
                <a:lnTo>
                  <a:pt x="516" y="20"/>
                </a:lnTo>
                <a:lnTo>
                  <a:pt x="454" y="4"/>
                </a:lnTo>
                <a:lnTo>
                  <a:pt x="388" y="0"/>
                </a:lnTo>
                <a:lnTo>
                  <a:pt x="324" y="4"/>
                </a:lnTo>
                <a:lnTo>
                  <a:pt x="260" y="20"/>
                </a:lnTo>
                <a:lnTo>
                  <a:pt x="204" y="47"/>
                </a:lnTo>
                <a:lnTo>
                  <a:pt x="149" y="83"/>
                </a:lnTo>
                <a:lnTo>
                  <a:pt x="101" y="127"/>
                </a:lnTo>
                <a:lnTo>
                  <a:pt x="61" y="178"/>
                </a:lnTo>
                <a:lnTo>
                  <a:pt x="30" y="236"/>
                </a:lnTo>
                <a:lnTo>
                  <a:pt x="9" y="297"/>
                </a:lnTo>
                <a:lnTo>
                  <a:pt x="0" y="360"/>
                </a:lnTo>
                <a:lnTo>
                  <a:pt x="0" y="425"/>
                </a:lnTo>
                <a:lnTo>
                  <a:pt x="11" y="489"/>
                </a:lnTo>
                <a:lnTo>
                  <a:pt x="32" y="550"/>
                </a:lnTo>
                <a:lnTo>
                  <a:pt x="64" y="606"/>
                </a:lnTo>
                <a:lnTo>
                  <a:pt x="101" y="657"/>
                </a:lnTo>
                <a:lnTo>
                  <a:pt x="150" y="702"/>
                </a:lnTo>
                <a:lnTo>
                  <a:pt x="205" y="736"/>
                </a:lnTo>
                <a:lnTo>
                  <a:pt x="265" y="763"/>
                </a:lnTo>
                <a:lnTo>
                  <a:pt x="327" y="778"/>
                </a:lnTo>
                <a:lnTo>
                  <a:pt x="390" y="784"/>
                </a:lnTo>
                <a:lnTo>
                  <a:pt x="457" y="778"/>
                </a:lnTo>
                <a:lnTo>
                  <a:pt x="430" y="618"/>
                </a:lnTo>
                <a:lnTo>
                  <a:pt x="391" y="623"/>
                </a:lnTo>
                <a:lnTo>
                  <a:pt x="354" y="618"/>
                </a:lnTo>
                <a:lnTo>
                  <a:pt x="317" y="609"/>
                </a:lnTo>
                <a:lnTo>
                  <a:pt x="281" y="595"/>
                </a:lnTo>
                <a:lnTo>
                  <a:pt x="250" y="575"/>
                </a:lnTo>
                <a:lnTo>
                  <a:pt x="222" y="548"/>
                </a:lnTo>
                <a:lnTo>
                  <a:pt x="198" y="519"/>
                </a:lnTo>
                <a:lnTo>
                  <a:pt x="180" y="486"/>
                </a:lnTo>
                <a:lnTo>
                  <a:pt x="167" y="450"/>
                </a:lnTo>
                <a:lnTo>
                  <a:pt x="161" y="413"/>
                </a:lnTo>
                <a:lnTo>
                  <a:pt x="159" y="374"/>
                </a:lnTo>
                <a:lnTo>
                  <a:pt x="167" y="337"/>
                </a:lnTo>
                <a:lnTo>
                  <a:pt x="179" y="300"/>
                </a:lnTo>
                <a:lnTo>
                  <a:pt x="197" y="267"/>
                </a:lnTo>
                <a:lnTo>
                  <a:pt x="219" y="238"/>
                </a:lnTo>
                <a:lnTo>
                  <a:pt x="247" y="211"/>
                </a:lnTo>
                <a:lnTo>
                  <a:pt x="278" y="190"/>
                </a:lnTo>
                <a:lnTo>
                  <a:pt x="314" y="175"/>
                </a:lnTo>
                <a:lnTo>
                  <a:pt x="350" y="163"/>
                </a:lnTo>
                <a:lnTo>
                  <a:pt x="387" y="160"/>
                </a:lnTo>
                <a:lnTo>
                  <a:pt x="426" y="163"/>
                </a:lnTo>
                <a:lnTo>
                  <a:pt x="461" y="172"/>
                </a:lnTo>
                <a:lnTo>
                  <a:pt x="497" y="188"/>
                </a:lnTo>
                <a:lnTo>
                  <a:pt x="530" y="208"/>
                </a:lnTo>
                <a:lnTo>
                  <a:pt x="558" y="235"/>
                </a:lnTo>
                <a:lnTo>
                  <a:pt x="580" y="264"/>
                </a:lnTo>
                <a:lnTo>
                  <a:pt x="599" y="297"/>
                </a:lnTo>
                <a:lnTo>
                  <a:pt x="611" y="331"/>
                </a:lnTo>
                <a:lnTo>
                  <a:pt x="619" y="370"/>
                </a:lnTo>
                <a:lnTo>
                  <a:pt x="619" y="409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59" y="545"/>
                </a:lnTo>
                <a:lnTo>
                  <a:pt x="534" y="572"/>
                </a:lnTo>
                <a:lnTo>
                  <a:pt x="501" y="593"/>
                </a:lnTo>
                <a:lnTo>
                  <a:pt x="467" y="608"/>
                </a:lnTo>
                <a:lnTo>
                  <a:pt x="518" y="763"/>
                </a:lnTo>
                <a:lnTo>
                  <a:pt x="518" y="7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26400" y="5005440"/>
            <a:ext cx="56880" cy="9036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0" y="11"/>
                </a:moveTo>
                <a:lnTo>
                  <a:pt x="52" y="0"/>
                </a:lnTo>
                <a:lnTo>
                  <a:pt x="108" y="148"/>
                </a:lnTo>
                <a:lnTo>
                  <a:pt x="93" y="157"/>
                </a:lnTo>
                <a:lnTo>
                  <a:pt x="28" y="172"/>
                </a:lnTo>
                <a:lnTo>
                  <a:pt x="4" y="160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97800" y="5181480"/>
            <a:ext cx="412560" cy="4161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6" y="760"/>
                </a:moveTo>
                <a:lnTo>
                  <a:pt x="576" y="735"/>
                </a:lnTo>
                <a:lnTo>
                  <a:pt x="631" y="699"/>
                </a:lnTo>
                <a:lnTo>
                  <a:pt x="677" y="656"/>
                </a:lnTo>
                <a:lnTo>
                  <a:pt x="717" y="606"/>
                </a:lnTo>
                <a:lnTo>
                  <a:pt x="747" y="548"/>
                </a:lnTo>
                <a:lnTo>
                  <a:pt x="767" y="487"/>
                </a:lnTo>
                <a:lnTo>
                  <a:pt x="779" y="421"/>
                </a:lnTo>
                <a:lnTo>
                  <a:pt x="779" y="357"/>
                </a:lnTo>
                <a:lnTo>
                  <a:pt x="767" y="293"/>
                </a:lnTo>
                <a:lnTo>
                  <a:pt x="747" y="232"/>
                </a:lnTo>
                <a:lnTo>
                  <a:pt x="715" y="176"/>
                </a:lnTo>
                <a:lnTo>
                  <a:pt x="675" y="125"/>
                </a:lnTo>
                <a:lnTo>
                  <a:pt x="629" y="82"/>
                </a:lnTo>
                <a:lnTo>
                  <a:pt x="574" y="45"/>
                </a:lnTo>
                <a:lnTo>
                  <a:pt x="515" y="21"/>
                </a:lnTo>
                <a:lnTo>
                  <a:pt x="452" y="5"/>
                </a:lnTo>
                <a:lnTo>
                  <a:pt x="387" y="0"/>
                </a:lnTo>
                <a:lnTo>
                  <a:pt x="323" y="5"/>
                </a:lnTo>
                <a:lnTo>
                  <a:pt x="261" y="21"/>
                </a:lnTo>
                <a:lnTo>
                  <a:pt x="203" y="46"/>
                </a:lnTo>
                <a:lnTo>
                  <a:pt x="148" y="82"/>
                </a:lnTo>
                <a:lnTo>
                  <a:pt x="101" y="128"/>
                </a:lnTo>
                <a:lnTo>
                  <a:pt x="61" y="179"/>
                </a:lnTo>
                <a:lnTo>
                  <a:pt x="32" y="234"/>
                </a:lnTo>
                <a:lnTo>
                  <a:pt x="11" y="296"/>
                </a:lnTo>
                <a:lnTo>
                  <a:pt x="0" y="360"/>
                </a:lnTo>
                <a:lnTo>
                  <a:pt x="0" y="426"/>
                </a:lnTo>
                <a:lnTo>
                  <a:pt x="11" y="488"/>
                </a:lnTo>
                <a:lnTo>
                  <a:pt x="32" y="549"/>
                </a:lnTo>
                <a:lnTo>
                  <a:pt x="63" y="607"/>
                </a:lnTo>
                <a:lnTo>
                  <a:pt x="103" y="658"/>
                </a:lnTo>
                <a:lnTo>
                  <a:pt x="151" y="701"/>
                </a:lnTo>
                <a:lnTo>
                  <a:pt x="204" y="737"/>
                </a:lnTo>
                <a:lnTo>
                  <a:pt x="264" y="763"/>
                </a:lnTo>
                <a:lnTo>
                  <a:pt x="326" y="778"/>
                </a:lnTo>
                <a:lnTo>
                  <a:pt x="390" y="784"/>
                </a:lnTo>
                <a:lnTo>
                  <a:pt x="455" y="778"/>
                </a:lnTo>
                <a:lnTo>
                  <a:pt x="430" y="618"/>
                </a:lnTo>
                <a:lnTo>
                  <a:pt x="391" y="621"/>
                </a:lnTo>
                <a:lnTo>
                  <a:pt x="353" y="619"/>
                </a:lnTo>
                <a:lnTo>
                  <a:pt x="316" y="610"/>
                </a:lnTo>
                <a:lnTo>
                  <a:pt x="281" y="595"/>
                </a:lnTo>
                <a:lnTo>
                  <a:pt x="250" y="573"/>
                </a:lnTo>
                <a:lnTo>
                  <a:pt x="222" y="549"/>
                </a:lnTo>
                <a:lnTo>
                  <a:pt x="197" y="519"/>
                </a:lnTo>
                <a:lnTo>
                  <a:pt x="180" y="487"/>
                </a:lnTo>
                <a:lnTo>
                  <a:pt x="167" y="449"/>
                </a:lnTo>
                <a:lnTo>
                  <a:pt x="161" y="412"/>
                </a:lnTo>
                <a:lnTo>
                  <a:pt x="161" y="374"/>
                </a:lnTo>
                <a:lnTo>
                  <a:pt x="165" y="338"/>
                </a:lnTo>
                <a:lnTo>
                  <a:pt x="177" y="301"/>
                </a:lnTo>
                <a:lnTo>
                  <a:pt x="195" y="268"/>
                </a:lnTo>
                <a:lnTo>
                  <a:pt x="217" y="237"/>
                </a:lnTo>
                <a:lnTo>
                  <a:pt x="246" y="211"/>
                </a:lnTo>
                <a:lnTo>
                  <a:pt x="277" y="191"/>
                </a:lnTo>
                <a:lnTo>
                  <a:pt x="313" y="174"/>
                </a:lnTo>
                <a:lnTo>
                  <a:pt x="350" y="164"/>
                </a:lnTo>
                <a:lnTo>
                  <a:pt x="387" y="161"/>
                </a:lnTo>
                <a:lnTo>
                  <a:pt x="424" y="164"/>
                </a:lnTo>
                <a:lnTo>
                  <a:pt x="461" y="173"/>
                </a:lnTo>
                <a:lnTo>
                  <a:pt x="495" y="188"/>
                </a:lnTo>
                <a:lnTo>
                  <a:pt x="530" y="208"/>
                </a:lnTo>
                <a:lnTo>
                  <a:pt x="556" y="234"/>
                </a:lnTo>
                <a:lnTo>
                  <a:pt x="580" y="263"/>
                </a:lnTo>
                <a:lnTo>
                  <a:pt x="599" y="298"/>
                </a:lnTo>
                <a:lnTo>
                  <a:pt x="611" y="332"/>
                </a:lnTo>
                <a:lnTo>
                  <a:pt x="617" y="371"/>
                </a:lnTo>
                <a:lnTo>
                  <a:pt x="617" y="408"/>
                </a:lnTo>
                <a:lnTo>
                  <a:pt x="613" y="446"/>
                </a:lnTo>
                <a:lnTo>
                  <a:pt x="601" y="481"/>
                </a:lnTo>
                <a:lnTo>
                  <a:pt x="583" y="516"/>
                </a:lnTo>
                <a:lnTo>
                  <a:pt x="561" y="546"/>
                </a:lnTo>
                <a:lnTo>
                  <a:pt x="533" y="571"/>
                </a:lnTo>
                <a:lnTo>
                  <a:pt x="501" y="592"/>
                </a:lnTo>
                <a:lnTo>
                  <a:pt x="466" y="609"/>
                </a:lnTo>
                <a:lnTo>
                  <a:pt x="516" y="760"/>
                </a:lnTo>
                <a:lnTo>
                  <a:pt x="516" y="76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23160" y="5502240"/>
            <a:ext cx="57240" cy="921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2"/>
                </a:moveTo>
                <a:lnTo>
                  <a:pt x="52" y="0"/>
                </a:lnTo>
                <a:lnTo>
                  <a:pt x="109" y="148"/>
                </a:lnTo>
                <a:lnTo>
                  <a:pt x="94" y="154"/>
                </a:lnTo>
                <a:lnTo>
                  <a:pt x="28" y="172"/>
                </a:lnTo>
                <a:lnTo>
                  <a:pt x="6" y="160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0680" y="5694480"/>
            <a:ext cx="414360" cy="415800"/>
          </a:xfrm>
          <a:custGeom>
            <a:avLst/>
            <a:gdLst/>
            <a:ahLst/>
            <a:rect l="l" t="t" r="r" b="b"/>
            <a:pathLst>
              <a:path w="781" h="784">
                <a:moveTo>
                  <a:pt x="519" y="763"/>
                </a:moveTo>
                <a:lnTo>
                  <a:pt x="579" y="737"/>
                </a:lnTo>
                <a:lnTo>
                  <a:pt x="631" y="700"/>
                </a:lnTo>
                <a:lnTo>
                  <a:pt x="680" y="656"/>
                </a:lnTo>
                <a:lnTo>
                  <a:pt x="718" y="605"/>
                </a:lnTo>
                <a:lnTo>
                  <a:pt x="750" y="549"/>
                </a:lnTo>
                <a:lnTo>
                  <a:pt x="770" y="486"/>
                </a:lnTo>
                <a:lnTo>
                  <a:pt x="781" y="424"/>
                </a:lnTo>
                <a:lnTo>
                  <a:pt x="779" y="358"/>
                </a:lnTo>
                <a:lnTo>
                  <a:pt x="769" y="294"/>
                </a:lnTo>
                <a:lnTo>
                  <a:pt x="748" y="233"/>
                </a:lnTo>
                <a:lnTo>
                  <a:pt x="717" y="177"/>
                </a:lnTo>
                <a:lnTo>
                  <a:pt x="678" y="126"/>
                </a:lnTo>
                <a:lnTo>
                  <a:pt x="629" y="83"/>
                </a:lnTo>
                <a:lnTo>
                  <a:pt x="576" y="47"/>
                </a:lnTo>
                <a:lnTo>
                  <a:pt x="516" y="20"/>
                </a:lnTo>
                <a:lnTo>
                  <a:pt x="454" y="6"/>
                </a:lnTo>
                <a:lnTo>
                  <a:pt x="390" y="0"/>
                </a:lnTo>
                <a:lnTo>
                  <a:pt x="326" y="6"/>
                </a:lnTo>
                <a:lnTo>
                  <a:pt x="263" y="23"/>
                </a:lnTo>
                <a:lnTo>
                  <a:pt x="204" y="47"/>
                </a:lnTo>
                <a:lnTo>
                  <a:pt x="149" y="84"/>
                </a:lnTo>
                <a:lnTo>
                  <a:pt x="101" y="128"/>
                </a:lnTo>
                <a:lnTo>
                  <a:pt x="61" y="178"/>
                </a:lnTo>
                <a:lnTo>
                  <a:pt x="32" y="236"/>
                </a:lnTo>
                <a:lnTo>
                  <a:pt x="11" y="297"/>
                </a:lnTo>
                <a:lnTo>
                  <a:pt x="0" y="361"/>
                </a:lnTo>
                <a:lnTo>
                  <a:pt x="0" y="425"/>
                </a:lnTo>
                <a:lnTo>
                  <a:pt x="11" y="491"/>
                </a:lnTo>
                <a:lnTo>
                  <a:pt x="32" y="552"/>
                </a:lnTo>
                <a:lnTo>
                  <a:pt x="64" y="607"/>
                </a:lnTo>
                <a:lnTo>
                  <a:pt x="104" y="659"/>
                </a:lnTo>
                <a:lnTo>
                  <a:pt x="150" y="702"/>
                </a:lnTo>
                <a:lnTo>
                  <a:pt x="205" y="737"/>
                </a:lnTo>
                <a:lnTo>
                  <a:pt x="265" y="763"/>
                </a:lnTo>
                <a:lnTo>
                  <a:pt x="327" y="779"/>
                </a:lnTo>
                <a:lnTo>
                  <a:pt x="391" y="784"/>
                </a:lnTo>
                <a:lnTo>
                  <a:pt x="457" y="779"/>
                </a:lnTo>
                <a:lnTo>
                  <a:pt x="430" y="620"/>
                </a:lnTo>
                <a:lnTo>
                  <a:pt x="394" y="623"/>
                </a:lnTo>
                <a:lnTo>
                  <a:pt x="356" y="620"/>
                </a:lnTo>
                <a:lnTo>
                  <a:pt x="318" y="611"/>
                </a:lnTo>
                <a:lnTo>
                  <a:pt x="284" y="595"/>
                </a:lnTo>
                <a:lnTo>
                  <a:pt x="250" y="575"/>
                </a:lnTo>
                <a:lnTo>
                  <a:pt x="222" y="550"/>
                </a:lnTo>
                <a:lnTo>
                  <a:pt x="200" y="520"/>
                </a:lnTo>
                <a:lnTo>
                  <a:pt x="180" y="486"/>
                </a:lnTo>
                <a:lnTo>
                  <a:pt x="168" y="452"/>
                </a:lnTo>
                <a:lnTo>
                  <a:pt x="161" y="413"/>
                </a:lnTo>
                <a:lnTo>
                  <a:pt x="161" y="374"/>
                </a:lnTo>
                <a:lnTo>
                  <a:pt x="167" y="337"/>
                </a:lnTo>
                <a:lnTo>
                  <a:pt x="179" y="302"/>
                </a:lnTo>
                <a:lnTo>
                  <a:pt x="197" y="267"/>
                </a:lnTo>
                <a:lnTo>
                  <a:pt x="220" y="238"/>
                </a:lnTo>
                <a:lnTo>
                  <a:pt x="247" y="212"/>
                </a:lnTo>
                <a:lnTo>
                  <a:pt x="280" y="192"/>
                </a:lnTo>
                <a:lnTo>
                  <a:pt x="314" y="175"/>
                </a:lnTo>
                <a:lnTo>
                  <a:pt x="350" y="165"/>
                </a:lnTo>
                <a:lnTo>
                  <a:pt x="388" y="162"/>
                </a:lnTo>
                <a:lnTo>
                  <a:pt x="427" y="165"/>
                </a:lnTo>
                <a:lnTo>
                  <a:pt x="464" y="174"/>
                </a:lnTo>
                <a:lnTo>
                  <a:pt x="498" y="189"/>
                </a:lnTo>
                <a:lnTo>
                  <a:pt x="530" y="208"/>
                </a:lnTo>
                <a:lnTo>
                  <a:pt x="558" y="235"/>
                </a:lnTo>
                <a:lnTo>
                  <a:pt x="583" y="264"/>
                </a:lnTo>
                <a:lnTo>
                  <a:pt x="599" y="297"/>
                </a:lnTo>
                <a:lnTo>
                  <a:pt x="614" y="334"/>
                </a:lnTo>
                <a:lnTo>
                  <a:pt x="619" y="372"/>
                </a:lnTo>
                <a:lnTo>
                  <a:pt x="620" y="410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61" y="546"/>
                </a:lnTo>
                <a:lnTo>
                  <a:pt x="534" y="572"/>
                </a:lnTo>
                <a:lnTo>
                  <a:pt x="501" y="593"/>
                </a:lnTo>
                <a:lnTo>
                  <a:pt x="467" y="610"/>
                </a:lnTo>
                <a:lnTo>
                  <a:pt x="519" y="763"/>
                </a:lnTo>
                <a:lnTo>
                  <a:pt x="519" y="7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27840" y="6016680"/>
            <a:ext cx="57240" cy="903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1"/>
                </a:moveTo>
                <a:lnTo>
                  <a:pt x="52" y="0"/>
                </a:lnTo>
                <a:lnTo>
                  <a:pt x="109" y="147"/>
                </a:lnTo>
                <a:lnTo>
                  <a:pt x="94" y="156"/>
                </a:lnTo>
                <a:lnTo>
                  <a:pt x="27" y="172"/>
                </a:lnTo>
                <a:lnTo>
                  <a:pt x="4" y="15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908760" y="5384880"/>
            <a:ext cx="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12160" y="5905440"/>
            <a:ext cx="3045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08760" y="609588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1040" y="6058080"/>
            <a:ext cx="254160" cy="190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556272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086600" y="556236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53080" y="6032160"/>
            <a:ext cx="203400" cy="291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918040"/>
            <a:ext cx="30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6095880"/>
            <a:ext cx="15264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705720" y="6095880"/>
            <a:ext cx="12672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400440" y="5981760"/>
            <a:ext cx="304920" cy="11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5943600"/>
            <a:ext cx="30492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5410080"/>
            <a:ext cx="22860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035480" y="5423040"/>
            <a:ext cx="15228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DB07-78AE-4745-842B-6FA8DCEBC3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to Submit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E-App to submit changes and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eligcert.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ection A, Question 1, select “Update Information”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the specific updates from the pick list; if purpose doesn’t appear in list, select next box, “Other,” and type the purpose in space provi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F2B0-A960-4F34-B75D-7E8E293D01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to Submit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the information for the appropriate questions and Section L of the E-A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 the signature page (Section L) and the supporting documents listed in Section M to the address indic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A4AC-D00C-4DCC-AA4F-DFF634B78F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atures of the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populated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1640" y="14857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it che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us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3276720"/>
            <a:ext cx="7772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 logic (automatically sk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pplicable”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86E1-BF72-4E78-B3D5-4C11E81419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670E-DFF1-4D27-932F-A14605BAB8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715000" y="2209680"/>
            <a:ext cx="22096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4343400"/>
            <a:ext cx="281916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73120" y="239400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 + 8-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 ID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44956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 + 9-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payer ID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571640" y="4419720"/>
            <a:ext cx="10666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571640" y="2895480"/>
            <a:ext cx="12193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388620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6653-1F32-4430-9E6D-6396E59714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ding Comments to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dditional information about the application, or data on the application, Use Section K, Question 6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te: Institutions use Question 69 to document eligibility criteria for participation in TEACH Grant Program (see DCL GEN 08-0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5BD6-0768-4859-8681-185D360300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2057400"/>
            <a:ext cx="4953240" cy="243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560" y="2214720"/>
            <a:ext cx="366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is area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ad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or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996C-D58C-4962-AFC7-3EEAEAD097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3CBE-9B4A-4BA9-A8B6-0C1D714A27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is Session will Cover: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hanges and updates need to be reported, and when to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changes and updates require FSA approval prior to disbursing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report changes and updates using the E-A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538E-99F0-420C-99E7-EAB251F95D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743200" y="4800600"/>
            <a:ext cx="39625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4740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the signatur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5181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BECF-D47B-418A-BE42-1A57761974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286000" y="3816360"/>
            <a:ext cx="685800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2960" y="4019400"/>
            <a:ext cx="58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that the president will sig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pp and print the 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3600" y="45720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09/26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3520" y="4495320"/>
            <a:ext cx="259056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D5EB-B3FB-4EA5-A33A-EF8DBB2984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514600" y="4343400"/>
            <a:ext cx="3505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37000" y="4473720"/>
            <a:ext cx="31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Section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981080" y="4876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BA6D-8302-486A-8054-CAA4AFF6E9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ection M Identifies Required Supporting Documents</a:t>
            </a: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71" name="Rectangl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6095880" y="3809880"/>
            <a:ext cx="2819520" cy="2057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Click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the 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Sub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pag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95680" y="5334120"/>
            <a:ext cx="19051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EA6C-07B5-43E9-BEF9-C3B5AD8C9C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85320" y="812880"/>
            <a:ext cx="4911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Eligibility Channel, U.S. Department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990720" y="4038480"/>
            <a:ext cx="7391160" cy="685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If okay, click on the Submit Application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1143000"/>
            <a:ext cx="525780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A message will 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if entries are still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343400" y="182880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840" y="91440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C7EB-4851-4B00-90AF-E65D855851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2780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8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41360" y="209880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2133720"/>
            <a:ext cx="13716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5800" y="2298600"/>
            <a:ext cx="1296720" cy="5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514600"/>
            <a:ext cx="9144000" cy="703800"/>
          </a:xfrm>
          <a:prstGeom prst="rect">
            <a:avLst/>
          </a:prstGeom>
          <a:solidFill>
            <a:srgbClr val="f0f000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must receive written approval from ED for your new location(s) before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burse Title IV funds to students at the new location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320" y="373392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733920"/>
            <a:ext cx="914400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chool Participation Manag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Eligibility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Partner Management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0 First Street, 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ington, DC 20002-5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217800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9/26/2008  9:30 am Easte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04C6-A73B-4307-B2F1-51FFF36350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ecking the Status of the Appl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the E-Ap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on “Application Statu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30D3-FAE0-49B0-A1FC-AB6469E3D957}" type="slidenum">
              <a:t>36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791320" y="2133720"/>
            <a:ext cx="22860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679760" y="2399040"/>
            <a:ext cx="4032000" cy="23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855E-7B6B-4BFC-A84F-2EA43105A6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Response Sent via E-mai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 instructs institution to go to the PPA/ECAR page of the E-App web site to view Approval Letter (or Acknowledgement Let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prints and reviews copy of Approval Letter and E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 also provides contact information for questions about th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9D23-3A08-4E74-83A4-D6DD2553B78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21166800">
            <a:off x="1922040" y="527040"/>
            <a:ext cx="6916320" cy="3856680"/>
          </a:xfrm>
          <a:prstGeom prst="irregularSeal2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You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your PPA, ECAR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Update No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from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20520" y="3733920"/>
            <a:ext cx="24382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183760" y="2985840"/>
            <a:ext cx="1532880" cy="81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3E9C-2141-4573-AC62-7F8EF35228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0379-C2A6-4EA2-8CFD-B2E4C46BB4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ligibilit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ocuments and Refere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pplication for Approval to Participate in the Federal Student Financial Aid Programs (E-Ap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Participation Agreement (PP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and Certification Approval Report (EC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9013-6178-49CA-8783-B389BF3EA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3FB-F230-41B9-9972-0D8EC3A731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Reasons to Submit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(Deferment)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at least 90 days prior to expiration of P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inder e-mail will be sent (keep e-mail addresses updat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053E-5108-4453-BF24-2023861B3B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Reasons to Submit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Own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acquisition review—45 days prior to date of purc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ly complete application required within 10 days of purchase to prevent loss of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8B41-6E29-4012-A57C-2C56A04C46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6C6-C1E2-4350-AB08-3E5B62B127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Reasons to Submit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sta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esignation of main 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6924-6A13-43EB-968C-23C3FE357B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w York/Boston team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617) 289-0133 &amp; (646) 428-37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icut, Maine, Massachusetts, New Hampshire, New Jersey, New York, Puerto Rico, Rhode Island, Vermont, and the Virgin Isl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iladelphia team - (215) 656-644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aware, the District of Columbia, Maryland, Pennsylvania, Virginia, and West Virgi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2273-71CF-4EA3-81E5-14DBA998BE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tlanta team - (404) 562-63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abama, Florida, Georgia, Mississippi, North Carolina, and South Caroli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icago team - (312) 730-15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linois, Indiana, Minnesota, Ohio, and Wiscons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9EB3-64CC-4722-804B-82DA7C69368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llas team - (214) 661-94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kansas, Louisiana, New Mexico, Oklahoma, and Tex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ansas City team – (816) 268-04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wa, Kansas, Kentucky, Missouri, Nebraska, and Tenness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9E37-66B1-4C2B-94EF-6720193F844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ver team - (303) 844-367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ado, Michigan, Montana, North Dakota, South Dakota, Utah, and Wyo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n Francisco/Seattle team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415) 486-5677 &amp; (206) 615-259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zona, Alaska, California, Hawaii, Idaho, Nevada, Oregon, Washington, American Samoa, Guam, Federated States of Micronesia, Palau, Marshall Islands, and Northern Maria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eign School team - (202) 377-316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3D55-63B1-47E1-956D-59C720A8AC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cc99"/>
                </a:solidFill>
                <a:latin typeface="Comic Sans MS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800360" y="2838600"/>
            <a:ext cx="5543280" cy="118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Black"/>
              </a:rPr>
              <a:t>QUESTIONS?</a:t>
            </a:r>
            <a:endParaRPr b="0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7F11-AF18-4446-8ED1-EAF712AE0FE7}" type="slidenum">
              <a:t>47</a:t>
            </a:fld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00BB-90B4-4E77-A93E-497D61034F8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3520" y="1447920"/>
            <a:ext cx="716256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contact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glas La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douglas.lain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y Coughli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etty.coughli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lie Arthur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julie.arthur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general questions, contact your School Particip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923E-8DFF-4834-964D-525184A8C89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ligibility Documents and Refere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of Federal Regulations (CF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68.14 – P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10 – Extent of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20 – Application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21 – Updating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31 – Change in Own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68.25 – Third-Party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B525-62F9-47F7-B60D-19C206FA10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porting – Two Categor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nd wait for approval—must receive approval before disbursing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nd go—not required to wait for approval before disbursing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8334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7323120" y="4800600"/>
            <a:ext cx="1311120" cy="1905120"/>
            <a:chOff x="7323120" y="4800600"/>
            <a:chExt cx="1311120" cy="1905120"/>
          </a:xfrm>
        </p:grpSpPr>
        <p:sp>
          <p:nvSpPr>
            <p:cNvPr id="65" name=""/>
            <p:cNvSpPr/>
            <p:nvPr/>
          </p:nvSpPr>
          <p:spPr>
            <a:xfrm>
              <a:off x="7383600" y="4863960"/>
              <a:ext cx="1182600" cy="169092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85000" y="4998960"/>
              <a:ext cx="392040" cy="39384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8240" y="5497560"/>
              <a:ext cx="393840" cy="39348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80320" y="6019920"/>
              <a:ext cx="392040" cy="39348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0120" y="4800600"/>
              <a:ext cx="696960" cy="179064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31040" y="4800600"/>
              <a:ext cx="103320" cy="179388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3120" y="4937040"/>
              <a:ext cx="366840" cy="4190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26360" y="5486400"/>
              <a:ext cx="368280" cy="41904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29600" y="6035760"/>
              <a:ext cx="369720" cy="4176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64520" y="4941720"/>
              <a:ext cx="369720" cy="4194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55160" y="5489640"/>
              <a:ext cx="376200" cy="4190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56600" y="6039000"/>
              <a:ext cx="369720" cy="4190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5640" y="4989600"/>
              <a:ext cx="412560" cy="4143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01000" y="5310360"/>
              <a:ext cx="57240" cy="903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2400" y="5486400"/>
              <a:ext cx="412920" cy="41580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97760" y="5807160"/>
              <a:ext cx="57240" cy="921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5640" y="5999040"/>
              <a:ext cx="414360" cy="41616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2440" y="6321600"/>
              <a:ext cx="57240" cy="903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983360" y="568908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86760" y="6210360"/>
              <a:ext cx="30492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83360" y="640080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36000" y="6362640"/>
              <a:ext cx="25380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75400" y="586728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161200" y="586692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628040" y="6337080"/>
              <a:ext cx="203040" cy="291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75400" y="6222960"/>
              <a:ext cx="304920" cy="18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5240" y="6400800"/>
              <a:ext cx="1522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779960" y="6400800"/>
              <a:ext cx="1270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475040" y="6286680"/>
              <a:ext cx="304920" cy="11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61200" y="6248520"/>
              <a:ext cx="30492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8040" y="5715000"/>
              <a:ext cx="2286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110440" y="5727600"/>
              <a:ext cx="15264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A60E-09B9-4B41-8C85-F4EDEB22E1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- Loc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8001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Lo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ways must be repor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50% or more of an educational program is offered at tha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report and 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1822680" cy="181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5EB9-F4EF-4A10-93E5-DBB8D83251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Locatio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wait for approval if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provisionally cer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on Cash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quires assets of another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7620120" y="1371600"/>
            <a:ext cx="123336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31EC-4359-401F-BAF8-2E6BF1C4AE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Locatio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wait for approval if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be subject to loss of eligibility under 668.188 (default rat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notified by the Secretary that it must report and wa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7620120" y="1371600"/>
            <a:ext cx="123336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70EA-0587-4B83-9224-3EC3B0FCE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DOUGLAS.LAINE</cp:lastModifiedBy>
  <dcterms:modified xsi:type="dcterms:W3CDTF">2008-12-01T16:19:28Z</dcterms:modified>
  <cp:revision>262</cp:revision>
  <dc:subject/>
  <dc:title>PowerPoint Presentation</dc:title>
</cp:coreProperties>
</file>