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FBDF25-9507-4B1A-BB94-8147561B01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973240" y="549360"/>
            <a:ext cx="3659400" cy="2744640"/>
          </a:xfrm>
          <a:prstGeom prst="rect">
            <a:avLst/>
          </a:prstGeom>
          <a:ln w="0">
            <a:noFill/>
          </a:ln>
        </p:spPr>
      </p:sp>
      <p:sp>
        <p:nvSpPr>
          <p:cNvPr id="21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73240" y="549360"/>
            <a:ext cx="3659400" cy="2744640"/>
          </a:xfrm>
          <a:prstGeom prst="rect">
            <a:avLst/>
          </a:prstGeom>
          <a:ln w="0">
            <a:noFill/>
          </a:ln>
        </p:spPr>
      </p:sp>
      <p:sp>
        <p:nvSpPr>
          <p:cNvPr id="2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973240" y="549360"/>
            <a:ext cx="3659400" cy="2744640"/>
          </a:xfrm>
          <a:prstGeom prst="rect">
            <a:avLst/>
          </a:prstGeom>
          <a:ln w="0">
            <a:noFill/>
          </a:ln>
        </p:spPr>
      </p:sp>
      <p:sp>
        <p:nvSpPr>
          <p:cNvPr id="21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3240" y="549360"/>
            <a:ext cx="3659400" cy="2744640"/>
          </a:xfrm>
          <a:prstGeom prst="rect">
            <a:avLst/>
          </a:prstGeom>
          <a:ln w="0">
            <a:noFill/>
          </a:ln>
        </p:spPr>
      </p:sp>
      <p:sp>
        <p:nvSpPr>
          <p:cNvPr id="22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3240" y="549360"/>
            <a:ext cx="3659400" cy="2744640"/>
          </a:xfrm>
          <a:prstGeom prst="rect">
            <a:avLst/>
          </a:prstGeom>
          <a:ln w="0">
            <a:noFill/>
          </a:ln>
        </p:spPr>
      </p:sp>
      <p:sp>
        <p:nvSpPr>
          <p:cNvPr id="22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3240" y="549360"/>
            <a:ext cx="3659400" cy="2744640"/>
          </a:xfrm>
          <a:prstGeom prst="rect">
            <a:avLst/>
          </a:prstGeom>
          <a:ln w="0">
            <a:noFill/>
          </a:ln>
        </p:spPr>
      </p:sp>
      <p:sp>
        <p:nvSpPr>
          <p:cNvPr id="22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3240" y="549360"/>
            <a:ext cx="3659400" cy="2744640"/>
          </a:xfrm>
          <a:prstGeom prst="rect">
            <a:avLst/>
          </a:prstGeom>
          <a:ln w="0">
            <a:noFill/>
          </a:ln>
        </p:spPr>
      </p:sp>
      <p:sp>
        <p:nvSpPr>
          <p:cNvPr id="22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3240" y="549360"/>
            <a:ext cx="3659400" cy="2744640"/>
          </a:xfrm>
          <a:prstGeom prst="rect">
            <a:avLst/>
          </a:prstGeom>
          <a:ln w="0">
            <a:noFill/>
          </a:ln>
        </p:spPr>
      </p:sp>
      <p:sp>
        <p:nvSpPr>
          <p:cNvPr id="22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973240" y="549360"/>
            <a:ext cx="3659400" cy="2744640"/>
          </a:xfrm>
          <a:prstGeom prst="rect">
            <a:avLst/>
          </a:prstGeom>
          <a:ln w="0">
            <a:noFill/>
          </a:ln>
        </p:spPr>
      </p:sp>
      <p:sp>
        <p:nvSpPr>
          <p:cNvPr id="23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554D1-1ED4-4A02-8192-89B941202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7D84DC3-0371-4A33-8CB6-6FA99C9C86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C4E551B-0D26-4688-B5B3-EDB80B328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A34EB71-3B5E-425F-AD9B-38259D3C09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77D7FD4-E5B6-4CEF-88BC-A2AFAC2C25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162DDD9-E5E1-496E-8636-59A0ECAF4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7DA1754-2686-4F0F-97DA-1B731CFC56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6D6B14F-C14D-4DD0-8080-42401D45C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E5C08632-FC98-4EEB-928B-3967DA8CB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954D412-1125-49A4-9E53-45268EDF2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7A0861E-93FD-4C69-BCE7-A74F2E5DE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B9C0047-B2EA-4FD1-8E6F-425873BA0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8833-1D66-460A-B200-341E323345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700600" y="6289560"/>
            <a:ext cx="2605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6854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26</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1905120"/>
            <a:ext cx="6400800" cy="228600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gulations and Legislative Update for the FFEL and Direct Loan Program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mela Mor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d FFEL/DL Interest Rates for Undergrad Subsidized Loa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Income-Based Repayment Plan –FFEL/D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Public Service Loan Forgiveness - DL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737B42D-CAAE-4792-A209-BF6F41902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Defermen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conomic Hardship – Changed Eligibility Standar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Service Expanded and Post-Active Duty Added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5F34724-A6C9-4F70-B064-9ED3B626E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3"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Offse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ceptional Performer Status Eliminat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urance Reduc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ees Increas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Allowance Payments Reduc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Auction for PLUS (First-time Parent PLUS)</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A8A7107-CA5C-4F2E-BEAF-56D0251B7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aranty Agency(Offse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ction Retention Allowance Reduc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ount Maintenance Fee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6AE561B-B9E7-4E73-BFCC-6B5FFD30C0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FFEL/DL Annual and Aggregate Loan Limi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ent PLUS Grace Period/Relief</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5E3F096-9624-446C-A3F1-B4FCBA6D0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of-Last Resort Authority Enhanc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Granted Authority to Purchase Loans and Participation Interest in Loans to ensure FFEL loan acces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0A5F562-8AC2-404D-839B-D125D21D1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LOAN LIMITS –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2,000 annual Unsub Stafford loan amount for dependent undergraduate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2,000 Unsub Stafford annual loan amount for dependents with no PLUS, independent undergrads, and for non-degree preparatory coursework for undergrad  program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C3F561D-7078-4DD3-8474-76D69FBEC5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unchang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00 Additional Unsub Stafford for non-degree preparatory coursework for grad/professional program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00 Additional Unsub Stafford for non-degree teacher certification coursework</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1962CD7-4EED-4686-82C4-ADDC2F8B62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LOAN LIMITS -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dependent undergrads from $23,000 to $31,000 (no more than $23,000 subsidiz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independent undergraduate students from $46,000 to $57,500 (no more that $23,000 subsidiz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258A4F4-0C8D-40DB-B5E6-D79C61E88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 LOAN LIMITS -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gregate total for graduate/professional remains at $138,500 (no more than $65,000 subsidized)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5FFC57D-6F36-4E70-853E-BF4F8DF33D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3" name="PlaceHolder 2"/>
          <p:cNvSpPr>
            <a:spLocks noGrp="1"/>
          </p:cNvSpPr>
          <p:nvPr>
            <p:ph/>
          </p:nvPr>
        </p:nvSpPr>
        <p:spPr>
          <a:xfrm>
            <a:off x="304920" y="2285640"/>
            <a:ext cx="8208720" cy="3352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islation Upda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Access Initiativ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tions Update</a:t>
            </a:r>
            <a:endParaRPr b="0" lang="en-US" sz="32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70FF7BAD-5D37-4F1B-87AE-67D281C132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Loan Changes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al delayed repayment start date for parent PLUS borrowers based on dependent’s enrollment statu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nuating circumstances for PLUS adverse credit may include delinquency of up to 180 days on mortgage or medical bill payments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6F75F52-A002-4E69-ACB5-27217A38A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Lender-of-Last-Resor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es LLR coverage for all loan types – Subsidized and Unsubsidized Stafford and PLUS for parents and graduate/professional stud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izes institutional designation for LLR through June 30, 2009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BBF9ABC-F575-4715-8F94-B6D1967D56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FFEL Loan Purchase Authority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s and conditions established by the Secretary in consultation with Treasury and OM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produce no “net” cost to the Federal governmen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s no advance funding for lender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A62D8E3-66E4-4D82-8789-086BA8003D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urchase Commitment Program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eligible 2008-2009 FFEL loans through September 30, 2009 from any FFEL lender/hold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must be fully disbursed to be purchas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5-day advance notice from lender of loans to be sold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E52F5E3-B1C8-4556-BF1B-89726FF04A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articipation Purchase Program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participation interests” in eligible 2008-2009 FFEL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rchase provides liquidity to lend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erminate ED interest, lender repays ED by redeeming loans or selling them to ED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C2578E9-53E0-47BB-A937-F8DC6F92E1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o to </a:t>
            </a:r>
            <a:r>
              <a:rPr b="0" lang="en-US" sz="3600" spc="-1" strike="noStrike" u="sng">
                <a:solidFill>
                  <a:srgbClr val="000099"/>
                </a:solidFill>
                <a:uFillTx/>
                <a:latin typeface="Verdana"/>
                <a:hlinkClick r:id="rId1"/>
              </a:rPr>
              <a:t>www.ifap.ed.gov</a:t>
            </a:r>
            <a:r>
              <a:rPr b="0" lang="en-US" sz="3600" spc="-1" strike="noStrike">
                <a:solidFill>
                  <a:srgbClr val="000000"/>
                </a:solidFill>
                <a:latin typeface="Verdana"/>
              </a:rPr>
              <a:t> and hit ECASLA link for ECASLA DCLs and Legislative and Legal Notices, Electronic Announcements, and Implementation Webinars on Loan Purchase Program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1B0CBC0-998D-41A8-B827-29F7397DB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 6889-Loan Access Initiatives</a:t>
            </a:r>
            <a:endParaRPr b="1" lang="en-US" sz="4000" spc="-1" strike="noStrike">
              <a:solidFill>
                <a:srgbClr val="cc5407"/>
              </a:solidFill>
              <a:latin typeface="Verdana"/>
            </a:endParaRPr>
          </a:p>
        </p:txBody>
      </p:sp>
      <p:sp>
        <p:nvSpPr>
          <p:cNvPr id="101"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nds Loan Purchase Programs through 2009-2010 academic year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2796303-4CE5-446F-8355-9D4B750918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er Education Opportunity Act (HEOA) Reauthorization of the HEA</a:t>
            </a:r>
            <a:endParaRPr b="1" lang="en-US" sz="32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gned into law August 14, 2008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uthority for insurance of FFEL loans and to make Consolidation Loans extended to 2014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sions effective August 14, 2008, unless otherwise specified</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349FE79-9ADB-49BA-AEFC-C39DED703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Implementation</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 Hearings Concluded 10/15/09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ice Announcing Formation of Committees and Soliciting Nominations for Non-Federal Negotiators – 11/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ittees Established - 12/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gotiations – 2/09 – 4/09</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200680F-6737-422E-BA2C-7432C0935B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Implementation</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repared/Cleared by OMB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4/09-7/09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ublished - 8/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Period Ends – 9/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repared/Cleared by OMB –</a:t>
            </a:r>
            <a:r>
              <a:rPr b="0" lang="en-US" sz="3200" spc="-1" strike="noStrike">
                <a:solidFill>
                  <a:srgbClr val="000000"/>
                </a:solidFill>
                <a:latin typeface="Verdana"/>
              </a:rPr>
              <a:t>	</a:t>
            </a:r>
            <a:r>
              <a:rPr b="0" lang="en-US" sz="3200" spc="-1" strike="noStrike">
                <a:solidFill>
                  <a:srgbClr val="000000"/>
                </a:solidFill>
                <a:latin typeface="Verdana"/>
              </a:rPr>
              <a:t>9/09-10/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ublished – 11/1/09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047CA24-B9FF-4502-99A0-C85BD8DE02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1852560" y="852480"/>
            <a:ext cx="5386320" cy="5219640"/>
          </a:xfrm>
          <a:prstGeom prst="rect">
            <a:avLst/>
          </a:prstGeom>
          <a:ln w="0">
            <a:noFill/>
          </a:ln>
        </p:spPr>
      </p:pic>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EOA –Student Loan Programs</a:t>
            </a:r>
            <a:br>
              <a:rPr sz="3200"/>
            </a:br>
            <a:r>
              <a:rPr b="1" lang="en-US" sz="3200" spc="-1" strike="noStrike">
                <a:solidFill>
                  <a:srgbClr val="cc5407"/>
                </a:solidFill>
                <a:latin typeface="Verdana"/>
              </a:rPr>
              <a:t>Borrowers</a:t>
            </a:r>
            <a:br>
              <a:rPr sz="3200"/>
            </a:br>
            <a:r>
              <a:rPr b="1" lang="en-US" sz="3200" spc="-1" strike="noStrike">
                <a:solidFill>
                  <a:srgbClr val="cc5407"/>
                </a:solidFill>
                <a:latin typeface="Verdana"/>
              </a:rPr>
              <a:t>  </a:t>
            </a:r>
            <a:endParaRPr b="1" lang="en-US" sz="32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Financial Assistance Excludes all Veterans’ Education Benefits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rvicemembers Civil Relief Act (SCRA) applied to FFEL and Direct Loan Borrowe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interest rate cap during active duty service beginning date of enactment</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apply to PLUS endorsers</a:t>
            </a:r>
            <a:endParaRPr b="0" lang="en-US" sz="3200" spc="-1" strike="noStrike">
              <a:solidFill>
                <a:srgbClr val="000000"/>
              </a:solidFill>
              <a:latin typeface="Verdana"/>
            </a:endParaRPr>
          </a:p>
          <a:p>
            <a:pPr lvl="1" marL="74304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097DF63-A304-4953-9EC5-775500754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RA - continu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rrower must make written reques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lated special allowance change for loans first disbursed on/after July 1, 2008</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0C880F2-4421-4BD5-B8F9-0366A25A51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f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chool perio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 to six months for post-half-time enrollment period </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BB36C0B-FD79-4A92-B7C7-BE5AEC5916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5"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specific request of parent PLUS borrower based on dependent’s statu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ted automatically to grad/prof borrower for post-enrollment period with required notic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4F1BE8-2256-4887-9D30-B3DC77263E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italization of PLUS Loan deferment-related accrued interest may be paid monthly or quarterly or capitalized no more frequently than quarterly for all borrow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05B5FA1-8166-40B3-9CF1-D5AA788837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adverse credit standard” clarified for special extenuating circumstances to be existing regulatory standard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4F602A6-38B8-413E-999E-1B3884AA68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1" name="PlaceHolder 2"/>
          <p:cNvSpPr>
            <a:spLocks noGrp="1"/>
          </p:cNvSpPr>
          <p:nvPr>
            <p:ph/>
          </p:nvPr>
        </p:nvSpPr>
        <p:spPr>
          <a:xfrm>
            <a:off x="304920" y="1142640"/>
            <a:ext cx="8534160" cy="4343400"/>
          </a:xfrm>
          <a:prstGeom prst="rect">
            <a:avLst/>
          </a:prstGeom>
          <a:noFill/>
          <a:ln w="0">
            <a:noFill/>
          </a:ln>
        </p:spPr>
        <p:txBody>
          <a:bodyPr lIns="90000" rIns="90000" tIns="46800" bIns="46800" anchor="t">
            <a:normAutofit fontScale="95000"/>
          </a:bodyPr>
          <a:p>
            <a:pPr marL="325800" indent="-32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 limited to borrower with defaulted loans assigned to ED</a:t>
            </a:r>
            <a:endParaRPr b="0" lang="en-US" sz="3600" spc="-1" strike="noStrike">
              <a:solidFill>
                <a:srgbClr val="000000"/>
              </a:solidFill>
              <a:latin typeface="Verdana"/>
            </a:endParaRPr>
          </a:p>
          <a:p>
            <a:pPr marL="325800" indent="-32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habilitation of defaulted loans limited to one opportunity – borrower-based eligibility continues unless redefault on previously rehabilitated loan</a:t>
            </a:r>
            <a:endParaRPr b="0" lang="en-US" sz="36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0857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51E8D7E-AFDC-4516-A98C-B2A8E5D8CC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orgiveness expanded, if Congress  appropriates funds, f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Childhood Educato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Language Special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ari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Qualified Teachers serving students who are limited English proficient, from low-income communities, and from underrepresented population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92DC777-DE6B-458E-B8C4-83812C8434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orgiveness expanded, if Congress  appropriates funds, for:</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Welfare Worke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ch-Language Pathologists and Audiologist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unselo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ctor Employee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Specialist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ntal Health Professionals    </a:t>
            </a: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FFBC41B-3EA4-4E17-90B1-1B9186FC8B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a:t>
            </a:r>
            <a:endParaRPr b="1" lang="en-US" sz="3600" spc="-1" strike="noStrike">
              <a:solidFill>
                <a:srgbClr val="cc5407"/>
              </a:solidFill>
              <a:latin typeface="Verdana"/>
            </a:endParaRPr>
          </a:p>
        </p:txBody>
      </p:sp>
      <p:sp>
        <p:nvSpPr>
          <p:cNvPr id="1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orgiveness expanded, if Congress  appropriates funds, f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nt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trition Professiona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M Employe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ysical Therap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Therap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erintendents, Principals, and other Administrator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vil Legal Assistance Attorney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9BE8EF1-7E04-410A-91F3-E836833F9F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r Education Reconciliation Act (HERA) (P.L. 109-171) – February 8, 20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Cost Reduction and Access Act (CCRAA)(P.L. 110-84) – September 27, 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CD5E785-35A4-4725-9BA6-3632EE4CB2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9" name="PlaceHolder 2"/>
          <p:cNvSpPr>
            <a:spLocks noGrp="1"/>
          </p:cNvSpPr>
          <p:nvPr>
            <p:ph/>
          </p:nvPr>
        </p:nvSpPr>
        <p:spPr>
          <a:xfrm>
            <a:off x="304920" y="1257120"/>
            <a:ext cx="853416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and Permanent Disability discharge available, July 1, 2010, subject to regulations:  </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f borrower unable to engage in </a:t>
            </a:r>
            <a:r>
              <a:rPr b="0" lang="en-US" sz="2600" spc="-1" strike="noStrike">
                <a:solidFill>
                  <a:srgbClr val="000000"/>
                </a:solidFill>
                <a:latin typeface="Verdana"/>
              </a:rPr>
              <a:t>	</a:t>
            </a:r>
            <a:r>
              <a:rPr b="0" lang="en-US" sz="2600" spc="-1" strike="noStrike">
                <a:solidFill>
                  <a:srgbClr val="000000"/>
                </a:solidFill>
                <a:latin typeface="Verdana"/>
              </a:rPr>
              <a:t>substantial gainful activity based on </a:t>
            </a:r>
            <a:r>
              <a:rPr b="0" lang="en-US" sz="2600" spc="-1" strike="noStrike">
                <a:solidFill>
                  <a:srgbClr val="000000"/>
                </a:solidFill>
                <a:latin typeface="Verdana"/>
              </a:rPr>
              <a:t>	</a:t>
            </a:r>
            <a:r>
              <a:rPr b="0" lang="en-US" sz="2600" spc="-1" strike="noStrike">
                <a:solidFill>
                  <a:srgbClr val="000000"/>
                </a:solidFill>
                <a:latin typeface="Verdana"/>
              </a:rPr>
              <a:t>documented medical or mental </a:t>
            </a:r>
            <a:r>
              <a:rPr b="0" lang="en-US" sz="2600" spc="-1" strike="noStrike">
                <a:solidFill>
                  <a:srgbClr val="000000"/>
                </a:solidFill>
                <a:latin typeface="Verdana"/>
              </a:rPr>
              <a:t>	</a:t>
            </a:r>
            <a:r>
              <a:rPr b="0" lang="en-US" sz="2600" spc="-1" strike="noStrike">
                <a:solidFill>
                  <a:srgbClr val="000000"/>
                </a:solidFill>
                <a:latin typeface="Verdana"/>
              </a:rPr>
              <a:t>impairment expected to result in </a:t>
            </a:r>
            <a:r>
              <a:rPr b="0" lang="en-US" sz="2600" spc="-1" strike="noStrike">
                <a:solidFill>
                  <a:srgbClr val="000000"/>
                </a:solidFill>
                <a:latin typeface="Verdana"/>
              </a:rPr>
              <a:t>	</a:t>
            </a:r>
            <a:r>
              <a:rPr b="0" lang="en-US" sz="2600" spc="-1" strike="noStrike">
                <a:solidFill>
                  <a:srgbClr val="000000"/>
                </a:solidFill>
                <a:latin typeface="Verdana"/>
              </a:rPr>
              <a:t>death, or has lasted or can be </a:t>
            </a:r>
            <a:r>
              <a:rPr b="0" lang="en-US" sz="2600" spc="-1" strike="noStrike">
                <a:solidFill>
                  <a:srgbClr val="000000"/>
                </a:solidFill>
                <a:latin typeface="Verdana"/>
              </a:rPr>
              <a:t>	</a:t>
            </a:r>
            <a:r>
              <a:rPr b="0" lang="en-US" sz="2600" spc="-1" strike="noStrike">
                <a:solidFill>
                  <a:srgbClr val="000000"/>
                </a:solidFill>
                <a:latin typeface="Verdana"/>
              </a:rPr>
              <a:t>expected to last for continuous period </a:t>
            </a:r>
            <a:r>
              <a:rPr b="0" lang="en-US" sz="2600" spc="-1" strike="noStrike">
                <a:solidFill>
                  <a:srgbClr val="000000"/>
                </a:solidFill>
                <a:latin typeface="Verdana"/>
              </a:rPr>
              <a:t>	</a:t>
            </a:r>
            <a:r>
              <a:rPr b="0" lang="en-US" sz="2600" spc="-1" strike="noStrike">
                <a:solidFill>
                  <a:srgbClr val="000000"/>
                </a:solidFill>
                <a:latin typeface="Verdana"/>
              </a:rPr>
              <a:t>of not less than 60 months</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instatement authorized if new title IV loan or income exceeds poverty line</a:t>
            </a: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1143000" indent="0">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A6E86AA1-03AD-414E-8FAA-7D4D1F6A29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nd Permanent Disability discharge available for applications received on/after August 14, 2008: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borrower provides Department of Veterans Affairs (DVA) documentation showing DVA determination that borrower unemployable due to service-connected condition.  No other medical documentation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9B16E89-11DC-4D9F-9A77-18555315A8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HEOA – Borrowers via Direct Loan Program for Service Including 8/14/08 </a:t>
            </a:r>
            <a:endParaRPr b="1" lang="en-US" sz="2800" spc="-1" strike="noStrike">
              <a:solidFill>
                <a:srgbClr val="cc5407"/>
              </a:solidFill>
              <a:latin typeface="Verdana"/>
            </a:endParaRPr>
          </a:p>
        </p:txBody>
      </p:sp>
      <p:sp>
        <p:nvSpPr>
          <p:cNvPr id="13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o Interest Accrual” for no more than 60 months for Direct Loan borrowers who: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on active duty during war or other military operation or national emergency, or in qualifying National Guard duty during the same, and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in an area of hostility that qualifies for special pay</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6895B16-5885-446F-A9B9-7819344087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HEOA – Borrowers via Direct Loan Program for Service Including 8/14/08 </a:t>
            </a:r>
            <a:endParaRPr b="1" lang="en-US" sz="2800" spc="-1" strike="noStrike">
              <a:solidFill>
                <a:srgbClr val="cc5407"/>
              </a:solidFill>
              <a:latin typeface="Verdana"/>
            </a:endParaRPr>
          </a:p>
        </p:txBody>
      </p:sp>
      <p:sp>
        <p:nvSpPr>
          <p:cNvPr id="13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borrowers may consolidate or reconsolidate FFEL consolidation loan in Direct Loan program to qualify for benefit</a:t>
            </a: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2AB6CD9-B715-4EED-95E5-5F101C5C1E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Public Service Job” for Direct Loan Public Service Loan Forgiveness amende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ernment job excludes time in US Congr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s in public health, public interest law services, and faculty teaching in “high needs areas” clarified</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F334486-65C2-4818-96AA-2A2A2CD9AD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Public Service Job” (con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ldhood education as separate category, including Head Start and State-funded pre-kindergarte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es to service on/after 10/1/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E7800B3-BEA5-488D-B2F1-8EF4E5137C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2000"/>
          </a:bodyPr>
          <a:p>
            <a:pPr marL="281160" indent="-2811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of Higher Education (IHE) and IHE-affiliated organizations must adopt “codes of conduct” governing relationships with financial institutions</a:t>
            </a:r>
            <a:endParaRPr b="0" lang="en-US" sz="2800" spc="-1" strike="noStrike">
              <a:solidFill>
                <a:srgbClr val="000000"/>
              </a:solidFill>
              <a:latin typeface="Verdana"/>
            </a:endParaRPr>
          </a:p>
          <a:p>
            <a:pPr marL="281160" indent="-2811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fic student/family disclosure requirements for IHEs with preferred lender arrangements for FFEL and/or private education loans (minimum information requirements and model disclosure to be provided by ED)</a:t>
            </a:r>
            <a:endParaRPr b="0" lang="en-US" sz="2800" spc="-1" strike="noStrike">
              <a:solidFill>
                <a:srgbClr val="000000"/>
              </a:solidFill>
              <a:latin typeface="Verdana"/>
            </a:endParaRPr>
          </a:p>
          <a:p>
            <a:pPr marL="2811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11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11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1160" indent="-2811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2" marL="93708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17F8A6B-873B-403E-8409-58AC964A0F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ferred Lender List (PLL) requirements added to institutional PPA for IHEs with PLL arrangements for title IV and/or private education loan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IHE and IHE-affiliated organization reporting requirements to ED on PLL arrangements </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E04456A-6D1F-4994-9D60-15B6E9D5A7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disclosure requirements for Direct Loan school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ing limitations on preferred lender arrangements for private education loan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FAA professional judgment authority to offer dependent student Unsub Stafford if parent discontinues financial support and refuses to complete FAFSA </a:t>
            </a: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BB11B41-DF59-416F-96FE-DAD569A672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60000"/>
          </a:bodyPr>
          <a:p>
            <a:pPr marL="205560" indent="-205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for first-time FFEL and DL borrowers added to law--consistent with regulations, except:</a:t>
            </a:r>
            <a:endParaRPr b="0" lang="en-US" sz="3200" spc="-1" strike="noStrike">
              <a:solidFill>
                <a:srgbClr val="000000"/>
              </a:solidFill>
              <a:latin typeface="Verdana"/>
            </a:endParaRPr>
          </a:p>
          <a:p>
            <a:pPr lvl="1" marL="445680" indent="-1713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s acknowledgement of receipt and understanding required </a:t>
            </a:r>
            <a:endParaRPr b="0" lang="en-US" sz="3200" spc="-1" strike="noStrike">
              <a:solidFill>
                <a:srgbClr val="000000"/>
              </a:solidFill>
              <a:latin typeface="Verdana"/>
            </a:endParaRPr>
          </a:p>
          <a:p>
            <a:pPr lvl="1" marL="445680" indent="-1713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nterest accrual/capitalization and borrower’s option to pay interest</a:t>
            </a:r>
            <a:endParaRPr b="0" lang="en-US" sz="3200" spc="-1" strike="noStrike">
              <a:solidFill>
                <a:srgbClr val="000000"/>
              </a:solidFill>
              <a:latin typeface="Verdana"/>
            </a:endParaRPr>
          </a:p>
          <a:p>
            <a:pPr lvl="1" marL="4456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205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205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6858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55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DC987EF-EF5A-44E4-B2C9-8E9102C7E8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Continued Access to Student Loans Act (ECASLA) (P.L. 110-227) – May 7,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Education Opportunity Act (P.L. 110-315) (HEOA) – August 14,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6889 (P. L. 110-350) – October 7, 2008</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764EBA-AEF4-4B9A-8CCB-6B8D7F089B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66000"/>
          </a:bodyPr>
          <a:p>
            <a:pPr marL="226080" indent="-226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consistent with regulations, except:</a:t>
            </a:r>
            <a:endParaRPr b="0" lang="en-US" sz="3200" spc="-1" strike="noStrike">
              <a:solidFill>
                <a:srgbClr val="000000"/>
              </a:solidFill>
              <a:latin typeface="Verdana"/>
            </a:endParaRPr>
          </a:p>
          <a:p>
            <a:pPr lvl="1" marL="490320" indent="-188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efine half-time enrollment status at the school and impact of less-than-half-time status </a:t>
            </a:r>
            <a:endParaRPr b="0" lang="en-US" sz="3200" spc="-1" strike="noStrike">
              <a:solidFill>
                <a:srgbClr val="000000"/>
              </a:solidFill>
              <a:latin typeface="Verdana"/>
            </a:endParaRPr>
          </a:p>
          <a:p>
            <a:pPr lvl="1" marL="490320" indent="-188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mportance of office contacts when withdrawing</a:t>
            </a:r>
            <a:endParaRPr b="0" lang="en-US" sz="3200" spc="-1" strike="noStrike">
              <a:solidFill>
                <a:srgbClr val="000000"/>
              </a:solidFill>
              <a:latin typeface="Verdana"/>
            </a:endParaRPr>
          </a:p>
          <a:p>
            <a:pPr lvl="1" marL="490320" indent="-188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provide information on NSLDS and how to access</a:t>
            </a: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226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226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7542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6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528413-80F6-4D07-BDF5-A26FE980BB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2000"/>
          </a:bodyPr>
          <a:p>
            <a:pPr marL="281160" indent="-2811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it counseling requirements amended –consistent with regulations, except:</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detailed repayment plan info required, including impact of interest paid/unpaid</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 on impact of consolidation on repayment, including underlying loan benefits</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tions to prepay and change repayment plans</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 on available tax benefits</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ment that lender-based benefits vary</a:t>
            </a:r>
            <a:endParaRPr b="0" lang="en-US" sz="2600" spc="-1" strike="noStrike">
              <a:solidFill>
                <a:srgbClr val="000000"/>
              </a:solidFill>
              <a:latin typeface="Verdana"/>
            </a:endParaRPr>
          </a:p>
          <a:p>
            <a:pPr marL="28116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8116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81160" indent="-2811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Verdana"/>
            </a:endParaRPr>
          </a:p>
          <a:p>
            <a:pPr lvl="2" marL="937080" indent="0">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8116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8A6ADFFC-9E58-41D2-9E96-7A7C121668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3000"/>
          </a:bodyPr>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related disbursement waivers and exceptions amended for loans first disbursed on/after October 1, 2011- less than 15%</a:t>
            </a: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 formula changed to use three-year period for FY 2009 and beyond with transition period </a:t>
            </a: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486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EAF7640-52E0-40E9-8902-FDC8B3FD9E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cohort default rate penalty threshold % increased to 30% for FY 2012 and beyon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plan required at 30% cohort default rat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46D2617-0C9B-4DBC-9EFA-32D9DF440D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1000"/>
          </a:bodyPr>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School Lender annual lender audit now requires determination that interest, special allowance, and other loan proceeds used only for need-based grants and allowable administrative and other expenses</a:t>
            </a: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so applies to annual audit of eligible lender trustee used by school</a:t>
            </a: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255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9F2FADF-A93D-4D7C-8C2A-2F4EE5CFD3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1000"/>
          </a:bodyPr>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eign Nursing Schools eligible for FFEL loans (excludes consolidation loans) on/after July 1, 2010 if school meets certain requirements</a:t>
            </a: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authorized to waive annual foreign school audit if schools received less than $500,000 in preceding year;  audit requirement for other foreign schools may be modified</a:t>
            </a: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255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FCD623E-9817-4DC8-AA09-C3D3D1E408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78000"/>
          </a:bodyPr>
          <a:p>
            <a:pPr marL="267480" indent="-267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forbearance disclosures for forbearances on or after August 14, 2008:</a:t>
            </a:r>
            <a:endParaRPr b="0" lang="en-US" sz="3200" spc="-1" strike="noStrike">
              <a:solidFill>
                <a:srgbClr val="000000"/>
              </a:solidFill>
              <a:latin typeface="Verdana"/>
            </a:endParaRPr>
          </a:p>
          <a:p>
            <a:pPr lvl="1" marL="579240" indent="-222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capitalization as interest and total interest for life of loan</a:t>
            </a:r>
            <a:endParaRPr b="0" lang="en-US" sz="3200" spc="-1" strike="noStrike">
              <a:solidFill>
                <a:srgbClr val="000000"/>
              </a:solidFill>
              <a:latin typeface="Verdana"/>
            </a:endParaRPr>
          </a:p>
          <a:p>
            <a:pPr lvl="1" marL="579240" indent="-222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every 180 days regarding capitalization and options to pay accruing interest or end forbearance</a:t>
            </a:r>
            <a:endParaRPr b="0" lang="en-US" sz="3200" spc="-1" strike="noStrike">
              <a:solidFill>
                <a:srgbClr val="000000"/>
              </a:solidFill>
              <a:latin typeface="Verdana"/>
            </a:endParaRPr>
          </a:p>
          <a:p>
            <a:pPr marL="2674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267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8913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5889E15-693C-494C-9586-9B64F623AD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3000"/>
          </a:bodyPr>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methods of granting in-school deferment includes confirmation of borrower’s enrollment status using NSLDS, if requested by school</a:t>
            </a: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borrower notice upon loan transfer, sale, or assignment must include date of transfer and date new servicer will accept payments</a:t>
            </a: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486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E9B0E9-02C0-4C9C-90F7-12A38F2DCB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y Agency default notice for claims received on or after August 14, 2008:</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o separate notices to borrow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mple and understandable term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s to exit default and related costs and conditions</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1330055-BFB0-4FD5-B46C-1737841C09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aulted Loan Rehabilitation Consumer Credit Reporting:</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es to GA and all prior holders of the loa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request to consumer reporting agency to remove default record</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an rehabilitations on or after August 14, 2008</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 required to provide rehabilitated borrowers with economic and financial materials</a:t>
            </a:r>
            <a:endParaRPr b="0" lang="en-US" sz="2600" spc="-1" strike="noStrike">
              <a:solidFill>
                <a:srgbClr val="000000"/>
              </a:solidFill>
              <a:latin typeface="Verdana"/>
            </a:endParaRPr>
          </a:p>
          <a:p>
            <a:pPr lvl="2" marL="1143000" indent="0">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8109DAC5-76B1-4235-BEA7-322DE8565F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uthorized FFEL Program until 201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Loan Limi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ase-Out of Borrower Origination Fe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Prof PLUS Introduc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960D8A-54C9-44FB-9842-1A15EB1BD1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Consolidation Loan Disclosures to Federal Perkins and Direct Loan borrowers at time of application:</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simple and understandabl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include statement that simply applying does not obligate the borrower</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on any loss of Perkins and Direct Loan benefits upon consolid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1C688D-76FC-43BE-AD03-A0060D5055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Consolidation Loan Disclosures to Federal Perkins and Direct Loan borrowers at time of application (cont.):</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olidation loan or repayment plans and options to change plan, options and information to prepay or pay over shorter perio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equences of default </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statement that lender-based benefits may v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E83BA21-508A-4CBA-B872-14AEA6DEC4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and new FFEL borrower disclosur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d lender disclosures for each private education loan based on section 128(e) of Truth in Lending Ac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d lender reporting and certific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1C02B6F-C788-4B78-90C7-9874D34AA7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73000"/>
          </a:bodyPr>
          <a:p>
            <a:pPr marL="250200" indent="-250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Loan Disbursement:</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whether lender will pay required fee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repayment plan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bearance circumstance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loan forgiveness and eligibility requirement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option to pay accrued interest and capitalization frequency if unpaid</a:t>
            </a: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250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2" marL="83412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481034D-6292-44A4-BDC1-B2AC135D3B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repay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ing change to no more than 150 days before first payment due dat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loan servicer, if applicabl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LUS borrowers, repayment start date after in-school defer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ayment plans and option to change pla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 on lender-offered repayment benefits and limits/conditio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s to avoid default and any associated cos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ed total interest and amount of any interest paid</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 for advice and assist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6F2041E-2E5E-4DD5-A148-C6492186F6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mple projections for PLUS and Unsub Stafford Loans must include loan costs of paying or capitalizing accruing interes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disclosures during repayment for loans with first payment due date on or after July 1, 2009</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bill or statement for all borrower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disclosures for borrowers having difficulty making payment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disclosures for delinquent borrowers</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9A732B14-E34B-4AB4-B44F-AC3373C941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annual reporting for preferred lender arrange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dentified minimum information to institutions and institution-affiliated organizatio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to ED on reasonable expenses paid to FAO staff or others with education loan responsibilitie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certification of compliance with HEOA section 120 requirements no later than February 4, 2010, and as part of lender compliance audit</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2E2AFA3-B1DE-4FED-82C5-A861CE4133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inducement provisions revised for activities undertaken by lenders or GAs on or after August 14, 2008</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GAs (chang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payments include stock or other securities, prizes, travel, entertainment expenses, tuition payment or reimbursement, or other inducements to school or its employees, or any lender and its agents, employees, or independent contractors to secure guarante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exit counseling excluded from prohibited school-required functions a GA can perform or pay to have perform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E080E0A-384B-4970-80DD-4D5F289309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 (chang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ed payments same as GAs, but also includes lender payments for referrals and processing or finder’s fees, provision of information technology at below-market value, and additional financial aid funds to any school or its employe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arrangements or contracts to provide services to lender with FAO employees or other school employees with student loan responsibilities prohibit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8BFF11B-1431-4876-AE78-92886877E9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exit counseling excluded from prohibited school-required functions a lender can perform or pay to have perform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reimbursement of reasonable incurred expenses for school employee service on lender advisory boards permit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s permitted to school’s student as lender’s representative if student is otherwise employed by lender and disclosure of employment mad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2EB40D6-7F8D-4511-B8C1-9AEDF754CC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igned Repayment Plans –FFEL/D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Relief – Cohort Default Rate Waivers for Schoo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d PLUS Interest Rate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60C5B50-629D-4510-ACB4-7A8D0F3A91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 required to develop and make available educational programs and materials on budgeting and financial management for students and parents </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presented in simple and understandable format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address cost of using high interest loan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and materials may be provided to Direct Loan only school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ed default reduction activities for section 422(h)(4)(B) of HEA</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51B5F4A-1CFA-40F5-AED1-850AA45844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lum bright="70000" contrast="-70000"/>
          </a:blip>
          <a:stretch/>
        </p:blipFill>
        <p:spPr>
          <a:xfrm>
            <a:off x="1852560" y="852480"/>
            <a:ext cx="5386320" cy="5219640"/>
          </a:xfrm>
          <a:prstGeom prst="rect">
            <a:avLst/>
          </a:prstGeom>
          <a:ln w="0">
            <a:noFill/>
          </a:ln>
        </p:spPr>
      </p:pic>
      <p:sp>
        <p:nvSpPr>
          <p:cNvPr id="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Regulations</a:t>
            </a:r>
            <a:r>
              <a:rPr b="1" lang="en-US" sz="3600" spc="-1" strike="noStrike">
                <a:solidFill>
                  <a:srgbClr val="000099"/>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endParaRPr b="1" lang="en-US" sz="3200" spc="-1" strike="noStrike">
              <a:solidFill>
                <a:srgbClr val="cc5407"/>
              </a:solidFill>
              <a:latin typeface="Verdana"/>
            </a:endParaRPr>
          </a:p>
        </p:txBody>
      </p:sp>
      <p:sp>
        <p:nvSpPr>
          <p:cNvPr id="1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Sessions ending April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ensus Reached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 July 1,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Rule — October 23,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Date — July 1, 2009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BB54D38-E853-4351-B9C1-213C528F34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endParaRPr b="1" lang="en-US" sz="3200" spc="-1" strike="noStrike">
              <a:solidFill>
                <a:srgbClr val="cc5407"/>
              </a:solidFill>
              <a:latin typeface="Verdana"/>
            </a:endParaRPr>
          </a:p>
        </p:txBody>
      </p:sp>
      <p:sp>
        <p:nvSpPr>
          <p:cNvPr id="1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rvice Loan Forgivenes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based Repaymen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onomic Hardship Deferm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litary Service Deferm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for-Profit Loan Holder Defini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Preemption of Certain State Laws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139EEE-7C0B-44F5-8104-2E231D460A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Public Service Loan Forgiveness</a:t>
            </a:r>
            <a:endParaRPr b="1" lang="en-US" sz="3200" spc="-1" strike="noStrike">
              <a:solidFill>
                <a:srgbClr val="cc5407"/>
              </a:solidFill>
              <a:latin typeface="Verdana"/>
            </a:endParaRPr>
          </a:p>
        </p:txBody>
      </p:sp>
      <p:sp>
        <p:nvSpPr>
          <p:cNvPr id="197"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rogram Borrowers ONL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in Defaul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s 120 Monthly On-time Pay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October 1, 2007</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Based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Contingent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Plans with a Minimum Payment Amou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Employment in Qualifying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B6B95D8-BFE9-4DFD-817A-984AE6B657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 Income-based Repayment </a:t>
            </a:r>
            <a:endParaRPr b="1" lang="en-US" sz="3200" spc="-1" strike="noStrike">
              <a:solidFill>
                <a:srgbClr val="cc5407"/>
              </a:solidFill>
              <a:latin typeface="Verdana"/>
            </a:endParaRPr>
          </a:p>
        </p:txBody>
      </p:sp>
      <p:sp>
        <p:nvSpPr>
          <p:cNvPr id="19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and Direct Loan Program Borrow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Tied to a “Partial Financial Hardshi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Payment Amount, AGI, Poverty Inco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Attribu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ued Interest, Fees, Loan Principa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fford Interest Covered for Three Yea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year Loan Forgiven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A8407C9-5E07-4E9D-A294-29D655E8F1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 </a:t>
            </a:r>
            <a:r>
              <a:rPr b="1" lang="en-US" sz="3200" spc="-1" strike="noStrike">
                <a:solidFill>
                  <a:srgbClr val="cc5407"/>
                </a:solidFill>
                <a:latin typeface="Verdana"/>
              </a:rPr>
              <a:t>2007-08 Negotiated Rulemaking Economic Hardship Deferment </a:t>
            </a:r>
            <a:endParaRPr b="1" lang="en-US" sz="3200" spc="-1" strike="noStrike">
              <a:solidFill>
                <a:srgbClr val="cc5407"/>
              </a:solidFill>
              <a:latin typeface="Verdana"/>
            </a:endParaRPr>
          </a:p>
        </p:txBody>
      </p:sp>
      <p:sp>
        <p:nvSpPr>
          <p:cNvPr id="201"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dified the Basic Income Criter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0% of the Poverty Level Income Appropriate to Family Siz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minated the Debt-to-Income Criter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20/220 Rul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48B72C-8F9D-49C8-A1EB-62281F0E2F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Military Service Deferments</a:t>
            </a:r>
            <a:endParaRPr b="1" lang="en-US" sz="3200" spc="-1" strike="noStrike">
              <a:solidFill>
                <a:srgbClr val="cc5407"/>
              </a:solidFill>
              <a:latin typeface="Verdana"/>
            </a:endParaRPr>
          </a:p>
        </p:txBody>
      </p:sp>
      <p:sp>
        <p:nvSpPr>
          <p:cNvPr id="203"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HERA Military Service Deferment Modified by CCRA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CRAA Post-Active Duty Defer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les for Applying Benefits to Those Who Qualify for Multiple Benefit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C274F3C-4494-4288-9920-4A1FCCFE5F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Military Service Deferments</a:t>
            </a:r>
            <a:endParaRPr b="1" lang="en-US" sz="3200" spc="-1" strike="noStrike">
              <a:solidFill>
                <a:srgbClr val="cc5407"/>
              </a:solidFill>
              <a:latin typeface="Verdana"/>
            </a:endParaRPr>
          </a:p>
        </p:txBody>
      </p:sp>
      <p:sp>
        <p:nvSpPr>
          <p:cNvPr id="205"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 revised –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title IV loans, not just loans made on/after July 1, 2001</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moves 3-year limi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s a 180-day deferment period after demobiliz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ED1FEFF-7DF7-43FD-B036-DB0E670AFF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Military Service Deferments</a:t>
            </a:r>
            <a:endParaRPr b="1" lang="en-US" sz="3200" spc="-1" strike="noStrike">
              <a:solidFill>
                <a:srgbClr val="cc5407"/>
              </a:solidFill>
              <a:latin typeface="Verdana"/>
            </a:endParaRPr>
          </a:p>
        </p:txBody>
      </p:sp>
      <p:sp>
        <p:nvSpPr>
          <p:cNvPr id="207"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CCRAA Post-Active Duty Deferment added -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 to13-months of deferment for certain  borrowers in school or in grace period when called to active duty</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inates at return to school</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the same borrowers as Military Service deferment eligibl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480899-5F8B-4176-9ADA-855ECA2FA7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ty Theft Discharg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habilitation Relief – FFEL/DL</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E78F03E-39D1-4E4F-B25A-F74701B073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5407"/>
                </a:solidFill>
                <a:latin typeface="Verdana"/>
              </a:rPr>
              <a:t>2007-08 Negotiated Rulemaking</a:t>
            </a:r>
            <a:br>
              <a:rPr sz="2800"/>
            </a:br>
            <a:r>
              <a:rPr b="1" lang="en-US" sz="2800" spc="-1" strike="noStrike">
                <a:solidFill>
                  <a:srgbClr val="cc5407"/>
                </a:solidFill>
                <a:latin typeface="Verdana"/>
              </a:rPr>
              <a:t> Not-for-Profit Loan Holder Definition</a:t>
            </a:r>
            <a:endParaRPr b="1" lang="en-US" sz="2800" spc="-1" strike="noStrike">
              <a:solidFill>
                <a:srgbClr val="cc5407"/>
              </a:solidFill>
              <a:latin typeface="Verdana"/>
            </a:endParaRPr>
          </a:p>
        </p:txBody>
      </p:sp>
      <p:sp>
        <p:nvSpPr>
          <p:cNvPr id="20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l SAP Rates for Lenders/Holder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Defines an Eligible Not-for-Profit Holder:</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s/Others Eligible to Issue Tax-exempt Bond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for-Profit Entity Under IRC 501(c)(3)</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T Acting on Behalf of a State or NFP Entity</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fying Lender Must Have Sole Beneficial Ownership Interes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2F81319-E0E8-4F49-BE43-BD01DAB644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Letters and Announcements</a:t>
            </a:r>
            <a:endParaRPr b="1" lang="en-US" sz="3600" spc="-1" strike="noStrike">
              <a:solidFill>
                <a:srgbClr val="cc5407"/>
              </a:solidFill>
              <a:latin typeface="Verdana"/>
            </a:endParaRPr>
          </a:p>
        </p:txBody>
      </p:sp>
      <p:sp>
        <p:nvSpPr>
          <p:cNvPr id="2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Use of a Preferred FFEL Lender List (GEN-08-06, May 9, 2008)</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Lender-of-Last-Resort Service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 Program Implementation and Operating Procedures (GEN-08-03, March 26, 2008)</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GA Guidance (GEN 08-05, May 5, 2008)</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Continued Access to Student Loans Act (GEN-08-08, June 18, 2008)</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1775206-30DC-4783-B4A6-380D49DDCC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202-502-7732</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Pamela.Moran@ed.gov</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202-502-7873</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519AECD-4152-45F7-96C5-17CADCCA1FB3}"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olidation Loan – Married/In-school/Early Conversion eliminat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as-Lender/Use of Lender Truste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Reduced Insurance/“Negative SAP”</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2EEE2B3-3CEA-4B78-A9FA-0CEBB2FA04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06:14Z</dcterms:modified>
  <cp:revision>286</cp:revision>
  <dc:subject/>
  <dc:title>PowerPoint Presentation</dc:title>
</cp:coreProperties>
</file>