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76.xml.rels" ContentType="application/vnd.openxmlformats-package.relationships+xml"/>
  <Override PartName="/ppt/notesSlides/_rels/notesSlide75.xml.rels" ContentType="application/vnd.openxmlformats-package.relationships+xml"/>
  <Override PartName="/ppt/notesSlides/_rels/notesSlide74.xml.rels" ContentType="application/vnd.openxmlformats-package.relationships+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8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51CF0D-13E6-4999-B408-CF26D78AB8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2973240" y="549360"/>
            <a:ext cx="3659400" cy="2744640"/>
          </a:xfrm>
          <a:prstGeom prst="rect">
            <a:avLst/>
          </a:prstGeom>
          <a:ln w="0">
            <a:noFill/>
          </a:ln>
        </p:spPr>
      </p:sp>
      <p:sp>
        <p:nvSpPr>
          <p:cNvPr id="21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973240" y="549360"/>
            <a:ext cx="3659400" cy="2744640"/>
          </a:xfrm>
          <a:prstGeom prst="rect">
            <a:avLst/>
          </a:prstGeom>
          <a:ln w="0">
            <a:noFill/>
          </a:ln>
        </p:spPr>
      </p:sp>
      <p:sp>
        <p:nvSpPr>
          <p:cNvPr id="21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973240" y="549360"/>
            <a:ext cx="3659400" cy="2744640"/>
          </a:xfrm>
          <a:prstGeom prst="rect">
            <a:avLst/>
          </a:prstGeom>
          <a:ln w="0">
            <a:noFill/>
          </a:ln>
        </p:spPr>
      </p:sp>
      <p:sp>
        <p:nvSpPr>
          <p:cNvPr id="21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973240" y="549360"/>
            <a:ext cx="3659400" cy="2744640"/>
          </a:xfrm>
          <a:prstGeom prst="rect">
            <a:avLst/>
          </a:prstGeom>
          <a:ln w="0">
            <a:noFill/>
          </a:ln>
        </p:spPr>
      </p:sp>
      <p:sp>
        <p:nvSpPr>
          <p:cNvPr id="22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973240" y="549360"/>
            <a:ext cx="3659400" cy="2744640"/>
          </a:xfrm>
          <a:prstGeom prst="rect">
            <a:avLst/>
          </a:prstGeom>
          <a:ln w="0">
            <a:noFill/>
          </a:ln>
        </p:spPr>
      </p:sp>
      <p:sp>
        <p:nvSpPr>
          <p:cNvPr id="223"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2973240" y="549360"/>
            <a:ext cx="3659400" cy="2744640"/>
          </a:xfrm>
          <a:prstGeom prst="rect">
            <a:avLst/>
          </a:prstGeom>
          <a:ln w="0">
            <a:noFill/>
          </a:ln>
        </p:spPr>
      </p:sp>
      <p:sp>
        <p:nvSpPr>
          <p:cNvPr id="225"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2973240" y="549360"/>
            <a:ext cx="3659400" cy="2744640"/>
          </a:xfrm>
          <a:prstGeom prst="rect">
            <a:avLst/>
          </a:prstGeom>
          <a:ln w="0">
            <a:noFill/>
          </a:ln>
        </p:spPr>
      </p:sp>
      <p:sp>
        <p:nvSpPr>
          <p:cNvPr id="227"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973240" y="549360"/>
            <a:ext cx="3659400" cy="2744640"/>
          </a:xfrm>
          <a:prstGeom prst="rect">
            <a:avLst/>
          </a:prstGeom>
          <a:ln w="0">
            <a:noFill/>
          </a:ln>
        </p:spPr>
      </p:sp>
      <p:sp>
        <p:nvSpPr>
          <p:cNvPr id="229"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2973240" y="549360"/>
            <a:ext cx="3659400" cy="2744640"/>
          </a:xfrm>
          <a:prstGeom prst="rect">
            <a:avLst/>
          </a:prstGeom>
          <a:ln w="0">
            <a:noFill/>
          </a:ln>
        </p:spPr>
      </p:sp>
      <p:sp>
        <p:nvSpPr>
          <p:cNvPr id="231"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5C22A5-BF07-4C44-B3F0-45263AA49C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CEA6139F-47AD-4D05-BEB4-F50030EE84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BCB385DC-066D-4288-B818-942C5E8122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7"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44BFDCF7-5DFA-4CE5-B287-837E8F085B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6B19BDF-F44F-4E02-822F-E2EC1219BF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A2EEB5A-85FB-46C0-8C97-E1A411C094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E66B2A5A-8220-4FD0-B713-5AF693BBA7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6C9F5F50-07C9-4DD9-9AE5-FF00668BBA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B5884A4D-A91E-404D-9294-51080681DD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BF7B665C-6C7A-41E7-A05D-3A734FB658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7EB396B-5C92-44EA-AFA8-1CD3CE1683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145D8B2-55ED-4674-9729-0E3B8A1D00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081C-2E2C-441B-947C-6C781263C98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
        <p:nvSpPr>
          <p:cNvPr id="6" name=""/>
          <p:cNvSpPr/>
          <p:nvPr/>
        </p:nvSpPr>
        <p:spPr>
          <a:xfrm>
            <a:off x="5700600" y="6289560"/>
            <a:ext cx="2605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ifap.ed.gov/"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6854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C-26</a:t>
            </a:r>
            <a:endParaRPr b="1" lang="en-US" sz="4000" spc="-1" strike="noStrike">
              <a:solidFill>
                <a:srgbClr val="cc5407"/>
              </a:solidFill>
              <a:latin typeface="Verdana"/>
            </a:endParaRPr>
          </a:p>
        </p:txBody>
      </p:sp>
      <p:sp>
        <p:nvSpPr>
          <p:cNvPr id="51" name="PlaceHolder 2"/>
          <p:cNvSpPr>
            <a:spLocks noGrp="1"/>
          </p:cNvSpPr>
          <p:nvPr>
            <p:ph type="subTitle"/>
          </p:nvPr>
        </p:nvSpPr>
        <p:spPr>
          <a:xfrm>
            <a:off x="1371600" y="1905120"/>
            <a:ext cx="6400800" cy="228600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egulations and Legislative Update for the FFEL and Direct Loan Program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mela Mora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 </a:t>
            </a:r>
            <a:endParaRPr b="1" lang="en-US" sz="3600" spc="-1" strike="noStrike">
              <a:solidFill>
                <a:srgbClr val="cc5407"/>
              </a:solidFill>
              <a:latin typeface="Verdana"/>
            </a:endParaRPr>
          </a:p>
        </p:txBody>
      </p:sp>
      <p:sp>
        <p:nvSpPr>
          <p:cNvPr id="6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duced FFEL/DL Interest Rates for Undergrad Subsidized Loa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Income-Based Repayment Plan –FFEL/D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Public Service Loan Forgiveness - DL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C0D4419-6A1A-4A26-B963-1B98A5970B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 </a:t>
            </a:r>
            <a:endParaRPr b="1" lang="en-US" sz="3600" spc="-1" strike="noStrike">
              <a:solidFill>
                <a:srgbClr val="cc5407"/>
              </a:solidFill>
              <a:latin typeface="Verdana"/>
            </a:endParaRPr>
          </a:p>
        </p:txBody>
      </p:sp>
      <p:sp>
        <p:nvSpPr>
          <p:cNvPr id="7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sed Deferment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conomic Hardship – Changed Eligibility Standard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ilitary Service Expanded and Post-Active Duty Added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0E59C9B-79BD-46DC-B666-D134688376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a:t>
            </a:r>
            <a:endParaRPr b="1" lang="en-US" sz="3600" spc="-1" strike="noStrike">
              <a:solidFill>
                <a:srgbClr val="cc5407"/>
              </a:solidFill>
              <a:latin typeface="Verdana"/>
            </a:endParaRPr>
          </a:p>
        </p:txBody>
      </p:sp>
      <p:sp>
        <p:nvSpPr>
          <p:cNvPr id="73"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Offset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ceptional Performer Status Eliminate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urance Reduce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Fees Increase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al Allowance Payments Reduc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igination Auction for PLUS (First-time Parent PLUS)</a:t>
            </a: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4EA9BC0-5DC6-423C-BEF6-D24B0B6C76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a:t>
            </a:r>
            <a:endParaRPr b="1" lang="en-US" sz="3600" spc="-1" strike="noStrike">
              <a:solidFill>
                <a:srgbClr val="cc5407"/>
              </a:solidFill>
              <a:latin typeface="Verdana"/>
            </a:endParaRPr>
          </a:p>
        </p:txBody>
      </p:sp>
      <p:sp>
        <p:nvSpPr>
          <p:cNvPr id="7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aranty Agency(Offset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llection Retention Allowance Reduc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count Maintenance Fees</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0E4F84C-1799-4D7D-8E4C-EFFFFCCE24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7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reased FFEL/DL Annual and Aggregate Loan Limi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rent PLUS Grace Period/Relief</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E95F219-5A36-4ED4-9024-6EF2DABD2D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7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of-Last Resort Authority Enhance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 Granted Authority to Purchase Loans and Participation Interest in Loans to ensure FFEL loan acces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4CFECF5-9105-40FF-8D5F-BC9C0AA76F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DL LOAN LIMITS –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2,000 annual Unsub Stafford loan amount for dependent undergraduate stud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2,000 Unsub Stafford annual loan amount for dependents with no PLUS, independent undergrads, and for non-degree preparatory coursework for undergrad  programs </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10B11D5-66B5-44A6-B34B-136A8130A6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DL LOAN LIMITS - unchang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000 Additional Unsub Stafford for non-degree preparatory coursework for grad/professional program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000 Additional Unsub Stafford for non-degree teacher certification coursework</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48C385D-528C-4647-840D-E52BF38366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DL LOAN LIMITS -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Aggregate total for dependent undergrads from $23,000 to $31,000 (no more than $23,000 subsidiz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Aggregate total for independent undergraduate students from $46,000 to $57,500 (no more that $23,000 subsidize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67547C9-A1AE-40BB-BF02-379A475031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DL LOAN LIMITS -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gregate total for graduate/professional remains at $138,500 (no more than $65,000 subsidized)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9054A36-EF4B-4A8D-B177-892C14FD25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Agenda</a:t>
            </a:r>
            <a:endParaRPr b="1" lang="en-US" sz="4000" spc="-1" strike="noStrike">
              <a:solidFill>
                <a:srgbClr val="cc5407"/>
              </a:solidFill>
              <a:latin typeface="Verdana"/>
            </a:endParaRPr>
          </a:p>
        </p:txBody>
      </p:sp>
      <p:sp>
        <p:nvSpPr>
          <p:cNvPr id="53" name="PlaceHolder 2"/>
          <p:cNvSpPr>
            <a:spLocks noGrp="1"/>
          </p:cNvSpPr>
          <p:nvPr>
            <p:ph/>
          </p:nvPr>
        </p:nvSpPr>
        <p:spPr>
          <a:xfrm>
            <a:off x="304920" y="2285640"/>
            <a:ext cx="8208720" cy="33526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gislation Updat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Access Initiativ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ulations Update</a:t>
            </a:r>
            <a:endParaRPr b="0" lang="en-US" sz="3200" spc="-1" strike="noStrike">
              <a:solidFill>
                <a:srgbClr val="000000"/>
              </a:solidFill>
              <a:latin typeface="Verdana"/>
            </a:endParaRPr>
          </a:p>
          <a:p>
            <a:pPr lvl="1" marL="74304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EB1A302C-B9AC-4C6A-9E71-4C26C02913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a:t>
            </a:r>
            <a:endParaRPr b="1" lang="en-US" sz="3600" spc="-1" strike="noStrike">
              <a:solidFill>
                <a:srgbClr val="cc5407"/>
              </a:solidFill>
              <a:latin typeface="Verdana"/>
            </a:endParaRPr>
          </a:p>
        </p:txBody>
      </p:sp>
      <p:sp>
        <p:nvSpPr>
          <p:cNvPr id="8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US Loan Changes -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onal delayed repayment start date for parent PLUS borrowers based on dependent’s enrollment statu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nuating circumstances for PLUS adverse credit may include delinquency of up to 180 days on mortgage or medical bill payments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0214BCE-487F-4439-8D50-93C5CBF7BF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 Lender-of-Last-Resort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dates LLR coverage for all loan types – Subsidized and Unsubsidized Stafford and PLUS for parents and graduate/professional studen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thorizes institutional designation for LLR through June 30, 2009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47696A1-CA37-468A-B945-17CB9AEF2B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 FFEL Loan Purchase Authority -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ms and conditions established by the Secretary in consultation with Treasury and OMB</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y produce no “net” cost to the Federal government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s no advance funding for lender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F1D593B-8FBA-4C7F-9F80-6A752786AB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Purchase Commitment Program -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 Commitment to purchase eligible 2008-2009 FFEL loans through September 30, 2009 from any FFEL lender/holde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s must be fully disbursed to be purchas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5-day advance notice from lender of loans to be sold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651FEAB-39EC-415A-BC15-DB32524F0A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Participation Purchase Program -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 Commitment to purchase “participation interests” in eligible 2008-2009 FFEL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rchase provides liquidity to lende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terminate ED interest, lender repays ED by redeeming loans or selling them to ED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AA7CB0A-FECC-4774-8F2C-78F312801B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ASLA-Loan Access Initiatives</a:t>
            </a:r>
            <a:endParaRPr b="1" lang="en-US" sz="3600" spc="-1" strike="noStrike">
              <a:solidFill>
                <a:srgbClr val="cc5407"/>
              </a:solidFill>
              <a:latin typeface="Verdana"/>
            </a:endParaRPr>
          </a:p>
        </p:txBody>
      </p:sp>
      <p:sp>
        <p:nvSpPr>
          <p:cNvPr id="9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o to </a:t>
            </a:r>
            <a:r>
              <a:rPr b="0" lang="en-US" sz="3600" spc="-1" strike="noStrike" u="sng">
                <a:solidFill>
                  <a:srgbClr val="000099"/>
                </a:solidFill>
                <a:uFillTx/>
                <a:latin typeface="Verdana"/>
                <a:hlinkClick r:id="rId1"/>
              </a:rPr>
              <a:t>www.ifap.ed.gov</a:t>
            </a:r>
            <a:r>
              <a:rPr b="0" lang="en-US" sz="3600" spc="-1" strike="noStrike">
                <a:solidFill>
                  <a:srgbClr val="000000"/>
                </a:solidFill>
                <a:latin typeface="Verdana"/>
              </a:rPr>
              <a:t> and hit ECASLA link for ECASLA DCLs and Legislative and Legal Notices, Electronic Announcements, and Implementation Webinars on Loan Purchase Programs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8227932-7E65-48A8-8AE2-B5FA990CA5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R 6889-Loan Access Initiatives</a:t>
            </a:r>
            <a:endParaRPr b="1" lang="en-US" sz="4000" spc="-1" strike="noStrike">
              <a:solidFill>
                <a:srgbClr val="cc5407"/>
              </a:solidFill>
              <a:latin typeface="Verdana"/>
            </a:endParaRPr>
          </a:p>
        </p:txBody>
      </p:sp>
      <p:sp>
        <p:nvSpPr>
          <p:cNvPr id="101" name="PlaceHolder 2"/>
          <p:cNvSpPr>
            <a:spLocks noGrp="1"/>
          </p:cNvSpPr>
          <p:nvPr>
            <p:ph/>
          </p:nvPr>
        </p:nvSpPr>
        <p:spPr>
          <a:xfrm>
            <a:off x="304920" y="1980720"/>
            <a:ext cx="8534160" cy="3886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nds Loan Purchase Programs through 2009-2010 academic year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856C097-DF05-45C1-A36C-6023081FE0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igher Education Opportunity Act (HEOA) Reauthorization of the HEA</a:t>
            </a:r>
            <a:endParaRPr b="1" lang="en-US" sz="3200" spc="-1" strike="noStrike">
              <a:solidFill>
                <a:srgbClr val="cc5407"/>
              </a:solidFill>
              <a:latin typeface="Verdana"/>
            </a:endParaRPr>
          </a:p>
        </p:txBody>
      </p:sp>
      <p:sp>
        <p:nvSpPr>
          <p:cNvPr id="10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gned into law August 14, 2008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uthority for insurance of FFEL loans and to make Consolidation Loans extended to 2014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visions effective August 14, 2008, unless otherwise specified</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576F728-0CC5-44A5-A4FD-AD30255667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Implementation</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 Hearings Concluded 10/15/09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tice Announcing Formation of Committees and Soliciting Nominations for Non-Federal Negotiators – 11/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ittees Established - 12/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gotiations – 2/09 – 4/09</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AA14545-1C5B-4FE6-AD61-09AA9240CC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Implementation</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PRM Prepared/Cleared by OMB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4/09-7/09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PRM Published - 8/0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ent Period Ends – 9/0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l Regulations Prepared/Cleared by OMB –</a:t>
            </a:r>
            <a:r>
              <a:rPr b="0" lang="en-US" sz="3200" spc="-1" strike="noStrike">
                <a:solidFill>
                  <a:srgbClr val="000000"/>
                </a:solidFill>
                <a:latin typeface="Verdana"/>
              </a:rPr>
              <a:t>	</a:t>
            </a:r>
            <a:r>
              <a:rPr b="0" lang="en-US" sz="3200" spc="-1" strike="noStrike">
                <a:solidFill>
                  <a:srgbClr val="000000"/>
                </a:solidFill>
                <a:latin typeface="Verdana"/>
              </a:rPr>
              <a:t>9/09-10/0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l Regulations Published – 11/1/09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969C734-8EEA-4C37-9B7C-CD235F4C9D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lum bright="70000" contrast="-70000"/>
          </a:blip>
          <a:stretch/>
        </p:blipFill>
        <p:spPr>
          <a:xfrm>
            <a:off x="1852560" y="852480"/>
            <a:ext cx="5386320" cy="5219640"/>
          </a:xfrm>
          <a:prstGeom prst="rect">
            <a:avLst/>
          </a:prstGeom>
          <a:ln w="0">
            <a:noFill/>
          </a:ln>
        </p:spPr>
      </p:pic>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c5407"/>
                </a:solidFill>
                <a:latin typeface="Verdana"/>
              </a:rPr>
              <a:t>Legislation</a:t>
            </a:r>
            <a:r>
              <a:rPr b="1" lang="en-US" sz="3600" spc="-1" strike="noStrike">
                <a:solidFill>
                  <a:srgbClr val="000099"/>
                </a:solidFill>
                <a:latin typeface="Verdana"/>
              </a:rPr>
              <a:t>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8377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EOA –Student Loan Programs</a:t>
            </a:r>
            <a:br>
              <a:rPr sz="3200"/>
            </a:br>
            <a:r>
              <a:rPr b="1" lang="en-US" sz="3200" spc="-1" strike="noStrike">
                <a:solidFill>
                  <a:srgbClr val="cc5407"/>
                </a:solidFill>
                <a:latin typeface="Verdana"/>
              </a:rPr>
              <a:t>Borrowers</a:t>
            </a:r>
            <a:br>
              <a:rPr sz="3200"/>
            </a:br>
            <a:r>
              <a:rPr b="1" lang="en-US" sz="3200" spc="-1" strike="noStrike">
                <a:solidFill>
                  <a:srgbClr val="cc5407"/>
                </a:solidFill>
                <a:latin typeface="Verdana"/>
              </a:rPr>
              <a:t>  </a:t>
            </a:r>
            <a:endParaRPr b="1" lang="en-US" sz="3200" spc="-1" strike="noStrike">
              <a:solidFill>
                <a:srgbClr val="cc5407"/>
              </a:solidFill>
              <a:latin typeface="Verdana"/>
            </a:endParaRPr>
          </a:p>
        </p:txBody>
      </p:sp>
      <p:sp>
        <p:nvSpPr>
          <p:cNvPr id="10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imated Financial Assistance Excludes all Veterans’ Education Benefits </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ervicemembers Civil Relief Act (SCRA) applied to FFEL and Direct Loan Borrower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 interest rate cap during active duty service beginning date of enactment</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 not apply to PLUS endorsers</a:t>
            </a:r>
            <a:endParaRPr b="0" lang="en-US" sz="3200" spc="-1" strike="noStrike">
              <a:solidFill>
                <a:srgbClr val="000000"/>
              </a:solidFill>
              <a:latin typeface="Verdana"/>
            </a:endParaRPr>
          </a:p>
          <a:p>
            <a:pPr lvl="1" marL="74304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lnSpc>
                <a:spcPct val="8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E51F647-714E-4A94-B213-329D05B2C7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1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RA - continu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orrower must make written reques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lated special allowance change for loans first disbursed on/after July 1, 2008</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F0D8AE4-7635-4979-AB54-27212F2F54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1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US Loan deferment for:</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chool perio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 to six months for post-half-time enrollment period </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209AAC6-778E-4EC8-915B-1384FB03D9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15"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US Loan defermen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specific request of parent PLUS borrower based on dependent’s statu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ranted automatically to grad/prof borrower for post-enrollment period with required notic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51C9079-9CB6-4BA5-AAFC-D75D0DFBF7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1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pitalization of PLUS Loan deferment-related accrued interest may be paid monthly or quarterly or capitalized no more frequently than quarterly for all borrower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5B62D72-114F-4ACC-A4B5-C057732296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1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US Loan “adverse credit standard” clarified for special extenuating circumstances to be existing regulatory standard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462E067-24FD-4B77-A0D1-0C7E942D72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21" name="PlaceHolder 2"/>
          <p:cNvSpPr>
            <a:spLocks noGrp="1"/>
          </p:cNvSpPr>
          <p:nvPr>
            <p:ph/>
          </p:nvPr>
        </p:nvSpPr>
        <p:spPr>
          <a:xfrm>
            <a:off x="304920" y="1142640"/>
            <a:ext cx="8534160" cy="4343400"/>
          </a:xfrm>
          <a:prstGeom prst="rect">
            <a:avLst/>
          </a:prstGeom>
          <a:noFill/>
          <a:ln w="0">
            <a:noFill/>
          </a:ln>
        </p:spPr>
        <p:txBody>
          <a:bodyPr lIns="90000" rIns="90000" tIns="46800" bIns="46800" anchor="t">
            <a:normAutofit fontScale="95000"/>
          </a:bodyPr>
          <a:p>
            <a:pPr marL="325800" indent="-3258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ome-Based Repayment limited to borrower with defaulted loans assigned to ED</a:t>
            </a:r>
            <a:endParaRPr b="0" lang="en-US" sz="3600" spc="-1" strike="noStrike">
              <a:solidFill>
                <a:srgbClr val="000000"/>
              </a:solidFill>
              <a:latin typeface="Verdana"/>
            </a:endParaRPr>
          </a:p>
          <a:p>
            <a:pPr marL="325800" indent="-3258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habilitation of defaulted loans limited to one opportunity – borrower-based eligibility continues unless redefault on previously rehabilitated loan</a:t>
            </a:r>
            <a:endParaRPr b="0" lang="en-US" sz="3600" spc="-1" strike="noStrike">
              <a:solidFill>
                <a:srgbClr val="000000"/>
              </a:solidFill>
              <a:latin typeface="Verdana"/>
            </a:endParaRPr>
          </a:p>
          <a:p>
            <a:pPr marL="32580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580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580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08576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FA9878D-CE45-4CA7-AB34-89448D7EE3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2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Forgiveness expanded, if Congress  appropriates funds, fo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rly Childhood Educato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rs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 Language Specialis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braria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Qualified Teachers serving students who are limited English proficient, from low-income communities, and from underrepresented population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8CBF177-12AD-4328-B591-042CBA3DE9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2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Forgiveness expanded, if Congress  appropriates funds, for:</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ild Welfare Worker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ech-Language Pathologists and Audiologist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Counselor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blic Sector Employee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dical Specialist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ntal Health Professionals    </a:t>
            </a:r>
            <a:endParaRPr b="0" lang="en-US" sz="3200" spc="-1" strike="noStrike">
              <a:solidFill>
                <a:srgbClr val="000000"/>
              </a:solidFill>
              <a:latin typeface="Verdana"/>
            </a:endParaRPr>
          </a:p>
          <a:p>
            <a:pPr lvl="2" marL="1143000" indent="0">
              <a:lnSpc>
                <a:spcPct val="8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A62EB16-9B5D-49E3-ADA9-51B1E7A287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  </a:t>
            </a:r>
            <a:endParaRPr b="1" lang="en-US" sz="3600" spc="-1" strike="noStrike">
              <a:solidFill>
                <a:srgbClr val="cc5407"/>
              </a:solidFill>
              <a:latin typeface="Verdana"/>
            </a:endParaRPr>
          </a:p>
        </p:txBody>
      </p:sp>
      <p:sp>
        <p:nvSpPr>
          <p:cNvPr id="12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Forgiveness expanded, if Congress  appropriates funds, fo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ntis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trition Professional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M Employe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ysical Therapis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Therapis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erintendents, Principals, and other Administrators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vil Legal Assistance Attorney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EF59177-3DDE-465F-8DA3-166C530F6A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egislation Update</a:t>
            </a:r>
            <a:endParaRPr b="1" lang="en-US" sz="3600" spc="-1" strike="noStrike">
              <a:solidFill>
                <a:srgbClr val="cc5407"/>
              </a:solidFill>
              <a:latin typeface="Verdana"/>
            </a:endParaRPr>
          </a:p>
        </p:txBody>
      </p:sp>
      <p:sp>
        <p:nvSpPr>
          <p:cNvPr id="5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igher Education Reconciliation Act (HERA) (P.L. 109-171) – February 8, 2006</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llege Cost Reduction and Access Act (CCRAA)(P.L. 110-84) – September 27, 2007</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551D481-57D4-4117-A691-3CAE3DDCA6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29" name="PlaceHolder 2"/>
          <p:cNvSpPr>
            <a:spLocks noGrp="1"/>
          </p:cNvSpPr>
          <p:nvPr>
            <p:ph/>
          </p:nvPr>
        </p:nvSpPr>
        <p:spPr>
          <a:xfrm>
            <a:off x="304920" y="1257120"/>
            <a:ext cx="8534160" cy="4343400"/>
          </a:xfrm>
          <a:prstGeom prst="rect">
            <a:avLst/>
          </a:prstGeom>
          <a:noFill/>
          <a:ln w="0">
            <a:noFill/>
          </a:ln>
        </p:spPr>
        <p:txBody>
          <a:bodyPr lIns="90000" rIns="90000" tIns="46800" bIns="46800" anchor="t">
            <a:normAutofit/>
          </a:bodyPr>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tal and Permanent Disability discharge available, July 1, 2010, subject to regulations:  </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If borrower unable to engage in </a:t>
            </a:r>
            <a:r>
              <a:rPr b="0" lang="en-US" sz="2600" spc="-1" strike="noStrike">
                <a:solidFill>
                  <a:srgbClr val="000000"/>
                </a:solidFill>
                <a:latin typeface="Verdana"/>
              </a:rPr>
              <a:t>	</a:t>
            </a:r>
            <a:r>
              <a:rPr b="0" lang="en-US" sz="2600" spc="-1" strike="noStrike">
                <a:solidFill>
                  <a:srgbClr val="000000"/>
                </a:solidFill>
                <a:latin typeface="Verdana"/>
              </a:rPr>
              <a:t>substantial gainful activity based on </a:t>
            </a:r>
            <a:r>
              <a:rPr b="0" lang="en-US" sz="2600" spc="-1" strike="noStrike">
                <a:solidFill>
                  <a:srgbClr val="000000"/>
                </a:solidFill>
                <a:latin typeface="Verdana"/>
              </a:rPr>
              <a:t>	</a:t>
            </a:r>
            <a:r>
              <a:rPr b="0" lang="en-US" sz="2600" spc="-1" strike="noStrike">
                <a:solidFill>
                  <a:srgbClr val="000000"/>
                </a:solidFill>
                <a:latin typeface="Verdana"/>
              </a:rPr>
              <a:t>documented medical or mental </a:t>
            </a:r>
            <a:r>
              <a:rPr b="0" lang="en-US" sz="2600" spc="-1" strike="noStrike">
                <a:solidFill>
                  <a:srgbClr val="000000"/>
                </a:solidFill>
                <a:latin typeface="Verdana"/>
              </a:rPr>
              <a:t>	</a:t>
            </a:r>
            <a:r>
              <a:rPr b="0" lang="en-US" sz="2600" spc="-1" strike="noStrike">
                <a:solidFill>
                  <a:srgbClr val="000000"/>
                </a:solidFill>
                <a:latin typeface="Verdana"/>
              </a:rPr>
              <a:t>impairment expected to result in </a:t>
            </a:r>
            <a:r>
              <a:rPr b="0" lang="en-US" sz="2600" spc="-1" strike="noStrike">
                <a:solidFill>
                  <a:srgbClr val="000000"/>
                </a:solidFill>
                <a:latin typeface="Verdana"/>
              </a:rPr>
              <a:t>	</a:t>
            </a:r>
            <a:r>
              <a:rPr b="0" lang="en-US" sz="2600" spc="-1" strike="noStrike">
                <a:solidFill>
                  <a:srgbClr val="000000"/>
                </a:solidFill>
                <a:latin typeface="Verdana"/>
              </a:rPr>
              <a:t>death, or has lasted or can be </a:t>
            </a:r>
            <a:r>
              <a:rPr b="0" lang="en-US" sz="2600" spc="-1" strike="noStrike">
                <a:solidFill>
                  <a:srgbClr val="000000"/>
                </a:solidFill>
                <a:latin typeface="Verdana"/>
              </a:rPr>
              <a:t>	</a:t>
            </a:r>
            <a:r>
              <a:rPr b="0" lang="en-US" sz="2600" spc="-1" strike="noStrike">
                <a:solidFill>
                  <a:srgbClr val="000000"/>
                </a:solidFill>
                <a:latin typeface="Verdana"/>
              </a:rPr>
              <a:t>expected to last for continuous period </a:t>
            </a:r>
            <a:r>
              <a:rPr b="0" lang="en-US" sz="2600" spc="-1" strike="noStrike">
                <a:solidFill>
                  <a:srgbClr val="000000"/>
                </a:solidFill>
                <a:latin typeface="Verdana"/>
              </a:rPr>
              <a:t>	</a:t>
            </a:r>
            <a:r>
              <a:rPr b="0" lang="en-US" sz="2600" spc="-1" strike="noStrike">
                <a:solidFill>
                  <a:srgbClr val="000000"/>
                </a:solidFill>
                <a:latin typeface="Verdana"/>
              </a:rPr>
              <a:t>of not less than 60 months</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instatement authorized if new title IV loan or income exceeds poverty line</a:t>
            </a:r>
            <a:endParaRPr b="0" lang="en-US" sz="2600" spc="-1" strike="noStrike">
              <a:solidFill>
                <a:srgbClr val="000000"/>
              </a:solidFill>
              <a:latin typeface="Verdana"/>
            </a:endParaRPr>
          </a:p>
          <a:p>
            <a:pPr marL="343080" indent="0">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2" marL="1143000" indent="0">
              <a:spcBef>
                <a:spcPts val="162"/>
              </a:spcBef>
              <a:spcAft>
                <a:spcPts val="162"/>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23688B39-0BB4-4D05-B0B8-0AF948A2FB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a:t>
            </a:r>
            <a:br>
              <a:rPr sz="3600"/>
            </a:b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3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tal and Permanent Disability discharge available for applications received on/after August 14, 2008:  </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borrower provides Department of Veterans Affairs (DVA) documentation showing DVA determination that borrower unemployable due to service-connected condition.  No other medical documentation requir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4160172-7C60-4A46-8A22-38CF46FADF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HEOA – Borrowers via Direct Loan Program for Service Including 8/14/08 </a:t>
            </a:r>
            <a:endParaRPr b="1" lang="en-US" sz="2800" spc="-1" strike="noStrike">
              <a:solidFill>
                <a:srgbClr val="cc5407"/>
              </a:solidFill>
              <a:latin typeface="Verdana"/>
            </a:endParaRPr>
          </a:p>
        </p:txBody>
      </p:sp>
      <p:sp>
        <p:nvSpPr>
          <p:cNvPr id="13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No Interest Accrual” for no more than 60 months for Direct Loan borrowers who:  </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e serving on active duty during war or other military operation or national emergency, or in qualifying National Guard duty during the same, and </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e serving in an area of hostility that qualifies for special pay</a:t>
            </a: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1143000" indent="0">
              <a:lnSpc>
                <a:spcPct val="8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D985A97-CF57-4804-B807-DA907C48EE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HEOA – Borrowers via Direct Loan Program for Service Including 8/14/08 </a:t>
            </a:r>
            <a:endParaRPr b="1" lang="en-US" sz="2800" spc="-1" strike="noStrike">
              <a:solidFill>
                <a:srgbClr val="cc5407"/>
              </a:solidFill>
              <a:latin typeface="Verdana"/>
            </a:endParaRPr>
          </a:p>
        </p:txBody>
      </p:sp>
      <p:sp>
        <p:nvSpPr>
          <p:cNvPr id="13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 borrowers may consolidate or reconsolidate FFEL consolidation loan in Direct Loan program to qualify for benefit</a:t>
            </a:r>
            <a:endParaRPr b="0" lang="en-US" sz="36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CC86834-4B08-41F2-9400-48A53F20E0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 via Direct Loan Program  </a:t>
            </a:r>
            <a:endParaRPr b="1" lang="en-US" sz="3600" spc="-1" strike="noStrike">
              <a:solidFill>
                <a:srgbClr val="cc5407"/>
              </a:solidFill>
              <a:latin typeface="Verdana"/>
            </a:endParaRPr>
          </a:p>
        </p:txBody>
      </p:sp>
      <p:sp>
        <p:nvSpPr>
          <p:cNvPr id="13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Public Service Job” for Direct Loan Public Service Loan Forgiveness amended: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vernment job excludes time in US Congres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s in public health, public interest law services, and faculty teaching in “high needs areas” clarified</a:t>
            </a: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451F96C-0745-418C-838F-F0309455D9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Borrowers via Direct Loan Program  </a:t>
            </a:r>
            <a:endParaRPr b="1" lang="en-US" sz="3600" spc="-1" strike="noStrike">
              <a:solidFill>
                <a:srgbClr val="cc5407"/>
              </a:solidFill>
              <a:latin typeface="Verdana"/>
            </a:endParaRPr>
          </a:p>
        </p:txBody>
      </p:sp>
      <p:sp>
        <p:nvSpPr>
          <p:cNvPr id="13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Public Service Job” (con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ildhood education as separate category, including Head Start and State-funded pre-kindergarte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pplies to service on/after 10/1/2007</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B60EB6E-8D59-42A1-BA6D-57B9265547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4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82000"/>
          </a:bodyPr>
          <a:p>
            <a:pPr marL="281160" indent="-2811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of Higher Education (IHE) and IHE-affiliated organizations must adopt “codes of conduct” governing relationships with financial institutions</a:t>
            </a:r>
            <a:endParaRPr b="0" lang="en-US" sz="2800" spc="-1" strike="noStrike">
              <a:solidFill>
                <a:srgbClr val="000000"/>
              </a:solidFill>
              <a:latin typeface="Verdana"/>
            </a:endParaRPr>
          </a:p>
          <a:p>
            <a:pPr marL="281160" indent="-2811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fic student/family disclosure requirements for IHEs with preferred lender arrangements for FFEL and/or private education loans (minimum information requirements and model disclosure to be provided by ED)</a:t>
            </a:r>
            <a:endParaRPr b="0" lang="en-US" sz="2800" spc="-1" strike="noStrike">
              <a:solidFill>
                <a:srgbClr val="000000"/>
              </a:solidFill>
              <a:latin typeface="Verdana"/>
            </a:endParaRPr>
          </a:p>
          <a:p>
            <a:pPr marL="28116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116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116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1160" indent="-2811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lvl="2" marL="937080" indent="0">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64971E6-8012-4D8F-B3E2-A1A950B812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4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ferred Lender List (PLL) requirements added to institutional PPA for IHEs with PLL arrangements for title IV and/or private education loan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IHE and IHE-affiliated organization reporting requirements to ED on PLL arrangements </a:t>
            </a: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11430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CF997BA-372D-446E-B50B-10CF8A91F3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4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disclosure requirements for Direct Loan schools</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keting limitations on preferred lender arrangements for private education loans</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FAA professional judgment authority to offer dependent student Unsub Stafford if parent discontinues financial support and refuses to complete FAFSA </a:t>
            </a:r>
            <a:endParaRPr b="0" lang="en-US" sz="3200" spc="-1" strike="noStrike">
              <a:solidFill>
                <a:srgbClr val="000000"/>
              </a:solidFill>
              <a:latin typeface="Verdana"/>
            </a:endParaRPr>
          </a:p>
          <a:p>
            <a:pPr lvl="2" marL="1143000" indent="0">
              <a:lnSpc>
                <a:spcPct val="8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C1ED226-885E-4C0B-9B22-7359C98BB0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4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60000"/>
          </a:bodyPr>
          <a:p>
            <a:pPr marL="205560" indent="-205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rance Counseling for first-time FFEL and DL borrowers added to law--consistent with regulations, except:</a:t>
            </a:r>
            <a:endParaRPr b="0" lang="en-US" sz="3200" spc="-1" strike="noStrike">
              <a:solidFill>
                <a:srgbClr val="000000"/>
              </a:solidFill>
              <a:latin typeface="Verdana"/>
            </a:endParaRPr>
          </a:p>
          <a:p>
            <a:pPr lvl="1" marL="445680" indent="-1713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rrower’s acknowledgement of receipt and understanding required </a:t>
            </a:r>
            <a:endParaRPr b="0" lang="en-US" sz="3200" spc="-1" strike="noStrike">
              <a:solidFill>
                <a:srgbClr val="000000"/>
              </a:solidFill>
              <a:latin typeface="Verdana"/>
            </a:endParaRPr>
          </a:p>
          <a:p>
            <a:pPr lvl="1" marL="445680" indent="-1713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explain interest accrual/capitalization and borrower’s option to pay interest</a:t>
            </a:r>
            <a:endParaRPr b="0" lang="en-US" sz="3200" spc="-1" strike="noStrike">
              <a:solidFill>
                <a:srgbClr val="000000"/>
              </a:solidFill>
              <a:latin typeface="Verdana"/>
            </a:endParaRPr>
          </a:p>
          <a:p>
            <a:pPr lvl="1" marL="4456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0556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05560" indent="-205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0556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0556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0556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05560" indent="-205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6858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0556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AF8FCAE-8750-4D57-B93F-7B8D7D2995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egislation Update</a:t>
            </a:r>
            <a:endParaRPr b="1" lang="en-US" sz="3600" spc="-1" strike="noStrike">
              <a:solidFill>
                <a:srgbClr val="cc5407"/>
              </a:solidFill>
              <a:latin typeface="Verdana"/>
            </a:endParaRPr>
          </a:p>
        </p:txBody>
      </p:sp>
      <p:sp>
        <p:nvSpPr>
          <p:cNvPr id="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ing Continued Access to Student Loans Act (ECASLA) (P.L. 110-227) – May 7, 2008</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er Education Opportunity Act (P.L. 110-315) (HEOA) – August 14, 2008</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R. 6889 (P. L. 110-350) – October 7, 2008</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0EE244B-D0D3-4D21-8EB7-D9FA4D0E47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4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66000"/>
          </a:bodyPr>
          <a:p>
            <a:pPr marL="226080" indent="-226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rance Counseling --consistent with regulations, except:</a:t>
            </a:r>
            <a:endParaRPr b="0" lang="en-US" sz="3200" spc="-1" strike="noStrike">
              <a:solidFill>
                <a:srgbClr val="000000"/>
              </a:solidFill>
              <a:latin typeface="Verdana"/>
            </a:endParaRPr>
          </a:p>
          <a:p>
            <a:pPr lvl="1" marL="490320" indent="-1886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define half-time enrollment status at the school and impact of less-than-half-time status </a:t>
            </a:r>
            <a:endParaRPr b="0" lang="en-US" sz="3200" spc="-1" strike="noStrike">
              <a:solidFill>
                <a:srgbClr val="000000"/>
              </a:solidFill>
              <a:latin typeface="Verdana"/>
            </a:endParaRPr>
          </a:p>
          <a:p>
            <a:pPr lvl="1" marL="490320" indent="-1886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explain importance of office contacts when withdrawing</a:t>
            </a:r>
            <a:endParaRPr b="0" lang="en-US" sz="3200" spc="-1" strike="noStrike">
              <a:solidFill>
                <a:srgbClr val="000000"/>
              </a:solidFill>
              <a:latin typeface="Verdana"/>
            </a:endParaRPr>
          </a:p>
          <a:p>
            <a:pPr lvl="1" marL="490320" indent="-1886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provide information on NSLDS and how to access</a:t>
            </a:r>
            <a:endParaRPr b="0" lang="en-US" sz="3200" spc="-1" strike="noStrike">
              <a:solidFill>
                <a:srgbClr val="000000"/>
              </a:solidFill>
              <a:latin typeface="Verdana"/>
            </a:endParaRPr>
          </a:p>
          <a:p>
            <a:pPr marL="226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26080" indent="-226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26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26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26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26080" indent="-226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7542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26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B36C67B-3E34-4230-BDF9-EB0F7A82E1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51"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fontScale="82000"/>
          </a:bodyPr>
          <a:p>
            <a:pPr marL="281160" indent="-28116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it counseling requirements amended –consistent with regulations, except:</a:t>
            </a:r>
            <a:endParaRPr b="0" lang="en-US" sz="2600" spc="-1" strike="noStrike">
              <a:solidFill>
                <a:srgbClr val="000000"/>
              </a:solidFill>
              <a:latin typeface="Verdana"/>
            </a:endParaRPr>
          </a:p>
          <a:p>
            <a:pPr lvl="1" marL="609120" indent="-23436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detailed repayment plan info required, including impact of interest paid/unpaid</a:t>
            </a:r>
            <a:endParaRPr b="0" lang="en-US" sz="2600" spc="-1" strike="noStrike">
              <a:solidFill>
                <a:srgbClr val="000000"/>
              </a:solidFill>
              <a:latin typeface="Verdana"/>
            </a:endParaRPr>
          </a:p>
          <a:p>
            <a:pPr lvl="1" marL="609120" indent="-23436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fo on impact of consolidation on repayment, including underlying loan benefits</a:t>
            </a:r>
            <a:endParaRPr b="0" lang="en-US" sz="2600" spc="-1" strike="noStrike">
              <a:solidFill>
                <a:srgbClr val="000000"/>
              </a:solidFill>
              <a:latin typeface="Verdana"/>
            </a:endParaRPr>
          </a:p>
          <a:p>
            <a:pPr lvl="1" marL="609120" indent="-23436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ptions to prepay and change repayment plans</a:t>
            </a:r>
            <a:endParaRPr b="0" lang="en-US" sz="2600" spc="-1" strike="noStrike">
              <a:solidFill>
                <a:srgbClr val="000000"/>
              </a:solidFill>
              <a:latin typeface="Verdana"/>
            </a:endParaRPr>
          </a:p>
          <a:p>
            <a:pPr lvl="1" marL="609120" indent="-23436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fo on available tax benefits</a:t>
            </a:r>
            <a:endParaRPr b="0" lang="en-US" sz="2600" spc="-1" strike="noStrike">
              <a:solidFill>
                <a:srgbClr val="000000"/>
              </a:solidFill>
              <a:latin typeface="Verdana"/>
            </a:endParaRPr>
          </a:p>
          <a:p>
            <a:pPr lvl="1" marL="609120" indent="-23436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ment that lender-based benefits vary</a:t>
            </a:r>
            <a:endParaRPr b="0" lang="en-US" sz="2600" spc="-1" strike="noStrike">
              <a:solidFill>
                <a:srgbClr val="000000"/>
              </a:solidFill>
              <a:latin typeface="Verdana"/>
            </a:endParaRPr>
          </a:p>
          <a:p>
            <a:pPr marL="281160" indent="0">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81160" indent="0">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81160" indent="-28116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endParaRPr b="0" lang="en-US" sz="2600" spc="-1" strike="noStrike">
              <a:solidFill>
                <a:srgbClr val="000000"/>
              </a:solidFill>
              <a:latin typeface="Verdana"/>
            </a:endParaRPr>
          </a:p>
          <a:p>
            <a:pPr lvl="2" marL="937080" indent="0">
              <a:spcBef>
                <a:spcPts val="162"/>
              </a:spcBef>
              <a:spcAft>
                <a:spcPts val="162"/>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81160" indent="0">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17496708-9D74-49CA-AFC2-4342710DEF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5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83000"/>
          </a:bodyPr>
          <a:p>
            <a:pPr marL="284400" indent="-2844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cohort default rate-related disbursement waivers and exceptions amended for loans first disbursed on/after October 1, 2011- less than 15%</a:t>
            </a:r>
            <a:endParaRPr b="0" lang="en-US" sz="3200" spc="-1" strike="noStrike">
              <a:solidFill>
                <a:srgbClr val="000000"/>
              </a:solidFill>
              <a:latin typeface="Verdana"/>
            </a:endParaRPr>
          </a:p>
          <a:p>
            <a:pPr marL="284400" indent="-2844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cohort default rate formula changed to use three-year period for FY 2009 and beyond with transition period </a:t>
            </a:r>
            <a:endParaRPr b="0" lang="en-US" sz="3200" spc="-1" strike="noStrike">
              <a:solidFill>
                <a:srgbClr val="000000"/>
              </a:solidFill>
              <a:latin typeface="Verdana"/>
            </a:endParaRPr>
          </a:p>
          <a:p>
            <a:pPr marL="28440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440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4400" indent="-2844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9486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440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9CED117-D1DF-4485-B487-99EF303903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5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cohort default rate penalty threshold % increased to 30% for FY 2012 and beyon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 prevention plan required at 30% cohort default rat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A14519C-BBAF-449C-B1A9-E6763763D2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5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81000"/>
          </a:bodyPr>
          <a:p>
            <a:pPr marL="277560" indent="-277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 School Lender annual lender audit now requires determination that interest, special allowance, and other loan proceeds used only for need-based grants and allowable administrative and other expenses</a:t>
            </a:r>
            <a:endParaRPr b="0" lang="en-US" sz="3200" spc="-1" strike="noStrike">
              <a:solidFill>
                <a:srgbClr val="000000"/>
              </a:solidFill>
              <a:latin typeface="Verdana"/>
            </a:endParaRPr>
          </a:p>
          <a:p>
            <a:pPr marL="277560" indent="-277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so applies to annual audit of eligible lender trustee used by school</a:t>
            </a:r>
            <a:endParaRPr b="0" lang="en-US" sz="3200" spc="-1" strike="noStrike">
              <a:solidFill>
                <a:srgbClr val="000000"/>
              </a:solidFill>
              <a:latin typeface="Verdana"/>
            </a:endParaRPr>
          </a:p>
          <a:p>
            <a:pPr marL="27756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756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7560" indent="-277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92556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756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EDFDF84-BDCE-4F0E-B5DE-24CEB5F5AA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Schools  </a:t>
            </a:r>
            <a:endParaRPr b="1" lang="en-US" sz="3600" spc="-1" strike="noStrike">
              <a:solidFill>
                <a:srgbClr val="cc5407"/>
              </a:solidFill>
              <a:latin typeface="Verdana"/>
            </a:endParaRPr>
          </a:p>
        </p:txBody>
      </p:sp>
      <p:sp>
        <p:nvSpPr>
          <p:cNvPr id="1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81000"/>
          </a:bodyPr>
          <a:p>
            <a:pPr marL="277560" indent="-277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eign Nursing Schools eligible for FFEL loans (excludes consolidation loans) on/after July 1, 2010 if school meets certain requirements</a:t>
            </a:r>
            <a:endParaRPr b="0" lang="en-US" sz="3200" spc="-1" strike="noStrike">
              <a:solidFill>
                <a:srgbClr val="000000"/>
              </a:solidFill>
              <a:latin typeface="Verdana"/>
            </a:endParaRPr>
          </a:p>
          <a:p>
            <a:pPr marL="277560" indent="-277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retary authorized to waive annual foreign school audit if schools received less than $500,000 in preceding year;  audit requirement for other foreign schools may be modified</a:t>
            </a:r>
            <a:endParaRPr b="0" lang="en-US" sz="3200" spc="-1" strike="noStrike">
              <a:solidFill>
                <a:srgbClr val="000000"/>
              </a:solidFill>
              <a:latin typeface="Verdana"/>
            </a:endParaRPr>
          </a:p>
          <a:p>
            <a:pPr marL="27756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756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7560" indent="-2775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92556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756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A9E041D-DF44-49D2-9630-D3B0247F80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61"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fontScale="78000"/>
          </a:bodyPr>
          <a:p>
            <a:pPr marL="267480" indent="-267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forbearance disclosures for forbearances on or after August 14, 2008:</a:t>
            </a:r>
            <a:endParaRPr b="0" lang="en-US" sz="3200" spc="-1" strike="noStrike">
              <a:solidFill>
                <a:srgbClr val="000000"/>
              </a:solidFill>
              <a:latin typeface="Verdana"/>
            </a:endParaRPr>
          </a:p>
          <a:p>
            <a:pPr lvl="1" marL="579240" indent="-222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act of capitalization as interest and total interest for life of loan</a:t>
            </a:r>
            <a:endParaRPr b="0" lang="en-US" sz="3200" spc="-1" strike="noStrike">
              <a:solidFill>
                <a:srgbClr val="000000"/>
              </a:solidFill>
              <a:latin typeface="Verdana"/>
            </a:endParaRPr>
          </a:p>
          <a:p>
            <a:pPr lvl="1" marL="579240" indent="-222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act every 180 days regarding capitalization and options to pay accruing interest or end forbearance</a:t>
            </a:r>
            <a:endParaRPr b="0" lang="en-US" sz="3200" spc="-1" strike="noStrike">
              <a:solidFill>
                <a:srgbClr val="000000"/>
              </a:solidFill>
              <a:latin typeface="Verdana"/>
            </a:endParaRPr>
          </a:p>
          <a:p>
            <a:pPr marL="2674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74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74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7480" indent="-267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89136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74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03E046D-7A44-4F6E-B423-60A358EF66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6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83000"/>
          </a:bodyPr>
          <a:p>
            <a:pPr marL="284400" indent="-2844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methods of granting in-school deferment includes confirmation of borrower’s enrollment status using NSLDS, if requested by school</a:t>
            </a:r>
            <a:endParaRPr b="0" lang="en-US" sz="3200" spc="-1" strike="noStrike">
              <a:solidFill>
                <a:srgbClr val="000000"/>
              </a:solidFill>
              <a:latin typeface="Verdana"/>
            </a:endParaRPr>
          </a:p>
          <a:p>
            <a:pPr marL="284400" indent="-2844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ired borrower notice upon loan transfer, sale, or assignment must include date of transfer and date new servicer will accept payments</a:t>
            </a:r>
            <a:endParaRPr b="0" lang="en-US" sz="3200" spc="-1" strike="noStrike">
              <a:solidFill>
                <a:srgbClr val="000000"/>
              </a:solidFill>
              <a:latin typeface="Verdana"/>
            </a:endParaRPr>
          </a:p>
          <a:p>
            <a:pPr marL="28440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440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4400" indent="-28440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a:p>
            <a:pPr lvl="2" marL="9486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440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A180F43-D276-4111-AFBE-585A14B86D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6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uaranty Agency default notice for claims received on or after August 14, 2008:</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wo separate notices to borrowe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mple and understandable term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ons to exit default and related costs and conditions</a:t>
            </a:r>
            <a:r>
              <a:rPr b="0" lang="en-US" sz="3200" spc="-1" strike="noStrike">
                <a:solidFill>
                  <a:srgbClr val="000000"/>
                </a:solidFill>
                <a:latin typeface="Verdana"/>
              </a:rPr>
              <a:t>	</a:t>
            </a:r>
            <a:endParaRPr b="0" lang="en-US" sz="32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EC77A41-1053-4B87-BFFB-3E5D83A72A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6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aulted Loan Rehabilitation Consumer Credit Reporting:</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es to GA and all prior holders of the loan</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quired request to consumer reporting agency to remove default record</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an rehabilitations on or after August 14, 2008</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A required to provide rehabilitated borrowers with economic and financial materials</a:t>
            </a:r>
            <a:endParaRPr b="0" lang="en-US" sz="2600" spc="-1" strike="noStrike">
              <a:solidFill>
                <a:srgbClr val="000000"/>
              </a:solidFill>
              <a:latin typeface="Verdana"/>
            </a:endParaRPr>
          </a:p>
          <a:p>
            <a:pPr lvl="2" marL="1143000" indent="0">
              <a:spcBef>
                <a:spcPts val="162"/>
              </a:spcBef>
              <a:spcAft>
                <a:spcPts val="162"/>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7992DCA9-F1AA-47E8-8B53-3C0793B1AE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a:t>
            </a:r>
            <a:endParaRPr b="1" lang="en-US" sz="3600" spc="-1" strike="noStrike">
              <a:solidFill>
                <a:srgbClr val="cc5407"/>
              </a:solidFill>
              <a:latin typeface="Verdana"/>
            </a:endParaRPr>
          </a:p>
        </p:txBody>
      </p:sp>
      <p:sp>
        <p:nvSpPr>
          <p:cNvPr id="6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authorized FFEL Program until 201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reased Loan Limi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ase-Out of Borrower Origination Fe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rad/Prof PLUS Introduced</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DE01C44-565A-456B-B253-3E49F97D8A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6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Consolidation Loan Disclosures to Federal Perkins and Direct Loan borrowers at time of application:</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be simple and understandable</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include statement that simply applying does not obligate the borrower</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on any loss of Perkins and Direct Loan benefits upon consolidation</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98C32A5-41C2-4E97-B715-2706D14A58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7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6000"/>
          </a:bodyPr>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Consolidation Loan Disclosures to Federal Perkins and Direct Loan borrowers at time of application (cont.):</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consolidation loan or repayment plans and options to change plan, options and information to prepay or pay over shorter period</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consequences of default </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include statement that lender-based benefits may vary</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1E43A0B-F50F-4AB1-986D-C95C3AD6C8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7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sed and new FFEL borrower disclosur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ired lender disclosures for each private education loan based on section 128(e) of Truth in Lending Ac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ired lender reporting and certifica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AC4805A-A257-4A59-8526-58E36D4A43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7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73000"/>
          </a:bodyPr>
          <a:p>
            <a:pPr marL="250200" indent="-250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Loan Disbursement:</a:t>
            </a:r>
            <a:endParaRPr b="0" lang="en-US" sz="2800" spc="-1" strike="noStrike">
              <a:solidFill>
                <a:srgbClr val="000000"/>
              </a:solidFill>
              <a:latin typeface="Verdana"/>
            </a:endParaRPr>
          </a:p>
          <a:p>
            <a:pPr lvl="1" marL="542160" indent="-2084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 of whether lender will pay required fees</a:t>
            </a:r>
            <a:endParaRPr b="0" lang="en-US" sz="2800" spc="-1" strike="noStrike">
              <a:solidFill>
                <a:srgbClr val="000000"/>
              </a:solidFill>
              <a:latin typeface="Verdana"/>
            </a:endParaRPr>
          </a:p>
          <a:p>
            <a:pPr lvl="1" marL="542160" indent="-2084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s of repayment plans</a:t>
            </a:r>
            <a:endParaRPr b="0" lang="en-US" sz="2800" spc="-1" strike="noStrike">
              <a:solidFill>
                <a:srgbClr val="000000"/>
              </a:solidFill>
              <a:latin typeface="Verdana"/>
            </a:endParaRPr>
          </a:p>
          <a:p>
            <a:pPr lvl="1" marL="542160" indent="-2084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bearance circumstances</a:t>
            </a:r>
            <a:endParaRPr b="0" lang="en-US" sz="2800" spc="-1" strike="noStrike">
              <a:solidFill>
                <a:srgbClr val="000000"/>
              </a:solidFill>
              <a:latin typeface="Verdana"/>
            </a:endParaRPr>
          </a:p>
          <a:p>
            <a:pPr lvl="1" marL="542160" indent="-2084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s of loan forgiveness and eligibility requirements</a:t>
            </a:r>
            <a:endParaRPr b="0" lang="en-US" sz="2800" spc="-1" strike="noStrike">
              <a:solidFill>
                <a:srgbClr val="000000"/>
              </a:solidFill>
              <a:latin typeface="Verdana"/>
            </a:endParaRPr>
          </a:p>
          <a:p>
            <a:pPr lvl="1" marL="542160" indent="-2084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 of option to pay accrued interest and capitalization frequency if unpaid</a:t>
            </a:r>
            <a:endParaRPr b="0" lang="en-US" sz="2800" spc="-1" strike="noStrike">
              <a:solidFill>
                <a:srgbClr val="000000"/>
              </a:solidFill>
              <a:latin typeface="Verdana"/>
            </a:endParaRPr>
          </a:p>
          <a:p>
            <a:pPr marL="25020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020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020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020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0200" indent="-250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lvl="2" marL="83412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020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0D69551-F8B1-40F9-A4F9-2D66F5A0D1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7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fore repayment:</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ing change to no more than 150 days before first payment due date</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loan servicer, if applicable</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PLUS borrowers, repayment start date after in-school deferment</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ayment plans and option to change plan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 on lender-offered repayment benefits and limits/condition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s to avoid default and any associated cost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jected total interest and amount of any interest paid</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s for advice and assistance</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069B9D9-BC7C-42EB-A244-A4DCE4F098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7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ample projections for PLUS and Unsub Stafford Loans must include loan costs of paying or capitalizing accruing interest</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 disclosures during repayment for loans with first payment due date on or after July 1, 2009</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quired bill or statement for all borrowers</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quired disclosures for borrowers having difficulty making payments</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quired disclosures for delinquent borrowers</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4AAA356D-AF1E-4B18-8AB9-17E2205531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8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lender annual reporting for preferred lender arrangement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identified minimum information to institutions and institution-affiliated organization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to ED on reasonable expenses paid to FAO staff or others with education loan responsibilitie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lender certification of compliance with HEOA section 120 requirements no later than February 4, 2010, and as part of lender compliance audit</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684F7C2-2552-496F-9D7B-A0FBC5BF23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8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hibited inducement provisions revised for activities undertaken by lenders or GAs on or after August 14, 2008</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GAs (change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hibited payments include stock or other securities, prizes, travel, entertainment expenses, tuition payment or reimbursement, or other inducements to school or its employees, or any lender and its agents, employees, or independent contractors to secure guarantee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exit counseling excluded from prohibited school-required functions a GA can perform or pay to have performe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86CDC3C-42F7-40E6-9D4B-72A1D82FDC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8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enders (chang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hibited payments same as GAs, but also includes lender payments for referrals and processing or finder’s fees, provision of information technology at below-market value, and additional financial aid funds to any school or its employe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nseling arrangements or contracts to provide services to lender with FAO employees or other school employees with student loan responsibilities prohibite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CCACE2A-5EB1-4A51-959B-8539AA6643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8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enders (co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exit counseling excluded from prohibited school-required functions a lender can perform or pay to have performe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reimbursement of reasonable incurred expenses for school employee service on lender advisory boards permitted</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s permitted to school’s student as lender’s representative if student is otherwise employed by lender and disclosure of employment mad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4012AF0-B762-4929-82A5-93BEA54EA2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a:t>
            </a:r>
            <a:endParaRPr b="1" lang="en-US" sz="3600" spc="-1" strike="noStrike">
              <a:solidFill>
                <a:srgbClr val="cc5407"/>
              </a:solidFill>
              <a:latin typeface="Verdana"/>
            </a:endParaRPr>
          </a:p>
        </p:txBody>
      </p:sp>
      <p:sp>
        <p:nvSpPr>
          <p:cNvPr id="6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igned Repayment Plans –FFEL/D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bursement Relief – Cohort Default Rate Waivers for Schoo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duced PLUS Interest Rate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D972BD3-FD5D-400F-87CA-6C981D0DF4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 Lenders and GAs  </a:t>
            </a:r>
            <a:endParaRPr b="1" lang="en-US" sz="3600" spc="-1" strike="noStrike">
              <a:solidFill>
                <a:srgbClr val="cc5407"/>
              </a:solidFill>
              <a:latin typeface="Verdana"/>
            </a:endParaRPr>
          </a:p>
        </p:txBody>
      </p:sp>
      <p:sp>
        <p:nvSpPr>
          <p:cNvPr id="18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s required to develop and make available educational programs and materials on budgeting and financial management for students and parents </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presented in simple and understandable format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address cost of using high interest loan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s and materials may be provided to Direct Loan only school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ed default reduction activities for section 422(h)(4)(B) of HEA</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BFC8F08-445F-47BA-ABE0-D67AAAF934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lum bright="70000" contrast="-70000"/>
          </a:blip>
          <a:stretch/>
        </p:blipFill>
        <p:spPr>
          <a:xfrm>
            <a:off x="1852560" y="852480"/>
            <a:ext cx="5386320" cy="5219640"/>
          </a:xfrm>
          <a:prstGeom prst="rect">
            <a:avLst/>
          </a:prstGeom>
          <a:ln w="0">
            <a:noFill/>
          </a:ln>
        </p:spPr>
      </p:pic>
      <p:sp>
        <p:nvSpPr>
          <p:cNvPr id="1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c5407"/>
                </a:solidFill>
                <a:latin typeface="Verdana"/>
              </a:rPr>
              <a:t>Regulations</a:t>
            </a:r>
            <a:r>
              <a:rPr b="1" lang="en-US" sz="3600" spc="-1" strike="noStrike">
                <a:solidFill>
                  <a:srgbClr val="000099"/>
                </a:solidFill>
                <a:latin typeface="Verdana"/>
              </a:rPr>
              <a:t>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5407"/>
                </a:solidFill>
                <a:latin typeface="Verdana"/>
              </a:rPr>
              <a:t>2007-08 Negotiated Rulemaking</a:t>
            </a:r>
            <a:endParaRPr b="1" lang="en-US" sz="3200" spc="-1" strike="noStrike">
              <a:solidFill>
                <a:srgbClr val="cc5407"/>
              </a:solidFill>
              <a:latin typeface="Verdana"/>
            </a:endParaRPr>
          </a:p>
        </p:txBody>
      </p:sp>
      <p:sp>
        <p:nvSpPr>
          <p:cNvPr id="19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 Negotiating Sessions ending April 20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ensus Reached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PRM — July 1, 20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l Rule — October 23, 20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fective Date — July 1, 2009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2274C35-5E2E-42FC-87E8-08227CA601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5407"/>
                </a:solidFill>
                <a:latin typeface="Verdana"/>
              </a:rPr>
              <a:t>2007-08 Negotiated Rulemaking</a:t>
            </a:r>
            <a:endParaRPr b="1" lang="en-US" sz="3200" spc="-1" strike="noStrike">
              <a:solidFill>
                <a:srgbClr val="cc5407"/>
              </a:solidFill>
              <a:latin typeface="Verdana"/>
            </a:endParaRPr>
          </a:p>
        </p:txBody>
      </p:sp>
      <p:sp>
        <p:nvSpPr>
          <p:cNvPr id="1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blic Service Loan Forgivenes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ome-based Repayment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conomic Hardship Defermen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litary Service Defermen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for-Profit Loan Holder Defini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Preemption of Certain State Laws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31B1E03-5A44-4D22-BAE3-E4CACB4AF2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5407"/>
                </a:solidFill>
                <a:latin typeface="Verdana"/>
              </a:rPr>
              <a:t>2007-08 Negotiated Rulemaking</a:t>
            </a:r>
            <a:br>
              <a:rPr sz="3200"/>
            </a:br>
            <a:r>
              <a:rPr b="1" lang="en-US" sz="3200" spc="-1" strike="noStrike">
                <a:solidFill>
                  <a:srgbClr val="cc5407"/>
                </a:solidFill>
                <a:latin typeface="Verdana"/>
              </a:rPr>
              <a:t> Public Service Loan Forgiveness</a:t>
            </a:r>
            <a:endParaRPr b="1" lang="en-US" sz="3200" spc="-1" strike="noStrike">
              <a:solidFill>
                <a:srgbClr val="cc5407"/>
              </a:solidFill>
              <a:latin typeface="Verdana"/>
            </a:endParaRPr>
          </a:p>
        </p:txBody>
      </p:sp>
      <p:sp>
        <p:nvSpPr>
          <p:cNvPr id="197"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Program Borrowers ONLY</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in Defaul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s 120 Monthly On-time Payme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October 1, 2007</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me-Based Repay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me-Contingent Repay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Plans with a Minimum Payment Amou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time Employment in Qualifying Servic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9C27F31-D791-4B92-B2F4-38081152D8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5407"/>
                </a:solidFill>
                <a:latin typeface="Verdana"/>
              </a:rPr>
              <a:t>2007-08 Negotiated Rulemaking Income-based Repayment </a:t>
            </a:r>
            <a:endParaRPr b="1" lang="en-US" sz="3200" spc="-1" strike="noStrike">
              <a:solidFill>
                <a:srgbClr val="cc5407"/>
              </a:solidFill>
              <a:latin typeface="Verdana"/>
            </a:endParaRPr>
          </a:p>
        </p:txBody>
      </p:sp>
      <p:sp>
        <p:nvSpPr>
          <p:cNvPr id="199"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 and Direct Loan Program Borrowe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Tied to a “Partial Financial Hardship”</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Payment Amount, AGI, Poverty Incom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ment Attribu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ued Interest, Fees, Loan Principal</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fford Interest Covered for Three Yea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5-year Loan Forgivenes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6DBA0D7-2F39-45F1-81B6-F94152809D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5407"/>
                </a:solidFill>
                <a:latin typeface="Verdana"/>
              </a:rPr>
              <a:t> </a:t>
            </a:r>
            <a:r>
              <a:rPr b="1" lang="en-US" sz="3200" spc="-1" strike="noStrike">
                <a:solidFill>
                  <a:srgbClr val="cc5407"/>
                </a:solidFill>
                <a:latin typeface="Verdana"/>
              </a:rPr>
              <a:t>2007-08 Negotiated Rulemaking Economic Hardship Deferment </a:t>
            </a:r>
            <a:endParaRPr b="1" lang="en-US" sz="3200" spc="-1" strike="noStrike">
              <a:solidFill>
                <a:srgbClr val="cc5407"/>
              </a:solidFill>
              <a:latin typeface="Verdana"/>
            </a:endParaRPr>
          </a:p>
        </p:txBody>
      </p:sp>
      <p:sp>
        <p:nvSpPr>
          <p:cNvPr id="201" name="PlaceHolder 2"/>
          <p:cNvSpPr>
            <a:spLocks noGrp="1"/>
          </p:cNvSpPr>
          <p:nvPr>
            <p:ph/>
          </p:nvPr>
        </p:nvSpPr>
        <p:spPr>
          <a:xfrm>
            <a:off x="304920" y="1828800"/>
            <a:ext cx="8534160" cy="40384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dified the Basic Income Criterio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50% of the Poverty Level Income Appropriate to Family Siz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iminated the Debt-to-Income Criterio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20/220 Rule”</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CF99C49-5081-4878-8A8A-940DEA2064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5407"/>
                </a:solidFill>
                <a:latin typeface="Verdana"/>
              </a:rPr>
              <a:t>2007-08 Negotiated Rulemaking</a:t>
            </a:r>
            <a:br>
              <a:rPr sz="3200"/>
            </a:br>
            <a:r>
              <a:rPr b="1" lang="en-US" sz="3200" spc="-1" strike="noStrike">
                <a:solidFill>
                  <a:srgbClr val="cc5407"/>
                </a:solidFill>
                <a:latin typeface="Verdana"/>
              </a:rPr>
              <a:t> Military Service Deferments</a:t>
            </a:r>
            <a:endParaRPr b="1" lang="en-US" sz="3200" spc="-1" strike="noStrike">
              <a:solidFill>
                <a:srgbClr val="cc5407"/>
              </a:solidFill>
              <a:latin typeface="Verdana"/>
            </a:endParaRPr>
          </a:p>
        </p:txBody>
      </p:sp>
      <p:sp>
        <p:nvSpPr>
          <p:cNvPr id="203" name="PlaceHolder 2"/>
          <p:cNvSpPr>
            <a:spLocks noGrp="1"/>
          </p:cNvSpPr>
          <p:nvPr>
            <p:ph/>
          </p:nvPr>
        </p:nvSpPr>
        <p:spPr>
          <a:xfrm>
            <a:off x="304920" y="1676160"/>
            <a:ext cx="8534160" cy="419076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HERA Military Service Deferment Modified by CCRA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CCRAA Post-Active Duty Deferme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ules for Applying Benefits to Those Who Qualify for Multiple Benefit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57DBC03-90F1-4D1D-83C9-1A52FE44A4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5407"/>
                </a:solidFill>
                <a:latin typeface="Verdana"/>
              </a:rPr>
              <a:t>2007-08 Negotiated Rulemaking</a:t>
            </a:r>
            <a:br>
              <a:rPr sz="3200"/>
            </a:br>
            <a:r>
              <a:rPr b="1" lang="en-US" sz="3200" spc="-1" strike="noStrike">
                <a:solidFill>
                  <a:srgbClr val="cc5407"/>
                </a:solidFill>
                <a:latin typeface="Verdana"/>
              </a:rPr>
              <a:t> Military Service Deferments</a:t>
            </a:r>
            <a:endParaRPr b="1" lang="en-US" sz="3200" spc="-1" strike="noStrike">
              <a:solidFill>
                <a:srgbClr val="cc5407"/>
              </a:solidFill>
              <a:latin typeface="Verdana"/>
            </a:endParaRPr>
          </a:p>
        </p:txBody>
      </p:sp>
      <p:sp>
        <p:nvSpPr>
          <p:cNvPr id="205"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ilitary Deferment revised –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l title IV loans, not just loans made on/after July 1, 2001</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moves 3-year limi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s a 180-day deferment period after demobiliza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B7CD2C5-AD2B-499C-B15E-278BC1044E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5407"/>
                </a:solidFill>
                <a:latin typeface="Verdana"/>
              </a:rPr>
              <a:t>2007-08 Negotiated Rulemaking</a:t>
            </a:r>
            <a:br>
              <a:rPr sz="3200"/>
            </a:br>
            <a:r>
              <a:rPr b="1" lang="en-US" sz="3200" spc="-1" strike="noStrike">
                <a:solidFill>
                  <a:srgbClr val="cc5407"/>
                </a:solidFill>
                <a:latin typeface="Verdana"/>
              </a:rPr>
              <a:t> Military Service Deferments</a:t>
            </a:r>
            <a:endParaRPr b="1" lang="en-US" sz="3200" spc="-1" strike="noStrike">
              <a:solidFill>
                <a:srgbClr val="cc5407"/>
              </a:solidFill>
              <a:latin typeface="Verdana"/>
            </a:endParaRPr>
          </a:p>
        </p:txBody>
      </p:sp>
      <p:sp>
        <p:nvSpPr>
          <p:cNvPr id="207"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CCRAA Post-Active Duty Deferment added - </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 to13-months of deferment for certain  borrowers in school or in grace period when called to active duty</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minates at return to school</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the same borrowers as Military Service deferment eligible</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4E2AE7C-82F6-492B-83CA-BB584AD364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a:t>
            </a:r>
            <a:endParaRPr b="1" lang="en-US" sz="3600" spc="-1" strike="noStrike">
              <a:solidFill>
                <a:srgbClr val="cc5407"/>
              </a:solidFill>
              <a:latin typeface="Verdana"/>
            </a:endParaRPr>
          </a:p>
        </p:txBody>
      </p:sp>
      <p:sp>
        <p:nvSpPr>
          <p:cNvPr id="6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dentity Theft Discharg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ilitary Deferme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 Rehabilitation Relief – FFEL/DL</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1064364-70E9-4775-BD53-61A129B51A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5407"/>
                </a:solidFill>
                <a:latin typeface="Verdana"/>
              </a:rPr>
              <a:t>2007-08 Negotiated Rulemaking</a:t>
            </a:r>
            <a:br>
              <a:rPr sz="2800"/>
            </a:br>
            <a:r>
              <a:rPr b="1" lang="en-US" sz="2800" spc="-1" strike="noStrike">
                <a:solidFill>
                  <a:srgbClr val="cc5407"/>
                </a:solidFill>
                <a:latin typeface="Verdana"/>
              </a:rPr>
              <a:t> Not-for-Profit Loan Holder Definition</a:t>
            </a:r>
            <a:endParaRPr b="1" lang="en-US" sz="2800" spc="-1" strike="noStrike">
              <a:solidFill>
                <a:srgbClr val="cc5407"/>
              </a:solidFill>
              <a:latin typeface="Verdana"/>
            </a:endParaRPr>
          </a:p>
        </p:txBody>
      </p:sp>
      <p:sp>
        <p:nvSpPr>
          <p:cNvPr id="209" name="PlaceHolder 2"/>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l SAP Rates for Lenders/Holders</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 Defines an Eligible Not-for-Profit Holder:</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s/Others Eligible to Issue Tax-exempt Bond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for-Profit Entity Under IRC 501(c)(3)</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T Acting on Behalf of a State or NFP Entity</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fying Lender Must Have Sole Beneficial Ownership Interes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0939157-5BB0-4DE0-B3ED-8402FE6D18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ent Letters and Announcements</a:t>
            </a:r>
            <a:endParaRPr b="1" lang="en-US" sz="3600" spc="-1" strike="noStrike">
              <a:solidFill>
                <a:srgbClr val="cc5407"/>
              </a:solidFill>
              <a:latin typeface="Verdana"/>
            </a:endParaRPr>
          </a:p>
        </p:txBody>
      </p:sp>
      <p:sp>
        <p:nvSpPr>
          <p:cNvPr id="21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Use of a Preferred FFEL Lender List (GEN-08-06, May 9, 2008)</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 Lender-of-Last-Resort Services</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A Program Implementation and Operating Procedures (GEN-08-03, March 26, 2008)</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itional GA Guidance (GEN 08-05, May 5, 2008)</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ing Continued Access to Student Loans Act (GEN-08-08, June 18, 2008)</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96E876E-421F-45D9-8D75-5E0FEBDBEE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21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one:  202-502-7732</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   Pamela.Moran@ed.gov</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X:     202-502-7873</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F4DE572-7356-4938-9E35-7821B2AA66DF}" type="slidenum">
              <a:t>82</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a:t>
            </a:r>
            <a:endParaRPr b="1" lang="en-US" sz="3600" spc="-1" strike="noStrike">
              <a:solidFill>
                <a:srgbClr val="cc5407"/>
              </a:solidFill>
              <a:latin typeface="Verdana"/>
            </a:endParaRPr>
          </a:p>
        </p:txBody>
      </p:sp>
      <p:sp>
        <p:nvSpPr>
          <p:cNvPr id="6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olidation Loan – Married/In-school/Early Conversion eliminate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as-Lender/Use of Lender Truste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 Reduced Insurance/“Negative SAP”</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F1D6983-BF9F-4CEF-BC5D-102267E054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3T19:06:14Z</dcterms:modified>
  <cp:revision>286</cp:revision>
  <dc:subject/>
  <dc:title>PowerPoint Presentation</dc:title>
</cp:coreProperties>
</file>