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C251-D2B2-43FB-86E0-7AC260133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DB92-FB0B-4CA1-9A4D-2D728420D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D0C8-A697-4481-B0D8-D2F726D76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1277-3691-41BE-B49D-F3FEB8A69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968F-3C64-42BB-A581-2C13AA25B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8A07-90C7-44C2-9C34-C7D3B9D01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8EC2-8264-4875-8CAD-51617F5EA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5F8A-A7E9-484F-A3BB-9CBA20821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9A28-7CF5-419C-865F-1D74665CF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4FF4-1FDA-45D9-A516-6896E42FB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4165-F64D-45B7-A131-48D71A4F1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A95F-02FB-4AC3-A9DB-14AD4855A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300-22E1-42EA-8D67-CD667B880C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Dan.Klock@ed.gov" TargetMode="External"/><Relationship Id="rId2" Type="http://schemas.openxmlformats.org/officeDocument/2006/relationships/hyperlink" Target="mailto:nt4cm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3346" t="15575" r="29996" b="22220"/>
          <a:stretch/>
        </p:blipFill>
        <p:spPr>
          <a:xfrm>
            <a:off x="685800" y="12952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457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2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y K. Munci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isten Demar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HE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nifer Mart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FA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How We Did It—The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Participation -- Pilot Year --17 states 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erto R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ask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Illinois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w York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rkansas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Iowa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orth Caro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aliforn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Kentucky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 </a:t>
            </a:r>
            <a:r>
              <a:rPr b="0" lang="en-US" sz="1800" spc="-1" strike="noStrike">
                <a:solidFill>
                  <a:srgbClr val="1e4e64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Oh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onnectic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Maine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nnessee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lorida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1e4e64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Mississippi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tah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Georgia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w Hampsh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Participation –- 2009-10  --Those states be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as noted by </a:t>
            </a:r>
            <a:r>
              <a:rPr b="1" lang="en-US" sz="1800" spc="-1" strike="noStrike">
                <a:solidFill>
                  <a:srgbClr val="286a88"/>
                </a:solidFill>
                <a:latin typeface="Verdana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 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assachusett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Washing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wai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st Virgi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State Roles—Coordinato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d log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ng trainers, dates, loca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ing participation lev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ing materia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ing outreach and publ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ed in bi-weekly conference calls with steering committee during planning phase and as needed through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ongoing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Materials for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and shipped by steering committee to state coordin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Point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or Man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s and resource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izable outreach materials provided electron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of Participant Guide circul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 Web Si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ticipant (public) Web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sa4counselors.ed.gov/NT4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program information – fact sheet, FAQ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ration—online or links to states’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Participant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s to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 Web Si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iner and coordinator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sa4counselors.ed.gov/trai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PowerPoint presentation and instructor man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customizable outreach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the Trainers webin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2008-09 Workshop Overview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0">
              <a:lnSpc>
                <a:spcPct val="75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1120" indent="0" algn="ctr">
              <a:lnSpc>
                <a:spcPct val="75000"/>
              </a:lnSpc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da had three main sec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lnSpc>
                <a:spcPct val="7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aid (provided by NT4C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id (provided by states)—template provided by NT4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lnSpc>
                <a:spcPct val="7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(provided by NT4CM and sta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Feder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2080" y="2328480"/>
            <a:ext cx="727092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 of financi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apply for feder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FSA4c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FSA on the 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Feder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criteria and application procedures for Academic Competitiveness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search for federal, state, institutional and private 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ing financial aid frau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Stat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720" y="2475000"/>
            <a:ext cx="7665840" cy="29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01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emplates, detailed state grants, loans and scholarshi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Stat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01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emplates, detailed state prepaid tuition plans and state college savings pla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ibutions and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Session 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NT4C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ed for NT4C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lot for Academic Year 2008-09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s for Academic Year 2009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Resour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1480" y="2548080"/>
            <a:ext cx="814104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815840"/>
            <a:ext cx="853416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wo new modules geared for middle school aud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nd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 and families to plan financially for college as early as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New Modules for 2009-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to develop new modules throughout the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with dis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ster you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traditional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presentation, want to hear what additional topics you would like to see add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33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Expansion of Workshop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Plans for </a:t>
            </a:r>
            <a:br>
              <a:rPr sz="4000"/>
            </a:b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Academic</a:t>
            </a: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 Year 2009-10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Based on lessons learned and evaluations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Lessons Learn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034720"/>
            <a:ext cx="85341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r communications—to take advantage of piggy-backing opportun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er delineation of criteria for participation—see separate hand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entives for attending—C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steering committee and suppo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 on successes—evaluations from pilo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2% responded “outstanding” when asked if the training met their needs for assisting students to prepare financially for college (4.6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8% responded “outstanding” when asked to rate the NT4CM materials (4.8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1% responded “outstanding” when asked to evaluate the case studies, charts, and other graphic illustrations, (4.6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Data based on 461 surveys received out of 1,149 participan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Evalu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Evaluation–Quot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job! Where were you guys all these years?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 workshop for someone wanting the basics of financial aid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helpful, I learned a lot about new programs. Thank you. I'd like to do this yearly to stay knowledgeable about updat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The Numbers for Academic Year 2009-10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7040" y="2328840"/>
            <a:ext cx="59263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ed offe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ext Steps—and Your Ide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1905120"/>
            <a:ext cx="7666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recruit more sta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add to fill a ne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re any comments from those who participated in the pilot year or who are participating this ye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dditional topics should we add to curricul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ideas to plus up the eff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895480"/>
            <a:ext cx="38098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y K. Mun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y.K.Muncie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527720"/>
            <a:ext cx="4114800" cy="12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fer 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tinj@nasfaa.org 202.785.6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527720"/>
            <a:ext cx="34480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risten Dema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demaree@nchelp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822.2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079800"/>
            <a:ext cx="34290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nt4cm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and all inqui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Introduction to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at Is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onal Training for Counselors and Mentors (NT4CM)—intended aud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 train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ed at the national level, offered locally to high school counselors and college access commun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details regarding the Federal student aid programs and state-specific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going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a monthly 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Who Are the Players in NT4CM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ering committ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coordin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rs local to the area who are professionals in Student Financial Assistance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The Need for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y Offer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ability studies as well as discussions with counselors told us that the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up-to-date aid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 it to be face-to-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t it ann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on-going communication veh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y Offer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vey of states told u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conduct annual training, but not all have the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s re: new programs can supplement what they do off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—History to D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e got to he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h 07—steering committee establ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ning begun and states poll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o combine resources and pil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—materials develo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—Web goes live—webinars condu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.-March—sessions condu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-May—evaluation and lessons l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11-26T18:36:38Z</dcterms:modified>
  <cp:revision>220</cp:revision>
  <dc:subject/>
  <dc:title>PowerPoint Presentation</dc:title>
</cp:coreProperties>
</file>