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192C-3AD6-4035-B254-30E0DB11A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D181-DDF1-4CC4-967C-C94D903D9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2F30-2E48-4272-84E0-4859A05AC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3327-483A-4ADD-A732-116D42DC46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B64A-2A16-4557-B02E-A73D9C14CF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D849-FD2F-4F42-8A02-EF6E5D770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2212-EB68-4639-A9EE-C5E0953F8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B453-5B0A-4716-A81E-0F6CEBF74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A8D6-D884-44B0-ACFD-FCCE32309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4C42-3563-4697-943E-C01B6B90B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7A86-EC80-407F-9A5E-E800605C8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CC6E-C705-4CDC-A94F-71F4C1720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03F7-E8F2-4D6A-8E8F-8074C603CC3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bartini@amsa.com" TargetMode="External"/><Relationship Id="rId2" Type="http://schemas.openxmlformats.org/officeDocument/2006/relationships/hyperlink" Target="http://www.ombudsman.ed.gov/" TargetMode="External"/><Relationship Id="rId3" Type="http://schemas.openxmlformats.org/officeDocument/2006/relationships/hyperlink" Target="mailto:lynel.mcfadden@ed.gov" TargetMode="External"/><Relationship Id="rId4" Type="http://schemas.openxmlformats.org/officeDocument/2006/relationships/hyperlink" Target="mailto:thaddeus.bartkowiak@ed.gov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609480" y="53352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C-2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The Student Loan Ombudsman Network: </a:t>
            </a:r>
            <a:br>
              <a:rPr sz="2800"/>
            </a:b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Options for Student Loan Issues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ce Bartin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erican Student Assi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ynel McFad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addeus Bartkowi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FF53-6BF9-41F5-9944-73AD79DBBD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CB70-7831-4E8D-B1E3-0F3BFBFD3F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240" y="3240"/>
          <a:ext cx="9137520" cy="6851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3240"/>
                    <a:ext cx="913752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8144-C610-4CFA-BA20-5A01DCB3CF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3D49-0E74-42A1-B097-A7382C66C9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343080" y="4572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27"/>
          <p:cNvSpPr/>
          <p:nvPr/>
        </p:nvSpPr>
        <p:spPr>
          <a:xfrm>
            <a:off x="304920" y="1066680"/>
            <a:ext cx="8534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e appreciate your feedback and comment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e can be reached 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ce Bartini, Ombud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erican Student Assist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lephone:  (800) 999-9080 ext. 4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bartini@amsa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ynel McFadden, Ombudsman Specia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ddeus Bartkowiak, Ombudsman Specia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.S. Department of Education, Federal Student 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lephone:  (202) 377-3800; Facsimile:  (202) 275-05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 site: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ombudsman.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lynel.mcfadden@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4"/>
              </a:rPr>
              <a:t>thaddeus.bartkowiak@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6D85-C430-4341-8C5B-1B467BADCE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Ombudsman Role: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257120"/>
            <a:ext cx="85341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n impartial, confidential resource for resolving Federal Student Aid complaints inform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 cooperatively with student borrowers, institutions, lenders/servicer, guaranty agencies and related pa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not force solutions, reverse decisions, or mandate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s trends, activities and effective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87BB-63AD-4850-8B9D-675365768F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67280" y="3046320"/>
            <a:ext cx="89244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160" y="326088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3720" y="342900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92440" y="247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9360" y="166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9360" y="185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9360" y="205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9360" y="224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9360" y="24400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9360" y="26352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9360" y="283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9360" y="302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9360" y="322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9360" y="341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9360" y="361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9360" y="3807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9360" y="40021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9360" y="419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9360" y="439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9360" y="458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9360" y="478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9760" y="5257800"/>
            <a:ext cx="159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tudent Aid Industry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81040" y="5257800"/>
            <a:ext cx="3864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Trends, Issues, Training, Outreach, and Communi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29520" y="49766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8640" y="517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34560" y="5486400"/>
            <a:ext cx="125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07-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78400" y="548640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40800" y="5486400"/>
            <a:ext cx="362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lti Directional Ex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5120" y="5468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0120" y="2192400"/>
            <a:ext cx="2801880" cy="247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26720" y="26384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26720" y="2900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26720" y="31608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6720" y="3419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74400" y="3429000"/>
            <a:ext cx="19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SA Ombud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66600" y="3686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2057400"/>
            <a:ext cx="381024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4240" y="2124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20920" y="2317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61640" y="2362320"/>
            <a:ext cx="15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udent Loa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11880" y="2781360"/>
            <a:ext cx="235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mbudsman Ca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3320" y="27813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191120" y="3132000"/>
            <a:ext cx="1527120" cy="297000"/>
            <a:chOff x="4191120" y="3132000"/>
            <a:chExt cx="1527120" cy="297000"/>
          </a:xfrm>
        </p:grpSpPr>
        <p:sp>
          <p:nvSpPr>
            <p:cNvPr id="90" name=""/>
            <p:cNvSpPr/>
            <p:nvPr/>
          </p:nvSpPr>
          <p:spPr>
            <a:xfrm>
              <a:off x="4191120" y="323676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23040" y="3132000"/>
              <a:ext cx="29520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0" y="187"/>
                  </a:moveTo>
                  <a:lnTo>
                    <a:pt x="186" y="94"/>
                  </a:lnTo>
                  <a:lnTo>
                    <a:pt x="0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808440" y="3132000"/>
            <a:ext cx="1525680" cy="297000"/>
            <a:chOff x="3808440" y="3132000"/>
            <a:chExt cx="1525680" cy="297000"/>
          </a:xfrm>
        </p:grpSpPr>
        <p:sp>
          <p:nvSpPr>
            <p:cNvPr id="93" name=""/>
            <p:cNvSpPr/>
            <p:nvPr/>
          </p:nvSpPr>
          <p:spPr>
            <a:xfrm>
              <a:off x="4098960" y="323676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8440" y="3132000"/>
              <a:ext cx="29556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186" y="0"/>
                  </a:moveTo>
                  <a:lnTo>
                    <a:pt x="0" y="94"/>
                  </a:lnTo>
                  <a:lnTo>
                    <a:pt x="186" y="187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528880" y="1969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886200"/>
            <a:ext cx="8938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1480" y="403848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4267080"/>
            <a:ext cx="447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48040" y="382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4267080"/>
            <a:ext cx="89244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4800" y="449568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4495680"/>
            <a:ext cx="685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28880" y="41338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0" y="3124080"/>
            <a:ext cx="297000" cy="1909440"/>
            <a:chOff x="4572000" y="3124080"/>
            <a:chExt cx="297000" cy="1909440"/>
          </a:xfrm>
        </p:grpSpPr>
        <p:sp>
          <p:nvSpPr>
            <p:cNvPr id="105" name=""/>
            <p:cNvSpPr/>
            <p:nvPr/>
          </p:nvSpPr>
          <p:spPr>
            <a:xfrm>
              <a:off x="4676760" y="3124080"/>
              <a:ext cx="85680" cy="161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736880"/>
              <a:ext cx="297000" cy="2966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0" y="0"/>
                  </a:moveTo>
                  <a:lnTo>
                    <a:pt x="94" y="187"/>
                  </a:lnTo>
                  <a:lnTo>
                    <a:pt x="1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Student Loan Ombudsman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twork In Action…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4CEC-6BC1-4CE6-AFA8-766A068D27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26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e Escalat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066680"/>
            <a:ext cx="85341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rrower contacts their lender/serv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gency uses their escalation path in an attempt to resolve dispute.  Escalation may include referral to supervisor,  manager or guaranty agency Ombuds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issue is still not resolved, agency Ombudsman will work with the Federal Student Aid Ombudsman to resolve disput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05240" y="1523880"/>
            <a:ext cx="533520" cy="609840"/>
          </a:xfrm>
          <a:prstGeom prst="downArrow">
            <a:avLst>
              <a:gd name="adj1" fmla="val 50000"/>
              <a:gd name="adj2" fmla="val 285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05240" y="36576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CF02-4E92-419F-B9D9-8B3BF3EE99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26"/>
          <p:cNvSpPr/>
          <p:nvPr/>
        </p:nvSpPr>
        <p:spPr>
          <a:xfrm>
            <a:off x="304920" y="6094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 Students/Borrowers  Benef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7"/>
          <p:cNvSpPr/>
          <p:nvPr/>
        </p:nvSpPr>
        <p:spPr>
          <a:xfrm>
            <a:off x="304920" y="16765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ucus network provides an in-agency escalation process for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problems remain, students call Federal Student Aid Ombudsman at 1-(877) 557-25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deral Student Aid Ombudsman will work with the student and the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deral Student Aid Ombudsman and Caucus network will use the situation to inform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B021-E44F-4C72-BB2E-5A94EF98D5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0F40-4B26-4321-B7EC-ED1CD75515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358E-A603-4FAF-AE44-93D05C64FC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A45D-FBF0-4254-9BF9-37123B4E5D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6050-0421-4CF0-9A40-670C9DACC7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RENTEX</cp:lastModifiedBy>
  <dcterms:modified xsi:type="dcterms:W3CDTF">2008-12-01T20:47:46Z</dcterms:modified>
  <cp:revision>223</cp:revision>
  <dc:subject/>
  <dc:title>PowerPoint Presentation</dc:title>
</cp:coreProperties>
</file>