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A18E2-E7AB-489A-A697-49486960DC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91C61-7A43-4D53-8B19-CAAC5CED2B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31ABA-8BAF-4AFA-BB17-CABE5E3297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35FDC-69EB-4039-BB97-468B0FC558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1FD8D-D875-423E-A42E-0C7B4582D1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1446B-0481-4763-A87C-1B0EAE7BD6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19ABD-D241-481B-9B36-8F9FC4334C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32FE6-DBD0-454F-92ED-B431CE046B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A60F3-5DBD-4FBA-9AA7-14F657BA64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4E2AD-7B99-4CED-BDD7-2B5AC909A1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6B3BD-C750-453B-AED2-D72E9339B6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E14E2-FD5F-4677-9BF8-D842B042F3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5D6C-F4FC-4CE3-BE54-37CA6E2BDE8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bartini@amsa.com" TargetMode="External"/><Relationship Id="rId2" Type="http://schemas.openxmlformats.org/officeDocument/2006/relationships/hyperlink" Target="http://www.ombudsman.ed.gov/" TargetMode="External"/><Relationship Id="rId3" Type="http://schemas.openxmlformats.org/officeDocument/2006/relationships/hyperlink" Target="mailto:lynel.mcfadden@ed.gov" TargetMode="External"/><Relationship Id="rId4" Type="http://schemas.openxmlformats.org/officeDocument/2006/relationships/hyperlink" Target="mailto:thaddeus.bartkowiak@ed.gov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026"/>
          <p:cNvSpPr/>
          <p:nvPr/>
        </p:nvSpPr>
        <p:spPr>
          <a:xfrm>
            <a:off x="609480" y="533520"/>
            <a:ext cx="739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C-22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5407"/>
                </a:solidFill>
                <a:latin typeface="Verdana"/>
              </a:rPr>
              <a:t>The Student Loan Ombudsman Network: </a:t>
            </a:r>
            <a:br>
              <a:rPr sz="2800"/>
            </a:br>
            <a:r>
              <a:rPr b="1" lang="en-US" sz="2800" spc="-1" strike="noStrike">
                <a:solidFill>
                  <a:srgbClr val="cc5407"/>
                </a:solidFill>
                <a:latin typeface="Verdana"/>
              </a:rPr>
              <a:t>Options for Student Loan Issues</a:t>
            </a:r>
            <a:endParaRPr b="1" lang="en-US" sz="28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440" y="350532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ace Bartini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merican Student Assist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ynel McFadd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addeus Bartkowia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.S. Department of Edu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710D1-A5C1-49C4-BE11-0B3A346A12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1D4A9-5E04-4988-A3C8-7512E75A1D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3240" y="3240"/>
          <a:ext cx="9137520" cy="68515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3240"/>
                    <a:ext cx="9137520" cy="68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38F65-0D09-48B3-B9E5-946102D354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79179-8CD3-4A18-BF5C-FD06D8203B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026"/>
          <p:cNvSpPr/>
          <p:nvPr/>
        </p:nvSpPr>
        <p:spPr>
          <a:xfrm>
            <a:off x="343080" y="45720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tact Inform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027"/>
          <p:cNvSpPr/>
          <p:nvPr/>
        </p:nvSpPr>
        <p:spPr>
          <a:xfrm>
            <a:off x="304920" y="1066680"/>
            <a:ext cx="85341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We appreciate your feedback and comment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We can be reached a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ctr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ace Bartini, Ombuds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merican Student Assista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lephone:  (800) 999-9080 ext. 45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-mail: 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bartini@amsa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ctr"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ynel McFadden, Ombudsman Specia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ctr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addeus Bartkowiak, Ombudsman Specia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ctr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.S. Department of Education, Federal Student A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ctr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lephone:  (202) 377-3800; Facsimile:  (202) 275-05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ctr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b site:  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www.ombudsman.ed.g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ctr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-mail: 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Verdana"/>
                <a:hlinkClick r:id="rId3"/>
              </a:rPr>
              <a:t>lynel.mcfadden@ed.g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ctr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-mail: 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Verdana"/>
                <a:hlinkClick r:id="rId4"/>
              </a:rPr>
              <a:t>thaddeus.bartkowiak@ed.g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ctr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33701-DC4E-4185-830F-6A9C360D9B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he Ombudsman Role: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257120"/>
            <a:ext cx="853416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an impartial, confidential resource for resolving Federal Student Aid complaints informal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 cooperatively with student borrowers, institutions, lenders/servicer, guaranty agencies and related par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es not force solutions, reverse decisions, or mandate a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76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orts trends, activities and effective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06297-D84E-438D-9428-39CE306E59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867280" y="3046320"/>
            <a:ext cx="892440" cy="765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160" y="3260880"/>
            <a:ext cx="43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genc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3720" y="3429000"/>
            <a:ext cx="438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92440" y="247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9360" y="166068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9360" y="18558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9360" y="20509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9360" y="22464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9360" y="244008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9360" y="26352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9360" y="283068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9360" y="30258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9360" y="32209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9360" y="34164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9360" y="36115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9360" y="38070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49360" y="40021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9360" y="41958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9360" y="43909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49360" y="45864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9360" y="47815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79760" y="5257800"/>
            <a:ext cx="159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Student Aid Industry: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81040" y="5257800"/>
            <a:ext cx="3864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Trends, Issues, Training, Outreach, and Communic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29520" y="497664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8640" y="51753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34560" y="5486400"/>
            <a:ext cx="1253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007-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78400" y="5486400"/>
            <a:ext cx="255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40800" y="5486400"/>
            <a:ext cx="3626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ulti Directional Ex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5120" y="54687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70120" y="2192400"/>
            <a:ext cx="2801880" cy="247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26720" y="263844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26720" y="290052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26720" y="316080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26720" y="341964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74400" y="3429000"/>
            <a:ext cx="194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SA Ombuds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66600" y="368604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1280" y="2057400"/>
            <a:ext cx="3810240" cy="3048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94240" y="21240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20920" y="231768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61640" y="2362320"/>
            <a:ext cx="15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udent Loa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11880" y="2781360"/>
            <a:ext cx="235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mbudsman Cauc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3320" y="278136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191120" y="3132000"/>
            <a:ext cx="1527120" cy="297000"/>
            <a:chOff x="4191120" y="3132000"/>
            <a:chExt cx="1527120" cy="297000"/>
          </a:xfrm>
        </p:grpSpPr>
        <p:sp>
          <p:nvSpPr>
            <p:cNvPr id="90" name=""/>
            <p:cNvSpPr/>
            <p:nvPr/>
          </p:nvSpPr>
          <p:spPr>
            <a:xfrm>
              <a:off x="4191120" y="3236760"/>
              <a:ext cx="1235160" cy="85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23040" y="3132000"/>
              <a:ext cx="295200" cy="297000"/>
            </a:xfrm>
            <a:custGeom>
              <a:avLst/>
              <a:gdLst/>
              <a:ahLst/>
              <a:rect l="l" t="t" r="r" b="b"/>
              <a:pathLst>
                <a:path w="186" h="187">
                  <a:moveTo>
                    <a:pt x="0" y="187"/>
                  </a:moveTo>
                  <a:lnTo>
                    <a:pt x="186" y="94"/>
                  </a:lnTo>
                  <a:lnTo>
                    <a:pt x="0" y="0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808440" y="3132000"/>
            <a:ext cx="1525680" cy="297000"/>
            <a:chOff x="3808440" y="3132000"/>
            <a:chExt cx="1525680" cy="297000"/>
          </a:xfrm>
        </p:grpSpPr>
        <p:sp>
          <p:nvSpPr>
            <p:cNvPr id="93" name=""/>
            <p:cNvSpPr/>
            <p:nvPr/>
          </p:nvSpPr>
          <p:spPr>
            <a:xfrm>
              <a:off x="4098960" y="3236760"/>
              <a:ext cx="1235160" cy="85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08440" y="3132000"/>
              <a:ext cx="295560" cy="297000"/>
            </a:xfrm>
            <a:custGeom>
              <a:avLst/>
              <a:gdLst/>
              <a:ahLst/>
              <a:rect l="l" t="t" r="r" b="b"/>
              <a:pathLst>
                <a:path w="186" h="187">
                  <a:moveTo>
                    <a:pt x="186" y="0"/>
                  </a:moveTo>
                  <a:lnTo>
                    <a:pt x="0" y="94"/>
                  </a:lnTo>
                  <a:lnTo>
                    <a:pt x="186" y="187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5528880" y="1969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886200"/>
            <a:ext cx="893880" cy="765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71480" y="4038480"/>
            <a:ext cx="43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genc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72200" y="4267080"/>
            <a:ext cx="447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48040" y="382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2880" y="4267080"/>
            <a:ext cx="892440" cy="765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04800" y="4495680"/>
            <a:ext cx="43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genc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4495680"/>
            <a:ext cx="685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28880" y="41338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572000" y="3124080"/>
            <a:ext cx="297000" cy="1909440"/>
            <a:chOff x="4572000" y="3124080"/>
            <a:chExt cx="297000" cy="1909440"/>
          </a:xfrm>
        </p:grpSpPr>
        <p:sp>
          <p:nvSpPr>
            <p:cNvPr id="105" name=""/>
            <p:cNvSpPr/>
            <p:nvPr/>
          </p:nvSpPr>
          <p:spPr>
            <a:xfrm>
              <a:off x="4676760" y="3124080"/>
              <a:ext cx="85680" cy="1616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0" y="4736880"/>
              <a:ext cx="297000" cy="296640"/>
            </a:xfrm>
            <a:custGeom>
              <a:avLst/>
              <a:gdLst/>
              <a:ahLst/>
              <a:rect l="l" t="t" r="r" b="b"/>
              <a:pathLst>
                <a:path w="187" h="187">
                  <a:moveTo>
                    <a:pt x="0" y="0"/>
                  </a:moveTo>
                  <a:lnTo>
                    <a:pt x="94" y="187"/>
                  </a:lnTo>
                  <a:lnTo>
                    <a:pt x="18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he Student Loan Ombudsman 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etwork In Action…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65D4F-B629-452B-B2CE-8176CB2C96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026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ase Escalat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1066680"/>
            <a:ext cx="85341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orrower contacts their lender/serv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gency uses their escalation path in an attempt to resolve dispute.  Escalation may include referral to supervisor,  manager or guaranty agency Ombudsm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f issue is still not resolved, agency Ombudsman will work with the Federal Student Aid Ombudsman to resolve dispute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05240" y="1523880"/>
            <a:ext cx="533520" cy="609840"/>
          </a:xfrm>
          <a:prstGeom prst="downArrow">
            <a:avLst>
              <a:gd name="adj1" fmla="val 50000"/>
              <a:gd name="adj2" fmla="val 285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05240" y="3657600"/>
            <a:ext cx="533520" cy="762120"/>
          </a:xfrm>
          <a:prstGeom prst="downArrow">
            <a:avLst>
              <a:gd name="adj1" fmla="val 50000"/>
              <a:gd name="adj2" fmla="val 357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50C59-3C89-4272-BE88-A0C7076C46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026"/>
          <p:cNvSpPr/>
          <p:nvPr/>
        </p:nvSpPr>
        <p:spPr>
          <a:xfrm>
            <a:off x="304920" y="60948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How do Students/Borrowers  Benefi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027"/>
          <p:cNvSpPr/>
          <p:nvPr/>
        </p:nvSpPr>
        <p:spPr>
          <a:xfrm>
            <a:off x="304920" y="1676520"/>
            <a:ext cx="85341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ucus network provides an in-agency escalation process for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f problems remain, students call Federal Student Aid Ombudsman at 1-(877) 557-25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ederal Student Aid Ombudsman will work with the student and the ag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ederal Student Aid Ombudsman and Caucus network will use the situation to inform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B744D-EA7D-4D44-AD47-F9E831A431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164CE-077E-4E42-A5B7-6BA7401E22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DA75E-E648-45AB-B1B1-5A6824E6D9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2567B-528B-4EA7-9757-33F25C7121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8C69B-E380-474D-9252-293F6683E7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RENTEX</cp:lastModifiedBy>
  <dcterms:modified xsi:type="dcterms:W3CDTF">2008-12-01T20:47:46Z</dcterms:modified>
  <cp:revision>223</cp:revision>
  <dc:subject/>
  <dc:title>PowerPoint Presentation</dc:title>
</cp:coreProperties>
</file>