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19.jpeg" ContentType="image/jpeg"/>
  <Override PartName="/ppt/media/image5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6308-BAFB-413E-8A7D-965DF859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67E4-482B-4DA5-8F00-D4241A5DF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187-1A28-431E-B0AF-043C2D01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9E15-AAF2-428F-9EF8-5631AB954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A57-40F0-402E-8ABF-5C20B1496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30440" cy="2573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C8B3-B996-4152-BEAF-8460F7C10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DFB3-6A17-4359-9D2A-15A783C11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F955-03DB-402F-B068-640717781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AD4B-6001-4A94-9309-D1BA1BDAF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D9AD-CD9B-41CB-8F2A-261D5A0E4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B285-202C-4A56-B930-27A968ED2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A0B2-4163-443D-8D82-A09CFFF5F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1B7C-4251-4215-92E1-0CDC848B3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B308-3CA1-489C-8786-949414D9C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E9E4-63A0-4764-BA60-3FEFEC4C5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510E-66C9-4433-A245-64F7E2F6D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D269-F951-46A7-BF2F-6AF2B389D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8990-1200-4F79-AAC0-9F2425BFE6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631044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dpubs.ed.gov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fdic.gov/index.html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V_UJNIPzgBU9CJzbkF;_ylu=X3oDMTBqY2pzbGhoBHBvcwMxMQRzZWMDc3IEdnRpZAM-/SIG=1ka79vu4q/EXP=1217700351/**http%3A//images.search.yahoo.com/images/view%3Fback=http%253A%252F%252Fimages.search.yahoo.com%252Fsearch%252Fimages%253F_adv_prop%253Dimage%2526fr%253Dslv1-mdp%2526va%253Dgraduation%252Bclip%252Bart%2526sz%253Dall%26w=75%26h=57%26imgurl=www.designlogos.net%252Flogos_clipart%252FHoliday%252Fthumbnails%252FHolidays_Occasions_Graduation_2367209.jpg%26rurl=http%253A%252F%252Fwww.designlogos.net%252Flogos_clipart%252FHoliday%252Findex_4.htm%26size=1.6kB%26name=Holidays_Occasions_Graduation_2367209.jpg%26p=graduation%2Bclip%2Bart%26type=JPG%26oid=e55caab7dd7c075a%26no=11%26tt=225%26sigr=11sjcut1a%26sigi=12u7n349h%26sigb=136dpafgq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2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mote Student Succe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age Delinquency           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vent De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191120"/>
            <a:ext cx="7010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hn Pier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ark Walsh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vate Loa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marketed directly to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val is typically based on factors such as the school attended and credit sc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est rates are variable with no c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oan limits or restrictions on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ack borrower protections available in Federal Student Loa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r time frame before defaul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generally more expensive and should not be used until Federal Student Aid has been exhaus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F352-F88B-4ED5-940E-F705068FCB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Aid Fir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ctions between federal and private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, amounts of   federal aid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line ordering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edpubs.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by phone at:        1-877- 4ED-P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733920" cy="472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733920" cy="213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16765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rajanPro-Bold"/>
              </a:rPr>
              <a:t>FEDERAL</a:t>
            </a:r>
            <a:r>
              <a:rPr b="1" lang="en-US" sz="1600" spc="-1" strike="noStrike">
                <a:solidFill>
                  <a:srgbClr val="000000"/>
                </a:solidFill>
                <a:latin typeface="TrajanPro-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MinionPro-Medium"/>
              </a:rPr>
              <a:t>A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rajanPro-Regular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84640" y="480060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rajanPro-Regular"/>
              </a:rPr>
              <a:t>www.federalstudentaid.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397560" y="5181480"/>
            <a:ext cx="73656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D0A1-8AB1-44B2-9A4E-872A6EB74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event Default At Your Schoo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78520" y="14479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king Strategic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13372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unlimited time/resources, you woul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of course your resources are limited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must consider how to best us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 to reduce loan default among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and private loan borr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raditional and non-traditional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ion strategies can be eff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6E60-575C-4B39-88C7-F9D303C6AA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ditional Approaches to Successful Default Prevention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Ai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 borrowers financial literac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borrowers prepare for repayment (especially those who did not complet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 borrowers during repayment, and “rescue” delinquent borrowers utilizing Late Stage Delinquency Assistance (LSD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at DL and FFEL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CCF9-7A77-4D1F-9971-667ABD6D33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lation exists between increased financial literacy and decreased de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CL GEN 05-14 lists financial literacy as one of nine key elements to include in a default prevention and manage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% of students who left college without completing a degree cited financial reasons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07320" y="6019920"/>
            <a:ext cx="38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National Center for Education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A64C-0A3C-4423-93AA-FA0E09E50A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to consider in developing a finan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eracy program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cation of obj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ing you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your progra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ing you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ing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4170-35E4-4F23-B928-75535E56F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49360" y="2286000"/>
            <a:ext cx="8043840" cy="914040"/>
            <a:chOff x="549360" y="2286000"/>
            <a:chExt cx="8043840" cy="914040"/>
          </a:xfrm>
        </p:grpSpPr>
        <p:pic>
          <p:nvPicPr>
            <p:cNvPr id="94" name="" descr="FDIC Home - Federal Deposit Insurance Corporation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03360" y="2286000"/>
              <a:ext cx="276552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49360" y="2834640"/>
              <a:ext cx="8043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Money Smart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- A Financial Education Progra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14600" y="5410080"/>
            <a:ext cx="5257800" cy="82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46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791320" y="1828800"/>
            <a:ext cx="1428480" cy="160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15200" y="17524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Gothic"/>
              </a:rPr>
              <a:t>U.S.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800" y="3657600"/>
            <a:ext cx="3429000" cy="1523520"/>
            <a:chOff x="685800" y="3657600"/>
            <a:chExt cx="3429000" cy="1523520"/>
          </a:xfrm>
        </p:grpSpPr>
        <p:grpSp>
          <p:nvGrpSpPr>
            <p:cNvPr id="102" name=""/>
            <p:cNvGrpSpPr/>
            <p:nvPr/>
          </p:nvGrpSpPr>
          <p:grpSpPr>
            <a:xfrm>
              <a:off x="685800" y="3657600"/>
              <a:ext cx="3429000" cy="1523520"/>
              <a:chOff x="685800" y="3657600"/>
              <a:chExt cx="3429000" cy="15235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5800" y="3657600"/>
                <a:ext cx="3429000" cy="1523520"/>
              </a:xfrm>
              <a:prstGeom prst="rect">
                <a:avLst/>
              </a:prstGeom>
              <a:solidFill>
                <a:srgbClr val="2f6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800" y="3657600"/>
                <a:ext cx="3429000" cy="1523520"/>
              </a:xfrm>
              <a:prstGeom prst="rect">
                <a:avLst/>
              </a:prstGeom>
              <a:solidFill>
                <a:srgbClr val="2f6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0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U.S. Department of the Treasury Logo"/>
            <p:cNvPicPr/>
            <p:nvPr/>
          </p:nvPicPr>
          <p:blipFill>
            <a:blip r:embed="rId6"/>
            <a:stretch/>
          </p:blipFill>
          <p:spPr>
            <a:xfrm>
              <a:off x="1143000" y="3809880"/>
              <a:ext cx="2514600" cy="11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752480" y="1295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- Fed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7DB6-8BE7-4A0A-BBF4-47ED76A3C2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ssisting Borrowers As They Approach Re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borrowers who defaulted, 91%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 receive their full 6 month grac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o late or inaccurat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fication by the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609588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August 2008 Analysis of Federal Direct Loan 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762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0384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critical i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4C62-1A45-4F36-9A24-F3AF14C6C7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rvicers Do Pre-Repayment Counseling During Grace Perio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relationship with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rrect repay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appropriate repay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e self-service through the We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/enhance borrower contact inf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consolidation options, if appropri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cial for those who drop out…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678A-3ADA-4D4F-AE0A-F75783B97E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Key Defaulter Characteristi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borrowers who defaulted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jority had contact issu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9% had bad telephone numbers (actual popu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5% were not successfully contacted by phone during the 360-day collection effort leading up to default (samp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602136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August 2008 Analysis of Federal Direct Loan 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9BB6-7D08-4BF4-AF13-415C934AC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pics For Toda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nt Cohort Default Rat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hanging Landsca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 Preven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Tradi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intersection of loan default and student success/ret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k and Opportunity: Identifying the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eer school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8F85-8F1D-4973-908D-0A0E292C9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Can You Do To Ensure Borrowers Can Be Reach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“enhanced” contact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borrower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or develop an “early warning” system to let you know when borrowers leav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the use of NSLDS fo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chool records to see if you have better contact information…use it and/or share with your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3B32-34EA-489B-B27C-4C8E8FD55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ssisting Borrowers in Re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te Stage Delinquency Assistanc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LS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s school personnel reaching ou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ously delinquent borrowers (240+ days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facilitating the critical contact with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servicer to prevent borrowers from go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o defa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 Schools: (888) 877-7658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P Schools: Contact your guarantor(s) and lenders for detai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D3A7-D0A1-4F20-BB45-97B13C90C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you need to get start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2388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of delinquent borrowers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urrent cohort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Late Stage Delinquency reports from guarantor or DL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-based contact informati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with school records and update guarantor or DL Servic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train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-623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 Servicer and/or guarantor can help  prepare your staff for this 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0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0D28-8F6A-456A-BE46-CF39715096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SDA Contact Metho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cal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 most effe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s will sometimes take calls from school personnel and not lenders or guaran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te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useful, but the other players have used them unsuccessfu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828C-6F50-498C-BF4F-879FFE7BF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hone Calls Are Most Effective 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a few calls are needed each month to make a difference in your CD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 calls when borrowers are most likely to be home (6:00 PM – 9:00 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school-issued calling cards to make calls outside of traditional work hours (Saturda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leaving a voice message avoid using  the words “loan” or “delinquenc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7929-3DE9-4001-9511-521FEF7310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hone Calls Are Most Effective 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a call script until practi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at you are calling to help  (use a soft touch – you are not a loan collect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it clear “what’s in it for them” to listen and take action on their own behalf.  Stress the urgency of their situation! (the consequences of defaul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 possible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 a three-way call with the guarantor or DL Servicer (stay on the line to provide moral suppor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7069-8FE1-4373-83D7-78DCA8C035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decide to send a letter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, get the borrower to open it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-address regular envelop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stamp – not a postage 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colored envelopes or pa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sonalize the letter – sig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cards can also be eff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ss the urgency of the situation - these borrowers are at imminent risk of defaul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contact information for yourself and for the guarantor or DL Servic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the borrower understand the consequences of default in plain langu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1482-AA6C-44F1-95E3-113F9D6F9A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decide to send a letter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formation on repayment options, deferments, and forb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ss that they need to call you, that you can help them resolve their sit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ce the borrower is contacted, if you cannot easily resolve the delinquency, consider a three-way call with the loan servicer.  Representatives are trained to resolve delin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E15B-4516-4BC4-A381-CEADDDC04B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use email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school email addresses (allow students to keep school accounts for a year or two after they lea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ach deferment or forbearance forms requested by the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war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mail responses or completed forms to the right person at the guarantor and/or the Direct Loan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9404-F1CB-4131-9325-628872ECCB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Graduate…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                    and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Don’t…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for your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ion efforts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take a look at both of these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552F-4893-4468-8EEA-485ED3AC4B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fficial Cohort Default Rat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01000" cy="49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BE87-47AD-4E29-B159-41357E5CB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</a:t>
            </a: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Do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Graduate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           …….And The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becoming more common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the implications for default preven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3510"/>
          <a:stretch/>
        </p:blipFill>
        <p:spPr>
          <a:xfrm>
            <a:off x="4800600" y="1981080"/>
            <a:ext cx="33847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0BB5-B397-474C-B060-58564B7910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</a:t>
            </a:r>
            <a:r>
              <a:rPr b="1" lang="en-US" sz="3600" spc="-1" strike="noStrike" u="sng">
                <a:solidFill>
                  <a:srgbClr val="cc5407"/>
                </a:solidFill>
                <a:uFillTx/>
                <a:latin typeface="Verdana"/>
              </a:rPr>
              <a:t>Don’t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Graduate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               ….…And The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irect Loan program serves 6-7 m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an borrowers.  Of the borrowers w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ed,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70%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ew without compl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ir academic program. (actual popu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different measures of success exis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n important indicator that students w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 to complete are at high-risk to defau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80068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August 2008 Analysis of Federal Direct Loan 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72EC-0850-4AB1-B788-8DAE5DAF99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are the consequences when a borrower leaves school without completing?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205740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d not achieve academic credent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ing power may be reduc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enefit from school job 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 one or more loans to re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have received exit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borrower leaves without notifying the financial aid office, they may lose part/all of their grac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9601-EDEB-4EF9-ACAA-565768DD3A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 Approach:    The Methodolog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7975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-2048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182880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ven by the fact that borrowers who do not complete are at high-risk of default (Remember the 7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ncrease student success, as successful students are typically in the best position to repay their lo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strategy cannot be implemented by the financial aid office alone.  Allies are others on campus who are working to increase retention and graduation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18DF-2088-465A-A5C5-960739C781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 Approach:    The Methodolog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udent Succ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borrower relationship to their education.  (Most defaulters do not complete their academic progra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 student success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retention/graduation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ing program completi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non-completers fin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569F-D823-4900-86DD-2DE5937590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 Approach:    The Methodolog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752480"/>
            <a:ext cx="7975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unique connections between loan default and student success at you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a defaulter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does the trail lea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teps do you t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needs to be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E4E1-72BC-49F4-9C31-99118CF1F2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thodology: Option #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an analysis to identify default factors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udent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Loan Record Detail Report (LR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your internal system to obtain demograph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create a picture of your at-risk students so you can properly target your default prevention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k assistance from your lenders, guarantor, servicer or F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AE1B-8D5B-467F-9B8A-8FC9718872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thodology: Option #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7860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 your defaulter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or last 3 years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to the folks on campus involv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research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/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ment management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/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succes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are interested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sam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48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ir efforts can reduce loan defau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ir help in understanding how your school can add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udent success and loan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2AC7-6B72-4739-8EF5-02AE059C56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 Achieve Maximum Resul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strategies should help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m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uccessfu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s students (as successful students tend to become successful borrower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indebted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ead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o repayment (teach financial literacy, ensure understanding of repayment obligations, obtain current contact info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-630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ayment, and particularly with those who are struggling, use LS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07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E704-E407-4E25-BB4D-F2D9C7E287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orts in Support of Default Prevention Across the U.S.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5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proje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rgia        Nev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kansas      Oh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organiz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PSC, C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ing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805F-A9FB-4BB1-8311-5135C2AE1C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hort Default Rate By Secto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3104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2AD-2C43-47C5-B6FF-DCCA657F6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wo State Project Example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746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8561160" cy="1333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200400" y="2216160"/>
            <a:ext cx="5265720" cy="8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714E-6A2B-4072-BDC3-23C58A39F1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e Project – Nevada Tea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int project included representatives f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financial aid association; two-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four-year public institutions acros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; and the Nevada System of Hig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(NSHE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HE identified borrower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itable for a data analysis, then consul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schools to finalize the li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12C9-6D17-41A6-84B0-CE99476452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vada Project - Data El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generation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ed in one or more remedial cour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ed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79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d Y/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P Y/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ew last term of enrollm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regist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ED only last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s attempted versus credits comple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48F9-993B-490F-B5E4-710DFAC592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vada Project - Methodolog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completed the initial data col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d data with NSHE which in turn completed both school by school and system-wide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s were published in a report in May 200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0099cc"/>
                </a:solidFill>
                <a:latin typeface="Verdana"/>
              </a:rPr>
              <a:t>(Copies at DP booth in PC La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F2A-E61F-4D6F-88F4-60CB9EC59E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They F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666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1676520"/>
          <a:ext cx="31305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76520"/>
                    <a:ext cx="3130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86200" y="2819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1D7A-A674-4FCF-B2A2-069490C0A26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vada Project Next Steps  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authors meet with system VPs of academic and student affairs to discuss the data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 to understand the relationship between student success measures and the risk of loan default;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individual schools and the 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next steps for current data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whether additional data i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phase to be initiated in early F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36FA-F27C-44EE-9183-E58408B0CD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e Project – Georgia Tea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ed with the Regents Advisory Council on Student Financial Aid (RACSF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 with University System of Georgia (USG) to outline project and goals, and explain relationship between student success and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d with USG retention, graduation and time-to-comple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advisory team composed of USG, members of RACSFA, and the Georgia Association of Student Financial Aid Administrators (GASFA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C43A-36FC-41D8-8756-E75D6EEFF8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ia Project - Methodolog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mapped out the project details, goals, and timefra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identified data elements they wished to query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age 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G runs list of all defau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3 years against their databas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age tw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dditional data ele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re collected locally by each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3232-F991-448A-86A4-CB54CDC456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ia Project – Data El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ge Tw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chool coll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regist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FA file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loan amou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f know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unsub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ency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itary 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 counseling method (in-person or on-li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ge On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SG coll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rporated the nearly 100 data points that are maintained in the University System of Georgia Data ma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was queried against 3 years of defaulted borr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G chose to cast a wide net initially, and then narrow the focus in Stag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2D0C-DC0F-41A5-8F21-F1A8AF026F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They F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819520" y="1752480"/>
          <a:ext cx="38192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8192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581280" y="3048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6224-3160-48E8-9DE8-2C00C04EC0E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Borrowers i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01992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2006 total includes 150 defaulters from foreign  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chools not reflected on next graph (slide #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1190520"/>
            <a:ext cx="708660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3B7A-16A7-4464-9D88-5CD99127E2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ia Project -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us Report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160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niversity System of Georgia (US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hered stage one and stage two data and merged it into one larg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an initial analysis of the data and    prepared a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the summary report with the Advisory team in September 2008, and with RACSFA membership at their quarterly meeting in October 2008 </a:t>
            </a:r>
            <a:r>
              <a:rPr b="1" lang="en-US" sz="2200" spc="-1" strike="noStrike">
                <a:solidFill>
                  <a:srgbClr val="0099cc"/>
                </a:solidFill>
                <a:latin typeface="Verdana"/>
              </a:rPr>
              <a:t>(Copies at DP booth in PC La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meetings to discuss the findings with USG staff, and will schedule meetings with university system VPs for academic and student affairs in early FY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97BC-0C8F-4FA7-B593-D4FB0E4EB99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Career School Projec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371600" y="1676520"/>
          <a:ext cx="62355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35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00400" y="260352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eer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llege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o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4BFF-9A70-47C2-A65D-E2C025A8B52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Default Prevention Project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d in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ught together a project team composed of the largest CCA member schoo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 delinquency and default among project team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 the relationship between student success and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 set of methodologies and best practices to share with the higher education community through default prevention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F66F-A235-4779-9B2A-3185FDC63F7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- Methodolog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mapped out the project details, goals, timefra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 identified the data elements they wished to investigate, including: GPA, program of study, degree type, dependent/independent, gender, preparation ty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ED, ATB, HS grad)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PB at default, private loan, first generation, probation/SAP, reason left school, race and ethnic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are actively collecting and analyz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35BD-F0D9-4FF9-91FE-56D4F10BECD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- Drilling Dow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ample of school-based activity with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jec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aplan Higher Education (KHEC) is a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the CCA Default Prevention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ory tea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es utilized by KHEC and 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s of this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4A4C-58E4-493D-92DE-324E9C380AF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- Drilling Dow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HEC began their participation by analyzing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chool - Heritage College in Las Ve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y approached their evaluation of student loan defaults at Heri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resources we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the analysis rev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eps they took to reduce the risk of loan 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DD55-8CA4-4A51-BDCE-2274E88E9DA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CA Project – Status Report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CA project will continue through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 with completion of the data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development of default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materials and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C67E-3AB3-4C8E-8EAE-0D9EC81BD5F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ference PC Lab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 visit us at the Default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le in the PC Lab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answers to questions on default prevention strategies or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 more about the CCA and state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FSA brochures and hand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 a copy of your Unique School Report containing 2004-2006 Official CD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5FB6-6FF9-4A4F-A9AC-1F0CF3E8046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295280"/>
            <a:ext cx="716256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k Wal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816-268-04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mark.walsh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816-268-04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hn Pi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404-562-62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john.pierso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404-562-62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CD17-A00A-4071-A957-5BA82A01B36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-9239" r="0" b="0"/>
          <a:stretch/>
        </p:blipFill>
        <p:spPr>
          <a:xfrm>
            <a:off x="762120" y="457200"/>
            <a:ext cx="7449840" cy="5567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aulted Borrowers By Se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DBCE-9910-4EF1-B36B-5F9BD1FEE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ast Facts – 2006 Official CD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rate increased from 4.6% in 2005 to 5.2% in 2006, a 13% incr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eer schools experienced the most significant CDR rise, from 8.2% in 2005 to 9.7% in 2006, an 18% incr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ed borrowers increased 26.3% between 2005 and 2006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04-2005 = 12.4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and private 4-year schools continue to maintain the lowest CDRs at 3.4%/2.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these statistics be mislead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56D3-E83C-4065-B4C4-E0DDE7925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llege Opportunity and Affordability Act </a:t>
            </a:r>
            <a:r>
              <a:rPr b="1" lang="en-US" sz="2600" spc="-1" strike="noStrike">
                <a:solidFill>
                  <a:srgbClr val="cc5407"/>
                </a:solidFill>
                <a:latin typeface="Verdana"/>
              </a:rPr>
              <a:t>(HEA Reauthorization)</a:t>
            </a:r>
            <a:endParaRPr b="1" lang="en-US" sz="2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ion period for CDRs expanded from    2 years to 3 years beginning in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for sanctions due to high rates increases from 25% for 3 consecutive years to 30% beginning in 2012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s from 10% to 15% the CDR which schools must fall below to be exempt from multiple disbursements and first year   student endorsement re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1CC4-4321-49D0-8658-213815778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 Changing Landscape in Higher Education Funding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costs continue to r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udents borrowing larger am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use of Stafford and private loans result in greater loan debt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debt equals increased default r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quire uninterrupted loan capital to operate and higher default  rates may result in access proble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-637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vated default risk equals an increased risk t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ivate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pit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37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37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336-16D1-4C92-8A85-E90A4917FF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10T13:34:41Z</dcterms:modified>
  <cp:revision>868</cp:revision>
  <dc:subject/>
  <dc:title>PowerPoint Presentation</dc:title>
</cp:coreProperties>
</file>