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19.jpeg" ContentType="image/jpeg"/>
  <Override PartName="/ppt/media/image5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E46D-51A0-4F0C-839F-8F07DA2F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24D-4D39-4708-A774-D4DE1656E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EE6-60C2-4EAF-8C03-85E77723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841-EB57-457D-9F91-565B5AD6B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2C31-3665-44F3-B90C-27F9A053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B7E3-3D58-4560-8E64-AB2AB76D7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966B-57BD-49A4-B666-2B1EA6CCB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3BC0-4263-4550-92EF-41CB29680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D468-515A-4B08-87BA-C653712E0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74C9-19AF-44AA-86F4-FDCCDA798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3110-3396-48E7-B386-0F7DF047F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B05E-6F65-4695-B98F-303B24FB8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62FB-491C-47E8-9529-29489A704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AACD-7C21-4611-ADBF-D378CD3E7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8782-7DCD-4C73-B4D8-A116A76D8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A3A6-B5CD-43C4-A81C-4E722E39D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7CA5-0D74-4B34-B655-80A72A639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745F-BB8D-4D15-B66B-2AE1BF3767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dpubs.ed.gov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fdic.gov/index.html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V_UJNIPzgBU9CJzbkF;_ylu=X3oDMTBqY2pzbGhoBHBvcwMxMQRzZWMDc3IEdnRpZAM-/SIG=1ka79vu4q/EXP=1217700351/**http%3A//images.search.yahoo.com/images/view%3Fback=http%253A%252F%252Fimages.search.yahoo.com%252Fsearch%252Fimages%253F_adv_prop%253Dimage%2526fr%253Dslv1-mdp%2526va%253Dgraduation%252Bclip%252Bart%2526sz%253Dall%26w=75%26h=57%26imgurl=www.designlogos.net%252Flogos_clipart%252FHoliday%252Fthumbnails%252FHolidays_Occasions_Graduation_2367209.jpg%26rurl=http%253A%252F%252Fwww.designlogos.net%252Flogos_clipart%252FHoliday%252Findex_4.htm%26size=1.6kB%26name=Holidays_Occasions_Graduation_2367209.jpg%26p=graduation%2Bclip%2Bart%26type=JPG%26oid=e55caab7dd7c075a%26no=11%26tt=225%26sigr=11sjcut1a%26sigi=12u7n349h%26sigb=136dpafgq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2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mote Student Succes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age Delinquency           an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vent De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191120"/>
            <a:ext cx="7010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hn Pier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ark Walsh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vate Loa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marketed directly to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val is typically based on factors such as the school attended and credit sc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 rates are variable with no c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oan limits or restrictions on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ack borrower protections available in Federal Student Loa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r time frame before defaul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generally more expensive and should not be used until Federal Student Aid has been exhaus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299D-3D9D-404A-80BE-0850F50100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Aid Fir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ctions between federal and private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, amounts of   federal aid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line ordering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edpubs.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by phone at:        1-877- 4ED-P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733920" cy="472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733920" cy="213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4120" y="16765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rajanPro-Bold"/>
              </a:rPr>
              <a:t>FEDERAL</a:t>
            </a:r>
            <a:r>
              <a:rPr b="1" lang="en-US" sz="1600" spc="-1" strike="noStrike">
                <a:solidFill>
                  <a:srgbClr val="000000"/>
                </a:solidFill>
                <a:latin typeface="TrajanPro-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MinionPro-Medium"/>
              </a:rPr>
              <a:t>A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rajanPro-Regular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84640" y="480060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rajanPro-Regular"/>
              </a:rPr>
              <a:t>www.federalstudentaid.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397560" y="51814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DB13-74C9-4E60-B883-8C73B7C30A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event Default At Your Schoo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78520" y="144792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king Strategic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13372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unlimited time/resources, you woul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of course your resources are limited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must consider how to best us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 to reduce loan default among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and private loan borr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raditional and non-traditional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ion strategies can be eff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3D43-EDB5-4DB0-9C0A-1AE4DD1078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ditional Approaches to Successful Default Prevention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Ai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 borrowers financial literac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borrowers prepare for repayment (especially those who did not complet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st borrowers during repayment, and “rescue” delinquent borrowers utilizing Late Stage Delinquency Assistance (LSD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at DL and FFEL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BEE2-FB2A-4A0C-AFED-C05CD71AFD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lation exists between increased financial literacy and decreased de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CL GEN 05-14 lists financial literacy as one of nine key elements to include in a default prevention and manage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% of students who left college without completing a degree cited financial reasons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07320" y="6019920"/>
            <a:ext cx="38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National Center for Education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1300-F596-418E-8EC5-D05D46A56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to consider in developing a finan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eracy program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tion of obj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ing you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your progra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ing you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ing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478F-DE6F-44D0-8488-B48474382C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6576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49360" y="2286000"/>
            <a:ext cx="8043840" cy="914040"/>
            <a:chOff x="549360" y="2286000"/>
            <a:chExt cx="8043840" cy="914040"/>
          </a:xfrm>
        </p:grpSpPr>
        <p:pic>
          <p:nvPicPr>
            <p:cNvPr id="94" name="" descr="FDIC Home - Federal Deposit Insurance Corporation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03360" y="2286000"/>
              <a:ext cx="276552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49360" y="2834640"/>
              <a:ext cx="8043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Money Smart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- A Financial Education Progra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14600" y="5410080"/>
            <a:ext cx="5257800" cy="82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46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791320" y="1828800"/>
            <a:ext cx="1428480" cy="160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15200" y="17524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Gothic"/>
              </a:rPr>
              <a:t>U.S.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5800" y="3657600"/>
            <a:ext cx="3429000" cy="1523520"/>
            <a:chOff x="685800" y="3657600"/>
            <a:chExt cx="3429000" cy="1523520"/>
          </a:xfrm>
        </p:grpSpPr>
        <p:grpSp>
          <p:nvGrpSpPr>
            <p:cNvPr id="102" name=""/>
            <p:cNvGrpSpPr/>
            <p:nvPr/>
          </p:nvGrpSpPr>
          <p:grpSpPr>
            <a:xfrm>
              <a:off x="685800" y="3657600"/>
              <a:ext cx="3429000" cy="1523520"/>
              <a:chOff x="685800" y="3657600"/>
              <a:chExt cx="3429000" cy="15235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5800" y="3657600"/>
                <a:ext cx="3429000" cy="1523520"/>
              </a:xfrm>
              <a:prstGeom prst="rect">
                <a:avLst/>
              </a:prstGeom>
              <a:solidFill>
                <a:srgbClr val="2f6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5800" y="3657600"/>
                <a:ext cx="3429000" cy="1523520"/>
              </a:xfrm>
              <a:prstGeom prst="rect">
                <a:avLst/>
              </a:prstGeom>
              <a:solidFill>
                <a:srgbClr val="2f6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0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U.S. Department of the Treasury Logo"/>
            <p:cNvPicPr/>
            <p:nvPr/>
          </p:nvPicPr>
          <p:blipFill>
            <a:blip r:embed="rId6"/>
            <a:stretch/>
          </p:blipFill>
          <p:spPr>
            <a:xfrm>
              <a:off x="1143000" y="3809880"/>
              <a:ext cx="2514600" cy="11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752480" y="1295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- Fed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BA26-B2A9-436F-B5A0-82AF53D6B1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ssisting Borrowers As They Approach Re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borrowers who defaulted, 91%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 receive their full 6 month grac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o late or inaccurat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fication by the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6095880"/>
            <a:ext cx="3657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August 2008 Analysis of Federal Direct Loan 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762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0384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critical i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6C7E-F5E3-4B0B-9035-317E1D5071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rvicers Do Pre-Repayment Counseling During Grace Perio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relationship with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rrect repay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appropriate repay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e self-service through the We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/enhance borrower contact inf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consolidation options, if appropri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cial for those who drop out…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9E88-CC7B-48F0-95D0-70A763040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Key Defaulter Characteristi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borrowers who defaulted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had contact issu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% had bad telephone numbers (actual popul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5% were not successfully contacted by phone during the 360-day collection effort leading up to default (samp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6021360"/>
            <a:ext cx="3657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August 2008 Analysis of Federal Direct Loan 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75F5-489A-4348-9D60-5FE464008A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pics For Toda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nt Cohort Default Rat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hanging Landsca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 Preven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Tradi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intersection of loan default and student success/ret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sk and Opportunity: Identifying the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eer school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3FBA-29F9-48D6-B27E-327BAF2A60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Can You Do To Ensure Borrowers Can Be Reach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“enhanced” contact 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borrower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or develop an “early warning” system to let you know when borrowers leav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the use of NSLDS for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chool records to see if you have better contact information…use it and/or share with your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5913-2722-4D90-BFE6-A4C79CD3AE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ssisting Borrowers in Re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te Stage Delinquency Assistanc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LS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s school personnel reaching ou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ously delinquent borrowers (240+ days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facilitating the critical contact with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servicer to prevent borrowers from go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o defa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oan Schools: (888) 877-7658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P Schools: Contact your guarantor(s) and lenders for deta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DA78-0EE3-4C96-A867-7FD2BC8B1A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you need to get start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2388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of delinquent borrowers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urrent cohort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Late Stage Delinquency reports from guarantor or DL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-based contact informati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with school records and update guarantor or DL Servic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train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 Servicer and/or guarantor can help  prepare your staff for this 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B6DE-2904-4ACF-8BFA-CBEEFC688B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SDA Contact Metho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cal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 most effe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s will sometimes take calls from school personnel and not lenders or guaran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te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useful, but the other players have used them unsuccessfu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BAA6-4AFB-4275-8879-B87EF7F5FA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hone Calls Are Most Effective 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a few calls are needed each month to make a difference in your CD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 calls when borrowers are most likely to be home (6:00 PM – 9:00 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school-issued calling cards to make calls outside of traditional work hours (Saturda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leaving a voice message avoid using  the words “loan” or “delinquency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CC1B-E179-4C4E-834B-A97BE8069B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hone Calls Are Most Effective 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a call script until practi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at you are calling to help  (use a soft touch – you are not a loan collect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it clear “what’s in it for them” to listen and take action on their own behalf.  Stress the urgency of their situation! (the consequences of defaul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 possible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 a three-way call with the guarantor or DL Servicer (stay on the line to provide moral suppor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EA4E-EC74-48EF-ADA6-16CC73EA07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decide to send a letter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, get the borrower to open it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-address regular envelop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stamp – not a postage 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colored envelopes or pap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alize the letter – sig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cards can also be eff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ss the urgency of the situation - these borrowers are at imminent risk of defaul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contact information for yourself and for the guarantor or DL Servic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 the borrower understand the consequences of default in plain langu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D858-285F-45E7-88D3-A682D3E596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decide to send a letter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formation on repayment options, deferments, and forb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ss that they need to call you, that you can help them resolve their sit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ce the borrower is contacted, if you cannot easily resolve the delinquency, consider a three-way call with the loan servicer.  Representatives are trained to resolve delin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1A3C-B23E-4276-AA5A-3B59C0D11D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use email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school email addresses (allow students to keep school accounts for a year or two after they lea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ach deferment or forbearance forms requested by the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war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mail responses or completed forms to the right person at the guarantor and/or the Direct Loan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B86B-453C-46B1-BF33-19DF4A6AF3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Graduate…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                    and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Don’t…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for your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ion efforts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take a look at both of these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CC54-F97F-4C66-93E8-313AD372E3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fficial Cohort Default Rat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01000" cy="496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0830-5F9C-4E2E-9CAE-46537A03BF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</a:t>
            </a: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Do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Graduate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           …….And The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becoming more common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the implications for default preven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3510"/>
          <a:stretch/>
        </p:blipFill>
        <p:spPr>
          <a:xfrm>
            <a:off x="4800600" y="1981080"/>
            <a:ext cx="33847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2A55-D5DA-4B28-A704-907440832A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</a:t>
            </a: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Don’t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Graduate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               ….…And The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irect Loan program serves 6-7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an borrowers.  Of the borrowers w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ed,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70%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ew without compl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ir academic program. (actual popul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different measures of success exis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n important indicator that students w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 to complete are at high-risk to defa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800680"/>
            <a:ext cx="3657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August 2008 Analysis of Federal Direct Loan 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6598-7360-419E-84C6-E9E0D36ABE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are the consequences when a borrower leaves school without completing?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205740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d not achieve academic credent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ning power may be reduc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enefit from school job 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 one or more loans to re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have received exit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borrower leaves without notifying the financial aid office, they may lose part/all of their grac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5C10-6EB4-4AC5-813F-9955994922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 Approach:    The Methodolog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828800"/>
            <a:ext cx="7975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-2048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182880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ven by the fact that borrowers who do not complete are at high-risk of default (Remember the 7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ncrease student success, as successful students are typically in the best position to repay their lo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strategy cannot be implemented by the financial aid office alone.  Allies are others on campus who are working to increase retention and graduation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225C-276C-438F-8F31-5A9C7439BE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 Approach:    The Methodolog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udent Succ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borrower relationship to their education.  (Most defaulters do not complete their academic progra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 student success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retention/graduation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ing program completi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non-completers fin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3FB8-6436-4B32-9FB0-11E7A26CDB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 Approach:    The Methodolog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752480"/>
            <a:ext cx="7975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unique connections between loan default and student success at your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a defaulter 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does the trail lea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teps do you t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needs to be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F8E5-E79C-4424-B3F4-B5409EA9D7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thodology: Option #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52388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an analysis to identify default factors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udent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Loan Record Detail Report (LR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your internal system to obtain demograph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create a picture of your at-risk students so you can properly target your default prevent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k assistance from your lenders, guarantor, servicer or F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BCAB-70D6-4CAF-BE1B-CB843F818A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thodology: Option #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7860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 your defaulter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or last 3 years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to the folks on campus involv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research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/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ment management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/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succes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are interested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sam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ir efforts can reduce loan defau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ir help in understanding how your school can add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udent success and loan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2596-21B2-4436-91A1-D019B4608F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 Achieve Maximum Resul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strategies should help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mo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uccessfu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s students (as successful students tend to become successful borrower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indebted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ead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to repayment (teach financial literacy, ensure understanding of repayment obligations, obtain current contact info)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ayment, and particularly with those who are struggling, use LS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1C8E-07D7-4530-BC9F-860F1E1F28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forts in Support of Default Prevention Across the U.S.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5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proje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rgia        Nev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kansas      Oh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organiz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PSC, C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ing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8244-8663-44CC-9A80-F5EB55E104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hort Default Rate By Secto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3104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7DA7-1B53-44D8-BD46-C69FA82FF6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wo State Project Exampl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746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8561160" cy="1333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200400" y="2216160"/>
            <a:ext cx="5265720" cy="8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DFF1-7669-454C-906F-45E4CCFECC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te Project – Nevada Tea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int project included representatives fr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financial aid association; two-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four-year public institutions acros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; and the Nevada System of Hig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(NSHE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SHE identified borrower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itable for a data analysis, then consul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schools to finalize the li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5B19-18B3-41CF-A46E-2CB55516C9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vada Project - Data El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generation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ed in one or more remedial cour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ed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79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d Y/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Y/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ew last term of enrollme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regist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ED only last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s attempted versus credits comple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743D-046A-4183-8061-BF5668E45B3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vada Project - Methodolog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completed the initial data col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data with NSHE which in turn completed both school by school and system-wide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s were published in a report in May 200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0099cc"/>
                </a:solidFill>
                <a:latin typeface="Verdana"/>
              </a:rPr>
              <a:t>(Copies at DP booth in PC La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C60E-8BFA-4B39-8B59-D00E975FB5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They F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666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1676520"/>
          <a:ext cx="31305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76520"/>
                    <a:ext cx="31305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86200" y="2819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V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D1DE-D8D6-4B98-9895-2E4EBE33D7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vada Project Next Steps   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uthors meet with system VPs of academic and student affairs to discuss the data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 to understand the relationship between student success measures and the risk of loan default;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individual schools and the 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next steps for current data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whether additional data i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phase to be initiated in early F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D698-9DEE-4356-842F-FF135C91C9E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te Project – Georgia Tea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ed with the Regents Advisory Council on Student Financial Aid (RACSF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 with University System of Georgia (USG) to outline project and goals, and explain relationship between student success and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d with USG retention, graduation and time-to-completion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advisory team composed of USG, members of RACSFA, and the Georgia Association of Student Financial Aid Administrators (GASFA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EF8E-9BC6-4520-9E88-F8277CDD49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ia Project - Methodolog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mapped out the project details, goals, and timefra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identified data elements they wished to query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age 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G runs list of all defau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3 years against their data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age tw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dditional data ele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e collected locally by each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147D-8DB7-4DC2-BB6E-A77D2B34EF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ia Project – Data El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ge Tw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chool colle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regist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FA file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loan amou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f know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unsub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ency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itary de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 counseling method (in-person or on-li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ge O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SG colle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rporated the nearly 100 data points that are maintained in the University System of Georgia Data ma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was queried against 3 years of defaulted borro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G chose to cast a wide net initially, and then narrow the focus in Stag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97CB-EB3E-4860-9DB6-2882979354D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They F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819520" y="1752480"/>
          <a:ext cx="38192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8192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581280" y="3048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B2B1-082D-4F26-A133-ADABAB8ADD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Borrowers i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01992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2006 total includes 150 defaulters from foreign  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chools not reflected on next graph (slide #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190520"/>
            <a:ext cx="7086600" cy="484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E289-C1C4-437A-89B4-D5F329FDD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ia Project -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tus Report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160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niversity System of Georgia (US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hered stage one and stage two data and merged it into one larg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an initial analysis of the data and    prepared a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the summary report with the Advisory team in September 2008, and with RACSFA membership at their quarterly meeting in October 2008 </a:t>
            </a:r>
            <a:r>
              <a:rPr b="1" lang="en-US" sz="2200" spc="-1" strike="noStrike">
                <a:solidFill>
                  <a:srgbClr val="0099cc"/>
                </a:solidFill>
                <a:latin typeface="Verdana"/>
              </a:rPr>
              <a:t>(Copies at DP booth in PC La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d meetings to discuss the findings with USG staff, and will schedule meetings with university system VPs for academic and student affairs in early F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AC1C-A34E-4FD0-95B9-B306CF373FB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Career School Projec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371600" y="1676520"/>
          <a:ext cx="62355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355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00400" y="260352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eer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llege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o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B822-FA31-4793-8C75-CE413FB057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Default Prevention Project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d in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ught together a project team composed of the largest CCA member schoo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 delinquency and default among project team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 the relationship between student success and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 set of methodologies and best practices to share with the higher education community through default prevention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CA19-E8F0-45B1-99D9-22D65091946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- Methodolog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mapped out the project details, goals, timefra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identified the data elements they wished to investigate, including: GPA, program of study, degree type, dependent/independent, gender, preparation ty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ED, ATB, HS grad)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PB at default, private loan, first generation, probation/SAP, reason left school, race and ethnic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are actively collecting and analyzing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6D19-6BDC-4685-8EDF-B6B9A7D74A8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- Drilling Dow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ample of school-based activity with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jec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aplan Higher Education (KHEC) is a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CA Default Prevention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es utilized by KHEC and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s of this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5DD2-4EB1-4C63-A497-D120F45792F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- Drilling Dow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HEC began their participation by analyzing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chool - Heritage College in Las Ve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y approached their evaluation of student loan defaults at Heri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resources we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the analysis rev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eps they took to reduce the risk of loan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0A4A-6DE9-453C-B3CC-088C47923BE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– Status Report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CA project will continue through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 with completion of the data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development of default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materials and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7C32-1324-4880-97F8-5462EEDBDAB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ference PC Lab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e visit us at the Default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ble in the PC Lab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answers to questions on default prevention strategies or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 more about the CCA and state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 FSA brochures and hando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 a copy of your Unique School Report containing 2004-2006 Official CD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13CC-6BC9-4F71-A4C8-997AE10CA65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295280"/>
            <a:ext cx="716256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k Wal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816-268-04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mark.walsh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816-268-04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hn Pi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404-562-62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john.pierso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404-562-62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5A94-8164-4E4A-8EAD-C84D51E1478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-9239" r="0" b="0"/>
          <a:stretch/>
        </p:blipFill>
        <p:spPr>
          <a:xfrm>
            <a:off x="762120" y="457200"/>
            <a:ext cx="7449840" cy="5567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faulted Borrowers By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B6F5-221B-445D-90BD-DFF20E6017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ast Facts – 2006 Official CD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rate increased from 4.6% in 2005 to 5.2% in 2006, a 13% incr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eer schools experienced the most significant CDR rise, from 8.2% in 2005 to 9.7% in 2006, an 18% incr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ed borrowers increased 26.3% between 2005 and 2006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04-2005 = 12.4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and private 4-year schools continue to maintain the lowest CDRs at 3.4%/2.4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se statistics be mislead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42FB-9C03-4009-A214-07BEB36835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llege Opportunity and Affordability Act </a:t>
            </a:r>
            <a:r>
              <a:rPr b="1" lang="en-US" sz="2600" spc="-1" strike="noStrike">
                <a:solidFill>
                  <a:srgbClr val="cc5407"/>
                </a:solidFill>
                <a:latin typeface="Verdana"/>
              </a:rPr>
              <a:t>(HEA Reauthorization)</a:t>
            </a:r>
            <a:endParaRPr b="1" lang="en-US" sz="2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ion period for CDRs expanded from    2 years to 3 years beginning in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shold for sanctions due to high rates increases from 25% for 3 consecutive years to 30% beginning in 2012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es from 10% to 15% the CDR which schools must fall below to be exempt from multiple disbursements and first year   student endorsement re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B74F-DC0E-4F1F-96FD-75FD44590B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 Changing Landscape in Higher Education Funding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costs continue to r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tudents borrowing larger amou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use of Stafford and private loans result in greater loan debt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debt equals increased default r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quire uninterrupted loan capital to operate and higher default  rates may result in access proble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vated default risk equals an increased risk t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ivate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pi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37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C2B0-56B0-42E5-9F3F-AE9FD618C4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10T13:34:41Z</dcterms:modified>
  <cp:revision>868</cp:revision>
  <dc:subject/>
  <dc:title>PowerPoint Presentation</dc:title>
</cp:coreProperties>
</file>