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84F6-4996-42FA-9DEE-2AA946D3E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F6C2-8D28-4A33-A870-D70D798C3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Thank you for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ession #15; the EDExpress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Maria Marella, I am the FSA Team Lead for the Grants in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presenter is Jody Sears; Jody is the PC Products Manager for F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ith us is Amy Akers; Amy is the Senior Project Lead for the EDESuite of products at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reminder; please submit your session evaluations before you leave; we really do look at all of them, and we really value your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is geared towards EDExpress users with some experience; we will only be covering a few basics about using the software for DL and TEACH.  If you do have questions about using EDExpress on your campus, or how to use EDExpress to do something specific, the CPS computers in the PC Lab all have the EDExpress software installed on it and your questions can be answe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ed on updating this presentation up through COB on Friday October 2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lthough the presentations had to go to print, for your binders, back in August.  Therefore, some of the screens in your binder will not match what is displayed on the screen – but the differences, for the most part, are mi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be covering 2008-2009 EDExpress Release numbers 4 and 5, and then we will jump into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dy will be going over the updates and changes to Release 1.0, and I will be going over Release 2.0 and Direct Loan Tools Release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attendees who do not process Direct Loans at their schools, please remember that Release 2.0 includes 2 Grants modules and the Direct Loan module; we cannot do an EDExpress update session without including information on all three modules.  This means that you will have to sit through some Direct Loan updates in order to hear the grants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at, for those who are interested in using EDExpress to originate TEACH Grants, I will be walking through some very basic steps in using EDExpress to process TEACH Grant Originations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t the end, for those of you thinking switching to the Direct Loan Program, and using EDExpress, Jody will go over some DL basics in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eel free to ask any questions you have during the session.  We will need you to speak loudly, so that we can hear the question at the front of the room, or we may ask you to use the dreaded micro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et start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1911-BD73-4AA0-9805-86C48E49B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regular cycle year references we must make every year for the Apps Module, we had to accommodate all the the changes that were made with the ISIR for 2009-2010 (as a result of the FAFSA redesign) such 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several new ques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he order of questions (28-31 and Step 4 parent Q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 changes to the format of the workshee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s to the field values for certain questions, etc.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more information about all the changes to the SAR/ISIR for 2009-2010, please see the ISIR Guide posted on fsadownload.ed.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mean that EDExpress had to make adjustments to the Apps module ISIR Print, View, Query, Browse, and File Format functions in the Apps Modu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highlight the changes that EDExpress has mad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now includes fields and values for the new Dislocated Workers question for both student and par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moved Worksheets A, B and C from the FAFSA for students and parents.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taxed income which was formerly collected on Worksheet A has been eliminated (CCRAA) and we incorporated the questions that were on Worksheets B and C into the body of the FAFSA.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s formerly on Worksheet B appear in new sections on the FAFSA labeled “Students Untaxed Income” and “Parents’ Untaxed Incom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s former on Worksheet C appear in new sections of the FAFSA labeled “Students Additional Financial Information” and “Parents’ Additional Financial Information”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s for both these sets of sections are calculated by C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se changes will obvious impact ISIR print, but also the ISIR Review Tab, and the List Changes View.  It impacts fields that you can use in queries and fields that you can use when you create file formats for external ex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that now exists for the revised Worksheets A and B are now collected as individual data elements (instead of just a “total” for each workshe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updated to store and print the new ISIR fields and their values.  Also, new fields will display on the “ISIR Review” Screen “View-List Changes, View-FAA Information and View-NSLDS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 Browse and File formats updated to include these fields and valu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5B47-1B37-4073-85E0-D677341C5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is updated to store and print the new fields and their values for the 5 new dependency status questions (including the new order of all the dependency status question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also updated to accommodate the view and print of the revised order of the parental status questions (“State of Legal Residence” and “Household Info”),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IR Print and View functions were updated to accommodate these new fields, values, and order of appearance updat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Browse and File formats updated to include these fields and values according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827C-BA0B-40BF-8A21-164B759C4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updated to accommodate the new application and transaction data source/type codes for:</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Spanish PDF FAFSAs applications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Spanish FAFSA on the Phone application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SIR Print, View, Query, Browse and File Format functions in the Apps Module have been updated to store, print, display, and recognize the new valu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22D7-7617-4C41-8FDB-FC97C836F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0" y="4114440"/>
            <a:ext cx="6858000" cy="4343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DExpress updated to store and print the new flag and reject X on the ISIR,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Browse and File formats updated to include this fla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2009-2010 FOTW presents a series of prescreening Web pages that describes to the applicant what qualifies as potential special circumstances.  If the applicant still believes they have a special circumstance,  they can proceed with submitting the FAFSA without providing parental inform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art of this new prescreening process, the applicant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ed that no EFC will be calcul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ised to contact the financial aid office at the school he or she plans to attend for a formal determination as to whether valid special circumstances conditions exi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rged to gather and provide all relevant written evidence of his or her situation to the financial aid office to justify the request for special circumstances conside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ised that the financial aid office is not required to approve the request and that the school’s decision is final and cannot be appealed to the U.S. Department of Edu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 help FAAs identify applicants who have indicated special circumstances, the ISIR is sent to all schools listed on the application and als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 a new Special Circumstances flag set to 1 (Dependent student record submitted without parental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 comment code 295, referring the applicant to the financial aid off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processed by the CPS with a reject code X and contain no EF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help FAAs identify an applicant who originally believed he or she had a special circumstance but later provided parental data, the ISI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ludes the new Special Circumstances flag set to 2 (Dependent student record previously submitted with Special Circumstance flag, but correction made to parental data).</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 comment code 296, noting the addition of parental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processed by the CPS and, if no other reject circumstances exist (for example, missing signatures or conflicting or missing data), an EFC is calculated.</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5056-EFCD-44BF-AE9F-2AA22F074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updated to store and print the TEACH Grant question and respons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IR Review tab and “View-List Changes” will display question and respons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Browse and File formats updated to include this ques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9704-E16C-4981-B406-3EAD47138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8/9 Housing Plan code 2 was “Off Campus” and Housing Plan code 3 was “With Parent”.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n important tip if you use the EDExpress Packaging Modul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Off Campus will still be the Default response in Packaging System Setup.  Last year, that was Response Code 2, for 9/10 that will be Response Code 3.  Be careful to note that you have the correct Response code if you use Prior Year Import (2 from last year would override 3 from this year)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use prior year import (from the 8/9 database), double check that the value in Setup/Packaging/System for housing plan codes is the set for your preferenc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FF27-AEFC-4FD1-A499-24C0AA0ED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IRs printed in EDExpress will print with the new wording in the Signature/Certification statement (it has been updated to replace the word “school” with “colleg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also updated to accommodate the new NSLDS status cod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X (resolved fraud loans)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Z (Death of PLUS student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w NSLDS Program Code, D8 (TEACH Grants that are now Loan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updates will print and display using ISIR Print or the NSLDS Print Repor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E90F-10BA-42A1-8EB4-C51AA24AE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also updated to accommodate the new NSLDS Loan Status Code, “DA”, for Parent PLUS deferments.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erment Status PD—for Parent PLUS Loans that are in “in-school” derferment, an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erement Status PE—for Parent PLUS Loans that re in “Grace Period”Deferm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new NSLDS Codes will display in View-NSLDS, and print using ISIR Print or the NSLDS Print Repor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9DB1-3402-4FD0-9BA8-6E44BCAC6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xt three slides, we are showing all the TEACH Grant NSLDS data elements that EDExpress was updated to store, view and print.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new NSLDS Codes will display in View-NSLDS and will print using ISIR Print and the NSLDS Print Repor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3F9F-5010-481F-9FAA-F5D7DBDB5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1721-6E14-486E-A6A2-0D383A27C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shot is of next available Windows release for 2008-2009 (Release 4.0), and the color green, same as the FAFSA and SAR, is the new color to be used for the splash screen in EDExpress 2009-2010.</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E50E-2769-41A5-B462-FF8252746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finally, EDExpress was updated to accommodate one last new NSLDS Postscreening Code of 19 which indicates a TEACH Grant that is converted to a TEACH Loan.</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3638-EA82-4F02-A4C8-690A97984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just a change in the format of the display of View/List Changes.</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83A2-F8AB-40C9-A8E7-C590A1F25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few changes were made in the Release 1 Packaging Module other than cycle year update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we did mention earlier that EDExpress had a requirement to mask the first 5 digits of a student’s SSN that print on letter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means that the student letters that you can print from the Packaging Module listed on this slide have all been updated to mask the SSN.</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1E4B-DB2F-4C88-8F87-321943B71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FF47-1FD1-4C7D-92D5-8CEE38C2E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a prior year import of the school setup data, these two percentage fields will revert to the old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sburse a 09/10 loan before 07/01/2009 and then download 2009-2010 Release 2.0, you will need to change the percentages back to 2.0% and 1.5%, for the Loan Fee Percentage and the Interest Rebate Percentage, for those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pdates to the Grants module currently, other than date ranges and cycle year updates.  The Grants module includes only Pell, ACG and National SMART Gr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1D17-6DB9-4D06-B966-12CB9A8E1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dy mentioned earlier that we are masking the first five digits of the SSN for all correspondence in Release 1.  The same applies to all Disclosure Statements, for students and parents, in Release 2.0 – the first 5 digits of the SSNs will be m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aging Module will also be updated in Release 2 in order to accommodate the increase in undergraduate Unsubsidized loan limits authorized by ECASL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833E-B427-4B79-9BE5-16ECE42E9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 cycle year updat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1E01-2362-4B57-8D26-A7DEE2A12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ASLA authorized eligible non-citizens to qualify for ACG and SMART Grants.  When originating ACG or SMART Grants for 2009-2010, “2” will be acceptable as a Citizenship response on the demo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p Text in Release 2.0 will be updated to accommodate ECASLA changes to ACG and SMART.  This includes the eligibility of students who are less than full time and a note about certificate-seeking students in programs at degree-granting instit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contains information about the SMART Gra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0689-BD74-4BBE-81D5-78BF753D0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I mentioned a moment a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cluded in the Release 2.0 Help Text Updates is a note about SMART Grant eligibility for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Year students andd certain liberal arts majo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F752-8F98-48A9-A055-B397E1F1C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 cycle year updates ma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46D7-9B1F-4432-948D-BCD922CD5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wo more releases coming out for 2008-2009, and most of the functionality in each of these releases will be related to processing of the TEACH Gran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75E5-B694-48EA-AD94-3E99E199A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ior year imports for TEACH will be made available in 2009-2010 Release 2.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DDF3-CF3E-4014-93BC-78A6EFBCF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ll have the opportunity to add the Entrance and Exit counseling dates to EDExpress on the demo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t Counseling for TEACH is still in the design process; not sure when that will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next slide has a couple of screen shot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7C0A-8844-4A43-9432-6085D5402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when you thought the demo tab could not be any more crowded…you can see where we have added the TEACH Entrance and Exit counseling date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require TEACH disbursements to have Entrance Counseling on file, in EDExpress, just like DL, by entering a checkmark on the TEACH School Setup Screen.  For those who do not use the Direct Loan Module and are unfamiliar with the way this works, by entering a checkmark in the “Entrance Interview Required Prior to Disbursement”, EDExpress will prohibit users from entering any disbursements until the Initial or subsequent Entrance interview is competed, with the date entered into EDExpress on the demo tab.</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A1EB-0B1F-4659-95FA-1EC0654B2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ear cycles and date ranges updated, including the valid disbursement dates for the Disbursement Detail External Ad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EDExpress Update portion of our presentation.  I am now going to walk you through some basics about using EDExpress to process TEACH Grant Origination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leave, please drop your evaluations in the boxes before you go, and enjoy the rest of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3FD9-EADA-41E8-8CC9-454ACF105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 34 through 37 recap EDExpress functionality for the TEACH Grant, for those users who have not yet started participation in the TEACH Grant Program and are interested in using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igning the EDExpress functionality for the TEACH Grant, we decided to make the module a “hybrid” of the Direct Loan and Pell modules.  As we go through the next few slides, you will see some similarities between either the DL module or the Pell modu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BDBD-CD8E-46A8-A162-CE37865FE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reement to Serve must be accepted at COD in order for COD to accept TEACH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quick reminder to our DL EDExpress users:  you cannot print a TEACH ATS in EDExpress.  The ATS must be completed by the student at the ATS Website (www.TEACH-ATS.ed.go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CA37-BEE1-4A96-BB82-3DF6411FB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who use EDExpress to participate in the Direct Loan Program, the phrase “booking a TEACH Grant” is already familiar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incipals apply that apply to the Direct Loan Program also apply to the Teach Gra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unfamiliar with the term, 3 elements of the TEACH Grant need to be accepted at COD in order for the TEACH Grant to be considered “Booked”.  For each student record to “book” at COD, there needs to be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ed TEACH Origination Rec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cepted ATS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cepted First Disbursement Recor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e of receipt for the last component received and accepted at COD (usually the first disbursement) is considered the TEACH Grant Booked Date.  This is the date that will be used to begin the calculation for unsubsidized loan interest for repayment, in the event that the student does not fulfill his or her teaching oblig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3848-DFDE-4BCD-A98A-F8B5A6BFF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 Grant School Setup screen is similar to the Pell and DL School setup screens; nothing new to show you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TEACH Grant Origination Entry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 throug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nter student records manually, import the ISIR data or export from an external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eacher Expert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Expert Indicator is an optional use box on the origination that must be checked if the student for whom you are originating a TEACH Grant is a graduate student who is 1) a current teacher or 2) a retired teacher in a Teacher Shortage Area. The Student Level Code must be “6” or “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sbursement Profile Code, which is optional for Pell, ACG and SMART, but required for Direct Loans, is also required for a TEACH Grant.  The Disburse tab for a TEACH Grant will not become active until the TEACH Grant Origination record is sa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BF95-C170-46BA-97D7-DEE802B0D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bursement screen is similar to the Pell Grant disbursement screen.  However, similar to Direct Loans, you may not change a TEACH Grant actual disbursement date and amount in the same transa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6197-E580-4CA9-BC77-F0F074A53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R will notify of concurrent enrol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Name/DOB Report is non-cycl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reports from COD contained in Release 4.0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R, with concurrent enrollment not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Name/DOB Differences Report (non cyclic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SAS (similar to a DL S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e TEACH Grant Repor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ding Disbursement Report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new message classes will be added to file management in Release 4.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8E73-B1B7-40F2-8D4A-91B7B7598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attendees to more recent version of the 0910 Tech Ref</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38EA-43F7-4AC6-BA21-99AE088B3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981E-7C5A-40B8-9E68-6BBCD84FD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 43-53 may be useful for schools that are new to the DL program and will be using EDExpress to process D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64A6-A0DF-4C22-9BBA-BE07FB806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rst, you must update your SAIG enrollment to include Direct Loan Services https://www.fsawebenroll.ed.gov/PMEnroll/index.j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4B71-1A23-43F0-B6BA-DA775A7E9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xt, you’ll need to be sure you can receive DL funds for drawdowns.  If you do not already have your bank account information in G5, you can go to the G5 (GAPS) website at https://www.g5.gov .  Note that if you already have bank account info in G5 for other programs, you don’t need to take further action unless you want to use a separate bank account for DL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2CA6-5F79-4E6D-B4A1-FCCFE52CE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approved, you’ll want to establish your relationship with your primary CSR at COD (most likely you have already done that if you are processing Pell).  You can call 800-848-0978 or email COD School Relations at CODSupport @acs-inc.com.  Just like with Grants, you will be able to view your processed Direct Loan data, draw down history, request reports, etc. at https://www.cod.ed.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6036-3320-4910-851C-7A7E43B96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ll need to decide how you’d like to process MPNs for DL.  You can choose to set up your school’s profile at the Direct Loan eMPN web site at https://dlenote.ed.gov .  This option will allow students to complete, sign and submit their MPNs electronically on their own.  One of the things your COD CSR can assist you with is gaining access to the DL eMPN web site and establishing your school profile.  If you choose chose to print and manage the MPNs as a paper process, you will need to establish your printing preferences within the EDExpress DL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6BFE-5EF7-4AB2-960A-5B13A7B86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4.0 will also contain these EDExpress TEACH Repor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Processed Disbursement – YT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Disbursement Activit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s by Student – Originati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s by Student – Disbursem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 TEACH Status Repor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Summar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DOB Differences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TEACH Disbursement Activity Summary” lists TEACH Grant Records where the actual disbursement amount is less than the Grant Records Origination Am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TEACH Status report” will allow the user to print a list of statuses and actual disbursements of booked and unbooked TEACH Grant records (similar to the DL Status repor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97CA-2836-4C8F-9463-B86BB3EE8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ll have just a few steps to do to setup the DL Module of EDExpress to begin entering and processing DL originations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process Grants and have loaded Release 2 to include the Direct Loan Module, then all you’ll need to do after you have been approved is to establish the set ups (operating parameters) for the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rst, Establish your school as a DL Particip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49E3-36BB-41AC-918D-1046A248B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D School/DL Tab:  On this school set up you would identify your school, reporting and attending IDs, your funding method, your processing preferences, and MPN/Disclosure print preferences.  Note that the fee and rebate perecentages are defaul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2A4A-B395-41C4-B8F4-2CAE5DB5C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D System Setup:  Enter your source entity id for D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 to COD to find out what your Source Entity I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D300-E924-4DD6-855A-A12E45484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D Disbursement:  You may want to establish disbursement profiles the same way you do for Grants.  You can make current profiles work in DL simply by checking the box, adding the DL School Code, and entering the DL required fields of AY Start and End Dates and Approved LP Start and End D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may want to point out to schools that not all schools will have all three boxes check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8B2F-B659-480A-8E76-B07BA8821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ECASLA, Unsubsidized Annual Loan Limits for undergraduate students increased by $2000 for loans first disbursed on or after July 1,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modate this change, the loan limit edit in EDExpress has been removed for Release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aging Module will continue to package undergraduate unsubidized loans at pre-ECASLA loan limits, but users can manually increase loan limits and import them into the DL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E70F-FD35-4701-91BD-62A18A5DA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5.0 is all about the TEACH 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 Rebuild, similar to the Pell YTD rebuild file, will be included, as well as the ATS Discharg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EACH Rebuild Message class is THRB, not THYR, as stated in your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lass file will be updated in the global modu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A534-2715-493C-ADAF-85C03D860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most of you are aware, EDExpress must do cycle year changes for each module every year.  That means that things like Message Class names for importing and export from each module are update with the correct year reference in the name, cycle year references at the top of reports, or field edits for things like the valid values for DOB are updated.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roll over” update we do each year is increment the “middle” numbers in the PI student “pseudo” SSN.  For 2008-2009, EDExpress used “15” for Pacific Islander students, but in 2009-2010 we incremented the number to “17”…we gave “16” for FAFSA4caster u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6FA6-525B-433D-8FEC-B8895C5EB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implemented a new requirement to mask the first 5 digits of a student’s SSN that print on letters in order to better protect personally identifiable information.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the Global Module, you’ll see that the Document Tracking Letter and the User Defined Letters (if you use them) will mask the first 5 digits in the students SSN that appears on the lett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D4AA7-17B0-462B-AFFF-FCFEDA69D5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1C79878-8D0F-4ED5-A75C-D45D84E2C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05418E1-FCEF-4B6A-9DB2-AA8CF8387C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401D9F2C-53DA-43FF-A0AF-8189EFAD40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5B40805-B6A9-4ED1-93F5-F8EC3BC0DB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4E97967-688D-4B5B-B9AB-25BEB6CBD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C3C08DC-F01F-43A2-A44D-E4DE077C17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B341E85-5CC4-4B3C-9199-D063C04C41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D9F07AFA-8220-4E8B-834E-F742C87F1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AD2E961-1DFB-44BC-8EEF-68752E99E8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EAC8E8F-A53F-4208-9107-7F93555DEF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5EF2060-6E28-4486-8302-4932B7C46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7882-510D-40E1-BFE0-34BC2427CE8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7" descr="FSA_Logo_4C"/>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ifap.ed.gov/eannouncements/0527InterestRate20082009.html" TargetMode="External"/><Relationship Id="rId2" Type="http://schemas.openxmlformats.org/officeDocument/2006/relationships/hyperlink" Target="http://www.ifap.ed.gov/eannouncements/060408CODSchemaVer30aCorrected.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0" y="2819520"/>
            <a:ext cx="91440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Express Updat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ria Marella, </a:t>
            </a:r>
            <a:r>
              <a:rPr b="1" lang="en-US" sz="2400" spc="-1" strike="noStrike">
                <a:solidFill>
                  <a:srgbClr val="000000"/>
                </a:solidFill>
                <a:latin typeface="Verdana"/>
              </a:rPr>
              <a:t>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ob Martin, </a:t>
            </a:r>
            <a:r>
              <a:rPr b="1" lang="en-US" sz="2400" spc="-1" strike="noStrike">
                <a:solidFill>
                  <a:srgbClr val="000000"/>
                </a:solidFill>
                <a:latin typeface="Verdana"/>
              </a:rPr>
              <a:t>U.S. Department of Edu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4A7D-6F36-4876-8F1A-57BE9D104C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1"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 Express Modul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cycle year references and date ranges updated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added for Dislocated Workers</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85 (Parent) and Q.103 (Student)</a:t>
            </a:r>
            <a:endParaRPr b="0" lang="en-US" sz="2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 added to collect parents’ e-mail address (Q.71)</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to accommodate revised worksheets, data collection and re-ordered question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to display individual elements from Worksheets A and B</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94-95 (Parent) and Q.46-47 (Student) </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941A-E936-4D78-A41F-579B0BBE06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4"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dependency status questions added (Q.56-60)</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ncipated Mino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Guardianship</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ccompanied Youth</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Youth</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Risk of Homelessnes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ain parental status questions reordered to match FAA Access to CPS Online (Step 4)</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5168-B625-44BA-87AE-89207A5E770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7" name="PlaceHolder 2"/>
          <p:cNvSpPr>
            <a:spLocks noGrp="1"/>
          </p:cNvSpPr>
          <p:nvPr>
            <p:ph/>
          </p:nvPr>
        </p:nvSpPr>
        <p:spPr>
          <a:xfrm>
            <a:off x="304920" y="1523520"/>
            <a:ext cx="7975440" cy="4343400"/>
          </a:xfrm>
          <a:prstGeom prst="rect">
            <a:avLst/>
          </a:prstGeom>
          <a:noFill/>
          <a:ln w="0">
            <a:noFill/>
          </a:ln>
        </p:spPr>
        <p:txBody>
          <a:bodyPr anchor="t">
            <a:normAutofit fontScale="93000"/>
          </a:bodyPr>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690840" indent="-2656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Application/Transaction Data Source/Type codes added</a:t>
            </a:r>
            <a:endParaRPr b="0" lang="en-US" sz="2800" spc="-1" strike="noStrike">
              <a:solidFill>
                <a:srgbClr val="000000"/>
              </a:solidFill>
              <a:latin typeface="Verdana"/>
            </a:endParaRPr>
          </a:p>
          <a:p>
            <a:pPr lvl="2" marL="106272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and Spanish PDF</a:t>
            </a:r>
            <a:endParaRPr b="0" lang="en-US" sz="2400" spc="-1" strike="noStrike">
              <a:solidFill>
                <a:srgbClr val="000000"/>
              </a:solidFill>
              <a:latin typeface="Verdana"/>
            </a:endParaRPr>
          </a:p>
          <a:p>
            <a:pPr lvl="2" marL="106272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U = PDF Application</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V = Spanish PDF Application</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 = 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B = Spanish 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E = EZ 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F = Spanish EZ FAFSA on the Ph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5E70-0956-4687-88FD-D06F72E82F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flag added for dependent students who submit application without parental data</a:t>
            </a:r>
            <a:endParaRPr b="0" lang="en-US" sz="2600" spc="-1" strike="noStrike">
              <a:solidFill>
                <a:srgbClr val="000000"/>
              </a:solidFill>
              <a:latin typeface="Verdana"/>
            </a:endParaRPr>
          </a:p>
          <a:p>
            <a:pPr lvl="2" marL="1143000" indent="-2286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ecial Circumstance Flag of “1” (Dependent Student record submitted without parent data)</a:t>
            </a:r>
            <a:endParaRPr b="0" lang="en-US" sz="22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reject</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EFC</a:t>
            </a:r>
            <a:endParaRPr b="0" lang="en-US" sz="2000" spc="-1" strike="noStrike">
              <a:solidFill>
                <a:srgbClr val="000000"/>
              </a:solidFill>
              <a:latin typeface="Verdana"/>
            </a:endParaRPr>
          </a:p>
          <a:p>
            <a:pPr lvl="2" marL="1143000" indent="-2286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ecial Circumstance Flag of “2” (Dependent student record previously submitted with Special Circumstance flag, but correction made to parental data).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94BD-51D2-4ED2-82B6-A34ED07C939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 Expres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TEACH Grant” question (Q.32) will print on the ISIR</a:t>
            </a:r>
            <a:endParaRPr b="0" lang="en-US" sz="32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 “Ye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 “No”</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Don’t know”</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8BBB-3534-401C-8C96-5BC9F373AA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6"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sing Plans question responses reordered to match the FAFSA (Q.104)</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 On Campus</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 With Parent</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Off Campus (Default in Packaging)</a:t>
            </a:r>
            <a:endParaRPr b="0" lang="en-US" sz="24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School Completion Status question updated response #4 from “Other” to “None of the Above” (Q.26)</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updated to include an SSN Match Flag of “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D39F-D26A-446E-891C-2649B602940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9" name="PlaceHolder 2"/>
          <p:cNvSpPr>
            <a:spLocks noGrp="1"/>
          </p:cNvSpPr>
          <p:nvPr>
            <p:ph/>
          </p:nvPr>
        </p:nvSpPr>
        <p:spPr>
          <a:xfrm>
            <a:off x="304920" y="1523520"/>
            <a:ext cx="7975440" cy="4343400"/>
          </a:xfrm>
          <a:prstGeom prst="rect">
            <a:avLst/>
          </a:prstGeom>
          <a:noFill/>
          <a:ln w="0">
            <a:noFill/>
          </a:ln>
        </p:spPr>
        <p:txBody>
          <a:bodyPr anchor="t">
            <a:normAutofit fontScale="97000"/>
          </a:bodyPr>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 wording for signature records updated on ISIR signature page to match the FAFSA</a:t>
            </a:r>
            <a:endParaRPr b="0" lang="en-US" sz="28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SLDS status code values will display and print</a:t>
            </a:r>
            <a:endParaRPr b="0" lang="en-US" sz="2800" spc="-1" strike="noStrike">
              <a:solidFill>
                <a:srgbClr val="000000"/>
              </a:solidFill>
              <a:latin typeface="Verdana"/>
            </a:endParaRPr>
          </a:p>
          <a:p>
            <a:pPr lvl="2" marL="1108440" indent="-221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X = Resolved Fraud Loans</a:t>
            </a:r>
            <a:endParaRPr b="0" lang="en-US" sz="2400" spc="-1" strike="noStrike">
              <a:solidFill>
                <a:srgbClr val="000000"/>
              </a:solidFill>
              <a:latin typeface="Verdana"/>
            </a:endParaRPr>
          </a:p>
          <a:p>
            <a:pPr lvl="2" marL="1108440" indent="-221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Z = Death of a PLUS Student</a:t>
            </a:r>
            <a:endParaRPr b="0" lang="en-US" sz="24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SLDS Program code of “D8” (TEACH Loans) will print and displa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6FD8-92C3-42FF-A3A0-D604558A05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2"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 Expres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NSLDS Codes for Parent PLUS  Deferment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 = Loan status code (Deferred)</a:t>
            </a:r>
            <a:endParaRPr b="0" lang="en-US" sz="28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erment Status PD = Parent PLUS In-School Deferment</a:t>
            </a:r>
            <a:endParaRPr b="0" lang="en-US" sz="24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erment Status PE = Grace Period Deferment (post-enrollm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AAD1-3DDF-4BDF-B775-65AC2CD09C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5"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SLDS data elements included in view and print</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Numb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nded School Cod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action Numb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Update Dat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Grant Sequence Numb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Yea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Level</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Amou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2FE8-D5B9-4A41-AD9D-87159EE3957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SLDS data elements included in view and print (continued)</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 Paid to Date</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payments Change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to Loan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to Loan Change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Conversion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d Award</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Payment Change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 TEACH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Overpayment Contact</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C5D5-90DA-4C5E-8CD6-445402F893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2009 EDExpress Releases 4.0 &amp; 5.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2010 Product Updat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Functiona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ps and Tricks for new Direct Loan Users</a:t>
            </a:r>
            <a:endParaRPr b="0" lang="en-US" sz="2800" spc="-1" strike="noStrike">
              <a:solidFill>
                <a:srgbClr val="000000"/>
              </a:solidFill>
              <a:latin typeface="Verdana"/>
            </a:endParaRPr>
          </a:p>
        </p:txBody>
      </p:sp>
      <p:pic>
        <p:nvPicPr>
          <p:cNvPr id="54" name="Picture 6" descr=""/>
          <p:cNvPicPr/>
          <p:nvPr/>
        </p:nvPicPr>
        <p:blipFill>
          <a:blip r:embed="rId1"/>
          <a:srcRect l="783" t="17709" r="54690" b="44795"/>
          <a:stretch/>
        </p:blipFill>
        <p:spPr>
          <a:xfrm>
            <a:off x="4572000" y="3505320"/>
            <a:ext cx="4343400" cy="2743200"/>
          </a:xfrm>
          <a:prstGeom prst="rect">
            <a:avLst/>
          </a:prstGeom>
          <a:ln w="0">
            <a:noFill/>
          </a:ln>
        </p:spPr>
      </p:pic>
      <p:pic>
        <p:nvPicPr>
          <p:cNvPr id="55" name="Picture 7" descr=""/>
          <p:cNvPicPr/>
          <p:nvPr/>
        </p:nvPicPr>
        <p:blipFill>
          <a:blip r:embed="rId2"/>
          <a:srcRect l="27343" t="30211" r="27343" b="30211"/>
          <a:stretch/>
        </p:blipFill>
        <p:spPr>
          <a:xfrm>
            <a:off x="304920" y="3505320"/>
            <a:ext cx="4190760" cy="274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C8A8-8460-4592-ABFC-6105802EFA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SLDS data element included in view and print (continued)</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Undergraduate/Post-Baccalaureate Disbursement Amount</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Graduate Disbursement Amount</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Loan Outstanding Principal Balanc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Loan Balance</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SLDS Postscreening Code for TEACH Grants (1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C461-5B73-4FC5-A239-BD1F162A56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endParaRPr b="1" lang="en-US" sz="3600" spc="-1" strike="noStrike">
              <a:solidFill>
                <a:srgbClr val="cc5407"/>
              </a:solidFill>
              <a:latin typeface="Verdana"/>
            </a:endParaRPr>
          </a:p>
        </p:txBody>
      </p:sp>
      <p:sp>
        <p:nvSpPr>
          <p:cNvPr id="114" name="PlaceHolder 2"/>
          <p:cNvSpPr>
            <a:spLocks noGrp="1"/>
          </p:cNvSpPr>
          <p:nvPr>
            <p:ph/>
          </p:nvPr>
        </p:nvSpPr>
        <p:spPr>
          <a:xfrm>
            <a:off x="533160" y="1371240"/>
            <a:ext cx="42289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oved “SAR #” column under “View|List Changes” (ISIR Review Tab)</a:t>
            </a:r>
            <a:endParaRPr b="0" lang="en-US" sz="2800" spc="-1" strike="noStrike">
              <a:solidFill>
                <a:srgbClr val="000000"/>
              </a:solidFill>
              <a:latin typeface="Verdana"/>
            </a:endParaRPr>
          </a:p>
        </p:txBody>
      </p:sp>
      <p:pic>
        <p:nvPicPr>
          <p:cNvPr id="115" name="Picture 4" descr=""/>
          <p:cNvPicPr/>
          <p:nvPr/>
        </p:nvPicPr>
        <p:blipFill>
          <a:blip r:embed="rId1"/>
          <a:srcRect l="12662" t="12280" r="10920" b="21051"/>
          <a:stretch/>
        </p:blipFill>
        <p:spPr>
          <a:xfrm>
            <a:off x="4800600" y="1523880"/>
            <a:ext cx="3809880" cy="4114800"/>
          </a:xfrm>
          <a:prstGeom prst="rect">
            <a:avLst/>
          </a:prstGeom>
          <a:ln w="0">
            <a:noFill/>
          </a:ln>
        </p:spPr>
      </p:pic>
      <p:sp>
        <p:nvSpPr>
          <p:cNvPr id="116" name="Oval 5"/>
          <p:cNvSpPr/>
          <p:nvPr/>
        </p:nvSpPr>
        <p:spPr>
          <a:xfrm>
            <a:off x="4648320" y="1523880"/>
            <a:ext cx="533160" cy="3962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FD18-719A-4011-86B2-447450812E0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ckaging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Cycle Year references and date ranges upda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updated to mask first 5 digits of student SSN</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Notification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Offer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 Tracking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Letter-Missing Document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Defined Letters</a:t>
            </a:r>
            <a:endParaRPr b="0" lang="en-US" sz="2400" spc="-1" strike="noStrike">
              <a:solidFill>
                <a:srgbClr val="000000"/>
              </a:solidFill>
              <a:latin typeface="Verdana"/>
            </a:endParaRPr>
          </a:p>
          <a:p>
            <a:pPr marL="343080" indent="0" algn="ctr">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0" name="Picture 4" descr=""/>
          <p:cNvPicPr/>
          <p:nvPr/>
        </p:nvPicPr>
        <p:blipFill>
          <a:blip r:embed="rId1"/>
          <a:srcRect l="17970" t="30211" r="20315" b="55210"/>
          <a:stretch/>
        </p:blipFill>
        <p:spPr>
          <a:xfrm>
            <a:off x="1295280" y="5029200"/>
            <a:ext cx="6019920" cy="1066680"/>
          </a:xfrm>
          <a:prstGeom prst="rect">
            <a:avLst/>
          </a:prstGeom>
          <a:ln w="0">
            <a:noFill/>
          </a:ln>
        </p:spPr>
      </p:pic>
      <p:sp>
        <p:nvSpPr>
          <p:cNvPr id="121" name="AutoShape 5"/>
          <p:cNvSpPr/>
          <p:nvPr/>
        </p:nvSpPr>
        <p:spPr>
          <a:xfrm>
            <a:off x="6019920" y="6019920"/>
            <a:ext cx="485640" cy="519120"/>
          </a:xfrm>
          <a:prstGeom prst="upArrow">
            <a:avLst>
              <a:gd name="adj1" fmla="val 50000"/>
              <a:gd name="adj2" fmla="val 2672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1FE2-3753-4E4B-9125-66A7D6D8A2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4" name="PlaceHolder 2"/>
          <p:cNvSpPr>
            <a:spLocks noGrp="1"/>
          </p:cNvSpPr>
          <p:nvPr>
            <p:ph/>
          </p:nvPr>
        </p:nvSpPr>
        <p:spPr>
          <a:xfrm>
            <a:off x="304920" y="137124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ML Schema 3.0</a:t>
            </a:r>
            <a:r>
              <a:rPr b="1" lang="en-US" sz="2800" spc="-1" strike="noStrike" u="sng">
                <a:solidFill>
                  <a:srgbClr val="000000"/>
                </a:solidFill>
                <a:uFillTx/>
                <a:latin typeface="Verdana"/>
              </a:rPr>
              <a:t>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cycle years and date ranges updated</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Begin Date on or before 6/30/2010</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End Date on or after 7/1/2009</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Y Start Date on or before 6/30/2010</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Y End Date on or before 7/1/2009</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B:  1/1/1910 – 12/31/2001</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bursement Dates:  6/22/2007 – 12/26/2013</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D0BA-2F54-46F9-9236-8FFB759E94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7" name="PlaceHolder 2"/>
          <p:cNvSpPr>
            <a:spLocks noGrp="1"/>
          </p:cNvSpPr>
          <p:nvPr>
            <p:ph/>
          </p:nvPr>
        </p:nvSpPr>
        <p:spPr>
          <a:xfrm>
            <a:off x="304920" y="137124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idized Annual Loan limits increased for undergraduat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1055 re-enabled and updated for ECASLA</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Loan Fee percentage reduced to 1.5% </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s first disbursed on or after 7/1/2009</a:t>
            </a:r>
            <a:endParaRPr b="0" lang="en-US" sz="24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 Rebate percentage updated to 1.0%</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s first disbursed on or after 7/1/2009</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9300-FFCA-46E3-AE53-C9919CDCC97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0" name="PlaceHolder 2"/>
          <p:cNvSpPr>
            <a:spLocks noGrp="1"/>
          </p:cNvSpPr>
          <p:nvPr>
            <p:ph/>
          </p:nvPr>
        </p:nvSpPr>
        <p:spPr>
          <a:xfrm>
            <a:off x="304920" y="1523520"/>
            <a:ext cx="7975440" cy="4343400"/>
          </a:xfrm>
          <a:prstGeom prst="rect">
            <a:avLst/>
          </a:prstGeom>
          <a:noFill/>
          <a:ln w="0">
            <a:noFill/>
          </a:ln>
        </p:spPr>
        <p:txBody>
          <a:bodyPr anchor="t">
            <a:normAutofit fontScale="97000"/>
          </a:bodyPr>
          <a:p>
            <a:pPr marL="332640" indent="-3326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rect Loan Module</a:t>
            </a:r>
            <a:endParaRPr b="0" lang="en-US" sz="26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losure Statements updated to mask first 5 digits of student </a:t>
            </a:r>
            <a:r>
              <a:rPr b="0" i="1" lang="en-US" sz="2400" spc="-1" strike="noStrike">
                <a:solidFill>
                  <a:srgbClr val="000000"/>
                </a:solidFill>
                <a:latin typeface="Verdana"/>
              </a:rPr>
              <a:t>and</a:t>
            </a:r>
            <a:r>
              <a:rPr b="0" lang="en-US" sz="2400" spc="-1" strike="noStrike">
                <a:solidFill>
                  <a:srgbClr val="000000"/>
                </a:solidFill>
                <a:latin typeface="Verdana"/>
              </a:rPr>
              <a:t> parent SSN for Direct PLUS Loans (Parent and GRAD PLUS)</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losure Statements updated to mask first 5 digits of student SSN</a:t>
            </a:r>
            <a:endParaRPr b="0" lang="en-US" sz="2400" spc="-1" strike="noStrike">
              <a:solidFill>
                <a:srgbClr val="000000"/>
              </a:solidFill>
              <a:latin typeface="Verdana"/>
            </a:endParaRPr>
          </a:p>
          <a:p>
            <a:pPr lvl="2" marL="1108440" indent="-2214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bsidized</a:t>
            </a:r>
            <a:endParaRPr b="0" lang="en-US" sz="2200" spc="-1" strike="noStrike">
              <a:solidFill>
                <a:srgbClr val="000000"/>
              </a:solidFill>
              <a:latin typeface="Verdana"/>
            </a:endParaRPr>
          </a:p>
          <a:p>
            <a:pPr lvl="2" marL="1108440" indent="-2214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subsidized</a:t>
            </a:r>
            <a:endParaRPr b="0" lang="en-US" sz="2200" spc="-1" strike="noStrike">
              <a:solidFill>
                <a:srgbClr val="000000"/>
              </a:solidFill>
              <a:latin typeface="Verdana"/>
            </a:endParaRPr>
          </a:p>
          <a:p>
            <a:pPr lvl="2" marL="1108440" indent="-2214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d PLUS</a:t>
            </a:r>
            <a:endParaRPr b="0" lang="en-US" sz="2200" spc="-1" strike="noStrike">
              <a:solidFill>
                <a:srgbClr val="000000"/>
              </a:solidFill>
              <a:latin typeface="Verdana"/>
            </a:endParaRPr>
          </a:p>
          <a:p>
            <a:pPr marL="332640" indent="-3326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ckaging Module will be updated with undergraduate Unsubsidized ECASLA Loan Limi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0FDB-7708-4BB2-BEBB-AEE616D35B8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cycle years and date ranges updated</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Date:  1/1/2009 -6/30/2010</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 Period Start Date:  1/1/2009 – 6/30/2010</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ates:  1/1/2009 – 9/30/20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7747-BEC4-4ABD-BDBD-6CAC7BB1A53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6"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ECASLA change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le noncitizens qualify (Demo tab)</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 updated to incorporate the following changes</a:t>
            </a:r>
            <a:endParaRPr b="0" lang="en-US" sz="28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G eligibility extended to students in certificate programs at degree-granting institutions</a:t>
            </a:r>
            <a:endParaRPr b="0" lang="en-US" sz="24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lf-time students eligib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EE6D-64CA-44AE-919E-69B91DBFC3D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 Modul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MART Grant ECASLA changes</a:t>
            </a:r>
            <a:endParaRPr b="0" lang="en-US" sz="3200" spc="-1" strike="noStrike">
              <a:solidFill>
                <a:srgbClr val="000000"/>
              </a:solidFill>
              <a:latin typeface="Verdana"/>
            </a:endParaRPr>
          </a:p>
          <a:p>
            <a:pPr lvl="2" marL="1143000" indent="-228600">
              <a:lnSpc>
                <a:spcPct val="8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le noncitizens qualify (Demo tab)</a:t>
            </a:r>
            <a:endParaRPr b="0" lang="en-US" sz="2800" spc="-1" strike="noStrike">
              <a:solidFill>
                <a:srgbClr val="000000"/>
              </a:solidFill>
              <a:latin typeface="Verdana"/>
            </a:endParaRPr>
          </a:p>
          <a:p>
            <a:pPr lvl="2" marL="1143000" indent="-228600">
              <a:lnSpc>
                <a:spcPct val="8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 updated to incorporate the following changes</a:t>
            </a:r>
            <a:endParaRPr b="0" lang="en-US" sz="2800" spc="-1" strike="noStrike">
              <a:solidFill>
                <a:srgbClr val="000000"/>
              </a:solidFill>
              <a:latin typeface="Verdana"/>
            </a:endParaRPr>
          </a:p>
          <a:p>
            <a:pPr lvl="3" marL="16002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lang="en-US" sz="2400" spc="-1" strike="noStrike" baseline="30000">
                <a:solidFill>
                  <a:srgbClr val="000000"/>
                </a:solidFill>
                <a:latin typeface="Verdana"/>
              </a:rPr>
              <a:t>th</a:t>
            </a:r>
            <a:r>
              <a:rPr b="0" lang="en-US" sz="2400" spc="-1" strike="noStrike">
                <a:solidFill>
                  <a:srgbClr val="000000"/>
                </a:solidFill>
                <a:latin typeface="Verdana"/>
              </a:rPr>
              <a:t> year eligibility for students in programs requiring five years</a:t>
            </a:r>
            <a:endParaRPr b="0" lang="en-US" sz="2400" spc="-1" strike="noStrike">
              <a:solidFill>
                <a:srgbClr val="000000"/>
              </a:solidFill>
              <a:latin typeface="Verdana"/>
            </a:endParaRPr>
          </a:p>
          <a:p>
            <a:pPr lvl="3" marL="16002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lf-time students eligible</a:t>
            </a:r>
            <a:endParaRPr b="0" lang="en-US" sz="2400" spc="-1" strike="noStrike">
              <a:solidFill>
                <a:srgbClr val="000000"/>
              </a:solidFill>
              <a:latin typeface="Verdana"/>
            </a:endParaRPr>
          </a:p>
          <a:p>
            <a:pPr lvl="3" marL="16002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ain liberal-arts majors eligib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16C5-63D9-4AF9-ADD7-6DAF09B436E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2"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Grant Module</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cycle years and date ranges updated</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ment Date on or after 1/1/2009</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 Date on or after 1/1/2009</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1E33-5A1A-4C20-B717-C023B07BA59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Upcoming EDExpress Releas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822960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4.0 due in January 2009</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ctionality to include</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ports from CO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EDExpress Reports for TEACH</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5.0 due in March 2009</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ctionality to include</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Rebuil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Discharge Report</a:t>
            </a: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9F8E-A73A-4FCE-995F-D16D9160749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Prior Year Imports available:</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School Setup</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Disbursement Profile Code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COD System Setup</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Querie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File Format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Groups Setup</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2802-B15A-4FD1-9880-95DB3A63F50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 Modul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 Counseling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Counseling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equent Counseling</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t Counseling</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solicited Responses - Entrance (CRACxxOP)</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e counseling fields on Demo tab</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2D7B-5E28-4336-A836-EA7BABEC57F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fields on Demo tab</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may require counseling prior to first disbursement </a:t>
            </a:r>
            <a:endParaRPr b="0" lang="en-US" sz="2800" spc="-1" strike="noStrike">
              <a:solidFill>
                <a:srgbClr val="000000"/>
              </a:solidFill>
              <a:latin typeface="Verdana"/>
            </a:endParaRPr>
          </a:p>
        </p:txBody>
      </p:sp>
      <p:pic>
        <p:nvPicPr>
          <p:cNvPr id="152" name="Picture 4" descr=""/>
          <p:cNvPicPr/>
          <p:nvPr/>
        </p:nvPicPr>
        <p:blipFill>
          <a:blip r:embed="rId1"/>
          <a:srcRect l="0" t="0" r="24220" b="76045"/>
          <a:stretch/>
        </p:blipFill>
        <p:spPr>
          <a:xfrm>
            <a:off x="685800" y="2514600"/>
            <a:ext cx="7391520" cy="1752480"/>
          </a:xfrm>
          <a:prstGeom prst="rect">
            <a:avLst/>
          </a:prstGeom>
          <a:ln w="0">
            <a:noFill/>
          </a:ln>
        </p:spPr>
      </p:pic>
      <p:sp>
        <p:nvSpPr>
          <p:cNvPr id="153" name="Oval 5"/>
          <p:cNvSpPr/>
          <p:nvPr/>
        </p:nvSpPr>
        <p:spPr>
          <a:xfrm>
            <a:off x="4343400" y="3429000"/>
            <a:ext cx="411480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
          <p:cNvPicPr/>
          <p:nvPr/>
        </p:nvPicPr>
        <p:blipFill>
          <a:blip r:embed="rId2"/>
          <a:srcRect l="43752" t="38507" r="21876" b="33907"/>
          <a:stretch/>
        </p:blipFill>
        <p:spPr>
          <a:xfrm>
            <a:off x="4648320" y="5029200"/>
            <a:ext cx="3352680" cy="1828800"/>
          </a:xfrm>
          <a:prstGeom prst="rect">
            <a:avLst/>
          </a:prstGeom>
          <a:ln w="0">
            <a:noFill/>
          </a:ln>
        </p:spPr>
      </p:pic>
      <p:sp>
        <p:nvSpPr>
          <p:cNvPr id="155" name="AutoShape 9"/>
          <p:cNvSpPr/>
          <p:nvPr/>
        </p:nvSpPr>
        <p:spPr>
          <a:xfrm>
            <a:off x="3809880" y="5943600"/>
            <a:ext cx="976320" cy="485640"/>
          </a:xfrm>
          <a:prstGeom prst="rightArrow">
            <a:avLst>
              <a:gd name="adj1" fmla="val 50000"/>
              <a:gd name="adj2" fmla="val 50259"/>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50C9-6296-4AC1-88C5-09F43A25431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Tools Release 9.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current Record Layou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Year 2009-2010 Will be Ad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Year 2006-2007 Will be Remo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etail External Add valid transaction date range updated to:  20070622 - 20131226</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B80B-D73B-4284-98F1-A5F77C815D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Modul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ase 3.0 posted June 30,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ows for origination and disbursement of TEACH Grant Reco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can be exported to COD for 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es from COD can be impor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ticipated Disbursements requir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Award is $4000 per ye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8852-6E45-45A1-B649-F2F2618870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Modul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4"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pted ATS on file at COD required in order for COD to accept a TEACH Disburs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accepted ATS on file at COD will cause a disbursement to reject if it is sent too ear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S field is display only; it cannot be updated in EDExpres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9D50-1C98-4728-9F94-1DFAEF3D62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Modul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7975440" cy="434340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ing a TEACH Grant</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 as booking a Direct Loan</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elements need to be accepted at COD in order to book a TEACH Grant</a:t>
            </a:r>
            <a:endParaRPr b="0" lang="en-US" sz="28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pted Origination Record</a:t>
            </a:r>
            <a:endParaRPr b="0" lang="en-US" sz="24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pted ATS</a:t>
            </a:r>
            <a:endParaRPr b="0" lang="en-US" sz="24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pted First Disbursement Record</a:t>
            </a:r>
            <a:endParaRPr b="0" lang="en-US" sz="24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ACH Grant Booked Date is the date that DLSS will use to calculate accrued interest if the Grant converts to a lo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8DA8-725E-433B-BD79-1AE61FBCC8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ulleted Text Sl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oes he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baseline="30000">
                <a:solidFill>
                  <a:srgbClr val="000000"/>
                </a:solidFill>
                <a:latin typeface="Verdana"/>
              </a:rPr>
              <a:t>nd</a:t>
            </a:r>
            <a:r>
              <a:rPr b="0" lang="en-US" sz="2800" spc="-1" strike="noStrike">
                <a:solidFill>
                  <a:srgbClr val="000000"/>
                </a:solidFill>
                <a:latin typeface="Verdana"/>
              </a:rPr>
              <a:t> level inf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baseline="30000">
                <a:solidFill>
                  <a:srgbClr val="000000"/>
                </a:solidFill>
                <a:latin typeface="Verdana"/>
              </a:rPr>
              <a:t>nd</a:t>
            </a:r>
            <a:r>
              <a:rPr b="0" lang="en-US" sz="2800" spc="-1" strike="noStrike">
                <a:solidFill>
                  <a:srgbClr val="000000"/>
                </a:solidFill>
                <a:latin typeface="Verdana"/>
              </a:rPr>
              <a:t> level cont’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oes he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oes here</a:t>
            </a:r>
            <a:endParaRPr b="0" lang="en-US" sz="2800" spc="-1" strike="noStrike">
              <a:solidFill>
                <a:srgbClr val="000000"/>
              </a:solidFill>
              <a:latin typeface="Verdana"/>
            </a:endParaRPr>
          </a:p>
        </p:txBody>
      </p:sp>
      <p:pic>
        <p:nvPicPr>
          <p:cNvPr id="171" name="Picture 4" descr=""/>
          <p:cNvPicPr/>
          <p:nvPr/>
        </p:nvPicPr>
        <p:blipFill>
          <a:blip r:embed="rId1"/>
          <a:srcRect l="0" t="0" r="0" b="6251"/>
          <a:stretch/>
        </p:blipFill>
        <p:spPr>
          <a:xfrm>
            <a:off x="380880" y="457200"/>
            <a:ext cx="8229600" cy="578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0FAF-B9E0-46E6-8026-407BCF8CFC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73" name="Picture 8" descr=""/>
          <p:cNvPicPr/>
          <p:nvPr/>
        </p:nvPicPr>
        <p:blipFill>
          <a:blip r:embed="rId1"/>
          <a:srcRect l="0" t="0" r="20315" b="7294"/>
          <a:stretch/>
        </p:blipFill>
        <p:spPr>
          <a:xfrm>
            <a:off x="1219320" y="447840"/>
            <a:ext cx="6705360" cy="585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ECC5-FE7B-431B-949E-443C7DB13E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for EDExpress Users on IFAP</a:t>
            </a:r>
            <a:endParaRPr b="1" lang="en-US" sz="3600" spc="-1" strike="noStrike">
              <a:solidFill>
                <a:srgbClr val="cc5407"/>
              </a:solidFill>
              <a:latin typeface="Verdana"/>
            </a:endParaRPr>
          </a:p>
        </p:txBody>
      </p:sp>
      <p:sp>
        <p:nvSpPr>
          <p:cNvPr id="17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5/27/2008 - FFEL and Direct Loan Interest Rates Effective July 1, 2008:   </a:t>
            </a:r>
            <a:r>
              <a:rPr b="0" lang="en-US" sz="2800" spc="-1" strike="noStrike" u="sng">
                <a:solidFill>
                  <a:srgbClr val="000099"/>
                </a:solidFill>
                <a:uFillTx/>
                <a:latin typeface="Verdana"/>
                <a:hlinkClick r:id="rId1"/>
              </a:rPr>
              <a:t>http://www.ifap.ed.gov/eannouncements/0527InterestRate20082009.html</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04/2008 - COD Common Record Schema Version 3.0a   </a:t>
            </a:r>
            <a:r>
              <a:rPr b="0" lang="en-US" sz="2800" spc="-1" strike="noStrike" u="sng">
                <a:solidFill>
                  <a:srgbClr val="000099"/>
                </a:solidFill>
                <a:uFillTx/>
                <a:latin typeface="Verdana"/>
                <a:hlinkClick r:id="rId2"/>
              </a:rPr>
              <a:t>http://www.ifap.ed.gov/eannouncements/060408CODSchemaVer30aCorrected.html</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19/2008 - TEACH Grant Operational Implementation Overview:   http://www.ifap.ed.gov/eannouncements/061908AddtlTEACHGrantOpImp.htm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73FF-FB72-4879-A629-56F3E966D4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4.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Reports Available for Import from CO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Reporting Record (THMRxx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N/Name/DOB Differences (THSNPF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ccount Statement (SAS)</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SMxxOP – Monthly fil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SYxxOP – Year to Date (YTD)</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ctive TEACH Grant Report (THIGPF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nding Disbursement Report (THPDxxO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9EDF-A371-490E-90B4-E94E045631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for EDExpress Users on IFAP</a:t>
            </a:r>
            <a:endParaRPr b="1" lang="en-US" sz="36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26/2008 - Upcoming SAIG Message Class File Update:</a:t>
            </a:r>
            <a:r>
              <a:rPr b="0" lang="en-US" sz="2400" spc="-1" strike="noStrike">
                <a:solidFill>
                  <a:srgbClr val="000000"/>
                </a:solidFill>
                <a:latin typeface="Verdana"/>
              </a:rPr>
              <a:t>   http://www.ifap.ed.gov/eannouncements/0626SAIGMessageClassUpdate.html</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30/2008 - CCRAA Operational Implementation Guidance:</a:t>
            </a:r>
            <a:r>
              <a:rPr b="0" lang="en-US" sz="2400" spc="-1" strike="noStrike">
                <a:solidFill>
                  <a:srgbClr val="000000"/>
                </a:solidFill>
                <a:latin typeface="Verdana"/>
              </a:rPr>
              <a:t>   http://www.ifap.ed.gov/eannouncements/063008EDExpressWin3.html</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7/03/2008 - Increase to COD System Capacity - Implementation of Report Retirement Plan:</a:t>
            </a:r>
            <a:r>
              <a:rPr b="1" lang="en-US" sz="2400" spc="-1" strike="noStrike">
                <a:solidFill>
                  <a:srgbClr val="000000"/>
                </a:solidFill>
                <a:latin typeface="Verdana"/>
              </a:rPr>
              <a:t>  </a:t>
            </a:r>
            <a:r>
              <a:rPr b="0" lang="en-US" sz="2400" spc="-1" strike="noStrike">
                <a:solidFill>
                  <a:srgbClr val="000000"/>
                </a:solidFill>
                <a:latin typeface="Verdana"/>
              </a:rPr>
              <a:t>http://www.ifap.ed.gov/eannouncements/070308Capacity1CODPreImplement.html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05A2-49E1-4C97-8858-0D7CFA357A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for EDExpress Users on IFAP</a:t>
            </a:r>
            <a:endParaRPr b="1" lang="en-US" sz="3600" spc="-1" strike="noStrike">
              <a:solidFill>
                <a:srgbClr val="cc5407"/>
              </a:solidFill>
              <a:latin typeface="Verdana"/>
            </a:endParaRPr>
          </a:p>
        </p:txBody>
      </p:sp>
      <p:sp>
        <p:nvSpPr>
          <p:cNvPr id="18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7/24/2008 – The Integrated Partner Management (IPM) System:  http://www.ifap.ed.gov/eannouncements/072408IntegratedPartnerSystem.html</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7/25/2008 - Upcoming SAIG Message Class File Update:  http://www.ifap.ed.gov/eannouncements/072508SAIGmessClassFile.html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7/25/2008 - Increase to COD System Capacity - Removal of Data for Closed Years from Production Environment and Availability of CommonLine Transformation Engine Solution:</a:t>
            </a:r>
            <a:r>
              <a:rPr b="1" lang="en-US" sz="2400" spc="-1" strike="noStrike">
                <a:solidFill>
                  <a:srgbClr val="000000"/>
                </a:solidFill>
                <a:latin typeface="Verdana"/>
              </a:rPr>
              <a:t>  </a:t>
            </a:r>
            <a:r>
              <a:rPr b="0" lang="en-US" sz="2400" spc="-1" strike="noStrike">
                <a:solidFill>
                  <a:srgbClr val="000000"/>
                </a:solidFill>
                <a:latin typeface="Verdana"/>
              </a:rPr>
              <a:t> http://www.ifap.ed.gov/eannouncements/072508Capacity2PreImp.ht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93F0-0D9A-49D2-9E03-90122EED03A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lpful EDExpress Resources on IFAP</a:t>
            </a:r>
            <a:endParaRPr b="1" lang="en-US" sz="36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7/25/2008 – COD Common Record SML Schema Version 3.0b available:  http://www.ifap.ed.gov/eannouncements/0725CODXMLSchema3pt0b.htm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7/28/2008 - 2009-2010 COD Technical Reference Draft Available:  http://www.ifap.ed.gov/eannouncements/072808CODTechRef0910.html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5ECC-EDA5-4191-8812-49C0ECA4A4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88" name="Text Box 3"/>
          <p:cNvSpPr/>
          <p:nvPr/>
        </p:nvSpPr>
        <p:spPr>
          <a:xfrm>
            <a:off x="533520" y="144792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800-330-5947</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TY:     800-511-5806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CPSSAIG@ed.go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Express Direct Loan Module– Tips for New Direct Loan Schools</a:t>
            </a:r>
            <a:r>
              <a:rPr b="1" lang="en-US" sz="3600" spc="-1" strike="noStrike">
                <a:solidFill>
                  <a:srgbClr val="cc5407"/>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AB67-5983-4405-8D21-BB5A62A3C4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SAIG Mailbox Update</a:t>
            </a:r>
            <a:endParaRPr b="1" lang="en-US" sz="3600" spc="-1" strike="noStrike">
              <a:solidFill>
                <a:srgbClr val="cc5407"/>
              </a:solidFill>
              <a:latin typeface="Verdana"/>
            </a:endParaRPr>
          </a:p>
        </p:txBody>
      </p:sp>
      <p:sp>
        <p:nvSpPr>
          <p:cNvPr id="19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SAIG Enrollment to include Direct Loan Services</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ttps://www.fsawebenroll.ed.gov/PMEnroll</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3" name="Picture 4" descr=""/>
          <p:cNvPicPr/>
          <p:nvPr/>
        </p:nvPicPr>
        <p:blipFill>
          <a:blip r:embed="rId1"/>
          <a:srcRect l="3906" t="12502" r="8594" b="75006"/>
          <a:stretch/>
        </p:blipFill>
        <p:spPr>
          <a:xfrm>
            <a:off x="380880" y="3276720"/>
            <a:ext cx="8534520" cy="914400"/>
          </a:xfrm>
          <a:prstGeom prst="rect">
            <a:avLst/>
          </a:prstGeom>
          <a:ln w="0">
            <a:noFill/>
          </a:ln>
        </p:spPr>
      </p:pic>
      <p:pic>
        <p:nvPicPr>
          <p:cNvPr id="194" name="Picture 5" descr=""/>
          <p:cNvPicPr/>
          <p:nvPr/>
        </p:nvPicPr>
        <p:blipFill>
          <a:blip r:embed="rId2"/>
          <a:srcRect l="17188" t="57297" r="44535" b="23960"/>
          <a:stretch/>
        </p:blipFill>
        <p:spPr>
          <a:xfrm>
            <a:off x="2438280" y="4267080"/>
            <a:ext cx="3733920" cy="1371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1B0C-C972-4FE8-8A5B-E431D824DD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G5 Update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your bank account information in G5 (GAP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s://www.G5.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98" name="Picture 4" descr=""/>
          <p:cNvPicPr/>
          <p:nvPr/>
        </p:nvPicPr>
        <p:blipFill>
          <a:blip r:embed="rId1"/>
          <a:srcRect l="7032" t="11458" r="3127" b="42708"/>
          <a:stretch/>
        </p:blipFill>
        <p:spPr>
          <a:xfrm>
            <a:off x="685800" y="3139920"/>
            <a:ext cx="7924680" cy="3032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A274-B63E-4B1D-A27B-A0C6C93017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COD Contacts</a:t>
            </a:r>
            <a:endParaRPr b="1" lang="en-US" sz="3600" spc="-1" strike="noStrike">
              <a:solidFill>
                <a:srgbClr val="cc5407"/>
              </a:solidFill>
              <a:latin typeface="Verdana"/>
            </a:endParaRPr>
          </a:p>
        </p:txBody>
      </p:sp>
      <p:sp>
        <p:nvSpPr>
          <p:cNvPr id="20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your COD CSR regarding your Direct Loan participation</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00-848-0978</a:t>
            </a: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your COD School profile</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s://www.cod.ed.gov</a:t>
            </a:r>
            <a:endParaRPr b="0" lang="en-US" sz="2800" spc="-1" strike="noStrike">
              <a:solidFill>
                <a:srgbClr val="000000"/>
              </a:solidFill>
              <a:latin typeface="Verdana"/>
            </a:endParaRPr>
          </a:p>
        </p:txBody>
      </p:sp>
      <p:pic>
        <p:nvPicPr>
          <p:cNvPr id="202" name="Picture 4" descr=""/>
          <p:cNvPicPr/>
          <p:nvPr/>
        </p:nvPicPr>
        <p:blipFill>
          <a:blip r:embed="rId1"/>
          <a:srcRect l="0" t="11458" r="21093" b="77088"/>
          <a:stretch/>
        </p:blipFill>
        <p:spPr>
          <a:xfrm>
            <a:off x="457200" y="4419720"/>
            <a:ext cx="7696080" cy="838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4B6F-1E56-452B-AF54-B3D1C4BE560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MPN Processing</a:t>
            </a:r>
            <a:endParaRPr b="1" lang="en-US" sz="3600" spc="-1" strike="noStrike">
              <a:solidFill>
                <a:srgbClr val="cc5407"/>
              </a:solidFill>
              <a:latin typeface="Verdana"/>
            </a:endParaRPr>
          </a:p>
        </p:txBody>
      </p:sp>
      <p:sp>
        <p:nvSpPr>
          <p:cNvPr id="205" name="PlaceHolder 2"/>
          <p:cNvSpPr>
            <a:spLocks noGrp="1"/>
          </p:cNvSpPr>
          <p:nvPr>
            <p:ph/>
          </p:nvPr>
        </p:nvSpPr>
        <p:spPr>
          <a:xfrm>
            <a:off x="4647960" y="1523520"/>
            <a:ext cx="41907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 processing -</a:t>
            </a:r>
            <a:r>
              <a:rPr b="0" lang="en-US" sz="2800" spc="-1" strike="noStrike">
                <a:solidFill>
                  <a:srgbClr val="000000"/>
                </a:solidFill>
                <a:latin typeface="Verdana"/>
              </a:rPr>
              <a:t>Pap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EDExpress DL School Setup</a:t>
            </a:r>
            <a:endParaRPr b="0" lang="en-US" sz="2800" spc="-1" strike="noStrike">
              <a:solidFill>
                <a:srgbClr val="000000"/>
              </a:solidFill>
              <a:latin typeface="Verdana"/>
            </a:endParaRPr>
          </a:p>
        </p:txBody>
      </p:sp>
      <p:pic>
        <p:nvPicPr>
          <p:cNvPr id="206" name="Picture 5" descr=""/>
          <p:cNvPicPr/>
          <p:nvPr/>
        </p:nvPicPr>
        <p:blipFill>
          <a:blip r:embed="rId1"/>
          <a:srcRect l="0" t="12502" r="35937" b="56253"/>
          <a:stretch/>
        </p:blipFill>
        <p:spPr>
          <a:xfrm>
            <a:off x="609480" y="2133720"/>
            <a:ext cx="3505320" cy="1728720"/>
          </a:xfrm>
          <a:prstGeom prst="rect">
            <a:avLst/>
          </a:prstGeom>
          <a:ln w="0">
            <a:noFill/>
          </a:ln>
        </p:spPr>
      </p:pic>
      <p:pic>
        <p:nvPicPr>
          <p:cNvPr id="207" name="Picture 6" descr=""/>
          <p:cNvPicPr/>
          <p:nvPr/>
        </p:nvPicPr>
        <p:blipFill>
          <a:blip r:embed="rId2"/>
          <a:srcRect l="73484" t="18182" r="21854" b="76374"/>
          <a:stretch/>
        </p:blipFill>
        <p:spPr>
          <a:xfrm>
            <a:off x="6095880" y="4038480"/>
            <a:ext cx="1828800" cy="1600200"/>
          </a:xfrm>
          <a:prstGeom prst="rect">
            <a:avLst/>
          </a:prstGeom>
          <a:ln w="0">
            <a:noFill/>
          </a:ln>
        </p:spPr>
      </p:pic>
      <p:sp>
        <p:nvSpPr>
          <p:cNvPr id="208" name="Rectangle 7"/>
          <p:cNvSpPr/>
          <p:nvPr/>
        </p:nvSpPr>
        <p:spPr>
          <a:xfrm>
            <a:off x="533520" y="4267080"/>
            <a:ext cx="5181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 processing -Electronic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s://www.dlenote.ed.g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0E72-8EA2-4FAC-94B3-203C39584A1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Direct Loan Web Sites</a:t>
            </a:r>
            <a:endParaRPr b="1" lang="en-US" sz="3600" spc="-1" strike="noStrike">
              <a:solidFill>
                <a:srgbClr val="cc5407"/>
              </a:solidFill>
              <a:latin typeface="Verdana"/>
            </a:endParaRPr>
          </a:p>
        </p:txBody>
      </p:sp>
      <p:sp>
        <p:nvSpPr>
          <p:cNvPr id="21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dditional Direct Loan-related web sit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irect Loan Servicing </a:t>
            </a:r>
            <a:r>
              <a:rPr b="0" lang="en-US" sz="2800" spc="-1" strike="noStrike">
                <a:solidFill>
                  <a:srgbClr val="000000"/>
                </a:solidFill>
                <a:latin typeface="Verdana"/>
                <a:ea typeface="Times New Roman"/>
              </a:rPr>
              <a:t>https://www.dl.ed.gov</a:t>
            </a:r>
            <a:r>
              <a:rPr b="0" lang="en-US" sz="3200" spc="-1" strike="noStrike">
                <a:solidFill>
                  <a:srgbClr val="000000"/>
                </a:solidFill>
                <a:latin typeface="Verdana"/>
                <a:ea typeface="Times New Roman"/>
              </a:rPr>
              <a:t>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irect Loan Consolidation </a:t>
            </a:r>
            <a:r>
              <a:rPr b="0" lang="en-US" sz="2800" spc="-1" strike="noStrike">
                <a:solidFill>
                  <a:srgbClr val="000000"/>
                </a:solidFill>
                <a:latin typeface="Verdana"/>
                <a:ea typeface="Times New Roman"/>
              </a:rPr>
              <a:t>https://www.loanconsolidation.ed.gov</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L Software and Reference Material </a:t>
            </a:r>
            <a:r>
              <a:rPr b="0" lang="en-US" sz="2800" spc="-1" strike="noStrike">
                <a:solidFill>
                  <a:srgbClr val="000000"/>
                </a:solidFill>
                <a:latin typeface="Verdana"/>
                <a:ea typeface="Times New Roman"/>
              </a:rPr>
              <a:t>https://www.fsadownload.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5285-C80B-4ECA-AAFE-936746A6313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4.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4"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TEACH Grant Reports avail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 Processed Disbursements YT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 Disbursement Activity Summar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s by Student - Origin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s by Student – Disburs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 TEACH Statu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Summary (TEACH Grant to be add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N/Name Differenc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9214-7ACB-447D-ACE7-89FE3C32C64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a:t>
            </a:r>
            <a:endParaRPr b="1" lang="en-US" sz="3600" spc="-1" strike="noStrike">
              <a:solidFill>
                <a:srgbClr val="cc5407"/>
              </a:solidFill>
              <a:latin typeface="Verdana"/>
            </a:endParaRPr>
          </a:p>
        </p:txBody>
      </p:sp>
      <p:sp>
        <p:nvSpPr>
          <p:cNvPr id="21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school as a Direct Loan Participant in EDExpres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Global/School</a:t>
            </a:r>
            <a:endParaRPr b="0" lang="en-US" sz="2800" spc="-1" strike="noStrike">
              <a:solidFill>
                <a:srgbClr val="000000"/>
              </a:solidFill>
              <a:latin typeface="Verdana"/>
            </a:endParaRPr>
          </a:p>
        </p:txBody>
      </p:sp>
      <p:pic>
        <p:nvPicPr>
          <p:cNvPr id="215" name="Picture 4" descr=""/>
          <p:cNvPicPr/>
          <p:nvPr/>
        </p:nvPicPr>
        <p:blipFill>
          <a:blip r:embed="rId1"/>
          <a:srcRect l="25782" t="25004" r="25782" b="28124"/>
          <a:stretch/>
        </p:blipFill>
        <p:spPr>
          <a:xfrm>
            <a:off x="1905120" y="3200400"/>
            <a:ext cx="5562360" cy="3033720"/>
          </a:xfrm>
          <a:prstGeom prst="rect">
            <a:avLst/>
          </a:prstGeom>
          <a:ln w="0">
            <a:noFill/>
          </a:ln>
        </p:spPr>
      </p:pic>
      <p:sp>
        <p:nvSpPr>
          <p:cNvPr id="216" name="AutoShape 5"/>
          <p:cNvSpPr/>
          <p:nvPr/>
        </p:nvSpPr>
        <p:spPr>
          <a:xfrm>
            <a:off x="5791320" y="4952880"/>
            <a:ext cx="976320" cy="486000"/>
          </a:xfrm>
          <a:prstGeom prst="leftArrow">
            <a:avLst>
              <a:gd name="adj1" fmla="val 50000"/>
              <a:gd name="adj2" fmla="val 50222"/>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8D57-0654-4EFD-B846-DC56AC1866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a:t>
            </a:r>
            <a:endParaRPr b="1" lang="en-US" sz="3600" spc="-1" strike="noStrike">
              <a:solidFill>
                <a:srgbClr val="cc5407"/>
              </a:solidFill>
              <a:latin typeface="Verdana"/>
            </a:endParaRPr>
          </a:p>
        </p:txBody>
      </p:sp>
      <p:sp>
        <p:nvSpPr>
          <p:cNvPr id="21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Direct Loan school profile in EDExpres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COD/School/Direct Loan</a:t>
            </a:r>
            <a:endParaRPr b="0" lang="en-US" sz="2800" spc="-1" strike="noStrike">
              <a:solidFill>
                <a:srgbClr val="000000"/>
              </a:solidFill>
              <a:latin typeface="Verdana"/>
            </a:endParaRPr>
          </a:p>
        </p:txBody>
      </p:sp>
      <p:pic>
        <p:nvPicPr>
          <p:cNvPr id="220" name="Picture 4" descr=""/>
          <p:cNvPicPr/>
          <p:nvPr/>
        </p:nvPicPr>
        <p:blipFill>
          <a:blip r:embed="rId1"/>
          <a:srcRect l="10155" t="10420" r="12500" b="27086"/>
          <a:stretch/>
        </p:blipFill>
        <p:spPr>
          <a:xfrm>
            <a:off x="1523880" y="3200400"/>
            <a:ext cx="6324840" cy="2895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C752-31E8-4E05-8991-98431A14449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a:t>
            </a:r>
            <a:endParaRPr b="1" lang="en-US" sz="3600" spc="-1" strike="noStrike">
              <a:solidFill>
                <a:srgbClr val="cc5407"/>
              </a:solidFill>
              <a:latin typeface="Verdana"/>
            </a:endParaRPr>
          </a:p>
        </p:txBody>
      </p:sp>
      <p:sp>
        <p:nvSpPr>
          <p:cNvPr id="22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Direct Loan Source Entity ID in EDExpres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COD/System</a:t>
            </a:r>
            <a:endParaRPr b="0" lang="en-US" sz="2800" spc="-1" strike="noStrike">
              <a:solidFill>
                <a:srgbClr val="000000"/>
              </a:solidFill>
              <a:latin typeface="Verdana"/>
            </a:endParaRPr>
          </a:p>
        </p:txBody>
      </p:sp>
      <p:pic>
        <p:nvPicPr>
          <p:cNvPr id="224" name="Picture 4" descr=""/>
          <p:cNvPicPr/>
          <p:nvPr/>
        </p:nvPicPr>
        <p:blipFill>
          <a:blip r:embed="rId1"/>
          <a:srcRect l="33597" t="29168" r="33597" b="30211"/>
          <a:stretch/>
        </p:blipFill>
        <p:spPr>
          <a:xfrm>
            <a:off x="2514600" y="3124080"/>
            <a:ext cx="4648320" cy="3395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A11A-8243-486E-AFE5-4D78FE0F7F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 </a:t>
            </a:r>
            <a:endParaRPr b="1" lang="en-US" sz="3600" spc="-1" strike="noStrike">
              <a:solidFill>
                <a:srgbClr val="cc5407"/>
              </a:solidFill>
              <a:latin typeface="Verdana"/>
            </a:endParaRPr>
          </a:p>
        </p:txBody>
      </p:sp>
      <p:sp>
        <p:nvSpPr>
          <p:cNvPr id="22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Direct Loan Disbursement Profiles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COD/Disbursement</a:t>
            </a:r>
            <a:endParaRPr b="0" lang="en-US" sz="2800" spc="-1" strike="noStrike">
              <a:solidFill>
                <a:srgbClr val="000000"/>
              </a:solidFill>
              <a:latin typeface="Verdana"/>
            </a:endParaRPr>
          </a:p>
        </p:txBody>
      </p:sp>
      <p:pic>
        <p:nvPicPr>
          <p:cNvPr id="228" name="Picture 4" descr=""/>
          <p:cNvPicPr/>
          <p:nvPr/>
        </p:nvPicPr>
        <p:blipFill>
          <a:blip r:embed="rId1"/>
          <a:srcRect l="25003" t="16666" r="25782" b="25845"/>
          <a:stretch/>
        </p:blipFill>
        <p:spPr>
          <a:xfrm>
            <a:off x="1752480" y="3048120"/>
            <a:ext cx="5943600" cy="3200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4C0B-254B-4236-9AAC-97084D317E5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CBT Resources</a:t>
            </a:r>
            <a:endParaRPr b="1" lang="en-US" sz="3600" spc="-1" strike="noStrike">
              <a:solidFill>
                <a:srgbClr val="cc5407"/>
              </a:solidFill>
              <a:latin typeface="Verdana"/>
            </a:endParaRPr>
          </a:p>
        </p:txBody>
      </p:sp>
      <p:sp>
        <p:nvSpPr>
          <p:cNvPr id="23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utorial Web-based training (WBT) on IFAP</a:t>
            </a:r>
            <a:endParaRPr b="0" lang="en-US" sz="3200" spc="-1" strike="noStrike">
              <a:solidFill>
                <a:srgbClr val="000000"/>
              </a:solidFill>
              <a:latin typeface="Verdana"/>
            </a:endParaRPr>
          </a:p>
        </p:txBody>
      </p:sp>
      <p:pic>
        <p:nvPicPr>
          <p:cNvPr id="232" name="Picture 4" descr=""/>
          <p:cNvPicPr/>
          <p:nvPr/>
        </p:nvPicPr>
        <p:blipFill>
          <a:blip r:embed="rId1"/>
          <a:srcRect l="16405" t="29168" r="53907" b="35419"/>
          <a:stretch/>
        </p:blipFill>
        <p:spPr>
          <a:xfrm>
            <a:off x="2514600" y="2666880"/>
            <a:ext cx="3733920" cy="334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0FFD-1C4B-4564-8A21-4985E3EE37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4.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ECASLA Chang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idized Annual Loan Limits increased for dependent and independent undergraduates</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limit edit disabled with DLL patch posted on 7/14/2008 for Release 3.0</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limit edit #1055 removed in Release 4.0 and forward</a:t>
            </a:r>
            <a:endParaRPr b="0" lang="en-US" sz="24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loans first disbursed on or after 07/01/2008</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Packaging</a:t>
            </a:r>
            <a:r>
              <a:rPr b="0" lang="en-US" sz="2800" spc="-1" strike="noStrike">
                <a:solidFill>
                  <a:srgbClr val="000000"/>
                </a:solidFill>
                <a:latin typeface="Verdana"/>
              </a:rPr>
              <a:t> Module will continue to package at pre-ECASLA loan lim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02B1-7C48-4599-A0A1-8BFBF3B654C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5.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Updat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Rebuild (THRBxxOP)</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t all</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 and print exception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build all</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Discharge (ATSDIS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ase expected in March 200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0C62-B44B-4BB4-B74D-01F090CD25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3"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lobal Mod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Cycle Year references and date ranges updat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cific Islander SSNs entered manually</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88-</a:t>
            </a:r>
            <a:r>
              <a:rPr b="1" lang="en-US" sz="3200" spc="-1" strike="noStrike" u="sng">
                <a:solidFill>
                  <a:srgbClr val="ff3300"/>
                </a:solidFill>
                <a:uFillTx/>
                <a:latin typeface="Verdana"/>
              </a:rPr>
              <a:t>17</a:t>
            </a:r>
            <a:r>
              <a:rPr b="0" lang="en-US" sz="3200" spc="-1" strike="noStrike">
                <a:solidFill>
                  <a:srgbClr val="000000"/>
                </a:solidFill>
                <a:latin typeface="Verdana"/>
              </a:rPr>
              <a:t>-9999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4DD6-D616-41A7-90D5-BB6DB70581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6"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lobal Mod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tters updated to mask first 5 digits of student SSN</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 Tracking Letter</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Defined Letters</a:t>
            </a:r>
            <a:endParaRPr b="0" lang="en-US" sz="3200" spc="-1" strike="noStrike">
              <a:solidFill>
                <a:srgbClr val="000000"/>
              </a:solidFill>
              <a:latin typeface="Verdana"/>
            </a:endParaRPr>
          </a:p>
          <a:p>
            <a:pPr lvl="1" marL="74304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77" name="Picture 4" descr=""/>
          <p:cNvPicPr/>
          <p:nvPr/>
        </p:nvPicPr>
        <p:blipFill>
          <a:blip r:embed="rId1"/>
          <a:srcRect l="17970" t="30211" r="20315" b="55210"/>
          <a:stretch/>
        </p:blipFill>
        <p:spPr>
          <a:xfrm>
            <a:off x="1447920" y="4495680"/>
            <a:ext cx="6019560" cy="1067040"/>
          </a:xfrm>
          <a:prstGeom prst="rect">
            <a:avLst/>
          </a:prstGeom>
          <a:ln w="0">
            <a:noFill/>
          </a:ln>
        </p:spPr>
      </p:pic>
      <p:sp>
        <p:nvSpPr>
          <p:cNvPr id="78" name="AutoShape 6"/>
          <p:cNvSpPr/>
          <p:nvPr/>
        </p:nvSpPr>
        <p:spPr>
          <a:xfrm>
            <a:off x="6095880" y="5486400"/>
            <a:ext cx="486000" cy="976320"/>
          </a:xfrm>
          <a:prstGeom prst="upArrow">
            <a:avLst>
              <a:gd name="adj1" fmla="val 50000"/>
              <a:gd name="adj2" fmla="val 50222"/>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RENTEX</cp:lastModifiedBy>
  <dcterms:modified xsi:type="dcterms:W3CDTF">2008-12-01T20:49:05Z</dcterms:modified>
  <cp:revision>546</cp:revision>
  <dc:subject/>
  <dc:title>PowerPoint Presentation</dc:title>
</cp:coreProperties>
</file>