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DDC1-6366-4FFE-A063-D16C7BBB4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E117E-7548-496F-8AE4-9B4E7AD0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ADF9AFD-CDA1-4434-90FE-13C406A3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0165-3091-408C-A4FC-9E1A43F6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F85451F-9ADD-4C4A-B81C-A6BAF56A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FC29-E77D-4A2D-917E-11E7E6E0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516017F-0F7B-4C9A-BAC4-A57E34BF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1CC26-42E6-44F6-B28F-14619BF5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49AF538-4DFD-4A31-8AC1-1EA702E7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8175-03D6-4F78-8FC2-A907078D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ing out available balances especially as years are getting cancell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0A12EC3-A650-4291-AC01-BFEBD52E3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4A429-2D9B-4F81-A1AB-650A32140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9AE5A33-D90B-4520-986F-26C77C57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5FB5A-0E3B-4C14-8515-F70E254C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797E8FE-7CC2-4464-884A-BBF1940B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ED2CE-B980-4703-9BC9-8B110860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70E1B3E-96DE-4B37-8820-B2010FA59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57355-EE94-4CD0-947D-DD84CC09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78F3658-9731-4A1C-AA0C-982F5A021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F36FB-D86D-4DEF-9CDE-966B2FE7E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888BBD8-A6E1-40A4-9E64-3B1075BD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C75F6-107C-402D-8FF9-D35E4B5CD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7206DDB-0893-4727-A01B-BE0AC5F0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74EC9-C2DA-4087-ADD6-3C5B9430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7CEA074-DBA7-41B0-A71C-A38FCFDA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268A3-C677-4BC4-A41D-5AC67352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FE3E525-4F42-407E-9156-57C5FC0B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3A91B-695D-4593-88A8-B2F958E1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F0D6076-2D33-44AD-BD43-CC0CCA8F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A7DCA-4BB5-4CFD-9039-68A22621D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08DD9FB-92F2-4CF5-811C-1F44363B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2853D-C270-4DE9-B713-1CF5A19D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8FF8CCF-0DA8-4054-95F8-A7B741A1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F5442-D288-4814-A445-2BA341503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8DBCBBA-FACD-4D34-9DF9-F2598BB3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2ED7A-367F-4D50-8EC0-2C3CE12B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82ADCA5-A192-40F9-863D-C5F16EC9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D5F69-4340-4B14-9907-666D3011A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D1D2CED-C9F0-4135-982A-3491CED8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07F65-51D0-4EBF-9F62-798D514A7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2920"/>
            <a:ext cx="703872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0F4B757-BD22-458B-B38E-D5F51AAD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E78AD-4173-4F46-8C11-A7D40BDC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FEFA22C-13B6-4F37-B694-E58521E1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CD1D1-B919-4BD3-A279-6448615B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0735719-70F5-4D10-8C11-EE6FBDA84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8E42E-BA82-4390-92BB-BBD7137F6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6C70240-71BE-409D-BB9A-477EEEA6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60167-95D9-4F85-9E1D-DE1B6A0D2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AC0CDD2-1DE5-47A6-966F-EE3451D0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8B92F-47E8-4A19-9985-CAEA91F4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70DC8AE-37BE-4055-9D23-FC111DA2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B3C0A-12C0-4CAE-AC12-EDC9414D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9D18869-05AD-40B9-BA4B-AD762B1E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5D13-716D-44FF-B562-FF2AC789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4650EC6-EF9B-43A0-ABE8-D39169F04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56C5-0722-42B9-93F2-0E23A6A8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84BB5D6-E5E7-42E3-8AC2-3B4A7261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62F74-9121-403C-B420-AF90BE75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5EA0D3B-3F01-49D9-8BDB-A22546F5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5DF89-B261-4CFD-B827-EABCAFD97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E3313AA-46CE-4610-AF85-34FF9651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6138-CE63-437D-912B-6F6C4F41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9B96B9E-4DA3-4EAE-8DF5-9B2F34C7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18EE2-5168-40A9-9879-06DDD263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B5733A4-7DC5-442E-8915-D28AC3BC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15DBC-8415-40F0-99E6-4CDD5FF1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E940F3A-5D03-43D0-A85E-F3A48CBE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7E11-66F2-4484-BB5B-F9B45B148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93F78B4-2DDD-48BC-96EB-CD2FBA596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D5FCA-F9BA-4F0F-A5F4-E0F8DB99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3F4C84F-D072-4E6F-A663-26FADF05E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4D61A-245D-4627-987F-A4A34383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D9CB656-B992-4BB9-A431-B9D57B78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84023-14AA-449B-904E-5CA41B23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EFA928C-F500-4141-8F45-1C9445E3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030C6-6C02-4A15-A948-73BF98674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49F06E2-3D69-48B9-AD15-AF73CCDD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5596C-E790-4681-BB2A-E767E97C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9BDFC33-8D10-4874-A4E0-39FDE9B5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F15D-6362-43C1-9B96-B54767BBF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C4912C4-FF4E-47F9-9698-E52607F5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5F37-EF9F-4C34-8CF1-6738CFC6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40526D9-6555-4486-904A-3CE8EAA92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69FE-A1B7-4BC6-8C7A-0F4800F6E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F638-E009-4142-91C0-1A34035C4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A4E0-4F73-43E3-B27D-6075CCC44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5BDC-6C61-4820-9CEB-31C033C02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ABD8-7EC4-4025-82DA-B071EABE11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8E4D-9986-4B0E-A6FC-9963130D8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1FE0-D327-4FFD-B64A-23498F579B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880C-0E51-437C-99A1-2B5B24890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377C-08B0-423F-8831-F0F0AFCE6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87BB-51A6-4815-AEB8-8997BBEA81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5F6B-B044-4F4B-AECC-65F6D9094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5819-0799-41BE-8F74-320C6C355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8E5B-1C86-41A6-8ABA-6069571271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1CEE-7699-4152-989E-67A6B6871E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CB3E-B651-4EE5-B074-5584E5B64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F575-A62B-4FF3-99A4-A5D92B9C4B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79CE-8813-41D3-8C12-4F0584B39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139B-31A1-4333-B6AA-8BAD3B468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2CFA-FFC7-4F59-AA2E-B4B793309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35FB-4C58-46D0-83C3-1C2F6696D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E171-1EE5-4644-A34D-74AD7B47C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3923-A6F1-4A1D-BBA0-F0522FE58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2593-2299-42E3-AA00-66890947D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9977-8270-4AEE-8664-7822F74A4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BA12-E16F-4A77-BC63-826BF415FC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923-42F0-473F-BD72-7B65467A8C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://images.search.yahoo.com/search/images?p=cartoon+clip+art&amp;ei=UTF-8&amp;qp_p=clip+art+cartoon&amp;imgsz=all&amp;fr=yfp-t-501&amp;b=161&amp;w=290&amp;h=300&amp;imgurl=www.acclaimimages.com/_gallery/_SM/0093-0509-2113-3927_SM.jpg&amp;rurl=http://www.acclaimimages.com/_gallery/_pages/0093-0509-2113-3927.html&amp;size=80.4kB&amp;name=0093-0509-2113-3927_SM.jpg&amp;p=cartoon+clip+art&amp;type=jpeg&amp;no=162&amp;tt=11,917&amp;oid=cd1c25cde0bdf2e2&amp;ei=UTF-8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anthony.laing@ed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1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itle IV Funding to Schools:  From COD through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Pell Grants, ACG and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hony T. (Tony) La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45F3-982F-47B6-A124-EF0C973FAA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ur Program Wide Global Reduction Job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Reduction to Net Accepted and Posted Disbursements (NAP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W Verification R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 &amp; SMART No Pell De-obl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, ACG &amp; SMART Reduction to GAPS Net Draw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189-ACF0-4F2B-BDC8-06411D3228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Reduction to Net Accepted &amp; Posted Disbursement Recor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828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Diagram 4" descr=""/>
          <p:cNvPicPr/>
          <p:nvPr/>
        </p:nvPicPr>
        <p:blipFill>
          <a:blip r:embed="rId1"/>
          <a:stretch/>
        </p:blipFill>
        <p:spPr>
          <a:xfrm>
            <a:off x="384120" y="2438280"/>
            <a:ext cx="8759880" cy="19512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4419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tion Cycle will reduce the Authorization to equal Net Accepted and Posted Disbursements (NAPD)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2008 –2009 Pell CFL Reduction to NAP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685800" y="2666880"/>
            <a:ext cx="67816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itial Authorization - $1,0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65200" y="214776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y 2008: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676520" y="4267080"/>
            <a:ext cx="63244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APD - $5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286000" y="5257800"/>
            <a:ext cx="63244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duction - $5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61600" y="36720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anuary 2009: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6629400" y="320040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cc510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7467480" y="47242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cc510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8809-F4DD-45A8-8E58-C9DBE60DC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8C39-6641-4858-81AD-7C5E26C26A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Reduction to Net Accepted &amp; Posted Disbursement Records (NAP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7-2008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74 schools reduced by $23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86CC-091C-451C-A3C8-84559E3E8F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y Reconciled!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2" name="Diagram 5" descr=""/>
          <p:cNvPicPr/>
          <p:nvPr/>
        </p:nvPicPr>
        <p:blipFill>
          <a:blip r:embed="rId1"/>
          <a:stretch/>
        </p:blipFill>
        <p:spPr>
          <a:xfrm>
            <a:off x="1511280" y="1736640"/>
            <a:ext cx="62676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E392-DF0F-4664-8213-A409750059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y Reconciled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Zero Availabl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vailabl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100 schools in prior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gativ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00-900 schools in prior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C487-56C9-41F1-B05D-5C302BE5F3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43080" y="1828800"/>
            <a:ext cx="7467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hool of Outstanding Students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unding Info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P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ward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08-09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Funding Information</a:t>
            </a:r>
            <a:br>
              <a:rPr sz="36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Web Scree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66760" y="2971800"/>
          <a:ext cx="7581960" cy="2921040"/>
        </p:xfrm>
        <a:graphic>
          <a:graphicData uri="http://schemas.openxmlformats.org/drawingml/2006/table">
            <a:tbl>
              <a:tblPr/>
              <a:tblGrid>
                <a:gridCol w="5805360"/>
                <a:gridCol w="177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y ID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444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CFL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CFL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le Balance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&gt; Net Accepted &amp; Posted Disburseme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 Accepted &amp; Posted Disburseme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 Drawdow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bursement To Drawdown Rati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EF2-B53D-4963-8D6C-208F5D2FCF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T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nciliation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napsho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ss mailing in September for Pell, ACG &amp; National S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TD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rehens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F77-4D72-4F69-9838-C681BBBD0A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“W” Verification Redu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 Award Year “W” Verification Reduction scheduled for Summer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Status of W is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im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must change status to V, S, or bl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, FSA will reduce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7-2008 Award Year Reduction in Summer 2008 for 310 schools; 2,117 students; $3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FBA-BFEF-4E3A-A697-B8CD0778D0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-Pell Deoblig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G, 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udent has either an ACG or National SMART Grant and is not a Pell recipient, the student will lose the ACG/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008-2009 Award Year No-Pell Deobligation scheduled for Summer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007-2008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64 schools, 519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MART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51 schools,  58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ounded Rectangle 3"/>
          <p:cNvGrpSpPr/>
          <p:nvPr/>
        </p:nvGrpSpPr>
        <p:grpSpPr>
          <a:xfrm>
            <a:off x="324000" y="2017800"/>
            <a:ext cx="8570880" cy="1122120"/>
            <a:chOff x="324000" y="2017800"/>
            <a:chExt cx="8570880" cy="1122120"/>
          </a:xfrm>
        </p:grpSpPr>
        <p:pic>
          <p:nvPicPr>
            <p:cNvPr id="94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2017800"/>
              <a:ext cx="85708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0200" y="2101680"/>
              <a:ext cx="835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CD0-5A18-4348-AFE7-E5784B2557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Out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B1D-A51D-4D2C-BBB4-07E0938DA9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duction to G5 Net Drawdow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, ACG, 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52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6-2007 Award Year Reduction to G5 Net Drawdown scheduled for 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-2006 Award Year – 529 schools; $5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not in compliance with 30-day reporting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customer service outr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AB7-F461-41AB-8459-40A58A7A98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duction to G5 Net Drawdown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Example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4" name="Content Placeholder 4" descr=""/>
          <p:cNvPicPr/>
          <p:nvPr/>
        </p:nvPicPr>
        <p:blipFill>
          <a:blip r:embed="rId1"/>
          <a:stretch/>
        </p:blipFill>
        <p:spPr>
          <a:xfrm>
            <a:off x="609480" y="2706840"/>
            <a:ext cx="7864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E54D-FD2E-46A3-A840-464FBA0014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ividual Redu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P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ly for Pell, not in ACG &amp; National SMART Gra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ative Pending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64A-E37D-4CB1-994D-C57053530F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ost-Deadline Process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ward Yea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After September 30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quest on the 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only when you are ready to subm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505-9FC7-4D1D-B0AB-1D5B06862A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ost-Deadline Process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days to resubmit records after administrative relief gra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 days for a second 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follow-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AD11-D1A3-41D5-A56E-774B5B1810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oseout/Reconcili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ward Year 2008-2009, School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SHOUL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reconciled by September 30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loseout within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G, SMART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164-155E-4953-92C7-12F759497D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Administrative Cost Allowance (ACA)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980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imes during an award year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RAWDOW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s sent directly to bank accounts by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D5B3-F48C-4B75-9F55-FE67F38331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Rounded Rectangle 3"/>
          <p:cNvGrpSpPr/>
          <p:nvPr/>
        </p:nvGrpSpPr>
        <p:grpSpPr>
          <a:xfrm>
            <a:off x="324000" y="3352680"/>
            <a:ext cx="8570880" cy="755640"/>
            <a:chOff x="324000" y="3352680"/>
            <a:chExt cx="8570880" cy="755640"/>
          </a:xfrm>
        </p:grpSpPr>
        <p:pic>
          <p:nvPicPr>
            <p:cNvPr id="22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3352680"/>
              <a:ext cx="857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12920" y="3422520"/>
              <a:ext cx="8394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Funding to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EE84-C5F0-48C3-B202-5CBE12193A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-day reporting 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changes within 30 days after becoming aware of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ay cash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raw down cash for use within three da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BS00559_"/>
          <p:cNvPicPr/>
          <p:nvPr/>
        </p:nvPicPr>
        <p:blipFill>
          <a:blip r:embed="rId1"/>
          <a:stretch/>
        </p:blipFill>
        <p:spPr>
          <a:xfrm>
            <a:off x="5105520" y="4572000"/>
            <a:ext cx="2968560" cy="1905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sh Management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E74-118B-4637-977F-7050384AB7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cess Cas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ny Title IV funds received from ED that are deposited or transferred into a federal account as a result of an award cancellation, adjustment, or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lerance -- 1% of prior year am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may trigger cash monitoring or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797A-2EFC-42AA-A098-195AF0C263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ron Triangle of Funds Management: Department of Edu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01" name="Isosceles Triangle 9"/>
          <p:cNvGrpSpPr/>
          <p:nvPr/>
        </p:nvGrpSpPr>
        <p:grpSpPr>
          <a:xfrm>
            <a:off x="2341440" y="2816280"/>
            <a:ext cx="4430880" cy="2908080"/>
            <a:chOff x="2341440" y="2816280"/>
            <a:chExt cx="4430880" cy="2908080"/>
          </a:xfrm>
        </p:grpSpPr>
        <p:pic>
          <p:nvPicPr>
            <p:cNvPr id="102" name="Isosceles Triangle 9" descr=""/>
            <p:cNvPicPr/>
            <p:nvPr/>
          </p:nvPicPr>
          <p:blipFill>
            <a:blip r:embed="rId1"/>
            <a:stretch/>
          </p:blipFill>
          <p:spPr>
            <a:xfrm>
              <a:off x="2341440" y="2816280"/>
              <a:ext cx="443088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452760" y="4267080"/>
              <a:ext cx="220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3510000" y="2362320"/>
            <a:ext cx="2095560" cy="1218960"/>
            <a:chOff x="3510000" y="2362320"/>
            <a:chExt cx="2095560" cy="1218960"/>
          </a:xfrm>
        </p:grpSpPr>
        <p:grpSp>
          <p:nvGrpSpPr>
            <p:cNvPr id="105" name="Rounded Rectangle 11"/>
            <p:cNvGrpSpPr/>
            <p:nvPr/>
          </p:nvGrpSpPr>
          <p:grpSpPr>
            <a:xfrm>
              <a:off x="3510000" y="2362320"/>
              <a:ext cx="2095560" cy="1218960"/>
              <a:chOff x="3510000" y="2362320"/>
              <a:chExt cx="2095560" cy="1218960"/>
            </a:xfrm>
          </p:grpSpPr>
          <p:pic>
            <p:nvPicPr>
              <p:cNvPr id="106" name="Rounded 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0000" y="2362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600000" y="2425680"/>
                <a:ext cx="19170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" name="Rounded Rectangle 4"/>
            <p:cNvSpPr/>
            <p:nvPr/>
          </p:nvSpPr>
          <p:spPr>
            <a:xfrm>
              <a:off x="3594960" y="2424960"/>
              <a:ext cx="19274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Budget Service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1562040" y="4952880"/>
            <a:ext cx="2095560" cy="1219320"/>
            <a:chOff x="1562040" y="4952880"/>
            <a:chExt cx="2095560" cy="1219320"/>
          </a:xfrm>
        </p:grpSpPr>
        <p:grpSp>
          <p:nvGrpSpPr>
            <p:cNvPr id="110" name="Rounded Rectangle 21"/>
            <p:cNvGrpSpPr/>
            <p:nvPr/>
          </p:nvGrpSpPr>
          <p:grpSpPr>
            <a:xfrm>
              <a:off x="1562040" y="4952880"/>
              <a:ext cx="2095560" cy="1219320"/>
              <a:chOff x="1562040" y="4952880"/>
              <a:chExt cx="2095560" cy="1219320"/>
            </a:xfrm>
          </p:grpSpPr>
          <p:pic>
            <p:nvPicPr>
              <p:cNvPr id="111" name="Rounded Rectangl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2040" y="495288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1654920" y="5016240"/>
                <a:ext cx="19170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Rounded Rectangle 4"/>
            <p:cNvSpPr/>
            <p:nvPr/>
          </p:nvSpPr>
          <p:spPr>
            <a:xfrm>
              <a:off x="1649520" y="5015520"/>
              <a:ext cx="19274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COD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5410080" y="4952880"/>
            <a:ext cx="2095560" cy="1219320"/>
            <a:chOff x="5410080" y="4952880"/>
            <a:chExt cx="2095560" cy="1219320"/>
          </a:xfrm>
        </p:grpSpPr>
        <p:grpSp>
          <p:nvGrpSpPr>
            <p:cNvPr id="115" name="Rounded Rectangle 24"/>
            <p:cNvGrpSpPr/>
            <p:nvPr/>
          </p:nvGrpSpPr>
          <p:grpSpPr>
            <a:xfrm>
              <a:off x="5410080" y="4952880"/>
              <a:ext cx="2095560" cy="1219320"/>
              <a:chOff x="5410080" y="4952880"/>
              <a:chExt cx="2095560" cy="1219320"/>
            </a:xfrm>
          </p:grpSpPr>
          <p:pic>
            <p:nvPicPr>
              <p:cNvPr id="116" name="Rounded 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080" y="495288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5498640" y="5016240"/>
                <a:ext cx="19224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Rounded Rectangle 4"/>
            <p:cNvSpPr/>
            <p:nvPr/>
          </p:nvSpPr>
          <p:spPr>
            <a:xfrm>
              <a:off x="5493600" y="5015520"/>
              <a:ext cx="19328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G5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Line 26"/>
          <p:cNvSpPr/>
          <p:nvPr/>
        </p:nvSpPr>
        <p:spPr>
          <a:xfrm flipH="1">
            <a:off x="2971800" y="358128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3657600" y="5715000"/>
            <a:ext cx="1752480" cy="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5181480" y="358128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19D-C6F9-43E8-93B9-D8DB5A0B70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Rounded Rectangle 3"/>
          <p:cNvGrpSpPr/>
          <p:nvPr/>
        </p:nvGrpSpPr>
        <p:grpSpPr>
          <a:xfrm>
            <a:off x="324000" y="4267080"/>
            <a:ext cx="8570880" cy="755640"/>
            <a:chOff x="324000" y="4267080"/>
            <a:chExt cx="8570880" cy="755640"/>
          </a:xfrm>
        </p:grpSpPr>
        <p:pic>
          <p:nvPicPr>
            <p:cNvPr id="235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4267080"/>
              <a:ext cx="857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2920" y="4336920"/>
              <a:ext cx="83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Funding to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0B8-BCE0-4EA3-91E0-3873174B7F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- Department of Education’s Payment Syste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57200" y="18288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5 acces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istance available in PC lab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d refunds electronically  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Do NOT use paper checks!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ED5-780C-4BBE-A2F8-1F30D00A3D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Home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2625840" y="1219320"/>
            <a:ext cx="4537080" cy="518148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gistration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form where new users can register for access to G5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is granted/denied between 1-2 business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CD70-02B3-4363-B965-BCF56BB8FB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948-5458-4FD1-84BE-E9A19D9E33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Registr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49" name="Picture 5" descr="new user"/>
          <p:cNvPicPr/>
          <p:nvPr/>
        </p:nvPicPr>
        <p:blipFill>
          <a:blip r:embed="rId1"/>
          <a:srcRect l="12525" t="12959" r="12525" b="8041"/>
          <a:stretch/>
        </p:blipFill>
        <p:spPr>
          <a:xfrm>
            <a:off x="841320" y="1143000"/>
            <a:ext cx="7613640" cy="50166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y Award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asy to view list of all of your institution’s awards in G5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a quick snapshot of the Award number, Available Balance, Last Date to Draw, and Award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DEFD-CD59-4AB2-B7DB-7637A6DEEA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333-7F23-48A2-BB5E-E72AA1E4DE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– My Awards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4" name="Picture 5" descr="My Awards"/>
          <p:cNvPicPr/>
          <p:nvPr/>
        </p:nvPicPr>
        <p:blipFill>
          <a:blip r:embed="rId1"/>
          <a:srcRect l="12527" t="12002" r="12451" b="5042"/>
          <a:stretch/>
        </p:blipFill>
        <p:spPr>
          <a:xfrm>
            <a:off x="1069920" y="1219320"/>
            <a:ext cx="7162920" cy="494964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I Get Grant Money??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6" name="Picture 3" descr="money_clipart_banknote"/>
          <p:cNvPicPr/>
          <p:nvPr/>
        </p:nvPicPr>
        <p:blipFill>
          <a:blip r:embed="rId1"/>
          <a:stretch/>
        </p:blipFill>
        <p:spPr>
          <a:xfrm>
            <a:off x="3124080" y="2762280"/>
            <a:ext cx="2552760" cy="17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91CA-68CF-4C35-83EB-B8EE14EA55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B289-088D-404F-AFBB-8F5D387621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9" name="Picture 5" descr="Payments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1143000" y="1219320"/>
            <a:ext cx="7234200" cy="5002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DB2-8083-46F0-811A-19FE20E22B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 – Payment Tab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2" name="Picture 5" descr="Payments 1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1066680" y="1139760"/>
            <a:ext cx="7385040" cy="510876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2C1-7EEC-4572-B561-CD2D15BB3D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Isosceles Triangle 27"/>
          <p:cNvGrpSpPr/>
          <p:nvPr/>
        </p:nvGrpSpPr>
        <p:grpSpPr>
          <a:xfrm>
            <a:off x="2341440" y="2511360"/>
            <a:ext cx="4430880" cy="2908440"/>
            <a:chOff x="2341440" y="2511360"/>
            <a:chExt cx="4430880" cy="2908440"/>
          </a:xfrm>
        </p:grpSpPr>
        <p:pic>
          <p:nvPicPr>
            <p:cNvPr id="124" name="Isosceles Triangle 27" descr=""/>
            <p:cNvPicPr/>
            <p:nvPr/>
          </p:nvPicPr>
          <p:blipFill>
            <a:blip r:embed="rId1"/>
            <a:stretch/>
          </p:blipFill>
          <p:spPr>
            <a:xfrm>
              <a:off x="2341440" y="2511360"/>
              <a:ext cx="443088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452760" y="3962520"/>
              <a:ext cx="2209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93726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ron Triangle of Funds Management: School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3510000" y="2057400"/>
            <a:ext cx="2095560" cy="1219320"/>
            <a:chOff x="3510000" y="2057400"/>
            <a:chExt cx="2095560" cy="1219320"/>
          </a:xfrm>
        </p:grpSpPr>
        <p:grpSp>
          <p:nvGrpSpPr>
            <p:cNvPr id="128" name="Rounded Rectangle 19"/>
            <p:cNvGrpSpPr/>
            <p:nvPr/>
          </p:nvGrpSpPr>
          <p:grpSpPr>
            <a:xfrm>
              <a:off x="3510000" y="2057400"/>
              <a:ext cx="2095560" cy="1219320"/>
              <a:chOff x="3510000" y="2057400"/>
              <a:chExt cx="2095560" cy="1219320"/>
            </a:xfrm>
          </p:grpSpPr>
          <p:pic>
            <p:nvPicPr>
              <p:cNvPr id="129" name="Rounded 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0000" y="205740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600000" y="2120760"/>
                <a:ext cx="19170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Rounded Rectangle 4"/>
            <p:cNvSpPr/>
            <p:nvPr/>
          </p:nvSpPr>
          <p:spPr>
            <a:xfrm>
              <a:off x="3594960" y="2120040"/>
              <a:ext cx="19274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ED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5410080" y="4648320"/>
            <a:ext cx="2095560" cy="1218960"/>
            <a:chOff x="5410080" y="4648320"/>
            <a:chExt cx="2095560" cy="1218960"/>
          </a:xfrm>
        </p:grpSpPr>
        <p:grpSp>
          <p:nvGrpSpPr>
            <p:cNvPr id="133" name="Rounded Rectangle 25"/>
            <p:cNvGrpSpPr/>
            <p:nvPr/>
          </p:nvGrpSpPr>
          <p:grpSpPr>
            <a:xfrm>
              <a:off x="5410080" y="4648320"/>
              <a:ext cx="2095560" cy="1218960"/>
              <a:chOff x="5410080" y="4648320"/>
              <a:chExt cx="2095560" cy="1218960"/>
            </a:xfrm>
          </p:grpSpPr>
          <p:pic>
            <p:nvPicPr>
              <p:cNvPr id="134" name="Rounded Rectangle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4648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498640" y="4711680"/>
                <a:ext cx="19224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Rounded Rectangle 4"/>
            <p:cNvSpPr/>
            <p:nvPr/>
          </p:nvSpPr>
          <p:spPr>
            <a:xfrm>
              <a:off x="5493600" y="4710960"/>
              <a:ext cx="19328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Business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Office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1"/>
          <p:cNvGrpSpPr/>
          <p:nvPr/>
        </p:nvGrpSpPr>
        <p:grpSpPr>
          <a:xfrm>
            <a:off x="1562040" y="4648320"/>
            <a:ext cx="2095560" cy="1218960"/>
            <a:chOff x="1562040" y="4648320"/>
            <a:chExt cx="2095560" cy="1218960"/>
          </a:xfrm>
        </p:grpSpPr>
        <p:grpSp>
          <p:nvGrpSpPr>
            <p:cNvPr id="138" name="Rounded Rectangle 22"/>
            <p:cNvGrpSpPr/>
            <p:nvPr/>
          </p:nvGrpSpPr>
          <p:grpSpPr>
            <a:xfrm>
              <a:off x="1562040" y="4648320"/>
              <a:ext cx="2095560" cy="1218960"/>
              <a:chOff x="1562040" y="4648320"/>
              <a:chExt cx="2095560" cy="1218960"/>
            </a:xfrm>
          </p:grpSpPr>
          <p:pic>
            <p:nvPicPr>
              <p:cNvPr id="139" name="Rounded Rectangl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2040" y="4648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654920" y="4711680"/>
                <a:ext cx="19170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" name="Rounded Rectangle 4"/>
            <p:cNvSpPr/>
            <p:nvPr/>
          </p:nvSpPr>
          <p:spPr>
            <a:xfrm>
              <a:off x="1649520" y="4710960"/>
              <a:ext cx="19274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Verdana"/>
                </a:rPr>
                <a:t>Financial</a:t>
              </a:r>
              <a:br>
                <a:rPr sz="2600"/>
              </a:br>
              <a:r>
                <a:rPr b="1" lang="en-US" sz="2600" spc="-1" strike="noStrike">
                  <a:solidFill>
                    <a:srgbClr val="ffffff"/>
                  </a:solidFill>
                  <a:latin typeface="Verdana"/>
                </a:rPr>
                <a:t>Aid Office</a:t>
              </a: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Line 26"/>
          <p:cNvSpPr/>
          <p:nvPr/>
        </p:nvSpPr>
        <p:spPr>
          <a:xfrm flipH="1">
            <a:off x="2971800" y="327672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3657600" y="5410080"/>
            <a:ext cx="1752480" cy="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5181480" y="327672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7C59-E687-49C7-BDCB-6E0D45C1F5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 – Summary Tab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5" name="Picture 5" descr="Payments 2"/>
          <p:cNvPicPr/>
          <p:nvPr/>
        </p:nvPicPr>
        <p:blipFill>
          <a:blip r:embed="rId1"/>
          <a:srcRect l="12527" t="11042" r="12527" b="8042"/>
          <a:stretch/>
        </p:blipFill>
        <p:spPr>
          <a:xfrm>
            <a:off x="765000" y="1055520"/>
            <a:ext cx="7689960" cy="518976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ed Emai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9360">
            <a:solidFill>
              <a:srgbClr val="0066a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emayne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questing User ID: Tremayne@ed.gov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our request made on 08/12/2008 for $100.00, has been received. Your control number is 2008081206381 and you will receive your funds on 08/13/2008 in bank account ****9426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f you did not request this payment, please contact Helpdesk at 1-888-336-893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1262-F161-4E0B-BBD5-9610EC9D74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960" y="1599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9" name="Picture 3" descr="money_clipart_banknote_coins"/>
          <p:cNvPicPr/>
          <p:nvPr/>
        </p:nvPicPr>
        <p:blipFill>
          <a:blip r:embed="rId1"/>
          <a:stretch/>
        </p:blipFill>
        <p:spPr>
          <a:xfrm>
            <a:off x="3276720" y="3200400"/>
            <a:ext cx="2438280" cy="134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C9EF-9704-43B7-BC6A-8F6B3FA124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AE8D-CD64-492F-B23D-F4A2F254A9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Activ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2" name="Picture 5" descr="Activity Report"/>
          <p:cNvPicPr/>
          <p:nvPr/>
        </p:nvPicPr>
        <p:blipFill>
          <a:blip r:embed="rId1"/>
          <a:srcRect l="12527" t="12002" r="12527" b="12961"/>
          <a:stretch/>
        </p:blipFill>
        <p:spPr>
          <a:xfrm>
            <a:off x="765000" y="1219320"/>
            <a:ext cx="7994880" cy="5002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4905-8685-4268-8C14-FCA7983D83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5" name="Picture 5" descr="Activity Report 1"/>
          <p:cNvPicPr/>
          <p:nvPr/>
        </p:nvPicPr>
        <p:blipFill>
          <a:blip r:embed="rId1"/>
          <a:srcRect l="12527" t="12002" r="12527" b="18961"/>
          <a:stretch/>
        </p:blipFill>
        <p:spPr>
          <a:xfrm>
            <a:off x="380880" y="1305000"/>
            <a:ext cx="8455320" cy="4867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5ED-4D0F-4862-B5E4-D37F6684C3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8" name="Picture 5" descr="Activity Report 2"/>
          <p:cNvPicPr/>
          <p:nvPr/>
        </p:nvPicPr>
        <p:blipFill>
          <a:blip r:embed="rId1"/>
          <a:srcRect l="12527" t="12961" r="12527" b="12961"/>
          <a:stretch/>
        </p:blipFill>
        <p:spPr>
          <a:xfrm>
            <a:off x="538200" y="1143000"/>
            <a:ext cx="8145360" cy="503244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  <p:sp>
        <p:nvSpPr>
          <p:cNvPr id="279" name="Text Box 6"/>
          <p:cNvSpPr/>
          <p:nvPr/>
        </p:nvSpPr>
        <p:spPr>
          <a:xfrm>
            <a:off x="685800" y="5105520"/>
            <a:ext cx="7848720" cy="19116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a9"/>
                </a:solidFill>
                <a:uFillTx/>
                <a:latin typeface="CourierPS"/>
              </a:rPr>
              <a:t>0215S060156</a:t>
            </a:r>
            <a:r>
              <a:rPr b="0" lang="en-US" sz="800" spc="-1" strike="noStrike">
                <a:solidFill>
                  <a:srgbClr val="0066a9"/>
                </a:solidFill>
                <a:latin typeface="CourierPS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PS"/>
              </a:rPr>
              <a:t>                 $1,126,423.00   -$374,043.00     $0.00       $0.00            $0.00  -$374,043.00    09/30/201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81" name="Picture 5" descr="Activity Report 3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765000" y="914400"/>
            <a:ext cx="7614000" cy="526572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  <p:sp>
        <p:nvSpPr>
          <p:cNvPr id="282" name="Text Box 7"/>
          <p:cNvSpPr/>
          <p:nvPr/>
        </p:nvSpPr>
        <p:spPr>
          <a:xfrm>
            <a:off x="2057400" y="2397240"/>
            <a:ext cx="1523880" cy="174276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Q215S06156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-741,192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09/30/201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1,126,423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-$741,192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838080" y="3962520"/>
            <a:ext cx="7391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914400" y="4038480"/>
            <a:ext cx="7238880" cy="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E2BF-C584-4626-BDE6-24C90D0FD4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949-F613-467B-B951-48BE49D773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D School Relations Cent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-800-474-726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5 Help des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-888-336-893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819520"/>
            <a:ext cx="2529000" cy="2628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ed Funding Help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B5FF-6AAD-4491-9FB4-B90FED03BE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lated Conference Ses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812960"/>
          <a:ext cx="8229600" cy="28893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C-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7aa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ional Update for Pell Grants, ACG and National SMART Gra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7aa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C-0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Education Opportunity Act of 2008 – An Update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DL-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 IV Funding:  From COD through G5 (For Direct Loan Schools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FF-1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7a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 Basic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7aa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9885-FE03-4F5D-8986-F98BA075F2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094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thony T. (Tony) Laing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, Internal Controls Division – Federal Student Aid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anthony.laing@ed.gov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202) 377-3112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47A-C739-4285-86D8-C10754AAEC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unding Lifecyc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4675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77E-D327-4F12-B3A7-3C94A4923E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aily Produc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D 24-Hour Turnar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bursement Record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:00 AM ET in COD  - Same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:00 PM ET in COD - Next Da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AE51-AB32-471C-AF26-0AAB9D5C22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 Metho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d Funded = 5,200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T Pilo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43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CM1, HCM2 &amp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mburse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400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1EC4-C57A-4139-AF64-95F2E02A2F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itial Authoriz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-wide authorization in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ce fu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-2009 - $7 billion for 4,645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T, HCM1, HCM2, &amp; Reimbursement = Records Fir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G &amp; National SMART Gra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gram-wide autho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459-1BAB-4D2F-981E-9C6783C16F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n to Submit Disbursement Recor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Days in advance of disbursement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before COD sends funding transaction to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 &amp; National SMART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in advance of disbursement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before COD sends funding transaction to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1T18:41:56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