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73F3C-E6C6-4A5D-9C12-BF95251E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942CD-D3E8-4684-B02A-8B73B1A59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4C55EF6-802C-4C48-A068-A986917CE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EB6F1-60B7-4D5C-BFD2-E659E484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25F9FF5-4A18-4435-BE00-735B9260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657D-903D-4847-91B6-2A00786C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687CD28-B346-4BD8-BD84-B4E02A62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31F8E-DAC5-4D6F-BCCB-90177AC7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0272570-D2FE-414D-9EFA-A84838EA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6A1F-8AB0-45C2-BE98-97A6F767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ing out available balances especially as years are getting cancell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1E1DFA8-0783-47FC-980F-5B72841F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6AF98-196F-42AA-82B0-2551C5F9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20FF89F-F49D-4D53-96A7-15BDFBF7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DDBB-44D7-4FFC-8222-0A1B52C42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94B44D7-3F93-42F4-ACE4-C281ACB0D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2BA0E-DBBC-490D-9D13-DB1DEBB4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998AAEE-8BAA-47BF-99E2-FA4FDB6B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CF068-8A58-41B5-9A40-30068BE4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9A930F9-1549-4FDF-9A90-2533EF01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BFBD-089B-4411-80E5-C68B4BD8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70DA482-009E-4FFF-8308-38F0A70A5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CBAA5-BDB8-4D8A-BE82-A15B136F7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FC0DEEB-6BEF-451E-B731-73314C4C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DA912-0710-4041-9663-6F942C1EE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F447CC4-7E60-44F5-803E-E6FD2FC8B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D2853-8122-450A-A6C4-3F4E7416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B59DA6B-8DEC-4782-9C72-D1C342421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28AEF-4E1A-44E5-BC1C-334F639F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4D9904F-EB6D-45F7-8D40-E12F31E3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76489-72F9-4DEF-8EF0-E11E06DE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FFA8718-C841-473C-B8E8-B4FCA6F7E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0E6E5-2F9D-4CE2-A100-782A4E4B3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4C2BD92-7282-4CB2-B451-5BD159E7D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6EC2-A533-4FA9-A943-4248B776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D98719D-FBFE-4CFD-859A-E4FC4F88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EFE31-82DB-468B-9D6D-E1283CB0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5113A1D-50CB-4CD2-B2EC-7ECBB9C87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E80D3-087D-4688-93BD-D6CE0E37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064511F-0AF0-4C47-9483-07FB9EF1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2A994-0EA1-4799-85A3-B4817A81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2920"/>
            <a:ext cx="703872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E38CB8A-7F3E-43A1-9A0E-F695718B7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B396C-0746-49D9-82C6-BE87E1B73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C5E6D0B-ABEA-478A-BFE6-1BAC4841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E9F1E-08EE-4EA9-B77B-3C9161F6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342C8C3-15F7-4CDB-87BF-19B2AEEC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A5C7F-0EB2-4AFA-82FC-B2925365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ED8448F-3938-4371-858A-DBE53827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D9330-239B-4E9D-B284-7D7A408E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680981B-28A9-4DAE-B813-A6CFEE43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8FAFE-C79C-477D-A9F3-895EF2A6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D956F8E-EBC7-439B-BAFD-88AEAE05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AAA1-4BAF-4D26-AC09-C7B5E024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927D87A-3E1E-410B-AF78-6E1E275E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32B4-6C1A-4BCB-8F48-937D81426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795DACF-237F-4582-902D-F1D4C3E1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55CE-36F0-4406-A83C-438D8F93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04F1F8D-301C-46E3-95DA-D87F71A0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0503F-7CE5-411E-88E9-5C8AD09F5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86D8E6A-BF69-41D0-9D8C-04A6DE205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3024B-EE97-4587-A838-B5AF87240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1634B41-4ED5-46D1-B506-6F34C91A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2CAF4-5410-4CEE-9866-D955AE1E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8E0D353-445E-4D85-9B25-DEE81E93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CAF25-79D5-4F33-8599-C3F05D2D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56A48FE-C822-4BD4-AE10-1AC1818E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7F425-A6DC-45CF-B9E0-6A9F0A840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EFAE40D-BE8E-41E6-862C-89CB52C0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1A34-995B-4E4E-940E-45368506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BA9172A-2448-4B60-AEB9-170DEEBC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840DC-4B43-48E9-B37C-1840D1BA3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C494CD2-AA8F-4CD8-A032-DEC98673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D656-48C5-4731-AD05-F79DC5D4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DF1DC66-B2B8-4724-B28B-626125B66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E0C5-13C0-46EE-A858-E788F983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068EBDC-AE24-4FF0-8BE7-58DEC45E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F3C3-6918-4C40-987D-52D69190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128FCF9-9C85-43DB-AFFF-CD0C44D5C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D60D8-1FA5-41BC-891B-AB443554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4F43161-7299-4B29-ACC4-4B41A5CD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5C41-D5BE-46BF-9355-0069DCA4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7A6A1A1-61B4-473F-AD26-4340B78D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DE93E-78E4-4751-A91E-AFE3E223B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49DD073-2035-4156-BC24-A31395B1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07E4-00CD-4AD0-AB97-67E28E959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0943-840A-47E4-BDD9-F4BAA2221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95B8-351D-4073-8172-27EA1E0E5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8B8B-97FF-47DD-A36F-A99BB658B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0731-184B-4E62-82E3-74D8C53C0B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7FA8-8EB1-480F-88C0-8EC81AA19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ED6F-A3E1-4591-8D02-6E6C733AC6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F4BF-BBAF-4A53-8614-878907788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C842-1321-4350-80A5-65AEE5A27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5684-8FF3-4298-BEB2-AC4D57C34D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2E31-2A16-4E2E-82F9-3522B1336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00A6-E4B0-46F7-9065-2AB2D37F6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24A0-4034-4BA0-8DE0-3A6603C687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84E2-F3BB-47E7-B4B3-0DEDDE2BC6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4B68-0927-4FFA-B0E1-9B5B5EE655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211A-6303-40F1-B59B-8762BCA76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8068-608A-418A-B25F-E7F048E7B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AABE-E691-40B5-A80D-24FA98512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EFD7-3EB7-4B9C-A49C-717F989D6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215A-A41B-4A0D-9230-48139AAE9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D4DA-BD6A-4AEE-A023-BD84E4F24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0316-64C6-4E24-BF12-599982E7D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EBD9-2555-451E-97D6-ED501190E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2D88-DF29-4F79-9CA7-95048A1DB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F36-675C-43A7-B1D2-BA32C4FB86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7E7-3454-4F69-A26E-0096439735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://images.search.yahoo.com/search/images?p=cartoon+clip+art&amp;ei=UTF-8&amp;qp_p=clip+art+cartoon&amp;imgsz=all&amp;fr=yfp-t-501&amp;b=161&amp;w=290&amp;h=300&amp;imgurl=www.acclaimimages.com/_gallery/_SM/0093-0509-2113-3927_SM.jpg&amp;rurl=http://www.acclaimimages.com/_gallery/_pages/0093-0509-2113-3927.html&amp;size=80.4kB&amp;name=0093-0509-2113-3927_SM.jpg&amp;p=cartoon+clip+art&amp;type=jpeg&amp;no=162&amp;tt=11,917&amp;oid=cd1c25cde0bdf2e2&amp;ei=UTF-8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anthony.laing@ed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1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itle IV Funding to Schools:  From COD through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Pell Grants, ACG and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hony T. (Tony) La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C6E-B008-421C-9E78-ADB256D593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ur Program Wide Global Reduction Job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Reduction to Net Accepted and Posted Disbursements (NAP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W Verification R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 &amp; SMART No Pell De-obl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, ACG &amp; SMART Reduction to GAPS Net Draw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E95E-BB7C-4409-B0E1-5B899DF681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Reduction to Net Accepted &amp; Posted Disbursement Recor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828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Diagram 4" descr=""/>
          <p:cNvPicPr/>
          <p:nvPr/>
        </p:nvPicPr>
        <p:blipFill>
          <a:blip r:embed="rId1"/>
          <a:stretch/>
        </p:blipFill>
        <p:spPr>
          <a:xfrm>
            <a:off x="384120" y="2438280"/>
            <a:ext cx="8759880" cy="195120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4419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tion Cycle will reduce the Authorization to equal Net Accepted and Posted Disbursements (NAPD)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2008 –2009 Pell CFL Reduction to NAP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685800" y="2666880"/>
            <a:ext cx="67816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itial Authorization - $1,0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65200" y="214776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y 2008: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676520" y="4267080"/>
            <a:ext cx="63244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APD - $5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286000" y="5257800"/>
            <a:ext cx="6324480" cy="685800"/>
          </a:xfrm>
          <a:prstGeom prst="roundRect">
            <a:avLst>
              <a:gd name="adj" fmla="val 16667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duction - $500,000</a:t>
            </a: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61600" y="36720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anuary 2009: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6629400" y="320040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cc510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7467480" y="47242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cc5107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67D7-2635-4623-8FFD-1F6DC4E09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9B27-4D23-4C17-BE5B-0448074BD5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Reduction to Net Accepted &amp; Posted Disbursement Records (NAP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7-2008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74 schools reduced by $23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7762-D81A-468D-BFE2-FD2F290514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y Reconciled!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2" name="Diagram 5" descr=""/>
          <p:cNvPicPr/>
          <p:nvPr/>
        </p:nvPicPr>
        <p:blipFill>
          <a:blip r:embed="rId1"/>
          <a:stretch/>
        </p:blipFill>
        <p:spPr>
          <a:xfrm>
            <a:off x="1511280" y="1736640"/>
            <a:ext cx="62676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C709-032C-4135-BCBF-4D7E416321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y Reconciled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Zero Availabl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vailabl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100 schools in prior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gative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00-900 schools in prior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C5B9-97DE-4DD2-8E30-A40C71698B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43080" y="1828800"/>
            <a:ext cx="7467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hool of Outstanding Students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unding Info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P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ward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08-09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Funding Information</a:t>
            </a:r>
            <a:br>
              <a:rPr sz="36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Web Screen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66760" y="2971800"/>
          <a:ext cx="7581960" cy="2921040"/>
        </p:xfrm>
        <a:graphic>
          <a:graphicData uri="http://schemas.openxmlformats.org/drawingml/2006/table">
            <a:tbl>
              <a:tblPr/>
              <a:tblGrid>
                <a:gridCol w="5805360"/>
                <a:gridCol w="177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ty ID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444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CFL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CFL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le Balance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&gt; Net Accepted &amp; Posted Disburseme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 Accepted &amp; Posted Disburseme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 Drawdow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,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bursement To Drawdown Ratio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09EC-85A8-4F51-9779-18C668BFB7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T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nciliation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napsho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ss mailing in September for Pell, ACG &amp; National S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TD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rehens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48C-6DFF-4F4A-A437-6A0DDC6A03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“W” Verification Redu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 Award Year “W” Verification Reduction scheduled for Summer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Status of W is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nterim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must change status to V, S, or bl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wise, FSA will reduce to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7-2008 Award Year Reduction in Summer 2008 for 310 schools; 2,117 students; $3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2C5-0714-4DD3-8289-BA762C97AE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-Pell Deoblig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G, 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udent has either an ACG or National SMART Grant and is not a Pell recipient, the student will lose the ACG/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008-2009 Award Year No-Pell Deobligation scheduled for Summer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007-2008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64 schools, 519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MART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51 schools,  58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ounded Rectangle 3"/>
          <p:cNvGrpSpPr/>
          <p:nvPr/>
        </p:nvGrpSpPr>
        <p:grpSpPr>
          <a:xfrm>
            <a:off x="324000" y="2017800"/>
            <a:ext cx="8570880" cy="1122120"/>
            <a:chOff x="324000" y="2017800"/>
            <a:chExt cx="8570880" cy="1122120"/>
          </a:xfrm>
        </p:grpSpPr>
        <p:pic>
          <p:nvPicPr>
            <p:cNvPr id="94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2017800"/>
              <a:ext cx="85708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0200" y="2101680"/>
              <a:ext cx="835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098-62B5-44A0-BBB3-51504B5015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Out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E9C-FAD0-47E5-89FC-516051D72D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duction to G5 Net Drawdow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, ACG, 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520" y="1905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6-2007 Award Year Reduction to G5 Net Drawdown scheduled for 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-2006 Award Year – 529 schools; $5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not in compliance with 30-day reporting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customer service outr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21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17D-1F08-4A90-943E-B049BD7B41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duction to G5 Net Drawdown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Example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4" name="Content Placeholder 4" descr=""/>
          <p:cNvPicPr/>
          <p:nvPr/>
        </p:nvPicPr>
        <p:blipFill>
          <a:blip r:embed="rId1"/>
          <a:stretch/>
        </p:blipFill>
        <p:spPr>
          <a:xfrm>
            <a:off x="609480" y="2706840"/>
            <a:ext cx="7864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A83-EF7F-4603-9DF9-E71D4C0B03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ividual Redu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P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ly for Pell, not in ACG &amp; National SMART Gra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ative Pending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945B-FB68-4739-8A01-CA9A7E4043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ost-Deadline Process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ward Yea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After September 30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quest on the 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only when you are ready to subm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91D-BDD6-4F95-AA43-064CD95D3B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ost-Deadline Process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days to resubmit records after administrative relief gra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 days for a second 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follow-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88DE-D3E7-416C-BD40-5A2F9C652F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oseout/Reconcili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ward Year 2008-2009, Schools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SHOUL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reconciled by September 30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loseout within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ve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G, SMART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B3E6-A3D4-4177-95C3-2011FACC5C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Administrative Cost Allowance (ACA)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980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times during an award year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or 2008-2009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RAWDOW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s sent directly to bank accounts by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A63F-FE06-4798-B7D3-0E7E9D5CDA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Rounded Rectangle 3"/>
          <p:cNvGrpSpPr/>
          <p:nvPr/>
        </p:nvGrpSpPr>
        <p:grpSpPr>
          <a:xfrm>
            <a:off x="324000" y="3352680"/>
            <a:ext cx="8570880" cy="755640"/>
            <a:chOff x="324000" y="3352680"/>
            <a:chExt cx="8570880" cy="755640"/>
          </a:xfrm>
        </p:grpSpPr>
        <p:pic>
          <p:nvPicPr>
            <p:cNvPr id="22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3352680"/>
              <a:ext cx="857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12920" y="3422520"/>
              <a:ext cx="8394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Funding to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A50-D676-4077-9D83-A866D1241A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-day reporting 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changes within 30 days after becoming aware of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ay cash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raw down cash for use within three da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BS00559_"/>
          <p:cNvPicPr/>
          <p:nvPr/>
        </p:nvPicPr>
        <p:blipFill>
          <a:blip r:embed="rId1"/>
          <a:stretch/>
        </p:blipFill>
        <p:spPr>
          <a:xfrm>
            <a:off x="5105520" y="4572000"/>
            <a:ext cx="2968560" cy="1905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sh Management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315B-BF67-4A2E-AD75-C94D60DFE1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cess Cas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ny Title IV funds received from ED that are deposited or transferred into a federal account as a result of an award cancellation, adjustment, or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lerance -- 1% of prior year am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may trigger cash monitoring or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62E4-778F-4B6E-B529-4A407FB1C5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ron Triangle of Funds Management: Department of Edu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01" name="Isosceles Triangle 9"/>
          <p:cNvGrpSpPr/>
          <p:nvPr/>
        </p:nvGrpSpPr>
        <p:grpSpPr>
          <a:xfrm>
            <a:off x="2341440" y="2816280"/>
            <a:ext cx="4430880" cy="2908080"/>
            <a:chOff x="2341440" y="2816280"/>
            <a:chExt cx="4430880" cy="2908080"/>
          </a:xfrm>
        </p:grpSpPr>
        <p:pic>
          <p:nvPicPr>
            <p:cNvPr id="102" name="Isosceles Triangle 9" descr=""/>
            <p:cNvPicPr/>
            <p:nvPr/>
          </p:nvPicPr>
          <p:blipFill>
            <a:blip r:embed="rId1"/>
            <a:stretch/>
          </p:blipFill>
          <p:spPr>
            <a:xfrm>
              <a:off x="2341440" y="2816280"/>
              <a:ext cx="443088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452760" y="4267080"/>
              <a:ext cx="220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3510000" y="2362320"/>
            <a:ext cx="2095560" cy="1218960"/>
            <a:chOff x="3510000" y="2362320"/>
            <a:chExt cx="2095560" cy="1218960"/>
          </a:xfrm>
        </p:grpSpPr>
        <p:grpSp>
          <p:nvGrpSpPr>
            <p:cNvPr id="105" name="Rounded Rectangle 11"/>
            <p:cNvGrpSpPr/>
            <p:nvPr/>
          </p:nvGrpSpPr>
          <p:grpSpPr>
            <a:xfrm>
              <a:off x="3510000" y="2362320"/>
              <a:ext cx="2095560" cy="1218960"/>
              <a:chOff x="3510000" y="2362320"/>
              <a:chExt cx="2095560" cy="1218960"/>
            </a:xfrm>
          </p:grpSpPr>
          <p:pic>
            <p:nvPicPr>
              <p:cNvPr id="106" name="Rounded Rectangl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0000" y="2362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600000" y="2425680"/>
                <a:ext cx="19170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" name="Rounded Rectangle 4"/>
            <p:cNvSpPr/>
            <p:nvPr/>
          </p:nvSpPr>
          <p:spPr>
            <a:xfrm>
              <a:off x="3594960" y="2424960"/>
              <a:ext cx="19274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Budget Service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1562040" y="4952880"/>
            <a:ext cx="2095560" cy="1219320"/>
            <a:chOff x="1562040" y="4952880"/>
            <a:chExt cx="2095560" cy="1219320"/>
          </a:xfrm>
        </p:grpSpPr>
        <p:grpSp>
          <p:nvGrpSpPr>
            <p:cNvPr id="110" name="Rounded Rectangle 21"/>
            <p:cNvGrpSpPr/>
            <p:nvPr/>
          </p:nvGrpSpPr>
          <p:grpSpPr>
            <a:xfrm>
              <a:off x="1562040" y="4952880"/>
              <a:ext cx="2095560" cy="1219320"/>
              <a:chOff x="1562040" y="4952880"/>
              <a:chExt cx="2095560" cy="1219320"/>
            </a:xfrm>
          </p:grpSpPr>
          <p:pic>
            <p:nvPicPr>
              <p:cNvPr id="111" name="Rounded Rectangl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2040" y="495288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1654920" y="5016240"/>
                <a:ext cx="19170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Rounded Rectangle 4"/>
            <p:cNvSpPr/>
            <p:nvPr/>
          </p:nvSpPr>
          <p:spPr>
            <a:xfrm>
              <a:off x="1649520" y="5015520"/>
              <a:ext cx="19274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COD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5410080" y="4952880"/>
            <a:ext cx="2095560" cy="1219320"/>
            <a:chOff x="5410080" y="4952880"/>
            <a:chExt cx="2095560" cy="1219320"/>
          </a:xfrm>
        </p:grpSpPr>
        <p:grpSp>
          <p:nvGrpSpPr>
            <p:cNvPr id="115" name="Rounded Rectangle 24"/>
            <p:cNvGrpSpPr/>
            <p:nvPr/>
          </p:nvGrpSpPr>
          <p:grpSpPr>
            <a:xfrm>
              <a:off x="5410080" y="4952880"/>
              <a:ext cx="2095560" cy="1219320"/>
              <a:chOff x="5410080" y="4952880"/>
              <a:chExt cx="2095560" cy="1219320"/>
            </a:xfrm>
          </p:grpSpPr>
          <p:pic>
            <p:nvPicPr>
              <p:cNvPr id="116" name="Rounded 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080" y="495288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5498640" y="5016240"/>
                <a:ext cx="19224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Rounded Rectangle 4"/>
            <p:cNvSpPr/>
            <p:nvPr/>
          </p:nvSpPr>
          <p:spPr>
            <a:xfrm>
              <a:off x="5493600" y="5015520"/>
              <a:ext cx="19328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G5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Line 26"/>
          <p:cNvSpPr/>
          <p:nvPr/>
        </p:nvSpPr>
        <p:spPr>
          <a:xfrm flipH="1">
            <a:off x="2971800" y="358128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3657600" y="5715000"/>
            <a:ext cx="1752480" cy="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5181480" y="358128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C8F6-6A74-4B71-8FCC-AD86F8D859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4" name="Rounded Rectangle 3"/>
          <p:cNvGrpSpPr/>
          <p:nvPr/>
        </p:nvGrpSpPr>
        <p:grpSpPr>
          <a:xfrm>
            <a:off x="324000" y="4267080"/>
            <a:ext cx="8570880" cy="755640"/>
            <a:chOff x="324000" y="4267080"/>
            <a:chExt cx="8570880" cy="755640"/>
          </a:xfrm>
        </p:grpSpPr>
        <p:pic>
          <p:nvPicPr>
            <p:cNvPr id="235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24000" y="4267080"/>
              <a:ext cx="857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2920" y="4336920"/>
              <a:ext cx="83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Funding to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ll, ACG &amp; National SMART Gr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-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86B-41EE-4C13-9036-280FE6EEFC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- Department of Education’s Payment Syste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57200" y="18288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5 acces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istance available in PC lab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d refunds electronically  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Do NOT use paper checks!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31E-64F2-4B4E-8361-C68E708C0E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Home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2625840" y="1219320"/>
            <a:ext cx="4537080" cy="518148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gistration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form where new users can register for access to G5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is granted/denied between 1-2 business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D174-8B53-4417-B8C2-7159289425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765-DA12-4F94-B77E-E4C94EFA31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Registr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49" name="Picture 5" descr="new user"/>
          <p:cNvPicPr/>
          <p:nvPr/>
        </p:nvPicPr>
        <p:blipFill>
          <a:blip r:embed="rId1"/>
          <a:srcRect l="12525" t="12959" r="12525" b="8041"/>
          <a:stretch/>
        </p:blipFill>
        <p:spPr>
          <a:xfrm>
            <a:off x="841320" y="1143000"/>
            <a:ext cx="7613640" cy="50166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y Award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asy to view list of all of your institution’s awards in G5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a quick snapshot of the Award number, Available Balance, Last Date to Draw, and Award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24DE-6941-44D2-AEC9-95C6B5FBF6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ED5-D983-409A-A64B-6B1A02ED2A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5 – My Awards P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4" name="Picture 5" descr="My Awards"/>
          <p:cNvPicPr/>
          <p:nvPr/>
        </p:nvPicPr>
        <p:blipFill>
          <a:blip r:embed="rId1"/>
          <a:srcRect l="12527" t="12002" r="12451" b="5042"/>
          <a:stretch/>
        </p:blipFill>
        <p:spPr>
          <a:xfrm>
            <a:off x="1069920" y="1219320"/>
            <a:ext cx="7162920" cy="494964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I Get Grant Money??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6" name="Picture 3" descr="money_clipart_banknote"/>
          <p:cNvPicPr/>
          <p:nvPr/>
        </p:nvPicPr>
        <p:blipFill>
          <a:blip r:embed="rId1"/>
          <a:stretch/>
        </p:blipFill>
        <p:spPr>
          <a:xfrm>
            <a:off x="3124080" y="2762280"/>
            <a:ext cx="2552760" cy="17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E228-C044-4DBE-A464-EE25CCA6DE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0AE-BFA9-401F-A67E-2EF484CDC6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9" name="Picture 5" descr="Payments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1143000" y="1219320"/>
            <a:ext cx="7234200" cy="5002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634-3013-43A5-9820-9F3329406E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 – Payment Tab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2" name="Picture 5" descr="Payments 1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1066680" y="1139760"/>
            <a:ext cx="7385040" cy="510876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C7B6-1693-43F6-913B-9B71679899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Isosceles Triangle 27"/>
          <p:cNvGrpSpPr/>
          <p:nvPr/>
        </p:nvGrpSpPr>
        <p:grpSpPr>
          <a:xfrm>
            <a:off x="2341440" y="2511360"/>
            <a:ext cx="4430880" cy="2908440"/>
            <a:chOff x="2341440" y="2511360"/>
            <a:chExt cx="4430880" cy="2908440"/>
          </a:xfrm>
        </p:grpSpPr>
        <p:pic>
          <p:nvPicPr>
            <p:cNvPr id="124" name="Isosceles Triangle 27" descr=""/>
            <p:cNvPicPr/>
            <p:nvPr/>
          </p:nvPicPr>
          <p:blipFill>
            <a:blip r:embed="rId1"/>
            <a:stretch/>
          </p:blipFill>
          <p:spPr>
            <a:xfrm>
              <a:off x="2341440" y="2511360"/>
              <a:ext cx="443088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452760" y="3962520"/>
              <a:ext cx="2209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93726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ron Triangle of Funds Management: School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3510000" y="2057400"/>
            <a:ext cx="2095560" cy="1219320"/>
            <a:chOff x="3510000" y="2057400"/>
            <a:chExt cx="2095560" cy="1219320"/>
          </a:xfrm>
        </p:grpSpPr>
        <p:grpSp>
          <p:nvGrpSpPr>
            <p:cNvPr id="128" name="Rounded Rectangle 19"/>
            <p:cNvGrpSpPr/>
            <p:nvPr/>
          </p:nvGrpSpPr>
          <p:grpSpPr>
            <a:xfrm>
              <a:off x="3510000" y="2057400"/>
              <a:ext cx="2095560" cy="1219320"/>
              <a:chOff x="3510000" y="2057400"/>
              <a:chExt cx="2095560" cy="1219320"/>
            </a:xfrm>
          </p:grpSpPr>
          <p:pic>
            <p:nvPicPr>
              <p:cNvPr id="129" name="Rounded 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0000" y="2057400"/>
                <a:ext cx="209556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600000" y="2120760"/>
                <a:ext cx="1917000" cy="10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Rounded Rectangle 4"/>
            <p:cNvSpPr/>
            <p:nvPr/>
          </p:nvSpPr>
          <p:spPr>
            <a:xfrm>
              <a:off x="3594960" y="2120040"/>
              <a:ext cx="192744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ED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5410080" y="4648320"/>
            <a:ext cx="2095560" cy="1218960"/>
            <a:chOff x="5410080" y="4648320"/>
            <a:chExt cx="2095560" cy="1218960"/>
          </a:xfrm>
        </p:grpSpPr>
        <p:grpSp>
          <p:nvGrpSpPr>
            <p:cNvPr id="133" name="Rounded Rectangle 25"/>
            <p:cNvGrpSpPr/>
            <p:nvPr/>
          </p:nvGrpSpPr>
          <p:grpSpPr>
            <a:xfrm>
              <a:off x="5410080" y="4648320"/>
              <a:ext cx="2095560" cy="1218960"/>
              <a:chOff x="5410080" y="4648320"/>
              <a:chExt cx="2095560" cy="1218960"/>
            </a:xfrm>
          </p:grpSpPr>
          <p:pic>
            <p:nvPicPr>
              <p:cNvPr id="134" name="Rounded Rectangle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4648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498640" y="4711680"/>
                <a:ext cx="19224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Rounded Rectangle 4"/>
            <p:cNvSpPr/>
            <p:nvPr/>
          </p:nvSpPr>
          <p:spPr>
            <a:xfrm>
              <a:off x="5493600" y="4710960"/>
              <a:ext cx="19328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Business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Office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1"/>
          <p:cNvGrpSpPr/>
          <p:nvPr/>
        </p:nvGrpSpPr>
        <p:grpSpPr>
          <a:xfrm>
            <a:off x="1562040" y="4648320"/>
            <a:ext cx="2095560" cy="1218960"/>
            <a:chOff x="1562040" y="4648320"/>
            <a:chExt cx="2095560" cy="1218960"/>
          </a:xfrm>
        </p:grpSpPr>
        <p:grpSp>
          <p:nvGrpSpPr>
            <p:cNvPr id="138" name="Rounded Rectangle 22"/>
            <p:cNvGrpSpPr/>
            <p:nvPr/>
          </p:nvGrpSpPr>
          <p:grpSpPr>
            <a:xfrm>
              <a:off x="1562040" y="4648320"/>
              <a:ext cx="2095560" cy="1218960"/>
              <a:chOff x="1562040" y="4648320"/>
              <a:chExt cx="2095560" cy="1218960"/>
            </a:xfrm>
          </p:grpSpPr>
          <p:pic>
            <p:nvPicPr>
              <p:cNvPr id="139" name="Rounded Rectangl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2040" y="4648320"/>
                <a:ext cx="20955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654920" y="4711680"/>
                <a:ext cx="1917000" cy="10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162"/>
                  </a:spcBef>
                  <a:spcAft>
                    <a:spcPts val="16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" name="Rounded Rectangle 4"/>
            <p:cNvSpPr/>
            <p:nvPr/>
          </p:nvSpPr>
          <p:spPr>
            <a:xfrm>
              <a:off x="1649520" y="4710960"/>
              <a:ext cx="1927440" cy="10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Verdana"/>
                </a:rPr>
                <a:t>Financial</a:t>
              </a:r>
              <a:br>
                <a:rPr sz="2600"/>
              </a:br>
              <a:r>
                <a:rPr b="1" lang="en-US" sz="2600" spc="-1" strike="noStrike">
                  <a:solidFill>
                    <a:srgbClr val="ffffff"/>
                  </a:solidFill>
                  <a:latin typeface="Verdana"/>
                </a:rPr>
                <a:t>Aid Office</a:t>
              </a:r>
              <a:endParaRPr b="0" i="1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Line 26"/>
          <p:cNvSpPr/>
          <p:nvPr/>
        </p:nvSpPr>
        <p:spPr>
          <a:xfrm flipH="1">
            <a:off x="2971800" y="327672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3657600" y="5410080"/>
            <a:ext cx="1752480" cy="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5181480" y="3276720"/>
            <a:ext cx="990720" cy="1371600"/>
          </a:xfrm>
          <a:prstGeom prst="line">
            <a:avLst/>
          </a:prstGeom>
          <a:ln w="50760">
            <a:solidFill>
              <a:srgbClr val="dd4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5E8C-463B-4668-BC98-E510F295C4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eate Payment – Summary Tab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5" name="Picture 5" descr="Payments 2"/>
          <p:cNvPicPr/>
          <p:nvPr/>
        </p:nvPicPr>
        <p:blipFill>
          <a:blip r:embed="rId1"/>
          <a:srcRect l="12527" t="11042" r="12527" b="8042"/>
          <a:stretch/>
        </p:blipFill>
        <p:spPr>
          <a:xfrm>
            <a:off x="765000" y="1055520"/>
            <a:ext cx="7689960" cy="518976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ed Emai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9360">
            <a:solidFill>
              <a:srgbClr val="0066a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emayne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questing User ID: Tremayne@ed.gov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our request made on 08/12/2008 for $100.00, has been received. Your control number is 2008081206381 and you will receive your funds on 08/13/2008 in bank account ****9426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f you did not request this payment, please contact Helpdesk at 1-888-336-893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FAF6-FA1E-4E24-A0C8-4EA09CF850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960" y="1599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69" name="Picture 3" descr="money_clipart_banknote_coins"/>
          <p:cNvPicPr/>
          <p:nvPr/>
        </p:nvPicPr>
        <p:blipFill>
          <a:blip r:embed="rId1"/>
          <a:stretch/>
        </p:blipFill>
        <p:spPr>
          <a:xfrm>
            <a:off x="3276720" y="3200400"/>
            <a:ext cx="2438280" cy="134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0742-15F7-4867-B373-5510643E29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704-0B3D-47F9-ADD3-D677A23B1D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Activ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2" name="Picture 5" descr="Activity Report"/>
          <p:cNvPicPr/>
          <p:nvPr/>
        </p:nvPicPr>
        <p:blipFill>
          <a:blip r:embed="rId1"/>
          <a:srcRect l="12527" t="12002" r="12527" b="12961"/>
          <a:stretch/>
        </p:blipFill>
        <p:spPr>
          <a:xfrm>
            <a:off x="765000" y="1219320"/>
            <a:ext cx="7994880" cy="5002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C2F1-F2B3-4DBA-A857-1EEE9F8C00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5" name="Picture 5" descr="Activity Report 1"/>
          <p:cNvPicPr/>
          <p:nvPr/>
        </p:nvPicPr>
        <p:blipFill>
          <a:blip r:embed="rId1"/>
          <a:srcRect l="12527" t="12002" r="12527" b="18961"/>
          <a:stretch/>
        </p:blipFill>
        <p:spPr>
          <a:xfrm>
            <a:off x="380880" y="1305000"/>
            <a:ext cx="8455320" cy="486720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659E-9AC5-4C4E-AF10-3618E0477C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8" name="Picture 5" descr="Activity Report 2"/>
          <p:cNvPicPr/>
          <p:nvPr/>
        </p:nvPicPr>
        <p:blipFill>
          <a:blip r:embed="rId1"/>
          <a:srcRect l="12527" t="12961" r="12527" b="12961"/>
          <a:stretch/>
        </p:blipFill>
        <p:spPr>
          <a:xfrm>
            <a:off x="538200" y="1143000"/>
            <a:ext cx="8145360" cy="503244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  <p:sp>
        <p:nvSpPr>
          <p:cNvPr id="279" name="Text Box 6"/>
          <p:cNvSpPr/>
          <p:nvPr/>
        </p:nvSpPr>
        <p:spPr>
          <a:xfrm>
            <a:off x="685800" y="5105520"/>
            <a:ext cx="7848720" cy="19116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a9"/>
                </a:solidFill>
                <a:uFillTx/>
                <a:latin typeface="CourierPS"/>
              </a:rPr>
              <a:t>0215S060156</a:t>
            </a:r>
            <a:r>
              <a:rPr b="0" lang="en-US" sz="800" spc="-1" strike="noStrike">
                <a:solidFill>
                  <a:srgbClr val="0066a9"/>
                </a:solidFill>
                <a:latin typeface="CourierPS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PS"/>
              </a:rPr>
              <a:t>                 $1,126,423.00   -$374,043.00     $0.00       $0.00            $0.00  -$374,043.00    09/30/201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Award History Repo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81" name="Picture 5" descr="Activity Report 3"/>
          <p:cNvPicPr/>
          <p:nvPr/>
        </p:nvPicPr>
        <p:blipFill>
          <a:blip r:embed="rId1"/>
          <a:srcRect l="12527" t="12002" r="12527" b="5042"/>
          <a:stretch/>
        </p:blipFill>
        <p:spPr>
          <a:xfrm>
            <a:off x="765000" y="914400"/>
            <a:ext cx="7614000" cy="5265720"/>
          </a:xfrm>
          <a:prstGeom prst="rect">
            <a:avLst/>
          </a:prstGeom>
          <a:ln w="9360">
            <a:solidFill>
              <a:srgbClr val="0066a9"/>
            </a:solidFill>
            <a:miter/>
          </a:ln>
        </p:spPr>
      </p:pic>
      <p:sp>
        <p:nvSpPr>
          <p:cNvPr id="282" name="Text Box 7"/>
          <p:cNvSpPr/>
          <p:nvPr/>
        </p:nvSpPr>
        <p:spPr>
          <a:xfrm>
            <a:off x="2057400" y="2397240"/>
            <a:ext cx="1523880" cy="1742760"/>
          </a:xfrm>
          <a:prstGeom prst="rect">
            <a:avLst/>
          </a:prstGeom>
          <a:solidFill>
            <a:srgbClr val="ffffff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Q215S06156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-741,192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09/30/201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1,126,423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-$741,192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PS"/>
              </a:rPr>
              <a:t>$0.00</a:t>
            </a: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838080" y="3962520"/>
            <a:ext cx="7391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914400" y="4038480"/>
            <a:ext cx="7238880" cy="0"/>
          </a:xfrm>
          <a:prstGeom prst="line">
            <a:avLst/>
          </a:prstGeom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6873-57B1-4089-8D41-539C04F964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D46-5FF8-4BD1-98FD-DA8ECC71A5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D School Relations Cent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-800-474-726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5 Help des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-888-336-893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819520"/>
            <a:ext cx="2529000" cy="26287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ed Funding Help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B62C-1438-44C6-8188-881857421C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lated Conference Ses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812960"/>
          <a:ext cx="8229600" cy="2889360"/>
        </p:xfrm>
        <a:graphic>
          <a:graphicData uri="http://schemas.openxmlformats.org/drawingml/2006/table">
            <a:tbl>
              <a:tblPr/>
              <a:tblGrid>
                <a:gridCol w="2286000"/>
                <a:gridCol w="5943600"/>
              </a:tblGrid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C-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007aa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ional Update for Pell Grants, ACG and National SMART Grant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7aa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C-0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Education Opportunity Act of 2008 – An Update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DL-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tle IV Funding:  From COD through G5 (For Direct Loan Schools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8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 FF-1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7a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 Basics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7aa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3B1D-012F-46B5-A7BB-E467DFB140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094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thony T. (Tony) Laing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, Internal Controls Division – Federal Student Aid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anthony.laing@ed.gov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202) 377-3112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1D9-5DDD-4231-ACB6-4B7772FE2B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unding Lifecyc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4675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6B7-A5C2-43A1-8DF8-BF21897582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aily Produc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D 24-Hour Turnar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bursement Record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:00 AM ET in COD  - Same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:00 PM ET in COD - Next Da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DCC0-BDE4-4FB7-88C6-74D6EA8A9E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yment Metho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d Funded = 5,200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T Pilo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43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CM1, HCM2 &amp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mburse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400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981-493E-4E37-A6FD-091982AF81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itial Authoriz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-wide authorization in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ce fu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8-2009 - $7 billion for 4,645 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T, HCM1, HCM2, &amp; Reimbursement = Records Firs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G &amp; National SMART Gra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gram-wide author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fir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8CD5-47DE-49F9-904E-211D843AFF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n to Submit Disbursement Recor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Days in advance of disbursement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before COD sends funding transaction to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 &amp; National SMART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in advance of disbursement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 days before COD sends funding transaction to G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1T18:41:56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