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4677C-25D2-406D-972D-4B4342FED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B0D706B-CE08-42DD-B143-304F14711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5B43E38-8A0A-4839-B591-55820DE21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3DE275F-7F2C-4755-9605-DCFA5E64FA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2FBFD30-239A-4712-B20F-B1342AD038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AA36098-798B-44A3-8788-F1FB79AC7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D9DCA6B-D3F4-42EF-84BB-824A1BA61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3FEB83B-DF34-47E2-87A0-32FFA0DBBE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517024E-68CE-4776-A7DE-FEE243E10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FC1CB45-B1D0-4277-AD3E-73E572B6D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E3116B9-6D5F-46AC-AA4E-87E615DA0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5047A87-ADFC-44E2-ACF6-71E30F236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CC3D-C8F6-45AF-BE1D-A3F5AAE055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s://www.gibill.va.gov/wave" TargetMode="Externa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rPr>
              <a:t> </a:t>
            </a:r>
            <a:endParaRPr b="0" lang="en-US" sz="4400" spc="-1" strike="noStrike">
              <a:solidFill>
                <a:srgbClr val="000000"/>
              </a:solidFill>
              <a:latin typeface="Times New Roman"/>
            </a:endParaRPr>
          </a:p>
        </p:txBody>
      </p:sp>
      <p:sp>
        <p:nvSpPr>
          <p:cNvPr id="43" name=""/>
          <p:cNvSpPr/>
          <p:nvPr/>
        </p:nvSpPr>
        <p:spPr>
          <a:xfrm>
            <a:off x="609480" y="200016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king with Veterans Affairs to Help Students</a:t>
            </a:r>
            <a:endParaRPr b="0" lang="en-US" sz="4400" spc="-1" strike="noStrike">
              <a:solidFill>
                <a:srgbClr val="000000"/>
              </a:solidFill>
              <a:latin typeface="Times New Roman"/>
            </a:endParaRPr>
          </a:p>
        </p:txBody>
      </p:sp>
      <p:sp>
        <p:nvSpPr>
          <p:cNvPr id="44" name=""/>
          <p:cNvSpPr/>
          <p:nvPr/>
        </p:nvSpPr>
        <p:spPr>
          <a:xfrm>
            <a:off x="0" y="3581280"/>
            <a:ext cx="9144000" cy="235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bra Morgan</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Veterans Affairs</a:t>
            </a:r>
            <a:br>
              <a:rPr sz="2800"/>
            </a:b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old McCullough</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Times New Roman"/>
            </a:endParaRPr>
          </a:p>
        </p:txBody>
      </p:sp>
      <p:sp>
        <p:nvSpPr>
          <p:cNvPr id="45" name=""/>
          <p:cNvSpPr/>
          <p:nvPr/>
        </p:nvSpPr>
        <p:spPr>
          <a:xfrm>
            <a:off x="609480" y="8380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9</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33)</a:t>
            </a:r>
            <a:endParaRPr b="1" lang="en-US" sz="40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individuals receive a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ercentage, as determined b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ength of active duty service, of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following:</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 Amount of tuition and fees, not to exceed most expensive undergraduate, in-State public institution of higher education (paid to school);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1027506-DB31-4446-B9F5-9B3A337F0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early books and supplies stipend of up to $1,000 per year (paid to student);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housing allowance equal to basic allowance paid to a military E-5 with dependents in same school zip code (paid to student)</a:t>
            </a:r>
            <a:endParaRPr b="0" lang="en-US" sz="28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400" spc="-1" strike="noStrike">
                <a:solidFill>
                  <a:srgbClr val="000000"/>
                </a:solidFill>
                <a:latin typeface="Verdana"/>
              </a:rPr>
              <a:t>Note:</a:t>
            </a:r>
            <a:r>
              <a:rPr b="0" lang="en-US" sz="2400" spc="-1" strike="noStrike">
                <a:solidFill>
                  <a:srgbClr val="000000"/>
                </a:solidFill>
                <a:latin typeface="Verdana"/>
              </a:rPr>
              <a:t> Books and supplies stipend and housing allowance is not payable to those on active duty, and housing allowance is not payable to those training at half time or less or to those taking distance learn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B2F1947-F6FC-4E7B-B216-1B7637FD9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member of the Armed Forces on August 1, 2009 may be offered the opportunity to transfer benefits to his or her spouse or dependent childre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D will determine who is eligible to transfer benefi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28190E0-53DE-4147-92B5-F87DA4C05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7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gomery GI Bill—Active Duty (Ch. 30)</a:t>
            </a:r>
            <a:endParaRPr b="1" lang="en-US" sz="4000" spc="-1" strike="noStrike">
              <a:solidFill>
                <a:srgbClr val="cc5407"/>
              </a:solidFill>
              <a:latin typeface="Verdana"/>
            </a:endParaRPr>
          </a:p>
        </p:txBody>
      </p:sp>
      <p:sp>
        <p:nvSpPr>
          <p:cNvPr id="69"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entered active duty pre-1977 or post-mid-1985</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basic full-time monthly ra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7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21</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09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37B018-FF30-472E-8D00-883BCDB64E21}"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gomery GI Bill—Active Duty (Ch. 30)</a:t>
            </a:r>
            <a:endParaRPr b="1" lang="en-US" sz="4000" spc="-1" strike="noStrike">
              <a:solidFill>
                <a:srgbClr val="cc5407"/>
              </a:solidFill>
              <a:latin typeface="Verdana"/>
            </a:endParaRPr>
          </a:p>
        </p:txBody>
      </p:sp>
      <p:sp>
        <p:nvSpPr>
          <p:cNvPr id="71"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ctors that affect payments:</a:t>
            </a:r>
            <a:endParaRPr b="0" lang="en-US" sz="36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umber of depend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Kick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Buy up”</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tive duty statu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1D0C3A8-6553-4457-8398-7A16A45B948A}"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8377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ontgomery GI Bill—Selected Reserve (Ch. 1606)</a:t>
            </a:r>
            <a:endParaRPr b="1" lang="en-US" sz="3600" spc="-1" strike="noStrike">
              <a:solidFill>
                <a:srgbClr val="cc5407"/>
              </a:solidFill>
              <a:latin typeface="Verdana"/>
            </a:endParaRPr>
          </a:p>
        </p:txBody>
      </p:sp>
      <p:sp>
        <p:nvSpPr>
          <p:cNvPr id="73"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entered the Reserve or Guard from July 1, 1985 to pres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urrent basic rate is $329 per mont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s that affect the amount of MGIB—Selected Reserve payment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d eligibili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Kick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F49F9F-24F8-4CE3-9288-1668A4121B77}"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serve Educational Assistance Program (REAP or Ch. 1607)</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75" name="PlaceHolder 2"/>
          <p:cNvSpPr>
            <a:spLocks noGrp="1"/>
          </p:cNvSpPr>
          <p:nvPr>
            <p:ph/>
          </p:nvPr>
        </p:nvSpPr>
        <p:spPr>
          <a:xfrm>
            <a:off x="762120" y="1752480"/>
            <a:ext cx="7772400" cy="4572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reserve or guard called to active duty after Sept. 10, 2001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ctors that affect REAP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d eligibilit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gth of time spent on active du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full-time monthly rates are $528.40, $792.60, and $1,056.80</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GIB—SR “Kick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statu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673E049-B873-43BF-9652-16546F4EC4F1}"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Call to Service</a:t>
            </a:r>
            <a:endParaRPr b="1" lang="en-US" sz="40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enlisted individual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ice must include at least 15 months of active duty, and may include</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active duty</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 in the Selected Reserve</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 in Americorps </a:t>
            </a: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83D54AB-B0CE-45E3-8C3F-1808DF5AA3DC}"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Call to Service</a:t>
            </a:r>
            <a:endParaRPr b="1" lang="en-US" sz="40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listee may choose </a:t>
            </a:r>
            <a:r>
              <a:rPr b="1" lang="en-US" sz="3200" spc="-1" strike="noStrike">
                <a:solidFill>
                  <a:srgbClr val="000000"/>
                </a:solidFill>
                <a:latin typeface="Verdana"/>
              </a:rPr>
              <a:t>one</a:t>
            </a:r>
            <a:r>
              <a:rPr b="0" lang="en-US" sz="3200" spc="-1" strike="noStrike">
                <a:solidFill>
                  <a:srgbClr val="000000"/>
                </a:solidFill>
                <a:latin typeface="Verdana"/>
              </a:rPr>
              <a:t> of four enlistment incentiv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0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yment of up to $18,000 in outstanding student loa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 months of education benefits at the MGIB 3-year rat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 months of education benefits at ½ the MGIB 2-year rat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79DA32-EF50-409A-B0F6-F7CCEEB7F3E9}"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ost-Vietnam Era Veterans’ Educational Assistance Program (VEAP or Ch. 32)</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1"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individuals who entered active duty 1977-mid-198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ctors that affect the amount of paym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ount contribut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Kick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D8B5775-4390-48D5-AEFE-7971BFBA198C}"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verview</a:t>
            </a:r>
            <a:endParaRPr b="1" lang="en-US" sz="4000" spc="-1" strike="noStrike">
              <a:solidFill>
                <a:srgbClr val="cc5407"/>
              </a:solidFill>
              <a:latin typeface="Verdana"/>
            </a:endParaRPr>
          </a:p>
        </p:txBody>
      </p:sp>
      <p:sp>
        <p:nvSpPr>
          <p:cNvPr id="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Programs that VA Does and Does Not Administ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ayment Rules and Processing Claims for VA Program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utory and Regulatory Definitions for Title IV Purpo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 of Veterans Education Benefits for Title IV Purpos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453F23-4DC2-4B28-BE79-E2AF10130C7F}"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ocational Rehabilitation and Employment (Ch. 31)</a:t>
            </a:r>
            <a:endParaRPr b="1" lang="en-US" sz="4000" spc="-1" strike="noStrike">
              <a:solidFill>
                <a:srgbClr val="cc5407"/>
              </a:solidFill>
              <a:latin typeface="Verdana"/>
            </a:endParaRPr>
          </a:p>
        </p:txBody>
      </p:sp>
      <p:sp>
        <p:nvSpPr>
          <p:cNvPr id="83" name="PlaceHolder 2"/>
          <p:cNvSpPr>
            <a:spLocks noGrp="1"/>
          </p:cNvSpPr>
          <p:nvPr>
            <p:ph/>
          </p:nvPr>
        </p:nvSpPr>
        <p:spPr>
          <a:xfrm>
            <a:off x="762120" y="2514600"/>
            <a:ext cx="777240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ed on or after September 16, 1940 </a:t>
            </a:r>
            <a:r>
              <a:rPr b="1" i="1" lang="en-US" sz="3600" spc="-1" strike="noStrike">
                <a:solidFill>
                  <a:srgbClr val="000000"/>
                </a:solidFill>
                <a:latin typeface="Verdana"/>
              </a:rPr>
              <a:t>an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ice-connected disabilities are rated at least 20% VA (or 10% if there is a serious employment handicap) </a:t>
            </a:r>
            <a:r>
              <a:rPr b="1" i="1" lang="en-US" sz="3600" spc="-1" strike="noStrike">
                <a:solidFill>
                  <a:srgbClr val="000000"/>
                </a:solidFill>
                <a:latin typeface="Verdana"/>
              </a:rPr>
              <a:t>an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E48BAD6-3198-4C53-A98E-779BC30EA71E}"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ocational Rehabilitation and Employment (Ch. 31)</a:t>
            </a:r>
            <a:endParaRPr b="1" lang="en-US" sz="4000" spc="-1" strike="noStrike">
              <a:solidFill>
                <a:srgbClr val="cc5407"/>
              </a:solidFill>
              <a:latin typeface="Verdana"/>
            </a:endParaRPr>
          </a:p>
        </p:txBody>
      </p:sp>
      <p:sp>
        <p:nvSpPr>
          <p:cNvPr id="85"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is required to overcome the employment handicap </a:t>
            </a:r>
            <a:r>
              <a:rPr b="1" i="1" lang="en-US" sz="3600" spc="-1" strike="noStrike">
                <a:solidFill>
                  <a:srgbClr val="000000"/>
                </a:solidFill>
                <a:latin typeface="Verdana"/>
              </a:rPr>
              <a:t>and</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t has been less than 12 years since VA notified the individual of eligibilit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AE20A8B-1F38-416A-9427-A89C14A46DE3}"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ocational Rehabilitation and Employment (Ch. 31)</a:t>
            </a:r>
            <a:endParaRPr b="1" lang="en-US" sz="3600" spc="-1" strike="noStrike">
              <a:solidFill>
                <a:srgbClr val="cc5407"/>
              </a:solidFill>
              <a:latin typeface="Verdana"/>
            </a:endParaRPr>
          </a:p>
        </p:txBody>
      </p:sp>
      <p:sp>
        <p:nvSpPr>
          <p:cNvPr id="87" name="PlaceHolder 2"/>
          <p:cNvSpPr>
            <a:spLocks noGrp="1"/>
          </p:cNvSpPr>
          <p:nvPr>
            <p:ph/>
          </p:nvPr>
        </p:nvSpPr>
        <p:spPr>
          <a:xfrm>
            <a:off x="228600" y="1676160"/>
            <a:ext cx="861048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eteran eligible for this benef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tuition and fees paid by VA directly to the educational instit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required books and supplies pai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rovided with on-going case managemen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s a monthly subsistence allowanc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basic full-time rate is $541.05 per mont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BF226FA-749B-47C7-9D61-F1DEF7F825DF}"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792000"/>
            <a:ext cx="84582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89"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children, spouses and surviving spouses of individual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died while on active duty; </a:t>
            </a:r>
            <a:r>
              <a:rPr b="1" i="1" lang="en-US" sz="3600" spc="-1" strike="noStrike">
                <a:solidFill>
                  <a:srgbClr val="000000"/>
                </a:solidFill>
                <a:latin typeface="Verdana"/>
              </a:rPr>
              <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se death was caused by a service-connected disability; </a:t>
            </a:r>
            <a:r>
              <a:rPr b="1" i="1" lang="en-US" sz="3600" spc="-1" strike="noStrike">
                <a:solidFill>
                  <a:srgbClr val="000000"/>
                </a:solidFill>
                <a:latin typeface="Verdana"/>
              </a:rPr>
              <a:t>o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6B4B8D6-E566-4E34-B7E4-3E52B5970110}"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91"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died while permanently and totally disabled as a result of a service-connected disability; </a:t>
            </a:r>
            <a:r>
              <a:rPr b="1" i="1" lang="en-US" sz="3600" spc="-1" strike="noStrike">
                <a:solidFill>
                  <a:srgbClr val="000000"/>
                </a:solidFill>
                <a:latin typeface="Verdana"/>
              </a:rPr>
              <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have a permanent and total service-connected disabilit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5960D0A-9001-45F4-9B6A-38A98AC37088}"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93" name="PlaceHolder 2"/>
          <p:cNvSpPr>
            <a:spLocks noGrp="1"/>
          </p:cNvSpPr>
          <p:nvPr>
            <p:ph/>
          </p:nvPr>
        </p:nvSpPr>
        <p:spPr>
          <a:xfrm>
            <a:off x="304920" y="1684080"/>
            <a:ext cx="8534160" cy="4182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basic full-time rate is $915 per mont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ice of beginning date of eligibility affects payment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C342D02-89A8-471F-B91B-BE0DF4574800}"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792000"/>
            <a:ext cx="84582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tored Entitlement Program for Survivors </a:t>
            </a:r>
            <a:endParaRPr b="1" lang="en-US" sz="4000" spc="-1" strike="noStrike">
              <a:solidFill>
                <a:srgbClr val="cc5407"/>
              </a:solidFill>
              <a:latin typeface="Verdana"/>
            </a:endParaRPr>
          </a:p>
        </p:txBody>
      </p:sp>
      <p:sp>
        <p:nvSpPr>
          <p:cNvPr id="95" name="PlaceHolder 2"/>
          <p:cNvSpPr>
            <a:spLocks noGrp="1"/>
          </p:cNvSpPr>
          <p:nvPr>
            <p:ph/>
          </p:nvPr>
        </p:nvSpPr>
        <p:spPr>
          <a:xfrm>
            <a:off x="304920" y="1765440"/>
            <a:ext cx="8534160" cy="4101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ores to the survivors of some military personnel the Social Security benefits lost in 198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rvivors include children in college between age 18-2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thly payments range from $800 to $1,700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40158D3-9934-4515-8827-FF3AC37DEBF4}"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94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97" name="PlaceHolder 2"/>
          <p:cNvSpPr>
            <a:spLocks noGrp="1"/>
          </p:cNvSpPr>
          <p:nvPr>
            <p:ph/>
          </p:nvPr>
        </p:nvSpPr>
        <p:spPr>
          <a:xfrm>
            <a:off x="685800" y="2819520"/>
            <a:ext cx="7772400" cy="35049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claims are processed at each of VA’s </a:t>
            </a:r>
            <a:r>
              <a:rPr b="1" lang="en-US" sz="3600" spc="-1" strike="noStrike">
                <a:solidFill>
                  <a:srgbClr val="cc5407"/>
                </a:solidFill>
                <a:latin typeface="Verdana"/>
              </a:rPr>
              <a:t>57</a:t>
            </a:r>
            <a:r>
              <a:rPr b="0" lang="en-US" sz="3600" spc="-1" strike="noStrike">
                <a:solidFill>
                  <a:srgbClr val="000000"/>
                </a:solidFill>
                <a:latin typeface="Verdana"/>
              </a:rPr>
              <a:t> regional off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S claims are processed in St. Louis, MO</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5156116-F925-4CBE-B54C-719D31777D01}"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99" name="PlaceHolder 2"/>
          <p:cNvSpPr>
            <a:spLocks noGrp="1"/>
          </p:cNvSpPr>
          <p:nvPr>
            <p:ph/>
          </p:nvPr>
        </p:nvSpPr>
        <p:spPr>
          <a:xfrm>
            <a:off x="609480" y="2819520"/>
            <a:ext cx="777240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ther claims for educational benefits are processed at four regional processing offic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ffalo, NY; Atlanta, GA; St. Louis, MO and Muskogee, OK</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9F6599D-2D86-4613-B329-6FA4B61AE525}"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101" name="PlaceHolder 2"/>
          <p:cNvSpPr>
            <a:spLocks noGrp="1"/>
          </p:cNvSpPr>
          <p:nvPr>
            <p:ph/>
          </p:nvPr>
        </p:nvSpPr>
        <p:spPr>
          <a:xfrm>
            <a:off x="762120" y="2286000"/>
            <a:ext cx="777240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iginal claims take the longest tim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rollments take the shortest tim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D46932A-8565-43EE-A138-BEFEC84AC85A}"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3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terans Education Programs </a:t>
            </a:r>
            <a:endParaRPr b="1" lang="en-US" sz="3200" spc="-1" strike="noStrike">
              <a:solidFill>
                <a:srgbClr val="cc5407"/>
              </a:solidFill>
              <a:latin typeface="Verdana"/>
            </a:endParaRPr>
          </a:p>
        </p:txBody>
      </p:sp>
      <p:sp>
        <p:nvSpPr>
          <p:cNvPr id="49" name="PlaceHolder 2"/>
          <p:cNvSpPr>
            <a:spLocks noGrp="1"/>
          </p:cNvSpPr>
          <p:nvPr>
            <p:ph/>
          </p:nvPr>
        </p:nvSpPr>
        <p:spPr>
          <a:xfrm>
            <a:off x="838080" y="2971440"/>
            <a:ext cx="7772400" cy="2514600"/>
          </a:xfrm>
          <a:prstGeom prst="rect">
            <a:avLst/>
          </a:prstGeom>
          <a:noFill/>
          <a:ln w="0">
            <a:noFill/>
          </a:ln>
        </p:spPr>
        <p:txBody>
          <a:bodyPr lIns="90000" rIns="90000" tIns="46800" bIns="46800" anchor="t">
            <a:normAutofit/>
          </a:bodyPr>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Shawn Casey</a:t>
            </a:r>
            <a:endParaRPr b="0" lang="en-US" sz="3600" spc="-1" strike="noStrike">
              <a:solidFill>
                <a:srgbClr val="000000"/>
              </a:solidFill>
              <a:latin typeface="Verdana"/>
            </a:endParaRPr>
          </a:p>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U.S. Department of Veterans Affai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586736F-053E-4E4F-A3BA-51F0F9FAE2E6}"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VR&amp;E</a:t>
            </a:r>
            <a:endParaRPr b="1" lang="en-US" sz="40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 applies for VR&amp;E (completes 28-190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Division in the regional office determines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counselor determines entitlem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B6A6CA-FE34-44D6-8B98-FDD7A7057316}"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VR&amp;E</a:t>
            </a:r>
            <a:endParaRPr b="1" lang="en-US" sz="40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 and counselor explore vocational goal based upon comprehensive assessment of skills, aptitudes and interes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counselor and veteran develop rehabilitation pla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provides case management services until veteran is rehabilita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98AD53-6A8E-42D3-9A92-65ED6E7B6F6F}"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REPS</a:t>
            </a:r>
            <a:endParaRPr b="1" lang="en-US" sz="40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s may be submitted at any VA office, but will be processed in St. Loui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 Louis is responsible for determining eligibility and processing pay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C52362-FDE9-4AAC-A35C-FAFD6119DA1D}"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Other Programs</a:t>
            </a:r>
            <a:endParaRPr b="1" lang="en-US" sz="4000" spc="-1" strike="noStrike">
              <a:solidFill>
                <a:srgbClr val="cc5407"/>
              </a:solidFill>
              <a:latin typeface="Verdana"/>
            </a:endParaRPr>
          </a:p>
        </p:txBody>
      </p:sp>
      <p:sp>
        <p:nvSpPr>
          <p:cNvPr id="109" name="PlaceHolder 2"/>
          <p:cNvSpPr>
            <a:spLocks noGrp="1"/>
          </p:cNvSpPr>
          <p:nvPr>
            <p:ph/>
          </p:nvPr>
        </p:nvSpPr>
        <p:spPr>
          <a:xfrm>
            <a:off x="304920" y="1765440"/>
            <a:ext cx="8534160" cy="4101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ant files a 22-1990 or 22-549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ucational institution certifies claimant’s enroll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 DoD or Coast Guard determines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is authoriz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126072C-579F-4829-89DA-FABFB9D6AD58}"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45720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 Sites</a:t>
            </a:r>
            <a:endParaRPr b="1" lang="en-US" sz="4000" spc="-1" strike="noStrike">
              <a:solidFill>
                <a:srgbClr val="cc5407"/>
              </a:solidFill>
              <a:latin typeface="Verdana"/>
            </a:endParaRPr>
          </a:p>
        </p:txBody>
      </p:sp>
      <p:sp>
        <p:nvSpPr>
          <p:cNvPr id="111"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ucation Service Home Page</a:t>
            </a:r>
            <a:br>
              <a:rPr sz="3000"/>
            </a:br>
            <a:r>
              <a:rPr b="0" lang="en-US" sz="3000" spc="-1" strike="noStrike">
                <a:solidFill>
                  <a:srgbClr val="000000"/>
                </a:solidFill>
                <a:latin typeface="Verdana"/>
              </a:rPr>
              <a:t>http://www.GIBill.va.gov</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information on basic monthly rates for ch.30, ch.1606, and ch.1607</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terans Benefits Administration Home Page at http://www.vba.va.gov</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to “Benefits”. Click on Vocational Rehabilitation and Employment and drill down to ch. 31 rate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3B1FDEF-8DC6-4DE5-ADF1-B2B9F7BFC72F}"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480"/>
            <a:ext cx="8458200" cy="59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formation Available to Schools</a:t>
            </a:r>
            <a:endParaRPr b="1" lang="en-US" sz="40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types and amounts of benefits received or scheduled to be received by a student is available through –</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n-Line to “VA-ONCE”.  Available to the school’s designated VA certifying official</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ay Listing” paper roster.  Sent to the school’s designated VA certifying official</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B915305-B9D4-4B8A-BF00-5B64046CCF33}" type="slidenum">
              <a:t>35</a:t>
            </a:fld>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294920"/>
            <a:ext cx="86104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eatment of Veterans Education Benefits for Title IV Purposes</a:t>
            </a:r>
            <a:br>
              <a:rPr sz="40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15" name="PlaceHolder 2"/>
          <p:cNvSpPr>
            <a:spLocks noGrp="1"/>
          </p:cNvSpPr>
          <p:nvPr>
            <p:ph/>
          </p:nvPr>
        </p:nvSpPr>
        <p:spPr>
          <a:xfrm>
            <a:off x="685800" y="3429000"/>
            <a:ext cx="7772400" cy="2362320"/>
          </a:xfrm>
          <a:prstGeom prst="rect">
            <a:avLst/>
          </a:prstGeom>
          <a:noFill/>
          <a:ln w="0">
            <a:noFill/>
          </a:ln>
        </p:spPr>
        <p:txBody>
          <a:bodyPr lIns="90000" rIns="90000" tIns="46800" bIns="46800" anchor="t">
            <a:normAutofit/>
          </a:bodyPr>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Harold McCullough</a:t>
            </a:r>
            <a:endParaRPr b="0" lang="en-US" sz="3600" spc="-1" strike="noStrike">
              <a:solidFill>
                <a:srgbClr val="000000"/>
              </a:solidFill>
              <a:latin typeface="Verdana"/>
            </a:endParaRPr>
          </a:p>
          <a:p>
            <a:pPr marL="343080"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79"/>
                </a:solidFill>
                <a:latin typeface="Verdana"/>
              </a:rPr>
              <a:t>U.S. Department of Education</a:t>
            </a:r>
            <a:br>
              <a:rPr sz="3200"/>
            </a:b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1CE5555-CBED-423C-BA22-E296D48A8D08}" type="slidenum">
              <a:t>36</a:t>
            </a:fld>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294920"/>
            <a:ext cx="83059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utory Definitions:</a:t>
            </a:r>
            <a:br>
              <a:rPr sz="4000"/>
            </a:br>
            <a:r>
              <a:rPr b="1" lang="en-US" sz="4000" spc="-1" strike="noStrike">
                <a:solidFill>
                  <a:srgbClr val="cc5407"/>
                </a:solidFill>
                <a:latin typeface="Verdana"/>
              </a:rPr>
              <a:t>“Untaxed Income and Benefits”</a:t>
            </a:r>
            <a:endParaRPr b="1" lang="en-US" sz="4000" spc="-1" strike="noStrike">
              <a:solidFill>
                <a:srgbClr val="cc5407"/>
              </a:solidFill>
              <a:latin typeface="Verdana"/>
            </a:endParaRPr>
          </a:p>
        </p:txBody>
      </p:sp>
      <p:sp>
        <p:nvSpPr>
          <p:cNvPr id="117" name="PlaceHolder 2"/>
          <p:cNvSpPr>
            <a:spLocks noGrp="1"/>
          </p:cNvSpPr>
          <p:nvPr>
            <p:ph/>
          </p:nvPr>
        </p:nvSpPr>
        <p:spPr>
          <a:xfrm>
            <a:off x="685800" y="2895120"/>
            <a:ext cx="7772400" cy="3429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Untaxed Income and Benefits” (HEA section 480(b))</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veterans </a:t>
            </a:r>
            <a:r>
              <a:rPr b="1" lang="en-US" sz="3200" spc="-1" strike="noStrike">
                <a:solidFill>
                  <a:srgbClr val="000000"/>
                </a:solidFill>
                <a:latin typeface="Verdana"/>
              </a:rPr>
              <a:t>non-education</a:t>
            </a:r>
            <a:r>
              <a:rPr b="0" lang="en-US" sz="3200" spc="-1" strike="noStrike">
                <a:solidFill>
                  <a:srgbClr val="000000"/>
                </a:solidFill>
                <a:latin typeface="Verdana"/>
              </a:rPr>
              <a:t> benefits. Used in calculating the student’s EFC – (Worksheet B)</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18D7C0F-379A-4CF8-B0EC-5FEE4DF2B044}" type="slidenum">
              <a:t>37</a:t>
            </a:fld>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85440"/>
            <a:ext cx="8229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utory Definitions:</a:t>
            </a:r>
            <a:br>
              <a:rPr sz="3600"/>
            </a:br>
            <a:r>
              <a:rPr b="1" lang="en-US" sz="3600" spc="-1" strike="noStrike">
                <a:solidFill>
                  <a:srgbClr val="cc5407"/>
                </a:solidFill>
                <a:latin typeface="Verdana"/>
              </a:rPr>
              <a:t>“Other Financial Assistance”</a:t>
            </a:r>
            <a:endParaRPr b="1" lang="en-US" sz="3600" spc="-1" strike="noStrike">
              <a:solidFill>
                <a:srgbClr val="cc5407"/>
              </a:solidFill>
              <a:latin typeface="Verdana"/>
            </a:endParaRPr>
          </a:p>
        </p:txBody>
      </p:sp>
      <p:sp>
        <p:nvSpPr>
          <p:cNvPr id="119"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ther Financial Assistance” (HEA section 480(j))</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veterans education benefits (HEA section 480(c)) a student will receive during the award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education benefits are reported in questions 46 (months) and 47 (monthly amount) of the 2008-2009 FAFS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education benefits are not used in EFC calcul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50810EB-4422-4048-B3CF-A3808304D60D}" type="slidenum">
              <a:t>38</a:t>
            </a:fld>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gulatory Definition: “Estimated Financial Assistance” (EFA)</a:t>
            </a:r>
            <a:endParaRPr b="1" lang="en-US" sz="3200" spc="-1" strike="noStrike">
              <a:solidFill>
                <a:srgbClr val="cc5407"/>
              </a:solidFill>
              <a:latin typeface="Verdana"/>
            </a:endParaRPr>
          </a:p>
        </p:txBody>
      </p:sp>
      <p:sp>
        <p:nvSpPr>
          <p:cNvPr id="121" name="PlaceHolder 2"/>
          <p:cNvSpPr>
            <a:spLocks noGrp="1"/>
          </p:cNvSpPr>
          <p:nvPr>
            <p:ph/>
          </p:nvPr>
        </p:nvSpPr>
        <p:spPr>
          <a:xfrm>
            <a:off x="304920" y="2209320"/>
            <a:ext cx="853416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EFA is used for “Other Financial Assistance” under the FFEL and Direct Loan programs (34 CFR 682.200 and 685.102), the Campus-Based programs (34 CFR 673.5(c)), and the ACG and National SMART Grant programs (34 CFR 691.62 (c))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BCB7D9D-5655-4787-AB51-6FF2D0CC57FC}" type="slidenum">
              <a:t>39</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Programs that VA administer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Post–9/11 GI Bill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gomery GI Bill—Active Du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gomery GI Bill—Selected Reserv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ts Educational Assistanc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rve Educational Assistance Program</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7C20BC-C552-4101-B205-A6DAD1476A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concept of EFA does not apply to the Pell Grant Progra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Pell Grant award is never adjusted to take into account other forms of financial ai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F587F24-A0F7-41D4-9A57-33976648AC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 (section 428(a)(2)(C)) requires a school to exclude Montgomery GI Bill-Active Duty (Chapter 30) veterans education benefits (and AmeriCorps education awards or post-service benefits) from EFA when determining eligibility for </a:t>
            </a:r>
            <a:r>
              <a:rPr b="1" lang="en-US" sz="3200" spc="-1" strike="noStrike">
                <a:solidFill>
                  <a:srgbClr val="000000"/>
                </a:solidFill>
                <a:latin typeface="Verdana"/>
              </a:rPr>
              <a:t>subsidized</a:t>
            </a:r>
            <a:r>
              <a:rPr b="0" lang="en-US" sz="3200" spc="-1" strike="noStrike">
                <a:solidFill>
                  <a:srgbClr val="000000"/>
                </a:solidFill>
                <a:latin typeface="Verdana"/>
              </a:rPr>
              <a:t> FFEL and Direct Loa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753F48-5FDE-444D-AF49-6D7045AC50F2}" type="slidenum">
              <a:t>41</a:t>
            </a:fld>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7" name="PlaceHolder 2"/>
          <p:cNvSpPr>
            <a:spLocks noGrp="1"/>
          </p:cNvSpPr>
          <p:nvPr>
            <p:ph/>
          </p:nvPr>
        </p:nvSpPr>
        <p:spPr>
          <a:xfrm>
            <a:off x="685800" y="1143000"/>
            <a:ext cx="8229600" cy="50292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required exclusion of Chapter 30 benefits for subsidized loans is repeated in the definition of EFA in the FFEL and Direct Loan regulation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required exclusion does not apply to other veterans education benefits such as those under Chapter 1607</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pecial exclusion of Chapter 30 benefits is not provided for unsubsidized loan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44C0C7D-B648-4AFA-A334-0E81D1ED63EF}" type="slidenum">
              <a:t>42</a:t>
            </a:fld>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6840"/>
            <a:ext cx="84582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9"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HEA did not provide a similar exclusion of  these Chapter 30 benefits for the Campus-Based programs and the ACG and National SMART Grant program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llow students to have the full advantage of the statutory exclusion for subsidized loans without losing eligibility for the Campus-Based programs and the ACG and National SMART Grant programs, the regulations for these programs added an optional exclusion to the definition of EFA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67560FD-0F91-4160-B064-0848EBB15B8D}" type="slidenum">
              <a:t>43</a:t>
            </a:fld>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determining a student’s eligibility for funds under the Campus-Based programs and the ACG and National SMART Grant programs, a school </a:t>
            </a:r>
            <a:r>
              <a:rPr b="1" lang="en-US" sz="2800" spc="-1" strike="noStrike">
                <a:solidFill>
                  <a:srgbClr val="000000"/>
                </a:solidFill>
                <a:latin typeface="Verdana"/>
              </a:rPr>
              <a:t>may</a:t>
            </a:r>
            <a:r>
              <a:rPr b="0" lang="en-US" sz="2800" spc="-1" strike="noStrike">
                <a:solidFill>
                  <a:srgbClr val="000000"/>
                </a:solidFill>
                <a:latin typeface="Verdana"/>
              </a:rPr>
              <a:t> exclude as EFA any portion of a subsidized FFEL or Direct Loan that is equal to or less than the amount of the student’s Chapter 30 benefits (and AmeriCorps education awards or post-service benef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7FBDB70-2A1A-4018-8794-D15F9E0EAC73}" type="slidenum">
              <a:t>44</a:t>
            </a:fld>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ckaging Example: Chapter 30 Benefits and Title IV Aid</a:t>
            </a:r>
            <a:endParaRPr b="1" lang="en-US" sz="3600" spc="-1" strike="noStrike">
              <a:solidFill>
                <a:srgbClr val="cc5407"/>
              </a:solidFill>
              <a:latin typeface="Verdana"/>
            </a:endParaRPr>
          </a:p>
        </p:txBody>
      </p:sp>
      <p:sp>
        <p:nvSpPr>
          <p:cNvPr id="133" name="PlaceHolder 2"/>
          <p:cNvSpPr>
            <a:spLocks noGrp="1"/>
          </p:cNvSpPr>
          <p:nvPr>
            <p:ph/>
          </p:nvPr>
        </p:nvSpPr>
        <p:spPr>
          <a:xfrm>
            <a:off x="304920" y="2247840"/>
            <a:ext cx="8534160" cy="3619440"/>
          </a:xfrm>
          <a:prstGeom prst="rect">
            <a:avLst/>
          </a:prstGeom>
          <a:noFill/>
          <a:ln w="0">
            <a:noFill/>
          </a:ln>
        </p:spPr>
        <p:txBody>
          <a:bodyPr lIns="90000" rIns="90000" tIns="46800" bIns="46800" anchor="t">
            <a:normAutofit fontScale="97000"/>
          </a:bodyPr>
          <a:p>
            <a:pPr marL="332640" indent="-3326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dford is a first-year, independent  undergraduate student enrolled  in a 4-year  program at Carney University</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COA is $16,900 and he has an EFC of 1800, a Pell Grant of $2,981, and Chapter 30 benefits of $9,909</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need is $15,100 ($16,900 COA – 1800 EFC)</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925514-E9D5-4556-9A1F-3C80DC8520D9}" type="slidenum">
              <a:t>45</a:t>
            </a:fld>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assistance from the Pell Grant and Chapter 30 benefits equals $12,890 ($2,981 + 9,909)</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fference between his need and his assistance is $2,210 ($15,100 – 12,89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4BED6C-4627-4E7F-9451-98040CB276CC}" type="slidenum">
              <a:t>46</a:t>
            </a:fld>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cause the Chapter 30 benefits do not count as EFA for subsidized loans, Bradford is eligible for a subsidized loan in an amount that exceeds $2,21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23174E0-B157-42ED-A0B0-4F3D5354CCCA}" type="slidenum">
              <a:t>47</a:t>
            </a:fld>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480"/>
            <a:ext cx="8458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9"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COA minus his EFC and Pell Grant would leave an unmet need of $12,119 ($16,900 – 1,800 – 2,981) based on the required exclus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subsidized loan amount for a first-year student is $3,500 and is less than his $12,119 unmet need for subsidized loan purposes, so he is able to receive a subsidized loan up to $3,500 not just $2,2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5E38271-1CDD-4DD4-8FFE-48A1338726EC}" type="slidenum">
              <a:t>48</a:t>
            </a:fld>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480"/>
            <a:ext cx="8458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1" name="PlaceHolder 2"/>
          <p:cNvSpPr>
            <a:spLocks noGrp="1"/>
          </p:cNvSpPr>
          <p:nvPr>
            <p:ph/>
          </p:nvPr>
        </p:nvSpPr>
        <p:spPr>
          <a:xfrm>
            <a:off x="456840" y="1218960"/>
            <a:ext cx="8458200" cy="47242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ecision to take the subsidized loan of the full $3,500 is the student’s to make and the school must follow the HEA and regulatio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is example, his assistance totals $16,390 ($2,981 + 9,909 + 3,500) which exceeds his need of $15,100</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not considered an overaward or an overpayment under the HEA and regulatio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217EB2C-DC5D-4787-A917-FCE91496A394}" type="slidenum">
              <a:t>49</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tional Call To Servic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Vietnam Era Educational Assistance Program</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and Employ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ored Entitlement Program for Survivor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6DC40DD-93D1-4539-ABFD-8E9E45B45B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3" name="PlaceHolder 2"/>
          <p:cNvSpPr>
            <a:spLocks noGrp="1"/>
          </p:cNvSpPr>
          <p:nvPr>
            <p:ph/>
          </p:nvPr>
        </p:nvSpPr>
        <p:spPr>
          <a:xfrm>
            <a:off x="457200" y="1142640"/>
            <a:ext cx="8686800" cy="48769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the school considers Bradford for aid under the Campus-Based programs, it has the option of excluding his subsidized loan as EFA up to the amount of his Chapter 30 benefits (the same option applies for purposes of ACG or the National SMART Grant program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need is $15,100 and his total EFA minus the subsidized loan would be $12,890 ($16,390 – 3,50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EA8942A-FCA6-41F5-9301-4BFC72232955}" type="slidenum">
              <a:t>50</a:t>
            </a:fld>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chool may award aid under the Campus-Based programs up to $2,210 ($15,100 – 12,890), for example, $1,710 in FWS funds and $500 in FSEOG fund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ecision to apply the EFA exclusion under the Campus-Based programs is a school option, it is not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C71A9A5-A7F2-4F85-815A-F55F293DB546}" type="slidenum">
              <a:t>51</a:t>
            </a:fld>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 this exclusion for the Campus-Based programs, his assistance would be as follow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981 Pell Gra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909 Chapter 30 benefit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00 Subsidized Stafford loa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10 FW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0 FSEOG</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8,600 Total Aid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FFAB763-47F5-40C8-831C-D0711BC8DA74}" type="slidenum">
              <a:t>52</a:t>
            </a:fld>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dford’s assistance of $18,600 would exceed both his need of $15,100 and his COA of $16,900</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ain, this is not considered an overaward or an overpaym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AD708D-F549-44B4-87D2-5B12D804D7BC}" type="slidenum">
              <a:t>53</a:t>
            </a:fld>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Responsibility</a:t>
            </a:r>
            <a:endParaRPr b="1" lang="en-US" sz="40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must coordinate closely with other offices at the school that may have information about the students who are receiving veterans education benefit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715C484-0876-4F03-9C0B-B11A4D33B75B}" type="slidenum">
              <a:t>54</a:t>
            </a:fld>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701280"/>
            <a:ext cx="84582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ccess to VA Payment Information</a:t>
            </a:r>
            <a:endParaRPr b="1" lang="en-US" sz="4000" spc="-1" strike="noStrike">
              <a:solidFill>
                <a:srgbClr val="cc5407"/>
              </a:solidFill>
              <a:latin typeface="Verdana"/>
            </a:endParaRPr>
          </a:p>
        </p:txBody>
      </p:sp>
      <p:sp>
        <p:nvSpPr>
          <p:cNvPr id="153" name="PlaceHolder 2"/>
          <p:cNvSpPr>
            <a:spLocks noGrp="1"/>
          </p:cNvSpPr>
          <p:nvPr>
            <p:ph/>
          </p:nvPr>
        </p:nvSpPr>
        <p:spPr>
          <a:xfrm>
            <a:off x="304920" y="1604880"/>
            <a:ext cx="8534160" cy="42624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who receive Chapter 30, Chapter 1606, or Chapter 1607 benefits may access their payment information on the Web at</a:t>
            </a:r>
            <a:endParaRPr b="0" lang="en-US" sz="3000" spc="-1" strike="noStrike">
              <a:solidFill>
                <a:srgbClr val="000000"/>
              </a:solidFill>
              <a:latin typeface="Verdana"/>
            </a:endParaRPr>
          </a:p>
          <a:p>
            <a:pPr marL="3430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u="sng">
                <a:solidFill>
                  <a:srgbClr val="000099"/>
                </a:solidFill>
                <a:uFillTx/>
                <a:latin typeface="Verdana"/>
                <a:hlinkClick r:id="rId1"/>
              </a:rPr>
              <a:t>https://www.gibill.va.gov/wave</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dates of enrollment period(s) and monthly rate are provided</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may print information for financial aid purpose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CBD7C85-E48F-4DED-B1C5-C6C0DA258A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763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Treatment of Benefits      </a:t>
            </a:r>
            <a:endParaRPr b="1" lang="en-US" sz="4000" spc="-1" strike="noStrike">
              <a:solidFill>
                <a:srgbClr val="cc5407"/>
              </a:solidFill>
              <a:latin typeface="Verdana"/>
            </a:endParaRPr>
          </a:p>
        </p:txBody>
      </p:sp>
      <p:sp>
        <p:nvSpPr>
          <p:cNvPr id="155"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igher Education Opportunity Act of 2008 amended the HEA (section 480(j)) to exclude all veterans education benefits as “Other Financial Assistance” effective July 1, 201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benefits are still EFA for the current 2008-2009 Award Year and the 2009-2010 Award Year</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315CAF-C2B0-4DFD-B3B8-A9D33CC8AC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Treatment of Benefits</a:t>
            </a:r>
            <a:endParaRPr b="1" lang="en-US" sz="40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ing with the 2010-2011 Award Year, veterans education benefits are no longer EFA</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 in the past, veterans education benefits are not used in calculating an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t>
            </a:r>
            <a:r>
              <a:rPr b="1" lang="en-US" sz="3200" spc="-1" strike="noStrike">
                <a:solidFill>
                  <a:srgbClr val="000000"/>
                </a:solidFill>
                <a:latin typeface="Verdana"/>
              </a:rPr>
              <a:t>non-education</a:t>
            </a:r>
            <a:r>
              <a:rPr b="0" lang="en-US" sz="3200" spc="-1" strike="noStrike">
                <a:solidFill>
                  <a:srgbClr val="000000"/>
                </a:solidFill>
                <a:latin typeface="Verdana"/>
              </a:rPr>
              <a:t> benefits continue to be used in calculating the EFC for a stud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29D9E93-4A2E-4B03-AF12-D77EDF0463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a:t>
            </a:r>
            <a:br>
              <a:rPr sz="4000"/>
            </a:br>
            <a:r>
              <a:rPr b="1" lang="en-US" sz="4000" spc="-1" strike="noStrike">
                <a:solidFill>
                  <a:srgbClr val="cc5407"/>
                </a:solidFill>
                <a:latin typeface="Verdana"/>
              </a:rPr>
              <a:t>Treatment of Benefits                     </a:t>
            </a:r>
            <a:endParaRPr b="1" lang="en-US" sz="4000" spc="-1" strike="noStrike">
              <a:solidFill>
                <a:srgbClr val="cc5407"/>
              </a:solidFill>
              <a:latin typeface="Verdana"/>
            </a:endParaRPr>
          </a:p>
        </p:txBody>
      </p:sp>
      <p:sp>
        <p:nvSpPr>
          <p:cNvPr id="159"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TE</a:t>
            </a:r>
            <a:r>
              <a:rPr b="0" lang="en-US" sz="2400" spc="-1" strike="noStrike">
                <a:solidFill>
                  <a:srgbClr val="000000"/>
                </a:solidFill>
                <a:latin typeface="Verdana"/>
              </a:rPr>
              <a:t>:  AmeriCorps education awards or post-service benefits will continue to be EFA in the future award years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Required exclusion of AmeriCorps benefits from EFA for purposes of determining eligibility for subsidized FFEL and Direct Loans will also continu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ptional exclusion of any portion of a subsidized FFEL or Direct Loan that is equal to or less than the amount of the AmeriCorps benefits from EFA when determining eligibility for funds under the Campus-Based programs and the ACG and National SMART Grant programs will also continue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459258F-3D1A-4206-B6E7-3406DB414E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ture FAFSA Changes</a:t>
            </a:r>
            <a:endParaRPr b="1" lang="en-US" sz="4000" spc="-1" strike="noStrike">
              <a:solidFill>
                <a:srgbClr val="cc5407"/>
              </a:solidFill>
              <a:latin typeface="Verdana"/>
            </a:endParaRPr>
          </a:p>
        </p:txBody>
      </p:sp>
      <p:sp>
        <p:nvSpPr>
          <p:cNvPr id="1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AFSA -- 2009-2010 Award Year </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will ask each applicant to indicate whether he or she will receive veterans education benefi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pplicant indicates “yes”, the FAFSA will ask the applicant what typ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instructions will inform the applicant that he or she will need to provide information on the amount to the aid officer at his or her colleg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0377974-D52C-4FBC-B9CA-2229FDC64B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terans Education Programs VA does not administ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rve Officer Training Corps Scholarship</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rve Officer Training Corps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82C3317-1441-4FE3-8F01-4902E1DAE09B}" type="slidenum">
              <a:t>6</a:t>
            </a:fld>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6091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ture FAFSA Changes</a:t>
            </a:r>
            <a:endParaRPr b="1" lang="en-US" sz="40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AFSA -- 2010-2011 Award Year</a:t>
            </a: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will not ask any questions about veterans education benefits since these benefits are to be excluded as EFA and from the EFC calcul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1747BEF-5691-4A19-BE04-8A0AD8D99F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5" name="PlaceHolder 2"/>
          <p:cNvSpPr>
            <a:spLocks noGrp="1"/>
          </p:cNvSpPr>
          <p:nvPr>
            <p:ph/>
          </p:nvPr>
        </p:nvSpPr>
        <p:spPr>
          <a:xfrm>
            <a:off x="609120" y="1676520"/>
            <a:ext cx="7543800" cy="44193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f you have further questions, we can be contact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bra.Morgan@va.gov</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Harold.McCullough@ed.gov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FB35348-9DE8-41EE-877E-B1AA63276589}" type="slidenum">
              <a:t>61</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ayment Rules for VA Program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generally are made to the stud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are generally made monthl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are affected b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gra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s “training tim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A6DA9E4-EDE2-4A25-9BB9-FB4377CFFA23}"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59"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 new benefit that provides educational assistance to individuals who have served on active duty on or after September 11, 200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benefits are payable for training pursued on or after August 1, 2009</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4F0F4C3-1868-47A5-98D0-A471F0428B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52280"/>
            <a:ext cx="83055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1" name="PlaceHolder 2"/>
          <p:cNvSpPr>
            <a:spLocks noGrp="1"/>
          </p:cNvSpPr>
          <p:nvPr>
            <p:ph/>
          </p:nvPr>
        </p:nvSpPr>
        <p:spPr>
          <a:xfrm>
            <a:off x="228240" y="990720"/>
            <a:ext cx="8915400" cy="5867280"/>
          </a:xfrm>
          <a:prstGeom prst="rect">
            <a:avLst/>
          </a:prstGeom>
          <a:noFill/>
          <a:ln w="0">
            <a:noFill/>
          </a:ln>
        </p:spPr>
        <p:txBody>
          <a:bodyPr lIns="90000" rIns="90000" tIns="46800" bIns="46800" anchor="t">
            <a:normAutofit/>
          </a:bodyPr>
          <a:p>
            <a:pPr marL="62856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28560" indent="-34272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served an aggregate of 90 days of active duty service after September 10, 2001</a:t>
            </a:r>
            <a:endParaRPr b="0" lang="en-US" sz="3200" spc="-1" strike="noStrike">
              <a:solidFill>
                <a:srgbClr val="000000"/>
              </a:solidFill>
              <a:latin typeface="Verdana"/>
            </a:endParaRPr>
          </a:p>
          <a:p>
            <a:pPr marL="628560" indent="-34272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re paid on a sliding scale     determined by the length of active duty service.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E5ADA1-D6AD-4E54-BD61-03F65BA52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00:23Z</dcterms:modified>
  <cp:revision>231</cp:revision>
  <dc:subject/>
  <dc:title>PowerPoint Presentation</dc:title>
</cp:coreProperties>
</file>