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A5625-AE40-4245-93B2-3674394DCC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2A6ECD3-0CA8-44A2-91A4-152AA5532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FC1E10FE-A17A-47E5-AEA7-83E28C45D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1F038AF6-F54E-4A1B-B2F4-2D829A3D0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26CF9B9-B59A-412D-99A4-658C6545B7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8535969-BDA1-44CD-AA35-F0D98C393F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DF57B63-96DA-4882-8329-110A5EC7B2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4D4C11B2-D6EA-476D-824B-22CEB2F25C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3976B70-D527-44C3-B60F-F864AC5A89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7636B6F-61A7-4252-BB02-12C21850F7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A51C824-2256-4E58-B5C1-92B5F0A215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E371960-10B8-4D2F-B041-A5C50790CF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11F7-FF55-4AC1-9670-279763B6F06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s://www.gibill.va.gov/wave" TargetMode="Externa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Verdana"/>
              </a:rPr>
              <a:t> </a:t>
            </a:r>
            <a:endParaRPr b="0" lang="en-US" sz="4400" spc="-1" strike="noStrike">
              <a:solidFill>
                <a:srgbClr val="000000"/>
              </a:solidFill>
              <a:latin typeface="Times New Roman"/>
            </a:endParaRPr>
          </a:p>
        </p:txBody>
      </p:sp>
      <p:sp>
        <p:nvSpPr>
          <p:cNvPr id="43" name=""/>
          <p:cNvSpPr/>
          <p:nvPr/>
        </p:nvSpPr>
        <p:spPr>
          <a:xfrm>
            <a:off x="609480" y="200016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king with Veterans Affairs to Help Students</a:t>
            </a:r>
            <a:endParaRPr b="0" lang="en-US" sz="4400" spc="-1" strike="noStrike">
              <a:solidFill>
                <a:srgbClr val="000000"/>
              </a:solidFill>
              <a:latin typeface="Times New Roman"/>
            </a:endParaRPr>
          </a:p>
        </p:txBody>
      </p:sp>
      <p:sp>
        <p:nvSpPr>
          <p:cNvPr id="44" name=""/>
          <p:cNvSpPr/>
          <p:nvPr/>
        </p:nvSpPr>
        <p:spPr>
          <a:xfrm>
            <a:off x="0" y="3581280"/>
            <a:ext cx="9144000" cy="235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bra Morgan</a:t>
            </a: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Veterans Affairs</a:t>
            </a:r>
            <a:br>
              <a:rPr sz="2800"/>
            </a:b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old McCullough</a:t>
            </a: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Times New Roman"/>
            </a:endParaRPr>
          </a:p>
        </p:txBody>
      </p:sp>
      <p:sp>
        <p:nvSpPr>
          <p:cNvPr id="45" name=""/>
          <p:cNvSpPr/>
          <p:nvPr/>
        </p:nvSpPr>
        <p:spPr>
          <a:xfrm>
            <a:off x="609480" y="8380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09</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33)</a:t>
            </a:r>
            <a:endParaRPr b="1" lang="en-US" sz="4000" spc="-1" strike="noStrike">
              <a:solidFill>
                <a:srgbClr val="cc5407"/>
              </a:solidFill>
              <a:latin typeface="Verdana"/>
            </a:endParaRPr>
          </a:p>
        </p:txBody>
      </p:sp>
      <p:sp>
        <p:nvSpPr>
          <p:cNvPr id="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le individuals receive a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percentage, as determined by</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ength of active duty service, of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following:</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0000"/>
                </a:solidFill>
                <a:latin typeface="Verdana"/>
              </a:rPr>
              <a:t>- Amount of tuition and fees, not to exceed most expensive undergraduate, in-State public institution of higher education (paid to school);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C9F3B65-8B51-491E-8939-5FF89B45B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 33)</a:t>
            </a:r>
            <a:endParaRPr b="1" lang="en-US" sz="4000" spc="-1" strike="noStrike">
              <a:solidFill>
                <a:srgbClr val="cc5407"/>
              </a:solidFill>
              <a:latin typeface="Verdana"/>
            </a:endParaRPr>
          </a:p>
        </p:txBody>
      </p:sp>
      <p:sp>
        <p:nvSpPr>
          <p:cNvPr id="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early books and supplies stipend of up to $1,000 per year (paid to student); 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housing allowance equal to basic allowance paid to a military E-5 with dependents in same school zip code (paid to student)</a:t>
            </a:r>
            <a:endParaRPr b="0" lang="en-US" sz="28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400" spc="-1" strike="noStrike">
                <a:solidFill>
                  <a:srgbClr val="000000"/>
                </a:solidFill>
                <a:latin typeface="Verdana"/>
              </a:rPr>
              <a:t>Note:</a:t>
            </a:r>
            <a:r>
              <a:rPr b="0" lang="en-US" sz="2400" spc="-1" strike="noStrike">
                <a:solidFill>
                  <a:srgbClr val="000000"/>
                </a:solidFill>
                <a:latin typeface="Verdana"/>
              </a:rPr>
              <a:t> Books and supplies stipend and housing allowance is not payable to those on active duty, and housing allowance is not payable to those training at half time or less or to those taking distance learn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2100F29-120E-4DCC-887D-10859907F8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 33)</a:t>
            </a:r>
            <a:endParaRPr b="1" lang="en-US" sz="4000" spc="-1" strike="noStrike">
              <a:solidFill>
                <a:srgbClr val="cc5407"/>
              </a:solidFill>
              <a:latin typeface="Verdana"/>
            </a:endParaRPr>
          </a:p>
        </p:txBody>
      </p:sp>
      <p:sp>
        <p:nvSpPr>
          <p:cNvPr id="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member of the Armed Forces on August 1, 2009 may be offered the opportunity to transfer benefits to his or her spouse or dependent children</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D will determine who is eligible to transfer benefit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6068724-6C28-400C-9EEB-EA938D8F24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907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ntgomery GI Bill—Active Duty (Ch. 30)</a:t>
            </a:r>
            <a:endParaRPr b="1" lang="en-US" sz="4000" spc="-1" strike="noStrike">
              <a:solidFill>
                <a:srgbClr val="cc5407"/>
              </a:solidFill>
              <a:latin typeface="Verdana"/>
            </a:endParaRPr>
          </a:p>
        </p:txBody>
      </p:sp>
      <p:sp>
        <p:nvSpPr>
          <p:cNvPr id="69"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individuals who entered active duty pre-1977 or post-mid-1985</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ree basic full-time monthly rat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73</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321</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09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23052A5-947D-4765-BAFC-0969EC2FFC7D}"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32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ntgomery GI Bill—Active Duty (Ch. 30)</a:t>
            </a:r>
            <a:endParaRPr b="1" lang="en-US" sz="4000" spc="-1" strike="noStrike">
              <a:solidFill>
                <a:srgbClr val="cc5407"/>
              </a:solidFill>
              <a:latin typeface="Verdana"/>
            </a:endParaRPr>
          </a:p>
        </p:txBody>
      </p:sp>
      <p:sp>
        <p:nvSpPr>
          <p:cNvPr id="71" name="PlaceHolder 2"/>
          <p:cNvSpPr>
            <a:spLocks noGrp="1"/>
          </p:cNvSpPr>
          <p:nvPr>
            <p:ph/>
          </p:nvPr>
        </p:nvSpPr>
        <p:spPr>
          <a:xfrm>
            <a:off x="304920" y="2133360"/>
            <a:ext cx="8534160" cy="373356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ctors that affect payments:</a:t>
            </a:r>
            <a:endParaRPr b="0" lang="en-US" sz="36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umber of dependen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Kicker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Buy up”</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tive duty statu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934AFB1-E6FD-4CAC-B574-D3857E455BF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83772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ontgomery GI Bill—Selected Reserve (Ch. 1606)</a:t>
            </a:r>
            <a:endParaRPr b="1" lang="en-US" sz="3600" spc="-1" strike="noStrike">
              <a:solidFill>
                <a:srgbClr val="cc5407"/>
              </a:solidFill>
              <a:latin typeface="Verdana"/>
            </a:endParaRPr>
          </a:p>
        </p:txBody>
      </p:sp>
      <p:sp>
        <p:nvSpPr>
          <p:cNvPr id="73" name="PlaceHolder 2"/>
          <p:cNvSpPr>
            <a:spLocks noGrp="1"/>
          </p:cNvSpPr>
          <p:nvPr>
            <p:ph/>
          </p:nvPr>
        </p:nvSpPr>
        <p:spPr>
          <a:xfrm>
            <a:off x="304920" y="2209680"/>
            <a:ext cx="8534160" cy="36576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individuals who entered the Reserve or Guard from July 1, 1985 to presen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urrent basic rate is $329 per mont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ors that affect the amount of MGIB—Selected Reserve payment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ed eligibilit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Kicker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394ECB2-8A99-49E2-BCD6-E6FECE173CA6}"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80520"/>
            <a:ext cx="7619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serve Educational Assistance Program (REAP or Ch. 1607)</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75" name="PlaceHolder 2"/>
          <p:cNvSpPr>
            <a:spLocks noGrp="1"/>
          </p:cNvSpPr>
          <p:nvPr>
            <p:ph/>
          </p:nvPr>
        </p:nvSpPr>
        <p:spPr>
          <a:xfrm>
            <a:off x="762120" y="1752480"/>
            <a:ext cx="7772400" cy="45720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reserve or guard called to active duty after Sept. 10, 2001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ctors that affect REAP pay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ed eligibilit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gth of time spent on active duty</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full-time monthly rates are $528.40, $792.60, and $1,056.80</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GIB—SR “Kicke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e Duty statu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A4C0C3E-4471-40F4-AEA3-601129469BBE}"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Call to Service</a:t>
            </a:r>
            <a:endParaRPr b="1" lang="en-US" sz="40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enlisted individual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rvice must include at least 15 months of active duty, and may include</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active duty</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 in the Selected Reserve</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 in Americorps </a:t>
            </a:r>
            <a:endParaRPr b="0" lang="en-US" sz="32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1D8B653-07E5-4F56-A411-F6E91FF9DE68}"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Call to Service</a:t>
            </a:r>
            <a:endParaRPr b="1" lang="en-US" sz="4000" spc="-1" strike="noStrike">
              <a:solidFill>
                <a:srgbClr val="cc5407"/>
              </a:solidFill>
              <a:latin typeface="Verdana"/>
            </a:endParaRPr>
          </a:p>
        </p:txBody>
      </p:sp>
      <p:sp>
        <p:nvSpPr>
          <p:cNvPr id="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listee may choose </a:t>
            </a:r>
            <a:r>
              <a:rPr b="1" lang="en-US" sz="3200" spc="-1" strike="noStrike">
                <a:solidFill>
                  <a:srgbClr val="000000"/>
                </a:solidFill>
                <a:latin typeface="Verdana"/>
              </a:rPr>
              <a:t>one</a:t>
            </a:r>
            <a:r>
              <a:rPr b="0" lang="en-US" sz="3200" spc="-1" strike="noStrike">
                <a:solidFill>
                  <a:srgbClr val="000000"/>
                </a:solidFill>
                <a:latin typeface="Verdana"/>
              </a:rPr>
              <a:t> of four enlistment incentiv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00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yment of up to $18,000 in outstanding student loan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 months of education benefits at the MGIB 3-year rat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6 months of education benefits at ½ the MGIB 2-year rat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1D016D3-A6F1-4D53-B9C4-1CA657F80099}"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ost-Vietnam Era Veterans’ Educational Assistance Program (VEAP or Ch. 32)</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1"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individuals who entered active duty 1977-mid-198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ctors that affect the amount of paymen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mount contribut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Kicker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130306F-2F7F-4A65-960E-4DA936A3CE3D}"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verview</a:t>
            </a:r>
            <a:endParaRPr b="1" lang="en-US" sz="4000" spc="-1" strike="noStrike">
              <a:solidFill>
                <a:srgbClr val="cc5407"/>
              </a:solidFill>
              <a:latin typeface="Verdana"/>
            </a:endParaRPr>
          </a:p>
        </p:txBody>
      </p:sp>
      <p:sp>
        <p:nvSpPr>
          <p:cNvPr id="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Education Programs that VA Does and Does Not Administ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Payment Rules and Processing Claims for VA Program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utory and Regulatory Definitions for Title IV Purpos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eatment of Veterans Education Benefits for Title IV Purpose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67324E8-ED7B-4BE9-8E47-FA4B619457E4}"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ocational Rehabilitation and Employment (Ch. 31)</a:t>
            </a:r>
            <a:endParaRPr b="1" lang="en-US" sz="4000" spc="-1" strike="noStrike">
              <a:solidFill>
                <a:srgbClr val="cc5407"/>
              </a:solidFill>
              <a:latin typeface="Verdana"/>
            </a:endParaRPr>
          </a:p>
        </p:txBody>
      </p:sp>
      <p:sp>
        <p:nvSpPr>
          <p:cNvPr id="83" name="PlaceHolder 2"/>
          <p:cNvSpPr>
            <a:spLocks noGrp="1"/>
          </p:cNvSpPr>
          <p:nvPr>
            <p:ph/>
          </p:nvPr>
        </p:nvSpPr>
        <p:spPr>
          <a:xfrm>
            <a:off x="762120" y="2514600"/>
            <a:ext cx="777240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rved on or after September 16, 1940 </a:t>
            </a:r>
            <a:r>
              <a:rPr b="1" i="1" lang="en-US" sz="3600" spc="-1" strike="noStrike">
                <a:solidFill>
                  <a:srgbClr val="000000"/>
                </a:solidFill>
                <a:latin typeface="Verdana"/>
              </a:rPr>
              <a:t>an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rvice-connected disabilities are rated at least 20% VA (or 10% if there is a serious employment handicap) </a:t>
            </a:r>
            <a:r>
              <a:rPr b="1" i="1" lang="en-US" sz="3600" spc="-1" strike="noStrike">
                <a:solidFill>
                  <a:srgbClr val="000000"/>
                </a:solidFill>
                <a:latin typeface="Verdana"/>
              </a:rPr>
              <a:t>an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6467595-CCA0-46DE-B88A-1FDD2A2D0AB9}"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ocational Rehabilitation and Employment (Ch. 31)</a:t>
            </a:r>
            <a:endParaRPr b="1" lang="en-US" sz="4000" spc="-1" strike="noStrike">
              <a:solidFill>
                <a:srgbClr val="cc5407"/>
              </a:solidFill>
              <a:latin typeface="Verdana"/>
            </a:endParaRPr>
          </a:p>
        </p:txBody>
      </p:sp>
      <p:sp>
        <p:nvSpPr>
          <p:cNvPr id="85" name="PlaceHolder 2"/>
          <p:cNvSpPr>
            <a:spLocks noGrp="1"/>
          </p:cNvSpPr>
          <p:nvPr>
            <p:ph/>
          </p:nvPr>
        </p:nvSpPr>
        <p:spPr>
          <a:xfrm>
            <a:off x="304920" y="1846080"/>
            <a:ext cx="8534160" cy="402084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ocational rehabilitation is required to overcome the employment handicap </a:t>
            </a:r>
            <a:r>
              <a:rPr b="1" i="1" lang="en-US" sz="3600" spc="-1" strike="noStrike">
                <a:solidFill>
                  <a:srgbClr val="000000"/>
                </a:solidFill>
                <a:latin typeface="Verdana"/>
              </a:rPr>
              <a:t>and</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t has been less than 12 years since VA notified the individual of eligibility</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F381C5F-9678-41B6-9D3C-753376E0C045}"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ocational Rehabilitation and Employment (Ch. 31)</a:t>
            </a:r>
            <a:endParaRPr b="1" lang="en-US" sz="3600" spc="-1" strike="noStrike">
              <a:solidFill>
                <a:srgbClr val="cc5407"/>
              </a:solidFill>
              <a:latin typeface="Verdana"/>
            </a:endParaRPr>
          </a:p>
        </p:txBody>
      </p:sp>
      <p:sp>
        <p:nvSpPr>
          <p:cNvPr id="87" name="PlaceHolder 2"/>
          <p:cNvSpPr>
            <a:spLocks noGrp="1"/>
          </p:cNvSpPr>
          <p:nvPr>
            <p:ph/>
          </p:nvPr>
        </p:nvSpPr>
        <p:spPr>
          <a:xfrm>
            <a:off x="228600" y="1676160"/>
            <a:ext cx="8610480" cy="4800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veteran eligible for this benefi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tuition and fees paid by VA directly to the educational institu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required books and supplies paid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rovided with on-going case managemen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ives a monthly subsistence allowance</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basic full-time rate is $541.05 per month</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5E1EFAF-5970-4E99-BC99-C28768153109}"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792000"/>
            <a:ext cx="84582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ts’ Educational Assistance  (Ch. 35)</a:t>
            </a:r>
            <a:endParaRPr b="1" lang="en-US" sz="4000" spc="-1" strike="noStrike">
              <a:solidFill>
                <a:srgbClr val="cc5407"/>
              </a:solidFill>
              <a:latin typeface="Verdana"/>
            </a:endParaRPr>
          </a:p>
        </p:txBody>
      </p:sp>
      <p:sp>
        <p:nvSpPr>
          <p:cNvPr id="89" name="PlaceHolder 2"/>
          <p:cNvSpPr>
            <a:spLocks noGrp="1"/>
          </p:cNvSpPr>
          <p:nvPr>
            <p:ph/>
          </p:nvPr>
        </p:nvSpPr>
        <p:spPr>
          <a:xfrm>
            <a:off x="304920" y="1846080"/>
            <a:ext cx="8534160" cy="402084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children, spouses and surviving spouses of individual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o died while on active duty; </a:t>
            </a:r>
            <a:r>
              <a:rPr b="1" i="1" lang="en-US" sz="3600" spc="-1" strike="noStrike">
                <a:solidFill>
                  <a:srgbClr val="000000"/>
                </a:solidFill>
                <a:latin typeface="Verdana"/>
              </a:rPr>
              <a:t>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ose death was caused by a service-connected disability; </a:t>
            </a:r>
            <a:r>
              <a:rPr b="1" i="1" lang="en-US" sz="3600" spc="-1" strike="noStrike">
                <a:solidFill>
                  <a:srgbClr val="000000"/>
                </a:solidFill>
                <a:latin typeface="Verdana"/>
              </a:rPr>
              <a:t>or</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8687B55-8B7D-4896-A85B-496FEF50F9DD}"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ts’ Educational Assistance  (Ch. 35)</a:t>
            </a:r>
            <a:endParaRPr b="1" lang="en-US" sz="4000" spc="-1" strike="noStrike">
              <a:solidFill>
                <a:srgbClr val="cc5407"/>
              </a:solidFill>
              <a:latin typeface="Verdana"/>
            </a:endParaRPr>
          </a:p>
        </p:txBody>
      </p:sp>
      <p:sp>
        <p:nvSpPr>
          <p:cNvPr id="91" name="PlaceHolder 2"/>
          <p:cNvSpPr>
            <a:spLocks noGrp="1"/>
          </p:cNvSpPr>
          <p:nvPr>
            <p:ph/>
          </p:nvPr>
        </p:nvSpPr>
        <p:spPr>
          <a:xfrm>
            <a:off x="304920" y="1846080"/>
            <a:ext cx="8534160" cy="4020840"/>
          </a:xfrm>
          <a:prstGeom prst="rect">
            <a:avLst/>
          </a:prstGeom>
          <a:noFill/>
          <a:ln w="0">
            <a:noFill/>
          </a:ln>
        </p:spPr>
        <p:txBody>
          <a:bodyPr lIns="90000" rIns="90000" tIns="46800" bIns="46800" anchor="t">
            <a:normAutofit/>
          </a:bodyPr>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o died while permanently and totally disabled as a result of a service-connected disability; </a:t>
            </a:r>
            <a:r>
              <a:rPr b="1" i="1" lang="en-US" sz="3600" spc="-1" strike="noStrike">
                <a:solidFill>
                  <a:srgbClr val="000000"/>
                </a:solidFill>
                <a:latin typeface="Verdana"/>
              </a:rPr>
              <a:t>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o have a permanent and total service-connected disability</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B4C0A82-BBB2-45BD-A2FE-10A9E06F3ACD}"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ts’ Educational Assistance  (Ch. 35)</a:t>
            </a:r>
            <a:endParaRPr b="1" lang="en-US" sz="4000" spc="-1" strike="noStrike">
              <a:solidFill>
                <a:srgbClr val="cc5407"/>
              </a:solidFill>
              <a:latin typeface="Verdana"/>
            </a:endParaRPr>
          </a:p>
        </p:txBody>
      </p:sp>
      <p:sp>
        <p:nvSpPr>
          <p:cNvPr id="93" name="PlaceHolder 2"/>
          <p:cNvSpPr>
            <a:spLocks noGrp="1"/>
          </p:cNvSpPr>
          <p:nvPr>
            <p:ph/>
          </p:nvPr>
        </p:nvSpPr>
        <p:spPr>
          <a:xfrm>
            <a:off x="304920" y="1684080"/>
            <a:ext cx="8534160" cy="418284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basic full-time rate is $915 per mont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oice of beginning date of eligibility affects payments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DB24AD4-C59C-47E3-BB56-03FC54131643}"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792000"/>
            <a:ext cx="84582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tored Entitlement Program for Survivors </a:t>
            </a:r>
            <a:endParaRPr b="1" lang="en-US" sz="4000" spc="-1" strike="noStrike">
              <a:solidFill>
                <a:srgbClr val="cc5407"/>
              </a:solidFill>
              <a:latin typeface="Verdana"/>
            </a:endParaRPr>
          </a:p>
        </p:txBody>
      </p:sp>
      <p:sp>
        <p:nvSpPr>
          <p:cNvPr id="95" name="PlaceHolder 2"/>
          <p:cNvSpPr>
            <a:spLocks noGrp="1"/>
          </p:cNvSpPr>
          <p:nvPr>
            <p:ph/>
          </p:nvPr>
        </p:nvSpPr>
        <p:spPr>
          <a:xfrm>
            <a:off x="304920" y="1765440"/>
            <a:ext cx="8534160" cy="410184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tores to the survivors of some military personnel the Social Security benefits lost in 1981</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rvivors include children in college between age 18-2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thly payments range from $800 to $1,700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F16A34A-10EF-4088-A7BD-E3DF1F0401AC}"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94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Claims for Veterans Educational Benefits</a:t>
            </a:r>
            <a:endParaRPr b="1" lang="en-US" sz="4000" spc="-1" strike="noStrike">
              <a:solidFill>
                <a:srgbClr val="cc5407"/>
              </a:solidFill>
              <a:latin typeface="Verdana"/>
            </a:endParaRPr>
          </a:p>
        </p:txBody>
      </p:sp>
      <p:sp>
        <p:nvSpPr>
          <p:cNvPr id="97" name="PlaceHolder 2"/>
          <p:cNvSpPr>
            <a:spLocks noGrp="1"/>
          </p:cNvSpPr>
          <p:nvPr>
            <p:ph/>
          </p:nvPr>
        </p:nvSpPr>
        <p:spPr>
          <a:xfrm>
            <a:off x="685800" y="2819520"/>
            <a:ext cx="7772400" cy="350496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ocational Rehabilitation claims are processed at each of VA’s </a:t>
            </a:r>
            <a:r>
              <a:rPr b="1" lang="en-US" sz="3600" spc="-1" strike="noStrike">
                <a:solidFill>
                  <a:srgbClr val="cc5407"/>
                </a:solidFill>
                <a:latin typeface="Verdana"/>
              </a:rPr>
              <a:t>57</a:t>
            </a:r>
            <a:r>
              <a:rPr b="0" lang="en-US" sz="3600" spc="-1" strike="noStrike">
                <a:solidFill>
                  <a:srgbClr val="000000"/>
                </a:solidFill>
                <a:latin typeface="Verdana"/>
              </a:rPr>
              <a:t> regional offic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S claims are processed in St. Louis, MO</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5561630-31C2-4340-8488-E371E1A12E3A}"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Claims for Veterans Educational Benefits</a:t>
            </a:r>
            <a:endParaRPr b="1" lang="en-US" sz="4000" spc="-1" strike="noStrike">
              <a:solidFill>
                <a:srgbClr val="cc5407"/>
              </a:solidFill>
              <a:latin typeface="Verdana"/>
            </a:endParaRPr>
          </a:p>
        </p:txBody>
      </p:sp>
      <p:sp>
        <p:nvSpPr>
          <p:cNvPr id="99" name="PlaceHolder 2"/>
          <p:cNvSpPr>
            <a:spLocks noGrp="1"/>
          </p:cNvSpPr>
          <p:nvPr>
            <p:ph/>
          </p:nvPr>
        </p:nvSpPr>
        <p:spPr>
          <a:xfrm>
            <a:off x="609480" y="2819520"/>
            <a:ext cx="777240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ther claims for educational benefits are processed at four regional processing offic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uffalo, NY; Atlanta, GA; St. Louis, MO and Muskogee, OK</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66D61C5-83B7-49E8-A8EB-27D3677578B7}"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Claims for Veterans Educational Benefits</a:t>
            </a:r>
            <a:endParaRPr b="1" lang="en-US" sz="4000" spc="-1" strike="noStrike">
              <a:solidFill>
                <a:srgbClr val="cc5407"/>
              </a:solidFill>
              <a:latin typeface="Verdana"/>
            </a:endParaRPr>
          </a:p>
        </p:txBody>
      </p:sp>
      <p:sp>
        <p:nvSpPr>
          <p:cNvPr id="101" name="PlaceHolder 2"/>
          <p:cNvSpPr>
            <a:spLocks noGrp="1"/>
          </p:cNvSpPr>
          <p:nvPr>
            <p:ph/>
          </p:nvPr>
        </p:nvSpPr>
        <p:spPr>
          <a:xfrm>
            <a:off x="762120" y="2286000"/>
            <a:ext cx="7772400" cy="4572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iginal claims take the longest tim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enrollments take the shortest tim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03A0B07-8B36-4130-9F00-D475313874FA}"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23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Veterans Education Programs </a:t>
            </a:r>
            <a:endParaRPr b="1" lang="en-US" sz="3200" spc="-1" strike="noStrike">
              <a:solidFill>
                <a:srgbClr val="cc5407"/>
              </a:solidFill>
              <a:latin typeface="Verdana"/>
            </a:endParaRPr>
          </a:p>
        </p:txBody>
      </p:sp>
      <p:sp>
        <p:nvSpPr>
          <p:cNvPr id="49" name="PlaceHolder 2"/>
          <p:cNvSpPr>
            <a:spLocks noGrp="1"/>
          </p:cNvSpPr>
          <p:nvPr>
            <p:ph/>
          </p:nvPr>
        </p:nvSpPr>
        <p:spPr>
          <a:xfrm>
            <a:off x="838080" y="2971440"/>
            <a:ext cx="7772400" cy="2514600"/>
          </a:xfrm>
          <a:prstGeom prst="rect">
            <a:avLst/>
          </a:prstGeom>
          <a:noFill/>
          <a:ln w="0">
            <a:noFill/>
          </a:ln>
        </p:spPr>
        <p:txBody>
          <a:bodyPr lIns="90000" rIns="90000" tIns="46800" bIns="46800" anchor="t">
            <a:normAutofit/>
          </a:bodyPr>
          <a:p>
            <a:pPr marL="343080"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Verdana"/>
              </a:rPr>
              <a:t>Shawn Casey</a:t>
            </a:r>
            <a:endParaRPr b="0" lang="en-US" sz="3600" spc="-1" strike="noStrike">
              <a:solidFill>
                <a:srgbClr val="000000"/>
              </a:solidFill>
              <a:latin typeface="Verdana"/>
            </a:endParaRPr>
          </a:p>
          <a:p>
            <a:pPr marL="343080"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Verdana"/>
              </a:rPr>
              <a:t>U.S. Department of Veterans Affair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8501DF3-ECBD-45E6-9954-6C551B20AEDF}"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aims Processing—VR&amp;E</a:t>
            </a:r>
            <a:endParaRPr b="1" lang="en-US" sz="4000" spc="-1" strike="noStrike">
              <a:solidFill>
                <a:srgbClr val="cc5407"/>
              </a:solidFill>
              <a:latin typeface="Verdana"/>
            </a:endParaRPr>
          </a:p>
        </p:txBody>
      </p:sp>
      <p:sp>
        <p:nvSpPr>
          <p:cNvPr id="10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 applies for VR&amp;E (completes 28-1900)</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R&amp;E Division in the regional office determines eligibilit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R&amp;E counselor determines entitlemen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6284C62-B897-4549-89DE-9D3DB0EC6A5B}"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aims Processing—VR&amp;E</a:t>
            </a:r>
            <a:endParaRPr b="1" lang="en-US" sz="4000" spc="-1" strike="noStrike">
              <a:solidFill>
                <a:srgbClr val="cc5407"/>
              </a:solidFill>
              <a:latin typeface="Verdana"/>
            </a:endParaRPr>
          </a:p>
        </p:txBody>
      </p:sp>
      <p:sp>
        <p:nvSpPr>
          <p:cNvPr id="1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 and counselor explore vocational goal based upon comprehensive assessment of skills, aptitudes and interes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R&amp;E counselor and veteran develop rehabilitation pla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R&amp;E provides case management services until veteran is rehabilitat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7B337EC-0A0C-495C-B96E-7CD1467C9DCF}" type="slidenum">
              <a:t>31</a:t>
            </a:fld>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aims Processing—REPS</a:t>
            </a:r>
            <a:endParaRPr b="1" lang="en-US" sz="40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ms may be submitted at any VA office, but will be processed in St. Loui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 Louis is responsible for determining eligibility and processing pay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977B10-75F9-4052-91DD-5972C8727C85}" type="slidenum">
              <a:t>32</a:t>
            </a:fld>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aims Processing—Other Programs</a:t>
            </a:r>
            <a:endParaRPr b="1" lang="en-US" sz="4000" spc="-1" strike="noStrike">
              <a:solidFill>
                <a:srgbClr val="cc5407"/>
              </a:solidFill>
              <a:latin typeface="Verdana"/>
            </a:endParaRPr>
          </a:p>
        </p:txBody>
      </p:sp>
      <p:sp>
        <p:nvSpPr>
          <p:cNvPr id="109" name="PlaceHolder 2"/>
          <p:cNvSpPr>
            <a:spLocks noGrp="1"/>
          </p:cNvSpPr>
          <p:nvPr>
            <p:ph/>
          </p:nvPr>
        </p:nvSpPr>
        <p:spPr>
          <a:xfrm>
            <a:off x="304920" y="1765440"/>
            <a:ext cx="8534160" cy="41018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mant files a 22-1990 or 22-5490</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ucational institution certifies claimant’s enrollm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 DoD or Coast Guard determines eligibilit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is authoriz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2A7016-650B-448A-A82C-20D419965295}"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45720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b Sites</a:t>
            </a:r>
            <a:endParaRPr b="1" lang="en-US" sz="4000" spc="-1" strike="noStrike">
              <a:solidFill>
                <a:srgbClr val="cc5407"/>
              </a:solidFill>
              <a:latin typeface="Verdana"/>
            </a:endParaRPr>
          </a:p>
        </p:txBody>
      </p:sp>
      <p:sp>
        <p:nvSpPr>
          <p:cNvPr id="111" name="PlaceHolder 2"/>
          <p:cNvSpPr>
            <a:spLocks noGrp="1"/>
          </p:cNvSpPr>
          <p:nvPr>
            <p:ph/>
          </p:nvPr>
        </p:nvSpPr>
        <p:spPr>
          <a:xfrm>
            <a:off x="380520" y="1066320"/>
            <a:ext cx="8458200" cy="487692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ducation Service Home Page</a:t>
            </a:r>
            <a:br>
              <a:rPr sz="3000"/>
            </a:br>
            <a:r>
              <a:rPr b="0" lang="en-US" sz="3000" spc="-1" strike="noStrike">
                <a:solidFill>
                  <a:srgbClr val="000000"/>
                </a:solidFill>
                <a:latin typeface="Verdana"/>
              </a:rPr>
              <a:t>http://www.GIBill.va.gov</a:t>
            </a:r>
            <a:endParaRPr b="0" lang="en-US" sz="3000" spc="-1" strike="noStrike">
              <a:solidFill>
                <a:srgbClr val="000000"/>
              </a:solidFill>
              <a:latin typeface="Verdana"/>
            </a:endParaRPr>
          </a:p>
          <a:p>
            <a:pPr lvl="1" marL="743040" indent="-285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s information on basic monthly rates for ch.30, ch.1606, and ch.1607</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terans Benefits Administration Home Page at http://www.vba.va.gov</a:t>
            </a:r>
            <a:endParaRPr b="0" lang="en-US" sz="3000" spc="-1" strike="noStrike">
              <a:solidFill>
                <a:srgbClr val="000000"/>
              </a:solidFill>
              <a:latin typeface="Verdana"/>
            </a:endParaRPr>
          </a:p>
          <a:p>
            <a:pPr lvl="1" marL="743040" indent="-285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to “Benefits”. Click on Vocational Rehabilitation and Employment and drill down to ch. 31 rates</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ECD23CF-E115-41E6-86CA-6EFA06F70344}" type="slidenum">
              <a:t>34</a:t>
            </a:fld>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480"/>
            <a:ext cx="8458200" cy="59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formation Available to Schools</a:t>
            </a:r>
            <a:endParaRPr b="1" lang="en-US" sz="40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types and amounts of benefits received or scheduled to be received by a student is available through –</a:t>
            </a:r>
            <a:endParaRPr b="0" lang="en-US" sz="3000" spc="-1" strike="noStrike">
              <a:solidFill>
                <a:srgbClr val="000000"/>
              </a:solidFill>
              <a:latin typeface="Verdana"/>
            </a:endParaRPr>
          </a:p>
          <a:p>
            <a:pPr lvl="1" marL="743040" indent="-285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On-Line to “VA-ONCE”.  Available to the school’s designated VA certifying official</a:t>
            </a:r>
            <a:endParaRPr b="0" lang="en-US" sz="3000" spc="-1" strike="noStrike">
              <a:solidFill>
                <a:srgbClr val="000000"/>
              </a:solidFill>
              <a:latin typeface="Verdana"/>
            </a:endParaRPr>
          </a:p>
          <a:p>
            <a:pPr lvl="1" marL="743040" indent="-285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ay Listing” paper roster.  Sent to the school’s designated VA certifying official</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A28C44BD-36C2-48BD-995E-39CF3211F96D}" type="slidenum">
              <a:t>35</a:t>
            </a:fld>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1294920"/>
            <a:ext cx="86104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reatment of Veterans Education Benefits for Title IV Purposes</a:t>
            </a:r>
            <a:br>
              <a:rPr sz="4000"/>
            </a:b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15" name="PlaceHolder 2"/>
          <p:cNvSpPr>
            <a:spLocks noGrp="1"/>
          </p:cNvSpPr>
          <p:nvPr>
            <p:ph/>
          </p:nvPr>
        </p:nvSpPr>
        <p:spPr>
          <a:xfrm>
            <a:off x="685800" y="3429000"/>
            <a:ext cx="7772400" cy="2362320"/>
          </a:xfrm>
          <a:prstGeom prst="rect">
            <a:avLst/>
          </a:prstGeom>
          <a:noFill/>
          <a:ln w="0">
            <a:noFill/>
          </a:ln>
        </p:spPr>
        <p:txBody>
          <a:bodyPr lIns="90000" rIns="90000" tIns="46800" bIns="46800" anchor="t">
            <a:normAutofit/>
          </a:bodyPr>
          <a:p>
            <a:pPr marL="343080" indent="0" algn="ctr">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Verdana"/>
              </a:rPr>
              <a:t>Harold McCullough</a:t>
            </a:r>
            <a:endParaRPr b="0" lang="en-US" sz="3600" spc="-1" strike="noStrike">
              <a:solidFill>
                <a:srgbClr val="000000"/>
              </a:solidFill>
              <a:latin typeface="Verdana"/>
            </a:endParaRPr>
          </a:p>
          <a:p>
            <a:pPr marL="343080"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79"/>
                </a:solidFill>
                <a:latin typeface="Verdana"/>
              </a:rPr>
              <a:t>U.S. Department of Education</a:t>
            </a:r>
            <a:br>
              <a:rPr sz="3200"/>
            </a:b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76F76D8-0F04-408F-AC6F-00C37E4A984F}" type="slidenum">
              <a:t>36</a:t>
            </a:fld>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294920"/>
            <a:ext cx="83059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atutory Definitions:</a:t>
            </a:r>
            <a:br>
              <a:rPr sz="4000"/>
            </a:br>
            <a:r>
              <a:rPr b="1" lang="en-US" sz="4000" spc="-1" strike="noStrike">
                <a:solidFill>
                  <a:srgbClr val="cc5407"/>
                </a:solidFill>
                <a:latin typeface="Verdana"/>
              </a:rPr>
              <a:t>“Untaxed Income and Benefits”</a:t>
            </a:r>
            <a:endParaRPr b="1" lang="en-US" sz="4000" spc="-1" strike="noStrike">
              <a:solidFill>
                <a:srgbClr val="cc5407"/>
              </a:solidFill>
              <a:latin typeface="Verdana"/>
            </a:endParaRPr>
          </a:p>
        </p:txBody>
      </p:sp>
      <p:sp>
        <p:nvSpPr>
          <p:cNvPr id="117" name="PlaceHolder 2"/>
          <p:cNvSpPr>
            <a:spLocks noGrp="1"/>
          </p:cNvSpPr>
          <p:nvPr>
            <p:ph/>
          </p:nvPr>
        </p:nvSpPr>
        <p:spPr>
          <a:xfrm>
            <a:off x="685800" y="2895120"/>
            <a:ext cx="7772400" cy="34290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Untaxed Income and Benefits” (HEA section 480(b))</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s veterans </a:t>
            </a:r>
            <a:r>
              <a:rPr b="1" lang="en-US" sz="3200" spc="-1" strike="noStrike">
                <a:solidFill>
                  <a:srgbClr val="000000"/>
                </a:solidFill>
                <a:latin typeface="Verdana"/>
              </a:rPr>
              <a:t>non-education</a:t>
            </a:r>
            <a:r>
              <a:rPr b="0" lang="en-US" sz="3200" spc="-1" strike="noStrike">
                <a:solidFill>
                  <a:srgbClr val="000000"/>
                </a:solidFill>
                <a:latin typeface="Verdana"/>
              </a:rPr>
              <a:t> benefits. Used in calculating the student’s EFC – (Worksheet B)</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9D94E68-CC35-4031-8C17-51E449696E50}" type="slidenum">
              <a:t>37</a:t>
            </a:fld>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85440"/>
            <a:ext cx="8229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utory Definitions:</a:t>
            </a:r>
            <a:br>
              <a:rPr sz="3600"/>
            </a:br>
            <a:r>
              <a:rPr b="1" lang="en-US" sz="3600" spc="-1" strike="noStrike">
                <a:solidFill>
                  <a:srgbClr val="cc5407"/>
                </a:solidFill>
                <a:latin typeface="Verdana"/>
              </a:rPr>
              <a:t>“Other Financial Assistance”</a:t>
            </a:r>
            <a:endParaRPr b="1" lang="en-US" sz="3600" spc="-1" strike="noStrike">
              <a:solidFill>
                <a:srgbClr val="cc5407"/>
              </a:solidFill>
              <a:latin typeface="Verdana"/>
            </a:endParaRPr>
          </a:p>
        </p:txBody>
      </p:sp>
      <p:sp>
        <p:nvSpPr>
          <p:cNvPr id="119" name="PlaceHolder 2"/>
          <p:cNvSpPr>
            <a:spLocks noGrp="1"/>
          </p:cNvSpPr>
          <p:nvPr>
            <p:ph/>
          </p:nvPr>
        </p:nvSpPr>
        <p:spPr>
          <a:xfrm>
            <a:off x="0" y="1523520"/>
            <a:ext cx="9144000" cy="449604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Other Financial Assistance” (HEA section 480(j))</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veterans education benefits (HEA section 480(c)) a student will receive during the award yea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education benefits are reported in questions 46 (months) and 47 (monthly amount) of the 2008-2009 FAFS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education benefits are not used in EFC calcul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3E28C19-09B9-40DA-90C7-DCE63FD3641F}" type="slidenum">
              <a:t>38</a:t>
            </a:fld>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6854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gulatory Definition: “Estimated Financial Assistance” (EFA)</a:t>
            </a:r>
            <a:endParaRPr b="1" lang="en-US" sz="3200" spc="-1" strike="noStrike">
              <a:solidFill>
                <a:srgbClr val="cc5407"/>
              </a:solidFill>
              <a:latin typeface="Verdana"/>
            </a:endParaRPr>
          </a:p>
        </p:txBody>
      </p:sp>
      <p:sp>
        <p:nvSpPr>
          <p:cNvPr id="121" name="PlaceHolder 2"/>
          <p:cNvSpPr>
            <a:spLocks noGrp="1"/>
          </p:cNvSpPr>
          <p:nvPr>
            <p:ph/>
          </p:nvPr>
        </p:nvSpPr>
        <p:spPr>
          <a:xfrm>
            <a:off x="304920" y="2209320"/>
            <a:ext cx="8534160" cy="35053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EFA is used for “Other Financial Assistance” under the FFEL and Direct Loan programs (34 CFR 682.200 and 685.102), the Campus-Based programs (34 CFR 673.5(c)), and the ACG and National SMART Grant programs (34 CFR 691.62 (c))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9C3967B-DC1B-4858-93F4-6BF056619170}" type="slidenum">
              <a:t>39</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Benefits</a:t>
            </a:r>
            <a:endParaRPr b="1" lang="en-US" sz="4000" spc="-1" strike="noStrike">
              <a:solidFill>
                <a:srgbClr val="cc5407"/>
              </a:solidFill>
              <a:latin typeface="Verdana"/>
            </a:endParaRPr>
          </a:p>
        </p:txBody>
      </p:sp>
      <p:sp>
        <p:nvSpPr>
          <p:cNvPr id="5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Education Programs that VA administer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Post–9/11 GI Bill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tgomery GI Bill—Active Dut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tgomery GI Bill—Selected Reserv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endents Educational Assistanc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erve Educational Assistance Program</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EBC19F8-E9A8-4E92-BBE4-BB2CB71FD4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concept of EFA does not apply to the Pell Grant Program</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Pell Grant award is never adjusted to take into account other forms of financial ai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C7E20D4-D232-4262-934D-3D7D83A097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2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EA (section 428(a)(2)(C)) requires a school to exclude Montgomery GI Bill-Active Duty (Chapter 30) veterans education benefits (and AmeriCorps education awards or post-service benefits) from EFA when determining eligibility for </a:t>
            </a:r>
            <a:r>
              <a:rPr b="1" lang="en-US" sz="3200" spc="-1" strike="noStrike">
                <a:solidFill>
                  <a:srgbClr val="000000"/>
                </a:solidFill>
                <a:latin typeface="Verdana"/>
              </a:rPr>
              <a:t>subsidized</a:t>
            </a:r>
            <a:r>
              <a:rPr b="0" lang="en-US" sz="3200" spc="-1" strike="noStrike">
                <a:solidFill>
                  <a:srgbClr val="000000"/>
                </a:solidFill>
                <a:latin typeface="Verdana"/>
              </a:rPr>
              <a:t> FFEL and Direct Loan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DCA1634-E737-43C1-8323-412ED23B231A}" type="slidenum">
              <a:t>41</a:t>
            </a:fld>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27" name="PlaceHolder 2"/>
          <p:cNvSpPr>
            <a:spLocks noGrp="1"/>
          </p:cNvSpPr>
          <p:nvPr>
            <p:ph/>
          </p:nvPr>
        </p:nvSpPr>
        <p:spPr>
          <a:xfrm>
            <a:off x="685800" y="1143000"/>
            <a:ext cx="8229600" cy="502920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required exclusion of Chapter 30 benefits for subsidized loans is repeated in the definition of EFA in the FFEL and Direct Loan regulations</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required exclusion does not apply to other veterans education benefits such as those under Chapter 1607</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pecial exclusion of Chapter 30 benefits is not provided for unsubsidized loans</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8218F6B8-323C-4A0B-8C02-D1E0E89A92E3}" type="slidenum">
              <a:t>42</a:t>
            </a:fld>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6840"/>
            <a:ext cx="84582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29"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HEA did not provide a similar exclusion of  these Chapter 30 benefits for the Campus-Based programs and the ACG and National SMART Grant program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allow students to have the full advantage of the statutory exclusion for subsidized loans without losing eligibility for the Campus-Based programs and the ACG and National SMART Grant programs, the regulations for these programs added an optional exclusion to the definition of EFA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0FB5010-2E40-4D3C-A286-D0848F6E4FAC}" type="slidenum">
              <a:t>43</a:t>
            </a:fld>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Definition: EFA</a:t>
            </a:r>
            <a:endParaRPr b="1" lang="en-US" sz="4000" spc="-1" strike="noStrike">
              <a:solidFill>
                <a:srgbClr val="cc5407"/>
              </a:solidFill>
              <a:latin typeface="Verdana"/>
            </a:endParaRPr>
          </a:p>
        </p:txBody>
      </p:sp>
      <p:sp>
        <p:nvSpPr>
          <p:cNvPr id="1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determining a student’s eligibility for funds under the Campus-Based programs and the ACG and National SMART Grant programs, a school </a:t>
            </a:r>
            <a:r>
              <a:rPr b="1" lang="en-US" sz="2800" spc="-1" strike="noStrike">
                <a:solidFill>
                  <a:srgbClr val="000000"/>
                </a:solidFill>
                <a:latin typeface="Verdana"/>
              </a:rPr>
              <a:t>may</a:t>
            </a:r>
            <a:r>
              <a:rPr b="0" lang="en-US" sz="2800" spc="-1" strike="noStrike">
                <a:solidFill>
                  <a:srgbClr val="000000"/>
                </a:solidFill>
                <a:latin typeface="Verdana"/>
              </a:rPr>
              <a:t> exclude as EFA any portion of a subsidized FFEL or Direct Loan that is equal to or less than the amount of the student’s Chapter 30 benefits (and AmeriCorps education awards or post-service benefi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62A3AED-40E5-4F49-8D5C-7348BBAC6FAC}" type="slidenum">
              <a:t>44</a:t>
            </a:fld>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ckaging Example: Chapter 30 Benefits and Title IV Aid</a:t>
            </a:r>
            <a:endParaRPr b="1" lang="en-US" sz="3600" spc="-1" strike="noStrike">
              <a:solidFill>
                <a:srgbClr val="cc5407"/>
              </a:solidFill>
              <a:latin typeface="Verdana"/>
            </a:endParaRPr>
          </a:p>
        </p:txBody>
      </p:sp>
      <p:sp>
        <p:nvSpPr>
          <p:cNvPr id="133" name="PlaceHolder 2"/>
          <p:cNvSpPr>
            <a:spLocks noGrp="1"/>
          </p:cNvSpPr>
          <p:nvPr>
            <p:ph/>
          </p:nvPr>
        </p:nvSpPr>
        <p:spPr>
          <a:xfrm>
            <a:off x="304920" y="2247840"/>
            <a:ext cx="8534160" cy="3619440"/>
          </a:xfrm>
          <a:prstGeom prst="rect">
            <a:avLst/>
          </a:prstGeom>
          <a:noFill/>
          <a:ln w="0">
            <a:noFill/>
          </a:ln>
        </p:spPr>
        <p:txBody>
          <a:bodyPr lIns="90000" rIns="90000" tIns="46800" bIns="46800" anchor="t">
            <a:normAutofit fontScale="97000"/>
          </a:bodyPr>
          <a:p>
            <a:pPr marL="332640" indent="-3326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dford is a first-year, independent  undergraduate student enrolled  in a 4-year  program at Carney University</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COA is $16,900 and he has an EFC of 1800, a Pell Grant of $2,981, and Chapter 30 benefits of $9,909</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need is $15,100 ($16,900 COA – 1800 EFC)</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A24B056-6DCA-4E0A-8004-3AF1A84DD63D}" type="slidenum">
              <a:t>45</a:t>
            </a:fld>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3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assistance from the Pell Grant and Chapter 30 benefits equals $12,890 ($2,981 + 9,909)</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ifference between his need and his assistance is $2,210 ($15,100 – 12,890)</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606CDF8-1566-4306-A155-7108B00C3C3C}" type="slidenum">
              <a:t>46</a:t>
            </a:fld>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cause the Chapter 30 benefits do not count as EFA for subsidized loans, Bradford is eligible for a subsidized loan in an amount that exceeds $2,210</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A74B817-ABFA-4916-9888-EF9E14CBB83A}" type="slidenum">
              <a:t>47</a:t>
            </a:fld>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480"/>
            <a:ext cx="8458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39" name="PlaceHolder 2"/>
          <p:cNvSpPr>
            <a:spLocks noGrp="1"/>
          </p:cNvSpPr>
          <p:nvPr>
            <p:ph/>
          </p:nvPr>
        </p:nvSpPr>
        <p:spPr>
          <a:xfrm>
            <a:off x="304920" y="1219320"/>
            <a:ext cx="8534160" cy="487656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COA minus his EFC and Pell Grant would leave an unmet need of $12,119 ($16,900 – 1,800 – 2,981) based on the required exclus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subsidized loan amount for a first-year student is $3,500 and is less than his $12,119 unmet need for subsidized loan purposes, so he is able to receive a subsidized loan up to $3,500 not just $2,21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03DA5EC-B433-44C0-B1A7-1B4558E6B78A}" type="slidenum">
              <a:t>48</a:t>
            </a:fld>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480"/>
            <a:ext cx="8458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1" name="PlaceHolder 2"/>
          <p:cNvSpPr>
            <a:spLocks noGrp="1"/>
          </p:cNvSpPr>
          <p:nvPr>
            <p:ph/>
          </p:nvPr>
        </p:nvSpPr>
        <p:spPr>
          <a:xfrm>
            <a:off x="456840" y="1218960"/>
            <a:ext cx="8458200" cy="47242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ecision to take the subsidized loan of the full $3,500 is the student’s to make and the school must follow the HEA and regulation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this example, his assistance totals $16,390 ($2,981 + 9,909 + 3,500) which exceeds his need of $15,100</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not considered an overaward or an overpayment under the HEA and regulation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AEDD14F-FCDE-4651-8977-9676295B2EE8}" type="slidenum">
              <a:t>49</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Benefits</a:t>
            </a:r>
            <a:endParaRPr b="1" lang="en-US" sz="40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tional Call To Servic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st-Vietnam Era Educational Assistance Program</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ocational Rehabilitation and Employm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tored Entitlement Program for Survivors</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7A99A5A-12B4-4246-BE90-473A11BA3A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3" name="PlaceHolder 2"/>
          <p:cNvSpPr>
            <a:spLocks noGrp="1"/>
          </p:cNvSpPr>
          <p:nvPr>
            <p:ph/>
          </p:nvPr>
        </p:nvSpPr>
        <p:spPr>
          <a:xfrm>
            <a:off x="457200" y="1142640"/>
            <a:ext cx="8686800" cy="48769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the school considers Bradford for aid under the Campus-Based programs, it has the option of excluding his subsidized loan as EFA up to the amount of his Chapter 30 benefits (the same option applies for purposes of ACG or the National SMART Grant programs)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 need is $15,100 and his total EFA minus the subsidized loan would be $12,890 ($16,390 – 3,500)</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EEC3B31-371E-427B-A018-0E959DC94092}" type="slidenum">
              <a:t>50</a:t>
            </a:fld>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chool may award aid under the Campus-Based programs up to $2,210 ($15,100 – 12,890), for example, $1,710 in FWS funds and $500 in FSEOG fund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ecision to apply the EFA exclusion under the Campus-Based programs is a school option, it is not requir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2DED52D-2569-4D35-84EB-A5B05F588494}" type="slidenum">
              <a:t>51</a:t>
            </a:fld>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der this exclusion for the Campus-Based programs, his assistance would be as follows:</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981 Pell Gran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909 Chapter 30 benefit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500 Subsidized Stafford loan</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10 FW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00 FSEOG</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8,600 Total Aid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45B64DB-C29A-46D3-83A2-1A2794573D60}" type="slidenum">
              <a:t>52</a:t>
            </a:fld>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ing Example</a:t>
            </a:r>
            <a:endParaRPr b="1" lang="en-US" sz="40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dford’s assistance of $18,600 would exceed both his need of $15,100 and his COA of $16,900</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gain, this is not considered an overaward or an overpaymen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BD73EFD-0B75-4762-9661-2739561EA1FE}" type="slidenum">
              <a:t>53</a:t>
            </a:fld>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Responsibility</a:t>
            </a:r>
            <a:endParaRPr b="1" lang="en-US" sz="4000" spc="-1" strike="noStrike">
              <a:solidFill>
                <a:srgbClr val="cc5407"/>
              </a:solidFill>
              <a:latin typeface="Verdana"/>
            </a:endParaRPr>
          </a:p>
        </p:txBody>
      </p:sp>
      <p:sp>
        <p:nvSpPr>
          <p:cNvPr id="1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A must coordinate closely with other offices at the school that may have information about the students who are receiving veterans education benefits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23C356D-F9B8-4EBD-916F-6CCAE4CD29EE}" type="slidenum">
              <a:t>54</a:t>
            </a:fld>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701280"/>
            <a:ext cx="845820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Access to VA Payment Information</a:t>
            </a:r>
            <a:endParaRPr b="1" lang="en-US" sz="4000" spc="-1" strike="noStrike">
              <a:solidFill>
                <a:srgbClr val="cc5407"/>
              </a:solidFill>
              <a:latin typeface="Verdana"/>
            </a:endParaRPr>
          </a:p>
        </p:txBody>
      </p:sp>
      <p:sp>
        <p:nvSpPr>
          <p:cNvPr id="153" name="PlaceHolder 2"/>
          <p:cNvSpPr>
            <a:spLocks noGrp="1"/>
          </p:cNvSpPr>
          <p:nvPr>
            <p:ph/>
          </p:nvPr>
        </p:nvSpPr>
        <p:spPr>
          <a:xfrm>
            <a:off x="304920" y="1604880"/>
            <a:ext cx="8534160" cy="426240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s who receive Chapter 30, Chapter 1606, or Chapter 1607 benefits may access their payment information on the Web at</a:t>
            </a:r>
            <a:endParaRPr b="0" lang="en-US" sz="3000" spc="-1" strike="noStrike">
              <a:solidFill>
                <a:srgbClr val="000000"/>
              </a:solidFill>
              <a:latin typeface="Verdana"/>
            </a:endParaRPr>
          </a:p>
          <a:p>
            <a:pPr marL="34308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u="sng">
                <a:solidFill>
                  <a:srgbClr val="000099"/>
                </a:solidFill>
                <a:uFillTx/>
                <a:latin typeface="Verdana"/>
                <a:hlinkClick r:id="rId1"/>
              </a:rPr>
              <a:t>https://www.gibill.va.gov/wave</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s dates of enrollment period(s) and monthly rate are provided</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s may print information for financial aid purposes</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EE43FE33-381A-47EA-A674-245F1DF26E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763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pcoming Change in          Treatment of Benefits      </a:t>
            </a:r>
            <a:endParaRPr b="1" lang="en-US" sz="4000" spc="-1" strike="noStrike">
              <a:solidFill>
                <a:srgbClr val="cc5407"/>
              </a:solidFill>
              <a:latin typeface="Verdana"/>
            </a:endParaRPr>
          </a:p>
        </p:txBody>
      </p:sp>
      <p:sp>
        <p:nvSpPr>
          <p:cNvPr id="155"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Higher Education Opportunity Act of 2008 amended the HEA (section 480(j)) to exclude all veterans education benefits as “Other Financial Assistance” effective July 1, 201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education benefits are still EFA for the current 2008-2009 Award Year and the 2009-2010 Award Year</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B3D32F2-4489-4119-88B5-82B526B498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6091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pcoming Change in Treatment of Benefits</a:t>
            </a:r>
            <a:endParaRPr b="1" lang="en-US" sz="40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ing with the 2010-2011 Award Year, veterans education benefits are no longer EFA</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 in the past, veterans education benefits are not used in calculating an EFC</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a:t>
            </a:r>
            <a:r>
              <a:rPr b="1" lang="en-US" sz="3200" spc="-1" strike="noStrike">
                <a:solidFill>
                  <a:srgbClr val="000000"/>
                </a:solidFill>
                <a:latin typeface="Verdana"/>
              </a:rPr>
              <a:t>non-education</a:t>
            </a:r>
            <a:r>
              <a:rPr b="0" lang="en-US" sz="3200" spc="-1" strike="noStrike">
                <a:solidFill>
                  <a:srgbClr val="000000"/>
                </a:solidFill>
                <a:latin typeface="Verdana"/>
              </a:rPr>
              <a:t> benefits continue to be used in calculating the EFC for a studen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689E68D-4916-489C-A726-2BC3E9AD3A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pcoming Change in </a:t>
            </a:r>
            <a:br>
              <a:rPr sz="4000"/>
            </a:br>
            <a:r>
              <a:rPr b="1" lang="en-US" sz="4000" spc="-1" strike="noStrike">
                <a:solidFill>
                  <a:srgbClr val="cc5407"/>
                </a:solidFill>
                <a:latin typeface="Verdana"/>
              </a:rPr>
              <a:t>Treatment of Benefits                     </a:t>
            </a:r>
            <a:endParaRPr b="1" lang="en-US" sz="4000" spc="-1" strike="noStrike">
              <a:solidFill>
                <a:srgbClr val="cc5407"/>
              </a:solidFill>
              <a:latin typeface="Verdana"/>
            </a:endParaRPr>
          </a:p>
        </p:txBody>
      </p:sp>
      <p:sp>
        <p:nvSpPr>
          <p:cNvPr id="159"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TE</a:t>
            </a:r>
            <a:r>
              <a:rPr b="0" lang="en-US" sz="2400" spc="-1" strike="noStrike">
                <a:solidFill>
                  <a:srgbClr val="000000"/>
                </a:solidFill>
                <a:latin typeface="Verdana"/>
              </a:rPr>
              <a:t>:  AmeriCorps education awards or post-service benefits will continue to be EFA in the future award years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Required exclusion of AmeriCorps benefits from EFA for purposes of determining eligibility for subsidized FFEL and Direct Loans will also continue</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Optional exclusion of any portion of a subsidized FFEL or Direct Loan that is equal to or less than the amount of the AmeriCorps benefits from EFA when determining eligibility for funds under the Campus-Based programs and the ACG and National SMART Grant programs will also continue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B29969C-2AC3-4593-9A86-337958DB4C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ture FAFSA Changes</a:t>
            </a:r>
            <a:endParaRPr b="1" lang="en-US" sz="4000" spc="-1" strike="noStrike">
              <a:solidFill>
                <a:srgbClr val="cc5407"/>
              </a:solidFill>
              <a:latin typeface="Verdana"/>
            </a:endParaRPr>
          </a:p>
        </p:txBody>
      </p:sp>
      <p:sp>
        <p:nvSpPr>
          <p:cNvPr id="1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AFSA -- 2009-2010 Award Year </a:t>
            </a:r>
            <a:endParaRPr b="0" lang="en-US" sz="36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AFSA will ask each applicant to indicate whether he or she will receive veterans education benefi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applicant indicates “yes”, the FAFSA will ask the applicant what typ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AFSA instructions will inform the applicant that he or she will need to provide information on the amount to the aid officer at his or her colleg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DFEAA71-5148-4DB3-A398-C214D9A606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Benefits</a:t>
            </a:r>
            <a:endParaRPr b="1" lang="en-US" sz="4000" spc="-1" strike="noStrike">
              <a:solidFill>
                <a:srgbClr val="cc5407"/>
              </a:solidFill>
              <a:latin typeface="Verdana"/>
            </a:endParaRPr>
          </a:p>
        </p:txBody>
      </p:sp>
      <p:sp>
        <p:nvSpPr>
          <p:cNvPr id="5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eterans Education Programs VA does not administe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rve Officer Training Corps Scholarship</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rve Officer Training Corps Program</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271A253-8770-4556-8A38-D0DF59FD14D5}" type="slidenum">
              <a:t>6</a:t>
            </a:fld>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6091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ture FAFSA Changes</a:t>
            </a:r>
            <a:endParaRPr b="1" lang="en-US" sz="4000" spc="-1" strike="noStrike">
              <a:solidFill>
                <a:srgbClr val="cc5407"/>
              </a:solidFill>
              <a:latin typeface="Verdana"/>
            </a:endParaRPr>
          </a:p>
        </p:txBody>
      </p:sp>
      <p:sp>
        <p:nvSpPr>
          <p:cNvPr id="1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AFSA -- 2010-2011 Award Year</a:t>
            </a:r>
            <a:endParaRPr b="0" lang="en-US" sz="36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AFSA will not ask any questions about veterans education benefits since these benefits are to be excluded as EFA and from the EFC calcul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56C754C-E413-46BF-91BE-C3FEC17143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5" name="PlaceHolder 2"/>
          <p:cNvSpPr>
            <a:spLocks noGrp="1"/>
          </p:cNvSpPr>
          <p:nvPr>
            <p:ph/>
          </p:nvPr>
        </p:nvSpPr>
        <p:spPr>
          <a:xfrm>
            <a:off x="609120" y="1676520"/>
            <a:ext cx="7543800" cy="441936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f you have further questions, we can be contacted 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bra.Morgan@va.gov</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Harold.McCullough@ed.gov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CC89A87-6692-4993-A7DA-286DB0AA92BC}" type="slidenum">
              <a:t>61</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Benefits</a:t>
            </a:r>
            <a:endParaRPr b="1" lang="en-US" sz="4000" spc="-1" strike="noStrike">
              <a:solidFill>
                <a:srgbClr val="cc5407"/>
              </a:solidFill>
              <a:latin typeface="Verdana"/>
            </a:endParaRPr>
          </a:p>
        </p:txBody>
      </p:sp>
      <p:sp>
        <p:nvSpPr>
          <p:cNvPr id="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Payment Rules for VA Program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s generally are made to the stude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s are generally made monthl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s are affected by-</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gram</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s “training tim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A16FF50-A286-472D-9BEF-9CE80E498A09}"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 33)</a:t>
            </a:r>
            <a:endParaRPr b="1" lang="en-US" sz="4000" spc="-1" strike="noStrike">
              <a:solidFill>
                <a:srgbClr val="cc5407"/>
              </a:solidFill>
              <a:latin typeface="Verdana"/>
            </a:endParaRPr>
          </a:p>
        </p:txBody>
      </p:sp>
      <p:sp>
        <p:nvSpPr>
          <p:cNvPr id="59"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is a new benefit that provides educational assistance to individuals who have served on active duty on or after September 11, 2001</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benefits are payable for training pursued on or after August 1, 2009</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19103EB-70F0-450B-848E-C71A53DB4E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152280"/>
            <a:ext cx="83055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9/11 GI Bill (Ch. 33)</a:t>
            </a:r>
            <a:endParaRPr b="1" lang="en-US" sz="4000" spc="-1" strike="noStrike">
              <a:solidFill>
                <a:srgbClr val="cc5407"/>
              </a:solidFill>
              <a:latin typeface="Verdana"/>
            </a:endParaRPr>
          </a:p>
        </p:txBody>
      </p:sp>
      <p:sp>
        <p:nvSpPr>
          <p:cNvPr id="61" name="PlaceHolder 2"/>
          <p:cNvSpPr>
            <a:spLocks noGrp="1"/>
          </p:cNvSpPr>
          <p:nvPr>
            <p:ph/>
          </p:nvPr>
        </p:nvSpPr>
        <p:spPr>
          <a:xfrm>
            <a:off x="228240" y="990720"/>
            <a:ext cx="8915400" cy="5867280"/>
          </a:xfrm>
          <a:prstGeom prst="rect">
            <a:avLst/>
          </a:prstGeom>
          <a:noFill/>
          <a:ln w="0">
            <a:noFill/>
          </a:ln>
        </p:spPr>
        <p:txBody>
          <a:bodyPr lIns="90000" rIns="90000" tIns="46800" bIns="46800" anchor="t">
            <a:normAutofit/>
          </a:bodyPr>
          <a:p>
            <a:pPr marL="62856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28560" indent="-34272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individuals who served an aggregate of 90 days of active duty service after September 10, 2001</a:t>
            </a:r>
            <a:endParaRPr b="0" lang="en-US" sz="3200" spc="-1" strike="noStrike">
              <a:solidFill>
                <a:srgbClr val="000000"/>
              </a:solidFill>
              <a:latin typeface="Verdana"/>
            </a:endParaRPr>
          </a:p>
          <a:p>
            <a:pPr marL="628560" indent="-34272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nefits are paid on a sliding scale     determined by the length of active duty service.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9692D83-7CEC-45FC-AD3C-1BF323799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00:23Z</dcterms:modified>
  <cp:revision>231</cp:revision>
  <dc:subject/>
  <dc:title>PowerPoint Presentation</dc:title>
</cp:coreProperties>
</file>