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22.wmf" ContentType="image/x-wmf"/>
  <Override PartName="/ppt/media/image21.wmf" ContentType="image/x-wmf"/>
  <Override PartName="/ppt/media/image1.jpeg" ContentType="image/jpeg"/>
  <Override PartName="/ppt/media/image5.png" ContentType="image/png"/>
  <Override PartName="/ppt/media/image10.png" ContentType="image/png"/>
  <Override PartName="/ppt/media/image1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29057-FAC8-41D0-86AA-A788917391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54160" y="684360"/>
            <a:ext cx="4552920" cy="34146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25760"/>
            <a:ext cx="5029200" cy="409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end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functionality  - sending “reminder emails” – requirement that cam from this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54160" y="684360"/>
            <a:ext cx="4552920" cy="34146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25760"/>
            <a:ext cx="5029200" cy="409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end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functionality  - sending “reminder emails” – requirement that cam from this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54160" y="684360"/>
            <a:ext cx="4552920" cy="34146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25760"/>
            <a:ext cx="5029200" cy="409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end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functionality  - sending “reminder emails” – requirement that cam from this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54160" y="684360"/>
            <a:ext cx="4552920" cy="34146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25760"/>
            <a:ext cx="5029200" cy="409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end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functionality  - sending “reminder emails” – requirement that cam from this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54160" y="684360"/>
            <a:ext cx="4552920" cy="34146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25760"/>
            <a:ext cx="5029200" cy="409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end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functionality  - sending “reminder emails” – requirement that cam from this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54160" y="684360"/>
            <a:ext cx="4552920" cy="34146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25760"/>
            <a:ext cx="5029200" cy="409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end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functionality  - sending “reminder emails” – requirement that cam from this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54160" y="684360"/>
            <a:ext cx="4552920" cy="34146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25760"/>
            <a:ext cx="5029200" cy="409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end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functionality  - sending “reminder emails” – requirement that cam from this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19124-4BBB-4244-AB5C-65F7613F72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71526-1C40-413D-A8C7-B85FACB47C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AED03-B2A7-43CA-884B-F97240AB1F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19F69-F350-40C2-ADAC-954F7492D5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DFFED-8D02-4DBA-AFAF-BBD0EE8C9F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BC3EA-32CE-4B66-A826-0E3EC6D477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22DF6-10D0-4555-848D-FB0CAFDA8A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0AF77-58B0-4A16-AF2A-51BB9B04E9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58003-29C8-4D28-B04C-CCB445F581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88D2E-E387-415D-B3D8-ECC966795B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31919-80F3-4621-B188-9B0471D9A4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A46FB-7703-467F-A724-61A4E7AE09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611E1-A69A-4B3E-A81D-97EA6475E0F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9" descr="4-color R Logo"/>
          <p:cNvPicPr/>
          <p:nvPr/>
        </p:nvPicPr>
        <p:blipFill>
          <a:blip r:embed="rId4"/>
          <a:stretch/>
        </p:blipFill>
        <p:spPr>
          <a:xfrm>
            <a:off x="304920" y="6168960"/>
            <a:ext cx="2743200" cy="53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fap.ed.gov/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fap.ed.gov/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fap.ed.gov/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fap.ed.gov/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fap.ed.gov/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fap.ed.gov/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fap.ed.gov/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fap.ed.gov/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fap.ed.gov/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fap.ed.gov/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fap.ed.gov/" TargetMode="Externa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fap.ed.gov/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fap.ed.gov/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fap.ed.gov/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mailto:WebCommunications@ed.gov" TargetMode="External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7391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ession # C - 08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ook What We Have Done to the IFAP Web Si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rcello Rojtm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A6E5D-BF7A-4004-97D4-7F7D1CCB0DF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hange in Documents within IFAP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0" name=""/>
          <p:cNvSpPr/>
          <p:nvPr/>
        </p:nvSpPr>
        <p:spPr>
          <a:xfrm>
            <a:off x="974880" y="2403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2286000"/>
            <a:ext cx="76960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9480" y="1752480"/>
            <a:ext cx="8016840" cy="42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lectronic Announcement will be listed by one of 9 different Typ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ther document have had minor chang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523880" y="3124080"/>
          <a:ext cx="6096240" cy="214164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plication Process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mpus-Bas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D Syste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rect Loa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ESui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F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a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a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ne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E00C6-6BCB-4EA2-8CD5-34E8231C317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IFAP “Home”:</a:t>
            </a:r>
            <a:br>
              <a:rPr sz="3600"/>
            </a:br>
            <a:r>
              <a:rPr b="1" i="1" lang="en-US" sz="3600" spc="-1" strike="noStrike">
                <a:solidFill>
                  <a:srgbClr val="cc5407"/>
                </a:solidFill>
                <a:latin typeface="Verdana"/>
              </a:rPr>
              <a:t>Ease of Use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690120" y="3200400"/>
            <a:ext cx="1637640" cy="5205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Y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>
            <a:hlinkClick r:id="rId1"/>
          </p:cNvPr>
          <p:cNvPicPr/>
          <p:nvPr/>
        </p:nvPicPr>
        <p:blipFill>
          <a:blip r:embed="rId2"/>
          <a:srcRect l="0" t="3127" r="40002" b="8594"/>
          <a:stretch/>
        </p:blipFill>
        <p:spPr>
          <a:xfrm>
            <a:off x="4187880" y="1519200"/>
            <a:ext cx="4384800" cy="5033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114800" y="1447920"/>
            <a:ext cx="449568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7E7E5-0734-4480-80C6-3B4514FB8D1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rcRect l="0" t="3127" r="40002" b="8594"/>
          <a:stretch/>
        </p:blipFill>
        <p:spPr>
          <a:xfrm>
            <a:off x="3962520" y="1295280"/>
            <a:ext cx="4495680" cy="5334120"/>
          </a:xfrm>
          <a:prstGeom prst="rect">
            <a:avLst/>
          </a:prstGeom>
          <a:ln w="0">
            <a:noFill/>
          </a:ln>
        </p:spPr>
      </p:pic>
      <p:sp>
        <p:nvSpPr>
          <p:cNvPr id="129" name="Rounded Rectangular Callout 44"/>
          <p:cNvSpPr/>
          <p:nvPr/>
        </p:nvSpPr>
        <p:spPr>
          <a:xfrm>
            <a:off x="2403360" y="1905120"/>
            <a:ext cx="1049400" cy="487080"/>
          </a:xfrm>
          <a:prstGeom prst="wedgeRoundRectCallout">
            <a:avLst>
              <a:gd name="adj1" fmla="val 104050"/>
              <a:gd name="adj2" fmla="val -144064"/>
              <a:gd name="adj3" fmla="val 16667"/>
            </a:avLst>
          </a:prstGeom>
          <a:solidFill>
            <a:srgbClr val="ffffff"/>
          </a:solidFill>
          <a:ln w="19080">
            <a:solidFill>
              <a:srgbClr val="00206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ounded Rectangle 33"/>
          <p:cNvSpPr/>
          <p:nvPr/>
        </p:nvSpPr>
        <p:spPr>
          <a:xfrm>
            <a:off x="3919680" y="1295280"/>
            <a:ext cx="4518000" cy="609840"/>
          </a:xfrm>
          <a:prstGeom prst="roundRect">
            <a:avLst>
              <a:gd name="adj" fmla="val 5556"/>
            </a:avLst>
          </a:prstGeom>
          <a:noFill/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ounded Rectangle 21"/>
          <p:cNvSpPr/>
          <p:nvPr/>
        </p:nvSpPr>
        <p:spPr>
          <a:xfrm>
            <a:off x="3941640" y="1905120"/>
            <a:ext cx="858960" cy="1523880"/>
          </a:xfrm>
          <a:custGeom>
            <a:avLst/>
            <a:gdLst>
              <a:gd name="textAreaLeft" fmla="*/ 13680 w 858960"/>
              <a:gd name="textAreaRight" fmla="*/ 845280 w 858960"/>
              <a:gd name="textAreaTop" fmla="*/ 13680 h 1523880"/>
              <a:gd name="textAreaBottom" fmla="*/ 1510200 h 1523880"/>
            </a:gdLst>
            <a:ahLst/>
            <a:rect l="textAreaLeft" t="textAreaTop" r="textAreaRight" b="textAreaBottom"/>
            <a:pathLst>
              <a:path w="21600" h="38314">
                <a:moveTo>
                  <a:pt x="1200" y="0"/>
                </a:moveTo>
                <a:arcTo wR="1200" hR="1200" stAng="16200000" swAng="-5400000"/>
                <a:lnTo>
                  <a:pt x="0" y="37114"/>
                </a:lnTo>
                <a:arcTo wR="1200" hR="1200" stAng="10800000" swAng="-5400000"/>
                <a:lnTo>
                  <a:pt x="20400" y="3831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noFill/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ounded Rectangle 34"/>
          <p:cNvSpPr/>
          <p:nvPr/>
        </p:nvSpPr>
        <p:spPr>
          <a:xfrm>
            <a:off x="3914640" y="6396120"/>
            <a:ext cx="4523040" cy="309600"/>
          </a:xfrm>
          <a:prstGeom prst="roundRect">
            <a:avLst>
              <a:gd name="adj" fmla="val 5556"/>
            </a:avLst>
          </a:prstGeom>
          <a:noFill/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ounded Rectangle 32"/>
          <p:cNvSpPr/>
          <p:nvPr/>
        </p:nvSpPr>
        <p:spPr>
          <a:xfrm>
            <a:off x="7413480" y="1981080"/>
            <a:ext cx="947880" cy="4191120"/>
          </a:xfrm>
          <a:custGeom>
            <a:avLst/>
            <a:gdLst>
              <a:gd name="textAreaLeft" fmla="*/ 15120 w 947880"/>
              <a:gd name="textAreaRight" fmla="*/ 932760 w 947880"/>
              <a:gd name="textAreaTop" fmla="*/ 15120 h 4191120"/>
              <a:gd name="textAreaBottom" fmla="*/ 4176000 h 4191120"/>
            </a:gdLst>
            <a:ahLst/>
            <a:rect l="textAreaLeft" t="textAreaTop" r="textAreaRight" b="textAreaBottom"/>
            <a:pathLst>
              <a:path w="21600" h="95478">
                <a:moveTo>
                  <a:pt x="1200" y="0"/>
                </a:moveTo>
                <a:arcTo wR="1200" hR="1200" stAng="16200000" swAng="-5400000"/>
                <a:lnTo>
                  <a:pt x="0" y="94278"/>
                </a:lnTo>
                <a:arcTo wR="1200" hR="1200" stAng="10800000" swAng="-5400000"/>
                <a:lnTo>
                  <a:pt x="20400" y="95478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noFill/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ounded Rectangle 28"/>
          <p:cNvSpPr/>
          <p:nvPr/>
        </p:nvSpPr>
        <p:spPr>
          <a:xfrm>
            <a:off x="4840200" y="1981080"/>
            <a:ext cx="2446560" cy="4191120"/>
          </a:xfrm>
          <a:custGeom>
            <a:avLst/>
            <a:gdLst>
              <a:gd name="textAreaLeft" fmla="*/ 39600 w 2446560"/>
              <a:gd name="textAreaRight" fmla="*/ 2406960 w 2446560"/>
              <a:gd name="textAreaTop" fmla="*/ 39600 h 4191120"/>
              <a:gd name="textAreaBottom" fmla="*/ 4151520 h 4191120"/>
            </a:gdLst>
            <a:ahLst/>
            <a:rect l="textAreaLeft" t="textAreaTop" r="textAreaRight" b="textAreaBottom"/>
            <a:pathLst>
              <a:path w="21600" h="37000">
                <a:moveTo>
                  <a:pt x="1200" y="0"/>
                </a:moveTo>
                <a:arcTo wR="1200" hR="1200" stAng="16200000" swAng="-5400000"/>
                <a:lnTo>
                  <a:pt x="0" y="35800"/>
                </a:lnTo>
                <a:arcTo wR="1200" hR="1200" stAng="10800000" swAng="-5400000"/>
                <a:lnTo>
                  <a:pt x="20400" y="3700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noFill/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ounded Rectangular Callout 44"/>
          <p:cNvSpPr/>
          <p:nvPr/>
        </p:nvSpPr>
        <p:spPr>
          <a:xfrm>
            <a:off x="2438280" y="5486400"/>
            <a:ext cx="1049400" cy="488880"/>
          </a:xfrm>
          <a:prstGeom prst="wedgeRoundRectCallout">
            <a:avLst>
              <a:gd name="adj1" fmla="val 170574"/>
              <a:gd name="adj2" fmla="val 160388"/>
              <a:gd name="adj3" fmla="val 16667"/>
            </a:avLst>
          </a:prstGeom>
          <a:solidFill>
            <a:srgbClr val="ffffff"/>
          </a:solidFill>
          <a:ln w="19080">
            <a:solidFill>
              <a:srgbClr val="00206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oo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ounded Rectangular Callout 44"/>
          <p:cNvSpPr/>
          <p:nvPr/>
        </p:nvSpPr>
        <p:spPr>
          <a:xfrm>
            <a:off x="2306520" y="3470400"/>
            <a:ext cx="1198800" cy="617400"/>
          </a:xfrm>
          <a:prstGeom prst="wedgeRoundRectCallout">
            <a:avLst>
              <a:gd name="adj1" fmla="val 94324"/>
              <a:gd name="adj2" fmla="val -106907"/>
              <a:gd name="adj3" fmla="val 16667"/>
            </a:avLst>
          </a:prstGeom>
          <a:solidFill>
            <a:srgbClr val="ffffff"/>
          </a:solidFill>
          <a:ln w="19080">
            <a:solidFill>
              <a:srgbClr val="00206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eft Navig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ounded Rectangular Callout 44"/>
          <p:cNvSpPr/>
          <p:nvPr/>
        </p:nvSpPr>
        <p:spPr>
          <a:xfrm>
            <a:off x="2362320" y="4191120"/>
            <a:ext cx="1049040" cy="868320"/>
          </a:xfrm>
          <a:prstGeom prst="wedgeRoundRectCallout">
            <a:avLst>
              <a:gd name="adj1" fmla="val 194782"/>
              <a:gd name="adj2" fmla="val -57680"/>
              <a:gd name="adj3" fmla="val 16667"/>
            </a:avLst>
          </a:prstGeom>
          <a:solidFill>
            <a:srgbClr val="ffffff"/>
          </a:solidFill>
          <a:ln w="19080">
            <a:solidFill>
              <a:srgbClr val="00206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in Content Ar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ounded Rectangular Callout 44"/>
          <p:cNvSpPr/>
          <p:nvPr/>
        </p:nvSpPr>
        <p:spPr>
          <a:xfrm>
            <a:off x="5824440" y="4475160"/>
            <a:ext cx="1165320" cy="630360"/>
          </a:xfrm>
          <a:prstGeom prst="wedgeRoundRectCallout">
            <a:avLst>
              <a:gd name="adj1" fmla="val 93435"/>
              <a:gd name="adj2" fmla="val -48074"/>
              <a:gd name="adj3" fmla="val 16667"/>
            </a:avLst>
          </a:prstGeom>
          <a:solidFill>
            <a:srgbClr val="ffffff"/>
          </a:solidFill>
          <a:ln w="19080">
            <a:solidFill>
              <a:srgbClr val="00206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eature Ar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New IFAP “Home”Page Area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2EEF0-AB26-4D79-86A6-6DC5FF2B4D4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“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Getting Started”:</a:t>
            </a:r>
            <a:br>
              <a:rPr sz="3600"/>
            </a:br>
            <a:r>
              <a:rPr b="1" i="1" lang="en-US" sz="3600" spc="-1" strike="noStrike">
                <a:solidFill>
                  <a:srgbClr val="cc5407"/>
                </a:solidFill>
                <a:latin typeface="Verdana"/>
              </a:rPr>
              <a:t>The Basics of FSA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141" name="" descr="">
            <a:hlinkClick r:id="rId1"/>
          </p:cNvPr>
          <p:cNvPicPr/>
          <p:nvPr/>
        </p:nvPicPr>
        <p:blipFill>
          <a:blip r:embed="rId2"/>
          <a:srcRect l="0" t="0" r="38614" b="0"/>
          <a:stretch/>
        </p:blipFill>
        <p:spPr>
          <a:xfrm>
            <a:off x="3505320" y="1905120"/>
            <a:ext cx="4724280" cy="4809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42" name=""/>
          <p:cNvSpPr/>
          <p:nvPr/>
        </p:nvSpPr>
        <p:spPr>
          <a:xfrm>
            <a:off x="690120" y="3429000"/>
            <a:ext cx="1637640" cy="5205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Y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10519-19C0-4D3D-8582-F33D647044C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“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Help Navigating IFAP”: </a:t>
            </a:r>
            <a:br>
              <a:rPr sz="3600"/>
            </a:br>
            <a:r>
              <a:rPr b="1" i="1" lang="en-US" sz="3600" spc="-1" strike="noStrike">
                <a:solidFill>
                  <a:srgbClr val="cc5407"/>
                </a:solidFill>
                <a:latin typeface="Verdana"/>
              </a:rPr>
              <a:t>How to Use IFAP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44" name=""/>
          <p:cNvSpPr/>
          <p:nvPr/>
        </p:nvSpPr>
        <p:spPr>
          <a:xfrm>
            <a:off x="537840" y="3352680"/>
            <a:ext cx="1637640" cy="5205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Y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>
            <a:hlinkClick r:id="rId1"/>
          </p:cNvPr>
          <p:cNvPicPr/>
          <p:nvPr/>
        </p:nvPicPr>
        <p:blipFill>
          <a:blip r:embed="rId2"/>
          <a:srcRect l="0" t="2344" r="40002" b="36720"/>
          <a:stretch/>
        </p:blipFill>
        <p:spPr>
          <a:xfrm>
            <a:off x="3124080" y="1600200"/>
            <a:ext cx="5791320" cy="4705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20BFD-43E6-411F-B6CE-025FD83544F3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“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alendar”:</a:t>
            </a:r>
            <a:br>
              <a:rPr sz="3600"/>
            </a:br>
            <a:r>
              <a:rPr b="1" i="1" lang="en-US" sz="3600" spc="-1" strike="noStrike">
                <a:solidFill>
                  <a:srgbClr val="cc5407"/>
                </a:solidFill>
                <a:latin typeface="Verdana"/>
              </a:rPr>
              <a:t>Query and Reminder Function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147" name="m-20080311-02a" descr="">
            <a:hlinkClick r:id="rId1"/>
          </p:cNvPr>
          <p:cNvPicPr/>
          <p:nvPr/>
        </p:nvPicPr>
        <p:blipFill>
          <a:blip r:embed="rId2"/>
          <a:srcRect l="8471" t="7497" r="8508" b="7030"/>
          <a:stretch/>
        </p:blipFill>
        <p:spPr>
          <a:xfrm>
            <a:off x="3470400" y="1828800"/>
            <a:ext cx="4454280" cy="49528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48" name=""/>
          <p:cNvSpPr/>
          <p:nvPr/>
        </p:nvSpPr>
        <p:spPr>
          <a:xfrm>
            <a:off x="644040" y="3138480"/>
            <a:ext cx="1637640" cy="5205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Y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E0D81-A9A5-4B94-A1E9-CDD2BB405338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“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iLibrary”:</a:t>
            </a:r>
            <a:br>
              <a:rPr sz="3600"/>
            </a:br>
            <a:r>
              <a:rPr b="1" i="1" lang="en-US" sz="3600" spc="-1" strike="noStrike">
                <a:solidFill>
                  <a:srgbClr val="cc5407"/>
                </a:solidFill>
                <a:latin typeface="Verdana"/>
              </a:rPr>
              <a:t>Content Indexing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150" name="" descr="">
            <a:hlinkClick r:id="rId1"/>
          </p:cNvPr>
          <p:cNvPicPr/>
          <p:nvPr/>
        </p:nvPicPr>
        <p:blipFill>
          <a:blip r:embed="rId2"/>
          <a:srcRect l="0" t="0" r="39287" b="0"/>
          <a:stretch/>
        </p:blipFill>
        <p:spPr>
          <a:xfrm>
            <a:off x="3494160" y="1676520"/>
            <a:ext cx="4811760" cy="49528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51" name=""/>
          <p:cNvSpPr/>
          <p:nvPr/>
        </p:nvSpPr>
        <p:spPr>
          <a:xfrm>
            <a:off x="613800" y="2743200"/>
            <a:ext cx="1637640" cy="5205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Y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8B438-45F9-423E-A3DA-65887BBFFFB9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6104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IFAP “Help”: </a:t>
            </a:r>
            <a:br>
              <a:rPr sz="3600"/>
            </a:b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Additional Content Inquiry Assistance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153" name="" descr="">
            <a:hlinkClick r:id="rId1"/>
          </p:cNvPr>
          <p:cNvPicPr/>
          <p:nvPr/>
        </p:nvPicPr>
        <p:blipFill>
          <a:blip r:embed="rId2"/>
          <a:srcRect l="0" t="0" r="39453" b="0"/>
          <a:stretch/>
        </p:blipFill>
        <p:spPr>
          <a:xfrm>
            <a:off x="3581280" y="1752480"/>
            <a:ext cx="5029200" cy="4886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54" name=""/>
          <p:cNvSpPr/>
          <p:nvPr/>
        </p:nvSpPr>
        <p:spPr>
          <a:xfrm>
            <a:off x="842400" y="3048120"/>
            <a:ext cx="1637640" cy="5205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Y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81ED3-38D0-4F8B-9803-5C11FC8106AE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“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Help – Contact Information”: </a:t>
            </a:r>
            <a:br>
              <a:rPr sz="3600"/>
            </a:br>
            <a:r>
              <a:rPr b="1" i="1" lang="en-US" sz="3600" spc="-1" strike="noStrike">
                <a:solidFill>
                  <a:srgbClr val="cc5407"/>
                </a:solidFill>
                <a:latin typeface="Verdana"/>
              </a:rPr>
              <a:t>Directory of Where to Find Help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156" name="" descr="">
            <a:hlinkClick r:id="rId1"/>
          </p:cNvPr>
          <p:cNvPicPr/>
          <p:nvPr/>
        </p:nvPicPr>
        <p:blipFill>
          <a:blip r:embed="rId2"/>
          <a:srcRect l="0" t="0" r="39252" b="16449"/>
          <a:stretch/>
        </p:blipFill>
        <p:spPr>
          <a:xfrm>
            <a:off x="3657600" y="2133720"/>
            <a:ext cx="4952880" cy="4257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57" name=""/>
          <p:cNvSpPr/>
          <p:nvPr/>
        </p:nvSpPr>
        <p:spPr>
          <a:xfrm>
            <a:off x="690120" y="3214800"/>
            <a:ext cx="1637640" cy="5205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Y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2CFAE-7DD9-4BCA-BC07-4DCD2EE8B134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“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Help – Glossary”:</a:t>
            </a:r>
            <a:br>
              <a:rPr sz="3600"/>
            </a:br>
            <a:r>
              <a:rPr b="1" i="1" lang="en-US" sz="3600" spc="-1" strike="noStrike">
                <a:solidFill>
                  <a:srgbClr val="cc5407"/>
                </a:solidFill>
                <a:latin typeface="Verdana"/>
              </a:rPr>
              <a:t>FSA Terms and Abbreviation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159" name="" descr="">
            <a:hlinkClick r:id="rId1"/>
          </p:cNvPr>
          <p:cNvPicPr/>
          <p:nvPr/>
        </p:nvPicPr>
        <p:blipFill>
          <a:blip r:embed="rId2"/>
          <a:srcRect l="0" t="0" r="39453" b="0"/>
          <a:stretch/>
        </p:blipFill>
        <p:spPr>
          <a:xfrm>
            <a:off x="3500280" y="1600200"/>
            <a:ext cx="4881600" cy="5038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60" name=""/>
          <p:cNvSpPr/>
          <p:nvPr/>
        </p:nvSpPr>
        <p:spPr>
          <a:xfrm>
            <a:off x="995040" y="2732040"/>
            <a:ext cx="1637640" cy="5205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Y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1B377-66E6-440D-B7DC-31CAEE427E9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4466F-AA6E-4FE3-B334-E19F4EAFAB1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Objectives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7975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FAP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edesign of IFAP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eview of Redesigned IFAP Web Pag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uture Enhancement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ntact Inform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C0918-D4C7-4A36-BC55-880E84F5EEA1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“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Help – Site Map”:</a:t>
            </a:r>
            <a:br>
              <a:rPr sz="3600"/>
            </a:br>
            <a:r>
              <a:rPr b="1" i="1" lang="en-US" sz="3600" spc="-1" strike="noStrike">
                <a:solidFill>
                  <a:srgbClr val="cc5407"/>
                </a:solidFill>
                <a:latin typeface="Verdana"/>
              </a:rPr>
              <a:t>Navigation Help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162" name="" descr="">
            <a:hlinkClick r:id="rId1"/>
          </p:cNvPr>
          <p:cNvPicPr/>
          <p:nvPr/>
        </p:nvPicPr>
        <p:blipFill>
          <a:blip r:embed="rId2"/>
          <a:srcRect l="0" t="4412" r="40179" b="0"/>
          <a:stretch/>
        </p:blipFill>
        <p:spPr>
          <a:xfrm>
            <a:off x="3581280" y="1828800"/>
            <a:ext cx="4959360" cy="49528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63" name=""/>
          <p:cNvSpPr/>
          <p:nvPr/>
        </p:nvSpPr>
        <p:spPr>
          <a:xfrm>
            <a:off x="842400" y="2529000"/>
            <a:ext cx="1637640" cy="5205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Y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AF74A-F402-402C-A2A4-B73800C3ADC9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“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ustomer Feedback”:</a:t>
            </a:r>
            <a:br>
              <a:rPr sz="3600"/>
            </a:br>
            <a:r>
              <a:rPr b="1" i="1" lang="en-US" sz="3600" spc="-1" strike="noStrike">
                <a:solidFill>
                  <a:srgbClr val="cc5407"/>
                </a:solidFill>
                <a:latin typeface="Verdana"/>
              </a:rPr>
              <a:t>Keep in Touch with U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165" name="" descr="">
            <a:hlinkClick r:id="rId1"/>
          </p:cNvPr>
          <p:cNvPicPr/>
          <p:nvPr/>
        </p:nvPicPr>
        <p:blipFill>
          <a:blip r:embed="rId2"/>
          <a:srcRect l="0" t="3940" r="40002" b="0"/>
          <a:stretch/>
        </p:blipFill>
        <p:spPr>
          <a:xfrm>
            <a:off x="3581280" y="1905120"/>
            <a:ext cx="4873680" cy="4876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66" name=""/>
          <p:cNvSpPr/>
          <p:nvPr/>
        </p:nvSpPr>
        <p:spPr>
          <a:xfrm>
            <a:off x="1147320" y="2732040"/>
            <a:ext cx="1637640" cy="5205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Y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C5E64-9805-44FD-88E0-8DF44985A5B7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“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Advance Search”:</a:t>
            </a:r>
            <a:br>
              <a:rPr sz="3600"/>
            </a:br>
            <a:r>
              <a:rPr b="1" i="1" lang="en-US" sz="3600" spc="-1" strike="noStrike">
                <a:solidFill>
                  <a:srgbClr val="cc5407"/>
                </a:solidFill>
                <a:latin typeface="Verdana"/>
              </a:rPr>
              <a:t>Find What You Need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537840" y="2590920"/>
            <a:ext cx="1637640" cy="5205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Y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>
            <a:hlinkClick r:id="rId1"/>
          </p:cNvPr>
          <p:cNvPicPr/>
          <p:nvPr/>
        </p:nvPicPr>
        <p:blipFill>
          <a:blip r:embed="rId2"/>
          <a:srcRect l="0" t="2344" r="40002" b="20315"/>
          <a:stretch/>
        </p:blipFill>
        <p:spPr>
          <a:xfrm>
            <a:off x="3581280" y="1752480"/>
            <a:ext cx="4876920" cy="5029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2B3C8-FF42-4B7B-8C97-D6B5E006819A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“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My IFAP”:</a:t>
            </a:r>
            <a:br>
              <a:rPr sz="3600"/>
            </a:br>
            <a:r>
              <a:rPr b="1" i="1" lang="en-US" sz="3600" spc="-1" strike="noStrike">
                <a:solidFill>
                  <a:srgbClr val="cc5407"/>
                </a:solidFill>
                <a:latin typeface="Verdana"/>
              </a:rPr>
              <a:t>Easier to Log-in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66440" y="2732040"/>
            <a:ext cx="1637640" cy="5205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Y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>
            <a:hlinkClick r:id="rId1"/>
          </p:cNvPr>
          <p:cNvPicPr/>
          <p:nvPr/>
        </p:nvPicPr>
        <p:blipFill>
          <a:blip r:embed="rId2"/>
          <a:srcRect l="0" t="2344" r="40002" b="39090"/>
          <a:stretch/>
        </p:blipFill>
        <p:spPr>
          <a:xfrm>
            <a:off x="3159000" y="1905120"/>
            <a:ext cx="5756400" cy="4495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78402-073E-4AA3-ACB4-36D7A819C99A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“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New User Registration”:</a:t>
            </a:r>
            <a:br>
              <a:rPr sz="3600"/>
            </a:br>
            <a:r>
              <a:rPr b="1" i="1" lang="en-US" sz="3600" spc="-1" strike="noStrike">
                <a:solidFill>
                  <a:srgbClr val="cc5407"/>
                </a:solidFill>
                <a:latin typeface="Verdana"/>
              </a:rPr>
              <a:t>Easier to Register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1299600" y="2743200"/>
            <a:ext cx="1637640" cy="5205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Y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>
            <a:hlinkClick r:id="rId1"/>
          </p:cNvPr>
          <p:cNvPicPr/>
          <p:nvPr/>
        </p:nvPicPr>
        <p:blipFill>
          <a:blip r:embed="rId2"/>
          <a:srcRect l="0" t="2344" r="40002" b="28624"/>
          <a:stretch/>
        </p:blipFill>
        <p:spPr>
          <a:xfrm>
            <a:off x="3394080" y="1752480"/>
            <a:ext cx="5216400" cy="4800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20492-E35E-4BC2-833C-48332E16075C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“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Web Content on IFAP”: </a:t>
            </a:r>
            <a:br>
              <a:rPr sz="3600"/>
            </a:br>
            <a:r>
              <a:rPr b="1" i="1" lang="en-US" sz="3600" spc="-1" strike="noStrike">
                <a:solidFill>
                  <a:srgbClr val="cc5407"/>
                </a:solidFill>
                <a:latin typeface="Verdana"/>
              </a:rPr>
              <a:t>Easy to Read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690120" y="2743200"/>
            <a:ext cx="1637640" cy="5205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Y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m-20080318-03d" descr="">
            <a:hlinkClick r:id="rId1"/>
          </p:cNvPr>
          <p:cNvPicPr/>
          <p:nvPr/>
        </p:nvPicPr>
        <p:blipFill>
          <a:blip r:embed="rId2"/>
          <a:srcRect l="8025" t="5620" r="7691" b="47948"/>
          <a:stretch/>
        </p:blipFill>
        <p:spPr>
          <a:xfrm>
            <a:off x="3102120" y="1828800"/>
            <a:ext cx="5813280" cy="4572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581AF-B431-40A7-84CC-57E64BDC0F71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Notification System Change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80" name=""/>
          <p:cNvSpPr/>
          <p:nvPr/>
        </p:nvSpPr>
        <p:spPr>
          <a:xfrm>
            <a:off x="974880" y="2403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14400" y="2286000"/>
            <a:ext cx="76960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1828800"/>
            <a:ext cx="3962520" cy="25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eek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remains the default set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i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(Monday-Friday) upd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5181480" y="1523880"/>
            <a:ext cx="2895840" cy="4648320"/>
            <a:chOff x="5181480" y="1523880"/>
            <a:chExt cx="2895840" cy="4648320"/>
          </a:xfrm>
        </p:grpSpPr>
        <p:grpSp>
          <p:nvGrpSpPr>
            <p:cNvPr id="184" name=""/>
            <p:cNvGrpSpPr/>
            <p:nvPr/>
          </p:nvGrpSpPr>
          <p:grpSpPr>
            <a:xfrm>
              <a:off x="5181480" y="1523880"/>
              <a:ext cx="2895480" cy="4438440"/>
              <a:chOff x="5181480" y="1523880"/>
              <a:chExt cx="2895480" cy="4438440"/>
            </a:xfrm>
          </p:grpSpPr>
          <p:pic>
            <p:nvPicPr>
              <p:cNvPr id="185" name="" descr=""/>
              <p:cNvPicPr/>
              <p:nvPr/>
            </p:nvPicPr>
            <p:blipFill>
              <a:blip r:embed="rId1"/>
              <a:srcRect l="0" t="0" r="2565" b="7692"/>
              <a:stretch/>
            </p:blipFill>
            <p:spPr>
              <a:xfrm>
                <a:off x="5181480" y="1523880"/>
                <a:ext cx="2895480" cy="2057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6" name="" descr=""/>
              <p:cNvPicPr/>
              <p:nvPr/>
            </p:nvPicPr>
            <p:blipFill>
              <a:blip r:embed="rId2"/>
              <a:srcRect l="0" t="61545" r="2565" b="0"/>
              <a:stretch/>
            </p:blipFill>
            <p:spPr>
              <a:xfrm>
                <a:off x="5181480" y="3581280"/>
                <a:ext cx="2895480" cy="857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7" name="" descr=""/>
              <p:cNvPicPr/>
              <p:nvPr/>
            </p:nvPicPr>
            <p:blipFill>
              <a:blip r:embed="rId3"/>
              <a:srcRect l="0" t="30769" r="2565" b="0"/>
              <a:stretch/>
            </p:blipFill>
            <p:spPr>
              <a:xfrm>
                <a:off x="5181480" y="4419360"/>
                <a:ext cx="2895480" cy="1542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8" name=""/>
            <p:cNvSpPr/>
            <p:nvPr/>
          </p:nvSpPr>
          <p:spPr>
            <a:xfrm>
              <a:off x="5181480" y="1523880"/>
              <a:ext cx="2895840" cy="464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5D0FC-929C-4097-9FF7-9B6F43A77B90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71A96-2950-48B3-AC84-5A9E8AB667E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Objectives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7975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FAP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edesign of IFAP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eview of Redesigned IFAP Web Pag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Arial"/>
                <a:ea typeface="Arial"/>
              </a:rPr>
              <a:t>Future Enhancement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ntact Inform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9458B-E4D5-4B07-A1EB-9FF119EB20D3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  <a:ea typeface="Arial"/>
              </a:rPr>
              <a:t>Future Initiative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555120" y="1523880"/>
            <a:ext cx="811692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curity Architecture interfac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implified registration of the IFAP notification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urvey to measure customer satisfaction of IFA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124080" y="4343400"/>
            <a:ext cx="2667240" cy="1689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158EB-5138-4DFD-8E49-3DB646370231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B1DE6-6CC6-4488-8F3E-786FAB618AF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Objectives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7975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FAP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edesign of IFAP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eview of Redesigned IFAP Web Pag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uture Enhancement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Arial"/>
                <a:ea typeface="Arial"/>
              </a:rPr>
              <a:t>Contact Inform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ECCFD-05A6-40B4-97D8-0E6000E6B8E8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Information for Financial Aid Professionals (IFAP) Web Site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SA library and Portal for Student Financial Aid Professionals.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atest News and Information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Regulation Requiremen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A88B6-01D5-4861-A07B-E234E4FC8369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ontact Information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304920" y="175212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have any questions or suggestions regarding IFAP, contact Web Communications at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WebCommunications@ed.gov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eedba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m the Header menu and then select the button labeled 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eedback regarding IFAP or My IFA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23437-0D0D-4ED1-B084-BBF2CE7DD7E8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A7FE9-28DB-47E6-BC8E-5C2B7EF4FAD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ummary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7975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FAP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edesign of IFAP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eview of Redesigned IFAP Web Pag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uture Enhancement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ntact Inform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5514D-022A-4677-B9A0-6606A2BD116E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51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Questions and Answer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600200" y="2081160"/>
            <a:ext cx="5562720" cy="3481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233DF-8638-4F31-B1B1-BBE8E0BA4DAF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  <a:ea typeface="Times New Roman"/>
              </a:rPr>
              <a:t>Look What We Have Done to the Information for Financial Aid Professionals (IFAP) Web Site 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. .</a:t>
            </a:r>
            <a:r>
              <a:rPr b="0" lang="en-US" sz="4000" spc="-1" strike="noStrike">
                <a:solidFill>
                  <a:srgbClr val="cc5407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ease join us in the PC Lab for further discussion, questions, or demonstrations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747DC-02E3-45C0-9902-AA232984D4E1}" type="slidenum">
              <a:t>3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36588-D115-4726-BABB-31E5CDB4905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Objectives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7975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FAP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Arial"/>
                <a:ea typeface="Arial"/>
              </a:rPr>
              <a:t>Redesign of IFAP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eview of Redesigned IFAP Web Pag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uture Enhancement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ntact Inform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59EA9-CAA3-4EED-8EE3-43CC0037287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IFAP Redesign Goal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0" name=""/>
          <p:cNvSpPr/>
          <p:nvPr/>
        </p:nvSpPr>
        <p:spPr>
          <a:xfrm>
            <a:off x="974880" y="2403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2286000"/>
            <a:ext cx="76960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9960" y="1917720"/>
            <a:ext cx="8016840" cy="37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access to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“look and feel”;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ion of industry’s best practices for organizing and navigating web content.</a:t>
            </a: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B8DF0-1E99-4B3B-B79F-0E3F57669DC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76320" y="1371600"/>
            <a:ext cx="8915040" cy="4799880"/>
            <a:chOff x="76320" y="1371600"/>
            <a:chExt cx="8915040" cy="4799880"/>
          </a:xfrm>
        </p:grpSpPr>
        <p:sp>
          <p:nvSpPr>
            <p:cNvPr id="64" name=""/>
            <p:cNvSpPr/>
            <p:nvPr/>
          </p:nvSpPr>
          <p:spPr>
            <a:xfrm>
              <a:off x="2222280" y="2351520"/>
              <a:ext cx="4594320" cy="294192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6320" y="5191560"/>
              <a:ext cx="2640240" cy="979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213360" y="1371600"/>
              <a:ext cx="2640600" cy="979920"/>
            </a:xfrm>
            <a:prstGeom prst="ellips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351120" y="5191560"/>
              <a:ext cx="2640240" cy="979920"/>
            </a:xfrm>
            <a:prstGeom prst="ellips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IFAP Redesign Proces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9" name=""/>
          <p:cNvSpPr/>
          <p:nvPr/>
        </p:nvSpPr>
        <p:spPr>
          <a:xfrm>
            <a:off x="974880" y="2403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81280" y="1463760"/>
            <a:ext cx="182880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ustomer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eedbac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527364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FAP WC: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48520" y="5257800"/>
            <a:ext cx="274320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tent Owner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llabora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3505320"/>
            <a:ext cx="228600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gile/ Iter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ftware Des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E47E3-86F9-4346-A238-EFD32EA6596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High Level IFAP Redesign Project Schedule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5" name="Pentagon 4"/>
          <p:cNvSpPr/>
          <p:nvPr/>
        </p:nvSpPr>
        <p:spPr>
          <a:xfrm>
            <a:off x="227160" y="3583080"/>
            <a:ext cx="8688240" cy="457200"/>
          </a:xfrm>
          <a:custGeom>
            <a:avLst/>
            <a:gdLst>
              <a:gd name="textAreaLeft" fmla="*/ 0 w 8688240"/>
              <a:gd name="textAreaRight" fmla="*/ 8688600 w 86882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032" y="0"/>
                </a:lnTo>
                <a:lnTo>
                  <a:pt x="21600" y="10800"/>
                </a:lnTo>
                <a:lnTo>
                  <a:pt x="2103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ee7f2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Straight Arrow Connector 6"/>
          <p:cNvCxnSpPr/>
          <p:nvPr/>
        </p:nvCxnSpPr>
        <p:spPr>
          <a:xfrm>
            <a:off x="184320" y="3886200"/>
            <a:ext cx="506880" cy="2160"/>
          </a:xfrm>
          <a:prstGeom prst="straightConnector1">
            <a:avLst/>
          </a:prstGeom>
          <a:ln cap="rnd" w="63360">
            <a:solidFill>
              <a:srgbClr val="800000"/>
            </a:solidFill>
            <a:miter/>
            <a:tailEnd len="med" type="diamond" w="med"/>
          </a:ln>
        </p:spPr>
      </p:cxnSp>
      <p:sp>
        <p:nvSpPr>
          <p:cNvPr id="77" name="TextBox 7"/>
          <p:cNvSpPr/>
          <p:nvPr/>
        </p:nvSpPr>
        <p:spPr>
          <a:xfrm>
            <a:off x="866880" y="4140360"/>
            <a:ext cx="7792920" cy="307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teration 1 – Information Architectu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Straight Arrow Connector 8"/>
          <p:cNvCxnSpPr/>
          <p:nvPr/>
        </p:nvCxnSpPr>
        <p:spPr>
          <a:xfrm>
            <a:off x="716040" y="4721400"/>
            <a:ext cx="1829520" cy="10080"/>
          </a:xfrm>
          <a:prstGeom prst="straightConnector1">
            <a:avLst/>
          </a:prstGeom>
          <a:ln cap="rnd" w="63360">
            <a:solidFill>
              <a:srgbClr val="800000"/>
            </a:solidFill>
            <a:miter/>
            <a:headEnd len="med" type="diamond" w="med"/>
            <a:tailEnd len="med" type="diamond" w="med"/>
          </a:ln>
        </p:spPr>
      </p:cxnSp>
      <p:sp>
        <p:nvSpPr>
          <p:cNvPr id="79" name="TextBox 9"/>
          <p:cNvSpPr/>
          <p:nvPr/>
        </p:nvSpPr>
        <p:spPr>
          <a:xfrm>
            <a:off x="2658960" y="4568760"/>
            <a:ext cx="4695840" cy="307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teration 2 - New Site Build-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Straight Connector 11"/>
          <p:cNvSpPr/>
          <p:nvPr/>
        </p:nvSpPr>
        <p:spPr>
          <a:xfrm flipH="1">
            <a:off x="689040" y="358776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Straight Connector 12"/>
          <p:cNvSpPr/>
          <p:nvPr/>
        </p:nvSpPr>
        <p:spPr>
          <a:xfrm flipH="1">
            <a:off x="1601280" y="3587760"/>
            <a:ext cx="180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Straight Connector 13"/>
          <p:cNvSpPr/>
          <p:nvPr/>
        </p:nvSpPr>
        <p:spPr>
          <a:xfrm flipH="1">
            <a:off x="2517840" y="358776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Straight Connector 14"/>
          <p:cNvSpPr/>
          <p:nvPr/>
        </p:nvSpPr>
        <p:spPr>
          <a:xfrm flipH="1">
            <a:off x="3430080" y="3587760"/>
            <a:ext cx="180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Straight Connector 15"/>
          <p:cNvSpPr/>
          <p:nvPr/>
        </p:nvSpPr>
        <p:spPr>
          <a:xfrm flipH="1">
            <a:off x="4344480" y="3587760"/>
            <a:ext cx="180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Straight Connector 16"/>
          <p:cNvSpPr/>
          <p:nvPr/>
        </p:nvSpPr>
        <p:spPr>
          <a:xfrm flipH="1">
            <a:off x="5258880" y="3587760"/>
            <a:ext cx="180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Straight Connector 17"/>
          <p:cNvSpPr/>
          <p:nvPr/>
        </p:nvSpPr>
        <p:spPr>
          <a:xfrm flipH="1">
            <a:off x="6175440" y="358776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Straight Connector 18"/>
          <p:cNvSpPr/>
          <p:nvPr/>
        </p:nvSpPr>
        <p:spPr>
          <a:xfrm flipH="1">
            <a:off x="7089840" y="358776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Straight Connector 19"/>
          <p:cNvSpPr/>
          <p:nvPr/>
        </p:nvSpPr>
        <p:spPr>
          <a:xfrm flipH="1">
            <a:off x="8004240" y="3587760"/>
            <a:ext cx="14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Box 20"/>
          <p:cNvSpPr/>
          <p:nvPr/>
        </p:nvSpPr>
        <p:spPr>
          <a:xfrm>
            <a:off x="909000" y="3724200"/>
            <a:ext cx="459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FE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Box 21"/>
          <p:cNvSpPr/>
          <p:nvPr/>
        </p:nvSpPr>
        <p:spPr>
          <a:xfrm>
            <a:off x="1802160" y="3724200"/>
            <a:ext cx="499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MA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Box 22"/>
          <p:cNvSpPr/>
          <p:nvPr/>
        </p:nvSpPr>
        <p:spPr>
          <a:xfrm>
            <a:off x="2734920" y="3724200"/>
            <a:ext cx="474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AP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Box 23"/>
          <p:cNvSpPr/>
          <p:nvPr/>
        </p:nvSpPr>
        <p:spPr>
          <a:xfrm>
            <a:off x="3648240" y="3724200"/>
            <a:ext cx="491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MA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Box 24"/>
          <p:cNvSpPr/>
          <p:nvPr/>
        </p:nvSpPr>
        <p:spPr>
          <a:xfrm>
            <a:off x="4546080" y="3724200"/>
            <a:ext cx="459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JU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Box 25"/>
          <p:cNvSpPr/>
          <p:nvPr/>
        </p:nvSpPr>
        <p:spPr>
          <a:xfrm>
            <a:off x="5466600" y="3724200"/>
            <a:ext cx="444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JU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Box 26"/>
          <p:cNvSpPr/>
          <p:nvPr/>
        </p:nvSpPr>
        <p:spPr>
          <a:xfrm>
            <a:off x="6388200" y="3724200"/>
            <a:ext cx="491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AU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27"/>
          <p:cNvSpPr/>
          <p:nvPr/>
        </p:nvSpPr>
        <p:spPr>
          <a:xfrm>
            <a:off x="7311240" y="3724200"/>
            <a:ext cx="459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SE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Box 28"/>
          <p:cNvSpPr/>
          <p:nvPr/>
        </p:nvSpPr>
        <p:spPr>
          <a:xfrm>
            <a:off x="8234280" y="3724200"/>
            <a:ext cx="476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OC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Straight Arrow Connector 32"/>
          <p:cNvCxnSpPr/>
          <p:nvPr/>
        </p:nvCxnSpPr>
        <p:spPr>
          <a:xfrm>
            <a:off x="2593800" y="5173200"/>
            <a:ext cx="1866240" cy="10440"/>
          </a:xfrm>
          <a:prstGeom prst="straightConnector1">
            <a:avLst/>
          </a:prstGeom>
          <a:ln cap="rnd" w="63360">
            <a:solidFill>
              <a:srgbClr val="800000"/>
            </a:solidFill>
            <a:miter/>
            <a:headEnd len="med" type="diamond" w="med"/>
            <a:tailEnd len="med" type="diamond" w="med"/>
          </a:ln>
        </p:spPr>
      </p:cxnSp>
      <p:sp>
        <p:nvSpPr>
          <p:cNvPr id="99" name="TextBox 34"/>
          <p:cNvSpPr/>
          <p:nvPr/>
        </p:nvSpPr>
        <p:spPr>
          <a:xfrm>
            <a:off x="4608360" y="5029200"/>
            <a:ext cx="4205520" cy="307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teration 3 – New Site Build-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Straight Arrow Connector 35"/>
          <p:cNvCxnSpPr/>
          <p:nvPr/>
        </p:nvCxnSpPr>
        <p:spPr>
          <a:xfrm>
            <a:off x="4497480" y="5619600"/>
            <a:ext cx="2110320" cy="8640"/>
          </a:xfrm>
          <a:prstGeom prst="straightConnector1">
            <a:avLst/>
          </a:prstGeom>
          <a:ln cap="rnd" w="63360">
            <a:solidFill>
              <a:srgbClr val="800000"/>
            </a:solidFill>
            <a:miter/>
            <a:headEnd len="med" type="diamond" w="med"/>
            <a:tailEnd len="med" type="diamond" w="med"/>
          </a:ln>
        </p:spPr>
      </p:cxnSp>
      <p:sp>
        <p:nvSpPr>
          <p:cNvPr id="101" name="TextBox 37"/>
          <p:cNvSpPr/>
          <p:nvPr/>
        </p:nvSpPr>
        <p:spPr>
          <a:xfrm>
            <a:off x="1479600" y="5332320"/>
            <a:ext cx="2889360" cy="307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teration 4 – New Site Build-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" name="Straight Arrow Connector 38"/>
          <p:cNvCxnSpPr/>
          <p:nvPr/>
        </p:nvCxnSpPr>
        <p:spPr>
          <a:xfrm>
            <a:off x="6651720" y="6089760"/>
            <a:ext cx="2110320" cy="8640"/>
          </a:xfrm>
          <a:prstGeom prst="straightConnector1">
            <a:avLst/>
          </a:prstGeom>
          <a:ln cap="rnd" w="63360">
            <a:solidFill>
              <a:srgbClr val="800000"/>
            </a:solidFill>
            <a:miter/>
            <a:headEnd len="med" type="diamond" w="med"/>
            <a:tailEnd len="med" type="diamond" w="med"/>
          </a:ln>
        </p:spPr>
      </p:cxnSp>
      <p:sp>
        <p:nvSpPr>
          <p:cNvPr id="103" name="TextBox 39"/>
          <p:cNvSpPr/>
          <p:nvPr/>
        </p:nvSpPr>
        <p:spPr>
          <a:xfrm>
            <a:off x="3505320" y="5943600"/>
            <a:ext cx="2895480" cy="307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inalize Site for P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Straight Arrow Connector 41"/>
          <p:cNvCxnSpPr/>
          <p:nvPr/>
        </p:nvCxnSpPr>
        <p:spPr>
          <a:xfrm flipH="1">
            <a:off x="8789400" y="2184120"/>
            <a:ext cx="5400" cy="1308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05" name="TextBox 42"/>
          <p:cNvSpPr/>
          <p:nvPr/>
        </p:nvSpPr>
        <p:spPr>
          <a:xfrm>
            <a:off x="6567480" y="1600200"/>
            <a:ext cx="239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November 23, 200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Straight Arrow Connector 41"/>
          <p:cNvCxnSpPr/>
          <p:nvPr/>
        </p:nvCxnSpPr>
        <p:spPr>
          <a:xfrm flipH="1">
            <a:off x="5903280" y="2359080"/>
            <a:ext cx="13320" cy="1735920"/>
          </a:xfrm>
          <a:prstGeom prst="straightConnector1">
            <a:avLst/>
          </a:prstGeom>
          <a:ln w="38160">
            <a:solidFill>
              <a:srgbClr val="ff0000"/>
            </a:solidFill>
            <a:prstDash val="dash"/>
            <a:miter/>
          </a:ln>
        </p:spPr>
      </p:cxnSp>
      <p:sp>
        <p:nvSpPr>
          <p:cNvPr id="107" name="TextBox 48"/>
          <p:cNvSpPr/>
          <p:nvPr/>
        </p:nvSpPr>
        <p:spPr>
          <a:xfrm>
            <a:off x="5338800" y="1663560"/>
            <a:ext cx="107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Free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8" name="Straight Arrow Connector 44"/>
          <p:cNvCxnSpPr/>
          <p:nvPr/>
        </p:nvCxnSpPr>
        <p:spPr>
          <a:xfrm flipV="1">
            <a:off x="304560" y="3290040"/>
            <a:ext cx="55918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lg" type="diamond" w="lg"/>
            <a:tailEnd len="lg" type="diamond" w="lg"/>
          </a:ln>
        </p:spPr>
      </p:cxnSp>
      <p:sp>
        <p:nvSpPr>
          <p:cNvPr id="109" name="TextBox 45"/>
          <p:cNvSpPr/>
          <p:nvPr/>
        </p:nvSpPr>
        <p:spPr>
          <a:xfrm>
            <a:off x="2174040" y="2900520"/>
            <a:ext cx="24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ekly JAD 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Oval 54"/>
          <p:cNvSpPr/>
          <p:nvPr/>
        </p:nvSpPr>
        <p:spPr>
          <a:xfrm>
            <a:off x="2276640" y="3227400"/>
            <a:ext cx="63360" cy="123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Oval 55"/>
          <p:cNvSpPr/>
          <p:nvPr/>
        </p:nvSpPr>
        <p:spPr>
          <a:xfrm>
            <a:off x="4189320" y="3224160"/>
            <a:ext cx="5724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CBD41-1FF1-49E5-9CBD-F3ED5126AF1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531D0-3CDB-48D8-BEFF-A96A5023884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Objective</a:t>
            </a: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s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7975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FAP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edesign of IFAP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Arial"/>
                <a:ea typeface="Arial"/>
              </a:rPr>
              <a:t>Review of Redesigned IFAP Web Pag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uture Enhancement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ntact Inform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4D511-9B58-47C4-A7CD-0F383B5F00F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ynthesize Two Web Sites </a:t>
            </a:r>
            <a:br>
              <a:rPr sz="3600"/>
            </a:b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Into One 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974880" y="2403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2286000"/>
            <a:ext cx="76960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828800"/>
            <a:ext cx="801684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Financial Aid Professionals Portal and IFAP is synthesized to one web s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ifap.ed.gov or www.ifap.ed remains only necessary web addre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IFAP continues to be highly recognizable within the Federal Aid Commun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B5C36-5ACE-4709-B80B-91DCFBC4340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18:31:25Z</dcterms:created>
  <dc:creator>andrew.jones</dc:creator>
  <dc:description/>
  <dc:language>en-US</dc:language>
  <cp:lastModifiedBy>Marcello.Rojtman</cp:lastModifiedBy>
  <dcterms:modified xsi:type="dcterms:W3CDTF">2008-12-01T22:44:31Z</dcterms:modified>
  <cp:revision>254</cp:revision>
  <dc:subject/>
  <dc:title>PowerPoint Presentation</dc:title>
</cp:coreProperties>
</file>