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CAA-E2A8-4A06-AD24-CD1647FD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43D7-5BC1-4F7F-BD20-FD70152AD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98A4-E47A-4325-90F1-41205F731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08BD-CEF2-4255-A100-90A36A776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DF26-CED6-47BC-A14C-35A4141D1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C1E4-51E8-4B5F-8ACD-83C4F227F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1228-07D2-4448-8337-E6514B263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000D-6EB6-40C8-95BE-9EFEB75BB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C0FC-AFF5-4F06-9ABD-DDBB1BCA8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E61D-C635-4616-BFB4-A1AF10FFA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F96D-1A73-49FD-887C-5FB882C07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F5DE-E082-4AE3-9AF4-478AA5E01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6F85-E2AC-4C46-823F-FA756FD5E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C09-C683-453B-BB70-38FA93EA4D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WebCommunications@ed.gov" TargetMode="External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 C - 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ok What We Have Done to the IFAP Web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cello Rojtm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9406-63FD-4375-8ACB-BC525D8BC8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ange in Documents within IFA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752480"/>
            <a:ext cx="80168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ectronic Announcement will be listed by one of 9 different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document have had minor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3124080"/>
          <a:ext cx="6096240" cy="2141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 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us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 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ESu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D8DB-B367-40B5-96DD-DAF5AE809E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“Home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e of Us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90120" y="32004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0" t="3127" r="40002" b="8594"/>
          <a:stretch/>
        </p:blipFill>
        <p:spPr>
          <a:xfrm>
            <a:off x="4187880" y="1519200"/>
            <a:ext cx="4384800" cy="503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14800" y="1447920"/>
            <a:ext cx="449568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9453-CE7D-40DA-87CA-9FB9896F56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3127" r="40002" b="8594"/>
          <a:stretch/>
        </p:blipFill>
        <p:spPr>
          <a:xfrm>
            <a:off x="3962520" y="12952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Rounded Rectangular Callout 44"/>
          <p:cNvSpPr/>
          <p:nvPr/>
        </p:nvSpPr>
        <p:spPr>
          <a:xfrm>
            <a:off x="2403360" y="1905120"/>
            <a:ext cx="1049400" cy="487080"/>
          </a:xfrm>
          <a:prstGeom prst="wedgeRoundRectCallout">
            <a:avLst>
              <a:gd name="adj1" fmla="val 104050"/>
              <a:gd name="adj2" fmla="val -144064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ounded Rectangle 33"/>
          <p:cNvSpPr/>
          <p:nvPr/>
        </p:nvSpPr>
        <p:spPr>
          <a:xfrm>
            <a:off x="3919680" y="1295280"/>
            <a:ext cx="4518000" cy="609840"/>
          </a:xfrm>
          <a:prstGeom prst="roundRect">
            <a:avLst>
              <a:gd name="adj" fmla="val 5556"/>
            </a:avLst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ounded Rectangle 21"/>
          <p:cNvSpPr/>
          <p:nvPr/>
        </p:nvSpPr>
        <p:spPr>
          <a:xfrm>
            <a:off x="3941640" y="1905120"/>
            <a:ext cx="858960" cy="1523880"/>
          </a:xfrm>
          <a:custGeom>
            <a:avLst/>
            <a:gdLst>
              <a:gd name="textAreaLeft" fmla="*/ 13680 w 858960"/>
              <a:gd name="textAreaRight" fmla="*/ 845280 w 858960"/>
              <a:gd name="textAreaTop" fmla="*/ 13680 h 1523880"/>
              <a:gd name="textAreaBottom" fmla="*/ 1510200 h 1523880"/>
            </a:gdLst>
            <a:ahLst/>
            <a:rect l="textAreaLeft" t="textAreaTop" r="textAreaRight" b="textAreaBottom"/>
            <a:pathLst>
              <a:path w="21600" h="38314">
                <a:moveTo>
                  <a:pt x="1200" y="0"/>
                </a:moveTo>
                <a:arcTo wR="1200" hR="1200" stAng="16200000" swAng="-5400000"/>
                <a:lnTo>
                  <a:pt x="0" y="37114"/>
                </a:lnTo>
                <a:arcTo wR="1200" hR="1200" stAng="10800000" swAng="-5400000"/>
                <a:lnTo>
                  <a:pt x="20400" y="3831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34"/>
          <p:cNvSpPr/>
          <p:nvPr/>
        </p:nvSpPr>
        <p:spPr>
          <a:xfrm>
            <a:off x="3914640" y="6396120"/>
            <a:ext cx="4523040" cy="309600"/>
          </a:xfrm>
          <a:prstGeom prst="roundRect">
            <a:avLst>
              <a:gd name="adj" fmla="val 5556"/>
            </a:avLst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32"/>
          <p:cNvSpPr/>
          <p:nvPr/>
        </p:nvSpPr>
        <p:spPr>
          <a:xfrm>
            <a:off x="7413480" y="1981080"/>
            <a:ext cx="947880" cy="4191120"/>
          </a:xfrm>
          <a:custGeom>
            <a:avLst/>
            <a:gdLst>
              <a:gd name="textAreaLeft" fmla="*/ 15120 w 947880"/>
              <a:gd name="textAreaRight" fmla="*/ 932760 w 947880"/>
              <a:gd name="textAreaTop" fmla="*/ 15120 h 4191120"/>
              <a:gd name="textAreaBottom" fmla="*/ 4176000 h 4191120"/>
            </a:gdLst>
            <a:ahLst/>
            <a:rect l="textAreaLeft" t="textAreaTop" r="textAreaRight" b="textAreaBottom"/>
            <a:pathLst>
              <a:path w="21600" h="95478">
                <a:moveTo>
                  <a:pt x="1200" y="0"/>
                </a:moveTo>
                <a:arcTo wR="1200" hR="1200" stAng="16200000" swAng="-5400000"/>
                <a:lnTo>
                  <a:pt x="0" y="94278"/>
                </a:lnTo>
                <a:arcTo wR="1200" hR="1200" stAng="10800000" swAng="-5400000"/>
                <a:lnTo>
                  <a:pt x="20400" y="95478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28"/>
          <p:cNvSpPr/>
          <p:nvPr/>
        </p:nvSpPr>
        <p:spPr>
          <a:xfrm>
            <a:off x="4840200" y="1981080"/>
            <a:ext cx="2446560" cy="4191120"/>
          </a:xfrm>
          <a:custGeom>
            <a:avLst/>
            <a:gdLst>
              <a:gd name="textAreaLeft" fmla="*/ 39600 w 2446560"/>
              <a:gd name="textAreaRight" fmla="*/ 2406960 w 2446560"/>
              <a:gd name="textAreaTop" fmla="*/ 39600 h 4191120"/>
              <a:gd name="textAreaBottom" fmla="*/ 4151520 h 4191120"/>
            </a:gdLst>
            <a:ahLst/>
            <a:rect l="textAreaLeft" t="textAreaTop" r="textAreaRight" b="textAreaBottom"/>
            <a:pathLst>
              <a:path w="21600" h="37000">
                <a:moveTo>
                  <a:pt x="1200" y="0"/>
                </a:moveTo>
                <a:arcTo wR="1200" hR="1200" stAng="16200000" swAng="-5400000"/>
                <a:lnTo>
                  <a:pt x="0" y="35800"/>
                </a:lnTo>
                <a:arcTo wR="1200" hR="1200" stAng="10800000" swAng="-5400000"/>
                <a:lnTo>
                  <a:pt x="20400" y="3700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ounded Rectangular Callout 44"/>
          <p:cNvSpPr/>
          <p:nvPr/>
        </p:nvSpPr>
        <p:spPr>
          <a:xfrm>
            <a:off x="2438280" y="5486400"/>
            <a:ext cx="1049400" cy="488880"/>
          </a:xfrm>
          <a:prstGeom prst="wedgeRoundRectCallout">
            <a:avLst>
              <a:gd name="adj1" fmla="val 170574"/>
              <a:gd name="adj2" fmla="val 160388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o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ounded Rectangular Callout 44"/>
          <p:cNvSpPr/>
          <p:nvPr/>
        </p:nvSpPr>
        <p:spPr>
          <a:xfrm>
            <a:off x="2306520" y="3470400"/>
            <a:ext cx="1198800" cy="617400"/>
          </a:xfrm>
          <a:prstGeom prst="wedgeRoundRectCallout">
            <a:avLst>
              <a:gd name="adj1" fmla="val 94324"/>
              <a:gd name="adj2" fmla="val -106907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ft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ounded Rectangular Callout 44"/>
          <p:cNvSpPr/>
          <p:nvPr/>
        </p:nvSpPr>
        <p:spPr>
          <a:xfrm>
            <a:off x="2362320" y="4191120"/>
            <a:ext cx="1049040" cy="868320"/>
          </a:xfrm>
          <a:prstGeom prst="wedgeRoundRectCallout">
            <a:avLst>
              <a:gd name="adj1" fmla="val 194782"/>
              <a:gd name="adj2" fmla="val -57680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 Conten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ular Callout 44"/>
          <p:cNvSpPr/>
          <p:nvPr/>
        </p:nvSpPr>
        <p:spPr>
          <a:xfrm>
            <a:off x="5824440" y="4475160"/>
            <a:ext cx="1165320" cy="630360"/>
          </a:xfrm>
          <a:prstGeom prst="wedgeRoundRectCallout">
            <a:avLst>
              <a:gd name="adj1" fmla="val 93435"/>
              <a:gd name="adj2" fmla="val -48074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atur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IFAP “Home”Page Are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C203-0ED4-4F57-BEB9-6C2D58D749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The Basics of FS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rcRect l="0" t="0" r="38614" b="0"/>
          <a:stretch/>
        </p:blipFill>
        <p:spPr>
          <a:xfrm>
            <a:off x="3505320" y="1905120"/>
            <a:ext cx="4724280" cy="480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90120" y="34290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0DA9-90CC-4135-91A7-A71473AD25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Navigating IFAP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How to Use IFA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7840" y="335268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rcRect l="0" t="2344" r="40002" b="36720"/>
          <a:stretch/>
        </p:blipFill>
        <p:spPr>
          <a:xfrm>
            <a:off x="3124080" y="1600200"/>
            <a:ext cx="5791320" cy="470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F736-EFD8-405E-B1C2-405B537B1E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lendar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Query and Reminder Fun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7" name="m-20080311-02a" descr="">
            <a:hlinkClick r:id="rId1"/>
          </p:cNvPr>
          <p:cNvPicPr/>
          <p:nvPr/>
        </p:nvPicPr>
        <p:blipFill>
          <a:blip r:embed="rId2"/>
          <a:srcRect l="8471" t="7497" r="8508" b="7030"/>
          <a:stretch/>
        </p:blipFill>
        <p:spPr>
          <a:xfrm>
            <a:off x="3470400" y="1828800"/>
            <a:ext cx="445428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4040" y="313848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AD40-388E-46B0-B985-683D526E3C8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Library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Content Index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rcRect l="0" t="0" r="39287" b="0"/>
          <a:stretch/>
        </p:blipFill>
        <p:spPr>
          <a:xfrm>
            <a:off x="3494160" y="1676520"/>
            <a:ext cx="481176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1380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77FC-10A8-4C2C-AE80-07C69E37290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“Help”: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tional Content Inquiry Assistance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rcRect l="0" t="0" r="39453" b="0"/>
          <a:stretch/>
        </p:blipFill>
        <p:spPr>
          <a:xfrm>
            <a:off x="3581280" y="1752480"/>
            <a:ext cx="5029200" cy="48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842400" y="304812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76B6-AA76-47DF-9065-FF9E8B6C429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Contact Information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Directory of Where to Find Help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rcRect l="0" t="0" r="39252" b="16449"/>
          <a:stretch/>
        </p:blipFill>
        <p:spPr>
          <a:xfrm>
            <a:off x="3657600" y="2133720"/>
            <a:ext cx="4952880" cy="425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90120" y="32148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216B-997B-4ECB-85AD-F963FB1583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Glossary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FSA Terms and Abbrevi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rcRect l="0" t="0" r="39453" b="0"/>
          <a:stretch/>
        </p:blipFill>
        <p:spPr>
          <a:xfrm>
            <a:off x="3500280" y="1600200"/>
            <a:ext cx="4881600" cy="50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99504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CCD1-E1ED-4EC7-B705-F6366338D5F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D46-4066-493E-AF97-71F7A2A5DC6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6622-E303-4C0F-9E12-40C773CC976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Site Map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Navigation Hel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rcRect l="0" t="4412" r="40179" b="0"/>
          <a:stretch/>
        </p:blipFill>
        <p:spPr>
          <a:xfrm>
            <a:off x="3581280" y="1828800"/>
            <a:ext cx="495936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842400" y="25290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5389-A8B1-4E8F-AD95-E3F40B08DC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ustomer Feedback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Keep in Touch with 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rcRect l="0" t="3940" r="40002" b="0"/>
          <a:stretch/>
        </p:blipFill>
        <p:spPr>
          <a:xfrm>
            <a:off x="3581280" y="1905120"/>
            <a:ext cx="4873680" cy="487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14732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7531-2AF8-4FE7-BF25-7B4DFCD9AA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vance Search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Find What You Ne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7840" y="259092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rcRect l="0" t="2344" r="40002" b="20315"/>
          <a:stretch/>
        </p:blipFill>
        <p:spPr>
          <a:xfrm>
            <a:off x="3581280" y="1752480"/>
            <a:ext cx="487692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0A09-DD81-44DB-B89A-61584FBCDB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y IFAP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ier to Log-i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rcRect l="0" t="2344" r="40002" b="39090"/>
          <a:stretch/>
        </p:blipFill>
        <p:spPr>
          <a:xfrm>
            <a:off x="3159000" y="1905120"/>
            <a:ext cx="575640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CDF4-3B83-4ED8-8076-975DD54B63E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User Registration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ier to Regis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29960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rcRect l="0" t="2344" r="40002" b="28624"/>
          <a:stretch/>
        </p:blipFill>
        <p:spPr>
          <a:xfrm>
            <a:off x="3394080" y="1752480"/>
            <a:ext cx="52164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7F11-87AC-4549-ACE6-78D7AEFB0A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b Content on IFAP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y to Rea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9012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m-20080318-03d" descr="">
            <a:hlinkClick r:id="rId1"/>
          </p:cNvPr>
          <p:cNvPicPr/>
          <p:nvPr/>
        </p:nvPicPr>
        <p:blipFill>
          <a:blip r:embed="rId2"/>
          <a:srcRect l="8025" t="5620" r="7691" b="47948"/>
          <a:stretch/>
        </p:blipFill>
        <p:spPr>
          <a:xfrm>
            <a:off x="3102120" y="1828800"/>
            <a:ext cx="58132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01C8-34F3-40B2-B08E-C1E9F62405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fication System Chan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28800"/>
            <a:ext cx="39625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mains the default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Monday-Friday) up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181480" y="1523880"/>
            <a:ext cx="2895840" cy="4648320"/>
            <a:chOff x="5181480" y="1523880"/>
            <a:chExt cx="2895840" cy="4648320"/>
          </a:xfrm>
        </p:grpSpPr>
        <p:grpSp>
          <p:nvGrpSpPr>
            <p:cNvPr id="184" name=""/>
            <p:cNvGrpSpPr/>
            <p:nvPr/>
          </p:nvGrpSpPr>
          <p:grpSpPr>
            <a:xfrm>
              <a:off x="5181480" y="1523880"/>
              <a:ext cx="2895480" cy="4438440"/>
              <a:chOff x="5181480" y="1523880"/>
              <a:chExt cx="2895480" cy="443844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rcRect l="0" t="0" r="2565" b="7692"/>
              <a:stretch/>
            </p:blipFill>
            <p:spPr>
              <a:xfrm>
                <a:off x="5181480" y="1523880"/>
                <a:ext cx="289548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"/>
              <a:srcRect l="0" t="61545" r="2565" b="0"/>
              <a:stretch/>
            </p:blipFill>
            <p:spPr>
              <a:xfrm>
                <a:off x="5181480" y="3581280"/>
                <a:ext cx="289548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3"/>
              <a:srcRect l="0" t="30769" r="2565" b="0"/>
              <a:stretch/>
            </p:blipFill>
            <p:spPr>
              <a:xfrm>
                <a:off x="5181480" y="4419360"/>
                <a:ext cx="2895480" cy="154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5181480" y="1523880"/>
              <a:ext cx="289584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9426-AB0C-4BD8-9629-5AF5FC4CC24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9FE-8A1C-4588-894D-1394FBB89A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Future Enhance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0005-8AC0-41C3-8B6D-2677471DA04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Future Initiativ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55120" y="1523880"/>
            <a:ext cx="811692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Architecture interfa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ified registration of the IFAP notifica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rvey to measure customer satisfaction of IF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66724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F00C-356A-49B5-AD3F-994E96B297B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1CE-E96F-41F7-828A-41238928CE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1076-E99B-4E6C-825D-34AF9EF8911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for Financial Aid Professionals (IFAP) Web Si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SA library and Portal for Student Financial Aid Professional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test News and Inform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 Requi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1D9F-C4A6-45EC-89AE-CA3B3576D36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or suggestions regarding IFAP, contact Web Communications at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ebCommunication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der menu and then select the button labe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 regarding IFAP or My IF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94A9-22EB-44BB-ADD0-E82E171C63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0B7-CAA6-4201-AC41-04575B898C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mmar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D235-C159-4789-8939-967BBC9AE97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51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 and Ans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0200" y="2081160"/>
            <a:ext cx="5562720" cy="34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DBE0-E339-4E0A-95AC-C1E7C548D30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Look What We Have Done to the Information for Financial Aid Professionals (IFAP) Web Site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. .</a:t>
            </a:r>
            <a:r>
              <a:rPr b="0" lang="en-US" sz="4000" spc="-1" strike="noStrike">
                <a:solidFill>
                  <a:srgbClr val="cc540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join us in the PC Lab for further discussion, questions, or demonstration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CAD1-F019-475B-A054-B40B850B093C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448-E464-4D46-AB60-FB23FE915C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Redesign of IF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2AD5-C553-458D-B244-B786625114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Redesign Go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917720"/>
            <a:ext cx="801684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“look and feel”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of industry’s best practices for organizing and navigating web content.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70EE-4AEB-4877-BF4B-1368FB5334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76320" y="1371600"/>
            <a:ext cx="8915040" cy="4799880"/>
            <a:chOff x="76320" y="1371600"/>
            <a:chExt cx="8915040" cy="4799880"/>
          </a:xfrm>
        </p:grpSpPr>
        <p:sp>
          <p:nvSpPr>
            <p:cNvPr id="64" name=""/>
            <p:cNvSpPr/>
            <p:nvPr/>
          </p:nvSpPr>
          <p:spPr>
            <a:xfrm>
              <a:off x="2222280" y="2351520"/>
              <a:ext cx="4594320" cy="29419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320" y="5191560"/>
              <a:ext cx="264024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13360" y="1371600"/>
              <a:ext cx="2640600" cy="9799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1120" y="5191560"/>
              <a:ext cx="2640240" cy="9799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Redesign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463760"/>
            <a:ext cx="18288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stom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27364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AP WC: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5257800"/>
            <a:ext cx="2743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nt Own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labo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505320"/>
            <a:ext cx="2286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ile/ It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B8FA-8252-402A-9736-B1976D1FE8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Level IFAP Redesign Project Schedu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entagon 4"/>
          <p:cNvSpPr/>
          <p:nvPr/>
        </p:nvSpPr>
        <p:spPr>
          <a:xfrm>
            <a:off x="227160" y="3583080"/>
            <a:ext cx="8688240" cy="457200"/>
          </a:xfrm>
          <a:custGeom>
            <a:avLst/>
            <a:gdLst>
              <a:gd name="textAreaLeft" fmla="*/ 0 w 8688240"/>
              <a:gd name="textAreaRight" fmla="*/ 8688600 w 8688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32" y="0"/>
                </a:lnTo>
                <a:lnTo>
                  <a:pt x="21600" y="10800"/>
                </a:lnTo>
                <a:lnTo>
                  <a:pt x="210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e7f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Straight Arrow Connector 6"/>
          <p:cNvCxnSpPr/>
          <p:nvPr/>
        </p:nvCxnSpPr>
        <p:spPr>
          <a:xfrm>
            <a:off x="184320" y="3886200"/>
            <a:ext cx="506880" cy="216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tailEnd len="med" type="diamond" w="med"/>
          </a:ln>
        </p:spPr>
      </p:cxnSp>
      <p:sp>
        <p:nvSpPr>
          <p:cNvPr id="77" name="TextBox 7"/>
          <p:cNvSpPr/>
          <p:nvPr/>
        </p:nvSpPr>
        <p:spPr>
          <a:xfrm>
            <a:off x="866880" y="4140360"/>
            <a:ext cx="779292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1 – Information Archite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Straight Arrow Connector 8"/>
          <p:cNvCxnSpPr/>
          <p:nvPr/>
        </p:nvCxnSpPr>
        <p:spPr>
          <a:xfrm>
            <a:off x="716040" y="4721400"/>
            <a:ext cx="1829520" cy="1008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79" name="TextBox 9"/>
          <p:cNvSpPr/>
          <p:nvPr/>
        </p:nvSpPr>
        <p:spPr>
          <a:xfrm>
            <a:off x="2658960" y="4568760"/>
            <a:ext cx="469584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2 -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11"/>
          <p:cNvSpPr/>
          <p:nvPr/>
        </p:nvSpPr>
        <p:spPr>
          <a:xfrm flipH="1">
            <a:off x="6890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2"/>
          <p:cNvSpPr/>
          <p:nvPr/>
        </p:nvSpPr>
        <p:spPr>
          <a:xfrm flipH="1">
            <a:off x="16012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13"/>
          <p:cNvSpPr/>
          <p:nvPr/>
        </p:nvSpPr>
        <p:spPr>
          <a:xfrm flipH="1">
            <a:off x="25178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4"/>
          <p:cNvSpPr/>
          <p:nvPr/>
        </p:nvSpPr>
        <p:spPr>
          <a:xfrm flipH="1">
            <a:off x="34300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5"/>
          <p:cNvSpPr/>
          <p:nvPr/>
        </p:nvSpPr>
        <p:spPr>
          <a:xfrm flipH="1">
            <a:off x="43444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6"/>
          <p:cNvSpPr/>
          <p:nvPr/>
        </p:nvSpPr>
        <p:spPr>
          <a:xfrm flipH="1">
            <a:off x="52588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7"/>
          <p:cNvSpPr/>
          <p:nvPr/>
        </p:nvSpPr>
        <p:spPr>
          <a:xfrm flipH="1">
            <a:off x="61754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70898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9"/>
          <p:cNvSpPr/>
          <p:nvPr/>
        </p:nvSpPr>
        <p:spPr>
          <a:xfrm flipH="1">
            <a:off x="80042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90900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1802160" y="3724200"/>
            <a:ext cx="49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734920" y="3724200"/>
            <a:ext cx="47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3648240" y="3724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54608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5466600" y="3724200"/>
            <a:ext cx="44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6388200" y="3724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31124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8234280" y="3724200"/>
            <a:ext cx="47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Straight Arrow Connector 32"/>
          <p:cNvCxnSpPr/>
          <p:nvPr/>
        </p:nvCxnSpPr>
        <p:spPr>
          <a:xfrm>
            <a:off x="2593800" y="5173200"/>
            <a:ext cx="1866240" cy="104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99" name="TextBox 34"/>
          <p:cNvSpPr/>
          <p:nvPr/>
        </p:nvSpPr>
        <p:spPr>
          <a:xfrm>
            <a:off x="4608360" y="5029200"/>
            <a:ext cx="420552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3 –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35"/>
          <p:cNvCxnSpPr/>
          <p:nvPr/>
        </p:nvCxnSpPr>
        <p:spPr>
          <a:xfrm>
            <a:off x="4497480" y="5619600"/>
            <a:ext cx="2110320" cy="86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01" name="TextBox 37"/>
          <p:cNvSpPr/>
          <p:nvPr/>
        </p:nvSpPr>
        <p:spPr>
          <a:xfrm>
            <a:off x="1479600" y="5332320"/>
            <a:ext cx="28893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4 –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Straight Arrow Connector 38"/>
          <p:cNvCxnSpPr/>
          <p:nvPr/>
        </p:nvCxnSpPr>
        <p:spPr>
          <a:xfrm>
            <a:off x="6651720" y="6089760"/>
            <a:ext cx="2110320" cy="86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03" name="TextBox 39"/>
          <p:cNvSpPr/>
          <p:nvPr/>
        </p:nvSpPr>
        <p:spPr>
          <a:xfrm>
            <a:off x="3505320" y="5943600"/>
            <a:ext cx="289548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lize Site for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41"/>
          <p:cNvCxnSpPr/>
          <p:nvPr/>
        </p:nvCxnSpPr>
        <p:spPr>
          <a:xfrm flipH="1">
            <a:off x="8789400" y="2184120"/>
            <a:ext cx="540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5" name="TextBox 42"/>
          <p:cNvSpPr/>
          <p:nvPr/>
        </p:nvSpPr>
        <p:spPr>
          <a:xfrm>
            <a:off x="6567480" y="16002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November 23,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Straight Arrow Connector 41"/>
          <p:cNvCxnSpPr/>
          <p:nvPr/>
        </p:nvCxnSpPr>
        <p:spPr>
          <a:xfrm flipH="1">
            <a:off x="5903280" y="2359080"/>
            <a:ext cx="13320" cy="173592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107" name="TextBox 48"/>
          <p:cNvSpPr/>
          <p:nvPr/>
        </p:nvSpPr>
        <p:spPr>
          <a:xfrm>
            <a:off x="5338800" y="1663560"/>
            <a:ext cx="10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re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Arrow Connector 44"/>
          <p:cNvCxnSpPr/>
          <p:nvPr/>
        </p:nvCxnSpPr>
        <p:spPr>
          <a:xfrm flipV="1">
            <a:off x="304560" y="3290040"/>
            <a:ext cx="55918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lg" type="diamond" w="lg"/>
            <a:tailEnd len="lg" type="diamond" w="lg"/>
          </a:ln>
        </p:spPr>
      </p:cxnSp>
      <p:sp>
        <p:nvSpPr>
          <p:cNvPr id="109" name="TextBox 45"/>
          <p:cNvSpPr/>
          <p:nvPr/>
        </p:nvSpPr>
        <p:spPr>
          <a:xfrm>
            <a:off x="2174040" y="29005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kly JAD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2276640" y="3227400"/>
            <a:ext cx="6336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5"/>
          <p:cNvSpPr/>
          <p:nvPr/>
        </p:nvSpPr>
        <p:spPr>
          <a:xfrm>
            <a:off x="4189320" y="3224160"/>
            <a:ext cx="572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E1E1-5ED0-432E-ACB7-C786CE8F3A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DAD-542D-4FF2-81A2-35737BC01C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D858-63EB-440A-8F59-8892D93985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ynthesize Two Web Sites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o On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828800"/>
            <a:ext cx="80168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nancial Aid Professionals Portal and IFAP is synthesized to one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fap.ed.gov or www.ifap.ed remains only necessary web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FAP continues to be highly recognizable within the Federal Aid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4F59-4B00-4CD9-8563-3776B5D6F6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Marcello.Rojtman</cp:lastModifiedBy>
  <dcterms:modified xsi:type="dcterms:W3CDTF">2008-12-01T22:44:31Z</dcterms:modified>
  <cp:revision>254</cp:revision>
  <dc:subject/>
  <dc:title>PowerPoint Presentation</dc:title>
</cp:coreProperties>
</file>