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52.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notesSlide53.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8675-E60F-4CDF-A507-51432355D02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852640" y="514440"/>
            <a:ext cx="3429000" cy="2571840"/>
          </a:xfrm>
          <a:prstGeom prst="rect">
            <a:avLst/>
          </a:prstGeom>
          <a:ln w="0">
            <a:noFill/>
          </a:ln>
        </p:spPr>
      </p:sp>
      <p:sp>
        <p:nvSpPr>
          <p:cNvPr id="161"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FFEL and Perkins Loan Programs, we have new rules that require schools lenders and GAs to report enrollment and loan status information or any other Title IV loan related information required by the Secretary by a deadline established by the Secret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also require GAs to report enrollment and loan status information to current loan holders within 35 days of any changes to the student’s enrollment statu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oal of these new regulations is to increase the qualify and accuracy of information in NSLDS especially as it relates to Perkins data.</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ve been having discussions with the Perkins community through COHEAO about deadlines and other issues, and I’ll talk more about that later in the presentation.</a:t>
            </a:r>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852640" y="514440"/>
            <a:ext cx="3429000" cy="2571840"/>
          </a:xfrm>
          <a:prstGeom prst="rect">
            <a:avLst/>
          </a:prstGeom>
          <a:ln w="0">
            <a:noFill/>
          </a:ln>
        </p:spPr>
      </p:sp>
      <p:sp>
        <p:nvSpPr>
          <p:cNvPr id="163"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nd in hand with the new certification rules are new rules on record retention requirements on MPNs assigned to 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in the Perkins Loan and FFEL program would requi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 bulle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regulatory changes would also facilitate proving that a borrower benefited from the proceeds of a loan if the borrower challenges the validity of MPNs assigned to 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 schools that participate in the Perkins Program, these are new provisions. However because MPNs have been in use in the Perkins program for approximately three years, schools have retained their disbursement records under current record retention requirements in 668.24.  The only new requirements is that Perkins schools must retain these disbursement records for at least 3 years after a Perkins Loan is satisfied and that disbursement records be submitted to the Department on an assigned Perkins MPN if required by the Secret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52640" y="514440"/>
            <a:ext cx="3429000" cy="2571840"/>
          </a:xfrm>
          <a:prstGeom prst="rect">
            <a:avLst/>
          </a:prstGeom>
          <a:ln w="0">
            <a:noFill/>
          </a:ln>
        </p:spPr>
      </p:sp>
      <p:sp>
        <p:nvSpPr>
          <p:cNvPr id="165"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Let’s start with the final regs that reach across the title IV loan programs.</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First is the simplification of the deferment granting process.</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is agenda item was added to our negotiations as a result of a suggestion from FFEL lenders and GAs.  The goal was to reduce redundancy of effort and administrative expense in determining a borrower’s eligibility for a deferment when the borrower has more than one loan and of course many do.</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 </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READ BULLETS</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FFEL lenders and the Sec. May not use a Perkins’ schools determination of eligibility for deferment because the requirements are slightly different.</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Perkins schools have the best deal under these new regs-they can grant a deferment based on the determination made by the Secretary, a FFEL lender or another Perkins school.</a:t>
            </a: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use of this process is not mandatory – it is at the option of the loan holder.</a:t>
            </a:r>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852640" y="514440"/>
            <a:ext cx="3429000" cy="2571840"/>
          </a:xfrm>
          <a:prstGeom prst="rect">
            <a:avLst/>
          </a:prstGeom>
          <a:ln w="0">
            <a:noFill/>
          </a:ln>
        </p:spPr>
      </p:sp>
      <p:sp>
        <p:nvSpPr>
          <p:cNvPr id="167"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orrower must still  make a request for a deferment to each loan holder, either verbally or in writing.  This is to allow the borrower control over his or her loans.  We discussed allowing the loan holder to automatically grant a deferment based on an eligibility determination of another holder but rejected that idea…again to give the borrower contro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 second bulle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lders can grant the deferment based on another holder’s determination in good faith, as long as they have no conflicting information on the borrower’s eligibility.  Negotiators requested that we include language to this effect to provide a level of comfort should circumstances beyond their control ultimately prove that the borrower was not eligible for the deferment.</a:t>
            </a:r>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852640" y="514440"/>
            <a:ext cx="3429000" cy="2571840"/>
          </a:xfrm>
          <a:prstGeom prst="rect">
            <a:avLst/>
          </a:prstGeom>
          <a:ln w="0">
            <a:noFill/>
          </a:ln>
        </p:spPr>
      </p:sp>
      <p:sp>
        <p:nvSpPr>
          <p:cNvPr id="169"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final rules on the simplified deferment granting process require a loan holder to grant a military deferment based on a request from the borrower or the borrower’s representati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 if the loan holder receives a request from the borrower’s representative with supporting documentation, the loan holder must grant the deferm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did not define “borrower’s representative” in the regulations—we leave it to the school to define so that you have flexibility. A borrower’s representative could be a family member or another reliable sourc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addition to the neg reg agenda came from a negotiator representing schools.  The goal was to make it easier for military personnel, who may be required to deploy quickly and often to remote locations, to avoid going into default on their loans due to circumstances beyond their contro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 last bullet</a:t>
            </a:r>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852640" y="514440"/>
            <a:ext cx="3429000" cy="2571840"/>
          </a:xfrm>
          <a:prstGeom prst="rect">
            <a:avLst/>
          </a:prstGeom>
          <a:ln w="0">
            <a:noFill/>
          </a:ln>
        </p:spPr>
      </p:sp>
      <p:sp>
        <p:nvSpPr>
          <p:cNvPr id="171"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PNs have been in use across the loan programs for a long time. J There is no loan amount or loan period on the face of the note. On e-signed notes, no wet signature.  When these notes are assigned to ED, we need to be able to prove that the borrower benefits from the loan proceeds and that an electronically-signed note is valid.  These new regulations also preserve the integrity of the programs and protect the Federal fiscal interest.  These rules protect lenders and schools as well and ensure that you have the means to enforce an e-signed no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require schools and loan holders to maintain a certification of creation and maintenance of E_MPN process, including the borrower authentication and signature proces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further require e-signed MPNS to be retained for at least 3 yeas after all the loans on the MPN are satisfied.</a:t>
            </a:r>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852640" y="514440"/>
            <a:ext cx="3429000" cy="2571840"/>
          </a:xfrm>
          <a:prstGeom prst="rect">
            <a:avLst/>
          </a:prstGeom>
          <a:ln w="0">
            <a:noFill/>
          </a:ln>
        </p:spPr>
      </p:sp>
      <p:sp>
        <p:nvSpPr>
          <p:cNvPr id="173"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word about effective dates.  It is the Department’s expectation that FFEL and Perkins Loan holders will be ready to comply with these new requirements on July 1, 2008 regardless of when MPNS were electronically sign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all that ED published standards for the use of e-signatures in July of 2001.  At that time, we informed lenders and institutions in the FFEL and Perkins Programs that if their process for e-signature and related records did not meet the Standards and the loan was held by a court to be unenforceable based on the signature process, the Secretary would determine on a case-by-case basis whether Federal benefits would be denied or a school would have to reimburse its Perkins Loan fund.  If, as we assume, Perkins holders are complying with our Standards, these new rules requiring the certification of e-signed notes should not add burden or cost.</a:t>
            </a:r>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852640" y="514440"/>
            <a:ext cx="3429000" cy="2571840"/>
          </a:xfrm>
          <a:prstGeom prst="rect">
            <a:avLst/>
          </a:prstGeom>
          <a:ln w="0">
            <a:noFill/>
          </a:ln>
        </p:spPr>
      </p:sp>
      <p:sp>
        <p:nvSpPr>
          <p:cNvPr id="175"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t’s look at some of the specifics that need to be included in the certifica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 bulle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two requirements are included to make sure the borrower was taken through the entire note before signing and that all of the terms and conditions, rights and responsibilities contained in the prom note were presented to the borrower.</a:t>
            </a:r>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857680" y="514440"/>
            <a:ext cx="3429000" cy="2571840"/>
          </a:xfrm>
          <a:prstGeom prst="rect">
            <a:avLst/>
          </a:prstGeom>
          <a:ln w="0">
            <a:noFill/>
          </a:ln>
        </p:spPr>
      </p:sp>
      <p:sp>
        <p:nvSpPr>
          <p:cNvPr id="17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al rules allow title IV loan holders to use an accurate and complete photocopy of a borrower’s death certificate    to document a death dischar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oal of these new rules is to reduce burden and cost and ease administration of the loan programs for both loan holders and a borrower’s famil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ovisions that allow a death discharge based on other reliable information by a chief executive officer when a death certificate is not available or in other exception circumstances remain unchanged.</a:t>
            </a:r>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852640" y="514440"/>
            <a:ext cx="3429000" cy="2571840"/>
          </a:xfrm>
          <a:prstGeom prst="rect">
            <a:avLst/>
          </a:prstGeom>
          <a:ln w="0">
            <a:noFill/>
          </a:ln>
        </p:spPr>
      </p:sp>
      <p:sp>
        <p:nvSpPr>
          <p:cNvPr id="179"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have new final rules across the loan programs relating to the total and permanent disability dischar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on feedback from our student loan ombudsman and our Inspector General, new final rules restructure and clarify eligibility requirements for a TPD discharge.  We heard from our Ombudsman that our old rules were confusing and hard to follow.  The new rules mirror the proces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 heard from our IG that discharges were too often granted immediately based on a 3-year conditional discharge period that took place completely in the past.  New rules require a 3-year prospective conditional discharge perio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 changes require that the TPD discharge application must be submitted within 90 days of the date the physician certifies the form.  This is to ensure that the information submitted by the borrower is current, not outdat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der the new rules, the borrower’s TPD date is defined as the date the physician certifies the application.  Again, this is to ensure that the doctor is certifying the borrower’s condition based on the borrower’s present health and conditions.</a:t>
            </a:r>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852640" y="514440"/>
            <a:ext cx="3429000" cy="2571840"/>
          </a:xfrm>
          <a:prstGeom prst="rect">
            <a:avLst/>
          </a:prstGeom>
          <a:ln w="0">
            <a:noFill/>
          </a:ln>
        </p:spPr>
      </p:sp>
      <p:sp>
        <p:nvSpPr>
          <p:cNvPr id="181"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gain, under new final regulations, the 3-year conditional discharge period is now prospective.  This allows the Secretary to monitor the receipt of income and new loans going forward.  It also addresses the IG’s concern about immediate discharges that were followed by a borrower receiving new loans and incom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provide that title IV loans or earned income received before the date of the borrowers TPD do not disqualify the borrower for a discharge.  So every loan received before the doctor certifies the TPD form is eligible for dischar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ever any title iv loans or loan disbursements received after the date of the borrower’s TPD disqualify the borrower for discharge.</a:t>
            </a:r>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852640" y="514440"/>
            <a:ext cx="3429000" cy="2571840"/>
          </a:xfrm>
          <a:prstGeom prst="rect">
            <a:avLst/>
          </a:prstGeom>
          <a:ln w="0">
            <a:noFill/>
          </a:ln>
        </p:spPr>
      </p:sp>
      <p:sp>
        <p:nvSpPr>
          <p:cNvPr id="183" name="PlaceHolder 2"/>
          <p:cNvSpPr>
            <a:spLocks noGrp="1"/>
          </p:cNvSpPr>
          <p:nvPr>
            <p:ph type="body"/>
          </p:nvPr>
        </p:nvSpPr>
        <p:spPr>
          <a:xfrm>
            <a:off x="1218960" y="3259080"/>
            <a:ext cx="6699240" cy="308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continue to allow minimal earned income during the conditional discharge period – defined as no more than the poverty level for a family of 2.</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w rules require that a loan holder must notify a borrower that no payments are due during the discharge process an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at only payments made after the TPD date (physician’s certification date) are returned to the borrower upon receipt of a final dischar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stly, new rules also allow the Secretary to require a borrower to submit documentation during the 3-year prospective conditional discharge period to confirm that the borrower is still TPD and to require an independent physician to examine the borrower at the Department’s expense, again to ensure the borrower is in fact totally and permanently disabled.</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857680" y="514440"/>
            <a:ext cx="3429000" cy="2571840"/>
          </a:xfrm>
          <a:prstGeom prst="rect">
            <a:avLst/>
          </a:prstGeom>
          <a:ln w="0">
            <a:noFill/>
          </a:ln>
        </p:spPr>
      </p:sp>
      <p:sp>
        <p:nvSpPr>
          <p:cNvPr id="15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ere is were you can locate the information you are searching for any of the Federal Work-Study Programs.  This is your basic good to know information.  I would bookmark it. </a:t>
            </a:r>
            <a:endParaRPr b="0" lang="en-US" sz="14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82479C-1A17-44F4-BDD4-132116FF0D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D0E19CE-9054-4F1C-AE46-A7A577006D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91B4F986-90CF-4D8B-9A93-8203FAE864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A272A8AE-7726-4D6C-A3C7-89696BA80B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5BD46C7-C653-4424-BF2F-3EE30E9C89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EF72684-FEFD-447B-9C18-5A09DEA508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03D7F8E-2298-454B-84E8-24CF91F6C2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3F66C5FE-9CA9-490B-90F9-6059909B2F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F8E4F5C0-47E8-42C5-99D5-912A8C1DAF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18C3B7D-9A0E-4E5C-90F0-2A47D686F6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4D50DB7-86F2-4B67-B1AB-B163AA19E9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95A32D4-91DF-4F35-B3D9-31B724CAC2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8B41-FD06-454D-B55C-45BF848B1A23}"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
        <p:nvSpPr>
          <p:cNvPr id="6" name=""/>
          <p:cNvSpPr/>
          <p:nvPr/>
        </p:nvSpPr>
        <p:spPr>
          <a:xfrm>
            <a:off x="5699160" y="6289560"/>
            <a:ext cx="260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ifap.ed.gov/fregisters/FR06122007.html" TargetMode="External"/><Relationship Id="rId2" Type="http://schemas.openxmlformats.org/officeDocument/2006/relationships/hyperlink" Target="http://ifap.ed.gov/fregisters/FR11012007.html" TargetMode="Externa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hyperlink" Target="mailto:gail.mclarnon@ed.gov" TargetMode="External"/><Relationship Id="rId2" Type="http://schemas.openxmlformats.org/officeDocument/2006/relationships/hyperlink" Target="mailto:nikki.harris@ed.gov"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07</a:t>
            </a:r>
            <a:endParaRPr b="1" lang="en-US" sz="3600" spc="-1" strike="noStrike">
              <a:solidFill>
                <a:srgbClr val="cc5407"/>
              </a:solidFill>
              <a:latin typeface="Verdana"/>
            </a:endParaRPr>
          </a:p>
        </p:txBody>
      </p:sp>
      <p:sp>
        <p:nvSpPr>
          <p:cNvPr id="51" name="PlaceHolder 2"/>
          <p:cNvSpPr>
            <a:spLocks noGrp="1"/>
          </p:cNvSpPr>
          <p:nvPr>
            <p:ph type="subTitle"/>
          </p:nvPr>
        </p:nvSpPr>
        <p:spPr>
          <a:xfrm>
            <a:off x="0" y="1905120"/>
            <a:ext cx="9144000" cy="1752480"/>
          </a:xfrm>
          <a:prstGeom prst="rect">
            <a:avLst/>
          </a:prstGeom>
          <a:noFill/>
          <a:ln w="0">
            <a:noFill/>
          </a:ln>
        </p:spPr>
        <p:txBody>
          <a:bodyPr anchor="t">
            <a:noAutofit/>
          </a:bodyPr>
          <a:p>
            <a:pPr lvl="2" marL="1143000" indent="0" algn="ctr">
              <a:lnSpc>
                <a:spcPct val="100000"/>
              </a:lnSpc>
              <a:spcBef>
                <a:spcPts val="2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A Changes on Perkins &amp; Work Study</a:t>
            </a:r>
            <a:endParaRPr b="0" lang="en-US" sz="3600" spc="-1" strike="noStrike">
              <a:solidFill>
                <a:srgbClr val="000000"/>
              </a:solidFill>
              <a:latin typeface="Verdana"/>
            </a:endParaRPr>
          </a:p>
          <a:p>
            <a:pPr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il McLarn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ikki Harri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70" name="PlaceHolder 2"/>
          <p:cNvSpPr>
            <a:spLocks noGrp="1"/>
          </p:cNvSpPr>
          <p:nvPr>
            <p:ph/>
          </p:nvPr>
        </p:nvSpPr>
        <p:spPr>
          <a:xfrm>
            <a:off x="0" y="1905120"/>
            <a:ext cx="9144000" cy="36576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ority to the extent practicable must be given to the employment of students participating in projec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ducating or training the public about evacuations, emergency response and injury prevention relating to natural disasters and acts of terrorism and other emergency situations </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must receive appropriate training</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may be paid for both training time and travel time </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Federal share of FWS student compensation under this subsection to exceed 75%</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E7EDF60-E5D1-4327-B543-F433C164AB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72" name="PlaceHolder 2"/>
          <p:cNvSpPr>
            <a:spLocks noGrp="1"/>
          </p:cNvSpPr>
          <p:nvPr>
            <p:ph/>
          </p:nvPr>
        </p:nvSpPr>
        <p:spPr>
          <a:xfrm>
            <a:off x="0" y="1676160"/>
            <a:ext cx="91440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 section 445 amended to allow institutions flexible use of FWS funds in a Major Disaste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s may be made to disaster-affected students under certain conditions, for a period of time not to exceed one academic year, in which the disaster-affected students were prevented from fulfilling their FWS obligations</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626354E-A47E-4B15-B5F9-7D118A5BEE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74" name="PlaceHolder 2"/>
          <p:cNvSpPr>
            <a:spLocks noGrp="1"/>
          </p:cNvSpPr>
          <p:nvPr>
            <p:ph/>
          </p:nvPr>
        </p:nvSpPr>
        <p:spPr>
          <a:xfrm>
            <a:off x="304920" y="1752120"/>
            <a:ext cx="8534160" cy="38862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EA section 446(a) amended to increase the amount of FWS funds an institution may use for the Job Location and Development Program from the lesser of 10% or $50,000 of its FWS allocation to the lesser of 10% or $75,000</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956D4E2-DF9F-4D4F-B6CF-3F8767E322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76" name="PlaceHolder 2"/>
          <p:cNvSpPr>
            <a:spLocks noGrp="1"/>
          </p:cNvSpPr>
          <p:nvPr>
            <p:ph/>
          </p:nvPr>
        </p:nvSpPr>
        <p:spPr>
          <a:xfrm>
            <a:off x="304920" y="1828440"/>
            <a:ext cx="8534160" cy="441972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 section 447 amended to create a new discretionary grant program for FWS schools to supplement off-campus community service employmen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ority must be given to applications that support work in early childhood education projects and activities in preparation for emergencies or natural disaster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s must be used to pay students performing off-campus community service activities, including for training time and travel time related to this community servic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discretionary grant program not currently funded</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D5469A5-7A2F-4DEA-87DF-12B3EBD5FB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view of FWS “Community Services” Definition</a:t>
            </a:r>
            <a:endParaRPr b="1" lang="en-US" sz="3600" spc="-1" strike="noStrike">
              <a:solidFill>
                <a:srgbClr val="cc5407"/>
              </a:solidFill>
              <a:latin typeface="Verdana"/>
            </a:endParaRPr>
          </a:p>
        </p:txBody>
      </p:sp>
      <p:sp>
        <p:nvSpPr>
          <p:cNvPr id="78"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rvices identified by a school, through formal or informal consultation with local nonprofit, governmental, and community-based organizations, as designed to improve the quality of life for community residents, particularly low-income individuals, or to solve particular problems related to their need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948013D-457B-46BE-B3DB-9E7C44E399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view of Community Service Examples</a:t>
            </a:r>
            <a:endParaRPr b="1" lang="en-US" sz="4000" spc="-1" strike="noStrike">
              <a:solidFill>
                <a:srgbClr val="cc5407"/>
              </a:solidFill>
              <a:latin typeface="Verdana"/>
            </a:endParaRPr>
          </a:p>
        </p:txBody>
      </p:sp>
      <p:sp>
        <p:nvSpPr>
          <p:cNvPr id="80"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Handbook Examples of Community Servic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care, child care, literacy training, education (including tutorial services) welfare, social services, transportation, public safety, recreation, crime prevention and control, and community improveme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Emergency preparedness and response, civic education and participation activiti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F06B711-FE41-4473-8211-D487DAF875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view of Steps to Establish Community Service Jobs</a:t>
            </a:r>
            <a:endParaRPr b="1" lang="en-US" sz="3600" spc="-1" strike="noStrike">
              <a:solidFill>
                <a:srgbClr val="cc5407"/>
              </a:solidFill>
              <a:latin typeface="Verdana"/>
            </a:endParaRPr>
          </a:p>
        </p:txBody>
      </p:sp>
      <p:sp>
        <p:nvSpPr>
          <p:cNvPr id="82"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establishing community service jobs, a school:</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ies potential jobs and employer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earches students’ interests in community service</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motes community service job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ces a priority on jobs that meet needs of low-income individual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B252F24-B68E-47CF-A2A2-05D35BA891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view of On-Campus Community Service</a:t>
            </a:r>
            <a:endParaRPr b="1" lang="en-US" sz="4000" spc="-1" strike="noStrike">
              <a:solidFill>
                <a:srgbClr val="cc5407"/>
              </a:solidFill>
              <a:latin typeface="Verdana"/>
            </a:endParaRPr>
          </a:p>
        </p:txBody>
      </p:sp>
      <p:sp>
        <p:nvSpPr>
          <p:cNvPr id="84" name="PlaceHolder 2"/>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Campus Community Service must be open and accessible to the community</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chool is not considered a community for this purpos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ce is considered open to the community if it is publicized to the general public and the general public use the servic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utory exception is given for support services to students with disabilities even if services are only provided to students enrolled at the school</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2737CCE-C6DB-4E1F-BEB2-F93FAAECB9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86"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 section 448 amended to define Work College as an eligible institution that:</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s been a public or private nonprofit, 4 year, degree-granting institution with a commitment to community service</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s also operated a comprehensive  work-learning-service program for at least 2 years</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5B5FEE5-4EC2-43FF-8907-11F64B1224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88" name="PlaceHolder 2"/>
          <p:cNvSpPr>
            <a:spLocks noGrp="1"/>
          </p:cNvSpPr>
          <p:nvPr>
            <p:ph/>
          </p:nvPr>
        </p:nvSpPr>
        <p:spPr>
          <a:xfrm>
            <a:off x="304920" y="1904760"/>
            <a:ext cx="853416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 College is an eligible institution that</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students, including at least one/half of all students who are enrolled on a f/t basis, to participate in a comprehensive work-learning-service program for at least 5hrs each week or at least 80 hrs during each enrollment period, except summer school, unless the student is in a school approved study abroad or externship program</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ves the students participating the chance to contribute to their education and to contribute to the welfare of the community as a whole</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D3F63C3-E610-4053-9549-DDA9C92C15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	</a:t>
            </a:r>
            <a:r>
              <a:rPr b="1" lang="en-US" sz="4400" spc="-1" strike="noStrike">
                <a:solidFill>
                  <a:srgbClr val="cc5407"/>
                </a:solidFill>
                <a:latin typeface="Verdana"/>
              </a:rPr>
              <a:t>	</a:t>
            </a:r>
            <a:r>
              <a:rPr b="1" lang="en-US" sz="4400" spc="-1" strike="noStrike">
                <a:solidFill>
                  <a:srgbClr val="cc5407"/>
                </a:solidFill>
                <a:latin typeface="Verdana"/>
              </a:rPr>
              <a:t>	</a:t>
            </a:r>
            <a:r>
              <a:rPr b="1" lang="en-US" sz="4400" spc="-1" strike="noStrike">
                <a:solidFill>
                  <a:srgbClr val="cc5407"/>
                </a:solidFill>
                <a:latin typeface="Verdana"/>
              </a:rPr>
              <a:t>Agenda</a:t>
            </a:r>
            <a:endParaRPr b="1" lang="en-US" sz="4400" spc="-1" strike="noStrike">
              <a:solidFill>
                <a:srgbClr val="cc5407"/>
              </a:solidFill>
              <a:latin typeface="Verdana"/>
            </a:endParaRPr>
          </a:p>
        </p:txBody>
      </p:sp>
      <p:sp>
        <p:nvSpPr>
          <p:cNvPr id="53" name="PlaceHolder 2"/>
          <p:cNvSpPr>
            <a:spLocks noGrp="1"/>
          </p:cNvSpPr>
          <p:nvPr>
            <p:ph/>
          </p:nvPr>
        </p:nvSpPr>
        <p:spPr>
          <a:xfrm>
            <a:off x="0" y="1828800"/>
            <a:ext cx="8763120" cy="4038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gislative Changes to the Campus-Based Programs Resulting from The Higher Education Opportunity Ac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gulatory Changes to the Federal Perkins Loan Program</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4E6D91E-68E5-48A0-98DF-421271FDEC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90" name="PlaceHolder 2"/>
          <p:cNvSpPr>
            <a:spLocks noGrp="1"/>
          </p:cNvSpPr>
          <p:nvPr>
            <p:ph/>
          </p:nvPr>
        </p:nvSpPr>
        <p:spPr>
          <a:xfrm>
            <a:off x="304920" y="1676520"/>
            <a:ext cx="8534160" cy="449568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 section 448 amended to define “Comprehensive Student Work-Learning-Service Program” as a program tha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an integral and stated part of the institution’s educational philosophy and program </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participation of all resident students for enrollment and graduatio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learning objectives, evaluation, and a record of work performance as part of the student’s college record</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4111F54-7207-4C16-9ED5-09E1EF64CB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92" name="PlaceHolder 2"/>
          <p:cNvSpPr>
            <a:spLocks noGrp="1"/>
          </p:cNvSpPr>
          <p:nvPr>
            <p:ph/>
          </p:nvPr>
        </p:nvSpPr>
        <p:spPr>
          <a:xfrm>
            <a:off x="304920" y="1676520"/>
            <a:ext cx="8534160" cy="441936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mprehensive Student Work-Learning- Service Program” as a program tha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programmatic leadership by college personnel at levels comparable to traditional academic program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gnizes the educational role of work-learning-service supervisors </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consequences for nonperformance or failure in the work-learning-service program similar to the consequences for failure in the regular academic program </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5DC75EF-68DB-4B00-B17D-B38452650F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94"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28C(b)(1) to </a:t>
            </a:r>
            <a:r>
              <a:rPr b="0" lang="en-US" sz="2800" spc="-1" strike="noStrike">
                <a:solidFill>
                  <a:srgbClr val="000000"/>
                </a:solidFill>
                <a:latin typeface="Verdana"/>
              </a:rPr>
              <a:t>require disclosures to Perkins Loan borrowers who consolidate: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 will lose all interest-free periods associated with a Perkins Loa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 will no longer be eligible for cancellation benefits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must list occupations contained in HEA section 465 that qualify for cancellation</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FBB3448-5F65-4E25-B433-B30FF68478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96"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3(a)(4)(B) – Secretary </a:t>
            </a:r>
            <a:r>
              <a:rPr b="1" lang="en-US" sz="2800" spc="-1" strike="noStrike">
                <a:solidFill>
                  <a:srgbClr val="000000"/>
                </a:solidFill>
                <a:latin typeface="Verdana"/>
                <a:ea typeface="Arial"/>
              </a:rPr>
              <a:t>may</a:t>
            </a:r>
            <a:r>
              <a:rPr b="0" lang="en-US" sz="2800" spc="-1" strike="noStrike">
                <a:solidFill>
                  <a:srgbClr val="000000"/>
                </a:solidFill>
                <a:latin typeface="Verdana"/>
                <a:ea typeface="Arial"/>
              </a:rPr>
              <a:t> allow institutions to refer Perkins Loans to the Department for collection.  Any sums collected must be repaid to the institution (minus collection costs) as additional FCC.</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mends HEA §463(a)(9) to prohibit the Secretary from mandating assignment other than as provided in §463(a)(4) and (5).</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00B0DFA-0AA4-45FC-87A5-E628E00E03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98"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4(a) to:</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crease annual loan limits to $5,500 for undergraduate studen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crease annual loan limits to $8,000 for graduate/professional studen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crease aggregate loan limits for undergraduate students to $27,500</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crease aggregate loan limits for graduate/professional students to $60,000</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crease aggregate loan limits to $11,000 for “any other student”</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BE9D96B-7D1A-42C5-950E-2B98207508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00"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4(c)(1)(F) to require the Secretary to cancel a Perkins Loan if the borrower is:</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ermanently and totally disabled </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Unable to engage in substantial gainful activity because of a physical or mental impairment that is expected to result in death, has lasted continuously for not less than 60 months, or can be expected to last continuously for not less than 60 months or</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borrower is determined by the VA to unemployable due to a service-connected disability</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8FD10EB-781F-4843-859D-1658579C9D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02"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4(c)(1)(F) to:</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ow Secretary to develop regulations to:</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guard against fraud and abuse in TPD discharges</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me collection on loans discharged for TPD if the borrower receives a new Title IV loan or earns income in excess of the poverty lin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Effective July 1, 2008</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8BB57B5-58A7-471B-966F-5F2A8ECF8D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04"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4(e) to remove requirement that a forbearance request be in writing</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Requires terms of forbearance to be documented by confirming the agreement with borrower by notice and recording terms in the borrower’s fil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Amends HEA §464(h)(1)(A) to require 9 on-time payments to successfully rehabilitate a defaulted Perkins Loan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C25387C-6BC6-42DC-B4E6-DC3344EF80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06"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5(a)(2) to extend cancellation benefits to Perkins Loan borrowers who are: </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teachers in low-income educational service agencies (including special ed teacher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ull-time staff in a pre-kindergarten or child care program licensed or regulated by a Stat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ull-time lawyers employed by a public defender organization</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ull-time fire fighters</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AAA00E9-BE13-451A-B3CC-AD87298F1A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08"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s HEA </a:t>
            </a:r>
            <a:r>
              <a:rPr b="0" lang="en-US" sz="2800" spc="-1" strike="noStrike">
                <a:solidFill>
                  <a:srgbClr val="000000"/>
                </a:solidFill>
                <a:latin typeface="Verdana"/>
                <a:ea typeface="Arial"/>
              </a:rPr>
              <a:t>§465(a)(2) to extend cancellation benefits to Perkins Loan borrowers who are:</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ull-time faculty members at a Tribal college or University</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Librarians with a Master’s degree in Library Science employed in a low-income school or a public library serving low-income school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Full-time speech language pathologists with a Master’s degree working with low-income children</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89E951A-F2C2-4D32-95B9-0410B90513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mpus-Based Legislative &amp; Regulatory Update</a:t>
            </a:r>
            <a:endParaRPr b="1" lang="en-US" sz="3600" spc="-1" strike="noStrike">
              <a:solidFill>
                <a:srgbClr val="cc5407"/>
              </a:solidFill>
              <a:latin typeface="Verdana"/>
            </a:endParaRPr>
          </a:p>
        </p:txBody>
      </p:sp>
      <p:sp>
        <p:nvSpPr>
          <p:cNvPr id="55" name="PlaceHolder 2"/>
          <p:cNvSpPr>
            <a:spLocks noGrp="1"/>
          </p:cNvSpPr>
          <p:nvPr>
            <p:ph/>
          </p:nvPr>
        </p:nvSpPr>
        <p:spPr>
          <a:xfrm>
            <a:off x="304920" y="1905120"/>
            <a:ext cx="8534160" cy="41148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mpus-Based Program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deral Supplemental Educational Opportunity Grant  (FSEOG) Program</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deral Work-Study (FWS) Program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deral Perkins Loan Program</a:t>
            </a: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7D40ED4-5F94-4665-B896-A8F1650096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10"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ll cancellation benefits (100%) over five years for members of the Armed forces serving in areas of hostility</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se of Congres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he Federal Perkins Loan program is an important part of Federal student aid and should remain a campus-based aid program at colleges and Universitie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6C2A0B8-6C61-4A4A-978D-7C6878F077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EA Reauthorization – H.R. 4137 Federal Perkins Loan Program</a:t>
            </a:r>
            <a:endParaRPr b="1" lang="en-US" sz="3200" spc="-1" strike="noStrike">
              <a:solidFill>
                <a:srgbClr val="cc5407"/>
              </a:solidFill>
              <a:latin typeface="Verdana"/>
            </a:endParaRPr>
          </a:p>
        </p:txBody>
      </p:sp>
      <p:sp>
        <p:nvSpPr>
          <p:cNvPr id="112" name="PlaceHolder 2"/>
          <p:cNvSpPr>
            <a:spLocks noGrp="1"/>
          </p:cNvSpPr>
          <p:nvPr>
            <p:ph/>
          </p:nvPr>
        </p:nvSpPr>
        <p:spPr>
          <a:xfrm>
            <a:off x="1173240" y="1600200"/>
            <a:ext cx="7772400" cy="44956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ends HEA </a:t>
            </a:r>
            <a:r>
              <a:rPr b="0" lang="en-US" sz="3200" spc="-1" strike="noStrike">
                <a:solidFill>
                  <a:srgbClr val="000000"/>
                </a:solidFill>
                <a:latin typeface="Verdana"/>
                <a:ea typeface="Arial"/>
              </a:rPr>
              <a:t>§484A to require tha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 </a:t>
            </a:r>
            <a:r>
              <a:rPr b="0" lang="en-US" sz="3200" spc="-1" strike="noStrike">
                <a:solidFill>
                  <a:srgbClr val="000000"/>
                </a:solidFill>
                <a:latin typeface="Verdana"/>
                <a:ea typeface="Arial"/>
              </a:rPr>
              <a:t>Perkins Loans are not subject to a defense based on a claim of infanc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Obligation to title IV aid does not apply to deceased students, a deceased student’s estate or the estate of such student’s family.</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6AE3F68-8363-438D-8D64-C205AF095F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Perkins </a:t>
            </a:r>
            <a:br>
              <a:rPr sz="4000"/>
            </a:br>
            <a:r>
              <a:rPr b="1" lang="en-US" sz="4000" spc="-1" strike="noStrike">
                <a:solidFill>
                  <a:srgbClr val="cc5407"/>
                </a:solidFill>
                <a:latin typeface="Verdana"/>
              </a:rPr>
              <a:t>Loan Program</a:t>
            </a:r>
            <a:endParaRPr b="1" lang="en-US" sz="4000" spc="-1" strike="noStrike">
              <a:solidFill>
                <a:srgbClr val="cc5407"/>
              </a:solidFill>
              <a:latin typeface="Verdana"/>
            </a:endParaRPr>
          </a:p>
        </p:txBody>
      </p:sp>
      <p:sp>
        <p:nvSpPr>
          <p:cNvPr id="114" name="PlaceHolder 2"/>
          <p:cNvSpPr>
            <a:spLocks noGrp="1"/>
          </p:cNvSpPr>
          <p:nvPr>
            <p:ph/>
          </p:nvPr>
        </p:nvSpPr>
        <p:spPr>
          <a:xfrm>
            <a:off x="228240" y="2209320"/>
            <a:ext cx="8534520" cy="40388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ends HEA </a:t>
            </a:r>
            <a:r>
              <a:rPr b="0" lang="en-US" sz="3200" spc="-1" strike="noStrike">
                <a:solidFill>
                  <a:srgbClr val="000000"/>
                </a:solidFill>
                <a:latin typeface="Verdana"/>
                <a:ea typeface="Arial"/>
              </a:rPr>
              <a:t>§485(b)(1)(A) to expand exit counseling requirements for FFEL, Direct and Perkins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Amends HEA §488 to authorize the transfer of up to 25% of an institution’s FWS allocation to its Perkins Loan fun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78DADE9-AEFA-4E1E-ABFA-3951D0F628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116"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ory changes in the Perkins Loan Program effective July 1, 2008</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ed from 2006-07 negotiated rulemaking</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nsus was not reach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PRM:</a:t>
            </a:r>
            <a:r>
              <a:rPr b="0" lang="en-US" sz="2400" spc="-1" strike="noStrike">
                <a:solidFill>
                  <a:srgbClr val="000000"/>
                </a:solidFill>
                <a:latin typeface="Verdana"/>
              </a:rPr>
              <a:t> </a:t>
            </a:r>
            <a:r>
              <a:rPr b="0" lang="en-US" sz="2400" spc="-1" strike="noStrike" u="sng">
                <a:solidFill>
                  <a:srgbClr val="000099"/>
                </a:solidFill>
                <a:uFillTx/>
                <a:latin typeface="Verdana"/>
                <a:hlinkClick r:id="rId1"/>
              </a:rPr>
              <a:t>http://ifap.ed.gov/fregisters/FR06122007.html</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L: </a:t>
            </a:r>
            <a:r>
              <a:rPr b="0" lang="en-US" sz="2400" spc="-1" strike="noStrike" u="sng">
                <a:solidFill>
                  <a:srgbClr val="000099"/>
                </a:solidFill>
                <a:uFillTx/>
                <a:latin typeface="Verdana"/>
                <a:hlinkClick r:id="rId2"/>
              </a:rPr>
              <a:t>http://ifap.ed.gov/fregisters/FR11012007.html</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7F10D77-B9B2-4B6B-B97F-29B34FAF19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80520" y="1752480"/>
            <a:ext cx="8534520" cy="3679920"/>
          </a:xfrm>
          <a:prstGeom prst="rect">
            <a:avLst/>
          </a:prstGeom>
          <a:noFill/>
          <a:ln w="0">
            <a:noFill/>
          </a:ln>
        </p:spPr>
        <p:txBody>
          <a:bodyPr lIns="90000" rIns="90000" tIns="46800" bIns="46800" anchor="t">
            <a:normAutofit/>
          </a:bodyPr>
          <a:p>
            <a:pPr marL="341280" indent="-341280">
              <a:spcBef>
                <a:spcPts val="876"/>
              </a:spcBef>
              <a:spcAft>
                <a:spcPts val="876"/>
              </a:spcAft>
              <a:buClr>
                <a:srgbClr val="000000"/>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Mandatory Assignment-Sec. 674.8</a:t>
            </a:r>
            <a:endParaRPr b="0" lang="en-US" sz="2400" spc="-1" strike="noStrike">
              <a:solidFill>
                <a:srgbClr val="000000"/>
              </a:solidFill>
              <a:latin typeface="Verdana"/>
            </a:endParaRPr>
          </a:p>
          <a:p>
            <a:pPr lvl="1" marL="741240" indent="-284040">
              <a:spcBef>
                <a:spcPts val="876"/>
              </a:spcBef>
              <a:spcAft>
                <a:spcPts val="876"/>
              </a:spcAft>
              <a:buClr>
                <a:srgbClr val="000000"/>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Schools hold more than $400 million in Perkins Loans that have been in default for 5 or more years</a:t>
            </a:r>
            <a:endParaRPr b="0" lang="en-US" sz="2400" spc="-1" strike="noStrike">
              <a:solidFill>
                <a:srgbClr val="000000"/>
              </a:solidFill>
              <a:latin typeface="Verdana"/>
            </a:endParaRPr>
          </a:p>
          <a:p>
            <a:pPr lvl="1" marL="741240" indent="-284040">
              <a:spcBef>
                <a:spcPts val="876"/>
              </a:spcBef>
              <a:spcAft>
                <a:spcPts val="876"/>
              </a:spcAft>
              <a:buClr>
                <a:srgbClr val="000000"/>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Little collection activity seen on these loans</a:t>
            </a:r>
            <a:endParaRPr b="0" lang="en-US" sz="2400" spc="-1" strike="noStrike">
              <a:solidFill>
                <a:srgbClr val="000000"/>
              </a:solidFill>
              <a:latin typeface="Verdana"/>
            </a:endParaRPr>
          </a:p>
          <a:p>
            <a:pPr lvl="1" marL="741240" indent="-284040">
              <a:spcBef>
                <a:spcPts val="876"/>
              </a:spcBef>
              <a:spcAft>
                <a:spcPts val="876"/>
              </a:spcAft>
              <a:buClr>
                <a:srgbClr val="000000"/>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ED streamlined the voluntary assignment to encourage schools to assign their aged, defaulted loans</a:t>
            </a:r>
            <a:endParaRPr b="0" lang="en-US" sz="2400" spc="-1" strike="noStrike">
              <a:solidFill>
                <a:srgbClr val="000000"/>
              </a:solidFill>
              <a:latin typeface="Verdana"/>
            </a:endParaRPr>
          </a:p>
        </p:txBody>
      </p:sp>
      <p:sp>
        <p:nvSpPr>
          <p:cNvPr id="118"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E631209A-4750-4DE7-8294-CD753ECF3C1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04920" y="1676520"/>
            <a:ext cx="8229600" cy="4697280"/>
          </a:xfrm>
          <a:prstGeom prst="rect">
            <a:avLst/>
          </a:prstGeom>
          <a:noFill/>
          <a:ln w="0">
            <a:noFill/>
          </a:ln>
        </p:spPr>
        <p:txBody>
          <a:bodyPr lIns="90000" rIns="90000" tIns="46800" bIns="46800" anchor="t">
            <a:normAutofit/>
          </a:bodyPr>
          <a:p>
            <a:pPr marL="284040" indent="-284040">
              <a:spcBef>
                <a:spcPts val="751"/>
              </a:spcBef>
              <a:spcAft>
                <a:spcPts val="751"/>
              </a:spcAft>
              <a:buClr>
                <a:srgbClr val="000000"/>
              </a:buClr>
              <a:buFont typeface="Verdana"/>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GB" sz="2800" spc="-1" strike="noStrike">
                <a:solidFill>
                  <a:srgbClr val="000000"/>
                </a:solidFill>
                <a:latin typeface="Verdana"/>
              </a:rPr>
              <a:t>HEOA supersedes Perkins Loan Program rules allowing the Secretary to require assignment of a Perkins Loan if—</a:t>
            </a:r>
            <a:endParaRPr b="0" lang="en-US" sz="2800" spc="-1" strike="noStrike">
              <a:solidFill>
                <a:srgbClr val="000000"/>
              </a:solidFill>
              <a:latin typeface="Verdana"/>
            </a:endParaRPr>
          </a:p>
          <a:p>
            <a:pPr marL="284040" indent="-284040">
              <a:spcBef>
                <a:spcPts val="751"/>
              </a:spcBef>
              <a:spcAft>
                <a:spcPts val="751"/>
              </a:spcAft>
              <a:buClr>
                <a:srgbClr val="000000"/>
              </a:buClr>
              <a:buFont typeface="Verdana"/>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GB" sz="2800" spc="-1" strike="noStrike">
                <a:solidFill>
                  <a:srgbClr val="000000"/>
                </a:solidFill>
                <a:latin typeface="Verdana"/>
              </a:rPr>
              <a:t>In default for 7 or more years, and</a:t>
            </a:r>
            <a:endParaRPr b="0" lang="en-US" sz="2800" spc="-1" strike="noStrike">
              <a:solidFill>
                <a:srgbClr val="000000"/>
              </a:solidFill>
              <a:latin typeface="Verdana"/>
            </a:endParaRPr>
          </a:p>
          <a:p>
            <a:pPr marL="284040" indent="-284040">
              <a:spcBef>
                <a:spcPts val="751"/>
              </a:spcBef>
              <a:spcAft>
                <a:spcPts val="751"/>
              </a:spcAft>
              <a:buClr>
                <a:srgbClr val="000000"/>
              </a:buClr>
              <a:buFont typeface="Verdana"/>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GB" sz="2800" spc="-1" strike="noStrike">
                <a:solidFill>
                  <a:srgbClr val="000000"/>
                </a:solidFill>
                <a:latin typeface="Verdana"/>
              </a:rPr>
              <a:t>No payment has been received in past 12 months </a:t>
            </a:r>
            <a:endParaRPr b="0" lang="en-US" sz="2800" spc="-1" strike="noStrike">
              <a:solidFill>
                <a:srgbClr val="000000"/>
              </a:solidFill>
              <a:latin typeface="Verdana"/>
            </a:endParaRPr>
          </a:p>
          <a:p>
            <a:pPr marL="284040" indent="-284040">
              <a:spcBef>
                <a:spcPts val="751"/>
              </a:spcBef>
              <a:spcAft>
                <a:spcPts val="751"/>
              </a:spcAft>
              <a:buClr>
                <a:srgbClr val="000000"/>
              </a:buClr>
              <a:buFont typeface="Verdana"/>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GB" sz="2800" spc="-1" strike="noStrike">
                <a:solidFill>
                  <a:srgbClr val="000000"/>
                </a:solidFill>
                <a:latin typeface="Verdana"/>
              </a:rPr>
              <a:t>Outstanding principal balance is $100 or more</a:t>
            </a:r>
            <a:endParaRPr b="0" lang="en-US" sz="2800" spc="-1" strike="noStrike">
              <a:solidFill>
                <a:srgbClr val="000000"/>
              </a:solidFill>
              <a:latin typeface="Verdana"/>
            </a:endParaRPr>
          </a:p>
          <a:p>
            <a:pPr lvl="1" marL="685800" indent="0">
              <a:spcBef>
                <a:spcPts val="751"/>
              </a:spcBef>
              <a:spcAft>
                <a:spcPts val="751"/>
              </a:spcAft>
              <a:buNone/>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endParaRPr b="0" lang="en-US" sz="2800" spc="-1" strike="noStrike">
              <a:solidFill>
                <a:srgbClr val="000000"/>
              </a:solidFill>
              <a:latin typeface="Verdana"/>
            </a:endParaRPr>
          </a:p>
        </p:txBody>
      </p:sp>
      <p:sp>
        <p:nvSpPr>
          <p:cNvPr id="120"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0330D505-5FD7-4EB0-80FE-A32E20A5054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3160" y="1676160"/>
            <a:ext cx="7583400" cy="3516120"/>
          </a:xfrm>
          <a:prstGeom prst="rect">
            <a:avLst/>
          </a:prstGeom>
          <a:noFill/>
          <a:ln w="0">
            <a:noFill/>
          </a:ln>
        </p:spPr>
        <p:txBody>
          <a:bodyPr lIns="90000" rIns="90000" tIns="46800" bIns="46800" anchor="t">
            <a:normAutofit fontScale="93000"/>
          </a:bodyPr>
          <a:p>
            <a:pPr marL="314280" indent="-314280">
              <a:lnSpc>
                <a:spcPct val="90000"/>
              </a:lnSpc>
              <a:spcBef>
                <a:spcPts val="224"/>
              </a:spcBef>
              <a:spcAft>
                <a:spcPts val="224"/>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erdana"/>
              </a:rPr>
              <a:t>NSLDS Reporting Requirements –Sec. 674.16</a:t>
            </a:r>
            <a:endParaRPr b="0" lang="en-US" sz="3600" spc="-1" strike="noStrike">
              <a:solidFill>
                <a:srgbClr val="000000"/>
              </a:solidFill>
              <a:latin typeface="Verdana"/>
            </a:endParaRPr>
          </a:p>
          <a:p>
            <a:pPr lvl="1" marL="686520" indent="-261360">
              <a:lnSpc>
                <a:spcPct val="90000"/>
              </a:lnSpc>
              <a:spcBef>
                <a:spcPts val="201"/>
              </a:spcBef>
              <a:spcAft>
                <a:spcPts val="201"/>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Verdana"/>
              </a:rPr>
              <a:t>Requires schools to report enrollment and loan status information or any other Perkins loan-related information required by the Secretary by a deadline established by the Secretary</a:t>
            </a:r>
            <a:endParaRPr b="0" lang="en-US" sz="3200" spc="-1" strike="noStrike">
              <a:solidFill>
                <a:srgbClr val="000000"/>
              </a:solidFill>
              <a:latin typeface="Verdana"/>
            </a:endParaRPr>
          </a:p>
          <a:p>
            <a:pPr lvl="1" marL="686520" indent="0">
              <a:lnSpc>
                <a:spcPct val="90000"/>
              </a:lnSpc>
              <a:spcBef>
                <a:spcPts val="201"/>
              </a:spcBef>
              <a:spcAft>
                <a:spcPts val="20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Verdana"/>
            </a:endParaRPr>
          </a:p>
        </p:txBody>
      </p:sp>
      <p:sp>
        <p:nvSpPr>
          <p:cNvPr id="122"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0D2BB0F0-CA5C-461A-86C1-D34AA89D64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3520" y="1752120"/>
            <a:ext cx="86104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tention Requirements on MPNs Assigned to ED (Sec. 674.19)</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kins schools must retain records showing date &amp; amount of each disbursement of loan made on MPN until the loan is satisfi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on the Secretary request, schools must submit disbursement records on assigned loans to ED</a:t>
            </a:r>
            <a:endParaRPr b="0" lang="en-US" sz="3200" spc="-1" strike="noStrike">
              <a:solidFill>
                <a:srgbClr val="000000"/>
              </a:solidFill>
              <a:latin typeface="Verdana"/>
            </a:endParaRPr>
          </a:p>
        </p:txBody>
      </p:sp>
      <p:sp>
        <p:nvSpPr>
          <p:cNvPr id="124"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A7D69E0F-FDD4-4EE9-8355-25A6EA94BA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1828800"/>
            <a:ext cx="9144000" cy="41911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mplification of Deferment Process-Sec. 674.34</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kins Loan school may grant a deferment based on information from the Secretary, a FFEL holder or another Perkins Loan school</a:t>
            </a:r>
            <a:endParaRPr b="0" lang="en-US" sz="3600" spc="-1" strike="noStrike">
              <a:solidFill>
                <a:srgbClr val="000000"/>
              </a:solidFill>
              <a:latin typeface="Verdana"/>
            </a:endParaRPr>
          </a:p>
        </p:txBody>
      </p:sp>
      <p:sp>
        <p:nvSpPr>
          <p:cNvPr id="126"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B71D120C-3F4E-4482-8121-3B202E56AA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542520" y="1954080"/>
            <a:ext cx="7915320" cy="39132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mplification of Deferment Process (Sec. 674.34 co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 must request deferment verbally or in writing</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grant deferment for same reason and same time perio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have no conflicting information on borrower’s eligibility</a:t>
            </a:r>
            <a:endParaRPr b="0" lang="en-US" sz="2800" spc="-1" strike="noStrike">
              <a:solidFill>
                <a:srgbClr val="000000"/>
              </a:solidFill>
              <a:latin typeface="Verdana"/>
            </a:endParaRPr>
          </a:p>
        </p:txBody>
      </p:sp>
      <p:sp>
        <p:nvSpPr>
          <p:cNvPr id="128"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C5B12EFF-7EEE-4230-BC10-1B33038517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igher Education Opportunity Act (HEOA)– HEA Reauthorization</a:t>
            </a:r>
            <a:endParaRPr b="1" lang="en-US" sz="3200" spc="-1" strike="noStrike">
              <a:solidFill>
                <a:srgbClr val="cc5407"/>
              </a:solidFill>
              <a:latin typeface="Verdana"/>
            </a:endParaRPr>
          </a:p>
        </p:txBody>
      </p:sp>
      <p:sp>
        <p:nvSpPr>
          <p:cNvPr id="57" name="PlaceHolder 2"/>
          <p:cNvSpPr>
            <a:spLocks noGrp="1"/>
          </p:cNvSpPr>
          <p:nvPr>
            <p:ph/>
          </p:nvPr>
        </p:nvSpPr>
        <p:spPr>
          <a:xfrm>
            <a:off x="0" y="1828800"/>
            <a:ext cx="9144000" cy="403848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ly 29 – House and Senate Conferees approve H.R. 4137</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ly 31</a:t>
            </a:r>
            <a:r>
              <a:rPr b="0" lang="en-US" sz="3200" spc="-1" strike="noStrike" baseline="30000">
                <a:solidFill>
                  <a:srgbClr val="000000"/>
                </a:solidFill>
                <a:latin typeface="Verdana"/>
              </a:rPr>
              <a:t>st</a:t>
            </a:r>
            <a:r>
              <a:rPr b="0" lang="en-US" sz="3200" spc="-1" strike="noStrike">
                <a:solidFill>
                  <a:srgbClr val="000000"/>
                </a:solidFill>
                <a:latin typeface="Verdana"/>
              </a:rPr>
              <a:t> -- House passes H.R. 4137 by a vote of 380 to 49</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ly 31</a:t>
            </a:r>
            <a:r>
              <a:rPr b="0" lang="en-US" sz="3200" spc="-1" strike="noStrike" baseline="30000">
                <a:solidFill>
                  <a:srgbClr val="000000"/>
                </a:solidFill>
                <a:latin typeface="Verdana"/>
              </a:rPr>
              <a:t>st</a:t>
            </a:r>
            <a:r>
              <a:rPr b="0" lang="en-US" sz="3200" spc="-1" strike="noStrike">
                <a:solidFill>
                  <a:srgbClr val="000000"/>
                </a:solidFill>
                <a:latin typeface="Verdana"/>
              </a:rPr>
              <a:t> -- Senate passes H.R. 4137 by a vote of 83 to 8</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ident Bush signed H.R. 4137 into law August 14, 2008 – P.L. 110-315</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ar Colleague Letter in development</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3713D7C-E233-4BEC-9BDA-61AC2432C9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42520" y="1905120"/>
            <a:ext cx="7583400" cy="396216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mplified Deferment Process (Sec. 674.34 co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grant a military deferment based on request from borrower or borrower’s representative without supporting documentatio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provide notice to borrower or representative, if applicable, that deferment has been granted</a:t>
            </a:r>
            <a:endParaRPr b="0" lang="en-US" sz="2800" spc="-1" strike="noStrike">
              <a:solidFill>
                <a:srgbClr val="000000"/>
              </a:solidFill>
              <a:latin typeface="Verdana"/>
            </a:endParaRPr>
          </a:p>
        </p:txBody>
      </p:sp>
      <p:sp>
        <p:nvSpPr>
          <p:cNvPr id="130"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1841B3B6-D147-4A14-93F3-DD51C70A91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erments (Sec. 674.34 cont.)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onomic hardship income standard an amount equal to 150% of the poverty line applicable to the borrower’s family siz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loans now eligible for military deferment, not just loans made on or after July 1, 2001; three-year restriction removed</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8D1AC8A5-4FC7-45AE-8A1C-4FFCC489C9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erments (Sec. 674.34 cont.)</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itary deferment period ends 180 days after demobilization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military deferment for up to 13 months following conclusion of military service for National Guard, other reserves and retired military borrowers enrolled, or enrolled within six months of call to active duty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DBC3EEBC-B7AE-45F7-9210-34A11DC339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1676520"/>
            <a:ext cx="9144000" cy="45720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ition of “Reasonable” Collection Costs in Sec. 674.45</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rst Collection Effort:  30% of principal, interest and late charges collect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Collection Effort:  40% of principal, interest and late charges collect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tigation:  40% plus court costs</a:t>
            </a:r>
            <a:endParaRPr b="0" lang="en-US" sz="3200" spc="-1" strike="noStrike">
              <a:solidFill>
                <a:srgbClr val="000000"/>
              </a:solidFill>
              <a:latin typeface="Verdana"/>
            </a:endParaRPr>
          </a:p>
        </p:txBody>
      </p:sp>
      <p:sp>
        <p:nvSpPr>
          <p:cNvPr id="136"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D5354762-0EA0-4DDA-8A33-AD849BD299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1828800"/>
            <a:ext cx="9144000" cy="4114800"/>
          </a:xfrm>
          <a:prstGeom prst="rect">
            <a:avLst/>
          </a:prstGeom>
          <a:noFill/>
          <a:ln w="0">
            <a:noFill/>
          </a:ln>
        </p:spPr>
        <p:txBody>
          <a:bodyPr lIns="90000" rIns="90000" tIns="46800" bIns="46800" anchor="t">
            <a:normAutofit/>
          </a:bodyPr>
          <a:p>
            <a:pPr marL="338040" indent="-338040">
              <a:spcBef>
                <a:spcPts val="201"/>
              </a:spcBef>
              <a:spcAft>
                <a:spcPts val="2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ertification of Electronic Signatures on MPNs Assigned to ED (Sec. 674.50)</a:t>
            </a:r>
            <a:endParaRPr b="0" lang="en-US" sz="3200" spc="-1" strike="noStrike">
              <a:solidFill>
                <a:srgbClr val="000000"/>
              </a:solidFill>
              <a:latin typeface="Verdana"/>
            </a:endParaRPr>
          </a:p>
          <a:p>
            <a:pPr lvl="1" marL="738360" indent="-281160">
              <a:spcBef>
                <a:spcPts val="201"/>
              </a:spcBef>
              <a:spcAft>
                <a:spcPts val="201"/>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Verdana"/>
              </a:rPr>
              <a:t>Schools must maintain a certification of creation and maintenance of E-MPN process, including borrower authentication and signature process</a:t>
            </a:r>
            <a:endParaRPr b="0" lang="en-US" sz="3200" spc="-1" strike="noStrike">
              <a:solidFill>
                <a:srgbClr val="000000"/>
              </a:solidFill>
              <a:latin typeface="Verdana"/>
            </a:endParaRPr>
          </a:p>
          <a:p>
            <a:pPr lvl="1" marL="738360" indent="-281160">
              <a:spcBef>
                <a:spcPts val="201"/>
              </a:spcBef>
              <a:spcAft>
                <a:spcPts val="201"/>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Verdana"/>
              </a:rPr>
              <a:t>E-signed MPNs must be retained for at least 3 years after all loans are satisfied</a:t>
            </a:r>
            <a:endParaRPr b="0" lang="en-US" sz="3200" spc="-1" strike="noStrike">
              <a:solidFill>
                <a:srgbClr val="000000"/>
              </a:solidFill>
              <a:latin typeface="Verdana"/>
            </a:endParaRPr>
          </a:p>
        </p:txBody>
      </p:sp>
      <p:sp>
        <p:nvSpPr>
          <p:cNvPr id="138"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B992F321-4EB7-4735-9054-9B3086103B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828800"/>
            <a:ext cx="9144000" cy="41911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rtification of Electronic Signatures on MPNs Assigned to ED (Sec. 674.50 con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on Secretary’s request:</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ust provide the certification and cooperate in all activities to enforce an assigned loan, including provision of testimony in a legal proceeding</a:t>
            </a:r>
            <a:endParaRPr b="0" lang="en-US" sz="3200" spc="-1" strike="noStrike">
              <a:solidFill>
                <a:srgbClr val="000000"/>
              </a:solidFill>
              <a:latin typeface="Verdana"/>
            </a:endParaRPr>
          </a:p>
        </p:txBody>
      </p:sp>
      <p:sp>
        <p:nvSpPr>
          <p:cNvPr id="140"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26D2862A-CCCC-401D-828F-A933BB65CB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828800"/>
            <a:ext cx="9144000" cy="4191120"/>
          </a:xfrm>
          <a:prstGeom prst="rect">
            <a:avLst/>
          </a:prstGeom>
          <a:noFill/>
          <a:ln w="0">
            <a:noFill/>
          </a:ln>
        </p:spPr>
        <p:txBody>
          <a:bodyPr lIns="90000" rIns="90000" tIns="46800" bIns="46800" anchor="t">
            <a:normAutofit/>
          </a:bodyPr>
          <a:p>
            <a:pPr marL="338040" indent="-338040">
              <a:lnSpc>
                <a:spcPct val="90000"/>
              </a:lnSpc>
              <a:spcBef>
                <a:spcPts val="201"/>
              </a:spcBef>
              <a:spcAft>
                <a:spcPts val="2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ertification of Electronic Signatures on MPNs Assigned to ED (Sec. 674.50 cont.)</a:t>
            </a:r>
            <a:endParaRPr b="0" lang="en-US" sz="3200" spc="-1" strike="noStrike">
              <a:solidFill>
                <a:srgbClr val="000000"/>
              </a:solidFill>
              <a:latin typeface="Verdana"/>
            </a:endParaRPr>
          </a:p>
          <a:p>
            <a:pPr marL="338040" indent="-338040">
              <a:lnSpc>
                <a:spcPct val="90000"/>
              </a:lnSpc>
              <a:spcBef>
                <a:spcPts val="201"/>
              </a:spcBef>
              <a:spcAft>
                <a:spcPts val="2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Required certification must include:</a:t>
            </a:r>
            <a:endParaRPr b="0" lang="en-US" sz="3200" spc="-1" strike="noStrike">
              <a:solidFill>
                <a:srgbClr val="000000"/>
              </a:solidFill>
              <a:latin typeface="Verdana"/>
            </a:endParaRPr>
          </a:p>
          <a:p>
            <a:pPr lvl="1" marL="738360" indent="-281160">
              <a:lnSpc>
                <a:spcPct val="90000"/>
              </a:lnSpc>
              <a:spcBef>
                <a:spcPts val="201"/>
              </a:spcBef>
              <a:spcAft>
                <a:spcPts val="201"/>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Verdana"/>
              </a:rPr>
              <a:t>Description of borrower’s steps to execute &amp; sign MPN</a:t>
            </a:r>
            <a:endParaRPr b="0" lang="en-US" sz="3200" spc="-1" strike="noStrike">
              <a:solidFill>
                <a:srgbClr val="000000"/>
              </a:solidFill>
              <a:latin typeface="Verdana"/>
            </a:endParaRPr>
          </a:p>
          <a:p>
            <a:pPr lvl="1" marL="738360" indent="-281160">
              <a:lnSpc>
                <a:spcPct val="90000"/>
              </a:lnSpc>
              <a:spcBef>
                <a:spcPts val="201"/>
              </a:spcBef>
              <a:spcAft>
                <a:spcPts val="201"/>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Verdana"/>
              </a:rPr>
              <a:t>Copy of each screen as viewed by the borrower when signing MPN electronically</a:t>
            </a:r>
            <a:endParaRPr b="0" lang="en-US" sz="3200" spc="-1" strike="noStrike">
              <a:solidFill>
                <a:srgbClr val="000000"/>
              </a:solidFill>
              <a:latin typeface="Verdana"/>
            </a:endParaRPr>
          </a:p>
        </p:txBody>
      </p:sp>
      <p:sp>
        <p:nvSpPr>
          <p:cNvPr id="142"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E4116B57-931F-4267-9863-BA82E1993A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rtification of Electronic Signatures on MPNs Assigned to ED (Sec. 674.50 cont.)</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d certification must include:</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ption of process ensuring data integrity</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ation supporting school’s authentication and electronic signature proces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other evidence required by ED</a:t>
            </a:r>
            <a:endParaRPr b="0" lang="en-US" sz="3200" spc="-1" strike="noStrike">
              <a:solidFill>
                <a:srgbClr val="000000"/>
              </a:solidFill>
              <a:latin typeface="Verdana"/>
            </a:endParaRPr>
          </a:p>
        </p:txBody>
      </p:sp>
      <p:sp>
        <p:nvSpPr>
          <p:cNvPr id="144"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98A4315E-11FA-4BAA-922B-1D0AF97218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04920" y="1905120"/>
            <a:ext cx="8534160" cy="396216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rtification of Electronic Signatures on MPNs Assigned to Ed (Sec. 674.50 cont.)</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ust provide any records requested to resolve a dispute within 10 business day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ust provide complete access to E-records until all loans made on the MPN are satisfied</a:t>
            </a:r>
            <a:endParaRPr b="0" lang="en-US" sz="3200" spc="-1" strike="noStrike">
              <a:solidFill>
                <a:srgbClr val="000000"/>
              </a:solidFill>
              <a:latin typeface="Verdana"/>
            </a:endParaRPr>
          </a:p>
        </p:txBody>
      </p:sp>
      <p:sp>
        <p:nvSpPr>
          <p:cNvPr id="146"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B489FDE6-821E-42E2-9A02-BF80AECE45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23520" y="1954080"/>
            <a:ext cx="7581960" cy="351648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 674.51—School may use an accurate and complete photocopy of a Death Certificate to document death discharge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Exceptional circumstances” discharge by chief executive officer based on other reliable information unchanged</a:t>
            </a:r>
            <a:endParaRPr b="0" lang="en-US" sz="3200" spc="-1" strike="noStrike">
              <a:solidFill>
                <a:srgbClr val="000000"/>
              </a:solidFill>
              <a:latin typeface="Verdana"/>
            </a:endParaRPr>
          </a:p>
        </p:txBody>
      </p:sp>
      <p:sp>
        <p:nvSpPr>
          <p:cNvPr id="148"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2FA8B6EA-105D-45F9-8D9A-0BE9857C1E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SEOG</a:t>
            </a:r>
            <a:endParaRPr b="1" lang="en-US" sz="4000" spc="-1" strike="noStrike">
              <a:solidFill>
                <a:srgbClr val="cc5407"/>
              </a:solidFill>
              <a:latin typeface="Verdana"/>
            </a:endParaRPr>
          </a:p>
        </p:txBody>
      </p:sp>
      <p:sp>
        <p:nvSpPr>
          <p:cNvPr id="59" name="PlaceHolder 2"/>
          <p:cNvSpPr>
            <a:spLocks noGrp="1"/>
          </p:cNvSpPr>
          <p:nvPr>
            <p:ph/>
          </p:nvPr>
        </p:nvSpPr>
        <p:spPr>
          <a:xfrm>
            <a:off x="0" y="1523520"/>
            <a:ext cx="91440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ea typeface="Times New Roman"/>
              </a:rPr>
              <a:t>HEA section 413A(b)(1) amended to:</a:t>
            </a:r>
            <a:endParaRPr b="0" lang="en-US" sz="33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ea typeface="Times New Roman"/>
              </a:rPr>
              <a:t>Authorize appropriations</a:t>
            </a:r>
            <a:endParaRPr b="0" lang="en-US" sz="33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ea typeface="Times New Roman"/>
              </a:rPr>
              <a:t>HEA section 413D(c)(3) amended to:</a:t>
            </a:r>
            <a:endParaRPr b="0" lang="en-US" sz="33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Increase the allowance for books and supplies from $450 to $600 when calculating an institution’s average cost of attendance for purposes of the allocation formula </a:t>
            </a:r>
            <a:endParaRPr b="0" lang="en-US" sz="3300" spc="-1" strike="noStrike">
              <a:solidFill>
                <a:srgbClr val="000000"/>
              </a:solidFill>
              <a:latin typeface="Verdana"/>
            </a:endParaRPr>
          </a:p>
        </p:txBody>
      </p:sp>
      <p:sp>
        <p:nvSpPr>
          <p:cNvPr id="4" name="PlaceHolder 3"/>
          <p:cNvSpPr>
            <a:spLocks noGrp="1"/>
          </p:cNvSpPr>
          <p:nvPr>
            <p:ph type="sldNum" idx="1"/>
          </p:nvPr>
        </p:nvSpPr>
        <p:spPr/>
        <p:txBody>
          <a:bodyPr/>
          <a:p>
            <a:fld id="{1DD32B63-8F7F-430F-A57B-A405270BE7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1752480"/>
            <a:ext cx="8834400" cy="44611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ild &amp; Family Service Cancellation (Sec. 674.56)</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qualify for cancellation a borrower must b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ployed full-time by a child and family service agenc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services directly and exclusively to high-risk children from low-income communities</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C9F3C4D1-B2F2-4D33-85AD-7549797558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811160"/>
            <a:ext cx="9144000" cy="390384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 and Permanent Disability (TPD) Discharge-Sec. 674.61</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Loan Program regulations restructured to follow process and clarify eligibility requiremen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PD discharge application must be submitted within 90 days of date physician certifies the form</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s TPD date defined as physician’s certification date on the application</a:t>
            </a:r>
            <a:endParaRPr b="0" lang="en-US" sz="2800" spc="-1" strike="noStrike">
              <a:solidFill>
                <a:srgbClr val="000000"/>
              </a:solidFill>
              <a:latin typeface="Verdana"/>
            </a:endParaRPr>
          </a:p>
        </p:txBody>
      </p:sp>
      <p:sp>
        <p:nvSpPr>
          <p:cNvPr id="152"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DBA52EE3-80CF-43AB-BB51-5AF7BFAE7C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0" y="1882440"/>
            <a:ext cx="9144000" cy="3514680"/>
          </a:xfrm>
          <a:prstGeom prst="rect">
            <a:avLst/>
          </a:prstGeom>
          <a:noFill/>
          <a:ln w="0">
            <a:noFill/>
          </a:ln>
        </p:spPr>
        <p:txBody>
          <a:bodyPr lIns="90000" rIns="90000" tIns="46800" bIns="46800" anchor="t">
            <a:normAutofit fontScale="97000"/>
          </a:bodyPr>
          <a:p>
            <a:pPr marL="332640" indent="-3326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PD Discharge (Sec. 674.61 con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20720" indent="-27720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ditional discharge period is prospective starting on the date the physician certifies the borrower’s TPD</a:t>
            </a:r>
            <a:endParaRPr b="0" lang="en-US" sz="2800" spc="-1" strike="noStrike">
              <a:solidFill>
                <a:srgbClr val="000000"/>
              </a:solidFill>
              <a:latin typeface="Verdana"/>
            </a:endParaRPr>
          </a:p>
          <a:p>
            <a:pPr lvl="1" marL="720720" indent="-27720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loans or earned income received before date of TPD do not disqualify borrower for discharge</a:t>
            </a:r>
            <a:endParaRPr b="0" lang="en-US" sz="2800" spc="-1" strike="noStrike">
              <a:solidFill>
                <a:srgbClr val="000000"/>
              </a:solidFill>
              <a:latin typeface="Verdana"/>
            </a:endParaRPr>
          </a:p>
          <a:p>
            <a:pPr lvl="1" marL="720720" indent="-27720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loans or loan disbursements received after date of TPD disqualify borrower for discharge</a:t>
            </a:r>
            <a:endParaRPr b="0" lang="en-US" sz="2800" spc="-1" strike="noStrike">
              <a:solidFill>
                <a:srgbClr val="000000"/>
              </a:solidFill>
              <a:latin typeface="Verdana"/>
            </a:endParaRPr>
          </a:p>
          <a:p>
            <a:pPr lvl="1" marL="72072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4"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FAC4173F-47F5-4C2F-970F-57C45E4593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23520" y="1811160"/>
            <a:ext cx="7581960" cy="3515040"/>
          </a:xfrm>
          <a:prstGeom prst="rect">
            <a:avLst/>
          </a:prstGeom>
          <a:noFill/>
          <a:ln w="0">
            <a:noFill/>
          </a:ln>
        </p:spPr>
        <p:txBody>
          <a:bodyPr lIns="90000" rIns="90000" tIns="46800" bIns="46800" anchor="t">
            <a:normAutofit/>
          </a:bodyPr>
          <a:p>
            <a:pPr marL="338040" indent="-338040">
              <a:lnSpc>
                <a:spcPct val="80000"/>
              </a:lnSpc>
              <a:spcBef>
                <a:spcPts val="176"/>
              </a:spcBef>
              <a:spcAft>
                <a:spcPts val="176"/>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TPD Discharge (Sec. 674.61 cont.)</a:t>
            </a:r>
            <a:endParaRPr b="0" lang="en-US" sz="2800" spc="-1" strike="noStrike">
              <a:solidFill>
                <a:srgbClr val="000000"/>
              </a:solidFill>
              <a:latin typeface="Verdana"/>
            </a:endParaRPr>
          </a:p>
          <a:p>
            <a:pPr lvl="1" marL="738360" indent="-281160">
              <a:lnSpc>
                <a:spcPct val="80000"/>
              </a:lnSpc>
              <a:spcBef>
                <a:spcPts val="176"/>
              </a:spcBef>
              <a:spcAft>
                <a:spcPts val="176"/>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Verdana"/>
              </a:rPr>
              <a:t>Minimal earned income allowed during conditional discharge period</a:t>
            </a:r>
            <a:endParaRPr b="0" lang="en-US" sz="2800" spc="-1" strike="noStrike">
              <a:solidFill>
                <a:srgbClr val="000000"/>
              </a:solidFill>
              <a:latin typeface="Verdana"/>
            </a:endParaRPr>
          </a:p>
          <a:p>
            <a:pPr lvl="1" marL="738360" indent="-281160">
              <a:lnSpc>
                <a:spcPct val="80000"/>
              </a:lnSpc>
              <a:spcBef>
                <a:spcPts val="176"/>
              </a:spcBef>
              <a:spcAft>
                <a:spcPts val="176"/>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Verdana"/>
              </a:rPr>
              <a:t>School must notify borrower that no payments are due during discharge process</a:t>
            </a:r>
            <a:endParaRPr b="0" lang="en-US" sz="2800" spc="-1" strike="noStrike">
              <a:solidFill>
                <a:srgbClr val="000000"/>
              </a:solidFill>
              <a:latin typeface="Verdana"/>
            </a:endParaRPr>
          </a:p>
          <a:p>
            <a:pPr lvl="1" marL="738360" indent="-281160">
              <a:lnSpc>
                <a:spcPct val="80000"/>
              </a:lnSpc>
              <a:spcBef>
                <a:spcPts val="176"/>
              </a:spcBef>
              <a:spcAft>
                <a:spcPts val="176"/>
              </a:spcAft>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Verdana"/>
              </a:rPr>
              <a:t>Only payments made after the TPD date (physician’s certification date) are returned upon receipt of final discharge</a:t>
            </a:r>
            <a:endParaRPr b="0" lang="en-US" sz="2800" spc="-1" strike="noStrike">
              <a:solidFill>
                <a:srgbClr val="000000"/>
              </a:solidFill>
              <a:latin typeface="Verdana"/>
            </a:endParaRPr>
          </a:p>
        </p:txBody>
      </p:sp>
      <p:sp>
        <p:nvSpPr>
          <p:cNvPr id="156" name="PlaceHolder 2"/>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ory Changes - Perkins </a:t>
            </a:r>
            <a:br>
              <a:rPr sz="3600"/>
            </a:br>
            <a:r>
              <a:rPr b="1" lang="en-US" sz="3600" spc="-1" strike="noStrike">
                <a:solidFill>
                  <a:srgbClr val="cc5407"/>
                </a:solidFill>
                <a:latin typeface="Verdana"/>
              </a:rPr>
              <a:t>Loan Program</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69104379-25F2-4F85-A770-22F8E1988C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2057400"/>
            <a:ext cx="8834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br>
              <a:rPr sz="3600"/>
            </a:br>
            <a:br>
              <a:rPr sz="3600"/>
            </a:br>
            <a:r>
              <a:rPr b="1" lang="en-US" sz="3200" spc="-1" strike="noStrike">
                <a:solidFill>
                  <a:srgbClr val="cc5407"/>
                </a:solidFill>
                <a:latin typeface="Verdana"/>
              </a:rPr>
              <a:t>Gail McLarnon</a:t>
            </a:r>
            <a:br>
              <a:rPr sz="3200"/>
            </a:br>
            <a:r>
              <a:rPr b="0" lang="en-US" sz="3200" spc="-1" strike="noStrike">
                <a:solidFill>
                  <a:srgbClr val="cc5407"/>
                </a:solidFill>
                <a:latin typeface="Verdana"/>
              </a:rPr>
              <a:t>202-219-7048</a:t>
            </a:r>
            <a:br>
              <a:rPr sz="3200"/>
            </a:br>
            <a:r>
              <a:rPr b="0" lang="en-US" sz="3200" spc="-1" strike="noStrike" u="sng">
                <a:solidFill>
                  <a:srgbClr val="000099"/>
                </a:solidFill>
                <a:uFillTx/>
                <a:latin typeface="Verdana"/>
                <a:hlinkClick r:id="rId1"/>
              </a:rPr>
              <a:t>gail.mclarnon@ed.gov</a:t>
            </a:r>
            <a:br>
              <a:rPr sz="3200"/>
            </a:br>
            <a:br>
              <a:rPr sz="3200"/>
            </a:br>
            <a:r>
              <a:rPr b="1" lang="en-US" sz="3200" spc="-1" strike="noStrike">
                <a:solidFill>
                  <a:srgbClr val="cc5407"/>
                </a:solidFill>
                <a:latin typeface="Verdana"/>
              </a:rPr>
              <a:t>Nikki Harris</a:t>
            </a:r>
            <a:br>
              <a:rPr sz="3200"/>
            </a:br>
            <a:r>
              <a:rPr b="0" lang="en-US" sz="3200" spc="-1" strike="noStrike">
                <a:solidFill>
                  <a:srgbClr val="cc5407"/>
                </a:solidFill>
                <a:latin typeface="Verdana"/>
              </a:rPr>
              <a:t>202-219-7050</a:t>
            </a:r>
            <a:br>
              <a:rPr sz="3200"/>
            </a:br>
            <a:r>
              <a:rPr b="0" lang="en-US" sz="3200" spc="-1" strike="noStrike" u="sng">
                <a:solidFill>
                  <a:srgbClr val="000099"/>
                </a:solidFill>
                <a:uFillTx/>
                <a:latin typeface="Verdana"/>
                <a:hlinkClick r:id="rId2"/>
              </a:rPr>
              <a:t>nikki.harris@ed.gov</a:t>
            </a:r>
            <a:br>
              <a:rPr sz="3200"/>
            </a:br>
            <a:br>
              <a:rPr sz="3600"/>
            </a:br>
            <a:endParaRPr b="1" lang="en-US" sz="3200" spc="-1" strike="noStrike">
              <a:solidFill>
                <a:srgbClr val="cc5407"/>
              </a:solidFill>
              <a:latin typeface="Verdana"/>
            </a:endParaRPr>
          </a:p>
        </p:txBody>
      </p:sp>
      <p:sp>
        <p:nvSpPr>
          <p:cNvPr id="3" name="PlaceHolder 2"/>
          <p:cNvSpPr>
            <a:spLocks noGrp="1"/>
          </p:cNvSpPr>
          <p:nvPr>
            <p:ph type="sldNum" idx="1"/>
          </p:nvPr>
        </p:nvSpPr>
        <p:spPr/>
        <p:txBody>
          <a:bodyPr/>
          <a:p>
            <a:fld id="{997701E0-1D88-4373-8B0D-0C79878C02B2}"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5242-5944-4B2F-BEE4-1608AD42BA3D}"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
        <p:nvSpPr>
          <p:cNvPr id="6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Changes to FWS Programs</a:t>
            </a:r>
            <a:endParaRPr b="1" lang="en-US" sz="3600" spc="-1" strike="noStrike">
              <a:solidFill>
                <a:srgbClr val="cc5407"/>
              </a:solidFill>
              <a:latin typeface="Verdana"/>
            </a:endParaRPr>
          </a:p>
        </p:txBody>
      </p:sp>
      <p:sp>
        <p:nvSpPr>
          <p:cNvPr id="62" name="PlaceHolder 2"/>
          <p:cNvSpPr>
            <a:spLocks noGrp="1"/>
          </p:cNvSpPr>
          <p:nvPr>
            <p:ph/>
          </p:nvPr>
        </p:nvSpPr>
        <p:spPr>
          <a:xfrm>
            <a:off x="0" y="1523520"/>
            <a:ext cx="9144000" cy="441972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ree programs fall under title IV, Part C Federal Work-Study Program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Work-Study (FWS) Program</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4 CFR 675 Subpart A</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Location and Development Program</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4 CFR 675 Subpart B</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rk Colleges Program</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4 CFR 675 Subpart C</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582EE8B-6996-45FB-99BE-B35D1646FA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64" name="PlaceHolder 2"/>
          <p:cNvSpPr>
            <a:spLocks noGrp="1"/>
          </p:cNvSpPr>
          <p:nvPr>
            <p:ph/>
          </p:nvPr>
        </p:nvSpPr>
        <p:spPr>
          <a:xfrm>
            <a:off x="0" y="1905120"/>
            <a:ext cx="9144000" cy="396216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EA section 441 amend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ropriations authoriz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ergency preparedness and response has been added to the definition of “Community Service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A4AD30A-350E-4F05-934C-70C2CBA342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66" name="PlaceHolder 2"/>
          <p:cNvSpPr>
            <a:spLocks noGrp="1"/>
          </p:cNvSpPr>
          <p:nvPr>
            <p:ph/>
          </p:nvPr>
        </p:nvSpPr>
        <p:spPr>
          <a:xfrm>
            <a:off x="0" y="2057040"/>
            <a:ext cx="9144000" cy="33526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EA section 442 amended to increase allowance for books and supplies from $450 to $600 when calculating an institution’s average cost of attendance for purposes of the allocation formula</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6C50339-BEEF-4604-8787-7169D1CCB8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Changes to FWS Programs</a:t>
            </a:r>
            <a:endParaRPr b="1" lang="en-US" sz="4000" spc="-1" strike="noStrike">
              <a:solidFill>
                <a:srgbClr val="cc5407"/>
              </a:solidFill>
              <a:latin typeface="Verdana"/>
            </a:endParaRPr>
          </a:p>
        </p:txBody>
      </p:sp>
      <p:sp>
        <p:nvSpPr>
          <p:cNvPr id="68"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 section 443 amended to fund “</a:t>
            </a:r>
            <a:r>
              <a:rPr b="0" lang="en-US" sz="3200" spc="-1" strike="noStrike">
                <a:solidFill>
                  <a:srgbClr val="000000"/>
                </a:solidFill>
                <a:latin typeface="Verdana"/>
                <a:ea typeface="Courier New"/>
              </a:rPr>
              <a:t>Civic Education and Participation Activities” for students employed in projects tha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civics in school;</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ise awareness of government functions or resources; o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 civic participatio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Regulatory action required</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0547232-77B4-4890-971E-D1A98098C3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Harold.McCullough</cp:lastModifiedBy>
  <dcterms:modified xsi:type="dcterms:W3CDTF">2008-12-11T16:09:13Z</dcterms:modified>
  <cp:revision>238</cp:revision>
  <dc:subject/>
  <dc:title>PowerPoint Presentation</dc:title>
</cp:coreProperties>
</file>