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7195-BD63-4EB8-A012-F08DF225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F210-4896-4195-8F25-3BBE0EBEB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B9C1-5747-411B-8F9A-C66528580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39EF-3EB5-4004-B4F3-34DC7A518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C965-96B5-4B0F-81F9-BEB3A406B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AA9B-8147-48A2-9D9A-5975C214A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FBB8-A1F9-4949-91DF-98B01A578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206C-F9D2-4A7D-B25B-37AD918B4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FE7A-15AB-4022-8971-AF0878465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2ADE-05A4-4053-916F-BF70CE2C4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1E80-8A17-48B9-85F3-242F7A8AA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BE4B-E21A-405C-A36C-57CE02EA0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345E-8E3B-4DE2-B119-B061DDD71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0EF4-6A57-4D07-A419-A8ACDE4A7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409-E0BF-4CE5-810E-0E7B886E5F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afsademo.test.ed.gov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ginger.klock@ed.gov" TargetMode="External"/><Relationship Id="rId2" Type="http://schemas.openxmlformats.org/officeDocument/2006/relationships/hyperlink" Target="mailto:misty.parkinson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Session C-05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nds-on Se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ic Gre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n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/Verification Too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ter a student’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FAF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newal Application (pre-populat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of Verification Too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s electronic and pape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es verification toler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mit corr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What’s New in Entry/Corrections?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FSA questions were add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me questions were re-orde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sheets redesign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heet A elimina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heet B and C renamed and questions were incorporated in the appl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Correc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ly worksheet totals will “display” in corr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utton will let the FAA access each of the “worksheet” data ele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ecial Circumstances warning will alert FAA that parental data questions are blan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Verification Tool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ividual worksheet questions will displ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that were part of former Worksheet C will continue to be op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tored A Save 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partially completed and saved FAFSA/Renewal application can be retriev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can complete and submit it to C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Restore a Saved Application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ssword name changed to Transaction Passw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 confusion between new Logon Passw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be sha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SIR Reques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can request ISIRs from the ISIR Data 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SS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query crite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re have been no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</a:t>
            </a:r>
            <a:r>
              <a:rPr b="1" lang="en-US" sz="4000" spc="-1" strike="noStrike">
                <a:solidFill>
                  <a:srgbClr val="d16707"/>
                </a:solidFill>
                <a:latin typeface="Verdana"/>
              </a:rPr>
              <a:t>Func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IR Analysis T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alyze ISIR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e impact of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to Title IV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e and manage the return of Title IV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new- updated for CCRA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mo Site for FAA Access and FAFSA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 For FAAs to learn and to 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demo.test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Name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d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fs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ed in the 2009-2010 CPS Test System User Gu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5407"/>
                </a:solidFill>
                <a:latin typeface="Verdana"/>
              </a:rPr>
              <a:t>Questions????</a:t>
            </a:r>
            <a:endParaRPr b="1" lang="en-US" sz="6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2FD-0464-4104-AFD1-78F885FE6C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 for FAA Access to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PS On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re can I find FAA Access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FAA Ac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new in FAA Ac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and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85B1-5070-4C74-B3A6-09A383CE45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 Desk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1447920"/>
            <a:ext cx="71625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19-665-76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2-377-323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ginger.klock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ty Parki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2- 377- 374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misty.parkinso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ere can I find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rl to FAA Access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login process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in mid-2009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will provide User ID and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long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need to prov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identifying inform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ing SSN and P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77320" y="4419720"/>
            <a:ext cx="75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8A18-B452-405D-A417-8A20865135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 site which allows FAA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students’ SA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 FAFSA data and make cor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ISIRs from the ISIR Data M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tional too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2T4 on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Analysis T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AA Access H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1297080" y="1447920"/>
            <a:ext cx="654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3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15840" y="820800"/>
            <a:ext cx="7312320" cy="5214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Inqui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ew a Student Aid Record (SAR) information, includ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 in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R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are two ISIR trans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t a signature fla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New In Student Inquiry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cy Override on transaction pa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action say Dependency Overr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chool Code of school that submitted the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all new FAFSA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new ISIR fla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play of new NSLDS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pendency Override on FAA Ac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523880"/>
          <a:ext cx="8305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05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391520" y="3733920"/>
            <a:ext cx="1676160" cy="304560"/>
          </a:xfrm>
          <a:prstGeom prst="wedgeRectCallout">
            <a:avLst>
              <a:gd name="adj1" fmla="val -43518"/>
              <a:gd name="adj2" fmla="val 2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ill appea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21:31:36Z</dcterms:modified>
  <cp:revision>228</cp:revision>
  <dc:subject/>
  <dc:title>PowerPoint Presentation</dc:title>
</cp:coreProperties>
</file>