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1A2D-32CB-400C-A0EB-50706D110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5118-9427-4639-9C98-EDA512D15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2CE19-5E85-4F1B-A80D-973E90505C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8CB07-F78D-491D-8408-833F61F924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E7239-5FE1-423B-828C-503F28E401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5A16E-0084-4CB8-8F89-C4C7F0D4DF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CB869-03D8-4ABB-97B8-D82A52B6A8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31A14-E09A-493D-A6B4-B72622BBC9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B04C4-4A0B-476D-B627-83B80F3D51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0AA2F-2B82-40EE-9A62-11A9BC56DA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7B721-EFBF-406D-B5CC-DCA52EC219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78361-8488-42A1-9A72-468863A04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2B4DE-BB9A-4AEA-89EF-B98E2AC6A7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76473-6311-46FC-8C67-EC8EEE7553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1495-D3A4-4E3A-8EC3-FC719D617C1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fafsademo.test.ed.gov/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ginger.klock@ed.gov" TargetMode="External"/><Relationship Id="rId2" Type="http://schemas.openxmlformats.org/officeDocument/2006/relationships/hyperlink" Target="mailto:misty.parkinson@ed.gov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afsa.ed.gov/FOTWWebApp/faa/faa.jsp" TargetMode="Externa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5407"/>
                </a:solidFill>
                <a:latin typeface="Verdana"/>
              </a:rPr>
              <a:t>Session C-05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289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AA Access to CPS Onl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nds-on Ses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inger Klo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.S. Department of Edu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ic Grev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ng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pplication/Verification Tool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nter a student’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FAF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newal Application (pre-populated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rr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of Verification Too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vides electronic and pape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termines verification toler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bmit corr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5407"/>
                </a:solidFill>
                <a:latin typeface="Verdana"/>
              </a:rPr>
              <a:t>What’s New in Entry/Corrections?</a:t>
            </a:r>
            <a:endParaRPr b="1" lang="en-US" sz="38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AFSA questions were adde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ome questions were re-order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orksheets redesign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sheet A eliminat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sheet B and C renamed and questions were incorporated in the appli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What’s New in Corrections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nly worksheet totals will “display” in correc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 button will let the FAA access each of the “worksheet” data elem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pecial Circumstances warning will alert FAA that parental data questions are blan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What’s New in Verification Tool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dividual worksheet questions will displa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 that were part of former Worksheet C will continue to be option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stored A Save Applic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 partially completed and saved FAFSA/Renewal application can be retriev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AA can complete and submit it to C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What’s New in Restore a Saved Application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assword name changed to Transaction Passwor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liminate confusion between new Logon Passwor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be shar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ISIR Reques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AA can request ISIRs from the ISIR Data Mar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y SS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y query criter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re have been no chang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Other </a:t>
            </a:r>
            <a:r>
              <a:rPr b="1" lang="en-US" sz="4000" spc="-1" strike="noStrike">
                <a:solidFill>
                  <a:srgbClr val="d16707"/>
                </a:solidFill>
                <a:latin typeface="Verdana"/>
              </a:rPr>
              <a:t>Functio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SIR Analysis Too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alyze ISIR dat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termine impact of chang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turn to Title IV (R2T4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lculate and manage the return of Title IV fu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at’s new- updated for CCRA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emo Site for FAA Access and FAFSA on the Web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urpose: For FAAs to learn and to 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fafsademo.test.ed.gov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r Name:  </a:t>
            </a: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eddem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ssword:  </a:t>
            </a: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fafsate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cumented in the 2009-2010 CPS Test System User Gu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2437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5407"/>
                </a:solidFill>
                <a:latin typeface="Verdana"/>
              </a:rPr>
              <a:t>Questions????</a:t>
            </a:r>
            <a:endParaRPr b="1" lang="en-US" sz="66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2E5E-00BA-4B77-8AD2-B7D9B9A3E8E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genda for FAA Access to 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PS Onlin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re can I find FAA Access?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at is FAA Access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at’s new in FAA Access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 and comm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ands-on exercis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A9CC-1651-490D-A4BC-CBC58AFB5E9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Help Desk Inform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33520" y="1447920"/>
            <a:ext cx="716256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e appreciate your feedback and comments. CPS/SAIG Technical Support can be reached a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 1-800-330-59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ail: </a:t>
            </a:r>
            <a:r>
              <a:rPr b="1" lang="en-US" sz="2800" spc="-1" strike="noStrike">
                <a:solidFill>
                  <a:srgbClr val="cc5407"/>
                </a:solidFill>
                <a:latin typeface="Verdana"/>
              </a:rPr>
              <a:t>cpssaig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x: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319-665-76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inger Kloc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202-377-3239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ginger.klock@ed.gov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ty Parkins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202- 377- 3749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misty.parkinson@ed.gov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Where can I find FAA Access to CPS Online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320" y="17521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rl to FAA Access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fafsa.ed.gov/FOTWWebApp/faa/faa.js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w login process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in mid-2009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A will provide User ID and Passwor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o long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need to prov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sonal identifying inform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luding SSN and P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077320" y="4419720"/>
            <a:ext cx="752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22A7-29E0-401B-B4B1-B446FAE8734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What is FAA Access to CPS Online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b site which allows FAAs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 students’ SAR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ter FAFSA data and make cor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est ISIRs from the ISIR Data Ma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itional tool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2T4 on the Web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IR Analysis To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7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AA Access Home Pag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61" name="Rectangle 3" descr=""/>
          <p:cNvPicPr/>
          <p:nvPr/>
        </p:nvPicPr>
        <p:blipFill>
          <a:blip r:embed="rId1"/>
          <a:srcRect l="0" t="4801" r="2400" b="2400"/>
          <a:stretch/>
        </p:blipFill>
        <p:spPr>
          <a:xfrm>
            <a:off x="1297080" y="1447920"/>
            <a:ext cx="654984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Rectangle 3" descr=""/>
          <p:cNvPicPr/>
          <p:nvPr/>
        </p:nvPicPr>
        <p:blipFill>
          <a:blip r:embed="rId1"/>
          <a:srcRect l="0" t="4801" r="2400" b="2400"/>
          <a:stretch/>
        </p:blipFill>
        <p:spPr>
          <a:xfrm>
            <a:off x="915840" y="820800"/>
            <a:ext cx="7312320" cy="52149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 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tudent Inquir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iew a Student Aid Record (SAR) information, including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1143000" indent="-6858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FC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1143000" indent="-6858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SLDS inform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1143000" indent="-6858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AR comm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pare two ISIR transac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ubmit a signature fla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What’s New In Student Inquiry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pendency Override on transaction pa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143000" indent="-6858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action say Dependency Overrid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143000" indent="-6858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deral School Code of school that submitted the overr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play of all new FAFSA ques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play of new ISIR fla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play of new NSLDS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ependency Override on FAA Acces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80880" y="1523880"/>
          <a:ext cx="83059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3880"/>
                    <a:ext cx="83059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7391520" y="3733920"/>
            <a:ext cx="1676160" cy="304560"/>
          </a:xfrm>
          <a:prstGeom prst="wedgeRectCallout">
            <a:avLst>
              <a:gd name="adj1" fmla="val -43518"/>
              <a:gd name="adj2" fmla="val 2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Will appea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Amy Luycx</cp:lastModifiedBy>
  <dcterms:modified xsi:type="dcterms:W3CDTF">2008-09-09T21:31:36Z</dcterms:modified>
  <cp:revision>228</cp:revision>
  <dc:subject/>
  <dc:title>PowerPoint Presentation</dc:title>
</cp:coreProperties>
</file>