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9EAE1-9C4B-4F57-920C-6A46BA0B88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FF38F-E6A2-4B7F-A2B2-33B0F6338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t Recipient is required to certify annually while in-schoo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ssumption is if a new grant is received, then no need for certification. If no grant is received, a certification will be sent to the recipi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F82A3-D3C2-4970-AF9F-F7D1424DE3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 Grant recipients are required to certify within 120 days of completing or separating from the TEACH Grant eligible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F8C7F-68BE-4B3F-AF4D-922CB92CF5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uld like to include Documentation of Service screen shot if we have it before the confer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A83AC-40A3-4A15-9EDC-A373501D3B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a response to the certification letter is not received within 30 days, CSB servicing will send a follow up request to confirm their commitment and warn them that the grant will be converted to a loan if they do not resp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response to a follow-up request is not received within 30 calendar days, a final request for the TEACH recipient to confirm their employment as a teacher and warn them that the grant will be converted into a Direct Unsubsidized Loan (TEACH) if they do not resp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f the TEACH Grant recipient does not respond to the final warning within 30 calendar days, CSB Servicing will convert the TEACH Grant into a Direct Unsubsidized Loan (TEA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8BCEB-BC88-49E9-8A3E-AA8CBF02A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F1441-7D0C-455A-9138-4E879225F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Servicing will receive notification from CSB DMCS when a TEACH Grant POVR payment is received (requirement is in ques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ervicing will adjust the TEACH Grant balance by the amount of the TEACH Grant POVR as reported by CSB DM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FC6B5-53F2-43FC-905E-9931235544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it Counseling w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information about how to identify low-income schools and high need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 the recipient of the service obligations and opportunity to request suspension of the obligation period and conditions for dis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consequences of failing or refusing to complete the service obligation; describe the circumstances of failing or refusing to complete the service obli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erms and conditions of the TEACH Grant servic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E7B3C-A818-45FB-90C2-1D9626D1D1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A34EA-207B-4593-9EEC-D8689374DA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Circumstances (Ability to suspend the tracking of their teaching obligation perio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6C103-05EC-490A-9A14-7AF8D8607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and Medical Leave Act of 1993- Others incl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rth of a son or daugh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option or foster care placement of a son or daugh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ing for a spouse, son, daughter or parent that has a serious health con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serious health condition that makes the recipient unable to perform the functions of 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EDD80-37BD-4B87-83E6-AFFCA76C8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icing will extend the grant-to-loan ed date each time a Life Circumstance tracking suspension is appl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SB Servicing will track the total numbers of months for each type of Life Circums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ximum three-year limit for Life Circumstance tracking suspensions will be based on the combination of each type of obligation period with the exception of military suspension that will not have a set limi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FF927-236B-4C4C-B133-9D0DEF530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41B9B-01A8-48F9-9058-8000869A7B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B Servicing will process payments against Direct Loans first by reducing any outstanding fees; any outstanding interest and any remaining payment amount will be applied toward the principle balance of the lo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B will exclude TEACH Grants (while in grant status) accounts when establishing Electronic Debit Accounts (ED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ayment is received that is specifically directed to a TEACH Grant, CSB Servicing will suspend the payment to recycle and refund or apply the payment amount out of DLSS Unapplied file based upon the result of contact with remi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n a payment is received specifically directed to a TEACH Grant, CSB Servicing will send a notification to the grant recipient informing him/her that payments cannot be applied to TEACH Grants while in grant status….and ask him/her if she wants to convert the grant into a loa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2AC70-331A-48E1-ADCD-E52D82926D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1B015-2706-49D4-8431-F307E5560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s conversion…because he/she decided not to teach for any r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s to certify within 120 days of ceasing enrollment prior to completing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s to certify annually his/her intention to satisfy servic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s to begin or maintain qualified employment within the timeframe that would allow the individual to complete service obligations within the eight-year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EE79C-57E6-43CF-9949-D4C90854A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nt to Loan Convers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TEACH Grants will convert into a Direct Unsubsidized Loan (TEACH) when a recipient fails or refuses to carry out their service oblig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Grant TEACH recipient will be subject to repayment of his or her Direct Unsubsidized Loan (TEACH) including interest accruing from the date of the grant awar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28ADC-FCBA-4800-9A22-6490E3DD5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 will include what balances/totals will look like if student pays interest or if it is capitaliz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ments received before and after capitalization will continue to follow existing payment application rules (late charges/fees first, interest next, then principal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ervicing currently does not asses f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D0772-BEAF-44A0-9E03-43447BEB4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631EE-60B2-4320-9F57-895EBB278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 on the Direct Unsubsidized Loan (TEACH) is 6.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ment is intended to keep the student informed of the financial impacts if he/she does not fulfill or meet the requirements of the TEACH grant pr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Would like to include screen shot of quarterly stat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CAB6-6AE4-4C82-B74A-34845099A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E87E-D599-49B7-A166-1E245EF07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725A-4BBF-4BEE-AC7D-961B8DF87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30B7-E9F5-4559-87C0-1F3F2ECE97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A318-720E-47A1-AC44-BC4C5E836D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6347-2B61-455F-8AE3-D033B800D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D373-813E-4393-8B61-D20D609E6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8808-82E0-4A85-853A-A91F3C83B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2D1F-73CF-45E5-891D-00B3CB121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F4D9-5167-47DD-A513-B4363D873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3F27-CC11-4DC6-9F94-0E2DB7814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63A3-C2A8-46F8-B940-3ABD133D2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E9E1-2D9F-45F6-9F9B-2C35438B287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7" descr="K:\Communications\SchoolsConferences\Artwork\FSA_Logo_4C.jpg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Lisa.dicarlo@ed.gov" TargetMode="External"/><Relationship Id="rId2" Type="http://schemas.openxmlformats.org/officeDocument/2006/relationships/hyperlink" Target="mailto:Cynthia.Battle@ed.go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C-04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ACH Operational and Processing Inform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rt Two (Servic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a DiCar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ynthia Batt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6D8B-3915-4AE3-8EA5-C6CAA6F9FFE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ill the recipient have to certify annually while in-school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38080" y="2438280"/>
          <a:ext cx="7620120" cy="3200400"/>
        </p:xfrm>
        <a:graphic>
          <a:graphicData uri="http://schemas.openxmlformats.org/drawingml/2006/table">
            <a:tbl>
              <a:tblPr/>
              <a:tblGrid>
                <a:gridCol w="3810240"/>
                <a:gridCol w="380988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If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Then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new grant is recei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need for c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grant is recei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certification will be sent to the recip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8796-4557-4454-928E-F0A2806F426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Upon Gradu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cipient must self-certify annually, committing to continue participation within the TEACH Grant Progr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898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BCD5-3B26-4C81-BD98-05AB9033E5B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nce employed as a teache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ing will collect evidence of employment (Documentation of Service) each academic year of service that the TEACH Grant recipient fulfil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6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4724280" y="1676520"/>
            <a:ext cx="419112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A8B4-5DE2-476B-8AAB-0EECAE84850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ocumentation of Service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on completion of each academic year of service, recipient must submit documentation of the service in the form of a certification by chief administrative officer of the school using a form approved by the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certification form is not received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ACBD-0157-45CE-B752-5382E8E81DB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752480" y="4191120"/>
            <a:ext cx="5334120" cy="1981080"/>
          </a:xfrm>
          <a:prstGeom prst="rect">
            <a:avLst/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cc"/>
                </a:solidFill>
                <a:latin typeface="Verdana"/>
                <a:ea typeface="ＭＳ Ｐゴシック"/>
              </a:rPr>
              <a:t>Convert into 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cc"/>
                </a:solidFill>
                <a:latin typeface="Verdana"/>
                <a:ea typeface="ＭＳ Ｐゴシック"/>
              </a:rPr>
              <a:t>Direct Unsubsidized Loan (TEACH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3124080" y="762120"/>
            <a:ext cx="2743200" cy="990360"/>
          </a:xfrm>
          <a:prstGeom prst="rect">
            <a:avLst/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Verdana"/>
                <a:ea typeface="ＭＳ Ｐゴシック"/>
              </a:rPr>
              <a:t>Follow Up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9"/>
          <p:cNvSpPr/>
          <p:nvPr/>
        </p:nvSpPr>
        <p:spPr>
          <a:xfrm>
            <a:off x="3962520" y="1752480"/>
            <a:ext cx="990360" cy="533520"/>
          </a:xfrm>
          <a:prstGeom prst="downArrow">
            <a:avLst>
              <a:gd name="adj1" fmla="val 34444"/>
              <a:gd name="adj2" fmla="val 46403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2590920" y="2286000"/>
            <a:ext cx="3733560" cy="1371600"/>
          </a:xfrm>
          <a:prstGeom prst="rect">
            <a:avLst/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Verdana"/>
                <a:ea typeface="ＭＳ Ｐゴシック"/>
              </a:rPr>
              <a:t>Final Request and W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21"/>
          <p:cNvSpPr/>
          <p:nvPr/>
        </p:nvSpPr>
        <p:spPr>
          <a:xfrm>
            <a:off x="3962520" y="3657600"/>
            <a:ext cx="990360" cy="533520"/>
          </a:xfrm>
          <a:prstGeom prst="downArrow">
            <a:avLst>
              <a:gd name="adj1" fmla="val 34444"/>
              <a:gd name="adj2" fmla="val 46403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C6F6-ED2D-46D7-8350-DBECAA1789A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ack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ing will track academic year, subject, and school that a TEACH Grant recipient fulfills toward his/her obli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1"/>
          <a:stretch/>
        </p:blipFill>
        <p:spPr>
          <a:xfrm>
            <a:off x="5113440" y="1523880"/>
            <a:ext cx="3259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5C96-A416-4067-A1F2-1B9F638AB28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614920" y="1116000"/>
            <a:ext cx="1428840" cy="13161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3849840" y="457200"/>
            <a:ext cx="1512720" cy="13161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3008160" y="2185920"/>
            <a:ext cx="3111480" cy="27147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2000160" y="1033560"/>
            <a:ext cx="1513080" cy="1315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1074600" y="2762280"/>
            <a:ext cx="1513080" cy="13161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1832040" y="4572000"/>
            <a:ext cx="1512720" cy="13161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3849840" y="5313240"/>
            <a:ext cx="1512720" cy="13161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5783400" y="4489560"/>
            <a:ext cx="1512720" cy="131760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db924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6540480" y="2762280"/>
            <a:ext cx="1513080" cy="13161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4438800" y="4983120"/>
            <a:ext cx="419040" cy="247680"/>
          </a:xfrm>
          <a:prstGeom prst="downArrow">
            <a:avLst>
              <a:gd name="adj1" fmla="val 33852"/>
              <a:gd name="adj2" fmla="val 62731"/>
            </a:avLst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4"/>
          <p:cNvSpPr/>
          <p:nvPr/>
        </p:nvSpPr>
        <p:spPr>
          <a:xfrm rot="3096600">
            <a:off x="3095640" y="4487040"/>
            <a:ext cx="412920" cy="252360"/>
          </a:xfrm>
          <a:prstGeom prst="downArrow">
            <a:avLst>
              <a:gd name="adj1" fmla="val 33852"/>
              <a:gd name="adj2" fmla="val 62731"/>
            </a:avLst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5"/>
          <p:cNvSpPr/>
          <p:nvPr/>
        </p:nvSpPr>
        <p:spPr>
          <a:xfrm rot="10740600">
            <a:off x="4354560" y="1855800"/>
            <a:ext cx="419040" cy="247680"/>
          </a:xfrm>
          <a:prstGeom prst="downArrow">
            <a:avLst>
              <a:gd name="adj1" fmla="val 33852"/>
              <a:gd name="adj2" fmla="val 62731"/>
            </a:avLst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6"/>
          <p:cNvSpPr/>
          <p:nvPr/>
        </p:nvSpPr>
        <p:spPr>
          <a:xfrm rot="13485000">
            <a:off x="5614560" y="2349000"/>
            <a:ext cx="420840" cy="247680"/>
          </a:xfrm>
          <a:prstGeom prst="downArrow">
            <a:avLst>
              <a:gd name="adj1" fmla="val 33852"/>
              <a:gd name="adj2" fmla="val 62731"/>
            </a:avLst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7"/>
          <p:cNvSpPr/>
          <p:nvPr/>
        </p:nvSpPr>
        <p:spPr>
          <a:xfrm rot="16048800">
            <a:off x="6123600" y="3416760"/>
            <a:ext cx="412920" cy="252360"/>
          </a:xfrm>
          <a:prstGeom prst="downArrow">
            <a:avLst>
              <a:gd name="adj1" fmla="val 33852"/>
              <a:gd name="adj2" fmla="val 62731"/>
            </a:avLst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8"/>
          <p:cNvSpPr/>
          <p:nvPr/>
        </p:nvSpPr>
        <p:spPr>
          <a:xfrm rot="18996600">
            <a:off x="5698800" y="4406400"/>
            <a:ext cx="420480" cy="247680"/>
          </a:xfrm>
          <a:prstGeom prst="downArrow">
            <a:avLst>
              <a:gd name="adj1" fmla="val 33852"/>
              <a:gd name="adj2" fmla="val 62731"/>
            </a:avLst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19"/>
          <p:cNvSpPr/>
          <p:nvPr/>
        </p:nvSpPr>
        <p:spPr>
          <a:xfrm rot="8573400">
            <a:off x="3260520" y="2185560"/>
            <a:ext cx="420480" cy="246240"/>
          </a:xfrm>
          <a:prstGeom prst="downArrow">
            <a:avLst>
              <a:gd name="adj1" fmla="val 33852"/>
              <a:gd name="adj2" fmla="val 62731"/>
            </a:avLst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0"/>
          <p:cNvSpPr/>
          <p:nvPr/>
        </p:nvSpPr>
        <p:spPr>
          <a:xfrm rot="5958000">
            <a:off x="2592000" y="3335040"/>
            <a:ext cx="411120" cy="252360"/>
          </a:xfrm>
          <a:prstGeom prst="downArrow">
            <a:avLst>
              <a:gd name="adj1" fmla="val 33852"/>
              <a:gd name="adj2" fmla="val 62731"/>
            </a:avLst>
          </a:prstGeom>
          <a:gradFill rotWithShape="0">
            <a:gsLst>
              <a:gs pos="0">
                <a:srgbClr val="66ccff"/>
              </a:gs>
              <a:gs pos="100000">
                <a:srgbClr val="2f5e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3765600" y="785880"/>
            <a:ext cx="168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version to Lo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530680" y="1574640"/>
            <a:ext cx="16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6456240" y="3090960"/>
            <a:ext cx="18496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eparation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Track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5699160" y="4900680"/>
            <a:ext cx="16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3765600" y="5559480"/>
            <a:ext cx="176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cials (Program Overawar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1747800" y="4900680"/>
            <a:ext cx="168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it Couns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990720" y="3121200"/>
            <a:ext cx="168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intaining G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916280" y="1444680"/>
            <a:ext cx="17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version Trig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3260880" y="2692440"/>
            <a:ext cx="269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rvicing TEACH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EEE4-CB5B-462E-A02A-0B2A8864FE6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ing - NSL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35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5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E949-6FF4-4A2E-AFE8-4F3E9969C96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205740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ing – Credit Bureau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990720" y="1343160"/>
          <a:ext cx="7619760" cy="4657680"/>
        </p:xfrm>
        <a:graphic>
          <a:graphicData uri="http://schemas.openxmlformats.org/drawingml/2006/table">
            <a:tbl>
              <a:tblPr/>
              <a:tblGrid>
                <a:gridCol w="3581280"/>
                <a:gridCol w="40384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If recipient has a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Then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ACH Gra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is not reported to the credit  bureau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ted Direct Unsubsidized Loan (TEACH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will be reported to the credit bureau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B5AF-7A3F-404D-B54D-555FABE33E6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30"/>
          <p:cNvGrpSpPr/>
          <p:nvPr/>
        </p:nvGrpSpPr>
        <p:grpSpPr>
          <a:xfrm>
            <a:off x="990720" y="457200"/>
            <a:ext cx="7315200" cy="6172200"/>
            <a:chOff x="990720" y="457200"/>
            <a:chExt cx="7315200" cy="6172200"/>
          </a:xfrm>
        </p:grpSpPr>
        <p:sp>
          <p:nvSpPr>
            <p:cNvPr id="211" name="Oval 4"/>
            <p:cNvSpPr/>
            <p:nvPr/>
          </p:nvSpPr>
          <p:spPr>
            <a:xfrm>
              <a:off x="5614920" y="1116000"/>
              <a:ext cx="142884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Oval 5"/>
            <p:cNvSpPr/>
            <p:nvPr/>
          </p:nvSpPr>
          <p:spPr>
            <a:xfrm>
              <a:off x="3849840" y="4572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6"/>
            <p:cNvSpPr/>
            <p:nvPr/>
          </p:nvSpPr>
          <p:spPr>
            <a:xfrm>
              <a:off x="3008160" y="2185920"/>
              <a:ext cx="3111480" cy="27147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7"/>
            <p:cNvSpPr/>
            <p:nvPr/>
          </p:nvSpPr>
          <p:spPr>
            <a:xfrm>
              <a:off x="2000160" y="1033560"/>
              <a:ext cx="1513080" cy="13158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8"/>
            <p:cNvSpPr/>
            <p:nvPr/>
          </p:nvSpPr>
          <p:spPr>
            <a:xfrm>
              <a:off x="107460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1832040" y="45720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3849840" y="531324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db92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>
              <a:off x="5783400" y="4489560"/>
              <a:ext cx="1512720" cy="1317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12"/>
            <p:cNvSpPr/>
            <p:nvPr/>
          </p:nvSpPr>
          <p:spPr>
            <a:xfrm>
              <a:off x="654048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AutoShape 13"/>
            <p:cNvSpPr/>
            <p:nvPr/>
          </p:nvSpPr>
          <p:spPr>
            <a:xfrm>
              <a:off x="4438800" y="498312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AutoShape 14"/>
            <p:cNvSpPr/>
            <p:nvPr/>
          </p:nvSpPr>
          <p:spPr>
            <a:xfrm rot="3096600">
              <a:off x="3095640" y="448704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15"/>
            <p:cNvSpPr/>
            <p:nvPr/>
          </p:nvSpPr>
          <p:spPr>
            <a:xfrm rot="10740600">
              <a:off x="4354560" y="185580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16"/>
            <p:cNvSpPr/>
            <p:nvPr/>
          </p:nvSpPr>
          <p:spPr>
            <a:xfrm rot="13485000">
              <a:off x="5614560" y="2349000"/>
              <a:ext cx="4208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AutoShape 17"/>
            <p:cNvSpPr/>
            <p:nvPr/>
          </p:nvSpPr>
          <p:spPr>
            <a:xfrm rot="16048800">
              <a:off x="6123600" y="341676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AutoShape 18"/>
            <p:cNvSpPr/>
            <p:nvPr/>
          </p:nvSpPr>
          <p:spPr>
            <a:xfrm rot="18996600">
              <a:off x="5698800" y="4406400"/>
              <a:ext cx="42048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19"/>
            <p:cNvSpPr/>
            <p:nvPr/>
          </p:nvSpPr>
          <p:spPr>
            <a:xfrm rot="8573400">
              <a:off x="3260520" y="2185560"/>
              <a:ext cx="420480" cy="24624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20"/>
            <p:cNvSpPr/>
            <p:nvPr/>
          </p:nvSpPr>
          <p:spPr>
            <a:xfrm rot="5958000">
              <a:off x="2592000" y="3335040"/>
              <a:ext cx="4111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21"/>
            <p:cNvSpPr/>
            <p:nvPr/>
          </p:nvSpPr>
          <p:spPr>
            <a:xfrm>
              <a:off x="3765600" y="7858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o Lo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22"/>
            <p:cNvSpPr/>
            <p:nvPr/>
          </p:nvSpPr>
          <p:spPr>
            <a:xfrm>
              <a:off x="5530680" y="157464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n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23"/>
            <p:cNvSpPr/>
            <p:nvPr/>
          </p:nvSpPr>
          <p:spPr>
            <a:xfrm>
              <a:off x="6456240" y="3090960"/>
              <a:ext cx="184968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eparation/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Trac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4"/>
            <p:cNvSpPr/>
            <p:nvPr/>
          </p:nvSpPr>
          <p:spPr>
            <a:xfrm>
              <a:off x="5699160" y="490068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po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5"/>
            <p:cNvSpPr/>
            <p:nvPr/>
          </p:nvSpPr>
          <p:spPr>
            <a:xfrm>
              <a:off x="3765600" y="5559480"/>
              <a:ext cx="176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inancials (Program Overawar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747800" y="49006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Exit Couns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990720" y="312120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aintaining 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916280" y="1444680"/>
              <a:ext cx="176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rig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3260880" y="2692440"/>
              <a:ext cx="269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Servicing TEACH Gra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6D41-A367-41C3-BEB3-B62E897E847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51"/>
          <p:cNvSpPr/>
          <p:nvPr/>
        </p:nvSpPr>
        <p:spPr>
          <a:xfrm>
            <a:off x="7086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49"/>
          <p:cNvSpPr/>
          <p:nvPr/>
        </p:nvSpPr>
        <p:spPr>
          <a:xfrm>
            <a:off x="4572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EACH Servicing Calenda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Text Box 25"/>
          <p:cNvSpPr/>
          <p:nvPr/>
        </p:nvSpPr>
        <p:spPr>
          <a:xfrm>
            <a:off x="990720" y="40384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AutoShape 35"/>
          <p:cNvCxnSpPr>
            <a:endCxn id="57" idx="1"/>
          </p:cNvCxnSpPr>
          <p:nvPr/>
        </p:nvCxnSpPr>
        <p:spPr>
          <a:xfrm>
            <a:off x="609120" y="54097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8" name="Group 52"/>
          <p:cNvGrpSpPr/>
          <p:nvPr/>
        </p:nvGrpSpPr>
        <p:grpSpPr>
          <a:xfrm>
            <a:off x="457200" y="1295280"/>
            <a:ext cx="8153280" cy="4496040"/>
            <a:chOff x="457200" y="1295280"/>
            <a:chExt cx="8153280" cy="4496040"/>
          </a:xfrm>
        </p:grpSpPr>
        <p:sp>
          <p:nvSpPr>
            <p:cNvPr id="59" name="AutoShape 37"/>
            <p:cNvSpPr/>
            <p:nvPr/>
          </p:nvSpPr>
          <p:spPr>
            <a:xfrm>
              <a:off x="6172200" y="2133720"/>
              <a:ext cx="205740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e9be9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xit Couns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Web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14"/>
            <p:cNvSpPr/>
            <p:nvPr/>
          </p:nvSpPr>
          <p:spPr>
            <a:xfrm>
              <a:off x="457200" y="1295280"/>
              <a:ext cx="3382920" cy="762120"/>
            </a:xfrm>
            <a:custGeom>
              <a:avLst/>
              <a:gdLst>
                <a:gd name="textAreaLeft" fmla="*/ 0 w 3382920"/>
                <a:gd name="textAreaRight" fmla="*/ 3383280 w 3382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AutoShape 15"/>
            <p:cNvSpPr/>
            <p:nvPr/>
          </p:nvSpPr>
          <p:spPr>
            <a:xfrm>
              <a:off x="5227560" y="1295280"/>
              <a:ext cx="3382920" cy="762120"/>
            </a:xfrm>
            <a:custGeom>
              <a:avLst/>
              <a:gdLst>
                <a:gd name="textAreaLeft" fmla="*/ 0 w 3382920"/>
                <a:gd name="textAreaRight" fmla="*/ 3383280 w 3382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3ac7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utoShape 16"/>
            <p:cNvSpPr/>
            <p:nvPr/>
          </p:nvSpPr>
          <p:spPr>
            <a:xfrm>
              <a:off x="2973240" y="1295280"/>
              <a:ext cx="3295800" cy="762120"/>
            </a:xfrm>
            <a:custGeom>
              <a:avLst/>
              <a:gdLst>
                <a:gd name="textAreaLeft" fmla="*/ 0 w 3295800"/>
                <a:gd name="textAreaRight" fmla="*/ 3296160 w 32958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e3ac7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609480" y="1447920"/>
              <a:ext cx="266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Implemen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733920" y="1447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Winter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200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6019920" y="144792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Spring 200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23"/>
            <p:cNvSpPr/>
            <p:nvPr/>
          </p:nvSpPr>
          <p:spPr>
            <a:xfrm>
              <a:off x="838080" y="2133720"/>
              <a:ext cx="190512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otice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isburs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26"/>
            <p:cNvSpPr/>
            <p:nvPr/>
          </p:nvSpPr>
          <p:spPr>
            <a:xfrm>
              <a:off x="838080" y="3124080"/>
              <a:ext cx="1905120" cy="76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por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28"/>
            <p:cNvSpPr/>
            <p:nvPr/>
          </p:nvSpPr>
          <p:spPr>
            <a:xfrm>
              <a:off x="838080" y="4114800"/>
              <a:ext cx="1905120" cy="76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oo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AutoShape 29"/>
            <p:cNvSpPr/>
            <p:nvPr/>
          </p:nvSpPr>
          <p:spPr>
            <a:xfrm>
              <a:off x="838080" y="5029200"/>
              <a:ext cx="1905120" cy="76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Quarter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tat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30"/>
            <p:cNvSpPr/>
            <p:nvPr/>
          </p:nvSpPr>
          <p:spPr>
            <a:xfrm>
              <a:off x="3124080" y="2133720"/>
              <a:ext cx="289584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e9be9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verting Teach Gr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to Direct Unsubsidiz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oan (TEAC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AutoShape 31"/>
            <p:cNvCxnSpPr/>
            <p:nvPr/>
          </p:nvCxnSpPr>
          <p:spPr>
            <a:xfrm>
              <a:off x="609120" y="2057040"/>
              <a:ext cx="1080" cy="3353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" name="AutoShape 32"/>
            <p:cNvCxnSpPr>
              <a:endCxn id="66" idx="1"/>
            </p:cNvCxnSpPr>
            <p:nvPr/>
          </p:nvCxnSpPr>
          <p:spPr>
            <a:xfrm>
              <a:off x="609120" y="251424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" name="AutoShape 33"/>
            <p:cNvCxnSpPr>
              <a:endCxn id="67" idx="1"/>
            </p:cNvCxnSpPr>
            <p:nvPr/>
          </p:nvCxnSpPr>
          <p:spPr>
            <a:xfrm>
              <a:off x="609120" y="350496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" name="AutoShape 34"/>
            <p:cNvCxnSpPr>
              <a:endCxn id="68" idx="1"/>
            </p:cNvCxnSpPr>
            <p:nvPr/>
          </p:nvCxnSpPr>
          <p:spPr>
            <a:xfrm>
              <a:off x="609120" y="449532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AutoShape 40"/>
            <p:cNvSpPr/>
            <p:nvPr/>
          </p:nvSpPr>
          <p:spPr>
            <a:xfrm>
              <a:off x="3124080" y="3124080"/>
              <a:ext cx="289584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e9be9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ischarging TEA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rant Service oblig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utoShape 41"/>
            <p:cNvSpPr/>
            <p:nvPr/>
          </p:nvSpPr>
          <p:spPr>
            <a:xfrm>
              <a:off x="3200400" y="4191120"/>
              <a:ext cx="274320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e9be9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gram Overawa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" name="AutoShape 42"/>
            <p:cNvCxnSpPr>
              <a:stCxn id="75" idx="0"/>
            </p:cNvCxnSpPr>
            <p:nvPr/>
          </p:nvCxnSpPr>
          <p:spPr>
            <a:xfrm flipV="1">
              <a:off x="4571640" y="388548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AutoShape 43"/>
            <p:cNvCxnSpPr>
              <a:stCxn id="69" idx="2"/>
              <a:endCxn id="74" idx="0"/>
            </p:cNvCxnSpPr>
            <p:nvPr/>
          </p:nvCxnSpPr>
          <p:spPr>
            <a:xfrm>
              <a:off x="4571640" y="29714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32BA-8A27-41A1-8872-E7692F5F64A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ancia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 Overaward (POVR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s will follow the same process in place for Pell Grant Overaw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SB DMCS will accept and store with unique identifiers for TEACH Grant POV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D557-06FF-4B67-9647-DCD7CB374E1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ancia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ing will receive notification from CSB DMCS when a TEACH Grant POVR is received along with the amount of the overpay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pdated reporting of the TEACH Grant amount will be provided to NSL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43FE-7559-499F-8608-20086029A69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30"/>
          <p:cNvGrpSpPr/>
          <p:nvPr/>
        </p:nvGrpSpPr>
        <p:grpSpPr>
          <a:xfrm>
            <a:off x="990720" y="457200"/>
            <a:ext cx="7315200" cy="6172200"/>
            <a:chOff x="990720" y="457200"/>
            <a:chExt cx="7315200" cy="6172200"/>
          </a:xfrm>
        </p:grpSpPr>
        <p:sp>
          <p:nvSpPr>
            <p:cNvPr id="245" name="Oval 4"/>
            <p:cNvSpPr/>
            <p:nvPr/>
          </p:nvSpPr>
          <p:spPr>
            <a:xfrm>
              <a:off x="5614920" y="1116000"/>
              <a:ext cx="142884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5"/>
            <p:cNvSpPr/>
            <p:nvPr/>
          </p:nvSpPr>
          <p:spPr>
            <a:xfrm>
              <a:off x="3849840" y="4572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Oval 6"/>
            <p:cNvSpPr/>
            <p:nvPr/>
          </p:nvSpPr>
          <p:spPr>
            <a:xfrm>
              <a:off x="3008160" y="2185920"/>
              <a:ext cx="3111480" cy="27147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Oval 7"/>
            <p:cNvSpPr/>
            <p:nvPr/>
          </p:nvSpPr>
          <p:spPr>
            <a:xfrm>
              <a:off x="2000160" y="1033560"/>
              <a:ext cx="1513080" cy="13158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Oval 8"/>
            <p:cNvSpPr/>
            <p:nvPr/>
          </p:nvSpPr>
          <p:spPr>
            <a:xfrm>
              <a:off x="107460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9"/>
            <p:cNvSpPr/>
            <p:nvPr/>
          </p:nvSpPr>
          <p:spPr>
            <a:xfrm>
              <a:off x="1832040" y="45720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db92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Oval 10"/>
            <p:cNvSpPr/>
            <p:nvPr/>
          </p:nvSpPr>
          <p:spPr>
            <a:xfrm>
              <a:off x="3849840" y="531324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11"/>
            <p:cNvSpPr/>
            <p:nvPr/>
          </p:nvSpPr>
          <p:spPr>
            <a:xfrm>
              <a:off x="5783400" y="4489560"/>
              <a:ext cx="1512720" cy="1317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Oval 12"/>
            <p:cNvSpPr/>
            <p:nvPr/>
          </p:nvSpPr>
          <p:spPr>
            <a:xfrm>
              <a:off x="654048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13"/>
            <p:cNvSpPr/>
            <p:nvPr/>
          </p:nvSpPr>
          <p:spPr>
            <a:xfrm>
              <a:off x="4438800" y="498312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AutoShape 14"/>
            <p:cNvSpPr/>
            <p:nvPr/>
          </p:nvSpPr>
          <p:spPr>
            <a:xfrm rot="3096600">
              <a:off x="3095640" y="448704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AutoShape 15"/>
            <p:cNvSpPr/>
            <p:nvPr/>
          </p:nvSpPr>
          <p:spPr>
            <a:xfrm rot="10740600">
              <a:off x="4354560" y="185580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AutoShape 16"/>
            <p:cNvSpPr/>
            <p:nvPr/>
          </p:nvSpPr>
          <p:spPr>
            <a:xfrm rot="13485000">
              <a:off x="5614560" y="2349000"/>
              <a:ext cx="4208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17"/>
            <p:cNvSpPr/>
            <p:nvPr/>
          </p:nvSpPr>
          <p:spPr>
            <a:xfrm rot="16048800">
              <a:off x="6123600" y="341676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18"/>
            <p:cNvSpPr/>
            <p:nvPr/>
          </p:nvSpPr>
          <p:spPr>
            <a:xfrm rot="18996600">
              <a:off x="5698800" y="4406400"/>
              <a:ext cx="42048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AutoShape 19"/>
            <p:cNvSpPr/>
            <p:nvPr/>
          </p:nvSpPr>
          <p:spPr>
            <a:xfrm rot="8573400">
              <a:off x="3260520" y="2185560"/>
              <a:ext cx="420480" cy="24624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20"/>
            <p:cNvSpPr/>
            <p:nvPr/>
          </p:nvSpPr>
          <p:spPr>
            <a:xfrm rot="5958000">
              <a:off x="2592000" y="3335040"/>
              <a:ext cx="4111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21"/>
            <p:cNvSpPr/>
            <p:nvPr/>
          </p:nvSpPr>
          <p:spPr>
            <a:xfrm>
              <a:off x="3765600" y="7858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o Lo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22"/>
            <p:cNvSpPr/>
            <p:nvPr/>
          </p:nvSpPr>
          <p:spPr>
            <a:xfrm>
              <a:off x="5530680" y="157464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n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23"/>
            <p:cNvSpPr/>
            <p:nvPr/>
          </p:nvSpPr>
          <p:spPr>
            <a:xfrm>
              <a:off x="6456240" y="3090960"/>
              <a:ext cx="184968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eparation/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Trac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4"/>
            <p:cNvSpPr/>
            <p:nvPr/>
          </p:nvSpPr>
          <p:spPr>
            <a:xfrm>
              <a:off x="5699160" y="490068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po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5"/>
            <p:cNvSpPr/>
            <p:nvPr/>
          </p:nvSpPr>
          <p:spPr>
            <a:xfrm>
              <a:off x="3765600" y="5559480"/>
              <a:ext cx="176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inancials (Program Overawar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47800" y="49006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Exit Couns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990720" y="312120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aintaining 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8"/>
            <p:cNvSpPr/>
            <p:nvPr/>
          </p:nvSpPr>
          <p:spPr>
            <a:xfrm>
              <a:off x="1916280" y="1444680"/>
              <a:ext cx="176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rig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9"/>
            <p:cNvSpPr/>
            <p:nvPr/>
          </p:nvSpPr>
          <p:spPr>
            <a:xfrm>
              <a:off x="3260880" y="2692440"/>
              <a:ext cx="269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Servicing TEACH Gra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8A6B-95B7-4EC1-9AF2-129C9943C64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xit Counsel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ring 2009 completion (onli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 include information regarding the terms and conditions of the TEACH Grant service agre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nseling must occur within 30 days of s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rcRect l="2660" t="-2650" r="5097" b="0"/>
          <a:stretch/>
        </p:blipFill>
        <p:spPr>
          <a:xfrm>
            <a:off x="5257800" y="1143000"/>
            <a:ext cx="3139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B8CD-0F9A-40AF-99EE-BF21BACD27C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xit Counsel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 describe the circumstances under which a TEACH Grant can be converted into a Direct Unsubsidized Loan (TEAC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it cannot be converted back into a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sequences of loan defau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ayment op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the conditions for which deferments and forbearances can be gran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DB00-48C5-471A-B97B-E21F7A9EBD1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30"/>
          <p:cNvGrpSpPr/>
          <p:nvPr/>
        </p:nvGrpSpPr>
        <p:grpSpPr>
          <a:xfrm>
            <a:off x="990720" y="457200"/>
            <a:ext cx="7315200" cy="6172200"/>
            <a:chOff x="990720" y="457200"/>
            <a:chExt cx="7315200" cy="6172200"/>
          </a:xfrm>
        </p:grpSpPr>
        <p:sp>
          <p:nvSpPr>
            <p:cNvPr id="280" name="Oval 4"/>
            <p:cNvSpPr/>
            <p:nvPr/>
          </p:nvSpPr>
          <p:spPr>
            <a:xfrm>
              <a:off x="5614920" y="1116000"/>
              <a:ext cx="142884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5"/>
            <p:cNvSpPr/>
            <p:nvPr/>
          </p:nvSpPr>
          <p:spPr>
            <a:xfrm>
              <a:off x="3849840" y="4572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Oval 6"/>
            <p:cNvSpPr/>
            <p:nvPr/>
          </p:nvSpPr>
          <p:spPr>
            <a:xfrm>
              <a:off x="3008160" y="2185920"/>
              <a:ext cx="3111480" cy="27147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7"/>
            <p:cNvSpPr/>
            <p:nvPr/>
          </p:nvSpPr>
          <p:spPr>
            <a:xfrm>
              <a:off x="2000160" y="1033560"/>
              <a:ext cx="1513080" cy="13158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Oval 8"/>
            <p:cNvSpPr/>
            <p:nvPr/>
          </p:nvSpPr>
          <p:spPr>
            <a:xfrm>
              <a:off x="107460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d6833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Oval 9"/>
            <p:cNvSpPr/>
            <p:nvPr/>
          </p:nvSpPr>
          <p:spPr>
            <a:xfrm>
              <a:off x="1832040" y="45720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Oval 10"/>
            <p:cNvSpPr/>
            <p:nvPr/>
          </p:nvSpPr>
          <p:spPr>
            <a:xfrm>
              <a:off x="3849840" y="531324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1"/>
            <p:cNvSpPr/>
            <p:nvPr/>
          </p:nvSpPr>
          <p:spPr>
            <a:xfrm>
              <a:off x="5783400" y="4489560"/>
              <a:ext cx="1512720" cy="1317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Oval 12"/>
            <p:cNvSpPr/>
            <p:nvPr/>
          </p:nvSpPr>
          <p:spPr>
            <a:xfrm>
              <a:off x="654048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AutoShape 13"/>
            <p:cNvSpPr/>
            <p:nvPr/>
          </p:nvSpPr>
          <p:spPr>
            <a:xfrm>
              <a:off x="4438800" y="498312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AutoShape 14"/>
            <p:cNvSpPr/>
            <p:nvPr/>
          </p:nvSpPr>
          <p:spPr>
            <a:xfrm rot="3096600">
              <a:off x="3095640" y="448704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AutoShape 15"/>
            <p:cNvSpPr/>
            <p:nvPr/>
          </p:nvSpPr>
          <p:spPr>
            <a:xfrm rot="10740600">
              <a:off x="4354560" y="185580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AutoShape 16"/>
            <p:cNvSpPr/>
            <p:nvPr/>
          </p:nvSpPr>
          <p:spPr>
            <a:xfrm rot="13485000">
              <a:off x="5614560" y="2349000"/>
              <a:ext cx="4208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AutoShape 17"/>
            <p:cNvSpPr/>
            <p:nvPr/>
          </p:nvSpPr>
          <p:spPr>
            <a:xfrm rot="16048800">
              <a:off x="6123600" y="341676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18"/>
            <p:cNvSpPr/>
            <p:nvPr/>
          </p:nvSpPr>
          <p:spPr>
            <a:xfrm rot="18996600">
              <a:off x="5698800" y="4406400"/>
              <a:ext cx="42048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AutoShape 19"/>
            <p:cNvSpPr/>
            <p:nvPr/>
          </p:nvSpPr>
          <p:spPr>
            <a:xfrm rot="8573400">
              <a:off x="3260520" y="2185560"/>
              <a:ext cx="420480" cy="24624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AutoShape 20"/>
            <p:cNvSpPr/>
            <p:nvPr/>
          </p:nvSpPr>
          <p:spPr>
            <a:xfrm rot="5958000">
              <a:off x="2592000" y="3335040"/>
              <a:ext cx="4111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3765600" y="7858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o Lo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5530680" y="157464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n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6456240" y="3090960"/>
              <a:ext cx="184968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eparation/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Trac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24"/>
            <p:cNvSpPr/>
            <p:nvPr/>
          </p:nvSpPr>
          <p:spPr>
            <a:xfrm>
              <a:off x="5699160" y="490068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po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25"/>
            <p:cNvSpPr/>
            <p:nvPr/>
          </p:nvSpPr>
          <p:spPr>
            <a:xfrm>
              <a:off x="3765600" y="5559480"/>
              <a:ext cx="176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inancials (Program Overawar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26"/>
            <p:cNvSpPr/>
            <p:nvPr/>
          </p:nvSpPr>
          <p:spPr>
            <a:xfrm>
              <a:off x="1747800" y="49006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Exit Couns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27"/>
            <p:cNvSpPr/>
            <p:nvPr/>
          </p:nvSpPr>
          <p:spPr>
            <a:xfrm>
              <a:off x="990720" y="312120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aintaining 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1916280" y="1444680"/>
              <a:ext cx="176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rig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29"/>
            <p:cNvSpPr/>
            <p:nvPr/>
          </p:nvSpPr>
          <p:spPr>
            <a:xfrm>
              <a:off x="3260880" y="2692440"/>
              <a:ext cx="269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Servicing TEACH Gra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BB41-15F2-4FEA-8E4A-E3C56476443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aintaining Gra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fe circumstanc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eting service oblig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yments while in grant stat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D9E0-3516-408A-BE65-433B351CCA5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ife Circumstan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rollment in another TEACH Grant-eligible program (example: Graduate progra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l or order to active duty status for more than 30 days in connection with a war, military operation, or national emerge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CAAF-6C27-43AC-810F-B695CBEF10A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ife Circumstan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4647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8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rth of a son or daugh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8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erious health condition that makes the recipient unable to perform the functions of the pos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4" descr="C:\Program Files\Common Files\Microsoft Shared\Clipart\cagcat50\PE02097_.wmf"/>
          <p:cNvPicPr/>
          <p:nvPr/>
        </p:nvPicPr>
        <p:blipFill>
          <a:blip r:embed="rId1"/>
          <a:stretch/>
        </p:blipFill>
        <p:spPr>
          <a:xfrm>
            <a:off x="4876920" y="2664000"/>
            <a:ext cx="4190760" cy="33559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3"/>
          <p:cNvSpPr/>
          <p:nvPr/>
        </p:nvSpPr>
        <p:spPr>
          <a:xfrm>
            <a:off x="304920" y="1339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of the following conditions covered by the Family and Medical Leave Act of 19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0B4B-2485-483C-AACB-69DA1637D76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ife Circumstan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cking of the obligation period will be granted in one-year increments, but cannot exceed three years or in the case of military suspension, will end upon completion of the military servi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190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0E89-2920-4B8F-B0D2-DB6CBBC0C8C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75"/>
          <p:cNvGrpSpPr/>
          <p:nvPr/>
        </p:nvGrpSpPr>
        <p:grpSpPr>
          <a:xfrm>
            <a:off x="990720" y="457200"/>
            <a:ext cx="7315200" cy="6172200"/>
            <a:chOff x="990720" y="457200"/>
            <a:chExt cx="7315200" cy="6172200"/>
          </a:xfrm>
        </p:grpSpPr>
        <p:sp>
          <p:nvSpPr>
            <p:cNvPr id="80" name="Oval 29"/>
            <p:cNvSpPr/>
            <p:nvPr/>
          </p:nvSpPr>
          <p:spPr>
            <a:xfrm>
              <a:off x="5614920" y="1116000"/>
              <a:ext cx="1428840" cy="131616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e3ac74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31"/>
            <p:cNvSpPr/>
            <p:nvPr/>
          </p:nvSpPr>
          <p:spPr>
            <a:xfrm>
              <a:off x="3849840" y="4572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32"/>
            <p:cNvSpPr/>
            <p:nvPr/>
          </p:nvSpPr>
          <p:spPr>
            <a:xfrm>
              <a:off x="3008160" y="2185920"/>
              <a:ext cx="3111480" cy="27147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37"/>
            <p:cNvSpPr/>
            <p:nvPr/>
          </p:nvSpPr>
          <p:spPr>
            <a:xfrm>
              <a:off x="2000160" y="1033560"/>
              <a:ext cx="1513080" cy="13158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38"/>
            <p:cNvSpPr/>
            <p:nvPr/>
          </p:nvSpPr>
          <p:spPr>
            <a:xfrm>
              <a:off x="107460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39"/>
            <p:cNvSpPr/>
            <p:nvPr/>
          </p:nvSpPr>
          <p:spPr>
            <a:xfrm>
              <a:off x="1832040" y="45720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40"/>
            <p:cNvSpPr/>
            <p:nvPr/>
          </p:nvSpPr>
          <p:spPr>
            <a:xfrm>
              <a:off x="3849840" y="531324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41"/>
            <p:cNvSpPr/>
            <p:nvPr/>
          </p:nvSpPr>
          <p:spPr>
            <a:xfrm>
              <a:off x="5783400" y="4489560"/>
              <a:ext cx="1512720" cy="1317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42"/>
            <p:cNvSpPr/>
            <p:nvPr/>
          </p:nvSpPr>
          <p:spPr>
            <a:xfrm>
              <a:off x="654048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44"/>
            <p:cNvSpPr/>
            <p:nvPr/>
          </p:nvSpPr>
          <p:spPr>
            <a:xfrm>
              <a:off x="4438800" y="498312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utoShape 48"/>
            <p:cNvSpPr/>
            <p:nvPr/>
          </p:nvSpPr>
          <p:spPr>
            <a:xfrm rot="3096600">
              <a:off x="3095640" y="448704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50"/>
            <p:cNvSpPr/>
            <p:nvPr/>
          </p:nvSpPr>
          <p:spPr>
            <a:xfrm rot="10740600">
              <a:off x="4354560" y="185580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AutoShape 51"/>
            <p:cNvSpPr/>
            <p:nvPr/>
          </p:nvSpPr>
          <p:spPr>
            <a:xfrm rot="13485000">
              <a:off x="5614560" y="2349000"/>
              <a:ext cx="4208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AutoShape 52"/>
            <p:cNvSpPr/>
            <p:nvPr/>
          </p:nvSpPr>
          <p:spPr>
            <a:xfrm rot="16048800">
              <a:off x="6123600" y="341676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53"/>
            <p:cNvSpPr/>
            <p:nvPr/>
          </p:nvSpPr>
          <p:spPr>
            <a:xfrm rot="18996600">
              <a:off x="5698800" y="4406400"/>
              <a:ext cx="42048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utoShape 54"/>
            <p:cNvSpPr/>
            <p:nvPr/>
          </p:nvSpPr>
          <p:spPr>
            <a:xfrm rot="8573400">
              <a:off x="3260520" y="2185560"/>
              <a:ext cx="420480" cy="24624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utoShape 55"/>
            <p:cNvSpPr/>
            <p:nvPr/>
          </p:nvSpPr>
          <p:spPr>
            <a:xfrm rot="5958000">
              <a:off x="2592000" y="3335040"/>
              <a:ext cx="4111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59"/>
            <p:cNvSpPr/>
            <p:nvPr/>
          </p:nvSpPr>
          <p:spPr>
            <a:xfrm>
              <a:off x="3765600" y="7858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o Lo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60"/>
            <p:cNvSpPr/>
            <p:nvPr/>
          </p:nvSpPr>
          <p:spPr>
            <a:xfrm>
              <a:off x="5530680" y="157464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n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62"/>
            <p:cNvSpPr/>
            <p:nvPr/>
          </p:nvSpPr>
          <p:spPr>
            <a:xfrm>
              <a:off x="6456240" y="3090960"/>
              <a:ext cx="184968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eparation/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Trac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63"/>
            <p:cNvSpPr/>
            <p:nvPr/>
          </p:nvSpPr>
          <p:spPr>
            <a:xfrm>
              <a:off x="5699160" y="490068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po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64"/>
            <p:cNvSpPr/>
            <p:nvPr/>
          </p:nvSpPr>
          <p:spPr>
            <a:xfrm>
              <a:off x="3765600" y="5559480"/>
              <a:ext cx="176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inancials (Program Overawar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65"/>
            <p:cNvSpPr/>
            <p:nvPr/>
          </p:nvSpPr>
          <p:spPr>
            <a:xfrm>
              <a:off x="1747800" y="49006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Exit Couns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66"/>
            <p:cNvSpPr/>
            <p:nvPr/>
          </p:nvSpPr>
          <p:spPr>
            <a:xfrm>
              <a:off x="990720" y="312120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aintaining 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67"/>
            <p:cNvSpPr/>
            <p:nvPr/>
          </p:nvSpPr>
          <p:spPr>
            <a:xfrm>
              <a:off x="1916280" y="1444680"/>
              <a:ext cx="176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rig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8"/>
            <p:cNvSpPr/>
            <p:nvPr/>
          </p:nvSpPr>
          <p:spPr>
            <a:xfrm>
              <a:off x="3260880" y="2692440"/>
              <a:ext cx="269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Servicing TEACH Gra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2CE0-4DAD-42BC-8D35-DD25F0D3D68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ife Circumstan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ipient must apply to Life Circumstance tracking suspension within six months of completing or ceasing the TEACH Grant-eligible program or if they have started teaching, within six months of the date that they have stopped teac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ing will report the application of life circumstance tracking suspensions to NSLD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E61E-AA77-45CE-A859-1C49619B032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eeting Service Oblig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nt recipient must serve as a full-time teacher for a total of 4 academic years within 8 years of completing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nt recipient must teach in a federally designated low-income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190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68DB-8BCC-43A0-9832-A68CC047472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signated teaching fiel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62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ant recipient will teach in one of the following field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62"/>
              </a:spcBef>
              <a:spcAft>
                <a:spcPts val="6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62"/>
              </a:spcBef>
              <a:spcAft>
                <a:spcPts val="6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i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62"/>
              </a:spcBef>
              <a:spcAft>
                <a:spcPts val="6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foreign langu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62"/>
              </a:spcBef>
              <a:spcAft>
                <a:spcPts val="6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lingual edu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62"/>
              </a:spcBef>
              <a:spcAft>
                <a:spcPts val="6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ecial edu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62"/>
              </a:spcBef>
              <a:spcAft>
                <a:spcPts val="6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ding specia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62"/>
              </a:spcBef>
              <a:spcAft>
                <a:spcPts val="6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other field documented as high ne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C32E-D106-458D-A91A-B9AA8AB7035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ayments while in Grant Statu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ing will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pply payments for TEACH Grants while in grant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payment is received specifically directed to a TEACH Grant, CSB Servicing wil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apply the payment to any other loans that the recipient might h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end a notification to the grant recipient informing him/her that payments cannot be applied to TEACH Grants while in grant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E0DD-2992-4D2F-A39C-016FB1E9DDF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ayments while in grant statu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f grant recipient makes payments within 120 days of the disbursement of a TEACH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the payment will be processed as a cash cancell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COD will be notified of the adjustment and increase their eligibility by the same amou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2" descr="D:\Documents and Settings\tuan.huynh\Local Settings\Temporary Internet Files\Content.IE5\3KFE7NYJ\MCj04247840000[1].wmf"/>
          <p:cNvPicPr/>
          <p:nvPr/>
        </p:nvPicPr>
        <p:blipFill>
          <a:blip r:embed="rId1"/>
          <a:stretch/>
        </p:blipFill>
        <p:spPr>
          <a:xfrm>
            <a:off x="6172200" y="4832280"/>
            <a:ext cx="2057400" cy="1892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B1B5-07C1-4A68-8640-26C17C5C5C9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30"/>
          <p:cNvGrpSpPr/>
          <p:nvPr/>
        </p:nvGrpSpPr>
        <p:grpSpPr>
          <a:xfrm>
            <a:off x="990720" y="457200"/>
            <a:ext cx="7315200" cy="6172200"/>
            <a:chOff x="990720" y="457200"/>
            <a:chExt cx="7315200" cy="6172200"/>
          </a:xfrm>
        </p:grpSpPr>
        <p:sp>
          <p:nvSpPr>
            <p:cNvPr id="341" name="Oval 4"/>
            <p:cNvSpPr/>
            <p:nvPr/>
          </p:nvSpPr>
          <p:spPr>
            <a:xfrm>
              <a:off x="5614920" y="1116000"/>
              <a:ext cx="142884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5"/>
            <p:cNvSpPr/>
            <p:nvPr/>
          </p:nvSpPr>
          <p:spPr>
            <a:xfrm>
              <a:off x="3849840" y="4572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6"/>
            <p:cNvSpPr/>
            <p:nvPr/>
          </p:nvSpPr>
          <p:spPr>
            <a:xfrm>
              <a:off x="3008160" y="2185920"/>
              <a:ext cx="3111480" cy="27147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7"/>
            <p:cNvSpPr/>
            <p:nvPr/>
          </p:nvSpPr>
          <p:spPr>
            <a:xfrm>
              <a:off x="2000160" y="1033560"/>
              <a:ext cx="1513080" cy="13158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db92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8"/>
            <p:cNvSpPr/>
            <p:nvPr/>
          </p:nvSpPr>
          <p:spPr>
            <a:xfrm>
              <a:off x="107460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9"/>
            <p:cNvSpPr/>
            <p:nvPr/>
          </p:nvSpPr>
          <p:spPr>
            <a:xfrm>
              <a:off x="1832040" y="45720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0"/>
            <p:cNvSpPr/>
            <p:nvPr/>
          </p:nvSpPr>
          <p:spPr>
            <a:xfrm>
              <a:off x="3849840" y="531324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11"/>
            <p:cNvSpPr/>
            <p:nvPr/>
          </p:nvSpPr>
          <p:spPr>
            <a:xfrm>
              <a:off x="5783400" y="4489560"/>
              <a:ext cx="1512720" cy="1317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12"/>
            <p:cNvSpPr/>
            <p:nvPr/>
          </p:nvSpPr>
          <p:spPr>
            <a:xfrm>
              <a:off x="654048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AutoShape 13"/>
            <p:cNvSpPr/>
            <p:nvPr/>
          </p:nvSpPr>
          <p:spPr>
            <a:xfrm>
              <a:off x="4438800" y="498312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AutoShape 14"/>
            <p:cNvSpPr/>
            <p:nvPr/>
          </p:nvSpPr>
          <p:spPr>
            <a:xfrm rot="3096600">
              <a:off x="3095640" y="448704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15"/>
            <p:cNvSpPr/>
            <p:nvPr/>
          </p:nvSpPr>
          <p:spPr>
            <a:xfrm rot="10740600">
              <a:off x="4354560" y="185580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16"/>
            <p:cNvSpPr/>
            <p:nvPr/>
          </p:nvSpPr>
          <p:spPr>
            <a:xfrm rot="13485000">
              <a:off x="5614560" y="2349000"/>
              <a:ext cx="4208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17"/>
            <p:cNvSpPr/>
            <p:nvPr/>
          </p:nvSpPr>
          <p:spPr>
            <a:xfrm rot="16048800">
              <a:off x="6123600" y="341676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18"/>
            <p:cNvSpPr/>
            <p:nvPr/>
          </p:nvSpPr>
          <p:spPr>
            <a:xfrm rot="18996600">
              <a:off x="5698800" y="4406400"/>
              <a:ext cx="42048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19"/>
            <p:cNvSpPr/>
            <p:nvPr/>
          </p:nvSpPr>
          <p:spPr>
            <a:xfrm rot="8573400">
              <a:off x="3260520" y="2185560"/>
              <a:ext cx="420480" cy="24624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20"/>
            <p:cNvSpPr/>
            <p:nvPr/>
          </p:nvSpPr>
          <p:spPr>
            <a:xfrm rot="5958000">
              <a:off x="2592000" y="3335040"/>
              <a:ext cx="4111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Text Box 21"/>
            <p:cNvSpPr/>
            <p:nvPr/>
          </p:nvSpPr>
          <p:spPr>
            <a:xfrm>
              <a:off x="3765600" y="7858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o Lo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22"/>
            <p:cNvSpPr/>
            <p:nvPr/>
          </p:nvSpPr>
          <p:spPr>
            <a:xfrm>
              <a:off x="5530680" y="157464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n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 Box 23"/>
            <p:cNvSpPr/>
            <p:nvPr/>
          </p:nvSpPr>
          <p:spPr>
            <a:xfrm>
              <a:off x="6456240" y="3090960"/>
              <a:ext cx="184968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eparation/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Trac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24"/>
            <p:cNvSpPr/>
            <p:nvPr/>
          </p:nvSpPr>
          <p:spPr>
            <a:xfrm>
              <a:off x="5699160" y="490068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po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25"/>
            <p:cNvSpPr/>
            <p:nvPr/>
          </p:nvSpPr>
          <p:spPr>
            <a:xfrm>
              <a:off x="3765600" y="5559480"/>
              <a:ext cx="176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inancials (Program Overawar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26"/>
            <p:cNvSpPr/>
            <p:nvPr/>
          </p:nvSpPr>
          <p:spPr>
            <a:xfrm>
              <a:off x="1747800" y="49006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Exit Couns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27"/>
            <p:cNvSpPr/>
            <p:nvPr/>
          </p:nvSpPr>
          <p:spPr>
            <a:xfrm>
              <a:off x="990720" y="312120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aintaining 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28"/>
            <p:cNvSpPr/>
            <p:nvPr/>
          </p:nvSpPr>
          <p:spPr>
            <a:xfrm>
              <a:off x="1916280" y="1444680"/>
              <a:ext cx="176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rig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29"/>
            <p:cNvSpPr/>
            <p:nvPr/>
          </p:nvSpPr>
          <p:spPr>
            <a:xfrm>
              <a:off x="3260880" y="2692440"/>
              <a:ext cx="269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Servicing TEACH Gra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883A-A4B8-4309-8910-067500F0476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version Trigg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ests convers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s to certify within 120 days of ceasing enrollment prior to completing progra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s to certify annually his/her intention to satisfy service agre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s to begin or maintain qualified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228600" y="12333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TEACH Grant recipien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8FF9-9715-4CA2-85B5-4DF25D2F7E6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9"/>
          <p:cNvSpPr/>
          <p:nvPr/>
        </p:nvSpPr>
        <p:spPr>
          <a:xfrm>
            <a:off x="1832040" y="4572000"/>
            <a:ext cx="1512720" cy="13161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79a1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Group 30"/>
          <p:cNvGrpSpPr/>
          <p:nvPr/>
        </p:nvGrpSpPr>
        <p:grpSpPr>
          <a:xfrm>
            <a:off x="990720" y="457200"/>
            <a:ext cx="7315200" cy="6172200"/>
            <a:chOff x="990720" y="457200"/>
            <a:chExt cx="7315200" cy="6172200"/>
          </a:xfrm>
        </p:grpSpPr>
        <p:sp>
          <p:nvSpPr>
            <p:cNvPr id="375" name="Oval 4"/>
            <p:cNvSpPr/>
            <p:nvPr/>
          </p:nvSpPr>
          <p:spPr>
            <a:xfrm>
              <a:off x="5614920" y="1116000"/>
              <a:ext cx="142884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5"/>
            <p:cNvSpPr/>
            <p:nvPr/>
          </p:nvSpPr>
          <p:spPr>
            <a:xfrm>
              <a:off x="3849840" y="4572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db92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6"/>
            <p:cNvSpPr/>
            <p:nvPr/>
          </p:nvSpPr>
          <p:spPr>
            <a:xfrm>
              <a:off x="3008160" y="2185920"/>
              <a:ext cx="3111480" cy="27147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7"/>
            <p:cNvSpPr/>
            <p:nvPr/>
          </p:nvSpPr>
          <p:spPr>
            <a:xfrm>
              <a:off x="2000160" y="1033560"/>
              <a:ext cx="1513080" cy="13158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8"/>
            <p:cNvSpPr/>
            <p:nvPr/>
          </p:nvSpPr>
          <p:spPr>
            <a:xfrm>
              <a:off x="107460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10"/>
            <p:cNvSpPr/>
            <p:nvPr/>
          </p:nvSpPr>
          <p:spPr>
            <a:xfrm>
              <a:off x="3849840" y="531324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11"/>
            <p:cNvSpPr/>
            <p:nvPr/>
          </p:nvSpPr>
          <p:spPr>
            <a:xfrm>
              <a:off x="5783400" y="4489560"/>
              <a:ext cx="1512720" cy="1317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12"/>
            <p:cNvSpPr/>
            <p:nvPr/>
          </p:nvSpPr>
          <p:spPr>
            <a:xfrm>
              <a:off x="654048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AutoShape 13"/>
            <p:cNvSpPr/>
            <p:nvPr/>
          </p:nvSpPr>
          <p:spPr>
            <a:xfrm>
              <a:off x="4438800" y="498312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AutoShape 14"/>
            <p:cNvSpPr/>
            <p:nvPr/>
          </p:nvSpPr>
          <p:spPr>
            <a:xfrm rot="3096600">
              <a:off x="3095640" y="448704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AutoShape 15"/>
            <p:cNvSpPr/>
            <p:nvPr/>
          </p:nvSpPr>
          <p:spPr>
            <a:xfrm rot="10740600">
              <a:off x="4354560" y="185580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AutoShape 16"/>
            <p:cNvSpPr/>
            <p:nvPr/>
          </p:nvSpPr>
          <p:spPr>
            <a:xfrm rot="13485000">
              <a:off x="5614560" y="2349000"/>
              <a:ext cx="4208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AutoShape 17"/>
            <p:cNvSpPr/>
            <p:nvPr/>
          </p:nvSpPr>
          <p:spPr>
            <a:xfrm rot="16048800">
              <a:off x="6123600" y="341676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AutoShape 18"/>
            <p:cNvSpPr/>
            <p:nvPr/>
          </p:nvSpPr>
          <p:spPr>
            <a:xfrm rot="18996600">
              <a:off x="5698800" y="4406400"/>
              <a:ext cx="42048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AutoShape 19"/>
            <p:cNvSpPr/>
            <p:nvPr/>
          </p:nvSpPr>
          <p:spPr>
            <a:xfrm rot="8573400">
              <a:off x="3260520" y="2185560"/>
              <a:ext cx="420480" cy="24624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AutoShape 20"/>
            <p:cNvSpPr/>
            <p:nvPr/>
          </p:nvSpPr>
          <p:spPr>
            <a:xfrm rot="5958000">
              <a:off x="2592000" y="3335040"/>
              <a:ext cx="4111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21"/>
            <p:cNvSpPr/>
            <p:nvPr/>
          </p:nvSpPr>
          <p:spPr>
            <a:xfrm>
              <a:off x="3765600" y="7858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o Lo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22"/>
            <p:cNvSpPr/>
            <p:nvPr/>
          </p:nvSpPr>
          <p:spPr>
            <a:xfrm>
              <a:off x="5530680" y="157464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n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23"/>
            <p:cNvSpPr/>
            <p:nvPr/>
          </p:nvSpPr>
          <p:spPr>
            <a:xfrm>
              <a:off x="6456240" y="3090960"/>
              <a:ext cx="184968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eparation/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Trac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24"/>
            <p:cNvSpPr/>
            <p:nvPr/>
          </p:nvSpPr>
          <p:spPr>
            <a:xfrm>
              <a:off x="5699160" y="490068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po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25"/>
            <p:cNvSpPr/>
            <p:nvPr/>
          </p:nvSpPr>
          <p:spPr>
            <a:xfrm>
              <a:off x="3765600" y="5559480"/>
              <a:ext cx="176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inancials (Program Overawar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26"/>
            <p:cNvSpPr/>
            <p:nvPr/>
          </p:nvSpPr>
          <p:spPr>
            <a:xfrm>
              <a:off x="1747800" y="49006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Exit Couns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27"/>
            <p:cNvSpPr/>
            <p:nvPr/>
          </p:nvSpPr>
          <p:spPr>
            <a:xfrm>
              <a:off x="990720" y="312120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aintaining 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28"/>
            <p:cNvSpPr/>
            <p:nvPr/>
          </p:nvSpPr>
          <p:spPr>
            <a:xfrm>
              <a:off x="1916280" y="1444680"/>
              <a:ext cx="176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rig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29"/>
            <p:cNvSpPr/>
            <p:nvPr/>
          </p:nvSpPr>
          <p:spPr>
            <a:xfrm>
              <a:off x="3260880" y="2692440"/>
              <a:ext cx="269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Servicing TEACH Gra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2C17-5571-4266-8E55-54507A8303A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version to Loa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TEACH Grant will convert into a Direct Unsubsidized Loan (TEACH) when a recipient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ails or refus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carry out their service oblig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ipient will enter repayment upon conversion of the grant to a Direct Unsubsidized Loan (TEACH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F41C-FDD3-44B0-B2C3-1C9F26C83DD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en Converted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pitalization of unpaid interest will occur on the date entering repayment PLUS 6 months (to provide the recipient an opportunity to pay the interest prior to capitalizatio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F0E9-6991-4892-814F-9B405E79E4A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 School (Communication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closure stat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tice of disbursement (Welcome Letter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uarterly state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D0F2-CD79-4BBD-B82E-076DC541043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Questions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990720" y="838080"/>
            <a:ext cx="7009560" cy="5790240"/>
            <a:chOff x="990720" y="838080"/>
            <a:chExt cx="7009560" cy="5790240"/>
          </a:xfrm>
        </p:grpSpPr>
        <p:grpSp>
          <p:nvGrpSpPr>
            <p:cNvPr id="409" name="Group 4"/>
            <p:cNvGrpSpPr/>
            <p:nvPr/>
          </p:nvGrpSpPr>
          <p:grpSpPr>
            <a:xfrm>
              <a:off x="990720" y="838080"/>
              <a:ext cx="7009560" cy="5790240"/>
              <a:chOff x="990720" y="838080"/>
              <a:chExt cx="7009560" cy="5790240"/>
            </a:xfrm>
          </p:grpSpPr>
          <p:grpSp>
            <p:nvGrpSpPr>
              <p:cNvPr id="410" name="Group 5"/>
              <p:cNvGrpSpPr/>
              <p:nvPr/>
            </p:nvGrpSpPr>
            <p:grpSpPr>
              <a:xfrm>
                <a:off x="1071000" y="838080"/>
                <a:ext cx="6687360" cy="5790240"/>
                <a:chOff x="1071000" y="838080"/>
                <a:chExt cx="6687360" cy="5790240"/>
              </a:xfrm>
            </p:grpSpPr>
            <p:sp>
              <p:nvSpPr>
                <p:cNvPr id="411" name="Oval 6"/>
                <p:cNvSpPr/>
                <p:nvPr/>
              </p:nvSpPr>
              <p:spPr>
                <a:xfrm>
                  <a:off x="5421960" y="1455480"/>
                  <a:ext cx="1369440" cy="123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Oval 7"/>
                <p:cNvSpPr/>
                <p:nvPr/>
              </p:nvSpPr>
              <p:spPr>
                <a:xfrm>
                  <a:off x="3729960" y="838080"/>
                  <a:ext cx="1450080" cy="123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Oval 8"/>
                <p:cNvSpPr/>
                <p:nvPr/>
              </p:nvSpPr>
              <p:spPr>
                <a:xfrm>
                  <a:off x="2923920" y="2459160"/>
                  <a:ext cx="2981160" cy="254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Oval 9"/>
                <p:cNvSpPr/>
                <p:nvPr/>
              </p:nvSpPr>
              <p:spPr>
                <a:xfrm>
                  <a:off x="1956960" y="1378440"/>
                  <a:ext cx="1450080" cy="1234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Oval 10"/>
                <p:cNvSpPr/>
                <p:nvPr/>
              </p:nvSpPr>
              <p:spPr>
                <a:xfrm>
                  <a:off x="1071000" y="2999880"/>
                  <a:ext cx="1450080" cy="1234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Oval 11"/>
                <p:cNvSpPr/>
                <p:nvPr/>
              </p:nvSpPr>
              <p:spPr>
                <a:xfrm>
                  <a:off x="1796040" y="4698000"/>
                  <a:ext cx="1450080" cy="123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Oval 12"/>
                <p:cNvSpPr/>
                <p:nvPr/>
              </p:nvSpPr>
              <p:spPr>
                <a:xfrm>
                  <a:off x="3729960" y="5393160"/>
                  <a:ext cx="1450080" cy="123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Oval 13"/>
                <p:cNvSpPr/>
                <p:nvPr/>
              </p:nvSpPr>
              <p:spPr>
                <a:xfrm>
                  <a:off x="5582880" y="4621320"/>
                  <a:ext cx="1450080" cy="1234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Oval 14"/>
                <p:cNvSpPr/>
                <p:nvPr/>
              </p:nvSpPr>
              <p:spPr>
                <a:xfrm>
                  <a:off x="6308280" y="2999880"/>
                  <a:ext cx="1450080" cy="1234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79a1c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AutoShape 15"/>
                <p:cNvSpPr/>
                <p:nvPr/>
              </p:nvSpPr>
              <p:spPr>
                <a:xfrm>
                  <a:off x="4293720" y="5084280"/>
                  <a:ext cx="402840" cy="231480"/>
                </a:xfrm>
                <a:prstGeom prst="downArrow">
                  <a:avLst>
                    <a:gd name="adj1" fmla="val 33852"/>
                    <a:gd name="adj2" fmla="val 62731"/>
                  </a:avLst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AutoShape 16"/>
                <p:cNvSpPr/>
                <p:nvPr/>
              </p:nvSpPr>
              <p:spPr>
                <a:xfrm rot="3096600">
                  <a:off x="3012480" y="4615920"/>
                  <a:ext cx="385560" cy="241560"/>
                </a:xfrm>
                <a:prstGeom prst="downArrow">
                  <a:avLst>
                    <a:gd name="adj1" fmla="val 33852"/>
                    <a:gd name="adj2" fmla="val 62731"/>
                  </a:avLst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AutoShape 17"/>
                <p:cNvSpPr/>
                <p:nvPr/>
              </p:nvSpPr>
              <p:spPr>
                <a:xfrm rot="10740600">
                  <a:off x="4213080" y="2149560"/>
                  <a:ext cx="402480" cy="231480"/>
                </a:xfrm>
                <a:prstGeom prst="downArrow">
                  <a:avLst>
                    <a:gd name="adj1" fmla="val 33852"/>
                    <a:gd name="adj2" fmla="val 62731"/>
                  </a:avLst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AutoShape 18"/>
                <p:cNvSpPr/>
                <p:nvPr/>
              </p:nvSpPr>
              <p:spPr>
                <a:xfrm rot="13485000">
                  <a:off x="5421960" y="2613240"/>
                  <a:ext cx="402480" cy="231480"/>
                </a:xfrm>
                <a:prstGeom prst="downArrow">
                  <a:avLst>
                    <a:gd name="adj1" fmla="val 33852"/>
                    <a:gd name="adj2" fmla="val 62731"/>
                  </a:avLst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AutoShape 19"/>
                <p:cNvSpPr/>
                <p:nvPr/>
              </p:nvSpPr>
              <p:spPr>
                <a:xfrm rot="16048800">
                  <a:off x="5913360" y="3611520"/>
                  <a:ext cx="386280" cy="241560"/>
                </a:xfrm>
                <a:prstGeom prst="downArrow">
                  <a:avLst>
                    <a:gd name="adj1" fmla="val 33852"/>
                    <a:gd name="adj2" fmla="val 62731"/>
                  </a:avLst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AutoShape 20"/>
                <p:cNvSpPr/>
                <p:nvPr/>
              </p:nvSpPr>
              <p:spPr>
                <a:xfrm rot="18996600">
                  <a:off x="5501880" y="4543560"/>
                  <a:ext cx="402840" cy="231480"/>
                </a:xfrm>
                <a:prstGeom prst="downArrow">
                  <a:avLst>
                    <a:gd name="adj1" fmla="val 33852"/>
                    <a:gd name="adj2" fmla="val 62731"/>
                  </a:avLst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AutoShape 21"/>
                <p:cNvSpPr/>
                <p:nvPr/>
              </p:nvSpPr>
              <p:spPr>
                <a:xfrm rot="8573400">
                  <a:off x="3165480" y="2458800"/>
                  <a:ext cx="402480" cy="231480"/>
                </a:xfrm>
                <a:prstGeom prst="downArrow">
                  <a:avLst>
                    <a:gd name="adj1" fmla="val 33852"/>
                    <a:gd name="adj2" fmla="val 62731"/>
                  </a:avLst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AutoShape 22"/>
                <p:cNvSpPr/>
                <p:nvPr/>
              </p:nvSpPr>
              <p:spPr>
                <a:xfrm rot="5958000">
                  <a:off x="2528640" y="3534840"/>
                  <a:ext cx="385560" cy="241560"/>
                </a:xfrm>
                <a:prstGeom prst="downArrow">
                  <a:avLst>
                    <a:gd name="adj1" fmla="val 33852"/>
                    <a:gd name="adj2" fmla="val 62731"/>
                  </a:avLst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2f5e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8" name="Text Box 23"/>
              <p:cNvSpPr/>
              <p:nvPr/>
            </p:nvSpPr>
            <p:spPr>
              <a:xfrm>
                <a:off x="3649320" y="1146600"/>
                <a:ext cx="1611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Conversion to Loa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Text Box 24"/>
              <p:cNvSpPr/>
              <p:nvPr/>
            </p:nvSpPr>
            <p:spPr>
              <a:xfrm>
                <a:off x="5341680" y="1888200"/>
                <a:ext cx="161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In Scho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227640" y="3308760"/>
                <a:ext cx="1772640" cy="6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Verdana"/>
                  </a:rPr>
                  <a:t>Separation/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Verdana"/>
                  </a:rPr>
                  <a:t>Tracking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Text Box 26"/>
              <p:cNvSpPr/>
              <p:nvPr/>
            </p:nvSpPr>
            <p:spPr>
              <a:xfrm>
                <a:off x="5502600" y="5007240"/>
                <a:ext cx="161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Repor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Text Box 27"/>
              <p:cNvSpPr/>
              <p:nvPr/>
            </p:nvSpPr>
            <p:spPr>
              <a:xfrm>
                <a:off x="3649320" y="5625000"/>
                <a:ext cx="1692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Financials (Program Overaward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28"/>
              <p:cNvSpPr/>
              <p:nvPr/>
            </p:nvSpPr>
            <p:spPr>
              <a:xfrm>
                <a:off x="1715760" y="5007240"/>
                <a:ext cx="1611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Exit Counsel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Text Box 29"/>
              <p:cNvSpPr/>
              <p:nvPr/>
            </p:nvSpPr>
            <p:spPr>
              <a:xfrm>
                <a:off x="990720" y="3337560"/>
                <a:ext cx="1611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Conversion Trigg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Text Box 30"/>
              <p:cNvSpPr/>
              <p:nvPr/>
            </p:nvSpPr>
            <p:spPr>
              <a:xfrm>
                <a:off x="1876680" y="1764360"/>
                <a:ext cx="1692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Maintaining Gra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31"/>
            <p:cNvSpPr/>
            <p:nvPr/>
          </p:nvSpPr>
          <p:spPr>
            <a:xfrm>
              <a:off x="3166200" y="2935440"/>
              <a:ext cx="2578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Servicing TEACH Gra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0B1F-56FB-45EE-8BA5-A466F8BA9F4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838080" y="1371600"/>
            <a:ext cx="71629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sa DiC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or, Direct Loa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isa.dicarlo@ed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202) 377-31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ynthia Ba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Cynthia.Battle@ed.gov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202) 377-32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"/>
          <p:cNvSpPr/>
          <p:nvPr/>
        </p:nvSpPr>
        <p:spPr>
          <a:xfrm>
            <a:off x="304920" y="6094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BA49-A2C1-48CD-A512-2848EDD1506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isclosure State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pon acceptance of an origination record the COD system generates a TEACH Grant disclosure statement for the stud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CDC9-D77D-4B08-829C-3349903BD0E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tice of Disbursement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ce the COD system has an accepted ATS, origination record, actual disbursement record for initial disbursement, the TEACH Grant award is sent to DL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ceives TEACH Grant Notice of Disbursement generated by DL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BD9F-8B19-4CD3-8C3B-6CC135CC61E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Quarterly Statement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n a quarterly basis, DLSS generates a statement notifying recipients of awarded grant amounts and interest accrual if converted to a Direct Unsubsidized Loan (TEACH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4D49-8163-4178-9579-7F51A1551FB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30"/>
          <p:cNvGrpSpPr/>
          <p:nvPr/>
        </p:nvGrpSpPr>
        <p:grpSpPr>
          <a:xfrm>
            <a:off x="990720" y="457200"/>
            <a:ext cx="7315200" cy="6172200"/>
            <a:chOff x="990720" y="457200"/>
            <a:chExt cx="7315200" cy="6172200"/>
          </a:xfrm>
        </p:grpSpPr>
        <p:sp>
          <p:nvSpPr>
            <p:cNvPr id="120" name="Oval 4"/>
            <p:cNvSpPr/>
            <p:nvPr/>
          </p:nvSpPr>
          <p:spPr>
            <a:xfrm>
              <a:off x="5614920" y="1116000"/>
              <a:ext cx="142884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Oval 5"/>
            <p:cNvSpPr/>
            <p:nvPr/>
          </p:nvSpPr>
          <p:spPr>
            <a:xfrm>
              <a:off x="3849840" y="4572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6"/>
            <p:cNvSpPr/>
            <p:nvPr/>
          </p:nvSpPr>
          <p:spPr>
            <a:xfrm>
              <a:off x="3008160" y="2185920"/>
              <a:ext cx="3111480" cy="27147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7"/>
            <p:cNvSpPr/>
            <p:nvPr/>
          </p:nvSpPr>
          <p:spPr>
            <a:xfrm>
              <a:off x="2000160" y="1033560"/>
              <a:ext cx="1513080" cy="13158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Oval 8"/>
            <p:cNvSpPr/>
            <p:nvPr/>
          </p:nvSpPr>
          <p:spPr>
            <a:xfrm>
              <a:off x="107460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9"/>
            <p:cNvSpPr/>
            <p:nvPr/>
          </p:nvSpPr>
          <p:spPr>
            <a:xfrm>
              <a:off x="1832040" y="457200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0"/>
            <p:cNvSpPr/>
            <p:nvPr/>
          </p:nvSpPr>
          <p:spPr>
            <a:xfrm>
              <a:off x="3849840" y="5313240"/>
              <a:ext cx="1512720" cy="1316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1"/>
            <p:cNvSpPr/>
            <p:nvPr/>
          </p:nvSpPr>
          <p:spPr>
            <a:xfrm>
              <a:off x="5783400" y="4489560"/>
              <a:ext cx="1512720" cy="1317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79a1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2"/>
            <p:cNvSpPr/>
            <p:nvPr/>
          </p:nvSpPr>
          <p:spPr>
            <a:xfrm>
              <a:off x="6540480" y="2762280"/>
              <a:ext cx="1513080" cy="131616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e6b58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13"/>
            <p:cNvSpPr/>
            <p:nvPr/>
          </p:nvSpPr>
          <p:spPr>
            <a:xfrm>
              <a:off x="4438800" y="498312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4"/>
            <p:cNvSpPr/>
            <p:nvPr/>
          </p:nvSpPr>
          <p:spPr>
            <a:xfrm rot="3096600">
              <a:off x="3095640" y="448704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15"/>
            <p:cNvSpPr/>
            <p:nvPr/>
          </p:nvSpPr>
          <p:spPr>
            <a:xfrm rot="10740600">
              <a:off x="4354560" y="1855800"/>
              <a:ext cx="4190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16"/>
            <p:cNvSpPr/>
            <p:nvPr/>
          </p:nvSpPr>
          <p:spPr>
            <a:xfrm rot="13485000">
              <a:off x="5614560" y="2349000"/>
              <a:ext cx="42084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7"/>
            <p:cNvSpPr/>
            <p:nvPr/>
          </p:nvSpPr>
          <p:spPr>
            <a:xfrm rot="16048800">
              <a:off x="6123600" y="3416760"/>
              <a:ext cx="4129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AutoShape 18"/>
            <p:cNvSpPr/>
            <p:nvPr/>
          </p:nvSpPr>
          <p:spPr>
            <a:xfrm rot="18996600">
              <a:off x="5698800" y="4406400"/>
              <a:ext cx="420480" cy="24768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19"/>
            <p:cNvSpPr/>
            <p:nvPr/>
          </p:nvSpPr>
          <p:spPr>
            <a:xfrm rot="8573400">
              <a:off x="3260520" y="2185560"/>
              <a:ext cx="420480" cy="24624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AutoShape 20"/>
            <p:cNvSpPr/>
            <p:nvPr/>
          </p:nvSpPr>
          <p:spPr>
            <a:xfrm rot="5958000">
              <a:off x="2592000" y="3335040"/>
              <a:ext cx="411120" cy="252360"/>
            </a:xfrm>
            <a:prstGeom prst="downArrow">
              <a:avLst>
                <a:gd name="adj1" fmla="val 33852"/>
                <a:gd name="adj2" fmla="val 6273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21"/>
            <p:cNvSpPr/>
            <p:nvPr/>
          </p:nvSpPr>
          <p:spPr>
            <a:xfrm>
              <a:off x="3765600" y="7858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o Lo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2"/>
            <p:cNvSpPr/>
            <p:nvPr/>
          </p:nvSpPr>
          <p:spPr>
            <a:xfrm>
              <a:off x="5530680" y="157464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n Sch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23"/>
            <p:cNvSpPr/>
            <p:nvPr/>
          </p:nvSpPr>
          <p:spPr>
            <a:xfrm>
              <a:off x="6456240" y="3090960"/>
              <a:ext cx="184968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eparation/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Trac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24"/>
            <p:cNvSpPr/>
            <p:nvPr/>
          </p:nvSpPr>
          <p:spPr>
            <a:xfrm>
              <a:off x="5699160" y="4900680"/>
              <a:ext cx="16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po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765600" y="5559480"/>
              <a:ext cx="176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inancials (Program Overawar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1747800" y="490068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Exit Couns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990720" y="3121200"/>
              <a:ext cx="168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aintaining 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1916280" y="1444680"/>
              <a:ext cx="176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version Trig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3260880" y="2692440"/>
              <a:ext cx="2690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Servicing TEACH Gra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EFDF-6F0B-4B08-99A6-945180E54FD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paration/Track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nt-to-Loan start date will be set as the separation date plus one (1) da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nt-to-Loan end date will be set as eight (8) years from the Grant-to-Loan start dat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6" descr="C:\Program Files\Common Files\Microsoft Shared\Clipart\cagcat50\BS00975_.wmf"/>
          <p:cNvPicPr/>
          <p:nvPr/>
        </p:nvPicPr>
        <p:blipFill>
          <a:blip r:embed="rId1"/>
          <a:stretch/>
        </p:blipFill>
        <p:spPr>
          <a:xfrm>
            <a:off x="4648320" y="2401920"/>
            <a:ext cx="41907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11-03T18:58:21Z</dcterms:modified>
  <cp:revision>404</cp:revision>
  <dc:subject/>
  <dc:title>PowerPoint Presentation</dc:title>
</cp:coreProperties>
</file>