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055A6B-465B-41CD-9182-F474DDA702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26404C-D612-40F4-A8F6-962F655987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0E245-E13E-4D22-9A97-BB201E547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4D09D83-EFAF-43CB-85AF-3D92A254E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C5841F3-1754-4733-8A9B-D481C88032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70AC238-748C-4267-B567-050A8D7A1C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D2C186B-8040-45BE-B01B-2A766F9FF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A7509E3-FF71-470E-9EEC-7F9608FC3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41BE5D8-BBCB-4DB8-BBB1-45C73BC4B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AF36F3C-51BC-469B-A99F-0DE9E4BCF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BD064B0-DD12-4A1A-A92D-7C54C7ACDC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EAA7B14-424D-4150-89EF-50800B7CF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F2A1B52-D208-4492-85DD-661BE736B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FE595C0-DB8F-41F9-A5BB-4B6257B03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F790-7448-4096-9C42-2EB9D3DF38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studentaid.ed.gov/PORTALSWebApp/students/english/TEACH.jsp" TargetMode="External"/><Relationship Id="rId2" Type="http://schemas.openxmlformats.org/officeDocument/2006/relationships/hyperlink" Target="http://www.ifap.ed.gov/dpcletters/010808GENFP0801.html" TargetMode="External"/><Relationship Id="rId3" Type="http://schemas.openxmlformats.org/officeDocument/2006/relationships/hyperlink" Target="http://www.ifap.ed.gov/dpcletters/060308GEN0807.html" TargetMode="External"/><Relationship Id="rId4" Type="http://schemas.openxmlformats.org/officeDocument/2006/relationships/hyperlink" Target="http://www.ifap.ed.gov/eannouncements/062708CCRAATEACHStudent.html" TargetMode="External"/><Relationship Id="rId5" Type="http://schemas.openxmlformats.org/officeDocument/2006/relationships/hyperlink" Target="http://www.ifap.ed.gov/eannouncements/061908AddtlTEACHGrantOplmp.html" TargetMode="Externa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kay.gilcher@ed.gov" TargetMode="External"/><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hyperlink" Target="http://ifap.ed.gov/fregisters/FR03212008TECH.html" TargetMode="External"/><Relationship Id="rId2" Type="http://schemas.openxmlformats.org/officeDocument/2006/relationships/hyperlink" Target="http://ifap.ed.gov/fregisters/FR06232008TEACH.html" TargetMode="External"/><Relationship Id="rId3" Type="http://schemas.openxmlformats.org/officeDocument/2006/relationships/hyperlink" Target="http://www.ed.gov/policy/highered/reg/hearulemaking/2008/index2008.html"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2</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93440"/>
            <a:ext cx="6400800" cy="175284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 Grants Policy Update</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il McLarn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ay Gilcher</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7420-722D-4834-966D-09AB265B8D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Student Eligibility</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can b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students pursuing a master’s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enrolled in a post-baccalaureate teacher credential program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or former teachers or retire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00DF8DF-5504-4641-B298-4B257A8E79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752C-4309-426C-8AA1-41D2906107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Student Eligibility</a:t>
            </a:r>
            <a:endParaRPr b="1" lang="en-US" sz="3600" spc="-1" strike="noStrike">
              <a:solidFill>
                <a:srgbClr val="cc5407"/>
              </a:solidFill>
              <a:latin typeface="Verdana"/>
            </a:endParaRPr>
          </a:p>
        </p:txBody>
      </p:sp>
      <p:sp>
        <p:nvSpPr>
          <p:cNvPr id="8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pplicants mus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 requirements of 34 CFR 668, Subpart C – General Provisions Student Eligibilit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a completed FAFS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an Agreement to Serv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 in a TEACH Grant-eligible institution in a TEACH Grant-eligible progra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completing or intend to complete, coursework necessary to begin a career in teach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have already earned a first BA or post-baccalaureate degre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CDE234F-0740-4B78-81FE-B2840CE2A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7058-3971-4E17-BCE7-9EFAFA4A0CF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Achievement Requirements</a:t>
            </a:r>
            <a:endParaRPr b="1" lang="en-US" sz="4000" spc="-1" strike="noStrike">
              <a:solidFill>
                <a:srgbClr val="cc5407"/>
              </a:solidFill>
              <a:latin typeface="Verdana"/>
            </a:endParaRPr>
          </a:p>
        </p:txBody>
      </p:sp>
      <p:sp>
        <p:nvSpPr>
          <p:cNvPr id="83"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post-baccalaureate and graduat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mulative GPA of at least 3.25</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high school for first year student or first semester of colleg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college for other students</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bove the 75</a:t>
            </a:r>
            <a:r>
              <a:rPr b="0" lang="en-US" sz="2800" spc="-1" strike="noStrike" baseline="30000">
                <a:solidFill>
                  <a:srgbClr val="000000"/>
                </a:solidFill>
                <a:latin typeface="Verdana"/>
              </a:rPr>
              <a:t>th</a:t>
            </a:r>
            <a:r>
              <a:rPr b="0" lang="en-US" sz="2800" spc="-1" strike="noStrike">
                <a:solidFill>
                  <a:srgbClr val="000000"/>
                </a:solidFill>
                <a:latin typeface="Verdana"/>
              </a:rPr>
              <a:t> percentile on one of the batteries of a nationally-normed admissions test, such as: SAT, ACT, GR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334D8AB-D567-49B1-8D3E-A4862A2A5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8431-D7EB-4B43-9BD4-2F433336EB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Former Teachers and Retirees</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have to meet academic achievement require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teachers/retirees must have expertise in a high-need field and be pursuing a master’s degre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er teachers must be pursuing certification through a high-quality alternative certification rou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ernative certification must be offered by an eligible institution of higher education and must be part of a master’s degree progra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6242D8A-0E3E-4156-80D1-520583A75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EBEB-C16C-420E-8120-1FCB7DC70E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Institutional Eligibility</a:t>
            </a:r>
            <a:endParaRPr b="1" lang="en-US" sz="3600" spc="-1" strike="noStrike">
              <a:solidFill>
                <a:srgbClr val="cc5407"/>
              </a:solidFill>
              <a:latin typeface="Verdana"/>
            </a:endParaRPr>
          </a:p>
        </p:txBody>
      </p:sp>
      <p:sp>
        <p:nvSpPr>
          <p:cNvPr id="89" name="PlaceHolder 2"/>
          <p:cNvSpPr>
            <a:spLocks noGrp="1"/>
          </p:cNvSpPr>
          <p:nvPr>
            <p:ph/>
          </p:nvPr>
        </p:nvSpPr>
        <p:spPr>
          <a:xfrm>
            <a:off x="304920" y="1371240"/>
            <a:ext cx="853416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st be financially responsible in accordance with 34 CFR 668, subpart L, or meet an alternative standar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y establish eligibility in any of 4 way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2C930EF-FF13-4184-AE7C-D9AE28DD9C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AC7C-BA77-4F4C-8B7D-C2D0DC0D60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1</a:t>
            </a:r>
            <a:endParaRPr b="1" lang="en-US" sz="3200" spc="-1" strike="noStrike">
              <a:solidFill>
                <a:srgbClr val="cc5407"/>
              </a:solidFill>
              <a:latin typeface="Verdana"/>
            </a:endParaRPr>
          </a:p>
        </p:txBody>
      </p:sp>
      <p:sp>
        <p:nvSpPr>
          <p:cNvPr id="92" name="PlaceHolder 2"/>
          <p:cNvSpPr>
            <a:spLocks noGrp="1"/>
          </p:cNvSpPr>
          <p:nvPr>
            <p:ph/>
          </p:nvPr>
        </p:nvSpPr>
        <p:spPr>
          <a:xfrm>
            <a:off x="304920" y="1218960"/>
            <a:ext cx="8534160" cy="4190760"/>
          </a:xfrm>
          <a:prstGeom prst="rect">
            <a:avLst/>
          </a:prstGeom>
          <a:noFill/>
          <a:ln w="0">
            <a:noFill/>
          </a:ln>
        </p:spPr>
        <p:txBody>
          <a:bodyPr anchor="t">
            <a:normAutofit fontScale="97000"/>
          </a:bodyPr>
          <a:p>
            <a:pPr marL="332640" indent="-3326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provide a high-quality teacher preparation program at the baccalaureate or master’s degree level that;</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ccredited by an agency specializing in professional teacher education program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pproved by a State and includes at least 10 weeks of full-time pre-service clinical experience and must provide/assist in providing pedagogical coursework</a:t>
            </a:r>
            <a:endParaRPr b="0" lang="en-US" sz="2400" spc="-1" strike="noStrike">
              <a:solidFill>
                <a:srgbClr val="000000"/>
              </a:solidFill>
              <a:latin typeface="Verdana"/>
            </a:endParaRPr>
          </a:p>
          <a:p>
            <a:pPr marL="332640" indent="-3326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provide or assist in providing supervision and support services to teachers such a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effective teaching strategie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effective practices in supervision and coaching of novice teacher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toring focused on effective teaching skil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A2773D2-2804-4454-8E8C-E036D26203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4B5F-CD04-4047-B781-67E7C2AB7D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2</a:t>
            </a:r>
            <a:endParaRPr b="1" lang="en-US" sz="3200" spc="-1" strike="noStrike">
              <a:solidFill>
                <a:srgbClr val="cc5407"/>
              </a:solidFill>
              <a:latin typeface="Verdana"/>
            </a:endParaRPr>
          </a:p>
        </p:txBody>
      </p:sp>
      <p:sp>
        <p:nvSpPr>
          <p:cNvPr id="95" name="PlaceHolder 2"/>
          <p:cNvSpPr>
            <a:spLocks noGrp="1"/>
          </p:cNvSpPr>
          <p:nvPr>
            <p:ph/>
          </p:nvPr>
        </p:nvSpPr>
        <p:spPr>
          <a:xfrm>
            <a:off x="304920" y="1294920"/>
            <a:ext cx="8534160" cy="3886200"/>
          </a:xfrm>
          <a:prstGeom prst="rect">
            <a:avLst/>
          </a:prstGeom>
          <a:noFill/>
          <a:ln w="0">
            <a:noFill/>
          </a:ln>
        </p:spPr>
        <p:txBody>
          <a:bodyPr anchor="t">
            <a:normAutofit fontScale="99000"/>
          </a:bodyPr>
          <a:p>
            <a:pPr marL="528120" indent="-5281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itution provides a two-year program that:</a:t>
            </a:r>
            <a:endParaRPr b="0" lang="en-US" sz="3000" spc="-1" strike="noStrike">
              <a:solidFill>
                <a:srgbClr val="000000"/>
              </a:solidFill>
              <a:latin typeface="Verdana"/>
            </a:endParaRPr>
          </a:p>
          <a:p>
            <a:pPr lvl="1" marL="980640" indent="-52812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cceptable for full credit in an eligible baccalaureate teacher prep program</a:t>
            </a:r>
            <a:endParaRPr b="0" lang="en-US" sz="3000" spc="-1" strike="noStrike">
              <a:solidFill>
                <a:srgbClr val="000000"/>
              </a:solidFill>
              <a:latin typeface="Verdana"/>
            </a:endParaRPr>
          </a:p>
          <a:p>
            <a:pPr lvl="1" marL="980640" indent="-52812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cceptable for full credit in a baccalaureate program in a high-need field offered by a TEACH Grant-eligible institution</a:t>
            </a:r>
            <a:endParaRPr b="0" lang="en-US" sz="3000" spc="-1" strike="noStrike">
              <a:solidFill>
                <a:srgbClr val="000000"/>
              </a:solidFill>
              <a:latin typeface="Verdana"/>
            </a:endParaRPr>
          </a:p>
          <a:p>
            <a:pPr marL="528120" indent="-5281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nstitutions must be able to “demonstrate” this relationship</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FF76861-D79F-4E9A-B665-E19E39BBE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235B-8581-48ED-8B7A-5E95BD6748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3</a:t>
            </a:r>
            <a:endParaRPr b="1" lang="en-US" sz="3200" spc="-1" strike="noStrike">
              <a:solidFill>
                <a:srgbClr val="cc5407"/>
              </a:solidFill>
              <a:latin typeface="Verdana"/>
            </a:endParaRPr>
          </a:p>
        </p:txBody>
      </p:sp>
      <p:sp>
        <p:nvSpPr>
          <p:cNvPr id="98" name="PlaceHolder 2"/>
          <p:cNvSpPr>
            <a:spLocks noGrp="1"/>
          </p:cNvSpPr>
          <p:nvPr>
            <p:ph/>
          </p:nvPr>
        </p:nvSpPr>
        <p:spPr>
          <a:xfrm>
            <a:off x="304920" y="1485720"/>
            <a:ext cx="8534160" cy="3886200"/>
          </a:xfrm>
          <a:prstGeom prst="rect">
            <a:avLst/>
          </a:prstGeom>
          <a:noFill/>
          <a:ln w="0">
            <a:noFill/>
          </a:ln>
        </p:spPr>
        <p:txBody>
          <a:bodyPr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itution offers a baccalaureate degree that, in combination with other training or experience, will prepare students to teach in a high-need field and</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entered into an agreement with an eligible institution that offers a high-quality teacher prep program or one that offers a post-baccalaureate program of study</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5BF84C9-C930-4591-B455-9500BF796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2B94-84CE-44AA-A829-D603565B41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4</a:t>
            </a:r>
            <a:endParaRPr b="1" lang="en-US" sz="3200" spc="-1" strike="noStrike">
              <a:solidFill>
                <a:srgbClr val="cc5407"/>
              </a:solidFill>
              <a:latin typeface="Verdana"/>
            </a:endParaRPr>
          </a:p>
        </p:txBody>
      </p:sp>
      <p:sp>
        <p:nvSpPr>
          <p:cNvPr id="101" name="PlaceHolder 2"/>
          <p:cNvSpPr>
            <a:spLocks noGrp="1"/>
          </p:cNvSpPr>
          <p:nvPr>
            <p:ph/>
          </p:nvPr>
        </p:nvSpPr>
        <p:spPr>
          <a:xfrm>
            <a:off x="304920" y="1218960"/>
            <a:ext cx="8534160" cy="464796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 provides a post-baccalaureate program of study th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lead to a graduate degre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s of courses required by a State for a student to receive a professional certification in teach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n undergraduate program for title IV student financial assistance purpose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A4F1AE4-85FA-4536-998A-3EDC1036C6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9C08-7B53-4557-A2BD-A63C09015B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0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eligible institutions have wide latitude to designate the TEACH Grant-eligible programs offered by the institu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st-baccalaureate program is not a TEACH Grant-eligible program at institutions that offer both a post-baccalaureate and a BA in Educ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1C7358-45C7-4CCE-B20A-3D7360BFA6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C567-11F0-473C-B3AC-F21FF8CB7E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CCRAA) – Public Law 110-84, enacted September 2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xpanded student and borrower benefits through offsets to the FFEL Progra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stablished the Teacher Education Assistance for College and Higher Education (TEACH) Grant Program effective for the 2008-2009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4D69948-2E56-489E-BA75-BBC6F79C18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CFFA-6332-411F-849F-F75B788929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 way of thinking about program eligibili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regulations do not specifically define “program”</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most Title IV purposes, the term is used in a very general wa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most Title IV purposes, a baccalaureate program is four years in length</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7BAECA0-093C-4D05-97F3-3305D8EF75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C432-B446-4D31-9C47-3ED9403C90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EACH, the term “program” is used to mean something more specifi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be defined in context of maj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ACH Grant-eligible program that leads to a baccalaureate degree may be shorter than four years in lengt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student enters the program is important – e.g., at time he declares a major, is admitted to College of Education, etc.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7AC4073-480C-45C0-A1E7-BD63267F9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FC66-0998-45C6-96B7-1468E26E5F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unseling Requirements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eligible institutions must provide initial, subsequent and exit counseling to TEACH Grant recipients that cove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s and conditions of Agreement to Serv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n how to identify low-income schools and documented high-need field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5CBC3F-661D-4506-9C6C-7C4A05690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C2C7-5D3C-400D-85C7-3255B648CE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unseling Requirements </a:t>
            </a:r>
            <a:endParaRPr b="1" lang="en-US" sz="3600" spc="-1" strike="noStrike">
              <a:solidFill>
                <a:srgbClr val="cc5407"/>
              </a:solidFill>
              <a:latin typeface="Verdana"/>
            </a:endParaRPr>
          </a:p>
        </p:txBody>
      </p:sp>
      <p:sp>
        <p:nvSpPr>
          <p:cNvPr id="11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must cover (co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request a suspension of the eight-year period for completion of serv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s under which the TEACH Grant converts to a Direct Unsubsidized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 &amp; conditions of a Direct Unsubsidized Loa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and subsequent counseling must be provided annually prior to first disburse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68C0933-11EF-4CDC-B46D-DD1C25064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03B3-BACB-4B10-A30A-AD863B070C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 Obligation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ACH Grant recipient must sign an “Agreement to Serve” that obligates the recipient t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for 4 years within 8 years of completing or ceasing enrollment in a TEACH Grant-eligible program as a full-time highly-qualified teacher in—</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ow-income elementary or secondary schoo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high-need fiel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28AA942-5DA0-423E-89FD-AF6500F75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A400-D396-4636-AA3D-21B4BB5C7C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 Obligation </a:t>
            </a:r>
            <a:endParaRPr b="1" lang="en-US" sz="3600" spc="-1" strike="noStrike">
              <a:solidFill>
                <a:srgbClr val="cc5407"/>
              </a:solidFill>
              <a:latin typeface="Verdana"/>
            </a:endParaRPr>
          </a:p>
        </p:txBody>
      </p:sp>
      <p:sp>
        <p:nvSpPr>
          <p:cNvPr id="12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need fields includ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ien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lingual education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lish language acquisi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educ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g specialis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high-need field documented by local, State or Federal 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29AE87B-828D-434D-82C2-B76F384DA2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DB9F-550B-471A-B791-295F8CA2A4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lfilling Service Obligation </a:t>
            </a:r>
            <a:endParaRPr b="1" lang="en-US" sz="36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cipient must teach in a high-need field in the majority of classes taugh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ther” high-need fields must be listed in the Department of Education’s </a:t>
            </a:r>
            <a:r>
              <a:rPr b="0" i="1" lang="en-US" sz="2800" spc="-1" strike="noStrike">
                <a:solidFill>
                  <a:srgbClr val="000000"/>
                </a:solidFill>
                <a:latin typeface="Verdana"/>
              </a:rPr>
              <a:t>Nationwide Listing of Teacher Shortage Are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 or secondary school is considered low-income and school is listed in the Department’s </a:t>
            </a:r>
            <a:r>
              <a:rPr b="0" i="1" lang="en-US" sz="2800" spc="-1" strike="noStrike">
                <a:solidFill>
                  <a:srgbClr val="000000"/>
                </a:solidFill>
                <a:latin typeface="Verdana"/>
              </a:rPr>
              <a:t>Low-Income School Directo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8BDB487-89C3-4EF5-A406-983462665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9596-24D3-4241-A56F-D71126F4DA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lfilling Service Obligation </a:t>
            </a:r>
            <a:endParaRPr b="1" lang="en-US" sz="36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cipient must submit evidence of employment as certified by chief administrative officer of the school upon completion of each year of teaching servi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recipient must complete an Agreement to Serve for each program of study for which TEACH Grants were receiv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ght year service period begins following completion or otherwise ceasing enroll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EF21BDD-A803-495A-BF4D-BA1D911F0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A750-370A-4716-B924-38807E172C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Grant recipient fails to complete the required teaching service, the TEACH Grant is converted to a Federal Direct Unsubsidized Loan with interest accruing from the date the grant was disburs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recipient will have 30 days from the date of conversion in which to pay accrued interest. Otherwise interest will be capitalized as of the date of convers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7631C8C-FA57-4CC8-AF18-5AFF6B178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0B4B-4695-4691-9A00-5DE5FC4F807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4"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regardless of enrollment status, requests the convers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120 days of ceasing enrollment, the recipient fails to notify the Department of Education that he or she is employed, or intends to pursue employment, as a full-time teacher in accordance with the Agreement to Serv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6B903F9-5E23-4D11-96E2-F8BAD8F140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9952-B49E-4C89-B610-7D624D5741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lementation Through Negotiated Rulemaking</a:t>
            </a:r>
            <a:endParaRPr b="1" lang="en-US" sz="3600" spc="-1" strike="noStrike">
              <a:solidFill>
                <a:srgbClr val="cc5407"/>
              </a:solidFill>
              <a:latin typeface="Verdana"/>
            </a:endParaRPr>
          </a:p>
        </p:txBody>
      </p:sp>
      <p:sp>
        <p:nvSpPr>
          <p:cNvPr id="56" name="PlaceHolder 2"/>
          <p:cNvSpPr>
            <a:spLocks noGrp="1"/>
          </p:cNvSpPr>
          <p:nvPr>
            <p:ph/>
          </p:nvPr>
        </p:nvSpPr>
        <p:spPr>
          <a:xfrm>
            <a:off x="304920" y="1752480"/>
            <a:ext cx="8534160" cy="41148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 Negotiated Rulemaking – CCRAA implement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Federal Register Notice – 1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vened Regional Hearing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 2007 – New Orle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6, 2007 – Washington, D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29, 2007 – San Diego</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Negotiating Committees – TEACH Grants and Loa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14C6BFB-D910-4189-BA66-30BC35DDB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C73C-E3FB-41B2-AE06-6DDA82547E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7"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 (co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one year of ceasing enrollment the recipi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been determined eligible for a suspens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re-enrolled in a TEACH Grant-eligible program, 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begun teaching service in accordance with the Agreement to Serv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9D0AF95-E918-40DE-91CC-A53DC0A4A1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6343-F120-4B3D-BC50-4FBD1FA2DF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40"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 (co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completes program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ctively confirm to the Department, at least annually, his or her intention to satisfy the Agreement to Serv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s to begin or maintain qualified employment within a timeframe that would allow recipient to complete the teach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40804F6-B343-43E1-B9C8-446BE44FD2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5242-7EC5-4A76-9A7C-EC2B68E89D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Conditions </a:t>
            </a:r>
            <a:endParaRPr b="1" lang="en-US" sz="3600" spc="-1" strike="noStrike">
              <a:solidFill>
                <a:srgbClr val="cc5407"/>
              </a:solidFill>
              <a:latin typeface="Verdana"/>
            </a:endParaRPr>
          </a:p>
        </p:txBody>
      </p:sp>
      <p:sp>
        <p:nvSpPr>
          <p:cNvPr id="143" name="PlaceHolder 2"/>
          <p:cNvSpPr>
            <a:spLocks noGrp="1"/>
          </p:cNvSpPr>
          <p:nvPr>
            <p:ph/>
          </p:nvPr>
        </p:nvSpPr>
        <p:spPr>
          <a:xfrm>
            <a:off x="380520" y="1523520"/>
            <a:ext cx="80773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ACH Grant recipient whose grant has converted to a Federal Direct Unsubsidized Loa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s repayment following a six-month grace period 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ligible for the benefits of the Direct Loan program, including an in-school deferment</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FB0BF5-2BB9-459B-9A6B-CBEA0F798B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E02E-45AD-4E42-8D41-209A0D8DD2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46"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ACH Grant recipient who has completed or ceased enrollment in a TEACH Grant-eligible program may request a “suspension” of the eight-year period for completion of the service obligation based 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in a TEACH Grant-eligible program or a State-approved teacher certification program</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F384BE-68EE-4F4E-ADA6-7ED7712B09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3BA8-98A7-4352-A36B-C399030E24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49"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of eight-year period for completion of the service oblig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ndition covered under the Family and Medical Leave Ac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l or order to active duty status for more than 30 days as a member of Armed Forces reserves or National Guar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AEDD95-DDFE-4BC6-9092-D9E2B6AEC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2301-6926-46E0-8145-6B39546437D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52"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cannot exceed a combined total of three years except for military service, which is unlimi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must be requested prior to recipient being subject to a condition that converts the recipient’s TEACH Grant to a loa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4552E5-6847-4AD8-93B8-5D4D31145A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77DE-6CFA-4CE4-82B6-B3F7B38B4B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harge of</a:t>
            </a:r>
            <a:r>
              <a:rPr b="1" lang="en-US" sz="2400" spc="-1" strike="noStrike">
                <a:solidFill>
                  <a:srgbClr val="cc5407"/>
                </a:solidFill>
                <a:latin typeface="Verdana"/>
              </a:rPr>
              <a:t> </a:t>
            </a:r>
            <a:r>
              <a:rPr b="1" lang="en-US" sz="3600" spc="-1" strike="noStrike">
                <a:solidFill>
                  <a:srgbClr val="cc5407"/>
                </a:solidFill>
                <a:latin typeface="Verdana"/>
              </a:rPr>
              <a:t>Agreement to Serve</a:t>
            </a:r>
            <a:endParaRPr b="1" lang="en-US" sz="3600" spc="-1" strike="noStrike">
              <a:solidFill>
                <a:srgbClr val="cc5407"/>
              </a:solidFill>
              <a:latin typeface="Verdana"/>
            </a:endParaRPr>
          </a:p>
        </p:txBody>
      </p:sp>
      <p:sp>
        <p:nvSpPr>
          <p:cNvPr id="155"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partment will discharge the Agreement to Serve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dies. Original, certified or photocopy of death certificat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becomes totally and permanently disabled and applies for and satisfies the eligibility requirements for the discharge under the Direct Loan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E2C4DC2-80E8-4A34-8415-B60DB31EB9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authorization of the Higher </a:t>
            </a:r>
            <a:r>
              <a:rPr b="1" lang="en-US" sz="3600" spc="-1" strike="noStrike">
                <a:solidFill>
                  <a:srgbClr val="cc5407"/>
                </a:solidFill>
                <a:latin typeface="Verdana"/>
              </a:rPr>
              <a:t>	</a:t>
            </a:r>
            <a:r>
              <a:rPr b="1" lang="en-US" sz="3600" spc="-1" strike="noStrike">
                <a:solidFill>
                  <a:srgbClr val="cc5407"/>
                </a:solidFill>
                <a:latin typeface="Verdana"/>
              </a:rPr>
              <a:t>Education Act of 1965</a:t>
            </a:r>
            <a:endParaRPr b="1" lang="en-US" sz="3600" spc="-1" strike="noStrike">
              <a:solidFill>
                <a:srgbClr val="cc5407"/>
              </a:solidFill>
              <a:latin typeface="Verdana"/>
            </a:endParaRPr>
          </a:p>
        </p:txBody>
      </p:sp>
      <p:sp>
        <p:nvSpPr>
          <p:cNvPr id="157"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 H.R. 413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August 14, 2008 — Public Law 110-31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es the Higher Education Act of 1965, as amend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to TEACH Grant Program effective July 1, 2010</a:t>
            </a: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7BDF9CA-F9C2-406B-9DD7-EBB75B625C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Reauthorization Changes to the TEACH Grant Program</a:t>
            </a:r>
            <a:endParaRPr b="1" lang="en-US" sz="3600" spc="-1" strike="noStrike">
              <a:solidFill>
                <a:srgbClr val="cc5407"/>
              </a:solidFill>
              <a:latin typeface="Verdana"/>
            </a:endParaRPr>
          </a:p>
        </p:txBody>
      </p:sp>
      <p:sp>
        <p:nvSpPr>
          <p:cNvPr id="15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in-language disclosure summarizing the terms and conditions of a TEACH Grant must accompany the Agreement to Serv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high-need field no longer included on Nationwide List is grandfathered for teaching service purposes if field was listed when student received a TEACH Gra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39586E-A37A-4925-A35C-3018733C9F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Reauthorization Changes to the TEACH Grant Program</a:t>
            </a:r>
            <a:endParaRPr b="1" lang="en-US" sz="3600" spc="-1" strike="noStrike">
              <a:solidFill>
                <a:srgbClr val="cc5407"/>
              </a:solidFill>
              <a:latin typeface="Verdana"/>
            </a:endParaRPr>
          </a:p>
        </p:txBody>
      </p:sp>
      <p:sp>
        <p:nvSpPr>
          <p:cNvPr id="161"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Extenuating circumstances” that excuse a TEACH Grant recipient from teaching service obligation must be established by the Secretary</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must submit a report to Congress on the TEACH Grant Program every two yea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D9796A9-D9C6-46F6-8FBA-24D6731A6D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AB00-46CC-4AD2-88C9-606CA2203D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TEACH</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on a Compressed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8-10,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22-24,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bruary 6-8,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egotiators reached consensus on proposed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687375-D4FF-4C2C-80A6-87028AC760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D3A5-7A9A-4AC0-9780-3CF3181118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Resources</a:t>
            </a:r>
            <a:endParaRPr b="1" lang="en-US" sz="3600" spc="-1" strike="noStrike">
              <a:solidFill>
                <a:srgbClr val="cc5407"/>
              </a:solidFill>
              <a:latin typeface="Verdana"/>
            </a:endParaRPr>
          </a:p>
        </p:txBody>
      </p:sp>
      <p:sp>
        <p:nvSpPr>
          <p:cNvPr id="164" name="PlaceHolder 2"/>
          <p:cNvSpPr>
            <a:spLocks noGrp="1"/>
          </p:cNvSpPr>
          <p:nvPr>
            <p:ph/>
          </p:nvPr>
        </p:nvSpPr>
        <p:spPr>
          <a:xfrm>
            <a:off x="380880" y="1523520"/>
            <a:ext cx="838224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id on the Web </a:t>
            </a:r>
            <a:r>
              <a:rPr b="0" lang="en-US" sz="2000" spc="-1" strike="noStrike" u="sng">
                <a:solidFill>
                  <a:srgbClr val="000099"/>
                </a:solidFill>
                <a:uFillTx/>
                <a:latin typeface="Verdana"/>
                <a:hlinkClick r:id="rId1"/>
              </a:rPr>
              <a:t>http://studentaid.ed.gov/PORTALSWebApp/students/english/TEACH.jsp</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r Colleague Letters</a:t>
            </a: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2"/>
              </a:rPr>
              <a:t>http://www.ifap.ed.gov/dpcletters/010808GENFP0801.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3"/>
              </a:rPr>
              <a:t>http://www.ifap.ed.gov/dpcletters/060308GEN0807.html</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onic Announcements – Operational Guidance</a:t>
            </a: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4"/>
              </a:rPr>
              <a:t>http://www.ifap.ed.gov/eannouncements/062708CCRAATEACHStudent.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5"/>
              </a:rPr>
              <a:t>http://www.ifap.ed.gov/eannouncements/061908AddtlTEACHGrantOplmp.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2299E02-43CE-42B9-906D-52E24A29C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94A4-E7E0-4AC1-A748-04BAD43F619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7" name="Text Box 4"/>
          <p:cNvSpPr/>
          <p:nvPr/>
        </p:nvSpPr>
        <p:spPr>
          <a:xfrm>
            <a:off x="533520" y="1447920"/>
            <a:ext cx="716256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il McLarnon</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219-7048</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t>
            </a:r>
            <a:r>
              <a:rPr b="0" lang="en-US" sz="2400" spc="-1" strike="noStrike" u="sng">
                <a:solidFill>
                  <a:srgbClr val="000099"/>
                </a:solidFill>
                <a:uFillTx/>
                <a:latin typeface="Verdana"/>
                <a:hlinkClick r:id="rId1"/>
              </a:rPr>
              <a:t>gail.mclarnon@ed.gov</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ay Gilcher</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 202-502-7693</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mail: </a:t>
            </a:r>
            <a:r>
              <a:rPr b="0" lang="en-US" sz="2400" spc="-1" strike="noStrike" u="sng">
                <a:solidFill>
                  <a:srgbClr val="000099"/>
                </a:solidFill>
                <a:uFillTx/>
                <a:latin typeface="Verdana"/>
                <a:hlinkClick r:id="rId2"/>
              </a:rPr>
              <a:t>kay.gilcher@ed.gov</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 (for both): 202-502-787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EB9A0CA-5C47-46DD-8F15-CB72F3BDA30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68CE-ACB3-46C3-B69A-6C1629235A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TEACH</a:t>
            </a: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 (NPRM) Published March 21, 2008 </a:t>
            </a:r>
            <a:r>
              <a:rPr b="0" lang="en-US" sz="2000" spc="-1" strike="noStrike" u="sng">
                <a:solidFill>
                  <a:srgbClr val="000099"/>
                </a:solidFill>
                <a:uFillTx/>
                <a:latin typeface="Verdana"/>
                <a:hlinkClick r:id="rId1"/>
              </a:rPr>
              <a:t>http://ifap.ed.gov/fregisters/FR03212008TECH.html</a:t>
            </a:r>
            <a:endParaRPr b="0" lang="en-US" sz="20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Comment Period ended April 21, 2008</a:t>
            </a:r>
            <a:endParaRPr b="0" lang="en-US" sz="28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Published June 23, 2008   </a:t>
            </a:r>
            <a:r>
              <a:rPr b="0" lang="en-US" sz="2000" spc="-1" strike="noStrike" u="sng">
                <a:solidFill>
                  <a:srgbClr val="000099"/>
                </a:solidFill>
                <a:uFillTx/>
                <a:latin typeface="Verdana"/>
                <a:hlinkClick r:id="rId2"/>
              </a:rPr>
              <a:t>http://ifap.ed.gov/fregisters/FR06232008TEACH.html</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Rulemaking Website</a:t>
            </a:r>
            <a:r>
              <a:rPr b="0" lang="en-US" sz="2000" spc="-1" strike="noStrike">
                <a:solidFill>
                  <a:srgbClr val="000000"/>
                </a:solidFill>
                <a:latin typeface="Verdana"/>
              </a:rPr>
              <a:t> </a:t>
            </a:r>
            <a:r>
              <a:rPr b="0" lang="en-US" sz="2000" spc="-1" strike="noStrike" u="sng">
                <a:solidFill>
                  <a:srgbClr val="000099"/>
                </a:solidFill>
                <a:uFillTx/>
                <a:latin typeface="Verdana"/>
                <a:hlinkClick r:id="rId3"/>
              </a:rPr>
              <a:t>http://www.ed.gov/policy/highered/reg/hearulemaking/2008/index2008.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3DA9DDD-13D7-4EAF-8005-4950A8BCFB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345D-23ED-4E57-BCC4-C2DFC3CC539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Summary</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on-need based program that provides up to $4,000 per year to students enrolled in an eligible program and who agree to teach as a highly-qualified teacher in a high-need field, at a low-income elementary or secondary school for at least 4 years within 8 years of completing the program for which the TEACH Grant was award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complete the required teaching service results in conversion of the TEACH Grant to a Federal Direct Unsubsidized Loan with interest accruing from the date the grant was disbursed</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C8E9F91-D0F6-4277-A25D-0E39A1F0B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B0E1-832A-4359-AD73-10E79C906A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Amounts</a:t>
            </a: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of up to:</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00 per year for 1</a:t>
            </a:r>
            <a:r>
              <a:rPr b="0" lang="en-US" sz="2800" spc="-1" strike="noStrike" baseline="30000">
                <a:solidFill>
                  <a:srgbClr val="000000"/>
                </a:solidFill>
                <a:latin typeface="Verdana"/>
              </a:rPr>
              <a:t>st</a:t>
            </a:r>
            <a:r>
              <a:rPr b="0" lang="en-US" sz="2800" spc="-1" strike="noStrike">
                <a:solidFill>
                  <a:srgbClr val="000000"/>
                </a:solidFill>
                <a:latin typeface="Verdana"/>
              </a:rPr>
              <a:t> undergraduate or post-baccalaureate degree (up to an aggregate amount of $16,00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00 per year for master’s degree (up to an aggregate amount of $8,000)</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are prorated for less than full-time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of TEACH Grants, in combination with other assistance, may not exceed CO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B961028-442E-45B3-9098-7558C762B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DE3D-071F-4CBD-AB2F-52A65766B1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ncellation of TEACH Grant</a:t>
            </a:r>
            <a:endParaRPr b="1" lang="en-US" sz="36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notify TEACH Grant recipient of her right to cancel all or part of the TEACH Grant no earlier than 30 days before and no later than 30 days after crediting the recipient’s acc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a:t>
            </a:r>
            <a:r>
              <a:rPr b="0" lang="en-US" sz="2800" spc="-1" strike="noStrike" u="sng">
                <a:solidFill>
                  <a:srgbClr val="000000"/>
                </a:solidFill>
                <a:uFillTx/>
                <a:latin typeface="Verdana"/>
              </a:rPr>
              <a:t>must</a:t>
            </a:r>
            <a:r>
              <a:rPr b="0" lang="en-US" sz="2800" spc="-1" strike="noStrike">
                <a:solidFill>
                  <a:srgbClr val="000000"/>
                </a:solidFill>
                <a:latin typeface="Verdana"/>
              </a:rPr>
              <a:t> return or cancel the TEACH Grant if a cancellation request is received by the later of the first day of a payment period or 14 days after the date student was notified of cancellation righ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1AD0D3E-20B1-4E7B-88F2-1516601A8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BCA7-2BF3-4882-8920-FEA988DB10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ncellation of TEACH Grant</a:t>
            </a:r>
            <a:endParaRPr b="1" lang="en-US" sz="36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a:t>
            </a:r>
            <a:r>
              <a:rPr b="0" lang="en-US" sz="2800" spc="-1" strike="noStrike" u="sng">
                <a:solidFill>
                  <a:srgbClr val="000000"/>
                </a:solidFill>
                <a:uFillTx/>
                <a:latin typeface="Verdana"/>
              </a:rPr>
              <a:t>may</a:t>
            </a:r>
            <a:r>
              <a:rPr b="0" lang="en-US" sz="2800" spc="-1" strike="noStrike">
                <a:solidFill>
                  <a:srgbClr val="000000"/>
                </a:solidFill>
                <a:latin typeface="Verdana"/>
              </a:rPr>
              <a:t> return or cancel the TEACH Grant if a request is received after 14 days but within 120 days of the disbursement d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does not return or cancel the TEACH Grant, student must be notified to contact the Department so that she can request conversion to Direct Loa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05F48DC-1AFE-4151-8CEB-862A0D5821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8:54:01Z</dcterms:modified>
  <cp:revision>232</cp:revision>
  <dc:subject/>
  <dc:title>PowerPoint Presentation</dc:title>
</cp:coreProperties>
</file>