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A3EE3-481A-4F5F-9582-CAD11F391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nd Feel” changes being made to other FAA Access applications for 2007-2008 have not yet been made to R2T4 but will be in the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one Institutional Charge and one School Calendar Profile must be created prior to entering an R2T4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differences between Clock hour and Credit hour e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stitutional Charges code links the 2 screens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tting up these screens look at all your school’s programs and budgets to devise a convention that makes sense for your total array of combinati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-specified fields aren’t required but can be used to collect additional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tering a Credit hour and a clock hour student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 for all the Status Screens are available from the Reports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fields are available – only fields stored in the database – most calculated values aren’t s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A introduced the first major changes since web software released in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software has been removed from main download page at FSA Download, but has been archived at FSA Download and can still be downloaded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attend Session #11 -- Return of Title IV Funds: HERA Policy and Implementation Changes -- if you would like additional detail on the HERA changes as they relate to R2T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A introduced the first major changes since web software released in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software has been removed from main download page at FSA Download, but has been archived at FSA Download and can still be downloaded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attend Session #11 -- Return of Title IV Funds: HERA Policy and Implementation Changes -- if you would like additional detail on the HERA changes as they relate to R2T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est TG &amp; School code number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9A3A-3B95-4076-AD59-6607F7159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D52E-6CA6-43D9-BC89-F3BBA18C9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C56B-68B5-40B5-BB91-C762B023E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3539-8235-4F9E-B596-252DBBD9E2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5079-FF21-4BDA-8E46-A810D41BBE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1D1C-C724-46C7-8FD7-47EDC18D4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4216-E45A-4BAE-80D1-66C685E53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321D-04D0-4897-9126-B38972EEB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9931-52AF-4249-94F8-A9F0F24D4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E0C1-3CEF-4DAA-B8C4-F2666E60D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208C-D60E-43CD-B929-46ABDE566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C54E-828C-450E-BEBD-B162986D6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8A59-803A-4896-B341-28891E04E5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fsawebenroll.ed.gov/" TargetMode="External"/><Relationship Id="rId2" Type="http://schemas.openxmlformats.org/officeDocument/2006/relationships/hyperlink" Target="https://www.fsawebenroll.ed.gov/" TargetMode="External"/><Relationship Id="rId3" Type="http://schemas.openxmlformats.org/officeDocument/2006/relationships/hyperlink" Target="https://www.fsawebenroll.ed.gov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fsa.ed.gov/FOTWWebApp/faa/faa.jsp" TargetMode="External"/><Relationship Id="rId2" Type="http://schemas.openxmlformats.org/officeDocument/2006/relationships/hyperlink" Target="http://www.fafsa.ed.gov/FOTWWebApp/faa/faa.jsp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C-01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Hands-on Tour of Return of Title IV Funds (R2T4) on the Web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88620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ya Denn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n K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rek K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gent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on the Web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a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76201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Home/Welcome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77724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p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ft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lp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ottom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9663-F43A-41E1-B10D-37897BDC42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Setup Scree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724068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itutional char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 calendar pro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-specified fiel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F183-20C7-481F-9552-C0F040F5CC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R2T4 Reco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new rec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existing rec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Demographic sc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Create R2T4 rec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Create post-withdraw disburs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Notes ta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9C8B-F634-40B8-A667-D1FFA3B5AF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Status Scree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no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payment arrangements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portion of title IV funds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s with a post-withdrawal disburs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cords referred to Dept.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8268-E328-4217-8BDB-F92448B742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Repor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li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no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payment arrang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portion of R2T4 retur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s with a post-withdrawal disburs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cords referred to Dept.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E1DE-3ADF-46AC-BF89-8F0F1CB896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Data Expo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a-delimited text 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rowse d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4D7B-16DF-473E-A8A6-5AE67ECD75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chnical Assistanc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PS/SAIG Technical Support can be reached 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800-330-594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x: 319-665-766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CPSSAIG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83A2-C1DC-4DCC-90B8-285F1A55E1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 and Com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more information while at the conferenc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ttend session C-25: R2T4 Compliance Iss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e to the PC lab for assist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4425-91A7-4EB1-9459-D4F7801A6F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85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ands-on Exercis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7855-8D9B-448F-A373-275F34EBF8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brief history of return of Title IV funds (R2T4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R2T4 on the Web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ing R2T4 on the Web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2T4 on the Web funct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 exerci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A838-4130-42F0-95A0-C8C911ACF7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y stated:  If a recipient of Title IV aid withdraws during a payment period or a period of enrollment, the institution must calculate the amount of Title IV aid the student earned.  Unearned Title IV funds must be returned to the Title IV progr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2D04-37C9-4A2A-A0DE-AF3DFCB259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 to 1999/2000 called “Refunds and Repayments” (refund of unearned institutional charge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July 1, 2000, the 1998 Reauthorization of the HEA and Negotiated Rule Making changed this regulation to “the Treatment of Title IV, HEA program funds when a student withdraws from an institution”, AKA “Return to Title IV Fund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7BC4-70AA-4BEB-93DA-102B7CC4CF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ril 25, 2000: R2T4 PC Software became avail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tember 14, 2004: R2T4 on the Web was release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gust 7, 2006: HERA upd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ly 27, 2008: CCRAA upd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t. 28, 2008: Non-CCRAA upd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8A3D-7BF2-4588-8D6B-C2973E0774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R2T4 on the Web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-based software that calculates and manages the return of Title IV fu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ailable through 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enrolled on SAIG Enrollment web site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s://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fsawebenroll.ed.gov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B6BA-BC8E-4AF1-A53E-CAB055897F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Regulatory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Higher Education Reconciliation Act (HERA) of 2005 (effective July 1, 2006), an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ollege Cost Reduction and Assistance Act (CCRAA) (effective July 1, 2008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d some steps in the original Return of Title IV Funds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34AE-6782-469A-B3FA-20ECBD4515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Regulatory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R2T4 on the Web to calculat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Withdrawal Da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use the R2T4 PC software for students who withdrew on or after July 1, 200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491C-DE6A-4242-967F-E0F8E9D3F6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cessing R2T4 on the Web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 through 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fafsa.ed.gov/FOTWWebApp/faa/faa.js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rming Your Identity” (SSN, Last Name, DOB, PI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A Main Menu – Select the “Return of Title IV Funds on the Web” o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 TG# and Federal School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F6DA-99D5-4429-80DA-2C987C38A2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09-09T20:35:12Z</dcterms:modified>
  <cp:revision>234</cp:revision>
  <dc:subject/>
  <dc:title>PowerPoint Presentation</dc:title>
</cp:coreProperties>
</file>