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E4C1A-B696-48EF-B201-16F126658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nd Feel” changes being made to other FAA Access applications for 2007-2008 have not yet been made to R2T4 but will be in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one Institutional Charge and one School Calendar Profile must be created prior to entering an R2T4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differences between Clock hour and Credit hour e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stitutional Charges code links the 2 screens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tting up these screens look at all your school’s programs and budgets to devise a convention that makes sense for your total array of combinati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-specified fields aren’t required but can be used to collect additional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tering a Credit hour and a clock hour student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 for all the Status Screens are available from the Reports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fields are available – only fields stored in the database – most calculated values aren’t s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A introduced the first major changes since web software released in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software has been removed from main download page at FSA Download, but has been archived at FSA Download and can still be downloaded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attend Session #11 -- Return of Title IV Funds: HERA Policy and Implementation Changes -- if you would like additional detail on the HERA changes as they relate to R2T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A introduced the first major changes since web software released in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software has been removed from main download page at FSA Download, but has been archived at FSA Download and can still be downloaded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attend Session #11 -- Return of Title IV Funds: HERA Policy and Implementation Changes -- if you would like additional detail on the HERA changes as they relate to R2T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est TG &amp; School code number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BBFD-737D-4B9E-AEED-89E514CA7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A3CB-A1C4-4183-982B-88344DC98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E39D-A5A1-4B3D-AE9C-4AAED8518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91BF-5CF9-4674-B019-43BDAA992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303D-602D-4E2B-9EE7-59BF87E29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FD8C-7927-44F1-8AAF-1D5B3A312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FE9B-12DD-4281-8D22-38BD92F43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D31B-1E66-4B33-B69A-84EC91AF1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9966-48C2-4950-AF1B-B9BA92B55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3053-6E2A-4FE1-84C2-8B02EDA86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C22E-7BCF-4194-92E7-95330382C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F9A4-B8DF-4634-8442-66AAB1EB6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97B6-B2F0-45AF-948A-23A0917FA7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sawebenroll.ed.gov/" TargetMode="External"/><Relationship Id="rId2" Type="http://schemas.openxmlformats.org/officeDocument/2006/relationships/hyperlink" Target="https://www.fsawebenroll.ed.gov/" TargetMode="External"/><Relationship Id="rId3" Type="http://schemas.openxmlformats.org/officeDocument/2006/relationships/hyperlink" Target="https://www.fsawebenroll.ed.gov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fsa.ed.gov/FOTWWebApp/faa/faa.jsp" TargetMode="External"/><Relationship Id="rId2" Type="http://schemas.openxmlformats.org/officeDocument/2006/relationships/hyperlink" Target="http://www.fafsa.ed.gov/FOTWWebApp/faa/faa.jsp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01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Hands-on Tour of Return of Title IV Funds (R2T4)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8862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ya Denn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n K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rek K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gent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on the Web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a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76201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Home/Welc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77724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p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ft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lp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ttom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27EA-A0E8-416B-BD9A-DEA66CF1DA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305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Setup Scre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724068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itutional char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 calendar pro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-specified fiel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303B-AC6E-4517-A3C0-70CE840A4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R2T4 Reco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new 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existing 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Demographic sc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Create R2T4 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Create post-withdraw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Notes t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32E9-C64D-4B7F-BB80-88F5A21F76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Status Scre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no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payment arrangement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portion of title IV fund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with a post-withdrawal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ords referred to Dept.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5BDA-9212-4EC4-88A5-9209A79294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Repor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li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no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payment arrang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portion of R2T4 retur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with a post-withdrawal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ords referred to Dept.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6282-3C18-4BA6-A205-A7B8262370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Data Ex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a-delimited text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owse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5EA9-DEC4-4FCE-B3AB-21C173F462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chnical Assista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PS/SAIG Technical Support can be reached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800-330-59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x: 319-665-766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CPSSAIG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1A59-013F-469B-A16B-06DF9172BD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 and Com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more information while at the conferenc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tend session C-25: R2T4 Compliance Iss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e to the PC lab for assist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A4D5-EB31-4001-813A-CFF0776D8F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85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ands-on Exercis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3865-902E-46D9-87A0-253C1C12E0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brief history of return of Title IV funds (R2T4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R2T4 on the Web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ing R2T4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2T4 on the Web funct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 exerci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DBF4-BDE9-4217-9D5E-60BA13A4AB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y stated:  If a recipient of Title IV aid withdraws during a payment period or a period of enrollment, the institution must calculate the amount of Title IV aid the student earned.  Unearned Title IV funds must be returned to the Title IV pro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5C52-E9D4-419B-A459-5118C5EFF7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 to 1999/2000 called “Refunds and Repayments” (refund of unearned institutional charge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July 1, 2000, the 1998 Reauthorization of the HEA and Negotiated Rule Making changed this regulation to “the Treatment of Title IV, HEA program funds when a student withdraws from an institution”, AKA “Return to Title IV Fund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2844-2DCE-4130-BEC7-E2BADFE10C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ril 25, 2000: R2T4 PC Software became avail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ember 14, 2004: R2T4 on the Web was release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gust 7, 2006: HERA upd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ly 27, 2008: CCRAA upd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t. 28, 2008: Non-CCRAA upd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5BFC-342C-4D31-B373-770AEFC14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R2T4 on the Web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-based software that calculates and manages the return of Title IV fu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ailable through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enrolled on SAIG Enrollment web site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s://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fsawebenroll.ed.gov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2F17-37C3-4907-80ED-3CF6F69008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Regulatory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Higher Education Reconciliation Act (HERA) of 2005 (effective July 1, 2006), an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ollege Cost Reduction and Assistance Act (CCRAA) (effective July 1, 2008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d some steps in the original Return of Title IV Funds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15A0-01C6-4BAD-A73F-6F0954B02D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Regulatory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R2T4 on the Web to calculat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Withdrawal D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use the R2T4 PC software for students who withdrew on or after July 1, 200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7FE8-ECCE-4C0B-B6C6-D70438C1E7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cessing R2T4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 through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fafsa.ed.gov/FOTWWebApp/faa/faa.js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rming Your Identity” (SSN, Last Name, DOB, PI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A Main Menu – Select the “Return of Title IV Funds on the Web” o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 TG# and Federal School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53E1-85FD-4C68-BFA1-BD38F3D26E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09-09T20:35:12Z</dcterms:modified>
  <cp:revision>234</cp:revision>
  <dc:subject/>
  <dc:title>PowerPoint Presentation</dc:title>
</cp:coreProperties>
</file>