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87A5-782E-4C59-B6A6-1E5E34166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eligibility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ust meet the requirements of 34 CFR 668, Subpart C.  These are eligibility requirements that are common to all students who receive federal student aid. Under these provisions, aid recipients must meet citizenry and residency requirements, they must make satisfactory academic progress in the program in which they are enrolled, and they must register for selective service to name a f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complete a FAFSA or a Free Application for Federal Student Aid.  Even though this is not a a  need-based program, the FAFSA will be the mechanism through which the Department will identify those students interested in receiving this grant.  And only on the electronic version in this first year of the TEACH Grant’s ex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recipient must sign an “Agreement to Serve.”  This is a legally binding agreement under which the grant recipient will be required to perform the service agreement and which states the terms and conditions of both the TEACH Grant and an unsubsidized Direct Loan, should the grant convert to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 Grant recipient must be enrolled in a TEACH-eligible institution in a TEACH-eligible program. More on thi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recipient must be completing, or intend to complete, coursework necessary to begin a career in teaching.</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stablish eligibility for a TEACH Grant, recipients must satisfy one of thes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rst year undergraduate student would qualify for a TEACH Grant with a cumulative secondary school GPA of 3.25% on a 4.0 scale, or the numeric equivalent.  A student qualifying with such a GPA for the first year would need to meet additional GPA requirements to retain eligibility for TEACH Grants once that student is beyo0nd the first year or his or her undergra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could also establish eligibility, once admitted, based on a 3.25 GPA for the most recently completed payment period. Students beyond the first year of a program of undergraduate education would again have to maintain the 3.25 GPA on an ongoing b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 any student that scores above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f scores on at least one of the batteries from a nationally-normed standardized undergraduate, graduate, or post-baccalaureate admissions test automatically establishes eligibility for a TEACH Grant.  For example, a student who scored above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n the math section of the SAT, but who scored below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n the other sections of the SAT, could qualify for a TEACH Grant, if otherwise eligible.  Also, a qualifying test score from an undergraduate admissions test could qualify an otherwise eligible student for a TEACH Grant regardless of whether the student would be an undergrad or a graduate student.  Students who qualify based on test scores do not need to maintain a 3.25% GP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teachers and retirees who have expertise in a high-need field who are pursuing a masters degree are also eligible for a TEACH 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need fields include math, science, foreign languages, special education, reading specialists, bilingual education, English language acquisition or any other field designated by a local, State or Federal government as high-need.  More on thi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or former teachers who are pursuing a certification through a high-qualify alternative certification route are also eligible to receive TEACH Grants as long as the alternative certification is offered by an institution of higher education that is eligible to participate in the title IV federal student aid pro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alize that alternative certification is offered in a variety of settings, however, this is a statutory requirement.  An eligible institution of higher education is a term that is defined in statute and regulations.  It is a public or private institution that awards an associate, baccalaureate, graduate or professional degree, a two year program acceptable for full credit toward a B.A., or a training program of at least one year that leads to a certificate, degree or other recognized credential and is accredited by an accrediting agency recognized by the Secretary. An eligible institution can also be a proprietary school or a vocational schoo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al eligibility to participate in TEACH. We will be issuing a DCL with guidance shortly.  Basically, a school must inform ED that it wishes to participate by modifying their electronic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stitutions must be financially responsible in accordance with 34 CFR 668, subpart L, and ED will confirm that a school meets this standard. That means:</a:t>
            </a:r>
            <a:r>
              <a:rPr b="0" lang="en-US" sz="1200" spc="-1" strike="noStrike">
                <a:solidFill>
                  <a:srgbClr val="000000"/>
                </a:solidFill>
                <a:latin typeface="Arial"/>
              </a:rPr>
              <a:t>(1) A school has sufficient cash reserves to make required refunds (2) is current in its debt payments, and (3) is meeting all of its financial obligations, including making refunds and repayments to the Secret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ay establish institutional eligibility in any of 4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1 and first bul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pecialized accrediting agency, we mean TEAC or NCATE.  These organization list the schools they accredit on-line and the Department will confirm this accred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in the process of developing more guidance on what constitutes “extensive” pre-service clinical experience.  Our initial thinking on this requirement is that the most workable approach would be to ask schools that are not NCATE or TEAC-accredited, and that are located in the 12-18 states that require little or no student teaching, to certify that their program provides at least 10 weeks of full-time classroom teaching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ether an institution is accredited by a specialized agency or approved by a State, an institution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point out here that in using the terms “providing supervision” we are not talking about direct supervision in the classroom nor are we using the term  supervision as that term is understood in the employment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alking about the provision of services in the form of information and resources to teachers and school districts, and direct observation and coaching, to strengthen the classroom performance of novice teache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provide a two-year program are also eligible to participate in the TEACH Grant program if the two-year program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able for full credit into an eligible baccalaureate teacher preparation program offered at an eligibl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able for full credit into an eligible baccalaureate program in a high-need field offered at an eligibl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oth cases, the institution that provides a two-year program must demonstrate its relationship with an eligible institution that offers either a teacher preparation program or a baccalaureate program in a high-need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monstration can take the form of actual student records that evidence a full acceptance of credits from one TEACH-eligible program to another, a formal articulation agreement between institutions, a consortium agreement specific to the TEACH eligible programs at each institution, or any other similar written agreement between institutions.  The names of the institutions would have to be included in any agreement.  The Department would not collect these agreements, but would require that they be available for audit or program review purpose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stitution may establish its eligibility to participate in the TEACH Grant program by offering a baccalaureate degree program in a high-need field that will prepare a student to teach and by entering into an agreement with an eligible institution that offers a high-qualify teacher preparation program or an eligible institution that offers a post baccalaureate program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is agreement may take the form of a formal articulation agreement between institutions, a consortium agreement, or any other written agreement between the institutions.  The agreement must name the institution, or institutions participating in such a relationship.  And again the Department will not collect these agreements, but require that they be available for audit or program review purpose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way an institution may establish its eligibility to participate in the TEACH Grant program is to offer an eligible post-baccalaureate program of student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lead to a graduate deg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s of courses required by a State for a student to receive a professional certification in teach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 undergraduate program for title IV student financial assistanc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offer a post-baccalaureate and a BA in education are not eligible to participate in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atutor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are free to choose whether or not to participate in the TEACH Grant Program.  It is not a requirement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nstitution chooses to participate, the institution must designate which programs offered by the institution are TEACH-eligible programs.  The obvious programs an institution might designate would be teacher preparation programs or programs in a high-need field.  Once an institution designates a program as TEACH-eligible, all students who are enrolled would be entitled to receive a TEACH Grant as long as they are otherwise e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choose to participate in the TEACH Grant Program must provide their grant recipients with counseling prior to each grant disbursement as well as prior to leaving th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counseling must be provided in person, by audiovisual presentation, or by interactive, electronic means prior to the first disbursement of a TEACH Grant.  Schools would be required to ensure that an individual with expertise in the Federal Student aid programs is available to students shortly after a counseling session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counseling must provide information about the terms and conditions of a TEACH Grant Service Agreement so that the recipient is clear that this a grant that carries with it an obligation and if that obligation is not fulfilled, the grant becomes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provide information to a TEACH Grant recipient on how to identify low-income schools and documented high-need fields.  This is to ensure that a grant recipient can locate a low-income school in the area in which he or she hopes to teach.  The information on documented high-need fields ensures the recipient has information on local, State or Federally designated high-need fields if s/he chooses to teach in an areas that is not designated in the sta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provide information on how a TEACH Grant recipient can request a suspension of the eight-year period in their teaching service must be completed.  The ability to suspend this eight year period helps the grant recipient meet the teaching obligation if circumstances beyond his or her control make it impossible to teach in any given year.  More on suspension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inform the TEACH Grant recipient of the conditions under the TEACH Grant converts to a Direct Unsubsidized loan.  Obviously good information to know, otherwise a grant recipient becomes a borrower with a debt to rep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also inform the recipient of the terms and conditions of a Direct Unsub loan so that they are familiar with their rights and responsibilities should the grant be converted to a loa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applicant may receive a grant only after signing a service agreement and receiving counseling.  Here we see the requirements a grant recipient must satisfy in order to fulfill the service obl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nt recipient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a full-time teacher for a total of not less than four elementary or secondary academic years within eight calendar years after completing the program for which the recipient received the TEACH Grant or otherwise ceased enroll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in a low-income school.  A low-income school is a school in which at least 30% of the enrolled students are considered low-income (usually measured by the number of students who receive a free-or-reduced price lu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 highly qualified teacher as that term is defined in the No Child Left Behind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in a high-need field in the majority of classes taught during each elementary or seconda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it documentation of such service each year that is certified by the chief administrative officer of the school in which the grant recipient teaches and fi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y with the terms, conditions and other requirements of the TEACH Grant progra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need fields are identified in the authorizing legisl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high-need fields which would satisfy a recipient’s teaching obligation are documented by local, State or Federal Governments are collected by the Department of Education and published in an annually updated Teacher Shortage Area National Li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ing has historically been used to grant teacher cancellation based on teaching in a teacher shortage area in the Perkins Loan Program and for deferment granting purposes in the Federal Family Education Loan Program.  We will use this listing to allow grant recipients to identify high-need fields that may not otherwise have been designated in the statute to satisfy their teaching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ates designate the same high-need fields that are designated in the Statute.  For example, for the 2007-2008 school year, Texas designated Bilingual Education, English as a Second language, mathematics, foreign languages, science, special education and technology applications.  So you can see the overlap between State and Federal designations.  On the other hand, the State of Ohio designated art, economics, English, foreign language, geography, government, history, math and scienc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teach in a high-need field in the majority of the classes they teach.  In recognition of a recent trend to restructure elementary schools on a K-8 model and to promote the math and science skills of elementary school teachers, one of the non-Federal negotiators proposed that we consider allowing a teacher to fulfill the requirement to teach in a high-need field if the majority of classes taught by the grant recipient were in a high-need field.  The negotiator believed that adopting such a policy would allow more elementary school teachers to benefit from the TEACH Grant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high-need fields must be listed in the Department’s Nationwide Listing of Teacher Shortage areas as we just discu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elementary and secondary schools are considered low-income if 30% of the students are low-income and the school is listed in the Department Low-Income Directory.  The Department has been keeping a national list of low-income schools for years so that borrowers in the Perkins Loan Program can qualify for cancellation on their loans based on teaching in a low-income school.  Like the Nationwide Listing of Teacher Shortage areas, we have found a new use for the Low-Income Directory in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document their four years of teaching in order to keep the grant from converting to a loan.  Upon completion of each of the four required elementary or secondary academic years of teaching service, the grant recipient must provide evidence that shows that the recipient is a highly-qualified teacher in a high-need field in the majority of classes taught during each year in a low-income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ulations also provide that if the school at which the grant recipient teaches meets the requirements of a low-income school in the first year of the grant recipient’s four academic years of teaching but fails to meet those requirements in subsequent years, the subsequent years of teaching would still count toward fulfillment of a service agreement.  Similarly, if a grant recipient begins teaching in a high-need field listed in the Nationwide List and in subsequent years the high-need field is no longer designated, subsequent years of teaching in that field would count toward the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t recipients must complete an Agreement to Serve for each program of study for which TEACH Grants were received.  If a grant recipient attends more than one institution, the grant recipient would have two separate service agreements.  The proposed regulations allow for teaching service to apply to more than one service agreement in certain situations.  For exa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eight year service period begins on the date the recipient completes or otherwise ceases enrollment in the TEACH-eligible progra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is aspect of the TEACH Grant program that has upset many financial aid administrators and students alike.  It is possible that under the statutory maximum TEACH Grant aggregates that an undergraduate could incur up to $16,000 in TEACH Grants and as a graduate student incur $8,000 more, for a total of $24,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24,000 in grant aid could converts to $24,000 in student loan debt if the service agreement is not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reasons that extensive counseling requirements were included in the regulations.  All of the negotiators felt it was extremely important to provide a TEACH Grant recipient with as much information about this aspect of the program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partment of Education will also be in regular touch with TEACH Grant recipients by providing each of them a running tally of the interest that has accrued since the TEACH Grants were disbursed so that recipients are always aware that this is a grant that has the potential to convert to a loan.</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circumstances under which a TEACH Grant would convert to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negotiators agreed that TEACH Grants should be converted to a Direct Unsubsidized Loan if at any time a TEACH Grant recipient request such a conversation.  This is most likely to happen if a  TEACH Grant recipient concludes that he or she does not want to be a teacher afte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would convert to a Direct Unsubsidized Loan if, within 120 days of ceasing enrollment, the recipient fails to notify the Department of Education that he or she is employed, or intends to pursue employment, as a full-time teacher in accordance with the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s that convert to Direct Unsubsidized loans are not counted against the grant recipient’s annual or aggregate Stafford Loan limits.  This is because in some cases, the conversion of loans would immediately render the grant recipient ineligible for further financial aid should annual or aggregate loan limits be exceeded as a result of the conversion of TEACH Gr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such an outcome would be unfair to a grant recipient whom,  for reasons beyond his or her control, may be unable to comply with the service obligat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68560" y="67788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Cost Reduction and Access Act of 2007 was the legislation that authorized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aw 110-84 – enacted on September 27,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RAA greatly expended student and borrower benefits under the Federal Student financial aid programs authorized by title IV of the Higher Education Act – Pell Grants, Work Study, FFEL and Direct Loan Programs, and the Perkins Loan Program – by making cuts the the FFEL Program (Federal Family Education Loan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r interest rates for subsidized Stafford Loan borr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d funding for the Pell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giveness for public service employment in the DL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new based repayment program for Stafford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new title IV grant program for future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of course the TEACH Grant Program.  The TEACH in TEACH Grant stands for Teacher Education Assistance for College &amp; Higher Education – Congress loves a catchy acronym – and this program is effective on July 1, 2008, which is right around the corn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version of a TEACH Grant to a loan creates a new legally-binding agreement with the TEACH Grant recipient requiring repayment of the grant amounts as a Direct Unsubsidized Loan.  This legally binding agreement would reflect the terms and conditions of the repayment of the loan under part D of Title IV of the Higher Education Act.  There are no provisions in the promise to repay signed by the grant recipient under part D of Title IV of the HEA that would allow for the discharge and reconversion of the loan debt to a 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Federal negotiators expressed concern that the proposed regulations would not provide for an appeal process should the grant recipient’s TEACH Grants be converted to a Direct Unsubsidized Loan by mistake or through some omission or error on the part of either the Secretary of the grant recipient.  The Federal negotiators did not agree that an appeals process was necessary and instead agreed to provide a reference in the counseling requirements to the Student Loan Ombudsman as an alternative resource should the conversion be contested by the recipien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who have completed or ceased enrollment in a TEACH-eligible program may request a suspension of the eight-year period for completion of the service obligation for several reas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work much like a deferment works in the loan programs.  In order to receive a suspension of the grant recipient would have to apply in writing on a form approved by the Department of Education and provide the Department with documentation supporting the suspension request as well as current contact information, including home address and telephone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t the authorizing legislation did not explicitly provide for suspensions of the eight year service agreement, the proposed regulations include suspensions to provide TEACH Grant recipients with some flexibility in limited circum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mited circumstances include enrollment in a program of study for which the recipient would be eligible for a TEACH Grant or enrollment in a program of study to obtain a certificate or license to begin teaching. This flexibility would prevent TEACH Grant recipients who, because of State requirements, must complete an undergraduate degree and subsequently obtain the credential that actually allows them to begin teaching, from being penalized with regard to completion of their first service obligat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mited circumstances also would include conditions covered under the Family and Medical Leav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final regulations are published, we will be reviewing language related to the conditions covered by the FMLA and update them to include several new ad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uld also note with regard to the FMLA circumstances that a TEACH Grant recipient who requests a suspension based on these scenarios would not have to go through the certification process specified in the FMLA regulation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stances qualifying for a suspension would also include a call to military service as part of the Armed Forces reserve or the national guard.  The negotiators believe that TEACH Grant recipients should not be placed at a disadvantage in completing their service obligations as a result of defending their country in the event of a call to active service in connection with a war, military operation, or a national emerg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sions cannot exceed a combined total of three years except for military service.  Suspensions based on military service may be granted on an unlimited b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ederal negotiators were unhappy with the proposed regulations on suspension.  They did not think that the proposed regs adequately addressed situations that could affect a TEACH Grant recipient’s ability to meet the terms of his or her service obligation.  Some of the negotiators suggested that the proposed regulations allow a TEACH Grant recipient to suspend his or her service obligation in the event of any extenuating circumstance.  The Department declined to support expansion of circumstances for suspension because it would contradict the intent of the TEACH Grant program by delaying the entry of highly-qualified teachers in high-need fields in low-income schools where they are badly neede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recipient’s Agreement to Serve can be discharged under two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grant aid does not have to be repaid, the service agreement signed by a TEACH Grant recipient is a binding, legal document requiring the repayment of each TEACH Grant, along with interest from the date of disbursement, as a Direct Unsubsidized Loan if the service obligation is not met.  A discharge of the service obligation for death and total and permanent disability relieves the grant recipient of a potential repayment obligation and is also consistent with the treatment of Title IV, HEA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posed regs adopt the definition of TPD already used in the Federal Direct Loan Program which as a condition of an individual who is unable to work and earn money because of an injury or illness that is expected to continue indefinitely or result tin death.  A teach Grant recipient who meets this definition cannot comply with the service agreement because she or he cannot work or earn money.  And because we already have a process in place to discharge Direct Loans for this reason, the negotiators agreed that it was best not to reinvent the wheel for this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U.S. Department of Education (the Department) is specifically required by law to use negotiated rulemaking to develop rules for the Title IV programs unless doing so is impracticable, unnecessary, or contrary to the public interest.</a:t>
            </a:r>
            <a:r>
              <a:rPr b="0" lang="en-US" sz="1200" spc="-1" strike="noStrike">
                <a:solidFill>
                  <a:srgbClr val="000000"/>
                </a:solidFill>
                <a:latin typeface="Calibri"/>
              </a:rPr>
              <a:t>  The TEACH Grant Program is included in title I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otiated rulemaking process begins with the publication of a FR Notice announcing our intent to negotiate, setting forth a proposed agenda and soliciting nominees for negotiators.  The notice also announces a series of regional meetings located across the United States.  The purpose of these meetings is to give the public an opportunity to express their opinion on which ED should be addressing during the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eld regional hearing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put we received on the new TEACH Grant program at these meetings was decidedly mixed.  Many people expressed grave reservations about TEACH, mostly because this is a grant that has the potential to become a loan if a service requirement is not met. On the other hand, some people expressed support for the program.  $ is $ and the cost of an education is not going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imately, two negotiating committees were formed.  One to address implementation of the TEACH Grant Program; the other to address loan issu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stated earlier, the TEACH Grant program is effective on July 1,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gotiated the proposed rules implementing the program on a very compressed time table a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 Grant negotiators reached consensus on the proposed regulations.  Consensus is defined as a lack of dissent – every party at the table must be in agreement on every provision of the proposed rule and ultimately on the entire pack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sensus is reached, the Department must reflect the consensus agreements in the publication of a Notice of Proposed Rulemaking or NPR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ice of Proposed Rulemaking or NPRM was published on March 21,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link to the document.  I urge you to rea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30-day comment period on this NPRM.  During this time, we invite the public to comment on the proposed regulations – to tell us what we got right, and what we may have gotten wrong.  In developing Final Regulations to implement the Program, the Department considers each comment it receives and makes changes to the proposed rules as appropriate in response to those comments.  The Final Regulations contains an analysis of the comments in the preamble to the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to publish final regulations implementing the TEACH Grant program sometime in mid-J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lso included a link to our negotiated rulemaking website so you can read more about the process and access the background materials we used during the negotiations on TEACH.</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nutsh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PRM implements the statutory TEACH Grant annual maximums and aggregates that undergrads, post baccalaureate and graduate students may receive under the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dergrad or post-bac student would be eligible to receive up to $4,000 a year up to an aggregate amount of $16,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duate student would be eligible to receive up to $4,000 a year up to an aggregate amount of $8,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ute requires that TEACH Grants be prorated for students attending school less than full-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time eligible students receive $4,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quarter time students receive $3,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f-time students receiv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and half-time students receive $1,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EACH Grants, in combination with other assistance, cannot exceed a student’s cost of attendanc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12FEBF-70DA-4D8E-92FD-ED591A5FB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1676D5-F2B0-4AC1-B96C-A25795E2D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0A83E0-FBE2-48F6-8268-0513359B2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80F72D-E34E-47FE-B6BD-84DC68DED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4870BB-ABD7-4DE3-9AEB-F74C3830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8A154C-A177-414C-B6E5-9B59D98C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73BB4C-5EDA-4A5D-8BE4-D6A4E20EA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AADA65-2E0B-4AC7-9B17-9D3BC1F6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650B46-8768-47E9-8357-A563923A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E65934-27F5-4050-839B-68DF5342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8CE2AC-49C2-43DD-8E3A-A2D7C6F9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1B1CB5-8DEB-48D0-B22C-52F72EB88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6"/>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901F-8253-46A9-8B07-2D7426FF5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tudentaid.ed.gov/PORTALSWebApp/students/english/TEACH.jsp" TargetMode="External"/><Relationship Id="rId2" Type="http://schemas.openxmlformats.org/officeDocument/2006/relationships/hyperlink" Target="http://ifap.ed.gov/eannouncements/03242008TEACHGRANT.html" TargetMode="External"/><Relationship Id="rId3" Type="http://schemas.openxmlformats.org/officeDocument/2006/relationships/hyperlink" Target="http://ifap.ed.gov/eannouncements/031108CODXMLSchema3pt0a.html"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greg.martin@ed.gov"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fap.ed.gov/fregisters/FR03212008TECH.html" TargetMode="External"/><Relationship Id="rId2" Type="http://schemas.openxmlformats.org/officeDocument/2006/relationships/hyperlink" Target="http://www.ifap.ed.gov/fregisters/FR06232008TEACH.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The  National Association of Student Financial Aid Administrators</a:t>
            </a:r>
            <a:br>
              <a:rPr sz="4000"/>
            </a:br>
            <a:br>
              <a:rPr sz="4000"/>
            </a:br>
            <a:r>
              <a:rPr b="1" lang="en-US" sz="4400" spc="-1" strike="noStrike">
                <a:solidFill>
                  <a:srgbClr val="009999"/>
                </a:solidFill>
                <a:latin typeface="Arial"/>
              </a:rPr>
              <a:t>National Conferenc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rlando, Flori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July 6 –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may return or cancel the TEACH Grant if a request is received after 14 days but within 120 days of the disbursement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stitution does not return or cancel the TEACH Grant, student must be notified to contact the Department so that she can request conversion to D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can 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aduate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nrolled in a post-baccalaureate teacher credential program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or former teachers or reti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Eligibility – All applicants mu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requirements of 34 CFR 668, Subpart C – General Provisions Student Eligibil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completed FAF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an Agreement to Ser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in a TEACH Grant-eligible institution in a TEACH Grant-eligible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pleting, or intend to complete, coursework necessary to begin a career in teac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ave already earned a first BA or post-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Undergraduate, Post-Bac and Graduate Student Eligibi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GPA of at least 3.25</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igh school for first year student or first semester of colleg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ollege for other student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bove the 75</a:t>
            </a:r>
            <a:r>
              <a:rPr b="0" lang="en-US" sz="2400" spc="-1" strike="noStrike" baseline="30000">
                <a:solidFill>
                  <a:srgbClr val="000000"/>
                </a:solidFill>
                <a:latin typeface="Arial"/>
              </a:rPr>
              <a:t>th</a:t>
            </a:r>
            <a:r>
              <a:rPr b="0" lang="en-US" sz="2400" spc="-1" strike="noStrike">
                <a:solidFill>
                  <a:srgbClr val="000000"/>
                </a:solidFill>
                <a:latin typeface="Arial"/>
              </a:rPr>
              <a:t> percentile on one of the batteries of an admissions test, such a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7"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Eligibility for Current/ Former Teachers and Retire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teachers/retirees must have expertise in a high-need field and be pursuing a master’s deg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Teachers must be pursuing a certification through a high-quality alternative certification rou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certification must be offered by an eligible institution of higher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 GRANT Program</a:t>
            </a:r>
            <a:br>
              <a:rPr sz="3600"/>
            </a:br>
            <a:r>
              <a:rPr b="0" lang="en-US" sz="3600" spc="-1" strike="noStrike">
                <a:solidFill>
                  <a:srgbClr val="000000"/>
                </a:solidFill>
                <a:latin typeface="Arial"/>
              </a:rPr>
              <a:t>Final Regulations</a:t>
            </a:r>
            <a:endParaRPr b="0" lang="en-US" sz="3600" spc="-1" strike="noStrike">
              <a:solidFill>
                <a:srgbClr val="000000"/>
              </a:solidFill>
              <a:latin typeface="Arial"/>
            </a:endParaRPr>
          </a:p>
        </p:txBody>
      </p:sp>
      <p:sp>
        <p:nvSpPr>
          <p:cNvPr id="79" name="PlaceHolder 2"/>
          <p:cNvSpPr>
            <a:spLocks noGrp="1"/>
          </p:cNvSpPr>
          <p:nvPr>
            <p:ph/>
          </p:nvPr>
        </p:nvSpPr>
        <p:spPr>
          <a:xfrm>
            <a:off x="914400" y="16765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financially responsible in accordance with 34 CFR 668, subpart L, or an alternative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establish eligibility in any of 4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ust provide a high-qualify teacher preparation program at the baccalaureate or master’s degree level th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ccredited by an agency specializing in professional teacher education progra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pproved by a State and includes at least 10 weeks of extensive pre-service clinical experience and provides or assists in providing pedagogical cours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1" name="PlaceHolder 2"/>
          <p:cNvSpPr>
            <a:spLocks noGrp="1"/>
          </p:cNvSpPr>
          <p:nvPr>
            <p:ph/>
          </p:nvPr>
        </p:nvSpPr>
        <p:spPr>
          <a:xfrm>
            <a:off x="1173240" y="19807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quality teacher preparation program at the baccalaureate or master’s degree level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rovide or assist in providing supervision and support services to teachers such a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effective teaching skills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effective practices in supervision and coaching of novice teachers an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oring focused on effective teaching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3"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CH Grant-eligible institution provides a two-year program th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cceptable for full credit in an eligible baccalaureate teacher prep progra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cceptable for full credit in a baccalaureate program in a high-need field offered by an institution that has entered into an agreement with an eligible institution that offers a teacher prep progra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s must “demonstrate” this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ACH Grant-eligible institution offers a baccalaureate degree that, in combination with other training or experience, will prepare student to teach in a high-need field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entered into an agreement with an eligible institution that offers a high-quality teacher prep program or an eligible institution that offers a post-baccalaureate program of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 Grant Program</a:t>
            </a:r>
            <a:br>
              <a:rPr sz="3600"/>
            </a:br>
            <a:r>
              <a:rPr b="0" lang="en-US" sz="3600" spc="-1" strike="noStrike">
                <a:solidFill>
                  <a:srgbClr val="000000"/>
                </a:solidFill>
                <a:latin typeface="Arial"/>
              </a:rPr>
              <a:t>Final Regulations</a:t>
            </a:r>
            <a:endParaRPr b="0" lang="en-US" sz="3600" spc="-1" strike="noStrike">
              <a:solidFill>
                <a:srgbClr val="000000"/>
              </a:solidFill>
              <a:latin typeface="Arial"/>
            </a:endParaRPr>
          </a:p>
        </p:txBody>
      </p:sp>
      <p:sp>
        <p:nvSpPr>
          <p:cNvPr id="87"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 TEACH Grant-eligible institution provides a post-baccalaureate program of study th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lead to a graduate deg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courses required by a State for a student to receive a professional certification in teac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undergraduate program for title IV student financial assistance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ac program is not a TEACH Grant eligible program at institutions that offer both a post-bac and a BA in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99"/>
                </a:solidFill>
                <a:latin typeface="Arial"/>
              </a:rPr>
              <a:t>The TEACH Grant Program</a:t>
            </a:r>
            <a:endParaRPr b="0" lang="en-US" sz="48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ail McLarn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reg Mart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U.S. Department of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 have wide latitude to designate the TEACH Grant-eligible programs offered by the in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s must provide initial, subsequent and exit counseling to TEACH Grant recipients that co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nd conditions of the Agreement to S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ubsequent and exit counseling must cover:</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how to identify low-income schools and documented high-need field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quest a suspension of the eight-year period for completion of servi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under which the TEACH Grant converts to a Direct Unsubsidized Loa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mp; conditions of a Direct Unsub loan</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nd subsequent counseling must be provided annually prior to first disburs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sign an “Agreement to Serve” that requires the recipient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for four years within 8 years of completing or ceasing enrollment in a TEACH-Grant eligible program as a full-time highly-qualified teacher 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income elementary or secondary scho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need fie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need fiel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langu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ingual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language acqui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peciali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igh-need field documented by local, State or Federal 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teach in a high-need field in the majority of classes ta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ther” high-need fields must be listed in the Department of Education’s </a:t>
            </a:r>
            <a:r>
              <a:rPr b="0" i="1" lang="en-US" sz="2800" spc="-1" strike="noStrike">
                <a:solidFill>
                  <a:srgbClr val="000000"/>
                </a:solidFill>
                <a:latin typeface="Arial"/>
              </a:rPr>
              <a:t>Nationwide Listing of Teacher Shortage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ary or secondary school is considered low-income if 30% of the students are low-income and school is listed in the Department’s </a:t>
            </a:r>
            <a:r>
              <a:rPr b="0" i="1" lang="en-US" sz="2800" spc="-1" strike="noStrike">
                <a:solidFill>
                  <a:srgbClr val="000000"/>
                </a:solidFill>
                <a:latin typeface="Arial"/>
              </a:rPr>
              <a:t>Low-Income School Director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submit evidence of employment as certified by chief administrative officer of the school upon completion of each year of teach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recipient must complete an Agreement to Serve for each program of study for which TEACH Grants were rece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ht year service period begins following completion or otherwise ceasing enroll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rant recipient fails to complete the required teaching service, the TEACH Grant is treated as a Federal Direct Unsubsidized Loan with interest accruing from the date the grant was disbur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recipient will have 30 days from the date of conversion in which to pay accrued interest.  Otherwise interest will be capitalized as of the date of conver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s will be converted to a Federal Direct Unsubsidized Loan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 Grant recipient, regardless of enrollment status, requests the conver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20 days of ceasing enrollment, the recipient fails to notify the Department of Education that he or she is employed, or intends to pursue employment, as a full-time teacher in accordance with the Agreement to S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Converts to a Direct Unsubsidized Loan if: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one year of ceasing enroll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cipient has not been determined eligible for a suspen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pient has not re-enrolled in a TEACH-Grant eligible program, 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pient has not begun teaching service in accordance with Agreement to Serve</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7"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Converts to a Direct Unsubsidized Loan if: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nt recipient completes the course of study and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tively confirm to the Department, at least annually, his or her intention to satisfy the Agreement to Serv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s to begin or maintain qualified employment within a timeframe that would allow recipient to complete teaching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 GRANT PROGRAM</a:t>
            </a:r>
            <a:endParaRPr b="0" lang="en-US" sz="40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Cost Reduction and Access Act (CCRAA) – Public Law 110-84, enacted September 27,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RAA expanded student and borrower benefits through offsets to the FFEL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RAA established the Teacher Education Assistance for College and Higher Education (TEACH) Grant Program effective for the 2008-2009 Award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 GRANT recipient whose grant has converted to a Federal Direct Unsubsidized Lo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s a six-month grace period prior to entering repay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ligible for all benefits of the Direct Loan Program, including in-school defer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 Grant that is converted to a loan cannot reconvert to a TEACH Gr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recipients who have completed or ceased enrollment in a TEACH-eligible program may request a “suspension” of the eight-year period for completion of the service obligation based 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ment in a TEACH Grant eligible program or a state approved teacher certification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sions of eight-year period for completion of the service oblig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dition covered under the Family and Medical Leave A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gulations removed the list of conditions covered by the FMLA and added, in its place, a reference to qualifying for leave under the FMLA (29 U.S.C. 2612(a)(1) and (3) (recognizes that FMLA may change)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5" name="PlaceHolder 2"/>
          <p:cNvSpPr>
            <a:spLocks noGrp="1"/>
          </p:cNvSpPr>
          <p:nvPr>
            <p:ph/>
          </p:nvPr>
        </p:nvSpPr>
        <p:spPr>
          <a:xfrm>
            <a:off x="685800" y="182880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of eight-year period for completion of the service obligation:</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order to active duty status for more than 30 days as a member of Armed Forces reserves or National Guard</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cannot exceed a combined total of three years except for military service which is unlimi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must be requested prior to being subject to condition that converts the recipient’s TEACH Grant to a lo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s Agreement to Service is discharged by the Department of Education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t recipient dies.  Original, certified or photocopy of death certificate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t recipient becomes totally and permanently disabled and the grant recipient applies for and satisfies the eligibility requirements for the discharge under the Direct Loan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 Grant Resources</a:t>
            </a:r>
            <a:endParaRPr b="0" lang="en-US" sz="4400" spc="-1" strike="noStrike">
              <a:solidFill>
                <a:srgbClr val="000000"/>
              </a:solidFill>
              <a:latin typeface="Arial"/>
            </a:endParaRPr>
          </a:p>
        </p:txBody>
      </p:sp>
      <p:sp>
        <p:nvSpPr>
          <p:cNvPr id="119" name="PlaceHolder 2"/>
          <p:cNvSpPr>
            <a:spLocks noGrp="1"/>
          </p:cNvSpPr>
          <p:nvPr>
            <p:ph/>
          </p:nvPr>
        </p:nvSpPr>
        <p:spPr>
          <a:xfrm>
            <a:off x="1173240" y="1676520"/>
            <a:ext cx="7772400" cy="441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id on the Web—TEACH Gran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http://studentaid.ed.gov/PORTALSWebApp/students/english/TEACH.js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NPRM -- </a:t>
            </a:r>
            <a:r>
              <a:rPr b="0" lang="en-US" sz="2800" spc="-1" strike="noStrike" u="sng">
                <a:solidFill>
                  <a:srgbClr val="009999"/>
                </a:solidFill>
                <a:uFillTx/>
                <a:latin typeface="Arial"/>
                <a:hlinkClick r:id="rId2"/>
              </a:rPr>
              <a:t>http://ifap.ed.gov/eannouncements/03242008TEACHGRANT.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Operations Electronic Announcement – 3/11/08 </a:t>
            </a:r>
            <a:r>
              <a:rPr b="0" lang="en-US" sz="2800" spc="-1" strike="noStrike" u="sng">
                <a:solidFill>
                  <a:srgbClr val="009999"/>
                </a:solidFill>
                <a:uFillTx/>
                <a:latin typeface="Arial"/>
                <a:hlinkClick r:id="rId3"/>
              </a:rPr>
              <a:t>http://ifap.ed.gov/eannouncements/031108CODXMLSchema3pt0a.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grants.ed.gov</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Recent Guidance  Available on IFAP (ifap.ed.gov)</a:t>
            </a:r>
            <a:endParaRPr b="0" lang="en-US" sz="40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Colleague Letter GEN-08-0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for establishing eligibility to participate in the TEACH Grant progra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19/2008 Electronic Announcemen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Grant operational implementation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27/2008 Electronic Announc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spects of TEACH Grant processing (operational for July 1, 200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76176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4400" spc="-1" strike="noStrike">
                <a:solidFill>
                  <a:srgbClr val="000000"/>
                </a:solidFill>
                <a:latin typeface="Arial"/>
              </a:rPr>
              <a:t>]</a:t>
            </a:r>
            <a:br>
              <a:rPr sz="4400"/>
            </a:br>
            <a:br>
              <a:rPr sz="4400"/>
            </a:br>
            <a:r>
              <a:rPr b="0" lang="en-US" sz="4400" spc="-1" strike="noStrike">
                <a:solidFill>
                  <a:srgbClr val="000000"/>
                </a:solidFill>
                <a:latin typeface="Arial"/>
              </a:rPr>
              <a:t>	</a:t>
            </a:r>
            <a:br>
              <a:rPr sz="4400"/>
            </a:br>
            <a:r>
              <a:rPr b="0" lang="en-US" sz="4400" spc="-1" strike="noStrike">
                <a:solidFill>
                  <a:srgbClr val="000000"/>
                </a:solidFill>
                <a:latin typeface="Arial"/>
              </a:rPr>
              <a:t>	</a:t>
            </a:r>
            <a:r>
              <a:rPr b="1" lang="en-US" sz="4800" spc="-1" strike="noStrike">
                <a:solidFill>
                  <a:srgbClr val="000000"/>
                </a:solidFill>
                <a:latin typeface="Arial"/>
              </a:rPr>
              <a:t>Contact Information:</a:t>
            </a:r>
            <a:br>
              <a:rPr sz="4800"/>
            </a:br>
            <a:r>
              <a:rPr b="1" lang="en-US" sz="3600" spc="-1" strike="noStrike">
                <a:solidFill>
                  <a:srgbClr val="000000"/>
                </a:solidFill>
                <a:latin typeface="Arial"/>
              </a:rPr>
              <a:t>	</a:t>
            </a:r>
            <a:br>
              <a:rPr sz="3600"/>
            </a:br>
            <a:r>
              <a:rPr b="1" lang="en-US" sz="3600" spc="-1" strike="noStrike">
                <a:solidFill>
                  <a:srgbClr val="000000"/>
                </a:solidFill>
                <a:latin typeface="Arial"/>
              </a:rPr>
              <a:t>	</a:t>
            </a:r>
            <a:r>
              <a:rPr b="1" lang="en-US" sz="3600" spc="-1" strike="noStrike">
                <a:solidFill>
                  <a:srgbClr val="000000"/>
                </a:solidFill>
                <a:latin typeface="Arial"/>
              </a:rPr>
              <a:t>Gail McLarnon</a:t>
            </a:r>
            <a:br>
              <a:rPr sz="3600"/>
            </a:br>
            <a:r>
              <a:rPr b="1" lang="en-US" sz="3600" spc="-1" strike="noStrike">
                <a:solidFill>
                  <a:srgbClr val="000000"/>
                </a:solidFill>
                <a:latin typeface="Arial"/>
              </a:rPr>
              <a:t>	</a:t>
            </a:r>
            <a:r>
              <a:rPr b="0" lang="en-US" sz="3600" spc="-1" strike="noStrike" u="sng">
                <a:solidFill>
                  <a:srgbClr val="009999"/>
                </a:solidFill>
                <a:uFillTx/>
                <a:latin typeface="Arial"/>
                <a:hlinkClick r:id="rId1"/>
              </a:rPr>
              <a:t>gail.mclarnon@ed.gov</a:t>
            </a:r>
            <a:br>
              <a:rPr sz="3600"/>
            </a:br>
            <a:r>
              <a:rPr b="1" lang="en-US" sz="3600" spc="-1" strike="noStrike">
                <a:solidFill>
                  <a:srgbClr val="000000"/>
                </a:solidFill>
                <a:latin typeface="Arial"/>
              </a:rPr>
              <a:t>	</a:t>
            </a:r>
            <a:r>
              <a:rPr b="1" lang="en-US" sz="3600" spc="-1" strike="noStrike">
                <a:solidFill>
                  <a:srgbClr val="000000"/>
                </a:solidFill>
                <a:latin typeface="Arial"/>
              </a:rPr>
              <a:t>202-219-7048</a:t>
            </a:r>
            <a:br>
              <a:rPr sz="3600"/>
            </a:br>
            <a:br>
              <a:rPr sz="4000"/>
            </a:br>
            <a:r>
              <a:rPr b="1" lang="en-US" sz="4000" spc="-1" strike="noStrike">
                <a:solidFill>
                  <a:srgbClr val="000000"/>
                </a:solidFill>
                <a:latin typeface="Arial"/>
              </a:rPr>
              <a:t>	</a:t>
            </a:r>
            <a:r>
              <a:rPr b="1" lang="en-US" sz="3600" spc="-1" strike="noStrike">
                <a:solidFill>
                  <a:srgbClr val="000000"/>
                </a:solidFill>
                <a:latin typeface="Arial"/>
              </a:rPr>
              <a:t>Greg Martin</a:t>
            </a:r>
            <a:br>
              <a:rPr sz="3600"/>
            </a:br>
            <a:r>
              <a:rPr b="1" lang="en-US" sz="3600" spc="-1" strike="noStrike">
                <a:solidFill>
                  <a:srgbClr val="000000"/>
                </a:solidFill>
                <a:latin typeface="Arial"/>
              </a:rPr>
              <a:t>	</a:t>
            </a:r>
            <a:r>
              <a:rPr b="0" lang="en-US" sz="3600" spc="-1" strike="noStrike" u="sng">
                <a:solidFill>
                  <a:srgbClr val="009999"/>
                </a:solidFill>
                <a:uFillTx/>
                <a:latin typeface="Arial"/>
                <a:hlinkClick r:id="rId2"/>
              </a:rPr>
              <a:t>greg.martin@ed.gov</a:t>
            </a:r>
            <a:br>
              <a:rPr sz="3600"/>
            </a:br>
            <a:r>
              <a:rPr b="1" lang="en-US" sz="3600" spc="-1" strike="noStrike">
                <a:solidFill>
                  <a:srgbClr val="000000"/>
                </a:solidFill>
                <a:latin typeface="Arial"/>
              </a:rPr>
              <a:t>	</a:t>
            </a:r>
            <a:r>
              <a:rPr b="1" lang="en-US" sz="3600" spc="-1" strike="noStrike">
                <a:solidFill>
                  <a:srgbClr val="000000"/>
                </a:solidFill>
                <a:latin typeface="Arial"/>
              </a:rPr>
              <a:t>215-656-645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 Negotiated Rulemaking – CCRAA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Federal Register Notice – 1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ed Regional Hear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 2007 – New Orle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6, 2007 – Washington, D.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9, 2007 – San Dieg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Two Negotiating Committ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 Grants &amp; Lo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Proposed Rules Negotiated on a Compressed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8-10,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2-24,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6-8, 200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negotiators reached consensus on proposed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of Proposed Rulemaking published March 21,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fap.ed.gov/fregisters/FR03212008TECH.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 Comment Period ended April 21,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gulations published June 23,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ifap.ed.gov/fregisters/FR06232008TEACH.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 SUMMARY</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 Grant Program is a non-need based program that provides up to $4,000 per year to students enrolled in an eligible program and who agree to teach as a highly-qualified teacher in a high-need field, at a low-income elementary or secondary school for at least four years within eight years of completing the program for which the TEACH Grant was awarde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rant recipient fails to complete the required teaching service, the TEACH Grant is treated as a Federal Direct Unsubsidized Loan with interest accruing from the date the grant was disbur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4000" spc="-1" strike="noStrike">
                <a:solidFill>
                  <a:srgbClr val="000000"/>
                </a:solidFill>
                <a:latin typeface="Arial"/>
              </a:rPr>
              <a:t>TEACH Grant Program </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65" name="PlaceHolder 2"/>
          <p:cNvSpPr>
            <a:spLocks noGrp="1"/>
          </p:cNvSpPr>
          <p:nvPr>
            <p:ph/>
          </p:nvPr>
        </p:nvSpPr>
        <p:spPr>
          <a:xfrm>
            <a:off x="685800" y="17524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of up to:</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per year for 1</a:t>
            </a:r>
            <a:r>
              <a:rPr b="0" lang="en-US" sz="2400" spc="-1" strike="noStrike" baseline="30000">
                <a:solidFill>
                  <a:srgbClr val="000000"/>
                </a:solidFill>
                <a:latin typeface="Arial"/>
              </a:rPr>
              <a:t>st</a:t>
            </a:r>
            <a:r>
              <a:rPr b="0" lang="en-US" sz="2400" spc="-1" strike="noStrike">
                <a:solidFill>
                  <a:srgbClr val="000000"/>
                </a:solidFill>
                <a:latin typeface="Arial"/>
              </a:rPr>
              <a:t> undergraduate or post-baccalaureate student (up to an aggregate amount of $16,000)</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per year for graduate student (up to aggregate amount of $8,000)</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s are prorated for less than full-time student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TEACH Grants, in combination with other assistance, may  not exceed the cost of attendance.</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 Grant Program</a:t>
            </a:r>
            <a:br>
              <a:rPr sz="4400"/>
            </a:br>
            <a:r>
              <a:rPr b="0" lang="en-US" sz="4400" spc="-1" strike="noStrike">
                <a:solidFill>
                  <a:srgbClr val="000000"/>
                </a:solidFill>
                <a:latin typeface="Arial"/>
              </a:rPr>
              <a:t>Final Regulation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must notify TEACH Grant recipient of her right to cancel all or part of the TEACH Grant no earlier than 30 days before and no later than 30 days after crediting the recipient’s account (</a:t>
            </a:r>
            <a:r>
              <a:rPr b="0" lang="en-US" sz="2800" spc="-1" strike="noStrike">
                <a:solidFill>
                  <a:srgbClr val="000000"/>
                </a:solidFill>
                <a:latin typeface="Arial"/>
                <a:ea typeface="Arial"/>
              </a:rPr>
              <a:t>§§668.165 and 686.3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must return or cancel the TEACH Grant if a cancellation request is received by the later of the first day of a payment period or 14 days after the date student was notified of cancellatio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Stephanie Minor</cp:lastModifiedBy>
  <dcterms:modified xsi:type="dcterms:W3CDTF">2008-07-16T14:21:26Z</dcterms:modified>
  <cp:revision>14</cp:revision>
  <dc:subject/>
  <dc:title>PowerPoint Presentation</dc:title>
</cp:coreProperties>
</file>