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CE152-16B6-4EEE-B2AE-FF891B993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BBFA2-73B7-482A-BC88-776501F77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D6E3C-66AB-4912-8649-43D0AA38C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7FED5-8CF6-4E6F-A028-7596D62F6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D0930-4F6F-4C88-85D6-98A67432C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EAFEB-AF44-4D41-B5B6-82B8E9B39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4B2C4-DEA3-410A-92B8-DD5F4E9ED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B7839-4689-4A3A-8D28-9F2133DEA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FBF5E-BB8F-4378-B95E-A8C45438C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A39BB-911A-4635-8DE7-F2FFE91AA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466DE-3879-49D1-8557-A7C31B39B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53B06-2CAF-47B9-B15F-A5AFD2894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andrew.jones\Desktop\desktopbiz\nasfaPPTback.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FE2E-91D1-4F18-A38C-D55C79A82E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mailto:Dan.Klock@ed.gov" TargetMode="External"/><Relationship Id="rId2" Type="http://schemas.openxmlformats.org/officeDocument/2006/relationships/hyperlink" Target="mailto:n@ed.gov"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C:\Documents and Settings\andrew.jones\Desktop\desktopbiz\nasfaPPTback.jpg"/>
          <p:cNvPicPr/>
          <p:nvPr/>
        </p:nvPicPr>
        <p:blipFill>
          <a:blip r:embed="rId1"/>
          <a:stretch/>
        </p:blipFill>
        <p:spPr>
          <a:xfrm>
            <a:off x="-76320" y="-304920"/>
            <a:ext cx="9144000" cy="6858000"/>
          </a:xfrm>
          <a:prstGeom prst="rect">
            <a:avLst/>
          </a:prstGeom>
          <a:ln w="0">
            <a:noFill/>
          </a:ln>
        </p:spPr>
      </p:pic>
      <p:sp>
        <p:nvSpPr>
          <p:cNvPr id="43" name="PlaceHolder 1"/>
          <p:cNvSpPr>
            <a:spLocks noGrp="1"/>
          </p:cNvSpPr>
          <p:nvPr>
            <p:ph type="title"/>
          </p:nvPr>
        </p:nvSpPr>
        <p:spPr>
          <a:xfrm>
            <a:off x="53352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SFAA 2008 </a:t>
            </a:r>
            <a:br>
              <a:rPr sz="4000"/>
            </a:br>
            <a:r>
              <a:rPr b="1" lang="en-US" sz="4000" spc="-1" strike="noStrike">
                <a:solidFill>
                  <a:srgbClr val="000000"/>
                </a:solidFill>
                <a:latin typeface="Arial"/>
              </a:rPr>
              <a:t>National Conference</a:t>
            </a:r>
            <a:endParaRPr b="0" lang="en-US" sz="4000" spc="-1" strike="noStrike">
              <a:solidFill>
                <a:srgbClr val="000000"/>
              </a:solidFill>
              <a:latin typeface="Arial"/>
            </a:endParaRPr>
          </a:p>
        </p:txBody>
      </p:sp>
      <p:sp>
        <p:nvSpPr>
          <p:cNvPr id="44" name="PlaceHolder 2"/>
          <p:cNvSpPr>
            <a:spLocks noGrp="1"/>
          </p:cNvSpPr>
          <p:nvPr>
            <p:ph type="subTitle"/>
          </p:nvPr>
        </p:nvSpPr>
        <p:spPr>
          <a:xfrm>
            <a:off x="1143000" y="38095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ly 6-9, 2008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lando, Florid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Income</a:t>
            </a:r>
            <a:endParaRPr b="0" lang="en-US" sz="32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ded Incom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s from states for foster care or adoption assistanc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Capita payments to Native Americans (unless the amount exceeds $2,000)</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s from the state for Heating Assi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Income</a:t>
            </a:r>
            <a:endParaRPr b="0" lang="en-US" sz="32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Income =</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xable + Untaxable – Excluded)</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Allowanc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s Discretionary In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Income - Allowances</a:t>
            </a:r>
            <a:endParaRPr b="0" lang="en-US" sz="32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come Tax Paid (if neg. = $0)</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mp; Other Tax Allowance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ecurity Tax</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Protection Allowanc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Expense Allow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Income - Allowances</a:t>
            </a:r>
            <a:endParaRPr b="0" lang="en-US" sz="32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Protection Allowance – based on family size</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Food</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 Housing</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 Transport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Clothing &amp; Personal Expens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Medicin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Other Expe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Income - Allowances</a:t>
            </a:r>
            <a:endParaRPr b="0" lang="en-US" sz="32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Expense Allowanc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rker family: 35% of lesser earned income or $3,300, which ever is les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orker family: 35% of earned income or $3,300, which ever is l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Income – Available Income</a:t>
            </a:r>
            <a:endParaRPr b="0" lang="en-US" sz="32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Inco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otal Allowa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s Available Income (could be a negative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Assets</a:t>
            </a:r>
            <a:endParaRPr b="0" lang="en-US" sz="32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Savings &amp; Check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s Net Worth of Investmen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s Net Worth of Business/Far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s Total Net Wor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Assets</a:t>
            </a:r>
            <a:endParaRPr b="0" lang="en-US" sz="32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Net Worth</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Education Savings &amp; Asset Protection Allowanc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s Discretionary Net W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Assets</a:t>
            </a:r>
            <a:endParaRPr b="0" lang="en-US" sz="32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etionary Net Wort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Asset Conversion Rat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rate = 12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Student’s rate = 20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w/out Dependents Other than A Spouse Student’s rate = 20%</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w/Dependents Other than A Spouse Student’s rate = 7%</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s Contribution from Ass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 Need Analysis</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s the Regular Need Analysis except:</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not considered in the EFC calcul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ed Income &lt; $50,000</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equired to complete IRS Form 1040 or family member received a Federally means tested benefi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ED ANALYSIS</a:t>
            </a:r>
            <a:endParaRPr b="0" lang="en-US" sz="4000" spc="-1" strike="noStrike">
              <a:solidFill>
                <a:srgbClr val="000000"/>
              </a:solidFill>
              <a:latin typeface="Arial"/>
            </a:endParaRPr>
          </a:p>
        </p:txBody>
      </p:sp>
      <p:sp>
        <p:nvSpPr>
          <p:cNvPr id="46" name="PlaceHolder 2"/>
          <p:cNvSpPr>
            <a:spLocks noGrp="1"/>
          </p:cNvSpPr>
          <p:nvPr>
            <p:ph type="subTitle"/>
          </p:nvPr>
        </p:nvSpPr>
        <p:spPr>
          <a:xfrm>
            <a:off x="1295280" y="14479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Kl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ney McCullough</a:t>
            </a: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 Need Analysis</a:t>
            </a:r>
            <a:endParaRPr b="0" lang="en-US" sz="4400" spc="-1" strike="noStrike">
              <a:solidFill>
                <a:srgbClr val="000000"/>
              </a:solidFill>
              <a:latin typeface="Arial"/>
            </a:endParaRPr>
          </a:p>
        </p:txBody>
      </p:sp>
      <p:sp>
        <p:nvSpPr>
          <p:cNvPr id="8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ns-tested federal benefit programs a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emental Security Income (SSI)</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tamp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and Reduced Price School Lunch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ry Assistance for Needy Families (TANF)</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upplemental Nutriti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for Women, Infants, and Children (W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Zero EFC</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d Income Earned from Work &lt; $20,000</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required to complete IRS Form 1040 or family member received a Federally means tested benefi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C = 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Cost of Attendance</a:t>
            </a:r>
            <a:endParaRPr b="0" lang="en-US" sz="32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itution may exclude from both COA &amp; EFA any assistance provided by a State and designated by the State to offset a specific component of CO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Cost of Attendance</a:t>
            </a:r>
            <a:endParaRPr b="0" lang="en-US" sz="3200" spc="-1" strike="noStrike">
              <a:solidFill>
                <a:srgbClr val="000000"/>
              </a:solidFill>
              <a:latin typeface="Arial"/>
            </a:endParaRPr>
          </a:p>
        </p:txBody>
      </p:sp>
      <p:sp>
        <p:nvSpPr>
          <p:cNvPr id="8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itution may choose to include room and board in the COA for a less-than-half-time stude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 to 3 semesters (or equivalent) with no more than 2 semesters being consecutiv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s on an institution by institution ba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Cost of Attendance</a:t>
            </a:r>
            <a:endParaRPr b="0" lang="en-US" sz="32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itution may include in a student’s COA the one-time cost of obtaining a first professional license or certificat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only be provided one time per stude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for direct costs for obtaining 1st license or cer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Cost of Attendance</a:t>
            </a:r>
            <a:endParaRPr b="0" lang="en-US" sz="32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able direct costs include licensing exam fees and costs of applying for and obtaining the license</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t>
            </a:r>
            <a:r>
              <a:rPr b="1" lang="en-US" sz="3200" spc="-1" strike="noStrike" u="sng">
                <a:solidFill>
                  <a:srgbClr val="000000"/>
                </a:solidFill>
                <a:uFillTx/>
                <a:latin typeface="Arial"/>
              </a:rPr>
              <a:t>not</a:t>
            </a:r>
            <a:r>
              <a:rPr b="0" lang="en-US" sz="3200" spc="-1" strike="noStrike">
                <a:solidFill>
                  <a:srgbClr val="000000"/>
                </a:solidFill>
                <a:latin typeface="Arial"/>
              </a:rPr>
              <a:t> include costs associated with preparing for an exam unless part of eligible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must be incurred while student is enrol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Simplified &amp; Auto-Zero</a:t>
            </a:r>
            <a:endParaRPr b="0" lang="en-US" sz="32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made by HERA – effective 2006-2007</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made by CCRAA – effective 2009-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Auto-Zero</a:t>
            </a:r>
            <a:endParaRPr b="0" lang="en-US" sz="32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A raised the maximum AGI to $20,0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RAA increased the maximum AGI to $30,000 and indexed it to C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Auto-Zero</a:t>
            </a:r>
            <a:endParaRPr b="0" lang="en-US" sz="32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ependent student, AGI of parents is us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dependent students with dependents other than a spouse, AGI of student and spouse is u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 Zero EFC calculation is not available to an independent student without dependents other than a spous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Simplified &amp; Auto-Zero</a:t>
            </a:r>
            <a:endParaRPr b="0" lang="en-US" sz="32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A provided an alternative to the tax filing stand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qualify if, in addition to meeting the relevant income criteria, the student (or spouse) or dependent student’s parent(s) received benefits from one of the following means-tested Federal benefit programs – (see next sl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A and CCRAA chang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ducation Reconciliation Act of 2005 (HERA) (PL 109-171) enacted February 8, 2006</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 Cost Reduction and Access Act of 2007 (CCRAA) (PL 110-84) enacted September 27, 2007</a:t>
            </a:r>
            <a:endParaRPr b="0" lang="en-US" sz="28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Simplified &amp; Auto-Zero</a:t>
            </a:r>
            <a:endParaRPr b="0" lang="en-US" sz="32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security income (SSI) prog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and reduced price school lunch progr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assistance for needy families (TAN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supplemental nutrition program for women, infants, and children (W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Stamp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Simplified &amp; Auto-Zero</a:t>
            </a:r>
            <a:endParaRPr b="0" lang="en-US" sz="32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pt by anyone included in the household siz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received in base year  (may use professional judgment to consider receipt after end of base yea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quired documentation – self-certification is suffici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Simplified &amp; Auto-Zer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RAA added dislocated worker as an alternative to type of tax filing and means tested benefi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RAA increased the time frame for receipt of means tested benefits from 12 to 24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Simplified &amp; Auto-Zero</a:t>
            </a:r>
            <a:endParaRPr b="0" lang="en-US" sz="32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RA add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e type of tax return filed by a dependent student’s parents is considered for SNT and Auto-Zero EFC calcula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Independent Student</a:t>
            </a:r>
            <a:endParaRPr b="0" lang="en-US" sz="3200" spc="-1" strike="noStrike">
              <a:solidFill>
                <a:srgbClr val="000000"/>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A added –</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who are currently serving on active duty in the U.S. Armed Forces for purposes other than training are now considered to be independent student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applicants who have been called to Federal active duty for purposes other than training from the National Guard or Ready Reser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Independent Student</a:t>
            </a:r>
            <a:endParaRPr b="0" lang="en-US" sz="3200" spc="-1" strike="noStrike">
              <a:solidFill>
                <a:srgbClr val="0000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RAA added three additional categori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s in foster care or a ward of the court, at any time when the individual is 13 years of age or old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s an emancipated minor or is in legal guardianship as determined by a court in the student’s state of legal residenc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Independent Student</a:t>
            </a:r>
            <a:endParaRPr b="0" lang="en-US" sz="3200" spc="-1" strike="noStrike">
              <a:solidFill>
                <a:srgbClr val="000000"/>
              </a:solidFill>
              <a:latin typeface="Arial"/>
            </a:endParaRPr>
          </a:p>
        </p:txBody>
      </p:sp>
      <p:sp>
        <p:nvSpPr>
          <p:cNvPr id="114" name="PlaceHolder 2"/>
          <p:cNvSpPr>
            <a:spLocks noGrp="1"/>
          </p:cNvSpPr>
          <p:nvPr>
            <p:ph/>
          </p:nvPr>
        </p:nvSpPr>
        <p:spPr>
          <a:xfrm>
            <a:off x="380520" y="1828440"/>
            <a:ext cx="853452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RAA added three additional categories:</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The student has been verified during the school year in which the application is submitted as an unaccompanied youth who is a homeless child or youth, or as unaccompanied, at risk of homelessness, and self-supporting, b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 a local educational agency homeless liaison, designated by section 722(g)(1)(J)(ii) of the McKinney-Vento Homeless Assistance Ac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i) the director of a program funded under the Runaway and Homeless Youth Act or a designee of the director;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ii) the director of a program funded under subtitle B of title IV of the McKinney-Vento Homeless Assistance Act (relating to emergency shelter grants) or a designee of the director; o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v) a financial aid administrator</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Assets</a:t>
            </a:r>
            <a:endParaRPr b="0" lang="en-US" sz="32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A modified the definition of “qualified education benefit” and made the treatment consistent in the need analys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qualified education benefits” include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dell Education Savings account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id tuition plans offered by a Stat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fied tuition programs (529 prepaid tuition plans and 529 savings plan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Assets</a:t>
            </a:r>
            <a:endParaRPr b="0" lang="en-US" sz="32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not treated as an adjustment to COA or as estimated financial assistance in packag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ed as assets of the owner of the plan unless owned by dependent stud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Assets</a:t>
            </a:r>
            <a:endParaRPr b="0" lang="en-US" sz="32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wned by dependent student, not counte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lan owned by someone whose information is not included on the FAFSA, not coun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s</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F of the Higher Education Act of 1965, as amended (the HE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Attendanc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Expected Family Contribu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s N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Assets</a:t>
            </a:r>
            <a:endParaRPr b="0" lang="en-US" sz="32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asset reported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avings plans or savings accounts, the balance of the account on the date the FAFSA is signed.</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epaid tuition plans, the “refund” value of any tuition credits or certificates purchased.  It is the amount the owner of the plan would receive if the account is liquidated.  Available from plan administr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Assets</a:t>
            </a:r>
            <a:endParaRPr b="0" lang="en-US" sz="32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of all plans owned by the parent of dependent applicant must be reported (such as plans for the applicants sibling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of all plans owned by independent student (and spouse) must be reported (such as plans for childr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Assets</a:t>
            </a:r>
            <a:endParaRPr b="0" lang="en-US" sz="32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RAA made the following additional changes –</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fied education benefit (529 plan) owned by dependent student is an asset of the paren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s from 529 plans excluded from estimated financial assi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Assets</a:t>
            </a:r>
            <a:endParaRPr b="0" lang="en-US" sz="32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assets” will not include a small business with not more than 100 full-time or full-time equivalent employees (or any part of such a small business) that is owned and controlled by the family -</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000" spc="-1" strike="noStrike">
                <a:solidFill>
                  <a:srgbClr val="000000"/>
                </a:solidFill>
                <a:latin typeface="Arial"/>
                <a:ea typeface="Times New Roman"/>
              </a:rPr>
              <a:t>small business = 100 or fewer FTE employe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wned and controlled by the family =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50% + ownership; and</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amily = directly related or are or were related by marriag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3200" spc="-1" strike="noStrike">
                <a:solidFill>
                  <a:srgbClr val="000000"/>
                </a:solidFill>
                <a:latin typeface="Arial"/>
              </a:rPr>
              <a:t>Assets</a:t>
            </a:r>
            <a:endParaRPr b="0" lang="en-US" sz="32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assessment rate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from 35% to 20%</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s w/o dependents other than a spouse from 35% to 20%</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s with dependents other than a spouse from 12% to 7%</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Protection Allowance (IPA) in EFC Formul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s the way student income protection allowances are calculated and updated</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result in a lower EFC</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2400" spc="-1" strike="noStrike">
                <a:solidFill>
                  <a:srgbClr val="000000"/>
                </a:solidFill>
                <a:latin typeface="Arial"/>
              </a:rPr>
              <a:t>Professional Judgment and Dependency Overrides</a:t>
            </a:r>
            <a:br>
              <a:rPr sz="2400"/>
            </a:br>
            <a:endParaRPr b="0" lang="en-US" sz="2400" spc="-1" strike="noStrike">
              <a:solidFill>
                <a:srgbClr val="000000"/>
              </a:solidFill>
              <a:latin typeface="Arial"/>
            </a:endParaRPr>
          </a:p>
        </p:txBody>
      </p:sp>
      <p:sp>
        <p:nvSpPr>
          <p:cNvPr id="13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RAA</a:t>
            </a:r>
            <a:endParaRPr b="0" lang="en-US" sz="3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dislocated worker and homelessness as example of when an FAA can use professional judgmen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at an FAA can use a dependency override made by another FAA within the same award year</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effective for the 2009-2010 award yea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2400" spc="-1" strike="noStrike">
                <a:solidFill>
                  <a:srgbClr val="000000"/>
                </a:solidFill>
                <a:latin typeface="Arial"/>
              </a:rPr>
              <a:t>Untaxed Income</a:t>
            </a:r>
            <a:endParaRPr b="0" lang="en-US" sz="2400" spc="-1" strike="noStrike">
              <a:solidFill>
                <a:srgbClr val="000000"/>
              </a:solidFill>
              <a:latin typeface="Arial"/>
            </a:endParaRPr>
          </a:p>
        </p:txBody>
      </p:sp>
      <p:sp>
        <p:nvSpPr>
          <p:cNvPr id="13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RAA</a:t>
            </a:r>
            <a:endParaRPr b="0" lang="en-US" sz="3200" spc="-1" strike="noStrike">
              <a:solidFill>
                <a:srgbClr val="000000"/>
              </a:solidFill>
              <a:latin typeface="Arial"/>
            </a:endParaRPr>
          </a:p>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es from specified list of “untaxed incom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fare benefit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ned income credit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fuel tax credit</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ed foreign incom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axed Social Security Benefit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hild tax credit claimed for Federal income tax</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Training Partnership Act noneducational benefits</a:t>
            </a:r>
            <a:endParaRPr b="0" lang="en-US" sz="2400" spc="-1" strike="noStrike">
              <a:solidFill>
                <a:srgbClr val="000000"/>
              </a:solidFill>
              <a:latin typeface="Arial"/>
            </a:endParaRPr>
          </a:p>
          <a:p>
            <a:pPr marL="325800" indent="-325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2009-2010 award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A &amp; CCRAA</a:t>
            </a:r>
            <a:br>
              <a:rPr sz="4400"/>
            </a:br>
            <a:r>
              <a:rPr b="0" lang="en-US" sz="2400" spc="-1" strike="noStrike">
                <a:solidFill>
                  <a:srgbClr val="000000"/>
                </a:solidFill>
                <a:latin typeface="Arial"/>
              </a:rPr>
              <a:t>Excludable Income</a:t>
            </a:r>
            <a:endParaRPr b="0" lang="en-US" sz="2400" spc="-1" strike="noStrike">
              <a:solidFill>
                <a:srgbClr val="000000"/>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CRAA</a:t>
            </a:r>
            <a:endParaRPr b="0" lang="en-US" sz="4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Combat Pay – pay received by a member of the U.S. Armed Forces because of exposure to a hazardous situation – (see IRS Pub. – 3 Tax Guide for Armed For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a:t>
            </a:r>
            <a:endParaRPr b="0" lang="en-US" sz="32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ibu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Incom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from Asse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n Colle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Information</a:t>
            </a:r>
            <a:endParaRPr b="0" lang="en-US" sz="4000" spc="-1" strike="noStrike">
              <a:solidFill>
                <a:srgbClr val="000000"/>
              </a:solidFill>
              <a:latin typeface="Arial"/>
            </a:endParaRPr>
          </a:p>
        </p:txBody>
      </p:sp>
      <p:sp>
        <p:nvSpPr>
          <p:cNvPr id="142" name="PlaceHolder 2"/>
          <p:cNvSpPr>
            <a:spLocks noGrp="1"/>
          </p:cNvSpPr>
          <p:nvPr>
            <p:ph/>
          </p:nvPr>
        </p:nvSpPr>
        <p:spPr>
          <a:xfrm>
            <a:off x="457200" y="1599840"/>
            <a:ext cx="830592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reciate your feedback and comments. We can be reached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Dan.Klock@ed.gov</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202) 377-402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x Number                    </a:t>
            </a:r>
            <a:r>
              <a:rPr b="0" lang="en-US" sz="2400" spc="-1" strike="noStrike">
                <a:solidFill>
                  <a:srgbClr val="000000"/>
                </a:solidFill>
                <a:latin typeface="Arial"/>
              </a:rPr>
              <a:t>	</a:t>
            </a:r>
            <a:r>
              <a:rPr b="0" lang="en-US" sz="2400" spc="-1" strike="noStrike">
                <a:solidFill>
                  <a:srgbClr val="000000"/>
                </a:solidFill>
                <a:latin typeface="Arial"/>
              </a:rPr>
              <a:t>(202) 275-5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rney.McCullough</a:t>
            </a:r>
            <a:r>
              <a:rPr b="0" lang="en-US" sz="2400" spc="-1" strike="noStrike" u="sng">
                <a:solidFill>
                  <a:srgbClr val="009999"/>
                </a:solidFill>
                <a:uFillTx/>
                <a:latin typeface="Arial"/>
                <a:hlinkClick r:id="rId2"/>
              </a:rPr>
              <a:t>@ed.gov</a:t>
            </a:r>
            <a:r>
              <a:rPr b="0" lang="en-US" sz="2400" spc="-1" strike="noStrike" u="sng">
                <a:solidFill>
                  <a:srgbClr val="000000"/>
                </a:solidFill>
                <a:uFillTx/>
                <a:latin typeface="Arial"/>
              </a:rPr>
              <a:t>    (202) 502-763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x Number                    </a:t>
            </a:r>
            <a:r>
              <a:rPr b="0" lang="en-US" sz="2400" spc="-1" strike="noStrike">
                <a:solidFill>
                  <a:srgbClr val="000000"/>
                </a:solidFill>
                <a:latin typeface="Arial"/>
              </a:rPr>
              <a:t>	</a:t>
            </a:r>
            <a:r>
              <a:rPr b="0" lang="en-US" sz="2400" spc="-1" strike="noStrike">
                <a:solidFill>
                  <a:srgbClr val="000000"/>
                </a:solidFill>
                <a:latin typeface="Arial"/>
              </a:rPr>
              <a:t>(202) 502-787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Income</a:t>
            </a:r>
            <a:endParaRPr b="0" lang="en-US" sz="32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Incom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Incom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Allowanc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s Discretionary In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Income</a:t>
            </a:r>
            <a:endParaRPr b="0" lang="en-US" sz="32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Income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able Income (Adjusted Gross Income)</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Earned from Work)</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Untaxed Incom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Excluded In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Income</a:t>
            </a:r>
            <a:endParaRPr b="0" lang="en-US" sz="3200" spc="-1" strike="noStrike">
              <a:solidFill>
                <a:srgbClr val="000000"/>
              </a:solidFill>
              <a:latin typeface="Arial"/>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axed Incom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Income Credi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Child Tax Credits Line 68 (IRS 1040)</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fare Benefits including TANF (Don’t include Food Stamps or Subsidized Housing)</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axed Social Security benefits (SSI)</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to tax-deferred pension &amp; savings plans (Reported on  W-2, Boxes 12a – 12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 deductions &amp; payments to a SEP &amp; to a KEOGH &amp; other qualified pla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support receiv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exempt interes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 – Contribution from Income</a:t>
            </a:r>
            <a:endParaRPr b="0" lang="en-US" sz="3200" spc="-1" strike="noStrike">
              <a:solidFill>
                <a:srgbClr val="000000"/>
              </a:solidFill>
              <a:latin typeface="Arial"/>
            </a:endParaRPr>
          </a:p>
        </p:txBody>
      </p:sp>
      <p:sp>
        <p:nvSpPr>
          <p:cNvPr id="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axed income – continu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income exclus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axed portion of IRA distributions (Lines 15a – 15b)</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axed portions of pensions (Lines 16a – 16b)</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for federal tax on special fuels (Form 4136 – non farmers only)</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ing, food and other living allowances paid to military, clergy, and other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terans noneducation benefits – Disability, Death Pension &amp; Dependency and Indemnity Compensation, VA Work Study Allowance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untaxed income not reported elsewhere (including Combat Pay not included in AGI for Tax filer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 received or paid on your behalf</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7:38:35Z</dcterms:created>
  <dc:creator>Office 2004 Test Drive User</dc:creator>
  <dc:description/>
  <dc:language>en-US</dc:language>
  <cp:lastModifiedBy>Yingpo.Hsiao</cp:lastModifiedBy>
  <dcterms:modified xsi:type="dcterms:W3CDTF">2008-07-15T17:29:13Z</dcterms:modified>
  <cp:revision>26</cp:revision>
  <dc:subject/>
  <dc:title>PowerPoint Presentation</dc:title>
</cp:coreProperties>
</file>