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5FACD46-1273-4529-83CC-95262FD8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fap.ed.gov/fregisters/fr12122003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doc0672_bodyoftext.htm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gail.mclarnon@ed.go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ail McLarn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ional Title IV Loan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current variable interest rates for non-consolidation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new teacher loan forgiveness provisions perman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for short-term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repay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L Consolidation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from fixed interest rate (weighted average) to variabl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consolidation with 1% origination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l single hold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Propos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ctive-duty military personnel independent for ne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50% rules for distance education to expand options for pursuing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loss of eligibility due to drug of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llocation formula for campus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otal and Permanent Disability Discharge (T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requirements vary depending upon date of TPD discharge as of 11/1/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1 and before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ISIR Code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before July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from physician that borrower can engage in substantial gainful activity (i.e., no longer TPD) (NOTE: Need one p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statement acknowledging no discharge of new loan for pre-existing conditions unless substantial deterioration (NOTE: Need for each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1 and before July 1, 2002 with new loan request within 3 years of TPD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 of Discharge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 from TPD date only certification and borrower acknowledge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f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IR Discharge Date is within 3 years of new loan request, contact holder to identify 3 years from TP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affirmed, requires new prom note or signed repay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ertify/originate before holder con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faulted prior to discharge, reaffirmed loan retains default status and satisfactory repayment arrangements are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inal discharge granted-same as before 7/1/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onditional” discharg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cert and borrower acknowledgement of new lo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acknowledgement that neither  new loan nor conditionally discharged loan are dischargeable now or in the future based on pre-existing condition unless substantial deteri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resumes on conditional loan/prior status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Bankruptcy 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ruptcy Reform Act of 1994 – (Pub. L. 103-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nial of grant or loan to a person who has filed or received a discharge in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Amendments to the 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bankruptcy discharge to borrowers in repayment for seven years; borrowers must prove undue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Bankruptcy Filing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s – DLB04-14 and DLB 04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LL Title IV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MPN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onger rejecting disbursements afte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s are disbursements are clearly identifiable by date before and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ing borrowers remain in default w/o 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ry SRA does not violate “stay of coll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’s FY 06 Budge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itle IV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Total &amp; Permanent Disability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Bankruptcy 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ct and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Bill (P.L. 108-76, August 18, 2003) authorizes ED to publish FR notice of waivers/mods to HEA and program regs for applicants and recipients of Title IV aid who are “affected individu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Notice published December 12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fregisters/fr1212200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s all military service from Title IV borrower’s initial gra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n holders keep affected individuals in an “in-school” status or “in-school”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collection on defaulted loans while borrower is an affected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documentation/3-year limit for a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does not interrupt service required for loan can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does not interrupt required consecutive payments to rehabilitate, make satisfactory repayments arrangements to regain eligibility or conso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supporting documentation for initial forbearance in FFEL and 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written request, written agreement and supporting documentation for initial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forbearan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forbearance for Perkins borrowers do not count against 3 year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Family Education Loan (FFEL) and Federal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payer—Teacher Protections Act of 2004 authorizes loan forgiveness up to $5,000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teaches five years in an elementary or secondary school with 30% or more Title I enrollment (includes all BIA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is a “highly qualified” teacher as defined in the No Child Left Behind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forgiveness  of up to $17,500 authorized if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s above requiremen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s special education in elementary or secondary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s math or science in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ho began qualifying service before new law ena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to meet new requirements for $5,000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eet new requirements for $17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L GEN-04-14 summarizes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L GEN-05-02 –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Eligibility &amp; Certific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is ineligible for PLUS due to advers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likely precluded from borrowing PLUS under documented exceptional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Use of Endorser for PLU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illingness to borrower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’s belief that parent should not borrower PLUS does NOT qualify the 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parent must be denied. If both apply and one is eligible, dependent is in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credit denial in one year not applicable to subsequ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or dependent eligibility can happen any time in academic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“Exceptional”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Examples not exhaustiv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” Teacher Loan Forgiveness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Eligibility and Certific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Unsubsidized Stafford for Dependent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Judgment in Reducing or Refusing to Cer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ying PLUS applications from eligibl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Disbursem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ith limited income – low earnings, public assistance, or disabilit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Program – Documented evidence lender has/will deny PLUS due to income-to-debt, ability to repay or other cred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Program – School documents inability to pay due to income-to-debt ratio, existing debt burden or limi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Judgment: Declining/reducing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by-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explanation to student of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scrimination—race, sex, color, income, religion,  national origin, age, handicapped status, or choice of lender or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Judgment: Declining/Reducing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olicy of covering school charg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“mandatory” use of preferred l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se of required credit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an without Pell eligibility determination and application (if applicable); No unsub loan without subsidized eligibility &amp; app ($toler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GEN-05-07, April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dpcletters/doc0672_bodyoftext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must be made directly by a school or its third party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ust fax request on school letterh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77) 623-5082 – COD School Relation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X COVER MUST READ:  Attn: FSA Support Team, “Late” Late Disbursement Approval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/DL Requests Mus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tion/Origin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period beginning/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ers Name (FFEL) – Award ID (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Student Complete Loa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, when did enrollment c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first disbursement or subs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parate request for each student or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parate request for each Title IV Program, except sub &amp; unsub loans for the same student/same loa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email approval or denial within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B’s Perkins Loan Program Program Assessment Rating (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erformance &amp; Results Act – all Federal programs to have measurabl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Management Council developed 5-point plan to improve efficiency &amp;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developed PART assessment to assess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B’s Perkins PART Analysi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erkins Loan Program rated in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eemed redundant and duplicative due to existence of the FFEL and Direct Loa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request for new FCC was eliminated from the President’s FY05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the Program proposed as part of the President FY06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Budget/Approp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FY05 Budget Request (AY 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FY05 Appropriation (AY 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FY06 Budget Request (AY 06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w FCC/Cancellation; Eliminat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FY 06 Appropriation (AY 06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Q&amp;As on MP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ay direct borrowers to secure website for required notices and disclosures (CFR 668.165(a) and 674.16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included in the disclosure of “total and cumulative balance owed”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cancelled in first 1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PN after borrower’s bankruptcy 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Q&amp;As on MP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Consolid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Consolid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and revolving fun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cash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Perkins Loans to early repayment for FFEL in-school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in “in-school” or grace vs. repayment and calculation of cohort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information/authorizations – LV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-219-70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il.mclarno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124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 FY 06 Budget 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axpayer resources to students with the most need-Increase and expand 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ignificant program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axpayer’s money by eliminating funding for ineffectiv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new Perkins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by increased FFEL/DL loan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f Federal Portion of Revolv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increasing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lan to Recall Outstanding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outstanding loans to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dergraduate annual loa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subsidized - $2625 to $3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subsidized - $3500 to $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– subsidized remains $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$4000/$5000 unsubsi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dergraduate aggregat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aduate subsidized - $23,000 to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aduate total - $46,000 to $4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graduate subsidized limits at $8500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unsubsidized limits from $10,000 to $1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total annual loan limits from $18,500 to $20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aggregate limits from $138,500 to $146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stablish low-default wa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schools with a cohort default rate under 10%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rs appl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-day delay for first-time, first-year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isbursements for single term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33:25Z</dcterms:created>
  <dc:creator>Mindy Kaplan Eline</dc:creator>
  <dc:description/>
  <dc:language>en-US</dc:language>
  <cp:lastModifiedBy>Vicki.Adkins</cp:lastModifiedBy>
  <dcterms:modified xsi:type="dcterms:W3CDTF">2005-07-12T15:28:32Z</dcterms:modified>
  <cp:revision>1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1987236</vt:r8>
  </property>
  <property fmtid="{D5CDD505-2E9C-101B-9397-08002B2CF9AE}" pid="3" name="_AuthorEmail">
    <vt:lpwstr>gordonb@nasfaa.org</vt:lpwstr>
  </property>
  <property fmtid="{D5CDD505-2E9C-101B-9397-08002B2CF9AE}" pid="4" name="_AuthorEmailDisplayName">
    <vt:lpwstr>Barbara Gordon</vt:lpwstr>
  </property>
  <property fmtid="{D5CDD505-2E9C-101B-9397-08002B2CF9AE}" pid="5" name="_EmailSubject">
    <vt:lpwstr>Template</vt:lpwstr>
  </property>
</Properties>
</file>