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F0DA006-0753-4365-B023-FC8B02F42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21F-9220-483D-B909-9333343B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151-03A3-4A5D-8826-C787A5B6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951-BDFA-4904-96E4-F11C5D37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E48-4515-4909-B265-3B2E487F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5937-E2C4-48D4-BAB4-B702575F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7845-F7D6-475A-B888-A0DA4DC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C77F-E552-4463-A7F6-70628F58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8026-4E2F-4797-B98C-61CD518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951E-415C-4C13-BBCB-A5AF1662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E368-1631-4DA8-BC70-E7177F8B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70DF-74D8-4DC9-BFEC-7E027DE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502-1BA0-4EA7-B882-39F9883B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BB69-6960-4F37-9AED-2C43D8B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0ABA-E31E-49B8-9744-B216164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4276-F7AC-4949-AA13-55755EA6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721D-F9B0-4A50-839F-6D38F5B8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8C57-F51B-413E-8236-C7DF0875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762-0A7E-45D8-8863-54064B23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B67-36F8-43AB-88BA-D385F46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86F-BFAE-48A1-9EE2-7B80218E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9ED-5619-4F2B-B450-AE50FA7A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DB7-3909-4F5D-94E9-868876AC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7E2-D0C3-41B3-AF0E-B970E3F2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59F-4F40-4B43-843B-AA1DE648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6DFE-EADD-4386-99D5-E0E7BBEA1A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685800" y="6072120"/>
            <a:ext cx="7848720" cy="176400"/>
            <a:chOff x="685800" y="6072120"/>
            <a:chExt cx="7848720" cy="176400"/>
          </a:xfrm>
        </p:grpSpPr>
        <p:sp>
          <p:nvSpPr>
            <p:cNvPr id="13" name=""/>
            <p:cNvSpPr/>
            <p:nvPr/>
          </p:nvSpPr>
          <p:spPr>
            <a:xfrm>
              <a:off x="685800" y="6072120"/>
              <a:ext cx="7848720" cy="8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5800" y="6161040"/>
              <a:ext cx="7848720" cy="874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685800" y="469800"/>
            <a:ext cx="7848720" cy="87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B846-22D1-48C0-8063-94F151B17D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5800" y="6072120"/>
            <a:ext cx="7848720" cy="176400"/>
            <a:chOff x="685800" y="6072120"/>
            <a:chExt cx="7848720" cy="176400"/>
          </a:xfrm>
        </p:grpSpPr>
        <p:sp>
          <p:nvSpPr>
            <p:cNvPr id="67" name=""/>
            <p:cNvSpPr/>
            <p:nvPr/>
          </p:nvSpPr>
          <p:spPr>
            <a:xfrm>
              <a:off x="685800" y="6072120"/>
              <a:ext cx="7848720" cy="8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6161040"/>
              <a:ext cx="7848720" cy="874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5800" y="469800"/>
            <a:ext cx="7848720" cy="87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mall-nclb" descr=""/>
          <p:cNvPicPr/>
          <p:nvPr/>
        </p:nvPicPr>
        <p:blipFill>
          <a:blip r:embed="rId2"/>
          <a:stretch/>
        </p:blipFill>
        <p:spPr>
          <a:xfrm>
            <a:off x="7924680" y="5562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SA Assessments:  A Key to Compliance &amp; Improve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BD05299_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66680" y="609480"/>
            <a:ext cx="91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ASSOCIATION OF FINANACIAL 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98320" y="4529160"/>
            <a:ext cx="21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York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y 3 – Jul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9AF-5572-42F7-94BF-E96B284EC6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38B-B688-4976-B78C-04E5FCE919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6E2-2EF5-4263-A8BE-64439F6358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6AF-DFFF-40A3-875A-394E604344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ing the Assess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FSA Assessments can be downloa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2819520"/>
          <a:ext cx="7772400" cy="17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19520"/>
                    <a:ext cx="77724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5EB-5514-4446-9686-32757AC614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echnical Assistance Resourc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listing of all resources available to schools that need as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ct information, phone numbers, email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ng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/software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ach assessment has a link to the Technical Assistance Resources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F28-77CD-4226-8790-820D67177A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onding to Audits or Program Revie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essments can help a school prepare for a program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essments can help a school prepare for an aud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essments can help to ensure findings do not reocc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A70-5B8D-4D59-871E-9F5E103044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Management Enhance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on Plan to help you to take corrective action to resolve noted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dentify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ign required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dentify resolution team (offices, team leads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t time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minder to update policies &amp;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 to the Management Enhancement Worksheet from each asse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on Pla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648-FE43-4C32-A088-83435E8FC4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Common F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isfactory Academic Progress – standards inadequate, not adequately monitored or appl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deral Perkins Loans – inadequate billing/collection procedures, due diligence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 Not Documented/In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106-F775-4E1E-8640-28BE003995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Assessments Hel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isfactory Academic Prog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can complete the SAP Module. (which includes file review activi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20C-F8C5-48A3-B63D-77FBE75742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atisfactory Academic Progr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should I complete this modu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ich offices are involved in S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individua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Management Enhancement and follow-up on corrective action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completing file review activity each year for continuous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FBA-4DEB-4EE0-BCC6-62E0E87F6D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SA Assess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session provides an overview of the FSA Assessments and discusses ways to incorporate the assessments into the audit and program review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F88-52B4-4E3A-A38F-4600FFD49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4389480" y="1523880"/>
            <a:ext cx="1792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kins Loans Default MGM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97180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s can  complete the Federal Perkins Loan Due Dilligenc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E28-8BE9-4F1B-A701-E37B5323C5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deral Perkins Loan Due Dilig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should I complete this modu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at offices are involved in due di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due diligenc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Activity #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completing activity #6 every couple of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Management Enhancement and follow-up on all corrective action plan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2F7-4704-426A-B364-94F67533B0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126240" y="838080"/>
            <a:ext cx="23007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tivity #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B44-C89E-4A98-8C33-E25D016840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Assessments Hel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 Not Documented/In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 Verification Module can be completed (including all activities) to find problems and correct procedu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A9A-6F49-4081-8817-7D2991EB7C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Modu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Test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help prevent audit or program review fi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Links to various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ignifies a continuous improv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ovides several exercises to test knowledge and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icies and procedur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ovides Community Questions &amp; Answers received 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chools and answered by the Department of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j0293858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457200" cy="365040"/>
          </a:xfrm>
          <a:prstGeom prst="rect">
            <a:avLst/>
          </a:prstGeom>
          <a:ln w="0">
            <a:noFill/>
          </a:ln>
        </p:spPr>
      </p:pic>
      <p:pic>
        <p:nvPicPr>
          <p:cNvPr id="172" name="BS00365_" descr=""/>
          <p:cNvPicPr/>
          <p:nvPr/>
        </p:nvPicPr>
        <p:blipFill>
          <a:blip r:embed="rId2"/>
          <a:stretch/>
        </p:blipFill>
        <p:spPr>
          <a:xfrm>
            <a:off x="1523880" y="4495680"/>
            <a:ext cx="311400" cy="381240"/>
          </a:xfrm>
          <a:prstGeom prst="rect">
            <a:avLst/>
          </a:prstGeom>
          <a:ln w="0">
            <a:noFill/>
          </a:ln>
        </p:spPr>
      </p:pic>
      <p:pic>
        <p:nvPicPr>
          <p:cNvPr id="173" name="BD00028_" descr=""/>
          <p:cNvPicPr/>
          <p:nvPr/>
        </p:nvPicPr>
        <p:blipFill>
          <a:blip r:embed="rId3"/>
          <a:stretch/>
        </p:blipFill>
        <p:spPr>
          <a:xfrm>
            <a:off x="1447920" y="5105520"/>
            <a:ext cx="380880" cy="33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E89-C534-459E-A160-D591F8CFB1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Module,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Verification Outcomes – Use of the ISIR Analysis Tool to evaluate the results of CPS edits and discretionary 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E01616_" descr=""/>
          <p:cNvPicPr/>
          <p:nvPr/>
        </p:nvPicPr>
        <p:blipFill>
          <a:blip r:embed="rId1"/>
          <a:stretch/>
        </p:blipFill>
        <p:spPr>
          <a:xfrm>
            <a:off x="4343400" y="338940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B86-E99C-4762-BD06-847105E687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erification Not Documented/Incomple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should I complete the Verification modu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scope of the find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applicable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 Management Enhanc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D2E-A4CE-4A58-85FD-8096D2D918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utco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Section of the Verification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Use of the ISIR Analysis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chools to target additional areas to Verify based on their effect on EFC and Elig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school with data to educate students upfront before errors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16A-33C7-45A4-A2F8-4DF0C5ED17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7993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ore you put into the assessments, the more you will get out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assume that everything you do is in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te Assessments related to audit findings each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no audit findings, select at least two assessments to complete each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ministering the Title IV programs is an Institutional-Wide Eff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 willing to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41F-0A50-441E-9FC8-BCB180E1A8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on the horizon for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updated annu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activities added to existi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Enhancement Form to become intera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ant Feedback from sch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5BC-879A-41DA-880C-BDA4A12AA6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3240" y="617400"/>
            <a:ext cx="679932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overview of FSA Assess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of common Audit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how Assessments help with compliance, audits &amp; program review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Verification, Default Management, and Campus-Based Assess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j0257705" descr=""/>
          <p:cNvPicPr/>
          <p:nvPr/>
        </p:nvPicPr>
        <p:blipFill>
          <a:blip r:embed="rId1"/>
          <a:stretch/>
        </p:blipFill>
        <p:spPr>
          <a:xfrm>
            <a:off x="4419720" y="5257800"/>
            <a:ext cx="3733560" cy="13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C7B-B72B-400A-AC72-11007926ED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585800" y="4986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SO01862_" descr=""/>
          <p:cNvPicPr/>
          <p:nvPr/>
        </p:nvPicPr>
        <p:blipFill>
          <a:blip r:embed="rId1"/>
          <a:stretch/>
        </p:blipFill>
        <p:spPr>
          <a:xfrm>
            <a:off x="1182600" y="1905120"/>
            <a:ext cx="6208920" cy="3566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29275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ginia W.Hagins.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15) 556-42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landa.Adams.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04) 562-6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937-E83E-49C8-812C-1F842AF2B9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A Assessment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 Dramatiz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he FSA Assessments helped me to improve the administration of TIV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35268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O – Ms. Ha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886200"/>
            <a:ext cx="34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ident- Ms. Ad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SO01862_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410080" cy="3733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108240" y="33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39120" y="292896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or – Emily Ha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703-21F4-40F2-8D0D-393EC8C5D9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to prevent and/or identify compliance issues, and implement Management Enhancements (Action Plans) for problem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D0C-5F02-47E7-9954-8B31871045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2 modules updated with hyperlink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gulation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tudent Financial Aid Handboo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as a series of questions/comments outlining major requirements/policies needed to properly administer the Title IV programs (checklist, exercises, activities, Q&amp;As – who, what, when, where, ho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DD0-AB61-4BAD-BFC4-CAB9ACCD6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can I find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assessments can be accessed from the following websites 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Tahoma"/>
              </a:rPr>
              <a:t>School’s portal (http://fsa4schools.ed.gov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474"/>
                </a:solidFill>
                <a:latin typeface="Tahoma"/>
              </a:rPr>
              <a:t>Under “Resources &amp; Training”, click on FSA Self-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Tahoma"/>
              </a:rPr>
              <a:t>IFAP (http://ifap.ed.gov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474"/>
                </a:solidFill>
                <a:latin typeface="Tahoma"/>
              </a:rPr>
              <a:t>Under “Tools for Schools”, click on FSA 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483-99E4-4C82-892B-9E47F58C7D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can I find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229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0D6-A1D6-4784-B0E3-A87CC19064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ECE-A8F0-4751-A2CE-7E3906C15B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Vicki.Adkins</cp:lastModifiedBy>
  <dcterms:modified xsi:type="dcterms:W3CDTF">2005-07-12T15:37:29Z</dcterms:modified>
  <cp:revision>82</cp:revision>
  <dc:subject/>
  <dc:title>PowerPoint Presentation</dc:title>
</cp:coreProperties>
</file>