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F3B271-DCF5-4AB0-9D10-16B3396A7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DD0-5743-4667-9ACC-B7701D4B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F74-CB8D-410D-906C-BCB55F2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AC7-9AFE-49F6-935D-FD1C904C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7F7-D056-48F2-B8B5-FFFCE590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9AB7-281D-4DC7-933F-0C03A098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F1D2-E3C1-4303-A769-20E61C33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5AC2-E2BE-47EA-81F9-93306D17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BC3-574B-4775-AA51-0129061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8533-D68C-47B1-81E3-354F275A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1E2-8EFA-4652-BB5C-3EC5F92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B0DF-2022-474C-97F4-E1E1388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E94-F3FA-4D64-94D1-4DCA6FA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1F7-3B8A-4326-89F8-58AAE393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59D2-D6FD-4C53-B024-7DEA833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9D3-D8DA-40F4-B8F7-8224431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81A-B38F-400E-9801-029C9C39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DAE-94A5-4D15-BCF9-7392A9EE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1FD-0864-4A68-821F-F38D56A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AF8-D722-4159-8F1B-9E18912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11D-5857-4F58-8431-B38EF82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601-C82C-4ED7-A82F-D068C74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813-4742-474A-B08F-93D7E7C2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D53-6108-45A7-80B8-9EC5049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C26-8044-4057-ACA5-A92B312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0083-0C7F-423A-8919-783345708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13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F3F-E32B-4E4A-8372-61A03F5FA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67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mall-nclb" descr=""/>
          <p:cNvPicPr/>
          <p:nvPr/>
        </p:nvPicPr>
        <p:blipFill>
          <a:blip r:embed="rId2"/>
          <a:stretch/>
        </p:blipFill>
        <p:spPr>
          <a:xfrm>
            <a:off x="7924680" y="5562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SA Assessments:  A Key to Compliance &amp; Improve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BD05299_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66680" y="609480"/>
            <a:ext cx="91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ASSOCIATION OF FINANACIAL 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98320" y="4529160"/>
            <a:ext cx="21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York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3 – July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7C4-EA69-4C30-B6F2-9125EBE958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ADD-A6D0-4CD9-A5B4-59FD90190C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46E-6CDA-4C61-81E3-D90293D5A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2A0-B1EE-4027-BFE3-D132F1FEC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ting the Assess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FSA Assessments can be downloa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2819520"/>
          <a:ext cx="7772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7772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96F-613E-4B11-93E2-1B5049D3F2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echnical Assistance Resourc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listing of all resources available to schools that need as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 information, phone numbers, emai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/software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assessment has a link to the Technical Assistance Resources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1EA-BA55-41AA-BE25-767178FE3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onding to Audits or Program Revi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a school prepare for a program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a school prepare for an aud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essments can help to ensure findings do not reocc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1CB-1998-4CBF-8DD3-EC4C73EAC3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Management Enhance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 Plan to help you to take corrective action to resolve noted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y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ign required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y resolution team (offices, team leads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t time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inder to update policies &amp;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 to the Management Enhancement Worksheet from each asse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 Pla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654-C15C-448C-BCC0-3BC93BD438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Common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isfactory Academic Progress – standards inadequate, not adequately monitored or appl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deral Perkins Loans – inadequate billing/collection procedures, due diligence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Not Documented/In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E3C-DB8C-4664-B3BA-9660F949E2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Assessments Hel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isfactory Academic Prog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can complete the SAP Module. (which includes file review activi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28E-692D-4D85-9FE5-DBA2290876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atisfactory Academic Progr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hould I complete this modul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ich offices are involved in S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individua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Management Enhancement and follow-up on corrective action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completing file review activity each year for continuous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D67-A33D-4F2A-9808-5A4A473C5B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SA Assess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ession provides an overview of the FSA Assessments and discusses ways to incorporate the assessments into the audit and program review proces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66F-4BD6-4C30-A3E2-4C1045C08C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4389480" y="1523880"/>
            <a:ext cx="1792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kins Loans Default MGM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97180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s can  complete the Federal Perkins Loan Due Dilligenc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4F0-A095-4BBC-AD48-D686929DB3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deral Perkins Loan Due Dilig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should I complete this mod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at offices are involved in due di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due diligenc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Activity #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completing activity #6 every couple of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Management Enhancement and follow-up on all corrective action plan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8F1-F400-4021-BCCE-17543DC19A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126240" y="838080"/>
            <a:ext cx="23007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tivity #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17F-1ED9-490E-B575-5C7118AC46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Assessments Hel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Not Documented/In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 Verification Module can be completed (including all activities) to find problems and correct proced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746-D760-4022-8ED6-9961F711C2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Modu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Test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help prevent audit or program review f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Links to variou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gnifies a continuous improv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vides several exercises to test knowledge and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licies and procedur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vides Community Questions &amp; Answers received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chools and answered by the Department of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j0293858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457200" cy="365040"/>
          </a:xfrm>
          <a:prstGeom prst="rect">
            <a:avLst/>
          </a:prstGeom>
          <a:ln w="0">
            <a:noFill/>
          </a:ln>
        </p:spPr>
      </p:pic>
      <p:pic>
        <p:nvPicPr>
          <p:cNvPr id="172" name="BS00365_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311400" cy="381240"/>
          </a:xfrm>
          <a:prstGeom prst="rect">
            <a:avLst/>
          </a:prstGeom>
          <a:ln w="0">
            <a:noFill/>
          </a:ln>
        </p:spPr>
      </p:pic>
      <p:pic>
        <p:nvPicPr>
          <p:cNvPr id="173" name="BD00028_" descr=""/>
          <p:cNvPicPr/>
          <p:nvPr/>
        </p:nvPicPr>
        <p:blipFill>
          <a:blip r:embed="rId3"/>
          <a:stretch/>
        </p:blipFill>
        <p:spPr>
          <a:xfrm>
            <a:off x="1447920" y="5105520"/>
            <a:ext cx="380880" cy="33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BC7-CF69-4DD4-83B1-B8C30D9DCE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Module,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Verification Outcomes – Use of the ISIR Analysis Tool to evaluate the results of CPS edits and discretionary 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E01616_" descr=""/>
          <p:cNvPicPr/>
          <p:nvPr/>
        </p:nvPicPr>
        <p:blipFill>
          <a:blip r:embed="rId1"/>
          <a:stretch/>
        </p:blipFill>
        <p:spPr>
          <a:xfrm>
            <a:off x="4343400" y="338940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EEC-5872-4E60-A9EB-5A2226B5BF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erification Not Documented/Incomple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should I complete the Verification mod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scope of the find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applicable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 Management Enhan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9EB-77A3-4BDC-9C7A-79EE3E6897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Section of the Verification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Use of the ISIR Analysis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chools to target additional areas to Verify based on their effect on EFC and 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school with data to educate students upfront before error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ED7-70F1-4C64-8837-5C46BFFF6E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799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re you put into the assessments, the more you will get out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n’t assume that everything you do is in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te Assessments related to audit findings each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no audit findings, select at least two assessments to complete each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ministering the Title IV programs is an Institutional-Wide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 willing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4E3-5FE4-4028-AD5F-F306BC0FE6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on the horizon for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updated annu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ctivities added to existi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Enhancement Form to become intera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 Feedback from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901-BED6-43AA-97AB-C2E6BD2251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3240" y="617400"/>
            <a:ext cx="679932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 overview of FSA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of common Audit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how Assessments help with compliance, audits &amp; program revie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Verification, Default Management, and Campus-Based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j0257705" descr=""/>
          <p:cNvPicPr/>
          <p:nvPr/>
        </p:nvPicPr>
        <p:blipFill>
          <a:blip r:embed="rId1"/>
          <a:stretch/>
        </p:blipFill>
        <p:spPr>
          <a:xfrm>
            <a:off x="4419720" y="5257800"/>
            <a:ext cx="3733560" cy="13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53-4FD4-4C1C-82A6-042BFE3C38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585800" y="4986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SO01862_" descr=""/>
          <p:cNvPicPr/>
          <p:nvPr/>
        </p:nvPicPr>
        <p:blipFill>
          <a:blip r:embed="rId1"/>
          <a:stretch/>
        </p:blipFill>
        <p:spPr>
          <a:xfrm>
            <a:off x="1182600" y="1905120"/>
            <a:ext cx="6208920" cy="3566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29275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ginia W.Hagins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15) 556-4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landa.Adams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04) 562-6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F88-E6EF-44A0-8C9D-42C23FB97B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A Assessment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Dramatiz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he FSA Assessments helped me to improve the administration of TIV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35268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O – Ms. Ha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3886200"/>
            <a:ext cx="34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ident- Ms. 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O01862_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410080" cy="3733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108240" y="33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9120" y="292896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or – Emily Ha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0CD-E5FE-4100-963B-D6B1F88DA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to prevent and/or identify compliance issues, and implement Management Enhancements (Action Plans) for problem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79F-00D0-43EA-9724-D3F51B7ECE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2 modules updated with hyperlink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gulation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tudent Financial Aid Handboo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as a series of questions/comments outlining major requirements/policies needed to properly administer the Title IV programs (checklist, exercises, activities, Q&amp;As – who, what, when, where, h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8CF-82FC-4CD1-AD11-C6B2C5118D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can I find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assessments can be accessed from the following websites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Tahoma"/>
              </a:rPr>
              <a:t>School’s portal (http://fsa4schools.ed.gov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ahoma"/>
              </a:rPr>
              <a:t>Under “Resources &amp; Training”, click on FSA Self-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Tahoma"/>
              </a:rPr>
              <a:t>IFAP (http://ifap.ed.gov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ahoma"/>
              </a:rPr>
              <a:t>Under “Tools for Schools”, click on FSA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FA4-EAA1-4C2D-949C-FB9B1F0F6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can I find the FSA Assessment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229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9EF-6B9F-4BC2-A273-97416945A8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C89-B589-4012-8853-E5E6C96C5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Vicki.Adkins</cp:lastModifiedBy>
  <dcterms:modified xsi:type="dcterms:W3CDTF">2005-07-12T15:37:29Z</dcterms:modified>
  <cp:revision>82</cp:revision>
  <dc:subject/>
  <dc:title>PowerPoint Presentation</dc:title>
</cp:coreProperties>
</file>