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png" ContentType="image/png"/>
  <Override PartName="/ppt/media/image8.wmf" ContentType="image/x-wmf"/>
  <Override PartName="/ppt/media/image12.wmf" ContentType="image/x-wmf"/>
  <Override PartName="/ppt/media/image11.jpeg" ContentType="image/jpeg"/>
  <Override PartName="/ppt/media/image19.jpeg" ContentType="image/jpeg"/>
  <Override PartName="/ppt/media/image1.jpeg" ContentType="image/jpeg"/>
  <Override PartName="/ppt/media/image18.png" ContentType="image/png"/>
  <Override PartName="/ppt/media/image15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310-C0CE-4CA2-93A5-0D6943FA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E2D-6161-46E2-A930-28928922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B922-6762-4329-B882-525A6C3A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6EC-20D1-4BEC-AE50-978677065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3640" y="674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109-0C89-467B-9E2D-4ADA1A17F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508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26F3-43CE-4CCE-B6F6-A0A1BD61A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508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B477-34F1-4672-A237-77EBB3C3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508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C50-B1BC-4AFA-AFCB-C6E435031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EE11-F4B6-445A-A641-2DDE9C84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172E-758D-4EA5-8FBF-3479259A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28600" y="6746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E646-EC42-42E8-BB3B-C6DA0D1AE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0"/>
            <a:ext cx="2970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7640" y="868824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824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0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Funds Transfer from a singl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 Flow is greatly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s/eliminates the need for short-term emergency loa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 time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ns/eliminates student lines in financial aid and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rwork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 have more time to counsel students on financial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39760" y="681120"/>
            <a:ext cx="4579920" cy="343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1FEE-5DF9-4A53-A455-12427988D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772240" y="6248520"/>
            <a:ext cx="337176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00800" y="5867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F34A085-D598-4CA0-A3F5-0EC14BAD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09480" y="5600880"/>
            <a:ext cx="1190880" cy="102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ional Association of Student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ncial Aid Administrators Pres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76920" y="6095880"/>
            <a:ext cx="420984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48240"/>
            <a:ext cx="1190880" cy="102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429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raig Rori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John Piers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FSA Default Prevention and Manage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75248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ing Delinquency and Default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chools Can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ault Prevention Pl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is achieved when sol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re developed and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pulls together peopl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toward a comm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Default Management sample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Letter GEN-01-0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ise the plan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ault Prevention Tea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members should include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school of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from all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 and promo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 Default Reduction Goal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hool based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429000"/>
            <a:ext cx="878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905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ming Soon, The New and Impro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School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CDR compare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f the same size and 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in your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evious CD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argets to set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 Who’s Defaulting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iming at the right targ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id not complet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program for which th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are unresponsiv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yment counseling by lender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or the Direct Loan Servi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 Who’s Defaulting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iming at the right targ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Intervent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fail to comple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tudent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leave ear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, coun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fail to respo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, counsel, help connect delinquent ‘non-responders’ with lender, GA or the DL Servicer to resolve delin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ilure to Complete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Identify the problem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efau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LR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: understand how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your defaul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y leave ea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re warning sig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haracteris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ilure to Complete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  Identify the sol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: must be founded on you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: Faculty, administrator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uccess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Your intervention will help students to be more successful, especially those at risk of dropp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with institution’s cor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tudent success = reduced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, educate, graduate, emp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”…to graduation, not jus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those who do leave early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, accurate enrollment change information to NS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lender, GA, DL Servicer: Create maximum opportunity for lender, GA, DL Servicer to work with borrower to avoid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ender/GA/DL Servicer with useful contact inform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those who did leave early…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parture: how quickly do you find 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easily, successfully contact most students who leave ea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llect sufficient contact information while the student was enro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dropouts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rief ‘student success’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/pre-repayment counsel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n-Respond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Stage Delinquency Assistance (LS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with GA and/or Direct Loan Servi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orrowers who did not respond to Lender, GA or DL Servicer loan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nd support student to take constructive action: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en to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4340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d-grad" descr=""/>
          <p:cNvPicPr/>
          <p:nvPr/>
        </p:nvPicPr>
        <p:blipFill>
          <a:blip r:embed="rId1"/>
          <a:srcRect l="0" t="0" r="-3942" b="0"/>
          <a:stretch/>
        </p:blipFill>
        <p:spPr>
          <a:xfrm>
            <a:off x="380880" y="2793960"/>
            <a:ext cx="2057400" cy="1320840"/>
          </a:xfrm>
          <a:prstGeom prst="rect">
            <a:avLst/>
          </a:prstGeom>
          <a:ln w="0">
            <a:noFill/>
          </a:ln>
        </p:spPr>
      </p:pic>
      <p:pic>
        <p:nvPicPr>
          <p:cNvPr id="97" name="ph03414i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905120" cy="1272960"/>
          </a:xfrm>
          <a:prstGeom prst="rect">
            <a:avLst/>
          </a:prstGeom>
          <a:ln w="0">
            <a:noFill/>
          </a:ln>
        </p:spPr>
      </p:pic>
      <p:pic>
        <p:nvPicPr>
          <p:cNvPr id="98" name="j0148484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198144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38280" y="16765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276720"/>
            <a:ext cx="1905120" cy="30456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4956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562720"/>
            <a:ext cx="1905120" cy="30456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486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419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Focus on LS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200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ow Schools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76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ome Interesting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SA Resource Contac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Default Management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202-377-42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.schools.default.management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hort Default Rat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http://www.ifap.ed.gov/drmaterials/finalcdrg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http:ifap.ed.gov/qamodule/DefaultManagement/DefaultManagemen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08200" y="533520"/>
            <a:ext cx="522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ational Default Prevention List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Rutger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for all participants involved in financial aid to exchang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postings by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434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</a:t>
            </a:r>
            <a:br>
              <a:rPr sz="28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tional Default Prevention Listser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bscribe, send a messag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STSERV@EMAIL.RUTGERS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following command in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UBSCRI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FAULT_PREVENTION@EMAIL.RUTGERS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Your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Borrower Education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ders and Guaran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$tart Coalition For Personal Financial Litera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ttp://www.jumpstart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Your Future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ttp://www.mapping-your-futur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redit Counsel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NSLDS For Stud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25760" y="1676520"/>
            <a:ext cx="5527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NSLDS For Stud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information for students and parents available 24/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borr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rate and amount accum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tatus codes (in repayment, paid in full, or in 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fault Prevention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hould get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tudents, school,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ntegrity of loan program,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ly Schools Can Do 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391520" y="2666880"/>
            <a:ext cx="1295280" cy="1828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4952880"/>
            <a:ext cx="19810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j0202159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7238880" y="2514600"/>
            <a:ext cx="1273320" cy="185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0" name="j0202145" descr=""/>
          <p:cNvPicPr/>
          <p:nvPr/>
        </p:nvPicPr>
        <p:blipFill>
          <a:blip r:embed="rId2"/>
          <a:stretch/>
        </p:blipFill>
        <p:spPr>
          <a:xfrm>
            <a:off x="6541920" y="4856040"/>
            <a:ext cx="1992600" cy="131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STAGE DELINQUENCY ASS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11430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S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2819520"/>
            <a:ext cx="45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s it for my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orrower Delinquency Patter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2120" y="1676520"/>
          <a:ext cx="7578720" cy="44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7872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faulter Characterist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6110280"/>
            <a:ext cx="85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 month average of Stafford borrowers - all cohort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% do not receive the advantage of the full 6 month grace period as a result of late enrollm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% have withdrawn from school and did not complet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have had bad telephone numbers at the time of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 have not successfully been contacted by telephone during the 360 day collection effort during delin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me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esting Statistic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They Mea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LSD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al Workloa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71600" y="1143000"/>
          <a:ext cx="61722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172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D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ar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ramatic!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1352520"/>
          <a:ext cx="678204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52520"/>
                    <a:ext cx="678204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32080" y="2403360"/>
            <a:ext cx="69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295280"/>
            <a:ext cx="693432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Tools: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  <a:ea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  <a:ea typeface="Arial"/>
              </a:rPr>
              <a:t>LSD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User’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For FFEL Schools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Arial"/>
              </a:rPr>
              <a:t>Describes how to implement LSD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Stage Delinquency Assist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and T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32080" y="2403360"/>
            <a:ext cx="69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838080"/>
            <a:ext cx="647712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Tools: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LSD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User’s Guide</a:t>
            </a:r>
            <a:r>
              <a:rPr b="0" lang="en-US" sz="3600" spc="-1" strike="noStrike">
                <a:solidFill>
                  <a:srgbClr val="ff0066"/>
                </a:solidFill>
                <a:latin typeface="Arial Black"/>
                <a:ea typeface="Arial"/>
              </a:rPr>
              <a:t>**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Arial"/>
              </a:rPr>
              <a:t>Describes how to implemen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LSDA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 -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I - Late Stage Delinquency Assist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II - WEB Tools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V - Ideas and T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**Available for Direct Loan and FFELP scho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Contact presenter via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D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rect Loan Sch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b Site: Flexibility, identify unique borrower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rect Loan Servicing Center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SDA User Guide an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-way calls with delinquent borr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umbers and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chool Services: 1-888-877-7658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-F 8:00 a.m. - 8:30 p.m. EST.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an Counseling : 1-800-848-0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vailable for “off hours” M-F 8:30 p.m. - Midnight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.m.  &amp; Sat. 8:00 a.m. -  5:30 p.m. 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FEL Schools: Contact your Guarantor for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n implementing LSDA.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Read the LSDA Guide for FFELP schools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LSDA Working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Stage Delinquency Assista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feel it is the right thing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feel that it is very do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spond well to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n't take a lot of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are drama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14560" y="0"/>
            <a:ext cx="59594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ps for Succ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a light touch – remember you are there to help, not to collec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ll at different times of the day – more people are home in the evening and you can call from home using a calling car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ling handwritten notes has been successf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contact information from the Web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ent Email addresses, Perkins Loan inf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istrar’s Office, Alumni Office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nd out information on repayment option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ments and forbeara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 the student with the Service Cent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three-way cal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 creative! You can make a differe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24256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7360" y="263520"/>
            <a:ext cx="44211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moni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just wanted to drop you a note of thanks and appreciation for your help with my direct student loan.  It had become a sore issue that I found difficult to face, being that I had no answers regarding payment.  I was not aware of deferment options regarding unemployment, just those associated with schooling.  Thanks again for your help and persistence.”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~Student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glad you cared enough to contact me and not give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 me when I had just about given up on myself.”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~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Stud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rrowers are grateful that someone is willing to work with them and help them get through the critical point.  A lot of the borrowers do not realize the seriousness of defaulting and the options that are available.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~Margaret Pearson, San Antonio College/Caree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09480" cy="453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609480" cy="453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609480" cy="453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rcRect l="0" t="35804" r="31357" b="0"/>
          <a:stretch/>
        </p:blipFill>
        <p:spPr>
          <a:xfrm>
            <a:off x="7010280" y="2895480"/>
            <a:ext cx="12970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ffective Implem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rom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someone's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                     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should get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I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tudents, school,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fiscal integrity of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cademic integrity of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t, educate, graduate,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cade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fficial Cohort Default Rat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95240" y="1765440"/>
          <a:ext cx="779472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765440"/>
                    <a:ext cx="779472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295280"/>
            <a:ext cx="701064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you get back to camp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your potential defaul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e early to support program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student separations tim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outreach to dropou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unseling, support to 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delinquent borr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us know how we can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6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a50021"/>
                </a:solidFill>
                <a:latin typeface="CG Omega"/>
              </a:rPr>
              <a:t>Questions and Comments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4840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137160" bIns="44280" anchor="t">
            <a:normAutofit/>
          </a:bodyPr>
          <a:p>
            <a:pPr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act U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spcBef>
                <a:spcPts val="601"/>
              </a:spcBef>
              <a:buClr>
                <a:srgbClr val="000000"/>
              </a:buClr>
              <a:buSzPct val="115000"/>
              <a:buFont typeface="Webdings" charset="2"/>
              <a:buChar char="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ohn Pi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.pierson@ed.g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spcBef>
                <a:spcPts val="601"/>
              </a:spcBef>
              <a:buNone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spcBef>
                <a:spcPts val="601"/>
              </a:spcBef>
              <a:buClr>
                <a:srgbClr val="000000"/>
              </a:buClr>
              <a:buSzPct val="115000"/>
              <a:buFont typeface="Webdings" charset="2"/>
              <a:buChar char="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aig R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spcBef>
                <a:spcPts val="601"/>
              </a:spcBef>
              <a:buClr>
                <a:srgbClr val="000000"/>
              </a:buClr>
              <a:buSzPct val="115000"/>
              <a:buFont typeface="Webdings" charset="2"/>
              <a:buChar char="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aig.rorie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spcBef>
                <a:spcPts val="601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1322280"/>
            <a:ext cx="5572080" cy="497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880" y="6521400"/>
            <a:ext cx="37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Help Put America Throu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1331640" cy="1998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riser1" descr=""/>
          <p:cNvPicPr/>
          <p:nvPr/>
        </p:nvPicPr>
        <p:blipFill>
          <a:blip r:embed="rId2"/>
          <a:srcRect l="0" t="0" r="0" b="10967"/>
          <a:stretch/>
        </p:blipFill>
        <p:spPr>
          <a:xfrm>
            <a:off x="685800" y="3886200"/>
            <a:ext cx="197964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124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4520" y="826560"/>
            <a:ext cx="68328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keup of Cohort R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70040" y="1676520"/>
          <a:ext cx="775944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676520"/>
                    <a:ext cx="7759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371600"/>
            <a:ext cx="792468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d6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2920" y="1701720"/>
            <a:ext cx="387972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96720" indent="-396720">
              <a:spcBef>
                <a:spcPts val="1925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82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The Direct Loan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Default Initia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-Repayment Counseling: contact borrowers via telephone or email during their grace period or just as they enter repayment, advise of repayment responsibilities/ payment plan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‘at risk borrowers’ based on loan and borrower specific attribu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the number of ‘special call campaigns’ based on delinquency level or attribute risk, and increased the number of telephone call attempts to as many as 6 per month to make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at 15 days delin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ttempts re-180 days delin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049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Keeping CDRs down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Lenders/Servicers are working hard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1295280"/>
            <a:ext cx="754380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d6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The Direct Loan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Defaul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handling of deferments, forbearances and correspondence received on delinquent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ed Direct Loan web site capability, including Online Advisor, providing borrowers with additional information and capabilities to manage their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alling efforts to each borrower throughout the delinquency period, up to the 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y of delin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ng e-mails to targeted populations of 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2920" y="1701720"/>
            <a:ext cx="387972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96720" indent="-396720">
              <a:spcBef>
                <a:spcPts val="1925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282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Keeping CDRs down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Lenders/Servicers are working har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es All This Tell Us?</a:t>
            </a:r>
            <a:br>
              <a:rPr sz="36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ying on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ue Diligence- Centered Strategy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, hard work: Lenders, GAs and the DL Servicer have succeeded in reducing delinquency and defa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leveled off: 5%-6% for 4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chools contribute, via both rate and volume, to loan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es This Tell Us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 work of Lenders and Servicers is not enough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chools can play crucial role in reducing both rate and volume of default below current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experience suggest that schools can make a big impac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rate/frequency of loan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he integrity of the loa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based strategies wil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0:33:25Z</dcterms:created>
  <dc:creator>Mindy Kaplan Eline</dc:creator>
  <dc:description/>
  <dc:language>en-US</dc:language>
  <cp:lastModifiedBy>chris.farr</cp:lastModifiedBy>
  <dcterms:modified xsi:type="dcterms:W3CDTF">2005-07-11T17:46:27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1987236</vt:r8>
  </property>
  <property fmtid="{D5CDD505-2E9C-101B-9397-08002B2CF9AE}" pid="3" name="_AuthorEmail">
    <vt:lpwstr>gordonb@nasfaa.org</vt:lpwstr>
  </property>
  <property fmtid="{D5CDD505-2E9C-101B-9397-08002B2CF9AE}" pid="4" name="_AuthorEmailDisplayName">
    <vt:lpwstr>Barbara Gordon</vt:lpwstr>
  </property>
  <property fmtid="{D5CDD505-2E9C-101B-9397-08002B2CF9AE}" pid="5" name="_EmailSubject">
    <vt:lpwstr>Template</vt:lpwstr>
  </property>
</Properties>
</file>