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3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05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52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03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05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772240" y="6248520"/>
            <a:ext cx="3371760" cy="53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400800" y="5867280"/>
            <a:ext cx="27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43DD6C7-0752-4617-9951-0DD04D2E6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09480" y="5600880"/>
            <a:ext cx="1190880" cy="102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ional Association of Student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ancial Aid Administrators Pres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876920" y="6095880"/>
            <a:ext cx="4209840" cy="66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5448240"/>
            <a:ext cx="1190880" cy="102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ibill.va.gov/" TargetMode="External"/><Relationship Id="rId2" Type="http://schemas.openxmlformats.org/officeDocument/2006/relationships/hyperlink" Target="http://www.vba.va.gov/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33526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ill Susling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.S. Department of Veterans Affair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arold McCullough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.S. Department of Education, 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371600"/>
            <a:ext cx="769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ng with the Veterans Administration to Help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erve Educational Assistance Program (REAP or Ch. 1607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Reservists Called to Active Duty After Sept. 10, 200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that Affect REAP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d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of time spent on active d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full-time monthly rates are $401, $602, and $8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IB—SR “kick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Duty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ervists Educational Assistance Program (REAP or Ch. 1607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line for Making the First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Begin Payments by Oct. 1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 must build a pay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  and the Coast Guard must establish procedures for determining who is elig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Payments Will Include Many Lump-Sum Payments for Training Completed Before Oct. 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st-Vietnam Era Veterans’ Educational Assistance Program (VEAP or Ch. 32)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dividuals Who Entered Active Duty 1977-mid-19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Assistance Pilo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that Affect the Amount of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con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ck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ocational Rehabilitation and Employment (Ch. 31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rved on or after September 16, 1940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rvice-connected disabilities are rated at least 20% VA (or 10% if there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io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employment handicap)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ocational Rehabilitation and Employment (Ch. 31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cational rehabilitation is required to overcome an employment handicap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ss than 12 years since VA notified of the eligibility (longer if certain conditions prevented train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ocational Rehabilitation and Employment (Ch. 31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teran eligible for this benefit has his/her tuition and fees paid by VA to the educational instit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 also pays for necessary books and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 receives a monthly subsistence allow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basic full-time rate is $474.27 per mon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pendents’ Educational Assistance  (Ch. 35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hildren, Spouses and Surviving Spouses of Individuals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died while on active dut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se death was caused by a service-connected disabilit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died while permanently and totally disabled as a result of a service-connected disabilit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have a permanent and total service-connected disability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pendents’ Educational Assistance  (Ch. 35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basic full-time rate is $803 per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beginning date of eligibility affects pay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tored Entitlement Program for Survivors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s to the survivors of some military personnel the Social Security benefits lost in 19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ors include children in college between age 18-2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payments range from $800 to $1,70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ducation Beneficiaries Train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12600" y="1600200"/>
            <a:ext cx="7766280" cy="3734280"/>
            <a:chOff x="912600" y="1600200"/>
            <a:chExt cx="7766280" cy="3734280"/>
          </a:xfrm>
        </p:grpSpPr>
        <p:sp>
          <p:nvSpPr>
            <p:cNvPr id="124" name=""/>
            <p:cNvSpPr/>
            <p:nvPr/>
          </p:nvSpPr>
          <p:spPr>
            <a:xfrm>
              <a:off x="1828800" y="2133720"/>
              <a:ext cx="6829560" cy="2886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47880" y="4515120"/>
              <a:ext cx="682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47880" y="4029120"/>
              <a:ext cx="682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47880" y="3552840"/>
              <a:ext cx="682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47880" y="3067200"/>
              <a:ext cx="682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7880" y="2590920"/>
              <a:ext cx="682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47880" y="2124360"/>
              <a:ext cx="682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81240" y="4772160"/>
              <a:ext cx="466560" cy="2192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24240" y="4762800"/>
              <a:ext cx="457200" cy="22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57880" y="4734000"/>
              <a:ext cx="466560" cy="2574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00880" y="4695840"/>
              <a:ext cx="457200" cy="2955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34160" y="4657680"/>
              <a:ext cx="466920" cy="333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77160" y="4629240"/>
              <a:ext cx="457200" cy="362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81240" y="3429000"/>
              <a:ext cx="466560" cy="13431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24240" y="3409920"/>
              <a:ext cx="457200" cy="13528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57880" y="3171960"/>
              <a:ext cx="466560" cy="15620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00880" y="3143520"/>
              <a:ext cx="457200" cy="15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34160" y="3067200"/>
              <a:ext cx="466920" cy="15904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77160" y="2828880"/>
              <a:ext cx="457200" cy="18003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81240" y="3095640"/>
              <a:ext cx="466560" cy="333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24240" y="3009960"/>
              <a:ext cx="457200" cy="399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57880" y="2762280"/>
              <a:ext cx="466560" cy="409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00880" y="2724120"/>
              <a:ext cx="457200" cy="419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4160" y="2638440"/>
              <a:ext cx="466920" cy="428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77160" y="2552760"/>
              <a:ext cx="457200" cy="276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77160" y="2324160"/>
              <a:ext cx="45720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47880" y="2105280"/>
              <a:ext cx="1440" cy="288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19440" y="49914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19440" y="451512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9440" y="402912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19440" y="355284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9440" y="30672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19440" y="259092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47880" y="4991400"/>
              <a:ext cx="682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847880" y="4991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90880" y="4991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124160" y="49910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267160" y="499104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400800" y="4991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543800" y="4991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677440" y="499104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912600" y="1990800"/>
              <a:ext cx="921240" cy="3191400"/>
              <a:chOff x="912600" y="1990800"/>
              <a:chExt cx="921240" cy="3191400"/>
            </a:xfrm>
          </p:grpSpPr>
          <p:sp>
            <p:nvSpPr>
              <p:cNvPr id="166" name=""/>
              <p:cNvSpPr/>
              <p:nvPr/>
            </p:nvSpPr>
            <p:spPr>
              <a:xfrm>
                <a:off x="1228320" y="48769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12600" y="4400640"/>
                <a:ext cx="921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0,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12600" y="3915000"/>
                <a:ext cx="921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,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12600" y="3438720"/>
                <a:ext cx="921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00,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12600" y="2953080"/>
                <a:ext cx="921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00,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12600" y="2476800"/>
                <a:ext cx="921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00,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12600" y="1990800"/>
                <a:ext cx="921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00,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132640" y="5029200"/>
              <a:ext cx="6253920" cy="305280"/>
              <a:chOff x="2132640" y="5029200"/>
              <a:chExt cx="6253920" cy="305280"/>
            </a:xfrm>
          </p:grpSpPr>
          <p:sp>
            <p:nvSpPr>
              <p:cNvPr id="174" name=""/>
              <p:cNvSpPr/>
              <p:nvPr/>
            </p:nvSpPr>
            <p:spPr>
              <a:xfrm>
                <a:off x="2132640" y="502920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265920" y="502920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408920" y="502920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542560" y="502920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85560" y="502920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818840" y="502920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743200" y="1600200"/>
              <a:ext cx="5192640" cy="306720"/>
              <a:chOff x="2743200" y="1600200"/>
              <a:chExt cx="5192640" cy="3067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743200" y="1600200"/>
                <a:ext cx="928080" cy="305280"/>
                <a:chOff x="2743200" y="1600200"/>
                <a:chExt cx="928080" cy="3052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743200" y="1638360"/>
                  <a:ext cx="228240" cy="19980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018240" y="1600200"/>
                  <a:ext cx="6530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H3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967200" y="1601640"/>
                <a:ext cx="928080" cy="305280"/>
                <a:chOff x="3967200" y="1601640"/>
                <a:chExt cx="928080" cy="3052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967200" y="1639800"/>
                  <a:ext cx="228240" cy="201600"/>
                </a:xfrm>
                <a:prstGeom prst="rect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242240" y="1601640"/>
                  <a:ext cx="6530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H3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189760" y="1600200"/>
                <a:ext cx="1211040" cy="305280"/>
                <a:chOff x="5189760" y="1600200"/>
                <a:chExt cx="1211040" cy="305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189760" y="1657440"/>
                  <a:ext cx="228240" cy="20160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464440" y="1600200"/>
                  <a:ext cx="936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H160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6696000" y="1601640"/>
                <a:ext cx="1239840" cy="305280"/>
                <a:chOff x="6696000" y="1601640"/>
                <a:chExt cx="1239840" cy="3052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696000" y="1649160"/>
                  <a:ext cx="228600" cy="20160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999480" y="1601640"/>
                  <a:ext cx="936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H1607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ssion Overvie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s Education Programs that VA Does and Does Not Ad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ayment Rules and Processing Claims for 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tory and Regulatory Definitions for Title IV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of Veterans Education Benefits for Title IV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ocessing Claims for Veterans Educational Benefi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tional Rehabilitation claims are processed at each of VA’s 58 regional off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S claims are processed in St. Louis, 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laims for educational benefits are processed at four regional processing off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alo, NY; Atlanta, GA; St. Louis, MO and Muskogee,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ocessing Claims for Veterans Educational Benefi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Vocational Rehabilitation and Dependents’ Educational Assistance Claims Take the Longe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enrollments Take the Shorte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aims Processing—VR&amp;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eran applies for VR&amp;E (completes 28-190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&amp;E Division in the regional office determines elig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&amp;E counselor determines entit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eran and counselor explore vocational goal based upon comprehensive assessment of skills, aptitudes and inter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&amp;E counselor and veteran develop rehabilitatio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&amp;E provides case management services until veteran is rehabilit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aims Processing--REP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s may be submitted at any VA office, but will be processed in St. Lou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ligibility has never been established, it takes 4 to 6 months for the claim to be proc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eligibility is established it takes 30-45 days to process a supplemental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aims Processing—Other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ant files a 22-1990 or 22-54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institution certifies claimant’s enroll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, DoD or Coast Guard determines elig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is author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eb Sit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Service Home Pa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dress is: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IBill.va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information on basic monthly rates for ch. 30,1606 and 16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s Benefits Administration Home Page a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ba.va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Vocational Rehabilitation and Employment and drill down to ch. 31 r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tatutory Definition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“Untaxed Income and Benefits”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axed Income and Benefits” (HEA section 480(b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veterans non-education benefits but not veterans education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terans non-education benefits are collected on FAFSA Worksheet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terans non-education benefits are used in calculating the student’s EF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tatutory Definitions (cont’d)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“Other Financial Assistance”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Financial Assistance” (HEA section 480(j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veterans education benefits (HEA section 480(c)) a student will receive during the award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terans education benefits are reported in questions 46 and 47 of the 2005-2006 F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terans education benefits are not used in EFC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gulatory Definitions: “Resources” and “Estimated Financial Assistance”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” is the term used for “Other Financial Assistance” under the campus-based regulations (34 CFR 673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items are referred to as “Estimated Financial Assistance” under the FFEL and Direct Loan regulations (34 CFR 682.200 and 685.1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gulatory Definitions (cont’d)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“Estimated Financial Assistance”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EA (section 428(a)(2)(c)) requires a school to exclude Montgomery GI Bill-Active Duty (Chapter 30) veterans education benefits and AmeriCorps education awards or post-service benefits from EFA when determining subsidized FFEL and Direct Loan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xclusion is repeated in the definition of EFA in the FFEL and Direct Loan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eterans Education Benefits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s Education Programs that VA admin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gomery GI Bill—Active D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gomery GI Bill—Selected Res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s Educational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 Educational Assistanc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gulatory Definitions (cont’d)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“Resources”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 did not provide a similar exclusion of these benefits for the campus-bas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llow students to have the full advantage of the statutory exclusion of these benefits for subsidized loans without losing campus-based eligibility, the campus-based regulations added an exclusion to the definition of “resourc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gulatory Definitions (cont’d)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“Resources”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etermining a student’s eligibility for campus-based funds, a school may exclude as a “resource” any portion of a subsidized FFEL or Direct Loan that is equal to or less than the amount of the student’s Montgomery GI Bill-Active Duty benefits and AmeriCorps education awards or post-servic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ckaging Example: Montgomery GI Bill-Active Duty Benefi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is a first-year, independent undergraduate student enrolled in a four-year program at Brad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as an EFC of 1800, a Pell Grant of $2,000, and Montgomery GI Bill-Active Duty benefits of $4,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need is $7,700 ($9,500 COA – 1800 E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assistance from the Pell Grant and Montgomery GI Bill-Active Duty benefits equals $6,200 ($2,000 + 4,2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 between his need and assistance is $1,500 ($7,700 – 6,2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ckaging Example (cont’d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Montgomery GI Bill-Active Duty benefits do not count as EFA for subsidized loans, John is eligible for a subsidized Stafford loan in an amount that exceeds $1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COA minus his EFC and Pell Grant would leave an unmet need of $5,700 ($9,500 – 1,800 – 2,000) based on the required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ximum subsidized loan amount for a first-year student is $2,625 and is less than his $5,700 unmet need for subsidized loan purposes, so he is able to receive a subsidized loan up to $2,6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ckaging Example (cont’d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ision to take out a subsidized loan is the student’s to make and the school must follow the HEA and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example, his assistance totals $8,825 ($2,000 + 4,200 + 2,625) which exceeds his need of $7,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considered an overaward or an overpayment under the HEA and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ckaging Example (cont’d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is also eligible for campus-based aid if the school chooses to exclude his subsidized loan as a resource up to the amount of his Montgomery GI Bill-Active Duty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need is $7,700 and his total resources minus the subsidized loan would be $6,200 ($8,825 – 2,6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hool may award campus-based aid up to $1,500 ($7,700 – 6,200), for example, $1,000 in FWS funds and $500 in FSEOG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sion to apply the campus-based “resource” exclusion is a school option, it is not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ckaging Example (cont’d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this campus-based exclusion, his assistance would b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000 Pell 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,200 Montgomery GI Bill-Active Du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625 Subsidized Stafford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00 F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SE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,325 Total a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ckaging Example (cont’d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assistance of $10,325 would exceed his need of $7,700 and his COA of $9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this is not considered an overaward or an over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eatment of New Chapter 1607 Veterans Education Benefi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ool must account for Chapter 1607 veterans education benefits as a “resource” and “estimated financial assistance” beginning with the 2005-2006 award year, excluding payments made for previous award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oactive payments for the 2001-2002, 2002-2003, 2003-2004, and 2004-2005 award years will not have to be considered by a school for purposes of overawards and overpayments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tact Inform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ave further questions, we can be contact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.Susling@vba.va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old.McCullough@ed.g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eterans Education Benefi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s Education Programs that VA administer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Vietnam Era Educational Assistanc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tional Rehabilitation and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d Entitlement Program for Survi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eterans Education Benefi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s Education Programs VA Doesn’t Ad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 Officer Training Corps Schola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 Officer Training Corps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eterans Education Benefits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ayment Rules for 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generally are made to the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are generally made month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are affected by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udent’s “training ti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ontgomery GI Bill—Active Duty (Ch. 30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dividuals Who Entered Active Duty Pre-1977 or Post-mid-19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Basic Full-time Monthly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,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,19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ontgomery GI Bill—Active Duty (Ch. 30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that Affect the Amount of MGIB—Active Duty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Depen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ck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Duty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ontgomery GI Bill—Selected Reserve (Ch. 1606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dividuals Who Entered the Selected Reserve (Including the Guard) from Mid-1985 to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basic rate is $288 per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that Affect the Amount of MGIB—Selected Reserve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d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ck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5:04:18Z</dcterms:created>
  <dc:creator>EDUBSUSL</dc:creator>
  <dc:description/>
  <dc:language>en-US</dc:language>
  <cp:lastModifiedBy>Vicki.Adkins</cp:lastModifiedBy>
  <dcterms:modified xsi:type="dcterms:W3CDTF">2005-07-12T15:42:35Z</dcterms:modified>
  <cp:revision>21</cp:revision>
  <dc:subject/>
  <dc:title>Veterans Education Benefits    </dc:title>
</cp:coreProperties>
</file>