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E6DCAC1-E1B0-4361-A32F-D1B89D2E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ibill.va.gov/" TargetMode="External"/><Relationship Id="rId2" Type="http://schemas.openxmlformats.org/officeDocument/2006/relationships/hyperlink" Target="http://www.vba.va.gov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ill Susling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Veterans Affai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rold McCullough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Education,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3716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ng with the Veterans Administration to Help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erve Educational Assistance Program (REAP or Ch. 1607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servists Called to Active Duty After Sept. 10, 2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REAP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ime spent on active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ull-time monthly rates are $401, $602, and $8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IB—SR “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u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ervists Educational Assistance Program (REAP or Ch. 1607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 for Making the First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egin Payments by Oct. 1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must build a pay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  and the Coast Guard must establish procedures for determining who is e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ayments Will Include Many Lump-Sum Payments for Training Completed Before Oct. 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-Vietnam Era Veterans’ Educational Assistance Program (VEAP or Ch. 32)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Active Duty 1977-mid-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Assistance Pilo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con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ed on or after September 16, 1940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ice-connected disabilities are rated at least 20% VA (or 10% if there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i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employment handicap)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cational rehabilitation is required to overcome an employment handicap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 than 12 years since VA notified of the eligibility (longer if certain conditions prevented trai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teran eligible for this benefit has his/her tuition and fees paid by VA to the educational i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also pays for necessary books and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receives a monthly subsistence allow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basic full-time rate is $474.27 per mo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pendents’ Educational Assistance  (Ch. 3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hildren, Spouses and Surviving Spouses of Individuals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ed while on active du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death was caused by a service-connected disabili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ed while permanently and totally disabled as a result of a service-connected disabili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ve a permanent and total service-connected disability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pendents’ Educational Assistance  (Ch. 3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basic full-time rate is $803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beginning date of eligibility affects pay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tored Entitlement Program for Survivor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to the survivors of some military personnel the Social Security benefits lost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ors include children in college between age 18-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payments range from $800 to $1,70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 Beneficiaries Train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2600" y="1600200"/>
            <a:ext cx="7766280" cy="3734280"/>
            <a:chOff x="912600" y="1600200"/>
            <a:chExt cx="7766280" cy="3734280"/>
          </a:xfrm>
        </p:grpSpPr>
        <p:sp>
          <p:nvSpPr>
            <p:cNvPr id="124" name=""/>
            <p:cNvSpPr/>
            <p:nvPr/>
          </p:nvSpPr>
          <p:spPr>
            <a:xfrm>
              <a:off x="1828800" y="2133720"/>
              <a:ext cx="6829560" cy="2886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451512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7880" y="4029120"/>
              <a:ext cx="682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7880" y="3552840"/>
              <a:ext cx="682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47880" y="306720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7880" y="259092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212436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81240" y="4772160"/>
              <a:ext cx="466560" cy="219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24240" y="4762800"/>
              <a:ext cx="45720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7880" y="4734000"/>
              <a:ext cx="466560" cy="257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00880" y="4695840"/>
              <a:ext cx="457200" cy="295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4160" y="4657680"/>
              <a:ext cx="466920" cy="333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7160" y="4629240"/>
              <a:ext cx="457200" cy="362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81240" y="3429000"/>
              <a:ext cx="466560" cy="1343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4240" y="3409920"/>
              <a:ext cx="457200" cy="1352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57880" y="3171960"/>
              <a:ext cx="466560" cy="1562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0880" y="3143520"/>
              <a:ext cx="457200" cy="15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4160" y="3067200"/>
              <a:ext cx="466920" cy="15904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7160" y="2828880"/>
              <a:ext cx="457200" cy="180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1240" y="3095640"/>
              <a:ext cx="466560" cy="333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4240" y="3009960"/>
              <a:ext cx="457200" cy="399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7880" y="2762280"/>
              <a:ext cx="466560" cy="40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0880" y="2724120"/>
              <a:ext cx="457200" cy="419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4160" y="2638440"/>
              <a:ext cx="46692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77160" y="2552760"/>
              <a:ext cx="457200" cy="276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77160" y="2324160"/>
              <a:ext cx="45720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7880" y="2105280"/>
              <a:ext cx="1440" cy="288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9440" y="49914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9440" y="45151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9440" y="402912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9440" y="3552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9440" y="3067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19440" y="2590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7880" y="499140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84788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9088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24160" y="4991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267160" y="4991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40080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54380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7744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912600" y="1990800"/>
              <a:ext cx="921240" cy="3191400"/>
              <a:chOff x="912600" y="1990800"/>
              <a:chExt cx="921240" cy="31914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28320" y="48769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12600" y="440064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12600" y="39150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12600" y="343872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12600" y="295308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2600" y="24768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2600" y="19908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2640" y="5029200"/>
              <a:ext cx="6253920" cy="305280"/>
              <a:chOff x="2132640" y="5029200"/>
              <a:chExt cx="6253920" cy="3052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264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6592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0892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4256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556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1884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743200" y="1600200"/>
              <a:ext cx="5192640" cy="306720"/>
              <a:chOff x="2743200" y="1600200"/>
              <a:chExt cx="5192640" cy="306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743200" y="1600200"/>
                <a:ext cx="928080" cy="305280"/>
                <a:chOff x="2743200" y="1600200"/>
                <a:chExt cx="928080" cy="305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743200" y="1638360"/>
                  <a:ext cx="228240" cy="19980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18240" y="1600200"/>
                  <a:ext cx="653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3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967200" y="1601640"/>
                <a:ext cx="928080" cy="305280"/>
                <a:chOff x="3967200" y="1601640"/>
                <a:chExt cx="928080" cy="30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967200" y="1639800"/>
                  <a:ext cx="228240" cy="20160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42240" y="1601640"/>
                  <a:ext cx="653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189760" y="1600200"/>
                <a:ext cx="1211040" cy="305280"/>
                <a:chOff x="5189760" y="1600200"/>
                <a:chExt cx="1211040" cy="305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89760" y="1657440"/>
                  <a:ext cx="228240" cy="2016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64440" y="1600200"/>
                  <a:ext cx="936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160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696000" y="1601640"/>
                <a:ext cx="1239840" cy="305280"/>
                <a:chOff x="6696000" y="1601640"/>
                <a:chExt cx="1239840" cy="305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696000" y="1649160"/>
                  <a:ext cx="228600" cy="2016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99480" y="1601640"/>
                  <a:ext cx="936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160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ssion Overvie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Does and Does Not Ad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yment Rules and Processing Claims for 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tory and Regulatory Definitions for Title IV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Veterans Education Benefits for Title IV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ing Claims for Veterans Educational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Rehabilitation claims are processed at each of VA’s 58 regional of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claims are processed in St. Louis, 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aims for educational benefits are processed at four regional processing of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alo, NY; Atlanta, GA; St. Louis, MO and Muskogee,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ing Claims for Veterans Educational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Vocational Rehabilitation and Dependents’ Educational Assistance Claims Take the Longe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enrollments Take the Shorte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—VR&amp;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an applies for VR&amp;E (completes 28-19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Division in the regional office determines elig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counselor determines enti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an and counselor explore vocational goal based upon comprehensive assessment of skills, aptitudes and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counselor and veteran develop rehabilita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provides case management services until veteran is rehabili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--RE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may be submitted at any VA office, but will be processed in St. Lou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ligibility has never been established, it takes 4 to 6 months for the claim to be proc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ligibility is established it takes 30-45 days to process a supplemental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—Other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ant files a 22-1990 or 22-54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institution certifies claimant’s enroll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, DoD or Coast Guard determines elig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is author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eb Sit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Service Home P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ress is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IBill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nformation on basic monthly rates for ch. 30,1606 and 16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Benefits Administration Home Pag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ba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Vocational Rehabilitation and Employment and drill down to ch. 31 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utory Defini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Untaxed Income and Benefit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axed Income and Benefits” (HEA section 480(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veterans non-education benefits but not veterans education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non-education benefits are collected on FAFSA Workshee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non-education benefits are used in calculating the student’s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u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Other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inancial Assistance” (HEA section 480(j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veterans education benefits (HEA section 480(c)) a student will receive during the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education benefits are reported in questions 46 and 47 of the 2005-2006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education benefits are not used in EFC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: “Resources” and “Estimated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” is the term used for “Other Financial Assistance” under the campus-based regulations (34 CFR 67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items are referred to as “Estimated Financial Assistance” under the FFEL and Direct Loan regulations (34 CFR 682.200 and 685.1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Estimated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 (section 428(a)(2)(c)) requires a school to exclude Montgomery GI Bill-Active Duty (Chapter 30) veterans education benefits and AmeriCorps education awards or post-service benefits from EFA when determining subsidized FFEL and Direct Loan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xclusion is repeated in the definition of EFA in the FFEL and Direct Loa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admin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gomery GI Bill—Active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gomery GI Bill—Selected Re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s Education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Educational Assist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Resource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 did not provide a similar exclusion of these benefits for the campus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ow students to have the full advantage of the statutory exclusion of these benefits for subsidized loans without losing campus-based eligibility, the campus-based regulations added an exclusion to the definition of “resour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Resource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a student’s eligibility for campus-based funds, a school may exclude as a “resource” any portion of a subsidized FFEL or Direct Loan that is equal to or less than the amount of the student’s Montgomery GI Bill-Active Duty benefits and AmeriCorps education awards or post-servic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: Montgomery GI Bill-Active Duty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a first-year, independent undergraduate student enrolled in a four-year program at Brad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n EFC of 1800, a Pell Grant of $2,000, and Montgomery GI Bill-Active Duty benefits of $4,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eed is $7,700 ($9,500 COA – 1800 E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assistance from the Pell Grant and Montgomery GI Bill-Active Duty benefits equals $6,200 ($2,000 + 4,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his need and assistance is $1,500 ($7,700 – 6,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Montgomery GI Bill-Active Duty benefits do not count as EFA for subsidized loans, John is eligible for a subsidized Stafford loan in an amount that exceeds $1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COA minus his EFC and Pell Grant would leave an unmet need of $5,700 ($9,500 – 1,800 – 2,000) based on the required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subsidized loan amount for a first-year student is $2,625 and is less than his $5,700 unmet need for subsidized loan purposes, so he is able to receive a subsidized loan up to $2,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to take out a subsidized loan is the student’s to make and the school must follow the HEA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example, his assistance totals $8,825 ($2,000 + 4,200 + 2,625) which exceeds his need of $7,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considered an overaward or an overpayment under the HEA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also eligible for campus-based aid if the school chooses to exclude his subsidized loan as a resource up to the amount of his Montgomery GI Bill-Active Du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eed is $7,700 and his total resources minus the subsidized loan would be $6,200 ($8,825 – 2,6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 may award campus-based aid up to $1,500 ($7,700 – 6,200), for example, $1,000 in FWS funds and $500 in FSEOG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to apply the campus-based “resource” exclusion is a school option, it is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is campus-based exclusion, his assistance would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000 Pell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200 Montgomery GI Bill-Active D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625 Subsidized Staffor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0 F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SE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325 Total 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ssistance of $10,325 would exceed his need of $7,700 and his COA of $9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this is not considered an overaward or an over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eatment of New Chapter 1607 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must account for Chapter 1607 veterans education benefits as a “resource” and “estimated financial assistance” beginning with the 2005-2006 award year, excluding payments made for previous awar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active payments for the 2001-2002, 2002-2003, 2003-2004, and 2004-2005 award years will not have to be considered by a school for purposes of overawards and overpayments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further questions, we can be contac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.Susling@vba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old.McCullough@ed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administer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Vietnam Era Educational Assist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Rehabilitation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Entitlement Program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VA Doesn’t Ad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Officer Training Corps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Officer Training Corp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yment Rules for 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generally are made to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are generally made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are affected by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ent’s “training 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Active Duty (Ch. 30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Active Duty Pre-1977 or Post-mid-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Full-time Monthly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,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,19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Active Duty (Ch. 30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MGIB—Active Duty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u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Selected Reserve (Ch. 1606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the Selected Reserve (Including the Guard) from Mid-1985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basic rate is $288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MGIB—Selected Reserve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5:04:18Z</dcterms:created>
  <dc:creator>EDUBSUSL</dc:creator>
  <dc:description/>
  <dc:language>en-US</dc:language>
  <cp:lastModifiedBy>Vicki.Adkins</cp:lastModifiedBy>
  <dcterms:modified xsi:type="dcterms:W3CDTF">2005-07-12T15:42:35Z</dcterms:modified>
  <cp:revision>21</cp:revision>
  <dc:subject/>
  <dc:title>Veterans Education Benefits    </dc:title>
</cp:coreProperties>
</file>