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1DA-0D1F-471A-B2AA-6205F3E6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3F-2D10-47D9-8B54-D37BE2E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B75-5863-450B-93B0-BAFB3B09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B13-896C-4195-87D2-10C0F78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A483-EB90-4133-A9BA-26CF70F6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B17-8E0C-4939-9908-FED008F1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BF03-71BA-4465-B179-5528561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37F-D8BB-48DD-8652-0D58979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CCC-09AE-4F99-BDD6-E53CBBF1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B199-2264-48A3-8960-F44E938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E1B-5A10-4F6E-B442-FBDE9A6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5B-C239-4A64-B8B6-6452EB5D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489-EA9E-4D35-8A93-52EBDC3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889-1222-4B5F-8C5E-35C17A02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70BE-0C8A-44A0-9F34-688F7560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FD7-74BF-4BCD-86A0-1E20937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ABE-6515-461F-88A8-38749EA0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CE3-9C46-4BBA-808F-0FCA7A30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B43-1488-4004-BE37-DC0553C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6E8-4396-443B-A50D-1D7F897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A5E-E2B6-46F7-8240-E6A5CC2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9F8-1A59-4693-A816-9ECB672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4CF-1C45-4827-B4A8-B1BA448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CCD-004D-407F-910A-36F1D558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238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C8E0-5E8F-4748-8A96-DC46608C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6CDB-601E-4BB4-8543-D616C1E00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6979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979"/>
                </a:solidFill>
                <a:latin typeface="Times New Roman"/>
              </a:rPr>
              <a:t>So, This Is Your First EAC….</a:t>
            </a:r>
            <a:endParaRPr b="1" lang="en-US" sz="5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979"/>
                </a:solidFill>
                <a:latin typeface="Times New Roman"/>
              </a:rPr>
              <a:t>A guide to getting the most out of the experie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9042-A406-4169-A18F-BB24A50CA7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Federal Aid Progra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unding of EFC #12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ell Policy #29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orking with the VA #31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mpus-based #34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B6D-9B8B-4061-B193-2DD232D698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liance/Secur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IN  #10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SA Assessments/Self-Evaluation #15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raud Alert #16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ontingency Planning #30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2T4 and Withdrawals #32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F97-552C-450D-B84C-C983C43C1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Sess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fault Prevention  #13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oan Delinquency Management #14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reamline Processes #25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lternative Loans #26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FEL/DL Policy #33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L and FFEL Consolidation #35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BF4-6B29-48CE-9396-81739A3A25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echnical Track: 3 Day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Optimizing XML On Your Campu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E-Authentic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XML: Adv. Concep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eteor Implement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XML Techie Tool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inancial Aid For Techi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ata Transport Standard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rvice Oriented Architectur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9D9-1D52-40E3-AA28-28ECC3A553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IP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lan your da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opular sessions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et to the PC Lab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kip a session if you must to avoid crowd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ands-on: get there early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sk Ques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omplete Evaluatio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AE0-F1B7-43C3-8179-4A89ABAF4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Places of Interest…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C Lab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yber Café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sk a F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fault Prevention Booth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3A6-D1E8-4D4E-8156-12A1655A7A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our turn…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deas…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arification…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Questions…??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22C-BBD5-417A-93B5-4EEBFFB70E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ow Go Learn …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6979"/>
                </a:solidFill>
                <a:latin typeface="Times New Roman"/>
              </a:rPr>
              <a:t>and have fun….!!!</a:t>
            </a:r>
            <a:endParaRPr b="0" lang="en-US" sz="48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1" name="" descr="Atlanta Skyline panorama framed by kudzu at dawn"/>
          <p:cNvPicPr/>
          <p:nvPr/>
        </p:nvPicPr>
        <p:blipFill>
          <a:blip r:embed="rId1"/>
          <a:srcRect l="0" t="0" r="24869" b="0"/>
          <a:stretch/>
        </p:blipFill>
        <p:spPr>
          <a:xfrm>
            <a:off x="0" y="3733920"/>
            <a:ext cx="9144000" cy="24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0B1-1240-435F-84AC-E9260CFF1E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Welcome</a:t>
            </a:r>
            <a:br>
              <a:rPr sz="6600"/>
            </a:b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 to Atlanta!</a:t>
            </a:r>
            <a:endParaRPr b="1" lang="en-US" sz="6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0" name="" descr="Atlanta hotel"/>
          <p:cNvPicPr/>
          <p:nvPr/>
        </p:nvPicPr>
        <p:blipFill>
          <a:blip r:embed="rId1"/>
          <a:stretch/>
        </p:blipFill>
        <p:spPr>
          <a:xfrm>
            <a:off x="4113360" y="0"/>
            <a:ext cx="5030640" cy="723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FBD-781D-48F1-94CF-EBB327655B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o’s New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A Directors/Manager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A Counselors/Technicia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echnica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ew FA Staff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6FE-DF3A-44DF-B16C-C5D781764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the EAC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D’s Annual Electronic Access Confere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roduct Updat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eneral Updat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etwork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ive your opinion!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C6A-4E44-491B-AA63-AAAE9FC06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eneral Sess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volutionizing Expecta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id Application Lifecycl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ederal Updat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D Town Hall Meetin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679-EF1B-4A5A-8889-F461F2990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pen Foru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DExpress #17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ispanic Serving Institutions #19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BCU #20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on-Traditional #36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irds of a Feather #37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650-4AE0-427C-92F1-F9D73DC3AF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ands-on Sess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DE Super Users #2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NSLDS #3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AIG Tools #4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IR Analysis #5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918-568E-43A0-B5DA-4DAF81C4F3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tudent Outreach &amp; Assist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ollege Access Initiative #6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1-800-4FEDAID   #7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tudent Questions #8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Knowledge is Power #21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317-AEEA-4353-9F9F-61712328D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lectronic/Websit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ink You Know FAA Access   #9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OTW Worksheet #11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aximize COD #18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: Transfer Monitoring #22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: Data #23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SLDS: Reports #24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XML 101  #27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echie Terminology #28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E8A-4A7C-4D3B-8C74-05B58BCA0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9:14:53Z</dcterms:created>
  <dc:creator>Virginia W. Hagins</dc:creator>
  <dc:description/>
  <dc:language>en-US</dc:language>
  <cp:lastModifiedBy>2005 EAC</cp:lastModifiedBy>
  <dcterms:modified xsi:type="dcterms:W3CDTF">2005-12-02T16:38:59Z</dcterms:modified>
  <cp:revision>31</cp:revision>
  <dc:subject/>
  <dc:title>So, This Is Your First EAC….</dc:title>
</cp:coreProperties>
</file>