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895-2152-49FD-882E-D41763EA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51D-51C4-47AE-9C7C-A3BA0EA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F36-94FB-4B3B-BEB0-15254C84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156-1772-4209-B0AA-4BD49CD7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3B9-332A-407A-A040-28518C41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272-6157-419A-93FA-A0BBFFEC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FF6-D598-495F-BD3A-A8B19DE0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446-6238-453A-8919-C5BCBD2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222-48B6-4429-80A1-93CF9DE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442-69A8-4836-AD43-17B4016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E8F-6A87-4FC6-A807-E61CF73C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6B0-A3FD-433B-B8A3-A24CB81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9CA5-EDFE-4490-84FB-3D0010CC9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051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979"/>
                </a:solidFill>
                <a:latin typeface="Times New Roman"/>
              </a:rPr>
              <a:t>Student Loan</a:t>
            </a:r>
            <a:br>
              <a:rPr sz="4800"/>
            </a:br>
            <a:r>
              <a:rPr b="1" lang="en-US" sz="4800" spc="-1" strike="noStrike">
                <a:solidFill>
                  <a:srgbClr val="006979"/>
                </a:solidFill>
                <a:latin typeface="Times New Roman"/>
              </a:rPr>
              <a:t>Delinquency 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61476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Mark Wal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U.S. Depa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of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3614760"/>
            <a:ext cx="4190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Bill Koh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National Stu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Loan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gative Impa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– Non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chool – Non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ender/Servicer – Non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epartment of ED – Non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uaranty Agency - None 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90B-F399-4D9E-8036-B65DFF760B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xample: Borrower Has a Few “Hiccup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is laid off from his/her job and receives a 24-month defermen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receives discretionary/administrative forbearance for 12 months to prevent defaul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finally pays off loan in 13 years and pays X $$$, including capitalized interest, for a total payoff of $23,750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FEC-9053-4573-8F05-3166DB8AA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gative Impa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Borrow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ncreased cost due to capitalized interest on forbearance (ED pays on deferment)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onger oblig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choo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ender/Servic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dditional servicing cos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8FA-1CDD-4E49-B482-A41103A229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gative Impac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ontinued)</a:t>
            </a:r>
            <a:endParaRPr b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epartment of 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dditional interest paid during deferment on FFEL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eriods of non-earning asset if a Direct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uaranty Agenc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D4C-3879-423D-9839-C4E038E356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xample: More “Hiccups” Becomes Delinquent And Eventually Defaul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is laid off his/her job, receives a deferment for 24 month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receives discretionary/administrative forbearance for 12 months to prevent defaul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becomes a “rolling” delinquent payer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eventually defaul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A30-5D8A-412B-BDC8-5C72763859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gative Impa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creased cost due to capitalized interest on forbearance (ED pays on deferment)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dversely impacts credit 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choo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BEA-07E1-4B3B-AAFB-770A5F269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gative Impac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ontinued)</a:t>
            </a:r>
            <a:endParaRPr b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ender/Servicer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Additional servicing costs due to extended period of loan and due diligence activity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Loss of “risk share” (FFEL)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epartment of E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Increased costs: payment of claim (FFEL)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Loss of interest income (Direct Loan)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Collections costs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uaranty Agency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Increased costs due to collection activity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Loss of “risk share”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B58-0742-42B1-94CA-C52F511BEC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xample: Borrower Never Makes Payment and Defaul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becomes a “rolling” delinquent pay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eventually default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708-8A8E-484E-B603-8B8C32C866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gative Impa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creased cost due to capitalized interes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dversely impacts credit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choo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creases CD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F9E-9911-4AD0-8162-8E4CB826D7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egative Impact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Lender/Servicer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Due diligence servicing costs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Loss of “risk share” (FFEL)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epartment of E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Increased costs: payment of claim (FFEL)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Loss of interest income (Direct Loans)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Collection costs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uaranty Agency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Increased servicing and collection costs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Loss of “risk share”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D55-055C-4DD8-878D-ADBF7359A1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We’ll Talk About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he Big Pictur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Reducing delinquent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hy should I get involved?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hat should I do?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anage Delinquency and Mitigate Default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xamples of guarantor and school activit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B77-2C3E-4320-813D-FD5D6B01F8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mparis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1989-1990: 21% of undergraduates received Title IV financial ai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2003-2004: 46% of undergraduates received Title IV financial ai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691-9ADE-4D9C-897E-F3EA1F20B8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mparis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verage Defaulted Loan as of 9/30/03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$3,83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verage Defaulted Loan as of 9/30/04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$3,94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verage Defaulted Loan as of 9/12/05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$4,13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0B1-5050-43B3-B856-7DAD8A6A0B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-304920" y="1143000"/>
          <a:ext cx="78487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143000"/>
                    <a:ext cx="78487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2133720"/>
            <a:ext cx="16765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Year 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Year 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Year 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Year 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62920" y="2133720"/>
            <a:ext cx="2286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1905120"/>
            <a:ext cx="1828800" cy="3962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2971800"/>
            <a:ext cx="228600" cy="304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3809880"/>
            <a:ext cx="2286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648320"/>
            <a:ext cx="22860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5410080"/>
            <a:ext cx="228600" cy="304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485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resents Direct Loan &amp; FFEL Portfoli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Cohort Default Contribution by School Type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0C1-30B4-4BBB-AE56-E4842D431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63086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resents Direct Loan Portfolio On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faulter Characteristic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84% did not receive their full 6 month grace period due to late enrollment notific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71% withdrew without completing studi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56% had bad phone numb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83% were not successfully contacted by phone during the 360-day collection effort during delinquency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6B1-6FC3-4FB3-AB7F-E5B221F4CF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linquency Management: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hould I Be Concerned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ll schools contribute to the problem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It’s not just about CDR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ollars and Account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nnecessary costs to: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Borrower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chool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Servicer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epartment of ED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Guaranty Agency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C2B-CE07-4B10-AE81-DDD66A7926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1905120"/>
            <a:ext cx="7848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Step #1</a:t>
            </a:r>
            <a:br>
              <a:rPr sz="3600"/>
            </a:b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Determine borrowers at risk to defa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Step #2</a:t>
            </a:r>
            <a:br>
              <a:rPr sz="3600"/>
            </a:b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hoose a strate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Step #3 </a:t>
            </a:r>
            <a:br>
              <a:rPr sz="3600"/>
            </a:b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mpleme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’d Like To Hel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85D-359D-46F5-8688-6B49A312F8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838080" y="1981080"/>
            <a:ext cx="8001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ake advantage of the opportunities to minimize delinquent borrowers at three stages:</a:t>
            </a:r>
            <a:br>
              <a:rPr sz="3600"/>
            </a:br>
            <a:br>
              <a:rPr sz="1400"/>
            </a:b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#1 While borrower is enrolled</a:t>
            </a:r>
            <a:br>
              <a:rPr sz="3600"/>
            </a:b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#2 Before borrower leaves school</a:t>
            </a:r>
            <a:br>
              <a:rPr sz="3600"/>
            </a:b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    #3 After borrower is g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Schools Can D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07C-B87C-44D5-AE45-42F85113B4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1st Opportunity:                                   While Borrower Is Enrolle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ntrance Counseling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Educa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nancial Literac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ights and Responsibilit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706-0721-426C-9E37-9BF9BCA023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1st Opportunity:                                While Borrower Is Enrolle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an you identify your potential defaulter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 the student in the right program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oes your program support student succes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ere can you provide a helping hand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dentify your student success alli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873-4B49-4370-A6EA-EDFA31BE80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2nd Opportunity:                                   Before Borrower Leaves Scho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xit Counseling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r those who leave earl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Find out why they left and use this information!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ollect updated contact numbers and      addresses so you can reach them lat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C7A-3DE9-4714-9653-0AEEAA2DCD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308640"/>
            <a:ext cx="367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National Student Loan Data System (NSLDS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SB Data Mart (July 31, 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tudent Loan Basic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pproximately $400 billion in outstanding federal student loan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Nearly 30 million borrower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ore than 50% of the outstanding FFEL and DL balance is in consolida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he average outstanding loan balance in consolidation is $18,24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B74-B4E4-4843-AE63-E77451FBBD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2nd Opportunity: Before Borrower Leaves School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continued)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romptly update the enrollment chang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Important Note: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ost defaulters do not receive their full grace perio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hy not?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hy is this important?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hat is the solution?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DC7-A250-42D4-AFBD-B209CC96DE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3rd Opportunity:                                  After The Borrower Is Gon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s in Late Stage Delinquenc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o are these borrower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y lender was unsuccessful – How can I make a differenc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ate Stage Delinquency Assistance (LSDA) Why and how does it work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EF8-1ACF-40E6-B141-F64EF85D32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Student Perspective: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payment/Recovery Cycle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09520" y="1676520"/>
            <a:ext cx="874800" cy="211752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1676520"/>
            <a:ext cx="3862440" cy="2117520"/>
          </a:xfrm>
          <a:prstGeom prst="rect">
            <a:avLst/>
          </a:prstGeom>
          <a:solidFill>
            <a:srgbClr val="00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46760" y="1676520"/>
            <a:ext cx="1312920" cy="213336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159680" y="1676520"/>
            <a:ext cx="1603440" cy="213336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1676520"/>
            <a:ext cx="728640" cy="2117520"/>
          </a:xfrm>
          <a:prstGeom prst="rect">
            <a:avLst/>
          </a:prstGeom>
          <a:solidFill>
            <a:srgbClr val="00ff00">
              <a:alpha val="3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23623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182880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1905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5320" y="1905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190512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hnical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30481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20968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0481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03848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24382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327672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24382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327672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9880" y="24382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5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67080" y="327672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0292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00600" y="24382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2004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months g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24382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70 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57800" y="327672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40 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32608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60 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70572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43600" y="327672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0 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243828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30 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162920" y="2361960"/>
            <a:ext cx="16002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2362320"/>
            <a:ext cx="16002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3962520"/>
            <a:ext cx="6782040" cy="100656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: Make Payment to Bring the Loan Current, Rehabilitate Loan (12 on-time payments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Deferment or Forbearance to Temporarily Suspend Repayment (but Capitalize Interest), Consolidate Loans to Lower Total Payments Including ICR/Income Sensitive Loans, Defaul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Can Contact the Borrower, We Will Have a Solution for Their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081760"/>
            <a:ext cx="6705360" cy="100656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:  Ruined Credit, Collection Agencies, Wage Garnishment, Treasury Offset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kruptcy, Possible Impact on Employment/Licensing, et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:  Win a Lottery and Pay Off Loan, Arrange Compromise Payoff, Make Satisfactory Repayment Arrangementsr, Rehabilitate Loans through 12 On-time Payments, Consolidate Lo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3809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71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632448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ource: Borrower Services/Portfolio Risk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EE3-2F1E-422C-8E64-AEC1788BF5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8640" y="1698480"/>
            <a:ext cx="8166240" cy="363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28640" y="4813200"/>
            <a:ext cx="8166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77760" y="4267080"/>
            <a:ext cx="8166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8640" y="3778200"/>
            <a:ext cx="8166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77760" y="3276720"/>
            <a:ext cx="8166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2743200"/>
            <a:ext cx="8165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8640" y="2212920"/>
            <a:ext cx="8166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8640" y="1695600"/>
            <a:ext cx="8166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640" y="1695600"/>
            <a:ext cx="8166240" cy="36352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46080" y="2109960"/>
            <a:ext cx="309600" cy="322092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92360" y="3675240"/>
            <a:ext cx="299880" cy="165564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28920" y="4192560"/>
            <a:ext cx="309600" cy="113832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74840" y="4398840"/>
            <a:ext cx="309600" cy="93204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21120" y="4606920"/>
            <a:ext cx="298440" cy="72396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56240" y="4710240"/>
            <a:ext cx="311040" cy="62064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03960" y="4813200"/>
            <a:ext cx="298440" cy="51768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38720" y="4813200"/>
            <a:ext cx="309600" cy="51768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85000" y="4916520"/>
            <a:ext cx="311040" cy="414360"/>
          </a:xfrm>
          <a:prstGeom prst="rect">
            <a:avLst/>
          </a:prstGeom>
          <a:solidFill>
            <a:srgbClr val="ff8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32720" y="5021280"/>
            <a:ext cx="298440" cy="309600"/>
          </a:xfrm>
          <a:prstGeom prst="rect">
            <a:avLst/>
          </a:prstGeom>
          <a:solidFill>
            <a:srgbClr val="ff8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67840" y="5021280"/>
            <a:ext cx="309600" cy="309600"/>
          </a:xfrm>
          <a:prstGeom prst="rect">
            <a:avLst/>
          </a:prstGeom>
          <a:solidFill>
            <a:srgbClr val="ff8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8640" y="1695600"/>
            <a:ext cx="1440" cy="363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3720" y="53308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720" y="48132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3720" y="42958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720" y="37782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3720" y="32479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720" y="27306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3720" y="22129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720" y="16956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8640" y="5330880"/>
            <a:ext cx="8166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2864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47492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209680" y="5330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95596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70368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43880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184720" y="5330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91984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66756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413480" y="5330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148600" y="53308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894880" y="533088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19720" y="1447920"/>
            <a:ext cx="2582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fford Borrower Delinquency Patt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88280" y="1447920"/>
            <a:ext cx="1146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 Month Aver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7000" y="524016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7000" y="472284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8600" y="420516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8600" y="368784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8600" y="315756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8600" y="26398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8600" y="212256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8600" y="16048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62640" y="544824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-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08920" y="544824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1-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16680" y="54482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1-1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868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1-1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6640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1-1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1232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81-2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4744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1-2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336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1-2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2992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-3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7620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1-3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22480" y="544824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31-3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93440" y="5719680"/>
            <a:ext cx="97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Past D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-850680" y="3467520"/>
            <a:ext cx="217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centage of Total Delinqu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Delinquency Pattern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62485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resents Direct Loan Portfolio On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660-5B33-43BC-816B-FC3E4E4AED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352680" y="4191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Manage Delinquency </a:t>
            </a:r>
            <a:br>
              <a:rPr sz="4400"/>
            </a:b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            and Mitigate Default</a:t>
            </a:r>
            <a:br>
              <a:rPr sz="4400"/>
            </a:b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Bill Kohl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Vice President, Operations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National Student Loan Program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2666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With resources and online tools </a:t>
            </a:r>
            <a:br>
              <a:rPr sz="3200"/>
            </a:b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rom your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oday’s Topic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Educa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elinquency and Default Tool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Additional Tool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How Can Schools Help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uarantor Partner Assista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39A-7B7B-4892-B1E5-A5E251771A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Edu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he work begins here…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elp students manage their money and control debt with personal financ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nteractive tools students can use to manage money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Guarantor’s resourc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F5A-3AFD-493D-8FC8-BA896EA3E3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Education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(continued)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6979"/>
                </a:solidFill>
                <a:latin typeface="Times New Roman"/>
              </a:rPr>
              <a:t>Online student-friendly information…</a:t>
            </a:r>
            <a:endParaRPr b="0" lang="en-US" sz="23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Times New Roman"/>
              </a:rPr>
              <a:t>Budgeting</a:t>
            </a:r>
            <a:endParaRPr b="0" lang="en-US" sz="27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CNN Money, Mapping Your Future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Times New Roman"/>
              </a:rPr>
              <a:t>Career Planning</a:t>
            </a:r>
            <a:endParaRPr b="0" lang="en-US" sz="27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97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ob Gusher, Monster Trak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Times New Roman"/>
              </a:rPr>
              <a:t>Credit Bureau information</a:t>
            </a:r>
            <a:endParaRPr b="0" lang="en-US" sz="27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Experian, Trans Union, Equifax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Times New Roman"/>
              </a:rPr>
              <a:t>Money management</a:t>
            </a:r>
            <a:endParaRPr b="0" lang="en-US" sz="27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Bankrate, Federal Reserve</a:t>
            </a:r>
            <a:endParaRPr b="0" lang="en-US" sz="24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979"/>
                </a:solidFill>
                <a:latin typeface="Times New Roman"/>
              </a:rPr>
              <a:t>Borrower Education Online Tools </a:t>
            </a:r>
            <a:r>
              <a:rPr b="1" lang="en-US" sz="1900" spc="-1" strike="noStrike">
                <a:solidFill>
                  <a:srgbClr val="006979"/>
                </a:solidFill>
                <a:latin typeface="Times New Roman"/>
              </a:rPr>
              <a:t>(see handout)</a:t>
            </a:r>
            <a:endParaRPr b="0" lang="en-US" sz="19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E63-2F25-4422-938F-CD5E7E9F76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eractive Cours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redit and Deb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rovides information on budgeting,  credit, and student loan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t the Bank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Helps students understand how banks and bank accounts work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me Financ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eaches fundamentals of finding, renting, and owning a ho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F7D-2EB5-44E2-AB01-FBDEB78192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7200" y="1371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979"/>
                </a:solidFill>
                <a:latin typeface="Times New Roman"/>
              </a:rPr>
              <a:t>Online tools help borrowers manage loans and understand 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elinquency and Default Tool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Cancellations, Deferments, Forbearances, Forgiveness, and Consolidation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Dept of ED, Guarantor’s website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56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Knowing where your loans are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NSLDS, Clearinghouse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56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Understanding repayment plans and options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Mapping Your Future, Dept of ED, GA’s</a:t>
            </a:r>
            <a:endParaRPr b="0" lang="en-US" sz="2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Delinquency/Default Online Tools </a:t>
            </a:r>
            <a:r>
              <a:rPr b="1" lang="en-US" sz="2300" spc="-1" strike="noStrike">
                <a:solidFill>
                  <a:srgbClr val="006979"/>
                </a:solidFill>
                <a:latin typeface="Times New Roman"/>
              </a:rPr>
              <a:t>(see handout)</a:t>
            </a:r>
            <a:endParaRPr b="0" lang="en-US" sz="23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924-5EF9-416D-9721-8ECCCE5206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88840" y="2602080"/>
            <a:ext cx="129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ype of Lo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13320" y="2602080"/>
            <a:ext cx="150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Number of lo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8080" y="232236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% 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58120" y="260208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54000" y="2322360"/>
            <a:ext cx="161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 Principal &amp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22360" y="260208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Interes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99760" y="232236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% 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61960" y="260208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7400" y="2881440"/>
            <a:ext cx="111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Stafford Su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2160" y="28814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39,048,15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65360" y="28814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3960" y="2881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8120" y="28814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9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4320" y="2881440"/>
            <a:ext cx="15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107,325,080,7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71600" y="28814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6.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7040" y="3147840"/>
            <a:ext cx="133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Stafford Unsu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2160" y="31478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2,036,0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65360" y="31478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3960" y="3147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8120" y="31478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7.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0240" y="3147840"/>
            <a:ext cx="144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75,908,037,85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1600" y="31478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18.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9200" y="3414600"/>
            <a:ext cx="116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Consolid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2160" y="34146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10,432,71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65360" y="341460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3960" y="34146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68120" y="34146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13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84320" y="3414600"/>
            <a:ext cx="15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190,301,070,6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71600" y="34146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7.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1000" y="3693960"/>
            <a:ext cx="49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9880" y="36939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,978,6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64280" y="3693960"/>
            <a:ext cx="80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9080" y="36939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5480" y="369396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3.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0240" y="3693960"/>
            <a:ext cx="144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16,245,320,5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7520" y="369396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0640" y="396072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S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8720" y="39607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803,8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2840" y="39607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2800" y="39607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5480" y="3960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1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17960" y="396072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3,321,484,74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87520" y="3960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0.8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9200" y="4227480"/>
            <a:ext cx="96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Refinanc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47480" y="42274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8160" y="4227480"/>
            <a:ext cx="149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920" y="4227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85480" y="42274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0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7840" y="4227480"/>
            <a:ext cx="80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205,8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87520" y="422748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0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9920" y="4494240"/>
            <a:ext cx="40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FIS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8720" y="44942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324,97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62840" y="44942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2800" y="4494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5480" y="4494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0.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800" y="4494240"/>
            <a:ext cx="117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274,390,7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87520" y="4494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0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9200" y="476100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Perki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9880" y="476100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3,867,9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64280" y="4761000"/>
            <a:ext cx="80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9080" y="4761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85480" y="476100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.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17960" y="476100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8,461,713,9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87520" y="476100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9560" y="502776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2160" y="502776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79,492,41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502776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960" y="50277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24840" y="502776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100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84320" y="5027760"/>
            <a:ext cx="15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$401,837,305,12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28320" y="502776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100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28680" y="5587920"/>
            <a:ext cx="28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Average per Consolidated Lo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6320" y="558792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18,24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7120" y="5587920"/>
            <a:ext cx="117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$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7400" y="55879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51320" y="5867280"/>
            <a:ext cx="330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Average per Non-Consolidated Lo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74040" y="586728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3,06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040" y="5867280"/>
            <a:ext cx="12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$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62160" y="58672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3640" y="1895400"/>
            <a:ext cx="26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ombined Title IV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2854440"/>
            <a:ext cx="7467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854440"/>
            <a:ext cx="74678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029200"/>
            <a:ext cx="7467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000760"/>
            <a:ext cx="746784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6308640"/>
            <a:ext cx="335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NSLDS and Common Services for Borrowers (CSB) Data Mart  (July 31, 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mposition of the Outstanding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Portfoli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6B4-47CE-4047-8F13-8BA8678708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dditional Tool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oan summar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xit loan counseling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race program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364-2E79-45CF-9091-FD68935E41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How Can Schools Help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efault Aversion Assistance Repor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Identifies delinquent borrower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etter generati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Updated frequently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ork borrowers you choos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 calling tip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C26-36F3-4D6A-9B53-42D5754472C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uarantor Partner Assist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efault Aversion Assistanc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Request filed between 60 – 120 day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ontinue to work until resolved or default claim fil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efault prevention activities includ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 attemp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Letter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1B9-5C0E-4E2B-867A-DB4A8406DE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SLP Phone Attemp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Current phone attempt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3 attempts = 2 – week avera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5 attempts = 3 – week avera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30 attempts = 25 week avera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Borrower with good phone number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Averages 1.75 attempts per week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panish-speaking representative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39A-4A2D-40EB-B296-E0B10D0839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kip Tra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irectory assista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nternet servic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chool inquiri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ferences and contact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3FB-B3EB-4072-81FB-D8A2A30F6E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pecial Phone Campaig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arge balance loa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ohort default borrower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ate-stage delinquenc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705-F22E-4F33-AA8C-0CAE64AD93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et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One every month for seven month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More assertive and stress urgency of their ac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etters in English and Spanish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033-200C-4607-98D7-2FFEC5CDD6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fault Rescue Progra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cus on borrowers who have a default claim fil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ast chance” to avoid the consequences of defaul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artner with lenders to help with last minute processing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B30-17B8-450C-B561-A9A892AFFF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uccess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53% of borrowers contacted are resolv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chool’s cohort default rate positively affect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aves ED and taxpayers $$$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Borrowers kept out of default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Lenders, GAs, avoid los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in, Win!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B76-CB07-4674-B87B-AEC2217D238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Educa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ten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ommunica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tora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7A1-6E7F-4164-88DD-F09621B5423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066680" y="2133720"/>
            <a:ext cx="7010640" cy="3632040"/>
            <a:chOff x="1066680" y="2133720"/>
            <a:chExt cx="7010640" cy="3632040"/>
          </a:xfrm>
        </p:grpSpPr>
        <p:sp>
          <p:nvSpPr>
            <p:cNvPr id="139" name=""/>
            <p:cNvSpPr/>
            <p:nvPr/>
          </p:nvSpPr>
          <p:spPr>
            <a:xfrm>
              <a:off x="1110960" y="3039840"/>
              <a:ext cx="121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Type of Loa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08360" y="3039840"/>
              <a:ext cx="150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Number of loa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5520" y="2782800"/>
              <a:ext cx="45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% t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9160" y="3039840"/>
              <a:ext cx="45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To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2080" y="2782800"/>
              <a:ext cx="161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Total Principal &amp;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27320" y="3039840"/>
              <a:ext cx="7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Interest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07880" y="2782800"/>
              <a:ext cx="45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% t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1160" y="3039840"/>
              <a:ext cx="45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To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11320" y="3296880"/>
              <a:ext cx="111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Stafford Sub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01200" y="3296880"/>
              <a:ext cx="96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24,953,34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71560" y="3296880"/>
              <a:ext cx="6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03000" y="32968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25280" y="329688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50.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05280" y="329688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65,789,040,20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8560" y="32968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$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07800" y="32968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7280" y="329688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24.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10960" y="3541680"/>
              <a:ext cx="133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Stafford Unsub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01200" y="3541680"/>
              <a:ext cx="96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15,405,45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71560" y="3541680"/>
              <a:ext cx="6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03000" y="35416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5280" y="354168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31.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5280" y="354168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53,731,132,8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08560" y="3541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$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07800" y="35416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87280" y="354168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19.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3120" y="37875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Consolid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09200" y="3787560"/>
              <a:ext cx="85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7,123,7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83080" y="3787560"/>
              <a:ext cx="80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0640" y="3787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25280" y="378756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14.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96920" y="3787560"/>
              <a:ext cx="144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141,896,541,0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0000" y="378756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$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3440" y="37875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7280" y="3787560"/>
              <a:ext cx="54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52.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14920" y="4032000"/>
              <a:ext cx="49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PL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200" y="4032000"/>
              <a:ext cx="85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1,984,0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83080" y="4032000"/>
              <a:ext cx="80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10640" y="4032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33280" y="403200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4.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05280" y="403200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10,605,833,57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08560" y="403200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$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07800" y="40320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95640" y="403200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3.9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14560" y="4276440"/>
              <a:ext cx="36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S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66880" y="4276440"/>
              <a:ext cx="6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203,07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3160" y="4276440"/>
              <a:ext cx="96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7960" y="4276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33280" y="427644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0.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9520" y="4276440"/>
              <a:ext cx="1067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624,594,9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06040" y="4276440"/>
              <a:ext cx="6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$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7560" y="4276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95640" y="427644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0.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3120" y="4520880"/>
              <a:ext cx="96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Refinanc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8920" y="4520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88120" y="4520880"/>
              <a:ext cx="149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      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48920" y="45208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33280" y="452088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0.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51560" y="452088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60,84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01360" y="452088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$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28520" y="45208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5640" y="452088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0.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3480" y="4767120"/>
              <a:ext cx="45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Tot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01200" y="4767120"/>
              <a:ext cx="96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49,669,70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71560" y="4767120"/>
              <a:ext cx="69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03000" y="4767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3160" y="476712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100.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6920" y="4767120"/>
              <a:ext cx="144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272,647,203,5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0000" y="47671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$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3440" y="47671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55520" y="476712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100.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65120" y="5279760"/>
              <a:ext cx="287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Average per Consolidated Lo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51560" y="527976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19,9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01360" y="527976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$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8520" y="52797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1240" y="553716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Average per Non-Consolidated Lo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1360" y="553716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3,07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00280" y="5537160"/>
              <a:ext cx="133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$  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25360" y="55371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19600" y="2133720"/>
              <a:ext cx="146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FFELP Lo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87360" y="2439720"/>
              <a:ext cx="120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80"/>
                  </a:solidFill>
                  <a:latin typeface="Arial"/>
                </a:rPr>
                <a:t>Non-default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3273120"/>
              <a:ext cx="701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3273120"/>
              <a:ext cx="70106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0040" y="4741560"/>
              <a:ext cx="550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70040" y="4741560"/>
              <a:ext cx="55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838080" y="638496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NSLDS   (July 31, 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mposition of the Outstanding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Portfoli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EE7-1AB9-4D13-9C58-DC91F40C2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33520" y="2590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Times New Roman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548-DAC5-473C-8C57-F75E11DE58B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98108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66680" y="320040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3429000"/>
            <a:ext cx="411480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Mark Walsh                                   FSA Default Prevention                          U.S. Department of Education  </a:t>
            </a:r>
            <a:br>
              <a:rPr sz="2200"/>
            </a:b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(816) 268-0412</a:t>
            </a:r>
            <a:br>
              <a:rPr sz="2200"/>
            </a:b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mark.walsh@ed.go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3429000"/>
            <a:ext cx="43434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Bill Kohl                                                   Vice President - Operations</a:t>
            </a:r>
            <a:br>
              <a:rPr sz="2200"/>
            </a:b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National Student Loan Program          (402) 479-6836</a:t>
            </a:r>
            <a:br>
              <a:rPr sz="2200"/>
            </a:b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billk@nslp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E22-3919-4399-9C25-3407C7CD768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06200" y="3110040"/>
            <a:ext cx="129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ype of Lo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58320" y="2795760"/>
            <a:ext cx="100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Number of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20040" y="3110040"/>
            <a:ext cx="49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lo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1320" y="279576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% 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32880" y="311004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53760" y="2795760"/>
            <a:ext cx="161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 Principal &amp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2360" y="311004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Interes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18880" y="279576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% 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0440" y="311004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04760" y="3425760"/>
            <a:ext cx="111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Stafford Su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24920" y="34257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8,367,73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840" y="34257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8.8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2000" y="342576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4,198,134,84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99760" y="34257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47520" y="34257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49400" y="34257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8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04400" y="3727440"/>
            <a:ext cx="133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Stafford Unsu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24920" y="372744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5,265,75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840" y="37274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30.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72000" y="372744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17,742,313,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9760" y="37274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7520" y="372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49400" y="37274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0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7280" y="4027320"/>
            <a:ext cx="42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Plu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8080" y="402732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803,7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1680" y="40273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.7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95840" y="4027320"/>
            <a:ext cx="122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,663,194,1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99040" y="40273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6960" y="40273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04840" y="40273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5.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6560" y="4327560"/>
            <a:ext cx="116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Consolid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24920" y="43275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2,719,9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840" y="43275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15.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72000" y="432756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39,930,285,84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99760" y="43275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$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47520" y="432756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49400" y="432756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46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06920" y="4629240"/>
            <a:ext cx="45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56520" y="46292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17,157,1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23440" y="462924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100.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72000" y="462924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86,533,927,81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99760" y="46292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$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47520" y="46292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10800" y="4629240"/>
            <a:ext cx="75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100.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1360" y="5245200"/>
            <a:ext cx="28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Average per Consolidated Lo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7720" y="524520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14,6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2200" y="5245200"/>
            <a:ext cx="117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$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8800" y="52452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01960" y="5560920"/>
            <a:ext cx="330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Average per Non-Consolidated Lo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53360" y="556092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3,22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91480" y="5560920"/>
            <a:ext cx="12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$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39680" y="55609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03840" y="216360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Direct Lo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5160" y="2463840"/>
            <a:ext cx="12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0"/>
                </a:solidFill>
                <a:latin typeface="Arial"/>
              </a:rPr>
              <a:t>Non-defaul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52560" y="3395520"/>
            <a:ext cx="7238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52560" y="3395520"/>
            <a:ext cx="723888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3800" y="4599000"/>
            <a:ext cx="559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3800" y="4599000"/>
            <a:ext cx="55976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640080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CSB  Data Mart  (July 31, 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mposition of the Outstanding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Portfoli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5DA-EEC4-4C30-BBBA-EA10A8D4A3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Primary Players in Re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choo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ender/Servic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epartment of ED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uaranty Agenc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530-9A2E-4278-A264-8E71B4861F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ings Happen During Repaym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pays off loan in 10 years or less with no “hiccups”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has a few “hiccups” and uses forbearance or deferment entitlemen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has more “hiccups,” becomes delinquent and eventually defaul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orrower never intended to repay and </a:t>
            </a:r>
            <a:br>
              <a:rPr sz="3200"/>
            </a:b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 default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672-46CA-4951-8336-21D86088CE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xample: Payoff In 10 Years Or Les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tudent borrowed $18,000 while in school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elected standard repayment opt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Monthly payments are X $$$ for 120 month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Total paid by borrower is $19,450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485-1F15-4A2F-9374-CD5EE434E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06:15Z</dcterms:modified>
  <cp:revision>363</cp:revision>
  <dc:subject/>
  <dc:title>PowerPoint Presentation</dc:title>
</cp:coreProperties>
</file>