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CB5-8EE5-4BCF-A7FB-6A72F5D3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4AE-09E0-416A-BBDA-94DD37B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79E-18F5-4A18-B2EF-1B43437A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E3F-6802-4DA0-8742-1FD928BE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F97-6F8A-4424-AEF2-C721E4E7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9B3-54F9-45D2-8481-A159C675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164-CBE9-4071-813B-5C850FE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7D1-22A5-4787-A10C-86E5C51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F8F-9827-46FB-B163-A321782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366-A3FC-4EFB-A2C2-6D462E9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1D9-C11E-4A1A-9AE3-2F45D84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433-811D-46F1-9687-1C8FD0A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3152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266-82B5-48D9-BE16-006254B3887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sapubs.org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sapubs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FOTWWorksheet@ed.gov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9720" y="1828800"/>
            <a:ext cx="3352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979"/>
                </a:solidFill>
                <a:latin typeface="Times New Roman"/>
              </a:rPr>
              <a:t>Shifting Gea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200400" cy="243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2051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Moving from Paper to Electr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762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181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ff Baker, Anita Gross, Shamarli Law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20600" y="2014560"/>
            <a:ext cx="244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828800"/>
            <a:ext cx="83822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979"/>
                </a:solidFill>
                <a:latin typeface="Palatino Linotype"/>
              </a:rPr>
              <a:t>Re-desig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979"/>
                </a:solidFill>
                <a:latin typeface="Palatino Linotype"/>
              </a:rPr>
              <a:t>FAFSA </a:t>
            </a:r>
            <a:r>
              <a:rPr b="1" lang="en-US" sz="5000" spc="-1" strike="noStrike">
                <a:solidFill>
                  <a:srgbClr val="006979"/>
                </a:solidFill>
                <a:latin typeface="Palatino Linotype"/>
              </a:rPr>
              <a:t>on the</a:t>
            </a:r>
            <a:r>
              <a:rPr b="1" lang="en-US" sz="6000" spc="-1" strike="noStrike">
                <a:solidFill>
                  <a:srgbClr val="006979"/>
                </a:solidFill>
                <a:latin typeface="Palatino Linotype"/>
              </a:rPr>
              <a:t> Web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979"/>
                </a:solidFill>
                <a:latin typeface="Palatino Linotype"/>
              </a:rPr>
              <a:t>Work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ld Vers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16405" t="12423" r="16837" b="5375"/>
          <a:stretch/>
        </p:blipFill>
        <p:spPr>
          <a:xfrm>
            <a:off x="138240" y="1143000"/>
            <a:ext cx="4128840" cy="441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19720" y="1828800"/>
            <a:ext cx="45720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Available only as a 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Not distributed in advance </a:t>
            </a: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to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Cramped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Times New Roman"/>
              </a:rPr>
              <a:t>Gray-shaded areas hard to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F93-49B5-4C04-906E-AC97BE885452}" type="slidenum">
              <a:t>11</a:t>
            </a:fld>
          </a:p>
        </p:txBody>
      </p:sp>
    </p:spTree>
  </p:cSld>
  <p:transition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ksheet Highligh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The more appropriate tool for Web filers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Follows order of questions on the Web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Booklet format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Embedded instructions– no 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	</a:t>
            </a: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flipping back and forth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Two-column format is easier 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	</a:t>
            </a:r>
            <a:r>
              <a:rPr b="1" lang="en-US" sz="3000" spc="-1" strike="noStrike">
                <a:solidFill>
                  <a:srgbClr val="006979"/>
                </a:solidFill>
                <a:latin typeface="Palatino Linotype"/>
              </a:rPr>
              <a:t>to follow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65840" y="2743200"/>
            <a:ext cx="222588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0C1-E820-44E3-8ECC-752962D41B84}" type="slidenum">
              <a:t>12</a:t>
            </a:fld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81040" y="54000"/>
            <a:ext cx="579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Improved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688" t="12367" r="3127" b="3226"/>
          <a:stretch/>
        </p:blipFill>
        <p:spPr>
          <a:xfrm>
            <a:off x="76320" y="1387440"/>
            <a:ext cx="6781680" cy="4510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76520" y="609480"/>
            <a:ext cx="2057400" cy="685800"/>
          </a:xfrm>
          <a:prstGeom prst="wedgeEllipseCallout">
            <a:avLst>
              <a:gd name="adj1" fmla="val 36805"/>
              <a:gd name="adj2" fmla="val 1340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enamed the for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523880" cy="685800"/>
          </a:xfrm>
          <a:prstGeom prst="wedgeRectCallout">
            <a:avLst>
              <a:gd name="adj1" fmla="val -12601"/>
              <a:gd name="adj2" fmla="val 184027"/>
            </a:avLst>
          </a:prstGeom>
          <a:solidFill>
            <a:srgbClr val="ffff99"/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ffi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D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276720"/>
            <a:ext cx="1752840" cy="898560"/>
          </a:xfrm>
          <a:prstGeom prst="wedgeEllipseCallout">
            <a:avLst>
              <a:gd name="adj1" fmla="val -284328"/>
              <a:gd name="adj2" fmla="val 1190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arental sections in purple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1752480"/>
            <a:ext cx="1752480" cy="1067040"/>
          </a:xfrm>
          <a:prstGeom prst="wedgeEllipseCallout">
            <a:avLst>
              <a:gd name="adj1" fmla="val -110324"/>
              <a:gd name="adj2" fmla="val 46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ddition of state deadlin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095880"/>
            <a:ext cx="1447920" cy="609840"/>
          </a:xfrm>
          <a:prstGeom prst="wedgeRectCallout">
            <a:avLst>
              <a:gd name="adj1" fmla="val 123027"/>
              <a:gd name="adj2" fmla="val -165884"/>
            </a:avLst>
          </a:prstGeom>
          <a:solidFill>
            <a:srgbClr val="ffff99"/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I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87B-C6C2-4502-9C0B-A39B1174BC32}" type="slidenum">
              <a:t>13</a:t>
            </a:fld>
          </a:p>
        </p:txBody>
      </p:sp>
    </p:spTree>
  </p:cSld>
  <p:transition>
    <p:pull dir="l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3127" t="14516" r="4688" b="3226"/>
          <a:stretch/>
        </p:blipFill>
        <p:spPr>
          <a:xfrm>
            <a:off x="152280" y="1066680"/>
            <a:ext cx="8077320" cy="523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67080" y="228600"/>
            <a:ext cx="2362320" cy="762120"/>
          </a:xfrm>
          <a:prstGeom prst="wedgeEllipseCallout">
            <a:avLst>
              <a:gd name="adj1" fmla="val -66736"/>
              <a:gd name="adj2" fmla="val 2045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</a:rPr>
              <a:t>Checklist of Items Needed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048120"/>
            <a:ext cx="2057400" cy="838080"/>
          </a:xfrm>
          <a:prstGeom prst="wedgeEllipseCallout">
            <a:avLst>
              <a:gd name="adj1" fmla="val -45601"/>
              <a:gd name="adj2" fmla="val 102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arnings about FAFSA sc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200400"/>
            <a:ext cx="1752840" cy="1066680"/>
          </a:xfrm>
          <a:prstGeom prst="wedgeEllipseCallout">
            <a:avLst>
              <a:gd name="adj1" fmla="val -333333"/>
              <a:gd name="adj2" fmla="val 211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age Footers with UR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743200"/>
            <a:ext cx="1752840" cy="685800"/>
          </a:xfrm>
          <a:prstGeom prst="wedgeRectCallout">
            <a:avLst>
              <a:gd name="adj1" fmla="val 15398"/>
              <a:gd name="adj2" fmla="val 201388"/>
            </a:avLst>
          </a:prstGeom>
          <a:solidFill>
            <a:srgbClr val="ffff99"/>
          </a:solidFill>
          <a:ln w="3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Unusual Circumstances 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867280"/>
            <a:ext cx="1600200" cy="60984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943600"/>
            <a:ext cx="3581640" cy="38088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3F2-B3A6-4EC9-9B28-EDC3A37A825B}" type="slidenum">
              <a:t>14</a:t>
            </a:fld>
          </a:p>
        </p:txBody>
      </p:sp>
    </p:spTree>
  </p:cSld>
  <p:transition>
    <p:pull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7811" t="13444" r="7032" b="12367"/>
          <a:stretch/>
        </p:blipFill>
        <p:spPr>
          <a:xfrm>
            <a:off x="304920" y="68580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" y="5791320"/>
            <a:ext cx="2514600" cy="685800"/>
          </a:xfrm>
          <a:prstGeom prst="wedgeEllipseCallout">
            <a:avLst>
              <a:gd name="adj1" fmla="val -5995"/>
              <a:gd name="adj2" fmla="val -196759"/>
            </a:avLst>
          </a:prstGeom>
          <a:solidFill>
            <a:srgbClr val="ffcc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828800"/>
            <a:ext cx="2209680" cy="838080"/>
          </a:xfrm>
          <a:prstGeom prst="wedgeRoundRectCallout">
            <a:avLst>
              <a:gd name="adj1" fmla="val -121120"/>
              <a:gd name="adj2" fmla="val 1513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ctions throughout the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28600"/>
            <a:ext cx="2209680" cy="838080"/>
          </a:xfrm>
          <a:prstGeom prst="wedgeRoundRectCallout">
            <a:avLst>
              <a:gd name="adj1" fmla="val -121837"/>
              <a:gd name="adj2" fmla="val 65152"/>
              <a:gd name="adj3" fmla="val 16667"/>
            </a:avLst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tions numbered for 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91320"/>
            <a:ext cx="2743200" cy="685800"/>
          </a:xfrm>
          <a:prstGeom prst="wedgeEllipseCallout">
            <a:avLst>
              <a:gd name="adj1" fmla="val -4685"/>
              <a:gd name="adj2" fmla="val -189351"/>
            </a:avLst>
          </a:prstGeom>
          <a:solidFill>
            <a:srgbClr val="cc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429000"/>
            <a:ext cx="1752480" cy="990720"/>
          </a:xfrm>
          <a:prstGeom prst="wedgeEllipseCallout">
            <a:avLst>
              <a:gd name="adj1" fmla="val -273643"/>
              <a:gd name="adj2" fmla="val -5593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More white spa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76B-FAE0-49C3-A56E-E6EFE98D64B3}" type="slidenum">
              <a:t>15</a:t>
            </a:fld>
          </a:p>
        </p:txBody>
      </p:sp>
    </p:spTree>
  </p:cSld>
  <p:transition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t Included…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Student’s first name and middle initial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Street address, city, zip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Permanent telephone number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Driver’s license state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Student’s e-mail address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Is the student male?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Palatino Linotype"/>
              </a:rPr>
              <a:t>Father and mother first initial</a:t>
            </a:r>
            <a:endParaRPr b="0" lang="en-US" sz="3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369-CF22-42BD-9C12-DF61E49B10F0}" type="slidenum">
              <a:t>16</a:t>
            </a:fld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RS Tax Lin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209680"/>
            <a:ext cx="7162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447920"/>
            <a:ext cx="75438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Not available for first </a:t>
            </a:r>
            <a:r>
              <a:rPr b="1" i="1" lang="en-US" sz="3400" spc="-1" strike="noStrike">
                <a:solidFill>
                  <a:srgbClr val="006979"/>
                </a:solidFill>
                <a:latin typeface="Times New Roman"/>
              </a:rPr>
              <a:t>Worksheet</a:t>
            </a: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 printing in late Septemb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6979"/>
                </a:solidFill>
                <a:latin typeface="Times New Roman"/>
              </a:rPr>
              <a:t>Worksheet</a:t>
            </a: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 Addendum includes all line numbers for 2005 IRS 1040, 1040A, and 1040E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34B-6F47-4EAA-BD62-1340E32707C7}" type="slidenum">
              <a:t>17</a:t>
            </a:fld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ksheet Distribution</a:t>
            </a: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4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762120"/>
            <a:ext cx="8763120" cy="64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Late September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 – Sample copies were m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Mid-September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 – Order additional </a:t>
            </a: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Early October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 – Automatic mailing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W</a:t>
            </a:r>
            <a:r>
              <a:rPr b="0" i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orksheet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s, 60 percent of each school’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2005-2006 paper FAFSAs</a:t>
            </a:r>
            <a:r>
              <a:rPr b="0" lang="en-US" sz="2400" spc="-1" strike="noStrike">
                <a:solidFill>
                  <a:srgbClr val="006979"/>
                </a:solidFill>
                <a:latin typeface="Times New Roman"/>
                <a:ea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Early November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 – Automatic mailing of 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FAFSAs, 10 percent of each school’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2005-2006 paper FAF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November</a:t>
            </a:r>
            <a:r>
              <a:rPr b="0" lang="en-US" sz="3400" spc="-1" strike="noStrike">
                <a:solidFill>
                  <a:srgbClr val="006979"/>
                </a:solidFill>
                <a:latin typeface="Times New Roman"/>
                <a:ea typeface="Tahoma"/>
              </a:rPr>
              <a:t> –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  <a:ea typeface="Tahoma"/>
              </a:rPr>
              <a:t> Order additional paper FAF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014-A4CC-4E76-A426-A418D6EB395F}" type="slidenum">
              <a:t>18</a:t>
            </a:fld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62520" y="1143000"/>
            <a:ext cx="51814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979"/>
                </a:solidFill>
                <a:latin typeface="Times New Roman"/>
              </a:rPr>
              <a:t>In P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Colleges, High Schools,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979"/>
                </a:solidFill>
                <a:latin typeface="Times New Roman"/>
              </a:rPr>
              <a:t>PDF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979"/>
                </a:solidFill>
                <a:latin typeface="Times New Roman"/>
              </a:rPr>
              <a:t>{Color and Black &amp; White Versions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Student Aid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FAFSA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979"/>
                </a:solidFill>
                <a:latin typeface="Times New Roman"/>
              </a:rPr>
              <a:t>Teleph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1-800-4-FE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the Worksheet to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6405" t="13444" r="14844" b="4837"/>
          <a:stretch/>
        </p:blipFill>
        <p:spPr>
          <a:xfrm>
            <a:off x="304920" y="1066680"/>
            <a:ext cx="3504960" cy="3711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4952880"/>
            <a:ext cx="40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Also available in Spanish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591-A6E7-4E99-845C-48E322756956}" type="slidenum">
              <a:t>19</a:t>
            </a:fld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2280" y="2081160"/>
          <a:ext cx="4496040" cy="34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81160"/>
                    <a:ext cx="449604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838080" y="56386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8% of 2005-2006 FAFSAs filed electronic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981080"/>
            <a:ext cx="4267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Since 2003-04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Number of electronic filers has increased 3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Number of paper filers has decreased by 59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Paper vs. Electronic Filers</a:t>
            </a:r>
            <a:br>
              <a:rPr sz="4400"/>
            </a:b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Through Week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321-37D0-4BE1-8A69-329A5096F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1143000"/>
            <a:ext cx="822960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979"/>
                </a:solidFill>
                <a:latin typeface="Times New Roman"/>
              </a:rPr>
              <a:t>PDF Format</a:t>
            </a:r>
            <a:r>
              <a:rPr b="1" lang="en-US" sz="2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979"/>
                </a:solidFill>
                <a:latin typeface="Times New Roman"/>
              </a:rPr>
              <a:t>{Color and Black &amp; White Version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Information for Financial Aid Professionals (IF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Counselors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FAFSA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(Demo site up November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979"/>
                </a:solidFill>
                <a:latin typeface="Times New Roman"/>
              </a:rPr>
              <a:t>O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fsapub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ility of the Worksheet to FA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16405" t="13444" r="14844" b="4837"/>
          <a:stretch/>
        </p:blipFill>
        <p:spPr>
          <a:xfrm>
            <a:off x="5181480" y="3157560"/>
            <a:ext cx="3124440" cy="27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8A1-9FB9-4069-98B7-D6CC6A6DEE28}" type="slidenum">
              <a:t>20</a:t>
            </a:fld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AFSA on the Web Toolki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572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Promotional packag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Includes materials that encourage Web filing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Provides information on </a:t>
            </a: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6979"/>
                </a:solidFill>
                <a:latin typeface="Times New Roman"/>
              </a:rPr>
              <a:t>FAFSA on the Web</a:t>
            </a: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and the PI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20600" y="2014560"/>
            <a:ext cx="244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34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105520" y="2057400"/>
          <a:ext cx="38862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057400"/>
                    <a:ext cx="3886200" cy="33847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D57-2F89-476A-A9E5-3CD4305F515C}" type="slidenum">
              <a:t>21</a:t>
            </a:fld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6-2007 Toolk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14800" y="373392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Student’s TIPS Card consolidates information from brochur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Foldable pocket size card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Checklist forma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29528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New poste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97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Incorporates FSA communications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324480" y="838080"/>
          <a:ext cx="187344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838080"/>
                    <a:ext cx="187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19320" y="3276720"/>
          <a:ext cx="2628720" cy="17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276720"/>
                    <a:ext cx="2628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609480" y="4191120"/>
          <a:ext cx="2590920" cy="17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191120"/>
                    <a:ext cx="259092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FAE-F10D-48A9-B8EE-7A19B7C6662D}" type="slidenum">
              <a:t>22</a:t>
            </a:fld>
          </a:p>
        </p:txBody>
      </p:sp>
    </p:spTree>
  </p:cSld>
  <p:transition>
    <p:pull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8080" y="1752480"/>
            <a:ext cx="53341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November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iled out</a:t>
            </a:r>
            <a:r>
              <a:rPr b="0" lang="en-US" sz="30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979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fsapubs.org</a:t>
            </a:r>
            <a:r>
              <a:rPr b="0" lang="en-US" sz="28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vailability of the Tool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" y="4495680"/>
            <a:ext cx="46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Also available in Span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562720" y="1066680"/>
          <a:ext cx="28591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066680"/>
                    <a:ext cx="2859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678-E757-43E3-86B5-62E1C3983D11}" type="slidenum">
              <a:t>23</a:t>
            </a:fld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act U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979"/>
                </a:solidFill>
                <a:latin typeface="Palatino Linotype"/>
              </a:rPr>
              <a:t>Anita Gross</a:t>
            </a:r>
            <a:endParaRPr b="0" lang="en-US" sz="35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979"/>
                </a:solidFill>
                <a:latin typeface="Palatino Linotype"/>
              </a:rPr>
              <a:t>Phone:  202-377-3904</a:t>
            </a:r>
            <a:endParaRPr b="0" lang="en-US" sz="35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979"/>
                </a:solidFill>
                <a:latin typeface="Palatino Linotype"/>
              </a:rPr>
              <a:t>Shamarli Lawrence</a:t>
            </a:r>
            <a:endParaRPr b="0" lang="en-US" sz="35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979"/>
                </a:solidFill>
                <a:latin typeface="Palatino Linotype"/>
              </a:rPr>
              <a:t>Phone:  202-377-3483</a:t>
            </a:r>
            <a:endParaRPr b="0" lang="en-US" sz="35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815000"/>
            <a:ext cx="56116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Palatino Linotype"/>
              </a:rPr>
              <a:t>Feedback about the </a:t>
            </a:r>
            <a:r>
              <a:rPr b="0" i="1" lang="en-US" sz="3200" spc="-1" strike="noStrike">
                <a:solidFill>
                  <a:srgbClr val="006979"/>
                </a:solidFill>
                <a:latin typeface="Palatino Linotype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alatino Linotype"/>
                <a:hlinkClick r:id="rId1"/>
              </a:rPr>
              <a:t>FOTWWorksheet@ed.gov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791320" y="2057400"/>
            <a:ext cx="297180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659-BD5C-497E-8A06-30EA1A292E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uestions &amp; Com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EA3-FB44-4DB6-8B25-F28E2D1CB2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udents Shift to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029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88% of all students now file onli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54800" y="1278000"/>
            <a:ext cx="158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79360" y="1278000"/>
            <a:ext cx="8483400" cy="2651040"/>
            <a:chOff x="279360" y="1278000"/>
            <a:chExt cx="8483400" cy="2651040"/>
          </a:xfrm>
        </p:grpSpPr>
        <p:sp>
          <p:nvSpPr>
            <p:cNvPr id="58" name=""/>
            <p:cNvSpPr/>
            <p:nvPr/>
          </p:nvSpPr>
          <p:spPr>
            <a:xfrm>
              <a:off x="295200" y="2017800"/>
              <a:ext cx="2498760" cy="75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2520" y="1381320"/>
              <a:ext cx="1061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8080"/>
                  </a:solidFill>
                  <a:latin typeface="Times New Roman"/>
                </a:rPr>
                <a:t>Year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62080" y="2210040"/>
              <a:ext cx="266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Times New Roman"/>
                </a:rPr>
                <a:t>FAFSA on the 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62840" y="2225880"/>
              <a:ext cx="183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Times New Roman"/>
                </a:rPr>
                <a:t>Paper FAF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8040" y="2845080"/>
              <a:ext cx="1823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2004-2005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95080" y="2845080"/>
              <a:ext cx="20397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8.9 Mill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60480" y="2845080"/>
              <a:ext cx="1934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2.3 Mill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9040" y="3413160"/>
              <a:ext cx="2033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2005-2006*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91560" y="3413160"/>
              <a:ext cx="2144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10.2 Mill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60480" y="3413160"/>
              <a:ext cx="1934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8080"/>
                  </a:solidFill>
                  <a:latin typeface="Times New Roman"/>
                </a:rPr>
                <a:t>1.4 Mill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70760" y="1381320"/>
              <a:ext cx="2786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8080"/>
                  </a:solidFill>
                  <a:latin typeface="Times New Roman"/>
                </a:rPr>
                <a:t>Applications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95200" y="12956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5200" y="1278000"/>
              <a:ext cx="1584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778120" y="12956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8120" y="1278000"/>
              <a:ext cx="1584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731080" y="12956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31080" y="1278000"/>
              <a:ext cx="1584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697360" y="129564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9360" y="1278000"/>
              <a:ext cx="47520" cy="265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60480" y="1330560"/>
              <a:ext cx="49320" cy="259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81520" y="2052720"/>
              <a:ext cx="47520" cy="18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15240" y="1330560"/>
              <a:ext cx="47520" cy="259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880" y="1278000"/>
              <a:ext cx="8435880" cy="5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6880" y="2001960"/>
              <a:ext cx="84358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6880" y="2741760"/>
              <a:ext cx="84358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6880" y="3310200"/>
              <a:ext cx="843588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6880" y="3876840"/>
              <a:ext cx="8435880" cy="5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99880" y="403848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79"/>
                </a:solidFill>
                <a:latin typeface="Times New Roman"/>
              </a:rPr>
              <a:t>* As of Octo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B2D-807B-4FE0-A271-7ABB544717EB}" type="slidenum">
              <a:t>3</a:t>
            </a:fld>
          </a:p>
        </p:txBody>
      </p:sp>
    </p:spTree>
  </p:cSld>
  <p:transition>
    <p:pull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990720"/>
            <a:ext cx="43434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Out of 7,102 schoo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-763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chools Shift to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33412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6,604 schools have fewer than 30% paper fi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96080" y="1752480"/>
            <a:ext cx="2195640" cy="335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2800" y="2408400"/>
            <a:ext cx="187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Times New Roman"/>
              </a:rPr>
              <a:t>Number of</a:t>
            </a:r>
            <a:r>
              <a:rPr b="0" lang="en-US" sz="33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7400" y="2936880"/>
            <a:ext cx="122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Times New Roman"/>
              </a:rPr>
              <a:t>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60840" y="2408400"/>
            <a:ext cx="383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Times New Roman"/>
              </a:rPr>
              <a:t>Percentage of Students</a:t>
            </a:r>
            <a:r>
              <a:rPr b="0" lang="en-US" sz="33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17040" y="2936880"/>
            <a:ext cx="256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Times New Roman"/>
              </a:rPr>
              <a:t>Who File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44960" y="3465360"/>
            <a:ext cx="333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27560" y="3465360"/>
            <a:ext cx="663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44960" y="3898800"/>
            <a:ext cx="333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27560" y="3898800"/>
            <a:ext cx="663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4334040"/>
            <a:ext cx="498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4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4334040"/>
            <a:ext cx="663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imes New Roman"/>
              </a:rPr>
              <a:t>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4920" y="2362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46480"/>
            <a:ext cx="140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78040" y="23623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78040" y="2346480"/>
            <a:ext cx="14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35800" y="23623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35800" y="2346480"/>
            <a:ext cx="144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0520" y="2346480"/>
            <a:ext cx="42840" cy="23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4000" y="2394000"/>
            <a:ext cx="28440" cy="22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1400" y="2394000"/>
            <a:ext cx="42840" cy="234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2346480"/>
            <a:ext cx="623088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3387600"/>
            <a:ext cx="618804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3822840"/>
            <a:ext cx="6188040" cy="2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4255920"/>
            <a:ext cx="6188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4691160"/>
            <a:ext cx="623088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213-EBE5-41A7-A513-185264427F6B}" type="slidenum">
              <a:t>4</a:t>
            </a:fld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25720" y="94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733920"/>
            <a:ext cx="76197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24 MILLION</a:t>
            </a: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 FAFSAs were orde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979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979"/>
                </a:solidFill>
                <a:latin typeface="Times New Roman"/>
              </a:rPr>
              <a:t>2 MILLION</a:t>
            </a: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979"/>
                </a:solidFill>
                <a:latin typeface="Times New Roman"/>
              </a:rPr>
              <a:t>FAFSAs were mailed in for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979"/>
                </a:solidFill>
                <a:uFillTx/>
                <a:latin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22 MILLION not submit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o… Are We Using the Right Gears?</a:t>
            </a: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6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8280" y="1981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720" y="2057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979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155412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10080" y="990720"/>
            <a:ext cx="1554120" cy="219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D58-1544-446C-B7D2-CA5FC754735C}" type="slidenum">
              <a:t>5</a:t>
            </a:fld>
          </a:p>
        </p:txBody>
      </p:sp>
    </p:spTree>
  </p:cSld>
  <p:transition>
    <p:pull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990720"/>
            <a:ext cx="77724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99"/>
                </a:solidFill>
                <a:latin typeface="Times New Roman"/>
              </a:rPr>
              <a:t>FAFSA on the Web Worksheet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is the appropriate tool to support Web filers – NOT the paper FAF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-76320"/>
            <a:ext cx="7467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ifting to the Right G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145440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1468440" cy="205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52680" y="4800600"/>
            <a:ext cx="2133720" cy="76212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C35-2158-49B6-8073-26DE2E169C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Previous Pre-Application</a:t>
            </a:r>
            <a:r>
              <a:rPr b="1" lang="en-US" sz="3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Workshe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8000"/>
                </a:solidFill>
                <a:latin typeface="Times New Roman"/>
              </a:rPr>
              <a:t>Not Widely Used</a:t>
            </a:r>
            <a:endParaRPr b="1" lang="en-US" sz="3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e addressed community concer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979"/>
                </a:solidFill>
                <a:latin typeface="Times New Roman"/>
              </a:rPr>
              <a:t>Redesigned </a:t>
            </a:r>
            <a:r>
              <a:rPr b="0" i="1" lang="en-US" sz="3800" spc="-1" strike="noStrike">
                <a:solidFill>
                  <a:srgbClr val="006979"/>
                </a:solidFill>
                <a:latin typeface="Times New Roman"/>
              </a:rPr>
              <a:t>Worksheet</a:t>
            </a:r>
            <a:r>
              <a:rPr b="0" lang="en-US" sz="3800" spc="-1" strike="noStrike">
                <a:solidFill>
                  <a:srgbClr val="006979"/>
                </a:solidFill>
                <a:latin typeface="Times New Roman"/>
              </a:rPr>
              <a:t> to be more usable</a:t>
            </a:r>
            <a:endParaRPr b="0" lang="en-US" sz="38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rinted quantities for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chools’ convenience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hanged distribution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trateg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27636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C05-B581-4F10-886A-4C299ADAF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20600" y="2014560"/>
            <a:ext cx="244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273400" cy="335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stribution Strateg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4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979"/>
                </a:solidFill>
                <a:latin typeface="Times New Roman"/>
              </a:rPr>
              <a:t>Worksheets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available before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paper FAFSA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Both </a:t>
            </a:r>
            <a:r>
              <a:rPr b="1" i="1" lang="en-US" sz="3600" spc="-1" strike="noStrike">
                <a:solidFill>
                  <a:srgbClr val="006979"/>
                </a:solidFill>
                <a:latin typeface="Times New Roman"/>
              </a:rPr>
              <a:t>Worksheets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and paper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FAFSAs can be re-ordered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Key distribution dates–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6979"/>
                </a:solidFill>
                <a:latin typeface="Times New Roman"/>
              </a:rPr>
              <a:t>provided later in sessi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CA3-6EEF-4976-911B-7C1EF67C94B1}" type="slidenum">
              <a:t>8</a:t>
            </a:fld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24680" y="3886200"/>
            <a:ext cx="11430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eep In Min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979"/>
                </a:solidFill>
                <a:latin typeface="Times New Roman"/>
              </a:rPr>
              <a:t>Worksheet</a:t>
            </a:r>
            <a:r>
              <a:rPr b="1" lang="en-US" sz="4000" spc="-1" strike="noStrike">
                <a:solidFill>
                  <a:srgbClr val="006979"/>
                </a:solidFill>
                <a:latin typeface="Times New Roman"/>
              </a:rPr>
              <a:t> is not an official FAFSA, it…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0069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has no certification or signature line</a:t>
            </a:r>
            <a:endParaRPr b="0" lang="en-US" sz="3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0069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cannot be mailed in for processing</a:t>
            </a:r>
            <a:endParaRPr b="0" lang="en-US" sz="3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buClr>
                <a:srgbClr val="0069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is not usable with FAA Access</a:t>
            </a:r>
            <a:endParaRPr b="0" lang="en-US" sz="3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69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is optional – students can use FOTW </a:t>
            </a:r>
            <a:endParaRPr b="0" lang="en-US" sz="34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6979"/>
                </a:solidFill>
                <a:latin typeface="Times New Roman"/>
              </a:rPr>
              <a:t>without using the</a:t>
            </a:r>
            <a:r>
              <a:rPr b="1" i="1" lang="en-US" sz="3400" spc="-1" strike="noStrike">
                <a:solidFill>
                  <a:srgbClr val="006979"/>
                </a:solidFill>
                <a:latin typeface="Times New Roman"/>
              </a:rPr>
              <a:t> Worksheet</a:t>
            </a:r>
            <a:endParaRPr b="0" lang="en-US" sz="34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D01-CC6C-4C0B-9FAF-94E022C3B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14:03:23Z</dcterms:created>
  <dc:creator>sharmarli.lawrence</dc:creator>
  <dc:description/>
  <dc:language>en-US</dc:language>
  <cp:lastModifiedBy>2005 EAC</cp:lastModifiedBy>
  <dcterms:modified xsi:type="dcterms:W3CDTF">2005-12-02T16:59:54Z</dcterms:modified>
  <cp:revision>115</cp:revision>
  <dc:subject/>
  <dc:title>SHIFTING GEARS FROM PAPER TO ELECTRONIC </dc:title>
</cp:coreProperties>
</file>