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72.png" ContentType="image/png"/>
  <Override PartName="/ppt/media/image106.jpeg" ContentType="image/jpeg"/>
  <Override PartName="/ppt/media/image64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62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189-ED41-4A99-8AE5-16E0AB9F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017-8889-4130-BFF7-06C1E7F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BBA-02F9-433A-B996-AFE77632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732-DD7C-4B9A-903C-24A6A306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5DA-1F14-4B62-AA60-ADCC6CF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C7A-87F3-4412-83EB-6C66BEA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F25-49F3-4C1A-B9C4-FAA9B0C1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045-2986-41CF-B168-BEFA16B2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33F-7DED-48A3-9266-80C44F1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357-50EC-4C7C-AB09-5EAF7D5B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050-EACC-4AC3-8713-99EF798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593-89F1-44BF-936C-CC9EEE03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748D-244F-4188-868C-B0C4E4F1C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ldsfap.ed.gov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57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png"/><Relationship Id="rId7" Type="http://schemas.openxmlformats.org/officeDocument/2006/relationships/image" Target="../media/image57.png"/><Relationship Id="rId8" Type="http://schemas.openxmlformats.org/officeDocument/2006/relationships/image" Target="../media/image8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ng"/><Relationship Id="rId3" Type="http://schemas.openxmlformats.org/officeDocument/2006/relationships/image" Target="../media/image106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1337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NSLDS Data: What does it mean and how do I us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m Eliadis- FSA/NS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 Bennett- FSA/NS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121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21279600">
            <a:off x="4952520" y="4953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5-44-0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905120"/>
            <a:ext cx="51055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enario 2: Sandra’s attending fall term at East Side Community College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ransferring to West Side University spring semes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hat should the FAA at WS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B6D-355F-4CA5-AE6B-E455A9D9A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ssue: What do you do for mid-term transfer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3 steps: Inform, Monitor &amp; Alert/Review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ffects of Sandra’s transfer: WSU must inform NSLDS of transferring studen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EN-01-09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solution: Report the Transfer Student to NSL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nsldsfap.ed.gov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(Web process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SM User’s Guide (Batch process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DB2-3EF0-4F48-81F7-3BFF50C433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Inform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71600" y="1981080"/>
          <a:ext cx="5181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5181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52480" y="3048120"/>
          <a:ext cx="4314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048120"/>
                    <a:ext cx="4314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981080" y="3733920"/>
          <a:ext cx="386712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733920"/>
                    <a:ext cx="3867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295280" y="2362320"/>
            <a:ext cx="12193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67040" y="1981080"/>
            <a:ext cx="6858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314960"/>
            <a:ext cx="3047760" cy="304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EEB-A246-487F-AEF2-11B81072C3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143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Inform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48320" y="3733920"/>
          <a:ext cx="449568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733920"/>
                    <a:ext cx="449568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457200" y="1828800"/>
            <a:ext cx="3828960" cy="3135240"/>
            <a:chOff x="457200" y="1828800"/>
            <a:chExt cx="3828960" cy="3135240"/>
          </a:xfrm>
        </p:grpSpPr>
        <p:graphicFrame>
          <p:nvGraphicFramePr>
            <p:cNvPr id="151" name=""/>
            <p:cNvGraphicFramePr/>
            <p:nvPr/>
          </p:nvGraphicFramePr>
          <p:xfrm>
            <a:off x="1523880" y="4572000"/>
            <a:ext cx="152424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4572000"/>
                      <a:ext cx="152424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3" name=""/>
            <p:cNvGrpSpPr/>
            <p:nvPr/>
          </p:nvGrpSpPr>
          <p:grpSpPr>
            <a:xfrm>
              <a:off x="457200" y="1828800"/>
              <a:ext cx="3828960" cy="2514600"/>
              <a:chOff x="457200" y="1828800"/>
              <a:chExt cx="3828960" cy="2514600"/>
            </a:xfrm>
          </p:grpSpPr>
          <p:graphicFrame>
            <p:nvGraphicFramePr>
              <p:cNvPr id="154" name=""/>
              <p:cNvGraphicFramePr/>
              <p:nvPr/>
            </p:nvGraphicFramePr>
            <p:xfrm>
              <a:off x="457200" y="1828800"/>
              <a:ext cx="380052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" y="1828800"/>
                        <a:ext cx="38005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6" name=""/>
              <p:cNvGraphicFramePr/>
              <p:nvPr/>
            </p:nvGraphicFramePr>
            <p:xfrm>
              <a:off x="638280" y="2743200"/>
              <a:ext cx="3647880" cy="156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38280" y="2743200"/>
                        <a:ext cx="3647880" cy="156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8" name=""/>
              <p:cNvGraphicFramePr/>
              <p:nvPr/>
            </p:nvGraphicFramePr>
            <p:xfrm>
              <a:off x="1371600" y="2514600"/>
              <a:ext cx="2009880" cy="219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371600" y="2514600"/>
                        <a:ext cx="2009880" cy="2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2133720" y="4114800"/>
                <a:ext cx="609480" cy="22860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029200" y="2133720"/>
            <a:ext cx="3743280" cy="1247760"/>
            <a:chOff x="5029200" y="2133720"/>
            <a:chExt cx="3743280" cy="1247760"/>
          </a:xfrm>
        </p:grpSpPr>
        <p:graphicFrame>
          <p:nvGraphicFramePr>
            <p:cNvPr id="162" name=""/>
            <p:cNvGraphicFramePr/>
            <p:nvPr/>
          </p:nvGraphicFramePr>
          <p:xfrm>
            <a:off x="5029200" y="2438280"/>
            <a:ext cx="3743280" cy="94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29200" y="2438280"/>
                      <a:ext cx="374328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6172200" y="2133720"/>
            <a:ext cx="1295280" cy="237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133720"/>
                      <a:ext cx="1295280" cy="2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5624640" y="3033720"/>
              <a:ext cx="2590560" cy="3049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25A-53F2-4E2A-86A2-B74896374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4880" y="1123920"/>
            <a:ext cx="79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828800"/>
          <a:ext cx="483876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838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2895480"/>
          <a:ext cx="402408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40240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33520" y="4267080"/>
          <a:ext cx="705960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267080"/>
                    <a:ext cx="7059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2895480"/>
          <a:ext cx="1523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895480"/>
                    <a:ext cx="1523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04720" y="5000760"/>
            <a:ext cx="7086600" cy="333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69E-0DC3-4B0C-AC27-C7DD45B29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880" y="112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- Alert email no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3200" y="3181320"/>
          <a:ext cx="4114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3181320"/>
                    <a:ext cx="41148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1752480"/>
          <a:ext cx="48960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48960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43400" y="2467080"/>
          <a:ext cx="4724280" cy="23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467080"/>
                    <a:ext cx="47242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H="1">
            <a:off x="514080" y="3795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4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0040" y="563868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3452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48520" y="3186000"/>
            <a:ext cx="1067040" cy="152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719520"/>
            <a:ext cx="1752480" cy="152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104920"/>
            <a:ext cx="1981080" cy="254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62440" y="1766880"/>
            <a:ext cx="6094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2666880"/>
          <a:ext cx="210492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666880"/>
                    <a:ext cx="2104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362480" y="2819520"/>
            <a:ext cx="2343240" cy="2138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3A0-C627-4E0D-821C-BBB6DCF36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12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 -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324480" y="2209680"/>
            <a:ext cx="153360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8600" y="1676520"/>
          <a:ext cx="48578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4857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95280" y="2362320"/>
          <a:ext cx="2019600" cy="16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362320"/>
                    <a:ext cx="201960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47680" y="2666880"/>
          <a:ext cx="4896000" cy="117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2666880"/>
                    <a:ext cx="4896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4920" y="4191120"/>
          <a:ext cx="7237440" cy="69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920" y="4191120"/>
                    <a:ext cx="723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952880" y="5181480"/>
          <a:ext cx="68580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51814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038480" y="5410080"/>
          <a:ext cx="70488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5410080"/>
                    <a:ext cx="704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948120" y="5424480"/>
            <a:ext cx="871560" cy="295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95880" y="4662360"/>
          <a:ext cx="114120" cy="1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95880" y="4662360"/>
                    <a:ext cx="1141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709640" y="2085840"/>
            <a:ext cx="18288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8680" y="1709640"/>
            <a:ext cx="609480" cy="352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666880"/>
            <a:ext cx="1295640" cy="2001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24000" y="2881440"/>
            <a:ext cx="1143000" cy="74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90880" y="3643200"/>
            <a:ext cx="1295280" cy="152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8A1-CEBF-4856-ADAE-2D35A78D2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Using TSM module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nsures TSM compli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w school will receive information affecting eligibilit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24A-7CE3-4B8D-A7D5-1AF70A2682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224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33440" y="2001960"/>
            <a:ext cx="5943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Scenario 3: Mary Misreported is coming back to start her 2</a:t>
            </a:r>
            <a:r>
              <a:rPr b="1" lang="en-US" sz="2400" spc="-1" strike="noStrike" baseline="30000">
                <a:solidFill>
                  <a:srgbClr val="006979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 year at East State Univ (ESU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After awarding fall aid, ESU receives a new postscreened ISIR (reason code 0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indicating a defau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After review of NSLDS website, they don’t see the De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What should ESU’s FAA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025200">
            <a:off x="5029200" y="43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23F-28B4-4A8F-A16D-7681E5DA0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ISIR says one thing, NSLDS says anoth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misreported data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uld possibly affect student’s eligibil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uld cause additional resear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Student’s history on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BCC-26A2-4744-B757-09534DCE9F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514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SLDS Data: Objectiv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ognize when to use NSLDS tools to resolve various situa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ly understanding of NSLDS functionality and data to student eligibility decis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roach research of questionable dat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715-8114-44A8-87C2-6633DA245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143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Review Student on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1752480"/>
          <a:ext cx="44956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4495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14400" y="2438280"/>
          <a:ext cx="35053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38280"/>
                    <a:ext cx="35053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533520" y="3352680"/>
          <a:ext cx="39621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352680"/>
                    <a:ext cx="39621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886040" y="2895480"/>
          <a:ext cx="1104840" cy="2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6040" y="2895480"/>
                    <a:ext cx="11048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47920" y="3124080"/>
          <a:ext cx="2085840" cy="2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3124080"/>
                    <a:ext cx="2085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200400" y="4267080"/>
          <a:ext cx="5715000" cy="166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4267080"/>
                    <a:ext cx="5715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34120" y="4038480"/>
          <a:ext cx="1190520" cy="17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038480"/>
                    <a:ext cx="119052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8077320" y="4238640"/>
            <a:ext cx="53316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133720"/>
            <a:ext cx="9903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752480"/>
            <a:ext cx="511200" cy="4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D64-D42D-4182-B0A6-D8DF88E8DC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143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Review Student on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4920" y="1676520"/>
            <a:ext cx="7238880" cy="2581200"/>
            <a:chOff x="304920" y="1676520"/>
            <a:chExt cx="7238880" cy="2581200"/>
          </a:xfrm>
        </p:grpSpPr>
        <p:sp>
          <p:nvSpPr>
            <p:cNvPr id="261" name=""/>
            <p:cNvSpPr/>
            <p:nvPr/>
          </p:nvSpPr>
          <p:spPr>
            <a:xfrm>
              <a:off x="838080" y="1676520"/>
              <a:ext cx="670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6979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04920" y="1752480"/>
              <a:ext cx="4495680" cy="2505240"/>
              <a:chOff x="304920" y="1752480"/>
              <a:chExt cx="4495680" cy="2505240"/>
            </a:xfrm>
          </p:grpSpPr>
          <p:graphicFrame>
            <p:nvGraphicFramePr>
              <p:cNvPr id="263" name=""/>
              <p:cNvGraphicFramePr/>
              <p:nvPr/>
            </p:nvGraphicFramePr>
            <p:xfrm>
              <a:off x="304920" y="1752480"/>
              <a:ext cx="4495680" cy="609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752480"/>
                        <a:ext cx="4495680" cy="60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5" name=""/>
              <p:cNvGraphicFramePr/>
              <p:nvPr/>
            </p:nvGraphicFramePr>
            <p:xfrm>
              <a:off x="1295280" y="2438280"/>
              <a:ext cx="167652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95280" y="2438280"/>
                        <a:ext cx="167652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67" name=""/>
              <p:cNvGrpSpPr/>
              <p:nvPr/>
            </p:nvGrpSpPr>
            <p:grpSpPr>
              <a:xfrm>
                <a:off x="380880" y="2424240"/>
                <a:ext cx="3524400" cy="1833480"/>
                <a:chOff x="380880" y="2424240"/>
                <a:chExt cx="3524400" cy="1833480"/>
              </a:xfrm>
            </p:grpSpPr>
            <p:graphicFrame>
              <p:nvGraphicFramePr>
                <p:cNvPr id="268" name=""/>
                <p:cNvGraphicFramePr/>
                <p:nvPr/>
              </p:nvGraphicFramePr>
              <p:xfrm>
                <a:off x="380880" y="2666880"/>
                <a:ext cx="3524400" cy="1590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6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80880" y="2666880"/>
                          <a:ext cx="3524400" cy="1590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0" name=""/>
                <p:cNvSpPr/>
                <p:nvPr/>
              </p:nvSpPr>
              <p:spPr>
                <a:xfrm>
                  <a:off x="2143080" y="3000240"/>
                  <a:ext cx="295200" cy="311400"/>
                </a:xfrm>
                <a:prstGeom prst="rect">
                  <a:avLst/>
                </a:prstGeom>
                <a:noFill/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143000" y="2424240"/>
                  <a:ext cx="1981080" cy="228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452680" y="3000240"/>
            <a:ext cx="6329520" cy="3168720"/>
            <a:chOff x="2452680" y="3000240"/>
            <a:chExt cx="6329520" cy="3168720"/>
          </a:xfrm>
        </p:grpSpPr>
        <p:sp>
          <p:nvSpPr>
            <p:cNvPr id="273" name=""/>
            <p:cNvSpPr/>
            <p:nvPr/>
          </p:nvSpPr>
          <p:spPr>
            <a:xfrm>
              <a:off x="6095880" y="30002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452680" y="3000240"/>
              <a:ext cx="6329520" cy="3168720"/>
              <a:chOff x="2452680" y="3000240"/>
              <a:chExt cx="6329520" cy="31687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452680" y="3000240"/>
                <a:ext cx="6272280" cy="3168720"/>
                <a:chOff x="2452680" y="3000240"/>
                <a:chExt cx="6272280" cy="3168720"/>
              </a:xfrm>
            </p:grpSpPr>
            <p:graphicFrame>
              <p:nvGraphicFramePr>
                <p:cNvPr id="276" name=""/>
                <p:cNvGraphicFramePr/>
                <p:nvPr/>
              </p:nvGraphicFramePr>
              <p:xfrm>
                <a:off x="3390840" y="3981600"/>
                <a:ext cx="5334120" cy="2187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7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390840" y="3981600"/>
                          <a:ext cx="5334120" cy="2187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8" name=""/>
                <p:cNvSpPr/>
                <p:nvPr/>
              </p:nvSpPr>
              <p:spPr>
                <a:xfrm>
                  <a:off x="2452680" y="3000240"/>
                  <a:ext cx="365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3295800" y="5319720"/>
                <a:ext cx="5486400" cy="380880"/>
              </a:xfrm>
              <a:prstGeom prst="rect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485-A6F4-40E1-A670-877EF6835D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ults of reviewing Mary’s FAH on NSLDS: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ost recent information displaye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sed to verify data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SIR/FAA Access displaying results at a processed point in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al time review of current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Eligibility- no change in awar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ata review justifies FAA system overrid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A1D-85FD-4004-97EF-12055146AC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idbits – Additional Refere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EN-96-13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IR Guid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Financial Aid Histor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endix B- Database Matches and Match flags: NSLDS Match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endix C- Loan status and Eligibility char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D5B-B1DE-4311-884A-240EB6953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287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371600" y="1889280"/>
            <a:ext cx="62485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4: Mary Jones is attending school in the fall and consolidated her previous loan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The FAA is not sure how the aggregate loan totals are impacting the student’s eligibilit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does the FAA d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1284400">
            <a:off x="5010120" y="4377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0D9-57F1-4BE5-A002-34E83A760F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Is student over their aggregate loan limit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consolidation loan reporting to NSLDS: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utomatic distribution by loan typ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creases manual calculation/determin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NSLDS website to identify potential aggregate issu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1DA-C2D9-4C8F-B99E-F880EB7CDF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160" y="2235240"/>
            <a:ext cx="5029200" cy="336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062680" y="762120"/>
          <a:ext cx="3809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62680" y="762120"/>
                    <a:ext cx="3809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519880" y="762120"/>
          <a:ext cx="53316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19880" y="762120"/>
                    <a:ext cx="533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8148600" y="749160"/>
          <a:ext cx="571680" cy="48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749160"/>
                    <a:ext cx="57168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071960" y="3632040"/>
            <a:ext cx="9907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71960" y="4724280"/>
            <a:ext cx="990720" cy="228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062680" y="1752480"/>
            <a:ext cx="19047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72956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62680" y="1535040"/>
            <a:ext cx="2286000" cy="1396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62680" y="1689120"/>
            <a:ext cx="2286000" cy="1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6268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34868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685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544-56D3-42AD-9F28-7CEEFFA002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9480" y="914400"/>
            <a:ext cx="78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Category: Recent versus Other Loa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ent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eriod End Date is less than 90 days ol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oan status = IA, ID, IG, or IM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gg. OPB = Greater of the Outstanding Principal Balance or Disbursed Amount, not to exceed Net Loan Amount.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f both Outstanding Principal Balance and Disbursed Amount equal zero, use zero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BD3-E8FE-4988-BEB7-2AE4B4FA92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Category: Recent vs. Other Loa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Other Loan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e Agg OPB = lesser of the Net Loan Amount, Disbursed Amount, or Outstanding Principal Balance if all three are greater than zero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610-5590-45F6-B875-EFF08E6ADB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08240" y="2830680"/>
            <a:ext cx="6935760" cy="866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715080" y="3257640"/>
            <a:ext cx="1523880" cy="228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219320" cy="24768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5029200" y="3886200"/>
            <a:ext cx="2590920" cy="779400"/>
            <a:chOff x="5029200" y="3886200"/>
            <a:chExt cx="2590920" cy="779400"/>
          </a:xfrm>
        </p:grpSpPr>
        <p:sp>
          <p:nvSpPr>
            <p:cNvPr id="326" name=""/>
            <p:cNvSpPr/>
            <p:nvPr/>
          </p:nvSpPr>
          <p:spPr>
            <a:xfrm>
              <a:off x="5029200" y="38862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979"/>
                  </a:solidFill>
                  <a:latin typeface="Times New Roman"/>
                </a:rPr>
                <a:t>Recent Lo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5105520" y="4267080"/>
              <a:ext cx="251460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ill in the missing pie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ent or Other loan? Agg. OPB Amount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71C-47AA-4F9C-AC4A-821986C4CF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0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21032400">
            <a:off x="4871880" y="514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81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Scenario 1: FAA’s review of student’s file shows an overpaym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86080" y="2971800"/>
          <a:ext cx="4038480" cy="2924280"/>
        </p:xfrm>
        <a:graphic>
          <a:graphicData uri="http://schemas.openxmlformats.org/drawingml/2006/table">
            <a:tbl>
              <a:tblPr/>
              <a:tblGrid>
                <a:gridCol w="1337040"/>
                <a:gridCol w="621720"/>
                <a:gridCol w="216000"/>
                <a:gridCol w="608040"/>
                <a:gridCol w="1255680"/>
              </a:tblGrid>
              <a:tr h="428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Ollie's Aid Package/Work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(Award Year 2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N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-  EF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3,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PE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= N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   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SE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   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Merit Scholarsh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00 Outside Scholarshi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(received Aug.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562720" y="3962520"/>
            <a:ext cx="282600" cy="1447560"/>
          </a:xfrm>
          <a:custGeom>
            <a:avLst/>
            <a:gdLst>
              <a:gd name="textAreaLeft" fmla="*/ 0 w 282600"/>
              <a:gd name="textAreaRight" fmla="*/ 101880 w 282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54680" y="447048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sbur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pt.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7200" y="556272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OVER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1E0-5E59-4AFA-BD26-10CF25FC57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2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4760" y="1219320"/>
          <a:ext cx="2666520" cy="4647600"/>
        </p:xfrm>
        <a:graphic>
          <a:graphicData uri="http://schemas.openxmlformats.org/drawingml/2006/table">
            <a:tbl>
              <a:tblPr/>
              <a:tblGrid>
                <a:gridCol w="2666520"/>
              </a:tblGrid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Loan Types / Bucke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Consolidation- FF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(from Loan Summar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9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– FFEL Consolidation Lo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60 day rule (if no underlying loans then $ 0 Aggr. OPB calcula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If over 60 days old, and no identified underlying loans, then all is treated/Calc’d as 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Loan Category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Other lo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NSLDS Methodology / Algorith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Un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Unalloca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160200"/>
                          <a:tab algn="l" pos="228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Perkins Share factored 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160200"/>
                          <a:tab algn="l" pos="228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PLUS Share factored out (for the PLUS Borrow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Combin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ying Lo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Loan Status date 210 days +/- of CL’s  Loan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Loan Status Codes: PN, PC, DN, PF, 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‘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Adjusted Agg OPB’ displayed wh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ying Perkins loans factored out of Unallocated Amou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ing PLUS loans factored out of Unallocated Amou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Inherits underlying CL loan’s underlying lo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2784600" y="2057400"/>
            <a:ext cx="282600" cy="3276720"/>
          </a:xfrm>
          <a:custGeom>
            <a:avLst/>
            <a:gdLst>
              <a:gd name="textAreaLeft" fmla="*/ 0 w 282600"/>
              <a:gd name="textAreaRight" fmla="*/ 101880 w 282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76560" y="3730680"/>
            <a:ext cx="142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3219480" y="3505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306600" y="2259000"/>
            <a:ext cx="5811840" cy="2867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60948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FFEL Consolidation (CL) Loan type make-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991-19A9-4172-8FCB-8DC381B2D6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FEL Consolidation Loans (CL)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mpacting the Agg OPB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dentification of underlying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many FFEL CL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atio of underlying loan’s disbursement amounts to CL’s Disbursement Amount(s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atio is applied to the current CL OPB amount(s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4E3-BBFE-47B2-8EDE-F5909EF5E6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Underlying Loa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oan Status Code = PN, DN, PC, DP or PF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oan Status Date within 210 days (before or after) of the Consolidation Loan D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D5A-237B-4AFB-8879-CB5EC17399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343400" cy="525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4343400" cy="533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52280" y="3971880"/>
            <a:ext cx="4343400" cy="534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152280" y="4505400"/>
            <a:ext cx="4343400" cy="533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173160" y="5040360"/>
            <a:ext cx="4322520" cy="517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72000" y="2971800"/>
            <a:ext cx="4322880" cy="5144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4572000" y="3494160"/>
            <a:ext cx="4343400" cy="528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4572000" y="4038480"/>
            <a:ext cx="4343400" cy="520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4343400" cy="534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0"/>
          <a:stretch/>
        </p:blipFill>
        <p:spPr>
          <a:xfrm>
            <a:off x="1763640" y="2133720"/>
            <a:ext cx="5410440" cy="701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1"/>
          <a:stretch/>
        </p:blipFill>
        <p:spPr>
          <a:xfrm>
            <a:off x="1752480" y="1438200"/>
            <a:ext cx="5410440" cy="69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68560" y="2655720"/>
            <a:ext cx="129528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59120"/>
            <a:ext cx="129528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3800" y="28954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396252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34290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44956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50292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29718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43800" y="350532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43800" y="40384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45720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/>
          <p:nvPr/>
        </p:nvCxnSpPr>
        <p:spPr>
          <a:xfrm rot="10800000">
            <a:off x="7314480" y="2133000"/>
            <a:ext cx="1143720" cy="762480"/>
          </a:xfrm>
          <a:prstGeom prst="bentConnector3">
            <a:avLst>
              <a:gd name="adj1" fmla="val 1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V="1">
            <a:off x="456840" y="2133000"/>
            <a:ext cx="1143720" cy="686520"/>
          </a:xfrm>
          <a:prstGeom prst="bentConnector3">
            <a:avLst>
              <a:gd name="adj1" fmla="val 12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609480" y="609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dentifying the underlying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AB9-06F7-4796-BE5D-33462EFA1D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0880" y="2143080"/>
            <a:ext cx="3962520" cy="193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4533840"/>
            <a:ext cx="3733920" cy="13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3467160"/>
            <a:ext cx="3809880" cy="13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7320" y="3718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CL Disbursement Amount: $39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4578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kins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00640" y="3522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552456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kins Disbursement Total:  $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10080" y="44578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 Disbursement Total:  $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186696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d the Disbursement Amounts of the loa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21718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EL Consolidation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9480" y="3076560"/>
            <a:ext cx="3429000" cy="557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3352680" cy="514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334120" y="3886200"/>
            <a:ext cx="3352680" cy="534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04920" y="685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egin the breakdown/r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878-1178-44B9-BC5C-7B1A0C7F7A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46040" y="1897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idized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76840" y="3354480"/>
            <a:ext cx="23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subsidized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25560" y="4626000"/>
            <a:ext cx="34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Sub Disbursement Amount:  $18,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62600" y="5477040"/>
            <a:ext cx="37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Unsub Disbursement Amount:  $13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9720" y="1852560"/>
            <a:ext cx="3962520" cy="3200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57760" y="3243240"/>
            <a:ext cx="3962520" cy="2666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28960" cy="600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8360" y="2743200"/>
            <a:ext cx="380988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57200" y="3321000"/>
            <a:ext cx="380052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3819600" cy="676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800600" y="4876920"/>
            <a:ext cx="3809880" cy="628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4800600" y="3657600"/>
            <a:ext cx="3838680" cy="6001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4824360" y="4267080"/>
            <a:ext cx="3800520" cy="590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4920" y="685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egin the breakdown/r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8288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d the Disbursement Amounts of the loa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E1F-2195-439B-B620-788BAB5F91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 flipV="1" rot="10800000">
            <a:off x="990720" y="1180080"/>
            <a:ext cx="754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Sum the Disbursed Amounts of all Underlying SF, D1, D6 lo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ivided that by the Amount Disbursed from the CLs (getting the ratio 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Multiplied that by the CL’s Aggregate OPB (Other Loan); if multiple CL’s apply ratio % to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is th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lculated Subsidized Aggregate OP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27280" y="29336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CL Disbursement Amount: $39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59080" y="262908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Total Underlying Sub Disbursement Amount:  $18,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5000" y="3314880"/>
            <a:ext cx="750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18,625 divided by 39,000 = .47756  (over all percentage what we can attribute to be Subsidiz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32000" y="453384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 .47756 x 17,000 = $8,119 Calc’d Sub Agg O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15880" y="59054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47756 x 22,000 = $10,506 Calc’d Sub Agg O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382760" y="3772080"/>
            <a:ext cx="6999120" cy="7617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382760" y="5067360"/>
            <a:ext cx="6989760" cy="79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7240" y="557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alculating the Subsidized Aggregate O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87F-2FE3-4C3D-AC82-824DEABBC3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 the same Calculation to Determine Proportion of each C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Unsubsidized Aggregate OPB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Perkins share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PLUS shar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9DC-9E8E-4E5A-9F63-4A8905161A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5800" y="905040"/>
            <a:ext cx="7696080" cy="84924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608040" y="3418920"/>
            <a:ext cx="7773840" cy="520920"/>
            <a:chOff x="608040" y="3418920"/>
            <a:chExt cx="7773840" cy="520920"/>
          </a:xfrm>
        </p:grpSpPr>
        <p:sp>
          <p:nvSpPr>
            <p:cNvPr id="408" name=""/>
            <p:cNvSpPr/>
            <p:nvPr/>
          </p:nvSpPr>
          <p:spPr>
            <a:xfrm flipV="1" rot="10800000">
              <a:off x="608040" y="3418560"/>
              <a:ext cx="419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ft over amount = 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alculated FFEL Consolidation, Unallocated  Aggregate OP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24280" y="341964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1,034 Calculated FFEL Consolidation, Unallocated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238880" y="905040"/>
            <a:ext cx="804960" cy="3808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84000" y="1819440"/>
            <a:ext cx="6867720" cy="307080"/>
            <a:chOff x="684000" y="1819440"/>
            <a:chExt cx="6867720" cy="307080"/>
          </a:xfrm>
        </p:grpSpPr>
        <p:sp>
          <p:nvSpPr>
            <p:cNvPr id="412" name=""/>
            <p:cNvSpPr/>
            <p:nvPr/>
          </p:nvSpPr>
          <p:spPr>
            <a:xfrm>
              <a:off x="4613400" y="1819440"/>
              <a:ext cx="293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 Agg OPB : $17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 rot="10800000">
              <a:off x="684000" y="1819080"/>
              <a:ext cx="43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 Start with the CL Agg OPB (Other Loa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5800" y="2123280"/>
            <a:ext cx="8077320" cy="307800"/>
            <a:chOff x="685800" y="2123280"/>
            <a:chExt cx="8077320" cy="307800"/>
          </a:xfrm>
        </p:grpSpPr>
        <p:sp>
          <p:nvSpPr>
            <p:cNvPr id="415" name=""/>
            <p:cNvSpPr/>
            <p:nvPr/>
          </p:nvSpPr>
          <p:spPr>
            <a:xfrm>
              <a:off x="4572000" y="212400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1,744 Perkins Share of the CL’s 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 rot="10800000">
              <a:off x="685800" y="2122920"/>
              <a:ext cx="28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Perkins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84000" y="2428200"/>
            <a:ext cx="7794720" cy="307800"/>
            <a:chOff x="684000" y="2428200"/>
            <a:chExt cx="7794720" cy="307800"/>
          </a:xfrm>
        </p:grpSpPr>
        <p:sp>
          <p:nvSpPr>
            <p:cNvPr id="418" name=""/>
            <p:cNvSpPr/>
            <p:nvPr/>
          </p:nvSpPr>
          <p:spPr>
            <a:xfrm>
              <a:off x="4516560" y="24289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436 PLUS Share of the CL’s 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10800000">
              <a:off x="684000" y="242784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PLUS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74280" y="2733840"/>
            <a:ext cx="6869520" cy="316440"/>
            <a:chOff x="674280" y="2733840"/>
            <a:chExt cx="6869520" cy="316440"/>
          </a:xfrm>
        </p:grpSpPr>
        <p:sp>
          <p:nvSpPr>
            <p:cNvPr id="421" name=""/>
            <p:cNvSpPr/>
            <p:nvPr/>
          </p:nvSpPr>
          <p:spPr>
            <a:xfrm>
              <a:off x="4267080" y="274320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8,119 Calc’d 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10800000">
              <a:off x="674280" y="2733480"/>
              <a:ext cx="33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Calc’d 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4360" y="3037680"/>
            <a:ext cx="7075440" cy="307800"/>
            <a:chOff x="684360" y="3037680"/>
            <a:chExt cx="7075440" cy="307800"/>
          </a:xfrm>
        </p:grpSpPr>
        <p:sp>
          <p:nvSpPr>
            <p:cNvPr id="424" name=""/>
            <p:cNvSpPr/>
            <p:nvPr/>
          </p:nvSpPr>
          <p:spPr>
            <a:xfrm>
              <a:off x="4495680" y="3038400"/>
              <a:ext cx="32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5,667 Calc’d Un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10800000">
              <a:off x="684360" y="303732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Calc’d Un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981080" y="3929040"/>
            <a:ext cx="4876920" cy="2235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380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what is left over: Unalloc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78B-58B6-4AE3-8659-0F1EFB6057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 flipV="1" rot="10800000">
            <a:off x="608040" y="334764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over amount =  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alculated FFEL Consolidation, Unallocated  Aggregate OP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13400" y="1747800"/>
            <a:ext cx="29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 Agg OPB : $2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43320" y="235728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564 PLUS Share of the CL’s 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0" y="2052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2,256 Perkins Share of the CL’s 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76880" y="266220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10,506 Calc’d 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967120"/>
            <a:ext cx="32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7,333 Calc’d Un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334800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341 Calculated FFEL Consolidation, Unallocated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 rot="10800000">
            <a:off x="684000" y="1746720"/>
            <a:ext cx="43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Start with the CL Agg OPB (Other Lo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685800" y="2052360"/>
            <a:ext cx="28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Perkins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 rot="10800000">
            <a:off x="684000" y="235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PLUS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684000" y="2661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Calc’d 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10800000">
            <a:off x="684360" y="296676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Calc’d Un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8622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281720" y="833400"/>
            <a:ext cx="762120" cy="3808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009880" y="3948120"/>
            <a:ext cx="4890960" cy="2190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380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what is left over: Unalloc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793-CE18-42B9-A2F0-880E30F0E1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sue: Overpayment, so what’s next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ffects of the Overpayment: Student not eligible for additional ai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olution: Work with student to remedy  and report Overpayment to NSLDS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DB3-1F7F-4BB0-BF2C-A2E6ABF62D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89080" y="1752480"/>
            <a:ext cx="4890960" cy="2190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36600" y="296064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6600" y="314640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120" y="333216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880" y="3529080"/>
            <a:ext cx="4800600" cy="163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80" y="3114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080" y="3506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5920" y="3297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17480" y="1676520"/>
            <a:ext cx="8479440" cy="4259880"/>
            <a:chOff x="717480" y="1676520"/>
            <a:chExt cx="8479440" cy="425988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762120" y="4648320"/>
              <a:ext cx="69609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410080" y="1676520"/>
              <a:ext cx="3353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g OPB  displayed is ‘adjusted’ whe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derlying Perkins loans factored out of Unallocated Am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derling PLUS loans factored out of Unallocated Amount (for the PLUS Borr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5105520"/>
              <a:ext cx="609480" cy="2286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52000">
              <a:off x="8031240" y="3740040"/>
              <a:ext cx="761760" cy="213372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73320 h 2133720"/>
                <a:gd name="textAreaBottom" fmla="*/ 1546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7" name="" descr=""/>
            <p:cNvPicPr/>
            <p:nvPr/>
          </p:nvPicPr>
          <p:blipFill>
            <a:blip r:embed="rId3"/>
            <a:stretch/>
          </p:blipFill>
          <p:spPr>
            <a:xfrm>
              <a:off x="717480" y="4267080"/>
              <a:ext cx="121932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257040" y="1400040"/>
            <a:ext cx="657360" cy="2001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alculated Combined Aggregate OPB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FFD-7E18-4B67-8B27-101C4DDD4C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486400" cy="2706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676520" y="5119560"/>
            <a:ext cx="5781600" cy="324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371600" y="4510080"/>
            <a:ext cx="5830920" cy="64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304920" y="3817800"/>
            <a:ext cx="6553080" cy="615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5551560" y="4221000"/>
            <a:ext cx="129528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56120" y="4851360"/>
            <a:ext cx="129564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27920" y="5156280"/>
            <a:ext cx="129528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1916280"/>
            <a:ext cx="1120680" cy="1951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114800" y="685800"/>
          <a:ext cx="83808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685800"/>
                    <a:ext cx="83808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 flipV="1" rot="10800000">
            <a:off x="-1440" y="989640"/>
            <a:ext cx="335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Rolling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Subsidized Loa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304920" y="3513240"/>
            <a:ext cx="1218960" cy="247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609480" y="5037120"/>
            <a:ext cx="65736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E5F-F0E1-4942-AC8A-D5573572F31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122640" y="3276720"/>
            <a:ext cx="5686560" cy="28796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996160" y="4495680"/>
            <a:ext cx="533160" cy="663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040" y="45720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88120" y="4984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13560" y="5181480"/>
            <a:ext cx="815760" cy="152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7466040" y="3124080"/>
          <a:ext cx="838080" cy="7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6040" y="3124080"/>
                    <a:ext cx="8380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0" y="28954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determine Aggregate Loan Amou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ll up other aggregate categories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subsidized Loan typ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allocated Amounts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0A8-FCD2-4ADB-B698-3E25F24B7E6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Understanding how NSLDS breaks down the consolidation amounts for FAA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duces burden on FAA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D4D-49A0-49C7-9256-8F036B8858B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485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71600" y="1889280"/>
            <a:ext cx="632448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5: Ernie Enrollment withdraws from school early in the Spring semest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The school’s next roster isn’t scheduled until after spring graduation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should the FAA do about Ernie’s early withdra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1088800">
            <a:off x="5029200" y="4568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AEA-DAB9-4F2C-83A8-60F9D96E53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FAA not sure what to do about the student’s early withdraw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issue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mpliance with enrollment report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’s responsibilities and grace perio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NSLDS website for  enrollment reporting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599-EDA8-4C34-A661-DB1298F481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28600" y="2104920"/>
          <a:ext cx="652320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4920"/>
                    <a:ext cx="652320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156960" y="128736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33520" y="3552840"/>
          <a:ext cx="608796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52840"/>
                    <a:ext cx="60879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191120" y="4890960"/>
            <a:ext cx="243828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81680" y="2762280"/>
            <a:ext cx="83808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8760" y="2514600"/>
            <a:ext cx="17524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52640" y="2104920"/>
            <a:ext cx="6858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21E-9D65-4194-A628-FB40AB3409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457200" y="3348000"/>
          <a:ext cx="699120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48000"/>
                    <a:ext cx="69912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6960" y="134928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066680" y="2433600"/>
          <a:ext cx="56674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433600"/>
                    <a:ext cx="5667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2519280" y="5729400"/>
            <a:ext cx="2438640" cy="304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4662360"/>
            <a:ext cx="2590560" cy="276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5133960"/>
            <a:ext cx="2114280" cy="333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415-D506-4AD8-BE37-BE17F9EA51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57200" y="4552920"/>
          <a:ext cx="76024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2920"/>
                    <a:ext cx="76024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6960" y="128736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066680" y="2114640"/>
          <a:ext cx="5667480" cy="63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114640"/>
                    <a:ext cx="56674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3414600" y="5257800"/>
            <a:ext cx="838440" cy="380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80880" y="2952720"/>
          <a:ext cx="545796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952720"/>
                    <a:ext cx="54579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3200400" y="5772240"/>
          <a:ext cx="24480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772240"/>
                    <a:ext cx="2448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B36-E281-443A-8A37-FA5DD958C8A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cilitates timely conversion to re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imely notification of enrollment changes to Data Provid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0F4-3FCC-4FA5-A048-E4234DA35C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2343240"/>
          <a:ext cx="608796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43240"/>
                    <a:ext cx="6087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09680" y="3429000"/>
          <a:ext cx="4876920" cy="238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429000"/>
                    <a:ext cx="48769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238480" y="2790720"/>
            <a:ext cx="21384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362320"/>
            <a:ext cx="838440" cy="428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95840" y="5457960"/>
            <a:ext cx="1676160" cy="380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3C6-01DE-4986-B73A-EFDDFA1CC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idbi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ditional reference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CL: GEN-96-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his letter describes the implementation of the Student Status Confirmation Report function of the NSLD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FAP.ED.GOV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nder NSLDS References, NSLDS User Document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 Enrollment Reporting Guid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B93-B150-4C09-9FD8-6083DA7C04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35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143000" y="2057400"/>
            <a:ext cx="60199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6: Duey Decimal previously defaulted but has made satisfactory repayment arrangement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He’s again attending school but the defaulted loan remains on NSLD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should the FAA d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1225600">
            <a:off x="5029200" y="43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1FD-BAE9-4A5C-A17E-6A5B83450F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858000" y="2514600"/>
          <a:ext cx="76212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14600"/>
                    <a:ext cx="7621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ata matters and NSL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GA unsuccessful in reporting loan status update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issue: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NSLDS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A not sure what to do when reviewing student’s file for awar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FAA can accept student’s documentation and verify satisfactory arrangements with GA/Lend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D1A-70FB-4D6C-89B9-A118194841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ata matters and NSL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udent not negatively impacted by GA’s reporting issu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A able to proceed with award because documentation satisfies discrepancy (GEN-96-13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976-68A6-412C-841A-66286B03E1B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54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990720" y="2286000"/>
            <a:ext cx="64008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Scenario 7: While reviewing Paula Perfect’s freshmen award file, you verify if Paula has any history on NSLD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When you enter in Paula’s SSN, you get NSLDS information for Carla Conflic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What should the FAA do about the conflic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21055800">
            <a:off x="5029200" y="457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-22-3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E7A-B6D5-4687-9C85-8419857918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28600" y="1981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en you enter Paula Perfect’s SSN, you get NSLDS information for Carla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574120" cy="10285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8B2-A47C-4AED-B55C-249E00540B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Issue: SSN Conflict, so what’s next?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Effects of the Conflict: Student’s loan eligibility cannot be determined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Resolution: Report to and work with NSLDS to resolve the conflict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51E-30F2-4044-BB01-9BBFB9C76C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5800" y="1371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solution: Report conflict to NS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A obtains the Appropriate Document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or SSN Conflicts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ocial Security Card (or other SSA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ocumentation)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2.  Current Driver’s license/State ID (if it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ontains a Social Security Number)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3.  Unexpired U.S. Military ID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566-BE90-4414-B47D-DC572C7B958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NSLDS and Data Provider 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negotiates resolution with the appropriate data provid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ata Provider makes identifier correc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tch Proce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On-line Update (emergency cases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emails you when resolv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B6E-468A-4044-A0EA-03C63B138B5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14400" y="16002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ult of resolu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286000" y="2286000"/>
          <a:ext cx="4486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486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D09-63AF-4CF4-9A8D-51F3D75B78E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2438280"/>
          <a:ext cx="583884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83884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847960" y="3381480"/>
            <a:ext cx="50472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5840" y="365760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5840" y="396252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85840" y="421956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495680"/>
            <a:ext cx="1266840" cy="276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24480" y="3352680"/>
          <a:ext cx="28101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352680"/>
                    <a:ext cx="2810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858000" y="3962520"/>
          <a:ext cx="20764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962520"/>
                    <a:ext cx="20764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58000" y="4572000"/>
          <a:ext cx="12477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4572000"/>
                    <a:ext cx="1247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86360" y="4876920"/>
            <a:ext cx="699840" cy="3333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ED1-654A-4F5C-93D6-AF4E07277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83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371600" y="1981080"/>
            <a:ext cx="5791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enario 8: Derrick Duplicated left your college in 1992 and then Defaulted on his Perkins Lo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You subrogated the loan to FSA in 1999 and now the loan is duplicated on NSLDS:  one assigned to your college, the other to Debt Collection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156000">
            <a:off x="5029200" y="4712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40B-C371-4E02-B144-D8E3819F61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304920" y="2133720"/>
          <a:ext cx="827568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2756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304920" y="3809880"/>
          <a:ext cx="82944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809880"/>
                    <a:ext cx="8294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6A5-053C-4FA3-B01D-C48018E8994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Duplicated Perkins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Conflict: Student’s indebtedness is not accurately reflect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port the Duplicated Loan to NSLDS to facilitate data correction proces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162-03A2-4C35-8674-2BB6A0B1B65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 will ask you to provide (when NSLDS is the Data Provider of last resort)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uthorization to allow NSLDS to make the correction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ll of the loan identifier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he exact reason why the school (or its Servicer) can not make the  updat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ork with DCS if additional action is necessar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2BD-A6AD-42B4-8F95-841271F8B3C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380880" y="2590920"/>
          <a:ext cx="82882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2882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914400" y="16002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ult of resolu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428760" y="4219560"/>
            <a:ext cx="8258040" cy="14191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42C-EE73-4805-95D8-3A137ECE5D6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668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32004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800-999-82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785-838-21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b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ww.nsldsfap.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@pearso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C63-9E31-48FA-895C-E3127900BE22}" type="slidenum">
              <a:t>65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971800" y="2971800"/>
          <a:ext cx="291456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971800"/>
                    <a:ext cx="29145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58000" y="2971800"/>
          <a:ext cx="9144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971800"/>
                    <a:ext cx="9144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80880" y="3657600"/>
            <a:ext cx="837108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7B4-D773-4967-ABBF-ED7950B62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olution Result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ostscreened ISIR generated to alert other schools of Over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mment Cod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 fla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eb displays Icon to highlight over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C5F-3451-4B7E-9DDB-C49654A5CA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09680" y="3809880"/>
            <a:ext cx="5781960" cy="1857600"/>
            <a:chOff x="2209680" y="3809880"/>
            <a:chExt cx="5781960" cy="1857600"/>
          </a:xfrm>
        </p:grpSpPr>
        <p:graphicFrame>
          <p:nvGraphicFramePr>
            <p:cNvPr id="103" name=""/>
            <p:cNvGraphicFramePr/>
            <p:nvPr/>
          </p:nvGraphicFramePr>
          <p:xfrm>
            <a:off x="2209680" y="4114800"/>
            <a:ext cx="578196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4114800"/>
                      <a:ext cx="578196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2286000" y="3809880"/>
            <a:ext cx="1781280" cy="1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3809880"/>
                      <a:ext cx="17812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"/>
          <p:cNvGraphicFramePr/>
          <p:nvPr/>
        </p:nvGraphicFramePr>
        <p:xfrm>
          <a:off x="4114800" y="5638680"/>
          <a:ext cx="272412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638680"/>
                    <a:ext cx="2724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629400" y="3124080"/>
          <a:ext cx="914400" cy="65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124080"/>
                    <a:ext cx="9144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304920" y="3809880"/>
            <a:ext cx="1447560" cy="1862280"/>
            <a:chOff x="304920" y="3809880"/>
            <a:chExt cx="1447560" cy="1862280"/>
          </a:xfrm>
        </p:grpSpPr>
        <p:grpSp>
          <p:nvGrpSpPr>
            <p:cNvPr id="112" name=""/>
            <p:cNvGrpSpPr/>
            <p:nvPr/>
          </p:nvGrpSpPr>
          <p:grpSpPr>
            <a:xfrm>
              <a:off x="304920" y="3809880"/>
              <a:ext cx="1447560" cy="1841760"/>
              <a:chOff x="304920" y="3809880"/>
              <a:chExt cx="1447560" cy="1841760"/>
            </a:xfrm>
          </p:grpSpPr>
          <p:graphicFrame>
            <p:nvGraphicFramePr>
              <p:cNvPr id="113" name=""/>
              <p:cNvGraphicFramePr/>
              <p:nvPr/>
            </p:nvGraphicFramePr>
            <p:xfrm>
              <a:off x="304920" y="3809880"/>
              <a:ext cx="1447560" cy="1019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3809880"/>
                        <a:ext cx="144756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5105520"/>
                <a:ext cx="12949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304920" y="4343400"/>
              <a:ext cx="304560" cy="3049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520" y="5443560"/>
              <a:ext cx="533160" cy="2286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learing Overpaymen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b Warning Icon disappear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ostscreened ISIR generate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2FB-7240-49FA-B5BA-D69D9D20B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8:06Z</dcterms:modified>
  <cp:revision>495</cp:revision>
  <dc:subject/>
  <dc:title>PowerPoint Presentation</dc:title>
</cp:coreProperties>
</file>