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72.png" ContentType="image/png"/>
  <Override PartName="/ppt/media/image106.jpeg" ContentType="image/jpeg"/>
  <Override PartName="/ppt/media/image64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62.png" ContentType="image/png"/>
  <Override PartName="/ppt/media/image6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93.png" ContentType="image/png"/>
  <Override PartName="/ppt/media/image2.png" ContentType="image/png"/>
  <Override PartName="/ppt/media/image14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0.png" ContentType="image/png"/>
  <Override PartName="/ppt/media/image25.png" ContentType="image/png"/>
  <Override PartName="/ppt/media/image91.png" ContentType="image/png"/>
  <Override PartName="/ppt/media/image26.png" ContentType="image/png"/>
  <Override PartName="/ppt/media/image3.png" ContentType="image/png"/>
  <Override PartName="/ppt/media/image15.png" ContentType="image/png"/>
  <Override PartName="/ppt/media/image8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CB93-5B9F-460E-AD07-859A8799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EC6B-D6A8-4287-91E4-9639C3BE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8010-DC6C-47D4-874E-4BEC4F00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8979-066D-4E47-9699-51867C70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7C6-8EE5-4763-A400-50D7F74C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394-6893-451C-BED7-22895985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32DB-9BB1-4C72-A308-47B77EDB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76DE-9630-4D3D-A618-0FA42504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89AC-EDD8-457B-9493-8132EC2A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C44E-A0CA-4EC9-AA3D-D50AA21B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CD22-6C08-48DB-8F94-4E35D52E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6390-1D34-4B91-BC85-1BD45482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3152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41AF-6F7A-474C-834E-B46FF250F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697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7501" t="36672" r="4178" b="36672"/>
          <a:stretch/>
        </p:blipFill>
        <p:spPr>
          <a:xfrm>
            <a:off x="6477120" y="6248520"/>
            <a:ext cx="2666880" cy="609480"/>
          </a:xfrm>
          <a:prstGeom prst="rect">
            <a:avLst/>
          </a:prstGeom>
          <a:ln w="28440">
            <a:solidFill>
              <a:srgbClr val="006979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sldsfap.ed.gov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2.png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8.png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png"/><Relationship Id="rId11" Type="http://schemas.openxmlformats.org/officeDocument/2006/relationships/image" Target="../media/image70.png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80.png"/><Relationship Id="rId7" Type="http://schemas.openxmlformats.org/officeDocument/2006/relationships/image" Target="../media/image81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57.png"/><Relationship Id="rId4" Type="http://schemas.openxmlformats.org/officeDocument/2006/relationships/image" Target="../media/image87.png"/><Relationship Id="rId5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4.png"/><Relationship Id="rId7" Type="http://schemas.openxmlformats.org/officeDocument/2006/relationships/image" Target="../media/image57.png"/><Relationship Id="rId8" Type="http://schemas.openxmlformats.org/officeDocument/2006/relationships/image" Target="../media/image87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4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6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png"/><Relationship Id="rId9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png"/><Relationship Id="rId5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png"/><Relationship Id="rId3" Type="http://schemas.openxmlformats.org/officeDocument/2006/relationships/image" Target="../media/image106.jpeg"/><Relationship Id="rId4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9907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ession 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1337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979"/>
                </a:solidFill>
                <a:latin typeface="Times New Roman"/>
              </a:rPr>
              <a:t>NSLDS Data: What does it mean and how do I use i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11480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Pam Eliadis- FSA/NS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on Bennett- FSA/NS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-285480" y="-1136520"/>
            <a:ext cx="10391040" cy="9245880"/>
            <a:chOff x="-285480" y="-1136520"/>
            <a:chExt cx="10391040" cy="9245880"/>
          </a:xfrm>
        </p:grpSpPr>
        <p:sp>
          <p:nvSpPr>
            <p:cNvPr id="121" name=""/>
            <p:cNvSpPr/>
            <p:nvPr/>
          </p:nvSpPr>
          <p:spPr>
            <a:xfrm flipH="1" flipV="1" rot="9362400">
              <a:off x="2228400" y="-49680"/>
              <a:ext cx="6700680" cy="6348240"/>
            </a:xfrm>
            <a:custGeom>
              <a:avLst/>
              <a:gdLst/>
              <a:ahLst/>
              <a:rect l="l" t="t" r="r" b="b"/>
              <a:pathLst>
                <a:path w="4221" h="3999">
                  <a:moveTo>
                    <a:pt x="0" y="113"/>
                  </a:moveTo>
                  <a:lnTo>
                    <a:pt x="276" y="0"/>
                  </a:lnTo>
                  <a:lnTo>
                    <a:pt x="804" y="133"/>
                  </a:lnTo>
                  <a:lnTo>
                    <a:pt x="2125" y="463"/>
                  </a:lnTo>
                  <a:lnTo>
                    <a:pt x="2402" y="310"/>
                  </a:lnTo>
                  <a:lnTo>
                    <a:pt x="3744" y="715"/>
                  </a:lnTo>
                  <a:lnTo>
                    <a:pt x="3844" y="1080"/>
                  </a:lnTo>
                  <a:lnTo>
                    <a:pt x="4221" y="1356"/>
                  </a:lnTo>
                  <a:lnTo>
                    <a:pt x="4221" y="1662"/>
                  </a:lnTo>
                  <a:lnTo>
                    <a:pt x="3296" y="3950"/>
                  </a:lnTo>
                  <a:lnTo>
                    <a:pt x="3090" y="3999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 rot="9362400">
              <a:off x="834120" y="680760"/>
              <a:ext cx="6837480" cy="6246720"/>
            </a:xfrm>
            <a:custGeom>
              <a:avLst/>
              <a:gdLst/>
              <a:ahLst/>
              <a:rect l="l" t="t" r="r" b="b"/>
              <a:pathLst>
                <a:path w="4307" h="3935">
                  <a:moveTo>
                    <a:pt x="311" y="59"/>
                  </a:moveTo>
                  <a:lnTo>
                    <a:pt x="774" y="0"/>
                  </a:lnTo>
                  <a:lnTo>
                    <a:pt x="4070" y="1001"/>
                  </a:lnTo>
                  <a:lnTo>
                    <a:pt x="4276" y="1223"/>
                  </a:lnTo>
                  <a:lnTo>
                    <a:pt x="4307" y="1681"/>
                  </a:lnTo>
                  <a:lnTo>
                    <a:pt x="4100" y="3915"/>
                  </a:lnTo>
                  <a:lnTo>
                    <a:pt x="3889" y="3935"/>
                  </a:lnTo>
                  <a:lnTo>
                    <a:pt x="1432" y="3269"/>
                  </a:lnTo>
                  <a:lnTo>
                    <a:pt x="427" y="3032"/>
                  </a:lnTo>
                  <a:lnTo>
                    <a:pt x="110" y="2860"/>
                  </a:lnTo>
                  <a:lnTo>
                    <a:pt x="0" y="2579"/>
                  </a:lnTo>
                  <a:lnTo>
                    <a:pt x="65" y="1301"/>
                  </a:lnTo>
                  <a:lnTo>
                    <a:pt x="75" y="438"/>
                  </a:lnTo>
                  <a:lnTo>
                    <a:pt x="311" y="59"/>
                  </a:lnTo>
                  <a:lnTo>
                    <a:pt x="311" y="59"/>
                  </a:lnTo>
                  <a:close/>
                </a:path>
              </a:pathLst>
            </a:custGeom>
            <a:solidFill>
              <a:srgbClr val="fce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 rot="9362400">
              <a:off x="7415640" y="1358640"/>
              <a:ext cx="1285920" cy="3632760"/>
            </a:xfrm>
            <a:custGeom>
              <a:avLst/>
              <a:gdLst/>
              <a:ahLst/>
              <a:rect l="l" t="t" r="r" b="b"/>
              <a:pathLst>
                <a:path w="810" h="2288">
                  <a:moveTo>
                    <a:pt x="237" y="0"/>
                  </a:moveTo>
                  <a:lnTo>
                    <a:pt x="810" y="246"/>
                  </a:lnTo>
                  <a:lnTo>
                    <a:pt x="51" y="2288"/>
                  </a:lnTo>
                  <a:lnTo>
                    <a:pt x="0" y="2258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 rot="9362400">
              <a:off x="4663080" y="-189720"/>
              <a:ext cx="3533760" cy="1957320"/>
            </a:xfrm>
            <a:custGeom>
              <a:avLst/>
              <a:gdLst/>
              <a:ahLst/>
              <a:rect l="l" t="t" r="r" b="b"/>
              <a:pathLst>
                <a:path w="2226" h="1233">
                  <a:moveTo>
                    <a:pt x="40" y="286"/>
                  </a:moveTo>
                  <a:lnTo>
                    <a:pt x="56" y="276"/>
                  </a:lnTo>
                  <a:lnTo>
                    <a:pt x="71" y="266"/>
                  </a:lnTo>
                  <a:lnTo>
                    <a:pt x="86" y="252"/>
                  </a:lnTo>
                  <a:lnTo>
                    <a:pt x="101" y="242"/>
                  </a:lnTo>
                  <a:lnTo>
                    <a:pt x="116" y="222"/>
                  </a:lnTo>
                  <a:lnTo>
                    <a:pt x="131" y="207"/>
                  </a:lnTo>
                  <a:lnTo>
                    <a:pt x="146" y="197"/>
                  </a:lnTo>
                  <a:lnTo>
                    <a:pt x="161" y="183"/>
                  </a:lnTo>
                  <a:lnTo>
                    <a:pt x="171" y="173"/>
                  </a:lnTo>
                  <a:lnTo>
                    <a:pt x="186" y="163"/>
                  </a:lnTo>
                  <a:lnTo>
                    <a:pt x="201" y="153"/>
                  </a:lnTo>
                  <a:lnTo>
                    <a:pt x="216" y="143"/>
                  </a:lnTo>
                  <a:lnTo>
                    <a:pt x="226" y="138"/>
                  </a:lnTo>
                  <a:lnTo>
                    <a:pt x="241" y="133"/>
                  </a:lnTo>
                  <a:lnTo>
                    <a:pt x="257" y="128"/>
                  </a:lnTo>
                  <a:lnTo>
                    <a:pt x="272" y="123"/>
                  </a:lnTo>
                  <a:lnTo>
                    <a:pt x="282" y="119"/>
                  </a:lnTo>
                  <a:lnTo>
                    <a:pt x="297" y="119"/>
                  </a:lnTo>
                  <a:lnTo>
                    <a:pt x="312" y="119"/>
                  </a:lnTo>
                  <a:lnTo>
                    <a:pt x="327" y="119"/>
                  </a:lnTo>
                  <a:lnTo>
                    <a:pt x="337" y="119"/>
                  </a:lnTo>
                  <a:lnTo>
                    <a:pt x="352" y="119"/>
                  </a:lnTo>
                  <a:lnTo>
                    <a:pt x="367" y="119"/>
                  </a:lnTo>
                  <a:lnTo>
                    <a:pt x="382" y="123"/>
                  </a:lnTo>
                  <a:lnTo>
                    <a:pt x="397" y="123"/>
                  </a:lnTo>
                  <a:lnTo>
                    <a:pt x="412" y="128"/>
                  </a:lnTo>
                  <a:lnTo>
                    <a:pt x="422" y="133"/>
                  </a:lnTo>
                  <a:lnTo>
                    <a:pt x="437" y="138"/>
                  </a:lnTo>
                  <a:lnTo>
                    <a:pt x="453" y="143"/>
                  </a:lnTo>
                  <a:lnTo>
                    <a:pt x="468" y="143"/>
                  </a:lnTo>
                  <a:lnTo>
                    <a:pt x="478" y="148"/>
                  </a:lnTo>
                  <a:lnTo>
                    <a:pt x="493" y="158"/>
                  </a:lnTo>
                  <a:lnTo>
                    <a:pt x="508" y="163"/>
                  </a:lnTo>
                  <a:lnTo>
                    <a:pt x="523" y="168"/>
                  </a:lnTo>
                  <a:lnTo>
                    <a:pt x="538" y="173"/>
                  </a:lnTo>
                  <a:lnTo>
                    <a:pt x="553" y="178"/>
                  </a:lnTo>
                  <a:lnTo>
                    <a:pt x="563" y="183"/>
                  </a:lnTo>
                  <a:lnTo>
                    <a:pt x="583" y="188"/>
                  </a:lnTo>
                  <a:lnTo>
                    <a:pt x="593" y="193"/>
                  </a:lnTo>
                  <a:lnTo>
                    <a:pt x="613" y="197"/>
                  </a:lnTo>
                  <a:lnTo>
                    <a:pt x="623" y="202"/>
                  </a:lnTo>
                  <a:lnTo>
                    <a:pt x="633" y="207"/>
                  </a:lnTo>
                  <a:lnTo>
                    <a:pt x="649" y="212"/>
                  </a:lnTo>
                  <a:lnTo>
                    <a:pt x="664" y="217"/>
                  </a:lnTo>
                  <a:lnTo>
                    <a:pt x="674" y="222"/>
                  </a:lnTo>
                  <a:lnTo>
                    <a:pt x="684" y="227"/>
                  </a:lnTo>
                  <a:lnTo>
                    <a:pt x="699" y="227"/>
                  </a:lnTo>
                  <a:lnTo>
                    <a:pt x="714" y="232"/>
                  </a:lnTo>
                  <a:lnTo>
                    <a:pt x="724" y="237"/>
                  </a:lnTo>
                  <a:lnTo>
                    <a:pt x="734" y="242"/>
                  </a:lnTo>
                  <a:lnTo>
                    <a:pt x="749" y="247"/>
                  </a:lnTo>
                  <a:lnTo>
                    <a:pt x="764" y="252"/>
                  </a:lnTo>
                  <a:lnTo>
                    <a:pt x="774" y="257"/>
                  </a:lnTo>
                  <a:lnTo>
                    <a:pt x="789" y="262"/>
                  </a:lnTo>
                  <a:lnTo>
                    <a:pt x="799" y="266"/>
                  </a:lnTo>
                  <a:lnTo>
                    <a:pt x="814" y="271"/>
                  </a:lnTo>
                  <a:lnTo>
                    <a:pt x="829" y="276"/>
                  </a:lnTo>
                  <a:lnTo>
                    <a:pt x="839" y="281"/>
                  </a:lnTo>
                  <a:lnTo>
                    <a:pt x="855" y="286"/>
                  </a:lnTo>
                  <a:lnTo>
                    <a:pt x="865" y="291"/>
                  </a:lnTo>
                  <a:lnTo>
                    <a:pt x="880" y="296"/>
                  </a:lnTo>
                  <a:lnTo>
                    <a:pt x="890" y="301"/>
                  </a:lnTo>
                  <a:lnTo>
                    <a:pt x="905" y="306"/>
                  </a:lnTo>
                  <a:lnTo>
                    <a:pt x="920" y="311"/>
                  </a:lnTo>
                  <a:lnTo>
                    <a:pt x="930" y="311"/>
                  </a:lnTo>
                  <a:lnTo>
                    <a:pt x="945" y="321"/>
                  </a:lnTo>
                  <a:lnTo>
                    <a:pt x="955" y="321"/>
                  </a:lnTo>
                  <a:lnTo>
                    <a:pt x="970" y="326"/>
                  </a:lnTo>
                  <a:lnTo>
                    <a:pt x="985" y="331"/>
                  </a:lnTo>
                  <a:lnTo>
                    <a:pt x="1000" y="336"/>
                  </a:lnTo>
                  <a:lnTo>
                    <a:pt x="1010" y="340"/>
                  </a:lnTo>
                  <a:lnTo>
                    <a:pt x="1025" y="345"/>
                  </a:lnTo>
                  <a:lnTo>
                    <a:pt x="1035" y="350"/>
                  </a:lnTo>
                  <a:lnTo>
                    <a:pt x="1051" y="355"/>
                  </a:lnTo>
                  <a:lnTo>
                    <a:pt x="1066" y="360"/>
                  </a:lnTo>
                  <a:lnTo>
                    <a:pt x="1081" y="365"/>
                  </a:lnTo>
                  <a:lnTo>
                    <a:pt x="1091" y="370"/>
                  </a:lnTo>
                  <a:lnTo>
                    <a:pt x="1106" y="375"/>
                  </a:lnTo>
                  <a:lnTo>
                    <a:pt x="1116" y="375"/>
                  </a:lnTo>
                  <a:lnTo>
                    <a:pt x="1131" y="385"/>
                  </a:lnTo>
                  <a:lnTo>
                    <a:pt x="1146" y="385"/>
                  </a:lnTo>
                  <a:lnTo>
                    <a:pt x="1156" y="390"/>
                  </a:lnTo>
                  <a:lnTo>
                    <a:pt x="1171" y="395"/>
                  </a:lnTo>
                  <a:lnTo>
                    <a:pt x="1186" y="395"/>
                  </a:lnTo>
                  <a:lnTo>
                    <a:pt x="1196" y="400"/>
                  </a:lnTo>
                  <a:lnTo>
                    <a:pt x="1211" y="405"/>
                  </a:lnTo>
                  <a:lnTo>
                    <a:pt x="1221" y="409"/>
                  </a:lnTo>
                  <a:lnTo>
                    <a:pt x="1236" y="414"/>
                  </a:lnTo>
                  <a:lnTo>
                    <a:pt x="1252" y="414"/>
                  </a:lnTo>
                  <a:lnTo>
                    <a:pt x="1267" y="419"/>
                  </a:lnTo>
                  <a:lnTo>
                    <a:pt x="1277" y="424"/>
                  </a:lnTo>
                  <a:lnTo>
                    <a:pt x="1292" y="424"/>
                  </a:lnTo>
                  <a:lnTo>
                    <a:pt x="1302" y="429"/>
                  </a:lnTo>
                  <a:lnTo>
                    <a:pt x="1317" y="434"/>
                  </a:lnTo>
                  <a:lnTo>
                    <a:pt x="1332" y="434"/>
                  </a:lnTo>
                  <a:lnTo>
                    <a:pt x="1347" y="439"/>
                  </a:lnTo>
                  <a:lnTo>
                    <a:pt x="1357" y="444"/>
                  </a:lnTo>
                  <a:lnTo>
                    <a:pt x="1372" y="449"/>
                  </a:lnTo>
                  <a:lnTo>
                    <a:pt x="1382" y="449"/>
                  </a:lnTo>
                  <a:lnTo>
                    <a:pt x="1397" y="454"/>
                  </a:lnTo>
                  <a:lnTo>
                    <a:pt x="1407" y="454"/>
                  </a:lnTo>
                  <a:lnTo>
                    <a:pt x="1422" y="459"/>
                  </a:lnTo>
                  <a:lnTo>
                    <a:pt x="1438" y="459"/>
                  </a:lnTo>
                  <a:lnTo>
                    <a:pt x="1453" y="464"/>
                  </a:lnTo>
                  <a:lnTo>
                    <a:pt x="1463" y="464"/>
                  </a:lnTo>
                  <a:lnTo>
                    <a:pt x="1473" y="469"/>
                  </a:lnTo>
                  <a:lnTo>
                    <a:pt x="1483" y="469"/>
                  </a:lnTo>
                  <a:lnTo>
                    <a:pt x="1498" y="474"/>
                  </a:lnTo>
                  <a:lnTo>
                    <a:pt x="1513" y="479"/>
                  </a:lnTo>
                  <a:lnTo>
                    <a:pt x="1533" y="483"/>
                  </a:lnTo>
                  <a:lnTo>
                    <a:pt x="1543" y="488"/>
                  </a:lnTo>
                  <a:lnTo>
                    <a:pt x="1558" y="498"/>
                  </a:lnTo>
                  <a:lnTo>
                    <a:pt x="1568" y="508"/>
                  </a:lnTo>
                  <a:lnTo>
                    <a:pt x="1578" y="518"/>
                  </a:lnTo>
                  <a:lnTo>
                    <a:pt x="1583" y="523"/>
                  </a:lnTo>
                  <a:lnTo>
                    <a:pt x="1593" y="533"/>
                  </a:lnTo>
                  <a:lnTo>
                    <a:pt x="1598" y="548"/>
                  </a:lnTo>
                  <a:lnTo>
                    <a:pt x="1603" y="557"/>
                  </a:lnTo>
                  <a:lnTo>
                    <a:pt x="1603" y="567"/>
                  </a:lnTo>
                  <a:lnTo>
                    <a:pt x="1608" y="577"/>
                  </a:lnTo>
                  <a:lnTo>
                    <a:pt x="1608" y="587"/>
                  </a:lnTo>
                  <a:lnTo>
                    <a:pt x="1613" y="602"/>
                  </a:lnTo>
                  <a:lnTo>
                    <a:pt x="1613" y="612"/>
                  </a:lnTo>
                  <a:lnTo>
                    <a:pt x="1613" y="622"/>
                  </a:lnTo>
                  <a:lnTo>
                    <a:pt x="1613" y="636"/>
                  </a:lnTo>
                  <a:lnTo>
                    <a:pt x="1613" y="651"/>
                  </a:lnTo>
                  <a:lnTo>
                    <a:pt x="1613" y="661"/>
                  </a:lnTo>
                  <a:lnTo>
                    <a:pt x="1613" y="676"/>
                  </a:lnTo>
                  <a:lnTo>
                    <a:pt x="1613" y="686"/>
                  </a:lnTo>
                  <a:lnTo>
                    <a:pt x="1618" y="700"/>
                  </a:lnTo>
                  <a:lnTo>
                    <a:pt x="1618" y="715"/>
                  </a:lnTo>
                  <a:lnTo>
                    <a:pt x="1618" y="730"/>
                  </a:lnTo>
                  <a:lnTo>
                    <a:pt x="1623" y="745"/>
                  </a:lnTo>
                  <a:lnTo>
                    <a:pt x="1628" y="760"/>
                  </a:lnTo>
                  <a:lnTo>
                    <a:pt x="1633" y="769"/>
                  </a:lnTo>
                  <a:lnTo>
                    <a:pt x="1639" y="789"/>
                  </a:lnTo>
                  <a:lnTo>
                    <a:pt x="1649" y="799"/>
                  </a:lnTo>
                  <a:lnTo>
                    <a:pt x="1659" y="814"/>
                  </a:lnTo>
                  <a:lnTo>
                    <a:pt x="1669" y="829"/>
                  </a:lnTo>
                  <a:lnTo>
                    <a:pt x="1679" y="843"/>
                  </a:lnTo>
                  <a:lnTo>
                    <a:pt x="1689" y="853"/>
                  </a:lnTo>
                  <a:lnTo>
                    <a:pt x="1704" y="868"/>
                  </a:lnTo>
                  <a:lnTo>
                    <a:pt x="1719" y="878"/>
                  </a:lnTo>
                  <a:lnTo>
                    <a:pt x="1734" y="888"/>
                  </a:lnTo>
                  <a:lnTo>
                    <a:pt x="1749" y="898"/>
                  </a:lnTo>
                  <a:lnTo>
                    <a:pt x="1764" y="913"/>
                  </a:lnTo>
                  <a:lnTo>
                    <a:pt x="1779" y="922"/>
                  </a:lnTo>
                  <a:lnTo>
                    <a:pt x="1799" y="932"/>
                  </a:lnTo>
                  <a:lnTo>
                    <a:pt x="1814" y="942"/>
                  </a:lnTo>
                  <a:lnTo>
                    <a:pt x="1829" y="952"/>
                  </a:lnTo>
                  <a:lnTo>
                    <a:pt x="1850" y="962"/>
                  </a:lnTo>
                  <a:lnTo>
                    <a:pt x="1865" y="972"/>
                  </a:lnTo>
                  <a:lnTo>
                    <a:pt x="1885" y="982"/>
                  </a:lnTo>
                  <a:lnTo>
                    <a:pt x="1900" y="991"/>
                  </a:lnTo>
                  <a:lnTo>
                    <a:pt x="1915" y="1001"/>
                  </a:lnTo>
                  <a:lnTo>
                    <a:pt x="1935" y="1011"/>
                  </a:lnTo>
                  <a:lnTo>
                    <a:pt x="1950" y="1021"/>
                  </a:lnTo>
                  <a:lnTo>
                    <a:pt x="1965" y="1031"/>
                  </a:lnTo>
                  <a:lnTo>
                    <a:pt x="1980" y="1041"/>
                  </a:lnTo>
                  <a:lnTo>
                    <a:pt x="2000" y="1051"/>
                  </a:lnTo>
                  <a:lnTo>
                    <a:pt x="2015" y="1065"/>
                  </a:lnTo>
                  <a:lnTo>
                    <a:pt x="2025" y="1075"/>
                  </a:lnTo>
                  <a:lnTo>
                    <a:pt x="2041" y="1085"/>
                  </a:lnTo>
                  <a:lnTo>
                    <a:pt x="2051" y="1100"/>
                  </a:lnTo>
                  <a:lnTo>
                    <a:pt x="2066" y="1115"/>
                  </a:lnTo>
                  <a:lnTo>
                    <a:pt x="2076" y="1125"/>
                  </a:lnTo>
                  <a:lnTo>
                    <a:pt x="2081" y="1139"/>
                  </a:lnTo>
                  <a:lnTo>
                    <a:pt x="2091" y="1159"/>
                  </a:lnTo>
                  <a:lnTo>
                    <a:pt x="2096" y="1174"/>
                  </a:lnTo>
                  <a:lnTo>
                    <a:pt x="2106" y="1194"/>
                  </a:lnTo>
                  <a:lnTo>
                    <a:pt x="2106" y="1203"/>
                  </a:lnTo>
                  <a:lnTo>
                    <a:pt x="2116" y="1213"/>
                  </a:lnTo>
                  <a:lnTo>
                    <a:pt x="2121" y="1218"/>
                  </a:lnTo>
                  <a:lnTo>
                    <a:pt x="2131" y="1228"/>
                  </a:lnTo>
                  <a:lnTo>
                    <a:pt x="2136" y="1228"/>
                  </a:lnTo>
                  <a:lnTo>
                    <a:pt x="2151" y="1233"/>
                  </a:lnTo>
                  <a:lnTo>
                    <a:pt x="2161" y="1233"/>
                  </a:lnTo>
                  <a:lnTo>
                    <a:pt x="2171" y="1233"/>
                  </a:lnTo>
                  <a:lnTo>
                    <a:pt x="2181" y="1233"/>
                  </a:lnTo>
                  <a:lnTo>
                    <a:pt x="2191" y="1228"/>
                  </a:lnTo>
                  <a:lnTo>
                    <a:pt x="2201" y="1218"/>
                  </a:lnTo>
                  <a:lnTo>
                    <a:pt x="2211" y="1213"/>
                  </a:lnTo>
                  <a:lnTo>
                    <a:pt x="2216" y="1203"/>
                  </a:lnTo>
                  <a:lnTo>
                    <a:pt x="2221" y="1199"/>
                  </a:lnTo>
                  <a:lnTo>
                    <a:pt x="2226" y="1184"/>
                  </a:lnTo>
                  <a:lnTo>
                    <a:pt x="2226" y="1174"/>
                  </a:lnTo>
                  <a:lnTo>
                    <a:pt x="2226" y="1154"/>
                  </a:lnTo>
                  <a:lnTo>
                    <a:pt x="2226" y="1139"/>
                  </a:lnTo>
                  <a:lnTo>
                    <a:pt x="2221" y="1120"/>
                  </a:lnTo>
                  <a:lnTo>
                    <a:pt x="2221" y="1105"/>
                  </a:lnTo>
                  <a:lnTo>
                    <a:pt x="2216" y="1090"/>
                  </a:lnTo>
                  <a:lnTo>
                    <a:pt x="2206" y="1075"/>
                  </a:lnTo>
                  <a:lnTo>
                    <a:pt x="2201" y="1065"/>
                  </a:lnTo>
                  <a:lnTo>
                    <a:pt x="2196" y="1051"/>
                  </a:lnTo>
                  <a:lnTo>
                    <a:pt x="2186" y="1036"/>
                  </a:lnTo>
                  <a:lnTo>
                    <a:pt x="2176" y="1026"/>
                  </a:lnTo>
                  <a:lnTo>
                    <a:pt x="2171" y="1016"/>
                  </a:lnTo>
                  <a:lnTo>
                    <a:pt x="2161" y="1006"/>
                  </a:lnTo>
                  <a:lnTo>
                    <a:pt x="2151" y="991"/>
                  </a:lnTo>
                  <a:lnTo>
                    <a:pt x="2136" y="982"/>
                  </a:lnTo>
                  <a:lnTo>
                    <a:pt x="2126" y="972"/>
                  </a:lnTo>
                  <a:lnTo>
                    <a:pt x="2116" y="962"/>
                  </a:lnTo>
                  <a:lnTo>
                    <a:pt x="2101" y="952"/>
                  </a:lnTo>
                  <a:lnTo>
                    <a:pt x="2086" y="942"/>
                  </a:lnTo>
                  <a:lnTo>
                    <a:pt x="2076" y="937"/>
                  </a:lnTo>
                  <a:lnTo>
                    <a:pt x="2061" y="927"/>
                  </a:lnTo>
                  <a:lnTo>
                    <a:pt x="2046" y="917"/>
                  </a:lnTo>
                  <a:lnTo>
                    <a:pt x="2030" y="913"/>
                  </a:lnTo>
                  <a:lnTo>
                    <a:pt x="2015" y="903"/>
                  </a:lnTo>
                  <a:lnTo>
                    <a:pt x="2005" y="898"/>
                  </a:lnTo>
                  <a:lnTo>
                    <a:pt x="1985" y="888"/>
                  </a:lnTo>
                  <a:lnTo>
                    <a:pt x="1970" y="878"/>
                  </a:lnTo>
                  <a:lnTo>
                    <a:pt x="1955" y="873"/>
                  </a:lnTo>
                  <a:lnTo>
                    <a:pt x="1945" y="863"/>
                  </a:lnTo>
                  <a:lnTo>
                    <a:pt x="1925" y="858"/>
                  </a:lnTo>
                  <a:lnTo>
                    <a:pt x="1915" y="848"/>
                  </a:lnTo>
                  <a:lnTo>
                    <a:pt x="1900" y="843"/>
                  </a:lnTo>
                  <a:lnTo>
                    <a:pt x="1890" y="839"/>
                  </a:lnTo>
                  <a:lnTo>
                    <a:pt x="1875" y="829"/>
                  </a:lnTo>
                  <a:lnTo>
                    <a:pt x="1865" y="824"/>
                  </a:lnTo>
                  <a:lnTo>
                    <a:pt x="1855" y="814"/>
                  </a:lnTo>
                  <a:lnTo>
                    <a:pt x="1845" y="809"/>
                  </a:lnTo>
                  <a:lnTo>
                    <a:pt x="1824" y="794"/>
                  </a:lnTo>
                  <a:lnTo>
                    <a:pt x="1814" y="779"/>
                  </a:lnTo>
                  <a:lnTo>
                    <a:pt x="1804" y="765"/>
                  </a:lnTo>
                  <a:lnTo>
                    <a:pt x="1794" y="745"/>
                  </a:lnTo>
                  <a:lnTo>
                    <a:pt x="1784" y="730"/>
                  </a:lnTo>
                  <a:lnTo>
                    <a:pt x="1784" y="715"/>
                  </a:lnTo>
                  <a:lnTo>
                    <a:pt x="1774" y="696"/>
                  </a:lnTo>
                  <a:lnTo>
                    <a:pt x="1774" y="681"/>
                  </a:lnTo>
                  <a:lnTo>
                    <a:pt x="1774" y="666"/>
                  </a:lnTo>
                  <a:lnTo>
                    <a:pt x="1774" y="646"/>
                  </a:lnTo>
                  <a:lnTo>
                    <a:pt x="1774" y="631"/>
                  </a:lnTo>
                  <a:lnTo>
                    <a:pt x="1774" y="612"/>
                  </a:lnTo>
                  <a:lnTo>
                    <a:pt x="1774" y="597"/>
                  </a:lnTo>
                  <a:lnTo>
                    <a:pt x="1774" y="582"/>
                  </a:lnTo>
                  <a:lnTo>
                    <a:pt x="1774" y="562"/>
                  </a:lnTo>
                  <a:lnTo>
                    <a:pt x="1774" y="548"/>
                  </a:lnTo>
                  <a:lnTo>
                    <a:pt x="1774" y="528"/>
                  </a:lnTo>
                  <a:lnTo>
                    <a:pt x="1774" y="513"/>
                  </a:lnTo>
                  <a:lnTo>
                    <a:pt x="1769" y="498"/>
                  </a:lnTo>
                  <a:lnTo>
                    <a:pt x="1769" y="479"/>
                  </a:lnTo>
                  <a:lnTo>
                    <a:pt x="1764" y="464"/>
                  </a:lnTo>
                  <a:lnTo>
                    <a:pt x="1754" y="449"/>
                  </a:lnTo>
                  <a:lnTo>
                    <a:pt x="1744" y="434"/>
                  </a:lnTo>
                  <a:lnTo>
                    <a:pt x="1734" y="419"/>
                  </a:lnTo>
                  <a:lnTo>
                    <a:pt x="1719" y="405"/>
                  </a:lnTo>
                  <a:lnTo>
                    <a:pt x="1704" y="395"/>
                  </a:lnTo>
                  <a:lnTo>
                    <a:pt x="1694" y="390"/>
                  </a:lnTo>
                  <a:lnTo>
                    <a:pt x="1684" y="385"/>
                  </a:lnTo>
                  <a:lnTo>
                    <a:pt x="1674" y="375"/>
                  </a:lnTo>
                  <a:lnTo>
                    <a:pt x="1659" y="370"/>
                  </a:lnTo>
                  <a:lnTo>
                    <a:pt x="1649" y="365"/>
                  </a:lnTo>
                  <a:lnTo>
                    <a:pt x="1639" y="360"/>
                  </a:lnTo>
                  <a:lnTo>
                    <a:pt x="1623" y="355"/>
                  </a:lnTo>
                  <a:lnTo>
                    <a:pt x="1608" y="355"/>
                  </a:lnTo>
                  <a:lnTo>
                    <a:pt x="1588" y="345"/>
                  </a:lnTo>
                  <a:lnTo>
                    <a:pt x="1573" y="340"/>
                  </a:lnTo>
                  <a:lnTo>
                    <a:pt x="1558" y="336"/>
                  </a:lnTo>
                  <a:lnTo>
                    <a:pt x="1538" y="331"/>
                  </a:lnTo>
                  <a:lnTo>
                    <a:pt x="1523" y="326"/>
                  </a:lnTo>
                  <a:lnTo>
                    <a:pt x="1508" y="321"/>
                  </a:lnTo>
                  <a:lnTo>
                    <a:pt x="1488" y="316"/>
                  </a:lnTo>
                  <a:lnTo>
                    <a:pt x="1473" y="311"/>
                  </a:lnTo>
                  <a:lnTo>
                    <a:pt x="1458" y="306"/>
                  </a:lnTo>
                  <a:lnTo>
                    <a:pt x="1438" y="301"/>
                  </a:lnTo>
                  <a:lnTo>
                    <a:pt x="1422" y="296"/>
                  </a:lnTo>
                  <a:lnTo>
                    <a:pt x="1407" y="291"/>
                  </a:lnTo>
                  <a:lnTo>
                    <a:pt x="1387" y="286"/>
                  </a:lnTo>
                  <a:lnTo>
                    <a:pt x="1372" y="281"/>
                  </a:lnTo>
                  <a:lnTo>
                    <a:pt x="1357" y="276"/>
                  </a:lnTo>
                  <a:lnTo>
                    <a:pt x="1337" y="271"/>
                  </a:lnTo>
                  <a:lnTo>
                    <a:pt x="1322" y="266"/>
                  </a:lnTo>
                  <a:lnTo>
                    <a:pt x="1307" y="262"/>
                  </a:lnTo>
                  <a:lnTo>
                    <a:pt x="1287" y="257"/>
                  </a:lnTo>
                  <a:lnTo>
                    <a:pt x="1272" y="252"/>
                  </a:lnTo>
                  <a:lnTo>
                    <a:pt x="1257" y="247"/>
                  </a:lnTo>
                  <a:lnTo>
                    <a:pt x="1236" y="242"/>
                  </a:lnTo>
                  <a:lnTo>
                    <a:pt x="1221" y="237"/>
                  </a:lnTo>
                  <a:lnTo>
                    <a:pt x="1206" y="232"/>
                  </a:lnTo>
                  <a:lnTo>
                    <a:pt x="1186" y="227"/>
                  </a:lnTo>
                  <a:lnTo>
                    <a:pt x="1171" y="222"/>
                  </a:lnTo>
                  <a:lnTo>
                    <a:pt x="1156" y="217"/>
                  </a:lnTo>
                  <a:lnTo>
                    <a:pt x="1136" y="212"/>
                  </a:lnTo>
                  <a:lnTo>
                    <a:pt x="1121" y="207"/>
                  </a:lnTo>
                  <a:lnTo>
                    <a:pt x="1106" y="207"/>
                  </a:lnTo>
                  <a:lnTo>
                    <a:pt x="1086" y="197"/>
                  </a:lnTo>
                  <a:lnTo>
                    <a:pt x="1071" y="197"/>
                  </a:lnTo>
                  <a:lnTo>
                    <a:pt x="1051" y="193"/>
                  </a:lnTo>
                  <a:lnTo>
                    <a:pt x="1035" y="183"/>
                  </a:lnTo>
                  <a:lnTo>
                    <a:pt x="1020" y="178"/>
                  </a:lnTo>
                  <a:lnTo>
                    <a:pt x="1000" y="178"/>
                  </a:lnTo>
                  <a:lnTo>
                    <a:pt x="985" y="168"/>
                  </a:lnTo>
                  <a:lnTo>
                    <a:pt x="970" y="163"/>
                  </a:lnTo>
                  <a:lnTo>
                    <a:pt x="950" y="158"/>
                  </a:lnTo>
                  <a:lnTo>
                    <a:pt x="935" y="158"/>
                  </a:lnTo>
                  <a:lnTo>
                    <a:pt x="920" y="148"/>
                  </a:lnTo>
                  <a:lnTo>
                    <a:pt x="900" y="143"/>
                  </a:lnTo>
                  <a:lnTo>
                    <a:pt x="885" y="138"/>
                  </a:lnTo>
                  <a:lnTo>
                    <a:pt x="870" y="133"/>
                  </a:lnTo>
                  <a:lnTo>
                    <a:pt x="850" y="128"/>
                  </a:lnTo>
                  <a:lnTo>
                    <a:pt x="834" y="128"/>
                  </a:lnTo>
                  <a:lnTo>
                    <a:pt x="819" y="119"/>
                  </a:lnTo>
                  <a:lnTo>
                    <a:pt x="799" y="119"/>
                  </a:lnTo>
                  <a:lnTo>
                    <a:pt x="784" y="114"/>
                  </a:lnTo>
                  <a:lnTo>
                    <a:pt x="769" y="109"/>
                  </a:lnTo>
                  <a:lnTo>
                    <a:pt x="749" y="99"/>
                  </a:lnTo>
                  <a:lnTo>
                    <a:pt x="734" y="99"/>
                  </a:lnTo>
                  <a:lnTo>
                    <a:pt x="719" y="94"/>
                  </a:lnTo>
                  <a:lnTo>
                    <a:pt x="699" y="89"/>
                  </a:lnTo>
                  <a:lnTo>
                    <a:pt x="684" y="84"/>
                  </a:lnTo>
                  <a:lnTo>
                    <a:pt x="669" y="79"/>
                  </a:lnTo>
                  <a:lnTo>
                    <a:pt x="649" y="74"/>
                  </a:lnTo>
                  <a:lnTo>
                    <a:pt x="633" y="69"/>
                  </a:lnTo>
                  <a:lnTo>
                    <a:pt x="618" y="64"/>
                  </a:lnTo>
                  <a:lnTo>
                    <a:pt x="598" y="59"/>
                  </a:lnTo>
                  <a:lnTo>
                    <a:pt x="583" y="54"/>
                  </a:lnTo>
                  <a:lnTo>
                    <a:pt x="568" y="49"/>
                  </a:lnTo>
                  <a:lnTo>
                    <a:pt x="548" y="45"/>
                  </a:lnTo>
                  <a:lnTo>
                    <a:pt x="533" y="40"/>
                  </a:lnTo>
                  <a:lnTo>
                    <a:pt x="518" y="35"/>
                  </a:lnTo>
                  <a:lnTo>
                    <a:pt x="498" y="30"/>
                  </a:lnTo>
                  <a:lnTo>
                    <a:pt x="483" y="25"/>
                  </a:lnTo>
                  <a:lnTo>
                    <a:pt x="473" y="20"/>
                  </a:lnTo>
                  <a:lnTo>
                    <a:pt x="458" y="15"/>
                  </a:lnTo>
                  <a:lnTo>
                    <a:pt x="442" y="15"/>
                  </a:lnTo>
                  <a:lnTo>
                    <a:pt x="432" y="10"/>
                  </a:lnTo>
                  <a:lnTo>
                    <a:pt x="417" y="10"/>
                  </a:lnTo>
                  <a:lnTo>
                    <a:pt x="407" y="5"/>
                  </a:lnTo>
                  <a:lnTo>
                    <a:pt x="397" y="5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62" y="0"/>
                  </a:lnTo>
                  <a:lnTo>
                    <a:pt x="352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17" y="0"/>
                  </a:lnTo>
                  <a:lnTo>
                    <a:pt x="302" y="0"/>
                  </a:lnTo>
                  <a:lnTo>
                    <a:pt x="287" y="0"/>
                  </a:lnTo>
                  <a:lnTo>
                    <a:pt x="272" y="5"/>
                  </a:lnTo>
                  <a:lnTo>
                    <a:pt x="257" y="5"/>
                  </a:lnTo>
                  <a:lnTo>
                    <a:pt x="247" y="15"/>
                  </a:lnTo>
                  <a:lnTo>
                    <a:pt x="236" y="20"/>
                  </a:lnTo>
                  <a:lnTo>
                    <a:pt x="221" y="25"/>
                  </a:lnTo>
                  <a:lnTo>
                    <a:pt x="211" y="30"/>
                  </a:lnTo>
                  <a:lnTo>
                    <a:pt x="201" y="40"/>
                  </a:lnTo>
                  <a:lnTo>
                    <a:pt x="186" y="49"/>
                  </a:lnTo>
                  <a:lnTo>
                    <a:pt x="176" y="59"/>
                  </a:lnTo>
                  <a:lnTo>
                    <a:pt x="166" y="69"/>
                  </a:lnTo>
                  <a:lnTo>
                    <a:pt x="156" y="79"/>
                  </a:lnTo>
                  <a:lnTo>
                    <a:pt x="146" y="94"/>
                  </a:lnTo>
                  <a:lnTo>
                    <a:pt x="131" y="109"/>
                  </a:lnTo>
                  <a:lnTo>
                    <a:pt x="116" y="119"/>
                  </a:lnTo>
                  <a:lnTo>
                    <a:pt x="106" y="133"/>
                  </a:lnTo>
                  <a:lnTo>
                    <a:pt x="91" y="148"/>
                  </a:lnTo>
                  <a:lnTo>
                    <a:pt x="76" y="163"/>
                  </a:lnTo>
                  <a:lnTo>
                    <a:pt x="61" y="178"/>
                  </a:lnTo>
                  <a:lnTo>
                    <a:pt x="40" y="197"/>
                  </a:lnTo>
                  <a:lnTo>
                    <a:pt x="20" y="212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0" y="286"/>
                  </a:lnTo>
                  <a:lnTo>
                    <a:pt x="4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 rot="9362400">
              <a:off x="1118160" y="782640"/>
              <a:ext cx="3527640" cy="953640"/>
            </a:xfrm>
            <a:custGeom>
              <a:avLst/>
              <a:gdLst/>
              <a:ahLst/>
              <a:rect l="l" t="t" r="r" b="b"/>
              <a:pathLst>
                <a:path w="2222" h="601">
                  <a:moveTo>
                    <a:pt x="5" y="231"/>
                  </a:moveTo>
                  <a:lnTo>
                    <a:pt x="21" y="226"/>
                  </a:lnTo>
                  <a:lnTo>
                    <a:pt x="36" y="222"/>
                  </a:lnTo>
                  <a:lnTo>
                    <a:pt x="56" y="217"/>
                  </a:lnTo>
                  <a:lnTo>
                    <a:pt x="71" y="212"/>
                  </a:lnTo>
                  <a:lnTo>
                    <a:pt x="86" y="207"/>
                  </a:lnTo>
                  <a:lnTo>
                    <a:pt x="106" y="202"/>
                  </a:lnTo>
                  <a:lnTo>
                    <a:pt x="121" y="197"/>
                  </a:lnTo>
                  <a:lnTo>
                    <a:pt x="136" y="192"/>
                  </a:lnTo>
                  <a:lnTo>
                    <a:pt x="151" y="187"/>
                  </a:lnTo>
                  <a:lnTo>
                    <a:pt x="171" y="182"/>
                  </a:lnTo>
                  <a:lnTo>
                    <a:pt x="186" y="177"/>
                  </a:lnTo>
                  <a:lnTo>
                    <a:pt x="201" y="172"/>
                  </a:lnTo>
                  <a:lnTo>
                    <a:pt x="216" y="167"/>
                  </a:lnTo>
                  <a:lnTo>
                    <a:pt x="237" y="162"/>
                  </a:lnTo>
                  <a:lnTo>
                    <a:pt x="252" y="162"/>
                  </a:lnTo>
                  <a:lnTo>
                    <a:pt x="267" y="157"/>
                  </a:lnTo>
                  <a:lnTo>
                    <a:pt x="282" y="153"/>
                  </a:lnTo>
                  <a:lnTo>
                    <a:pt x="302" y="148"/>
                  </a:lnTo>
                  <a:lnTo>
                    <a:pt x="317" y="143"/>
                  </a:lnTo>
                  <a:lnTo>
                    <a:pt x="332" y="143"/>
                  </a:lnTo>
                  <a:lnTo>
                    <a:pt x="352" y="138"/>
                  </a:lnTo>
                  <a:lnTo>
                    <a:pt x="367" y="138"/>
                  </a:lnTo>
                  <a:lnTo>
                    <a:pt x="382" y="138"/>
                  </a:lnTo>
                  <a:lnTo>
                    <a:pt x="402" y="138"/>
                  </a:lnTo>
                  <a:lnTo>
                    <a:pt x="418" y="133"/>
                  </a:lnTo>
                  <a:lnTo>
                    <a:pt x="438" y="133"/>
                  </a:lnTo>
                  <a:lnTo>
                    <a:pt x="453" y="133"/>
                  </a:lnTo>
                  <a:lnTo>
                    <a:pt x="473" y="138"/>
                  </a:lnTo>
                  <a:lnTo>
                    <a:pt x="488" y="138"/>
                  </a:lnTo>
                  <a:lnTo>
                    <a:pt x="508" y="143"/>
                  </a:lnTo>
                  <a:lnTo>
                    <a:pt x="528" y="148"/>
                  </a:lnTo>
                  <a:lnTo>
                    <a:pt x="548" y="153"/>
                  </a:lnTo>
                  <a:lnTo>
                    <a:pt x="2191" y="601"/>
                  </a:lnTo>
                  <a:lnTo>
                    <a:pt x="2201" y="596"/>
                  </a:lnTo>
                  <a:lnTo>
                    <a:pt x="2212" y="591"/>
                  </a:lnTo>
                  <a:lnTo>
                    <a:pt x="2217" y="582"/>
                  </a:lnTo>
                  <a:lnTo>
                    <a:pt x="2222" y="577"/>
                  </a:lnTo>
                  <a:lnTo>
                    <a:pt x="2222" y="562"/>
                  </a:lnTo>
                  <a:lnTo>
                    <a:pt x="2222" y="547"/>
                  </a:lnTo>
                  <a:lnTo>
                    <a:pt x="2222" y="527"/>
                  </a:lnTo>
                  <a:lnTo>
                    <a:pt x="2217" y="513"/>
                  </a:lnTo>
                  <a:lnTo>
                    <a:pt x="769" y="93"/>
                  </a:lnTo>
                  <a:lnTo>
                    <a:pt x="759" y="88"/>
                  </a:lnTo>
                  <a:lnTo>
                    <a:pt x="744" y="83"/>
                  </a:lnTo>
                  <a:lnTo>
                    <a:pt x="729" y="79"/>
                  </a:lnTo>
                  <a:lnTo>
                    <a:pt x="719" y="74"/>
                  </a:lnTo>
                  <a:lnTo>
                    <a:pt x="704" y="69"/>
                  </a:lnTo>
                  <a:lnTo>
                    <a:pt x="694" y="64"/>
                  </a:lnTo>
                  <a:lnTo>
                    <a:pt x="679" y="59"/>
                  </a:lnTo>
                  <a:lnTo>
                    <a:pt x="669" y="59"/>
                  </a:lnTo>
                  <a:lnTo>
                    <a:pt x="654" y="49"/>
                  </a:lnTo>
                  <a:lnTo>
                    <a:pt x="639" y="44"/>
                  </a:lnTo>
                  <a:lnTo>
                    <a:pt x="629" y="44"/>
                  </a:lnTo>
                  <a:lnTo>
                    <a:pt x="613" y="39"/>
                  </a:lnTo>
                  <a:lnTo>
                    <a:pt x="598" y="34"/>
                  </a:lnTo>
                  <a:lnTo>
                    <a:pt x="588" y="29"/>
                  </a:lnTo>
                  <a:lnTo>
                    <a:pt x="573" y="29"/>
                  </a:lnTo>
                  <a:lnTo>
                    <a:pt x="563" y="24"/>
                  </a:lnTo>
                  <a:lnTo>
                    <a:pt x="548" y="19"/>
                  </a:lnTo>
                  <a:lnTo>
                    <a:pt x="533" y="19"/>
                  </a:lnTo>
                  <a:lnTo>
                    <a:pt x="518" y="14"/>
                  </a:lnTo>
                  <a:lnTo>
                    <a:pt x="508" y="14"/>
                  </a:lnTo>
                  <a:lnTo>
                    <a:pt x="493" y="9"/>
                  </a:lnTo>
                  <a:lnTo>
                    <a:pt x="478" y="9"/>
                  </a:lnTo>
                  <a:lnTo>
                    <a:pt x="463" y="5"/>
                  </a:lnTo>
                  <a:lnTo>
                    <a:pt x="453" y="5"/>
                  </a:lnTo>
                  <a:lnTo>
                    <a:pt x="438" y="5"/>
                  </a:lnTo>
                  <a:lnTo>
                    <a:pt x="423" y="0"/>
                  </a:lnTo>
                  <a:lnTo>
                    <a:pt x="407" y="0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57" y="0"/>
                  </a:lnTo>
                  <a:lnTo>
                    <a:pt x="342" y="0"/>
                  </a:lnTo>
                  <a:lnTo>
                    <a:pt x="327" y="0"/>
                  </a:lnTo>
                  <a:lnTo>
                    <a:pt x="317" y="0"/>
                  </a:lnTo>
                  <a:lnTo>
                    <a:pt x="302" y="5"/>
                  </a:lnTo>
                  <a:lnTo>
                    <a:pt x="292" y="5"/>
                  </a:lnTo>
                  <a:lnTo>
                    <a:pt x="277" y="5"/>
                  </a:lnTo>
                  <a:lnTo>
                    <a:pt x="262" y="9"/>
                  </a:lnTo>
                  <a:lnTo>
                    <a:pt x="252" y="9"/>
                  </a:lnTo>
                  <a:lnTo>
                    <a:pt x="242" y="14"/>
                  </a:lnTo>
                  <a:lnTo>
                    <a:pt x="227" y="19"/>
                  </a:lnTo>
                  <a:lnTo>
                    <a:pt x="216" y="24"/>
                  </a:lnTo>
                  <a:lnTo>
                    <a:pt x="201" y="29"/>
                  </a:lnTo>
                  <a:lnTo>
                    <a:pt x="191" y="34"/>
                  </a:lnTo>
                  <a:lnTo>
                    <a:pt x="181" y="34"/>
                  </a:lnTo>
                  <a:lnTo>
                    <a:pt x="171" y="44"/>
                  </a:lnTo>
                  <a:lnTo>
                    <a:pt x="156" y="49"/>
                  </a:lnTo>
                  <a:lnTo>
                    <a:pt x="151" y="59"/>
                  </a:lnTo>
                  <a:lnTo>
                    <a:pt x="136" y="64"/>
                  </a:lnTo>
                  <a:lnTo>
                    <a:pt x="126" y="69"/>
                  </a:lnTo>
                  <a:lnTo>
                    <a:pt x="116" y="74"/>
                  </a:lnTo>
                  <a:lnTo>
                    <a:pt x="106" y="83"/>
                  </a:lnTo>
                  <a:lnTo>
                    <a:pt x="91" y="93"/>
                  </a:lnTo>
                  <a:lnTo>
                    <a:pt x="86" y="103"/>
                  </a:lnTo>
                  <a:lnTo>
                    <a:pt x="76" y="113"/>
                  </a:lnTo>
                  <a:lnTo>
                    <a:pt x="66" y="123"/>
                  </a:lnTo>
                  <a:lnTo>
                    <a:pt x="56" y="133"/>
                  </a:lnTo>
                  <a:lnTo>
                    <a:pt x="51" y="143"/>
                  </a:lnTo>
                  <a:lnTo>
                    <a:pt x="41" y="157"/>
                  </a:lnTo>
                  <a:lnTo>
                    <a:pt x="31" y="167"/>
                  </a:lnTo>
                  <a:lnTo>
                    <a:pt x="21" y="182"/>
                  </a:lnTo>
                  <a:lnTo>
                    <a:pt x="15" y="197"/>
                  </a:lnTo>
                  <a:lnTo>
                    <a:pt x="10" y="207"/>
                  </a:lnTo>
                  <a:lnTo>
                    <a:pt x="5" y="226"/>
                  </a:lnTo>
                  <a:lnTo>
                    <a:pt x="0" y="226"/>
                  </a:lnTo>
                  <a:lnTo>
                    <a:pt x="5" y="231"/>
                  </a:lnTo>
                  <a:lnTo>
                    <a:pt x="5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 rot="9362400">
              <a:off x="7391520" y="958680"/>
              <a:ext cx="1922400" cy="4305240"/>
            </a:xfrm>
            <a:custGeom>
              <a:avLst/>
              <a:gdLst/>
              <a:ahLst/>
              <a:rect l="l" t="t" r="r" b="b"/>
              <a:pathLst>
                <a:path w="1211" h="2712">
                  <a:moveTo>
                    <a:pt x="1101" y="113"/>
                  </a:moveTo>
                  <a:lnTo>
                    <a:pt x="1101" y="123"/>
                  </a:lnTo>
                  <a:lnTo>
                    <a:pt x="1101" y="133"/>
                  </a:lnTo>
                  <a:lnTo>
                    <a:pt x="1096" y="143"/>
                  </a:lnTo>
                  <a:lnTo>
                    <a:pt x="1096" y="158"/>
                  </a:lnTo>
                  <a:lnTo>
                    <a:pt x="1096" y="168"/>
                  </a:lnTo>
                  <a:lnTo>
                    <a:pt x="1096" y="178"/>
                  </a:lnTo>
                  <a:lnTo>
                    <a:pt x="1091" y="187"/>
                  </a:lnTo>
                  <a:lnTo>
                    <a:pt x="1091" y="202"/>
                  </a:lnTo>
                  <a:lnTo>
                    <a:pt x="1086" y="212"/>
                  </a:lnTo>
                  <a:lnTo>
                    <a:pt x="1086" y="222"/>
                  </a:lnTo>
                  <a:lnTo>
                    <a:pt x="1086" y="232"/>
                  </a:lnTo>
                  <a:lnTo>
                    <a:pt x="1081" y="242"/>
                  </a:lnTo>
                  <a:lnTo>
                    <a:pt x="1081" y="256"/>
                  </a:lnTo>
                  <a:lnTo>
                    <a:pt x="1081" y="266"/>
                  </a:lnTo>
                  <a:lnTo>
                    <a:pt x="1076" y="276"/>
                  </a:lnTo>
                  <a:lnTo>
                    <a:pt x="1076" y="291"/>
                  </a:lnTo>
                  <a:lnTo>
                    <a:pt x="1071" y="301"/>
                  </a:lnTo>
                  <a:lnTo>
                    <a:pt x="1071" y="311"/>
                  </a:lnTo>
                  <a:lnTo>
                    <a:pt x="1066" y="321"/>
                  </a:lnTo>
                  <a:lnTo>
                    <a:pt x="1066" y="330"/>
                  </a:lnTo>
                  <a:lnTo>
                    <a:pt x="1061" y="340"/>
                  </a:lnTo>
                  <a:lnTo>
                    <a:pt x="1056" y="355"/>
                  </a:lnTo>
                  <a:lnTo>
                    <a:pt x="1056" y="365"/>
                  </a:lnTo>
                  <a:lnTo>
                    <a:pt x="1051" y="375"/>
                  </a:lnTo>
                  <a:lnTo>
                    <a:pt x="1046" y="385"/>
                  </a:lnTo>
                  <a:lnTo>
                    <a:pt x="1046" y="395"/>
                  </a:lnTo>
                  <a:lnTo>
                    <a:pt x="1041" y="404"/>
                  </a:lnTo>
                  <a:lnTo>
                    <a:pt x="1041" y="419"/>
                  </a:lnTo>
                  <a:lnTo>
                    <a:pt x="1036" y="429"/>
                  </a:lnTo>
                  <a:lnTo>
                    <a:pt x="1031" y="439"/>
                  </a:lnTo>
                  <a:lnTo>
                    <a:pt x="1031" y="449"/>
                  </a:lnTo>
                  <a:lnTo>
                    <a:pt x="1026" y="464"/>
                  </a:lnTo>
                  <a:lnTo>
                    <a:pt x="1021" y="469"/>
                  </a:lnTo>
                  <a:lnTo>
                    <a:pt x="1016" y="483"/>
                  </a:lnTo>
                  <a:lnTo>
                    <a:pt x="1016" y="488"/>
                  </a:lnTo>
                  <a:lnTo>
                    <a:pt x="1010" y="503"/>
                  </a:lnTo>
                  <a:lnTo>
                    <a:pt x="1005" y="513"/>
                  </a:lnTo>
                  <a:lnTo>
                    <a:pt x="1000" y="523"/>
                  </a:lnTo>
                  <a:lnTo>
                    <a:pt x="995" y="533"/>
                  </a:lnTo>
                  <a:lnTo>
                    <a:pt x="995" y="543"/>
                  </a:lnTo>
                  <a:lnTo>
                    <a:pt x="985" y="552"/>
                  </a:lnTo>
                  <a:lnTo>
                    <a:pt x="985" y="562"/>
                  </a:lnTo>
                  <a:lnTo>
                    <a:pt x="980" y="572"/>
                  </a:lnTo>
                  <a:lnTo>
                    <a:pt x="975" y="582"/>
                  </a:lnTo>
                  <a:lnTo>
                    <a:pt x="970" y="592"/>
                  </a:lnTo>
                  <a:lnTo>
                    <a:pt x="965" y="602"/>
                  </a:lnTo>
                  <a:lnTo>
                    <a:pt x="965" y="616"/>
                  </a:lnTo>
                  <a:lnTo>
                    <a:pt x="960" y="626"/>
                  </a:lnTo>
                  <a:lnTo>
                    <a:pt x="955" y="636"/>
                  </a:lnTo>
                  <a:lnTo>
                    <a:pt x="950" y="646"/>
                  </a:lnTo>
                  <a:lnTo>
                    <a:pt x="945" y="656"/>
                  </a:lnTo>
                  <a:lnTo>
                    <a:pt x="940" y="666"/>
                  </a:lnTo>
                  <a:lnTo>
                    <a:pt x="935" y="676"/>
                  </a:lnTo>
                  <a:lnTo>
                    <a:pt x="930" y="686"/>
                  </a:lnTo>
                  <a:lnTo>
                    <a:pt x="925" y="695"/>
                  </a:lnTo>
                  <a:lnTo>
                    <a:pt x="920" y="705"/>
                  </a:lnTo>
                  <a:lnTo>
                    <a:pt x="915" y="715"/>
                  </a:lnTo>
                  <a:lnTo>
                    <a:pt x="910" y="725"/>
                  </a:lnTo>
                  <a:lnTo>
                    <a:pt x="905" y="735"/>
                  </a:lnTo>
                  <a:lnTo>
                    <a:pt x="900" y="745"/>
                  </a:lnTo>
                  <a:lnTo>
                    <a:pt x="895" y="755"/>
                  </a:lnTo>
                  <a:lnTo>
                    <a:pt x="895" y="764"/>
                  </a:lnTo>
                  <a:lnTo>
                    <a:pt x="885" y="774"/>
                  </a:lnTo>
                  <a:lnTo>
                    <a:pt x="885" y="789"/>
                  </a:lnTo>
                  <a:lnTo>
                    <a:pt x="880" y="794"/>
                  </a:lnTo>
                  <a:lnTo>
                    <a:pt x="870" y="809"/>
                  </a:lnTo>
                  <a:lnTo>
                    <a:pt x="865" y="819"/>
                  </a:lnTo>
                  <a:lnTo>
                    <a:pt x="860" y="829"/>
                  </a:lnTo>
                  <a:lnTo>
                    <a:pt x="855" y="838"/>
                  </a:lnTo>
                  <a:lnTo>
                    <a:pt x="850" y="848"/>
                  </a:lnTo>
                  <a:lnTo>
                    <a:pt x="845" y="858"/>
                  </a:lnTo>
                  <a:lnTo>
                    <a:pt x="840" y="868"/>
                  </a:lnTo>
                  <a:lnTo>
                    <a:pt x="835" y="883"/>
                  </a:lnTo>
                  <a:lnTo>
                    <a:pt x="830" y="893"/>
                  </a:lnTo>
                  <a:lnTo>
                    <a:pt x="825" y="903"/>
                  </a:lnTo>
                  <a:lnTo>
                    <a:pt x="820" y="912"/>
                  </a:lnTo>
                  <a:lnTo>
                    <a:pt x="814" y="922"/>
                  </a:lnTo>
                  <a:lnTo>
                    <a:pt x="809" y="937"/>
                  </a:lnTo>
                  <a:lnTo>
                    <a:pt x="804" y="947"/>
                  </a:lnTo>
                  <a:lnTo>
                    <a:pt x="804" y="957"/>
                  </a:lnTo>
                  <a:lnTo>
                    <a:pt x="799" y="967"/>
                  </a:lnTo>
                  <a:lnTo>
                    <a:pt x="794" y="981"/>
                  </a:lnTo>
                  <a:lnTo>
                    <a:pt x="789" y="991"/>
                  </a:lnTo>
                  <a:lnTo>
                    <a:pt x="784" y="1001"/>
                  </a:lnTo>
                  <a:lnTo>
                    <a:pt x="779" y="1011"/>
                  </a:lnTo>
                  <a:lnTo>
                    <a:pt x="779" y="1021"/>
                  </a:lnTo>
                  <a:lnTo>
                    <a:pt x="774" y="1036"/>
                  </a:lnTo>
                  <a:lnTo>
                    <a:pt x="769" y="1046"/>
                  </a:lnTo>
                  <a:lnTo>
                    <a:pt x="764" y="1055"/>
                  </a:lnTo>
                  <a:lnTo>
                    <a:pt x="759" y="1065"/>
                  </a:lnTo>
                  <a:lnTo>
                    <a:pt x="754" y="1080"/>
                  </a:lnTo>
                  <a:lnTo>
                    <a:pt x="754" y="1090"/>
                  </a:lnTo>
                  <a:lnTo>
                    <a:pt x="749" y="1100"/>
                  </a:lnTo>
                  <a:lnTo>
                    <a:pt x="744" y="1110"/>
                  </a:lnTo>
                  <a:lnTo>
                    <a:pt x="739" y="1119"/>
                  </a:lnTo>
                  <a:lnTo>
                    <a:pt x="734" y="1134"/>
                  </a:lnTo>
                  <a:lnTo>
                    <a:pt x="729" y="1144"/>
                  </a:lnTo>
                  <a:lnTo>
                    <a:pt x="729" y="1154"/>
                  </a:lnTo>
                  <a:lnTo>
                    <a:pt x="724" y="1164"/>
                  </a:lnTo>
                  <a:lnTo>
                    <a:pt x="719" y="1179"/>
                  </a:lnTo>
                  <a:lnTo>
                    <a:pt x="714" y="1189"/>
                  </a:lnTo>
                  <a:lnTo>
                    <a:pt x="709" y="1198"/>
                  </a:lnTo>
                  <a:lnTo>
                    <a:pt x="704" y="1208"/>
                  </a:lnTo>
                  <a:lnTo>
                    <a:pt x="704" y="1218"/>
                  </a:lnTo>
                  <a:lnTo>
                    <a:pt x="699" y="1233"/>
                  </a:lnTo>
                  <a:lnTo>
                    <a:pt x="694" y="1243"/>
                  </a:lnTo>
                  <a:lnTo>
                    <a:pt x="689" y="1253"/>
                  </a:lnTo>
                  <a:lnTo>
                    <a:pt x="684" y="1263"/>
                  </a:lnTo>
                  <a:lnTo>
                    <a:pt x="679" y="1277"/>
                  </a:lnTo>
                  <a:lnTo>
                    <a:pt x="679" y="1287"/>
                  </a:lnTo>
                  <a:lnTo>
                    <a:pt x="674" y="1297"/>
                  </a:lnTo>
                  <a:lnTo>
                    <a:pt x="669" y="1307"/>
                  </a:lnTo>
                  <a:lnTo>
                    <a:pt x="664" y="1317"/>
                  </a:lnTo>
                  <a:lnTo>
                    <a:pt x="664" y="1327"/>
                  </a:lnTo>
                  <a:lnTo>
                    <a:pt x="654" y="1341"/>
                  </a:lnTo>
                  <a:lnTo>
                    <a:pt x="654" y="1351"/>
                  </a:lnTo>
                  <a:lnTo>
                    <a:pt x="649" y="1361"/>
                  </a:lnTo>
                  <a:lnTo>
                    <a:pt x="644" y="1371"/>
                  </a:lnTo>
                  <a:lnTo>
                    <a:pt x="639" y="1386"/>
                  </a:lnTo>
                  <a:lnTo>
                    <a:pt x="634" y="1396"/>
                  </a:lnTo>
                  <a:lnTo>
                    <a:pt x="629" y="1406"/>
                  </a:lnTo>
                  <a:lnTo>
                    <a:pt x="629" y="1415"/>
                  </a:lnTo>
                  <a:lnTo>
                    <a:pt x="624" y="1425"/>
                  </a:lnTo>
                  <a:lnTo>
                    <a:pt x="619" y="1440"/>
                  </a:lnTo>
                  <a:lnTo>
                    <a:pt x="613" y="1450"/>
                  </a:lnTo>
                  <a:lnTo>
                    <a:pt x="608" y="1460"/>
                  </a:lnTo>
                  <a:lnTo>
                    <a:pt x="603" y="1470"/>
                  </a:lnTo>
                  <a:lnTo>
                    <a:pt x="603" y="1484"/>
                  </a:lnTo>
                  <a:lnTo>
                    <a:pt x="593" y="1499"/>
                  </a:lnTo>
                  <a:lnTo>
                    <a:pt x="583" y="1514"/>
                  </a:lnTo>
                  <a:lnTo>
                    <a:pt x="578" y="1534"/>
                  </a:lnTo>
                  <a:lnTo>
                    <a:pt x="568" y="1549"/>
                  </a:lnTo>
                  <a:lnTo>
                    <a:pt x="563" y="1568"/>
                  </a:lnTo>
                  <a:lnTo>
                    <a:pt x="553" y="1583"/>
                  </a:lnTo>
                  <a:lnTo>
                    <a:pt x="548" y="1603"/>
                  </a:lnTo>
                  <a:lnTo>
                    <a:pt x="538" y="1618"/>
                  </a:lnTo>
                  <a:lnTo>
                    <a:pt x="533" y="1637"/>
                  </a:lnTo>
                  <a:lnTo>
                    <a:pt x="528" y="1652"/>
                  </a:lnTo>
                  <a:lnTo>
                    <a:pt x="518" y="1667"/>
                  </a:lnTo>
                  <a:lnTo>
                    <a:pt x="513" y="1687"/>
                  </a:lnTo>
                  <a:lnTo>
                    <a:pt x="503" y="1701"/>
                  </a:lnTo>
                  <a:lnTo>
                    <a:pt x="498" y="1721"/>
                  </a:lnTo>
                  <a:lnTo>
                    <a:pt x="488" y="1741"/>
                  </a:lnTo>
                  <a:lnTo>
                    <a:pt x="483" y="1761"/>
                  </a:lnTo>
                  <a:lnTo>
                    <a:pt x="478" y="1775"/>
                  </a:lnTo>
                  <a:lnTo>
                    <a:pt x="468" y="1795"/>
                  </a:lnTo>
                  <a:lnTo>
                    <a:pt x="463" y="1810"/>
                  </a:lnTo>
                  <a:lnTo>
                    <a:pt x="453" y="1830"/>
                  </a:lnTo>
                  <a:lnTo>
                    <a:pt x="448" y="1844"/>
                  </a:lnTo>
                  <a:lnTo>
                    <a:pt x="438" y="1864"/>
                  </a:lnTo>
                  <a:lnTo>
                    <a:pt x="433" y="1879"/>
                  </a:lnTo>
                  <a:lnTo>
                    <a:pt x="428" y="1899"/>
                  </a:lnTo>
                  <a:lnTo>
                    <a:pt x="418" y="1913"/>
                  </a:lnTo>
                  <a:lnTo>
                    <a:pt x="412" y="1933"/>
                  </a:lnTo>
                  <a:lnTo>
                    <a:pt x="402" y="1953"/>
                  </a:lnTo>
                  <a:lnTo>
                    <a:pt x="397" y="1973"/>
                  </a:lnTo>
                  <a:lnTo>
                    <a:pt x="392" y="1987"/>
                  </a:lnTo>
                  <a:lnTo>
                    <a:pt x="382" y="2007"/>
                  </a:lnTo>
                  <a:lnTo>
                    <a:pt x="377" y="2022"/>
                  </a:lnTo>
                  <a:lnTo>
                    <a:pt x="372" y="2042"/>
                  </a:lnTo>
                  <a:lnTo>
                    <a:pt x="362" y="2061"/>
                  </a:lnTo>
                  <a:lnTo>
                    <a:pt x="357" y="2081"/>
                  </a:lnTo>
                  <a:lnTo>
                    <a:pt x="347" y="2101"/>
                  </a:lnTo>
                  <a:lnTo>
                    <a:pt x="342" y="2121"/>
                  </a:lnTo>
                  <a:lnTo>
                    <a:pt x="337" y="2126"/>
                  </a:lnTo>
                  <a:lnTo>
                    <a:pt x="332" y="2140"/>
                  </a:lnTo>
                  <a:lnTo>
                    <a:pt x="327" y="2150"/>
                  </a:lnTo>
                  <a:lnTo>
                    <a:pt x="327" y="2160"/>
                  </a:lnTo>
                  <a:lnTo>
                    <a:pt x="322" y="2170"/>
                  </a:lnTo>
                  <a:lnTo>
                    <a:pt x="317" y="2180"/>
                  </a:lnTo>
                  <a:lnTo>
                    <a:pt x="312" y="2190"/>
                  </a:lnTo>
                  <a:lnTo>
                    <a:pt x="312" y="2199"/>
                  </a:lnTo>
                  <a:lnTo>
                    <a:pt x="307" y="2209"/>
                  </a:lnTo>
                  <a:lnTo>
                    <a:pt x="302" y="2219"/>
                  </a:lnTo>
                  <a:lnTo>
                    <a:pt x="297" y="2229"/>
                  </a:lnTo>
                  <a:lnTo>
                    <a:pt x="297" y="2239"/>
                  </a:lnTo>
                  <a:lnTo>
                    <a:pt x="287" y="2249"/>
                  </a:lnTo>
                  <a:lnTo>
                    <a:pt x="287" y="2264"/>
                  </a:lnTo>
                  <a:lnTo>
                    <a:pt x="282" y="2273"/>
                  </a:lnTo>
                  <a:lnTo>
                    <a:pt x="282" y="2283"/>
                  </a:lnTo>
                  <a:lnTo>
                    <a:pt x="277" y="2293"/>
                  </a:lnTo>
                  <a:lnTo>
                    <a:pt x="272" y="2303"/>
                  </a:lnTo>
                  <a:lnTo>
                    <a:pt x="267" y="2313"/>
                  </a:lnTo>
                  <a:lnTo>
                    <a:pt x="262" y="2323"/>
                  </a:lnTo>
                  <a:lnTo>
                    <a:pt x="257" y="2333"/>
                  </a:lnTo>
                  <a:lnTo>
                    <a:pt x="252" y="2343"/>
                  </a:lnTo>
                  <a:lnTo>
                    <a:pt x="247" y="2352"/>
                  </a:lnTo>
                  <a:lnTo>
                    <a:pt x="247" y="2367"/>
                  </a:lnTo>
                  <a:lnTo>
                    <a:pt x="232" y="2382"/>
                  </a:lnTo>
                  <a:lnTo>
                    <a:pt x="222" y="2402"/>
                  </a:lnTo>
                  <a:lnTo>
                    <a:pt x="211" y="2421"/>
                  </a:lnTo>
                  <a:lnTo>
                    <a:pt x="201" y="2441"/>
                  </a:lnTo>
                  <a:lnTo>
                    <a:pt x="186" y="2456"/>
                  </a:lnTo>
                  <a:lnTo>
                    <a:pt x="176" y="2476"/>
                  </a:lnTo>
                  <a:lnTo>
                    <a:pt x="166" y="2495"/>
                  </a:lnTo>
                  <a:lnTo>
                    <a:pt x="151" y="2510"/>
                  </a:lnTo>
                  <a:lnTo>
                    <a:pt x="136" y="2525"/>
                  </a:lnTo>
                  <a:lnTo>
                    <a:pt x="126" y="2545"/>
                  </a:lnTo>
                  <a:lnTo>
                    <a:pt x="111" y="2559"/>
                  </a:lnTo>
                  <a:lnTo>
                    <a:pt x="96" y="2574"/>
                  </a:lnTo>
                  <a:lnTo>
                    <a:pt x="76" y="2584"/>
                  </a:lnTo>
                  <a:lnTo>
                    <a:pt x="61" y="2599"/>
                  </a:lnTo>
                  <a:lnTo>
                    <a:pt x="41" y="2614"/>
                  </a:lnTo>
                  <a:lnTo>
                    <a:pt x="21" y="2624"/>
                  </a:lnTo>
                  <a:lnTo>
                    <a:pt x="10" y="2633"/>
                  </a:lnTo>
                  <a:lnTo>
                    <a:pt x="0" y="2648"/>
                  </a:lnTo>
                  <a:lnTo>
                    <a:pt x="0" y="2663"/>
                  </a:lnTo>
                  <a:lnTo>
                    <a:pt x="0" y="2678"/>
                  </a:lnTo>
                  <a:lnTo>
                    <a:pt x="10" y="2688"/>
                  </a:lnTo>
                  <a:lnTo>
                    <a:pt x="21" y="2703"/>
                  </a:lnTo>
                  <a:lnTo>
                    <a:pt x="31" y="2707"/>
                  </a:lnTo>
                  <a:lnTo>
                    <a:pt x="51" y="2712"/>
                  </a:lnTo>
                  <a:lnTo>
                    <a:pt x="61" y="2707"/>
                  </a:lnTo>
                  <a:lnTo>
                    <a:pt x="71" y="2707"/>
                  </a:lnTo>
                  <a:lnTo>
                    <a:pt x="86" y="2707"/>
                  </a:lnTo>
                  <a:lnTo>
                    <a:pt x="101" y="2707"/>
                  </a:lnTo>
                  <a:lnTo>
                    <a:pt x="111" y="2707"/>
                  </a:lnTo>
                  <a:lnTo>
                    <a:pt x="121" y="2707"/>
                  </a:lnTo>
                  <a:lnTo>
                    <a:pt x="131" y="2703"/>
                  </a:lnTo>
                  <a:lnTo>
                    <a:pt x="146" y="2703"/>
                  </a:lnTo>
                  <a:lnTo>
                    <a:pt x="161" y="2693"/>
                  </a:lnTo>
                  <a:lnTo>
                    <a:pt x="181" y="2688"/>
                  </a:lnTo>
                  <a:lnTo>
                    <a:pt x="201" y="2678"/>
                  </a:lnTo>
                  <a:lnTo>
                    <a:pt x="222" y="2668"/>
                  </a:lnTo>
                  <a:lnTo>
                    <a:pt x="237" y="2653"/>
                  </a:lnTo>
                  <a:lnTo>
                    <a:pt x="252" y="2638"/>
                  </a:lnTo>
                  <a:lnTo>
                    <a:pt x="267" y="2624"/>
                  </a:lnTo>
                  <a:lnTo>
                    <a:pt x="282" y="2609"/>
                  </a:lnTo>
                  <a:lnTo>
                    <a:pt x="297" y="2589"/>
                  </a:lnTo>
                  <a:lnTo>
                    <a:pt x="312" y="2569"/>
                  </a:lnTo>
                  <a:lnTo>
                    <a:pt x="317" y="2559"/>
                  </a:lnTo>
                  <a:lnTo>
                    <a:pt x="322" y="2545"/>
                  </a:lnTo>
                  <a:lnTo>
                    <a:pt x="332" y="2535"/>
                  </a:lnTo>
                  <a:lnTo>
                    <a:pt x="337" y="2525"/>
                  </a:lnTo>
                  <a:lnTo>
                    <a:pt x="342" y="2510"/>
                  </a:lnTo>
                  <a:lnTo>
                    <a:pt x="347" y="2500"/>
                  </a:lnTo>
                  <a:lnTo>
                    <a:pt x="352" y="2486"/>
                  </a:lnTo>
                  <a:lnTo>
                    <a:pt x="362" y="2476"/>
                  </a:lnTo>
                  <a:lnTo>
                    <a:pt x="367" y="2461"/>
                  </a:lnTo>
                  <a:lnTo>
                    <a:pt x="377" y="2446"/>
                  </a:lnTo>
                  <a:lnTo>
                    <a:pt x="382" y="2431"/>
                  </a:lnTo>
                  <a:lnTo>
                    <a:pt x="387" y="2421"/>
                  </a:lnTo>
                  <a:lnTo>
                    <a:pt x="392" y="2407"/>
                  </a:lnTo>
                  <a:lnTo>
                    <a:pt x="397" y="2397"/>
                  </a:lnTo>
                  <a:lnTo>
                    <a:pt x="402" y="2382"/>
                  </a:lnTo>
                  <a:lnTo>
                    <a:pt x="412" y="2367"/>
                  </a:lnTo>
                  <a:lnTo>
                    <a:pt x="418" y="2352"/>
                  </a:lnTo>
                  <a:lnTo>
                    <a:pt x="423" y="2343"/>
                  </a:lnTo>
                  <a:lnTo>
                    <a:pt x="428" y="2328"/>
                  </a:lnTo>
                  <a:lnTo>
                    <a:pt x="438" y="2318"/>
                  </a:lnTo>
                  <a:lnTo>
                    <a:pt x="438" y="2303"/>
                  </a:lnTo>
                  <a:lnTo>
                    <a:pt x="448" y="2288"/>
                  </a:lnTo>
                  <a:lnTo>
                    <a:pt x="453" y="2273"/>
                  </a:lnTo>
                  <a:lnTo>
                    <a:pt x="458" y="2264"/>
                  </a:lnTo>
                  <a:lnTo>
                    <a:pt x="463" y="2249"/>
                  </a:lnTo>
                  <a:lnTo>
                    <a:pt x="468" y="2234"/>
                  </a:lnTo>
                  <a:lnTo>
                    <a:pt x="473" y="2219"/>
                  </a:lnTo>
                  <a:lnTo>
                    <a:pt x="478" y="2204"/>
                  </a:lnTo>
                  <a:lnTo>
                    <a:pt x="483" y="2190"/>
                  </a:lnTo>
                  <a:lnTo>
                    <a:pt x="488" y="2180"/>
                  </a:lnTo>
                  <a:lnTo>
                    <a:pt x="493" y="2165"/>
                  </a:lnTo>
                  <a:lnTo>
                    <a:pt x="498" y="2150"/>
                  </a:lnTo>
                  <a:lnTo>
                    <a:pt x="503" y="2135"/>
                  </a:lnTo>
                  <a:lnTo>
                    <a:pt x="513" y="2126"/>
                  </a:lnTo>
                  <a:lnTo>
                    <a:pt x="518" y="2111"/>
                  </a:lnTo>
                  <a:lnTo>
                    <a:pt x="523" y="2101"/>
                  </a:lnTo>
                  <a:lnTo>
                    <a:pt x="528" y="2081"/>
                  </a:lnTo>
                  <a:lnTo>
                    <a:pt x="533" y="2071"/>
                  </a:lnTo>
                  <a:lnTo>
                    <a:pt x="533" y="2056"/>
                  </a:lnTo>
                  <a:lnTo>
                    <a:pt x="538" y="2042"/>
                  </a:lnTo>
                  <a:lnTo>
                    <a:pt x="548" y="2027"/>
                  </a:lnTo>
                  <a:lnTo>
                    <a:pt x="553" y="2012"/>
                  </a:lnTo>
                  <a:lnTo>
                    <a:pt x="558" y="2002"/>
                  </a:lnTo>
                  <a:lnTo>
                    <a:pt x="563" y="1987"/>
                  </a:lnTo>
                  <a:lnTo>
                    <a:pt x="568" y="1973"/>
                  </a:lnTo>
                  <a:lnTo>
                    <a:pt x="573" y="1958"/>
                  </a:lnTo>
                  <a:lnTo>
                    <a:pt x="578" y="1943"/>
                  </a:lnTo>
                  <a:lnTo>
                    <a:pt x="583" y="1933"/>
                  </a:lnTo>
                  <a:lnTo>
                    <a:pt x="588" y="1918"/>
                  </a:lnTo>
                  <a:lnTo>
                    <a:pt x="593" y="1904"/>
                  </a:lnTo>
                  <a:lnTo>
                    <a:pt x="598" y="1889"/>
                  </a:lnTo>
                  <a:lnTo>
                    <a:pt x="603" y="1879"/>
                  </a:lnTo>
                  <a:lnTo>
                    <a:pt x="608" y="1864"/>
                  </a:lnTo>
                  <a:lnTo>
                    <a:pt x="613" y="1849"/>
                  </a:lnTo>
                  <a:lnTo>
                    <a:pt x="619" y="1835"/>
                  </a:lnTo>
                  <a:lnTo>
                    <a:pt x="624" y="1825"/>
                  </a:lnTo>
                  <a:lnTo>
                    <a:pt x="629" y="1810"/>
                  </a:lnTo>
                  <a:lnTo>
                    <a:pt x="634" y="1795"/>
                  </a:lnTo>
                  <a:lnTo>
                    <a:pt x="639" y="1780"/>
                  </a:lnTo>
                  <a:lnTo>
                    <a:pt x="644" y="1766"/>
                  </a:lnTo>
                  <a:lnTo>
                    <a:pt x="649" y="1751"/>
                  </a:lnTo>
                  <a:lnTo>
                    <a:pt x="654" y="1741"/>
                  </a:lnTo>
                  <a:lnTo>
                    <a:pt x="664" y="1726"/>
                  </a:lnTo>
                  <a:lnTo>
                    <a:pt x="669" y="1716"/>
                  </a:lnTo>
                  <a:lnTo>
                    <a:pt x="674" y="1701"/>
                  </a:lnTo>
                  <a:lnTo>
                    <a:pt x="679" y="1687"/>
                  </a:lnTo>
                  <a:lnTo>
                    <a:pt x="684" y="1677"/>
                  </a:lnTo>
                  <a:lnTo>
                    <a:pt x="694" y="1667"/>
                  </a:lnTo>
                  <a:lnTo>
                    <a:pt x="694" y="1652"/>
                  </a:lnTo>
                  <a:lnTo>
                    <a:pt x="699" y="1637"/>
                  </a:lnTo>
                  <a:lnTo>
                    <a:pt x="704" y="1623"/>
                  </a:lnTo>
                  <a:lnTo>
                    <a:pt x="714" y="1613"/>
                  </a:lnTo>
                  <a:lnTo>
                    <a:pt x="714" y="1598"/>
                  </a:lnTo>
                  <a:lnTo>
                    <a:pt x="719" y="1588"/>
                  </a:lnTo>
                  <a:lnTo>
                    <a:pt x="729" y="1573"/>
                  </a:lnTo>
                  <a:lnTo>
                    <a:pt x="734" y="1558"/>
                  </a:lnTo>
                  <a:lnTo>
                    <a:pt x="734" y="1549"/>
                  </a:lnTo>
                  <a:lnTo>
                    <a:pt x="744" y="1534"/>
                  </a:lnTo>
                  <a:lnTo>
                    <a:pt x="749" y="1519"/>
                  </a:lnTo>
                  <a:lnTo>
                    <a:pt x="754" y="1509"/>
                  </a:lnTo>
                  <a:lnTo>
                    <a:pt x="754" y="1494"/>
                  </a:lnTo>
                  <a:lnTo>
                    <a:pt x="764" y="1484"/>
                  </a:lnTo>
                  <a:lnTo>
                    <a:pt x="769" y="1470"/>
                  </a:lnTo>
                  <a:lnTo>
                    <a:pt x="774" y="1460"/>
                  </a:lnTo>
                  <a:lnTo>
                    <a:pt x="779" y="1445"/>
                  </a:lnTo>
                  <a:lnTo>
                    <a:pt x="784" y="1430"/>
                  </a:lnTo>
                  <a:lnTo>
                    <a:pt x="784" y="1420"/>
                  </a:lnTo>
                  <a:lnTo>
                    <a:pt x="794" y="1406"/>
                  </a:lnTo>
                  <a:lnTo>
                    <a:pt x="794" y="1391"/>
                  </a:lnTo>
                  <a:lnTo>
                    <a:pt x="799" y="1381"/>
                  </a:lnTo>
                  <a:lnTo>
                    <a:pt x="804" y="1366"/>
                  </a:lnTo>
                  <a:lnTo>
                    <a:pt x="814" y="1356"/>
                  </a:lnTo>
                  <a:lnTo>
                    <a:pt x="814" y="1341"/>
                  </a:lnTo>
                  <a:lnTo>
                    <a:pt x="820" y="1327"/>
                  </a:lnTo>
                  <a:lnTo>
                    <a:pt x="825" y="1317"/>
                  </a:lnTo>
                  <a:lnTo>
                    <a:pt x="830" y="1302"/>
                  </a:lnTo>
                  <a:lnTo>
                    <a:pt x="835" y="1292"/>
                  </a:lnTo>
                  <a:lnTo>
                    <a:pt x="840" y="1277"/>
                  </a:lnTo>
                  <a:lnTo>
                    <a:pt x="845" y="1263"/>
                  </a:lnTo>
                  <a:lnTo>
                    <a:pt x="850" y="1253"/>
                  </a:lnTo>
                  <a:lnTo>
                    <a:pt x="855" y="1238"/>
                  </a:lnTo>
                  <a:lnTo>
                    <a:pt x="860" y="1228"/>
                  </a:lnTo>
                  <a:lnTo>
                    <a:pt x="865" y="1213"/>
                  </a:lnTo>
                  <a:lnTo>
                    <a:pt x="870" y="1198"/>
                  </a:lnTo>
                  <a:lnTo>
                    <a:pt x="870" y="1184"/>
                  </a:lnTo>
                  <a:lnTo>
                    <a:pt x="875" y="1174"/>
                  </a:lnTo>
                  <a:lnTo>
                    <a:pt x="880" y="1159"/>
                  </a:lnTo>
                  <a:lnTo>
                    <a:pt x="885" y="1149"/>
                  </a:lnTo>
                  <a:lnTo>
                    <a:pt x="890" y="1134"/>
                  </a:lnTo>
                  <a:lnTo>
                    <a:pt x="895" y="1119"/>
                  </a:lnTo>
                  <a:lnTo>
                    <a:pt x="900" y="1110"/>
                  </a:lnTo>
                  <a:lnTo>
                    <a:pt x="905" y="1095"/>
                  </a:lnTo>
                  <a:lnTo>
                    <a:pt x="905" y="1080"/>
                  </a:lnTo>
                  <a:lnTo>
                    <a:pt x="910" y="1070"/>
                  </a:lnTo>
                  <a:lnTo>
                    <a:pt x="915" y="1055"/>
                  </a:lnTo>
                  <a:lnTo>
                    <a:pt x="920" y="1046"/>
                  </a:lnTo>
                  <a:lnTo>
                    <a:pt x="925" y="1031"/>
                  </a:lnTo>
                  <a:lnTo>
                    <a:pt x="930" y="1016"/>
                  </a:lnTo>
                  <a:lnTo>
                    <a:pt x="935" y="1006"/>
                  </a:lnTo>
                  <a:lnTo>
                    <a:pt x="940" y="991"/>
                  </a:lnTo>
                  <a:lnTo>
                    <a:pt x="945" y="976"/>
                  </a:lnTo>
                  <a:lnTo>
                    <a:pt x="945" y="967"/>
                  </a:lnTo>
                  <a:lnTo>
                    <a:pt x="950" y="952"/>
                  </a:lnTo>
                  <a:lnTo>
                    <a:pt x="955" y="942"/>
                  </a:lnTo>
                  <a:lnTo>
                    <a:pt x="960" y="927"/>
                  </a:lnTo>
                  <a:lnTo>
                    <a:pt x="965" y="912"/>
                  </a:lnTo>
                  <a:lnTo>
                    <a:pt x="965" y="903"/>
                  </a:lnTo>
                  <a:lnTo>
                    <a:pt x="970" y="888"/>
                  </a:lnTo>
                  <a:lnTo>
                    <a:pt x="975" y="873"/>
                  </a:lnTo>
                  <a:lnTo>
                    <a:pt x="980" y="863"/>
                  </a:lnTo>
                  <a:lnTo>
                    <a:pt x="985" y="848"/>
                  </a:lnTo>
                  <a:lnTo>
                    <a:pt x="990" y="838"/>
                  </a:lnTo>
                  <a:lnTo>
                    <a:pt x="995" y="824"/>
                  </a:lnTo>
                  <a:lnTo>
                    <a:pt x="995" y="809"/>
                  </a:lnTo>
                  <a:lnTo>
                    <a:pt x="1000" y="799"/>
                  </a:lnTo>
                  <a:lnTo>
                    <a:pt x="1005" y="789"/>
                  </a:lnTo>
                  <a:lnTo>
                    <a:pt x="1010" y="774"/>
                  </a:lnTo>
                  <a:lnTo>
                    <a:pt x="1016" y="764"/>
                  </a:lnTo>
                  <a:lnTo>
                    <a:pt x="1021" y="750"/>
                  </a:lnTo>
                  <a:lnTo>
                    <a:pt x="1026" y="740"/>
                  </a:lnTo>
                  <a:lnTo>
                    <a:pt x="1031" y="725"/>
                  </a:lnTo>
                  <a:lnTo>
                    <a:pt x="1036" y="710"/>
                  </a:lnTo>
                  <a:lnTo>
                    <a:pt x="1036" y="700"/>
                  </a:lnTo>
                  <a:lnTo>
                    <a:pt x="1046" y="690"/>
                  </a:lnTo>
                  <a:lnTo>
                    <a:pt x="1051" y="676"/>
                  </a:lnTo>
                  <a:lnTo>
                    <a:pt x="1056" y="661"/>
                  </a:lnTo>
                  <a:lnTo>
                    <a:pt x="1061" y="646"/>
                  </a:lnTo>
                  <a:lnTo>
                    <a:pt x="1066" y="636"/>
                  </a:lnTo>
                  <a:lnTo>
                    <a:pt x="1071" y="621"/>
                  </a:lnTo>
                  <a:lnTo>
                    <a:pt x="1076" y="612"/>
                  </a:lnTo>
                  <a:lnTo>
                    <a:pt x="1081" y="597"/>
                  </a:lnTo>
                  <a:lnTo>
                    <a:pt x="1086" y="582"/>
                  </a:lnTo>
                  <a:lnTo>
                    <a:pt x="1091" y="567"/>
                  </a:lnTo>
                  <a:lnTo>
                    <a:pt x="1096" y="557"/>
                  </a:lnTo>
                  <a:lnTo>
                    <a:pt x="1101" y="543"/>
                  </a:lnTo>
                  <a:lnTo>
                    <a:pt x="1106" y="533"/>
                  </a:lnTo>
                  <a:lnTo>
                    <a:pt x="1111" y="518"/>
                  </a:lnTo>
                  <a:lnTo>
                    <a:pt x="1116" y="503"/>
                  </a:lnTo>
                  <a:lnTo>
                    <a:pt x="1121" y="488"/>
                  </a:lnTo>
                  <a:lnTo>
                    <a:pt x="1126" y="478"/>
                  </a:lnTo>
                  <a:lnTo>
                    <a:pt x="1131" y="464"/>
                  </a:lnTo>
                  <a:lnTo>
                    <a:pt x="1136" y="449"/>
                  </a:lnTo>
                  <a:lnTo>
                    <a:pt x="1146" y="434"/>
                  </a:lnTo>
                  <a:lnTo>
                    <a:pt x="1151" y="424"/>
                  </a:lnTo>
                  <a:lnTo>
                    <a:pt x="1151" y="409"/>
                  </a:lnTo>
                  <a:lnTo>
                    <a:pt x="1156" y="395"/>
                  </a:lnTo>
                  <a:lnTo>
                    <a:pt x="1161" y="380"/>
                  </a:lnTo>
                  <a:lnTo>
                    <a:pt x="1166" y="370"/>
                  </a:lnTo>
                  <a:lnTo>
                    <a:pt x="1171" y="355"/>
                  </a:lnTo>
                  <a:lnTo>
                    <a:pt x="1171" y="340"/>
                  </a:lnTo>
                  <a:lnTo>
                    <a:pt x="1176" y="326"/>
                  </a:lnTo>
                  <a:lnTo>
                    <a:pt x="1181" y="316"/>
                  </a:lnTo>
                  <a:lnTo>
                    <a:pt x="1186" y="301"/>
                  </a:lnTo>
                  <a:lnTo>
                    <a:pt x="1186" y="286"/>
                  </a:lnTo>
                  <a:lnTo>
                    <a:pt x="1191" y="271"/>
                  </a:lnTo>
                  <a:lnTo>
                    <a:pt x="1196" y="256"/>
                  </a:lnTo>
                  <a:lnTo>
                    <a:pt x="1196" y="242"/>
                  </a:lnTo>
                  <a:lnTo>
                    <a:pt x="1201" y="232"/>
                  </a:lnTo>
                  <a:lnTo>
                    <a:pt x="1201" y="217"/>
                  </a:lnTo>
                  <a:lnTo>
                    <a:pt x="1206" y="207"/>
                  </a:lnTo>
                  <a:lnTo>
                    <a:pt x="1206" y="192"/>
                  </a:lnTo>
                  <a:lnTo>
                    <a:pt x="1206" y="178"/>
                  </a:lnTo>
                  <a:lnTo>
                    <a:pt x="1206" y="163"/>
                  </a:lnTo>
                  <a:lnTo>
                    <a:pt x="1206" y="153"/>
                  </a:lnTo>
                  <a:lnTo>
                    <a:pt x="1206" y="138"/>
                  </a:lnTo>
                  <a:lnTo>
                    <a:pt x="1206" y="128"/>
                  </a:lnTo>
                  <a:lnTo>
                    <a:pt x="1206" y="113"/>
                  </a:lnTo>
                  <a:lnTo>
                    <a:pt x="1211" y="99"/>
                  </a:lnTo>
                  <a:lnTo>
                    <a:pt x="1206" y="89"/>
                  </a:lnTo>
                  <a:lnTo>
                    <a:pt x="1206" y="74"/>
                  </a:lnTo>
                  <a:lnTo>
                    <a:pt x="1206" y="59"/>
                  </a:lnTo>
                  <a:lnTo>
                    <a:pt x="1206" y="49"/>
                  </a:lnTo>
                  <a:lnTo>
                    <a:pt x="1201" y="35"/>
                  </a:lnTo>
                  <a:lnTo>
                    <a:pt x="1201" y="25"/>
                  </a:lnTo>
                  <a:lnTo>
                    <a:pt x="1196" y="15"/>
                  </a:lnTo>
                  <a:lnTo>
                    <a:pt x="1196" y="0"/>
                  </a:lnTo>
                  <a:lnTo>
                    <a:pt x="1191" y="5"/>
                  </a:lnTo>
                  <a:lnTo>
                    <a:pt x="1186" y="20"/>
                  </a:lnTo>
                  <a:lnTo>
                    <a:pt x="1181" y="30"/>
                  </a:lnTo>
                  <a:lnTo>
                    <a:pt x="1171" y="39"/>
                  </a:lnTo>
                  <a:lnTo>
                    <a:pt x="1166" y="49"/>
                  </a:lnTo>
                  <a:lnTo>
                    <a:pt x="1166" y="64"/>
                  </a:lnTo>
                  <a:lnTo>
                    <a:pt x="1156" y="74"/>
                  </a:lnTo>
                  <a:lnTo>
                    <a:pt x="1151" y="89"/>
                  </a:lnTo>
                  <a:lnTo>
                    <a:pt x="1146" y="99"/>
                  </a:lnTo>
                  <a:lnTo>
                    <a:pt x="1141" y="113"/>
                  </a:lnTo>
                  <a:lnTo>
                    <a:pt x="1136" y="128"/>
                  </a:lnTo>
                  <a:lnTo>
                    <a:pt x="1131" y="138"/>
                  </a:lnTo>
                  <a:lnTo>
                    <a:pt x="1101" y="113"/>
                  </a:lnTo>
                  <a:lnTo>
                    <a:pt x="1101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 rot="9362400">
              <a:off x="7469280" y="1258560"/>
              <a:ext cx="1332000" cy="3704040"/>
            </a:xfrm>
            <a:custGeom>
              <a:avLst/>
              <a:gdLst/>
              <a:ahLst/>
              <a:rect l="l" t="t" r="r" b="b"/>
              <a:pathLst>
                <a:path w="839" h="2333">
                  <a:moveTo>
                    <a:pt x="25" y="2323"/>
                  </a:moveTo>
                  <a:lnTo>
                    <a:pt x="407" y="1327"/>
                  </a:lnTo>
                  <a:lnTo>
                    <a:pt x="834" y="286"/>
                  </a:lnTo>
                  <a:lnTo>
                    <a:pt x="839" y="266"/>
                  </a:lnTo>
                  <a:lnTo>
                    <a:pt x="834" y="252"/>
                  </a:lnTo>
                  <a:lnTo>
                    <a:pt x="824" y="232"/>
                  </a:lnTo>
                  <a:lnTo>
                    <a:pt x="809" y="222"/>
                  </a:lnTo>
                  <a:lnTo>
                    <a:pt x="246" y="0"/>
                  </a:lnTo>
                  <a:lnTo>
                    <a:pt x="231" y="0"/>
                  </a:lnTo>
                  <a:lnTo>
                    <a:pt x="226" y="10"/>
                  </a:lnTo>
                  <a:lnTo>
                    <a:pt x="221" y="20"/>
                  </a:lnTo>
                  <a:lnTo>
                    <a:pt x="221" y="40"/>
                  </a:lnTo>
                  <a:lnTo>
                    <a:pt x="226" y="54"/>
                  </a:lnTo>
                  <a:lnTo>
                    <a:pt x="231" y="69"/>
                  </a:lnTo>
                  <a:lnTo>
                    <a:pt x="241" y="89"/>
                  </a:lnTo>
                  <a:lnTo>
                    <a:pt x="251" y="104"/>
                  </a:lnTo>
                  <a:lnTo>
                    <a:pt x="678" y="311"/>
                  </a:lnTo>
                  <a:lnTo>
                    <a:pt x="427" y="1056"/>
                  </a:lnTo>
                  <a:lnTo>
                    <a:pt x="0" y="2318"/>
                  </a:lnTo>
                  <a:lnTo>
                    <a:pt x="0" y="2328"/>
                  </a:lnTo>
                  <a:lnTo>
                    <a:pt x="5" y="2333"/>
                  </a:lnTo>
                  <a:lnTo>
                    <a:pt x="15" y="2328"/>
                  </a:lnTo>
                  <a:lnTo>
                    <a:pt x="25" y="2323"/>
                  </a:lnTo>
                  <a:lnTo>
                    <a:pt x="25" y="2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 rot="9362400">
              <a:off x="6784560" y="749160"/>
              <a:ext cx="1013400" cy="4540320"/>
            </a:xfrm>
            <a:custGeom>
              <a:avLst/>
              <a:gdLst/>
              <a:ahLst/>
              <a:rect l="l" t="t" r="r" b="b"/>
              <a:pathLst>
                <a:path w="638" h="2860">
                  <a:moveTo>
                    <a:pt x="337" y="2860"/>
                  </a:moveTo>
                  <a:lnTo>
                    <a:pt x="342" y="2825"/>
                  </a:lnTo>
                  <a:lnTo>
                    <a:pt x="347" y="2796"/>
                  </a:lnTo>
                  <a:lnTo>
                    <a:pt x="357" y="2761"/>
                  </a:lnTo>
                  <a:lnTo>
                    <a:pt x="362" y="2732"/>
                  </a:lnTo>
                  <a:lnTo>
                    <a:pt x="367" y="2697"/>
                  </a:lnTo>
                  <a:lnTo>
                    <a:pt x="377" y="2668"/>
                  </a:lnTo>
                  <a:lnTo>
                    <a:pt x="382" y="2638"/>
                  </a:lnTo>
                  <a:lnTo>
                    <a:pt x="392" y="2603"/>
                  </a:lnTo>
                  <a:lnTo>
                    <a:pt x="397" y="2574"/>
                  </a:lnTo>
                  <a:lnTo>
                    <a:pt x="402" y="2539"/>
                  </a:lnTo>
                  <a:lnTo>
                    <a:pt x="407" y="2510"/>
                  </a:lnTo>
                  <a:lnTo>
                    <a:pt x="417" y="2475"/>
                  </a:lnTo>
                  <a:lnTo>
                    <a:pt x="422" y="2446"/>
                  </a:lnTo>
                  <a:lnTo>
                    <a:pt x="427" y="2411"/>
                  </a:lnTo>
                  <a:lnTo>
                    <a:pt x="432" y="2382"/>
                  </a:lnTo>
                  <a:lnTo>
                    <a:pt x="442" y="2352"/>
                  </a:lnTo>
                  <a:lnTo>
                    <a:pt x="447" y="2317"/>
                  </a:lnTo>
                  <a:lnTo>
                    <a:pt x="452" y="2288"/>
                  </a:lnTo>
                  <a:lnTo>
                    <a:pt x="457" y="2253"/>
                  </a:lnTo>
                  <a:lnTo>
                    <a:pt x="462" y="2224"/>
                  </a:lnTo>
                  <a:lnTo>
                    <a:pt x="467" y="2189"/>
                  </a:lnTo>
                  <a:lnTo>
                    <a:pt x="477" y="2160"/>
                  </a:lnTo>
                  <a:lnTo>
                    <a:pt x="482" y="2125"/>
                  </a:lnTo>
                  <a:lnTo>
                    <a:pt x="487" y="2095"/>
                  </a:lnTo>
                  <a:lnTo>
                    <a:pt x="487" y="2061"/>
                  </a:lnTo>
                  <a:lnTo>
                    <a:pt x="497" y="2026"/>
                  </a:lnTo>
                  <a:lnTo>
                    <a:pt x="497" y="1997"/>
                  </a:lnTo>
                  <a:lnTo>
                    <a:pt x="502" y="1962"/>
                  </a:lnTo>
                  <a:lnTo>
                    <a:pt x="507" y="1933"/>
                  </a:lnTo>
                  <a:lnTo>
                    <a:pt x="512" y="1898"/>
                  </a:lnTo>
                  <a:lnTo>
                    <a:pt x="517" y="1869"/>
                  </a:lnTo>
                  <a:lnTo>
                    <a:pt x="528" y="1834"/>
                  </a:lnTo>
                  <a:lnTo>
                    <a:pt x="528" y="1805"/>
                  </a:lnTo>
                  <a:lnTo>
                    <a:pt x="533" y="1770"/>
                  </a:lnTo>
                  <a:lnTo>
                    <a:pt x="538" y="1735"/>
                  </a:lnTo>
                  <a:lnTo>
                    <a:pt x="543" y="1706"/>
                  </a:lnTo>
                  <a:lnTo>
                    <a:pt x="548" y="1671"/>
                  </a:lnTo>
                  <a:lnTo>
                    <a:pt x="548" y="1637"/>
                  </a:lnTo>
                  <a:lnTo>
                    <a:pt x="553" y="1607"/>
                  </a:lnTo>
                  <a:lnTo>
                    <a:pt x="558" y="1573"/>
                  </a:lnTo>
                  <a:lnTo>
                    <a:pt x="563" y="1543"/>
                  </a:lnTo>
                  <a:lnTo>
                    <a:pt x="563" y="1509"/>
                  </a:lnTo>
                  <a:lnTo>
                    <a:pt x="568" y="1474"/>
                  </a:lnTo>
                  <a:lnTo>
                    <a:pt x="573" y="1445"/>
                  </a:lnTo>
                  <a:lnTo>
                    <a:pt x="578" y="1410"/>
                  </a:lnTo>
                  <a:lnTo>
                    <a:pt x="578" y="1380"/>
                  </a:lnTo>
                  <a:lnTo>
                    <a:pt x="583" y="1346"/>
                  </a:lnTo>
                  <a:lnTo>
                    <a:pt x="588" y="1316"/>
                  </a:lnTo>
                  <a:lnTo>
                    <a:pt x="588" y="1282"/>
                  </a:lnTo>
                  <a:lnTo>
                    <a:pt x="593" y="1252"/>
                  </a:lnTo>
                  <a:lnTo>
                    <a:pt x="598" y="1218"/>
                  </a:lnTo>
                  <a:lnTo>
                    <a:pt x="603" y="1183"/>
                  </a:lnTo>
                  <a:lnTo>
                    <a:pt x="603" y="1154"/>
                  </a:lnTo>
                  <a:lnTo>
                    <a:pt x="608" y="1119"/>
                  </a:lnTo>
                  <a:lnTo>
                    <a:pt x="608" y="1089"/>
                  </a:lnTo>
                  <a:lnTo>
                    <a:pt x="613" y="1055"/>
                  </a:lnTo>
                  <a:lnTo>
                    <a:pt x="618" y="1025"/>
                  </a:lnTo>
                  <a:lnTo>
                    <a:pt x="618" y="991"/>
                  </a:lnTo>
                  <a:lnTo>
                    <a:pt x="623" y="956"/>
                  </a:lnTo>
                  <a:lnTo>
                    <a:pt x="628" y="927"/>
                  </a:lnTo>
                  <a:lnTo>
                    <a:pt x="628" y="892"/>
                  </a:lnTo>
                  <a:lnTo>
                    <a:pt x="633" y="863"/>
                  </a:lnTo>
                  <a:lnTo>
                    <a:pt x="633" y="833"/>
                  </a:lnTo>
                  <a:lnTo>
                    <a:pt x="638" y="798"/>
                  </a:lnTo>
                  <a:lnTo>
                    <a:pt x="638" y="784"/>
                  </a:lnTo>
                  <a:lnTo>
                    <a:pt x="638" y="769"/>
                  </a:lnTo>
                  <a:lnTo>
                    <a:pt x="638" y="754"/>
                  </a:lnTo>
                  <a:lnTo>
                    <a:pt x="638" y="739"/>
                  </a:lnTo>
                  <a:lnTo>
                    <a:pt x="638" y="725"/>
                  </a:lnTo>
                  <a:lnTo>
                    <a:pt x="638" y="710"/>
                  </a:lnTo>
                  <a:lnTo>
                    <a:pt x="638" y="695"/>
                  </a:lnTo>
                  <a:lnTo>
                    <a:pt x="638" y="680"/>
                  </a:lnTo>
                  <a:lnTo>
                    <a:pt x="638" y="660"/>
                  </a:lnTo>
                  <a:lnTo>
                    <a:pt x="638" y="651"/>
                  </a:lnTo>
                  <a:lnTo>
                    <a:pt x="638" y="631"/>
                  </a:lnTo>
                  <a:lnTo>
                    <a:pt x="638" y="616"/>
                  </a:lnTo>
                  <a:lnTo>
                    <a:pt x="633" y="601"/>
                  </a:lnTo>
                  <a:lnTo>
                    <a:pt x="633" y="586"/>
                  </a:lnTo>
                  <a:lnTo>
                    <a:pt x="633" y="572"/>
                  </a:lnTo>
                  <a:lnTo>
                    <a:pt x="633" y="557"/>
                  </a:lnTo>
                  <a:lnTo>
                    <a:pt x="628" y="537"/>
                  </a:lnTo>
                  <a:lnTo>
                    <a:pt x="623" y="522"/>
                  </a:lnTo>
                  <a:lnTo>
                    <a:pt x="618" y="508"/>
                  </a:lnTo>
                  <a:lnTo>
                    <a:pt x="618" y="493"/>
                  </a:lnTo>
                  <a:lnTo>
                    <a:pt x="613" y="473"/>
                  </a:lnTo>
                  <a:lnTo>
                    <a:pt x="608" y="458"/>
                  </a:lnTo>
                  <a:lnTo>
                    <a:pt x="603" y="443"/>
                  </a:lnTo>
                  <a:lnTo>
                    <a:pt x="603" y="429"/>
                  </a:lnTo>
                  <a:lnTo>
                    <a:pt x="598" y="414"/>
                  </a:lnTo>
                  <a:lnTo>
                    <a:pt x="588" y="399"/>
                  </a:lnTo>
                  <a:lnTo>
                    <a:pt x="583" y="384"/>
                  </a:lnTo>
                  <a:lnTo>
                    <a:pt x="578" y="369"/>
                  </a:lnTo>
                  <a:lnTo>
                    <a:pt x="573" y="350"/>
                  </a:lnTo>
                  <a:lnTo>
                    <a:pt x="568" y="335"/>
                  </a:lnTo>
                  <a:lnTo>
                    <a:pt x="558" y="320"/>
                  </a:lnTo>
                  <a:lnTo>
                    <a:pt x="553" y="310"/>
                  </a:lnTo>
                  <a:lnTo>
                    <a:pt x="543" y="295"/>
                  </a:lnTo>
                  <a:lnTo>
                    <a:pt x="533" y="281"/>
                  </a:lnTo>
                  <a:lnTo>
                    <a:pt x="528" y="266"/>
                  </a:lnTo>
                  <a:lnTo>
                    <a:pt x="517" y="251"/>
                  </a:lnTo>
                  <a:lnTo>
                    <a:pt x="502" y="236"/>
                  </a:lnTo>
                  <a:lnTo>
                    <a:pt x="497" y="226"/>
                  </a:lnTo>
                  <a:lnTo>
                    <a:pt x="482" y="212"/>
                  </a:lnTo>
                  <a:lnTo>
                    <a:pt x="477" y="202"/>
                  </a:lnTo>
                  <a:lnTo>
                    <a:pt x="462" y="187"/>
                  </a:lnTo>
                  <a:lnTo>
                    <a:pt x="452" y="172"/>
                  </a:lnTo>
                  <a:lnTo>
                    <a:pt x="437" y="162"/>
                  </a:lnTo>
                  <a:lnTo>
                    <a:pt x="427" y="152"/>
                  </a:lnTo>
                  <a:lnTo>
                    <a:pt x="412" y="138"/>
                  </a:lnTo>
                  <a:lnTo>
                    <a:pt x="397" y="128"/>
                  </a:lnTo>
                  <a:lnTo>
                    <a:pt x="382" y="118"/>
                  </a:lnTo>
                  <a:lnTo>
                    <a:pt x="367" y="108"/>
                  </a:lnTo>
                  <a:lnTo>
                    <a:pt x="352" y="98"/>
                  </a:lnTo>
                  <a:lnTo>
                    <a:pt x="332" y="88"/>
                  </a:lnTo>
                  <a:lnTo>
                    <a:pt x="316" y="78"/>
                  </a:lnTo>
                  <a:lnTo>
                    <a:pt x="301" y="69"/>
                  </a:lnTo>
                  <a:lnTo>
                    <a:pt x="281" y="59"/>
                  </a:lnTo>
                  <a:lnTo>
                    <a:pt x="261" y="54"/>
                  </a:lnTo>
                  <a:lnTo>
                    <a:pt x="246" y="44"/>
                  </a:lnTo>
                  <a:lnTo>
                    <a:pt x="226" y="39"/>
                  </a:lnTo>
                  <a:lnTo>
                    <a:pt x="201" y="34"/>
                  </a:lnTo>
                  <a:lnTo>
                    <a:pt x="181" y="24"/>
                  </a:lnTo>
                  <a:lnTo>
                    <a:pt x="161" y="19"/>
                  </a:lnTo>
                  <a:lnTo>
                    <a:pt x="141" y="14"/>
                  </a:lnTo>
                  <a:lnTo>
                    <a:pt x="115" y="9"/>
                  </a:lnTo>
                  <a:lnTo>
                    <a:pt x="95" y="5"/>
                  </a:lnTo>
                  <a:lnTo>
                    <a:pt x="70" y="5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0" y="14"/>
                  </a:lnTo>
                  <a:lnTo>
                    <a:pt x="10" y="29"/>
                  </a:lnTo>
                  <a:lnTo>
                    <a:pt x="15" y="39"/>
                  </a:lnTo>
                  <a:lnTo>
                    <a:pt x="25" y="49"/>
                  </a:lnTo>
                  <a:lnTo>
                    <a:pt x="30" y="54"/>
                  </a:lnTo>
                  <a:lnTo>
                    <a:pt x="40" y="59"/>
                  </a:lnTo>
                  <a:lnTo>
                    <a:pt x="50" y="69"/>
                  </a:lnTo>
                  <a:lnTo>
                    <a:pt x="60" y="74"/>
                  </a:lnTo>
                  <a:lnTo>
                    <a:pt x="70" y="78"/>
                  </a:lnTo>
                  <a:lnTo>
                    <a:pt x="85" y="88"/>
                  </a:lnTo>
                  <a:lnTo>
                    <a:pt x="100" y="93"/>
                  </a:lnTo>
                  <a:lnTo>
                    <a:pt x="115" y="103"/>
                  </a:lnTo>
                  <a:lnTo>
                    <a:pt x="131" y="108"/>
                  </a:lnTo>
                  <a:lnTo>
                    <a:pt x="151" y="118"/>
                  </a:lnTo>
                  <a:lnTo>
                    <a:pt x="161" y="123"/>
                  </a:lnTo>
                  <a:lnTo>
                    <a:pt x="171" y="128"/>
                  </a:lnTo>
                  <a:lnTo>
                    <a:pt x="181" y="133"/>
                  </a:lnTo>
                  <a:lnTo>
                    <a:pt x="191" y="138"/>
                  </a:lnTo>
                  <a:lnTo>
                    <a:pt x="211" y="148"/>
                  </a:lnTo>
                  <a:lnTo>
                    <a:pt x="231" y="157"/>
                  </a:lnTo>
                  <a:lnTo>
                    <a:pt x="251" y="167"/>
                  </a:lnTo>
                  <a:lnTo>
                    <a:pt x="271" y="182"/>
                  </a:lnTo>
                  <a:lnTo>
                    <a:pt x="286" y="192"/>
                  </a:lnTo>
                  <a:lnTo>
                    <a:pt x="301" y="202"/>
                  </a:lnTo>
                  <a:lnTo>
                    <a:pt x="322" y="217"/>
                  </a:lnTo>
                  <a:lnTo>
                    <a:pt x="337" y="231"/>
                  </a:lnTo>
                  <a:lnTo>
                    <a:pt x="352" y="246"/>
                  </a:lnTo>
                  <a:lnTo>
                    <a:pt x="367" y="261"/>
                  </a:lnTo>
                  <a:lnTo>
                    <a:pt x="377" y="271"/>
                  </a:lnTo>
                  <a:lnTo>
                    <a:pt x="392" y="291"/>
                  </a:lnTo>
                  <a:lnTo>
                    <a:pt x="402" y="305"/>
                  </a:lnTo>
                  <a:lnTo>
                    <a:pt x="412" y="320"/>
                  </a:lnTo>
                  <a:lnTo>
                    <a:pt x="422" y="335"/>
                  </a:lnTo>
                  <a:lnTo>
                    <a:pt x="432" y="355"/>
                  </a:lnTo>
                  <a:lnTo>
                    <a:pt x="442" y="374"/>
                  </a:lnTo>
                  <a:lnTo>
                    <a:pt x="447" y="389"/>
                  </a:lnTo>
                  <a:lnTo>
                    <a:pt x="457" y="409"/>
                  </a:lnTo>
                  <a:lnTo>
                    <a:pt x="462" y="429"/>
                  </a:lnTo>
                  <a:lnTo>
                    <a:pt x="467" y="443"/>
                  </a:lnTo>
                  <a:lnTo>
                    <a:pt x="477" y="463"/>
                  </a:lnTo>
                  <a:lnTo>
                    <a:pt x="482" y="483"/>
                  </a:lnTo>
                  <a:lnTo>
                    <a:pt x="487" y="503"/>
                  </a:lnTo>
                  <a:lnTo>
                    <a:pt x="487" y="522"/>
                  </a:lnTo>
                  <a:lnTo>
                    <a:pt x="492" y="542"/>
                  </a:lnTo>
                  <a:lnTo>
                    <a:pt x="492" y="562"/>
                  </a:lnTo>
                  <a:lnTo>
                    <a:pt x="497" y="582"/>
                  </a:lnTo>
                  <a:lnTo>
                    <a:pt x="497" y="601"/>
                  </a:lnTo>
                  <a:lnTo>
                    <a:pt x="502" y="626"/>
                  </a:lnTo>
                  <a:lnTo>
                    <a:pt x="502" y="646"/>
                  </a:lnTo>
                  <a:lnTo>
                    <a:pt x="502" y="670"/>
                  </a:lnTo>
                  <a:lnTo>
                    <a:pt x="502" y="690"/>
                  </a:lnTo>
                  <a:lnTo>
                    <a:pt x="502" y="710"/>
                  </a:lnTo>
                  <a:lnTo>
                    <a:pt x="502" y="729"/>
                  </a:lnTo>
                  <a:lnTo>
                    <a:pt x="502" y="754"/>
                  </a:lnTo>
                  <a:lnTo>
                    <a:pt x="502" y="774"/>
                  </a:lnTo>
                  <a:lnTo>
                    <a:pt x="502" y="794"/>
                  </a:lnTo>
                  <a:lnTo>
                    <a:pt x="497" y="818"/>
                  </a:lnTo>
                  <a:lnTo>
                    <a:pt x="497" y="838"/>
                  </a:lnTo>
                  <a:lnTo>
                    <a:pt x="497" y="863"/>
                  </a:lnTo>
                  <a:lnTo>
                    <a:pt x="492" y="882"/>
                  </a:lnTo>
                  <a:lnTo>
                    <a:pt x="487" y="902"/>
                  </a:lnTo>
                  <a:lnTo>
                    <a:pt x="487" y="927"/>
                  </a:lnTo>
                  <a:lnTo>
                    <a:pt x="482" y="946"/>
                  </a:lnTo>
                  <a:lnTo>
                    <a:pt x="482" y="971"/>
                  </a:lnTo>
                  <a:lnTo>
                    <a:pt x="477" y="991"/>
                  </a:lnTo>
                  <a:lnTo>
                    <a:pt x="477" y="1015"/>
                  </a:lnTo>
                  <a:lnTo>
                    <a:pt x="472" y="1035"/>
                  </a:lnTo>
                  <a:lnTo>
                    <a:pt x="467" y="1055"/>
                  </a:lnTo>
                  <a:lnTo>
                    <a:pt x="462" y="1080"/>
                  </a:lnTo>
                  <a:lnTo>
                    <a:pt x="462" y="1099"/>
                  </a:lnTo>
                  <a:lnTo>
                    <a:pt x="457" y="1119"/>
                  </a:lnTo>
                  <a:lnTo>
                    <a:pt x="452" y="1144"/>
                  </a:lnTo>
                  <a:lnTo>
                    <a:pt x="452" y="1163"/>
                  </a:lnTo>
                  <a:lnTo>
                    <a:pt x="447" y="1183"/>
                  </a:lnTo>
                  <a:lnTo>
                    <a:pt x="442" y="1203"/>
                  </a:lnTo>
                  <a:lnTo>
                    <a:pt x="442" y="1223"/>
                  </a:lnTo>
                  <a:lnTo>
                    <a:pt x="437" y="1242"/>
                  </a:lnTo>
                  <a:lnTo>
                    <a:pt x="432" y="1267"/>
                  </a:lnTo>
                  <a:lnTo>
                    <a:pt x="432" y="1287"/>
                  </a:lnTo>
                  <a:lnTo>
                    <a:pt x="427" y="1306"/>
                  </a:lnTo>
                  <a:lnTo>
                    <a:pt x="427" y="1326"/>
                  </a:lnTo>
                  <a:lnTo>
                    <a:pt x="422" y="1346"/>
                  </a:lnTo>
                  <a:lnTo>
                    <a:pt x="417" y="1366"/>
                  </a:lnTo>
                  <a:lnTo>
                    <a:pt x="417" y="1390"/>
                  </a:lnTo>
                  <a:lnTo>
                    <a:pt x="412" y="1415"/>
                  </a:lnTo>
                  <a:lnTo>
                    <a:pt x="407" y="1440"/>
                  </a:lnTo>
                  <a:lnTo>
                    <a:pt x="402" y="1459"/>
                  </a:lnTo>
                  <a:lnTo>
                    <a:pt x="402" y="1484"/>
                  </a:lnTo>
                  <a:lnTo>
                    <a:pt x="397" y="1509"/>
                  </a:lnTo>
                  <a:lnTo>
                    <a:pt x="397" y="1533"/>
                  </a:lnTo>
                  <a:lnTo>
                    <a:pt x="387" y="1553"/>
                  </a:lnTo>
                  <a:lnTo>
                    <a:pt x="387" y="1578"/>
                  </a:lnTo>
                  <a:lnTo>
                    <a:pt x="382" y="1602"/>
                  </a:lnTo>
                  <a:lnTo>
                    <a:pt x="382" y="1627"/>
                  </a:lnTo>
                  <a:lnTo>
                    <a:pt x="377" y="1647"/>
                  </a:lnTo>
                  <a:lnTo>
                    <a:pt x="372" y="1671"/>
                  </a:lnTo>
                  <a:lnTo>
                    <a:pt x="367" y="1696"/>
                  </a:lnTo>
                  <a:lnTo>
                    <a:pt x="367" y="1721"/>
                  </a:lnTo>
                  <a:lnTo>
                    <a:pt x="362" y="1740"/>
                  </a:lnTo>
                  <a:lnTo>
                    <a:pt x="362" y="1765"/>
                  </a:lnTo>
                  <a:lnTo>
                    <a:pt x="357" y="1790"/>
                  </a:lnTo>
                  <a:lnTo>
                    <a:pt x="352" y="1809"/>
                  </a:lnTo>
                  <a:lnTo>
                    <a:pt x="352" y="1834"/>
                  </a:lnTo>
                  <a:lnTo>
                    <a:pt x="347" y="1859"/>
                  </a:lnTo>
                  <a:lnTo>
                    <a:pt x="347" y="1883"/>
                  </a:lnTo>
                  <a:lnTo>
                    <a:pt x="342" y="1908"/>
                  </a:lnTo>
                  <a:lnTo>
                    <a:pt x="337" y="1928"/>
                  </a:lnTo>
                  <a:lnTo>
                    <a:pt x="337" y="1952"/>
                  </a:lnTo>
                  <a:lnTo>
                    <a:pt x="332" y="1977"/>
                  </a:lnTo>
                  <a:lnTo>
                    <a:pt x="332" y="2002"/>
                  </a:lnTo>
                  <a:lnTo>
                    <a:pt x="327" y="2026"/>
                  </a:lnTo>
                  <a:lnTo>
                    <a:pt x="327" y="2051"/>
                  </a:lnTo>
                  <a:lnTo>
                    <a:pt x="322" y="2071"/>
                  </a:lnTo>
                  <a:lnTo>
                    <a:pt x="322" y="2100"/>
                  </a:lnTo>
                  <a:lnTo>
                    <a:pt x="322" y="2120"/>
                  </a:lnTo>
                  <a:lnTo>
                    <a:pt x="316" y="2145"/>
                  </a:lnTo>
                  <a:lnTo>
                    <a:pt x="316" y="2169"/>
                  </a:lnTo>
                  <a:lnTo>
                    <a:pt x="311" y="2194"/>
                  </a:lnTo>
                  <a:lnTo>
                    <a:pt x="311" y="2214"/>
                  </a:lnTo>
                  <a:lnTo>
                    <a:pt x="311" y="2238"/>
                  </a:lnTo>
                  <a:lnTo>
                    <a:pt x="306" y="2263"/>
                  </a:lnTo>
                  <a:lnTo>
                    <a:pt x="306" y="2288"/>
                  </a:lnTo>
                  <a:lnTo>
                    <a:pt x="306" y="2308"/>
                  </a:lnTo>
                  <a:lnTo>
                    <a:pt x="306" y="2332"/>
                  </a:lnTo>
                  <a:lnTo>
                    <a:pt x="301" y="2357"/>
                  </a:lnTo>
                  <a:lnTo>
                    <a:pt x="301" y="2382"/>
                  </a:lnTo>
                  <a:lnTo>
                    <a:pt x="301" y="2406"/>
                  </a:lnTo>
                  <a:lnTo>
                    <a:pt x="301" y="2426"/>
                  </a:lnTo>
                  <a:lnTo>
                    <a:pt x="301" y="2451"/>
                  </a:lnTo>
                  <a:lnTo>
                    <a:pt x="301" y="2475"/>
                  </a:lnTo>
                  <a:lnTo>
                    <a:pt x="301" y="2500"/>
                  </a:lnTo>
                  <a:lnTo>
                    <a:pt x="301" y="2525"/>
                  </a:lnTo>
                  <a:lnTo>
                    <a:pt x="301" y="2549"/>
                  </a:lnTo>
                  <a:lnTo>
                    <a:pt x="301" y="2574"/>
                  </a:lnTo>
                  <a:lnTo>
                    <a:pt x="301" y="2594"/>
                  </a:lnTo>
                  <a:lnTo>
                    <a:pt x="306" y="2618"/>
                  </a:lnTo>
                  <a:lnTo>
                    <a:pt x="306" y="2643"/>
                  </a:lnTo>
                  <a:lnTo>
                    <a:pt x="311" y="2668"/>
                  </a:lnTo>
                  <a:lnTo>
                    <a:pt x="311" y="2692"/>
                  </a:lnTo>
                  <a:lnTo>
                    <a:pt x="311" y="2717"/>
                  </a:lnTo>
                  <a:lnTo>
                    <a:pt x="311" y="2737"/>
                  </a:lnTo>
                  <a:lnTo>
                    <a:pt x="316" y="2761"/>
                  </a:lnTo>
                  <a:lnTo>
                    <a:pt x="316" y="2786"/>
                  </a:lnTo>
                  <a:lnTo>
                    <a:pt x="322" y="2811"/>
                  </a:lnTo>
                  <a:lnTo>
                    <a:pt x="322" y="2835"/>
                  </a:lnTo>
                  <a:lnTo>
                    <a:pt x="332" y="2860"/>
                  </a:lnTo>
                  <a:lnTo>
                    <a:pt x="332" y="2860"/>
                  </a:lnTo>
                  <a:lnTo>
                    <a:pt x="337" y="2860"/>
                  </a:lnTo>
                  <a:lnTo>
                    <a:pt x="337" y="28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 rot="9362400">
              <a:off x="374400" y="785160"/>
              <a:ext cx="6397920" cy="4610160"/>
            </a:xfrm>
            <a:custGeom>
              <a:avLst/>
              <a:gdLst/>
              <a:ahLst/>
              <a:rect l="l" t="t" r="r" b="b"/>
              <a:pathLst>
                <a:path w="4030" h="2904">
                  <a:moveTo>
                    <a:pt x="4020" y="991"/>
                  </a:moveTo>
                  <a:lnTo>
                    <a:pt x="3990" y="971"/>
                  </a:lnTo>
                  <a:lnTo>
                    <a:pt x="3964" y="961"/>
                  </a:lnTo>
                  <a:lnTo>
                    <a:pt x="3934" y="946"/>
                  </a:lnTo>
                  <a:lnTo>
                    <a:pt x="3904" y="932"/>
                  </a:lnTo>
                  <a:lnTo>
                    <a:pt x="3874" y="922"/>
                  </a:lnTo>
                  <a:lnTo>
                    <a:pt x="3849" y="907"/>
                  </a:lnTo>
                  <a:lnTo>
                    <a:pt x="3819" y="892"/>
                  </a:lnTo>
                  <a:lnTo>
                    <a:pt x="3789" y="882"/>
                  </a:lnTo>
                  <a:lnTo>
                    <a:pt x="3758" y="872"/>
                  </a:lnTo>
                  <a:lnTo>
                    <a:pt x="3733" y="858"/>
                  </a:lnTo>
                  <a:lnTo>
                    <a:pt x="3698" y="843"/>
                  </a:lnTo>
                  <a:lnTo>
                    <a:pt x="3673" y="833"/>
                  </a:lnTo>
                  <a:lnTo>
                    <a:pt x="3638" y="823"/>
                  </a:lnTo>
                  <a:lnTo>
                    <a:pt x="3613" y="813"/>
                  </a:lnTo>
                  <a:lnTo>
                    <a:pt x="3583" y="803"/>
                  </a:lnTo>
                  <a:lnTo>
                    <a:pt x="3552" y="789"/>
                  </a:lnTo>
                  <a:lnTo>
                    <a:pt x="3522" y="779"/>
                  </a:lnTo>
                  <a:lnTo>
                    <a:pt x="3492" y="769"/>
                  </a:lnTo>
                  <a:lnTo>
                    <a:pt x="3457" y="759"/>
                  </a:lnTo>
                  <a:lnTo>
                    <a:pt x="3432" y="744"/>
                  </a:lnTo>
                  <a:lnTo>
                    <a:pt x="3397" y="734"/>
                  </a:lnTo>
                  <a:lnTo>
                    <a:pt x="3366" y="724"/>
                  </a:lnTo>
                  <a:lnTo>
                    <a:pt x="3336" y="715"/>
                  </a:lnTo>
                  <a:lnTo>
                    <a:pt x="3306" y="710"/>
                  </a:lnTo>
                  <a:lnTo>
                    <a:pt x="3276" y="695"/>
                  </a:lnTo>
                  <a:lnTo>
                    <a:pt x="3246" y="690"/>
                  </a:lnTo>
                  <a:lnTo>
                    <a:pt x="3216" y="680"/>
                  </a:lnTo>
                  <a:lnTo>
                    <a:pt x="3186" y="670"/>
                  </a:lnTo>
                  <a:lnTo>
                    <a:pt x="3150" y="660"/>
                  </a:lnTo>
                  <a:lnTo>
                    <a:pt x="3120" y="650"/>
                  </a:lnTo>
                  <a:lnTo>
                    <a:pt x="3090" y="641"/>
                  </a:lnTo>
                  <a:lnTo>
                    <a:pt x="3060" y="636"/>
                  </a:lnTo>
                  <a:lnTo>
                    <a:pt x="3030" y="626"/>
                  </a:lnTo>
                  <a:lnTo>
                    <a:pt x="3000" y="616"/>
                  </a:lnTo>
                  <a:lnTo>
                    <a:pt x="2964" y="606"/>
                  </a:lnTo>
                  <a:lnTo>
                    <a:pt x="2934" y="596"/>
                  </a:lnTo>
                  <a:lnTo>
                    <a:pt x="2904" y="586"/>
                  </a:lnTo>
                  <a:lnTo>
                    <a:pt x="2869" y="581"/>
                  </a:lnTo>
                  <a:lnTo>
                    <a:pt x="2839" y="572"/>
                  </a:lnTo>
                  <a:lnTo>
                    <a:pt x="2809" y="562"/>
                  </a:lnTo>
                  <a:lnTo>
                    <a:pt x="2778" y="552"/>
                  </a:lnTo>
                  <a:lnTo>
                    <a:pt x="2748" y="547"/>
                  </a:lnTo>
                  <a:lnTo>
                    <a:pt x="2713" y="537"/>
                  </a:lnTo>
                  <a:lnTo>
                    <a:pt x="2683" y="532"/>
                  </a:lnTo>
                  <a:lnTo>
                    <a:pt x="2653" y="522"/>
                  </a:lnTo>
                  <a:lnTo>
                    <a:pt x="2618" y="512"/>
                  </a:lnTo>
                  <a:lnTo>
                    <a:pt x="2588" y="503"/>
                  </a:lnTo>
                  <a:lnTo>
                    <a:pt x="2557" y="498"/>
                  </a:lnTo>
                  <a:lnTo>
                    <a:pt x="2522" y="488"/>
                  </a:lnTo>
                  <a:lnTo>
                    <a:pt x="2497" y="478"/>
                  </a:lnTo>
                  <a:lnTo>
                    <a:pt x="2462" y="468"/>
                  </a:lnTo>
                  <a:lnTo>
                    <a:pt x="2432" y="463"/>
                  </a:lnTo>
                  <a:lnTo>
                    <a:pt x="2402" y="453"/>
                  </a:lnTo>
                  <a:lnTo>
                    <a:pt x="2371" y="448"/>
                  </a:lnTo>
                  <a:lnTo>
                    <a:pt x="2341" y="438"/>
                  </a:lnTo>
                  <a:lnTo>
                    <a:pt x="2311" y="429"/>
                  </a:lnTo>
                  <a:lnTo>
                    <a:pt x="2281" y="419"/>
                  </a:lnTo>
                  <a:lnTo>
                    <a:pt x="2251" y="414"/>
                  </a:lnTo>
                  <a:lnTo>
                    <a:pt x="2216" y="404"/>
                  </a:lnTo>
                  <a:lnTo>
                    <a:pt x="2185" y="399"/>
                  </a:lnTo>
                  <a:lnTo>
                    <a:pt x="2155" y="389"/>
                  </a:lnTo>
                  <a:lnTo>
                    <a:pt x="2130" y="379"/>
                  </a:lnTo>
                  <a:lnTo>
                    <a:pt x="2095" y="369"/>
                  </a:lnTo>
                  <a:lnTo>
                    <a:pt x="2070" y="364"/>
                  </a:lnTo>
                  <a:lnTo>
                    <a:pt x="2045" y="355"/>
                  </a:lnTo>
                  <a:lnTo>
                    <a:pt x="2020" y="350"/>
                  </a:lnTo>
                  <a:lnTo>
                    <a:pt x="2000" y="340"/>
                  </a:lnTo>
                  <a:lnTo>
                    <a:pt x="1974" y="335"/>
                  </a:lnTo>
                  <a:lnTo>
                    <a:pt x="1949" y="325"/>
                  </a:lnTo>
                  <a:lnTo>
                    <a:pt x="1924" y="320"/>
                  </a:lnTo>
                  <a:lnTo>
                    <a:pt x="1899" y="310"/>
                  </a:lnTo>
                  <a:lnTo>
                    <a:pt x="1879" y="300"/>
                  </a:lnTo>
                  <a:lnTo>
                    <a:pt x="1849" y="290"/>
                  </a:lnTo>
                  <a:lnTo>
                    <a:pt x="1824" y="286"/>
                  </a:lnTo>
                  <a:lnTo>
                    <a:pt x="1799" y="271"/>
                  </a:lnTo>
                  <a:lnTo>
                    <a:pt x="1773" y="266"/>
                  </a:lnTo>
                  <a:lnTo>
                    <a:pt x="1748" y="256"/>
                  </a:lnTo>
                  <a:lnTo>
                    <a:pt x="1718" y="246"/>
                  </a:lnTo>
                  <a:lnTo>
                    <a:pt x="1693" y="236"/>
                  </a:lnTo>
                  <a:lnTo>
                    <a:pt x="1668" y="226"/>
                  </a:lnTo>
                  <a:lnTo>
                    <a:pt x="1643" y="217"/>
                  </a:lnTo>
                  <a:lnTo>
                    <a:pt x="1613" y="207"/>
                  </a:lnTo>
                  <a:lnTo>
                    <a:pt x="1582" y="197"/>
                  </a:lnTo>
                  <a:lnTo>
                    <a:pt x="1557" y="192"/>
                  </a:lnTo>
                  <a:lnTo>
                    <a:pt x="1527" y="177"/>
                  </a:lnTo>
                  <a:lnTo>
                    <a:pt x="1502" y="172"/>
                  </a:lnTo>
                  <a:lnTo>
                    <a:pt x="1472" y="162"/>
                  </a:lnTo>
                  <a:lnTo>
                    <a:pt x="1447" y="152"/>
                  </a:lnTo>
                  <a:lnTo>
                    <a:pt x="1417" y="143"/>
                  </a:lnTo>
                  <a:lnTo>
                    <a:pt x="1386" y="133"/>
                  </a:lnTo>
                  <a:lnTo>
                    <a:pt x="1361" y="123"/>
                  </a:lnTo>
                  <a:lnTo>
                    <a:pt x="1331" y="113"/>
                  </a:lnTo>
                  <a:lnTo>
                    <a:pt x="1301" y="108"/>
                  </a:lnTo>
                  <a:lnTo>
                    <a:pt x="1276" y="98"/>
                  </a:lnTo>
                  <a:lnTo>
                    <a:pt x="1246" y="88"/>
                  </a:lnTo>
                  <a:lnTo>
                    <a:pt x="1216" y="83"/>
                  </a:lnTo>
                  <a:lnTo>
                    <a:pt x="1185" y="74"/>
                  </a:lnTo>
                  <a:lnTo>
                    <a:pt x="1160" y="69"/>
                  </a:lnTo>
                  <a:lnTo>
                    <a:pt x="1130" y="59"/>
                  </a:lnTo>
                  <a:lnTo>
                    <a:pt x="1100" y="54"/>
                  </a:lnTo>
                  <a:lnTo>
                    <a:pt x="1070" y="44"/>
                  </a:lnTo>
                  <a:lnTo>
                    <a:pt x="1045" y="39"/>
                  </a:lnTo>
                  <a:lnTo>
                    <a:pt x="1015" y="34"/>
                  </a:lnTo>
                  <a:lnTo>
                    <a:pt x="984" y="29"/>
                  </a:lnTo>
                  <a:lnTo>
                    <a:pt x="959" y="24"/>
                  </a:lnTo>
                  <a:lnTo>
                    <a:pt x="929" y="19"/>
                  </a:lnTo>
                  <a:lnTo>
                    <a:pt x="899" y="14"/>
                  </a:lnTo>
                  <a:lnTo>
                    <a:pt x="869" y="14"/>
                  </a:lnTo>
                  <a:lnTo>
                    <a:pt x="844" y="9"/>
                  </a:lnTo>
                  <a:lnTo>
                    <a:pt x="814" y="4"/>
                  </a:lnTo>
                  <a:lnTo>
                    <a:pt x="788" y="4"/>
                  </a:lnTo>
                  <a:lnTo>
                    <a:pt x="763" y="4"/>
                  </a:lnTo>
                  <a:lnTo>
                    <a:pt x="733" y="0"/>
                  </a:lnTo>
                  <a:lnTo>
                    <a:pt x="708" y="0"/>
                  </a:lnTo>
                  <a:lnTo>
                    <a:pt x="678" y="0"/>
                  </a:lnTo>
                  <a:lnTo>
                    <a:pt x="653" y="0"/>
                  </a:lnTo>
                  <a:lnTo>
                    <a:pt x="623" y="0"/>
                  </a:lnTo>
                  <a:lnTo>
                    <a:pt x="598" y="4"/>
                  </a:lnTo>
                  <a:lnTo>
                    <a:pt x="572" y="4"/>
                  </a:lnTo>
                  <a:lnTo>
                    <a:pt x="547" y="9"/>
                  </a:lnTo>
                  <a:lnTo>
                    <a:pt x="517" y="14"/>
                  </a:lnTo>
                  <a:lnTo>
                    <a:pt x="497" y="19"/>
                  </a:lnTo>
                  <a:lnTo>
                    <a:pt x="467" y="24"/>
                  </a:lnTo>
                  <a:lnTo>
                    <a:pt x="447" y="29"/>
                  </a:lnTo>
                  <a:lnTo>
                    <a:pt x="417" y="34"/>
                  </a:lnTo>
                  <a:lnTo>
                    <a:pt x="397" y="44"/>
                  </a:lnTo>
                  <a:lnTo>
                    <a:pt x="371" y="54"/>
                  </a:lnTo>
                  <a:lnTo>
                    <a:pt x="351" y="64"/>
                  </a:lnTo>
                  <a:lnTo>
                    <a:pt x="331" y="69"/>
                  </a:lnTo>
                  <a:lnTo>
                    <a:pt x="311" y="78"/>
                  </a:lnTo>
                  <a:lnTo>
                    <a:pt x="296" y="88"/>
                  </a:lnTo>
                  <a:lnTo>
                    <a:pt x="281" y="98"/>
                  </a:lnTo>
                  <a:lnTo>
                    <a:pt x="266" y="113"/>
                  </a:lnTo>
                  <a:lnTo>
                    <a:pt x="251" y="123"/>
                  </a:lnTo>
                  <a:lnTo>
                    <a:pt x="236" y="133"/>
                  </a:lnTo>
                  <a:lnTo>
                    <a:pt x="226" y="152"/>
                  </a:lnTo>
                  <a:lnTo>
                    <a:pt x="211" y="162"/>
                  </a:lnTo>
                  <a:lnTo>
                    <a:pt x="195" y="182"/>
                  </a:lnTo>
                  <a:lnTo>
                    <a:pt x="185" y="197"/>
                  </a:lnTo>
                  <a:lnTo>
                    <a:pt x="175" y="212"/>
                  </a:lnTo>
                  <a:lnTo>
                    <a:pt x="165" y="231"/>
                  </a:lnTo>
                  <a:lnTo>
                    <a:pt x="155" y="246"/>
                  </a:lnTo>
                  <a:lnTo>
                    <a:pt x="145" y="266"/>
                  </a:lnTo>
                  <a:lnTo>
                    <a:pt x="140" y="286"/>
                  </a:lnTo>
                  <a:lnTo>
                    <a:pt x="130" y="305"/>
                  </a:lnTo>
                  <a:lnTo>
                    <a:pt x="125" y="325"/>
                  </a:lnTo>
                  <a:lnTo>
                    <a:pt x="115" y="345"/>
                  </a:lnTo>
                  <a:lnTo>
                    <a:pt x="110" y="369"/>
                  </a:lnTo>
                  <a:lnTo>
                    <a:pt x="100" y="389"/>
                  </a:lnTo>
                  <a:lnTo>
                    <a:pt x="95" y="409"/>
                  </a:lnTo>
                  <a:lnTo>
                    <a:pt x="90" y="434"/>
                  </a:lnTo>
                  <a:lnTo>
                    <a:pt x="90" y="453"/>
                  </a:lnTo>
                  <a:lnTo>
                    <a:pt x="80" y="473"/>
                  </a:lnTo>
                  <a:lnTo>
                    <a:pt x="75" y="498"/>
                  </a:lnTo>
                  <a:lnTo>
                    <a:pt x="75" y="522"/>
                  </a:lnTo>
                  <a:lnTo>
                    <a:pt x="70" y="547"/>
                  </a:lnTo>
                  <a:lnTo>
                    <a:pt x="65" y="567"/>
                  </a:lnTo>
                  <a:lnTo>
                    <a:pt x="65" y="596"/>
                  </a:lnTo>
                  <a:lnTo>
                    <a:pt x="65" y="616"/>
                  </a:lnTo>
                  <a:lnTo>
                    <a:pt x="65" y="646"/>
                  </a:lnTo>
                  <a:lnTo>
                    <a:pt x="60" y="665"/>
                  </a:lnTo>
                  <a:lnTo>
                    <a:pt x="60" y="690"/>
                  </a:lnTo>
                  <a:lnTo>
                    <a:pt x="55" y="715"/>
                  </a:lnTo>
                  <a:lnTo>
                    <a:pt x="55" y="739"/>
                  </a:lnTo>
                  <a:lnTo>
                    <a:pt x="55" y="764"/>
                  </a:lnTo>
                  <a:lnTo>
                    <a:pt x="55" y="789"/>
                  </a:lnTo>
                  <a:lnTo>
                    <a:pt x="55" y="808"/>
                  </a:lnTo>
                  <a:lnTo>
                    <a:pt x="55" y="838"/>
                  </a:lnTo>
                  <a:lnTo>
                    <a:pt x="55" y="858"/>
                  </a:lnTo>
                  <a:lnTo>
                    <a:pt x="55" y="882"/>
                  </a:lnTo>
                  <a:lnTo>
                    <a:pt x="55" y="907"/>
                  </a:lnTo>
                  <a:lnTo>
                    <a:pt x="60" y="932"/>
                  </a:lnTo>
                  <a:lnTo>
                    <a:pt x="60" y="951"/>
                  </a:lnTo>
                  <a:lnTo>
                    <a:pt x="60" y="976"/>
                  </a:lnTo>
                  <a:lnTo>
                    <a:pt x="60" y="1001"/>
                  </a:lnTo>
                  <a:lnTo>
                    <a:pt x="65" y="1025"/>
                  </a:lnTo>
                  <a:lnTo>
                    <a:pt x="65" y="1045"/>
                  </a:lnTo>
                  <a:lnTo>
                    <a:pt x="65" y="1065"/>
                  </a:lnTo>
                  <a:lnTo>
                    <a:pt x="65" y="1089"/>
                  </a:lnTo>
                  <a:lnTo>
                    <a:pt x="65" y="1109"/>
                  </a:lnTo>
                  <a:lnTo>
                    <a:pt x="65" y="1129"/>
                  </a:lnTo>
                  <a:lnTo>
                    <a:pt x="70" y="1154"/>
                  </a:lnTo>
                  <a:lnTo>
                    <a:pt x="70" y="1173"/>
                  </a:lnTo>
                  <a:lnTo>
                    <a:pt x="75" y="1193"/>
                  </a:lnTo>
                  <a:lnTo>
                    <a:pt x="75" y="1213"/>
                  </a:lnTo>
                  <a:lnTo>
                    <a:pt x="75" y="1227"/>
                  </a:lnTo>
                  <a:lnTo>
                    <a:pt x="75" y="1247"/>
                  </a:lnTo>
                  <a:lnTo>
                    <a:pt x="80" y="1262"/>
                  </a:lnTo>
                  <a:lnTo>
                    <a:pt x="80" y="1282"/>
                  </a:lnTo>
                  <a:lnTo>
                    <a:pt x="80" y="1297"/>
                  </a:lnTo>
                  <a:lnTo>
                    <a:pt x="80" y="1311"/>
                  </a:lnTo>
                  <a:lnTo>
                    <a:pt x="85" y="1326"/>
                  </a:lnTo>
                  <a:lnTo>
                    <a:pt x="85" y="1341"/>
                  </a:lnTo>
                  <a:lnTo>
                    <a:pt x="85" y="1361"/>
                  </a:lnTo>
                  <a:lnTo>
                    <a:pt x="85" y="1375"/>
                  </a:lnTo>
                  <a:lnTo>
                    <a:pt x="85" y="1390"/>
                  </a:lnTo>
                  <a:lnTo>
                    <a:pt x="85" y="1405"/>
                  </a:lnTo>
                  <a:lnTo>
                    <a:pt x="85" y="1425"/>
                  </a:lnTo>
                  <a:lnTo>
                    <a:pt x="85" y="1440"/>
                  </a:lnTo>
                  <a:lnTo>
                    <a:pt x="85" y="1454"/>
                  </a:lnTo>
                  <a:lnTo>
                    <a:pt x="85" y="1469"/>
                  </a:lnTo>
                  <a:lnTo>
                    <a:pt x="85" y="1489"/>
                  </a:lnTo>
                  <a:lnTo>
                    <a:pt x="85" y="1504"/>
                  </a:lnTo>
                  <a:lnTo>
                    <a:pt x="85" y="1518"/>
                  </a:lnTo>
                  <a:lnTo>
                    <a:pt x="85" y="1533"/>
                  </a:lnTo>
                  <a:lnTo>
                    <a:pt x="85" y="1548"/>
                  </a:lnTo>
                  <a:lnTo>
                    <a:pt x="85" y="1568"/>
                  </a:lnTo>
                  <a:lnTo>
                    <a:pt x="85" y="1583"/>
                  </a:lnTo>
                  <a:lnTo>
                    <a:pt x="85" y="1597"/>
                  </a:lnTo>
                  <a:lnTo>
                    <a:pt x="85" y="1612"/>
                  </a:lnTo>
                  <a:lnTo>
                    <a:pt x="85" y="1627"/>
                  </a:lnTo>
                  <a:lnTo>
                    <a:pt x="85" y="1647"/>
                  </a:lnTo>
                  <a:lnTo>
                    <a:pt x="80" y="1657"/>
                  </a:lnTo>
                  <a:lnTo>
                    <a:pt x="80" y="1676"/>
                  </a:lnTo>
                  <a:lnTo>
                    <a:pt x="80" y="1691"/>
                  </a:lnTo>
                  <a:lnTo>
                    <a:pt x="80" y="1706"/>
                  </a:lnTo>
                  <a:lnTo>
                    <a:pt x="80" y="1721"/>
                  </a:lnTo>
                  <a:lnTo>
                    <a:pt x="80" y="1735"/>
                  </a:lnTo>
                  <a:lnTo>
                    <a:pt x="80" y="1750"/>
                  </a:lnTo>
                  <a:lnTo>
                    <a:pt x="80" y="1770"/>
                  </a:lnTo>
                  <a:lnTo>
                    <a:pt x="75" y="1785"/>
                  </a:lnTo>
                  <a:lnTo>
                    <a:pt x="75" y="1800"/>
                  </a:lnTo>
                  <a:lnTo>
                    <a:pt x="75" y="1814"/>
                  </a:lnTo>
                  <a:lnTo>
                    <a:pt x="75" y="1834"/>
                  </a:lnTo>
                  <a:lnTo>
                    <a:pt x="75" y="1849"/>
                  </a:lnTo>
                  <a:lnTo>
                    <a:pt x="75" y="1864"/>
                  </a:lnTo>
                  <a:lnTo>
                    <a:pt x="70" y="1878"/>
                  </a:lnTo>
                  <a:lnTo>
                    <a:pt x="70" y="1893"/>
                  </a:lnTo>
                  <a:lnTo>
                    <a:pt x="70" y="1908"/>
                  </a:lnTo>
                  <a:lnTo>
                    <a:pt x="65" y="1923"/>
                  </a:lnTo>
                  <a:lnTo>
                    <a:pt x="65" y="1938"/>
                  </a:lnTo>
                  <a:lnTo>
                    <a:pt x="65" y="1957"/>
                  </a:lnTo>
                  <a:lnTo>
                    <a:pt x="65" y="1972"/>
                  </a:lnTo>
                  <a:lnTo>
                    <a:pt x="60" y="1987"/>
                  </a:lnTo>
                  <a:lnTo>
                    <a:pt x="60" y="2002"/>
                  </a:lnTo>
                  <a:lnTo>
                    <a:pt x="60" y="2017"/>
                  </a:lnTo>
                  <a:lnTo>
                    <a:pt x="60" y="2031"/>
                  </a:lnTo>
                  <a:lnTo>
                    <a:pt x="55" y="2046"/>
                  </a:lnTo>
                  <a:lnTo>
                    <a:pt x="55" y="2061"/>
                  </a:lnTo>
                  <a:lnTo>
                    <a:pt x="55" y="2081"/>
                  </a:lnTo>
                  <a:lnTo>
                    <a:pt x="50" y="2095"/>
                  </a:lnTo>
                  <a:lnTo>
                    <a:pt x="50" y="2110"/>
                  </a:lnTo>
                  <a:lnTo>
                    <a:pt x="45" y="2125"/>
                  </a:lnTo>
                  <a:lnTo>
                    <a:pt x="45" y="2140"/>
                  </a:lnTo>
                  <a:lnTo>
                    <a:pt x="40" y="2155"/>
                  </a:lnTo>
                  <a:lnTo>
                    <a:pt x="40" y="2169"/>
                  </a:lnTo>
                  <a:lnTo>
                    <a:pt x="40" y="2189"/>
                  </a:lnTo>
                  <a:lnTo>
                    <a:pt x="40" y="2204"/>
                  </a:lnTo>
                  <a:lnTo>
                    <a:pt x="35" y="2219"/>
                  </a:lnTo>
                  <a:lnTo>
                    <a:pt x="30" y="2234"/>
                  </a:lnTo>
                  <a:lnTo>
                    <a:pt x="30" y="2248"/>
                  </a:lnTo>
                  <a:lnTo>
                    <a:pt x="30" y="2268"/>
                  </a:lnTo>
                  <a:lnTo>
                    <a:pt x="25" y="2283"/>
                  </a:lnTo>
                  <a:lnTo>
                    <a:pt x="25" y="2298"/>
                  </a:lnTo>
                  <a:lnTo>
                    <a:pt x="20" y="2312"/>
                  </a:lnTo>
                  <a:lnTo>
                    <a:pt x="20" y="2332"/>
                  </a:lnTo>
                  <a:lnTo>
                    <a:pt x="15" y="2347"/>
                  </a:lnTo>
                  <a:lnTo>
                    <a:pt x="15" y="2362"/>
                  </a:lnTo>
                  <a:lnTo>
                    <a:pt x="10" y="2381"/>
                  </a:lnTo>
                  <a:lnTo>
                    <a:pt x="10" y="2401"/>
                  </a:lnTo>
                  <a:lnTo>
                    <a:pt x="5" y="2416"/>
                  </a:lnTo>
                  <a:lnTo>
                    <a:pt x="5" y="2436"/>
                  </a:lnTo>
                  <a:lnTo>
                    <a:pt x="0" y="2450"/>
                  </a:lnTo>
                  <a:lnTo>
                    <a:pt x="0" y="2470"/>
                  </a:lnTo>
                  <a:lnTo>
                    <a:pt x="0" y="2490"/>
                  </a:lnTo>
                  <a:lnTo>
                    <a:pt x="0" y="2505"/>
                  </a:lnTo>
                  <a:lnTo>
                    <a:pt x="0" y="2524"/>
                  </a:lnTo>
                  <a:lnTo>
                    <a:pt x="0" y="2539"/>
                  </a:lnTo>
                  <a:lnTo>
                    <a:pt x="0" y="2559"/>
                  </a:lnTo>
                  <a:lnTo>
                    <a:pt x="0" y="2574"/>
                  </a:lnTo>
                  <a:lnTo>
                    <a:pt x="0" y="2594"/>
                  </a:lnTo>
                  <a:lnTo>
                    <a:pt x="0" y="2613"/>
                  </a:lnTo>
                  <a:lnTo>
                    <a:pt x="0" y="2628"/>
                  </a:lnTo>
                  <a:lnTo>
                    <a:pt x="0" y="2643"/>
                  </a:lnTo>
                  <a:lnTo>
                    <a:pt x="5" y="2663"/>
                  </a:lnTo>
                  <a:lnTo>
                    <a:pt x="10" y="2677"/>
                  </a:lnTo>
                  <a:lnTo>
                    <a:pt x="10" y="2697"/>
                  </a:lnTo>
                  <a:lnTo>
                    <a:pt x="15" y="2717"/>
                  </a:lnTo>
                  <a:lnTo>
                    <a:pt x="20" y="2732"/>
                  </a:lnTo>
                  <a:lnTo>
                    <a:pt x="25" y="2751"/>
                  </a:lnTo>
                  <a:lnTo>
                    <a:pt x="30" y="2766"/>
                  </a:lnTo>
                  <a:lnTo>
                    <a:pt x="35" y="2781"/>
                  </a:lnTo>
                  <a:lnTo>
                    <a:pt x="40" y="2801"/>
                  </a:lnTo>
                  <a:lnTo>
                    <a:pt x="45" y="2815"/>
                  </a:lnTo>
                  <a:lnTo>
                    <a:pt x="50" y="2830"/>
                  </a:lnTo>
                  <a:lnTo>
                    <a:pt x="60" y="2850"/>
                  </a:lnTo>
                  <a:lnTo>
                    <a:pt x="70" y="2865"/>
                  </a:lnTo>
                  <a:lnTo>
                    <a:pt x="80" y="2880"/>
                  </a:lnTo>
                  <a:lnTo>
                    <a:pt x="85" y="2889"/>
                  </a:lnTo>
                  <a:lnTo>
                    <a:pt x="95" y="2899"/>
                  </a:lnTo>
                  <a:lnTo>
                    <a:pt x="105" y="2899"/>
                  </a:lnTo>
                  <a:lnTo>
                    <a:pt x="115" y="2904"/>
                  </a:lnTo>
                  <a:lnTo>
                    <a:pt x="125" y="2904"/>
                  </a:lnTo>
                  <a:lnTo>
                    <a:pt x="140" y="2904"/>
                  </a:lnTo>
                  <a:lnTo>
                    <a:pt x="150" y="2904"/>
                  </a:lnTo>
                  <a:lnTo>
                    <a:pt x="160" y="2904"/>
                  </a:lnTo>
                  <a:lnTo>
                    <a:pt x="180" y="2889"/>
                  </a:lnTo>
                  <a:lnTo>
                    <a:pt x="190" y="2875"/>
                  </a:lnTo>
                  <a:lnTo>
                    <a:pt x="195" y="2865"/>
                  </a:lnTo>
                  <a:lnTo>
                    <a:pt x="201" y="2855"/>
                  </a:lnTo>
                  <a:lnTo>
                    <a:pt x="195" y="2845"/>
                  </a:lnTo>
                  <a:lnTo>
                    <a:pt x="195" y="2835"/>
                  </a:lnTo>
                  <a:lnTo>
                    <a:pt x="190" y="2815"/>
                  </a:lnTo>
                  <a:lnTo>
                    <a:pt x="180" y="2796"/>
                  </a:lnTo>
                  <a:lnTo>
                    <a:pt x="175" y="2776"/>
                  </a:lnTo>
                  <a:lnTo>
                    <a:pt x="170" y="2761"/>
                  </a:lnTo>
                  <a:lnTo>
                    <a:pt x="165" y="2741"/>
                  </a:lnTo>
                  <a:lnTo>
                    <a:pt x="160" y="2727"/>
                  </a:lnTo>
                  <a:lnTo>
                    <a:pt x="155" y="2707"/>
                  </a:lnTo>
                  <a:lnTo>
                    <a:pt x="150" y="2687"/>
                  </a:lnTo>
                  <a:lnTo>
                    <a:pt x="145" y="2667"/>
                  </a:lnTo>
                  <a:lnTo>
                    <a:pt x="145" y="2653"/>
                  </a:lnTo>
                  <a:lnTo>
                    <a:pt x="140" y="2628"/>
                  </a:lnTo>
                  <a:lnTo>
                    <a:pt x="140" y="2613"/>
                  </a:lnTo>
                  <a:lnTo>
                    <a:pt x="140" y="2594"/>
                  </a:lnTo>
                  <a:lnTo>
                    <a:pt x="135" y="2574"/>
                  </a:lnTo>
                  <a:lnTo>
                    <a:pt x="135" y="2554"/>
                  </a:lnTo>
                  <a:lnTo>
                    <a:pt x="135" y="2539"/>
                  </a:lnTo>
                  <a:lnTo>
                    <a:pt x="135" y="2515"/>
                  </a:lnTo>
                  <a:lnTo>
                    <a:pt x="130" y="2495"/>
                  </a:lnTo>
                  <a:lnTo>
                    <a:pt x="130" y="2475"/>
                  </a:lnTo>
                  <a:lnTo>
                    <a:pt x="130" y="2455"/>
                  </a:lnTo>
                  <a:lnTo>
                    <a:pt x="130" y="2436"/>
                  </a:lnTo>
                  <a:lnTo>
                    <a:pt x="135" y="2416"/>
                  </a:lnTo>
                  <a:lnTo>
                    <a:pt x="135" y="2396"/>
                  </a:lnTo>
                  <a:lnTo>
                    <a:pt x="135" y="2377"/>
                  </a:lnTo>
                  <a:lnTo>
                    <a:pt x="135" y="2352"/>
                  </a:lnTo>
                  <a:lnTo>
                    <a:pt x="140" y="2332"/>
                  </a:lnTo>
                  <a:lnTo>
                    <a:pt x="140" y="2312"/>
                  </a:lnTo>
                  <a:lnTo>
                    <a:pt x="145" y="2293"/>
                  </a:lnTo>
                  <a:lnTo>
                    <a:pt x="145" y="2273"/>
                  </a:lnTo>
                  <a:lnTo>
                    <a:pt x="150" y="2253"/>
                  </a:lnTo>
                  <a:lnTo>
                    <a:pt x="150" y="2234"/>
                  </a:lnTo>
                  <a:lnTo>
                    <a:pt x="155" y="2214"/>
                  </a:lnTo>
                  <a:lnTo>
                    <a:pt x="155" y="2189"/>
                  </a:lnTo>
                  <a:lnTo>
                    <a:pt x="160" y="2169"/>
                  </a:lnTo>
                  <a:lnTo>
                    <a:pt x="160" y="2145"/>
                  </a:lnTo>
                  <a:lnTo>
                    <a:pt x="165" y="2125"/>
                  </a:lnTo>
                  <a:lnTo>
                    <a:pt x="165" y="2105"/>
                  </a:lnTo>
                  <a:lnTo>
                    <a:pt x="170" y="2086"/>
                  </a:lnTo>
                  <a:lnTo>
                    <a:pt x="170" y="2061"/>
                  </a:lnTo>
                  <a:lnTo>
                    <a:pt x="175" y="2041"/>
                  </a:lnTo>
                  <a:lnTo>
                    <a:pt x="180" y="2021"/>
                  </a:lnTo>
                  <a:lnTo>
                    <a:pt x="180" y="1997"/>
                  </a:lnTo>
                  <a:lnTo>
                    <a:pt x="185" y="1977"/>
                  </a:lnTo>
                  <a:lnTo>
                    <a:pt x="190" y="1957"/>
                  </a:lnTo>
                  <a:lnTo>
                    <a:pt x="190" y="1938"/>
                  </a:lnTo>
                  <a:lnTo>
                    <a:pt x="195" y="1918"/>
                  </a:lnTo>
                  <a:lnTo>
                    <a:pt x="195" y="1898"/>
                  </a:lnTo>
                  <a:lnTo>
                    <a:pt x="201" y="1878"/>
                  </a:lnTo>
                  <a:lnTo>
                    <a:pt x="201" y="1859"/>
                  </a:lnTo>
                  <a:lnTo>
                    <a:pt x="206" y="1834"/>
                  </a:lnTo>
                  <a:lnTo>
                    <a:pt x="206" y="1814"/>
                  </a:lnTo>
                  <a:lnTo>
                    <a:pt x="211" y="1795"/>
                  </a:lnTo>
                  <a:lnTo>
                    <a:pt x="211" y="1775"/>
                  </a:lnTo>
                  <a:lnTo>
                    <a:pt x="216" y="1760"/>
                  </a:lnTo>
                  <a:lnTo>
                    <a:pt x="216" y="1735"/>
                  </a:lnTo>
                  <a:lnTo>
                    <a:pt x="221" y="1721"/>
                  </a:lnTo>
                  <a:lnTo>
                    <a:pt x="221" y="1701"/>
                  </a:lnTo>
                  <a:lnTo>
                    <a:pt x="221" y="1681"/>
                  </a:lnTo>
                  <a:lnTo>
                    <a:pt x="221" y="1661"/>
                  </a:lnTo>
                  <a:lnTo>
                    <a:pt x="226" y="1642"/>
                  </a:lnTo>
                  <a:lnTo>
                    <a:pt x="226" y="1622"/>
                  </a:lnTo>
                  <a:lnTo>
                    <a:pt x="226" y="1602"/>
                  </a:lnTo>
                  <a:lnTo>
                    <a:pt x="226" y="1587"/>
                  </a:lnTo>
                  <a:lnTo>
                    <a:pt x="226" y="1568"/>
                  </a:lnTo>
                  <a:lnTo>
                    <a:pt x="226" y="1558"/>
                  </a:lnTo>
                  <a:lnTo>
                    <a:pt x="226" y="1543"/>
                  </a:lnTo>
                  <a:lnTo>
                    <a:pt x="226" y="1533"/>
                  </a:lnTo>
                  <a:lnTo>
                    <a:pt x="226" y="1523"/>
                  </a:lnTo>
                  <a:lnTo>
                    <a:pt x="226" y="1509"/>
                  </a:lnTo>
                  <a:lnTo>
                    <a:pt x="226" y="1499"/>
                  </a:lnTo>
                  <a:lnTo>
                    <a:pt x="226" y="1489"/>
                  </a:lnTo>
                  <a:lnTo>
                    <a:pt x="226" y="1479"/>
                  </a:lnTo>
                  <a:lnTo>
                    <a:pt x="221" y="1464"/>
                  </a:lnTo>
                  <a:lnTo>
                    <a:pt x="221" y="1454"/>
                  </a:lnTo>
                  <a:lnTo>
                    <a:pt x="221" y="1444"/>
                  </a:lnTo>
                  <a:lnTo>
                    <a:pt x="221" y="1430"/>
                  </a:lnTo>
                  <a:lnTo>
                    <a:pt x="221" y="1420"/>
                  </a:lnTo>
                  <a:lnTo>
                    <a:pt x="221" y="1410"/>
                  </a:lnTo>
                  <a:lnTo>
                    <a:pt x="221" y="1400"/>
                  </a:lnTo>
                  <a:lnTo>
                    <a:pt x="221" y="1390"/>
                  </a:lnTo>
                  <a:lnTo>
                    <a:pt x="216" y="1375"/>
                  </a:lnTo>
                  <a:lnTo>
                    <a:pt x="216" y="1366"/>
                  </a:lnTo>
                  <a:lnTo>
                    <a:pt x="216" y="1356"/>
                  </a:lnTo>
                  <a:lnTo>
                    <a:pt x="216" y="1341"/>
                  </a:lnTo>
                  <a:lnTo>
                    <a:pt x="216" y="1331"/>
                  </a:lnTo>
                  <a:lnTo>
                    <a:pt x="216" y="1316"/>
                  </a:lnTo>
                  <a:lnTo>
                    <a:pt x="216" y="1306"/>
                  </a:lnTo>
                  <a:lnTo>
                    <a:pt x="216" y="1297"/>
                  </a:lnTo>
                  <a:lnTo>
                    <a:pt x="216" y="1282"/>
                  </a:lnTo>
                  <a:lnTo>
                    <a:pt x="216" y="1272"/>
                  </a:lnTo>
                  <a:lnTo>
                    <a:pt x="211" y="1262"/>
                  </a:lnTo>
                  <a:lnTo>
                    <a:pt x="211" y="1252"/>
                  </a:lnTo>
                  <a:lnTo>
                    <a:pt x="211" y="1242"/>
                  </a:lnTo>
                  <a:lnTo>
                    <a:pt x="211" y="1227"/>
                  </a:lnTo>
                  <a:lnTo>
                    <a:pt x="211" y="1218"/>
                  </a:lnTo>
                  <a:lnTo>
                    <a:pt x="211" y="1208"/>
                  </a:lnTo>
                  <a:lnTo>
                    <a:pt x="211" y="1193"/>
                  </a:lnTo>
                  <a:lnTo>
                    <a:pt x="211" y="1183"/>
                  </a:lnTo>
                  <a:lnTo>
                    <a:pt x="211" y="1173"/>
                  </a:lnTo>
                  <a:lnTo>
                    <a:pt x="211" y="1163"/>
                  </a:lnTo>
                  <a:lnTo>
                    <a:pt x="206" y="1149"/>
                  </a:lnTo>
                  <a:lnTo>
                    <a:pt x="206" y="1139"/>
                  </a:lnTo>
                  <a:lnTo>
                    <a:pt x="206" y="1129"/>
                  </a:lnTo>
                  <a:lnTo>
                    <a:pt x="206" y="1114"/>
                  </a:lnTo>
                  <a:lnTo>
                    <a:pt x="206" y="1104"/>
                  </a:lnTo>
                  <a:lnTo>
                    <a:pt x="206" y="1089"/>
                  </a:lnTo>
                  <a:lnTo>
                    <a:pt x="206" y="1080"/>
                  </a:lnTo>
                  <a:lnTo>
                    <a:pt x="206" y="1070"/>
                  </a:lnTo>
                  <a:lnTo>
                    <a:pt x="206" y="1060"/>
                  </a:lnTo>
                  <a:lnTo>
                    <a:pt x="206" y="1050"/>
                  </a:lnTo>
                  <a:lnTo>
                    <a:pt x="206" y="1035"/>
                  </a:lnTo>
                  <a:lnTo>
                    <a:pt x="206" y="1025"/>
                  </a:lnTo>
                  <a:lnTo>
                    <a:pt x="201" y="1015"/>
                  </a:lnTo>
                  <a:lnTo>
                    <a:pt x="201" y="1001"/>
                  </a:lnTo>
                  <a:lnTo>
                    <a:pt x="201" y="991"/>
                  </a:lnTo>
                  <a:lnTo>
                    <a:pt x="201" y="981"/>
                  </a:lnTo>
                  <a:lnTo>
                    <a:pt x="201" y="966"/>
                  </a:lnTo>
                  <a:lnTo>
                    <a:pt x="201" y="956"/>
                  </a:lnTo>
                  <a:lnTo>
                    <a:pt x="201" y="946"/>
                  </a:lnTo>
                  <a:lnTo>
                    <a:pt x="201" y="937"/>
                  </a:lnTo>
                  <a:lnTo>
                    <a:pt x="201" y="922"/>
                  </a:lnTo>
                  <a:lnTo>
                    <a:pt x="201" y="912"/>
                  </a:lnTo>
                  <a:lnTo>
                    <a:pt x="201" y="902"/>
                  </a:lnTo>
                  <a:lnTo>
                    <a:pt x="201" y="887"/>
                  </a:lnTo>
                  <a:lnTo>
                    <a:pt x="201" y="877"/>
                  </a:lnTo>
                  <a:lnTo>
                    <a:pt x="201" y="867"/>
                  </a:lnTo>
                  <a:lnTo>
                    <a:pt x="201" y="858"/>
                  </a:lnTo>
                  <a:lnTo>
                    <a:pt x="201" y="843"/>
                  </a:lnTo>
                  <a:lnTo>
                    <a:pt x="201" y="828"/>
                  </a:lnTo>
                  <a:lnTo>
                    <a:pt x="201" y="808"/>
                  </a:lnTo>
                  <a:lnTo>
                    <a:pt x="201" y="789"/>
                  </a:lnTo>
                  <a:lnTo>
                    <a:pt x="201" y="774"/>
                  </a:lnTo>
                  <a:lnTo>
                    <a:pt x="201" y="754"/>
                  </a:lnTo>
                  <a:lnTo>
                    <a:pt x="201" y="739"/>
                  </a:lnTo>
                  <a:lnTo>
                    <a:pt x="201" y="724"/>
                  </a:lnTo>
                  <a:lnTo>
                    <a:pt x="206" y="705"/>
                  </a:lnTo>
                  <a:lnTo>
                    <a:pt x="206" y="690"/>
                  </a:lnTo>
                  <a:lnTo>
                    <a:pt x="206" y="675"/>
                  </a:lnTo>
                  <a:lnTo>
                    <a:pt x="206" y="655"/>
                  </a:lnTo>
                  <a:lnTo>
                    <a:pt x="211" y="641"/>
                  </a:lnTo>
                  <a:lnTo>
                    <a:pt x="211" y="626"/>
                  </a:lnTo>
                  <a:lnTo>
                    <a:pt x="211" y="606"/>
                  </a:lnTo>
                  <a:lnTo>
                    <a:pt x="211" y="591"/>
                  </a:lnTo>
                  <a:lnTo>
                    <a:pt x="216" y="577"/>
                  </a:lnTo>
                  <a:lnTo>
                    <a:pt x="216" y="562"/>
                  </a:lnTo>
                  <a:lnTo>
                    <a:pt x="221" y="542"/>
                  </a:lnTo>
                  <a:lnTo>
                    <a:pt x="221" y="527"/>
                  </a:lnTo>
                  <a:lnTo>
                    <a:pt x="226" y="512"/>
                  </a:lnTo>
                  <a:lnTo>
                    <a:pt x="226" y="498"/>
                  </a:lnTo>
                  <a:lnTo>
                    <a:pt x="231" y="483"/>
                  </a:lnTo>
                  <a:lnTo>
                    <a:pt x="231" y="468"/>
                  </a:lnTo>
                  <a:lnTo>
                    <a:pt x="241" y="458"/>
                  </a:lnTo>
                  <a:lnTo>
                    <a:pt x="241" y="443"/>
                  </a:lnTo>
                  <a:lnTo>
                    <a:pt x="246" y="429"/>
                  </a:lnTo>
                  <a:lnTo>
                    <a:pt x="251" y="414"/>
                  </a:lnTo>
                  <a:lnTo>
                    <a:pt x="256" y="404"/>
                  </a:lnTo>
                  <a:lnTo>
                    <a:pt x="261" y="389"/>
                  </a:lnTo>
                  <a:lnTo>
                    <a:pt x="266" y="374"/>
                  </a:lnTo>
                  <a:lnTo>
                    <a:pt x="276" y="364"/>
                  </a:lnTo>
                  <a:lnTo>
                    <a:pt x="281" y="355"/>
                  </a:lnTo>
                  <a:lnTo>
                    <a:pt x="286" y="340"/>
                  </a:lnTo>
                  <a:lnTo>
                    <a:pt x="291" y="330"/>
                  </a:lnTo>
                  <a:lnTo>
                    <a:pt x="301" y="320"/>
                  </a:lnTo>
                  <a:lnTo>
                    <a:pt x="311" y="305"/>
                  </a:lnTo>
                  <a:lnTo>
                    <a:pt x="316" y="295"/>
                  </a:lnTo>
                  <a:lnTo>
                    <a:pt x="326" y="286"/>
                  </a:lnTo>
                  <a:lnTo>
                    <a:pt x="331" y="276"/>
                  </a:lnTo>
                  <a:lnTo>
                    <a:pt x="341" y="271"/>
                  </a:lnTo>
                  <a:lnTo>
                    <a:pt x="351" y="256"/>
                  </a:lnTo>
                  <a:lnTo>
                    <a:pt x="361" y="246"/>
                  </a:lnTo>
                  <a:lnTo>
                    <a:pt x="371" y="241"/>
                  </a:lnTo>
                  <a:lnTo>
                    <a:pt x="381" y="231"/>
                  </a:lnTo>
                  <a:lnTo>
                    <a:pt x="391" y="221"/>
                  </a:lnTo>
                  <a:lnTo>
                    <a:pt x="407" y="217"/>
                  </a:lnTo>
                  <a:lnTo>
                    <a:pt x="417" y="212"/>
                  </a:lnTo>
                  <a:lnTo>
                    <a:pt x="432" y="207"/>
                  </a:lnTo>
                  <a:lnTo>
                    <a:pt x="442" y="197"/>
                  </a:lnTo>
                  <a:lnTo>
                    <a:pt x="457" y="192"/>
                  </a:lnTo>
                  <a:lnTo>
                    <a:pt x="467" y="187"/>
                  </a:lnTo>
                  <a:lnTo>
                    <a:pt x="482" y="182"/>
                  </a:lnTo>
                  <a:lnTo>
                    <a:pt x="497" y="177"/>
                  </a:lnTo>
                  <a:lnTo>
                    <a:pt x="512" y="172"/>
                  </a:lnTo>
                  <a:lnTo>
                    <a:pt x="532" y="172"/>
                  </a:lnTo>
                  <a:lnTo>
                    <a:pt x="547" y="167"/>
                  </a:lnTo>
                  <a:lnTo>
                    <a:pt x="567" y="162"/>
                  </a:lnTo>
                  <a:lnTo>
                    <a:pt x="582" y="162"/>
                  </a:lnTo>
                  <a:lnTo>
                    <a:pt x="603" y="162"/>
                  </a:lnTo>
                  <a:lnTo>
                    <a:pt x="618" y="162"/>
                  </a:lnTo>
                  <a:lnTo>
                    <a:pt x="638" y="162"/>
                  </a:lnTo>
                  <a:lnTo>
                    <a:pt x="658" y="162"/>
                  </a:lnTo>
                  <a:lnTo>
                    <a:pt x="683" y="162"/>
                  </a:lnTo>
                  <a:lnTo>
                    <a:pt x="703" y="162"/>
                  </a:lnTo>
                  <a:lnTo>
                    <a:pt x="728" y="162"/>
                  </a:lnTo>
                  <a:lnTo>
                    <a:pt x="753" y="167"/>
                  </a:lnTo>
                  <a:lnTo>
                    <a:pt x="778" y="167"/>
                  </a:lnTo>
                  <a:lnTo>
                    <a:pt x="804" y="172"/>
                  </a:lnTo>
                  <a:lnTo>
                    <a:pt x="824" y="172"/>
                  </a:lnTo>
                  <a:lnTo>
                    <a:pt x="849" y="177"/>
                  </a:lnTo>
                  <a:lnTo>
                    <a:pt x="874" y="182"/>
                  </a:lnTo>
                  <a:lnTo>
                    <a:pt x="899" y="187"/>
                  </a:lnTo>
                  <a:lnTo>
                    <a:pt x="924" y="187"/>
                  </a:lnTo>
                  <a:lnTo>
                    <a:pt x="949" y="192"/>
                  </a:lnTo>
                  <a:lnTo>
                    <a:pt x="974" y="197"/>
                  </a:lnTo>
                  <a:lnTo>
                    <a:pt x="1000" y="202"/>
                  </a:lnTo>
                  <a:lnTo>
                    <a:pt x="1025" y="207"/>
                  </a:lnTo>
                  <a:lnTo>
                    <a:pt x="1050" y="212"/>
                  </a:lnTo>
                  <a:lnTo>
                    <a:pt x="1075" y="217"/>
                  </a:lnTo>
                  <a:lnTo>
                    <a:pt x="1100" y="221"/>
                  </a:lnTo>
                  <a:lnTo>
                    <a:pt x="1125" y="226"/>
                  </a:lnTo>
                  <a:lnTo>
                    <a:pt x="1150" y="236"/>
                  </a:lnTo>
                  <a:lnTo>
                    <a:pt x="1170" y="241"/>
                  </a:lnTo>
                  <a:lnTo>
                    <a:pt x="1196" y="246"/>
                  </a:lnTo>
                  <a:lnTo>
                    <a:pt x="1221" y="251"/>
                  </a:lnTo>
                  <a:lnTo>
                    <a:pt x="1246" y="256"/>
                  </a:lnTo>
                  <a:lnTo>
                    <a:pt x="1271" y="261"/>
                  </a:lnTo>
                  <a:lnTo>
                    <a:pt x="1296" y="271"/>
                  </a:lnTo>
                  <a:lnTo>
                    <a:pt x="1316" y="276"/>
                  </a:lnTo>
                  <a:lnTo>
                    <a:pt x="1346" y="286"/>
                  </a:lnTo>
                  <a:lnTo>
                    <a:pt x="1366" y="290"/>
                  </a:lnTo>
                  <a:lnTo>
                    <a:pt x="1397" y="295"/>
                  </a:lnTo>
                  <a:lnTo>
                    <a:pt x="1417" y="305"/>
                  </a:lnTo>
                  <a:lnTo>
                    <a:pt x="1442" y="310"/>
                  </a:lnTo>
                  <a:lnTo>
                    <a:pt x="1467" y="320"/>
                  </a:lnTo>
                  <a:lnTo>
                    <a:pt x="1492" y="330"/>
                  </a:lnTo>
                  <a:lnTo>
                    <a:pt x="1517" y="335"/>
                  </a:lnTo>
                  <a:lnTo>
                    <a:pt x="1542" y="340"/>
                  </a:lnTo>
                  <a:lnTo>
                    <a:pt x="1562" y="350"/>
                  </a:lnTo>
                  <a:lnTo>
                    <a:pt x="1593" y="355"/>
                  </a:lnTo>
                  <a:lnTo>
                    <a:pt x="1613" y="364"/>
                  </a:lnTo>
                  <a:lnTo>
                    <a:pt x="1638" y="374"/>
                  </a:lnTo>
                  <a:lnTo>
                    <a:pt x="1663" y="379"/>
                  </a:lnTo>
                  <a:lnTo>
                    <a:pt x="1688" y="389"/>
                  </a:lnTo>
                  <a:lnTo>
                    <a:pt x="1708" y="394"/>
                  </a:lnTo>
                  <a:lnTo>
                    <a:pt x="1733" y="404"/>
                  </a:lnTo>
                  <a:lnTo>
                    <a:pt x="1758" y="409"/>
                  </a:lnTo>
                  <a:lnTo>
                    <a:pt x="1783" y="419"/>
                  </a:lnTo>
                  <a:lnTo>
                    <a:pt x="1804" y="429"/>
                  </a:lnTo>
                  <a:lnTo>
                    <a:pt x="1829" y="438"/>
                  </a:lnTo>
                  <a:lnTo>
                    <a:pt x="1854" y="443"/>
                  </a:lnTo>
                  <a:lnTo>
                    <a:pt x="1879" y="453"/>
                  </a:lnTo>
                  <a:lnTo>
                    <a:pt x="1904" y="458"/>
                  </a:lnTo>
                  <a:lnTo>
                    <a:pt x="1929" y="468"/>
                  </a:lnTo>
                  <a:lnTo>
                    <a:pt x="1949" y="473"/>
                  </a:lnTo>
                  <a:lnTo>
                    <a:pt x="1979" y="483"/>
                  </a:lnTo>
                  <a:lnTo>
                    <a:pt x="2000" y="488"/>
                  </a:lnTo>
                  <a:lnTo>
                    <a:pt x="2025" y="498"/>
                  </a:lnTo>
                  <a:lnTo>
                    <a:pt x="2050" y="507"/>
                  </a:lnTo>
                  <a:lnTo>
                    <a:pt x="2075" y="517"/>
                  </a:lnTo>
                  <a:lnTo>
                    <a:pt x="2095" y="522"/>
                  </a:lnTo>
                  <a:lnTo>
                    <a:pt x="2120" y="532"/>
                  </a:lnTo>
                  <a:lnTo>
                    <a:pt x="2145" y="537"/>
                  </a:lnTo>
                  <a:lnTo>
                    <a:pt x="2170" y="547"/>
                  </a:lnTo>
                  <a:lnTo>
                    <a:pt x="2196" y="552"/>
                  </a:lnTo>
                  <a:lnTo>
                    <a:pt x="2221" y="562"/>
                  </a:lnTo>
                  <a:lnTo>
                    <a:pt x="2246" y="567"/>
                  </a:lnTo>
                  <a:lnTo>
                    <a:pt x="2271" y="577"/>
                  </a:lnTo>
                  <a:lnTo>
                    <a:pt x="2296" y="581"/>
                  </a:lnTo>
                  <a:lnTo>
                    <a:pt x="2321" y="591"/>
                  </a:lnTo>
                  <a:lnTo>
                    <a:pt x="2346" y="596"/>
                  </a:lnTo>
                  <a:lnTo>
                    <a:pt x="2371" y="606"/>
                  </a:lnTo>
                  <a:lnTo>
                    <a:pt x="2402" y="611"/>
                  </a:lnTo>
                  <a:lnTo>
                    <a:pt x="2427" y="621"/>
                  </a:lnTo>
                  <a:lnTo>
                    <a:pt x="2452" y="626"/>
                  </a:lnTo>
                  <a:lnTo>
                    <a:pt x="2482" y="636"/>
                  </a:lnTo>
                  <a:lnTo>
                    <a:pt x="2507" y="646"/>
                  </a:lnTo>
                  <a:lnTo>
                    <a:pt x="2532" y="650"/>
                  </a:lnTo>
                  <a:lnTo>
                    <a:pt x="2562" y="660"/>
                  </a:lnTo>
                  <a:lnTo>
                    <a:pt x="2588" y="665"/>
                  </a:lnTo>
                  <a:lnTo>
                    <a:pt x="2613" y="675"/>
                  </a:lnTo>
                  <a:lnTo>
                    <a:pt x="2638" y="685"/>
                  </a:lnTo>
                  <a:lnTo>
                    <a:pt x="2668" y="690"/>
                  </a:lnTo>
                  <a:lnTo>
                    <a:pt x="2698" y="700"/>
                  </a:lnTo>
                  <a:lnTo>
                    <a:pt x="2723" y="705"/>
                  </a:lnTo>
                  <a:lnTo>
                    <a:pt x="2748" y="715"/>
                  </a:lnTo>
                  <a:lnTo>
                    <a:pt x="2773" y="724"/>
                  </a:lnTo>
                  <a:lnTo>
                    <a:pt x="2804" y="729"/>
                  </a:lnTo>
                  <a:lnTo>
                    <a:pt x="2829" y="739"/>
                  </a:lnTo>
                  <a:lnTo>
                    <a:pt x="2854" y="744"/>
                  </a:lnTo>
                  <a:lnTo>
                    <a:pt x="2884" y="754"/>
                  </a:lnTo>
                  <a:lnTo>
                    <a:pt x="2914" y="764"/>
                  </a:lnTo>
                  <a:lnTo>
                    <a:pt x="2939" y="769"/>
                  </a:lnTo>
                  <a:lnTo>
                    <a:pt x="2964" y="779"/>
                  </a:lnTo>
                  <a:lnTo>
                    <a:pt x="2990" y="784"/>
                  </a:lnTo>
                  <a:lnTo>
                    <a:pt x="3020" y="794"/>
                  </a:lnTo>
                  <a:lnTo>
                    <a:pt x="3045" y="798"/>
                  </a:lnTo>
                  <a:lnTo>
                    <a:pt x="3075" y="808"/>
                  </a:lnTo>
                  <a:lnTo>
                    <a:pt x="3100" y="813"/>
                  </a:lnTo>
                  <a:lnTo>
                    <a:pt x="3130" y="823"/>
                  </a:lnTo>
                  <a:lnTo>
                    <a:pt x="3155" y="828"/>
                  </a:lnTo>
                  <a:lnTo>
                    <a:pt x="3181" y="838"/>
                  </a:lnTo>
                  <a:lnTo>
                    <a:pt x="3206" y="843"/>
                  </a:lnTo>
                  <a:lnTo>
                    <a:pt x="3236" y="853"/>
                  </a:lnTo>
                  <a:lnTo>
                    <a:pt x="3261" y="858"/>
                  </a:lnTo>
                  <a:lnTo>
                    <a:pt x="3291" y="867"/>
                  </a:lnTo>
                  <a:lnTo>
                    <a:pt x="3316" y="872"/>
                  </a:lnTo>
                  <a:lnTo>
                    <a:pt x="3346" y="882"/>
                  </a:lnTo>
                  <a:lnTo>
                    <a:pt x="3371" y="887"/>
                  </a:lnTo>
                  <a:lnTo>
                    <a:pt x="3402" y="897"/>
                  </a:lnTo>
                  <a:lnTo>
                    <a:pt x="3427" y="902"/>
                  </a:lnTo>
                  <a:lnTo>
                    <a:pt x="3452" y="912"/>
                  </a:lnTo>
                  <a:lnTo>
                    <a:pt x="3482" y="917"/>
                  </a:lnTo>
                  <a:lnTo>
                    <a:pt x="3507" y="922"/>
                  </a:lnTo>
                  <a:lnTo>
                    <a:pt x="3537" y="932"/>
                  </a:lnTo>
                  <a:lnTo>
                    <a:pt x="3562" y="937"/>
                  </a:lnTo>
                  <a:lnTo>
                    <a:pt x="3588" y="941"/>
                  </a:lnTo>
                  <a:lnTo>
                    <a:pt x="3618" y="951"/>
                  </a:lnTo>
                  <a:lnTo>
                    <a:pt x="3643" y="956"/>
                  </a:lnTo>
                  <a:lnTo>
                    <a:pt x="3673" y="966"/>
                  </a:lnTo>
                  <a:lnTo>
                    <a:pt x="3698" y="971"/>
                  </a:lnTo>
                  <a:lnTo>
                    <a:pt x="3723" y="976"/>
                  </a:lnTo>
                  <a:lnTo>
                    <a:pt x="3753" y="981"/>
                  </a:lnTo>
                  <a:lnTo>
                    <a:pt x="3784" y="986"/>
                  </a:lnTo>
                  <a:lnTo>
                    <a:pt x="3809" y="991"/>
                  </a:lnTo>
                  <a:lnTo>
                    <a:pt x="3834" y="1001"/>
                  </a:lnTo>
                  <a:lnTo>
                    <a:pt x="3864" y="1006"/>
                  </a:lnTo>
                  <a:lnTo>
                    <a:pt x="3889" y="1010"/>
                  </a:lnTo>
                  <a:lnTo>
                    <a:pt x="3919" y="1015"/>
                  </a:lnTo>
                  <a:lnTo>
                    <a:pt x="3944" y="1020"/>
                  </a:lnTo>
                  <a:lnTo>
                    <a:pt x="3974" y="1025"/>
                  </a:lnTo>
                  <a:lnTo>
                    <a:pt x="4000" y="1035"/>
                  </a:lnTo>
                  <a:lnTo>
                    <a:pt x="4020" y="1030"/>
                  </a:lnTo>
                  <a:lnTo>
                    <a:pt x="4030" y="1020"/>
                  </a:lnTo>
                  <a:lnTo>
                    <a:pt x="4030" y="1001"/>
                  </a:lnTo>
                  <a:lnTo>
                    <a:pt x="4020" y="991"/>
                  </a:lnTo>
                  <a:lnTo>
                    <a:pt x="4020" y="9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 rot="9362400">
              <a:off x="1720440" y="4868640"/>
              <a:ext cx="6405480" cy="2026800"/>
            </a:xfrm>
            <a:custGeom>
              <a:avLst/>
              <a:gdLst/>
              <a:ahLst/>
              <a:rect l="l" t="t" r="r" b="b"/>
              <a:pathLst>
                <a:path w="4035" h="1277">
                  <a:moveTo>
                    <a:pt x="75" y="207"/>
                  </a:moveTo>
                  <a:lnTo>
                    <a:pt x="90" y="222"/>
                  </a:lnTo>
                  <a:lnTo>
                    <a:pt x="115" y="237"/>
                  </a:lnTo>
                  <a:lnTo>
                    <a:pt x="135" y="252"/>
                  </a:lnTo>
                  <a:lnTo>
                    <a:pt x="156" y="266"/>
                  </a:lnTo>
                  <a:lnTo>
                    <a:pt x="176" y="281"/>
                  </a:lnTo>
                  <a:lnTo>
                    <a:pt x="201" y="296"/>
                  </a:lnTo>
                  <a:lnTo>
                    <a:pt x="221" y="306"/>
                  </a:lnTo>
                  <a:lnTo>
                    <a:pt x="246" y="321"/>
                  </a:lnTo>
                  <a:lnTo>
                    <a:pt x="271" y="331"/>
                  </a:lnTo>
                  <a:lnTo>
                    <a:pt x="291" y="345"/>
                  </a:lnTo>
                  <a:lnTo>
                    <a:pt x="316" y="360"/>
                  </a:lnTo>
                  <a:lnTo>
                    <a:pt x="342" y="370"/>
                  </a:lnTo>
                  <a:lnTo>
                    <a:pt x="367" y="380"/>
                  </a:lnTo>
                  <a:lnTo>
                    <a:pt x="392" y="395"/>
                  </a:lnTo>
                  <a:lnTo>
                    <a:pt x="417" y="404"/>
                  </a:lnTo>
                  <a:lnTo>
                    <a:pt x="447" y="414"/>
                  </a:lnTo>
                  <a:lnTo>
                    <a:pt x="472" y="424"/>
                  </a:lnTo>
                  <a:lnTo>
                    <a:pt x="497" y="434"/>
                  </a:lnTo>
                  <a:lnTo>
                    <a:pt x="522" y="444"/>
                  </a:lnTo>
                  <a:lnTo>
                    <a:pt x="553" y="454"/>
                  </a:lnTo>
                  <a:lnTo>
                    <a:pt x="578" y="464"/>
                  </a:lnTo>
                  <a:lnTo>
                    <a:pt x="608" y="474"/>
                  </a:lnTo>
                  <a:lnTo>
                    <a:pt x="633" y="483"/>
                  </a:lnTo>
                  <a:lnTo>
                    <a:pt x="663" y="493"/>
                  </a:lnTo>
                  <a:lnTo>
                    <a:pt x="693" y="503"/>
                  </a:lnTo>
                  <a:lnTo>
                    <a:pt x="718" y="508"/>
                  </a:lnTo>
                  <a:lnTo>
                    <a:pt x="749" y="518"/>
                  </a:lnTo>
                  <a:lnTo>
                    <a:pt x="774" y="528"/>
                  </a:lnTo>
                  <a:lnTo>
                    <a:pt x="804" y="533"/>
                  </a:lnTo>
                  <a:lnTo>
                    <a:pt x="834" y="543"/>
                  </a:lnTo>
                  <a:lnTo>
                    <a:pt x="864" y="548"/>
                  </a:lnTo>
                  <a:lnTo>
                    <a:pt x="894" y="557"/>
                  </a:lnTo>
                  <a:lnTo>
                    <a:pt x="919" y="562"/>
                  </a:lnTo>
                  <a:lnTo>
                    <a:pt x="950" y="572"/>
                  </a:lnTo>
                  <a:lnTo>
                    <a:pt x="980" y="577"/>
                  </a:lnTo>
                  <a:lnTo>
                    <a:pt x="1010" y="582"/>
                  </a:lnTo>
                  <a:lnTo>
                    <a:pt x="1035" y="587"/>
                  </a:lnTo>
                  <a:lnTo>
                    <a:pt x="1065" y="597"/>
                  </a:lnTo>
                  <a:lnTo>
                    <a:pt x="1095" y="602"/>
                  </a:lnTo>
                  <a:lnTo>
                    <a:pt x="1125" y="607"/>
                  </a:lnTo>
                  <a:lnTo>
                    <a:pt x="1156" y="617"/>
                  </a:lnTo>
                  <a:lnTo>
                    <a:pt x="1186" y="621"/>
                  </a:lnTo>
                  <a:lnTo>
                    <a:pt x="1211" y="626"/>
                  </a:lnTo>
                  <a:lnTo>
                    <a:pt x="1241" y="631"/>
                  </a:lnTo>
                  <a:lnTo>
                    <a:pt x="1271" y="636"/>
                  </a:lnTo>
                  <a:lnTo>
                    <a:pt x="1301" y="641"/>
                  </a:lnTo>
                  <a:lnTo>
                    <a:pt x="1326" y="646"/>
                  </a:lnTo>
                  <a:lnTo>
                    <a:pt x="1357" y="651"/>
                  </a:lnTo>
                  <a:lnTo>
                    <a:pt x="1387" y="656"/>
                  </a:lnTo>
                  <a:lnTo>
                    <a:pt x="1417" y="661"/>
                  </a:lnTo>
                  <a:lnTo>
                    <a:pt x="1442" y="666"/>
                  </a:lnTo>
                  <a:lnTo>
                    <a:pt x="1472" y="671"/>
                  </a:lnTo>
                  <a:lnTo>
                    <a:pt x="1497" y="676"/>
                  </a:lnTo>
                  <a:lnTo>
                    <a:pt x="1527" y="681"/>
                  </a:lnTo>
                  <a:lnTo>
                    <a:pt x="1553" y="686"/>
                  </a:lnTo>
                  <a:lnTo>
                    <a:pt x="1583" y="691"/>
                  </a:lnTo>
                  <a:lnTo>
                    <a:pt x="1608" y="691"/>
                  </a:lnTo>
                  <a:lnTo>
                    <a:pt x="1633" y="700"/>
                  </a:lnTo>
                  <a:lnTo>
                    <a:pt x="1658" y="700"/>
                  </a:lnTo>
                  <a:lnTo>
                    <a:pt x="1688" y="705"/>
                  </a:lnTo>
                  <a:lnTo>
                    <a:pt x="1713" y="710"/>
                  </a:lnTo>
                  <a:lnTo>
                    <a:pt x="1739" y="715"/>
                  </a:lnTo>
                  <a:lnTo>
                    <a:pt x="1769" y="720"/>
                  </a:lnTo>
                  <a:lnTo>
                    <a:pt x="1794" y="730"/>
                  </a:lnTo>
                  <a:lnTo>
                    <a:pt x="1809" y="730"/>
                  </a:lnTo>
                  <a:lnTo>
                    <a:pt x="1824" y="735"/>
                  </a:lnTo>
                  <a:lnTo>
                    <a:pt x="1844" y="735"/>
                  </a:lnTo>
                  <a:lnTo>
                    <a:pt x="1859" y="740"/>
                  </a:lnTo>
                  <a:lnTo>
                    <a:pt x="1874" y="740"/>
                  </a:lnTo>
                  <a:lnTo>
                    <a:pt x="1894" y="745"/>
                  </a:lnTo>
                  <a:lnTo>
                    <a:pt x="1909" y="750"/>
                  </a:lnTo>
                  <a:lnTo>
                    <a:pt x="1924" y="755"/>
                  </a:lnTo>
                  <a:lnTo>
                    <a:pt x="1945" y="755"/>
                  </a:lnTo>
                  <a:lnTo>
                    <a:pt x="1960" y="760"/>
                  </a:lnTo>
                  <a:lnTo>
                    <a:pt x="1975" y="764"/>
                  </a:lnTo>
                  <a:lnTo>
                    <a:pt x="1995" y="764"/>
                  </a:lnTo>
                  <a:lnTo>
                    <a:pt x="2010" y="769"/>
                  </a:lnTo>
                  <a:lnTo>
                    <a:pt x="2025" y="774"/>
                  </a:lnTo>
                  <a:lnTo>
                    <a:pt x="2045" y="779"/>
                  </a:lnTo>
                  <a:lnTo>
                    <a:pt x="2060" y="784"/>
                  </a:lnTo>
                  <a:lnTo>
                    <a:pt x="2080" y="784"/>
                  </a:lnTo>
                  <a:lnTo>
                    <a:pt x="2095" y="789"/>
                  </a:lnTo>
                  <a:lnTo>
                    <a:pt x="2110" y="794"/>
                  </a:lnTo>
                  <a:lnTo>
                    <a:pt x="2131" y="799"/>
                  </a:lnTo>
                  <a:lnTo>
                    <a:pt x="2146" y="804"/>
                  </a:lnTo>
                  <a:lnTo>
                    <a:pt x="2161" y="804"/>
                  </a:lnTo>
                  <a:lnTo>
                    <a:pt x="2181" y="809"/>
                  </a:lnTo>
                  <a:lnTo>
                    <a:pt x="2196" y="814"/>
                  </a:lnTo>
                  <a:lnTo>
                    <a:pt x="2211" y="819"/>
                  </a:lnTo>
                  <a:lnTo>
                    <a:pt x="2231" y="824"/>
                  </a:lnTo>
                  <a:lnTo>
                    <a:pt x="2246" y="829"/>
                  </a:lnTo>
                  <a:lnTo>
                    <a:pt x="2261" y="834"/>
                  </a:lnTo>
                  <a:lnTo>
                    <a:pt x="2281" y="834"/>
                  </a:lnTo>
                  <a:lnTo>
                    <a:pt x="2296" y="843"/>
                  </a:lnTo>
                  <a:lnTo>
                    <a:pt x="2311" y="848"/>
                  </a:lnTo>
                  <a:lnTo>
                    <a:pt x="2332" y="853"/>
                  </a:lnTo>
                  <a:lnTo>
                    <a:pt x="2347" y="858"/>
                  </a:lnTo>
                  <a:lnTo>
                    <a:pt x="2362" y="858"/>
                  </a:lnTo>
                  <a:lnTo>
                    <a:pt x="2377" y="863"/>
                  </a:lnTo>
                  <a:lnTo>
                    <a:pt x="2397" y="868"/>
                  </a:lnTo>
                  <a:lnTo>
                    <a:pt x="2412" y="873"/>
                  </a:lnTo>
                  <a:lnTo>
                    <a:pt x="2427" y="878"/>
                  </a:lnTo>
                  <a:lnTo>
                    <a:pt x="2447" y="883"/>
                  </a:lnTo>
                  <a:lnTo>
                    <a:pt x="2462" y="888"/>
                  </a:lnTo>
                  <a:lnTo>
                    <a:pt x="2477" y="893"/>
                  </a:lnTo>
                  <a:lnTo>
                    <a:pt x="2492" y="898"/>
                  </a:lnTo>
                  <a:lnTo>
                    <a:pt x="2512" y="903"/>
                  </a:lnTo>
                  <a:lnTo>
                    <a:pt x="2528" y="908"/>
                  </a:lnTo>
                  <a:lnTo>
                    <a:pt x="2543" y="912"/>
                  </a:lnTo>
                  <a:lnTo>
                    <a:pt x="2563" y="917"/>
                  </a:lnTo>
                  <a:lnTo>
                    <a:pt x="2578" y="927"/>
                  </a:lnTo>
                  <a:lnTo>
                    <a:pt x="2593" y="932"/>
                  </a:lnTo>
                  <a:lnTo>
                    <a:pt x="2608" y="937"/>
                  </a:lnTo>
                  <a:lnTo>
                    <a:pt x="2628" y="942"/>
                  </a:lnTo>
                  <a:lnTo>
                    <a:pt x="2643" y="947"/>
                  </a:lnTo>
                  <a:lnTo>
                    <a:pt x="2658" y="952"/>
                  </a:lnTo>
                  <a:lnTo>
                    <a:pt x="2678" y="957"/>
                  </a:lnTo>
                  <a:lnTo>
                    <a:pt x="2693" y="962"/>
                  </a:lnTo>
                  <a:lnTo>
                    <a:pt x="2708" y="972"/>
                  </a:lnTo>
                  <a:lnTo>
                    <a:pt x="2729" y="977"/>
                  </a:lnTo>
                  <a:lnTo>
                    <a:pt x="2744" y="981"/>
                  </a:lnTo>
                  <a:lnTo>
                    <a:pt x="2759" y="986"/>
                  </a:lnTo>
                  <a:lnTo>
                    <a:pt x="2779" y="991"/>
                  </a:lnTo>
                  <a:lnTo>
                    <a:pt x="2794" y="996"/>
                  </a:lnTo>
                  <a:lnTo>
                    <a:pt x="2809" y="1001"/>
                  </a:lnTo>
                  <a:lnTo>
                    <a:pt x="2829" y="1011"/>
                  </a:lnTo>
                  <a:lnTo>
                    <a:pt x="2844" y="1016"/>
                  </a:lnTo>
                  <a:lnTo>
                    <a:pt x="2859" y="1021"/>
                  </a:lnTo>
                  <a:lnTo>
                    <a:pt x="2879" y="1026"/>
                  </a:lnTo>
                  <a:lnTo>
                    <a:pt x="2894" y="1031"/>
                  </a:lnTo>
                  <a:lnTo>
                    <a:pt x="2909" y="1041"/>
                  </a:lnTo>
                  <a:lnTo>
                    <a:pt x="2930" y="1046"/>
                  </a:lnTo>
                  <a:lnTo>
                    <a:pt x="2945" y="1051"/>
                  </a:lnTo>
                  <a:lnTo>
                    <a:pt x="2960" y="1055"/>
                  </a:lnTo>
                  <a:lnTo>
                    <a:pt x="2980" y="1060"/>
                  </a:lnTo>
                  <a:lnTo>
                    <a:pt x="2995" y="1065"/>
                  </a:lnTo>
                  <a:lnTo>
                    <a:pt x="3015" y="1070"/>
                  </a:lnTo>
                  <a:lnTo>
                    <a:pt x="3030" y="1075"/>
                  </a:lnTo>
                  <a:lnTo>
                    <a:pt x="3045" y="1080"/>
                  </a:lnTo>
                  <a:lnTo>
                    <a:pt x="3065" y="1085"/>
                  </a:lnTo>
                  <a:lnTo>
                    <a:pt x="3080" y="1090"/>
                  </a:lnTo>
                  <a:lnTo>
                    <a:pt x="3100" y="1095"/>
                  </a:lnTo>
                  <a:lnTo>
                    <a:pt x="3115" y="1100"/>
                  </a:lnTo>
                  <a:lnTo>
                    <a:pt x="3136" y="1105"/>
                  </a:lnTo>
                  <a:lnTo>
                    <a:pt x="3151" y="1110"/>
                  </a:lnTo>
                  <a:lnTo>
                    <a:pt x="3171" y="1110"/>
                  </a:lnTo>
                  <a:lnTo>
                    <a:pt x="3186" y="1115"/>
                  </a:lnTo>
                  <a:lnTo>
                    <a:pt x="3201" y="1120"/>
                  </a:lnTo>
                  <a:lnTo>
                    <a:pt x="3221" y="1124"/>
                  </a:lnTo>
                  <a:lnTo>
                    <a:pt x="3236" y="1129"/>
                  </a:lnTo>
                  <a:lnTo>
                    <a:pt x="3251" y="1134"/>
                  </a:lnTo>
                  <a:lnTo>
                    <a:pt x="3271" y="1139"/>
                  </a:lnTo>
                  <a:lnTo>
                    <a:pt x="3286" y="1139"/>
                  </a:lnTo>
                  <a:lnTo>
                    <a:pt x="3306" y="1144"/>
                  </a:lnTo>
                  <a:lnTo>
                    <a:pt x="3322" y="1144"/>
                  </a:lnTo>
                  <a:lnTo>
                    <a:pt x="3342" y="1154"/>
                  </a:lnTo>
                  <a:lnTo>
                    <a:pt x="3357" y="1154"/>
                  </a:lnTo>
                  <a:lnTo>
                    <a:pt x="3377" y="1159"/>
                  </a:lnTo>
                  <a:lnTo>
                    <a:pt x="3392" y="1159"/>
                  </a:lnTo>
                  <a:lnTo>
                    <a:pt x="3412" y="1169"/>
                  </a:lnTo>
                  <a:lnTo>
                    <a:pt x="3427" y="1169"/>
                  </a:lnTo>
                  <a:lnTo>
                    <a:pt x="3442" y="1174"/>
                  </a:lnTo>
                  <a:lnTo>
                    <a:pt x="3462" y="1174"/>
                  </a:lnTo>
                  <a:lnTo>
                    <a:pt x="3477" y="1179"/>
                  </a:lnTo>
                  <a:lnTo>
                    <a:pt x="3492" y="1184"/>
                  </a:lnTo>
                  <a:lnTo>
                    <a:pt x="3512" y="1184"/>
                  </a:lnTo>
                  <a:lnTo>
                    <a:pt x="3528" y="1189"/>
                  </a:lnTo>
                  <a:lnTo>
                    <a:pt x="3548" y="1194"/>
                  </a:lnTo>
                  <a:lnTo>
                    <a:pt x="3563" y="1194"/>
                  </a:lnTo>
                  <a:lnTo>
                    <a:pt x="3583" y="1198"/>
                  </a:lnTo>
                  <a:lnTo>
                    <a:pt x="3598" y="1203"/>
                  </a:lnTo>
                  <a:lnTo>
                    <a:pt x="3618" y="1203"/>
                  </a:lnTo>
                  <a:lnTo>
                    <a:pt x="3633" y="1208"/>
                  </a:lnTo>
                  <a:lnTo>
                    <a:pt x="3653" y="1213"/>
                  </a:lnTo>
                  <a:lnTo>
                    <a:pt x="3668" y="1213"/>
                  </a:lnTo>
                  <a:lnTo>
                    <a:pt x="3688" y="1218"/>
                  </a:lnTo>
                  <a:lnTo>
                    <a:pt x="3703" y="1223"/>
                  </a:lnTo>
                  <a:lnTo>
                    <a:pt x="3724" y="1223"/>
                  </a:lnTo>
                  <a:lnTo>
                    <a:pt x="3739" y="1228"/>
                  </a:lnTo>
                  <a:lnTo>
                    <a:pt x="3759" y="1233"/>
                  </a:lnTo>
                  <a:lnTo>
                    <a:pt x="3774" y="1233"/>
                  </a:lnTo>
                  <a:lnTo>
                    <a:pt x="3794" y="1238"/>
                  </a:lnTo>
                  <a:lnTo>
                    <a:pt x="3809" y="1243"/>
                  </a:lnTo>
                  <a:lnTo>
                    <a:pt x="3829" y="1248"/>
                  </a:lnTo>
                  <a:lnTo>
                    <a:pt x="3844" y="1248"/>
                  </a:lnTo>
                  <a:lnTo>
                    <a:pt x="3859" y="1253"/>
                  </a:lnTo>
                  <a:lnTo>
                    <a:pt x="3879" y="1258"/>
                  </a:lnTo>
                  <a:lnTo>
                    <a:pt x="3899" y="1258"/>
                  </a:lnTo>
                  <a:lnTo>
                    <a:pt x="3914" y="1263"/>
                  </a:lnTo>
                  <a:lnTo>
                    <a:pt x="3935" y="1268"/>
                  </a:lnTo>
                  <a:lnTo>
                    <a:pt x="3955" y="1272"/>
                  </a:lnTo>
                  <a:lnTo>
                    <a:pt x="3970" y="1277"/>
                  </a:lnTo>
                  <a:lnTo>
                    <a:pt x="3980" y="1272"/>
                  </a:lnTo>
                  <a:lnTo>
                    <a:pt x="3995" y="1272"/>
                  </a:lnTo>
                  <a:lnTo>
                    <a:pt x="4005" y="1268"/>
                  </a:lnTo>
                  <a:lnTo>
                    <a:pt x="4010" y="1268"/>
                  </a:lnTo>
                  <a:lnTo>
                    <a:pt x="4025" y="1248"/>
                  </a:lnTo>
                  <a:lnTo>
                    <a:pt x="4035" y="1233"/>
                  </a:lnTo>
                  <a:lnTo>
                    <a:pt x="4035" y="1223"/>
                  </a:lnTo>
                  <a:lnTo>
                    <a:pt x="4035" y="1213"/>
                  </a:lnTo>
                  <a:lnTo>
                    <a:pt x="4035" y="1203"/>
                  </a:lnTo>
                  <a:lnTo>
                    <a:pt x="4030" y="1194"/>
                  </a:lnTo>
                  <a:lnTo>
                    <a:pt x="4025" y="1184"/>
                  </a:lnTo>
                  <a:lnTo>
                    <a:pt x="4020" y="1179"/>
                  </a:lnTo>
                  <a:lnTo>
                    <a:pt x="4010" y="1174"/>
                  </a:lnTo>
                  <a:lnTo>
                    <a:pt x="4000" y="1169"/>
                  </a:lnTo>
                  <a:lnTo>
                    <a:pt x="3985" y="1164"/>
                  </a:lnTo>
                  <a:lnTo>
                    <a:pt x="3970" y="1164"/>
                  </a:lnTo>
                  <a:lnTo>
                    <a:pt x="3955" y="1159"/>
                  </a:lnTo>
                  <a:lnTo>
                    <a:pt x="3945" y="1159"/>
                  </a:lnTo>
                  <a:lnTo>
                    <a:pt x="3930" y="1154"/>
                  </a:lnTo>
                  <a:lnTo>
                    <a:pt x="3914" y="1154"/>
                  </a:lnTo>
                  <a:lnTo>
                    <a:pt x="3899" y="1149"/>
                  </a:lnTo>
                  <a:lnTo>
                    <a:pt x="3889" y="1144"/>
                  </a:lnTo>
                  <a:lnTo>
                    <a:pt x="3874" y="1144"/>
                  </a:lnTo>
                  <a:lnTo>
                    <a:pt x="3859" y="1139"/>
                  </a:lnTo>
                  <a:lnTo>
                    <a:pt x="3844" y="1139"/>
                  </a:lnTo>
                  <a:lnTo>
                    <a:pt x="3829" y="1134"/>
                  </a:lnTo>
                  <a:lnTo>
                    <a:pt x="3814" y="1134"/>
                  </a:lnTo>
                  <a:lnTo>
                    <a:pt x="3804" y="1129"/>
                  </a:lnTo>
                  <a:lnTo>
                    <a:pt x="3789" y="1129"/>
                  </a:lnTo>
                  <a:lnTo>
                    <a:pt x="3774" y="1124"/>
                  </a:lnTo>
                  <a:lnTo>
                    <a:pt x="3759" y="1124"/>
                  </a:lnTo>
                  <a:lnTo>
                    <a:pt x="3749" y="1120"/>
                  </a:lnTo>
                  <a:lnTo>
                    <a:pt x="3734" y="1120"/>
                  </a:lnTo>
                  <a:lnTo>
                    <a:pt x="3719" y="1115"/>
                  </a:lnTo>
                  <a:lnTo>
                    <a:pt x="3703" y="1110"/>
                  </a:lnTo>
                  <a:lnTo>
                    <a:pt x="3693" y="1110"/>
                  </a:lnTo>
                  <a:lnTo>
                    <a:pt x="3678" y="1110"/>
                  </a:lnTo>
                  <a:lnTo>
                    <a:pt x="3663" y="1110"/>
                  </a:lnTo>
                  <a:lnTo>
                    <a:pt x="3648" y="1105"/>
                  </a:lnTo>
                  <a:lnTo>
                    <a:pt x="3638" y="1105"/>
                  </a:lnTo>
                  <a:lnTo>
                    <a:pt x="3623" y="1100"/>
                  </a:lnTo>
                  <a:lnTo>
                    <a:pt x="3608" y="1095"/>
                  </a:lnTo>
                  <a:lnTo>
                    <a:pt x="3593" y="1095"/>
                  </a:lnTo>
                  <a:lnTo>
                    <a:pt x="3578" y="1095"/>
                  </a:lnTo>
                  <a:lnTo>
                    <a:pt x="3563" y="1090"/>
                  </a:lnTo>
                  <a:lnTo>
                    <a:pt x="3553" y="1090"/>
                  </a:lnTo>
                  <a:lnTo>
                    <a:pt x="3538" y="1085"/>
                  </a:lnTo>
                  <a:lnTo>
                    <a:pt x="3528" y="1080"/>
                  </a:lnTo>
                  <a:lnTo>
                    <a:pt x="3512" y="1080"/>
                  </a:lnTo>
                  <a:lnTo>
                    <a:pt x="3497" y="1075"/>
                  </a:lnTo>
                  <a:lnTo>
                    <a:pt x="3482" y="1075"/>
                  </a:lnTo>
                  <a:lnTo>
                    <a:pt x="3472" y="1070"/>
                  </a:lnTo>
                  <a:lnTo>
                    <a:pt x="3457" y="1070"/>
                  </a:lnTo>
                  <a:lnTo>
                    <a:pt x="3442" y="1065"/>
                  </a:lnTo>
                  <a:lnTo>
                    <a:pt x="3427" y="1060"/>
                  </a:lnTo>
                  <a:lnTo>
                    <a:pt x="3412" y="1060"/>
                  </a:lnTo>
                  <a:lnTo>
                    <a:pt x="3397" y="1055"/>
                  </a:lnTo>
                  <a:lnTo>
                    <a:pt x="3387" y="1055"/>
                  </a:lnTo>
                  <a:lnTo>
                    <a:pt x="3372" y="1051"/>
                  </a:lnTo>
                  <a:lnTo>
                    <a:pt x="3357" y="1051"/>
                  </a:lnTo>
                  <a:lnTo>
                    <a:pt x="3347" y="1046"/>
                  </a:lnTo>
                  <a:lnTo>
                    <a:pt x="3332" y="1046"/>
                  </a:lnTo>
                  <a:lnTo>
                    <a:pt x="3316" y="1041"/>
                  </a:lnTo>
                  <a:lnTo>
                    <a:pt x="3306" y="1036"/>
                  </a:lnTo>
                  <a:lnTo>
                    <a:pt x="3291" y="1031"/>
                  </a:lnTo>
                  <a:lnTo>
                    <a:pt x="3276" y="1031"/>
                  </a:lnTo>
                  <a:lnTo>
                    <a:pt x="3261" y="1026"/>
                  </a:lnTo>
                  <a:lnTo>
                    <a:pt x="3246" y="1021"/>
                  </a:lnTo>
                  <a:lnTo>
                    <a:pt x="3236" y="1021"/>
                  </a:lnTo>
                  <a:lnTo>
                    <a:pt x="3221" y="1016"/>
                  </a:lnTo>
                  <a:lnTo>
                    <a:pt x="3206" y="1011"/>
                  </a:lnTo>
                  <a:lnTo>
                    <a:pt x="3196" y="1011"/>
                  </a:lnTo>
                  <a:lnTo>
                    <a:pt x="3181" y="1006"/>
                  </a:lnTo>
                  <a:lnTo>
                    <a:pt x="3166" y="1001"/>
                  </a:lnTo>
                  <a:lnTo>
                    <a:pt x="3151" y="996"/>
                  </a:lnTo>
                  <a:lnTo>
                    <a:pt x="3141" y="996"/>
                  </a:lnTo>
                  <a:lnTo>
                    <a:pt x="3126" y="991"/>
                  </a:lnTo>
                  <a:lnTo>
                    <a:pt x="3110" y="986"/>
                  </a:lnTo>
                  <a:lnTo>
                    <a:pt x="3095" y="981"/>
                  </a:lnTo>
                  <a:lnTo>
                    <a:pt x="3080" y="977"/>
                  </a:lnTo>
                  <a:lnTo>
                    <a:pt x="3060" y="972"/>
                  </a:lnTo>
                  <a:lnTo>
                    <a:pt x="3045" y="967"/>
                  </a:lnTo>
                  <a:lnTo>
                    <a:pt x="3030" y="962"/>
                  </a:lnTo>
                  <a:lnTo>
                    <a:pt x="3015" y="957"/>
                  </a:lnTo>
                  <a:lnTo>
                    <a:pt x="2995" y="947"/>
                  </a:lnTo>
                  <a:lnTo>
                    <a:pt x="2980" y="942"/>
                  </a:lnTo>
                  <a:lnTo>
                    <a:pt x="2965" y="937"/>
                  </a:lnTo>
                  <a:lnTo>
                    <a:pt x="2950" y="932"/>
                  </a:lnTo>
                  <a:lnTo>
                    <a:pt x="2930" y="927"/>
                  </a:lnTo>
                  <a:lnTo>
                    <a:pt x="2919" y="922"/>
                  </a:lnTo>
                  <a:lnTo>
                    <a:pt x="2899" y="917"/>
                  </a:lnTo>
                  <a:lnTo>
                    <a:pt x="2884" y="912"/>
                  </a:lnTo>
                  <a:lnTo>
                    <a:pt x="2869" y="908"/>
                  </a:lnTo>
                  <a:lnTo>
                    <a:pt x="2854" y="898"/>
                  </a:lnTo>
                  <a:lnTo>
                    <a:pt x="2839" y="893"/>
                  </a:lnTo>
                  <a:lnTo>
                    <a:pt x="2819" y="888"/>
                  </a:lnTo>
                  <a:lnTo>
                    <a:pt x="2804" y="883"/>
                  </a:lnTo>
                  <a:lnTo>
                    <a:pt x="2789" y="878"/>
                  </a:lnTo>
                  <a:lnTo>
                    <a:pt x="2774" y="868"/>
                  </a:lnTo>
                  <a:lnTo>
                    <a:pt x="2759" y="863"/>
                  </a:lnTo>
                  <a:lnTo>
                    <a:pt x="2739" y="858"/>
                  </a:lnTo>
                  <a:lnTo>
                    <a:pt x="2724" y="853"/>
                  </a:lnTo>
                  <a:lnTo>
                    <a:pt x="2708" y="848"/>
                  </a:lnTo>
                  <a:lnTo>
                    <a:pt x="2693" y="843"/>
                  </a:lnTo>
                  <a:lnTo>
                    <a:pt x="2678" y="834"/>
                  </a:lnTo>
                  <a:lnTo>
                    <a:pt x="2663" y="829"/>
                  </a:lnTo>
                  <a:lnTo>
                    <a:pt x="2643" y="824"/>
                  </a:lnTo>
                  <a:lnTo>
                    <a:pt x="2628" y="819"/>
                  </a:lnTo>
                  <a:lnTo>
                    <a:pt x="2618" y="814"/>
                  </a:lnTo>
                  <a:lnTo>
                    <a:pt x="2603" y="809"/>
                  </a:lnTo>
                  <a:lnTo>
                    <a:pt x="2583" y="799"/>
                  </a:lnTo>
                  <a:lnTo>
                    <a:pt x="2568" y="794"/>
                  </a:lnTo>
                  <a:lnTo>
                    <a:pt x="2553" y="789"/>
                  </a:lnTo>
                  <a:lnTo>
                    <a:pt x="2538" y="784"/>
                  </a:lnTo>
                  <a:lnTo>
                    <a:pt x="2517" y="779"/>
                  </a:lnTo>
                  <a:lnTo>
                    <a:pt x="2502" y="774"/>
                  </a:lnTo>
                  <a:lnTo>
                    <a:pt x="2487" y="769"/>
                  </a:lnTo>
                  <a:lnTo>
                    <a:pt x="2472" y="764"/>
                  </a:lnTo>
                  <a:lnTo>
                    <a:pt x="2457" y="755"/>
                  </a:lnTo>
                  <a:lnTo>
                    <a:pt x="2437" y="750"/>
                  </a:lnTo>
                  <a:lnTo>
                    <a:pt x="2422" y="745"/>
                  </a:lnTo>
                  <a:lnTo>
                    <a:pt x="2407" y="740"/>
                  </a:lnTo>
                  <a:lnTo>
                    <a:pt x="2392" y="735"/>
                  </a:lnTo>
                  <a:lnTo>
                    <a:pt x="2377" y="730"/>
                  </a:lnTo>
                  <a:lnTo>
                    <a:pt x="2357" y="725"/>
                  </a:lnTo>
                  <a:lnTo>
                    <a:pt x="2342" y="720"/>
                  </a:lnTo>
                  <a:lnTo>
                    <a:pt x="2327" y="715"/>
                  </a:lnTo>
                  <a:lnTo>
                    <a:pt x="2311" y="710"/>
                  </a:lnTo>
                  <a:lnTo>
                    <a:pt x="2291" y="705"/>
                  </a:lnTo>
                  <a:lnTo>
                    <a:pt x="2276" y="700"/>
                  </a:lnTo>
                  <a:lnTo>
                    <a:pt x="2261" y="695"/>
                  </a:lnTo>
                  <a:lnTo>
                    <a:pt x="2246" y="691"/>
                  </a:lnTo>
                  <a:lnTo>
                    <a:pt x="2226" y="686"/>
                  </a:lnTo>
                  <a:lnTo>
                    <a:pt x="2211" y="681"/>
                  </a:lnTo>
                  <a:lnTo>
                    <a:pt x="2196" y="676"/>
                  </a:lnTo>
                  <a:lnTo>
                    <a:pt x="2181" y="671"/>
                  </a:lnTo>
                  <a:lnTo>
                    <a:pt x="2161" y="671"/>
                  </a:lnTo>
                  <a:lnTo>
                    <a:pt x="2146" y="666"/>
                  </a:lnTo>
                  <a:lnTo>
                    <a:pt x="2131" y="661"/>
                  </a:lnTo>
                  <a:lnTo>
                    <a:pt x="2110" y="656"/>
                  </a:lnTo>
                  <a:lnTo>
                    <a:pt x="2095" y="651"/>
                  </a:lnTo>
                  <a:lnTo>
                    <a:pt x="2080" y="651"/>
                  </a:lnTo>
                  <a:lnTo>
                    <a:pt x="2050" y="641"/>
                  </a:lnTo>
                  <a:lnTo>
                    <a:pt x="2020" y="636"/>
                  </a:lnTo>
                  <a:lnTo>
                    <a:pt x="1990" y="631"/>
                  </a:lnTo>
                  <a:lnTo>
                    <a:pt x="1960" y="621"/>
                  </a:lnTo>
                  <a:lnTo>
                    <a:pt x="1930" y="617"/>
                  </a:lnTo>
                  <a:lnTo>
                    <a:pt x="1899" y="607"/>
                  </a:lnTo>
                  <a:lnTo>
                    <a:pt x="1869" y="602"/>
                  </a:lnTo>
                  <a:lnTo>
                    <a:pt x="1839" y="597"/>
                  </a:lnTo>
                  <a:lnTo>
                    <a:pt x="1809" y="592"/>
                  </a:lnTo>
                  <a:lnTo>
                    <a:pt x="1779" y="587"/>
                  </a:lnTo>
                  <a:lnTo>
                    <a:pt x="1749" y="577"/>
                  </a:lnTo>
                  <a:lnTo>
                    <a:pt x="1718" y="572"/>
                  </a:lnTo>
                  <a:lnTo>
                    <a:pt x="1688" y="567"/>
                  </a:lnTo>
                  <a:lnTo>
                    <a:pt x="1658" y="557"/>
                  </a:lnTo>
                  <a:lnTo>
                    <a:pt x="1628" y="552"/>
                  </a:lnTo>
                  <a:lnTo>
                    <a:pt x="1598" y="548"/>
                  </a:lnTo>
                  <a:lnTo>
                    <a:pt x="1568" y="543"/>
                  </a:lnTo>
                  <a:lnTo>
                    <a:pt x="1533" y="533"/>
                  </a:lnTo>
                  <a:lnTo>
                    <a:pt x="1502" y="528"/>
                  </a:lnTo>
                  <a:lnTo>
                    <a:pt x="1472" y="523"/>
                  </a:lnTo>
                  <a:lnTo>
                    <a:pt x="1442" y="513"/>
                  </a:lnTo>
                  <a:lnTo>
                    <a:pt x="1412" y="508"/>
                  </a:lnTo>
                  <a:lnTo>
                    <a:pt x="1377" y="503"/>
                  </a:lnTo>
                  <a:lnTo>
                    <a:pt x="1352" y="493"/>
                  </a:lnTo>
                  <a:lnTo>
                    <a:pt x="1316" y="488"/>
                  </a:lnTo>
                  <a:lnTo>
                    <a:pt x="1286" y="478"/>
                  </a:lnTo>
                  <a:lnTo>
                    <a:pt x="1256" y="474"/>
                  </a:lnTo>
                  <a:lnTo>
                    <a:pt x="1226" y="469"/>
                  </a:lnTo>
                  <a:lnTo>
                    <a:pt x="1196" y="459"/>
                  </a:lnTo>
                  <a:lnTo>
                    <a:pt x="1166" y="454"/>
                  </a:lnTo>
                  <a:lnTo>
                    <a:pt x="1136" y="444"/>
                  </a:lnTo>
                  <a:lnTo>
                    <a:pt x="1105" y="439"/>
                  </a:lnTo>
                  <a:lnTo>
                    <a:pt x="1070" y="429"/>
                  </a:lnTo>
                  <a:lnTo>
                    <a:pt x="1040" y="424"/>
                  </a:lnTo>
                  <a:lnTo>
                    <a:pt x="1010" y="414"/>
                  </a:lnTo>
                  <a:lnTo>
                    <a:pt x="980" y="409"/>
                  </a:lnTo>
                  <a:lnTo>
                    <a:pt x="950" y="400"/>
                  </a:lnTo>
                  <a:lnTo>
                    <a:pt x="919" y="390"/>
                  </a:lnTo>
                  <a:lnTo>
                    <a:pt x="889" y="385"/>
                  </a:lnTo>
                  <a:lnTo>
                    <a:pt x="859" y="375"/>
                  </a:lnTo>
                  <a:lnTo>
                    <a:pt x="824" y="365"/>
                  </a:lnTo>
                  <a:lnTo>
                    <a:pt x="799" y="360"/>
                  </a:lnTo>
                  <a:lnTo>
                    <a:pt x="764" y="350"/>
                  </a:lnTo>
                  <a:lnTo>
                    <a:pt x="733" y="340"/>
                  </a:lnTo>
                  <a:lnTo>
                    <a:pt x="703" y="331"/>
                  </a:lnTo>
                  <a:lnTo>
                    <a:pt x="673" y="326"/>
                  </a:lnTo>
                  <a:lnTo>
                    <a:pt x="648" y="311"/>
                  </a:lnTo>
                  <a:lnTo>
                    <a:pt x="618" y="306"/>
                  </a:lnTo>
                  <a:lnTo>
                    <a:pt x="588" y="296"/>
                  </a:lnTo>
                  <a:lnTo>
                    <a:pt x="558" y="286"/>
                  </a:lnTo>
                  <a:lnTo>
                    <a:pt x="527" y="276"/>
                  </a:lnTo>
                  <a:lnTo>
                    <a:pt x="502" y="266"/>
                  </a:lnTo>
                  <a:lnTo>
                    <a:pt x="472" y="252"/>
                  </a:lnTo>
                  <a:lnTo>
                    <a:pt x="442" y="242"/>
                  </a:lnTo>
                  <a:lnTo>
                    <a:pt x="412" y="232"/>
                  </a:lnTo>
                  <a:lnTo>
                    <a:pt x="387" y="222"/>
                  </a:lnTo>
                  <a:lnTo>
                    <a:pt x="357" y="207"/>
                  </a:lnTo>
                  <a:lnTo>
                    <a:pt x="326" y="197"/>
                  </a:lnTo>
                  <a:lnTo>
                    <a:pt x="301" y="183"/>
                  </a:lnTo>
                  <a:lnTo>
                    <a:pt x="271" y="173"/>
                  </a:lnTo>
                  <a:lnTo>
                    <a:pt x="241" y="163"/>
                  </a:lnTo>
                  <a:lnTo>
                    <a:pt x="216" y="148"/>
                  </a:lnTo>
                  <a:lnTo>
                    <a:pt x="186" y="133"/>
                  </a:lnTo>
                  <a:lnTo>
                    <a:pt x="161" y="123"/>
                  </a:lnTo>
                  <a:lnTo>
                    <a:pt x="156" y="118"/>
                  </a:lnTo>
                  <a:lnTo>
                    <a:pt x="156" y="114"/>
                  </a:lnTo>
                  <a:lnTo>
                    <a:pt x="151" y="104"/>
                  </a:lnTo>
                  <a:lnTo>
                    <a:pt x="146" y="89"/>
                  </a:lnTo>
                  <a:lnTo>
                    <a:pt x="135" y="84"/>
                  </a:lnTo>
                  <a:lnTo>
                    <a:pt x="130" y="74"/>
                  </a:lnTo>
                  <a:lnTo>
                    <a:pt x="120" y="64"/>
                  </a:lnTo>
                  <a:lnTo>
                    <a:pt x="110" y="54"/>
                  </a:lnTo>
                  <a:lnTo>
                    <a:pt x="95" y="40"/>
                  </a:lnTo>
                  <a:lnTo>
                    <a:pt x="80" y="30"/>
                  </a:lnTo>
                  <a:lnTo>
                    <a:pt x="65" y="20"/>
                  </a:lnTo>
                  <a:lnTo>
                    <a:pt x="45" y="1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5" y="15"/>
                  </a:lnTo>
                  <a:lnTo>
                    <a:pt x="0" y="25"/>
                  </a:lnTo>
                  <a:lnTo>
                    <a:pt x="5" y="44"/>
                  </a:lnTo>
                  <a:lnTo>
                    <a:pt x="5" y="54"/>
                  </a:lnTo>
                  <a:lnTo>
                    <a:pt x="10" y="64"/>
                  </a:lnTo>
                  <a:lnTo>
                    <a:pt x="15" y="74"/>
                  </a:lnTo>
                  <a:lnTo>
                    <a:pt x="20" y="84"/>
                  </a:lnTo>
                  <a:lnTo>
                    <a:pt x="20" y="94"/>
                  </a:lnTo>
                  <a:lnTo>
                    <a:pt x="25" y="104"/>
                  </a:lnTo>
                  <a:lnTo>
                    <a:pt x="30" y="118"/>
                  </a:lnTo>
                  <a:lnTo>
                    <a:pt x="35" y="128"/>
                  </a:lnTo>
                  <a:lnTo>
                    <a:pt x="40" y="138"/>
                  </a:lnTo>
                  <a:lnTo>
                    <a:pt x="45" y="148"/>
                  </a:lnTo>
                  <a:lnTo>
                    <a:pt x="50" y="153"/>
                  </a:lnTo>
                  <a:lnTo>
                    <a:pt x="55" y="168"/>
                  </a:lnTo>
                  <a:lnTo>
                    <a:pt x="60" y="183"/>
                  </a:lnTo>
                  <a:lnTo>
                    <a:pt x="65" y="192"/>
                  </a:lnTo>
                  <a:lnTo>
                    <a:pt x="70" y="202"/>
                  </a:lnTo>
                  <a:lnTo>
                    <a:pt x="75" y="207"/>
                  </a:lnTo>
                  <a:lnTo>
                    <a:pt x="75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rot="21279600">
            <a:off x="4952520" y="4953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55-44-0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1905120"/>
            <a:ext cx="51055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cenario 2: Sandra’s attending fall term at East Side Community College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Transferring to West Side University spring semest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What should the FAA at WSU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E4EC-7517-459B-9CC9-086BF64882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ansfer Student Monitor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Issue: What do you do for mid-term transfer?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3 steps: Inform, Monitor &amp; Alert/Review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Effects of Sandra’s transfer: WSU must inform NSLDS of transferring student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GEN-01-09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Resolution: Report the Transfer Student to NSLD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nsldsfap.ed.gov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(Web process)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TSM User’s Guide (Batch process)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1C7-153C-49C6-AF7A-9017DEC3EF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Transfer Student Monito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1430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Resolution: Inform NS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371600" y="1981080"/>
          <a:ext cx="518148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5181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752480" y="3048120"/>
          <a:ext cx="431496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048120"/>
                    <a:ext cx="43149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981080" y="3733920"/>
          <a:ext cx="3867120" cy="184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3733920"/>
                    <a:ext cx="38671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295280" y="2362320"/>
            <a:ext cx="121932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67040" y="1981080"/>
            <a:ext cx="685800" cy="38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4314960"/>
            <a:ext cx="3047760" cy="3045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10BC-6085-430C-B42A-EEAED3DCA0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352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Transfer Student Monito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11430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Resolution: Inform NS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48320" y="3733920"/>
          <a:ext cx="4495680" cy="18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733920"/>
                    <a:ext cx="449568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457200" y="1828800"/>
            <a:ext cx="3828960" cy="3135240"/>
            <a:chOff x="457200" y="1828800"/>
            <a:chExt cx="3828960" cy="3135240"/>
          </a:xfrm>
        </p:grpSpPr>
        <p:graphicFrame>
          <p:nvGraphicFramePr>
            <p:cNvPr id="151" name=""/>
            <p:cNvGraphicFramePr/>
            <p:nvPr/>
          </p:nvGraphicFramePr>
          <p:xfrm>
            <a:off x="1523880" y="4572000"/>
            <a:ext cx="1524240" cy="392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3880" y="4572000"/>
                      <a:ext cx="152424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3" name=""/>
            <p:cNvGrpSpPr/>
            <p:nvPr/>
          </p:nvGrpSpPr>
          <p:grpSpPr>
            <a:xfrm>
              <a:off x="457200" y="1828800"/>
              <a:ext cx="3828960" cy="2514600"/>
              <a:chOff x="457200" y="1828800"/>
              <a:chExt cx="3828960" cy="2514600"/>
            </a:xfrm>
          </p:grpSpPr>
          <p:graphicFrame>
            <p:nvGraphicFramePr>
              <p:cNvPr id="154" name=""/>
              <p:cNvGraphicFramePr/>
              <p:nvPr/>
            </p:nvGraphicFramePr>
            <p:xfrm>
              <a:off x="457200" y="1828800"/>
              <a:ext cx="3800520" cy="6285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55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57200" y="1828800"/>
                        <a:ext cx="3800520" cy="62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6" name=""/>
              <p:cNvGraphicFramePr/>
              <p:nvPr/>
            </p:nvGraphicFramePr>
            <p:xfrm>
              <a:off x="638280" y="2743200"/>
              <a:ext cx="3647880" cy="1568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5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38280" y="2743200"/>
                        <a:ext cx="3647880" cy="156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8" name=""/>
              <p:cNvGraphicFramePr/>
              <p:nvPr/>
            </p:nvGraphicFramePr>
            <p:xfrm>
              <a:off x="1371600" y="2514600"/>
              <a:ext cx="2009880" cy="219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59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371600" y="2514600"/>
                        <a:ext cx="2009880" cy="219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0" name=""/>
              <p:cNvSpPr/>
              <p:nvPr/>
            </p:nvSpPr>
            <p:spPr>
              <a:xfrm>
                <a:off x="2133720" y="4114800"/>
                <a:ext cx="609480" cy="228600"/>
              </a:xfrm>
              <a:prstGeom prst="rect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5029200" y="2133720"/>
            <a:ext cx="3743280" cy="1247760"/>
            <a:chOff x="5029200" y="2133720"/>
            <a:chExt cx="3743280" cy="1247760"/>
          </a:xfrm>
        </p:grpSpPr>
        <p:graphicFrame>
          <p:nvGraphicFramePr>
            <p:cNvPr id="162" name=""/>
            <p:cNvGraphicFramePr/>
            <p:nvPr/>
          </p:nvGraphicFramePr>
          <p:xfrm>
            <a:off x="5029200" y="2438280"/>
            <a:ext cx="3743280" cy="943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029200" y="2438280"/>
                      <a:ext cx="3743280" cy="94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"/>
            <p:cNvGraphicFramePr/>
            <p:nvPr/>
          </p:nvGraphicFramePr>
          <p:xfrm>
            <a:off x="6172200" y="2133720"/>
            <a:ext cx="1295280" cy="237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72200" y="2133720"/>
                      <a:ext cx="1295280" cy="23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>
              <a:off x="5624640" y="3033720"/>
              <a:ext cx="2590560" cy="30492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6A0-3648-4EDD-9399-AE93A30A43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352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Transfer Student Monito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4880" y="1123920"/>
            <a:ext cx="79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Resolution: NSLDS Monito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28600" y="1828800"/>
          <a:ext cx="483876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838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33520" y="2895480"/>
          <a:ext cx="4024080" cy="115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895480"/>
                    <a:ext cx="402408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533520" y="4267080"/>
          <a:ext cx="7059600" cy="124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267080"/>
                    <a:ext cx="705960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876920" y="2895480"/>
          <a:ext cx="152388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2895480"/>
                    <a:ext cx="1523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504720" y="5000760"/>
            <a:ext cx="7086600" cy="3333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A770-156A-4624-8A37-D0A400AA23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352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Transfer Student Monito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4880" y="11239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Resolution: NSLDS- Alert email no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33200" y="3181320"/>
          <a:ext cx="4114800" cy="15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" y="3181320"/>
                    <a:ext cx="411480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28600" y="1752480"/>
          <a:ext cx="48960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752480"/>
                    <a:ext cx="48960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343400" y="2467080"/>
          <a:ext cx="4724280" cy="23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2467080"/>
                    <a:ext cx="472428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 flipH="1">
            <a:off x="514080" y="37958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4720" y="3809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0040" y="563868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534520" y="3352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48520" y="3186000"/>
            <a:ext cx="1067040" cy="15264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3719520"/>
            <a:ext cx="1752480" cy="1522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2104920"/>
            <a:ext cx="1981080" cy="254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62440" y="1766880"/>
            <a:ext cx="60948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90720" y="2666880"/>
          <a:ext cx="2104920" cy="343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2666880"/>
                    <a:ext cx="21049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362480" y="2819520"/>
            <a:ext cx="2343240" cy="21384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83B0-CBFC-457B-8F1C-DB2137162F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352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Transfer Student Monito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1239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Resolution: NSLDS - Ale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324480" y="2209680"/>
            <a:ext cx="153360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228600" y="1676520"/>
          <a:ext cx="4857840" cy="62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76520"/>
                    <a:ext cx="48578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295280" y="2362320"/>
          <a:ext cx="2019600" cy="16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2362320"/>
                    <a:ext cx="2019600" cy="16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47680" y="2666880"/>
          <a:ext cx="4896000" cy="1171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7680" y="2666880"/>
                    <a:ext cx="489600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04920" y="4191120"/>
          <a:ext cx="7237440" cy="695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4920" y="4191120"/>
                    <a:ext cx="72374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952880" y="5181480"/>
          <a:ext cx="685800" cy="685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52880" y="518148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038480" y="5410080"/>
          <a:ext cx="704880" cy="304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38480" y="5410080"/>
                    <a:ext cx="7048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3948120" y="5424480"/>
            <a:ext cx="871560" cy="2952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295880" y="4662360"/>
          <a:ext cx="114120" cy="114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295880" y="4662360"/>
                    <a:ext cx="114120" cy="1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709640" y="2085840"/>
            <a:ext cx="18288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38680" y="1709640"/>
            <a:ext cx="609480" cy="352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2666880"/>
            <a:ext cx="1295640" cy="20016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24000" y="2881440"/>
            <a:ext cx="1143000" cy="7477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90880" y="3643200"/>
            <a:ext cx="1295280" cy="1526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19720" y="4800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A44-2469-468E-925B-7CA6CDFC3A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ansfer Student Monitor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Results of Using TSM module: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Ensures TSM complianc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New school will receive information affecting eligibility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E807-2B3E-44C0-A7D5-87E3D58F8E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-285480" y="-1136520"/>
            <a:ext cx="10391040" cy="9245880"/>
            <a:chOff x="-285480" y="-1136520"/>
            <a:chExt cx="10391040" cy="9245880"/>
          </a:xfrm>
        </p:grpSpPr>
        <p:sp>
          <p:nvSpPr>
            <p:cNvPr id="224" name=""/>
            <p:cNvSpPr/>
            <p:nvPr/>
          </p:nvSpPr>
          <p:spPr>
            <a:xfrm flipH="1" flipV="1" rot="9362400">
              <a:off x="2228400" y="-49680"/>
              <a:ext cx="6700680" cy="6348240"/>
            </a:xfrm>
            <a:custGeom>
              <a:avLst/>
              <a:gdLst/>
              <a:ahLst/>
              <a:rect l="l" t="t" r="r" b="b"/>
              <a:pathLst>
                <a:path w="4221" h="3999">
                  <a:moveTo>
                    <a:pt x="0" y="113"/>
                  </a:moveTo>
                  <a:lnTo>
                    <a:pt x="276" y="0"/>
                  </a:lnTo>
                  <a:lnTo>
                    <a:pt x="804" y="133"/>
                  </a:lnTo>
                  <a:lnTo>
                    <a:pt x="2125" y="463"/>
                  </a:lnTo>
                  <a:lnTo>
                    <a:pt x="2402" y="310"/>
                  </a:lnTo>
                  <a:lnTo>
                    <a:pt x="3744" y="715"/>
                  </a:lnTo>
                  <a:lnTo>
                    <a:pt x="3844" y="1080"/>
                  </a:lnTo>
                  <a:lnTo>
                    <a:pt x="4221" y="1356"/>
                  </a:lnTo>
                  <a:lnTo>
                    <a:pt x="4221" y="1662"/>
                  </a:lnTo>
                  <a:lnTo>
                    <a:pt x="3296" y="3950"/>
                  </a:lnTo>
                  <a:lnTo>
                    <a:pt x="3090" y="3999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 rot="9362400">
              <a:off x="834120" y="680760"/>
              <a:ext cx="6837480" cy="6246720"/>
            </a:xfrm>
            <a:custGeom>
              <a:avLst/>
              <a:gdLst/>
              <a:ahLst/>
              <a:rect l="l" t="t" r="r" b="b"/>
              <a:pathLst>
                <a:path w="4307" h="3935">
                  <a:moveTo>
                    <a:pt x="311" y="59"/>
                  </a:moveTo>
                  <a:lnTo>
                    <a:pt x="774" y="0"/>
                  </a:lnTo>
                  <a:lnTo>
                    <a:pt x="4070" y="1001"/>
                  </a:lnTo>
                  <a:lnTo>
                    <a:pt x="4276" y="1223"/>
                  </a:lnTo>
                  <a:lnTo>
                    <a:pt x="4307" y="1681"/>
                  </a:lnTo>
                  <a:lnTo>
                    <a:pt x="4100" y="3915"/>
                  </a:lnTo>
                  <a:lnTo>
                    <a:pt x="3889" y="3935"/>
                  </a:lnTo>
                  <a:lnTo>
                    <a:pt x="1432" y="3269"/>
                  </a:lnTo>
                  <a:lnTo>
                    <a:pt x="427" y="3032"/>
                  </a:lnTo>
                  <a:lnTo>
                    <a:pt x="110" y="2860"/>
                  </a:lnTo>
                  <a:lnTo>
                    <a:pt x="0" y="2579"/>
                  </a:lnTo>
                  <a:lnTo>
                    <a:pt x="65" y="1301"/>
                  </a:lnTo>
                  <a:lnTo>
                    <a:pt x="75" y="438"/>
                  </a:lnTo>
                  <a:lnTo>
                    <a:pt x="311" y="59"/>
                  </a:lnTo>
                  <a:lnTo>
                    <a:pt x="311" y="59"/>
                  </a:lnTo>
                  <a:close/>
                </a:path>
              </a:pathLst>
            </a:custGeom>
            <a:solidFill>
              <a:srgbClr val="fce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 rot="9362400">
              <a:off x="7415640" y="1358640"/>
              <a:ext cx="1285920" cy="3632760"/>
            </a:xfrm>
            <a:custGeom>
              <a:avLst/>
              <a:gdLst/>
              <a:ahLst/>
              <a:rect l="l" t="t" r="r" b="b"/>
              <a:pathLst>
                <a:path w="810" h="2288">
                  <a:moveTo>
                    <a:pt x="237" y="0"/>
                  </a:moveTo>
                  <a:lnTo>
                    <a:pt x="810" y="246"/>
                  </a:lnTo>
                  <a:lnTo>
                    <a:pt x="51" y="2288"/>
                  </a:lnTo>
                  <a:lnTo>
                    <a:pt x="0" y="2258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 rot="9362400">
              <a:off x="4663080" y="-189720"/>
              <a:ext cx="3533760" cy="1957320"/>
            </a:xfrm>
            <a:custGeom>
              <a:avLst/>
              <a:gdLst/>
              <a:ahLst/>
              <a:rect l="l" t="t" r="r" b="b"/>
              <a:pathLst>
                <a:path w="2226" h="1233">
                  <a:moveTo>
                    <a:pt x="40" y="286"/>
                  </a:moveTo>
                  <a:lnTo>
                    <a:pt x="56" y="276"/>
                  </a:lnTo>
                  <a:lnTo>
                    <a:pt x="71" y="266"/>
                  </a:lnTo>
                  <a:lnTo>
                    <a:pt x="86" y="252"/>
                  </a:lnTo>
                  <a:lnTo>
                    <a:pt x="101" y="242"/>
                  </a:lnTo>
                  <a:lnTo>
                    <a:pt x="116" y="222"/>
                  </a:lnTo>
                  <a:lnTo>
                    <a:pt x="131" y="207"/>
                  </a:lnTo>
                  <a:lnTo>
                    <a:pt x="146" y="197"/>
                  </a:lnTo>
                  <a:lnTo>
                    <a:pt x="161" y="183"/>
                  </a:lnTo>
                  <a:lnTo>
                    <a:pt x="171" y="173"/>
                  </a:lnTo>
                  <a:lnTo>
                    <a:pt x="186" y="163"/>
                  </a:lnTo>
                  <a:lnTo>
                    <a:pt x="201" y="153"/>
                  </a:lnTo>
                  <a:lnTo>
                    <a:pt x="216" y="143"/>
                  </a:lnTo>
                  <a:lnTo>
                    <a:pt x="226" y="138"/>
                  </a:lnTo>
                  <a:lnTo>
                    <a:pt x="241" y="133"/>
                  </a:lnTo>
                  <a:lnTo>
                    <a:pt x="257" y="128"/>
                  </a:lnTo>
                  <a:lnTo>
                    <a:pt x="272" y="123"/>
                  </a:lnTo>
                  <a:lnTo>
                    <a:pt x="282" y="119"/>
                  </a:lnTo>
                  <a:lnTo>
                    <a:pt x="297" y="119"/>
                  </a:lnTo>
                  <a:lnTo>
                    <a:pt x="312" y="119"/>
                  </a:lnTo>
                  <a:lnTo>
                    <a:pt x="327" y="119"/>
                  </a:lnTo>
                  <a:lnTo>
                    <a:pt x="337" y="119"/>
                  </a:lnTo>
                  <a:lnTo>
                    <a:pt x="352" y="119"/>
                  </a:lnTo>
                  <a:lnTo>
                    <a:pt x="367" y="119"/>
                  </a:lnTo>
                  <a:lnTo>
                    <a:pt x="382" y="123"/>
                  </a:lnTo>
                  <a:lnTo>
                    <a:pt x="397" y="123"/>
                  </a:lnTo>
                  <a:lnTo>
                    <a:pt x="412" y="128"/>
                  </a:lnTo>
                  <a:lnTo>
                    <a:pt x="422" y="133"/>
                  </a:lnTo>
                  <a:lnTo>
                    <a:pt x="437" y="138"/>
                  </a:lnTo>
                  <a:lnTo>
                    <a:pt x="453" y="143"/>
                  </a:lnTo>
                  <a:lnTo>
                    <a:pt x="468" y="143"/>
                  </a:lnTo>
                  <a:lnTo>
                    <a:pt x="478" y="148"/>
                  </a:lnTo>
                  <a:lnTo>
                    <a:pt x="493" y="158"/>
                  </a:lnTo>
                  <a:lnTo>
                    <a:pt x="508" y="163"/>
                  </a:lnTo>
                  <a:lnTo>
                    <a:pt x="523" y="168"/>
                  </a:lnTo>
                  <a:lnTo>
                    <a:pt x="538" y="173"/>
                  </a:lnTo>
                  <a:lnTo>
                    <a:pt x="553" y="178"/>
                  </a:lnTo>
                  <a:lnTo>
                    <a:pt x="563" y="183"/>
                  </a:lnTo>
                  <a:lnTo>
                    <a:pt x="583" y="188"/>
                  </a:lnTo>
                  <a:lnTo>
                    <a:pt x="593" y="193"/>
                  </a:lnTo>
                  <a:lnTo>
                    <a:pt x="613" y="197"/>
                  </a:lnTo>
                  <a:lnTo>
                    <a:pt x="623" y="202"/>
                  </a:lnTo>
                  <a:lnTo>
                    <a:pt x="633" y="207"/>
                  </a:lnTo>
                  <a:lnTo>
                    <a:pt x="649" y="212"/>
                  </a:lnTo>
                  <a:lnTo>
                    <a:pt x="664" y="217"/>
                  </a:lnTo>
                  <a:lnTo>
                    <a:pt x="674" y="222"/>
                  </a:lnTo>
                  <a:lnTo>
                    <a:pt x="684" y="227"/>
                  </a:lnTo>
                  <a:lnTo>
                    <a:pt x="699" y="227"/>
                  </a:lnTo>
                  <a:lnTo>
                    <a:pt x="714" y="232"/>
                  </a:lnTo>
                  <a:lnTo>
                    <a:pt x="724" y="237"/>
                  </a:lnTo>
                  <a:lnTo>
                    <a:pt x="734" y="242"/>
                  </a:lnTo>
                  <a:lnTo>
                    <a:pt x="749" y="247"/>
                  </a:lnTo>
                  <a:lnTo>
                    <a:pt x="764" y="252"/>
                  </a:lnTo>
                  <a:lnTo>
                    <a:pt x="774" y="257"/>
                  </a:lnTo>
                  <a:lnTo>
                    <a:pt x="789" y="262"/>
                  </a:lnTo>
                  <a:lnTo>
                    <a:pt x="799" y="266"/>
                  </a:lnTo>
                  <a:lnTo>
                    <a:pt x="814" y="271"/>
                  </a:lnTo>
                  <a:lnTo>
                    <a:pt x="829" y="276"/>
                  </a:lnTo>
                  <a:lnTo>
                    <a:pt x="839" y="281"/>
                  </a:lnTo>
                  <a:lnTo>
                    <a:pt x="855" y="286"/>
                  </a:lnTo>
                  <a:lnTo>
                    <a:pt x="865" y="291"/>
                  </a:lnTo>
                  <a:lnTo>
                    <a:pt x="880" y="296"/>
                  </a:lnTo>
                  <a:lnTo>
                    <a:pt x="890" y="301"/>
                  </a:lnTo>
                  <a:lnTo>
                    <a:pt x="905" y="306"/>
                  </a:lnTo>
                  <a:lnTo>
                    <a:pt x="920" y="311"/>
                  </a:lnTo>
                  <a:lnTo>
                    <a:pt x="930" y="311"/>
                  </a:lnTo>
                  <a:lnTo>
                    <a:pt x="945" y="321"/>
                  </a:lnTo>
                  <a:lnTo>
                    <a:pt x="955" y="321"/>
                  </a:lnTo>
                  <a:lnTo>
                    <a:pt x="970" y="326"/>
                  </a:lnTo>
                  <a:lnTo>
                    <a:pt x="985" y="331"/>
                  </a:lnTo>
                  <a:lnTo>
                    <a:pt x="1000" y="336"/>
                  </a:lnTo>
                  <a:lnTo>
                    <a:pt x="1010" y="340"/>
                  </a:lnTo>
                  <a:lnTo>
                    <a:pt x="1025" y="345"/>
                  </a:lnTo>
                  <a:lnTo>
                    <a:pt x="1035" y="350"/>
                  </a:lnTo>
                  <a:lnTo>
                    <a:pt x="1051" y="355"/>
                  </a:lnTo>
                  <a:lnTo>
                    <a:pt x="1066" y="360"/>
                  </a:lnTo>
                  <a:lnTo>
                    <a:pt x="1081" y="365"/>
                  </a:lnTo>
                  <a:lnTo>
                    <a:pt x="1091" y="370"/>
                  </a:lnTo>
                  <a:lnTo>
                    <a:pt x="1106" y="375"/>
                  </a:lnTo>
                  <a:lnTo>
                    <a:pt x="1116" y="375"/>
                  </a:lnTo>
                  <a:lnTo>
                    <a:pt x="1131" y="385"/>
                  </a:lnTo>
                  <a:lnTo>
                    <a:pt x="1146" y="385"/>
                  </a:lnTo>
                  <a:lnTo>
                    <a:pt x="1156" y="390"/>
                  </a:lnTo>
                  <a:lnTo>
                    <a:pt x="1171" y="395"/>
                  </a:lnTo>
                  <a:lnTo>
                    <a:pt x="1186" y="395"/>
                  </a:lnTo>
                  <a:lnTo>
                    <a:pt x="1196" y="400"/>
                  </a:lnTo>
                  <a:lnTo>
                    <a:pt x="1211" y="405"/>
                  </a:lnTo>
                  <a:lnTo>
                    <a:pt x="1221" y="409"/>
                  </a:lnTo>
                  <a:lnTo>
                    <a:pt x="1236" y="414"/>
                  </a:lnTo>
                  <a:lnTo>
                    <a:pt x="1252" y="414"/>
                  </a:lnTo>
                  <a:lnTo>
                    <a:pt x="1267" y="419"/>
                  </a:lnTo>
                  <a:lnTo>
                    <a:pt x="1277" y="424"/>
                  </a:lnTo>
                  <a:lnTo>
                    <a:pt x="1292" y="424"/>
                  </a:lnTo>
                  <a:lnTo>
                    <a:pt x="1302" y="429"/>
                  </a:lnTo>
                  <a:lnTo>
                    <a:pt x="1317" y="434"/>
                  </a:lnTo>
                  <a:lnTo>
                    <a:pt x="1332" y="434"/>
                  </a:lnTo>
                  <a:lnTo>
                    <a:pt x="1347" y="439"/>
                  </a:lnTo>
                  <a:lnTo>
                    <a:pt x="1357" y="444"/>
                  </a:lnTo>
                  <a:lnTo>
                    <a:pt x="1372" y="449"/>
                  </a:lnTo>
                  <a:lnTo>
                    <a:pt x="1382" y="449"/>
                  </a:lnTo>
                  <a:lnTo>
                    <a:pt x="1397" y="454"/>
                  </a:lnTo>
                  <a:lnTo>
                    <a:pt x="1407" y="454"/>
                  </a:lnTo>
                  <a:lnTo>
                    <a:pt x="1422" y="459"/>
                  </a:lnTo>
                  <a:lnTo>
                    <a:pt x="1438" y="459"/>
                  </a:lnTo>
                  <a:lnTo>
                    <a:pt x="1453" y="464"/>
                  </a:lnTo>
                  <a:lnTo>
                    <a:pt x="1463" y="464"/>
                  </a:lnTo>
                  <a:lnTo>
                    <a:pt x="1473" y="469"/>
                  </a:lnTo>
                  <a:lnTo>
                    <a:pt x="1483" y="469"/>
                  </a:lnTo>
                  <a:lnTo>
                    <a:pt x="1498" y="474"/>
                  </a:lnTo>
                  <a:lnTo>
                    <a:pt x="1513" y="479"/>
                  </a:lnTo>
                  <a:lnTo>
                    <a:pt x="1533" y="483"/>
                  </a:lnTo>
                  <a:lnTo>
                    <a:pt x="1543" y="488"/>
                  </a:lnTo>
                  <a:lnTo>
                    <a:pt x="1558" y="498"/>
                  </a:lnTo>
                  <a:lnTo>
                    <a:pt x="1568" y="508"/>
                  </a:lnTo>
                  <a:lnTo>
                    <a:pt x="1578" y="518"/>
                  </a:lnTo>
                  <a:lnTo>
                    <a:pt x="1583" y="523"/>
                  </a:lnTo>
                  <a:lnTo>
                    <a:pt x="1593" y="533"/>
                  </a:lnTo>
                  <a:lnTo>
                    <a:pt x="1598" y="548"/>
                  </a:lnTo>
                  <a:lnTo>
                    <a:pt x="1603" y="557"/>
                  </a:lnTo>
                  <a:lnTo>
                    <a:pt x="1603" y="567"/>
                  </a:lnTo>
                  <a:lnTo>
                    <a:pt x="1608" y="577"/>
                  </a:lnTo>
                  <a:lnTo>
                    <a:pt x="1608" y="587"/>
                  </a:lnTo>
                  <a:lnTo>
                    <a:pt x="1613" y="602"/>
                  </a:lnTo>
                  <a:lnTo>
                    <a:pt x="1613" y="612"/>
                  </a:lnTo>
                  <a:lnTo>
                    <a:pt x="1613" y="622"/>
                  </a:lnTo>
                  <a:lnTo>
                    <a:pt x="1613" y="636"/>
                  </a:lnTo>
                  <a:lnTo>
                    <a:pt x="1613" y="651"/>
                  </a:lnTo>
                  <a:lnTo>
                    <a:pt x="1613" y="661"/>
                  </a:lnTo>
                  <a:lnTo>
                    <a:pt x="1613" y="676"/>
                  </a:lnTo>
                  <a:lnTo>
                    <a:pt x="1613" y="686"/>
                  </a:lnTo>
                  <a:lnTo>
                    <a:pt x="1618" y="700"/>
                  </a:lnTo>
                  <a:lnTo>
                    <a:pt x="1618" y="715"/>
                  </a:lnTo>
                  <a:lnTo>
                    <a:pt x="1618" y="730"/>
                  </a:lnTo>
                  <a:lnTo>
                    <a:pt x="1623" y="745"/>
                  </a:lnTo>
                  <a:lnTo>
                    <a:pt x="1628" y="760"/>
                  </a:lnTo>
                  <a:lnTo>
                    <a:pt x="1633" y="769"/>
                  </a:lnTo>
                  <a:lnTo>
                    <a:pt x="1639" y="789"/>
                  </a:lnTo>
                  <a:lnTo>
                    <a:pt x="1649" y="799"/>
                  </a:lnTo>
                  <a:lnTo>
                    <a:pt x="1659" y="814"/>
                  </a:lnTo>
                  <a:lnTo>
                    <a:pt x="1669" y="829"/>
                  </a:lnTo>
                  <a:lnTo>
                    <a:pt x="1679" y="843"/>
                  </a:lnTo>
                  <a:lnTo>
                    <a:pt x="1689" y="853"/>
                  </a:lnTo>
                  <a:lnTo>
                    <a:pt x="1704" y="868"/>
                  </a:lnTo>
                  <a:lnTo>
                    <a:pt x="1719" y="878"/>
                  </a:lnTo>
                  <a:lnTo>
                    <a:pt x="1734" y="888"/>
                  </a:lnTo>
                  <a:lnTo>
                    <a:pt x="1749" y="898"/>
                  </a:lnTo>
                  <a:lnTo>
                    <a:pt x="1764" y="913"/>
                  </a:lnTo>
                  <a:lnTo>
                    <a:pt x="1779" y="922"/>
                  </a:lnTo>
                  <a:lnTo>
                    <a:pt x="1799" y="932"/>
                  </a:lnTo>
                  <a:lnTo>
                    <a:pt x="1814" y="942"/>
                  </a:lnTo>
                  <a:lnTo>
                    <a:pt x="1829" y="952"/>
                  </a:lnTo>
                  <a:lnTo>
                    <a:pt x="1850" y="962"/>
                  </a:lnTo>
                  <a:lnTo>
                    <a:pt x="1865" y="972"/>
                  </a:lnTo>
                  <a:lnTo>
                    <a:pt x="1885" y="982"/>
                  </a:lnTo>
                  <a:lnTo>
                    <a:pt x="1900" y="991"/>
                  </a:lnTo>
                  <a:lnTo>
                    <a:pt x="1915" y="1001"/>
                  </a:lnTo>
                  <a:lnTo>
                    <a:pt x="1935" y="1011"/>
                  </a:lnTo>
                  <a:lnTo>
                    <a:pt x="1950" y="1021"/>
                  </a:lnTo>
                  <a:lnTo>
                    <a:pt x="1965" y="1031"/>
                  </a:lnTo>
                  <a:lnTo>
                    <a:pt x="1980" y="1041"/>
                  </a:lnTo>
                  <a:lnTo>
                    <a:pt x="2000" y="1051"/>
                  </a:lnTo>
                  <a:lnTo>
                    <a:pt x="2015" y="1065"/>
                  </a:lnTo>
                  <a:lnTo>
                    <a:pt x="2025" y="1075"/>
                  </a:lnTo>
                  <a:lnTo>
                    <a:pt x="2041" y="1085"/>
                  </a:lnTo>
                  <a:lnTo>
                    <a:pt x="2051" y="1100"/>
                  </a:lnTo>
                  <a:lnTo>
                    <a:pt x="2066" y="1115"/>
                  </a:lnTo>
                  <a:lnTo>
                    <a:pt x="2076" y="1125"/>
                  </a:lnTo>
                  <a:lnTo>
                    <a:pt x="2081" y="1139"/>
                  </a:lnTo>
                  <a:lnTo>
                    <a:pt x="2091" y="1159"/>
                  </a:lnTo>
                  <a:lnTo>
                    <a:pt x="2096" y="1174"/>
                  </a:lnTo>
                  <a:lnTo>
                    <a:pt x="2106" y="1194"/>
                  </a:lnTo>
                  <a:lnTo>
                    <a:pt x="2106" y="1203"/>
                  </a:lnTo>
                  <a:lnTo>
                    <a:pt x="2116" y="1213"/>
                  </a:lnTo>
                  <a:lnTo>
                    <a:pt x="2121" y="1218"/>
                  </a:lnTo>
                  <a:lnTo>
                    <a:pt x="2131" y="1228"/>
                  </a:lnTo>
                  <a:lnTo>
                    <a:pt x="2136" y="1228"/>
                  </a:lnTo>
                  <a:lnTo>
                    <a:pt x="2151" y="1233"/>
                  </a:lnTo>
                  <a:lnTo>
                    <a:pt x="2161" y="1233"/>
                  </a:lnTo>
                  <a:lnTo>
                    <a:pt x="2171" y="1233"/>
                  </a:lnTo>
                  <a:lnTo>
                    <a:pt x="2181" y="1233"/>
                  </a:lnTo>
                  <a:lnTo>
                    <a:pt x="2191" y="1228"/>
                  </a:lnTo>
                  <a:lnTo>
                    <a:pt x="2201" y="1218"/>
                  </a:lnTo>
                  <a:lnTo>
                    <a:pt x="2211" y="1213"/>
                  </a:lnTo>
                  <a:lnTo>
                    <a:pt x="2216" y="1203"/>
                  </a:lnTo>
                  <a:lnTo>
                    <a:pt x="2221" y="1199"/>
                  </a:lnTo>
                  <a:lnTo>
                    <a:pt x="2226" y="1184"/>
                  </a:lnTo>
                  <a:lnTo>
                    <a:pt x="2226" y="1174"/>
                  </a:lnTo>
                  <a:lnTo>
                    <a:pt x="2226" y="1154"/>
                  </a:lnTo>
                  <a:lnTo>
                    <a:pt x="2226" y="1139"/>
                  </a:lnTo>
                  <a:lnTo>
                    <a:pt x="2221" y="1120"/>
                  </a:lnTo>
                  <a:lnTo>
                    <a:pt x="2221" y="1105"/>
                  </a:lnTo>
                  <a:lnTo>
                    <a:pt x="2216" y="1090"/>
                  </a:lnTo>
                  <a:lnTo>
                    <a:pt x="2206" y="1075"/>
                  </a:lnTo>
                  <a:lnTo>
                    <a:pt x="2201" y="1065"/>
                  </a:lnTo>
                  <a:lnTo>
                    <a:pt x="2196" y="1051"/>
                  </a:lnTo>
                  <a:lnTo>
                    <a:pt x="2186" y="1036"/>
                  </a:lnTo>
                  <a:lnTo>
                    <a:pt x="2176" y="1026"/>
                  </a:lnTo>
                  <a:lnTo>
                    <a:pt x="2171" y="1016"/>
                  </a:lnTo>
                  <a:lnTo>
                    <a:pt x="2161" y="1006"/>
                  </a:lnTo>
                  <a:lnTo>
                    <a:pt x="2151" y="991"/>
                  </a:lnTo>
                  <a:lnTo>
                    <a:pt x="2136" y="982"/>
                  </a:lnTo>
                  <a:lnTo>
                    <a:pt x="2126" y="972"/>
                  </a:lnTo>
                  <a:lnTo>
                    <a:pt x="2116" y="962"/>
                  </a:lnTo>
                  <a:lnTo>
                    <a:pt x="2101" y="952"/>
                  </a:lnTo>
                  <a:lnTo>
                    <a:pt x="2086" y="942"/>
                  </a:lnTo>
                  <a:lnTo>
                    <a:pt x="2076" y="937"/>
                  </a:lnTo>
                  <a:lnTo>
                    <a:pt x="2061" y="927"/>
                  </a:lnTo>
                  <a:lnTo>
                    <a:pt x="2046" y="917"/>
                  </a:lnTo>
                  <a:lnTo>
                    <a:pt x="2030" y="913"/>
                  </a:lnTo>
                  <a:lnTo>
                    <a:pt x="2015" y="903"/>
                  </a:lnTo>
                  <a:lnTo>
                    <a:pt x="2005" y="898"/>
                  </a:lnTo>
                  <a:lnTo>
                    <a:pt x="1985" y="888"/>
                  </a:lnTo>
                  <a:lnTo>
                    <a:pt x="1970" y="878"/>
                  </a:lnTo>
                  <a:lnTo>
                    <a:pt x="1955" y="873"/>
                  </a:lnTo>
                  <a:lnTo>
                    <a:pt x="1945" y="863"/>
                  </a:lnTo>
                  <a:lnTo>
                    <a:pt x="1925" y="858"/>
                  </a:lnTo>
                  <a:lnTo>
                    <a:pt x="1915" y="848"/>
                  </a:lnTo>
                  <a:lnTo>
                    <a:pt x="1900" y="843"/>
                  </a:lnTo>
                  <a:lnTo>
                    <a:pt x="1890" y="839"/>
                  </a:lnTo>
                  <a:lnTo>
                    <a:pt x="1875" y="829"/>
                  </a:lnTo>
                  <a:lnTo>
                    <a:pt x="1865" y="824"/>
                  </a:lnTo>
                  <a:lnTo>
                    <a:pt x="1855" y="814"/>
                  </a:lnTo>
                  <a:lnTo>
                    <a:pt x="1845" y="809"/>
                  </a:lnTo>
                  <a:lnTo>
                    <a:pt x="1824" y="794"/>
                  </a:lnTo>
                  <a:lnTo>
                    <a:pt x="1814" y="779"/>
                  </a:lnTo>
                  <a:lnTo>
                    <a:pt x="1804" y="765"/>
                  </a:lnTo>
                  <a:lnTo>
                    <a:pt x="1794" y="745"/>
                  </a:lnTo>
                  <a:lnTo>
                    <a:pt x="1784" y="730"/>
                  </a:lnTo>
                  <a:lnTo>
                    <a:pt x="1784" y="715"/>
                  </a:lnTo>
                  <a:lnTo>
                    <a:pt x="1774" y="696"/>
                  </a:lnTo>
                  <a:lnTo>
                    <a:pt x="1774" y="681"/>
                  </a:lnTo>
                  <a:lnTo>
                    <a:pt x="1774" y="666"/>
                  </a:lnTo>
                  <a:lnTo>
                    <a:pt x="1774" y="646"/>
                  </a:lnTo>
                  <a:lnTo>
                    <a:pt x="1774" y="631"/>
                  </a:lnTo>
                  <a:lnTo>
                    <a:pt x="1774" y="612"/>
                  </a:lnTo>
                  <a:lnTo>
                    <a:pt x="1774" y="597"/>
                  </a:lnTo>
                  <a:lnTo>
                    <a:pt x="1774" y="582"/>
                  </a:lnTo>
                  <a:lnTo>
                    <a:pt x="1774" y="562"/>
                  </a:lnTo>
                  <a:lnTo>
                    <a:pt x="1774" y="548"/>
                  </a:lnTo>
                  <a:lnTo>
                    <a:pt x="1774" y="528"/>
                  </a:lnTo>
                  <a:lnTo>
                    <a:pt x="1774" y="513"/>
                  </a:lnTo>
                  <a:lnTo>
                    <a:pt x="1769" y="498"/>
                  </a:lnTo>
                  <a:lnTo>
                    <a:pt x="1769" y="479"/>
                  </a:lnTo>
                  <a:lnTo>
                    <a:pt x="1764" y="464"/>
                  </a:lnTo>
                  <a:lnTo>
                    <a:pt x="1754" y="449"/>
                  </a:lnTo>
                  <a:lnTo>
                    <a:pt x="1744" y="434"/>
                  </a:lnTo>
                  <a:lnTo>
                    <a:pt x="1734" y="419"/>
                  </a:lnTo>
                  <a:lnTo>
                    <a:pt x="1719" y="405"/>
                  </a:lnTo>
                  <a:lnTo>
                    <a:pt x="1704" y="395"/>
                  </a:lnTo>
                  <a:lnTo>
                    <a:pt x="1694" y="390"/>
                  </a:lnTo>
                  <a:lnTo>
                    <a:pt x="1684" y="385"/>
                  </a:lnTo>
                  <a:lnTo>
                    <a:pt x="1674" y="375"/>
                  </a:lnTo>
                  <a:lnTo>
                    <a:pt x="1659" y="370"/>
                  </a:lnTo>
                  <a:lnTo>
                    <a:pt x="1649" y="365"/>
                  </a:lnTo>
                  <a:lnTo>
                    <a:pt x="1639" y="360"/>
                  </a:lnTo>
                  <a:lnTo>
                    <a:pt x="1623" y="355"/>
                  </a:lnTo>
                  <a:lnTo>
                    <a:pt x="1608" y="355"/>
                  </a:lnTo>
                  <a:lnTo>
                    <a:pt x="1588" y="345"/>
                  </a:lnTo>
                  <a:lnTo>
                    <a:pt x="1573" y="340"/>
                  </a:lnTo>
                  <a:lnTo>
                    <a:pt x="1558" y="336"/>
                  </a:lnTo>
                  <a:lnTo>
                    <a:pt x="1538" y="331"/>
                  </a:lnTo>
                  <a:lnTo>
                    <a:pt x="1523" y="326"/>
                  </a:lnTo>
                  <a:lnTo>
                    <a:pt x="1508" y="321"/>
                  </a:lnTo>
                  <a:lnTo>
                    <a:pt x="1488" y="316"/>
                  </a:lnTo>
                  <a:lnTo>
                    <a:pt x="1473" y="311"/>
                  </a:lnTo>
                  <a:lnTo>
                    <a:pt x="1458" y="306"/>
                  </a:lnTo>
                  <a:lnTo>
                    <a:pt x="1438" y="301"/>
                  </a:lnTo>
                  <a:lnTo>
                    <a:pt x="1422" y="296"/>
                  </a:lnTo>
                  <a:lnTo>
                    <a:pt x="1407" y="291"/>
                  </a:lnTo>
                  <a:lnTo>
                    <a:pt x="1387" y="286"/>
                  </a:lnTo>
                  <a:lnTo>
                    <a:pt x="1372" y="281"/>
                  </a:lnTo>
                  <a:lnTo>
                    <a:pt x="1357" y="276"/>
                  </a:lnTo>
                  <a:lnTo>
                    <a:pt x="1337" y="271"/>
                  </a:lnTo>
                  <a:lnTo>
                    <a:pt x="1322" y="266"/>
                  </a:lnTo>
                  <a:lnTo>
                    <a:pt x="1307" y="262"/>
                  </a:lnTo>
                  <a:lnTo>
                    <a:pt x="1287" y="257"/>
                  </a:lnTo>
                  <a:lnTo>
                    <a:pt x="1272" y="252"/>
                  </a:lnTo>
                  <a:lnTo>
                    <a:pt x="1257" y="247"/>
                  </a:lnTo>
                  <a:lnTo>
                    <a:pt x="1236" y="242"/>
                  </a:lnTo>
                  <a:lnTo>
                    <a:pt x="1221" y="237"/>
                  </a:lnTo>
                  <a:lnTo>
                    <a:pt x="1206" y="232"/>
                  </a:lnTo>
                  <a:lnTo>
                    <a:pt x="1186" y="227"/>
                  </a:lnTo>
                  <a:lnTo>
                    <a:pt x="1171" y="222"/>
                  </a:lnTo>
                  <a:lnTo>
                    <a:pt x="1156" y="217"/>
                  </a:lnTo>
                  <a:lnTo>
                    <a:pt x="1136" y="212"/>
                  </a:lnTo>
                  <a:lnTo>
                    <a:pt x="1121" y="207"/>
                  </a:lnTo>
                  <a:lnTo>
                    <a:pt x="1106" y="207"/>
                  </a:lnTo>
                  <a:lnTo>
                    <a:pt x="1086" y="197"/>
                  </a:lnTo>
                  <a:lnTo>
                    <a:pt x="1071" y="197"/>
                  </a:lnTo>
                  <a:lnTo>
                    <a:pt x="1051" y="193"/>
                  </a:lnTo>
                  <a:lnTo>
                    <a:pt x="1035" y="183"/>
                  </a:lnTo>
                  <a:lnTo>
                    <a:pt x="1020" y="178"/>
                  </a:lnTo>
                  <a:lnTo>
                    <a:pt x="1000" y="178"/>
                  </a:lnTo>
                  <a:lnTo>
                    <a:pt x="985" y="168"/>
                  </a:lnTo>
                  <a:lnTo>
                    <a:pt x="970" y="163"/>
                  </a:lnTo>
                  <a:lnTo>
                    <a:pt x="950" y="158"/>
                  </a:lnTo>
                  <a:lnTo>
                    <a:pt x="935" y="158"/>
                  </a:lnTo>
                  <a:lnTo>
                    <a:pt x="920" y="148"/>
                  </a:lnTo>
                  <a:lnTo>
                    <a:pt x="900" y="143"/>
                  </a:lnTo>
                  <a:lnTo>
                    <a:pt x="885" y="138"/>
                  </a:lnTo>
                  <a:lnTo>
                    <a:pt x="870" y="133"/>
                  </a:lnTo>
                  <a:lnTo>
                    <a:pt x="850" y="128"/>
                  </a:lnTo>
                  <a:lnTo>
                    <a:pt x="834" y="128"/>
                  </a:lnTo>
                  <a:lnTo>
                    <a:pt x="819" y="119"/>
                  </a:lnTo>
                  <a:lnTo>
                    <a:pt x="799" y="119"/>
                  </a:lnTo>
                  <a:lnTo>
                    <a:pt x="784" y="114"/>
                  </a:lnTo>
                  <a:lnTo>
                    <a:pt x="769" y="109"/>
                  </a:lnTo>
                  <a:lnTo>
                    <a:pt x="749" y="99"/>
                  </a:lnTo>
                  <a:lnTo>
                    <a:pt x="734" y="99"/>
                  </a:lnTo>
                  <a:lnTo>
                    <a:pt x="719" y="94"/>
                  </a:lnTo>
                  <a:lnTo>
                    <a:pt x="699" y="89"/>
                  </a:lnTo>
                  <a:lnTo>
                    <a:pt x="684" y="84"/>
                  </a:lnTo>
                  <a:lnTo>
                    <a:pt x="669" y="79"/>
                  </a:lnTo>
                  <a:lnTo>
                    <a:pt x="649" y="74"/>
                  </a:lnTo>
                  <a:lnTo>
                    <a:pt x="633" y="69"/>
                  </a:lnTo>
                  <a:lnTo>
                    <a:pt x="618" y="64"/>
                  </a:lnTo>
                  <a:lnTo>
                    <a:pt x="598" y="59"/>
                  </a:lnTo>
                  <a:lnTo>
                    <a:pt x="583" y="54"/>
                  </a:lnTo>
                  <a:lnTo>
                    <a:pt x="568" y="49"/>
                  </a:lnTo>
                  <a:lnTo>
                    <a:pt x="548" y="45"/>
                  </a:lnTo>
                  <a:lnTo>
                    <a:pt x="533" y="40"/>
                  </a:lnTo>
                  <a:lnTo>
                    <a:pt x="518" y="35"/>
                  </a:lnTo>
                  <a:lnTo>
                    <a:pt x="498" y="30"/>
                  </a:lnTo>
                  <a:lnTo>
                    <a:pt x="483" y="25"/>
                  </a:lnTo>
                  <a:lnTo>
                    <a:pt x="473" y="20"/>
                  </a:lnTo>
                  <a:lnTo>
                    <a:pt x="458" y="15"/>
                  </a:lnTo>
                  <a:lnTo>
                    <a:pt x="442" y="15"/>
                  </a:lnTo>
                  <a:lnTo>
                    <a:pt x="432" y="10"/>
                  </a:lnTo>
                  <a:lnTo>
                    <a:pt x="417" y="10"/>
                  </a:lnTo>
                  <a:lnTo>
                    <a:pt x="407" y="5"/>
                  </a:lnTo>
                  <a:lnTo>
                    <a:pt x="397" y="5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62" y="0"/>
                  </a:lnTo>
                  <a:lnTo>
                    <a:pt x="352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17" y="0"/>
                  </a:lnTo>
                  <a:lnTo>
                    <a:pt x="302" y="0"/>
                  </a:lnTo>
                  <a:lnTo>
                    <a:pt x="287" y="0"/>
                  </a:lnTo>
                  <a:lnTo>
                    <a:pt x="272" y="5"/>
                  </a:lnTo>
                  <a:lnTo>
                    <a:pt x="257" y="5"/>
                  </a:lnTo>
                  <a:lnTo>
                    <a:pt x="247" y="15"/>
                  </a:lnTo>
                  <a:lnTo>
                    <a:pt x="236" y="20"/>
                  </a:lnTo>
                  <a:lnTo>
                    <a:pt x="221" y="25"/>
                  </a:lnTo>
                  <a:lnTo>
                    <a:pt x="211" y="30"/>
                  </a:lnTo>
                  <a:lnTo>
                    <a:pt x="201" y="40"/>
                  </a:lnTo>
                  <a:lnTo>
                    <a:pt x="186" y="49"/>
                  </a:lnTo>
                  <a:lnTo>
                    <a:pt x="176" y="59"/>
                  </a:lnTo>
                  <a:lnTo>
                    <a:pt x="166" y="69"/>
                  </a:lnTo>
                  <a:lnTo>
                    <a:pt x="156" y="79"/>
                  </a:lnTo>
                  <a:lnTo>
                    <a:pt x="146" y="94"/>
                  </a:lnTo>
                  <a:lnTo>
                    <a:pt x="131" y="109"/>
                  </a:lnTo>
                  <a:lnTo>
                    <a:pt x="116" y="119"/>
                  </a:lnTo>
                  <a:lnTo>
                    <a:pt x="106" y="133"/>
                  </a:lnTo>
                  <a:lnTo>
                    <a:pt x="91" y="148"/>
                  </a:lnTo>
                  <a:lnTo>
                    <a:pt x="76" y="163"/>
                  </a:lnTo>
                  <a:lnTo>
                    <a:pt x="61" y="178"/>
                  </a:lnTo>
                  <a:lnTo>
                    <a:pt x="40" y="197"/>
                  </a:lnTo>
                  <a:lnTo>
                    <a:pt x="20" y="212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0" y="286"/>
                  </a:lnTo>
                  <a:lnTo>
                    <a:pt x="4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 rot="9362400">
              <a:off x="1118160" y="782640"/>
              <a:ext cx="3527640" cy="953640"/>
            </a:xfrm>
            <a:custGeom>
              <a:avLst/>
              <a:gdLst/>
              <a:ahLst/>
              <a:rect l="l" t="t" r="r" b="b"/>
              <a:pathLst>
                <a:path w="2222" h="601">
                  <a:moveTo>
                    <a:pt x="5" y="231"/>
                  </a:moveTo>
                  <a:lnTo>
                    <a:pt x="21" y="226"/>
                  </a:lnTo>
                  <a:lnTo>
                    <a:pt x="36" y="222"/>
                  </a:lnTo>
                  <a:lnTo>
                    <a:pt x="56" y="217"/>
                  </a:lnTo>
                  <a:lnTo>
                    <a:pt x="71" y="212"/>
                  </a:lnTo>
                  <a:lnTo>
                    <a:pt x="86" y="207"/>
                  </a:lnTo>
                  <a:lnTo>
                    <a:pt x="106" y="202"/>
                  </a:lnTo>
                  <a:lnTo>
                    <a:pt x="121" y="197"/>
                  </a:lnTo>
                  <a:lnTo>
                    <a:pt x="136" y="192"/>
                  </a:lnTo>
                  <a:lnTo>
                    <a:pt x="151" y="187"/>
                  </a:lnTo>
                  <a:lnTo>
                    <a:pt x="171" y="182"/>
                  </a:lnTo>
                  <a:lnTo>
                    <a:pt x="186" y="177"/>
                  </a:lnTo>
                  <a:lnTo>
                    <a:pt x="201" y="172"/>
                  </a:lnTo>
                  <a:lnTo>
                    <a:pt x="216" y="167"/>
                  </a:lnTo>
                  <a:lnTo>
                    <a:pt x="237" y="162"/>
                  </a:lnTo>
                  <a:lnTo>
                    <a:pt x="252" y="162"/>
                  </a:lnTo>
                  <a:lnTo>
                    <a:pt x="267" y="157"/>
                  </a:lnTo>
                  <a:lnTo>
                    <a:pt x="282" y="153"/>
                  </a:lnTo>
                  <a:lnTo>
                    <a:pt x="302" y="148"/>
                  </a:lnTo>
                  <a:lnTo>
                    <a:pt x="317" y="143"/>
                  </a:lnTo>
                  <a:lnTo>
                    <a:pt x="332" y="143"/>
                  </a:lnTo>
                  <a:lnTo>
                    <a:pt x="352" y="138"/>
                  </a:lnTo>
                  <a:lnTo>
                    <a:pt x="367" y="138"/>
                  </a:lnTo>
                  <a:lnTo>
                    <a:pt x="382" y="138"/>
                  </a:lnTo>
                  <a:lnTo>
                    <a:pt x="402" y="138"/>
                  </a:lnTo>
                  <a:lnTo>
                    <a:pt x="418" y="133"/>
                  </a:lnTo>
                  <a:lnTo>
                    <a:pt x="438" y="133"/>
                  </a:lnTo>
                  <a:lnTo>
                    <a:pt x="453" y="133"/>
                  </a:lnTo>
                  <a:lnTo>
                    <a:pt x="473" y="138"/>
                  </a:lnTo>
                  <a:lnTo>
                    <a:pt x="488" y="138"/>
                  </a:lnTo>
                  <a:lnTo>
                    <a:pt x="508" y="143"/>
                  </a:lnTo>
                  <a:lnTo>
                    <a:pt x="528" y="148"/>
                  </a:lnTo>
                  <a:lnTo>
                    <a:pt x="548" y="153"/>
                  </a:lnTo>
                  <a:lnTo>
                    <a:pt x="2191" y="601"/>
                  </a:lnTo>
                  <a:lnTo>
                    <a:pt x="2201" y="596"/>
                  </a:lnTo>
                  <a:lnTo>
                    <a:pt x="2212" y="591"/>
                  </a:lnTo>
                  <a:lnTo>
                    <a:pt x="2217" y="582"/>
                  </a:lnTo>
                  <a:lnTo>
                    <a:pt x="2222" y="577"/>
                  </a:lnTo>
                  <a:lnTo>
                    <a:pt x="2222" y="562"/>
                  </a:lnTo>
                  <a:lnTo>
                    <a:pt x="2222" y="547"/>
                  </a:lnTo>
                  <a:lnTo>
                    <a:pt x="2222" y="527"/>
                  </a:lnTo>
                  <a:lnTo>
                    <a:pt x="2217" y="513"/>
                  </a:lnTo>
                  <a:lnTo>
                    <a:pt x="769" y="93"/>
                  </a:lnTo>
                  <a:lnTo>
                    <a:pt x="759" y="88"/>
                  </a:lnTo>
                  <a:lnTo>
                    <a:pt x="744" y="83"/>
                  </a:lnTo>
                  <a:lnTo>
                    <a:pt x="729" y="79"/>
                  </a:lnTo>
                  <a:lnTo>
                    <a:pt x="719" y="74"/>
                  </a:lnTo>
                  <a:lnTo>
                    <a:pt x="704" y="69"/>
                  </a:lnTo>
                  <a:lnTo>
                    <a:pt x="694" y="64"/>
                  </a:lnTo>
                  <a:lnTo>
                    <a:pt x="679" y="59"/>
                  </a:lnTo>
                  <a:lnTo>
                    <a:pt x="669" y="59"/>
                  </a:lnTo>
                  <a:lnTo>
                    <a:pt x="654" y="49"/>
                  </a:lnTo>
                  <a:lnTo>
                    <a:pt x="639" y="44"/>
                  </a:lnTo>
                  <a:lnTo>
                    <a:pt x="629" y="44"/>
                  </a:lnTo>
                  <a:lnTo>
                    <a:pt x="613" y="39"/>
                  </a:lnTo>
                  <a:lnTo>
                    <a:pt x="598" y="34"/>
                  </a:lnTo>
                  <a:lnTo>
                    <a:pt x="588" y="29"/>
                  </a:lnTo>
                  <a:lnTo>
                    <a:pt x="573" y="29"/>
                  </a:lnTo>
                  <a:lnTo>
                    <a:pt x="563" y="24"/>
                  </a:lnTo>
                  <a:lnTo>
                    <a:pt x="548" y="19"/>
                  </a:lnTo>
                  <a:lnTo>
                    <a:pt x="533" y="19"/>
                  </a:lnTo>
                  <a:lnTo>
                    <a:pt x="518" y="14"/>
                  </a:lnTo>
                  <a:lnTo>
                    <a:pt x="508" y="14"/>
                  </a:lnTo>
                  <a:lnTo>
                    <a:pt x="493" y="9"/>
                  </a:lnTo>
                  <a:lnTo>
                    <a:pt x="478" y="9"/>
                  </a:lnTo>
                  <a:lnTo>
                    <a:pt x="463" y="5"/>
                  </a:lnTo>
                  <a:lnTo>
                    <a:pt x="453" y="5"/>
                  </a:lnTo>
                  <a:lnTo>
                    <a:pt x="438" y="5"/>
                  </a:lnTo>
                  <a:lnTo>
                    <a:pt x="423" y="0"/>
                  </a:lnTo>
                  <a:lnTo>
                    <a:pt x="407" y="0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57" y="0"/>
                  </a:lnTo>
                  <a:lnTo>
                    <a:pt x="342" y="0"/>
                  </a:lnTo>
                  <a:lnTo>
                    <a:pt x="327" y="0"/>
                  </a:lnTo>
                  <a:lnTo>
                    <a:pt x="317" y="0"/>
                  </a:lnTo>
                  <a:lnTo>
                    <a:pt x="302" y="5"/>
                  </a:lnTo>
                  <a:lnTo>
                    <a:pt x="292" y="5"/>
                  </a:lnTo>
                  <a:lnTo>
                    <a:pt x="277" y="5"/>
                  </a:lnTo>
                  <a:lnTo>
                    <a:pt x="262" y="9"/>
                  </a:lnTo>
                  <a:lnTo>
                    <a:pt x="252" y="9"/>
                  </a:lnTo>
                  <a:lnTo>
                    <a:pt x="242" y="14"/>
                  </a:lnTo>
                  <a:lnTo>
                    <a:pt x="227" y="19"/>
                  </a:lnTo>
                  <a:lnTo>
                    <a:pt x="216" y="24"/>
                  </a:lnTo>
                  <a:lnTo>
                    <a:pt x="201" y="29"/>
                  </a:lnTo>
                  <a:lnTo>
                    <a:pt x="191" y="34"/>
                  </a:lnTo>
                  <a:lnTo>
                    <a:pt x="181" y="34"/>
                  </a:lnTo>
                  <a:lnTo>
                    <a:pt x="171" y="44"/>
                  </a:lnTo>
                  <a:lnTo>
                    <a:pt x="156" y="49"/>
                  </a:lnTo>
                  <a:lnTo>
                    <a:pt x="151" y="59"/>
                  </a:lnTo>
                  <a:lnTo>
                    <a:pt x="136" y="64"/>
                  </a:lnTo>
                  <a:lnTo>
                    <a:pt x="126" y="69"/>
                  </a:lnTo>
                  <a:lnTo>
                    <a:pt x="116" y="74"/>
                  </a:lnTo>
                  <a:lnTo>
                    <a:pt x="106" y="83"/>
                  </a:lnTo>
                  <a:lnTo>
                    <a:pt x="91" y="93"/>
                  </a:lnTo>
                  <a:lnTo>
                    <a:pt x="86" y="103"/>
                  </a:lnTo>
                  <a:lnTo>
                    <a:pt x="76" y="113"/>
                  </a:lnTo>
                  <a:lnTo>
                    <a:pt x="66" y="123"/>
                  </a:lnTo>
                  <a:lnTo>
                    <a:pt x="56" y="133"/>
                  </a:lnTo>
                  <a:lnTo>
                    <a:pt x="51" y="143"/>
                  </a:lnTo>
                  <a:lnTo>
                    <a:pt x="41" y="157"/>
                  </a:lnTo>
                  <a:lnTo>
                    <a:pt x="31" y="167"/>
                  </a:lnTo>
                  <a:lnTo>
                    <a:pt x="21" y="182"/>
                  </a:lnTo>
                  <a:lnTo>
                    <a:pt x="15" y="197"/>
                  </a:lnTo>
                  <a:lnTo>
                    <a:pt x="10" y="207"/>
                  </a:lnTo>
                  <a:lnTo>
                    <a:pt x="5" y="226"/>
                  </a:lnTo>
                  <a:lnTo>
                    <a:pt x="0" y="226"/>
                  </a:lnTo>
                  <a:lnTo>
                    <a:pt x="5" y="231"/>
                  </a:lnTo>
                  <a:lnTo>
                    <a:pt x="5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 rot="9362400">
              <a:off x="7391520" y="958680"/>
              <a:ext cx="1922400" cy="4305240"/>
            </a:xfrm>
            <a:custGeom>
              <a:avLst/>
              <a:gdLst/>
              <a:ahLst/>
              <a:rect l="l" t="t" r="r" b="b"/>
              <a:pathLst>
                <a:path w="1211" h="2712">
                  <a:moveTo>
                    <a:pt x="1101" y="113"/>
                  </a:moveTo>
                  <a:lnTo>
                    <a:pt x="1101" y="123"/>
                  </a:lnTo>
                  <a:lnTo>
                    <a:pt x="1101" y="133"/>
                  </a:lnTo>
                  <a:lnTo>
                    <a:pt x="1096" y="143"/>
                  </a:lnTo>
                  <a:lnTo>
                    <a:pt x="1096" y="158"/>
                  </a:lnTo>
                  <a:lnTo>
                    <a:pt x="1096" y="168"/>
                  </a:lnTo>
                  <a:lnTo>
                    <a:pt x="1096" y="178"/>
                  </a:lnTo>
                  <a:lnTo>
                    <a:pt x="1091" y="187"/>
                  </a:lnTo>
                  <a:lnTo>
                    <a:pt x="1091" y="202"/>
                  </a:lnTo>
                  <a:lnTo>
                    <a:pt x="1086" y="212"/>
                  </a:lnTo>
                  <a:lnTo>
                    <a:pt x="1086" y="222"/>
                  </a:lnTo>
                  <a:lnTo>
                    <a:pt x="1086" y="232"/>
                  </a:lnTo>
                  <a:lnTo>
                    <a:pt x="1081" y="242"/>
                  </a:lnTo>
                  <a:lnTo>
                    <a:pt x="1081" y="256"/>
                  </a:lnTo>
                  <a:lnTo>
                    <a:pt x="1081" y="266"/>
                  </a:lnTo>
                  <a:lnTo>
                    <a:pt x="1076" y="276"/>
                  </a:lnTo>
                  <a:lnTo>
                    <a:pt x="1076" y="291"/>
                  </a:lnTo>
                  <a:lnTo>
                    <a:pt x="1071" y="301"/>
                  </a:lnTo>
                  <a:lnTo>
                    <a:pt x="1071" y="311"/>
                  </a:lnTo>
                  <a:lnTo>
                    <a:pt x="1066" y="321"/>
                  </a:lnTo>
                  <a:lnTo>
                    <a:pt x="1066" y="330"/>
                  </a:lnTo>
                  <a:lnTo>
                    <a:pt x="1061" y="340"/>
                  </a:lnTo>
                  <a:lnTo>
                    <a:pt x="1056" y="355"/>
                  </a:lnTo>
                  <a:lnTo>
                    <a:pt x="1056" y="365"/>
                  </a:lnTo>
                  <a:lnTo>
                    <a:pt x="1051" y="375"/>
                  </a:lnTo>
                  <a:lnTo>
                    <a:pt x="1046" y="385"/>
                  </a:lnTo>
                  <a:lnTo>
                    <a:pt x="1046" y="395"/>
                  </a:lnTo>
                  <a:lnTo>
                    <a:pt x="1041" y="404"/>
                  </a:lnTo>
                  <a:lnTo>
                    <a:pt x="1041" y="419"/>
                  </a:lnTo>
                  <a:lnTo>
                    <a:pt x="1036" y="429"/>
                  </a:lnTo>
                  <a:lnTo>
                    <a:pt x="1031" y="439"/>
                  </a:lnTo>
                  <a:lnTo>
                    <a:pt x="1031" y="449"/>
                  </a:lnTo>
                  <a:lnTo>
                    <a:pt x="1026" y="464"/>
                  </a:lnTo>
                  <a:lnTo>
                    <a:pt x="1021" y="469"/>
                  </a:lnTo>
                  <a:lnTo>
                    <a:pt x="1016" y="483"/>
                  </a:lnTo>
                  <a:lnTo>
                    <a:pt x="1016" y="488"/>
                  </a:lnTo>
                  <a:lnTo>
                    <a:pt x="1010" y="503"/>
                  </a:lnTo>
                  <a:lnTo>
                    <a:pt x="1005" y="513"/>
                  </a:lnTo>
                  <a:lnTo>
                    <a:pt x="1000" y="523"/>
                  </a:lnTo>
                  <a:lnTo>
                    <a:pt x="995" y="533"/>
                  </a:lnTo>
                  <a:lnTo>
                    <a:pt x="995" y="543"/>
                  </a:lnTo>
                  <a:lnTo>
                    <a:pt x="985" y="552"/>
                  </a:lnTo>
                  <a:lnTo>
                    <a:pt x="985" y="562"/>
                  </a:lnTo>
                  <a:lnTo>
                    <a:pt x="980" y="572"/>
                  </a:lnTo>
                  <a:lnTo>
                    <a:pt x="975" y="582"/>
                  </a:lnTo>
                  <a:lnTo>
                    <a:pt x="970" y="592"/>
                  </a:lnTo>
                  <a:lnTo>
                    <a:pt x="965" y="602"/>
                  </a:lnTo>
                  <a:lnTo>
                    <a:pt x="965" y="616"/>
                  </a:lnTo>
                  <a:lnTo>
                    <a:pt x="960" y="626"/>
                  </a:lnTo>
                  <a:lnTo>
                    <a:pt x="955" y="636"/>
                  </a:lnTo>
                  <a:lnTo>
                    <a:pt x="950" y="646"/>
                  </a:lnTo>
                  <a:lnTo>
                    <a:pt x="945" y="656"/>
                  </a:lnTo>
                  <a:lnTo>
                    <a:pt x="940" y="666"/>
                  </a:lnTo>
                  <a:lnTo>
                    <a:pt x="935" y="676"/>
                  </a:lnTo>
                  <a:lnTo>
                    <a:pt x="930" y="686"/>
                  </a:lnTo>
                  <a:lnTo>
                    <a:pt x="925" y="695"/>
                  </a:lnTo>
                  <a:lnTo>
                    <a:pt x="920" y="705"/>
                  </a:lnTo>
                  <a:lnTo>
                    <a:pt x="915" y="715"/>
                  </a:lnTo>
                  <a:lnTo>
                    <a:pt x="910" y="725"/>
                  </a:lnTo>
                  <a:lnTo>
                    <a:pt x="905" y="735"/>
                  </a:lnTo>
                  <a:lnTo>
                    <a:pt x="900" y="745"/>
                  </a:lnTo>
                  <a:lnTo>
                    <a:pt x="895" y="755"/>
                  </a:lnTo>
                  <a:lnTo>
                    <a:pt x="895" y="764"/>
                  </a:lnTo>
                  <a:lnTo>
                    <a:pt x="885" y="774"/>
                  </a:lnTo>
                  <a:lnTo>
                    <a:pt x="885" y="789"/>
                  </a:lnTo>
                  <a:lnTo>
                    <a:pt x="880" y="794"/>
                  </a:lnTo>
                  <a:lnTo>
                    <a:pt x="870" y="809"/>
                  </a:lnTo>
                  <a:lnTo>
                    <a:pt x="865" y="819"/>
                  </a:lnTo>
                  <a:lnTo>
                    <a:pt x="860" y="829"/>
                  </a:lnTo>
                  <a:lnTo>
                    <a:pt x="855" y="838"/>
                  </a:lnTo>
                  <a:lnTo>
                    <a:pt x="850" y="848"/>
                  </a:lnTo>
                  <a:lnTo>
                    <a:pt x="845" y="858"/>
                  </a:lnTo>
                  <a:lnTo>
                    <a:pt x="840" y="868"/>
                  </a:lnTo>
                  <a:lnTo>
                    <a:pt x="835" y="883"/>
                  </a:lnTo>
                  <a:lnTo>
                    <a:pt x="830" y="893"/>
                  </a:lnTo>
                  <a:lnTo>
                    <a:pt x="825" y="903"/>
                  </a:lnTo>
                  <a:lnTo>
                    <a:pt x="820" y="912"/>
                  </a:lnTo>
                  <a:lnTo>
                    <a:pt x="814" y="922"/>
                  </a:lnTo>
                  <a:lnTo>
                    <a:pt x="809" y="937"/>
                  </a:lnTo>
                  <a:lnTo>
                    <a:pt x="804" y="947"/>
                  </a:lnTo>
                  <a:lnTo>
                    <a:pt x="804" y="957"/>
                  </a:lnTo>
                  <a:lnTo>
                    <a:pt x="799" y="967"/>
                  </a:lnTo>
                  <a:lnTo>
                    <a:pt x="794" y="981"/>
                  </a:lnTo>
                  <a:lnTo>
                    <a:pt x="789" y="991"/>
                  </a:lnTo>
                  <a:lnTo>
                    <a:pt x="784" y="1001"/>
                  </a:lnTo>
                  <a:lnTo>
                    <a:pt x="779" y="1011"/>
                  </a:lnTo>
                  <a:lnTo>
                    <a:pt x="779" y="1021"/>
                  </a:lnTo>
                  <a:lnTo>
                    <a:pt x="774" y="1036"/>
                  </a:lnTo>
                  <a:lnTo>
                    <a:pt x="769" y="1046"/>
                  </a:lnTo>
                  <a:lnTo>
                    <a:pt x="764" y="1055"/>
                  </a:lnTo>
                  <a:lnTo>
                    <a:pt x="759" y="1065"/>
                  </a:lnTo>
                  <a:lnTo>
                    <a:pt x="754" y="1080"/>
                  </a:lnTo>
                  <a:lnTo>
                    <a:pt x="754" y="1090"/>
                  </a:lnTo>
                  <a:lnTo>
                    <a:pt x="749" y="1100"/>
                  </a:lnTo>
                  <a:lnTo>
                    <a:pt x="744" y="1110"/>
                  </a:lnTo>
                  <a:lnTo>
                    <a:pt x="739" y="1119"/>
                  </a:lnTo>
                  <a:lnTo>
                    <a:pt x="734" y="1134"/>
                  </a:lnTo>
                  <a:lnTo>
                    <a:pt x="729" y="1144"/>
                  </a:lnTo>
                  <a:lnTo>
                    <a:pt x="729" y="1154"/>
                  </a:lnTo>
                  <a:lnTo>
                    <a:pt x="724" y="1164"/>
                  </a:lnTo>
                  <a:lnTo>
                    <a:pt x="719" y="1179"/>
                  </a:lnTo>
                  <a:lnTo>
                    <a:pt x="714" y="1189"/>
                  </a:lnTo>
                  <a:lnTo>
                    <a:pt x="709" y="1198"/>
                  </a:lnTo>
                  <a:lnTo>
                    <a:pt x="704" y="1208"/>
                  </a:lnTo>
                  <a:lnTo>
                    <a:pt x="704" y="1218"/>
                  </a:lnTo>
                  <a:lnTo>
                    <a:pt x="699" y="1233"/>
                  </a:lnTo>
                  <a:lnTo>
                    <a:pt x="694" y="1243"/>
                  </a:lnTo>
                  <a:lnTo>
                    <a:pt x="689" y="1253"/>
                  </a:lnTo>
                  <a:lnTo>
                    <a:pt x="684" y="1263"/>
                  </a:lnTo>
                  <a:lnTo>
                    <a:pt x="679" y="1277"/>
                  </a:lnTo>
                  <a:lnTo>
                    <a:pt x="679" y="1287"/>
                  </a:lnTo>
                  <a:lnTo>
                    <a:pt x="674" y="1297"/>
                  </a:lnTo>
                  <a:lnTo>
                    <a:pt x="669" y="1307"/>
                  </a:lnTo>
                  <a:lnTo>
                    <a:pt x="664" y="1317"/>
                  </a:lnTo>
                  <a:lnTo>
                    <a:pt x="664" y="1327"/>
                  </a:lnTo>
                  <a:lnTo>
                    <a:pt x="654" y="1341"/>
                  </a:lnTo>
                  <a:lnTo>
                    <a:pt x="654" y="1351"/>
                  </a:lnTo>
                  <a:lnTo>
                    <a:pt x="649" y="1361"/>
                  </a:lnTo>
                  <a:lnTo>
                    <a:pt x="644" y="1371"/>
                  </a:lnTo>
                  <a:lnTo>
                    <a:pt x="639" y="1386"/>
                  </a:lnTo>
                  <a:lnTo>
                    <a:pt x="634" y="1396"/>
                  </a:lnTo>
                  <a:lnTo>
                    <a:pt x="629" y="1406"/>
                  </a:lnTo>
                  <a:lnTo>
                    <a:pt x="629" y="1415"/>
                  </a:lnTo>
                  <a:lnTo>
                    <a:pt x="624" y="1425"/>
                  </a:lnTo>
                  <a:lnTo>
                    <a:pt x="619" y="1440"/>
                  </a:lnTo>
                  <a:lnTo>
                    <a:pt x="613" y="1450"/>
                  </a:lnTo>
                  <a:lnTo>
                    <a:pt x="608" y="1460"/>
                  </a:lnTo>
                  <a:lnTo>
                    <a:pt x="603" y="1470"/>
                  </a:lnTo>
                  <a:lnTo>
                    <a:pt x="603" y="1484"/>
                  </a:lnTo>
                  <a:lnTo>
                    <a:pt x="593" y="1499"/>
                  </a:lnTo>
                  <a:lnTo>
                    <a:pt x="583" y="1514"/>
                  </a:lnTo>
                  <a:lnTo>
                    <a:pt x="578" y="1534"/>
                  </a:lnTo>
                  <a:lnTo>
                    <a:pt x="568" y="1549"/>
                  </a:lnTo>
                  <a:lnTo>
                    <a:pt x="563" y="1568"/>
                  </a:lnTo>
                  <a:lnTo>
                    <a:pt x="553" y="1583"/>
                  </a:lnTo>
                  <a:lnTo>
                    <a:pt x="548" y="1603"/>
                  </a:lnTo>
                  <a:lnTo>
                    <a:pt x="538" y="1618"/>
                  </a:lnTo>
                  <a:lnTo>
                    <a:pt x="533" y="1637"/>
                  </a:lnTo>
                  <a:lnTo>
                    <a:pt x="528" y="1652"/>
                  </a:lnTo>
                  <a:lnTo>
                    <a:pt x="518" y="1667"/>
                  </a:lnTo>
                  <a:lnTo>
                    <a:pt x="513" y="1687"/>
                  </a:lnTo>
                  <a:lnTo>
                    <a:pt x="503" y="1701"/>
                  </a:lnTo>
                  <a:lnTo>
                    <a:pt x="498" y="1721"/>
                  </a:lnTo>
                  <a:lnTo>
                    <a:pt x="488" y="1741"/>
                  </a:lnTo>
                  <a:lnTo>
                    <a:pt x="483" y="1761"/>
                  </a:lnTo>
                  <a:lnTo>
                    <a:pt x="478" y="1775"/>
                  </a:lnTo>
                  <a:lnTo>
                    <a:pt x="468" y="1795"/>
                  </a:lnTo>
                  <a:lnTo>
                    <a:pt x="463" y="1810"/>
                  </a:lnTo>
                  <a:lnTo>
                    <a:pt x="453" y="1830"/>
                  </a:lnTo>
                  <a:lnTo>
                    <a:pt x="448" y="1844"/>
                  </a:lnTo>
                  <a:lnTo>
                    <a:pt x="438" y="1864"/>
                  </a:lnTo>
                  <a:lnTo>
                    <a:pt x="433" y="1879"/>
                  </a:lnTo>
                  <a:lnTo>
                    <a:pt x="428" y="1899"/>
                  </a:lnTo>
                  <a:lnTo>
                    <a:pt x="418" y="1913"/>
                  </a:lnTo>
                  <a:lnTo>
                    <a:pt x="412" y="1933"/>
                  </a:lnTo>
                  <a:lnTo>
                    <a:pt x="402" y="1953"/>
                  </a:lnTo>
                  <a:lnTo>
                    <a:pt x="397" y="1973"/>
                  </a:lnTo>
                  <a:lnTo>
                    <a:pt x="392" y="1987"/>
                  </a:lnTo>
                  <a:lnTo>
                    <a:pt x="382" y="2007"/>
                  </a:lnTo>
                  <a:lnTo>
                    <a:pt x="377" y="2022"/>
                  </a:lnTo>
                  <a:lnTo>
                    <a:pt x="372" y="2042"/>
                  </a:lnTo>
                  <a:lnTo>
                    <a:pt x="362" y="2061"/>
                  </a:lnTo>
                  <a:lnTo>
                    <a:pt x="357" y="2081"/>
                  </a:lnTo>
                  <a:lnTo>
                    <a:pt x="347" y="2101"/>
                  </a:lnTo>
                  <a:lnTo>
                    <a:pt x="342" y="2121"/>
                  </a:lnTo>
                  <a:lnTo>
                    <a:pt x="337" y="2126"/>
                  </a:lnTo>
                  <a:lnTo>
                    <a:pt x="332" y="2140"/>
                  </a:lnTo>
                  <a:lnTo>
                    <a:pt x="327" y="2150"/>
                  </a:lnTo>
                  <a:lnTo>
                    <a:pt x="327" y="2160"/>
                  </a:lnTo>
                  <a:lnTo>
                    <a:pt x="322" y="2170"/>
                  </a:lnTo>
                  <a:lnTo>
                    <a:pt x="317" y="2180"/>
                  </a:lnTo>
                  <a:lnTo>
                    <a:pt x="312" y="2190"/>
                  </a:lnTo>
                  <a:lnTo>
                    <a:pt x="312" y="2199"/>
                  </a:lnTo>
                  <a:lnTo>
                    <a:pt x="307" y="2209"/>
                  </a:lnTo>
                  <a:lnTo>
                    <a:pt x="302" y="2219"/>
                  </a:lnTo>
                  <a:lnTo>
                    <a:pt x="297" y="2229"/>
                  </a:lnTo>
                  <a:lnTo>
                    <a:pt x="297" y="2239"/>
                  </a:lnTo>
                  <a:lnTo>
                    <a:pt x="287" y="2249"/>
                  </a:lnTo>
                  <a:lnTo>
                    <a:pt x="287" y="2264"/>
                  </a:lnTo>
                  <a:lnTo>
                    <a:pt x="282" y="2273"/>
                  </a:lnTo>
                  <a:lnTo>
                    <a:pt x="282" y="2283"/>
                  </a:lnTo>
                  <a:lnTo>
                    <a:pt x="277" y="2293"/>
                  </a:lnTo>
                  <a:lnTo>
                    <a:pt x="272" y="2303"/>
                  </a:lnTo>
                  <a:lnTo>
                    <a:pt x="267" y="2313"/>
                  </a:lnTo>
                  <a:lnTo>
                    <a:pt x="262" y="2323"/>
                  </a:lnTo>
                  <a:lnTo>
                    <a:pt x="257" y="2333"/>
                  </a:lnTo>
                  <a:lnTo>
                    <a:pt x="252" y="2343"/>
                  </a:lnTo>
                  <a:lnTo>
                    <a:pt x="247" y="2352"/>
                  </a:lnTo>
                  <a:lnTo>
                    <a:pt x="247" y="2367"/>
                  </a:lnTo>
                  <a:lnTo>
                    <a:pt x="232" y="2382"/>
                  </a:lnTo>
                  <a:lnTo>
                    <a:pt x="222" y="2402"/>
                  </a:lnTo>
                  <a:lnTo>
                    <a:pt x="211" y="2421"/>
                  </a:lnTo>
                  <a:lnTo>
                    <a:pt x="201" y="2441"/>
                  </a:lnTo>
                  <a:lnTo>
                    <a:pt x="186" y="2456"/>
                  </a:lnTo>
                  <a:lnTo>
                    <a:pt x="176" y="2476"/>
                  </a:lnTo>
                  <a:lnTo>
                    <a:pt x="166" y="2495"/>
                  </a:lnTo>
                  <a:lnTo>
                    <a:pt x="151" y="2510"/>
                  </a:lnTo>
                  <a:lnTo>
                    <a:pt x="136" y="2525"/>
                  </a:lnTo>
                  <a:lnTo>
                    <a:pt x="126" y="2545"/>
                  </a:lnTo>
                  <a:lnTo>
                    <a:pt x="111" y="2559"/>
                  </a:lnTo>
                  <a:lnTo>
                    <a:pt x="96" y="2574"/>
                  </a:lnTo>
                  <a:lnTo>
                    <a:pt x="76" y="2584"/>
                  </a:lnTo>
                  <a:lnTo>
                    <a:pt x="61" y="2599"/>
                  </a:lnTo>
                  <a:lnTo>
                    <a:pt x="41" y="2614"/>
                  </a:lnTo>
                  <a:lnTo>
                    <a:pt x="21" y="2624"/>
                  </a:lnTo>
                  <a:lnTo>
                    <a:pt x="10" y="2633"/>
                  </a:lnTo>
                  <a:lnTo>
                    <a:pt x="0" y="2648"/>
                  </a:lnTo>
                  <a:lnTo>
                    <a:pt x="0" y="2663"/>
                  </a:lnTo>
                  <a:lnTo>
                    <a:pt x="0" y="2678"/>
                  </a:lnTo>
                  <a:lnTo>
                    <a:pt x="10" y="2688"/>
                  </a:lnTo>
                  <a:lnTo>
                    <a:pt x="21" y="2703"/>
                  </a:lnTo>
                  <a:lnTo>
                    <a:pt x="31" y="2707"/>
                  </a:lnTo>
                  <a:lnTo>
                    <a:pt x="51" y="2712"/>
                  </a:lnTo>
                  <a:lnTo>
                    <a:pt x="61" y="2707"/>
                  </a:lnTo>
                  <a:lnTo>
                    <a:pt x="71" y="2707"/>
                  </a:lnTo>
                  <a:lnTo>
                    <a:pt x="86" y="2707"/>
                  </a:lnTo>
                  <a:lnTo>
                    <a:pt x="101" y="2707"/>
                  </a:lnTo>
                  <a:lnTo>
                    <a:pt x="111" y="2707"/>
                  </a:lnTo>
                  <a:lnTo>
                    <a:pt x="121" y="2707"/>
                  </a:lnTo>
                  <a:lnTo>
                    <a:pt x="131" y="2703"/>
                  </a:lnTo>
                  <a:lnTo>
                    <a:pt x="146" y="2703"/>
                  </a:lnTo>
                  <a:lnTo>
                    <a:pt x="161" y="2693"/>
                  </a:lnTo>
                  <a:lnTo>
                    <a:pt x="181" y="2688"/>
                  </a:lnTo>
                  <a:lnTo>
                    <a:pt x="201" y="2678"/>
                  </a:lnTo>
                  <a:lnTo>
                    <a:pt x="222" y="2668"/>
                  </a:lnTo>
                  <a:lnTo>
                    <a:pt x="237" y="2653"/>
                  </a:lnTo>
                  <a:lnTo>
                    <a:pt x="252" y="2638"/>
                  </a:lnTo>
                  <a:lnTo>
                    <a:pt x="267" y="2624"/>
                  </a:lnTo>
                  <a:lnTo>
                    <a:pt x="282" y="2609"/>
                  </a:lnTo>
                  <a:lnTo>
                    <a:pt x="297" y="2589"/>
                  </a:lnTo>
                  <a:lnTo>
                    <a:pt x="312" y="2569"/>
                  </a:lnTo>
                  <a:lnTo>
                    <a:pt x="317" y="2559"/>
                  </a:lnTo>
                  <a:lnTo>
                    <a:pt x="322" y="2545"/>
                  </a:lnTo>
                  <a:lnTo>
                    <a:pt x="332" y="2535"/>
                  </a:lnTo>
                  <a:lnTo>
                    <a:pt x="337" y="2525"/>
                  </a:lnTo>
                  <a:lnTo>
                    <a:pt x="342" y="2510"/>
                  </a:lnTo>
                  <a:lnTo>
                    <a:pt x="347" y="2500"/>
                  </a:lnTo>
                  <a:lnTo>
                    <a:pt x="352" y="2486"/>
                  </a:lnTo>
                  <a:lnTo>
                    <a:pt x="362" y="2476"/>
                  </a:lnTo>
                  <a:lnTo>
                    <a:pt x="367" y="2461"/>
                  </a:lnTo>
                  <a:lnTo>
                    <a:pt x="377" y="2446"/>
                  </a:lnTo>
                  <a:lnTo>
                    <a:pt x="382" y="2431"/>
                  </a:lnTo>
                  <a:lnTo>
                    <a:pt x="387" y="2421"/>
                  </a:lnTo>
                  <a:lnTo>
                    <a:pt x="392" y="2407"/>
                  </a:lnTo>
                  <a:lnTo>
                    <a:pt x="397" y="2397"/>
                  </a:lnTo>
                  <a:lnTo>
                    <a:pt x="402" y="2382"/>
                  </a:lnTo>
                  <a:lnTo>
                    <a:pt x="412" y="2367"/>
                  </a:lnTo>
                  <a:lnTo>
                    <a:pt x="418" y="2352"/>
                  </a:lnTo>
                  <a:lnTo>
                    <a:pt x="423" y="2343"/>
                  </a:lnTo>
                  <a:lnTo>
                    <a:pt x="428" y="2328"/>
                  </a:lnTo>
                  <a:lnTo>
                    <a:pt x="438" y="2318"/>
                  </a:lnTo>
                  <a:lnTo>
                    <a:pt x="438" y="2303"/>
                  </a:lnTo>
                  <a:lnTo>
                    <a:pt x="448" y="2288"/>
                  </a:lnTo>
                  <a:lnTo>
                    <a:pt x="453" y="2273"/>
                  </a:lnTo>
                  <a:lnTo>
                    <a:pt x="458" y="2264"/>
                  </a:lnTo>
                  <a:lnTo>
                    <a:pt x="463" y="2249"/>
                  </a:lnTo>
                  <a:lnTo>
                    <a:pt x="468" y="2234"/>
                  </a:lnTo>
                  <a:lnTo>
                    <a:pt x="473" y="2219"/>
                  </a:lnTo>
                  <a:lnTo>
                    <a:pt x="478" y="2204"/>
                  </a:lnTo>
                  <a:lnTo>
                    <a:pt x="483" y="2190"/>
                  </a:lnTo>
                  <a:lnTo>
                    <a:pt x="488" y="2180"/>
                  </a:lnTo>
                  <a:lnTo>
                    <a:pt x="493" y="2165"/>
                  </a:lnTo>
                  <a:lnTo>
                    <a:pt x="498" y="2150"/>
                  </a:lnTo>
                  <a:lnTo>
                    <a:pt x="503" y="2135"/>
                  </a:lnTo>
                  <a:lnTo>
                    <a:pt x="513" y="2126"/>
                  </a:lnTo>
                  <a:lnTo>
                    <a:pt x="518" y="2111"/>
                  </a:lnTo>
                  <a:lnTo>
                    <a:pt x="523" y="2101"/>
                  </a:lnTo>
                  <a:lnTo>
                    <a:pt x="528" y="2081"/>
                  </a:lnTo>
                  <a:lnTo>
                    <a:pt x="533" y="2071"/>
                  </a:lnTo>
                  <a:lnTo>
                    <a:pt x="533" y="2056"/>
                  </a:lnTo>
                  <a:lnTo>
                    <a:pt x="538" y="2042"/>
                  </a:lnTo>
                  <a:lnTo>
                    <a:pt x="548" y="2027"/>
                  </a:lnTo>
                  <a:lnTo>
                    <a:pt x="553" y="2012"/>
                  </a:lnTo>
                  <a:lnTo>
                    <a:pt x="558" y="2002"/>
                  </a:lnTo>
                  <a:lnTo>
                    <a:pt x="563" y="1987"/>
                  </a:lnTo>
                  <a:lnTo>
                    <a:pt x="568" y="1973"/>
                  </a:lnTo>
                  <a:lnTo>
                    <a:pt x="573" y="1958"/>
                  </a:lnTo>
                  <a:lnTo>
                    <a:pt x="578" y="1943"/>
                  </a:lnTo>
                  <a:lnTo>
                    <a:pt x="583" y="1933"/>
                  </a:lnTo>
                  <a:lnTo>
                    <a:pt x="588" y="1918"/>
                  </a:lnTo>
                  <a:lnTo>
                    <a:pt x="593" y="1904"/>
                  </a:lnTo>
                  <a:lnTo>
                    <a:pt x="598" y="1889"/>
                  </a:lnTo>
                  <a:lnTo>
                    <a:pt x="603" y="1879"/>
                  </a:lnTo>
                  <a:lnTo>
                    <a:pt x="608" y="1864"/>
                  </a:lnTo>
                  <a:lnTo>
                    <a:pt x="613" y="1849"/>
                  </a:lnTo>
                  <a:lnTo>
                    <a:pt x="619" y="1835"/>
                  </a:lnTo>
                  <a:lnTo>
                    <a:pt x="624" y="1825"/>
                  </a:lnTo>
                  <a:lnTo>
                    <a:pt x="629" y="1810"/>
                  </a:lnTo>
                  <a:lnTo>
                    <a:pt x="634" y="1795"/>
                  </a:lnTo>
                  <a:lnTo>
                    <a:pt x="639" y="1780"/>
                  </a:lnTo>
                  <a:lnTo>
                    <a:pt x="644" y="1766"/>
                  </a:lnTo>
                  <a:lnTo>
                    <a:pt x="649" y="1751"/>
                  </a:lnTo>
                  <a:lnTo>
                    <a:pt x="654" y="1741"/>
                  </a:lnTo>
                  <a:lnTo>
                    <a:pt x="664" y="1726"/>
                  </a:lnTo>
                  <a:lnTo>
                    <a:pt x="669" y="1716"/>
                  </a:lnTo>
                  <a:lnTo>
                    <a:pt x="674" y="1701"/>
                  </a:lnTo>
                  <a:lnTo>
                    <a:pt x="679" y="1687"/>
                  </a:lnTo>
                  <a:lnTo>
                    <a:pt x="684" y="1677"/>
                  </a:lnTo>
                  <a:lnTo>
                    <a:pt x="694" y="1667"/>
                  </a:lnTo>
                  <a:lnTo>
                    <a:pt x="694" y="1652"/>
                  </a:lnTo>
                  <a:lnTo>
                    <a:pt x="699" y="1637"/>
                  </a:lnTo>
                  <a:lnTo>
                    <a:pt x="704" y="1623"/>
                  </a:lnTo>
                  <a:lnTo>
                    <a:pt x="714" y="1613"/>
                  </a:lnTo>
                  <a:lnTo>
                    <a:pt x="714" y="1598"/>
                  </a:lnTo>
                  <a:lnTo>
                    <a:pt x="719" y="1588"/>
                  </a:lnTo>
                  <a:lnTo>
                    <a:pt x="729" y="1573"/>
                  </a:lnTo>
                  <a:lnTo>
                    <a:pt x="734" y="1558"/>
                  </a:lnTo>
                  <a:lnTo>
                    <a:pt x="734" y="1549"/>
                  </a:lnTo>
                  <a:lnTo>
                    <a:pt x="744" y="1534"/>
                  </a:lnTo>
                  <a:lnTo>
                    <a:pt x="749" y="1519"/>
                  </a:lnTo>
                  <a:lnTo>
                    <a:pt x="754" y="1509"/>
                  </a:lnTo>
                  <a:lnTo>
                    <a:pt x="754" y="1494"/>
                  </a:lnTo>
                  <a:lnTo>
                    <a:pt x="764" y="1484"/>
                  </a:lnTo>
                  <a:lnTo>
                    <a:pt x="769" y="1470"/>
                  </a:lnTo>
                  <a:lnTo>
                    <a:pt x="774" y="1460"/>
                  </a:lnTo>
                  <a:lnTo>
                    <a:pt x="779" y="1445"/>
                  </a:lnTo>
                  <a:lnTo>
                    <a:pt x="784" y="1430"/>
                  </a:lnTo>
                  <a:lnTo>
                    <a:pt x="784" y="1420"/>
                  </a:lnTo>
                  <a:lnTo>
                    <a:pt x="794" y="1406"/>
                  </a:lnTo>
                  <a:lnTo>
                    <a:pt x="794" y="1391"/>
                  </a:lnTo>
                  <a:lnTo>
                    <a:pt x="799" y="1381"/>
                  </a:lnTo>
                  <a:lnTo>
                    <a:pt x="804" y="1366"/>
                  </a:lnTo>
                  <a:lnTo>
                    <a:pt x="814" y="1356"/>
                  </a:lnTo>
                  <a:lnTo>
                    <a:pt x="814" y="1341"/>
                  </a:lnTo>
                  <a:lnTo>
                    <a:pt x="820" y="1327"/>
                  </a:lnTo>
                  <a:lnTo>
                    <a:pt x="825" y="1317"/>
                  </a:lnTo>
                  <a:lnTo>
                    <a:pt x="830" y="1302"/>
                  </a:lnTo>
                  <a:lnTo>
                    <a:pt x="835" y="1292"/>
                  </a:lnTo>
                  <a:lnTo>
                    <a:pt x="840" y="1277"/>
                  </a:lnTo>
                  <a:lnTo>
                    <a:pt x="845" y="1263"/>
                  </a:lnTo>
                  <a:lnTo>
                    <a:pt x="850" y="1253"/>
                  </a:lnTo>
                  <a:lnTo>
                    <a:pt x="855" y="1238"/>
                  </a:lnTo>
                  <a:lnTo>
                    <a:pt x="860" y="1228"/>
                  </a:lnTo>
                  <a:lnTo>
                    <a:pt x="865" y="1213"/>
                  </a:lnTo>
                  <a:lnTo>
                    <a:pt x="870" y="1198"/>
                  </a:lnTo>
                  <a:lnTo>
                    <a:pt x="870" y="1184"/>
                  </a:lnTo>
                  <a:lnTo>
                    <a:pt x="875" y="1174"/>
                  </a:lnTo>
                  <a:lnTo>
                    <a:pt x="880" y="1159"/>
                  </a:lnTo>
                  <a:lnTo>
                    <a:pt x="885" y="1149"/>
                  </a:lnTo>
                  <a:lnTo>
                    <a:pt x="890" y="1134"/>
                  </a:lnTo>
                  <a:lnTo>
                    <a:pt x="895" y="1119"/>
                  </a:lnTo>
                  <a:lnTo>
                    <a:pt x="900" y="1110"/>
                  </a:lnTo>
                  <a:lnTo>
                    <a:pt x="905" y="1095"/>
                  </a:lnTo>
                  <a:lnTo>
                    <a:pt x="905" y="1080"/>
                  </a:lnTo>
                  <a:lnTo>
                    <a:pt x="910" y="1070"/>
                  </a:lnTo>
                  <a:lnTo>
                    <a:pt x="915" y="1055"/>
                  </a:lnTo>
                  <a:lnTo>
                    <a:pt x="920" y="1046"/>
                  </a:lnTo>
                  <a:lnTo>
                    <a:pt x="925" y="1031"/>
                  </a:lnTo>
                  <a:lnTo>
                    <a:pt x="930" y="1016"/>
                  </a:lnTo>
                  <a:lnTo>
                    <a:pt x="935" y="1006"/>
                  </a:lnTo>
                  <a:lnTo>
                    <a:pt x="940" y="991"/>
                  </a:lnTo>
                  <a:lnTo>
                    <a:pt x="945" y="976"/>
                  </a:lnTo>
                  <a:lnTo>
                    <a:pt x="945" y="967"/>
                  </a:lnTo>
                  <a:lnTo>
                    <a:pt x="950" y="952"/>
                  </a:lnTo>
                  <a:lnTo>
                    <a:pt x="955" y="942"/>
                  </a:lnTo>
                  <a:lnTo>
                    <a:pt x="960" y="927"/>
                  </a:lnTo>
                  <a:lnTo>
                    <a:pt x="965" y="912"/>
                  </a:lnTo>
                  <a:lnTo>
                    <a:pt x="965" y="903"/>
                  </a:lnTo>
                  <a:lnTo>
                    <a:pt x="970" y="888"/>
                  </a:lnTo>
                  <a:lnTo>
                    <a:pt x="975" y="873"/>
                  </a:lnTo>
                  <a:lnTo>
                    <a:pt x="980" y="863"/>
                  </a:lnTo>
                  <a:lnTo>
                    <a:pt x="985" y="848"/>
                  </a:lnTo>
                  <a:lnTo>
                    <a:pt x="990" y="838"/>
                  </a:lnTo>
                  <a:lnTo>
                    <a:pt x="995" y="824"/>
                  </a:lnTo>
                  <a:lnTo>
                    <a:pt x="995" y="809"/>
                  </a:lnTo>
                  <a:lnTo>
                    <a:pt x="1000" y="799"/>
                  </a:lnTo>
                  <a:lnTo>
                    <a:pt x="1005" y="789"/>
                  </a:lnTo>
                  <a:lnTo>
                    <a:pt x="1010" y="774"/>
                  </a:lnTo>
                  <a:lnTo>
                    <a:pt x="1016" y="764"/>
                  </a:lnTo>
                  <a:lnTo>
                    <a:pt x="1021" y="750"/>
                  </a:lnTo>
                  <a:lnTo>
                    <a:pt x="1026" y="740"/>
                  </a:lnTo>
                  <a:lnTo>
                    <a:pt x="1031" y="725"/>
                  </a:lnTo>
                  <a:lnTo>
                    <a:pt x="1036" y="710"/>
                  </a:lnTo>
                  <a:lnTo>
                    <a:pt x="1036" y="700"/>
                  </a:lnTo>
                  <a:lnTo>
                    <a:pt x="1046" y="690"/>
                  </a:lnTo>
                  <a:lnTo>
                    <a:pt x="1051" y="676"/>
                  </a:lnTo>
                  <a:lnTo>
                    <a:pt x="1056" y="661"/>
                  </a:lnTo>
                  <a:lnTo>
                    <a:pt x="1061" y="646"/>
                  </a:lnTo>
                  <a:lnTo>
                    <a:pt x="1066" y="636"/>
                  </a:lnTo>
                  <a:lnTo>
                    <a:pt x="1071" y="621"/>
                  </a:lnTo>
                  <a:lnTo>
                    <a:pt x="1076" y="612"/>
                  </a:lnTo>
                  <a:lnTo>
                    <a:pt x="1081" y="597"/>
                  </a:lnTo>
                  <a:lnTo>
                    <a:pt x="1086" y="582"/>
                  </a:lnTo>
                  <a:lnTo>
                    <a:pt x="1091" y="567"/>
                  </a:lnTo>
                  <a:lnTo>
                    <a:pt x="1096" y="557"/>
                  </a:lnTo>
                  <a:lnTo>
                    <a:pt x="1101" y="543"/>
                  </a:lnTo>
                  <a:lnTo>
                    <a:pt x="1106" y="533"/>
                  </a:lnTo>
                  <a:lnTo>
                    <a:pt x="1111" y="518"/>
                  </a:lnTo>
                  <a:lnTo>
                    <a:pt x="1116" y="503"/>
                  </a:lnTo>
                  <a:lnTo>
                    <a:pt x="1121" y="488"/>
                  </a:lnTo>
                  <a:lnTo>
                    <a:pt x="1126" y="478"/>
                  </a:lnTo>
                  <a:lnTo>
                    <a:pt x="1131" y="464"/>
                  </a:lnTo>
                  <a:lnTo>
                    <a:pt x="1136" y="449"/>
                  </a:lnTo>
                  <a:lnTo>
                    <a:pt x="1146" y="434"/>
                  </a:lnTo>
                  <a:lnTo>
                    <a:pt x="1151" y="424"/>
                  </a:lnTo>
                  <a:lnTo>
                    <a:pt x="1151" y="409"/>
                  </a:lnTo>
                  <a:lnTo>
                    <a:pt x="1156" y="395"/>
                  </a:lnTo>
                  <a:lnTo>
                    <a:pt x="1161" y="380"/>
                  </a:lnTo>
                  <a:lnTo>
                    <a:pt x="1166" y="370"/>
                  </a:lnTo>
                  <a:lnTo>
                    <a:pt x="1171" y="355"/>
                  </a:lnTo>
                  <a:lnTo>
                    <a:pt x="1171" y="340"/>
                  </a:lnTo>
                  <a:lnTo>
                    <a:pt x="1176" y="326"/>
                  </a:lnTo>
                  <a:lnTo>
                    <a:pt x="1181" y="316"/>
                  </a:lnTo>
                  <a:lnTo>
                    <a:pt x="1186" y="301"/>
                  </a:lnTo>
                  <a:lnTo>
                    <a:pt x="1186" y="286"/>
                  </a:lnTo>
                  <a:lnTo>
                    <a:pt x="1191" y="271"/>
                  </a:lnTo>
                  <a:lnTo>
                    <a:pt x="1196" y="256"/>
                  </a:lnTo>
                  <a:lnTo>
                    <a:pt x="1196" y="242"/>
                  </a:lnTo>
                  <a:lnTo>
                    <a:pt x="1201" y="232"/>
                  </a:lnTo>
                  <a:lnTo>
                    <a:pt x="1201" y="217"/>
                  </a:lnTo>
                  <a:lnTo>
                    <a:pt x="1206" y="207"/>
                  </a:lnTo>
                  <a:lnTo>
                    <a:pt x="1206" y="192"/>
                  </a:lnTo>
                  <a:lnTo>
                    <a:pt x="1206" y="178"/>
                  </a:lnTo>
                  <a:lnTo>
                    <a:pt x="1206" y="163"/>
                  </a:lnTo>
                  <a:lnTo>
                    <a:pt x="1206" y="153"/>
                  </a:lnTo>
                  <a:lnTo>
                    <a:pt x="1206" y="138"/>
                  </a:lnTo>
                  <a:lnTo>
                    <a:pt x="1206" y="128"/>
                  </a:lnTo>
                  <a:lnTo>
                    <a:pt x="1206" y="113"/>
                  </a:lnTo>
                  <a:lnTo>
                    <a:pt x="1211" y="99"/>
                  </a:lnTo>
                  <a:lnTo>
                    <a:pt x="1206" y="89"/>
                  </a:lnTo>
                  <a:lnTo>
                    <a:pt x="1206" y="74"/>
                  </a:lnTo>
                  <a:lnTo>
                    <a:pt x="1206" y="59"/>
                  </a:lnTo>
                  <a:lnTo>
                    <a:pt x="1206" y="49"/>
                  </a:lnTo>
                  <a:lnTo>
                    <a:pt x="1201" y="35"/>
                  </a:lnTo>
                  <a:lnTo>
                    <a:pt x="1201" y="25"/>
                  </a:lnTo>
                  <a:lnTo>
                    <a:pt x="1196" y="15"/>
                  </a:lnTo>
                  <a:lnTo>
                    <a:pt x="1196" y="0"/>
                  </a:lnTo>
                  <a:lnTo>
                    <a:pt x="1191" y="5"/>
                  </a:lnTo>
                  <a:lnTo>
                    <a:pt x="1186" y="20"/>
                  </a:lnTo>
                  <a:lnTo>
                    <a:pt x="1181" y="30"/>
                  </a:lnTo>
                  <a:lnTo>
                    <a:pt x="1171" y="39"/>
                  </a:lnTo>
                  <a:lnTo>
                    <a:pt x="1166" y="49"/>
                  </a:lnTo>
                  <a:lnTo>
                    <a:pt x="1166" y="64"/>
                  </a:lnTo>
                  <a:lnTo>
                    <a:pt x="1156" y="74"/>
                  </a:lnTo>
                  <a:lnTo>
                    <a:pt x="1151" y="89"/>
                  </a:lnTo>
                  <a:lnTo>
                    <a:pt x="1146" y="99"/>
                  </a:lnTo>
                  <a:lnTo>
                    <a:pt x="1141" y="113"/>
                  </a:lnTo>
                  <a:lnTo>
                    <a:pt x="1136" y="128"/>
                  </a:lnTo>
                  <a:lnTo>
                    <a:pt x="1131" y="138"/>
                  </a:lnTo>
                  <a:lnTo>
                    <a:pt x="1101" y="113"/>
                  </a:lnTo>
                  <a:lnTo>
                    <a:pt x="1101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 rot="9362400">
              <a:off x="7469280" y="1258560"/>
              <a:ext cx="1332000" cy="3704040"/>
            </a:xfrm>
            <a:custGeom>
              <a:avLst/>
              <a:gdLst/>
              <a:ahLst/>
              <a:rect l="l" t="t" r="r" b="b"/>
              <a:pathLst>
                <a:path w="839" h="2333">
                  <a:moveTo>
                    <a:pt x="25" y="2323"/>
                  </a:moveTo>
                  <a:lnTo>
                    <a:pt x="407" y="1327"/>
                  </a:lnTo>
                  <a:lnTo>
                    <a:pt x="834" y="286"/>
                  </a:lnTo>
                  <a:lnTo>
                    <a:pt x="839" y="266"/>
                  </a:lnTo>
                  <a:lnTo>
                    <a:pt x="834" y="252"/>
                  </a:lnTo>
                  <a:lnTo>
                    <a:pt x="824" y="232"/>
                  </a:lnTo>
                  <a:lnTo>
                    <a:pt x="809" y="222"/>
                  </a:lnTo>
                  <a:lnTo>
                    <a:pt x="246" y="0"/>
                  </a:lnTo>
                  <a:lnTo>
                    <a:pt x="231" y="0"/>
                  </a:lnTo>
                  <a:lnTo>
                    <a:pt x="226" y="10"/>
                  </a:lnTo>
                  <a:lnTo>
                    <a:pt x="221" y="20"/>
                  </a:lnTo>
                  <a:lnTo>
                    <a:pt x="221" y="40"/>
                  </a:lnTo>
                  <a:lnTo>
                    <a:pt x="226" y="54"/>
                  </a:lnTo>
                  <a:lnTo>
                    <a:pt x="231" y="69"/>
                  </a:lnTo>
                  <a:lnTo>
                    <a:pt x="241" y="89"/>
                  </a:lnTo>
                  <a:lnTo>
                    <a:pt x="251" y="104"/>
                  </a:lnTo>
                  <a:lnTo>
                    <a:pt x="678" y="311"/>
                  </a:lnTo>
                  <a:lnTo>
                    <a:pt x="427" y="1056"/>
                  </a:lnTo>
                  <a:lnTo>
                    <a:pt x="0" y="2318"/>
                  </a:lnTo>
                  <a:lnTo>
                    <a:pt x="0" y="2328"/>
                  </a:lnTo>
                  <a:lnTo>
                    <a:pt x="5" y="2333"/>
                  </a:lnTo>
                  <a:lnTo>
                    <a:pt x="15" y="2328"/>
                  </a:lnTo>
                  <a:lnTo>
                    <a:pt x="25" y="2323"/>
                  </a:lnTo>
                  <a:lnTo>
                    <a:pt x="25" y="2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 rot="9362400">
              <a:off x="6784560" y="749160"/>
              <a:ext cx="1013400" cy="4540320"/>
            </a:xfrm>
            <a:custGeom>
              <a:avLst/>
              <a:gdLst/>
              <a:ahLst/>
              <a:rect l="l" t="t" r="r" b="b"/>
              <a:pathLst>
                <a:path w="638" h="2860">
                  <a:moveTo>
                    <a:pt x="337" y="2860"/>
                  </a:moveTo>
                  <a:lnTo>
                    <a:pt x="342" y="2825"/>
                  </a:lnTo>
                  <a:lnTo>
                    <a:pt x="347" y="2796"/>
                  </a:lnTo>
                  <a:lnTo>
                    <a:pt x="357" y="2761"/>
                  </a:lnTo>
                  <a:lnTo>
                    <a:pt x="362" y="2732"/>
                  </a:lnTo>
                  <a:lnTo>
                    <a:pt x="367" y="2697"/>
                  </a:lnTo>
                  <a:lnTo>
                    <a:pt x="377" y="2668"/>
                  </a:lnTo>
                  <a:lnTo>
                    <a:pt x="382" y="2638"/>
                  </a:lnTo>
                  <a:lnTo>
                    <a:pt x="392" y="2603"/>
                  </a:lnTo>
                  <a:lnTo>
                    <a:pt x="397" y="2574"/>
                  </a:lnTo>
                  <a:lnTo>
                    <a:pt x="402" y="2539"/>
                  </a:lnTo>
                  <a:lnTo>
                    <a:pt x="407" y="2510"/>
                  </a:lnTo>
                  <a:lnTo>
                    <a:pt x="417" y="2475"/>
                  </a:lnTo>
                  <a:lnTo>
                    <a:pt x="422" y="2446"/>
                  </a:lnTo>
                  <a:lnTo>
                    <a:pt x="427" y="2411"/>
                  </a:lnTo>
                  <a:lnTo>
                    <a:pt x="432" y="2382"/>
                  </a:lnTo>
                  <a:lnTo>
                    <a:pt x="442" y="2352"/>
                  </a:lnTo>
                  <a:lnTo>
                    <a:pt x="447" y="2317"/>
                  </a:lnTo>
                  <a:lnTo>
                    <a:pt x="452" y="2288"/>
                  </a:lnTo>
                  <a:lnTo>
                    <a:pt x="457" y="2253"/>
                  </a:lnTo>
                  <a:lnTo>
                    <a:pt x="462" y="2224"/>
                  </a:lnTo>
                  <a:lnTo>
                    <a:pt x="467" y="2189"/>
                  </a:lnTo>
                  <a:lnTo>
                    <a:pt x="477" y="2160"/>
                  </a:lnTo>
                  <a:lnTo>
                    <a:pt x="482" y="2125"/>
                  </a:lnTo>
                  <a:lnTo>
                    <a:pt x="487" y="2095"/>
                  </a:lnTo>
                  <a:lnTo>
                    <a:pt x="487" y="2061"/>
                  </a:lnTo>
                  <a:lnTo>
                    <a:pt x="497" y="2026"/>
                  </a:lnTo>
                  <a:lnTo>
                    <a:pt x="497" y="1997"/>
                  </a:lnTo>
                  <a:lnTo>
                    <a:pt x="502" y="1962"/>
                  </a:lnTo>
                  <a:lnTo>
                    <a:pt x="507" y="1933"/>
                  </a:lnTo>
                  <a:lnTo>
                    <a:pt x="512" y="1898"/>
                  </a:lnTo>
                  <a:lnTo>
                    <a:pt x="517" y="1869"/>
                  </a:lnTo>
                  <a:lnTo>
                    <a:pt x="528" y="1834"/>
                  </a:lnTo>
                  <a:lnTo>
                    <a:pt x="528" y="1805"/>
                  </a:lnTo>
                  <a:lnTo>
                    <a:pt x="533" y="1770"/>
                  </a:lnTo>
                  <a:lnTo>
                    <a:pt x="538" y="1735"/>
                  </a:lnTo>
                  <a:lnTo>
                    <a:pt x="543" y="1706"/>
                  </a:lnTo>
                  <a:lnTo>
                    <a:pt x="548" y="1671"/>
                  </a:lnTo>
                  <a:lnTo>
                    <a:pt x="548" y="1637"/>
                  </a:lnTo>
                  <a:lnTo>
                    <a:pt x="553" y="1607"/>
                  </a:lnTo>
                  <a:lnTo>
                    <a:pt x="558" y="1573"/>
                  </a:lnTo>
                  <a:lnTo>
                    <a:pt x="563" y="1543"/>
                  </a:lnTo>
                  <a:lnTo>
                    <a:pt x="563" y="1509"/>
                  </a:lnTo>
                  <a:lnTo>
                    <a:pt x="568" y="1474"/>
                  </a:lnTo>
                  <a:lnTo>
                    <a:pt x="573" y="1445"/>
                  </a:lnTo>
                  <a:lnTo>
                    <a:pt x="578" y="1410"/>
                  </a:lnTo>
                  <a:lnTo>
                    <a:pt x="578" y="1380"/>
                  </a:lnTo>
                  <a:lnTo>
                    <a:pt x="583" y="1346"/>
                  </a:lnTo>
                  <a:lnTo>
                    <a:pt x="588" y="1316"/>
                  </a:lnTo>
                  <a:lnTo>
                    <a:pt x="588" y="1282"/>
                  </a:lnTo>
                  <a:lnTo>
                    <a:pt x="593" y="1252"/>
                  </a:lnTo>
                  <a:lnTo>
                    <a:pt x="598" y="1218"/>
                  </a:lnTo>
                  <a:lnTo>
                    <a:pt x="603" y="1183"/>
                  </a:lnTo>
                  <a:lnTo>
                    <a:pt x="603" y="1154"/>
                  </a:lnTo>
                  <a:lnTo>
                    <a:pt x="608" y="1119"/>
                  </a:lnTo>
                  <a:lnTo>
                    <a:pt x="608" y="1089"/>
                  </a:lnTo>
                  <a:lnTo>
                    <a:pt x="613" y="1055"/>
                  </a:lnTo>
                  <a:lnTo>
                    <a:pt x="618" y="1025"/>
                  </a:lnTo>
                  <a:lnTo>
                    <a:pt x="618" y="991"/>
                  </a:lnTo>
                  <a:lnTo>
                    <a:pt x="623" y="956"/>
                  </a:lnTo>
                  <a:lnTo>
                    <a:pt x="628" y="927"/>
                  </a:lnTo>
                  <a:lnTo>
                    <a:pt x="628" y="892"/>
                  </a:lnTo>
                  <a:lnTo>
                    <a:pt x="633" y="863"/>
                  </a:lnTo>
                  <a:lnTo>
                    <a:pt x="633" y="833"/>
                  </a:lnTo>
                  <a:lnTo>
                    <a:pt x="638" y="798"/>
                  </a:lnTo>
                  <a:lnTo>
                    <a:pt x="638" y="784"/>
                  </a:lnTo>
                  <a:lnTo>
                    <a:pt x="638" y="769"/>
                  </a:lnTo>
                  <a:lnTo>
                    <a:pt x="638" y="754"/>
                  </a:lnTo>
                  <a:lnTo>
                    <a:pt x="638" y="739"/>
                  </a:lnTo>
                  <a:lnTo>
                    <a:pt x="638" y="725"/>
                  </a:lnTo>
                  <a:lnTo>
                    <a:pt x="638" y="710"/>
                  </a:lnTo>
                  <a:lnTo>
                    <a:pt x="638" y="695"/>
                  </a:lnTo>
                  <a:lnTo>
                    <a:pt x="638" y="680"/>
                  </a:lnTo>
                  <a:lnTo>
                    <a:pt x="638" y="660"/>
                  </a:lnTo>
                  <a:lnTo>
                    <a:pt x="638" y="651"/>
                  </a:lnTo>
                  <a:lnTo>
                    <a:pt x="638" y="631"/>
                  </a:lnTo>
                  <a:lnTo>
                    <a:pt x="638" y="616"/>
                  </a:lnTo>
                  <a:lnTo>
                    <a:pt x="633" y="601"/>
                  </a:lnTo>
                  <a:lnTo>
                    <a:pt x="633" y="586"/>
                  </a:lnTo>
                  <a:lnTo>
                    <a:pt x="633" y="572"/>
                  </a:lnTo>
                  <a:lnTo>
                    <a:pt x="633" y="557"/>
                  </a:lnTo>
                  <a:lnTo>
                    <a:pt x="628" y="537"/>
                  </a:lnTo>
                  <a:lnTo>
                    <a:pt x="623" y="522"/>
                  </a:lnTo>
                  <a:lnTo>
                    <a:pt x="618" y="508"/>
                  </a:lnTo>
                  <a:lnTo>
                    <a:pt x="618" y="493"/>
                  </a:lnTo>
                  <a:lnTo>
                    <a:pt x="613" y="473"/>
                  </a:lnTo>
                  <a:lnTo>
                    <a:pt x="608" y="458"/>
                  </a:lnTo>
                  <a:lnTo>
                    <a:pt x="603" y="443"/>
                  </a:lnTo>
                  <a:lnTo>
                    <a:pt x="603" y="429"/>
                  </a:lnTo>
                  <a:lnTo>
                    <a:pt x="598" y="414"/>
                  </a:lnTo>
                  <a:lnTo>
                    <a:pt x="588" y="399"/>
                  </a:lnTo>
                  <a:lnTo>
                    <a:pt x="583" y="384"/>
                  </a:lnTo>
                  <a:lnTo>
                    <a:pt x="578" y="369"/>
                  </a:lnTo>
                  <a:lnTo>
                    <a:pt x="573" y="350"/>
                  </a:lnTo>
                  <a:lnTo>
                    <a:pt x="568" y="335"/>
                  </a:lnTo>
                  <a:lnTo>
                    <a:pt x="558" y="320"/>
                  </a:lnTo>
                  <a:lnTo>
                    <a:pt x="553" y="310"/>
                  </a:lnTo>
                  <a:lnTo>
                    <a:pt x="543" y="295"/>
                  </a:lnTo>
                  <a:lnTo>
                    <a:pt x="533" y="281"/>
                  </a:lnTo>
                  <a:lnTo>
                    <a:pt x="528" y="266"/>
                  </a:lnTo>
                  <a:lnTo>
                    <a:pt x="517" y="251"/>
                  </a:lnTo>
                  <a:lnTo>
                    <a:pt x="502" y="236"/>
                  </a:lnTo>
                  <a:lnTo>
                    <a:pt x="497" y="226"/>
                  </a:lnTo>
                  <a:lnTo>
                    <a:pt x="482" y="212"/>
                  </a:lnTo>
                  <a:lnTo>
                    <a:pt x="477" y="202"/>
                  </a:lnTo>
                  <a:lnTo>
                    <a:pt x="462" y="187"/>
                  </a:lnTo>
                  <a:lnTo>
                    <a:pt x="452" y="172"/>
                  </a:lnTo>
                  <a:lnTo>
                    <a:pt x="437" y="162"/>
                  </a:lnTo>
                  <a:lnTo>
                    <a:pt x="427" y="152"/>
                  </a:lnTo>
                  <a:lnTo>
                    <a:pt x="412" y="138"/>
                  </a:lnTo>
                  <a:lnTo>
                    <a:pt x="397" y="128"/>
                  </a:lnTo>
                  <a:lnTo>
                    <a:pt x="382" y="118"/>
                  </a:lnTo>
                  <a:lnTo>
                    <a:pt x="367" y="108"/>
                  </a:lnTo>
                  <a:lnTo>
                    <a:pt x="352" y="98"/>
                  </a:lnTo>
                  <a:lnTo>
                    <a:pt x="332" y="88"/>
                  </a:lnTo>
                  <a:lnTo>
                    <a:pt x="316" y="78"/>
                  </a:lnTo>
                  <a:lnTo>
                    <a:pt x="301" y="69"/>
                  </a:lnTo>
                  <a:lnTo>
                    <a:pt x="281" y="59"/>
                  </a:lnTo>
                  <a:lnTo>
                    <a:pt x="261" y="54"/>
                  </a:lnTo>
                  <a:lnTo>
                    <a:pt x="246" y="44"/>
                  </a:lnTo>
                  <a:lnTo>
                    <a:pt x="226" y="39"/>
                  </a:lnTo>
                  <a:lnTo>
                    <a:pt x="201" y="34"/>
                  </a:lnTo>
                  <a:lnTo>
                    <a:pt x="181" y="24"/>
                  </a:lnTo>
                  <a:lnTo>
                    <a:pt x="161" y="19"/>
                  </a:lnTo>
                  <a:lnTo>
                    <a:pt x="141" y="14"/>
                  </a:lnTo>
                  <a:lnTo>
                    <a:pt x="115" y="9"/>
                  </a:lnTo>
                  <a:lnTo>
                    <a:pt x="95" y="5"/>
                  </a:lnTo>
                  <a:lnTo>
                    <a:pt x="70" y="5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0" y="14"/>
                  </a:lnTo>
                  <a:lnTo>
                    <a:pt x="10" y="29"/>
                  </a:lnTo>
                  <a:lnTo>
                    <a:pt x="15" y="39"/>
                  </a:lnTo>
                  <a:lnTo>
                    <a:pt x="25" y="49"/>
                  </a:lnTo>
                  <a:lnTo>
                    <a:pt x="30" y="54"/>
                  </a:lnTo>
                  <a:lnTo>
                    <a:pt x="40" y="59"/>
                  </a:lnTo>
                  <a:lnTo>
                    <a:pt x="50" y="69"/>
                  </a:lnTo>
                  <a:lnTo>
                    <a:pt x="60" y="74"/>
                  </a:lnTo>
                  <a:lnTo>
                    <a:pt x="70" y="78"/>
                  </a:lnTo>
                  <a:lnTo>
                    <a:pt x="85" y="88"/>
                  </a:lnTo>
                  <a:lnTo>
                    <a:pt x="100" y="93"/>
                  </a:lnTo>
                  <a:lnTo>
                    <a:pt x="115" y="103"/>
                  </a:lnTo>
                  <a:lnTo>
                    <a:pt x="131" y="108"/>
                  </a:lnTo>
                  <a:lnTo>
                    <a:pt x="151" y="118"/>
                  </a:lnTo>
                  <a:lnTo>
                    <a:pt x="161" y="123"/>
                  </a:lnTo>
                  <a:lnTo>
                    <a:pt x="171" y="128"/>
                  </a:lnTo>
                  <a:lnTo>
                    <a:pt x="181" y="133"/>
                  </a:lnTo>
                  <a:lnTo>
                    <a:pt x="191" y="138"/>
                  </a:lnTo>
                  <a:lnTo>
                    <a:pt x="211" y="148"/>
                  </a:lnTo>
                  <a:lnTo>
                    <a:pt x="231" y="157"/>
                  </a:lnTo>
                  <a:lnTo>
                    <a:pt x="251" y="167"/>
                  </a:lnTo>
                  <a:lnTo>
                    <a:pt x="271" y="182"/>
                  </a:lnTo>
                  <a:lnTo>
                    <a:pt x="286" y="192"/>
                  </a:lnTo>
                  <a:lnTo>
                    <a:pt x="301" y="202"/>
                  </a:lnTo>
                  <a:lnTo>
                    <a:pt x="322" y="217"/>
                  </a:lnTo>
                  <a:lnTo>
                    <a:pt x="337" y="231"/>
                  </a:lnTo>
                  <a:lnTo>
                    <a:pt x="352" y="246"/>
                  </a:lnTo>
                  <a:lnTo>
                    <a:pt x="367" y="261"/>
                  </a:lnTo>
                  <a:lnTo>
                    <a:pt x="377" y="271"/>
                  </a:lnTo>
                  <a:lnTo>
                    <a:pt x="392" y="291"/>
                  </a:lnTo>
                  <a:lnTo>
                    <a:pt x="402" y="305"/>
                  </a:lnTo>
                  <a:lnTo>
                    <a:pt x="412" y="320"/>
                  </a:lnTo>
                  <a:lnTo>
                    <a:pt x="422" y="335"/>
                  </a:lnTo>
                  <a:lnTo>
                    <a:pt x="432" y="355"/>
                  </a:lnTo>
                  <a:lnTo>
                    <a:pt x="442" y="374"/>
                  </a:lnTo>
                  <a:lnTo>
                    <a:pt x="447" y="389"/>
                  </a:lnTo>
                  <a:lnTo>
                    <a:pt x="457" y="409"/>
                  </a:lnTo>
                  <a:lnTo>
                    <a:pt x="462" y="429"/>
                  </a:lnTo>
                  <a:lnTo>
                    <a:pt x="467" y="443"/>
                  </a:lnTo>
                  <a:lnTo>
                    <a:pt x="477" y="463"/>
                  </a:lnTo>
                  <a:lnTo>
                    <a:pt x="482" y="483"/>
                  </a:lnTo>
                  <a:lnTo>
                    <a:pt x="487" y="503"/>
                  </a:lnTo>
                  <a:lnTo>
                    <a:pt x="487" y="522"/>
                  </a:lnTo>
                  <a:lnTo>
                    <a:pt x="492" y="542"/>
                  </a:lnTo>
                  <a:lnTo>
                    <a:pt x="492" y="562"/>
                  </a:lnTo>
                  <a:lnTo>
                    <a:pt x="497" y="582"/>
                  </a:lnTo>
                  <a:lnTo>
                    <a:pt x="497" y="601"/>
                  </a:lnTo>
                  <a:lnTo>
                    <a:pt x="502" y="626"/>
                  </a:lnTo>
                  <a:lnTo>
                    <a:pt x="502" y="646"/>
                  </a:lnTo>
                  <a:lnTo>
                    <a:pt x="502" y="670"/>
                  </a:lnTo>
                  <a:lnTo>
                    <a:pt x="502" y="690"/>
                  </a:lnTo>
                  <a:lnTo>
                    <a:pt x="502" y="710"/>
                  </a:lnTo>
                  <a:lnTo>
                    <a:pt x="502" y="729"/>
                  </a:lnTo>
                  <a:lnTo>
                    <a:pt x="502" y="754"/>
                  </a:lnTo>
                  <a:lnTo>
                    <a:pt x="502" y="774"/>
                  </a:lnTo>
                  <a:lnTo>
                    <a:pt x="502" y="794"/>
                  </a:lnTo>
                  <a:lnTo>
                    <a:pt x="497" y="818"/>
                  </a:lnTo>
                  <a:lnTo>
                    <a:pt x="497" y="838"/>
                  </a:lnTo>
                  <a:lnTo>
                    <a:pt x="497" y="863"/>
                  </a:lnTo>
                  <a:lnTo>
                    <a:pt x="492" y="882"/>
                  </a:lnTo>
                  <a:lnTo>
                    <a:pt x="487" y="902"/>
                  </a:lnTo>
                  <a:lnTo>
                    <a:pt x="487" y="927"/>
                  </a:lnTo>
                  <a:lnTo>
                    <a:pt x="482" y="946"/>
                  </a:lnTo>
                  <a:lnTo>
                    <a:pt x="482" y="971"/>
                  </a:lnTo>
                  <a:lnTo>
                    <a:pt x="477" y="991"/>
                  </a:lnTo>
                  <a:lnTo>
                    <a:pt x="477" y="1015"/>
                  </a:lnTo>
                  <a:lnTo>
                    <a:pt x="472" y="1035"/>
                  </a:lnTo>
                  <a:lnTo>
                    <a:pt x="467" y="1055"/>
                  </a:lnTo>
                  <a:lnTo>
                    <a:pt x="462" y="1080"/>
                  </a:lnTo>
                  <a:lnTo>
                    <a:pt x="462" y="1099"/>
                  </a:lnTo>
                  <a:lnTo>
                    <a:pt x="457" y="1119"/>
                  </a:lnTo>
                  <a:lnTo>
                    <a:pt x="452" y="1144"/>
                  </a:lnTo>
                  <a:lnTo>
                    <a:pt x="452" y="1163"/>
                  </a:lnTo>
                  <a:lnTo>
                    <a:pt x="447" y="1183"/>
                  </a:lnTo>
                  <a:lnTo>
                    <a:pt x="442" y="1203"/>
                  </a:lnTo>
                  <a:lnTo>
                    <a:pt x="442" y="1223"/>
                  </a:lnTo>
                  <a:lnTo>
                    <a:pt x="437" y="1242"/>
                  </a:lnTo>
                  <a:lnTo>
                    <a:pt x="432" y="1267"/>
                  </a:lnTo>
                  <a:lnTo>
                    <a:pt x="432" y="1287"/>
                  </a:lnTo>
                  <a:lnTo>
                    <a:pt x="427" y="1306"/>
                  </a:lnTo>
                  <a:lnTo>
                    <a:pt x="427" y="1326"/>
                  </a:lnTo>
                  <a:lnTo>
                    <a:pt x="422" y="1346"/>
                  </a:lnTo>
                  <a:lnTo>
                    <a:pt x="417" y="1366"/>
                  </a:lnTo>
                  <a:lnTo>
                    <a:pt x="417" y="1390"/>
                  </a:lnTo>
                  <a:lnTo>
                    <a:pt x="412" y="1415"/>
                  </a:lnTo>
                  <a:lnTo>
                    <a:pt x="407" y="1440"/>
                  </a:lnTo>
                  <a:lnTo>
                    <a:pt x="402" y="1459"/>
                  </a:lnTo>
                  <a:lnTo>
                    <a:pt x="402" y="1484"/>
                  </a:lnTo>
                  <a:lnTo>
                    <a:pt x="397" y="1509"/>
                  </a:lnTo>
                  <a:lnTo>
                    <a:pt x="397" y="1533"/>
                  </a:lnTo>
                  <a:lnTo>
                    <a:pt x="387" y="1553"/>
                  </a:lnTo>
                  <a:lnTo>
                    <a:pt x="387" y="1578"/>
                  </a:lnTo>
                  <a:lnTo>
                    <a:pt x="382" y="1602"/>
                  </a:lnTo>
                  <a:lnTo>
                    <a:pt x="382" y="1627"/>
                  </a:lnTo>
                  <a:lnTo>
                    <a:pt x="377" y="1647"/>
                  </a:lnTo>
                  <a:lnTo>
                    <a:pt x="372" y="1671"/>
                  </a:lnTo>
                  <a:lnTo>
                    <a:pt x="367" y="1696"/>
                  </a:lnTo>
                  <a:lnTo>
                    <a:pt x="367" y="1721"/>
                  </a:lnTo>
                  <a:lnTo>
                    <a:pt x="362" y="1740"/>
                  </a:lnTo>
                  <a:lnTo>
                    <a:pt x="362" y="1765"/>
                  </a:lnTo>
                  <a:lnTo>
                    <a:pt x="357" y="1790"/>
                  </a:lnTo>
                  <a:lnTo>
                    <a:pt x="352" y="1809"/>
                  </a:lnTo>
                  <a:lnTo>
                    <a:pt x="352" y="1834"/>
                  </a:lnTo>
                  <a:lnTo>
                    <a:pt x="347" y="1859"/>
                  </a:lnTo>
                  <a:lnTo>
                    <a:pt x="347" y="1883"/>
                  </a:lnTo>
                  <a:lnTo>
                    <a:pt x="342" y="1908"/>
                  </a:lnTo>
                  <a:lnTo>
                    <a:pt x="337" y="1928"/>
                  </a:lnTo>
                  <a:lnTo>
                    <a:pt x="337" y="1952"/>
                  </a:lnTo>
                  <a:lnTo>
                    <a:pt x="332" y="1977"/>
                  </a:lnTo>
                  <a:lnTo>
                    <a:pt x="332" y="2002"/>
                  </a:lnTo>
                  <a:lnTo>
                    <a:pt x="327" y="2026"/>
                  </a:lnTo>
                  <a:lnTo>
                    <a:pt x="327" y="2051"/>
                  </a:lnTo>
                  <a:lnTo>
                    <a:pt x="322" y="2071"/>
                  </a:lnTo>
                  <a:lnTo>
                    <a:pt x="322" y="2100"/>
                  </a:lnTo>
                  <a:lnTo>
                    <a:pt x="322" y="2120"/>
                  </a:lnTo>
                  <a:lnTo>
                    <a:pt x="316" y="2145"/>
                  </a:lnTo>
                  <a:lnTo>
                    <a:pt x="316" y="2169"/>
                  </a:lnTo>
                  <a:lnTo>
                    <a:pt x="311" y="2194"/>
                  </a:lnTo>
                  <a:lnTo>
                    <a:pt x="311" y="2214"/>
                  </a:lnTo>
                  <a:lnTo>
                    <a:pt x="311" y="2238"/>
                  </a:lnTo>
                  <a:lnTo>
                    <a:pt x="306" y="2263"/>
                  </a:lnTo>
                  <a:lnTo>
                    <a:pt x="306" y="2288"/>
                  </a:lnTo>
                  <a:lnTo>
                    <a:pt x="306" y="2308"/>
                  </a:lnTo>
                  <a:lnTo>
                    <a:pt x="306" y="2332"/>
                  </a:lnTo>
                  <a:lnTo>
                    <a:pt x="301" y="2357"/>
                  </a:lnTo>
                  <a:lnTo>
                    <a:pt x="301" y="2382"/>
                  </a:lnTo>
                  <a:lnTo>
                    <a:pt x="301" y="2406"/>
                  </a:lnTo>
                  <a:lnTo>
                    <a:pt x="301" y="2426"/>
                  </a:lnTo>
                  <a:lnTo>
                    <a:pt x="301" y="2451"/>
                  </a:lnTo>
                  <a:lnTo>
                    <a:pt x="301" y="2475"/>
                  </a:lnTo>
                  <a:lnTo>
                    <a:pt x="301" y="2500"/>
                  </a:lnTo>
                  <a:lnTo>
                    <a:pt x="301" y="2525"/>
                  </a:lnTo>
                  <a:lnTo>
                    <a:pt x="301" y="2549"/>
                  </a:lnTo>
                  <a:lnTo>
                    <a:pt x="301" y="2574"/>
                  </a:lnTo>
                  <a:lnTo>
                    <a:pt x="301" y="2594"/>
                  </a:lnTo>
                  <a:lnTo>
                    <a:pt x="306" y="2618"/>
                  </a:lnTo>
                  <a:lnTo>
                    <a:pt x="306" y="2643"/>
                  </a:lnTo>
                  <a:lnTo>
                    <a:pt x="311" y="2668"/>
                  </a:lnTo>
                  <a:lnTo>
                    <a:pt x="311" y="2692"/>
                  </a:lnTo>
                  <a:lnTo>
                    <a:pt x="311" y="2717"/>
                  </a:lnTo>
                  <a:lnTo>
                    <a:pt x="311" y="2737"/>
                  </a:lnTo>
                  <a:lnTo>
                    <a:pt x="316" y="2761"/>
                  </a:lnTo>
                  <a:lnTo>
                    <a:pt x="316" y="2786"/>
                  </a:lnTo>
                  <a:lnTo>
                    <a:pt x="322" y="2811"/>
                  </a:lnTo>
                  <a:lnTo>
                    <a:pt x="322" y="2835"/>
                  </a:lnTo>
                  <a:lnTo>
                    <a:pt x="332" y="2860"/>
                  </a:lnTo>
                  <a:lnTo>
                    <a:pt x="332" y="2860"/>
                  </a:lnTo>
                  <a:lnTo>
                    <a:pt x="337" y="2860"/>
                  </a:lnTo>
                  <a:lnTo>
                    <a:pt x="337" y="28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 rot="9362400">
              <a:off x="374400" y="785160"/>
              <a:ext cx="6397920" cy="4610160"/>
            </a:xfrm>
            <a:custGeom>
              <a:avLst/>
              <a:gdLst/>
              <a:ahLst/>
              <a:rect l="l" t="t" r="r" b="b"/>
              <a:pathLst>
                <a:path w="4030" h="2904">
                  <a:moveTo>
                    <a:pt x="4020" y="991"/>
                  </a:moveTo>
                  <a:lnTo>
                    <a:pt x="3990" y="971"/>
                  </a:lnTo>
                  <a:lnTo>
                    <a:pt x="3964" y="961"/>
                  </a:lnTo>
                  <a:lnTo>
                    <a:pt x="3934" y="946"/>
                  </a:lnTo>
                  <a:lnTo>
                    <a:pt x="3904" y="932"/>
                  </a:lnTo>
                  <a:lnTo>
                    <a:pt x="3874" y="922"/>
                  </a:lnTo>
                  <a:lnTo>
                    <a:pt x="3849" y="907"/>
                  </a:lnTo>
                  <a:lnTo>
                    <a:pt x="3819" y="892"/>
                  </a:lnTo>
                  <a:lnTo>
                    <a:pt x="3789" y="882"/>
                  </a:lnTo>
                  <a:lnTo>
                    <a:pt x="3758" y="872"/>
                  </a:lnTo>
                  <a:lnTo>
                    <a:pt x="3733" y="858"/>
                  </a:lnTo>
                  <a:lnTo>
                    <a:pt x="3698" y="843"/>
                  </a:lnTo>
                  <a:lnTo>
                    <a:pt x="3673" y="833"/>
                  </a:lnTo>
                  <a:lnTo>
                    <a:pt x="3638" y="823"/>
                  </a:lnTo>
                  <a:lnTo>
                    <a:pt x="3613" y="813"/>
                  </a:lnTo>
                  <a:lnTo>
                    <a:pt x="3583" y="803"/>
                  </a:lnTo>
                  <a:lnTo>
                    <a:pt x="3552" y="789"/>
                  </a:lnTo>
                  <a:lnTo>
                    <a:pt x="3522" y="779"/>
                  </a:lnTo>
                  <a:lnTo>
                    <a:pt x="3492" y="769"/>
                  </a:lnTo>
                  <a:lnTo>
                    <a:pt x="3457" y="759"/>
                  </a:lnTo>
                  <a:lnTo>
                    <a:pt x="3432" y="744"/>
                  </a:lnTo>
                  <a:lnTo>
                    <a:pt x="3397" y="734"/>
                  </a:lnTo>
                  <a:lnTo>
                    <a:pt x="3366" y="724"/>
                  </a:lnTo>
                  <a:lnTo>
                    <a:pt x="3336" y="715"/>
                  </a:lnTo>
                  <a:lnTo>
                    <a:pt x="3306" y="710"/>
                  </a:lnTo>
                  <a:lnTo>
                    <a:pt x="3276" y="695"/>
                  </a:lnTo>
                  <a:lnTo>
                    <a:pt x="3246" y="690"/>
                  </a:lnTo>
                  <a:lnTo>
                    <a:pt x="3216" y="680"/>
                  </a:lnTo>
                  <a:lnTo>
                    <a:pt x="3186" y="670"/>
                  </a:lnTo>
                  <a:lnTo>
                    <a:pt x="3150" y="660"/>
                  </a:lnTo>
                  <a:lnTo>
                    <a:pt x="3120" y="650"/>
                  </a:lnTo>
                  <a:lnTo>
                    <a:pt x="3090" y="641"/>
                  </a:lnTo>
                  <a:lnTo>
                    <a:pt x="3060" y="636"/>
                  </a:lnTo>
                  <a:lnTo>
                    <a:pt x="3030" y="626"/>
                  </a:lnTo>
                  <a:lnTo>
                    <a:pt x="3000" y="616"/>
                  </a:lnTo>
                  <a:lnTo>
                    <a:pt x="2964" y="606"/>
                  </a:lnTo>
                  <a:lnTo>
                    <a:pt x="2934" y="596"/>
                  </a:lnTo>
                  <a:lnTo>
                    <a:pt x="2904" y="586"/>
                  </a:lnTo>
                  <a:lnTo>
                    <a:pt x="2869" y="581"/>
                  </a:lnTo>
                  <a:lnTo>
                    <a:pt x="2839" y="572"/>
                  </a:lnTo>
                  <a:lnTo>
                    <a:pt x="2809" y="562"/>
                  </a:lnTo>
                  <a:lnTo>
                    <a:pt x="2778" y="552"/>
                  </a:lnTo>
                  <a:lnTo>
                    <a:pt x="2748" y="547"/>
                  </a:lnTo>
                  <a:lnTo>
                    <a:pt x="2713" y="537"/>
                  </a:lnTo>
                  <a:lnTo>
                    <a:pt x="2683" y="532"/>
                  </a:lnTo>
                  <a:lnTo>
                    <a:pt x="2653" y="522"/>
                  </a:lnTo>
                  <a:lnTo>
                    <a:pt x="2618" y="512"/>
                  </a:lnTo>
                  <a:lnTo>
                    <a:pt x="2588" y="503"/>
                  </a:lnTo>
                  <a:lnTo>
                    <a:pt x="2557" y="498"/>
                  </a:lnTo>
                  <a:lnTo>
                    <a:pt x="2522" y="488"/>
                  </a:lnTo>
                  <a:lnTo>
                    <a:pt x="2497" y="478"/>
                  </a:lnTo>
                  <a:lnTo>
                    <a:pt x="2462" y="468"/>
                  </a:lnTo>
                  <a:lnTo>
                    <a:pt x="2432" y="463"/>
                  </a:lnTo>
                  <a:lnTo>
                    <a:pt x="2402" y="453"/>
                  </a:lnTo>
                  <a:lnTo>
                    <a:pt x="2371" y="448"/>
                  </a:lnTo>
                  <a:lnTo>
                    <a:pt x="2341" y="438"/>
                  </a:lnTo>
                  <a:lnTo>
                    <a:pt x="2311" y="429"/>
                  </a:lnTo>
                  <a:lnTo>
                    <a:pt x="2281" y="419"/>
                  </a:lnTo>
                  <a:lnTo>
                    <a:pt x="2251" y="414"/>
                  </a:lnTo>
                  <a:lnTo>
                    <a:pt x="2216" y="404"/>
                  </a:lnTo>
                  <a:lnTo>
                    <a:pt x="2185" y="399"/>
                  </a:lnTo>
                  <a:lnTo>
                    <a:pt x="2155" y="389"/>
                  </a:lnTo>
                  <a:lnTo>
                    <a:pt x="2130" y="379"/>
                  </a:lnTo>
                  <a:lnTo>
                    <a:pt x="2095" y="369"/>
                  </a:lnTo>
                  <a:lnTo>
                    <a:pt x="2070" y="364"/>
                  </a:lnTo>
                  <a:lnTo>
                    <a:pt x="2045" y="355"/>
                  </a:lnTo>
                  <a:lnTo>
                    <a:pt x="2020" y="350"/>
                  </a:lnTo>
                  <a:lnTo>
                    <a:pt x="2000" y="340"/>
                  </a:lnTo>
                  <a:lnTo>
                    <a:pt x="1974" y="335"/>
                  </a:lnTo>
                  <a:lnTo>
                    <a:pt x="1949" y="325"/>
                  </a:lnTo>
                  <a:lnTo>
                    <a:pt x="1924" y="320"/>
                  </a:lnTo>
                  <a:lnTo>
                    <a:pt x="1899" y="310"/>
                  </a:lnTo>
                  <a:lnTo>
                    <a:pt x="1879" y="300"/>
                  </a:lnTo>
                  <a:lnTo>
                    <a:pt x="1849" y="290"/>
                  </a:lnTo>
                  <a:lnTo>
                    <a:pt x="1824" y="286"/>
                  </a:lnTo>
                  <a:lnTo>
                    <a:pt x="1799" y="271"/>
                  </a:lnTo>
                  <a:lnTo>
                    <a:pt x="1773" y="266"/>
                  </a:lnTo>
                  <a:lnTo>
                    <a:pt x="1748" y="256"/>
                  </a:lnTo>
                  <a:lnTo>
                    <a:pt x="1718" y="246"/>
                  </a:lnTo>
                  <a:lnTo>
                    <a:pt x="1693" y="236"/>
                  </a:lnTo>
                  <a:lnTo>
                    <a:pt x="1668" y="226"/>
                  </a:lnTo>
                  <a:lnTo>
                    <a:pt x="1643" y="217"/>
                  </a:lnTo>
                  <a:lnTo>
                    <a:pt x="1613" y="207"/>
                  </a:lnTo>
                  <a:lnTo>
                    <a:pt x="1582" y="197"/>
                  </a:lnTo>
                  <a:lnTo>
                    <a:pt x="1557" y="192"/>
                  </a:lnTo>
                  <a:lnTo>
                    <a:pt x="1527" y="177"/>
                  </a:lnTo>
                  <a:lnTo>
                    <a:pt x="1502" y="172"/>
                  </a:lnTo>
                  <a:lnTo>
                    <a:pt x="1472" y="162"/>
                  </a:lnTo>
                  <a:lnTo>
                    <a:pt x="1447" y="152"/>
                  </a:lnTo>
                  <a:lnTo>
                    <a:pt x="1417" y="143"/>
                  </a:lnTo>
                  <a:lnTo>
                    <a:pt x="1386" y="133"/>
                  </a:lnTo>
                  <a:lnTo>
                    <a:pt x="1361" y="123"/>
                  </a:lnTo>
                  <a:lnTo>
                    <a:pt x="1331" y="113"/>
                  </a:lnTo>
                  <a:lnTo>
                    <a:pt x="1301" y="108"/>
                  </a:lnTo>
                  <a:lnTo>
                    <a:pt x="1276" y="98"/>
                  </a:lnTo>
                  <a:lnTo>
                    <a:pt x="1246" y="88"/>
                  </a:lnTo>
                  <a:lnTo>
                    <a:pt x="1216" y="83"/>
                  </a:lnTo>
                  <a:lnTo>
                    <a:pt x="1185" y="74"/>
                  </a:lnTo>
                  <a:lnTo>
                    <a:pt x="1160" y="69"/>
                  </a:lnTo>
                  <a:lnTo>
                    <a:pt x="1130" y="59"/>
                  </a:lnTo>
                  <a:lnTo>
                    <a:pt x="1100" y="54"/>
                  </a:lnTo>
                  <a:lnTo>
                    <a:pt x="1070" y="44"/>
                  </a:lnTo>
                  <a:lnTo>
                    <a:pt x="1045" y="39"/>
                  </a:lnTo>
                  <a:lnTo>
                    <a:pt x="1015" y="34"/>
                  </a:lnTo>
                  <a:lnTo>
                    <a:pt x="984" y="29"/>
                  </a:lnTo>
                  <a:lnTo>
                    <a:pt x="959" y="24"/>
                  </a:lnTo>
                  <a:lnTo>
                    <a:pt x="929" y="19"/>
                  </a:lnTo>
                  <a:lnTo>
                    <a:pt x="899" y="14"/>
                  </a:lnTo>
                  <a:lnTo>
                    <a:pt x="869" y="14"/>
                  </a:lnTo>
                  <a:lnTo>
                    <a:pt x="844" y="9"/>
                  </a:lnTo>
                  <a:lnTo>
                    <a:pt x="814" y="4"/>
                  </a:lnTo>
                  <a:lnTo>
                    <a:pt x="788" y="4"/>
                  </a:lnTo>
                  <a:lnTo>
                    <a:pt x="763" y="4"/>
                  </a:lnTo>
                  <a:lnTo>
                    <a:pt x="733" y="0"/>
                  </a:lnTo>
                  <a:lnTo>
                    <a:pt x="708" y="0"/>
                  </a:lnTo>
                  <a:lnTo>
                    <a:pt x="678" y="0"/>
                  </a:lnTo>
                  <a:lnTo>
                    <a:pt x="653" y="0"/>
                  </a:lnTo>
                  <a:lnTo>
                    <a:pt x="623" y="0"/>
                  </a:lnTo>
                  <a:lnTo>
                    <a:pt x="598" y="4"/>
                  </a:lnTo>
                  <a:lnTo>
                    <a:pt x="572" y="4"/>
                  </a:lnTo>
                  <a:lnTo>
                    <a:pt x="547" y="9"/>
                  </a:lnTo>
                  <a:lnTo>
                    <a:pt x="517" y="14"/>
                  </a:lnTo>
                  <a:lnTo>
                    <a:pt x="497" y="19"/>
                  </a:lnTo>
                  <a:lnTo>
                    <a:pt x="467" y="24"/>
                  </a:lnTo>
                  <a:lnTo>
                    <a:pt x="447" y="29"/>
                  </a:lnTo>
                  <a:lnTo>
                    <a:pt x="417" y="34"/>
                  </a:lnTo>
                  <a:lnTo>
                    <a:pt x="397" y="44"/>
                  </a:lnTo>
                  <a:lnTo>
                    <a:pt x="371" y="54"/>
                  </a:lnTo>
                  <a:lnTo>
                    <a:pt x="351" y="64"/>
                  </a:lnTo>
                  <a:lnTo>
                    <a:pt x="331" y="69"/>
                  </a:lnTo>
                  <a:lnTo>
                    <a:pt x="311" y="78"/>
                  </a:lnTo>
                  <a:lnTo>
                    <a:pt x="296" y="88"/>
                  </a:lnTo>
                  <a:lnTo>
                    <a:pt x="281" y="98"/>
                  </a:lnTo>
                  <a:lnTo>
                    <a:pt x="266" y="113"/>
                  </a:lnTo>
                  <a:lnTo>
                    <a:pt x="251" y="123"/>
                  </a:lnTo>
                  <a:lnTo>
                    <a:pt x="236" y="133"/>
                  </a:lnTo>
                  <a:lnTo>
                    <a:pt x="226" y="152"/>
                  </a:lnTo>
                  <a:lnTo>
                    <a:pt x="211" y="162"/>
                  </a:lnTo>
                  <a:lnTo>
                    <a:pt x="195" y="182"/>
                  </a:lnTo>
                  <a:lnTo>
                    <a:pt x="185" y="197"/>
                  </a:lnTo>
                  <a:lnTo>
                    <a:pt x="175" y="212"/>
                  </a:lnTo>
                  <a:lnTo>
                    <a:pt x="165" y="231"/>
                  </a:lnTo>
                  <a:lnTo>
                    <a:pt x="155" y="246"/>
                  </a:lnTo>
                  <a:lnTo>
                    <a:pt x="145" y="266"/>
                  </a:lnTo>
                  <a:lnTo>
                    <a:pt x="140" y="286"/>
                  </a:lnTo>
                  <a:lnTo>
                    <a:pt x="130" y="305"/>
                  </a:lnTo>
                  <a:lnTo>
                    <a:pt x="125" y="325"/>
                  </a:lnTo>
                  <a:lnTo>
                    <a:pt x="115" y="345"/>
                  </a:lnTo>
                  <a:lnTo>
                    <a:pt x="110" y="369"/>
                  </a:lnTo>
                  <a:lnTo>
                    <a:pt x="100" y="389"/>
                  </a:lnTo>
                  <a:lnTo>
                    <a:pt x="95" y="409"/>
                  </a:lnTo>
                  <a:lnTo>
                    <a:pt x="90" y="434"/>
                  </a:lnTo>
                  <a:lnTo>
                    <a:pt x="90" y="453"/>
                  </a:lnTo>
                  <a:lnTo>
                    <a:pt x="80" y="473"/>
                  </a:lnTo>
                  <a:lnTo>
                    <a:pt x="75" y="498"/>
                  </a:lnTo>
                  <a:lnTo>
                    <a:pt x="75" y="522"/>
                  </a:lnTo>
                  <a:lnTo>
                    <a:pt x="70" y="547"/>
                  </a:lnTo>
                  <a:lnTo>
                    <a:pt x="65" y="567"/>
                  </a:lnTo>
                  <a:lnTo>
                    <a:pt x="65" y="596"/>
                  </a:lnTo>
                  <a:lnTo>
                    <a:pt x="65" y="616"/>
                  </a:lnTo>
                  <a:lnTo>
                    <a:pt x="65" y="646"/>
                  </a:lnTo>
                  <a:lnTo>
                    <a:pt x="60" y="665"/>
                  </a:lnTo>
                  <a:lnTo>
                    <a:pt x="60" y="690"/>
                  </a:lnTo>
                  <a:lnTo>
                    <a:pt x="55" y="715"/>
                  </a:lnTo>
                  <a:lnTo>
                    <a:pt x="55" y="739"/>
                  </a:lnTo>
                  <a:lnTo>
                    <a:pt x="55" y="764"/>
                  </a:lnTo>
                  <a:lnTo>
                    <a:pt x="55" y="789"/>
                  </a:lnTo>
                  <a:lnTo>
                    <a:pt x="55" y="808"/>
                  </a:lnTo>
                  <a:lnTo>
                    <a:pt x="55" y="838"/>
                  </a:lnTo>
                  <a:lnTo>
                    <a:pt x="55" y="858"/>
                  </a:lnTo>
                  <a:lnTo>
                    <a:pt x="55" y="882"/>
                  </a:lnTo>
                  <a:lnTo>
                    <a:pt x="55" y="907"/>
                  </a:lnTo>
                  <a:lnTo>
                    <a:pt x="60" y="932"/>
                  </a:lnTo>
                  <a:lnTo>
                    <a:pt x="60" y="951"/>
                  </a:lnTo>
                  <a:lnTo>
                    <a:pt x="60" y="976"/>
                  </a:lnTo>
                  <a:lnTo>
                    <a:pt x="60" y="1001"/>
                  </a:lnTo>
                  <a:lnTo>
                    <a:pt x="65" y="1025"/>
                  </a:lnTo>
                  <a:lnTo>
                    <a:pt x="65" y="1045"/>
                  </a:lnTo>
                  <a:lnTo>
                    <a:pt x="65" y="1065"/>
                  </a:lnTo>
                  <a:lnTo>
                    <a:pt x="65" y="1089"/>
                  </a:lnTo>
                  <a:lnTo>
                    <a:pt x="65" y="1109"/>
                  </a:lnTo>
                  <a:lnTo>
                    <a:pt x="65" y="1129"/>
                  </a:lnTo>
                  <a:lnTo>
                    <a:pt x="70" y="1154"/>
                  </a:lnTo>
                  <a:lnTo>
                    <a:pt x="70" y="1173"/>
                  </a:lnTo>
                  <a:lnTo>
                    <a:pt x="75" y="1193"/>
                  </a:lnTo>
                  <a:lnTo>
                    <a:pt x="75" y="1213"/>
                  </a:lnTo>
                  <a:lnTo>
                    <a:pt x="75" y="1227"/>
                  </a:lnTo>
                  <a:lnTo>
                    <a:pt x="75" y="1247"/>
                  </a:lnTo>
                  <a:lnTo>
                    <a:pt x="80" y="1262"/>
                  </a:lnTo>
                  <a:lnTo>
                    <a:pt x="80" y="1282"/>
                  </a:lnTo>
                  <a:lnTo>
                    <a:pt x="80" y="1297"/>
                  </a:lnTo>
                  <a:lnTo>
                    <a:pt x="80" y="1311"/>
                  </a:lnTo>
                  <a:lnTo>
                    <a:pt x="85" y="1326"/>
                  </a:lnTo>
                  <a:lnTo>
                    <a:pt x="85" y="1341"/>
                  </a:lnTo>
                  <a:lnTo>
                    <a:pt x="85" y="1361"/>
                  </a:lnTo>
                  <a:lnTo>
                    <a:pt x="85" y="1375"/>
                  </a:lnTo>
                  <a:lnTo>
                    <a:pt x="85" y="1390"/>
                  </a:lnTo>
                  <a:lnTo>
                    <a:pt x="85" y="1405"/>
                  </a:lnTo>
                  <a:lnTo>
                    <a:pt x="85" y="1425"/>
                  </a:lnTo>
                  <a:lnTo>
                    <a:pt x="85" y="1440"/>
                  </a:lnTo>
                  <a:lnTo>
                    <a:pt x="85" y="1454"/>
                  </a:lnTo>
                  <a:lnTo>
                    <a:pt x="85" y="1469"/>
                  </a:lnTo>
                  <a:lnTo>
                    <a:pt x="85" y="1489"/>
                  </a:lnTo>
                  <a:lnTo>
                    <a:pt x="85" y="1504"/>
                  </a:lnTo>
                  <a:lnTo>
                    <a:pt x="85" y="1518"/>
                  </a:lnTo>
                  <a:lnTo>
                    <a:pt x="85" y="1533"/>
                  </a:lnTo>
                  <a:lnTo>
                    <a:pt x="85" y="1548"/>
                  </a:lnTo>
                  <a:lnTo>
                    <a:pt x="85" y="1568"/>
                  </a:lnTo>
                  <a:lnTo>
                    <a:pt x="85" y="1583"/>
                  </a:lnTo>
                  <a:lnTo>
                    <a:pt x="85" y="1597"/>
                  </a:lnTo>
                  <a:lnTo>
                    <a:pt x="85" y="1612"/>
                  </a:lnTo>
                  <a:lnTo>
                    <a:pt x="85" y="1627"/>
                  </a:lnTo>
                  <a:lnTo>
                    <a:pt x="85" y="1647"/>
                  </a:lnTo>
                  <a:lnTo>
                    <a:pt x="80" y="1657"/>
                  </a:lnTo>
                  <a:lnTo>
                    <a:pt x="80" y="1676"/>
                  </a:lnTo>
                  <a:lnTo>
                    <a:pt x="80" y="1691"/>
                  </a:lnTo>
                  <a:lnTo>
                    <a:pt x="80" y="1706"/>
                  </a:lnTo>
                  <a:lnTo>
                    <a:pt x="80" y="1721"/>
                  </a:lnTo>
                  <a:lnTo>
                    <a:pt x="80" y="1735"/>
                  </a:lnTo>
                  <a:lnTo>
                    <a:pt x="80" y="1750"/>
                  </a:lnTo>
                  <a:lnTo>
                    <a:pt x="80" y="1770"/>
                  </a:lnTo>
                  <a:lnTo>
                    <a:pt x="75" y="1785"/>
                  </a:lnTo>
                  <a:lnTo>
                    <a:pt x="75" y="1800"/>
                  </a:lnTo>
                  <a:lnTo>
                    <a:pt x="75" y="1814"/>
                  </a:lnTo>
                  <a:lnTo>
                    <a:pt x="75" y="1834"/>
                  </a:lnTo>
                  <a:lnTo>
                    <a:pt x="75" y="1849"/>
                  </a:lnTo>
                  <a:lnTo>
                    <a:pt x="75" y="1864"/>
                  </a:lnTo>
                  <a:lnTo>
                    <a:pt x="70" y="1878"/>
                  </a:lnTo>
                  <a:lnTo>
                    <a:pt x="70" y="1893"/>
                  </a:lnTo>
                  <a:lnTo>
                    <a:pt x="70" y="1908"/>
                  </a:lnTo>
                  <a:lnTo>
                    <a:pt x="65" y="1923"/>
                  </a:lnTo>
                  <a:lnTo>
                    <a:pt x="65" y="1938"/>
                  </a:lnTo>
                  <a:lnTo>
                    <a:pt x="65" y="1957"/>
                  </a:lnTo>
                  <a:lnTo>
                    <a:pt x="65" y="1972"/>
                  </a:lnTo>
                  <a:lnTo>
                    <a:pt x="60" y="1987"/>
                  </a:lnTo>
                  <a:lnTo>
                    <a:pt x="60" y="2002"/>
                  </a:lnTo>
                  <a:lnTo>
                    <a:pt x="60" y="2017"/>
                  </a:lnTo>
                  <a:lnTo>
                    <a:pt x="60" y="2031"/>
                  </a:lnTo>
                  <a:lnTo>
                    <a:pt x="55" y="2046"/>
                  </a:lnTo>
                  <a:lnTo>
                    <a:pt x="55" y="2061"/>
                  </a:lnTo>
                  <a:lnTo>
                    <a:pt x="55" y="2081"/>
                  </a:lnTo>
                  <a:lnTo>
                    <a:pt x="50" y="2095"/>
                  </a:lnTo>
                  <a:lnTo>
                    <a:pt x="50" y="2110"/>
                  </a:lnTo>
                  <a:lnTo>
                    <a:pt x="45" y="2125"/>
                  </a:lnTo>
                  <a:lnTo>
                    <a:pt x="45" y="2140"/>
                  </a:lnTo>
                  <a:lnTo>
                    <a:pt x="40" y="2155"/>
                  </a:lnTo>
                  <a:lnTo>
                    <a:pt x="40" y="2169"/>
                  </a:lnTo>
                  <a:lnTo>
                    <a:pt x="40" y="2189"/>
                  </a:lnTo>
                  <a:lnTo>
                    <a:pt x="40" y="2204"/>
                  </a:lnTo>
                  <a:lnTo>
                    <a:pt x="35" y="2219"/>
                  </a:lnTo>
                  <a:lnTo>
                    <a:pt x="30" y="2234"/>
                  </a:lnTo>
                  <a:lnTo>
                    <a:pt x="30" y="2248"/>
                  </a:lnTo>
                  <a:lnTo>
                    <a:pt x="30" y="2268"/>
                  </a:lnTo>
                  <a:lnTo>
                    <a:pt x="25" y="2283"/>
                  </a:lnTo>
                  <a:lnTo>
                    <a:pt x="25" y="2298"/>
                  </a:lnTo>
                  <a:lnTo>
                    <a:pt x="20" y="2312"/>
                  </a:lnTo>
                  <a:lnTo>
                    <a:pt x="20" y="2332"/>
                  </a:lnTo>
                  <a:lnTo>
                    <a:pt x="15" y="2347"/>
                  </a:lnTo>
                  <a:lnTo>
                    <a:pt x="15" y="2362"/>
                  </a:lnTo>
                  <a:lnTo>
                    <a:pt x="10" y="2381"/>
                  </a:lnTo>
                  <a:lnTo>
                    <a:pt x="10" y="2401"/>
                  </a:lnTo>
                  <a:lnTo>
                    <a:pt x="5" y="2416"/>
                  </a:lnTo>
                  <a:lnTo>
                    <a:pt x="5" y="2436"/>
                  </a:lnTo>
                  <a:lnTo>
                    <a:pt x="0" y="2450"/>
                  </a:lnTo>
                  <a:lnTo>
                    <a:pt x="0" y="2470"/>
                  </a:lnTo>
                  <a:lnTo>
                    <a:pt x="0" y="2490"/>
                  </a:lnTo>
                  <a:lnTo>
                    <a:pt x="0" y="2505"/>
                  </a:lnTo>
                  <a:lnTo>
                    <a:pt x="0" y="2524"/>
                  </a:lnTo>
                  <a:lnTo>
                    <a:pt x="0" y="2539"/>
                  </a:lnTo>
                  <a:lnTo>
                    <a:pt x="0" y="2559"/>
                  </a:lnTo>
                  <a:lnTo>
                    <a:pt x="0" y="2574"/>
                  </a:lnTo>
                  <a:lnTo>
                    <a:pt x="0" y="2594"/>
                  </a:lnTo>
                  <a:lnTo>
                    <a:pt x="0" y="2613"/>
                  </a:lnTo>
                  <a:lnTo>
                    <a:pt x="0" y="2628"/>
                  </a:lnTo>
                  <a:lnTo>
                    <a:pt x="0" y="2643"/>
                  </a:lnTo>
                  <a:lnTo>
                    <a:pt x="5" y="2663"/>
                  </a:lnTo>
                  <a:lnTo>
                    <a:pt x="10" y="2677"/>
                  </a:lnTo>
                  <a:lnTo>
                    <a:pt x="10" y="2697"/>
                  </a:lnTo>
                  <a:lnTo>
                    <a:pt x="15" y="2717"/>
                  </a:lnTo>
                  <a:lnTo>
                    <a:pt x="20" y="2732"/>
                  </a:lnTo>
                  <a:lnTo>
                    <a:pt x="25" y="2751"/>
                  </a:lnTo>
                  <a:lnTo>
                    <a:pt x="30" y="2766"/>
                  </a:lnTo>
                  <a:lnTo>
                    <a:pt x="35" y="2781"/>
                  </a:lnTo>
                  <a:lnTo>
                    <a:pt x="40" y="2801"/>
                  </a:lnTo>
                  <a:lnTo>
                    <a:pt x="45" y="2815"/>
                  </a:lnTo>
                  <a:lnTo>
                    <a:pt x="50" y="2830"/>
                  </a:lnTo>
                  <a:lnTo>
                    <a:pt x="60" y="2850"/>
                  </a:lnTo>
                  <a:lnTo>
                    <a:pt x="70" y="2865"/>
                  </a:lnTo>
                  <a:lnTo>
                    <a:pt x="80" y="2880"/>
                  </a:lnTo>
                  <a:lnTo>
                    <a:pt x="85" y="2889"/>
                  </a:lnTo>
                  <a:lnTo>
                    <a:pt x="95" y="2899"/>
                  </a:lnTo>
                  <a:lnTo>
                    <a:pt x="105" y="2899"/>
                  </a:lnTo>
                  <a:lnTo>
                    <a:pt x="115" y="2904"/>
                  </a:lnTo>
                  <a:lnTo>
                    <a:pt x="125" y="2904"/>
                  </a:lnTo>
                  <a:lnTo>
                    <a:pt x="140" y="2904"/>
                  </a:lnTo>
                  <a:lnTo>
                    <a:pt x="150" y="2904"/>
                  </a:lnTo>
                  <a:lnTo>
                    <a:pt x="160" y="2904"/>
                  </a:lnTo>
                  <a:lnTo>
                    <a:pt x="180" y="2889"/>
                  </a:lnTo>
                  <a:lnTo>
                    <a:pt x="190" y="2875"/>
                  </a:lnTo>
                  <a:lnTo>
                    <a:pt x="195" y="2865"/>
                  </a:lnTo>
                  <a:lnTo>
                    <a:pt x="201" y="2855"/>
                  </a:lnTo>
                  <a:lnTo>
                    <a:pt x="195" y="2845"/>
                  </a:lnTo>
                  <a:lnTo>
                    <a:pt x="195" y="2835"/>
                  </a:lnTo>
                  <a:lnTo>
                    <a:pt x="190" y="2815"/>
                  </a:lnTo>
                  <a:lnTo>
                    <a:pt x="180" y="2796"/>
                  </a:lnTo>
                  <a:lnTo>
                    <a:pt x="175" y="2776"/>
                  </a:lnTo>
                  <a:lnTo>
                    <a:pt x="170" y="2761"/>
                  </a:lnTo>
                  <a:lnTo>
                    <a:pt x="165" y="2741"/>
                  </a:lnTo>
                  <a:lnTo>
                    <a:pt x="160" y="2727"/>
                  </a:lnTo>
                  <a:lnTo>
                    <a:pt x="155" y="2707"/>
                  </a:lnTo>
                  <a:lnTo>
                    <a:pt x="150" y="2687"/>
                  </a:lnTo>
                  <a:lnTo>
                    <a:pt x="145" y="2667"/>
                  </a:lnTo>
                  <a:lnTo>
                    <a:pt x="145" y="2653"/>
                  </a:lnTo>
                  <a:lnTo>
                    <a:pt x="140" y="2628"/>
                  </a:lnTo>
                  <a:lnTo>
                    <a:pt x="140" y="2613"/>
                  </a:lnTo>
                  <a:lnTo>
                    <a:pt x="140" y="2594"/>
                  </a:lnTo>
                  <a:lnTo>
                    <a:pt x="135" y="2574"/>
                  </a:lnTo>
                  <a:lnTo>
                    <a:pt x="135" y="2554"/>
                  </a:lnTo>
                  <a:lnTo>
                    <a:pt x="135" y="2539"/>
                  </a:lnTo>
                  <a:lnTo>
                    <a:pt x="135" y="2515"/>
                  </a:lnTo>
                  <a:lnTo>
                    <a:pt x="130" y="2495"/>
                  </a:lnTo>
                  <a:lnTo>
                    <a:pt x="130" y="2475"/>
                  </a:lnTo>
                  <a:lnTo>
                    <a:pt x="130" y="2455"/>
                  </a:lnTo>
                  <a:lnTo>
                    <a:pt x="130" y="2436"/>
                  </a:lnTo>
                  <a:lnTo>
                    <a:pt x="135" y="2416"/>
                  </a:lnTo>
                  <a:lnTo>
                    <a:pt x="135" y="2396"/>
                  </a:lnTo>
                  <a:lnTo>
                    <a:pt x="135" y="2377"/>
                  </a:lnTo>
                  <a:lnTo>
                    <a:pt x="135" y="2352"/>
                  </a:lnTo>
                  <a:lnTo>
                    <a:pt x="140" y="2332"/>
                  </a:lnTo>
                  <a:lnTo>
                    <a:pt x="140" y="2312"/>
                  </a:lnTo>
                  <a:lnTo>
                    <a:pt x="145" y="2293"/>
                  </a:lnTo>
                  <a:lnTo>
                    <a:pt x="145" y="2273"/>
                  </a:lnTo>
                  <a:lnTo>
                    <a:pt x="150" y="2253"/>
                  </a:lnTo>
                  <a:lnTo>
                    <a:pt x="150" y="2234"/>
                  </a:lnTo>
                  <a:lnTo>
                    <a:pt x="155" y="2214"/>
                  </a:lnTo>
                  <a:lnTo>
                    <a:pt x="155" y="2189"/>
                  </a:lnTo>
                  <a:lnTo>
                    <a:pt x="160" y="2169"/>
                  </a:lnTo>
                  <a:lnTo>
                    <a:pt x="160" y="2145"/>
                  </a:lnTo>
                  <a:lnTo>
                    <a:pt x="165" y="2125"/>
                  </a:lnTo>
                  <a:lnTo>
                    <a:pt x="165" y="2105"/>
                  </a:lnTo>
                  <a:lnTo>
                    <a:pt x="170" y="2086"/>
                  </a:lnTo>
                  <a:lnTo>
                    <a:pt x="170" y="2061"/>
                  </a:lnTo>
                  <a:lnTo>
                    <a:pt x="175" y="2041"/>
                  </a:lnTo>
                  <a:lnTo>
                    <a:pt x="180" y="2021"/>
                  </a:lnTo>
                  <a:lnTo>
                    <a:pt x="180" y="1997"/>
                  </a:lnTo>
                  <a:lnTo>
                    <a:pt x="185" y="1977"/>
                  </a:lnTo>
                  <a:lnTo>
                    <a:pt x="190" y="1957"/>
                  </a:lnTo>
                  <a:lnTo>
                    <a:pt x="190" y="1938"/>
                  </a:lnTo>
                  <a:lnTo>
                    <a:pt x="195" y="1918"/>
                  </a:lnTo>
                  <a:lnTo>
                    <a:pt x="195" y="1898"/>
                  </a:lnTo>
                  <a:lnTo>
                    <a:pt x="201" y="1878"/>
                  </a:lnTo>
                  <a:lnTo>
                    <a:pt x="201" y="1859"/>
                  </a:lnTo>
                  <a:lnTo>
                    <a:pt x="206" y="1834"/>
                  </a:lnTo>
                  <a:lnTo>
                    <a:pt x="206" y="1814"/>
                  </a:lnTo>
                  <a:lnTo>
                    <a:pt x="211" y="1795"/>
                  </a:lnTo>
                  <a:lnTo>
                    <a:pt x="211" y="1775"/>
                  </a:lnTo>
                  <a:lnTo>
                    <a:pt x="216" y="1760"/>
                  </a:lnTo>
                  <a:lnTo>
                    <a:pt x="216" y="1735"/>
                  </a:lnTo>
                  <a:lnTo>
                    <a:pt x="221" y="1721"/>
                  </a:lnTo>
                  <a:lnTo>
                    <a:pt x="221" y="1701"/>
                  </a:lnTo>
                  <a:lnTo>
                    <a:pt x="221" y="1681"/>
                  </a:lnTo>
                  <a:lnTo>
                    <a:pt x="221" y="1661"/>
                  </a:lnTo>
                  <a:lnTo>
                    <a:pt x="226" y="1642"/>
                  </a:lnTo>
                  <a:lnTo>
                    <a:pt x="226" y="1622"/>
                  </a:lnTo>
                  <a:lnTo>
                    <a:pt x="226" y="1602"/>
                  </a:lnTo>
                  <a:lnTo>
                    <a:pt x="226" y="1587"/>
                  </a:lnTo>
                  <a:lnTo>
                    <a:pt x="226" y="1568"/>
                  </a:lnTo>
                  <a:lnTo>
                    <a:pt x="226" y="1558"/>
                  </a:lnTo>
                  <a:lnTo>
                    <a:pt x="226" y="1543"/>
                  </a:lnTo>
                  <a:lnTo>
                    <a:pt x="226" y="1533"/>
                  </a:lnTo>
                  <a:lnTo>
                    <a:pt x="226" y="1523"/>
                  </a:lnTo>
                  <a:lnTo>
                    <a:pt x="226" y="1509"/>
                  </a:lnTo>
                  <a:lnTo>
                    <a:pt x="226" y="1499"/>
                  </a:lnTo>
                  <a:lnTo>
                    <a:pt x="226" y="1489"/>
                  </a:lnTo>
                  <a:lnTo>
                    <a:pt x="226" y="1479"/>
                  </a:lnTo>
                  <a:lnTo>
                    <a:pt x="221" y="1464"/>
                  </a:lnTo>
                  <a:lnTo>
                    <a:pt x="221" y="1454"/>
                  </a:lnTo>
                  <a:lnTo>
                    <a:pt x="221" y="1444"/>
                  </a:lnTo>
                  <a:lnTo>
                    <a:pt x="221" y="1430"/>
                  </a:lnTo>
                  <a:lnTo>
                    <a:pt x="221" y="1420"/>
                  </a:lnTo>
                  <a:lnTo>
                    <a:pt x="221" y="1410"/>
                  </a:lnTo>
                  <a:lnTo>
                    <a:pt x="221" y="1400"/>
                  </a:lnTo>
                  <a:lnTo>
                    <a:pt x="221" y="1390"/>
                  </a:lnTo>
                  <a:lnTo>
                    <a:pt x="216" y="1375"/>
                  </a:lnTo>
                  <a:lnTo>
                    <a:pt x="216" y="1366"/>
                  </a:lnTo>
                  <a:lnTo>
                    <a:pt x="216" y="1356"/>
                  </a:lnTo>
                  <a:lnTo>
                    <a:pt x="216" y="1341"/>
                  </a:lnTo>
                  <a:lnTo>
                    <a:pt x="216" y="1331"/>
                  </a:lnTo>
                  <a:lnTo>
                    <a:pt x="216" y="1316"/>
                  </a:lnTo>
                  <a:lnTo>
                    <a:pt x="216" y="1306"/>
                  </a:lnTo>
                  <a:lnTo>
                    <a:pt x="216" y="1297"/>
                  </a:lnTo>
                  <a:lnTo>
                    <a:pt x="216" y="1282"/>
                  </a:lnTo>
                  <a:lnTo>
                    <a:pt x="216" y="1272"/>
                  </a:lnTo>
                  <a:lnTo>
                    <a:pt x="211" y="1262"/>
                  </a:lnTo>
                  <a:lnTo>
                    <a:pt x="211" y="1252"/>
                  </a:lnTo>
                  <a:lnTo>
                    <a:pt x="211" y="1242"/>
                  </a:lnTo>
                  <a:lnTo>
                    <a:pt x="211" y="1227"/>
                  </a:lnTo>
                  <a:lnTo>
                    <a:pt x="211" y="1218"/>
                  </a:lnTo>
                  <a:lnTo>
                    <a:pt x="211" y="1208"/>
                  </a:lnTo>
                  <a:lnTo>
                    <a:pt x="211" y="1193"/>
                  </a:lnTo>
                  <a:lnTo>
                    <a:pt x="211" y="1183"/>
                  </a:lnTo>
                  <a:lnTo>
                    <a:pt x="211" y="1173"/>
                  </a:lnTo>
                  <a:lnTo>
                    <a:pt x="211" y="1163"/>
                  </a:lnTo>
                  <a:lnTo>
                    <a:pt x="206" y="1149"/>
                  </a:lnTo>
                  <a:lnTo>
                    <a:pt x="206" y="1139"/>
                  </a:lnTo>
                  <a:lnTo>
                    <a:pt x="206" y="1129"/>
                  </a:lnTo>
                  <a:lnTo>
                    <a:pt x="206" y="1114"/>
                  </a:lnTo>
                  <a:lnTo>
                    <a:pt x="206" y="1104"/>
                  </a:lnTo>
                  <a:lnTo>
                    <a:pt x="206" y="1089"/>
                  </a:lnTo>
                  <a:lnTo>
                    <a:pt x="206" y="1080"/>
                  </a:lnTo>
                  <a:lnTo>
                    <a:pt x="206" y="1070"/>
                  </a:lnTo>
                  <a:lnTo>
                    <a:pt x="206" y="1060"/>
                  </a:lnTo>
                  <a:lnTo>
                    <a:pt x="206" y="1050"/>
                  </a:lnTo>
                  <a:lnTo>
                    <a:pt x="206" y="1035"/>
                  </a:lnTo>
                  <a:lnTo>
                    <a:pt x="206" y="1025"/>
                  </a:lnTo>
                  <a:lnTo>
                    <a:pt x="201" y="1015"/>
                  </a:lnTo>
                  <a:lnTo>
                    <a:pt x="201" y="1001"/>
                  </a:lnTo>
                  <a:lnTo>
                    <a:pt x="201" y="991"/>
                  </a:lnTo>
                  <a:lnTo>
                    <a:pt x="201" y="981"/>
                  </a:lnTo>
                  <a:lnTo>
                    <a:pt x="201" y="966"/>
                  </a:lnTo>
                  <a:lnTo>
                    <a:pt x="201" y="956"/>
                  </a:lnTo>
                  <a:lnTo>
                    <a:pt x="201" y="946"/>
                  </a:lnTo>
                  <a:lnTo>
                    <a:pt x="201" y="937"/>
                  </a:lnTo>
                  <a:lnTo>
                    <a:pt x="201" y="922"/>
                  </a:lnTo>
                  <a:lnTo>
                    <a:pt x="201" y="912"/>
                  </a:lnTo>
                  <a:lnTo>
                    <a:pt x="201" y="902"/>
                  </a:lnTo>
                  <a:lnTo>
                    <a:pt x="201" y="887"/>
                  </a:lnTo>
                  <a:lnTo>
                    <a:pt x="201" y="877"/>
                  </a:lnTo>
                  <a:lnTo>
                    <a:pt x="201" y="867"/>
                  </a:lnTo>
                  <a:lnTo>
                    <a:pt x="201" y="858"/>
                  </a:lnTo>
                  <a:lnTo>
                    <a:pt x="201" y="843"/>
                  </a:lnTo>
                  <a:lnTo>
                    <a:pt x="201" y="828"/>
                  </a:lnTo>
                  <a:lnTo>
                    <a:pt x="201" y="808"/>
                  </a:lnTo>
                  <a:lnTo>
                    <a:pt x="201" y="789"/>
                  </a:lnTo>
                  <a:lnTo>
                    <a:pt x="201" y="774"/>
                  </a:lnTo>
                  <a:lnTo>
                    <a:pt x="201" y="754"/>
                  </a:lnTo>
                  <a:lnTo>
                    <a:pt x="201" y="739"/>
                  </a:lnTo>
                  <a:lnTo>
                    <a:pt x="201" y="724"/>
                  </a:lnTo>
                  <a:lnTo>
                    <a:pt x="206" y="705"/>
                  </a:lnTo>
                  <a:lnTo>
                    <a:pt x="206" y="690"/>
                  </a:lnTo>
                  <a:lnTo>
                    <a:pt x="206" y="675"/>
                  </a:lnTo>
                  <a:lnTo>
                    <a:pt x="206" y="655"/>
                  </a:lnTo>
                  <a:lnTo>
                    <a:pt x="211" y="641"/>
                  </a:lnTo>
                  <a:lnTo>
                    <a:pt x="211" y="626"/>
                  </a:lnTo>
                  <a:lnTo>
                    <a:pt x="211" y="606"/>
                  </a:lnTo>
                  <a:lnTo>
                    <a:pt x="211" y="591"/>
                  </a:lnTo>
                  <a:lnTo>
                    <a:pt x="216" y="577"/>
                  </a:lnTo>
                  <a:lnTo>
                    <a:pt x="216" y="562"/>
                  </a:lnTo>
                  <a:lnTo>
                    <a:pt x="221" y="542"/>
                  </a:lnTo>
                  <a:lnTo>
                    <a:pt x="221" y="527"/>
                  </a:lnTo>
                  <a:lnTo>
                    <a:pt x="226" y="512"/>
                  </a:lnTo>
                  <a:lnTo>
                    <a:pt x="226" y="498"/>
                  </a:lnTo>
                  <a:lnTo>
                    <a:pt x="231" y="483"/>
                  </a:lnTo>
                  <a:lnTo>
                    <a:pt x="231" y="468"/>
                  </a:lnTo>
                  <a:lnTo>
                    <a:pt x="241" y="458"/>
                  </a:lnTo>
                  <a:lnTo>
                    <a:pt x="241" y="443"/>
                  </a:lnTo>
                  <a:lnTo>
                    <a:pt x="246" y="429"/>
                  </a:lnTo>
                  <a:lnTo>
                    <a:pt x="251" y="414"/>
                  </a:lnTo>
                  <a:lnTo>
                    <a:pt x="256" y="404"/>
                  </a:lnTo>
                  <a:lnTo>
                    <a:pt x="261" y="389"/>
                  </a:lnTo>
                  <a:lnTo>
                    <a:pt x="266" y="374"/>
                  </a:lnTo>
                  <a:lnTo>
                    <a:pt x="276" y="364"/>
                  </a:lnTo>
                  <a:lnTo>
                    <a:pt x="281" y="355"/>
                  </a:lnTo>
                  <a:lnTo>
                    <a:pt x="286" y="340"/>
                  </a:lnTo>
                  <a:lnTo>
                    <a:pt x="291" y="330"/>
                  </a:lnTo>
                  <a:lnTo>
                    <a:pt x="301" y="320"/>
                  </a:lnTo>
                  <a:lnTo>
                    <a:pt x="311" y="305"/>
                  </a:lnTo>
                  <a:lnTo>
                    <a:pt x="316" y="295"/>
                  </a:lnTo>
                  <a:lnTo>
                    <a:pt x="326" y="286"/>
                  </a:lnTo>
                  <a:lnTo>
                    <a:pt x="331" y="276"/>
                  </a:lnTo>
                  <a:lnTo>
                    <a:pt x="341" y="271"/>
                  </a:lnTo>
                  <a:lnTo>
                    <a:pt x="351" y="256"/>
                  </a:lnTo>
                  <a:lnTo>
                    <a:pt x="361" y="246"/>
                  </a:lnTo>
                  <a:lnTo>
                    <a:pt x="371" y="241"/>
                  </a:lnTo>
                  <a:lnTo>
                    <a:pt x="381" y="231"/>
                  </a:lnTo>
                  <a:lnTo>
                    <a:pt x="391" y="221"/>
                  </a:lnTo>
                  <a:lnTo>
                    <a:pt x="407" y="217"/>
                  </a:lnTo>
                  <a:lnTo>
                    <a:pt x="417" y="212"/>
                  </a:lnTo>
                  <a:lnTo>
                    <a:pt x="432" y="207"/>
                  </a:lnTo>
                  <a:lnTo>
                    <a:pt x="442" y="197"/>
                  </a:lnTo>
                  <a:lnTo>
                    <a:pt x="457" y="192"/>
                  </a:lnTo>
                  <a:lnTo>
                    <a:pt x="467" y="187"/>
                  </a:lnTo>
                  <a:lnTo>
                    <a:pt x="482" y="182"/>
                  </a:lnTo>
                  <a:lnTo>
                    <a:pt x="497" y="177"/>
                  </a:lnTo>
                  <a:lnTo>
                    <a:pt x="512" y="172"/>
                  </a:lnTo>
                  <a:lnTo>
                    <a:pt x="532" y="172"/>
                  </a:lnTo>
                  <a:lnTo>
                    <a:pt x="547" y="167"/>
                  </a:lnTo>
                  <a:lnTo>
                    <a:pt x="567" y="162"/>
                  </a:lnTo>
                  <a:lnTo>
                    <a:pt x="582" y="162"/>
                  </a:lnTo>
                  <a:lnTo>
                    <a:pt x="603" y="162"/>
                  </a:lnTo>
                  <a:lnTo>
                    <a:pt x="618" y="162"/>
                  </a:lnTo>
                  <a:lnTo>
                    <a:pt x="638" y="162"/>
                  </a:lnTo>
                  <a:lnTo>
                    <a:pt x="658" y="162"/>
                  </a:lnTo>
                  <a:lnTo>
                    <a:pt x="683" y="162"/>
                  </a:lnTo>
                  <a:lnTo>
                    <a:pt x="703" y="162"/>
                  </a:lnTo>
                  <a:lnTo>
                    <a:pt x="728" y="162"/>
                  </a:lnTo>
                  <a:lnTo>
                    <a:pt x="753" y="167"/>
                  </a:lnTo>
                  <a:lnTo>
                    <a:pt x="778" y="167"/>
                  </a:lnTo>
                  <a:lnTo>
                    <a:pt x="804" y="172"/>
                  </a:lnTo>
                  <a:lnTo>
                    <a:pt x="824" y="172"/>
                  </a:lnTo>
                  <a:lnTo>
                    <a:pt x="849" y="177"/>
                  </a:lnTo>
                  <a:lnTo>
                    <a:pt x="874" y="182"/>
                  </a:lnTo>
                  <a:lnTo>
                    <a:pt x="899" y="187"/>
                  </a:lnTo>
                  <a:lnTo>
                    <a:pt x="924" y="187"/>
                  </a:lnTo>
                  <a:lnTo>
                    <a:pt x="949" y="192"/>
                  </a:lnTo>
                  <a:lnTo>
                    <a:pt x="974" y="197"/>
                  </a:lnTo>
                  <a:lnTo>
                    <a:pt x="1000" y="202"/>
                  </a:lnTo>
                  <a:lnTo>
                    <a:pt x="1025" y="207"/>
                  </a:lnTo>
                  <a:lnTo>
                    <a:pt x="1050" y="212"/>
                  </a:lnTo>
                  <a:lnTo>
                    <a:pt x="1075" y="217"/>
                  </a:lnTo>
                  <a:lnTo>
                    <a:pt x="1100" y="221"/>
                  </a:lnTo>
                  <a:lnTo>
                    <a:pt x="1125" y="226"/>
                  </a:lnTo>
                  <a:lnTo>
                    <a:pt x="1150" y="236"/>
                  </a:lnTo>
                  <a:lnTo>
                    <a:pt x="1170" y="241"/>
                  </a:lnTo>
                  <a:lnTo>
                    <a:pt x="1196" y="246"/>
                  </a:lnTo>
                  <a:lnTo>
                    <a:pt x="1221" y="251"/>
                  </a:lnTo>
                  <a:lnTo>
                    <a:pt x="1246" y="256"/>
                  </a:lnTo>
                  <a:lnTo>
                    <a:pt x="1271" y="261"/>
                  </a:lnTo>
                  <a:lnTo>
                    <a:pt x="1296" y="271"/>
                  </a:lnTo>
                  <a:lnTo>
                    <a:pt x="1316" y="276"/>
                  </a:lnTo>
                  <a:lnTo>
                    <a:pt x="1346" y="286"/>
                  </a:lnTo>
                  <a:lnTo>
                    <a:pt x="1366" y="290"/>
                  </a:lnTo>
                  <a:lnTo>
                    <a:pt x="1397" y="295"/>
                  </a:lnTo>
                  <a:lnTo>
                    <a:pt x="1417" y="305"/>
                  </a:lnTo>
                  <a:lnTo>
                    <a:pt x="1442" y="310"/>
                  </a:lnTo>
                  <a:lnTo>
                    <a:pt x="1467" y="320"/>
                  </a:lnTo>
                  <a:lnTo>
                    <a:pt x="1492" y="330"/>
                  </a:lnTo>
                  <a:lnTo>
                    <a:pt x="1517" y="335"/>
                  </a:lnTo>
                  <a:lnTo>
                    <a:pt x="1542" y="340"/>
                  </a:lnTo>
                  <a:lnTo>
                    <a:pt x="1562" y="350"/>
                  </a:lnTo>
                  <a:lnTo>
                    <a:pt x="1593" y="355"/>
                  </a:lnTo>
                  <a:lnTo>
                    <a:pt x="1613" y="364"/>
                  </a:lnTo>
                  <a:lnTo>
                    <a:pt x="1638" y="374"/>
                  </a:lnTo>
                  <a:lnTo>
                    <a:pt x="1663" y="379"/>
                  </a:lnTo>
                  <a:lnTo>
                    <a:pt x="1688" y="389"/>
                  </a:lnTo>
                  <a:lnTo>
                    <a:pt x="1708" y="394"/>
                  </a:lnTo>
                  <a:lnTo>
                    <a:pt x="1733" y="404"/>
                  </a:lnTo>
                  <a:lnTo>
                    <a:pt x="1758" y="409"/>
                  </a:lnTo>
                  <a:lnTo>
                    <a:pt x="1783" y="419"/>
                  </a:lnTo>
                  <a:lnTo>
                    <a:pt x="1804" y="429"/>
                  </a:lnTo>
                  <a:lnTo>
                    <a:pt x="1829" y="438"/>
                  </a:lnTo>
                  <a:lnTo>
                    <a:pt x="1854" y="443"/>
                  </a:lnTo>
                  <a:lnTo>
                    <a:pt x="1879" y="453"/>
                  </a:lnTo>
                  <a:lnTo>
                    <a:pt x="1904" y="458"/>
                  </a:lnTo>
                  <a:lnTo>
                    <a:pt x="1929" y="468"/>
                  </a:lnTo>
                  <a:lnTo>
                    <a:pt x="1949" y="473"/>
                  </a:lnTo>
                  <a:lnTo>
                    <a:pt x="1979" y="483"/>
                  </a:lnTo>
                  <a:lnTo>
                    <a:pt x="2000" y="488"/>
                  </a:lnTo>
                  <a:lnTo>
                    <a:pt x="2025" y="498"/>
                  </a:lnTo>
                  <a:lnTo>
                    <a:pt x="2050" y="507"/>
                  </a:lnTo>
                  <a:lnTo>
                    <a:pt x="2075" y="517"/>
                  </a:lnTo>
                  <a:lnTo>
                    <a:pt x="2095" y="522"/>
                  </a:lnTo>
                  <a:lnTo>
                    <a:pt x="2120" y="532"/>
                  </a:lnTo>
                  <a:lnTo>
                    <a:pt x="2145" y="537"/>
                  </a:lnTo>
                  <a:lnTo>
                    <a:pt x="2170" y="547"/>
                  </a:lnTo>
                  <a:lnTo>
                    <a:pt x="2196" y="552"/>
                  </a:lnTo>
                  <a:lnTo>
                    <a:pt x="2221" y="562"/>
                  </a:lnTo>
                  <a:lnTo>
                    <a:pt x="2246" y="567"/>
                  </a:lnTo>
                  <a:lnTo>
                    <a:pt x="2271" y="577"/>
                  </a:lnTo>
                  <a:lnTo>
                    <a:pt x="2296" y="581"/>
                  </a:lnTo>
                  <a:lnTo>
                    <a:pt x="2321" y="591"/>
                  </a:lnTo>
                  <a:lnTo>
                    <a:pt x="2346" y="596"/>
                  </a:lnTo>
                  <a:lnTo>
                    <a:pt x="2371" y="606"/>
                  </a:lnTo>
                  <a:lnTo>
                    <a:pt x="2402" y="611"/>
                  </a:lnTo>
                  <a:lnTo>
                    <a:pt x="2427" y="621"/>
                  </a:lnTo>
                  <a:lnTo>
                    <a:pt x="2452" y="626"/>
                  </a:lnTo>
                  <a:lnTo>
                    <a:pt x="2482" y="636"/>
                  </a:lnTo>
                  <a:lnTo>
                    <a:pt x="2507" y="646"/>
                  </a:lnTo>
                  <a:lnTo>
                    <a:pt x="2532" y="650"/>
                  </a:lnTo>
                  <a:lnTo>
                    <a:pt x="2562" y="660"/>
                  </a:lnTo>
                  <a:lnTo>
                    <a:pt x="2588" y="665"/>
                  </a:lnTo>
                  <a:lnTo>
                    <a:pt x="2613" y="675"/>
                  </a:lnTo>
                  <a:lnTo>
                    <a:pt x="2638" y="685"/>
                  </a:lnTo>
                  <a:lnTo>
                    <a:pt x="2668" y="690"/>
                  </a:lnTo>
                  <a:lnTo>
                    <a:pt x="2698" y="700"/>
                  </a:lnTo>
                  <a:lnTo>
                    <a:pt x="2723" y="705"/>
                  </a:lnTo>
                  <a:lnTo>
                    <a:pt x="2748" y="715"/>
                  </a:lnTo>
                  <a:lnTo>
                    <a:pt x="2773" y="724"/>
                  </a:lnTo>
                  <a:lnTo>
                    <a:pt x="2804" y="729"/>
                  </a:lnTo>
                  <a:lnTo>
                    <a:pt x="2829" y="739"/>
                  </a:lnTo>
                  <a:lnTo>
                    <a:pt x="2854" y="744"/>
                  </a:lnTo>
                  <a:lnTo>
                    <a:pt x="2884" y="754"/>
                  </a:lnTo>
                  <a:lnTo>
                    <a:pt x="2914" y="764"/>
                  </a:lnTo>
                  <a:lnTo>
                    <a:pt x="2939" y="769"/>
                  </a:lnTo>
                  <a:lnTo>
                    <a:pt x="2964" y="779"/>
                  </a:lnTo>
                  <a:lnTo>
                    <a:pt x="2990" y="784"/>
                  </a:lnTo>
                  <a:lnTo>
                    <a:pt x="3020" y="794"/>
                  </a:lnTo>
                  <a:lnTo>
                    <a:pt x="3045" y="798"/>
                  </a:lnTo>
                  <a:lnTo>
                    <a:pt x="3075" y="808"/>
                  </a:lnTo>
                  <a:lnTo>
                    <a:pt x="3100" y="813"/>
                  </a:lnTo>
                  <a:lnTo>
                    <a:pt x="3130" y="823"/>
                  </a:lnTo>
                  <a:lnTo>
                    <a:pt x="3155" y="828"/>
                  </a:lnTo>
                  <a:lnTo>
                    <a:pt x="3181" y="838"/>
                  </a:lnTo>
                  <a:lnTo>
                    <a:pt x="3206" y="843"/>
                  </a:lnTo>
                  <a:lnTo>
                    <a:pt x="3236" y="853"/>
                  </a:lnTo>
                  <a:lnTo>
                    <a:pt x="3261" y="858"/>
                  </a:lnTo>
                  <a:lnTo>
                    <a:pt x="3291" y="867"/>
                  </a:lnTo>
                  <a:lnTo>
                    <a:pt x="3316" y="872"/>
                  </a:lnTo>
                  <a:lnTo>
                    <a:pt x="3346" y="882"/>
                  </a:lnTo>
                  <a:lnTo>
                    <a:pt x="3371" y="887"/>
                  </a:lnTo>
                  <a:lnTo>
                    <a:pt x="3402" y="897"/>
                  </a:lnTo>
                  <a:lnTo>
                    <a:pt x="3427" y="902"/>
                  </a:lnTo>
                  <a:lnTo>
                    <a:pt x="3452" y="912"/>
                  </a:lnTo>
                  <a:lnTo>
                    <a:pt x="3482" y="917"/>
                  </a:lnTo>
                  <a:lnTo>
                    <a:pt x="3507" y="922"/>
                  </a:lnTo>
                  <a:lnTo>
                    <a:pt x="3537" y="932"/>
                  </a:lnTo>
                  <a:lnTo>
                    <a:pt x="3562" y="937"/>
                  </a:lnTo>
                  <a:lnTo>
                    <a:pt x="3588" y="941"/>
                  </a:lnTo>
                  <a:lnTo>
                    <a:pt x="3618" y="951"/>
                  </a:lnTo>
                  <a:lnTo>
                    <a:pt x="3643" y="956"/>
                  </a:lnTo>
                  <a:lnTo>
                    <a:pt x="3673" y="966"/>
                  </a:lnTo>
                  <a:lnTo>
                    <a:pt x="3698" y="971"/>
                  </a:lnTo>
                  <a:lnTo>
                    <a:pt x="3723" y="976"/>
                  </a:lnTo>
                  <a:lnTo>
                    <a:pt x="3753" y="981"/>
                  </a:lnTo>
                  <a:lnTo>
                    <a:pt x="3784" y="986"/>
                  </a:lnTo>
                  <a:lnTo>
                    <a:pt x="3809" y="991"/>
                  </a:lnTo>
                  <a:lnTo>
                    <a:pt x="3834" y="1001"/>
                  </a:lnTo>
                  <a:lnTo>
                    <a:pt x="3864" y="1006"/>
                  </a:lnTo>
                  <a:lnTo>
                    <a:pt x="3889" y="1010"/>
                  </a:lnTo>
                  <a:lnTo>
                    <a:pt x="3919" y="1015"/>
                  </a:lnTo>
                  <a:lnTo>
                    <a:pt x="3944" y="1020"/>
                  </a:lnTo>
                  <a:lnTo>
                    <a:pt x="3974" y="1025"/>
                  </a:lnTo>
                  <a:lnTo>
                    <a:pt x="4000" y="1035"/>
                  </a:lnTo>
                  <a:lnTo>
                    <a:pt x="4020" y="1030"/>
                  </a:lnTo>
                  <a:lnTo>
                    <a:pt x="4030" y="1020"/>
                  </a:lnTo>
                  <a:lnTo>
                    <a:pt x="4030" y="1001"/>
                  </a:lnTo>
                  <a:lnTo>
                    <a:pt x="4020" y="991"/>
                  </a:lnTo>
                  <a:lnTo>
                    <a:pt x="4020" y="9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 rot="9362400">
              <a:off x="1720440" y="4868640"/>
              <a:ext cx="6405480" cy="2026800"/>
            </a:xfrm>
            <a:custGeom>
              <a:avLst/>
              <a:gdLst/>
              <a:ahLst/>
              <a:rect l="l" t="t" r="r" b="b"/>
              <a:pathLst>
                <a:path w="4035" h="1277">
                  <a:moveTo>
                    <a:pt x="75" y="207"/>
                  </a:moveTo>
                  <a:lnTo>
                    <a:pt x="90" y="222"/>
                  </a:lnTo>
                  <a:lnTo>
                    <a:pt x="115" y="237"/>
                  </a:lnTo>
                  <a:lnTo>
                    <a:pt x="135" y="252"/>
                  </a:lnTo>
                  <a:lnTo>
                    <a:pt x="156" y="266"/>
                  </a:lnTo>
                  <a:lnTo>
                    <a:pt x="176" y="281"/>
                  </a:lnTo>
                  <a:lnTo>
                    <a:pt x="201" y="296"/>
                  </a:lnTo>
                  <a:lnTo>
                    <a:pt x="221" y="306"/>
                  </a:lnTo>
                  <a:lnTo>
                    <a:pt x="246" y="321"/>
                  </a:lnTo>
                  <a:lnTo>
                    <a:pt x="271" y="331"/>
                  </a:lnTo>
                  <a:lnTo>
                    <a:pt x="291" y="345"/>
                  </a:lnTo>
                  <a:lnTo>
                    <a:pt x="316" y="360"/>
                  </a:lnTo>
                  <a:lnTo>
                    <a:pt x="342" y="370"/>
                  </a:lnTo>
                  <a:lnTo>
                    <a:pt x="367" y="380"/>
                  </a:lnTo>
                  <a:lnTo>
                    <a:pt x="392" y="395"/>
                  </a:lnTo>
                  <a:lnTo>
                    <a:pt x="417" y="404"/>
                  </a:lnTo>
                  <a:lnTo>
                    <a:pt x="447" y="414"/>
                  </a:lnTo>
                  <a:lnTo>
                    <a:pt x="472" y="424"/>
                  </a:lnTo>
                  <a:lnTo>
                    <a:pt x="497" y="434"/>
                  </a:lnTo>
                  <a:lnTo>
                    <a:pt x="522" y="444"/>
                  </a:lnTo>
                  <a:lnTo>
                    <a:pt x="553" y="454"/>
                  </a:lnTo>
                  <a:lnTo>
                    <a:pt x="578" y="464"/>
                  </a:lnTo>
                  <a:lnTo>
                    <a:pt x="608" y="474"/>
                  </a:lnTo>
                  <a:lnTo>
                    <a:pt x="633" y="483"/>
                  </a:lnTo>
                  <a:lnTo>
                    <a:pt x="663" y="493"/>
                  </a:lnTo>
                  <a:lnTo>
                    <a:pt x="693" y="503"/>
                  </a:lnTo>
                  <a:lnTo>
                    <a:pt x="718" y="508"/>
                  </a:lnTo>
                  <a:lnTo>
                    <a:pt x="749" y="518"/>
                  </a:lnTo>
                  <a:lnTo>
                    <a:pt x="774" y="528"/>
                  </a:lnTo>
                  <a:lnTo>
                    <a:pt x="804" y="533"/>
                  </a:lnTo>
                  <a:lnTo>
                    <a:pt x="834" y="543"/>
                  </a:lnTo>
                  <a:lnTo>
                    <a:pt x="864" y="548"/>
                  </a:lnTo>
                  <a:lnTo>
                    <a:pt x="894" y="557"/>
                  </a:lnTo>
                  <a:lnTo>
                    <a:pt x="919" y="562"/>
                  </a:lnTo>
                  <a:lnTo>
                    <a:pt x="950" y="572"/>
                  </a:lnTo>
                  <a:lnTo>
                    <a:pt x="980" y="577"/>
                  </a:lnTo>
                  <a:lnTo>
                    <a:pt x="1010" y="582"/>
                  </a:lnTo>
                  <a:lnTo>
                    <a:pt x="1035" y="587"/>
                  </a:lnTo>
                  <a:lnTo>
                    <a:pt x="1065" y="597"/>
                  </a:lnTo>
                  <a:lnTo>
                    <a:pt x="1095" y="602"/>
                  </a:lnTo>
                  <a:lnTo>
                    <a:pt x="1125" y="607"/>
                  </a:lnTo>
                  <a:lnTo>
                    <a:pt x="1156" y="617"/>
                  </a:lnTo>
                  <a:lnTo>
                    <a:pt x="1186" y="621"/>
                  </a:lnTo>
                  <a:lnTo>
                    <a:pt x="1211" y="626"/>
                  </a:lnTo>
                  <a:lnTo>
                    <a:pt x="1241" y="631"/>
                  </a:lnTo>
                  <a:lnTo>
                    <a:pt x="1271" y="636"/>
                  </a:lnTo>
                  <a:lnTo>
                    <a:pt x="1301" y="641"/>
                  </a:lnTo>
                  <a:lnTo>
                    <a:pt x="1326" y="646"/>
                  </a:lnTo>
                  <a:lnTo>
                    <a:pt x="1357" y="651"/>
                  </a:lnTo>
                  <a:lnTo>
                    <a:pt x="1387" y="656"/>
                  </a:lnTo>
                  <a:lnTo>
                    <a:pt x="1417" y="661"/>
                  </a:lnTo>
                  <a:lnTo>
                    <a:pt x="1442" y="666"/>
                  </a:lnTo>
                  <a:lnTo>
                    <a:pt x="1472" y="671"/>
                  </a:lnTo>
                  <a:lnTo>
                    <a:pt x="1497" y="676"/>
                  </a:lnTo>
                  <a:lnTo>
                    <a:pt x="1527" y="681"/>
                  </a:lnTo>
                  <a:lnTo>
                    <a:pt x="1553" y="686"/>
                  </a:lnTo>
                  <a:lnTo>
                    <a:pt x="1583" y="691"/>
                  </a:lnTo>
                  <a:lnTo>
                    <a:pt x="1608" y="691"/>
                  </a:lnTo>
                  <a:lnTo>
                    <a:pt x="1633" y="700"/>
                  </a:lnTo>
                  <a:lnTo>
                    <a:pt x="1658" y="700"/>
                  </a:lnTo>
                  <a:lnTo>
                    <a:pt x="1688" y="705"/>
                  </a:lnTo>
                  <a:lnTo>
                    <a:pt x="1713" y="710"/>
                  </a:lnTo>
                  <a:lnTo>
                    <a:pt x="1739" y="715"/>
                  </a:lnTo>
                  <a:lnTo>
                    <a:pt x="1769" y="720"/>
                  </a:lnTo>
                  <a:lnTo>
                    <a:pt x="1794" y="730"/>
                  </a:lnTo>
                  <a:lnTo>
                    <a:pt x="1809" y="730"/>
                  </a:lnTo>
                  <a:lnTo>
                    <a:pt x="1824" y="735"/>
                  </a:lnTo>
                  <a:lnTo>
                    <a:pt x="1844" y="735"/>
                  </a:lnTo>
                  <a:lnTo>
                    <a:pt x="1859" y="740"/>
                  </a:lnTo>
                  <a:lnTo>
                    <a:pt x="1874" y="740"/>
                  </a:lnTo>
                  <a:lnTo>
                    <a:pt x="1894" y="745"/>
                  </a:lnTo>
                  <a:lnTo>
                    <a:pt x="1909" y="750"/>
                  </a:lnTo>
                  <a:lnTo>
                    <a:pt x="1924" y="755"/>
                  </a:lnTo>
                  <a:lnTo>
                    <a:pt x="1945" y="755"/>
                  </a:lnTo>
                  <a:lnTo>
                    <a:pt x="1960" y="760"/>
                  </a:lnTo>
                  <a:lnTo>
                    <a:pt x="1975" y="764"/>
                  </a:lnTo>
                  <a:lnTo>
                    <a:pt x="1995" y="764"/>
                  </a:lnTo>
                  <a:lnTo>
                    <a:pt x="2010" y="769"/>
                  </a:lnTo>
                  <a:lnTo>
                    <a:pt x="2025" y="774"/>
                  </a:lnTo>
                  <a:lnTo>
                    <a:pt x="2045" y="779"/>
                  </a:lnTo>
                  <a:lnTo>
                    <a:pt x="2060" y="784"/>
                  </a:lnTo>
                  <a:lnTo>
                    <a:pt x="2080" y="784"/>
                  </a:lnTo>
                  <a:lnTo>
                    <a:pt x="2095" y="789"/>
                  </a:lnTo>
                  <a:lnTo>
                    <a:pt x="2110" y="794"/>
                  </a:lnTo>
                  <a:lnTo>
                    <a:pt x="2131" y="799"/>
                  </a:lnTo>
                  <a:lnTo>
                    <a:pt x="2146" y="804"/>
                  </a:lnTo>
                  <a:lnTo>
                    <a:pt x="2161" y="804"/>
                  </a:lnTo>
                  <a:lnTo>
                    <a:pt x="2181" y="809"/>
                  </a:lnTo>
                  <a:lnTo>
                    <a:pt x="2196" y="814"/>
                  </a:lnTo>
                  <a:lnTo>
                    <a:pt x="2211" y="819"/>
                  </a:lnTo>
                  <a:lnTo>
                    <a:pt x="2231" y="824"/>
                  </a:lnTo>
                  <a:lnTo>
                    <a:pt x="2246" y="829"/>
                  </a:lnTo>
                  <a:lnTo>
                    <a:pt x="2261" y="834"/>
                  </a:lnTo>
                  <a:lnTo>
                    <a:pt x="2281" y="834"/>
                  </a:lnTo>
                  <a:lnTo>
                    <a:pt x="2296" y="843"/>
                  </a:lnTo>
                  <a:lnTo>
                    <a:pt x="2311" y="848"/>
                  </a:lnTo>
                  <a:lnTo>
                    <a:pt x="2332" y="853"/>
                  </a:lnTo>
                  <a:lnTo>
                    <a:pt x="2347" y="858"/>
                  </a:lnTo>
                  <a:lnTo>
                    <a:pt x="2362" y="858"/>
                  </a:lnTo>
                  <a:lnTo>
                    <a:pt x="2377" y="863"/>
                  </a:lnTo>
                  <a:lnTo>
                    <a:pt x="2397" y="868"/>
                  </a:lnTo>
                  <a:lnTo>
                    <a:pt x="2412" y="873"/>
                  </a:lnTo>
                  <a:lnTo>
                    <a:pt x="2427" y="878"/>
                  </a:lnTo>
                  <a:lnTo>
                    <a:pt x="2447" y="883"/>
                  </a:lnTo>
                  <a:lnTo>
                    <a:pt x="2462" y="888"/>
                  </a:lnTo>
                  <a:lnTo>
                    <a:pt x="2477" y="893"/>
                  </a:lnTo>
                  <a:lnTo>
                    <a:pt x="2492" y="898"/>
                  </a:lnTo>
                  <a:lnTo>
                    <a:pt x="2512" y="903"/>
                  </a:lnTo>
                  <a:lnTo>
                    <a:pt x="2528" y="908"/>
                  </a:lnTo>
                  <a:lnTo>
                    <a:pt x="2543" y="912"/>
                  </a:lnTo>
                  <a:lnTo>
                    <a:pt x="2563" y="917"/>
                  </a:lnTo>
                  <a:lnTo>
                    <a:pt x="2578" y="927"/>
                  </a:lnTo>
                  <a:lnTo>
                    <a:pt x="2593" y="932"/>
                  </a:lnTo>
                  <a:lnTo>
                    <a:pt x="2608" y="937"/>
                  </a:lnTo>
                  <a:lnTo>
                    <a:pt x="2628" y="942"/>
                  </a:lnTo>
                  <a:lnTo>
                    <a:pt x="2643" y="947"/>
                  </a:lnTo>
                  <a:lnTo>
                    <a:pt x="2658" y="952"/>
                  </a:lnTo>
                  <a:lnTo>
                    <a:pt x="2678" y="957"/>
                  </a:lnTo>
                  <a:lnTo>
                    <a:pt x="2693" y="962"/>
                  </a:lnTo>
                  <a:lnTo>
                    <a:pt x="2708" y="972"/>
                  </a:lnTo>
                  <a:lnTo>
                    <a:pt x="2729" y="977"/>
                  </a:lnTo>
                  <a:lnTo>
                    <a:pt x="2744" y="981"/>
                  </a:lnTo>
                  <a:lnTo>
                    <a:pt x="2759" y="986"/>
                  </a:lnTo>
                  <a:lnTo>
                    <a:pt x="2779" y="991"/>
                  </a:lnTo>
                  <a:lnTo>
                    <a:pt x="2794" y="996"/>
                  </a:lnTo>
                  <a:lnTo>
                    <a:pt x="2809" y="1001"/>
                  </a:lnTo>
                  <a:lnTo>
                    <a:pt x="2829" y="1011"/>
                  </a:lnTo>
                  <a:lnTo>
                    <a:pt x="2844" y="1016"/>
                  </a:lnTo>
                  <a:lnTo>
                    <a:pt x="2859" y="1021"/>
                  </a:lnTo>
                  <a:lnTo>
                    <a:pt x="2879" y="1026"/>
                  </a:lnTo>
                  <a:lnTo>
                    <a:pt x="2894" y="1031"/>
                  </a:lnTo>
                  <a:lnTo>
                    <a:pt x="2909" y="1041"/>
                  </a:lnTo>
                  <a:lnTo>
                    <a:pt x="2930" y="1046"/>
                  </a:lnTo>
                  <a:lnTo>
                    <a:pt x="2945" y="1051"/>
                  </a:lnTo>
                  <a:lnTo>
                    <a:pt x="2960" y="1055"/>
                  </a:lnTo>
                  <a:lnTo>
                    <a:pt x="2980" y="1060"/>
                  </a:lnTo>
                  <a:lnTo>
                    <a:pt x="2995" y="1065"/>
                  </a:lnTo>
                  <a:lnTo>
                    <a:pt x="3015" y="1070"/>
                  </a:lnTo>
                  <a:lnTo>
                    <a:pt x="3030" y="1075"/>
                  </a:lnTo>
                  <a:lnTo>
                    <a:pt x="3045" y="1080"/>
                  </a:lnTo>
                  <a:lnTo>
                    <a:pt x="3065" y="1085"/>
                  </a:lnTo>
                  <a:lnTo>
                    <a:pt x="3080" y="1090"/>
                  </a:lnTo>
                  <a:lnTo>
                    <a:pt x="3100" y="1095"/>
                  </a:lnTo>
                  <a:lnTo>
                    <a:pt x="3115" y="1100"/>
                  </a:lnTo>
                  <a:lnTo>
                    <a:pt x="3136" y="1105"/>
                  </a:lnTo>
                  <a:lnTo>
                    <a:pt x="3151" y="1110"/>
                  </a:lnTo>
                  <a:lnTo>
                    <a:pt x="3171" y="1110"/>
                  </a:lnTo>
                  <a:lnTo>
                    <a:pt x="3186" y="1115"/>
                  </a:lnTo>
                  <a:lnTo>
                    <a:pt x="3201" y="1120"/>
                  </a:lnTo>
                  <a:lnTo>
                    <a:pt x="3221" y="1124"/>
                  </a:lnTo>
                  <a:lnTo>
                    <a:pt x="3236" y="1129"/>
                  </a:lnTo>
                  <a:lnTo>
                    <a:pt x="3251" y="1134"/>
                  </a:lnTo>
                  <a:lnTo>
                    <a:pt x="3271" y="1139"/>
                  </a:lnTo>
                  <a:lnTo>
                    <a:pt x="3286" y="1139"/>
                  </a:lnTo>
                  <a:lnTo>
                    <a:pt x="3306" y="1144"/>
                  </a:lnTo>
                  <a:lnTo>
                    <a:pt x="3322" y="1144"/>
                  </a:lnTo>
                  <a:lnTo>
                    <a:pt x="3342" y="1154"/>
                  </a:lnTo>
                  <a:lnTo>
                    <a:pt x="3357" y="1154"/>
                  </a:lnTo>
                  <a:lnTo>
                    <a:pt x="3377" y="1159"/>
                  </a:lnTo>
                  <a:lnTo>
                    <a:pt x="3392" y="1159"/>
                  </a:lnTo>
                  <a:lnTo>
                    <a:pt x="3412" y="1169"/>
                  </a:lnTo>
                  <a:lnTo>
                    <a:pt x="3427" y="1169"/>
                  </a:lnTo>
                  <a:lnTo>
                    <a:pt x="3442" y="1174"/>
                  </a:lnTo>
                  <a:lnTo>
                    <a:pt x="3462" y="1174"/>
                  </a:lnTo>
                  <a:lnTo>
                    <a:pt x="3477" y="1179"/>
                  </a:lnTo>
                  <a:lnTo>
                    <a:pt x="3492" y="1184"/>
                  </a:lnTo>
                  <a:lnTo>
                    <a:pt x="3512" y="1184"/>
                  </a:lnTo>
                  <a:lnTo>
                    <a:pt x="3528" y="1189"/>
                  </a:lnTo>
                  <a:lnTo>
                    <a:pt x="3548" y="1194"/>
                  </a:lnTo>
                  <a:lnTo>
                    <a:pt x="3563" y="1194"/>
                  </a:lnTo>
                  <a:lnTo>
                    <a:pt x="3583" y="1198"/>
                  </a:lnTo>
                  <a:lnTo>
                    <a:pt x="3598" y="1203"/>
                  </a:lnTo>
                  <a:lnTo>
                    <a:pt x="3618" y="1203"/>
                  </a:lnTo>
                  <a:lnTo>
                    <a:pt x="3633" y="1208"/>
                  </a:lnTo>
                  <a:lnTo>
                    <a:pt x="3653" y="1213"/>
                  </a:lnTo>
                  <a:lnTo>
                    <a:pt x="3668" y="1213"/>
                  </a:lnTo>
                  <a:lnTo>
                    <a:pt x="3688" y="1218"/>
                  </a:lnTo>
                  <a:lnTo>
                    <a:pt x="3703" y="1223"/>
                  </a:lnTo>
                  <a:lnTo>
                    <a:pt x="3724" y="1223"/>
                  </a:lnTo>
                  <a:lnTo>
                    <a:pt x="3739" y="1228"/>
                  </a:lnTo>
                  <a:lnTo>
                    <a:pt x="3759" y="1233"/>
                  </a:lnTo>
                  <a:lnTo>
                    <a:pt x="3774" y="1233"/>
                  </a:lnTo>
                  <a:lnTo>
                    <a:pt x="3794" y="1238"/>
                  </a:lnTo>
                  <a:lnTo>
                    <a:pt x="3809" y="1243"/>
                  </a:lnTo>
                  <a:lnTo>
                    <a:pt x="3829" y="1248"/>
                  </a:lnTo>
                  <a:lnTo>
                    <a:pt x="3844" y="1248"/>
                  </a:lnTo>
                  <a:lnTo>
                    <a:pt x="3859" y="1253"/>
                  </a:lnTo>
                  <a:lnTo>
                    <a:pt x="3879" y="1258"/>
                  </a:lnTo>
                  <a:lnTo>
                    <a:pt x="3899" y="1258"/>
                  </a:lnTo>
                  <a:lnTo>
                    <a:pt x="3914" y="1263"/>
                  </a:lnTo>
                  <a:lnTo>
                    <a:pt x="3935" y="1268"/>
                  </a:lnTo>
                  <a:lnTo>
                    <a:pt x="3955" y="1272"/>
                  </a:lnTo>
                  <a:lnTo>
                    <a:pt x="3970" y="1277"/>
                  </a:lnTo>
                  <a:lnTo>
                    <a:pt x="3980" y="1272"/>
                  </a:lnTo>
                  <a:lnTo>
                    <a:pt x="3995" y="1272"/>
                  </a:lnTo>
                  <a:lnTo>
                    <a:pt x="4005" y="1268"/>
                  </a:lnTo>
                  <a:lnTo>
                    <a:pt x="4010" y="1268"/>
                  </a:lnTo>
                  <a:lnTo>
                    <a:pt x="4025" y="1248"/>
                  </a:lnTo>
                  <a:lnTo>
                    <a:pt x="4035" y="1233"/>
                  </a:lnTo>
                  <a:lnTo>
                    <a:pt x="4035" y="1223"/>
                  </a:lnTo>
                  <a:lnTo>
                    <a:pt x="4035" y="1213"/>
                  </a:lnTo>
                  <a:lnTo>
                    <a:pt x="4035" y="1203"/>
                  </a:lnTo>
                  <a:lnTo>
                    <a:pt x="4030" y="1194"/>
                  </a:lnTo>
                  <a:lnTo>
                    <a:pt x="4025" y="1184"/>
                  </a:lnTo>
                  <a:lnTo>
                    <a:pt x="4020" y="1179"/>
                  </a:lnTo>
                  <a:lnTo>
                    <a:pt x="4010" y="1174"/>
                  </a:lnTo>
                  <a:lnTo>
                    <a:pt x="4000" y="1169"/>
                  </a:lnTo>
                  <a:lnTo>
                    <a:pt x="3985" y="1164"/>
                  </a:lnTo>
                  <a:lnTo>
                    <a:pt x="3970" y="1164"/>
                  </a:lnTo>
                  <a:lnTo>
                    <a:pt x="3955" y="1159"/>
                  </a:lnTo>
                  <a:lnTo>
                    <a:pt x="3945" y="1159"/>
                  </a:lnTo>
                  <a:lnTo>
                    <a:pt x="3930" y="1154"/>
                  </a:lnTo>
                  <a:lnTo>
                    <a:pt x="3914" y="1154"/>
                  </a:lnTo>
                  <a:lnTo>
                    <a:pt x="3899" y="1149"/>
                  </a:lnTo>
                  <a:lnTo>
                    <a:pt x="3889" y="1144"/>
                  </a:lnTo>
                  <a:lnTo>
                    <a:pt x="3874" y="1144"/>
                  </a:lnTo>
                  <a:lnTo>
                    <a:pt x="3859" y="1139"/>
                  </a:lnTo>
                  <a:lnTo>
                    <a:pt x="3844" y="1139"/>
                  </a:lnTo>
                  <a:lnTo>
                    <a:pt x="3829" y="1134"/>
                  </a:lnTo>
                  <a:lnTo>
                    <a:pt x="3814" y="1134"/>
                  </a:lnTo>
                  <a:lnTo>
                    <a:pt x="3804" y="1129"/>
                  </a:lnTo>
                  <a:lnTo>
                    <a:pt x="3789" y="1129"/>
                  </a:lnTo>
                  <a:lnTo>
                    <a:pt x="3774" y="1124"/>
                  </a:lnTo>
                  <a:lnTo>
                    <a:pt x="3759" y="1124"/>
                  </a:lnTo>
                  <a:lnTo>
                    <a:pt x="3749" y="1120"/>
                  </a:lnTo>
                  <a:lnTo>
                    <a:pt x="3734" y="1120"/>
                  </a:lnTo>
                  <a:lnTo>
                    <a:pt x="3719" y="1115"/>
                  </a:lnTo>
                  <a:lnTo>
                    <a:pt x="3703" y="1110"/>
                  </a:lnTo>
                  <a:lnTo>
                    <a:pt x="3693" y="1110"/>
                  </a:lnTo>
                  <a:lnTo>
                    <a:pt x="3678" y="1110"/>
                  </a:lnTo>
                  <a:lnTo>
                    <a:pt x="3663" y="1110"/>
                  </a:lnTo>
                  <a:lnTo>
                    <a:pt x="3648" y="1105"/>
                  </a:lnTo>
                  <a:lnTo>
                    <a:pt x="3638" y="1105"/>
                  </a:lnTo>
                  <a:lnTo>
                    <a:pt x="3623" y="1100"/>
                  </a:lnTo>
                  <a:lnTo>
                    <a:pt x="3608" y="1095"/>
                  </a:lnTo>
                  <a:lnTo>
                    <a:pt x="3593" y="1095"/>
                  </a:lnTo>
                  <a:lnTo>
                    <a:pt x="3578" y="1095"/>
                  </a:lnTo>
                  <a:lnTo>
                    <a:pt x="3563" y="1090"/>
                  </a:lnTo>
                  <a:lnTo>
                    <a:pt x="3553" y="1090"/>
                  </a:lnTo>
                  <a:lnTo>
                    <a:pt x="3538" y="1085"/>
                  </a:lnTo>
                  <a:lnTo>
                    <a:pt x="3528" y="1080"/>
                  </a:lnTo>
                  <a:lnTo>
                    <a:pt x="3512" y="1080"/>
                  </a:lnTo>
                  <a:lnTo>
                    <a:pt x="3497" y="1075"/>
                  </a:lnTo>
                  <a:lnTo>
                    <a:pt x="3482" y="1075"/>
                  </a:lnTo>
                  <a:lnTo>
                    <a:pt x="3472" y="1070"/>
                  </a:lnTo>
                  <a:lnTo>
                    <a:pt x="3457" y="1070"/>
                  </a:lnTo>
                  <a:lnTo>
                    <a:pt x="3442" y="1065"/>
                  </a:lnTo>
                  <a:lnTo>
                    <a:pt x="3427" y="1060"/>
                  </a:lnTo>
                  <a:lnTo>
                    <a:pt x="3412" y="1060"/>
                  </a:lnTo>
                  <a:lnTo>
                    <a:pt x="3397" y="1055"/>
                  </a:lnTo>
                  <a:lnTo>
                    <a:pt x="3387" y="1055"/>
                  </a:lnTo>
                  <a:lnTo>
                    <a:pt x="3372" y="1051"/>
                  </a:lnTo>
                  <a:lnTo>
                    <a:pt x="3357" y="1051"/>
                  </a:lnTo>
                  <a:lnTo>
                    <a:pt x="3347" y="1046"/>
                  </a:lnTo>
                  <a:lnTo>
                    <a:pt x="3332" y="1046"/>
                  </a:lnTo>
                  <a:lnTo>
                    <a:pt x="3316" y="1041"/>
                  </a:lnTo>
                  <a:lnTo>
                    <a:pt x="3306" y="1036"/>
                  </a:lnTo>
                  <a:lnTo>
                    <a:pt x="3291" y="1031"/>
                  </a:lnTo>
                  <a:lnTo>
                    <a:pt x="3276" y="1031"/>
                  </a:lnTo>
                  <a:lnTo>
                    <a:pt x="3261" y="1026"/>
                  </a:lnTo>
                  <a:lnTo>
                    <a:pt x="3246" y="1021"/>
                  </a:lnTo>
                  <a:lnTo>
                    <a:pt x="3236" y="1021"/>
                  </a:lnTo>
                  <a:lnTo>
                    <a:pt x="3221" y="1016"/>
                  </a:lnTo>
                  <a:lnTo>
                    <a:pt x="3206" y="1011"/>
                  </a:lnTo>
                  <a:lnTo>
                    <a:pt x="3196" y="1011"/>
                  </a:lnTo>
                  <a:lnTo>
                    <a:pt x="3181" y="1006"/>
                  </a:lnTo>
                  <a:lnTo>
                    <a:pt x="3166" y="1001"/>
                  </a:lnTo>
                  <a:lnTo>
                    <a:pt x="3151" y="996"/>
                  </a:lnTo>
                  <a:lnTo>
                    <a:pt x="3141" y="996"/>
                  </a:lnTo>
                  <a:lnTo>
                    <a:pt x="3126" y="991"/>
                  </a:lnTo>
                  <a:lnTo>
                    <a:pt x="3110" y="986"/>
                  </a:lnTo>
                  <a:lnTo>
                    <a:pt x="3095" y="981"/>
                  </a:lnTo>
                  <a:lnTo>
                    <a:pt x="3080" y="977"/>
                  </a:lnTo>
                  <a:lnTo>
                    <a:pt x="3060" y="972"/>
                  </a:lnTo>
                  <a:lnTo>
                    <a:pt x="3045" y="967"/>
                  </a:lnTo>
                  <a:lnTo>
                    <a:pt x="3030" y="962"/>
                  </a:lnTo>
                  <a:lnTo>
                    <a:pt x="3015" y="957"/>
                  </a:lnTo>
                  <a:lnTo>
                    <a:pt x="2995" y="947"/>
                  </a:lnTo>
                  <a:lnTo>
                    <a:pt x="2980" y="942"/>
                  </a:lnTo>
                  <a:lnTo>
                    <a:pt x="2965" y="937"/>
                  </a:lnTo>
                  <a:lnTo>
                    <a:pt x="2950" y="932"/>
                  </a:lnTo>
                  <a:lnTo>
                    <a:pt x="2930" y="927"/>
                  </a:lnTo>
                  <a:lnTo>
                    <a:pt x="2919" y="922"/>
                  </a:lnTo>
                  <a:lnTo>
                    <a:pt x="2899" y="917"/>
                  </a:lnTo>
                  <a:lnTo>
                    <a:pt x="2884" y="912"/>
                  </a:lnTo>
                  <a:lnTo>
                    <a:pt x="2869" y="908"/>
                  </a:lnTo>
                  <a:lnTo>
                    <a:pt x="2854" y="898"/>
                  </a:lnTo>
                  <a:lnTo>
                    <a:pt x="2839" y="893"/>
                  </a:lnTo>
                  <a:lnTo>
                    <a:pt x="2819" y="888"/>
                  </a:lnTo>
                  <a:lnTo>
                    <a:pt x="2804" y="883"/>
                  </a:lnTo>
                  <a:lnTo>
                    <a:pt x="2789" y="878"/>
                  </a:lnTo>
                  <a:lnTo>
                    <a:pt x="2774" y="868"/>
                  </a:lnTo>
                  <a:lnTo>
                    <a:pt x="2759" y="863"/>
                  </a:lnTo>
                  <a:lnTo>
                    <a:pt x="2739" y="858"/>
                  </a:lnTo>
                  <a:lnTo>
                    <a:pt x="2724" y="853"/>
                  </a:lnTo>
                  <a:lnTo>
                    <a:pt x="2708" y="848"/>
                  </a:lnTo>
                  <a:lnTo>
                    <a:pt x="2693" y="843"/>
                  </a:lnTo>
                  <a:lnTo>
                    <a:pt x="2678" y="834"/>
                  </a:lnTo>
                  <a:lnTo>
                    <a:pt x="2663" y="829"/>
                  </a:lnTo>
                  <a:lnTo>
                    <a:pt x="2643" y="824"/>
                  </a:lnTo>
                  <a:lnTo>
                    <a:pt x="2628" y="819"/>
                  </a:lnTo>
                  <a:lnTo>
                    <a:pt x="2618" y="814"/>
                  </a:lnTo>
                  <a:lnTo>
                    <a:pt x="2603" y="809"/>
                  </a:lnTo>
                  <a:lnTo>
                    <a:pt x="2583" y="799"/>
                  </a:lnTo>
                  <a:lnTo>
                    <a:pt x="2568" y="794"/>
                  </a:lnTo>
                  <a:lnTo>
                    <a:pt x="2553" y="789"/>
                  </a:lnTo>
                  <a:lnTo>
                    <a:pt x="2538" y="784"/>
                  </a:lnTo>
                  <a:lnTo>
                    <a:pt x="2517" y="779"/>
                  </a:lnTo>
                  <a:lnTo>
                    <a:pt x="2502" y="774"/>
                  </a:lnTo>
                  <a:lnTo>
                    <a:pt x="2487" y="769"/>
                  </a:lnTo>
                  <a:lnTo>
                    <a:pt x="2472" y="764"/>
                  </a:lnTo>
                  <a:lnTo>
                    <a:pt x="2457" y="755"/>
                  </a:lnTo>
                  <a:lnTo>
                    <a:pt x="2437" y="750"/>
                  </a:lnTo>
                  <a:lnTo>
                    <a:pt x="2422" y="745"/>
                  </a:lnTo>
                  <a:lnTo>
                    <a:pt x="2407" y="740"/>
                  </a:lnTo>
                  <a:lnTo>
                    <a:pt x="2392" y="735"/>
                  </a:lnTo>
                  <a:lnTo>
                    <a:pt x="2377" y="730"/>
                  </a:lnTo>
                  <a:lnTo>
                    <a:pt x="2357" y="725"/>
                  </a:lnTo>
                  <a:lnTo>
                    <a:pt x="2342" y="720"/>
                  </a:lnTo>
                  <a:lnTo>
                    <a:pt x="2327" y="715"/>
                  </a:lnTo>
                  <a:lnTo>
                    <a:pt x="2311" y="710"/>
                  </a:lnTo>
                  <a:lnTo>
                    <a:pt x="2291" y="705"/>
                  </a:lnTo>
                  <a:lnTo>
                    <a:pt x="2276" y="700"/>
                  </a:lnTo>
                  <a:lnTo>
                    <a:pt x="2261" y="695"/>
                  </a:lnTo>
                  <a:lnTo>
                    <a:pt x="2246" y="691"/>
                  </a:lnTo>
                  <a:lnTo>
                    <a:pt x="2226" y="686"/>
                  </a:lnTo>
                  <a:lnTo>
                    <a:pt x="2211" y="681"/>
                  </a:lnTo>
                  <a:lnTo>
                    <a:pt x="2196" y="676"/>
                  </a:lnTo>
                  <a:lnTo>
                    <a:pt x="2181" y="671"/>
                  </a:lnTo>
                  <a:lnTo>
                    <a:pt x="2161" y="671"/>
                  </a:lnTo>
                  <a:lnTo>
                    <a:pt x="2146" y="666"/>
                  </a:lnTo>
                  <a:lnTo>
                    <a:pt x="2131" y="661"/>
                  </a:lnTo>
                  <a:lnTo>
                    <a:pt x="2110" y="656"/>
                  </a:lnTo>
                  <a:lnTo>
                    <a:pt x="2095" y="651"/>
                  </a:lnTo>
                  <a:lnTo>
                    <a:pt x="2080" y="651"/>
                  </a:lnTo>
                  <a:lnTo>
                    <a:pt x="2050" y="641"/>
                  </a:lnTo>
                  <a:lnTo>
                    <a:pt x="2020" y="636"/>
                  </a:lnTo>
                  <a:lnTo>
                    <a:pt x="1990" y="631"/>
                  </a:lnTo>
                  <a:lnTo>
                    <a:pt x="1960" y="621"/>
                  </a:lnTo>
                  <a:lnTo>
                    <a:pt x="1930" y="617"/>
                  </a:lnTo>
                  <a:lnTo>
                    <a:pt x="1899" y="607"/>
                  </a:lnTo>
                  <a:lnTo>
                    <a:pt x="1869" y="602"/>
                  </a:lnTo>
                  <a:lnTo>
                    <a:pt x="1839" y="597"/>
                  </a:lnTo>
                  <a:lnTo>
                    <a:pt x="1809" y="592"/>
                  </a:lnTo>
                  <a:lnTo>
                    <a:pt x="1779" y="587"/>
                  </a:lnTo>
                  <a:lnTo>
                    <a:pt x="1749" y="577"/>
                  </a:lnTo>
                  <a:lnTo>
                    <a:pt x="1718" y="572"/>
                  </a:lnTo>
                  <a:lnTo>
                    <a:pt x="1688" y="567"/>
                  </a:lnTo>
                  <a:lnTo>
                    <a:pt x="1658" y="557"/>
                  </a:lnTo>
                  <a:lnTo>
                    <a:pt x="1628" y="552"/>
                  </a:lnTo>
                  <a:lnTo>
                    <a:pt x="1598" y="548"/>
                  </a:lnTo>
                  <a:lnTo>
                    <a:pt x="1568" y="543"/>
                  </a:lnTo>
                  <a:lnTo>
                    <a:pt x="1533" y="533"/>
                  </a:lnTo>
                  <a:lnTo>
                    <a:pt x="1502" y="528"/>
                  </a:lnTo>
                  <a:lnTo>
                    <a:pt x="1472" y="523"/>
                  </a:lnTo>
                  <a:lnTo>
                    <a:pt x="1442" y="513"/>
                  </a:lnTo>
                  <a:lnTo>
                    <a:pt x="1412" y="508"/>
                  </a:lnTo>
                  <a:lnTo>
                    <a:pt x="1377" y="503"/>
                  </a:lnTo>
                  <a:lnTo>
                    <a:pt x="1352" y="493"/>
                  </a:lnTo>
                  <a:lnTo>
                    <a:pt x="1316" y="488"/>
                  </a:lnTo>
                  <a:lnTo>
                    <a:pt x="1286" y="478"/>
                  </a:lnTo>
                  <a:lnTo>
                    <a:pt x="1256" y="474"/>
                  </a:lnTo>
                  <a:lnTo>
                    <a:pt x="1226" y="469"/>
                  </a:lnTo>
                  <a:lnTo>
                    <a:pt x="1196" y="459"/>
                  </a:lnTo>
                  <a:lnTo>
                    <a:pt x="1166" y="454"/>
                  </a:lnTo>
                  <a:lnTo>
                    <a:pt x="1136" y="444"/>
                  </a:lnTo>
                  <a:lnTo>
                    <a:pt x="1105" y="439"/>
                  </a:lnTo>
                  <a:lnTo>
                    <a:pt x="1070" y="429"/>
                  </a:lnTo>
                  <a:lnTo>
                    <a:pt x="1040" y="424"/>
                  </a:lnTo>
                  <a:lnTo>
                    <a:pt x="1010" y="414"/>
                  </a:lnTo>
                  <a:lnTo>
                    <a:pt x="980" y="409"/>
                  </a:lnTo>
                  <a:lnTo>
                    <a:pt x="950" y="400"/>
                  </a:lnTo>
                  <a:lnTo>
                    <a:pt x="919" y="390"/>
                  </a:lnTo>
                  <a:lnTo>
                    <a:pt x="889" y="385"/>
                  </a:lnTo>
                  <a:lnTo>
                    <a:pt x="859" y="375"/>
                  </a:lnTo>
                  <a:lnTo>
                    <a:pt x="824" y="365"/>
                  </a:lnTo>
                  <a:lnTo>
                    <a:pt x="799" y="360"/>
                  </a:lnTo>
                  <a:lnTo>
                    <a:pt x="764" y="350"/>
                  </a:lnTo>
                  <a:lnTo>
                    <a:pt x="733" y="340"/>
                  </a:lnTo>
                  <a:lnTo>
                    <a:pt x="703" y="331"/>
                  </a:lnTo>
                  <a:lnTo>
                    <a:pt x="673" y="326"/>
                  </a:lnTo>
                  <a:lnTo>
                    <a:pt x="648" y="311"/>
                  </a:lnTo>
                  <a:lnTo>
                    <a:pt x="618" y="306"/>
                  </a:lnTo>
                  <a:lnTo>
                    <a:pt x="588" y="296"/>
                  </a:lnTo>
                  <a:lnTo>
                    <a:pt x="558" y="286"/>
                  </a:lnTo>
                  <a:lnTo>
                    <a:pt x="527" y="276"/>
                  </a:lnTo>
                  <a:lnTo>
                    <a:pt x="502" y="266"/>
                  </a:lnTo>
                  <a:lnTo>
                    <a:pt x="472" y="252"/>
                  </a:lnTo>
                  <a:lnTo>
                    <a:pt x="442" y="242"/>
                  </a:lnTo>
                  <a:lnTo>
                    <a:pt x="412" y="232"/>
                  </a:lnTo>
                  <a:lnTo>
                    <a:pt x="387" y="222"/>
                  </a:lnTo>
                  <a:lnTo>
                    <a:pt x="357" y="207"/>
                  </a:lnTo>
                  <a:lnTo>
                    <a:pt x="326" y="197"/>
                  </a:lnTo>
                  <a:lnTo>
                    <a:pt x="301" y="183"/>
                  </a:lnTo>
                  <a:lnTo>
                    <a:pt x="271" y="173"/>
                  </a:lnTo>
                  <a:lnTo>
                    <a:pt x="241" y="163"/>
                  </a:lnTo>
                  <a:lnTo>
                    <a:pt x="216" y="148"/>
                  </a:lnTo>
                  <a:lnTo>
                    <a:pt x="186" y="133"/>
                  </a:lnTo>
                  <a:lnTo>
                    <a:pt x="161" y="123"/>
                  </a:lnTo>
                  <a:lnTo>
                    <a:pt x="156" y="118"/>
                  </a:lnTo>
                  <a:lnTo>
                    <a:pt x="156" y="114"/>
                  </a:lnTo>
                  <a:lnTo>
                    <a:pt x="151" y="104"/>
                  </a:lnTo>
                  <a:lnTo>
                    <a:pt x="146" y="89"/>
                  </a:lnTo>
                  <a:lnTo>
                    <a:pt x="135" y="84"/>
                  </a:lnTo>
                  <a:lnTo>
                    <a:pt x="130" y="74"/>
                  </a:lnTo>
                  <a:lnTo>
                    <a:pt x="120" y="64"/>
                  </a:lnTo>
                  <a:lnTo>
                    <a:pt x="110" y="54"/>
                  </a:lnTo>
                  <a:lnTo>
                    <a:pt x="95" y="40"/>
                  </a:lnTo>
                  <a:lnTo>
                    <a:pt x="80" y="30"/>
                  </a:lnTo>
                  <a:lnTo>
                    <a:pt x="65" y="20"/>
                  </a:lnTo>
                  <a:lnTo>
                    <a:pt x="45" y="1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5" y="15"/>
                  </a:lnTo>
                  <a:lnTo>
                    <a:pt x="0" y="25"/>
                  </a:lnTo>
                  <a:lnTo>
                    <a:pt x="5" y="44"/>
                  </a:lnTo>
                  <a:lnTo>
                    <a:pt x="5" y="54"/>
                  </a:lnTo>
                  <a:lnTo>
                    <a:pt x="10" y="64"/>
                  </a:lnTo>
                  <a:lnTo>
                    <a:pt x="15" y="74"/>
                  </a:lnTo>
                  <a:lnTo>
                    <a:pt x="20" y="84"/>
                  </a:lnTo>
                  <a:lnTo>
                    <a:pt x="20" y="94"/>
                  </a:lnTo>
                  <a:lnTo>
                    <a:pt x="25" y="104"/>
                  </a:lnTo>
                  <a:lnTo>
                    <a:pt x="30" y="118"/>
                  </a:lnTo>
                  <a:lnTo>
                    <a:pt x="35" y="128"/>
                  </a:lnTo>
                  <a:lnTo>
                    <a:pt x="40" y="138"/>
                  </a:lnTo>
                  <a:lnTo>
                    <a:pt x="45" y="148"/>
                  </a:lnTo>
                  <a:lnTo>
                    <a:pt x="50" y="153"/>
                  </a:lnTo>
                  <a:lnTo>
                    <a:pt x="55" y="168"/>
                  </a:lnTo>
                  <a:lnTo>
                    <a:pt x="60" y="183"/>
                  </a:lnTo>
                  <a:lnTo>
                    <a:pt x="65" y="192"/>
                  </a:lnTo>
                  <a:lnTo>
                    <a:pt x="70" y="202"/>
                  </a:lnTo>
                  <a:lnTo>
                    <a:pt x="75" y="207"/>
                  </a:lnTo>
                  <a:lnTo>
                    <a:pt x="75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333440" y="2001960"/>
            <a:ext cx="59436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979"/>
                </a:solidFill>
                <a:latin typeface="Times New Roman"/>
              </a:rPr>
              <a:t>Scenario 3: Mary Misreported is coming back to start her 2</a:t>
            </a:r>
            <a:r>
              <a:rPr b="1" lang="en-US" sz="2400" spc="-1" strike="noStrike" baseline="30000">
                <a:solidFill>
                  <a:srgbClr val="006979"/>
                </a:solidFill>
                <a:latin typeface="Times New Roman"/>
              </a:rPr>
              <a:t>nd</a:t>
            </a:r>
            <a:r>
              <a:rPr b="1" lang="en-US" sz="2400" spc="-1" strike="noStrike">
                <a:solidFill>
                  <a:srgbClr val="006979"/>
                </a:solidFill>
                <a:latin typeface="Times New Roman"/>
              </a:rPr>
              <a:t> year at East State Univ (ESU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979"/>
                </a:solidFill>
                <a:latin typeface="Times New Roman"/>
              </a:rPr>
              <a:t>After awarding fall aid, ESU receives a new postscreened ISIR (reason code 01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979"/>
                </a:solidFill>
                <a:latin typeface="Times New Roman"/>
              </a:rPr>
              <a:t>indicating a defaul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979"/>
                </a:solidFill>
                <a:latin typeface="Times New Roman"/>
              </a:rPr>
              <a:t>After review of NSLDS website, they don’t see the Defaul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97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6979"/>
                </a:solidFill>
                <a:latin typeface="Times New Roman"/>
              </a:rPr>
              <a:t>What should ESU’s FAA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1025200">
            <a:off x="5029200" y="438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3-45-67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D610-1235-4721-90AF-38B7310DDF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isreported data from Data Provider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ssue: ISIR says one thing, NSLDS says another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Effects of misreported data: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ould possibly affect student’s eligibility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ould cause additional research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solution: Review Student’s history on NSLD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6390-2EDE-49C6-BB6B-27B19E2ED0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2514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NSLDS Data: Objectiv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cognize when to use NSLDS tools to resolve various situation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pply understanding of NSLDS functionality and data to student eligibility decision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pproach research of questionable data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A584-D9CD-4B7C-9384-B2D5573DE0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09480" y="552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Misreported data from Data 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676520"/>
            <a:ext cx="670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11430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Resolution: Review Student on NS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1752480"/>
          <a:ext cx="449568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44956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914400" y="2438280"/>
          <a:ext cx="35053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438280"/>
                    <a:ext cx="35053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533520" y="3352680"/>
          <a:ext cx="3962160" cy="119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3352680"/>
                    <a:ext cx="396216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886040" y="2895480"/>
          <a:ext cx="1104840" cy="20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86040" y="2895480"/>
                    <a:ext cx="110484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1447920" y="3124080"/>
          <a:ext cx="2085840" cy="20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7920" y="3124080"/>
                    <a:ext cx="2085840" cy="2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3200400" y="4267080"/>
          <a:ext cx="5715000" cy="166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00400" y="4267080"/>
                    <a:ext cx="571500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5334120" y="4038480"/>
          <a:ext cx="1190520" cy="171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4120" y="4038480"/>
                    <a:ext cx="1190520" cy="1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8077320" y="4238640"/>
            <a:ext cx="533160" cy="3049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133720"/>
            <a:ext cx="99036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1752480"/>
            <a:ext cx="511200" cy="412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05F4-230E-4893-A0D6-1CAABCE485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480" y="552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Misreported data from Data 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1430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Resolution: Review Student on NS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04920" y="1676520"/>
            <a:ext cx="7238880" cy="2581200"/>
            <a:chOff x="304920" y="1676520"/>
            <a:chExt cx="7238880" cy="2581200"/>
          </a:xfrm>
        </p:grpSpPr>
        <p:sp>
          <p:nvSpPr>
            <p:cNvPr id="261" name=""/>
            <p:cNvSpPr/>
            <p:nvPr/>
          </p:nvSpPr>
          <p:spPr>
            <a:xfrm>
              <a:off x="838080" y="1676520"/>
              <a:ext cx="6705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6979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304920" y="1752480"/>
              <a:ext cx="4495680" cy="2505240"/>
              <a:chOff x="304920" y="1752480"/>
              <a:chExt cx="4495680" cy="2505240"/>
            </a:xfrm>
          </p:grpSpPr>
          <p:graphicFrame>
            <p:nvGraphicFramePr>
              <p:cNvPr id="263" name=""/>
              <p:cNvGraphicFramePr/>
              <p:nvPr/>
            </p:nvGraphicFramePr>
            <p:xfrm>
              <a:off x="304920" y="1752480"/>
              <a:ext cx="4495680" cy="6098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6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04920" y="1752480"/>
                        <a:ext cx="4495680" cy="60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5" name=""/>
              <p:cNvGraphicFramePr/>
              <p:nvPr/>
            </p:nvGraphicFramePr>
            <p:xfrm>
              <a:off x="1295280" y="2438280"/>
              <a:ext cx="1676520" cy="228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6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295280" y="2438280"/>
                        <a:ext cx="1676520" cy="22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67" name=""/>
              <p:cNvGrpSpPr/>
              <p:nvPr/>
            </p:nvGrpSpPr>
            <p:grpSpPr>
              <a:xfrm>
                <a:off x="380880" y="2424240"/>
                <a:ext cx="3524400" cy="1833480"/>
                <a:chOff x="380880" y="2424240"/>
                <a:chExt cx="3524400" cy="1833480"/>
              </a:xfrm>
            </p:grpSpPr>
            <p:graphicFrame>
              <p:nvGraphicFramePr>
                <p:cNvPr id="268" name=""/>
                <p:cNvGraphicFramePr/>
                <p:nvPr/>
              </p:nvGraphicFramePr>
              <p:xfrm>
                <a:off x="380880" y="2666880"/>
                <a:ext cx="3524400" cy="159084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69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380880" y="2666880"/>
                          <a:ext cx="3524400" cy="1590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0" name=""/>
                <p:cNvSpPr/>
                <p:nvPr/>
              </p:nvSpPr>
              <p:spPr>
                <a:xfrm>
                  <a:off x="2143080" y="3000240"/>
                  <a:ext cx="295200" cy="311400"/>
                </a:xfrm>
                <a:prstGeom prst="rect">
                  <a:avLst/>
                </a:prstGeom>
                <a:noFill/>
                <a:ln w="381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143000" y="2424240"/>
                  <a:ext cx="1981080" cy="2286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2" name=""/>
          <p:cNvGrpSpPr/>
          <p:nvPr/>
        </p:nvGrpSpPr>
        <p:grpSpPr>
          <a:xfrm>
            <a:off x="2452680" y="3000240"/>
            <a:ext cx="6329520" cy="3168720"/>
            <a:chOff x="2452680" y="3000240"/>
            <a:chExt cx="6329520" cy="3168720"/>
          </a:xfrm>
        </p:grpSpPr>
        <p:sp>
          <p:nvSpPr>
            <p:cNvPr id="273" name=""/>
            <p:cNvSpPr/>
            <p:nvPr/>
          </p:nvSpPr>
          <p:spPr>
            <a:xfrm>
              <a:off x="6095880" y="300024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452680" y="3000240"/>
              <a:ext cx="6329520" cy="3168720"/>
              <a:chOff x="2452680" y="3000240"/>
              <a:chExt cx="6329520" cy="316872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452680" y="3000240"/>
                <a:ext cx="6272280" cy="3168720"/>
                <a:chOff x="2452680" y="3000240"/>
                <a:chExt cx="6272280" cy="3168720"/>
              </a:xfrm>
            </p:grpSpPr>
            <p:graphicFrame>
              <p:nvGraphicFramePr>
                <p:cNvPr id="276" name=""/>
                <p:cNvGraphicFramePr/>
                <p:nvPr/>
              </p:nvGraphicFramePr>
              <p:xfrm>
                <a:off x="3390840" y="3981600"/>
                <a:ext cx="5334120" cy="218736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277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3390840" y="3981600"/>
                          <a:ext cx="5334120" cy="2187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8" name=""/>
                <p:cNvSpPr/>
                <p:nvPr/>
              </p:nvSpPr>
              <p:spPr>
                <a:xfrm>
                  <a:off x="2452680" y="3000240"/>
                  <a:ext cx="3657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9" name=""/>
              <p:cNvSpPr/>
              <p:nvPr/>
            </p:nvSpPr>
            <p:spPr>
              <a:xfrm>
                <a:off x="3295800" y="5319720"/>
                <a:ext cx="5486400" cy="380880"/>
              </a:xfrm>
              <a:prstGeom prst="rect">
                <a:avLst/>
              </a:prstGeom>
              <a:noFill/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414E-0B6D-4353-AB72-AF9AF83206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838080" y="1676520"/>
            <a:ext cx="670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Misreported data from Data Providers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Results of reviewing Mary’s FAH on NSLDS: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Most recent information displayed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Used to verify data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ISIR/FAA Access displaying results at a processed point in tim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Real time review of current informati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Student Eligibility- no change in award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ata review justifies FAA system override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8ED-5E41-4ADD-B110-98D36A951F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838080" y="1676520"/>
            <a:ext cx="670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idbits – Additional Referenc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GEN-96-13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ISIR Guide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NSLDS Financial Aid History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ppendix B- Database Matches and Match flags: NSLDS Match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ppendix C- Loan status and Eligibility chart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BEBF-C672-47A5-AA2F-ED3371D900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-285480" y="-1136520"/>
            <a:ext cx="10391040" cy="9245880"/>
            <a:chOff x="-285480" y="-1136520"/>
            <a:chExt cx="10391040" cy="9245880"/>
          </a:xfrm>
        </p:grpSpPr>
        <p:sp>
          <p:nvSpPr>
            <p:cNvPr id="287" name=""/>
            <p:cNvSpPr/>
            <p:nvPr/>
          </p:nvSpPr>
          <p:spPr>
            <a:xfrm flipH="1" flipV="1" rot="9362400">
              <a:off x="2228400" y="-49680"/>
              <a:ext cx="6700680" cy="6348240"/>
            </a:xfrm>
            <a:custGeom>
              <a:avLst/>
              <a:gdLst/>
              <a:ahLst/>
              <a:rect l="l" t="t" r="r" b="b"/>
              <a:pathLst>
                <a:path w="4221" h="3999">
                  <a:moveTo>
                    <a:pt x="0" y="113"/>
                  </a:moveTo>
                  <a:lnTo>
                    <a:pt x="276" y="0"/>
                  </a:lnTo>
                  <a:lnTo>
                    <a:pt x="804" y="133"/>
                  </a:lnTo>
                  <a:lnTo>
                    <a:pt x="2125" y="463"/>
                  </a:lnTo>
                  <a:lnTo>
                    <a:pt x="2402" y="310"/>
                  </a:lnTo>
                  <a:lnTo>
                    <a:pt x="3744" y="715"/>
                  </a:lnTo>
                  <a:lnTo>
                    <a:pt x="3844" y="1080"/>
                  </a:lnTo>
                  <a:lnTo>
                    <a:pt x="4221" y="1356"/>
                  </a:lnTo>
                  <a:lnTo>
                    <a:pt x="4221" y="1662"/>
                  </a:lnTo>
                  <a:lnTo>
                    <a:pt x="3296" y="3950"/>
                  </a:lnTo>
                  <a:lnTo>
                    <a:pt x="3090" y="3999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 rot="9362400">
              <a:off x="834120" y="680760"/>
              <a:ext cx="6837480" cy="6246720"/>
            </a:xfrm>
            <a:custGeom>
              <a:avLst/>
              <a:gdLst/>
              <a:ahLst/>
              <a:rect l="l" t="t" r="r" b="b"/>
              <a:pathLst>
                <a:path w="4307" h="3935">
                  <a:moveTo>
                    <a:pt x="311" y="59"/>
                  </a:moveTo>
                  <a:lnTo>
                    <a:pt x="774" y="0"/>
                  </a:lnTo>
                  <a:lnTo>
                    <a:pt x="4070" y="1001"/>
                  </a:lnTo>
                  <a:lnTo>
                    <a:pt x="4276" y="1223"/>
                  </a:lnTo>
                  <a:lnTo>
                    <a:pt x="4307" y="1681"/>
                  </a:lnTo>
                  <a:lnTo>
                    <a:pt x="4100" y="3915"/>
                  </a:lnTo>
                  <a:lnTo>
                    <a:pt x="3889" y="3935"/>
                  </a:lnTo>
                  <a:lnTo>
                    <a:pt x="1432" y="3269"/>
                  </a:lnTo>
                  <a:lnTo>
                    <a:pt x="427" y="3032"/>
                  </a:lnTo>
                  <a:lnTo>
                    <a:pt x="110" y="2860"/>
                  </a:lnTo>
                  <a:lnTo>
                    <a:pt x="0" y="2579"/>
                  </a:lnTo>
                  <a:lnTo>
                    <a:pt x="65" y="1301"/>
                  </a:lnTo>
                  <a:lnTo>
                    <a:pt x="75" y="438"/>
                  </a:lnTo>
                  <a:lnTo>
                    <a:pt x="311" y="59"/>
                  </a:lnTo>
                  <a:lnTo>
                    <a:pt x="311" y="59"/>
                  </a:lnTo>
                  <a:close/>
                </a:path>
              </a:pathLst>
            </a:custGeom>
            <a:solidFill>
              <a:srgbClr val="fce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 rot="9362400">
              <a:off x="7415640" y="1358640"/>
              <a:ext cx="1285920" cy="3632760"/>
            </a:xfrm>
            <a:custGeom>
              <a:avLst/>
              <a:gdLst/>
              <a:ahLst/>
              <a:rect l="l" t="t" r="r" b="b"/>
              <a:pathLst>
                <a:path w="810" h="2288">
                  <a:moveTo>
                    <a:pt x="237" y="0"/>
                  </a:moveTo>
                  <a:lnTo>
                    <a:pt x="810" y="246"/>
                  </a:lnTo>
                  <a:lnTo>
                    <a:pt x="51" y="2288"/>
                  </a:lnTo>
                  <a:lnTo>
                    <a:pt x="0" y="2258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 rot="9362400">
              <a:off x="4663080" y="-189720"/>
              <a:ext cx="3533760" cy="1957320"/>
            </a:xfrm>
            <a:custGeom>
              <a:avLst/>
              <a:gdLst/>
              <a:ahLst/>
              <a:rect l="l" t="t" r="r" b="b"/>
              <a:pathLst>
                <a:path w="2226" h="1233">
                  <a:moveTo>
                    <a:pt x="40" y="286"/>
                  </a:moveTo>
                  <a:lnTo>
                    <a:pt x="56" y="276"/>
                  </a:lnTo>
                  <a:lnTo>
                    <a:pt x="71" y="266"/>
                  </a:lnTo>
                  <a:lnTo>
                    <a:pt x="86" y="252"/>
                  </a:lnTo>
                  <a:lnTo>
                    <a:pt x="101" y="242"/>
                  </a:lnTo>
                  <a:lnTo>
                    <a:pt x="116" y="222"/>
                  </a:lnTo>
                  <a:lnTo>
                    <a:pt x="131" y="207"/>
                  </a:lnTo>
                  <a:lnTo>
                    <a:pt x="146" y="197"/>
                  </a:lnTo>
                  <a:lnTo>
                    <a:pt x="161" y="183"/>
                  </a:lnTo>
                  <a:lnTo>
                    <a:pt x="171" y="173"/>
                  </a:lnTo>
                  <a:lnTo>
                    <a:pt x="186" y="163"/>
                  </a:lnTo>
                  <a:lnTo>
                    <a:pt x="201" y="153"/>
                  </a:lnTo>
                  <a:lnTo>
                    <a:pt x="216" y="143"/>
                  </a:lnTo>
                  <a:lnTo>
                    <a:pt x="226" y="138"/>
                  </a:lnTo>
                  <a:lnTo>
                    <a:pt x="241" y="133"/>
                  </a:lnTo>
                  <a:lnTo>
                    <a:pt x="257" y="128"/>
                  </a:lnTo>
                  <a:lnTo>
                    <a:pt x="272" y="123"/>
                  </a:lnTo>
                  <a:lnTo>
                    <a:pt x="282" y="119"/>
                  </a:lnTo>
                  <a:lnTo>
                    <a:pt x="297" y="119"/>
                  </a:lnTo>
                  <a:lnTo>
                    <a:pt x="312" y="119"/>
                  </a:lnTo>
                  <a:lnTo>
                    <a:pt x="327" y="119"/>
                  </a:lnTo>
                  <a:lnTo>
                    <a:pt x="337" y="119"/>
                  </a:lnTo>
                  <a:lnTo>
                    <a:pt x="352" y="119"/>
                  </a:lnTo>
                  <a:lnTo>
                    <a:pt x="367" y="119"/>
                  </a:lnTo>
                  <a:lnTo>
                    <a:pt x="382" y="123"/>
                  </a:lnTo>
                  <a:lnTo>
                    <a:pt x="397" y="123"/>
                  </a:lnTo>
                  <a:lnTo>
                    <a:pt x="412" y="128"/>
                  </a:lnTo>
                  <a:lnTo>
                    <a:pt x="422" y="133"/>
                  </a:lnTo>
                  <a:lnTo>
                    <a:pt x="437" y="138"/>
                  </a:lnTo>
                  <a:lnTo>
                    <a:pt x="453" y="143"/>
                  </a:lnTo>
                  <a:lnTo>
                    <a:pt x="468" y="143"/>
                  </a:lnTo>
                  <a:lnTo>
                    <a:pt x="478" y="148"/>
                  </a:lnTo>
                  <a:lnTo>
                    <a:pt x="493" y="158"/>
                  </a:lnTo>
                  <a:lnTo>
                    <a:pt x="508" y="163"/>
                  </a:lnTo>
                  <a:lnTo>
                    <a:pt x="523" y="168"/>
                  </a:lnTo>
                  <a:lnTo>
                    <a:pt x="538" y="173"/>
                  </a:lnTo>
                  <a:lnTo>
                    <a:pt x="553" y="178"/>
                  </a:lnTo>
                  <a:lnTo>
                    <a:pt x="563" y="183"/>
                  </a:lnTo>
                  <a:lnTo>
                    <a:pt x="583" y="188"/>
                  </a:lnTo>
                  <a:lnTo>
                    <a:pt x="593" y="193"/>
                  </a:lnTo>
                  <a:lnTo>
                    <a:pt x="613" y="197"/>
                  </a:lnTo>
                  <a:lnTo>
                    <a:pt x="623" y="202"/>
                  </a:lnTo>
                  <a:lnTo>
                    <a:pt x="633" y="207"/>
                  </a:lnTo>
                  <a:lnTo>
                    <a:pt x="649" y="212"/>
                  </a:lnTo>
                  <a:lnTo>
                    <a:pt x="664" y="217"/>
                  </a:lnTo>
                  <a:lnTo>
                    <a:pt x="674" y="222"/>
                  </a:lnTo>
                  <a:lnTo>
                    <a:pt x="684" y="227"/>
                  </a:lnTo>
                  <a:lnTo>
                    <a:pt x="699" y="227"/>
                  </a:lnTo>
                  <a:lnTo>
                    <a:pt x="714" y="232"/>
                  </a:lnTo>
                  <a:lnTo>
                    <a:pt x="724" y="237"/>
                  </a:lnTo>
                  <a:lnTo>
                    <a:pt x="734" y="242"/>
                  </a:lnTo>
                  <a:lnTo>
                    <a:pt x="749" y="247"/>
                  </a:lnTo>
                  <a:lnTo>
                    <a:pt x="764" y="252"/>
                  </a:lnTo>
                  <a:lnTo>
                    <a:pt x="774" y="257"/>
                  </a:lnTo>
                  <a:lnTo>
                    <a:pt x="789" y="262"/>
                  </a:lnTo>
                  <a:lnTo>
                    <a:pt x="799" y="266"/>
                  </a:lnTo>
                  <a:lnTo>
                    <a:pt x="814" y="271"/>
                  </a:lnTo>
                  <a:lnTo>
                    <a:pt x="829" y="276"/>
                  </a:lnTo>
                  <a:lnTo>
                    <a:pt x="839" y="281"/>
                  </a:lnTo>
                  <a:lnTo>
                    <a:pt x="855" y="286"/>
                  </a:lnTo>
                  <a:lnTo>
                    <a:pt x="865" y="291"/>
                  </a:lnTo>
                  <a:lnTo>
                    <a:pt x="880" y="296"/>
                  </a:lnTo>
                  <a:lnTo>
                    <a:pt x="890" y="301"/>
                  </a:lnTo>
                  <a:lnTo>
                    <a:pt x="905" y="306"/>
                  </a:lnTo>
                  <a:lnTo>
                    <a:pt x="920" y="311"/>
                  </a:lnTo>
                  <a:lnTo>
                    <a:pt x="930" y="311"/>
                  </a:lnTo>
                  <a:lnTo>
                    <a:pt x="945" y="321"/>
                  </a:lnTo>
                  <a:lnTo>
                    <a:pt x="955" y="321"/>
                  </a:lnTo>
                  <a:lnTo>
                    <a:pt x="970" y="326"/>
                  </a:lnTo>
                  <a:lnTo>
                    <a:pt x="985" y="331"/>
                  </a:lnTo>
                  <a:lnTo>
                    <a:pt x="1000" y="336"/>
                  </a:lnTo>
                  <a:lnTo>
                    <a:pt x="1010" y="340"/>
                  </a:lnTo>
                  <a:lnTo>
                    <a:pt x="1025" y="345"/>
                  </a:lnTo>
                  <a:lnTo>
                    <a:pt x="1035" y="350"/>
                  </a:lnTo>
                  <a:lnTo>
                    <a:pt x="1051" y="355"/>
                  </a:lnTo>
                  <a:lnTo>
                    <a:pt x="1066" y="360"/>
                  </a:lnTo>
                  <a:lnTo>
                    <a:pt x="1081" y="365"/>
                  </a:lnTo>
                  <a:lnTo>
                    <a:pt x="1091" y="370"/>
                  </a:lnTo>
                  <a:lnTo>
                    <a:pt x="1106" y="375"/>
                  </a:lnTo>
                  <a:lnTo>
                    <a:pt x="1116" y="375"/>
                  </a:lnTo>
                  <a:lnTo>
                    <a:pt x="1131" y="385"/>
                  </a:lnTo>
                  <a:lnTo>
                    <a:pt x="1146" y="385"/>
                  </a:lnTo>
                  <a:lnTo>
                    <a:pt x="1156" y="390"/>
                  </a:lnTo>
                  <a:lnTo>
                    <a:pt x="1171" y="395"/>
                  </a:lnTo>
                  <a:lnTo>
                    <a:pt x="1186" y="395"/>
                  </a:lnTo>
                  <a:lnTo>
                    <a:pt x="1196" y="400"/>
                  </a:lnTo>
                  <a:lnTo>
                    <a:pt x="1211" y="405"/>
                  </a:lnTo>
                  <a:lnTo>
                    <a:pt x="1221" y="409"/>
                  </a:lnTo>
                  <a:lnTo>
                    <a:pt x="1236" y="414"/>
                  </a:lnTo>
                  <a:lnTo>
                    <a:pt x="1252" y="414"/>
                  </a:lnTo>
                  <a:lnTo>
                    <a:pt x="1267" y="419"/>
                  </a:lnTo>
                  <a:lnTo>
                    <a:pt x="1277" y="424"/>
                  </a:lnTo>
                  <a:lnTo>
                    <a:pt x="1292" y="424"/>
                  </a:lnTo>
                  <a:lnTo>
                    <a:pt x="1302" y="429"/>
                  </a:lnTo>
                  <a:lnTo>
                    <a:pt x="1317" y="434"/>
                  </a:lnTo>
                  <a:lnTo>
                    <a:pt x="1332" y="434"/>
                  </a:lnTo>
                  <a:lnTo>
                    <a:pt x="1347" y="439"/>
                  </a:lnTo>
                  <a:lnTo>
                    <a:pt x="1357" y="444"/>
                  </a:lnTo>
                  <a:lnTo>
                    <a:pt x="1372" y="449"/>
                  </a:lnTo>
                  <a:lnTo>
                    <a:pt x="1382" y="449"/>
                  </a:lnTo>
                  <a:lnTo>
                    <a:pt x="1397" y="454"/>
                  </a:lnTo>
                  <a:lnTo>
                    <a:pt x="1407" y="454"/>
                  </a:lnTo>
                  <a:lnTo>
                    <a:pt x="1422" y="459"/>
                  </a:lnTo>
                  <a:lnTo>
                    <a:pt x="1438" y="459"/>
                  </a:lnTo>
                  <a:lnTo>
                    <a:pt x="1453" y="464"/>
                  </a:lnTo>
                  <a:lnTo>
                    <a:pt x="1463" y="464"/>
                  </a:lnTo>
                  <a:lnTo>
                    <a:pt x="1473" y="469"/>
                  </a:lnTo>
                  <a:lnTo>
                    <a:pt x="1483" y="469"/>
                  </a:lnTo>
                  <a:lnTo>
                    <a:pt x="1498" y="474"/>
                  </a:lnTo>
                  <a:lnTo>
                    <a:pt x="1513" y="479"/>
                  </a:lnTo>
                  <a:lnTo>
                    <a:pt x="1533" y="483"/>
                  </a:lnTo>
                  <a:lnTo>
                    <a:pt x="1543" y="488"/>
                  </a:lnTo>
                  <a:lnTo>
                    <a:pt x="1558" y="498"/>
                  </a:lnTo>
                  <a:lnTo>
                    <a:pt x="1568" y="508"/>
                  </a:lnTo>
                  <a:lnTo>
                    <a:pt x="1578" y="518"/>
                  </a:lnTo>
                  <a:lnTo>
                    <a:pt x="1583" y="523"/>
                  </a:lnTo>
                  <a:lnTo>
                    <a:pt x="1593" y="533"/>
                  </a:lnTo>
                  <a:lnTo>
                    <a:pt x="1598" y="548"/>
                  </a:lnTo>
                  <a:lnTo>
                    <a:pt x="1603" y="557"/>
                  </a:lnTo>
                  <a:lnTo>
                    <a:pt x="1603" y="567"/>
                  </a:lnTo>
                  <a:lnTo>
                    <a:pt x="1608" y="577"/>
                  </a:lnTo>
                  <a:lnTo>
                    <a:pt x="1608" y="587"/>
                  </a:lnTo>
                  <a:lnTo>
                    <a:pt x="1613" y="602"/>
                  </a:lnTo>
                  <a:lnTo>
                    <a:pt x="1613" y="612"/>
                  </a:lnTo>
                  <a:lnTo>
                    <a:pt x="1613" y="622"/>
                  </a:lnTo>
                  <a:lnTo>
                    <a:pt x="1613" y="636"/>
                  </a:lnTo>
                  <a:lnTo>
                    <a:pt x="1613" y="651"/>
                  </a:lnTo>
                  <a:lnTo>
                    <a:pt x="1613" y="661"/>
                  </a:lnTo>
                  <a:lnTo>
                    <a:pt x="1613" y="676"/>
                  </a:lnTo>
                  <a:lnTo>
                    <a:pt x="1613" y="686"/>
                  </a:lnTo>
                  <a:lnTo>
                    <a:pt x="1618" y="700"/>
                  </a:lnTo>
                  <a:lnTo>
                    <a:pt x="1618" y="715"/>
                  </a:lnTo>
                  <a:lnTo>
                    <a:pt x="1618" y="730"/>
                  </a:lnTo>
                  <a:lnTo>
                    <a:pt x="1623" y="745"/>
                  </a:lnTo>
                  <a:lnTo>
                    <a:pt x="1628" y="760"/>
                  </a:lnTo>
                  <a:lnTo>
                    <a:pt x="1633" y="769"/>
                  </a:lnTo>
                  <a:lnTo>
                    <a:pt x="1639" y="789"/>
                  </a:lnTo>
                  <a:lnTo>
                    <a:pt x="1649" y="799"/>
                  </a:lnTo>
                  <a:lnTo>
                    <a:pt x="1659" y="814"/>
                  </a:lnTo>
                  <a:lnTo>
                    <a:pt x="1669" y="829"/>
                  </a:lnTo>
                  <a:lnTo>
                    <a:pt x="1679" y="843"/>
                  </a:lnTo>
                  <a:lnTo>
                    <a:pt x="1689" y="853"/>
                  </a:lnTo>
                  <a:lnTo>
                    <a:pt x="1704" y="868"/>
                  </a:lnTo>
                  <a:lnTo>
                    <a:pt x="1719" y="878"/>
                  </a:lnTo>
                  <a:lnTo>
                    <a:pt x="1734" y="888"/>
                  </a:lnTo>
                  <a:lnTo>
                    <a:pt x="1749" y="898"/>
                  </a:lnTo>
                  <a:lnTo>
                    <a:pt x="1764" y="913"/>
                  </a:lnTo>
                  <a:lnTo>
                    <a:pt x="1779" y="922"/>
                  </a:lnTo>
                  <a:lnTo>
                    <a:pt x="1799" y="932"/>
                  </a:lnTo>
                  <a:lnTo>
                    <a:pt x="1814" y="942"/>
                  </a:lnTo>
                  <a:lnTo>
                    <a:pt x="1829" y="952"/>
                  </a:lnTo>
                  <a:lnTo>
                    <a:pt x="1850" y="962"/>
                  </a:lnTo>
                  <a:lnTo>
                    <a:pt x="1865" y="972"/>
                  </a:lnTo>
                  <a:lnTo>
                    <a:pt x="1885" y="982"/>
                  </a:lnTo>
                  <a:lnTo>
                    <a:pt x="1900" y="991"/>
                  </a:lnTo>
                  <a:lnTo>
                    <a:pt x="1915" y="1001"/>
                  </a:lnTo>
                  <a:lnTo>
                    <a:pt x="1935" y="1011"/>
                  </a:lnTo>
                  <a:lnTo>
                    <a:pt x="1950" y="1021"/>
                  </a:lnTo>
                  <a:lnTo>
                    <a:pt x="1965" y="1031"/>
                  </a:lnTo>
                  <a:lnTo>
                    <a:pt x="1980" y="1041"/>
                  </a:lnTo>
                  <a:lnTo>
                    <a:pt x="2000" y="1051"/>
                  </a:lnTo>
                  <a:lnTo>
                    <a:pt x="2015" y="1065"/>
                  </a:lnTo>
                  <a:lnTo>
                    <a:pt x="2025" y="1075"/>
                  </a:lnTo>
                  <a:lnTo>
                    <a:pt x="2041" y="1085"/>
                  </a:lnTo>
                  <a:lnTo>
                    <a:pt x="2051" y="1100"/>
                  </a:lnTo>
                  <a:lnTo>
                    <a:pt x="2066" y="1115"/>
                  </a:lnTo>
                  <a:lnTo>
                    <a:pt x="2076" y="1125"/>
                  </a:lnTo>
                  <a:lnTo>
                    <a:pt x="2081" y="1139"/>
                  </a:lnTo>
                  <a:lnTo>
                    <a:pt x="2091" y="1159"/>
                  </a:lnTo>
                  <a:lnTo>
                    <a:pt x="2096" y="1174"/>
                  </a:lnTo>
                  <a:lnTo>
                    <a:pt x="2106" y="1194"/>
                  </a:lnTo>
                  <a:lnTo>
                    <a:pt x="2106" y="1203"/>
                  </a:lnTo>
                  <a:lnTo>
                    <a:pt x="2116" y="1213"/>
                  </a:lnTo>
                  <a:lnTo>
                    <a:pt x="2121" y="1218"/>
                  </a:lnTo>
                  <a:lnTo>
                    <a:pt x="2131" y="1228"/>
                  </a:lnTo>
                  <a:lnTo>
                    <a:pt x="2136" y="1228"/>
                  </a:lnTo>
                  <a:lnTo>
                    <a:pt x="2151" y="1233"/>
                  </a:lnTo>
                  <a:lnTo>
                    <a:pt x="2161" y="1233"/>
                  </a:lnTo>
                  <a:lnTo>
                    <a:pt x="2171" y="1233"/>
                  </a:lnTo>
                  <a:lnTo>
                    <a:pt x="2181" y="1233"/>
                  </a:lnTo>
                  <a:lnTo>
                    <a:pt x="2191" y="1228"/>
                  </a:lnTo>
                  <a:lnTo>
                    <a:pt x="2201" y="1218"/>
                  </a:lnTo>
                  <a:lnTo>
                    <a:pt x="2211" y="1213"/>
                  </a:lnTo>
                  <a:lnTo>
                    <a:pt x="2216" y="1203"/>
                  </a:lnTo>
                  <a:lnTo>
                    <a:pt x="2221" y="1199"/>
                  </a:lnTo>
                  <a:lnTo>
                    <a:pt x="2226" y="1184"/>
                  </a:lnTo>
                  <a:lnTo>
                    <a:pt x="2226" y="1174"/>
                  </a:lnTo>
                  <a:lnTo>
                    <a:pt x="2226" y="1154"/>
                  </a:lnTo>
                  <a:lnTo>
                    <a:pt x="2226" y="1139"/>
                  </a:lnTo>
                  <a:lnTo>
                    <a:pt x="2221" y="1120"/>
                  </a:lnTo>
                  <a:lnTo>
                    <a:pt x="2221" y="1105"/>
                  </a:lnTo>
                  <a:lnTo>
                    <a:pt x="2216" y="1090"/>
                  </a:lnTo>
                  <a:lnTo>
                    <a:pt x="2206" y="1075"/>
                  </a:lnTo>
                  <a:lnTo>
                    <a:pt x="2201" y="1065"/>
                  </a:lnTo>
                  <a:lnTo>
                    <a:pt x="2196" y="1051"/>
                  </a:lnTo>
                  <a:lnTo>
                    <a:pt x="2186" y="1036"/>
                  </a:lnTo>
                  <a:lnTo>
                    <a:pt x="2176" y="1026"/>
                  </a:lnTo>
                  <a:lnTo>
                    <a:pt x="2171" y="1016"/>
                  </a:lnTo>
                  <a:lnTo>
                    <a:pt x="2161" y="1006"/>
                  </a:lnTo>
                  <a:lnTo>
                    <a:pt x="2151" y="991"/>
                  </a:lnTo>
                  <a:lnTo>
                    <a:pt x="2136" y="982"/>
                  </a:lnTo>
                  <a:lnTo>
                    <a:pt x="2126" y="972"/>
                  </a:lnTo>
                  <a:lnTo>
                    <a:pt x="2116" y="962"/>
                  </a:lnTo>
                  <a:lnTo>
                    <a:pt x="2101" y="952"/>
                  </a:lnTo>
                  <a:lnTo>
                    <a:pt x="2086" y="942"/>
                  </a:lnTo>
                  <a:lnTo>
                    <a:pt x="2076" y="937"/>
                  </a:lnTo>
                  <a:lnTo>
                    <a:pt x="2061" y="927"/>
                  </a:lnTo>
                  <a:lnTo>
                    <a:pt x="2046" y="917"/>
                  </a:lnTo>
                  <a:lnTo>
                    <a:pt x="2030" y="913"/>
                  </a:lnTo>
                  <a:lnTo>
                    <a:pt x="2015" y="903"/>
                  </a:lnTo>
                  <a:lnTo>
                    <a:pt x="2005" y="898"/>
                  </a:lnTo>
                  <a:lnTo>
                    <a:pt x="1985" y="888"/>
                  </a:lnTo>
                  <a:lnTo>
                    <a:pt x="1970" y="878"/>
                  </a:lnTo>
                  <a:lnTo>
                    <a:pt x="1955" y="873"/>
                  </a:lnTo>
                  <a:lnTo>
                    <a:pt x="1945" y="863"/>
                  </a:lnTo>
                  <a:lnTo>
                    <a:pt x="1925" y="858"/>
                  </a:lnTo>
                  <a:lnTo>
                    <a:pt x="1915" y="848"/>
                  </a:lnTo>
                  <a:lnTo>
                    <a:pt x="1900" y="843"/>
                  </a:lnTo>
                  <a:lnTo>
                    <a:pt x="1890" y="839"/>
                  </a:lnTo>
                  <a:lnTo>
                    <a:pt x="1875" y="829"/>
                  </a:lnTo>
                  <a:lnTo>
                    <a:pt x="1865" y="824"/>
                  </a:lnTo>
                  <a:lnTo>
                    <a:pt x="1855" y="814"/>
                  </a:lnTo>
                  <a:lnTo>
                    <a:pt x="1845" y="809"/>
                  </a:lnTo>
                  <a:lnTo>
                    <a:pt x="1824" y="794"/>
                  </a:lnTo>
                  <a:lnTo>
                    <a:pt x="1814" y="779"/>
                  </a:lnTo>
                  <a:lnTo>
                    <a:pt x="1804" y="765"/>
                  </a:lnTo>
                  <a:lnTo>
                    <a:pt x="1794" y="745"/>
                  </a:lnTo>
                  <a:lnTo>
                    <a:pt x="1784" y="730"/>
                  </a:lnTo>
                  <a:lnTo>
                    <a:pt x="1784" y="715"/>
                  </a:lnTo>
                  <a:lnTo>
                    <a:pt x="1774" y="696"/>
                  </a:lnTo>
                  <a:lnTo>
                    <a:pt x="1774" y="681"/>
                  </a:lnTo>
                  <a:lnTo>
                    <a:pt x="1774" y="666"/>
                  </a:lnTo>
                  <a:lnTo>
                    <a:pt x="1774" y="646"/>
                  </a:lnTo>
                  <a:lnTo>
                    <a:pt x="1774" y="631"/>
                  </a:lnTo>
                  <a:lnTo>
                    <a:pt x="1774" y="612"/>
                  </a:lnTo>
                  <a:lnTo>
                    <a:pt x="1774" y="597"/>
                  </a:lnTo>
                  <a:lnTo>
                    <a:pt x="1774" y="582"/>
                  </a:lnTo>
                  <a:lnTo>
                    <a:pt x="1774" y="562"/>
                  </a:lnTo>
                  <a:lnTo>
                    <a:pt x="1774" y="548"/>
                  </a:lnTo>
                  <a:lnTo>
                    <a:pt x="1774" y="528"/>
                  </a:lnTo>
                  <a:lnTo>
                    <a:pt x="1774" y="513"/>
                  </a:lnTo>
                  <a:lnTo>
                    <a:pt x="1769" y="498"/>
                  </a:lnTo>
                  <a:lnTo>
                    <a:pt x="1769" y="479"/>
                  </a:lnTo>
                  <a:lnTo>
                    <a:pt x="1764" y="464"/>
                  </a:lnTo>
                  <a:lnTo>
                    <a:pt x="1754" y="449"/>
                  </a:lnTo>
                  <a:lnTo>
                    <a:pt x="1744" y="434"/>
                  </a:lnTo>
                  <a:lnTo>
                    <a:pt x="1734" y="419"/>
                  </a:lnTo>
                  <a:lnTo>
                    <a:pt x="1719" y="405"/>
                  </a:lnTo>
                  <a:lnTo>
                    <a:pt x="1704" y="395"/>
                  </a:lnTo>
                  <a:lnTo>
                    <a:pt x="1694" y="390"/>
                  </a:lnTo>
                  <a:lnTo>
                    <a:pt x="1684" y="385"/>
                  </a:lnTo>
                  <a:lnTo>
                    <a:pt x="1674" y="375"/>
                  </a:lnTo>
                  <a:lnTo>
                    <a:pt x="1659" y="370"/>
                  </a:lnTo>
                  <a:lnTo>
                    <a:pt x="1649" y="365"/>
                  </a:lnTo>
                  <a:lnTo>
                    <a:pt x="1639" y="360"/>
                  </a:lnTo>
                  <a:lnTo>
                    <a:pt x="1623" y="355"/>
                  </a:lnTo>
                  <a:lnTo>
                    <a:pt x="1608" y="355"/>
                  </a:lnTo>
                  <a:lnTo>
                    <a:pt x="1588" y="345"/>
                  </a:lnTo>
                  <a:lnTo>
                    <a:pt x="1573" y="340"/>
                  </a:lnTo>
                  <a:lnTo>
                    <a:pt x="1558" y="336"/>
                  </a:lnTo>
                  <a:lnTo>
                    <a:pt x="1538" y="331"/>
                  </a:lnTo>
                  <a:lnTo>
                    <a:pt x="1523" y="326"/>
                  </a:lnTo>
                  <a:lnTo>
                    <a:pt x="1508" y="321"/>
                  </a:lnTo>
                  <a:lnTo>
                    <a:pt x="1488" y="316"/>
                  </a:lnTo>
                  <a:lnTo>
                    <a:pt x="1473" y="311"/>
                  </a:lnTo>
                  <a:lnTo>
                    <a:pt x="1458" y="306"/>
                  </a:lnTo>
                  <a:lnTo>
                    <a:pt x="1438" y="301"/>
                  </a:lnTo>
                  <a:lnTo>
                    <a:pt x="1422" y="296"/>
                  </a:lnTo>
                  <a:lnTo>
                    <a:pt x="1407" y="291"/>
                  </a:lnTo>
                  <a:lnTo>
                    <a:pt x="1387" y="286"/>
                  </a:lnTo>
                  <a:lnTo>
                    <a:pt x="1372" y="281"/>
                  </a:lnTo>
                  <a:lnTo>
                    <a:pt x="1357" y="276"/>
                  </a:lnTo>
                  <a:lnTo>
                    <a:pt x="1337" y="271"/>
                  </a:lnTo>
                  <a:lnTo>
                    <a:pt x="1322" y="266"/>
                  </a:lnTo>
                  <a:lnTo>
                    <a:pt x="1307" y="262"/>
                  </a:lnTo>
                  <a:lnTo>
                    <a:pt x="1287" y="257"/>
                  </a:lnTo>
                  <a:lnTo>
                    <a:pt x="1272" y="252"/>
                  </a:lnTo>
                  <a:lnTo>
                    <a:pt x="1257" y="247"/>
                  </a:lnTo>
                  <a:lnTo>
                    <a:pt x="1236" y="242"/>
                  </a:lnTo>
                  <a:lnTo>
                    <a:pt x="1221" y="237"/>
                  </a:lnTo>
                  <a:lnTo>
                    <a:pt x="1206" y="232"/>
                  </a:lnTo>
                  <a:lnTo>
                    <a:pt x="1186" y="227"/>
                  </a:lnTo>
                  <a:lnTo>
                    <a:pt x="1171" y="222"/>
                  </a:lnTo>
                  <a:lnTo>
                    <a:pt x="1156" y="217"/>
                  </a:lnTo>
                  <a:lnTo>
                    <a:pt x="1136" y="212"/>
                  </a:lnTo>
                  <a:lnTo>
                    <a:pt x="1121" y="207"/>
                  </a:lnTo>
                  <a:lnTo>
                    <a:pt x="1106" y="207"/>
                  </a:lnTo>
                  <a:lnTo>
                    <a:pt x="1086" y="197"/>
                  </a:lnTo>
                  <a:lnTo>
                    <a:pt x="1071" y="197"/>
                  </a:lnTo>
                  <a:lnTo>
                    <a:pt x="1051" y="193"/>
                  </a:lnTo>
                  <a:lnTo>
                    <a:pt x="1035" y="183"/>
                  </a:lnTo>
                  <a:lnTo>
                    <a:pt x="1020" y="178"/>
                  </a:lnTo>
                  <a:lnTo>
                    <a:pt x="1000" y="178"/>
                  </a:lnTo>
                  <a:lnTo>
                    <a:pt x="985" y="168"/>
                  </a:lnTo>
                  <a:lnTo>
                    <a:pt x="970" y="163"/>
                  </a:lnTo>
                  <a:lnTo>
                    <a:pt x="950" y="158"/>
                  </a:lnTo>
                  <a:lnTo>
                    <a:pt x="935" y="158"/>
                  </a:lnTo>
                  <a:lnTo>
                    <a:pt x="920" y="148"/>
                  </a:lnTo>
                  <a:lnTo>
                    <a:pt x="900" y="143"/>
                  </a:lnTo>
                  <a:lnTo>
                    <a:pt x="885" y="138"/>
                  </a:lnTo>
                  <a:lnTo>
                    <a:pt x="870" y="133"/>
                  </a:lnTo>
                  <a:lnTo>
                    <a:pt x="850" y="128"/>
                  </a:lnTo>
                  <a:lnTo>
                    <a:pt x="834" y="128"/>
                  </a:lnTo>
                  <a:lnTo>
                    <a:pt x="819" y="119"/>
                  </a:lnTo>
                  <a:lnTo>
                    <a:pt x="799" y="119"/>
                  </a:lnTo>
                  <a:lnTo>
                    <a:pt x="784" y="114"/>
                  </a:lnTo>
                  <a:lnTo>
                    <a:pt x="769" y="109"/>
                  </a:lnTo>
                  <a:lnTo>
                    <a:pt x="749" y="99"/>
                  </a:lnTo>
                  <a:lnTo>
                    <a:pt x="734" y="99"/>
                  </a:lnTo>
                  <a:lnTo>
                    <a:pt x="719" y="94"/>
                  </a:lnTo>
                  <a:lnTo>
                    <a:pt x="699" y="89"/>
                  </a:lnTo>
                  <a:lnTo>
                    <a:pt x="684" y="84"/>
                  </a:lnTo>
                  <a:lnTo>
                    <a:pt x="669" y="79"/>
                  </a:lnTo>
                  <a:lnTo>
                    <a:pt x="649" y="74"/>
                  </a:lnTo>
                  <a:lnTo>
                    <a:pt x="633" y="69"/>
                  </a:lnTo>
                  <a:lnTo>
                    <a:pt x="618" y="64"/>
                  </a:lnTo>
                  <a:lnTo>
                    <a:pt x="598" y="59"/>
                  </a:lnTo>
                  <a:lnTo>
                    <a:pt x="583" y="54"/>
                  </a:lnTo>
                  <a:lnTo>
                    <a:pt x="568" y="49"/>
                  </a:lnTo>
                  <a:lnTo>
                    <a:pt x="548" y="45"/>
                  </a:lnTo>
                  <a:lnTo>
                    <a:pt x="533" y="40"/>
                  </a:lnTo>
                  <a:lnTo>
                    <a:pt x="518" y="35"/>
                  </a:lnTo>
                  <a:lnTo>
                    <a:pt x="498" y="30"/>
                  </a:lnTo>
                  <a:lnTo>
                    <a:pt x="483" y="25"/>
                  </a:lnTo>
                  <a:lnTo>
                    <a:pt x="473" y="20"/>
                  </a:lnTo>
                  <a:lnTo>
                    <a:pt x="458" y="15"/>
                  </a:lnTo>
                  <a:lnTo>
                    <a:pt x="442" y="15"/>
                  </a:lnTo>
                  <a:lnTo>
                    <a:pt x="432" y="10"/>
                  </a:lnTo>
                  <a:lnTo>
                    <a:pt x="417" y="10"/>
                  </a:lnTo>
                  <a:lnTo>
                    <a:pt x="407" y="5"/>
                  </a:lnTo>
                  <a:lnTo>
                    <a:pt x="397" y="5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62" y="0"/>
                  </a:lnTo>
                  <a:lnTo>
                    <a:pt x="352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17" y="0"/>
                  </a:lnTo>
                  <a:lnTo>
                    <a:pt x="302" y="0"/>
                  </a:lnTo>
                  <a:lnTo>
                    <a:pt x="287" y="0"/>
                  </a:lnTo>
                  <a:lnTo>
                    <a:pt x="272" y="5"/>
                  </a:lnTo>
                  <a:lnTo>
                    <a:pt x="257" y="5"/>
                  </a:lnTo>
                  <a:lnTo>
                    <a:pt x="247" y="15"/>
                  </a:lnTo>
                  <a:lnTo>
                    <a:pt x="236" y="20"/>
                  </a:lnTo>
                  <a:lnTo>
                    <a:pt x="221" y="25"/>
                  </a:lnTo>
                  <a:lnTo>
                    <a:pt x="211" y="30"/>
                  </a:lnTo>
                  <a:lnTo>
                    <a:pt x="201" y="40"/>
                  </a:lnTo>
                  <a:lnTo>
                    <a:pt x="186" y="49"/>
                  </a:lnTo>
                  <a:lnTo>
                    <a:pt x="176" y="59"/>
                  </a:lnTo>
                  <a:lnTo>
                    <a:pt x="166" y="69"/>
                  </a:lnTo>
                  <a:lnTo>
                    <a:pt x="156" y="79"/>
                  </a:lnTo>
                  <a:lnTo>
                    <a:pt x="146" y="94"/>
                  </a:lnTo>
                  <a:lnTo>
                    <a:pt x="131" y="109"/>
                  </a:lnTo>
                  <a:lnTo>
                    <a:pt x="116" y="119"/>
                  </a:lnTo>
                  <a:lnTo>
                    <a:pt x="106" y="133"/>
                  </a:lnTo>
                  <a:lnTo>
                    <a:pt x="91" y="148"/>
                  </a:lnTo>
                  <a:lnTo>
                    <a:pt x="76" y="163"/>
                  </a:lnTo>
                  <a:lnTo>
                    <a:pt x="61" y="178"/>
                  </a:lnTo>
                  <a:lnTo>
                    <a:pt x="40" y="197"/>
                  </a:lnTo>
                  <a:lnTo>
                    <a:pt x="20" y="212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0" y="286"/>
                  </a:lnTo>
                  <a:lnTo>
                    <a:pt x="4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 rot="9362400">
              <a:off x="1118160" y="782640"/>
              <a:ext cx="3527640" cy="953640"/>
            </a:xfrm>
            <a:custGeom>
              <a:avLst/>
              <a:gdLst/>
              <a:ahLst/>
              <a:rect l="l" t="t" r="r" b="b"/>
              <a:pathLst>
                <a:path w="2222" h="601">
                  <a:moveTo>
                    <a:pt x="5" y="231"/>
                  </a:moveTo>
                  <a:lnTo>
                    <a:pt x="21" y="226"/>
                  </a:lnTo>
                  <a:lnTo>
                    <a:pt x="36" y="222"/>
                  </a:lnTo>
                  <a:lnTo>
                    <a:pt x="56" y="217"/>
                  </a:lnTo>
                  <a:lnTo>
                    <a:pt x="71" y="212"/>
                  </a:lnTo>
                  <a:lnTo>
                    <a:pt x="86" y="207"/>
                  </a:lnTo>
                  <a:lnTo>
                    <a:pt x="106" y="202"/>
                  </a:lnTo>
                  <a:lnTo>
                    <a:pt x="121" y="197"/>
                  </a:lnTo>
                  <a:lnTo>
                    <a:pt x="136" y="192"/>
                  </a:lnTo>
                  <a:lnTo>
                    <a:pt x="151" y="187"/>
                  </a:lnTo>
                  <a:lnTo>
                    <a:pt x="171" y="182"/>
                  </a:lnTo>
                  <a:lnTo>
                    <a:pt x="186" y="177"/>
                  </a:lnTo>
                  <a:lnTo>
                    <a:pt x="201" y="172"/>
                  </a:lnTo>
                  <a:lnTo>
                    <a:pt x="216" y="167"/>
                  </a:lnTo>
                  <a:lnTo>
                    <a:pt x="237" y="162"/>
                  </a:lnTo>
                  <a:lnTo>
                    <a:pt x="252" y="162"/>
                  </a:lnTo>
                  <a:lnTo>
                    <a:pt x="267" y="157"/>
                  </a:lnTo>
                  <a:lnTo>
                    <a:pt x="282" y="153"/>
                  </a:lnTo>
                  <a:lnTo>
                    <a:pt x="302" y="148"/>
                  </a:lnTo>
                  <a:lnTo>
                    <a:pt x="317" y="143"/>
                  </a:lnTo>
                  <a:lnTo>
                    <a:pt x="332" y="143"/>
                  </a:lnTo>
                  <a:lnTo>
                    <a:pt x="352" y="138"/>
                  </a:lnTo>
                  <a:lnTo>
                    <a:pt x="367" y="138"/>
                  </a:lnTo>
                  <a:lnTo>
                    <a:pt x="382" y="138"/>
                  </a:lnTo>
                  <a:lnTo>
                    <a:pt x="402" y="138"/>
                  </a:lnTo>
                  <a:lnTo>
                    <a:pt x="418" y="133"/>
                  </a:lnTo>
                  <a:lnTo>
                    <a:pt x="438" y="133"/>
                  </a:lnTo>
                  <a:lnTo>
                    <a:pt x="453" y="133"/>
                  </a:lnTo>
                  <a:lnTo>
                    <a:pt x="473" y="138"/>
                  </a:lnTo>
                  <a:lnTo>
                    <a:pt x="488" y="138"/>
                  </a:lnTo>
                  <a:lnTo>
                    <a:pt x="508" y="143"/>
                  </a:lnTo>
                  <a:lnTo>
                    <a:pt x="528" y="148"/>
                  </a:lnTo>
                  <a:lnTo>
                    <a:pt x="548" y="153"/>
                  </a:lnTo>
                  <a:lnTo>
                    <a:pt x="2191" y="601"/>
                  </a:lnTo>
                  <a:lnTo>
                    <a:pt x="2201" y="596"/>
                  </a:lnTo>
                  <a:lnTo>
                    <a:pt x="2212" y="591"/>
                  </a:lnTo>
                  <a:lnTo>
                    <a:pt x="2217" y="582"/>
                  </a:lnTo>
                  <a:lnTo>
                    <a:pt x="2222" y="577"/>
                  </a:lnTo>
                  <a:lnTo>
                    <a:pt x="2222" y="562"/>
                  </a:lnTo>
                  <a:lnTo>
                    <a:pt x="2222" y="547"/>
                  </a:lnTo>
                  <a:lnTo>
                    <a:pt x="2222" y="527"/>
                  </a:lnTo>
                  <a:lnTo>
                    <a:pt x="2217" y="513"/>
                  </a:lnTo>
                  <a:lnTo>
                    <a:pt x="769" y="93"/>
                  </a:lnTo>
                  <a:lnTo>
                    <a:pt x="759" y="88"/>
                  </a:lnTo>
                  <a:lnTo>
                    <a:pt x="744" y="83"/>
                  </a:lnTo>
                  <a:lnTo>
                    <a:pt x="729" y="79"/>
                  </a:lnTo>
                  <a:lnTo>
                    <a:pt x="719" y="74"/>
                  </a:lnTo>
                  <a:lnTo>
                    <a:pt x="704" y="69"/>
                  </a:lnTo>
                  <a:lnTo>
                    <a:pt x="694" y="64"/>
                  </a:lnTo>
                  <a:lnTo>
                    <a:pt x="679" y="59"/>
                  </a:lnTo>
                  <a:lnTo>
                    <a:pt x="669" y="59"/>
                  </a:lnTo>
                  <a:lnTo>
                    <a:pt x="654" y="49"/>
                  </a:lnTo>
                  <a:lnTo>
                    <a:pt x="639" y="44"/>
                  </a:lnTo>
                  <a:lnTo>
                    <a:pt x="629" y="44"/>
                  </a:lnTo>
                  <a:lnTo>
                    <a:pt x="613" y="39"/>
                  </a:lnTo>
                  <a:lnTo>
                    <a:pt x="598" y="34"/>
                  </a:lnTo>
                  <a:lnTo>
                    <a:pt x="588" y="29"/>
                  </a:lnTo>
                  <a:lnTo>
                    <a:pt x="573" y="29"/>
                  </a:lnTo>
                  <a:lnTo>
                    <a:pt x="563" y="24"/>
                  </a:lnTo>
                  <a:lnTo>
                    <a:pt x="548" y="19"/>
                  </a:lnTo>
                  <a:lnTo>
                    <a:pt x="533" y="19"/>
                  </a:lnTo>
                  <a:lnTo>
                    <a:pt x="518" y="14"/>
                  </a:lnTo>
                  <a:lnTo>
                    <a:pt x="508" y="14"/>
                  </a:lnTo>
                  <a:lnTo>
                    <a:pt x="493" y="9"/>
                  </a:lnTo>
                  <a:lnTo>
                    <a:pt x="478" y="9"/>
                  </a:lnTo>
                  <a:lnTo>
                    <a:pt x="463" y="5"/>
                  </a:lnTo>
                  <a:lnTo>
                    <a:pt x="453" y="5"/>
                  </a:lnTo>
                  <a:lnTo>
                    <a:pt x="438" y="5"/>
                  </a:lnTo>
                  <a:lnTo>
                    <a:pt x="423" y="0"/>
                  </a:lnTo>
                  <a:lnTo>
                    <a:pt x="407" y="0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57" y="0"/>
                  </a:lnTo>
                  <a:lnTo>
                    <a:pt x="342" y="0"/>
                  </a:lnTo>
                  <a:lnTo>
                    <a:pt x="327" y="0"/>
                  </a:lnTo>
                  <a:lnTo>
                    <a:pt x="317" y="0"/>
                  </a:lnTo>
                  <a:lnTo>
                    <a:pt x="302" y="5"/>
                  </a:lnTo>
                  <a:lnTo>
                    <a:pt x="292" y="5"/>
                  </a:lnTo>
                  <a:lnTo>
                    <a:pt x="277" y="5"/>
                  </a:lnTo>
                  <a:lnTo>
                    <a:pt x="262" y="9"/>
                  </a:lnTo>
                  <a:lnTo>
                    <a:pt x="252" y="9"/>
                  </a:lnTo>
                  <a:lnTo>
                    <a:pt x="242" y="14"/>
                  </a:lnTo>
                  <a:lnTo>
                    <a:pt x="227" y="19"/>
                  </a:lnTo>
                  <a:lnTo>
                    <a:pt x="216" y="24"/>
                  </a:lnTo>
                  <a:lnTo>
                    <a:pt x="201" y="29"/>
                  </a:lnTo>
                  <a:lnTo>
                    <a:pt x="191" y="34"/>
                  </a:lnTo>
                  <a:lnTo>
                    <a:pt x="181" y="34"/>
                  </a:lnTo>
                  <a:lnTo>
                    <a:pt x="171" y="44"/>
                  </a:lnTo>
                  <a:lnTo>
                    <a:pt x="156" y="49"/>
                  </a:lnTo>
                  <a:lnTo>
                    <a:pt x="151" y="59"/>
                  </a:lnTo>
                  <a:lnTo>
                    <a:pt x="136" y="64"/>
                  </a:lnTo>
                  <a:lnTo>
                    <a:pt x="126" y="69"/>
                  </a:lnTo>
                  <a:lnTo>
                    <a:pt x="116" y="74"/>
                  </a:lnTo>
                  <a:lnTo>
                    <a:pt x="106" y="83"/>
                  </a:lnTo>
                  <a:lnTo>
                    <a:pt x="91" y="93"/>
                  </a:lnTo>
                  <a:lnTo>
                    <a:pt x="86" y="103"/>
                  </a:lnTo>
                  <a:lnTo>
                    <a:pt x="76" y="113"/>
                  </a:lnTo>
                  <a:lnTo>
                    <a:pt x="66" y="123"/>
                  </a:lnTo>
                  <a:lnTo>
                    <a:pt x="56" y="133"/>
                  </a:lnTo>
                  <a:lnTo>
                    <a:pt x="51" y="143"/>
                  </a:lnTo>
                  <a:lnTo>
                    <a:pt x="41" y="157"/>
                  </a:lnTo>
                  <a:lnTo>
                    <a:pt x="31" y="167"/>
                  </a:lnTo>
                  <a:lnTo>
                    <a:pt x="21" y="182"/>
                  </a:lnTo>
                  <a:lnTo>
                    <a:pt x="15" y="197"/>
                  </a:lnTo>
                  <a:lnTo>
                    <a:pt x="10" y="207"/>
                  </a:lnTo>
                  <a:lnTo>
                    <a:pt x="5" y="226"/>
                  </a:lnTo>
                  <a:lnTo>
                    <a:pt x="0" y="226"/>
                  </a:lnTo>
                  <a:lnTo>
                    <a:pt x="5" y="231"/>
                  </a:lnTo>
                  <a:lnTo>
                    <a:pt x="5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 rot="9362400">
              <a:off x="7391520" y="958680"/>
              <a:ext cx="1922400" cy="4305240"/>
            </a:xfrm>
            <a:custGeom>
              <a:avLst/>
              <a:gdLst/>
              <a:ahLst/>
              <a:rect l="l" t="t" r="r" b="b"/>
              <a:pathLst>
                <a:path w="1211" h="2712">
                  <a:moveTo>
                    <a:pt x="1101" y="113"/>
                  </a:moveTo>
                  <a:lnTo>
                    <a:pt x="1101" y="123"/>
                  </a:lnTo>
                  <a:lnTo>
                    <a:pt x="1101" y="133"/>
                  </a:lnTo>
                  <a:lnTo>
                    <a:pt x="1096" y="143"/>
                  </a:lnTo>
                  <a:lnTo>
                    <a:pt x="1096" y="158"/>
                  </a:lnTo>
                  <a:lnTo>
                    <a:pt x="1096" y="168"/>
                  </a:lnTo>
                  <a:lnTo>
                    <a:pt x="1096" y="178"/>
                  </a:lnTo>
                  <a:lnTo>
                    <a:pt x="1091" y="187"/>
                  </a:lnTo>
                  <a:lnTo>
                    <a:pt x="1091" y="202"/>
                  </a:lnTo>
                  <a:lnTo>
                    <a:pt x="1086" y="212"/>
                  </a:lnTo>
                  <a:lnTo>
                    <a:pt x="1086" y="222"/>
                  </a:lnTo>
                  <a:lnTo>
                    <a:pt x="1086" y="232"/>
                  </a:lnTo>
                  <a:lnTo>
                    <a:pt x="1081" y="242"/>
                  </a:lnTo>
                  <a:lnTo>
                    <a:pt x="1081" y="256"/>
                  </a:lnTo>
                  <a:lnTo>
                    <a:pt x="1081" y="266"/>
                  </a:lnTo>
                  <a:lnTo>
                    <a:pt x="1076" y="276"/>
                  </a:lnTo>
                  <a:lnTo>
                    <a:pt x="1076" y="291"/>
                  </a:lnTo>
                  <a:lnTo>
                    <a:pt x="1071" y="301"/>
                  </a:lnTo>
                  <a:lnTo>
                    <a:pt x="1071" y="311"/>
                  </a:lnTo>
                  <a:lnTo>
                    <a:pt x="1066" y="321"/>
                  </a:lnTo>
                  <a:lnTo>
                    <a:pt x="1066" y="330"/>
                  </a:lnTo>
                  <a:lnTo>
                    <a:pt x="1061" y="340"/>
                  </a:lnTo>
                  <a:lnTo>
                    <a:pt x="1056" y="355"/>
                  </a:lnTo>
                  <a:lnTo>
                    <a:pt x="1056" y="365"/>
                  </a:lnTo>
                  <a:lnTo>
                    <a:pt x="1051" y="375"/>
                  </a:lnTo>
                  <a:lnTo>
                    <a:pt x="1046" y="385"/>
                  </a:lnTo>
                  <a:lnTo>
                    <a:pt x="1046" y="395"/>
                  </a:lnTo>
                  <a:lnTo>
                    <a:pt x="1041" y="404"/>
                  </a:lnTo>
                  <a:lnTo>
                    <a:pt x="1041" y="419"/>
                  </a:lnTo>
                  <a:lnTo>
                    <a:pt x="1036" y="429"/>
                  </a:lnTo>
                  <a:lnTo>
                    <a:pt x="1031" y="439"/>
                  </a:lnTo>
                  <a:lnTo>
                    <a:pt x="1031" y="449"/>
                  </a:lnTo>
                  <a:lnTo>
                    <a:pt x="1026" y="464"/>
                  </a:lnTo>
                  <a:lnTo>
                    <a:pt x="1021" y="469"/>
                  </a:lnTo>
                  <a:lnTo>
                    <a:pt x="1016" y="483"/>
                  </a:lnTo>
                  <a:lnTo>
                    <a:pt x="1016" y="488"/>
                  </a:lnTo>
                  <a:lnTo>
                    <a:pt x="1010" y="503"/>
                  </a:lnTo>
                  <a:lnTo>
                    <a:pt x="1005" y="513"/>
                  </a:lnTo>
                  <a:lnTo>
                    <a:pt x="1000" y="523"/>
                  </a:lnTo>
                  <a:lnTo>
                    <a:pt x="995" y="533"/>
                  </a:lnTo>
                  <a:lnTo>
                    <a:pt x="995" y="543"/>
                  </a:lnTo>
                  <a:lnTo>
                    <a:pt x="985" y="552"/>
                  </a:lnTo>
                  <a:lnTo>
                    <a:pt x="985" y="562"/>
                  </a:lnTo>
                  <a:lnTo>
                    <a:pt x="980" y="572"/>
                  </a:lnTo>
                  <a:lnTo>
                    <a:pt x="975" y="582"/>
                  </a:lnTo>
                  <a:lnTo>
                    <a:pt x="970" y="592"/>
                  </a:lnTo>
                  <a:lnTo>
                    <a:pt x="965" y="602"/>
                  </a:lnTo>
                  <a:lnTo>
                    <a:pt x="965" y="616"/>
                  </a:lnTo>
                  <a:lnTo>
                    <a:pt x="960" y="626"/>
                  </a:lnTo>
                  <a:lnTo>
                    <a:pt x="955" y="636"/>
                  </a:lnTo>
                  <a:lnTo>
                    <a:pt x="950" y="646"/>
                  </a:lnTo>
                  <a:lnTo>
                    <a:pt x="945" y="656"/>
                  </a:lnTo>
                  <a:lnTo>
                    <a:pt x="940" y="666"/>
                  </a:lnTo>
                  <a:lnTo>
                    <a:pt x="935" y="676"/>
                  </a:lnTo>
                  <a:lnTo>
                    <a:pt x="930" y="686"/>
                  </a:lnTo>
                  <a:lnTo>
                    <a:pt x="925" y="695"/>
                  </a:lnTo>
                  <a:lnTo>
                    <a:pt x="920" y="705"/>
                  </a:lnTo>
                  <a:lnTo>
                    <a:pt x="915" y="715"/>
                  </a:lnTo>
                  <a:lnTo>
                    <a:pt x="910" y="725"/>
                  </a:lnTo>
                  <a:lnTo>
                    <a:pt x="905" y="735"/>
                  </a:lnTo>
                  <a:lnTo>
                    <a:pt x="900" y="745"/>
                  </a:lnTo>
                  <a:lnTo>
                    <a:pt x="895" y="755"/>
                  </a:lnTo>
                  <a:lnTo>
                    <a:pt x="895" y="764"/>
                  </a:lnTo>
                  <a:lnTo>
                    <a:pt x="885" y="774"/>
                  </a:lnTo>
                  <a:lnTo>
                    <a:pt x="885" y="789"/>
                  </a:lnTo>
                  <a:lnTo>
                    <a:pt x="880" y="794"/>
                  </a:lnTo>
                  <a:lnTo>
                    <a:pt x="870" y="809"/>
                  </a:lnTo>
                  <a:lnTo>
                    <a:pt x="865" y="819"/>
                  </a:lnTo>
                  <a:lnTo>
                    <a:pt x="860" y="829"/>
                  </a:lnTo>
                  <a:lnTo>
                    <a:pt x="855" y="838"/>
                  </a:lnTo>
                  <a:lnTo>
                    <a:pt x="850" y="848"/>
                  </a:lnTo>
                  <a:lnTo>
                    <a:pt x="845" y="858"/>
                  </a:lnTo>
                  <a:lnTo>
                    <a:pt x="840" y="868"/>
                  </a:lnTo>
                  <a:lnTo>
                    <a:pt x="835" y="883"/>
                  </a:lnTo>
                  <a:lnTo>
                    <a:pt x="830" y="893"/>
                  </a:lnTo>
                  <a:lnTo>
                    <a:pt x="825" y="903"/>
                  </a:lnTo>
                  <a:lnTo>
                    <a:pt x="820" y="912"/>
                  </a:lnTo>
                  <a:lnTo>
                    <a:pt x="814" y="922"/>
                  </a:lnTo>
                  <a:lnTo>
                    <a:pt x="809" y="937"/>
                  </a:lnTo>
                  <a:lnTo>
                    <a:pt x="804" y="947"/>
                  </a:lnTo>
                  <a:lnTo>
                    <a:pt x="804" y="957"/>
                  </a:lnTo>
                  <a:lnTo>
                    <a:pt x="799" y="967"/>
                  </a:lnTo>
                  <a:lnTo>
                    <a:pt x="794" y="981"/>
                  </a:lnTo>
                  <a:lnTo>
                    <a:pt x="789" y="991"/>
                  </a:lnTo>
                  <a:lnTo>
                    <a:pt x="784" y="1001"/>
                  </a:lnTo>
                  <a:lnTo>
                    <a:pt x="779" y="1011"/>
                  </a:lnTo>
                  <a:lnTo>
                    <a:pt x="779" y="1021"/>
                  </a:lnTo>
                  <a:lnTo>
                    <a:pt x="774" y="1036"/>
                  </a:lnTo>
                  <a:lnTo>
                    <a:pt x="769" y="1046"/>
                  </a:lnTo>
                  <a:lnTo>
                    <a:pt x="764" y="1055"/>
                  </a:lnTo>
                  <a:lnTo>
                    <a:pt x="759" y="1065"/>
                  </a:lnTo>
                  <a:lnTo>
                    <a:pt x="754" y="1080"/>
                  </a:lnTo>
                  <a:lnTo>
                    <a:pt x="754" y="1090"/>
                  </a:lnTo>
                  <a:lnTo>
                    <a:pt x="749" y="1100"/>
                  </a:lnTo>
                  <a:lnTo>
                    <a:pt x="744" y="1110"/>
                  </a:lnTo>
                  <a:lnTo>
                    <a:pt x="739" y="1119"/>
                  </a:lnTo>
                  <a:lnTo>
                    <a:pt x="734" y="1134"/>
                  </a:lnTo>
                  <a:lnTo>
                    <a:pt x="729" y="1144"/>
                  </a:lnTo>
                  <a:lnTo>
                    <a:pt x="729" y="1154"/>
                  </a:lnTo>
                  <a:lnTo>
                    <a:pt x="724" y="1164"/>
                  </a:lnTo>
                  <a:lnTo>
                    <a:pt x="719" y="1179"/>
                  </a:lnTo>
                  <a:lnTo>
                    <a:pt x="714" y="1189"/>
                  </a:lnTo>
                  <a:lnTo>
                    <a:pt x="709" y="1198"/>
                  </a:lnTo>
                  <a:lnTo>
                    <a:pt x="704" y="1208"/>
                  </a:lnTo>
                  <a:lnTo>
                    <a:pt x="704" y="1218"/>
                  </a:lnTo>
                  <a:lnTo>
                    <a:pt x="699" y="1233"/>
                  </a:lnTo>
                  <a:lnTo>
                    <a:pt x="694" y="1243"/>
                  </a:lnTo>
                  <a:lnTo>
                    <a:pt x="689" y="1253"/>
                  </a:lnTo>
                  <a:lnTo>
                    <a:pt x="684" y="1263"/>
                  </a:lnTo>
                  <a:lnTo>
                    <a:pt x="679" y="1277"/>
                  </a:lnTo>
                  <a:lnTo>
                    <a:pt x="679" y="1287"/>
                  </a:lnTo>
                  <a:lnTo>
                    <a:pt x="674" y="1297"/>
                  </a:lnTo>
                  <a:lnTo>
                    <a:pt x="669" y="1307"/>
                  </a:lnTo>
                  <a:lnTo>
                    <a:pt x="664" y="1317"/>
                  </a:lnTo>
                  <a:lnTo>
                    <a:pt x="664" y="1327"/>
                  </a:lnTo>
                  <a:lnTo>
                    <a:pt x="654" y="1341"/>
                  </a:lnTo>
                  <a:lnTo>
                    <a:pt x="654" y="1351"/>
                  </a:lnTo>
                  <a:lnTo>
                    <a:pt x="649" y="1361"/>
                  </a:lnTo>
                  <a:lnTo>
                    <a:pt x="644" y="1371"/>
                  </a:lnTo>
                  <a:lnTo>
                    <a:pt x="639" y="1386"/>
                  </a:lnTo>
                  <a:lnTo>
                    <a:pt x="634" y="1396"/>
                  </a:lnTo>
                  <a:lnTo>
                    <a:pt x="629" y="1406"/>
                  </a:lnTo>
                  <a:lnTo>
                    <a:pt x="629" y="1415"/>
                  </a:lnTo>
                  <a:lnTo>
                    <a:pt x="624" y="1425"/>
                  </a:lnTo>
                  <a:lnTo>
                    <a:pt x="619" y="1440"/>
                  </a:lnTo>
                  <a:lnTo>
                    <a:pt x="613" y="1450"/>
                  </a:lnTo>
                  <a:lnTo>
                    <a:pt x="608" y="1460"/>
                  </a:lnTo>
                  <a:lnTo>
                    <a:pt x="603" y="1470"/>
                  </a:lnTo>
                  <a:lnTo>
                    <a:pt x="603" y="1484"/>
                  </a:lnTo>
                  <a:lnTo>
                    <a:pt x="593" y="1499"/>
                  </a:lnTo>
                  <a:lnTo>
                    <a:pt x="583" y="1514"/>
                  </a:lnTo>
                  <a:lnTo>
                    <a:pt x="578" y="1534"/>
                  </a:lnTo>
                  <a:lnTo>
                    <a:pt x="568" y="1549"/>
                  </a:lnTo>
                  <a:lnTo>
                    <a:pt x="563" y="1568"/>
                  </a:lnTo>
                  <a:lnTo>
                    <a:pt x="553" y="1583"/>
                  </a:lnTo>
                  <a:lnTo>
                    <a:pt x="548" y="1603"/>
                  </a:lnTo>
                  <a:lnTo>
                    <a:pt x="538" y="1618"/>
                  </a:lnTo>
                  <a:lnTo>
                    <a:pt x="533" y="1637"/>
                  </a:lnTo>
                  <a:lnTo>
                    <a:pt x="528" y="1652"/>
                  </a:lnTo>
                  <a:lnTo>
                    <a:pt x="518" y="1667"/>
                  </a:lnTo>
                  <a:lnTo>
                    <a:pt x="513" y="1687"/>
                  </a:lnTo>
                  <a:lnTo>
                    <a:pt x="503" y="1701"/>
                  </a:lnTo>
                  <a:lnTo>
                    <a:pt x="498" y="1721"/>
                  </a:lnTo>
                  <a:lnTo>
                    <a:pt x="488" y="1741"/>
                  </a:lnTo>
                  <a:lnTo>
                    <a:pt x="483" y="1761"/>
                  </a:lnTo>
                  <a:lnTo>
                    <a:pt x="478" y="1775"/>
                  </a:lnTo>
                  <a:lnTo>
                    <a:pt x="468" y="1795"/>
                  </a:lnTo>
                  <a:lnTo>
                    <a:pt x="463" y="1810"/>
                  </a:lnTo>
                  <a:lnTo>
                    <a:pt x="453" y="1830"/>
                  </a:lnTo>
                  <a:lnTo>
                    <a:pt x="448" y="1844"/>
                  </a:lnTo>
                  <a:lnTo>
                    <a:pt x="438" y="1864"/>
                  </a:lnTo>
                  <a:lnTo>
                    <a:pt x="433" y="1879"/>
                  </a:lnTo>
                  <a:lnTo>
                    <a:pt x="428" y="1899"/>
                  </a:lnTo>
                  <a:lnTo>
                    <a:pt x="418" y="1913"/>
                  </a:lnTo>
                  <a:lnTo>
                    <a:pt x="412" y="1933"/>
                  </a:lnTo>
                  <a:lnTo>
                    <a:pt x="402" y="1953"/>
                  </a:lnTo>
                  <a:lnTo>
                    <a:pt x="397" y="1973"/>
                  </a:lnTo>
                  <a:lnTo>
                    <a:pt x="392" y="1987"/>
                  </a:lnTo>
                  <a:lnTo>
                    <a:pt x="382" y="2007"/>
                  </a:lnTo>
                  <a:lnTo>
                    <a:pt x="377" y="2022"/>
                  </a:lnTo>
                  <a:lnTo>
                    <a:pt x="372" y="2042"/>
                  </a:lnTo>
                  <a:lnTo>
                    <a:pt x="362" y="2061"/>
                  </a:lnTo>
                  <a:lnTo>
                    <a:pt x="357" y="2081"/>
                  </a:lnTo>
                  <a:lnTo>
                    <a:pt x="347" y="2101"/>
                  </a:lnTo>
                  <a:lnTo>
                    <a:pt x="342" y="2121"/>
                  </a:lnTo>
                  <a:lnTo>
                    <a:pt x="337" y="2126"/>
                  </a:lnTo>
                  <a:lnTo>
                    <a:pt x="332" y="2140"/>
                  </a:lnTo>
                  <a:lnTo>
                    <a:pt x="327" y="2150"/>
                  </a:lnTo>
                  <a:lnTo>
                    <a:pt x="327" y="2160"/>
                  </a:lnTo>
                  <a:lnTo>
                    <a:pt x="322" y="2170"/>
                  </a:lnTo>
                  <a:lnTo>
                    <a:pt x="317" y="2180"/>
                  </a:lnTo>
                  <a:lnTo>
                    <a:pt x="312" y="2190"/>
                  </a:lnTo>
                  <a:lnTo>
                    <a:pt x="312" y="2199"/>
                  </a:lnTo>
                  <a:lnTo>
                    <a:pt x="307" y="2209"/>
                  </a:lnTo>
                  <a:lnTo>
                    <a:pt x="302" y="2219"/>
                  </a:lnTo>
                  <a:lnTo>
                    <a:pt x="297" y="2229"/>
                  </a:lnTo>
                  <a:lnTo>
                    <a:pt x="297" y="2239"/>
                  </a:lnTo>
                  <a:lnTo>
                    <a:pt x="287" y="2249"/>
                  </a:lnTo>
                  <a:lnTo>
                    <a:pt x="287" y="2264"/>
                  </a:lnTo>
                  <a:lnTo>
                    <a:pt x="282" y="2273"/>
                  </a:lnTo>
                  <a:lnTo>
                    <a:pt x="282" y="2283"/>
                  </a:lnTo>
                  <a:lnTo>
                    <a:pt x="277" y="2293"/>
                  </a:lnTo>
                  <a:lnTo>
                    <a:pt x="272" y="2303"/>
                  </a:lnTo>
                  <a:lnTo>
                    <a:pt x="267" y="2313"/>
                  </a:lnTo>
                  <a:lnTo>
                    <a:pt x="262" y="2323"/>
                  </a:lnTo>
                  <a:lnTo>
                    <a:pt x="257" y="2333"/>
                  </a:lnTo>
                  <a:lnTo>
                    <a:pt x="252" y="2343"/>
                  </a:lnTo>
                  <a:lnTo>
                    <a:pt x="247" y="2352"/>
                  </a:lnTo>
                  <a:lnTo>
                    <a:pt x="247" y="2367"/>
                  </a:lnTo>
                  <a:lnTo>
                    <a:pt x="232" y="2382"/>
                  </a:lnTo>
                  <a:lnTo>
                    <a:pt x="222" y="2402"/>
                  </a:lnTo>
                  <a:lnTo>
                    <a:pt x="211" y="2421"/>
                  </a:lnTo>
                  <a:lnTo>
                    <a:pt x="201" y="2441"/>
                  </a:lnTo>
                  <a:lnTo>
                    <a:pt x="186" y="2456"/>
                  </a:lnTo>
                  <a:lnTo>
                    <a:pt x="176" y="2476"/>
                  </a:lnTo>
                  <a:lnTo>
                    <a:pt x="166" y="2495"/>
                  </a:lnTo>
                  <a:lnTo>
                    <a:pt x="151" y="2510"/>
                  </a:lnTo>
                  <a:lnTo>
                    <a:pt x="136" y="2525"/>
                  </a:lnTo>
                  <a:lnTo>
                    <a:pt x="126" y="2545"/>
                  </a:lnTo>
                  <a:lnTo>
                    <a:pt x="111" y="2559"/>
                  </a:lnTo>
                  <a:lnTo>
                    <a:pt x="96" y="2574"/>
                  </a:lnTo>
                  <a:lnTo>
                    <a:pt x="76" y="2584"/>
                  </a:lnTo>
                  <a:lnTo>
                    <a:pt x="61" y="2599"/>
                  </a:lnTo>
                  <a:lnTo>
                    <a:pt x="41" y="2614"/>
                  </a:lnTo>
                  <a:lnTo>
                    <a:pt x="21" y="2624"/>
                  </a:lnTo>
                  <a:lnTo>
                    <a:pt x="10" y="2633"/>
                  </a:lnTo>
                  <a:lnTo>
                    <a:pt x="0" y="2648"/>
                  </a:lnTo>
                  <a:lnTo>
                    <a:pt x="0" y="2663"/>
                  </a:lnTo>
                  <a:lnTo>
                    <a:pt x="0" y="2678"/>
                  </a:lnTo>
                  <a:lnTo>
                    <a:pt x="10" y="2688"/>
                  </a:lnTo>
                  <a:lnTo>
                    <a:pt x="21" y="2703"/>
                  </a:lnTo>
                  <a:lnTo>
                    <a:pt x="31" y="2707"/>
                  </a:lnTo>
                  <a:lnTo>
                    <a:pt x="51" y="2712"/>
                  </a:lnTo>
                  <a:lnTo>
                    <a:pt x="61" y="2707"/>
                  </a:lnTo>
                  <a:lnTo>
                    <a:pt x="71" y="2707"/>
                  </a:lnTo>
                  <a:lnTo>
                    <a:pt x="86" y="2707"/>
                  </a:lnTo>
                  <a:lnTo>
                    <a:pt x="101" y="2707"/>
                  </a:lnTo>
                  <a:lnTo>
                    <a:pt x="111" y="2707"/>
                  </a:lnTo>
                  <a:lnTo>
                    <a:pt x="121" y="2707"/>
                  </a:lnTo>
                  <a:lnTo>
                    <a:pt x="131" y="2703"/>
                  </a:lnTo>
                  <a:lnTo>
                    <a:pt x="146" y="2703"/>
                  </a:lnTo>
                  <a:lnTo>
                    <a:pt x="161" y="2693"/>
                  </a:lnTo>
                  <a:lnTo>
                    <a:pt x="181" y="2688"/>
                  </a:lnTo>
                  <a:lnTo>
                    <a:pt x="201" y="2678"/>
                  </a:lnTo>
                  <a:lnTo>
                    <a:pt x="222" y="2668"/>
                  </a:lnTo>
                  <a:lnTo>
                    <a:pt x="237" y="2653"/>
                  </a:lnTo>
                  <a:lnTo>
                    <a:pt x="252" y="2638"/>
                  </a:lnTo>
                  <a:lnTo>
                    <a:pt x="267" y="2624"/>
                  </a:lnTo>
                  <a:lnTo>
                    <a:pt x="282" y="2609"/>
                  </a:lnTo>
                  <a:lnTo>
                    <a:pt x="297" y="2589"/>
                  </a:lnTo>
                  <a:lnTo>
                    <a:pt x="312" y="2569"/>
                  </a:lnTo>
                  <a:lnTo>
                    <a:pt x="317" y="2559"/>
                  </a:lnTo>
                  <a:lnTo>
                    <a:pt x="322" y="2545"/>
                  </a:lnTo>
                  <a:lnTo>
                    <a:pt x="332" y="2535"/>
                  </a:lnTo>
                  <a:lnTo>
                    <a:pt x="337" y="2525"/>
                  </a:lnTo>
                  <a:lnTo>
                    <a:pt x="342" y="2510"/>
                  </a:lnTo>
                  <a:lnTo>
                    <a:pt x="347" y="2500"/>
                  </a:lnTo>
                  <a:lnTo>
                    <a:pt x="352" y="2486"/>
                  </a:lnTo>
                  <a:lnTo>
                    <a:pt x="362" y="2476"/>
                  </a:lnTo>
                  <a:lnTo>
                    <a:pt x="367" y="2461"/>
                  </a:lnTo>
                  <a:lnTo>
                    <a:pt x="377" y="2446"/>
                  </a:lnTo>
                  <a:lnTo>
                    <a:pt x="382" y="2431"/>
                  </a:lnTo>
                  <a:lnTo>
                    <a:pt x="387" y="2421"/>
                  </a:lnTo>
                  <a:lnTo>
                    <a:pt x="392" y="2407"/>
                  </a:lnTo>
                  <a:lnTo>
                    <a:pt x="397" y="2397"/>
                  </a:lnTo>
                  <a:lnTo>
                    <a:pt x="402" y="2382"/>
                  </a:lnTo>
                  <a:lnTo>
                    <a:pt x="412" y="2367"/>
                  </a:lnTo>
                  <a:lnTo>
                    <a:pt x="418" y="2352"/>
                  </a:lnTo>
                  <a:lnTo>
                    <a:pt x="423" y="2343"/>
                  </a:lnTo>
                  <a:lnTo>
                    <a:pt x="428" y="2328"/>
                  </a:lnTo>
                  <a:lnTo>
                    <a:pt x="438" y="2318"/>
                  </a:lnTo>
                  <a:lnTo>
                    <a:pt x="438" y="2303"/>
                  </a:lnTo>
                  <a:lnTo>
                    <a:pt x="448" y="2288"/>
                  </a:lnTo>
                  <a:lnTo>
                    <a:pt x="453" y="2273"/>
                  </a:lnTo>
                  <a:lnTo>
                    <a:pt x="458" y="2264"/>
                  </a:lnTo>
                  <a:lnTo>
                    <a:pt x="463" y="2249"/>
                  </a:lnTo>
                  <a:lnTo>
                    <a:pt x="468" y="2234"/>
                  </a:lnTo>
                  <a:lnTo>
                    <a:pt x="473" y="2219"/>
                  </a:lnTo>
                  <a:lnTo>
                    <a:pt x="478" y="2204"/>
                  </a:lnTo>
                  <a:lnTo>
                    <a:pt x="483" y="2190"/>
                  </a:lnTo>
                  <a:lnTo>
                    <a:pt x="488" y="2180"/>
                  </a:lnTo>
                  <a:lnTo>
                    <a:pt x="493" y="2165"/>
                  </a:lnTo>
                  <a:lnTo>
                    <a:pt x="498" y="2150"/>
                  </a:lnTo>
                  <a:lnTo>
                    <a:pt x="503" y="2135"/>
                  </a:lnTo>
                  <a:lnTo>
                    <a:pt x="513" y="2126"/>
                  </a:lnTo>
                  <a:lnTo>
                    <a:pt x="518" y="2111"/>
                  </a:lnTo>
                  <a:lnTo>
                    <a:pt x="523" y="2101"/>
                  </a:lnTo>
                  <a:lnTo>
                    <a:pt x="528" y="2081"/>
                  </a:lnTo>
                  <a:lnTo>
                    <a:pt x="533" y="2071"/>
                  </a:lnTo>
                  <a:lnTo>
                    <a:pt x="533" y="2056"/>
                  </a:lnTo>
                  <a:lnTo>
                    <a:pt x="538" y="2042"/>
                  </a:lnTo>
                  <a:lnTo>
                    <a:pt x="548" y="2027"/>
                  </a:lnTo>
                  <a:lnTo>
                    <a:pt x="553" y="2012"/>
                  </a:lnTo>
                  <a:lnTo>
                    <a:pt x="558" y="2002"/>
                  </a:lnTo>
                  <a:lnTo>
                    <a:pt x="563" y="1987"/>
                  </a:lnTo>
                  <a:lnTo>
                    <a:pt x="568" y="1973"/>
                  </a:lnTo>
                  <a:lnTo>
                    <a:pt x="573" y="1958"/>
                  </a:lnTo>
                  <a:lnTo>
                    <a:pt x="578" y="1943"/>
                  </a:lnTo>
                  <a:lnTo>
                    <a:pt x="583" y="1933"/>
                  </a:lnTo>
                  <a:lnTo>
                    <a:pt x="588" y="1918"/>
                  </a:lnTo>
                  <a:lnTo>
                    <a:pt x="593" y="1904"/>
                  </a:lnTo>
                  <a:lnTo>
                    <a:pt x="598" y="1889"/>
                  </a:lnTo>
                  <a:lnTo>
                    <a:pt x="603" y="1879"/>
                  </a:lnTo>
                  <a:lnTo>
                    <a:pt x="608" y="1864"/>
                  </a:lnTo>
                  <a:lnTo>
                    <a:pt x="613" y="1849"/>
                  </a:lnTo>
                  <a:lnTo>
                    <a:pt x="619" y="1835"/>
                  </a:lnTo>
                  <a:lnTo>
                    <a:pt x="624" y="1825"/>
                  </a:lnTo>
                  <a:lnTo>
                    <a:pt x="629" y="1810"/>
                  </a:lnTo>
                  <a:lnTo>
                    <a:pt x="634" y="1795"/>
                  </a:lnTo>
                  <a:lnTo>
                    <a:pt x="639" y="1780"/>
                  </a:lnTo>
                  <a:lnTo>
                    <a:pt x="644" y="1766"/>
                  </a:lnTo>
                  <a:lnTo>
                    <a:pt x="649" y="1751"/>
                  </a:lnTo>
                  <a:lnTo>
                    <a:pt x="654" y="1741"/>
                  </a:lnTo>
                  <a:lnTo>
                    <a:pt x="664" y="1726"/>
                  </a:lnTo>
                  <a:lnTo>
                    <a:pt x="669" y="1716"/>
                  </a:lnTo>
                  <a:lnTo>
                    <a:pt x="674" y="1701"/>
                  </a:lnTo>
                  <a:lnTo>
                    <a:pt x="679" y="1687"/>
                  </a:lnTo>
                  <a:lnTo>
                    <a:pt x="684" y="1677"/>
                  </a:lnTo>
                  <a:lnTo>
                    <a:pt x="694" y="1667"/>
                  </a:lnTo>
                  <a:lnTo>
                    <a:pt x="694" y="1652"/>
                  </a:lnTo>
                  <a:lnTo>
                    <a:pt x="699" y="1637"/>
                  </a:lnTo>
                  <a:lnTo>
                    <a:pt x="704" y="1623"/>
                  </a:lnTo>
                  <a:lnTo>
                    <a:pt x="714" y="1613"/>
                  </a:lnTo>
                  <a:lnTo>
                    <a:pt x="714" y="1598"/>
                  </a:lnTo>
                  <a:lnTo>
                    <a:pt x="719" y="1588"/>
                  </a:lnTo>
                  <a:lnTo>
                    <a:pt x="729" y="1573"/>
                  </a:lnTo>
                  <a:lnTo>
                    <a:pt x="734" y="1558"/>
                  </a:lnTo>
                  <a:lnTo>
                    <a:pt x="734" y="1549"/>
                  </a:lnTo>
                  <a:lnTo>
                    <a:pt x="744" y="1534"/>
                  </a:lnTo>
                  <a:lnTo>
                    <a:pt x="749" y="1519"/>
                  </a:lnTo>
                  <a:lnTo>
                    <a:pt x="754" y="1509"/>
                  </a:lnTo>
                  <a:lnTo>
                    <a:pt x="754" y="1494"/>
                  </a:lnTo>
                  <a:lnTo>
                    <a:pt x="764" y="1484"/>
                  </a:lnTo>
                  <a:lnTo>
                    <a:pt x="769" y="1470"/>
                  </a:lnTo>
                  <a:lnTo>
                    <a:pt x="774" y="1460"/>
                  </a:lnTo>
                  <a:lnTo>
                    <a:pt x="779" y="1445"/>
                  </a:lnTo>
                  <a:lnTo>
                    <a:pt x="784" y="1430"/>
                  </a:lnTo>
                  <a:lnTo>
                    <a:pt x="784" y="1420"/>
                  </a:lnTo>
                  <a:lnTo>
                    <a:pt x="794" y="1406"/>
                  </a:lnTo>
                  <a:lnTo>
                    <a:pt x="794" y="1391"/>
                  </a:lnTo>
                  <a:lnTo>
                    <a:pt x="799" y="1381"/>
                  </a:lnTo>
                  <a:lnTo>
                    <a:pt x="804" y="1366"/>
                  </a:lnTo>
                  <a:lnTo>
                    <a:pt x="814" y="1356"/>
                  </a:lnTo>
                  <a:lnTo>
                    <a:pt x="814" y="1341"/>
                  </a:lnTo>
                  <a:lnTo>
                    <a:pt x="820" y="1327"/>
                  </a:lnTo>
                  <a:lnTo>
                    <a:pt x="825" y="1317"/>
                  </a:lnTo>
                  <a:lnTo>
                    <a:pt x="830" y="1302"/>
                  </a:lnTo>
                  <a:lnTo>
                    <a:pt x="835" y="1292"/>
                  </a:lnTo>
                  <a:lnTo>
                    <a:pt x="840" y="1277"/>
                  </a:lnTo>
                  <a:lnTo>
                    <a:pt x="845" y="1263"/>
                  </a:lnTo>
                  <a:lnTo>
                    <a:pt x="850" y="1253"/>
                  </a:lnTo>
                  <a:lnTo>
                    <a:pt x="855" y="1238"/>
                  </a:lnTo>
                  <a:lnTo>
                    <a:pt x="860" y="1228"/>
                  </a:lnTo>
                  <a:lnTo>
                    <a:pt x="865" y="1213"/>
                  </a:lnTo>
                  <a:lnTo>
                    <a:pt x="870" y="1198"/>
                  </a:lnTo>
                  <a:lnTo>
                    <a:pt x="870" y="1184"/>
                  </a:lnTo>
                  <a:lnTo>
                    <a:pt x="875" y="1174"/>
                  </a:lnTo>
                  <a:lnTo>
                    <a:pt x="880" y="1159"/>
                  </a:lnTo>
                  <a:lnTo>
                    <a:pt x="885" y="1149"/>
                  </a:lnTo>
                  <a:lnTo>
                    <a:pt x="890" y="1134"/>
                  </a:lnTo>
                  <a:lnTo>
                    <a:pt x="895" y="1119"/>
                  </a:lnTo>
                  <a:lnTo>
                    <a:pt x="900" y="1110"/>
                  </a:lnTo>
                  <a:lnTo>
                    <a:pt x="905" y="1095"/>
                  </a:lnTo>
                  <a:lnTo>
                    <a:pt x="905" y="1080"/>
                  </a:lnTo>
                  <a:lnTo>
                    <a:pt x="910" y="1070"/>
                  </a:lnTo>
                  <a:lnTo>
                    <a:pt x="915" y="1055"/>
                  </a:lnTo>
                  <a:lnTo>
                    <a:pt x="920" y="1046"/>
                  </a:lnTo>
                  <a:lnTo>
                    <a:pt x="925" y="1031"/>
                  </a:lnTo>
                  <a:lnTo>
                    <a:pt x="930" y="1016"/>
                  </a:lnTo>
                  <a:lnTo>
                    <a:pt x="935" y="1006"/>
                  </a:lnTo>
                  <a:lnTo>
                    <a:pt x="940" y="991"/>
                  </a:lnTo>
                  <a:lnTo>
                    <a:pt x="945" y="976"/>
                  </a:lnTo>
                  <a:lnTo>
                    <a:pt x="945" y="967"/>
                  </a:lnTo>
                  <a:lnTo>
                    <a:pt x="950" y="952"/>
                  </a:lnTo>
                  <a:lnTo>
                    <a:pt x="955" y="942"/>
                  </a:lnTo>
                  <a:lnTo>
                    <a:pt x="960" y="927"/>
                  </a:lnTo>
                  <a:lnTo>
                    <a:pt x="965" y="912"/>
                  </a:lnTo>
                  <a:lnTo>
                    <a:pt x="965" y="903"/>
                  </a:lnTo>
                  <a:lnTo>
                    <a:pt x="970" y="888"/>
                  </a:lnTo>
                  <a:lnTo>
                    <a:pt x="975" y="873"/>
                  </a:lnTo>
                  <a:lnTo>
                    <a:pt x="980" y="863"/>
                  </a:lnTo>
                  <a:lnTo>
                    <a:pt x="985" y="848"/>
                  </a:lnTo>
                  <a:lnTo>
                    <a:pt x="990" y="838"/>
                  </a:lnTo>
                  <a:lnTo>
                    <a:pt x="995" y="824"/>
                  </a:lnTo>
                  <a:lnTo>
                    <a:pt x="995" y="809"/>
                  </a:lnTo>
                  <a:lnTo>
                    <a:pt x="1000" y="799"/>
                  </a:lnTo>
                  <a:lnTo>
                    <a:pt x="1005" y="789"/>
                  </a:lnTo>
                  <a:lnTo>
                    <a:pt x="1010" y="774"/>
                  </a:lnTo>
                  <a:lnTo>
                    <a:pt x="1016" y="764"/>
                  </a:lnTo>
                  <a:lnTo>
                    <a:pt x="1021" y="750"/>
                  </a:lnTo>
                  <a:lnTo>
                    <a:pt x="1026" y="740"/>
                  </a:lnTo>
                  <a:lnTo>
                    <a:pt x="1031" y="725"/>
                  </a:lnTo>
                  <a:lnTo>
                    <a:pt x="1036" y="710"/>
                  </a:lnTo>
                  <a:lnTo>
                    <a:pt x="1036" y="700"/>
                  </a:lnTo>
                  <a:lnTo>
                    <a:pt x="1046" y="690"/>
                  </a:lnTo>
                  <a:lnTo>
                    <a:pt x="1051" y="676"/>
                  </a:lnTo>
                  <a:lnTo>
                    <a:pt x="1056" y="661"/>
                  </a:lnTo>
                  <a:lnTo>
                    <a:pt x="1061" y="646"/>
                  </a:lnTo>
                  <a:lnTo>
                    <a:pt x="1066" y="636"/>
                  </a:lnTo>
                  <a:lnTo>
                    <a:pt x="1071" y="621"/>
                  </a:lnTo>
                  <a:lnTo>
                    <a:pt x="1076" y="612"/>
                  </a:lnTo>
                  <a:lnTo>
                    <a:pt x="1081" y="597"/>
                  </a:lnTo>
                  <a:lnTo>
                    <a:pt x="1086" y="582"/>
                  </a:lnTo>
                  <a:lnTo>
                    <a:pt x="1091" y="567"/>
                  </a:lnTo>
                  <a:lnTo>
                    <a:pt x="1096" y="557"/>
                  </a:lnTo>
                  <a:lnTo>
                    <a:pt x="1101" y="543"/>
                  </a:lnTo>
                  <a:lnTo>
                    <a:pt x="1106" y="533"/>
                  </a:lnTo>
                  <a:lnTo>
                    <a:pt x="1111" y="518"/>
                  </a:lnTo>
                  <a:lnTo>
                    <a:pt x="1116" y="503"/>
                  </a:lnTo>
                  <a:lnTo>
                    <a:pt x="1121" y="488"/>
                  </a:lnTo>
                  <a:lnTo>
                    <a:pt x="1126" y="478"/>
                  </a:lnTo>
                  <a:lnTo>
                    <a:pt x="1131" y="464"/>
                  </a:lnTo>
                  <a:lnTo>
                    <a:pt x="1136" y="449"/>
                  </a:lnTo>
                  <a:lnTo>
                    <a:pt x="1146" y="434"/>
                  </a:lnTo>
                  <a:lnTo>
                    <a:pt x="1151" y="424"/>
                  </a:lnTo>
                  <a:lnTo>
                    <a:pt x="1151" y="409"/>
                  </a:lnTo>
                  <a:lnTo>
                    <a:pt x="1156" y="395"/>
                  </a:lnTo>
                  <a:lnTo>
                    <a:pt x="1161" y="380"/>
                  </a:lnTo>
                  <a:lnTo>
                    <a:pt x="1166" y="370"/>
                  </a:lnTo>
                  <a:lnTo>
                    <a:pt x="1171" y="355"/>
                  </a:lnTo>
                  <a:lnTo>
                    <a:pt x="1171" y="340"/>
                  </a:lnTo>
                  <a:lnTo>
                    <a:pt x="1176" y="326"/>
                  </a:lnTo>
                  <a:lnTo>
                    <a:pt x="1181" y="316"/>
                  </a:lnTo>
                  <a:lnTo>
                    <a:pt x="1186" y="301"/>
                  </a:lnTo>
                  <a:lnTo>
                    <a:pt x="1186" y="286"/>
                  </a:lnTo>
                  <a:lnTo>
                    <a:pt x="1191" y="271"/>
                  </a:lnTo>
                  <a:lnTo>
                    <a:pt x="1196" y="256"/>
                  </a:lnTo>
                  <a:lnTo>
                    <a:pt x="1196" y="242"/>
                  </a:lnTo>
                  <a:lnTo>
                    <a:pt x="1201" y="232"/>
                  </a:lnTo>
                  <a:lnTo>
                    <a:pt x="1201" y="217"/>
                  </a:lnTo>
                  <a:lnTo>
                    <a:pt x="1206" y="207"/>
                  </a:lnTo>
                  <a:lnTo>
                    <a:pt x="1206" y="192"/>
                  </a:lnTo>
                  <a:lnTo>
                    <a:pt x="1206" y="178"/>
                  </a:lnTo>
                  <a:lnTo>
                    <a:pt x="1206" y="163"/>
                  </a:lnTo>
                  <a:lnTo>
                    <a:pt x="1206" y="153"/>
                  </a:lnTo>
                  <a:lnTo>
                    <a:pt x="1206" y="138"/>
                  </a:lnTo>
                  <a:lnTo>
                    <a:pt x="1206" y="128"/>
                  </a:lnTo>
                  <a:lnTo>
                    <a:pt x="1206" y="113"/>
                  </a:lnTo>
                  <a:lnTo>
                    <a:pt x="1211" y="99"/>
                  </a:lnTo>
                  <a:lnTo>
                    <a:pt x="1206" y="89"/>
                  </a:lnTo>
                  <a:lnTo>
                    <a:pt x="1206" y="74"/>
                  </a:lnTo>
                  <a:lnTo>
                    <a:pt x="1206" y="59"/>
                  </a:lnTo>
                  <a:lnTo>
                    <a:pt x="1206" y="49"/>
                  </a:lnTo>
                  <a:lnTo>
                    <a:pt x="1201" y="35"/>
                  </a:lnTo>
                  <a:lnTo>
                    <a:pt x="1201" y="25"/>
                  </a:lnTo>
                  <a:lnTo>
                    <a:pt x="1196" y="15"/>
                  </a:lnTo>
                  <a:lnTo>
                    <a:pt x="1196" y="0"/>
                  </a:lnTo>
                  <a:lnTo>
                    <a:pt x="1191" y="5"/>
                  </a:lnTo>
                  <a:lnTo>
                    <a:pt x="1186" y="20"/>
                  </a:lnTo>
                  <a:lnTo>
                    <a:pt x="1181" y="30"/>
                  </a:lnTo>
                  <a:lnTo>
                    <a:pt x="1171" y="39"/>
                  </a:lnTo>
                  <a:lnTo>
                    <a:pt x="1166" y="49"/>
                  </a:lnTo>
                  <a:lnTo>
                    <a:pt x="1166" y="64"/>
                  </a:lnTo>
                  <a:lnTo>
                    <a:pt x="1156" y="74"/>
                  </a:lnTo>
                  <a:lnTo>
                    <a:pt x="1151" y="89"/>
                  </a:lnTo>
                  <a:lnTo>
                    <a:pt x="1146" y="99"/>
                  </a:lnTo>
                  <a:lnTo>
                    <a:pt x="1141" y="113"/>
                  </a:lnTo>
                  <a:lnTo>
                    <a:pt x="1136" y="128"/>
                  </a:lnTo>
                  <a:lnTo>
                    <a:pt x="1131" y="138"/>
                  </a:lnTo>
                  <a:lnTo>
                    <a:pt x="1101" y="113"/>
                  </a:lnTo>
                  <a:lnTo>
                    <a:pt x="1101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 rot="9362400">
              <a:off x="7469280" y="1258560"/>
              <a:ext cx="1332000" cy="3704040"/>
            </a:xfrm>
            <a:custGeom>
              <a:avLst/>
              <a:gdLst/>
              <a:ahLst/>
              <a:rect l="l" t="t" r="r" b="b"/>
              <a:pathLst>
                <a:path w="839" h="2333">
                  <a:moveTo>
                    <a:pt x="25" y="2323"/>
                  </a:moveTo>
                  <a:lnTo>
                    <a:pt x="407" y="1327"/>
                  </a:lnTo>
                  <a:lnTo>
                    <a:pt x="834" y="286"/>
                  </a:lnTo>
                  <a:lnTo>
                    <a:pt x="839" y="266"/>
                  </a:lnTo>
                  <a:lnTo>
                    <a:pt x="834" y="252"/>
                  </a:lnTo>
                  <a:lnTo>
                    <a:pt x="824" y="232"/>
                  </a:lnTo>
                  <a:lnTo>
                    <a:pt x="809" y="222"/>
                  </a:lnTo>
                  <a:lnTo>
                    <a:pt x="246" y="0"/>
                  </a:lnTo>
                  <a:lnTo>
                    <a:pt x="231" y="0"/>
                  </a:lnTo>
                  <a:lnTo>
                    <a:pt x="226" y="10"/>
                  </a:lnTo>
                  <a:lnTo>
                    <a:pt x="221" y="20"/>
                  </a:lnTo>
                  <a:lnTo>
                    <a:pt x="221" y="40"/>
                  </a:lnTo>
                  <a:lnTo>
                    <a:pt x="226" y="54"/>
                  </a:lnTo>
                  <a:lnTo>
                    <a:pt x="231" y="69"/>
                  </a:lnTo>
                  <a:lnTo>
                    <a:pt x="241" y="89"/>
                  </a:lnTo>
                  <a:lnTo>
                    <a:pt x="251" y="104"/>
                  </a:lnTo>
                  <a:lnTo>
                    <a:pt x="678" y="311"/>
                  </a:lnTo>
                  <a:lnTo>
                    <a:pt x="427" y="1056"/>
                  </a:lnTo>
                  <a:lnTo>
                    <a:pt x="0" y="2318"/>
                  </a:lnTo>
                  <a:lnTo>
                    <a:pt x="0" y="2328"/>
                  </a:lnTo>
                  <a:lnTo>
                    <a:pt x="5" y="2333"/>
                  </a:lnTo>
                  <a:lnTo>
                    <a:pt x="15" y="2328"/>
                  </a:lnTo>
                  <a:lnTo>
                    <a:pt x="25" y="2323"/>
                  </a:lnTo>
                  <a:lnTo>
                    <a:pt x="25" y="2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 rot="9362400">
              <a:off x="6784560" y="749160"/>
              <a:ext cx="1013400" cy="4540320"/>
            </a:xfrm>
            <a:custGeom>
              <a:avLst/>
              <a:gdLst/>
              <a:ahLst/>
              <a:rect l="l" t="t" r="r" b="b"/>
              <a:pathLst>
                <a:path w="638" h="2860">
                  <a:moveTo>
                    <a:pt x="337" y="2860"/>
                  </a:moveTo>
                  <a:lnTo>
                    <a:pt x="342" y="2825"/>
                  </a:lnTo>
                  <a:lnTo>
                    <a:pt x="347" y="2796"/>
                  </a:lnTo>
                  <a:lnTo>
                    <a:pt x="357" y="2761"/>
                  </a:lnTo>
                  <a:lnTo>
                    <a:pt x="362" y="2732"/>
                  </a:lnTo>
                  <a:lnTo>
                    <a:pt x="367" y="2697"/>
                  </a:lnTo>
                  <a:lnTo>
                    <a:pt x="377" y="2668"/>
                  </a:lnTo>
                  <a:lnTo>
                    <a:pt x="382" y="2638"/>
                  </a:lnTo>
                  <a:lnTo>
                    <a:pt x="392" y="2603"/>
                  </a:lnTo>
                  <a:lnTo>
                    <a:pt x="397" y="2574"/>
                  </a:lnTo>
                  <a:lnTo>
                    <a:pt x="402" y="2539"/>
                  </a:lnTo>
                  <a:lnTo>
                    <a:pt x="407" y="2510"/>
                  </a:lnTo>
                  <a:lnTo>
                    <a:pt x="417" y="2475"/>
                  </a:lnTo>
                  <a:lnTo>
                    <a:pt x="422" y="2446"/>
                  </a:lnTo>
                  <a:lnTo>
                    <a:pt x="427" y="2411"/>
                  </a:lnTo>
                  <a:lnTo>
                    <a:pt x="432" y="2382"/>
                  </a:lnTo>
                  <a:lnTo>
                    <a:pt x="442" y="2352"/>
                  </a:lnTo>
                  <a:lnTo>
                    <a:pt x="447" y="2317"/>
                  </a:lnTo>
                  <a:lnTo>
                    <a:pt x="452" y="2288"/>
                  </a:lnTo>
                  <a:lnTo>
                    <a:pt x="457" y="2253"/>
                  </a:lnTo>
                  <a:lnTo>
                    <a:pt x="462" y="2224"/>
                  </a:lnTo>
                  <a:lnTo>
                    <a:pt x="467" y="2189"/>
                  </a:lnTo>
                  <a:lnTo>
                    <a:pt x="477" y="2160"/>
                  </a:lnTo>
                  <a:lnTo>
                    <a:pt x="482" y="2125"/>
                  </a:lnTo>
                  <a:lnTo>
                    <a:pt x="487" y="2095"/>
                  </a:lnTo>
                  <a:lnTo>
                    <a:pt x="487" y="2061"/>
                  </a:lnTo>
                  <a:lnTo>
                    <a:pt x="497" y="2026"/>
                  </a:lnTo>
                  <a:lnTo>
                    <a:pt x="497" y="1997"/>
                  </a:lnTo>
                  <a:lnTo>
                    <a:pt x="502" y="1962"/>
                  </a:lnTo>
                  <a:lnTo>
                    <a:pt x="507" y="1933"/>
                  </a:lnTo>
                  <a:lnTo>
                    <a:pt x="512" y="1898"/>
                  </a:lnTo>
                  <a:lnTo>
                    <a:pt x="517" y="1869"/>
                  </a:lnTo>
                  <a:lnTo>
                    <a:pt x="528" y="1834"/>
                  </a:lnTo>
                  <a:lnTo>
                    <a:pt x="528" y="1805"/>
                  </a:lnTo>
                  <a:lnTo>
                    <a:pt x="533" y="1770"/>
                  </a:lnTo>
                  <a:lnTo>
                    <a:pt x="538" y="1735"/>
                  </a:lnTo>
                  <a:lnTo>
                    <a:pt x="543" y="1706"/>
                  </a:lnTo>
                  <a:lnTo>
                    <a:pt x="548" y="1671"/>
                  </a:lnTo>
                  <a:lnTo>
                    <a:pt x="548" y="1637"/>
                  </a:lnTo>
                  <a:lnTo>
                    <a:pt x="553" y="1607"/>
                  </a:lnTo>
                  <a:lnTo>
                    <a:pt x="558" y="1573"/>
                  </a:lnTo>
                  <a:lnTo>
                    <a:pt x="563" y="1543"/>
                  </a:lnTo>
                  <a:lnTo>
                    <a:pt x="563" y="1509"/>
                  </a:lnTo>
                  <a:lnTo>
                    <a:pt x="568" y="1474"/>
                  </a:lnTo>
                  <a:lnTo>
                    <a:pt x="573" y="1445"/>
                  </a:lnTo>
                  <a:lnTo>
                    <a:pt x="578" y="1410"/>
                  </a:lnTo>
                  <a:lnTo>
                    <a:pt x="578" y="1380"/>
                  </a:lnTo>
                  <a:lnTo>
                    <a:pt x="583" y="1346"/>
                  </a:lnTo>
                  <a:lnTo>
                    <a:pt x="588" y="1316"/>
                  </a:lnTo>
                  <a:lnTo>
                    <a:pt x="588" y="1282"/>
                  </a:lnTo>
                  <a:lnTo>
                    <a:pt x="593" y="1252"/>
                  </a:lnTo>
                  <a:lnTo>
                    <a:pt x="598" y="1218"/>
                  </a:lnTo>
                  <a:lnTo>
                    <a:pt x="603" y="1183"/>
                  </a:lnTo>
                  <a:lnTo>
                    <a:pt x="603" y="1154"/>
                  </a:lnTo>
                  <a:lnTo>
                    <a:pt x="608" y="1119"/>
                  </a:lnTo>
                  <a:lnTo>
                    <a:pt x="608" y="1089"/>
                  </a:lnTo>
                  <a:lnTo>
                    <a:pt x="613" y="1055"/>
                  </a:lnTo>
                  <a:lnTo>
                    <a:pt x="618" y="1025"/>
                  </a:lnTo>
                  <a:lnTo>
                    <a:pt x="618" y="991"/>
                  </a:lnTo>
                  <a:lnTo>
                    <a:pt x="623" y="956"/>
                  </a:lnTo>
                  <a:lnTo>
                    <a:pt x="628" y="927"/>
                  </a:lnTo>
                  <a:lnTo>
                    <a:pt x="628" y="892"/>
                  </a:lnTo>
                  <a:lnTo>
                    <a:pt x="633" y="863"/>
                  </a:lnTo>
                  <a:lnTo>
                    <a:pt x="633" y="833"/>
                  </a:lnTo>
                  <a:lnTo>
                    <a:pt x="638" y="798"/>
                  </a:lnTo>
                  <a:lnTo>
                    <a:pt x="638" y="784"/>
                  </a:lnTo>
                  <a:lnTo>
                    <a:pt x="638" y="769"/>
                  </a:lnTo>
                  <a:lnTo>
                    <a:pt x="638" y="754"/>
                  </a:lnTo>
                  <a:lnTo>
                    <a:pt x="638" y="739"/>
                  </a:lnTo>
                  <a:lnTo>
                    <a:pt x="638" y="725"/>
                  </a:lnTo>
                  <a:lnTo>
                    <a:pt x="638" y="710"/>
                  </a:lnTo>
                  <a:lnTo>
                    <a:pt x="638" y="695"/>
                  </a:lnTo>
                  <a:lnTo>
                    <a:pt x="638" y="680"/>
                  </a:lnTo>
                  <a:lnTo>
                    <a:pt x="638" y="660"/>
                  </a:lnTo>
                  <a:lnTo>
                    <a:pt x="638" y="651"/>
                  </a:lnTo>
                  <a:lnTo>
                    <a:pt x="638" y="631"/>
                  </a:lnTo>
                  <a:lnTo>
                    <a:pt x="638" y="616"/>
                  </a:lnTo>
                  <a:lnTo>
                    <a:pt x="633" y="601"/>
                  </a:lnTo>
                  <a:lnTo>
                    <a:pt x="633" y="586"/>
                  </a:lnTo>
                  <a:lnTo>
                    <a:pt x="633" y="572"/>
                  </a:lnTo>
                  <a:lnTo>
                    <a:pt x="633" y="557"/>
                  </a:lnTo>
                  <a:lnTo>
                    <a:pt x="628" y="537"/>
                  </a:lnTo>
                  <a:lnTo>
                    <a:pt x="623" y="522"/>
                  </a:lnTo>
                  <a:lnTo>
                    <a:pt x="618" y="508"/>
                  </a:lnTo>
                  <a:lnTo>
                    <a:pt x="618" y="493"/>
                  </a:lnTo>
                  <a:lnTo>
                    <a:pt x="613" y="473"/>
                  </a:lnTo>
                  <a:lnTo>
                    <a:pt x="608" y="458"/>
                  </a:lnTo>
                  <a:lnTo>
                    <a:pt x="603" y="443"/>
                  </a:lnTo>
                  <a:lnTo>
                    <a:pt x="603" y="429"/>
                  </a:lnTo>
                  <a:lnTo>
                    <a:pt x="598" y="414"/>
                  </a:lnTo>
                  <a:lnTo>
                    <a:pt x="588" y="399"/>
                  </a:lnTo>
                  <a:lnTo>
                    <a:pt x="583" y="384"/>
                  </a:lnTo>
                  <a:lnTo>
                    <a:pt x="578" y="369"/>
                  </a:lnTo>
                  <a:lnTo>
                    <a:pt x="573" y="350"/>
                  </a:lnTo>
                  <a:lnTo>
                    <a:pt x="568" y="335"/>
                  </a:lnTo>
                  <a:lnTo>
                    <a:pt x="558" y="320"/>
                  </a:lnTo>
                  <a:lnTo>
                    <a:pt x="553" y="310"/>
                  </a:lnTo>
                  <a:lnTo>
                    <a:pt x="543" y="295"/>
                  </a:lnTo>
                  <a:lnTo>
                    <a:pt x="533" y="281"/>
                  </a:lnTo>
                  <a:lnTo>
                    <a:pt x="528" y="266"/>
                  </a:lnTo>
                  <a:lnTo>
                    <a:pt x="517" y="251"/>
                  </a:lnTo>
                  <a:lnTo>
                    <a:pt x="502" y="236"/>
                  </a:lnTo>
                  <a:lnTo>
                    <a:pt x="497" y="226"/>
                  </a:lnTo>
                  <a:lnTo>
                    <a:pt x="482" y="212"/>
                  </a:lnTo>
                  <a:lnTo>
                    <a:pt x="477" y="202"/>
                  </a:lnTo>
                  <a:lnTo>
                    <a:pt x="462" y="187"/>
                  </a:lnTo>
                  <a:lnTo>
                    <a:pt x="452" y="172"/>
                  </a:lnTo>
                  <a:lnTo>
                    <a:pt x="437" y="162"/>
                  </a:lnTo>
                  <a:lnTo>
                    <a:pt x="427" y="152"/>
                  </a:lnTo>
                  <a:lnTo>
                    <a:pt x="412" y="138"/>
                  </a:lnTo>
                  <a:lnTo>
                    <a:pt x="397" y="128"/>
                  </a:lnTo>
                  <a:lnTo>
                    <a:pt x="382" y="118"/>
                  </a:lnTo>
                  <a:lnTo>
                    <a:pt x="367" y="108"/>
                  </a:lnTo>
                  <a:lnTo>
                    <a:pt x="352" y="98"/>
                  </a:lnTo>
                  <a:lnTo>
                    <a:pt x="332" y="88"/>
                  </a:lnTo>
                  <a:lnTo>
                    <a:pt x="316" y="78"/>
                  </a:lnTo>
                  <a:lnTo>
                    <a:pt x="301" y="69"/>
                  </a:lnTo>
                  <a:lnTo>
                    <a:pt x="281" y="59"/>
                  </a:lnTo>
                  <a:lnTo>
                    <a:pt x="261" y="54"/>
                  </a:lnTo>
                  <a:lnTo>
                    <a:pt x="246" y="44"/>
                  </a:lnTo>
                  <a:lnTo>
                    <a:pt x="226" y="39"/>
                  </a:lnTo>
                  <a:lnTo>
                    <a:pt x="201" y="34"/>
                  </a:lnTo>
                  <a:lnTo>
                    <a:pt x="181" y="24"/>
                  </a:lnTo>
                  <a:lnTo>
                    <a:pt x="161" y="19"/>
                  </a:lnTo>
                  <a:lnTo>
                    <a:pt x="141" y="14"/>
                  </a:lnTo>
                  <a:lnTo>
                    <a:pt x="115" y="9"/>
                  </a:lnTo>
                  <a:lnTo>
                    <a:pt x="95" y="5"/>
                  </a:lnTo>
                  <a:lnTo>
                    <a:pt x="70" y="5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0" y="14"/>
                  </a:lnTo>
                  <a:lnTo>
                    <a:pt x="10" y="29"/>
                  </a:lnTo>
                  <a:lnTo>
                    <a:pt x="15" y="39"/>
                  </a:lnTo>
                  <a:lnTo>
                    <a:pt x="25" y="49"/>
                  </a:lnTo>
                  <a:lnTo>
                    <a:pt x="30" y="54"/>
                  </a:lnTo>
                  <a:lnTo>
                    <a:pt x="40" y="59"/>
                  </a:lnTo>
                  <a:lnTo>
                    <a:pt x="50" y="69"/>
                  </a:lnTo>
                  <a:lnTo>
                    <a:pt x="60" y="74"/>
                  </a:lnTo>
                  <a:lnTo>
                    <a:pt x="70" y="78"/>
                  </a:lnTo>
                  <a:lnTo>
                    <a:pt x="85" y="88"/>
                  </a:lnTo>
                  <a:lnTo>
                    <a:pt x="100" y="93"/>
                  </a:lnTo>
                  <a:lnTo>
                    <a:pt x="115" y="103"/>
                  </a:lnTo>
                  <a:lnTo>
                    <a:pt x="131" y="108"/>
                  </a:lnTo>
                  <a:lnTo>
                    <a:pt x="151" y="118"/>
                  </a:lnTo>
                  <a:lnTo>
                    <a:pt x="161" y="123"/>
                  </a:lnTo>
                  <a:lnTo>
                    <a:pt x="171" y="128"/>
                  </a:lnTo>
                  <a:lnTo>
                    <a:pt x="181" y="133"/>
                  </a:lnTo>
                  <a:lnTo>
                    <a:pt x="191" y="138"/>
                  </a:lnTo>
                  <a:lnTo>
                    <a:pt x="211" y="148"/>
                  </a:lnTo>
                  <a:lnTo>
                    <a:pt x="231" y="157"/>
                  </a:lnTo>
                  <a:lnTo>
                    <a:pt x="251" y="167"/>
                  </a:lnTo>
                  <a:lnTo>
                    <a:pt x="271" y="182"/>
                  </a:lnTo>
                  <a:lnTo>
                    <a:pt x="286" y="192"/>
                  </a:lnTo>
                  <a:lnTo>
                    <a:pt x="301" y="202"/>
                  </a:lnTo>
                  <a:lnTo>
                    <a:pt x="322" y="217"/>
                  </a:lnTo>
                  <a:lnTo>
                    <a:pt x="337" y="231"/>
                  </a:lnTo>
                  <a:lnTo>
                    <a:pt x="352" y="246"/>
                  </a:lnTo>
                  <a:lnTo>
                    <a:pt x="367" y="261"/>
                  </a:lnTo>
                  <a:lnTo>
                    <a:pt x="377" y="271"/>
                  </a:lnTo>
                  <a:lnTo>
                    <a:pt x="392" y="291"/>
                  </a:lnTo>
                  <a:lnTo>
                    <a:pt x="402" y="305"/>
                  </a:lnTo>
                  <a:lnTo>
                    <a:pt x="412" y="320"/>
                  </a:lnTo>
                  <a:lnTo>
                    <a:pt x="422" y="335"/>
                  </a:lnTo>
                  <a:lnTo>
                    <a:pt x="432" y="355"/>
                  </a:lnTo>
                  <a:lnTo>
                    <a:pt x="442" y="374"/>
                  </a:lnTo>
                  <a:lnTo>
                    <a:pt x="447" y="389"/>
                  </a:lnTo>
                  <a:lnTo>
                    <a:pt x="457" y="409"/>
                  </a:lnTo>
                  <a:lnTo>
                    <a:pt x="462" y="429"/>
                  </a:lnTo>
                  <a:lnTo>
                    <a:pt x="467" y="443"/>
                  </a:lnTo>
                  <a:lnTo>
                    <a:pt x="477" y="463"/>
                  </a:lnTo>
                  <a:lnTo>
                    <a:pt x="482" y="483"/>
                  </a:lnTo>
                  <a:lnTo>
                    <a:pt x="487" y="503"/>
                  </a:lnTo>
                  <a:lnTo>
                    <a:pt x="487" y="522"/>
                  </a:lnTo>
                  <a:lnTo>
                    <a:pt x="492" y="542"/>
                  </a:lnTo>
                  <a:lnTo>
                    <a:pt x="492" y="562"/>
                  </a:lnTo>
                  <a:lnTo>
                    <a:pt x="497" y="582"/>
                  </a:lnTo>
                  <a:lnTo>
                    <a:pt x="497" y="601"/>
                  </a:lnTo>
                  <a:lnTo>
                    <a:pt x="502" y="626"/>
                  </a:lnTo>
                  <a:lnTo>
                    <a:pt x="502" y="646"/>
                  </a:lnTo>
                  <a:lnTo>
                    <a:pt x="502" y="670"/>
                  </a:lnTo>
                  <a:lnTo>
                    <a:pt x="502" y="690"/>
                  </a:lnTo>
                  <a:lnTo>
                    <a:pt x="502" y="710"/>
                  </a:lnTo>
                  <a:lnTo>
                    <a:pt x="502" y="729"/>
                  </a:lnTo>
                  <a:lnTo>
                    <a:pt x="502" y="754"/>
                  </a:lnTo>
                  <a:lnTo>
                    <a:pt x="502" y="774"/>
                  </a:lnTo>
                  <a:lnTo>
                    <a:pt x="502" y="794"/>
                  </a:lnTo>
                  <a:lnTo>
                    <a:pt x="497" y="818"/>
                  </a:lnTo>
                  <a:lnTo>
                    <a:pt x="497" y="838"/>
                  </a:lnTo>
                  <a:lnTo>
                    <a:pt x="497" y="863"/>
                  </a:lnTo>
                  <a:lnTo>
                    <a:pt x="492" y="882"/>
                  </a:lnTo>
                  <a:lnTo>
                    <a:pt x="487" y="902"/>
                  </a:lnTo>
                  <a:lnTo>
                    <a:pt x="487" y="927"/>
                  </a:lnTo>
                  <a:lnTo>
                    <a:pt x="482" y="946"/>
                  </a:lnTo>
                  <a:lnTo>
                    <a:pt x="482" y="971"/>
                  </a:lnTo>
                  <a:lnTo>
                    <a:pt x="477" y="991"/>
                  </a:lnTo>
                  <a:lnTo>
                    <a:pt x="477" y="1015"/>
                  </a:lnTo>
                  <a:lnTo>
                    <a:pt x="472" y="1035"/>
                  </a:lnTo>
                  <a:lnTo>
                    <a:pt x="467" y="1055"/>
                  </a:lnTo>
                  <a:lnTo>
                    <a:pt x="462" y="1080"/>
                  </a:lnTo>
                  <a:lnTo>
                    <a:pt x="462" y="1099"/>
                  </a:lnTo>
                  <a:lnTo>
                    <a:pt x="457" y="1119"/>
                  </a:lnTo>
                  <a:lnTo>
                    <a:pt x="452" y="1144"/>
                  </a:lnTo>
                  <a:lnTo>
                    <a:pt x="452" y="1163"/>
                  </a:lnTo>
                  <a:lnTo>
                    <a:pt x="447" y="1183"/>
                  </a:lnTo>
                  <a:lnTo>
                    <a:pt x="442" y="1203"/>
                  </a:lnTo>
                  <a:lnTo>
                    <a:pt x="442" y="1223"/>
                  </a:lnTo>
                  <a:lnTo>
                    <a:pt x="437" y="1242"/>
                  </a:lnTo>
                  <a:lnTo>
                    <a:pt x="432" y="1267"/>
                  </a:lnTo>
                  <a:lnTo>
                    <a:pt x="432" y="1287"/>
                  </a:lnTo>
                  <a:lnTo>
                    <a:pt x="427" y="1306"/>
                  </a:lnTo>
                  <a:lnTo>
                    <a:pt x="427" y="1326"/>
                  </a:lnTo>
                  <a:lnTo>
                    <a:pt x="422" y="1346"/>
                  </a:lnTo>
                  <a:lnTo>
                    <a:pt x="417" y="1366"/>
                  </a:lnTo>
                  <a:lnTo>
                    <a:pt x="417" y="1390"/>
                  </a:lnTo>
                  <a:lnTo>
                    <a:pt x="412" y="1415"/>
                  </a:lnTo>
                  <a:lnTo>
                    <a:pt x="407" y="1440"/>
                  </a:lnTo>
                  <a:lnTo>
                    <a:pt x="402" y="1459"/>
                  </a:lnTo>
                  <a:lnTo>
                    <a:pt x="402" y="1484"/>
                  </a:lnTo>
                  <a:lnTo>
                    <a:pt x="397" y="1509"/>
                  </a:lnTo>
                  <a:lnTo>
                    <a:pt x="397" y="1533"/>
                  </a:lnTo>
                  <a:lnTo>
                    <a:pt x="387" y="1553"/>
                  </a:lnTo>
                  <a:lnTo>
                    <a:pt x="387" y="1578"/>
                  </a:lnTo>
                  <a:lnTo>
                    <a:pt x="382" y="1602"/>
                  </a:lnTo>
                  <a:lnTo>
                    <a:pt x="382" y="1627"/>
                  </a:lnTo>
                  <a:lnTo>
                    <a:pt x="377" y="1647"/>
                  </a:lnTo>
                  <a:lnTo>
                    <a:pt x="372" y="1671"/>
                  </a:lnTo>
                  <a:lnTo>
                    <a:pt x="367" y="1696"/>
                  </a:lnTo>
                  <a:lnTo>
                    <a:pt x="367" y="1721"/>
                  </a:lnTo>
                  <a:lnTo>
                    <a:pt x="362" y="1740"/>
                  </a:lnTo>
                  <a:lnTo>
                    <a:pt x="362" y="1765"/>
                  </a:lnTo>
                  <a:lnTo>
                    <a:pt x="357" y="1790"/>
                  </a:lnTo>
                  <a:lnTo>
                    <a:pt x="352" y="1809"/>
                  </a:lnTo>
                  <a:lnTo>
                    <a:pt x="352" y="1834"/>
                  </a:lnTo>
                  <a:lnTo>
                    <a:pt x="347" y="1859"/>
                  </a:lnTo>
                  <a:lnTo>
                    <a:pt x="347" y="1883"/>
                  </a:lnTo>
                  <a:lnTo>
                    <a:pt x="342" y="1908"/>
                  </a:lnTo>
                  <a:lnTo>
                    <a:pt x="337" y="1928"/>
                  </a:lnTo>
                  <a:lnTo>
                    <a:pt x="337" y="1952"/>
                  </a:lnTo>
                  <a:lnTo>
                    <a:pt x="332" y="1977"/>
                  </a:lnTo>
                  <a:lnTo>
                    <a:pt x="332" y="2002"/>
                  </a:lnTo>
                  <a:lnTo>
                    <a:pt x="327" y="2026"/>
                  </a:lnTo>
                  <a:lnTo>
                    <a:pt x="327" y="2051"/>
                  </a:lnTo>
                  <a:lnTo>
                    <a:pt x="322" y="2071"/>
                  </a:lnTo>
                  <a:lnTo>
                    <a:pt x="322" y="2100"/>
                  </a:lnTo>
                  <a:lnTo>
                    <a:pt x="322" y="2120"/>
                  </a:lnTo>
                  <a:lnTo>
                    <a:pt x="316" y="2145"/>
                  </a:lnTo>
                  <a:lnTo>
                    <a:pt x="316" y="2169"/>
                  </a:lnTo>
                  <a:lnTo>
                    <a:pt x="311" y="2194"/>
                  </a:lnTo>
                  <a:lnTo>
                    <a:pt x="311" y="2214"/>
                  </a:lnTo>
                  <a:lnTo>
                    <a:pt x="311" y="2238"/>
                  </a:lnTo>
                  <a:lnTo>
                    <a:pt x="306" y="2263"/>
                  </a:lnTo>
                  <a:lnTo>
                    <a:pt x="306" y="2288"/>
                  </a:lnTo>
                  <a:lnTo>
                    <a:pt x="306" y="2308"/>
                  </a:lnTo>
                  <a:lnTo>
                    <a:pt x="306" y="2332"/>
                  </a:lnTo>
                  <a:lnTo>
                    <a:pt x="301" y="2357"/>
                  </a:lnTo>
                  <a:lnTo>
                    <a:pt x="301" y="2382"/>
                  </a:lnTo>
                  <a:lnTo>
                    <a:pt x="301" y="2406"/>
                  </a:lnTo>
                  <a:lnTo>
                    <a:pt x="301" y="2426"/>
                  </a:lnTo>
                  <a:lnTo>
                    <a:pt x="301" y="2451"/>
                  </a:lnTo>
                  <a:lnTo>
                    <a:pt x="301" y="2475"/>
                  </a:lnTo>
                  <a:lnTo>
                    <a:pt x="301" y="2500"/>
                  </a:lnTo>
                  <a:lnTo>
                    <a:pt x="301" y="2525"/>
                  </a:lnTo>
                  <a:lnTo>
                    <a:pt x="301" y="2549"/>
                  </a:lnTo>
                  <a:lnTo>
                    <a:pt x="301" y="2574"/>
                  </a:lnTo>
                  <a:lnTo>
                    <a:pt x="301" y="2594"/>
                  </a:lnTo>
                  <a:lnTo>
                    <a:pt x="306" y="2618"/>
                  </a:lnTo>
                  <a:lnTo>
                    <a:pt x="306" y="2643"/>
                  </a:lnTo>
                  <a:lnTo>
                    <a:pt x="311" y="2668"/>
                  </a:lnTo>
                  <a:lnTo>
                    <a:pt x="311" y="2692"/>
                  </a:lnTo>
                  <a:lnTo>
                    <a:pt x="311" y="2717"/>
                  </a:lnTo>
                  <a:lnTo>
                    <a:pt x="311" y="2737"/>
                  </a:lnTo>
                  <a:lnTo>
                    <a:pt x="316" y="2761"/>
                  </a:lnTo>
                  <a:lnTo>
                    <a:pt x="316" y="2786"/>
                  </a:lnTo>
                  <a:lnTo>
                    <a:pt x="322" y="2811"/>
                  </a:lnTo>
                  <a:lnTo>
                    <a:pt x="322" y="2835"/>
                  </a:lnTo>
                  <a:lnTo>
                    <a:pt x="332" y="2860"/>
                  </a:lnTo>
                  <a:lnTo>
                    <a:pt x="332" y="2860"/>
                  </a:lnTo>
                  <a:lnTo>
                    <a:pt x="337" y="2860"/>
                  </a:lnTo>
                  <a:lnTo>
                    <a:pt x="337" y="28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 rot="9362400">
              <a:off x="374400" y="785160"/>
              <a:ext cx="6397920" cy="4610160"/>
            </a:xfrm>
            <a:custGeom>
              <a:avLst/>
              <a:gdLst/>
              <a:ahLst/>
              <a:rect l="l" t="t" r="r" b="b"/>
              <a:pathLst>
                <a:path w="4030" h="2904">
                  <a:moveTo>
                    <a:pt x="4020" y="991"/>
                  </a:moveTo>
                  <a:lnTo>
                    <a:pt x="3990" y="971"/>
                  </a:lnTo>
                  <a:lnTo>
                    <a:pt x="3964" y="961"/>
                  </a:lnTo>
                  <a:lnTo>
                    <a:pt x="3934" y="946"/>
                  </a:lnTo>
                  <a:lnTo>
                    <a:pt x="3904" y="932"/>
                  </a:lnTo>
                  <a:lnTo>
                    <a:pt x="3874" y="922"/>
                  </a:lnTo>
                  <a:lnTo>
                    <a:pt x="3849" y="907"/>
                  </a:lnTo>
                  <a:lnTo>
                    <a:pt x="3819" y="892"/>
                  </a:lnTo>
                  <a:lnTo>
                    <a:pt x="3789" y="882"/>
                  </a:lnTo>
                  <a:lnTo>
                    <a:pt x="3758" y="872"/>
                  </a:lnTo>
                  <a:lnTo>
                    <a:pt x="3733" y="858"/>
                  </a:lnTo>
                  <a:lnTo>
                    <a:pt x="3698" y="843"/>
                  </a:lnTo>
                  <a:lnTo>
                    <a:pt x="3673" y="833"/>
                  </a:lnTo>
                  <a:lnTo>
                    <a:pt x="3638" y="823"/>
                  </a:lnTo>
                  <a:lnTo>
                    <a:pt x="3613" y="813"/>
                  </a:lnTo>
                  <a:lnTo>
                    <a:pt x="3583" y="803"/>
                  </a:lnTo>
                  <a:lnTo>
                    <a:pt x="3552" y="789"/>
                  </a:lnTo>
                  <a:lnTo>
                    <a:pt x="3522" y="779"/>
                  </a:lnTo>
                  <a:lnTo>
                    <a:pt x="3492" y="769"/>
                  </a:lnTo>
                  <a:lnTo>
                    <a:pt x="3457" y="759"/>
                  </a:lnTo>
                  <a:lnTo>
                    <a:pt x="3432" y="744"/>
                  </a:lnTo>
                  <a:lnTo>
                    <a:pt x="3397" y="734"/>
                  </a:lnTo>
                  <a:lnTo>
                    <a:pt x="3366" y="724"/>
                  </a:lnTo>
                  <a:lnTo>
                    <a:pt x="3336" y="715"/>
                  </a:lnTo>
                  <a:lnTo>
                    <a:pt x="3306" y="710"/>
                  </a:lnTo>
                  <a:lnTo>
                    <a:pt x="3276" y="695"/>
                  </a:lnTo>
                  <a:lnTo>
                    <a:pt x="3246" y="690"/>
                  </a:lnTo>
                  <a:lnTo>
                    <a:pt x="3216" y="680"/>
                  </a:lnTo>
                  <a:lnTo>
                    <a:pt x="3186" y="670"/>
                  </a:lnTo>
                  <a:lnTo>
                    <a:pt x="3150" y="660"/>
                  </a:lnTo>
                  <a:lnTo>
                    <a:pt x="3120" y="650"/>
                  </a:lnTo>
                  <a:lnTo>
                    <a:pt x="3090" y="641"/>
                  </a:lnTo>
                  <a:lnTo>
                    <a:pt x="3060" y="636"/>
                  </a:lnTo>
                  <a:lnTo>
                    <a:pt x="3030" y="626"/>
                  </a:lnTo>
                  <a:lnTo>
                    <a:pt x="3000" y="616"/>
                  </a:lnTo>
                  <a:lnTo>
                    <a:pt x="2964" y="606"/>
                  </a:lnTo>
                  <a:lnTo>
                    <a:pt x="2934" y="596"/>
                  </a:lnTo>
                  <a:lnTo>
                    <a:pt x="2904" y="586"/>
                  </a:lnTo>
                  <a:lnTo>
                    <a:pt x="2869" y="581"/>
                  </a:lnTo>
                  <a:lnTo>
                    <a:pt x="2839" y="572"/>
                  </a:lnTo>
                  <a:lnTo>
                    <a:pt x="2809" y="562"/>
                  </a:lnTo>
                  <a:lnTo>
                    <a:pt x="2778" y="552"/>
                  </a:lnTo>
                  <a:lnTo>
                    <a:pt x="2748" y="547"/>
                  </a:lnTo>
                  <a:lnTo>
                    <a:pt x="2713" y="537"/>
                  </a:lnTo>
                  <a:lnTo>
                    <a:pt x="2683" y="532"/>
                  </a:lnTo>
                  <a:lnTo>
                    <a:pt x="2653" y="522"/>
                  </a:lnTo>
                  <a:lnTo>
                    <a:pt x="2618" y="512"/>
                  </a:lnTo>
                  <a:lnTo>
                    <a:pt x="2588" y="503"/>
                  </a:lnTo>
                  <a:lnTo>
                    <a:pt x="2557" y="498"/>
                  </a:lnTo>
                  <a:lnTo>
                    <a:pt x="2522" y="488"/>
                  </a:lnTo>
                  <a:lnTo>
                    <a:pt x="2497" y="478"/>
                  </a:lnTo>
                  <a:lnTo>
                    <a:pt x="2462" y="468"/>
                  </a:lnTo>
                  <a:lnTo>
                    <a:pt x="2432" y="463"/>
                  </a:lnTo>
                  <a:lnTo>
                    <a:pt x="2402" y="453"/>
                  </a:lnTo>
                  <a:lnTo>
                    <a:pt x="2371" y="448"/>
                  </a:lnTo>
                  <a:lnTo>
                    <a:pt x="2341" y="438"/>
                  </a:lnTo>
                  <a:lnTo>
                    <a:pt x="2311" y="429"/>
                  </a:lnTo>
                  <a:lnTo>
                    <a:pt x="2281" y="419"/>
                  </a:lnTo>
                  <a:lnTo>
                    <a:pt x="2251" y="414"/>
                  </a:lnTo>
                  <a:lnTo>
                    <a:pt x="2216" y="404"/>
                  </a:lnTo>
                  <a:lnTo>
                    <a:pt x="2185" y="399"/>
                  </a:lnTo>
                  <a:lnTo>
                    <a:pt x="2155" y="389"/>
                  </a:lnTo>
                  <a:lnTo>
                    <a:pt x="2130" y="379"/>
                  </a:lnTo>
                  <a:lnTo>
                    <a:pt x="2095" y="369"/>
                  </a:lnTo>
                  <a:lnTo>
                    <a:pt x="2070" y="364"/>
                  </a:lnTo>
                  <a:lnTo>
                    <a:pt x="2045" y="355"/>
                  </a:lnTo>
                  <a:lnTo>
                    <a:pt x="2020" y="350"/>
                  </a:lnTo>
                  <a:lnTo>
                    <a:pt x="2000" y="340"/>
                  </a:lnTo>
                  <a:lnTo>
                    <a:pt x="1974" y="335"/>
                  </a:lnTo>
                  <a:lnTo>
                    <a:pt x="1949" y="325"/>
                  </a:lnTo>
                  <a:lnTo>
                    <a:pt x="1924" y="320"/>
                  </a:lnTo>
                  <a:lnTo>
                    <a:pt x="1899" y="310"/>
                  </a:lnTo>
                  <a:lnTo>
                    <a:pt x="1879" y="300"/>
                  </a:lnTo>
                  <a:lnTo>
                    <a:pt x="1849" y="290"/>
                  </a:lnTo>
                  <a:lnTo>
                    <a:pt x="1824" y="286"/>
                  </a:lnTo>
                  <a:lnTo>
                    <a:pt x="1799" y="271"/>
                  </a:lnTo>
                  <a:lnTo>
                    <a:pt x="1773" y="266"/>
                  </a:lnTo>
                  <a:lnTo>
                    <a:pt x="1748" y="256"/>
                  </a:lnTo>
                  <a:lnTo>
                    <a:pt x="1718" y="246"/>
                  </a:lnTo>
                  <a:lnTo>
                    <a:pt x="1693" y="236"/>
                  </a:lnTo>
                  <a:lnTo>
                    <a:pt x="1668" y="226"/>
                  </a:lnTo>
                  <a:lnTo>
                    <a:pt x="1643" y="217"/>
                  </a:lnTo>
                  <a:lnTo>
                    <a:pt x="1613" y="207"/>
                  </a:lnTo>
                  <a:lnTo>
                    <a:pt x="1582" y="197"/>
                  </a:lnTo>
                  <a:lnTo>
                    <a:pt x="1557" y="192"/>
                  </a:lnTo>
                  <a:lnTo>
                    <a:pt x="1527" y="177"/>
                  </a:lnTo>
                  <a:lnTo>
                    <a:pt x="1502" y="172"/>
                  </a:lnTo>
                  <a:lnTo>
                    <a:pt x="1472" y="162"/>
                  </a:lnTo>
                  <a:lnTo>
                    <a:pt x="1447" y="152"/>
                  </a:lnTo>
                  <a:lnTo>
                    <a:pt x="1417" y="143"/>
                  </a:lnTo>
                  <a:lnTo>
                    <a:pt x="1386" y="133"/>
                  </a:lnTo>
                  <a:lnTo>
                    <a:pt x="1361" y="123"/>
                  </a:lnTo>
                  <a:lnTo>
                    <a:pt x="1331" y="113"/>
                  </a:lnTo>
                  <a:lnTo>
                    <a:pt x="1301" y="108"/>
                  </a:lnTo>
                  <a:lnTo>
                    <a:pt x="1276" y="98"/>
                  </a:lnTo>
                  <a:lnTo>
                    <a:pt x="1246" y="88"/>
                  </a:lnTo>
                  <a:lnTo>
                    <a:pt x="1216" y="83"/>
                  </a:lnTo>
                  <a:lnTo>
                    <a:pt x="1185" y="74"/>
                  </a:lnTo>
                  <a:lnTo>
                    <a:pt x="1160" y="69"/>
                  </a:lnTo>
                  <a:lnTo>
                    <a:pt x="1130" y="59"/>
                  </a:lnTo>
                  <a:lnTo>
                    <a:pt x="1100" y="54"/>
                  </a:lnTo>
                  <a:lnTo>
                    <a:pt x="1070" y="44"/>
                  </a:lnTo>
                  <a:lnTo>
                    <a:pt x="1045" y="39"/>
                  </a:lnTo>
                  <a:lnTo>
                    <a:pt x="1015" y="34"/>
                  </a:lnTo>
                  <a:lnTo>
                    <a:pt x="984" y="29"/>
                  </a:lnTo>
                  <a:lnTo>
                    <a:pt x="959" y="24"/>
                  </a:lnTo>
                  <a:lnTo>
                    <a:pt x="929" y="19"/>
                  </a:lnTo>
                  <a:lnTo>
                    <a:pt x="899" y="14"/>
                  </a:lnTo>
                  <a:lnTo>
                    <a:pt x="869" y="14"/>
                  </a:lnTo>
                  <a:lnTo>
                    <a:pt x="844" y="9"/>
                  </a:lnTo>
                  <a:lnTo>
                    <a:pt x="814" y="4"/>
                  </a:lnTo>
                  <a:lnTo>
                    <a:pt x="788" y="4"/>
                  </a:lnTo>
                  <a:lnTo>
                    <a:pt x="763" y="4"/>
                  </a:lnTo>
                  <a:lnTo>
                    <a:pt x="733" y="0"/>
                  </a:lnTo>
                  <a:lnTo>
                    <a:pt x="708" y="0"/>
                  </a:lnTo>
                  <a:lnTo>
                    <a:pt x="678" y="0"/>
                  </a:lnTo>
                  <a:lnTo>
                    <a:pt x="653" y="0"/>
                  </a:lnTo>
                  <a:lnTo>
                    <a:pt x="623" y="0"/>
                  </a:lnTo>
                  <a:lnTo>
                    <a:pt x="598" y="4"/>
                  </a:lnTo>
                  <a:lnTo>
                    <a:pt x="572" y="4"/>
                  </a:lnTo>
                  <a:lnTo>
                    <a:pt x="547" y="9"/>
                  </a:lnTo>
                  <a:lnTo>
                    <a:pt x="517" y="14"/>
                  </a:lnTo>
                  <a:lnTo>
                    <a:pt x="497" y="19"/>
                  </a:lnTo>
                  <a:lnTo>
                    <a:pt x="467" y="24"/>
                  </a:lnTo>
                  <a:lnTo>
                    <a:pt x="447" y="29"/>
                  </a:lnTo>
                  <a:lnTo>
                    <a:pt x="417" y="34"/>
                  </a:lnTo>
                  <a:lnTo>
                    <a:pt x="397" y="44"/>
                  </a:lnTo>
                  <a:lnTo>
                    <a:pt x="371" y="54"/>
                  </a:lnTo>
                  <a:lnTo>
                    <a:pt x="351" y="64"/>
                  </a:lnTo>
                  <a:lnTo>
                    <a:pt x="331" y="69"/>
                  </a:lnTo>
                  <a:lnTo>
                    <a:pt x="311" y="78"/>
                  </a:lnTo>
                  <a:lnTo>
                    <a:pt x="296" y="88"/>
                  </a:lnTo>
                  <a:lnTo>
                    <a:pt x="281" y="98"/>
                  </a:lnTo>
                  <a:lnTo>
                    <a:pt x="266" y="113"/>
                  </a:lnTo>
                  <a:lnTo>
                    <a:pt x="251" y="123"/>
                  </a:lnTo>
                  <a:lnTo>
                    <a:pt x="236" y="133"/>
                  </a:lnTo>
                  <a:lnTo>
                    <a:pt x="226" y="152"/>
                  </a:lnTo>
                  <a:lnTo>
                    <a:pt x="211" y="162"/>
                  </a:lnTo>
                  <a:lnTo>
                    <a:pt x="195" y="182"/>
                  </a:lnTo>
                  <a:lnTo>
                    <a:pt x="185" y="197"/>
                  </a:lnTo>
                  <a:lnTo>
                    <a:pt x="175" y="212"/>
                  </a:lnTo>
                  <a:lnTo>
                    <a:pt x="165" y="231"/>
                  </a:lnTo>
                  <a:lnTo>
                    <a:pt x="155" y="246"/>
                  </a:lnTo>
                  <a:lnTo>
                    <a:pt x="145" y="266"/>
                  </a:lnTo>
                  <a:lnTo>
                    <a:pt x="140" y="286"/>
                  </a:lnTo>
                  <a:lnTo>
                    <a:pt x="130" y="305"/>
                  </a:lnTo>
                  <a:lnTo>
                    <a:pt x="125" y="325"/>
                  </a:lnTo>
                  <a:lnTo>
                    <a:pt x="115" y="345"/>
                  </a:lnTo>
                  <a:lnTo>
                    <a:pt x="110" y="369"/>
                  </a:lnTo>
                  <a:lnTo>
                    <a:pt x="100" y="389"/>
                  </a:lnTo>
                  <a:lnTo>
                    <a:pt x="95" y="409"/>
                  </a:lnTo>
                  <a:lnTo>
                    <a:pt x="90" y="434"/>
                  </a:lnTo>
                  <a:lnTo>
                    <a:pt x="90" y="453"/>
                  </a:lnTo>
                  <a:lnTo>
                    <a:pt x="80" y="473"/>
                  </a:lnTo>
                  <a:lnTo>
                    <a:pt x="75" y="498"/>
                  </a:lnTo>
                  <a:lnTo>
                    <a:pt x="75" y="522"/>
                  </a:lnTo>
                  <a:lnTo>
                    <a:pt x="70" y="547"/>
                  </a:lnTo>
                  <a:lnTo>
                    <a:pt x="65" y="567"/>
                  </a:lnTo>
                  <a:lnTo>
                    <a:pt x="65" y="596"/>
                  </a:lnTo>
                  <a:lnTo>
                    <a:pt x="65" y="616"/>
                  </a:lnTo>
                  <a:lnTo>
                    <a:pt x="65" y="646"/>
                  </a:lnTo>
                  <a:lnTo>
                    <a:pt x="60" y="665"/>
                  </a:lnTo>
                  <a:lnTo>
                    <a:pt x="60" y="690"/>
                  </a:lnTo>
                  <a:lnTo>
                    <a:pt x="55" y="715"/>
                  </a:lnTo>
                  <a:lnTo>
                    <a:pt x="55" y="739"/>
                  </a:lnTo>
                  <a:lnTo>
                    <a:pt x="55" y="764"/>
                  </a:lnTo>
                  <a:lnTo>
                    <a:pt x="55" y="789"/>
                  </a:lnTo>
                  <a:lnTo>
                    <a:pt x="55" y="808"/>
                  </a:lnTo>
                  <a:lnTo>
                    <a:pt x="55" y="838"/>
                  </a:lnTo>
                  <a:lnTo>
                    <a:pt x="55" y="858"/>
                  </a:lnTo>
                  <a:lnTo>
                    <a:pt x="55" y="882"/>
                  </a:lnTo>
                  <a:lnTo>
                    <a:pt x="55" y="907"/>
                  </a:lnTo>
                  <a:lnTo>
                    <a:pt x="60" y="932"/>
                  </a:lnTo>
                  <a:lnTo>
                    <a:pt x="60" y="951"/>
                  </a:lnTo>
                  <a:lnTo>
                    <a:pt x="60" y="976"/>
                  </a:lnTo>
                  <a:lnTo>
                    <a:pt x="60" y="1001"/>
                  </a:lnTo>
                  <a:lnTo>
                    <a:pt x="65" y="1025"/>
                  </a:lnTo>
                  <a:lnTo>
                    <a:pt x="65" y="1045"/>
                  </a:lnTo>
                  <a:lnTo>
                    <a:pt x="65" y="1065"/>
                  </a:lnTo>
                  <a:lnTo>
                    <a:pt x="65" y="1089"/>
                  </a:lnTo>
                  <a:lnTo>
                    <a:pt x="65" y="1109"/>
                  </a:lnTo>
                  <a:lnTo>
                    <a:pt x="65" y="1129"/>
                  </a:lnTo>
                  <a:lnTo>
                    <a:pt x="70" y="1154"/>
                  </a:lnTo>
                  <a:lnTo>
                    <a:pt x="70" y="1173"/>
                  </a:lnTo>
                  <a:lnTo>
                    <a:pt x="75" y="1193"/>
                  </a:lnTo>
                  <a:lnTo>
                    <a:pt x="75" y="1213"/>
                  </a:lnTo>
                  <a:lnTo>
                    <a:pt x="75" y="1227"/>
                  </a:lnTo>
                  <a:lnTo>
                    <a:pt x="75" y="1247"/>
                  </a:lnTo>
                  <a:lnTo>
                    <a:pt x="80" y="1262"/>
                  </a:lnTo>
                  <a:lnTo>
                    <a:pt x="80" y="1282"/>
                  </a:lnTo>
                  <a:lnTo>
                    <a:pt x="80" y="1297"/>
                  </a:lnTo>
                  <a:lnTo>
                    <a:pt x="80" y="1311"/>
                  </a:lnTo>
                  <a:lnTo>
                    <a:pt x="85" y="1326"/>
                  </a:lnTo>
                  <a:lnTo>
                    <a:pt x="85" y="1341"/>
                  </a:lnTo>
                  <a:lnTo>
                    <a:pt x="85" y="1361"/>
                  </a:lnTo>
                  <a:lnTo>
                    <a:pt x="85" y="1375"/>
                  </a:lnTo>
                  <a:lnTo>
                    <a:pt x="85" y="1390"/>
                  </a:lnTo>
                  <a:lnTo>
                    <a:pt x="85" y="1405"/>
                  </a:lnTo>
                  <a:lnTo>
                    <a:pt x="85" y="1425"/>
                  </a:lnTo>
                  <a:lnTo>
                    <a:pt x="85" y="1440"/>
                  </a:lnTo>
                  <a:lnTo>
                    <a:pt x="85" y="1454"/>
                  </a:lnTo>
                  <a:lnTo>
                    <a:pt x="85" y="1469"/>
                  </a:lnTo>
                  <a:lnTo>
                    <a:pt x="85" y="1489"/>
                  </a:lnTo>
                  <a:lnTo>
                    <a:pt x="85" y="1504"/>
                  </a:lnTo>
                  <a:lnTo>
                    <a:pt x="85" y="1518"/>
                  </a:lnTo>
                  <a:lnTo>
                    <a:pt x="85" y="1533"/>
                  </a:lnTo>
                  <a:lnTo>
                    <a:pt x="85" y="1548"/>
                  </a:lnTo>
                  <a:lnTo>
                    <a:pt x="85" y="1568"/>
                  </a:lnTo>
                  <a:lnTo>
                    <a:pt x="85" y="1583"/>
                  </a:lnTo>
                  <a:lnTo>
                    <a:pt x="85" y="1597"/>
                  </a:lnTo>
                  <a:lnTo>
                    <a:pt x="85" y="1612"/>
                  </a:lnTo>
                  <a:lnTo>
                    <a:pt x="85" y="1627"/>
                  </a:lnTo>
                  <a:lnTo>
                    <a:pt x="85" y="1647"/>
                  </a:lnTo>
                  <a:lnTo>
                    <a:pt x="80" y="1657"/>
                  </a:lnTo>
                  <a:lnTo>
                    <a:pt x="80" y="1676"/>
                  </a:lnTo>
                  <a:lnTo>
                    <a:pt x="80" y="1691"/>
                  </a:lnTo>
                  <a:lnTo>
                    <a:pt x="80" y="1706"/>
                  </a:lnTo>
                  <a:lnTo>
                    <a:pt x="80" y="1721"/>
                  </a:lnTo>
                  <a:lnTo>
                    <a:pt x="80" y="1735"/>
                  </a:lnTo>
                  <a:lnTo>
                    <a:pt x="80" y="1750"/>
                  </a:lnTo>
                  <a:lnTo>
                    <a:pt x="80" y="1770"/>
                  </a:lnTo>
                  <a:lnTo>
                    <a:pt x="75" y="1785"/>
                  </a:lnTo>
                  <a:lnTo>
                    <a:pt x="75" y="1800"/>
                  </a:lnTo>
                  <a:lnTo>
                    <a:pt x="75" y="1814"/>
                  </a:lnTo>
                  <a:lnTo>
                    <a:pt x="75" y="1834"/>
                  </a:lnTo>
                  <a:lnTo>
                    <a:pt x="75" y="1849"/>
                  </a:lnTo>
                  <a:lnTo>
                    <a:pt x="75" y="1864"/>
                  </a:lnTo>
                  <a:lnTo>
                    <a:pt x="70" y="1878"/>
                  </a:lnTo>
                  <a:lnTo>
                    <a:pt x="70" y="1893"/>
                  </a:lnTo>
                  <a:lnTo>
                    <a:pt x="70" y="1908"/>
                  </a:lnTo>
                  <a:lnTo>
                    <a:pt x="65" y="1923"/>
                  </a:lnTo>
                  <a:lnTo>
                    <a:pt x="65" y="1938"/>
                  </a:lnTo>
                  <a:lnTo>
                    <a:pt x="65" y="1957"/>
                  </a:lnTo>
                  <a:lnTo>
                    <a:pt x="65" y="1972"/>
                  </a:lnTo>
                  <a:lnTo>
                    <a:pt x="60" y="1987"/>
                  </a:lnTo>
                  <a:lnTo>
                    <a:pt x="60" y="2002"/>
                  </a:lnTo>
                  <a:lnTo>
                    <a:pt x="60" y="2017"/>
                  </a:lnTo>
                  <a:lnTo>
                    <a:pt x="60" y="2031"/>
                  </a:lnTo>
                  <a:lnTo>
                    <a:pt x="55" y="2046"/>
                  </a:lnTo>
                  <a:lnTo>
                    <a:pt x="55" y="2061"/>
                  </a:lnTo>
                  <a:lnTo>
                    <a:pt x="55" y="2081"/>
                  </a:lnTo>
                  <a:lnTo>
                    <a:pt x="50" y="2095"/>
                  </a:lnTo>
                  <a:lnTo>
                    <a:pt x="50" y="2110"/>
                  </a:lnTo>
                  <a:lnTo>
                    <a:pt x="45" y="2125"/>
                  </a:lnTo>
                  <a:lnTo>
                    <a:pt x="45" y="2140"/>
                  </a:lnTo>
                  <a:lnTo>
                    <a:pt x="40" y="2155"/>
                  </a:lnTo>
                  <a:lnTo>
                    <a:pt x="40" y="2169"/>
                  </a:lnTo>
                  <a:lnTo>
                    <a:pt x="40" y="2189"/>
                  </a:lnTo>
                  <a:lnTo>
                    <a:pt x="40" y="2204"/>
                  </a:lnTo>
                  <a:lnTo>
                    <a:pt x="35" y="2219"/>
                  </a:lnTo>
                  <a:lnTo>
                    <a:pt x="30" y="2234"/>
                  </a:lnTo>
                  <a:lnTo>
                    <a:pt x="30" y="2248"/>
                  </a:lnTo>
                  <a:lnTo>
                    <a:pt x="30" y="2268"/>
                  </a:lnTo>
                  <a:lnTo>
                    <a:pt x="25" y="2283"/>
                  </a:lnTo>
                  <a:lnTo>
                    <a:pt x="25" y="2298"/>
                  </a:lnTo>
                  <a:lnTo>
                    <a:pt x="20" y="2312"/>
                  </a:lnTo>
                  <a:lnTo>
                    <a:pt x="20" y="2332"/>
                  </a:lnTo>
                  <a:lnTo>
                    <a:pt x="15" y="2347"/>
                  </a:lnTo>
                  <a:lnTo>
                    <a:pt x="15" y="2362"/>
                  </a:lnTo>
                  <a:lnTo>
                    <a:pt x="10" y="2381"/>
                  </a:lnTo>
                  <a:lnTo>
                    <a:pt x="10" y="2401"/>
                  </a:lnTo>
                  <a:lnTo>
                    <a:pt x="5" y="2416"/>
                  </a:lnTo>
                  <a:lnTo>
                    <a:pt x="5" y="2436"/>
                  </a:lnTo>
                  <a:lnTo>
                    <a:pt x="0" y="2450"/>
                  </a:lnTo>
                  <a:lnTo>
                    <a:pt x="0" y="2470"/>
                  </a:lnTo>
                  <a:lnTo>
                    <a:pt x="0" y="2490"/>
                  </a:lnTo>
                  <a:lnTo>
                    <a:pt x="0" y="2505"/>
                  </a:lnTo>
                  <a:lnTo>
                    <a:pt x="0" y="2524"/>
                  </a:lnTo>
                  <a:lnTo>
                    <a:pt x="0" y="2539"/>
                  </a:lnTo>
                  <a:lnTo>
                    <a:pt x="0" y="2559"/>
                  </a:lnTo>
                  <a:lnTo>
                    <a:pt x="0" y="2574"/>
                  </a:lnTo>
                  <a:lnTo>
                    <a:pt x="0" y="2594"/>
                  </a:lnTo>
                  <a:lnTo>
                    <a:pt x="0" y="2613"/>
                  </a:lnTo>
                  <a:lnTo>
                    <a:pt x="0" y="2628"/>
                  </a:lnTo>
                  <a:lnTo>
                    <a:pt x="0" y="2643"/>
                  </a:lnTo>
                  <a:lnTo>
                    <a:pt x="5" y="2663"/>
                  </a:lnTo>
                  <a:lnTo>
                    <a:pt x="10" y="2677"/>
                  </a:lnTo>
                  <a:lnTo>
                    <a:pt x="10" y="2697"/>
                  </a:lnTo>
                  <a:lnTo>
                    <a:pt x="15" y="2717"/>
                  </a:lnTo>
                  <a:lnTo>
                    <a:pt x="20" y="2732"/>
                  </a:lnTo>
                  <a:lnTo>
                    <a:pt x="25" y="2751"/>
                  </a:lnTo>
                  <a:lnTo>
                    <a:pt x="30" y="2766"/>
                  </a:lnTo>
                  <a:lnTo>
                    <a:pt x="35" y="2781"/>
                  </a:lnTo>
                  <a:lnTo>
                    <a:pt x="40" y="2801"/>
                  </a:lnTo>
                  <a:lnTo>
                    <a:pt x="45" y="2815"/>
                  </a:lnTo>
                  <a:lnTo>
                    <a:pt x="50" y="2830"/>
                  </a:lnTo>
                  <a:lnTo>
                    <a:pt x="60" y="2850"/>
                  </a:lnTo>
                  <a:lnTo>
                    <a:pt x="70" y="2865"/>
                  </a:lnTo>
                  <a:lnTo>
                    <a:pt x="80" y="2880"/>
                  </a:lnTo>
                  <a:lnTo>
                    <a:pt x="85" y="2889"/>
                  </a:lnTo>
                  <a:lnTo>
                    <a:pt x="95" y="2899"/>
                  </a:lnTo>
                  <a:lnTo>
                    <a:pt x="105" y="2899"/>
                  </a:lnTo>
                  <a:lnTo>
                    <a:pt x="115" y="2904"/>
                  </a:lnTo>
                  <a:lnTo>
                    <a:pt x="125" y="2904"/>
                  </a:lnTo>
                  <a:lnTo>
                    <a:pt x="140" y="2904"/>
                  </a:lnTo>
                  <a:lnTo>
                    <a:pt x="150" y="2904"/>
                  </a:lnTo>
                  <a:lnTo>
                    <a:pt x="160" y="2904"/>
                  </a:lnTo>
                  <a:lnTo>
                    <a:pt x="180" y="2889"/>
                  </a:lnTo>
                  <a:lnTo>
                    <a:pt x="190" y="2875"/>
                  </a:lnTo>
                  <a:lnTo>
                    <a:pt x="195" y="2865"/>
                  </a:lnTo>
                  <a:lnTo>
                    <a:pt x="201" y="2855"/>
                  </a:lnTo>
                  <a:lnTo>
                    <a:pt x="195" y="2845"/>
                  </a:lnTo>
                  <a:lnTo>
                    <a:pt x="195" y="2835"/>
                  </a:lnTo>
                  <a:lnTo>
                    <a:pt x="190" y="2815"/>
                  </a:lnTo>
                  <a:lnTo>
                    <a:pt x="180" y="2796"/>
                  </a:lnTo>
                  <a:lnTo>
                    <a:pt x="175" y="2776"/>
                  </a:lnTo>
                  <a:lnTo>
                    <a:pt x="170" y="2761"/>
                  </a:lnTo>
                  <a:lnTo>
                    <a:pt x="165" y="2741"/>
                  </a:lnTo>
                  <a:lnTo>
                    <a:pt x="160" y="2727"/>
                  </a:lnTo>
                  <a:lnTo>
                    <a:pt x="155" y="2707"/>
                  </a:lnTo>
                  <a:lnTo>
                    <a:pt x="150" y="2687"/>
                  </a:lnTo>
                  <a:lnTo>
                    <a:pt x="145" y="2667"/>
                  </a:lnTo>
                  <a:lnTo>
                    <a:pt x="145" y="2653"/>
                  </a:lnTo>
                  <a:lnTo>
                    <a:pt x="140" y="2628"/>
                  </a:lnTo>
                  <a:lnTo>
                    <a:pt x="140" y="2613"/>
                  </a:lnTo>
                  <a:lnTo>
                    <a:pt x="140" y="2594"/>
                  </a:lnTo>
                  <a:lnTo>
                    <a:pt x="135" y="2574"/>
                  </a:lnTo>
                  <a:lnTo>
                    <a:pt x="135" y="2554"/>
                  </a:lnTo>
                  <a:lnTo>
                    <a:pt x="135" y="2539"/>
                  </a:lnTo>
                  <a:lnTo>
                    <a:pt x="135" y="2515"/>
                  </a:lnTo>
                  <a:lnTo>
                    <a:pt x="130" y="2495"/>
                  </a:lnTo>
                  <a:lnTo>
                    <a:pt x="130" y="2475"/>
                  </a:lnTo>
                  <a:lnTo>
                    <a:pt x="130" y="2455"/>
                  </a:lnTo>
                  <a:lnTo>
                    <a:pt x="130" y="2436"/>
                  </a:lnTo>
                  <a:lnTo>
                    <a:pt x="135" y="2416"/>
                  </a:lnTo>
                  <a:lnTo>
                    <a:pt x="135" y="2396"/>
                  </a:lnTo>
                  <a:lnTo>
                    <a:pt x="135" y="2377"/>
                  </a:lnTo>
                  <a:lnTo>
                    <a:pt x="135" y="2352"/>
                  </a:lnTo>
                  <a:lnTo>
                    <a:pt x="140" y="2332"/>
                  </a:lnTo>
                  <a:lnTo>
                    <a:pt x="140" y="2312"/>
                  </a:lnTo>
                  <a:lnTo>
                    <a:pt x="145" y="2293"/>
                  </a:lnTo>
                  <a:lnTo>
                    <a:pt x="145" y="2273"/>
                  </a:lnTo>
                  <a:lnTo>
                    <a:pt x="150" y="2253"/>
                  </a:lnTo>
                  <a:lnTo>
                    <a:pt x="150" y="2234"/>
                  </a:lnTo>
                  <a:lnTo>
                    <a:pt x="155" y="2214"/>
                  </a:lnTo>
                  <a:lnTo>
                    <a:pt x="155" y="2189"/>
                  </a:lnTo>
                  <a:lnTo>
                    <a:pt x="160" y="2169"/>
                  </a:lnTo>
                  <a:lnTo>
                    <a:pt x="160" y="2145"/>
                  </a:lnTo>
                  <a:lnTo>
                    <a:pt x="165" y="2125"/>
                  </a:lnTo>
                  <a:lnTo>
                    <a:pt x="165" y="2105"/>
                  </a:lnTo>
                  <a:lnTo>
                    <a:pt x="170" y="2086"/>
                  </a:lnTo>
                  <a:lnTo>
                    <a:pt x="170" y="2061"/>
                  </a:lnTo>
                  <a:lnTo>
                    <a:pt x="175" y="2041"/>
                  </a:lnTo>
                  <a:lnTo>
                    <a:pt x="180" y="2021"/>
                  </a:lnTo>
                  <a:lnTo>
                    <a:pt x="180" y="1997"/>
                  </a:lnTo>
                  <a:lnTo>
                    <a:pt x="185" y="1977"/>
                  </a:lnTo>
                  <a:lnTo>
                    <a:pt x="190" y="1957"/>
                  </a:lnTo>
                  <a:lnTo>
                    <a:pt x="190" y="1938"/>
                  </a:lnTo>
                  <a:lnTo>
                    <a:pt x="195" y="1918"/>
                  </a:lnTo>
                  <a:lnTo>
                    <a:pt x="195" y="1898"/>
                  </a:lnTo>
                  <a:lnTo>
                    <a:pt x="201" y="1878"/>
                  </a:lnTo>
                  <a:lnTo>
                    <a:pt x="201" y="1859"/>
                  </a:lnTo>
                  <a:lnTo>
                    <a:pt x="206" y="1834"/>
                  </a:lnTo>
                  <a:lnTo>
                    <a:pt x="206" y="1814"/>
                  </a:lnTo>
                  <a:lnTo>
                    <a:pt x="211" y="1795"/>
                  </a:lnTo>
                  <a:lnTo>
                    <a:pt x="211" y="1775"/>
                  </a:lnTo>
                  <a:lnTo>
                    <a:pt x="216" y="1760"/>
                  </a:lnTo>
                  <a:lnTo>
                    <a:pt x="216" y="1735"/>
                  </a:lnTo>
                  <a:lnTo>
                    <a:pt x="221" y="1721"/>
                  </a:lnTo>
                  <a:lnTo>
                    <a:pt x="221" y="1701"/>
                  </a:lnTo>
                  <a:lnTo>
                    <a:pt x="221" y="1681"/>
                  </a:lnTo>
                  <a:lnTo>
                    <a:pt x="221" y="1661"/>
                  </a:lnTo>
                  <a:lnTo>
                    <a:pt x="226" y="1642"/>
                  </a:lnTo>
                  <a:lnTo>
                    <a:pt x="226" y="1622"/>
                  </a:lnTo>
                  <a:lnTo>
                    <a:pt x="226" y="1602"/>
                  </a:lnTo>
                  <a:lnTo>
                    <a:pt x="226" y="1587"/>
                  </a:lnTo>
                  <a:lnTo>
                    <a:pt x="226" y="1568"/>
                  </a:lnTo>
                  <a:lnTo>
                    <a:pt x="226" y="1558"/>
                  </a:lnTo>
                  <a:lnTo>
                    <a:pt x="226" y="1543"/>
                  </a:lnTo>
                  <a:lnTo>
                    <a:pt x="226" y="1533"/>
                  </a:lnTo>
                  <a:lnTo>
                    <a:pt x="226" y="1523"/>
                  </a:lnTo>
                  <a:lnTo>
                    <a:pt x="226" y="1509"/>
                  </a:lnTo>
                  <a:lnTo>
                    <a:pt x="226" y="1499"/>
                  </a:lnTo>
                  <a:lnTo>
                    <a:pt x="226" y="1489"/>
                  </a:lnTo>
                  <a:lnTo>
                    <a:pt x="226" y="1479"/>
                  </a:lnTo>
                  <a:lnTo>
                    <a:pt x="221" y="1464"/>
                  </a:lnTo>
                  <a:lnTo>
                    <a:pt x="221" y="1454"/>
                  </a:lnTo>
                  <a:lnTo>
                    <a:pt x="221" y="1444"/>
                  </a:lnTo>
                  <a:lnTo>
                    <a:pt x="221" y="1430"/>
                  </a:lnTo>
                  <a:lnTo>
                    <a:pt x="221" y="1420"/>
                  </a:lnTo>
                  <a:lnTo>
                    <a:pt x="221" y="1410"/>
                  </a:lnTo>
                  <a:lnTo>
                    <a:pt x="221" y="1400"/>
                  </a:lnTo>
                  <a:lnTo>
                    <a:pt x="221" y="1390"/>
                  </a:lnTo>
                  <a:lnTo>
                    <a:pt x="216" y="1375"/>
                  </a:lnTo>
                  <a:lnTo>
                    <a:pt x="216" y="1366"/>
                  </a:lnTo>
                  <a:lnTo>
                    <a:pt x="216" y="1356"/>
                  </a:lnTo>
                  <a:lnTo>
                    <a:pt x="216" y="1341"/>
                  </a:lnTo>
                  <a:lnTo>
                    <a:pt x="216" y="1331"/>
                  </a:lnTo>
                  <a:lnTo>
                    <a:pt x="216" y="1316"/>
                  </a:lnTo>
                  <a:lnTo>
                    <a:pt x="216" y="1306"/>
                  </a:lnTo>
                  <a:lnTo>
                    <a:pt x="216" y="1297"/>
                  </a:lnTo>
                  <a:lnTo>
                    <a:pt x="216" y="1282"/>
                  </a:lnTo>
                  <a:lnTo>
                    <a:pt x="216" y="1272"/>
                  </a:lnTo>
                  <a:lnTo>
                    <a:pt x="211" y="1262"/>
                  </a:lnTo>
                  <a:lnTo>
                    <a:pt x="211" y="1252"/>
                  </a:lnTo>
                  <a:lnTo>
                    <a:pt x="211" y="1242"/>
                  </a:lnTo>
                  <a:lnTo>
                    <a:pt x="211" y="1227"/>
                  </a:lnTo>
                  <a:lnTo>
                    <a:pt x="211" y="1218"/>
                  </a:lnTo>
                  <a:lnTo>
                    <a:pt x="211" y="1208"/>
                  </a:lnTo>
                  <a:lnTo>
                    <a:pt x="211" y="1193"/>
                  </a:lnTo>
                  <a:lnTo>
                    <a:pt x="211" y="1183"/>
                  </a:lnTo>
                  <a:lnTo>
                    <a:pt x="211" y="1173"/>
                  </a:lnTo>
                  <a:lnTo>
                    <a:pt x="211" y="1163"/>
                  </a:lnTo>
                  <a:lnTo>
                    <a:pt x="206" y="1149"/>
                  </a:lnTo>
                  <a:lnTo>
                    <a:pt x="206" y="1139"/>
                  </a:lnTo>
                  <a:lnTo>
                    <a:pt x="206" y="1129"/>
                  </a:lnTo>
                  <a:lnTo>
                    <a:pt x="206" y="1114"/>
                  </a:lnTo>
                  <a:lnTo>
                    <a:pt x="206" y="1104"/>
                  </a:lnTo>
                  <a:lnTo>
                    <a:pt x="206" y="1089"/>
                  </a:lnTo>
                  <a:lnTo>
                    <a:pt x="206" y="1080"/>
                  </a:lnTo>
                  <a:lnTo>
                    <a:pt x="206" y="1070"/>
                  </a:lnTo>
                  <a:lnTo>
                    <a:pt x="206" y="1060"/>
                  </a:lnTo>
                  <a:lnTo>
                    <a:pt x="206" y="1050"/>
                  </a:lnTo>
                  <a:lnTo>
                    <a:pt x="206" y="1035"/>
                  </a:lnTo>
                  <a:lnTo>
                    <a:pt x="206" y="1025"/>
                  </a:lnTo>
                  <a:lnTo>
                    <a:pt x="201" y="1015"/>
                  </a:lnTo>
                  <a:lnTo>
                    <a:pt x="201" y="1001"/>
                  </a:lnTo>
                  <a:lnTo>
                    <a:pt x="201" y="991"/>
                  </a:lnTo>
                  <a:lnTo>
                    <a:pt x="201" y="981"/>
                  </a:lnTo>
                  <a:lnTo>
                    <a:pt x="201" y="966"/>
                  </a:lnTo>
                  <a:lnTo>
                    <a:pt x="201" y="956"/>
                  </a:lnTo>
                  <a:lnTo>
                    <a:pt x="201" y="946"/>
                  </a:lnTo>
                  <a:lnTo>
                    <a:pt x="201" y="937"/>
                  </a:lnTo>
                  <a:lnTo>
                    <a:pt x="201" y="922"/>
                  </a:lnTo>
                  <a:lnTo>
                    <a:pt x="201" y="912"/>
                  </a:lnTo>
                  <a:lnTo>
                    <a:pt x="201" y="902"/>
                  </a:lnTo>
                  <a:lnTo>
                    <a:pt x="201" y="887"/>
                  </a:lnTo>
                  <a:lnTo>
                    <a:pt x="201" y="877"/>
                  </a:lnTo>
                  <a:lnTo>
                    <a:pt x="201" y="867"/>
                  </a:lnTo>
                  <a:lnTo>
                    <a:pt x="201" y="858"/>
                  </a:lnTo>
                  <a:lnTo>
                    <a:pt x="201" y="843"/>
                  </a:lnTo>
                  <a:lnTo>
                    <a:pt x="201" y="828"/>
                  </a:lnTo>
                  <a:lnTo>
                    <a:pt x="201" y="808"/>
                  </a:lnTo>
                  <a:lnTo>
                    <a:pt x="201" y="789"/>
                  </a:lnTo>
                  <a:lnTo>
                    <a:pt x="201" y="774"/>
                  </a:lnTo>
                  <a:lnTo>
                    <a:pt x="201" y="754"/>
                  </a:lnTo>
                  <a:lnTo>
                    <a:pt x="201" y="739"/>
                  </a:lnTo>
                  <a:lnTo>
                    <a:pt x="201" y="724"/>
                  </a:lnTo>
                  <a:lnTo>
                    <a:pt x="206" y="705"/>
                  </a:lnTo>
                  <a:lnTo>
                    <a:pt x="206" y="690"/>
                  </a:lnTo>
                  <a:lnTo>
                    <a:pt x="206" y="675"/>
                  </a:lnTo>
                  <a:lnTo>
                    <a:pt x="206" y="655"/>
                  </a:lnTo>
                  <a:lnTo>
                    <a:pt x="211" y="641"/>
                  </a:lnTo>
                  <a:lnTo>
                    <a:pt x="211" y="626"/>
                  </a:lnTo>
                  <a:lnTo>
                    <a:pt x="211" y="606"/>
                  </a:lnTo>
                  <a:lnTo>
                    <a:pt x="211" y="591"/>
                  </a:lnTo>
                  <a:lnTo>
                    <a:pt x="216" y="577"/>
                  </a:lnTo>
                  <a:lnTo>
                    <a:pt x="216" y="562"/>
                  </a:lnTo>
                  <a:lnTo>
                    <a:pt x="221" y="542"/>
                  </a:lnTo>
                  <a:lnTo>
                    <a:pt x="221" y="527"/>
                  </a:lnTo>
                  <a:lnTo>
                    <a:pt x="226" y="512"/>
                  </a:lnTo>
                  <a:lnTo>
                    <a:pt x="226" y="498"/>
                  </a:lnTo>
                  <a:lnTo>
                    <a:pt x="231" y="483"/>
                  </a:lnTo>
                  <a:lnTo>
                    <a:pt x="231" y="468"/>
                  </a:lnTo>
                  <a:lnTo>
                    <a:pt x="241" y="458"/>
                  </a:lnTo>
                  <a:lnTo>
                    <a:pt x="241" y="443"/>
                  </a:lnTo>
                  <a:lnTo>
                    <a:pt x="246" y="429"/>
                  </a:lnTo>
                  <a:lnTo>
                    <a:pt x="251" y="414"/>
                  </a:lnTo>
                  <a:lnTo>
                    <a:pt x="256" y="404"/>
                  </a:lnTo>
                  <a:lnTo>
                    <a:pt x="261" y="389"/>
                  </a:lnTo>
                  <a:lnTo>
                    <a:pt x="266" y="374"/>
                  </a:lnTo>
                  <a:lnTo>
                    <a:pt x="276" y="364"/>
                  </a:lnTo>
                  <a:lnTo>
                    <a:pt x="281" y="355"/>
                  </a:lnTo>
                  <a:lnTo>
                    <a:pt x="286" y="340"/>
                  </a:lnTo>
                  <a:lnTo>
                    <a:pt x="291" y="330"/>
                  </a:lnTo>
                  <a:lnTo>
                    <a:pt x="301" y="320"/>
                  </a:lnTo>
                  <a:lnTo>
                    <a:pt x="311" y="305"/>
                  </a:lnTo>
                  <a:lnTo>
                    <a:pt x="316" y="295"/>
                  </a:lnTo>
                  <a:lnTo>
                    <a:pt x="326" y="286"/>
                  </a:lnTo>
                  <a:lnTo>
                    <a:pt x="331" y="276"/>
                  </a:lnTo>
                  <a:lnTo>
                    <a:pt x="341" y="271"/>
                  </a:lnTo>
                  <a:lnTo>
                    <a:pt x="351" y="256"/>
                  </a:lnTo>
                  <a:lnTo>
                    <a:pt x="361" y="246"/>
                  </a:lnTo>
                  <a:lnTo>
                    <a:pt x="371" y="241"/>
                  </a:lnTo>
                  <a:lnTo>
                    <a:pt x="381" y="231"/>
                  </a:lnTo>
                  <a:lnTo>
                    <a:pt x="391" y="221"/>
                  </a:lnTo>
                  <a:lnTo>
                    <a:pt x="407" y="217"/>
                  </a:lnTo>
                  <a:lnTo>
                    <a:pt x="417" y="212"/>
                  </a:lnTo>
                  <a:lnTo>
                    <a:pt x="432" y="207"/>
                  </a:lnTo>
                  <a:lnTo>
                    <a:pt x="442" y="197"/>
                  </a:lnTo>
                  <a:lnTo>
                    <a:pt x="457" y="192"/>
                  </a:lnTo>
                  <a:lnTo>
                    <a:pt x="467" y="187"/>
                  </a:lnTo>
                  <a:lnTo>
                    <a:pt x="482" y="182"/>
                  </a:lnTo>
                  <a:lnTo>
                    <a:pt x="497" y="177"/>
                  </a:lnTo>
                  <a:lnTo>
                    <a:pt x="512" y="172"/>
                  </a:lnTo>
                  <a:lnTo>
                    <a:pt x="532" y="172"/>
                  </a:lnTo>
                  <a:lnTo>
                    <a:pt x="547" y="167"/>
                  </a:lnTo>
                  <a:lnTo>
                    <a:pt x="567" y="162"/>
                  </a:lnTo>
                  <a:lnTo>
                    <a:pt x="582" y="162"/>
                  </a:lnTo>
                  <a:lnTo>
                    <a:pt x="603" y="162"/>
                  </a:lnTo>
                  <a:lnTo>
                    <a:pt x="618" y="162"/>
                  </a:lnTo>
                  <a:lnTo>
                    <a:pt x="638" y="162"/>
                  </a:lnTo>
                  <a:lnTo>
                    <a:pt x="658" y="162"/>
                  </a:lnTo>
                  <a:lnTo>
                    <a:pt x="683" y="162"/>
                  </a:lnTo>
                  <a:lnTo>
                    <a:pt x="703" y="162"/>
                  </a:lnTo>
                  <a:lnTo>
                    <a:pt x="728" y="162"/>
                  </a:lnTo>
                  <a:lnTo>
                    <a:pt x="753" y="167"/>
                  </a:lnTo>
                  <a:lnTo>
                    <a:pt x="778" y="167"/>
                  </a:lnTo>
                  <a:lnTo>
                    <a:pt x="804" y="172"/>
                  </a:lnTo>
                  <a:lnTo>
                    <a:pt x="824" y="172"/>
                  </a:lnTo>
                  <a:lnTo>
                    <a:pt x="849" y="177"/>
                  </a:lnTo>
                  <a:lnTo>
                    <a:pt x="874" y="182"/>
                  </a:lnTo>
                  <a:lnTo>
                    <a:pt x="899" y="187"/>
                  </a:lnTo>
                  <a:lnTo>
                    <a:pt x="924" y="187"/>
                  </a:lnTo>
                  <a:lnTo>
                    <a:pt x="949" y="192"/>
                  </a:lnTo>
                  <a:lnTo>
                    <a:pt x="974" y="197"/>
                  </a:lnTo>
                  <a:lnTo>
                    <a:pt x="1000" y="202"/>
                  </a:lnTo>
                  <a:lnTo>
                    <a:pt x="1025" y="207"/>
                  </a:lnTo>
                  <a:lnTo>
                    <a:pt x="1050" y="212"/>
                  </a:lnTo>
                  <a:lnTo>
                    <a:pt x="1075" y="217"/>
                  </a:lnTo>
                  <a:lnTo>
                    <a:pt x="1100" y="221"/>
                  </a:lnTo>
                  <a:lnTo>
                    <a:pt x="1125" y="226"/>
                  </a:lnTo>
                  <a:lnTo>
                    <a:pt x="1150" y="236"/>
                  </a:lnTo>
                  <a:lnTo>
                    <a:pt x="1170" y="241"/>
                  </a:lnTo>
                  <a:lnTo>
                    <a:pt x="1196" y="246"/>
                  </a:lnTo>
                  <a:lnTo>
                    <a:pt x="1221" y="251"/>
                  </a:lnTo>
                  <a:lnTo>
                    <a:pt x="1246" y="256"/>
                  </a:lnTo>
                  <a:lnTo>
                    <a:pt x="1271" y="261"/>
                  </a:lnTo>
                  <a:lnTo>
                    <a:pt x="1296" y="271"/>
                  </a:lnTo>
                  <a:lnTo>
                    <a:pt x="1316" y="276"/>
                  </a:lnTo>
                  <a:lnTo>
                    <a:pt x="1346" y="286"/>
                  </a:lnTo>
                  <a:lnTo>
                    <a:pt x="1366" y="290"/>
                  </a:lnTo>
                  <a:lnTo>
                    <a:pt x="1397" y="295"/>
                  </a:lnTo>
                  <a:lnTo>
                    <a:pt x="1417" y="305"/>
                  </a:lnTo>
                  <a:lnTo>
                    <a:pt x="1442" y="310"/>
                  </a:lnTo>
                  <a:lnTo>
                    <a:pt x="1467" y="320"/>
                  </a:lnTo>
                  <a:lnTo>
                    <a:pt x="1492" y="330"/>
                  </a:lnTo>
                  <a:lnTo>
                    <a:pt x="1517" y="335"/>
                  </a:lnTo>
                  <a:lnTo>
                    <a:pt x="1542" y="340"/>
                  </a:lnTo>
                  <a:lnTo>
                    <a:pt x="1562" y="350"/>
                  </a:lnTo>
                  <a:lnTo>
                    <a:pt x="1593" y="355"/>
                  </a:lnTo>
                  <a:lnTo>
                    <a:pt x="1613" y="364"/>
                  </a:lnTo>
                  <a:lnTo>
                    <a:pt x="1638" y="374"/>
                  </a:lnTo>
                  <a:lnTo>
                    <a:pt x="1663" y="379"/>
                  </a:lnTo>
                  <a:lnTo>
                    <a:pt x="1688" y="389"/>
                  </a:lnTo>
                  <a:lnTo>
                    <a:pt x="1708" y="394"/>
                  </a:lnTo>
                  <a:lnTo>
                    <a:pt x="1733" y="404"/>
                  </a:lnTo>
                  <a:lnTo>
                    <a:pt x="1758" y="409"/>
                  </a:lnTo>
                  <a:lnTo>
                    <a:pt x="1783" y="419"/>
                  </a:lnTo>
                  <a:lnTo>
                    <a:pt x="1804" y="429"/>
                  </a:lnTo>
                  <a:lnTo>
                    <a:pt x="1829" y="438"/>
                  </a:lnTo>
                  <a:lnTo>
                    <a:pt x="1854" y="443"/>
                  </a:lnTo>
                  <a:lnTo>
                    <a:pt x="1879" y="453"/>
                  </a:lnTo>
                  <a:lnTo>
                    <a:pt x="1904" y="458"/>
                  </a:lnTo>
                  <a:lnTo>
                    <a:pt x="1929" y="468"/>
                  </a:lnTo>
                  <a:lnTo>
                    <a:pt x="1949" y="473"/>
                  </a:lnTo>
                  <a:lnTo>
                    <a:pt x="1979" y="483"/>
                  </a:lnTo>
                  <a:lnTo>
                    <a:pt x="2000" y="488"/>
                  </a:lnTo>
                  <a:lnTo>
                    <a:pt x="2025" y="498"/>
                  </a:lnTo>
                  <a:lnTo>
                    <a:pt x="2050" y="507"/>
                  </a:lnTo>
                  <a:lnTo>
                    <a:pt x="2075" y="517"/>
                  </a:lnTo>
                  <a:lnTo>
                    <a:pt x="2095" y="522"/>
                  </a:lnTo>
                  <a:lnTo>
                    <a:pt x="2120" y="532"/>
                  </a:lnTo>
                  <a:lnTo>
                    <a:pt x="2145" y="537"/>
                  </a:lnTo>
                  <a:lnTo>
                    <a:pt x="2170" y="547"/>
                  </a:lnTo>
                  <a:lnTo>
                    <a:pt x="2196" y="552"/>
                  </a:lnTo>
                  <a:lnTo>
                    <a:pt x="2221" y="562"/>
                  </a:lnTo>
                  <a:lnTo>
                    <a:pt x="2246" y="567"/>
                  </a:lnTo>
                  <a:lnTo>
                    <a:pt x="2271" y="577"/>
                  </a:lnTo>
                  <a:lnTo>
                    <a:pt x="2296" y="581"/>
                  </a:lnTo>
                  <a:lnTo>
                    <a:pt x="2321" y="591"/>
                  </a:lnTo>
                  <a:lnTo>
                    <a:pt x="2346" y="596"/>
                  </a:lnTo>
                  <a:lnTo>
                    <a:pt x="2371" y="606"/>
                  </a:lnTo>
                  <a:lnTo>
                    <a:pt x="2402" y="611"/>
                  </a:lnTo>
                  <a:lnTo>
                    <a:pt x="2427" y="621"/>
                  </a:lnTo>
                  <a:lnTo>
                    <a:pt x="2452" y="626"/>
                  </a:lnTo>
                  <a:lnTo>
                    <a:pt x="2482" y="636"/>
                  </a:lnTo>
                  <a:lnTo>
                    <a:pt x="2507" y="646"/>
                  </a:lnTo>
                  <a:lnTo>
                    <a:pt x="2532" y="650"/>
                  </a:lnTo>
                  <a:lnTo>
                    <a:pt x="2562" y="660"/>
                  </a:lnTo>
                  <a:lnTo>
                    <a:pt x="2588" y="665"/>
                  </a:lnTo>
                  <a:lnTo>
                    <a:pt x="2613" y="675"/>
                  </a:lnTo>
                  <a:lnTo>
                    <a:pt x="2638" y="685"/>
                  </a:lnTo>
                  <a:lnTo>
                    <a:pt x="2668" y="690"/>
                  </a:lnTo>
                  <a:lnTo>
                    <a:pt x="2698" y="700"/>
                  </a:lnTo>
                  <a:lnTo>
                    <a:pt x="2723" y="705"/>
                  </a:lnTo>
                  <a:lnTo>
                    <a:pt x="2748" y="715"/>
                  </a:lnTo>
                  <a:lnTo>
                    <a:pt x="2773" y="724"/>
                  </a:lnTo>
                  <a:lnTo>
                    <a:pt x="2804" y="729"/>
                  </a:lnTo>
                  <a:lnTo>
                    <a:pt x="2829" y="739"/>
                  </a:lnTo>
                  <a:lnTo>
                    <a:pt x="2854" y="744"/>
                  </a:lnTo>
                  <a:lnTo>
                    <a:pt x="2884" y="754"/>
                  </a:lnTo>
                  <a:lnTo>
                    <a:pt x="2914" y="764"/>
                  </a:lnTo>
                  <a:lnTo>
                    <a:pt x="2939" y="769"/>
                  </a:lnTo>
                  <a:lnTo>
                    <a:pt x="2964" y="779"/>
                  </a:lnTo>
                  <a:lnTo>
                    <a:pt x="2990" y="784"/>
                  </a:lnTo>
                  <a:lnTo>
                    <a:pt x="3020" y="794"/>
                  </a:lnTo>
                  <a:lnTo>
                    <a:pt x="3045" y="798"/>
                  </a:lnTo>
                  <a:lnTo>
                    <a:pt x="3075" y="808"/>
                  </a:lnTo>
                  <a:lnTo>
                    <a:pt x="3100" y="813"/>
                  </a:lnTo>
                  <a:lnTo>
                    <a:pt x="3130" y="823"/>
                  </a:lnTo>
                  <a:lnTo>
                    <a:pt x="3155" y="828"/>
                  </a:lnTo>
                  <a:lnTo>
                    <a:pt x="3181" y="838"/>
                  </a:lnTo>
                  <a:lnTo>
                    <a:pt x="3206" y="843"/>
                  </a:lnTo>
                  <a:lnTo>
                    <a:pt x="3236" y="853"/>
                  </a:lnTo>
                  <a:lnTo>
                    <a:pt x="3261" y="858"/>
                  </a:lnTo>
                  <a:lnTo>
                    <a:pt x="3291" y="867"/>
                  </a:lnTo>
                  <a:lnTo>
                    <a:pt x="3316" y="872"/>
                  </a:lnTo>
                  <a:lnTo>
                    <a:pt x="3346" y="882"/>
                  </a:lnTo>
                  <a:lnTo>
                    <a:pt x="3371" y="887"/>
                  </a:lnTo>
                  <a:lnTo>
                    <a:pt x="3402" y="897"/>
                  </a:lnTo>
                  <a:lnTo>
                    <a:pt x="3427" y="902"/>
                  </a:lnTo>
                  <a:lnTo>
                    <a:pt x="3452" y="912"/>
                  </a:lnTo>
                  <a:lnTo>
                    <a:pt x="3482" y="917"/>
                  </a:lnTo>
                  <a:lnTo>
                    <a:pt x="3507" y="922"/>
                  </a:lnTo>
                  <a:lnTo>
                    <a:pt x="3537" y="932"/>
                  </a:lnTo>
                  <a:lnTo>
                    <a:pt x="3562" y="937"/>
                  </a:lnTo>
                  <a:lnTo>
                    <a:pt x="3588" y="941"/>
                  </a:lnTo>
                  <a:lnTo>
                    <a:pt x="3618" y="951"/>
                  </a:lnTo>
                  <a:lnTo>
                    <a:pt x="3643" y="956"/>
                  </a:lnTo>
                  <a:lnTo>
                    <a:pt x="3673" y="966"/>
                  </a:lnTo>
                  <a:lnTo>
                    <a:pt x="3698" y="971"/>
                  </a:lnTo>
                  <a:lnTo>
                    <a:pt x="3723" y="976"/>
                  </a:lnTo>
                  <a:lnTo>
                    <a:pt x="3753" y="981"/>
                  </a:lnTo>
                  <a:lnTo>
                    <a:pt x="3784" y="986"/>
                  </a:lnTo>
                  <a:lnTo>
                    <a:pt x="3809" y="991"/>
                  </a:lnTo>
                  <a:lnTo>
                    <a:pt x="3834" y="1001"/>
                  </a:lnTo>
                  <a:lnTo>
                    <a:pt x="3864" y="1006"/>
                  </a:lnTo>
                  <a:lnTo>
                    <a:pt x="3889" y="1010"/>
                  </a:lnTo>
                  <a:lnTo>
                    <a:pt x="3919" y="1015"/>
                  </a:lnTo>
                  <a:lnTo>
                    <a:pt x="3944" y="1020"/>
                  </a:lnTo>
                  <a:lnTo>
                    <a:pt x="3974" y="1025"/>
                  </a:lnTo>
                  <a:lnTo>
                    <a:pt x="4000" y="1035"/>
                  </a:lnTo>
                  <a:lnTo>
                    <a:pt x="4020" y="1030"/>
                  </a:lnTo>
                  <a:lnTo>
                    <a:pt x="4030" y="1020"/>
                  </a:lnTo>
                  <a:lnTo>
                    <a:pt x="4030" y="1001"/>
                  </a:lnTo>
                  <a:lnTo>
                    <a:pt x="4020" y="991"/>
                  </a:lnTo>
                  <a:lnTo>
                    <a:pt x="4020" y="9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 rot="9362400">
              <a:off x="1720440" y="4868640"/>
              <a:ext cx="6405480" cy="2026800"/>
            </a:xfrm>
            <a:custGeom>
              <a:avLst/>
              <a:gdLst/>
              <a:ahLst/>
              <a:rect l="l" t="t" r="r" b="b"/>
              <a:pathLst>
                <a:path w="4035" h="1277">
                  <a:moveTo>
                    <a:pt x="75" y="207"/>
                  </a:moveTo>
                  <a:lnTo>
                    <a:pt x="90" y="222"/>
                  </a:lnTo>
                  <a:lnTo>
                    <a:pt x="115" y="237"/>
                  </a:lnTo>
                  <a:lnTo>
                    <a:pt x="135" y="252"/>
                  </a:lnTo>
                  <a:lnTo>
                    <a:pt x="156" y="266"/>
                  </a:lnTo>
                  <a:lnTo>
                    <a:pt x="176" y="281"/>
                  </a:lnTo>
                  <a:lnTo>
                    <a:pt x="201" y="296"/>
                  </a:lnTo>
                  <a:lnTo>
                    <a:pt x="221" y="306"/>
                  </a:lnTo>
                  <a:lnTo>
                    <a:pt x="246" y="321"/>
                  </a:lnTo>
                  <a:lnTo>
                    <a:pt x="271" y="331"/>
                  </a:lnTo>
                  <a:lnTo>
                    <a:pt x="291" y="345"/>
                  </a:lnTo>
                  <a:lnTo>
                    <a:pt x="316" y="360"/>
                  </a:lnTo>
                  <a:lnTo>
                    <a:pt x="342" y="370"/>
                  </a:lnTo>
                  <a:lnTo>
                    <a:pt x="367" y="380"/>
                  </a:lnTo>
                  <a:lnTo>
                    <a:pt x="392" y="395"/>
                  </a:lnTo>
                  <a:lnTo>
                    <a:pt x="417" y="404"/>
                  </a:lnTo>
                  <a:lnTo>
                    <a:pt x="447" y="414"/>
                  </a:lnTo>
                  <a:lnTo>
                    <a:pt x="472" y="424"/>
                  </a:lnTo>
                  <a:lnTo>
                    <a:pt x="497" y="434"/>
                  </a:lnTo>
                  <a:lnTo>
                    <a:pt x="522" y="444"/>
                  </a:lnTo>
                  <a:lnTo>
                    <a:pt x="553" y="454"/>
                  </a:lnTo>
                  <a:lnTo>
                    <a:pt x="578" y="464"/>
                  </a:lnTo>
                  <a:lnTo>
                    <a:pt x="608" y="474"/>
                  </a:lnTo>
                  <a:lnTo>
                    <a:pt x="633" y="483"/>
                  </a:lnTo>
                  <a:lnTo>
                    <a:pt x="663" y="493"/>
                  </a:lnTo>
                  <a:lnTo>
                    <a:pt x="693" y="503"/>
                  </a:lnTo>
                  <a:lnTo>
                    <a:pt x="718" y="508"/>
                  </a:lnTo>
                  <a:lnTo>
                    <a:pt x="749" y="518"/>
                  </a:lnTo>
                  <a:lnTo>
                    <a:pt x="774" y="528"/>
                  </a:lnTo>
                  <a:lnTo>
                    <a:pt x="804" y="533"/>
                  </a:lnTo>
                  <a:lnTo>
                    <a:pt x="834" y="543"/>
                  </a:lnTo>
                  <a:lnTo>
                    <a:pt x="864" y="548"/>
                  </a:lnTo>
                  <a:lnTo>
                    <a:pt x="894" y="557"/>
                  </a:lnTo>
                  <a:lnTo>
                    <a:pt x="919" y="562"/>
                  </a:lnTo>
                  <a:lnTo>
                    <a:pt x="950" y="572"/>
                  </a:lnTo>
                  <a:lnTo>
                    <a:pt x="980" y="577"/>
                  </a:lnTo>
                  <a:lnTo>
                    <a:pt x="1010" y="582"/>
                  </a:lnTo>
                  <a:lnTo>
                    <a:pt x="1035" y="587"/>
                  </a:lnTo>
                  <a:lnTo>
                    <a:pt x="1065" y="597"/>
                  </a:lnTo>
                  <a:lnTo>
                    <a:pt x="1095" y="602"/>
                  </a:lnTo>
                  <a:lnTo>
                    <a:pt x="1125" y="607"/>
                  </a:lnTo>
                  <a:lnTo>
                    <a:pt x="1156" y="617"/>
                  </a:lnTo>
                  <a:lnTo>
                    <a:pt x="1186" y="621"/>
                  </a:lnTo>
                  <a:lnTo>
                    <a:pt x="1211" y="626"/>
                  </a:lnTo>
                  <a:lnTo>
                    <a:pt x="1241" y="631"/>
                  </a:lnTo>
                  <a:lnTo>
                    <a:pt x="1271" y="636"/>
                  </a:lnTo>
                  <a:lnTo>
                    <a:pt x="1301" y="641"/>
                  </a:lnTo>
                  <a:lnTo>
                    <a:pt x="1326" y="646"/>
                  </a:lnTo>
                  <a:lnTo>
                    <a:pt x="1357" y="651"/>
                  </a:lnTo>
                  <a:lnTo>
                    <a:pt x="1387" y="656"/>
                  </a:lnTo>
                  <a:lnTo>
                    <a:pt x="1417" y="661"/>
                  </a:lnTo>
                  <a:lnTo>
                    <a:pt x="1442" y="666"/>
                  </a:lnTo>
                  <a:lnTo>
                    <a:pt x="1472" y="671"/>
                  </a:lnTo>
                  <a:lnTo>
                    <a:pt x="1497" y="676"/>
                  </a:lnTo>
                  <a:lnTo>
                    <a:pt x="1527" y="681"/>
                  </a:lnTo>
                  <a:lnTo>
                    <a:pt x="1553" y="686"/>
                  </a:lnTo>
                  <a:lnTo>
                    <a:pt x="1583" y="691"/>
                  </a:lnTo>
                  <a:lnTo>
                    <a:pt x="1608" y="691"/>
                  </a:lnTo>
                  <a:lnTo>
                    <a:pt x="1633" y="700"/>
                  </a:lnTo>
                  <a:lnTo>
                    <a:pt x="1658" y="700"/>
                  </a:lnTo>
                  <a:lnTo>
                    <a:pt x="1688" y="705"/>
                  </a:lnTo>
                  <a:lnTo>
                    <a:pt x="1713" y="710"/>
                  </a:lnTo>
                  <a:lnTo>
                    <a:pt x="1739" y="715"/>
                  </a:lnTo>
                  <a:lnTo>
                    <a:pt x="1769" y="720"/>
                  </a:lnTo>
                  <a:lnTo>
                    <a:pt x="1794" y="730"/>
                  </a:lnTo>
                  <a:lnTo>
                    <a:pt x="1809" y="730"/>
                  </a:lnTo>
                  <a:lnTo>
                    <a:pt x="1824" y="735"/>
                  </a:lnTo>
                  <a:lnTo>
                    <a:pt x="1844" y="735"/>
                  </a:lnTo>
                  <a:lnTo>
                    <a:pt x="1859" y="740"/>
                  </a:lnTo>
                  <a:lnTo>
                    <a:pt x="1874" y="740"/>
                  </a:lnTo>
                  <a:lnTo>
                    <a:pt x="1894" y="745"/>
                  </a:lnTo>
                  <a:lnTo>
                    <a:pt x="1909" y="750"/>
                  </a:lnTo>
                  <a:lnTo>
                    <a:pt x="1924" y="755"/>
                  </a:lnTo>
                  <a:lnTo>
                    <a:pt x="1945" y="755"/>
                  </a:lnTo>
                  <a:lnTo>
                    <a:pt x="1960" y="760"/>
                  </a:lnTo>
                  <a:lnTo>
                    <a:pt x="1975" y="764"/>
                  </a:lnTo>
                  <a:lnTo>
                    <a:pt x="1995" y="764"/>
                  </a:lnTo>
                  <a:lnTo>
                    <a:pt x="2010" y="769"/>
                  </a:lnTo>
                  <a:lnTo>
                    <a:pt x="2025" y="774"/>
                  </a:lnTo>
                  <a:lnTo>
                    <a:pt x="2045" y="779"/>
                  </a:lnTo>
                  <a:lnTo>
                    <a:pt x="2060" y="784"/>
                  </a:lnTo>
                  <a:lnTo>
                    <a:pt x="2080" y="784"/>
                  </a:lnTo>
                  <a:lnTo>
                    <a:pt x="2095" y="789"/>
                  </a:lnTo>
                  <a:lnTo>
                    <a:pt x="2110" y="794"/>
                  </a:lnTo>
                  <a:lnTo>
                    <a:pt x="2131" y="799"/>
                  </a:lnTo>
                  <a:lnTo>
                    <a:pt x="2146" y="804"/>
                  </a:lnTo>
                  <a:lnTo>
                    <a:pt x="2161" y="804"/>
                  </a:lnTo>
                  <a:lnTo>
                    <a:pt x="2181" y="809"/>
                  </a:lnTo>
                  <a:lnTo>
                    <a:pt x="2196" y="814"/>
                  </a:lnTo>
                  <a:lnTo>
                    <a:pt x="2211" y="819"/>
                  </a:lnTo>
                  <a:lnTo>
                    <a:pt x="2231" y="824"/>
                  </a:lnTo>
                  <a:lnTo>
                    <a:pt x="2246" y="829"/>
                  </a:lnTo>
                  <a:lnTo>
                    <a:pt x="2261" y="834"/>
                  </a:lnTo>
                  <a:lnTo>
                    <a:pt x="2281" y="834"/>
                  </a:lnTo>
                  <a:lnTo>
                    <a:pt x="2296" y="843"/>
                  </a:lnTo>
                  <a:lnTo>
                    <a:pt x="2311" y="848"/>
                  </a:lnTo>
                  <a:lnTo>
                    <a:pt x="2332" y="853"/>
                  </a:lnTo>
                  <a:lnTo>
                    <a:pt x="2347" y="858"/>
                  </a:lnTo>
                  <a:lnTo>
                    <a:pt x="2362" y="858"/>
                  </a:lnTo>
                  <a:lnTo>
                    <a:pt x="2377" y="863"/>
                  </a:lnTo>
                  <a:lnTo>
                    <a:pt x="2397" y="868"/>
                  </a:lnTo>
                  <a:lnTo>
                    <a:pt x="2412" y="873"/>
                  </a:lnTo>
                  <a:lnTo>
                    <a:pt x="2427" y="878"/>
                  </a:lnTo>
                  <a:lnTo>
                    <a:pt x="2447" y="883"/>
                  </a:lnTo>
                  <a:lnTo>
                    <a:pt x="2462" y="888"/>
                  </a:lnTo>
                  <a:lnTo>
                    <a:pt x="2477" y="893"/>
                  </a:lnTo>
                  <a:lnTo>
                    <a:pt x="2492" y="898"/>
                  </a:lnTo>
                  <a:lnTo>
                    <a:pt x="2512" y="903"/>
                  </a:lnTo>
                  <a:lnTo>
                    <a:pt x="2528" y="908"/>
                  </a:lnTo>
                  <a:lnTo>
                    <a:pt x="2543" y="912"/>
                  </a:lnTo>
                  <a:lnTo>
                    <a:pt x="2563" y="917"/>
                  </a:lnTo>
                  <a:lnTo>
                    <a:pt x="2578" y="927"/>
                  </a:lnTo>
                  <a:lnTo>
                    <a:pt x="2593" y="932"/>
                  </a:lnTo>
                  <a:lnTo>
                    <a:pt x="2608" y="937"/>
                  </a:lnTo>
                  <a:lnTo>
                    <a:pt x="2628" y="942"/>
                  </a:lnTo>
                  <a:lnTo>
                    <a:pt x="2643" y="947"/>
                  </a:lnTo>
                  <a:lnTo>
                    <a:pt x="2658" y="952"/>
                  </a:lnTo>
                  <a:lnTo>
                    <a:pt x="2678" y="957"/>
                  </a:lnTo>
                  <a:lnTo>
                    <a:pt x="2693" y="962"/>
                  </a:lnTo>
                  <a:lnTo>
                    <a:pt x="2708" y="972"/>
                  </a:lnTo>
                  <a:lnTo>
                    <a:pt x="2729" y="977"/>
                  </a:lnTo>
                  <a:lnTo>
                    <a:pt x="2744" y="981"/>
                  </a:lnTo>
                  <a:lnTo>
                    <a:pt x="2759" y="986"/>
                  </a:lnTo>
                  <a:lnTo>
                    <a:pt x="2779" y="991"/>
                  </a:lnTo>
                  <a:lnTo>
                    <a:pt x="2794" y="996"/>
                  </a:lnTo>
                  <a:lnTo>
                    <a:pt x="2809" y="1001"/>
                  </a:lnTo>
                  <a:lnTo>
                    <a:pt x="2829" y="1011"/>
                  </a:lnTo>
                  <a:lnTo>
                    <a:pt x="2844" y="1016"/>
                  </a:lnTo>
                  <a:lnTo>
                    <a:pt x="2859" y="1021"/>
                  </a:lnTo>
                  <a:lnTo>
                    <a:pt x="2879" y="1026"/>
                  </a:lnTo>
                  <a:lnTo>
                    <a:pt x="2894" y="1031"/>
                  </a:lnTo>
                  <a:lnTo>
                    <a:pt x="2909" y="1041"/>
                  </a:lnTo>
                  <a:lnTo>
                    <a:pt x="2930" y="1046"/>
                  </a:lnTo>
                  <a:lnTo>
                    <a:pt x="2945" y="1051"/>
                  </a:lnTo>
                  <a:lnTo>
                    <a:pt x="2960" y="1055"/>
                  </a:lnTo>
                  <a:lnTo>
                    <a:pt x="2980" y="1060"/>
                  </a:lnTo>
                  <a:lnTo>
                    <a:pt x="2995" y="1065"/>
                  </a:lnTo>
                  <a:lnTo>
                    <a:pt x="3015" y="1070"/>
                  </a:lnTo>
                  <a:lnTo>
                    <a:pt x="3030" y="1075"/>
                  </a:lnTo>
                  <a:lnTo>
                    <a:pt x="3045" y="1080"/>
                  </a:lnTo>
                  <a:lnTo>
                    <a:pt x="3065" y="1085"/>
                  </a:lnTo>
                  <a:lnTo>
                    <a:pt x="3080" y="1090"/>
                  </a:lnTo>
                  <a:lnTo>
                    <a:pt x="3100" y="1095"/>
                  </a:lnTo>
                  <a:lnTo>
                    <a:pt x="3115" y="1100"/>
                  </a:lnTo>
                  <a:lnTo>
                    <a:pt x="3136" y="1105"/>
                  </a:lnTo>
                  <a:lnTo>
                    <a:pt x="3151" y="1110"/>
                  </a:lnTo>
                  <a:lnTo>
                    <a:pt x="3171" y="1110"/>
                  </a:lnTo>
                  <a:lnTo>
                    <a:pt x="3186" y="1115"/>
                  </a:lnTo>
                  <a:lnTo>
                    <a:pt x="3201" y="1120"/>
                  </a:lnTo>
                  <a:lnTo>
                    <a:pt x="3221" y="1124"/>
                  </a:lnTo>
                  <a:lnTo>
                    <a:pt x="3236" y="1129"/>
                  </a:lnTo>
                  <a:lnTo>
                    <a:pt x="3251" y="1134"/>
                  </a:lnTo>
                  <a:lnTo>
                    <a:pt x="3271" y="1139"/>
                  </a:lnTo>
                  <a:lnTo>
                    <a:pt x="3286" y="1139"/>
                  </a:lnTo>
                  <a:lnTo>
                    <a:pt x="3306" y="1144"/>
                  </a:lnTo>
                  <a:lnTo>
                    <a:pt x="3322" y="1144"/>
                  </a:lnTo>
                  <a:lnTo>
                    <a:pt x="3342" y="1154"/>
                  </a:lnTo>
                  <a:lnTo>
                    <a:pt x="3357" y="1154"/>
                  </a:lnTo>
                  <a:lnTo>
                    <a:pt x="3377" y="1159"/>
                  </a:lnTo>
                  <a:lnTo>
                    <a:pt x="3392" y="1159"/>
                  </a:lnTo>
                  <a:lnTo>
                    <a:pt x="3412" y="1169"/>
                  </a:lnTo>
                  <a:lnTo>
                    <a:pt x="3427" y="1169"/>
                  </a:lnTo>
                  <a:lnTo>
                    <a:pt x="3442" y="1174"/>
                  </a:lnTo>
                  <a:lnTo>
                    <a:pt x="3462" y="1174"/>
                  </a:lnTo>
                  <a:lnTo>
                    <a:pt x="3477" y="1179"/>
                  </a:lnTo>
                  <a:lnTo>
                    <a:pt x="3492" y="1184"/>
                  </a:lnTo>
                  <a:lnTo>
                    <a:pt x="3512" y="1184"/>
                  </a:lnTo>
                  <a:lnTo>
                    <a:pt x="3528" y="1189"/>
                  </a:lnTo>
                  <a:lnTo>
                    <a:pt x="3548" y="1194"/>
                  </a:lnTo>
                  <a:lnTo>
                    <a:pt x="3563" y="1194"/>
                  </a:lnTo>
                  <a:lnTo>
                    <a:pt x="3583" y="1198"/>
                  </a:lnTo>
                  <a:lnTo>
                    <a:pt x="3598" y="1203"/>
                  </a:lnTo>
                  <a:lnTo>
                    <a:pt x="3618" y="1203"/>
                  </a:lnTo>
                  <a:lnTo>
                    <a:pt x="3633" y="1208"/>
                  </a:lnTo>
                  <a:lnTo>
                    <a:pt x="3653" y="1213"/>
                  </a:lnTo>
                  <a:lnTo>
                    <a:pt x="3668" y="1213"/>
                  </a:lnTo>
                  <a:lnTo>
                    <a:pt x="3688" y="1218"/>
                  </a:lnTo>
                  <a:lnTo>
                    <a:pt x="3703" y="1223"/>
                  </a:lnTo>
                  <a:lnTo>
                    <a:pt x="3724" y="1223"/>
                  </a:lnTo>
                  <a:lnTo>
                    <a:pt x="3739" y="1228"/>
                  </a:lnTo>
                  <a:lnTo>
                    <a:pt x="3759" y="1233"/>
                  </a:lnTo>
                  <a:lnTo>
                    <a:pt x="3774" y="1233"/>
                  </a:lnTo>
                  <a:lnTo>
                    <a:pt x="3794" y="1238"/>
                  </a:lnTo>
                  <a:lnTo>
                    <a:pt x="3809" y="1243"/>
                  </a:lnTo>
                  <a:lnTo>
                    <a:pt x="3829" y="1248"/>
                  </a:lnTo>
                  <a:lnTo>
                    <a:pt x="3844" y="1248"/>
                  </a:lnTo>
                  <a:lnTo>
                    <a:pt x="3859" y="1253"/>
                  </a:lnTo>
                  <a:lnTo>
                    <a:pt x="3879" y="1258"/>
                  </a:lnTo>
                  <a:lnTo>
                    <a:pt x="3899" y="1258"/>
                  </a:lnTo>
                  <a:lnTo>
                    <a:pt x="3914" y="1263"/>
                  </a:lnTo>
                  <a:lnTo>
                    <a:pt x="3935" y="1268"/>
                  </a:lnTo>
                  <a:lnTo>
                    <a:pt x="3955" y="1272"/>
                  </a:lnTo>
                  <a:lnTo>
                    <a:pt x="3970" y="1277"/>
                  </a:lnTo>
                  <a:lnTo>
                    <a:pt x="3980" y="1272"/>
                  </a:lnTo>
                  <a:lnTo>
                    <a:pt x="3995" y="1272"/>
                  </a:lnTo>
                  <a:lnTo>
                    <a:pt x="4005" y="1268"/>
                  </a:lnTo>
                  <a:lnTo>
                    <a:pt x="4010" y="1268"/>
                  </a:lnTo>
                  <a:lnTo>
                    <a:pt x="4025" y="1248"/>
                  </a:lnTo>
                  <a:lnTo>
                    <a:pt x="4035" y="1233"/>
                  </a:lnTo>
                  <a:lnTo>
                    <a:pt x="4035" y="1223"/>
                  </a:lnTo>
                  <a:lnTo>
                    <a:pt x="4035" y="1213"/>
                  </a:lnTo>
                  <a:lnTo>
                    <a:pt x="4035" y="1203"/>
                  </a:lnTo>
                  <a:lnTo>
                    <a:pt x="4030" y="1194"/>
                  </a:lnTo>
                  <a:lnTo>
                    <a:pt x="4025" y="1184"/>
                  </a:lnTo>
                  <a:lnTo>
                    <a:pt x="4020" y="1179"/>
                  </a:lnTo>
                  <a:lnTo>
                    <a:pt x="4010" y="1174"/>
                  </a:lnTo>
                  <a:lnTo>
                    <a:pt x="4000" y="1169"/>
                  </a:lnTo>
                  <a:lnTo>
                    <a:pt x="3985" y="1164"/>
                  </a:lnTo>
                  <a:lnTo>
                    <a:pt x="3970" y="1164"/>
                  </a:lnTo>
                  <a:lnTo>
                    <a:pt x="3955" y="1159"/>
                  </a:lnTo>
                  <a:lnTo>
                    <a:pt x="3945" y="1159"/>
                  </a:lnTo>
                  <a:lnTo>
                    <a:pt x="3930" y="1154"/>
                  </a:lnTo>
                  <a:lnTo>
                    <a:pt x="3914" y="1154"/>
                  </a:lnTo>
                  <a:lnTo>
                    <a:pt x="3899" y="1149"/>
                  </a:lnTo>
                  <a:lnTo>
                    <a:pt x="3889" y="1144"/>
                  </a:lnTo>
                  <a:lnTo>
                    <a:pt x="3874" y="1144"/>
                  </a:lnTo>
                  <a:lnTo>
                    <a:pt x="3859" y="1139"/>
                  </a:lnTo>
                  <a:lnTo>
                    <a:pt x="3844" y="1139"/>
                  </a:lnTo>
                  <a:lnTo>
                    <a:pt x="3829" y="1134"/>
                  </a:lnTo>
                  <a:lnTo>
                    <a:pt x="3814" y="1134"/>
                  </a:lnTo>
                  <a:lnTo>
                    <a:pt x="3804" y="1129"/>
                  </a:lnTo>
                  <a:lnTo>
                    <a:pt x="3789" y="1129"/>
                  </a:lnTo>
                  <a:lnTo>
                    <a:pt x="3774" y="1124"/>
                  </a:lnTo>
                  <a:lnTo>
                    <a:pt x="3759" y="1124"/>
                  </a:lnTo>
                  <a:lnTo>
                    <a:pt x="3749" y="1120"/>
                  </a:lnTo>
                  <a:lnTo>
                    <a:pt x="3734" y="1120"/>
                  </a:lnTo>
                  <a:lnTo>
                    <a:pt x="3719" y="1115"/>
                  </a:lnTo>
                  <a:lnTo>
                    <a:pt x="3703" y="1110"/>
                  </a:lnTo>
                  <a:lnTo>
                    <a:pt x="3693" y="1110"/>
                  </a:lnTo>
                  <a:lnTo>
                    <a:pt x="3678" y="1110"/>
                  </a:lnTo>
                  <a:lnTo>
                    <a:pt x="3663" y="1110"/>
                  </a:lnTo>
                  <a:lnTo>
                    <a:pt x="3648" y="1105"/>
                  </a:lnTo>
                  <a:lnTo>
                    <a:pt x="3638" y="1105"/>
                  </a:lnTo>
                  <a:lnTo>
                    <a:pt x="3623" y="1100"/>
                  </a:lnTo>
                  <a:lnTo>
                    <a:pt x="3608" y="1095"/>
                  </a:lnTo>
                  <a:lnTo>
                    <a:pt x="3593" y="1095"/>
                  </a:lnTo>
                  <a:lnTo>
                    <a:pt x="3578" y="1095"/>
                  </a:lnTo>
                  <a:lnTo>
                    <a:pt x="3563" y="1090"/>
                  </a:lnTo>
                  <a:lnTo>
                    <a:pt x="3553" y="1090"/>
                  </a:lnTo>
                  <a:lnTo>
                    <a:pt x="3538" y="1085"/>
                  </a:lnTo>
                  <a:lnTo>
                    <a:pt x="3528" y="1080"/>
                  </a:lnTo>
                  <a:lnTo>
                    <a:pt x="3512" y="1080"/>
                  </a:lnTo>
                  <a:lnTo>
                    <a:pt x="3497" y="1075"/>
                  </a:lnTo>
                  <a:lnTo>
                    <a:pt x="3482" y="1075"/>
                  </a:lnTo>
                  <a:lnTo>
                    <a:pt x="3472" y="1070"/>
                  </a:lnTo>
                  <a:lnTo>
                    <a:pt x="3457" y="1070"/>
                  </a:lnTo>
                  <a:lnTo>
                    <a:pt x="3442" y="1065"/>
                  </a:lnTo>
                  <a:lnTo>
                    <a:pt x="3427" y="1060"/>
                  </a:lnTo>
                  <a:lnTo>
                    <a:pt x="3412" y="1060"/>
                  </a:lnTo>
                  <a:lnTo>
                    <a:pt x="3397" y="1055"/>
                  </a:lnTo>
                  <a:lnTo>
                    <a:pt x="3387" y="1055"/>
                  </a:lnTo>
                  <a:lnTo>
                    <a:pt x="3372" y="1051"/>
                  </a:lnTo>
                  <a:lnTo>
                    <a:pt x="3357" y="1051"/>
                  </a:lnTo>
                  <a:lnTo>
                    <a:pt x="3347" y="1046"/>
                  </a:lnTo>
                  <a:lnTo>
                    <a:pt x="3332" y="1046"/>
                  </a:lnTo>
                  <a:lnTo>
                    <a:pt x="3316" y="1041"/>
                  </a:lnTo>
                  <a:lnTo>
                    <a:pt x="3306" y="1036"/>
                  </a:lnTo>
                  <a:lnTo>
                    <a:pt x="3291" y="1031"/>
                  </a:lnTo>
                  <a:lnTo>
                    <a:pt x="3276" y="1031"/>
                  </a:lnTo>
                  <a:lnTo>
                    <a:pt x="3261" y="1026"/>
                  </a:lnTo>
                  <a:lnTo>
                    <a:pt x="3246" y="1021"/>
                  </a:lnTo>
                  <a:lnTo>
                    <a:pt x="3236" y="1021"/>
                  </a:lnTo>
                  <a:lnTo>
                    <a:pt x="3221" y="1016"/>
                  </a:lnTo>
                  <a:lnTo>
                    <a:pt x="3206" y="1011"/>
                  </a:lnTo>
                  <a:lnTo>
                    <a:pt x="3196" y="1011"/>
                  </a:lnTo>
                  <a:lnTo>
                    <a:pt x="3181" y="1006"/>
                  </a:lnTo>
                  <a:lnTo>
                    <a:pt x="3166" y="1001"/>
                  </a:lnTo>
                  <a:lnTo>
                    <a:pt x="3151" y="996"/>
                  </a:lnTo>
                  <a:lnTo>
                    <a:pt x="3141" y="996"/>
                  </a:lnTo>
                  <a:lnTo>
                    <a:pt x="3126" y="991"/>
                  </a:lnTo>
                  <a:lnTo>
                    <a:pt x="3110" y="986"/>
                  </a:lnTo>
                  <a:lnTo>
                    <a:pt x="3095" y="981"/>
                  </a:lnTo>
                  <a:lnTo>
                    <a:pt x="3080" y="977"/>
                  </a:lnTo>
                  <a:lnTo>
                    <a:pt x="3060" y="972"/>
                  </a:lnTo>
                  <a:lnTo>
                    <a:pt x="3045" y="967"/>
                  </a:lnTo>
                  <a:lnTo>
                    <a:pt x="3030" y="962"/>
                  </a:lnTo>
                  <a:lnTo>
                    <a:pt x="3015" y="957"/>
                  </a:lnTo>
                  <a:lnTo>
                    <a:pt x="2995" y="947"/>
                  </a:lnTo>
                  <a:lnTo>
                    <a:pt x="2980" y="942"/>
                  </a:lnTo>
                  <a:lnTo>
                    <a:pt x="2965" y="937"/>
                  </a:lnTo>
                  <a:lnTo>
                    <a:pt x="2950" y="932"/>
                  </a:lnTo>
                  <a:lnTo>
                    <a:pt x="2930" y="927"/>
                  </a:lnTo>
                  <a:lnTo>
                    <a:pt x="2919" y="922"/>
                  </a:lnTo>
                  <a:lnTo>
                    <a:pt x="2899" y="917"/>
                  </a:lnTo>
                  <a:lnTo>
                    <a:pt x="2884" y="912"/>
                  </a:lnTo>
                  <a:lnTo>
                    <a:pt x="2869" y="908"/>
                  </a:lnTo>
                  <a:lnTo>
                    <a:pt x="2854" y="898"/>
                  </a:lnTo>
                  <a:lnTo>
                    <a:pt x="2839" y="893"/>
                  </a:lnTo>
                  <a:lnTo>
                    <a:pt x="2819" y="888"/>
                  </a:lnTo>
                  <a:lnTo>
                    <a:pt x="2804" y="883"/>
                  </a:lnTo>
                  <a:lnTo>
                    <a:pt x="2789" y="878"/>
                  </a:lnTo>
                  <a:lnTo>
                    <a:pt x="2774" y="868"/>
                  </a:lnTo>
                  <a:lnTo>
                    <a:pt x="2759" y="863"/>
                  </a:lnTo>
                  <a:lnTo>
                    <a:pt x="2739" y="858"/>
                  </a:lnTo>
                  <a:lnTo>
                    <a:pt x="2724" y="853"/>
                  </a:lnTo>
                  <a:lnTo>
                    <a:pt x="2708" y="848"/>
                  </a:lnTo>
                  <a:lnTo>
                    <a:pt x="2693" y="843"/>
                  </a:lnTo>
                  <a:lnTo>
                    <a:pt x="2678" y="834"/>
                  </a:lnTo>
                  <a:lnTo>
                    <a:pt x="2663" y="829"/>
                  </a:lnTo>
                  <a:lnTo>
                    <a:pt x="2643" y="824"/>
                  </a:lnTo>
                  <a:lnTo>
                    <a:pt x="2628" y="819"/>
                  </a:lnTo>
                  <a:lnTo>
                    <a:pt x="2618" y="814"/>
                  </a:lnTo>
                  <a:lnTo>
                    <a:pt x="2603" y="809"/>
                  </a:lnTo>
                  <a:lnTo>
                    <a:pt x="2583" y="799"/>
                  </a:lnTo>
                  <a:lnTo>
                    <a:pt x="2568" y="794"/>
                  </a:lnTo>
                  <a:lnTo>
                    <a:pt x="2553" y="789"/>
                  </a:lnTo>
                  <a:lnTo>
                    <a:pt x="2538" y="784"/>
                  </a:lnTo>
                  <a:lnTo>
                    <a:pt x="2517" y="779"/>
                  </a:lnTo>
                  <a:lnTo>
                    <a:pt x="2502" y="774"/>
                  </a:lnTo>
                  <a:lnTo>
                    <a:pt x="2487" y="769"/>
                  </a:lnTo>
                  <a:lnTo>
                    <a:pt x="2472" y="764"/>
                  </a:lnTo>
                  <a:lnTo>
                    <a:pt x="2457" y="755"/>
                  </a:lnTo>
                  <a:lnTo>
                    <a:pt x="2437" y="750"/>
                  </a:lnTo>
                  <a:lnTo>
                    <a:pt x="2422" y="745"/>
                  </a:lnTo>
                  <a:lnTo>
                    <a:pt x="2407" y="740"/>
                  </a:lnTo>
                  <a:lnTo>
                    <a:pt x="2392" y="735"/>
                  </a:lnTo>
                  <a:lnTo>
                    <a:pt x="2377" y="730"/>
                  </a:lnTo>
                  <a:lnTo>
                    <a:pt x="2357" y="725"/>
                  </a:lnTo>
                  <a:lnTo>
                    <a:pt x="2342" y="720"/>
                  </a:lnTo>
                  <a:lnTo>
                    <a:pt x="2327" y="715"/>
                  </a:lnTo>
                  <a:lnTo>
                    <a:pt x="2311" y="710"/>
                  </a:lnTo>
                  <a:lnTo>
                    <a:pt x="2291" y="705"/>
                  </a:lnTo>
                  <a:lnTo>
                    <a:pt x="2276" y="700"/>
                  </a:lnTo>
                  <a:lnTo>
                    <a:pt x="2261" y="695"/>
                  </a:lnTo>
                  <a:lnTo>
                    <a:pt x="2246" y="691"/>
                  </a:lnTo>
                  <a:lnTo>
                    <a:pt x="2226" y="686"/>
                  </a:lnTo>
                  <a:lnTo>
                    <a:pt x="2211" y="681"/>
                  </a:lnTo>
                  <a:lnTo>
                    <a:pt x="2196" y="676"/>
                  </a:lnTo>
                  <a:lnTo>
                    <a:pt x="2181" y="671"/>
                  </a:lnTo>
                  <a:lnTo>
                    <a:pt x="2161" y="671"/>
                  </a:lnTo>
                  <a:lnTo>
                    <a:pt x="2146" y="666"/>
                  </a:lnTo>
                  <a:lnTo>
                    <a:pt x="2131" y="661"/>
                  </a:lnTo>
                  <a:lnTo>
                    <a:pt x="2110" y="656"/>
                  </a:lnTo>
                  <a:lnTo>
                    <a:pt x="2095" y="651"/>
                  </a:lnTo>
                  <a:lnTo>
                    <a:pt x="2080" y="651"/>
                  </a:lnTo>
                  <a:lnTo>
                    <a:pt x="2050" y="641"/>
                  </a:lnTo>
                  <a:lnTo>
                    <a:pt x="2020" y="636"/>
                  </a:lnTo>
                  <a:lnTo>
                    <a:pt x="1990" y="631"/>
                  </a:lnTo>
                  <a:lnTo>
                    <a:pt x="1960" y="621"/>
                  </a:lnTo>
                  <a:lnTo>
                    <a:pt x="1930" y="617"/>
                  </a:lnTo>
                  <a:lnTo>
                    <a:pt x="1899" y="607"/>
                  </a:lnTo>
                  <a:lnTo>
                    <a:pt x="1869" y="602"/>
                  </a:lnTo>
                  <a:lnTo>
                    <a:pt x="1839" y="597"/>
                  </a:lnTo>
                  <a:lnTo>
                    <a:pt x="1809" y="592"/>
                  </a:lnTo>
                  <a:lnTo>
                    <a:pt x="1779" y="587"/>
                  </a:lnTo>
                  <a:lnTo>
                    <a:pt x="1749" y="577"/>
                  </a:lnTo>
                  <a:lnTo>
                    <a:pt x="1718" y="572"/>
                  </a:lnTo>
                  <a:lnTo>
                    <a:pt x="1688" y="567"/>
                  </a:lnTo>
                  <a:lnTo>
                    <a:pt x="1658" y="557"/>
                  </a:lnTo>
                  <a:lnTo>
                    <a:pt x="1628" y="552"/>
                  </a:lnTo>
                  <a:lnTo>
                    <a:pt x="1598" y="548"/>
                  </a:lnTo>
                  <a:lnTo>
                    <a:pt x="1568" y="543"/>
                  </a:lnTo>
                  <a:lnTo>
                    <a:pt x="1533" y="533"/>
                  </a:lnTo>
                  <a:lnTo>
                    <a:pt x="1502" y="528"/>
                  </a:lnTo>
                  <a:lnTo>
                    <a:pt x="1472" y="523"/>
                  </a:lnTo>
                  <a:lnTo>
                    <a:pt x="1442" y="513"/>
                  </a:lnTo>
                  <a:lnTo>
                    <a:pt x="1412" y="508"/>
                  </a:lnTo>
                  <a:lnTo>
                    <a:pt x="1377" y="503"/>
                  </a:lnTo>
                  <a:lnTo>
                    <a:pt x="1352" y="493"/>
                  </a:lnTo>
                  <a:lnTo>
                    <a:pt x="1316" y="488"/>
                  </a:lnTo>
                  <a:lnTo>
                    <a:pt x="1286" y="478"/>
                  </a:lnTo>
                  <a:lnTo>
                    <a:pt x="1256" y="474"/>
                  </a:lnTo>
                  <a:lnTo>
                    <a:pt x="1226" y="469"/>
                  </a:lnTo>
                  <a:lnTo>
                    <a:pt x="1196" y="459"/>
                  </a:lnTo>
                  <a:lnTo>
                    <a:pt x="1166" y="454"/>
                  </a:lnTo>
                  <a:lnTo>
                    <a:pt x="1136" y="444"/>
                  </a:lnTo>
                  <a:lnTo>
                    <a:pt x="1105" y="439"/>
                  </a:lnTo>
                  <a:lnTo>
                    <a:pt x="1070" y="429"/>
                  </a:lnTo>
                  <a:lnTo>
                    <a:pt x="1040" y="424"/>
                  </a:lnTo>
                  <a:lnTo>
                    <a:pt x="1010" y="414"/>
                  </a:lnTo>
                  <a:lnTo>
                    <a:pt x="980" y="409"/>
                  </a:lnTo>
                  <a:lnTo>
                    <a:pt x="950" y="400"/>
                  </a:lnTo>
                  <a:lnTo>
                    <a:pt x="919" y="390"/>
                  </a:lnTo>
                  <a:lnTo>
                    <a:pt x="889" y="385"/>
                  </a:lnTo>
                  <a:lnTo>
                    <a:pt x="859" y="375"/>
                  </a:lnTo>
                  <a:lnTo>
                    <a:pt x="824" y="365"/>
                  </a:lnTo>
                  <a:lnTo>
                    <a:pt x="799" y="360"/>
                  </a:lnTo>
                  <a:lnTo>
                    <a:pt x="764" y="350"/>
                  </a:lnTo>
                  <a:lnTo>
                    <a:pt x="733" y="340"/>
                  </a:lnTo>
                  <a:lnTo>
                    <a:pt x="703" y="331"/>
                  </a:lnTo>
                  <a:lnTo>
                    <a:pt x="673" y="326"/>
                  </a:lnTo>
                  <a:lnTo>
                    <a:pt x="648" y="311"/>
                  </a:lnTo>
                  <a:lnTo>
                    <a:pt x="618" y="306"/>
                  </a:lnTo>
                  <a:lnTo>
                    <a:pt x="588" y="296"/>
                  </a:lnTo>
                  <a:lnTo>
                    <a:pt x="558" y="286"/>
                  </a:lnTo>
                  <a:lnTo>
                    <a:pt x="527" y="276"/>
                  </a:lnTo>
                  <a:lnTo>
                    <a:pt x="502" y="266"/>
                  </a:lnTo>
                  <a:lnTo>
                    <a:pt x="472" y="252"/>
                  </a:lnTo>
                  <a:lnTo>
                    <a:pt x="442" y="242"/>
                  </a:lnTo>
                  <a:lnTo>
                    <a:pt x="412" y="232"/>
                  </a:lnTo>
                  <a:lnTo>
                    <a:pt x="387" y="222"/>
                  </a:lnTo>
                  <a:lnTo>
                    <a:pt x="357" y="207"/>
                  </a:lnTo>
                  <a:lnTo>
                    <a:pt x="326" y="197"/>
                  </a:lnTo>
                  <a:lnTo>
                    <a:pt x="301" y="183"/>
                  </a:lnTo>
                  <a:lnTo>
                    <a:pt x="271" y="173"/>
                  </a:lnTo>
                  <a:lnTo>
                    <a:pt x="241" y="163"/>
                  </a:lnTo>
                  <a:lnTo>
                    <a:pt x="216" y="148"/>
                  </a:lnTo>
                  <a:lnTo>
                    <a:pt x="186" y="133"/>
                  </a:lnTo>
                  <a:lnTo>
                    <a:pt x="161" y="123"/>
                  </a:lnTo>
                  <a:lnTo>
                    <a:pt x="156" y="118"/>
                  </a:lnTo>
                  <a:lnTo>
                    <a:pt x="156" y="114"/>
                  </a:lnTo>
                  <a:lnTo>
                    <a:pt x="151" y="104"/>
                  </a:lnTo>
                  <a:lnTo>
                    <a:pt x="146" y="89"/>
                  </a:lnTo>
                  <a:lnTo>
                    <a:pt x="135" y="84"/>
                  </a:lnTo>
                  <a:lnTo>
                    <a:pt x="130" y="74"/>
                  </a:lnTo>
                  <a:lnTo>
                    <a:pt x="120" y="64"/>
                  </a:lnTo>
                  <a:lnTo>
                    <a:pt x="110" y="54"/>
                  </a:lnTo>
                  <a:lnTo>
                    <a:pt x="95" y="40"/>
                  </a:lnTo>
                  <a:lnTo>
                    <a:pt x="80" y="30"/>
                  </a:lnTo>
                  <a:lnTo>
                    <a:pt x="65" y="20"/>
                  </a:lnTo>
                  <a:lnTo>
                    <a:pt x="45" y="1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5" y="15"/>
                  </a:lnTo>
                  <a:lnTo>
                    <a:pt x="0" y="25"/>
                  </a:lnTo>
                  <a:lnTo>
                    <a:pt x="5" y="44"/>
                  </a:lnTo>
                  <a:lnTo>
                    <a:pt x="5" y="54"/>
                  </a:lnTo>
                  <a:lnTo>
                    <a:pt x="10" y="64"/>
                  </a:lnTo>
                  <a:lnTo>
                    <a:pt x="15" y="74"/>
                  </a:lnTo>
                  <a:lnTo>
                    <a:pt x="20" y="84"/>
                  </a:lnTo>
                  <a:lnTo>
                    <a:pt x="20" y="94"/>
                  </a:lnTo>
                  <a:lnTo>
                    <a:pt x="25" y="104"/>
                  </a:lnTo>
                  <a:lnTo>
                    <a:pt x="30" y="118"/>
                  </a:lnTo>
                  <a:lnTo>
                    <a:pt x="35" y="128"/>
                  </a:lnTo>
                  <a:lnTo>
                    <a:pt x="40" y="138"/>
                  </a:lnTo>
                  <a:lnTo>
                    <a:pt x="45" y="148"/>
                  </a:lnTo>
                  <a:lnTo>
                    <a:pt x="50" y="153"/>
                  </a:lnTo>
                  <a:lnTo>
                    <a:pt x="55" y="168"/>
                  </a:lnTo>
                  <a:lnTo>
                    <a:pt x="60" y="183"/>
                  </a:lnTo>
                  <a:lnTo>
                    <a:pt x="65" y="192"/>
                  </a:lnTo>
                  <a:lnTo>
                    <a:pt x="70" y="202"/>
                  </a:lnTo>
                  <a:lnTo>
                    <a:pt x="75" y="207"/>
                  </a:lnTo>
                  <a:lnTo>
                    <a:pt x="75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371600" y="1889280"/>
            <a:ext cx="6248520" cy="37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Times New Roman"/>
              </a:rPr>
              <a:t>Scenario 4: Mary Jones is attending school in the fall and consolidated her previous loan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Times New Roman"/>
              </a:rPr>
              <a:t>The FAA is not sure how the aggregate loan totals are impacting the student’s eligibility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Times New Roman"/>
              </a:rPr>
              <a:t>What does the FAA do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21284400">
            <a:off x="5010120" y="4377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3-45-67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48AB-B0AA-4E3F-94AA-C09AFDBF56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gregate data informat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ssue: Is student over their aggregate loan limits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Effects of consolidation loan reporting to NSLDS: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Automatic distribution by loan type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ecreases manual calculation/determinati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solution: Review NSLDS website to identify potential aggregate issue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AF3-B20F-4B44-921F-4D91C33851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8160" y="2235240"/>
            <a:ext cx="5029200" cy="336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062680" y="762120"/>
          <a:ext cx="380988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62680" y="762120"/>
                    <a:ext cx="38098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5519880" y="762120"/>
          <a:ext cx="533160" cy="45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19880" y="762120"/>
                    <a:ext cx="53316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8148600" y="749160"/>
          <a:ext cx="571680" cy="489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148600" y="749160"/>
                    <a:ext cx="57168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4071960" y="3632040"/>
            <a:ext cx="99072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71960" y="4724280"/>
            <a:ext cx="990720" cy="2286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062680" y="1752480"/>
            <a:ext cx="190476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729560" y="1600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62680" y="1535040"/>
            <a:ext cx="2286000" cy="1396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62680" y="1689120"/>
            <a:ext cx="2286000" cy="152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62680" y="4800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7348680" y="1600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6858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Aggregate data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AD4F-1F76-495A-9B83-83FDC1FAB31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09480" y="914400"/>
            <a:ext cx="7844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Loan Category: Recent versus Other Loan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cent Loan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Period End Date is less than 90 days old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Loan status = IA, ID, IG, or IM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Agg. OPB = Greater of the Outstanding Principal Balance or Disbursed Amount, not to exceed Net Loan Amount. 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If both Outstanding Principal Balance and Disbursed Amount equal zero, use zero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BF23-154F-43BA-B760-1D37501D66F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Loan Category: Recent vs. Other Loan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Other Loans: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The Agg OPB = lesser of the Net Loan Amount, Disbursed Amount, or Outstanding Principal Balance if all three are greater than zero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4536-99F2-412D-BCF0-88A9DB2565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308240" y="2830680"/>
            <a:ext cx="6935760" cy="8665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6715080" y="3257640"/>
            <a:ext cx="1523880" cy="2286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295280" y="2438280"/>
            <a:ext cx="1219320" cy="247680"/>
          </a:xfrm>
          <a:prstGeom prst="rect">
            <a:avLst/>
          </a:prstGeom>
          <a:ln w="0">
            <a:noFill/>
          </a:ln>
        </p:spPr>
      </p:pic>
      <p:grpSp>
        <p:nvGrpSpPr>
          <p:cNvPr id="325" name=""/>
          <p:cNvGrpSpPr/>
          <p:nvPr/>
        </p:nvGrpSpPr>
        <p:grpSpPr>
          <a:xfrm>
            <a:off x="5029200" y="3886200"/>
            <a:ext cx="2590920" cy="779400"/>
            <a:chOff x="5029200" y="3886200"/>
            <a:chExt cx="2590920" cy="779400"/>
          </a:xfrm>
        </p:grpSpPr>
        <p:sp>
          <p:nvSpPr>
            <p:cNvPr id="326" name=""/>
            <p:cNvSpPr/>
            <p:nvPr/>
          </p:nvSpPr>
          <p:spPr>
            <a:xfrm>
              <a:off x="5029200" y="38862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979"/>
                  </a:solidFill>
                  <a:latin typeface="Times New Roman"/>
                </a:rPr>
                <a:t>Recent Lo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7" name="" descr=""/>
            <p:cNvPicPr/>
            <p:nvPr/>
          </p:nvPicPr>
          <p:blipFill>
            <a:blip r:embed="rId3"/>
            <a:stretch/>
          </p:blipFill>
          <p:spPr>
            <a:xfrm>
              <a:off x="5105520" y="4267080"/>
              <a:ext cx="2514600" cy="39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Fill in the missing piec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cent or Other loan? Agg. OPB Amount?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F871-3351-477E-BC16-90A3A4B67F1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285480" y="-1136520"/>
            <a:ext cx="10391040" cy="9245880"/>
            <a:chOff x="-285480" y="-1136520"/>
            <a:chExt cx="10391040" cy="9245880"/>
          </a:xfrm>
        </p:grpSpPr>
        <p:sp>
          <p:nvSpPr>
            <p:cNvPr id="50" name=""/>
            <p:cNvSpPr/>
            <p:nvPr/>
          </p:nvSpPr>
          <p:spPr>
            <a:xfrm flipH="1" flipV="1" rot="9362400">
              <a:off x="2228400" y="-49680"/>
              <a:ext cx="6700680" cy="6348240"/>
            </a:xfrm>
            <a:custGeom>
              <a:avLst/>
              <a:gdLst/>
              <a:ahLst/>
              <a:rect l="l" t="t" r="r" b="b"/>
              <a:pathLst>
                <a:path w="4221" h="3999">
                  <a:moveTo>
                    <a:pt x="0" y="113"/>
                  </a:moveTo>
                  <a:lnTo>
                    <a:pt x="276" y="0"/>
                  </a:lnTo>
                  <a:lnTo>
                    <a:pt x="804" y="133"/>
                  </a:lnTo>
                  <a:lnTo>
                    <a:pt x="2125" y="463"/>
                  </a:lnTo>
                  <a:lnTo>
                    <a:pt x="2402" y="310"/>
                  </a:lnTo>
                  <a:lnTo>
                    <a:pt x="3744" y="715"/>
                  </a:lnTo>
                  <a:lnTo>
                    <a:pt x="3844" y="1080"/>
                  </a:lnTo>
                  <a:lnTo>
                    <a:pt x="4221" y="1356"/>
                  </a:lnTo>
                  <a:lnTo>
                    <a:pt x="4221" y="1662"/>
                  </a:lnTo>
                  <a:lnTo>
                    <a:pt x="3296" y="3950"/>
                  </a:lnTo>
                  <a:lnTo>
                    <a:pt x="3090" y="3999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 rot="9362400">
              <a:off x="834120" y="680760"/>
              <a:ext cx="6837480" cy="6246720"/>
            </a:xfrm>
            <a:custGeom>
              <a:avLst/>
              <a:gdLst/>
              <a:ahLst/>
              <a:rect l="l" t="t" r="r" b="b"/>
              <a:pathLst>
                <a:path w="4307" h="3935">
                  <a:moveTo>
                    <a:pt x="311" y="59"/>
                  </a:moveTo>
                  <a:lnTo>
                    <a:pt x="774" y="0"/>
                  </a:lnTo>
                  <a:lnTo>
                    <a:pt x="4070" y="1001"/>
                  </a:lnTo>
                  <a:lnTo>
                    <a:pt x="4276" y="1223"/>
                  </a:lnTo>
                  <a:lnTo>
                    <a:pt x="4307" y="1681"/>
                  </a:lnTo>
                  <a:lnTo>
                    <a:pt x="4100" y="3915"/>
                  </a:lnTo>
                  <a:lnTo>
                    <a:pt x="3889" y="3935"/>
                  </a:lnTo>
                  <a:lnTo>
                    <a:pt x="1432" y="3269"/>
                  </a:lnTo>
                  <a:lnTo>
                    <a:pt x="427" y="3032"/>
                  </a:lnTo>
                  <a:lnTo>
                    <a:pt x="110" y="2860"/>
                  </a:lnTo>
                  <a:lnTo>
                    <a:pt x="0" y="2579"/>
                  </a:lnTo>
                  <a:lnTo>
                    <a:pt x="65" y="1301"/>
                  </a:lnTo>
                  <a:lnTo>
                    <a:pt x="75" y="438"/>
                  </a:lnTo>
                  <a:lnTo>
                    <a:pt x="311" y="59"/>
                  </a:lnTo>
                  <a:lnTo>
                    <a:pt x="311" y="59"/>
                  </a:lnTo>
                  <a:close/>
                </a:path>
              </a:pathLst>
            </a:custGeom>
            <a:solidFill>
              <a:srgbClr val="fce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 rot="9362400">
              <a:off x="7415640" y="1358640"/>
              <a:ext cx="1285920" cy="3632760"/>
            </a:xfrm>
            <a:custGeom>
              <a:avLst/>
              <a:gdLst/>
              <a:ahLst/>
              <a:rect l="l" t="t" r="r" b="b"/>
              <a:pathLst>
                <a:path w="810" h="2288">
                  <a:moveTo>
                    <a:pt x="237" y="0"/>
                  </a:moveTo>
                  <a:lnTo>
                    <a:pt x="810" y="246"/>
                  </a:lnTo>
                  <a:lnTo>
                    <a:pt x="51" y="2288"/>
                  </a:lnTo>
                  <a:lnTo>
                    <a:pt x="0" y="2258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flipV="1" rot="9362400">
              <a:off x="4663080" y="-189720"/>
              <a:ext cx="3533760" cy="1957320"/>
            </a:xfrm>
            <a:custGeom>
              <a:avLst/>
              <a:gdLst/>
              <a:ahLst/>
              <a:rect l="l" t="t" r="r" b="b"/>
              <a:pathLst>
                <a:path w="2226" h="1233">
                  <a:moveTo>
                    <a:pt x="40" y="286"/>
                  </a:moveTo>
                  <a:lnTo>
                    <a:pt x="56" y="276"/>
                  </a:lnTo>
                  <a:lnTo>
                    <a:pt x="71" y="266"/>
                  </a:lnTo>
                  <a:lnTo>
                    <a:pt x="86" y="252"/>
                  </a:lnTo>
                  <a:lnTo>
                    <a:pt x="101" y="242"/>
                  </a:lnTo>
                  <a:lnTo>
                    <a:pt x="116" y="222"/>
                  </a:lnTo>
                  <a:lnTo>
                    <a:pt x="131" y="207"/>
                  </a:lnTo>
                  <a:lnTo>
                    <a:pt x="146" y="197"/>
                  </a:lnTo>
                  <a:lnTo>
                    <a:pt x="161" y="183"/>
                  </a:lnTo>
                  <a:lnTo>
                    <a:pt x="171" y="173"/>
                  </a:lnTo>
                  <a:lnTo>
                    <a:pt x="186" y="163"/>
                  </a:lnTo>
                  <a:lnTo>
                    <a:pt x="201" y="153"/>
                  </a:lnTo>
                  <a:lnTo>
                    <a:pt x="216" y="143"/>
                  </a:lnTo>
                  <a:lnTo>
                    <a:pt x="226" y="138"/>
                  </a:lnTo>
                  <a:lnTo>
                    <a:pt x="241" y="133"/>
                  </a:lnTo>
                  <a:lnTo>
                    <a:pt x="257" y="128"/>
                  </a:lnTo>
                  <a:lnTo>
                    <a:pt x="272" y="123"/>
                  </a:lnTo>
                  <a:lnTo>
                    <a:pt x="282" y="119"/>
                  </a:lnTo>
                  <a:lnTo>
                    <a:pt x="297" y="119"/>
                  </a:lnTo>
                  <a:lnTo>
                    <a:pt x="312" y="119"/>
                  </a:lnTo>
                  <a:lnTo>
                    <a:pt x="327" y="119"/>
                  </a:lnTo>
                  <a:lnTo>
                    <a:pt x="337" y="119"/>
                  </a:lnTo>
                  <a:lnTo>
                    <a:pt x="352" y="119"/>
                  </a:lnTo>
                  <a:lnTo>
                    <a:pt x="367" y="119"/>
                  </a:lnTo>
                  <a:lnTo>
                    <a:pt x="382" y="123"/>
                  </a:lnTo>
                  <a:lnTo>
                    <a:pt x="397" y="123"/>
                  </a:lnTo>
                  <a:lnTo>
                    <a:pt x="412" y="128"/>
                  </a:lnTo>
                  <a:lnTo>
                    <a:pt x="422" y="133"/>
                  </a:lnTo>
                  <a:lnTo>
                    <a:pt x="437" y="138"/>
                  </a:lnTo>
                  <a:lnTo>
                    <a:pt x="453" y="143"/>
                  </a:lnTo>
                  <a:lnTo>
                    <a:pt x="468" y="143"/>
                  </a:lnTo>
                  <a:lnTo>
                    <a:pt x="478" y="148"/>
                  </a:lnTo>
                  <a:lnTo>
                    <a:pt x="493" y="158"/>
                  </a:lnTo>
                  <a:lnTo>
                    <a:pt x="508" y="163"/>
                  </a:lnTo>
                  <a:lnTo>
                    <a:pt x="523" y="168"/>
                  </a:lnTo>
                  <a:lnTo>
                    <a:pt x="538" y="173"/>
                  </a:lnTo>
                  <a:lnTo>
                    <a:pt x="553" y="178"/>
                  </a:lnTo>
                  <a:lnTo>
                    <a:pt x="563" y="183"/>
                  </a:lnTo>
                  <a:lnTo>
                    <a:pt x="583" y="188"/>
                  </a:lnTo>
                  <a:lnTo>
                    <a:pt x="593" y="193"/>
                  </a:lnTo>
                  <a:lnTo>
                    <a:pt x="613" y="197"/>
                  </a:lnTo>
                  <a:lnTo>
                    <a:pt x="623" y="202"/>
                  </a:lnTo>
                  <a:lnTo>
                    <a:pt x="633" y="207"/>
                  </a:lnTo>
                  <a:lnTo>
                    <a:pt x="649" y="212"/>
                  </a:lnTo>
                  <a:lnTo>
                    <a:pt x="664" y="217"/>
                  </a:lnTo>
                  <a:lnTo>
                    <a:pt x="674" y="222"/>
                  </a:lnTo>
                  <a:lnTo>
                    <a:pt x="684" y="227"/>
                  </a:lnTo>
                  <a:lnTo>
                    <a:pt x="699" y="227"/>
                  </a:lnTo>
                  <a:lnTo>
                    <a:pt x="714" y="232"/>
                  </a:lnTo>
                  <a:lnTo>
                    <a:pt x="724" y="237"/>
                  </a:lnTo>
                  <a:lnTo>
                    <a:pt x="734" y="242"/>
                  </a:lnTo>
                  <a:lnTo>
                    <a:pt x="749" y="247"/>
                  </a:lnTo>
                  <a:lnTo>
                    <a:pt x="764" y="252"/>
                  </a:lnTo>
                  <a:lnTo>
                    <a:pt x="774" y="257"/>
                  </a:lnTo>
                  <a:lnTo>
                    <a:pt x="789" y="262"/>
                  </a:lnTo>
                  <a:lnTo>
                    <a:pt x="799" y="266"/>
                  </a:lnTo>
                  <a:lnTo>
                    <a:pt x="814" y="271"/>
                  </a:lnTo>
                  <a:lnTo>
                    <a:pt x="829" y="276"/>
                  </a:lnTo>
                  <a:lnTo>
                    <a:pt x="839" y="281"/>
                  </a:lnTo>
                  <a:lnTo>
                    <a:pt x="855" y="286"/>
                  </a:lnTo>
                  <a:lnTo>
                    <a:pt x="865" y="291"/>
                  </a:lnTo>
                  <a:lnTo>
                    <a:pt x="880" y="296"/>
                  </a:lnTo>
                  <a:lnTo>
                    <a:pt x="890" y="301"/>
                  </a:lnTo>
                  <a:lnTo>
                    <a:pt x="905" y="306"/>
                  </a:lnTo>
                  <a:lnTo>
                    <a:pt x="920" y="311"/>
                  </a:lnTo>
                  <a:lnTo>
                    <a:pt x="930" y="311"/>
                  </a:lnTo>
                  <a:lnTo>
                    <a:pt x="945" y="321"/>
                  </a:lnTo>
                  <a:lnTo>
                    <a:pt x="955" y="321"/>
                  </a:lnTo>
                  <a:lnTo>
                    <a:pt x="970" y="326"/>
                  </a:lnTo>
                  <a:lnTo>
                    <a:pt x="985" y="331"/>
                  </a:lnTo>
                  <a:lnTo>
                    <a:pt x="1000" y="336"/>
                  </a:lnTo>
                  <a:lnTo>
                    <a:pt x="1010" y="340"/>
                  </a:lnTo>
                  <a:lnTo>
                    <a:pt x="1025" y="345"/>
                  </a:lnTo>
                  <a:lnTo>
                    <a:pt x="1035" y="350"/>
                  </a:lnTo>
                  <a:lnTo>
                    <a:pt x="1051" y="355"/>
                  </a:lnTo>
                  <a:lnTo>
                    <a:pt x="1066" y="360"/>
                  </a:lnTo>
                  <a:lnTo>
                    <a:pt x="1081" y="365"/>
                  </a:lnTo>
                  <a:lnTo>
                    <a:pt x="1091" y="370"/>
                  </a:lnTo>
                  <a:lnTo>
                    <a:pt x="1106" y="375"/>
                  </a:lnTo>
                  <a:lnTo>
                    <a:pt x="1116" y="375"/>
                  </a:lnTo>
                  <a:lnTo>
                    <a:pt x="1131" y="385"/>
                  </a:lnTo>
                  <a:lnTo>
                    <a:pt x="1146" y="385"/>
                  </a:lnTo>
                  <a:lnTo>
                    <a:pt x="1156" y="390"/>
                  </a:lnTo>
                  <a:lnTo>
                    <a:pt x="1171" y="395"/>
                  </a:lnTo>
                  <a:lnTo>
                    <a:pt x="1186" y="395"/>
                  </a:lnTo>
                  <a:lnTo>
                    <a:pt x="1196" y="400"/>
                  </a:lnTo>
                  <a:lnTo>
                    <a:pt x="1211" y="405"/>
                  </a:lnTo>
                  <a:lnTo>
                    <a:pt x="1221" y="409"/>
                  </a:lnTo>
                  <a:lnTo>
                    <a:pt x="1236" y="414"/>
                  </a:lnTo>
                  <a:lnTo>
                    <a:pt x="1252" y="414"/>
                  </a:lnTo>
                  <a:lnTo>
                    <a:pt x="1267" y="419"/>
                  </a:lnTo>
                  <a:lnTo>
                    <a:pt x="1277" y="424"/>
                  </a:lnTo>
                  <a:lnTo>
                    <a:pt x="1292" y="424"/>
                  </a:lnTo>
                  <a:lnTo>
                    <a:pt x="1302" y="429"/>
                  </a:lnTo>
                  <a:lnTo>
                    <a:pt x="1317" y="434"/>
                  </a:lnTo>
                  <a:lnTo>
                    <a:pt x="1332" y="434"/>
                  </a:lnTo>
                  <a:lnTo>
                    <a:pt x="1347" y="439"/>
                  </a:lnTo>
                  <a:lnTo>
                    <a:pt x="1357" y="444"/>
                  </a:lnTo>
                  <a:lnTo>
                    <a:pt x="1372" y="449"/>
                  </a:lnTo>
                  <a:lnTo>
                    <a:pt x="1382" y="449"/>
                  </a:lnTo>
                  <a:lnTo>
                    <a:pt x="1397" y="454"/>
                  </a:lnTo>
                  <a:lnTo>
                    <a:pt x="1407" y="454"/>
                  </a:lnTo>
                  <a:lnTo>
                    <a:pt x="1422" y="459"/>
                  </a:lnTo>
                  <a:lnTo>
                    <a:pt x="1438" y="459"/>
                  </a:lnTo>
                  <a:lnTo>
                    <a:pt x="1453" y="464"/>
                  </a:lnTo>
                  <a:lnTo>
                    <a:pt x="1463" y="464"/>
                  </a:lnTo>
                  <a:lnTo>
                    <a:pt x="1473" y="469"/>
                  </a:lnTo>
                  <a:lnTo>
                    <a:pt x="1483" y="469"/>
                  </a:lnTo>
                  <a:lnTo>
                    <a:pt x="1498" y="474"/>
                  </a:lnTo>
                  <a:lnTo>
                    <a:pt x="1513" y="479"/>
                  </a:lnTo>
                  <a:lnTo>
                    <a:pt x="1533" y="483"/>
                  </a:lnTo>
                  <a:lnTo>
                    <a:pt x="1543" y="488"/>
                  </a:lnTo>
                  <a:lnTo>
                    <a:pt x="1558" y="498"/>
                  </a:lnTo>
                  <a:lnTo>
                    <a:pt x="1568" y="508"/>
                  </a:lnTo>
                  <a:lnTo>
                    <a:pt x="1578" y="518"/>
                  </a:lnTo>
                  <a:lnTo>
                    <a:pt x="1583" y="523"/>
                  </a:lnTo>
                  <a:lnTo>
                    <a:pt x="1593" y="533"/>
                  </a:lnTo>
                  <a:lnTo>
                    <a:pt x="1598" y="548"/>
                  </a:lnTo>
                  <a:lnTo>
                    <a:pt x="1603" y="557"/>
                  </a:lnTo>
                  <a:lnTo>
                    <a:pt x="1603" y="567"/>
                  </a:lnTo>
                  <a:lnTo>
                    <a:pt x="1608" y="577"/>
                  </a:lnTo>
                  <a:lnTo>
                    <a:pt x="1608" y="587"/>
                  </a:lnTo>
                  <a:lnTo>
                    <a:pt x="1613" y="602"/>
                  </a:lnTo>
                  <a:lnTo>
                    <a:pt x="1613" y="612"/>
                  </a:lnTo>
                  <a:lnTo>
                    <a:pt x="1613" y="622"/>
                  </a:lnTo>
                  <a:lnTo>
                    <a:pt x="1613" y="636"/>
                  </a:lnTo>
                  <a:lnTo>
                    <a:pt x="1613" y="651"/>
                  </a:lnTo>
                  <a:lnTo>
                    <a:pt x="1613" y="661"/>
                  </a:lnTo>
                  <a:lnTo>
                    <a:pt x="1613" y="676"/>
                  </a:lnTo>
                  <a:lnTo>
                    <a:pt x="1613" y="686"/>
                  </a:lnTo>
                  <a:lnTo>
                    <a:pt x="1618" y="700"/>
                  </a:lnTo>
                  <a:lnTo>
                    <a:pt x="1618" y="715"/>
                  </a:lnTo>
                  <a:lnTo>
                    <a:pt x="1618" y="730"/>
                  </a:lnTo>
                  <a:lnTo>
                    <a:pt x="1623" y="745"/>
                  </a:lnTo>
                  <a:lnTo>
                    <a:pt x="1628" y="760"/>
                  </a:lnTo>
                  <a:lnTo>
                    <a:pt x="1633" y="769"/>
                  </a:lnTo>
                  <a:lnTo>
                    <a:pt x="1639" y="789"/>
                  </a:lnTo>
                  <a:lnTo>
                    <a:pt x="1649" y="799"/>
                  </a:lnTo>
                  <a:lnTo>
                    <a:pt x="1659" y="814"/>
                  </a:lnTo>
                  <a:lnTo>
                    <a:pt x="1669" y="829"/>
                  </a:lnTo>
                  <a:lnTo>
                    <a:pt x="1679" y="843"/>
                  </a:lnTo>
                  <a:lnTo>
                    <a:pt x="1689" y="853"/>
                  </a:lnTo>
                  <a:lnTo>
                    <a:pt x="1704" y="868"/>
                  </a:lnTo>
                  <a:lnTo>
                    <a:pt x="1719" y="878"/>
                  </a:lnTo>
                  <a:lnTo>
                    <a:pt x="1734" y="888"/>
                  </a:lnTo>
                  <a:lnTo>
                    <a:pt x="1749" y="898"/>
                  </a:lnTo>
                  <a:lnTo>
                    <a:pt x="1764" y="913"/>
                  </a:lnTo>
                  <a:lnTo>
                    <a:pt x="1779" y="922"/>
                  </a:lnTo>
                  <a:lnTo>
                    <a:pt x="1799" y="932"/>
                  </a:lnTo>
                  <a:lnTo>
                    <a:pt x="1814" y="942"/>
                  </a:lnTo>
                  <a:lnTo>
                    <a:pt x="1829" y="952"/>
                  </a:lnTo>
                  <a:lnTo>
                    <a:pt x="1850" y="962"/>
                  </a:lnTo>
                  <a:lnTo>
                    <a:pt x="1865" y="972"/>
                  </a:lnTo>
                  <a:lnTo>
                    <a:pt x="1885" y="982"/>
                  </a:lnTo>
                  <a:lnTo>
                    <a:pt x="1900" y="991"/>
                  </a:lnTo>
                  <a:lnTo>
                    <a:pt x="1915" y="1001"/>
                  </a:lnTo>
                  <a:lnTo>
                    <a:pt x="1935" y="1011"/>
                  </a:lnTo>
                  <a:lnTo>
                    <a:pt x="1950" y="1021"/>
                  </a:lnTo>
                  <a:lnTo>
                    <a:pt x="1965" y="1031"/>
                  </a:lnTo>
                  <a:lnTo>
                    <a:pt x="1980" y="1041"/>
                  </a:lnTo>
                  <a:lnTo>
                    <a:pt x="2000" y="1051"/>
                  </a:lnTo>
                  <a:lnTo>
                    <a:pt x="2015" y="1065"/>
                  </a:lnTo>
                  <a:lnTo>
                    <a:pt x="2025" y="1075"/>
                  </a:lnTo>
                  <a:lnTo>
                    <a:pt x="2041" y="1085"/>
                  </a:lnTo>
                  <a:lnTo>
                    <a:pt x="2051" y="1100"/>
                  </a:lnTo>
                  <a:lnTo>
                    <a:pt x="2066" y="1115"/>
                  </a:lnTo>
                  <a:lnTo>
                    <a:pt x="2076" y="1125"/>
                  </a:lnTo>
                  <a:lnTo>
                    <a:pt x="2081" y="1139"/>
                  </a:lnTo>
                  <a:lnTo>
                    <a:pt x="2091" y="1159"/>
                  </a:lnTo>
                  <a:lnTo>
                    <a:pt x="2096" y="1174"/>
                  </a:lnTo>
                  <a:lnTo>
                    <a:pt x="2106" y="1194"/>
                  </a:lnTo>
                  <a:lnTo>
                    <a:pt x="2106" y="1203"/>
                  </a:lnTo>
                  <a:lnTo>
                    <a:pt x="2116" y="1213"/>
                  </a:lnTo>
                  <a:lnTo>
                    <a:pt x="2121" y="1218"/>
                  </a:lnTo>
                  <a:lnTo>
                    <a:pt x="2131" y="1228"/>
                  </a:lnTo>
                  <a:lnTo>
                    <a:pt x="2136" y="1228"/>
                  </a:lnTo>
                  <a:lnTo>
                    <a:pt x="2151" y="1233"/>
                  </a:lnTo>
                  <a:lnTo>
                    <a:pt x="2161" y="1233"/>
                  </a:lnTo>
                  <a:lnTo>
                    <a:pt x="2171" y="1233"/>
                  </a:lnTo>
                  <a:lnTo>
                    <a:pt x="2181" y="1233"/>
                  </a:lnTo>
                  <a:lnTo>
                    <a:pt x="2191" y="1228"/>
                  </a:lnTo>
                  <a:lnTo>
                    <a:pt x="2201" y="1218"/>
                  </a:lnTo>
                  <a:lnTo>
                    <a:pt x="2211" y="1213"/>
                  </a:lnTo>
                  <a:lnTo>
                    <a:pt x="2216" y="1203"/>
                  </a:lnTo>
                  <a:lnTo>
                    <a:pt x="2221" y="1199"/>
                  </a:lnTo>
                  <a:lnTo>
                    <a:pt x="2226" y="1184"/>
                  </a:lnTo>
                  <a:lnTo>
                    <a:pt x="2226" y="1174"/>
                  </a:lnTo>
                  <a:lnTo>
                    <a:pt x="2226" y="1154"/>
                  </a:lnTo>
                  <a:lnTo>
                    <a:pt x="2226" y="1139"/>
                  </a:lnTo>
                  <a:lnTo>
                    <a:pt x="2221" y="1120"/>
                  </a:lnTo>
                  <a:lnTo>
                    <a:pt x="2221" y="1105"/>
                  </a:lnTo>
                  <a:lnTo>
                    <a:pt x="2216" y="1090"/>
                  </a:lnTo>
                  <a:lnTo>
                    <a:pt x="2206" y="1075"/>
                  </a:lnTo>
                  <a:lnTo>
                    <a:pt x="2201" y="1065"/>
                  </a:lnTo>
                  <a:lnTo>
                    <a:pt x="2196" y="1051"/>
                  </a:lnTo>
                  <a:lnTo>
                    <a:pt x="2186" y="1036"/>
                  </a:lnTo>
                  <a:lnTo>
                    <a:pt x="2176" y="1026"/>
                  </a:lnTo>
                  <a:lnTo>
                    <a:pt x="2171" y="1016"/>
                  </a:lnTo>
                  <a:lnTo>
                    <a:pt x="2161" y="1006"/>
                  </a:lnTo>
                  <a:lnTo>
                    <a:pt x="2151" y="991"/>
                  </a:lnTo>
                  <a:lnTo>
                    <a:pt x="2136" y="982"/>
                  </a:lnTo>
                  <a:lnTo>
                    <a:pt x="2126" y="972"/>
                  </a:lnTo>
                  <a:lnTo>
                    <a:pt x="2116" y="962"/>
                  </a:lnTo>
                  <a:lnTo>
                    <a:pt x="2101" y="952"/>
                  </a:lnTo>
                  <a:lnTo>
                    <a:pt x="2086" y="942"/>
                  </a:lnTo>
                  <a:lnTo>
                    <a:pt x="2076" y="937"/>
                  </a:lnTo>
                  <a:lnTo>
                    <a:pt x="2061" y="927"/>
                  </a:lnTo>
                  <a:lnTo>
                    <a:pt x="2046" y="917"/>
                  </a:lnTo>
                  <a:lnTo>
                    <a:pt x="2030" y="913"/>
                  </a:lnTo>
                  <a:lnTo>
                    <a:pt x="2015" y="903"/>
                  </a:lnTo>
                  <a:lnTo>
                    <a:pt x="2005" y="898"/>
                  </a:lnTo>
                  <a:lnTo>
                    <a:pt x="1985" y="888"/>
                  </a:lnTo>
                  <a:lnTo>
                    <a:pt x="1970" y="878"/>
                  </a:lnTo>
                  <a:lnTo>
                    <a:pt x="1955" y="873"/>
                  </a:lnTo>
                  <a:lnTo>
                    <a:pt x="1945" y="863"/>
                  </a:lnTo>
                  <a:lnTo>
                    <a:pt x="1925" y="858"/>
                  </a:lnTo>
                  <a:lnTo>
                    <a:pt x="1915" y="848"/>
                  </a:lnTo>
                  <a:lnTo>
                    <a:pt x="1900" y="843"/>
                  </a:lnTo>
                  <a:lnTo>
                    <a:pt x="1890" y="839"/>
                  </a:lnTo>
                  <a:lnTo>
                    <a:pt x="1875" y="829"/>
                  </a:lnTo>
                  <a:lnTo>
                    <a:pt x="1865" y="824"/>
                  </a:lnTo>
                  <a:lnTo>
                    <a:pt x="1855" y="814"/>
                  </a:lnTo>
                  <a:lnTo>
                    <a:pt x="1845" y="809"/>
                  </a:lnTo>
                  <a:lnTo>
                    <a:pt x="1824" y="794"/>
                  </a:lnTo>
                  <a:lnTo>
                    <a:pt x="1814" y="779"/>
                  </a:lnTo>
                  <a:lnTo>
                    <a:pt x="1804" y="765"/>
                  </a:lnTo>
                  <a:lnTo>
                    <a:pt x="1794" y="745"/>
                  </a:lnTo>
                  <a:lnTo>
                    <a:pt x="1784" y="730"/>
                  </a:lnTo>
                  <a:lnTo>
                    <a:pt x="1784" y="715"/>
                  </a:lnTo>
                  <a:lnTo>
                    <a:pt x="1774" y="696"/>
                  </a:lnTo>
                  <a:lnTo>
                    <a:pt x="1774" y="681"/>
                  </a:lnTo>
                  <a:lnTo>
                    <a:pt x="1774" y="666"/>
                  </a:lnTo>
                  <a:lnTo>
                    <a:pt x="1774" y="646"/>
                  </a:lnTo>
                  <a:lnTo>
                    <a:pt x="1774" y="631"/>
                  </a:lnTo>
                  <a:lnTo>
                    <a:pt x="1774" y="612"/>
                  </a:lnTo>
                  <a:lnTo>
                    <a:pt x="1774" y="597"/>
                  </a:lnTo>
                  <a:lnTo>
                    <a:pt x="1774" y="582"/>
                  </a:lnTo>
                  <a:lnTo>
                    <a:pt x="1774" y="562"/>
                  </a:lnTo>
                  <a:lnTo>
                    <a:pt x="1774" y="548"/>
                  </a:lnTo>
                  <a:lnTo>
                    <a:pt x="1774" y="528"/>
                  </a:lnTo>
                  <a:lnTo>
                    <a:pt x="1774" y="513"/>
                  </a:lnTo>
                  <a:lnTo>
                    <a:pt x="1769" y="498"/>
                  </a:lnTo>
                  <a:lnTo>
                    <a:pt x="1769" y="479"/>
                  </a:lnTo>
                  <a:lnTo>
                    <a:pt x="1764" y="464"/>
                  </a:lnTo>
                  <a:lnTo>
                    <a:pt x="1754" y="449"/>
                  </a:lnTo>
                  <a:lnTo>
                    <a:pt x="1744" y="434"/>
                  </a:lnTo>
                  <a:lnTo>
                    <a:pt x="1734" y="419"/>
                  </a:lnTo>
                  <a:lnTo>
                    <a:pt x="1719" y="405"/>
                  </a:lnTo>
                  <a:lnTo>
                    <a:pt x="1704" y="395"/>
                  </a:lnTo>
                  <a:lnTo>
                    <a:pt x="1694" y="390"/>
                  </a:lnTo>
                  <a:lnTo>
                    <a:pt x="1684" y="385"/>
                  </a:lnTo>
                  <a:lnTo>
                    <a:pt x="1674" y="375"/>
                  </a:lnTo>
                  <a:lnTo>
                    <a:pt x="1659" y="370"/>
                  </a:lnTo>
                  <a:lnTo>
                    <a:pt x="1649" y="365"/>
                  </a:lnTo>
                  <a:lnTo>
                    <a:pt x="1639" y="360"/>
                  </a:lnTo>
                  <a:lnTo>
                    <a:pt x="1623" y="355"/>
                  </a:lnTo>
                  <a:lnTo>
                    <a:pt x="1608" y="355"/>
                  </a:lnTo>
                  <a:lnTo>
                    <a:pt x="1588" y="345"/>
                  </a:lnTo>
                  <a:lnTo>
                    <a:pt x="1573" y="340"/>
                  </a:lnTo>
                  <a:lnTo>
                    <a:pt x="1558" y="336"/>
                  </a:lnTo>
                  <a:lnTo>
                    <a:pt x="1538" y="331"/>
                  </a:lnTo>
                  <a:lnTo>
                    <a:pt x="1523" y="326"/>
                  </a:lnTo>
                  <a:lnTo>
                    <a:pt x="1508" y="321"/>
                  </a:lnTo>
                  <a:lnTo>
                    <a:pt x="1488" y="316"/>
                  </a:lnTo>
                  <a:lnTo>
                    <a:pt x="1473" y="311"/>
                  </a:lnTo>
                  <a:lnTo>
                    <a:pt x="1458" y="306"/>
                  </a:lnTo>
                  <a:lnTo>
                    <a:pt x="1438" y="301"/>
                  </a:lnTo>
                  <a:lnTo>
                    <a:pt x="1422" y="296"/>
                  </a:lnTo>
                  <a:lnTo>
                    <a:pt x="1407" y="291"/>
                  </a:lnTo>
                  <a:lnTo>
                    <a:pt x="1387" y="286"/>
                  </a:lnTo>
                  <a:lnTo>
                    <a:pt x="1372" y="281"/>
                  </a:lnTo>
                  <a:lnTo>
                    <a:pt x="1357" y="276"/>
                  </a:lnTo>
                  <a:lnTo>
                    <a:pt x="1337" y="271"/>
                  </a:lnTo>
                  <a:lnTo>
                    <a:pt x="1322" y="266"/>
                  </a:lnTo>
                  <a:lnTo>
                    <a:pt x="1307" y="262"/>
                  </a:lnTo>
                  <a:lnTo>
                    <a:pt x="1287" y="257"/>
                  </a:lnTo>
                  <a:lnTo>
                    <a:pt x="1272" y="252"/>
                  </a:lnTo>
                  <a:lnTo>
                    <a:pt x="1257" y="247"/>
                  </a:lnTo>
                  <a:lnTo>
                    <a:pt x="1236" y="242"/>
                  </a:lnTo>
                  <a:lnTo>
                    <a:pt x="1221" y="237"/>
                  </a:lnTo>
                  <a:lnTo>
                    <a:pt x="1206" y="232"/>
                  </a:lnTo>
                  <a:lnTo>
                    <a:pt x="1186" y="227"/>
                  </a:lnTo>
                  <a:lnTo>
                    <a:pt x="1171" y="222"/>
                  </a:lnTo>
                  <a:lnTo>
                    <a:pt x="1156" y="217"/>
                  </a:lnTo>
                  <a:lnTo>
                    <a:pt x="1136" y="212"/>
                  </a:lnTo>
                  <a:lnTo>
                    <a:pt x="1121" y="207"/>
                  </a:lnTo>
                  <a:lnTo>
                    <a:pt x="1106" y="207"/>
                  </a:lnTo>
                  <a:lnTo>
                    <a:pt x="1086" y="197"/>
                  </a:lnTo>
                  <a:lnTo>
                    <a:pt x="1071" y="197"/>
                  </a:lnTo>
                  <a:lnTo>
                    <a:pt x="1051" y="193"/>
                  </a:lnTo>
                  <a:lnTo>
                    <a:pt x="1035" y="183"/>
                  </a:lnTo>
                  <a:lnTo>
                    <a:pt x="1020" y="178"/>
                  </a:lnTo>
                  <a:lnTo>
                    <a:pt x="1000" y="178"/>
                  </a:lnTo>
                  <a:lnTo>
                    <a:pt x="985" y="168"/>
                  </a:lnTo>
                  <a:lnTo>
                    <a:pt x="970" y="163"/>
                  </a:lnTo>
                  <a:lnTo>
                    <a:pt x="950" y="158"/>
                  </a:lnTo>
                  <a:lnTo>
                    <a:pt x="935" y="158"/>
                  </a:lnTo>
                  <a:lnTo>
                    <a:pt x="920" y="148"/>
                  </a:lnTo>
                  <a:lnTo>
                    <a:pt x="900" y="143"/>
                  </a:lnTo>
                  <a:lnTo>
                    <a:pt x="885" y="138"/>
                  </a:lnTo>
                  <a:lnTo>
                    <a:pt x="870" y="133"/>
                  </a:lnTo>
                  <a:lnTo>
                    <a:pt x="850" y="128"/>
                  </a:lnTo>
                  <a:lnTo>
                    <a:pt x="834" y="128"/>
                  </a:lnTo>
                  <a:lnTo>
                    <a:pt x="819" y="119"/>
                  </a:lnTo>
                  <a:lnTo>
                    <a:pt x="799" y="119"/>
                  </a:lnTo>
                  <a:lnTo>
                    <a:pt x="784" y="114"/>
                  </a:lnTo>
                  <a:lnTo>
                    <a:pt x="769" y="109"/>
                  </a:lnTo>
                  <a:lnTo>
                    <a:pt x="749" y="99"/>
                  </a:lnTo>
                  <a:lnTo>
                    <a:pt x="734" y="99"/>
                  </a:lnTo>
                  <a:lnTo>
                    <a:pt x="719" y="94"/>
                  </a:lnTo>
                  <a:lnTo>
                    <a:pt x="699" y="89"/>
                  </a:lnTo>
                  <a:lnTo>
                    <a:pt x="684" y="84"/>
                  </a:lnTo>
                  <a:lnTo>
                    <a:pt x="669" y="79"/>
                  </a:lnTo>
                  <a:lnTo>
                    <a:pt x="649" y="74"/>
                  </a:lnTo>
                  <a:lnTo>
                    <a:pt x="633" y="69"/>
                  </a:lnTo>
                  <a:lnTo>
                    <a:pt x="618" y="64"/>
                  </a:lnTo>
                  <a:lnTo>
                    <a:pt x="598" y="59"/>
                  </a:lnTo>
                  <a:lnTo>
                    <a:pt x="583" y="54"/>
                  </a:lnTo>
                  <a:lnTo>
                    <a:pt x="568" y="49"/>
                  </a:lnTo>
                  <a:lnTo>
                    <a:pt x="548" y="45"/>
                  </a:lnTo>
                  <a:lnTo>
                    <a:pt x="533" y="40"/>
                  </a:lnTo>
                  <a:lnTo>
                    <a:pt x="518" y="35"/>
                  </a:lnTo>
                  <a:lnTo>
                    <a:pt x="498" y="30"/>
                  </a:lnTo>
                  <a:lnTo>
                    <a:pt x="483" y="25"/>
                  </a:lnTo>
                  <a:lnTo>
                    <a:pt x="473" y="20"/>
                  </a:lnTo>
                  <a:lnTo>
                    <a:pt x="458" y="15"/>
                  </a:lnTo>
                  <a:lnTo>
                    <a:pt x="442" y="15"/>
                  </a:lnTo>
                  <a:lnTo>
                    <a:pt x="432" y="10"/>
                  </a:lnTo>
                  <a:lnTo>
                    <a:pt x="417" y="10"/>
                  </a:lnTo>
                  <a:lnTo>
                    <a:pt x="407" y="5"/>
                  </a:lnTo>
                  <a:lnTo>
                    <a:pt x="397" y="5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62" y="0"/>
                  </a:lnTo>
                  <a:lnTo>
                    <a:pt x="352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17" y="0"/>
                  </a:lnTo>
                  <a:lnTo>
                    <a:pt x="302" y="0"/>
                  </a:lnTo>
                  <a:lnTo>
                    <a:pt x="287" y="0"/>
                  </a:lnTo>
                  <a:lnTo>
                    <a:pt x="272" y="5"/>
                  </a:lnTo>
                  <a:lnTo>
                    <a:pt x="257" y="5"/>
                  </a:lnTo>
                  <a:lnTo>
                    <a:pt x="247" y="15"/>
                  </a:lnTo>
                  <a:lnTo>
                    <a:pt x="236" y="20"/>
                  </a:lnTo>
                  <a:lnTo>
                    <a:pt x="221" y="25"/>
                  </a:lnTo>
                  <a:lnTo>
                    <a:pt x="211" y="30"/>
                  </a:lnTo>
                  <a:lnTo>
                    <a:pt x="201" y="40"/>
                  </a:lnTo>
                  <a:lnTo>
                    <a:pt x="186" y="49"/>
                  </a:lnTo>
                  <a:lnTo>
                    <a:pt x="176" y="59"/>
                  </a:lnTo>
                  <a:lnTo>
                    <a:pt x="166" y="69"/>
                  </a:lnTo>
                  <a:lnTo>
                    <a:pt x="156" y="79"/>
                  </a:lnTo>
                  <a:lnTo>
                    <a:pt x="146" y="94"/>
                  </a:lnTo>
                  <a:lnTo>
                    <a:pt x="131" y="109"/>
                  </a:lnTo>
                  <a:lnTo>
                    <a:pt x="116" y="119"/>
                  </a:lnTo>
                  <a:lnTo>
                    <a:pt x="106" y="133"/>
                  </a:lnTo>
                  <a:lnTo>
                    <a:pt x="91" y="148"/>
                  </a:lnTo>
                  <a:lnTo>
                    <a:pt x="76" y="163"/>
                  </a:lnTo>
                  <a:lnTo>
                    <a:pt x="61" y="178"/>
                  </a:lnTo>
                  <a:lnTo>
                    <a:pt x="40" y="197"/>
                  </a:lnTo>
                  <a:lnTo>
                    <a:pt x="20" y="212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0" y="286"/>
                  </a:lnTo>
                  <a:lnTo>
                    <a:pt x="4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 rot="9362400">
              <a:off x="1118160" y="782640"/>
              <a:ext cx="3527640" cy="953640"/>
            </a:xfrm>
            <a:custGeom>
              <a:avLst/>
              <a:gdLst/>
              <a:ahLst/>
              <a:rect l="l" t="t" r="r" b="b"/>
              <a:pathLst>
                <a:path w="2222" h="601">
                  <a:moveTo>
                    <a:pt x="5" y="231"/>
                  </a:moveTo>
                  <a:lnTo>
                    <a:pt x="21" y="226"/>
                  </a:lnTo>
                  <a:lnTo>
                    <a:pt x="36" y="222"/>
                  </a:lnTo>
                  <a:lnTo>
                    <a:pt x="56" y="217"/>
                  </a:lnTo>
                  <a:lnTo>
                    <a:pt x="71" y="212"/>
                  </a:lnTo>
                  <a:lnTo>
                    <a:pt x="86" y="207"/>
                  </a:lnTo>
                  <a:lnTo>
                    <a:pt x="106" y="202"/>
                  </a:lnTo>
                  <a:lnTo>
                    <a:pt x="121" y="197"/>
                  </a:lnTo>
                  <a:lnTo>
                    <a:pt x="136" y="192"/>
                  </a:lnTo>
                  <a:lnTo>
                    <a:pt x="151" y="187"/>
                  </a:lnTo>
                  <a:lnTo>
                    <a:pt x="171" y="182"/>
                  </a:lnTo>
                  <a:lnTo>
                    <a:pt x="186" y="177"/>
                  </a:lnTo>
                  <a:lnTo>
                    <a:pt x="201" y="172"/>
                  </a:lnTo>
                  <a:lnTo>
                    <a:pt x="216" y="167"/>
                  </a:lnTo>
                  <a:lnTo>
                    <a:pt x="237" y="162"/>
                  </a:lnTo>
                  <a:lnTo>
                    <a:pt x="252" y="162"/>
                  </a:lnTo>
                  <a:lnTo>
                    <a:pt x="267" y="157"/>
                  </a:lnTo>
                  <a:lnTo>
                    <a:pt x="282" y="153"/>
                  </a:lnTo>
                  <a:lnTo>
                    <a:pt x="302" y="148"/>
                  </a:lnTo>
                  <a:lnTo>
                    <a:pt x="317" y="143"/>
                  </a:lnTo>
                  <a:lnTo>
                    <a:pt x="332" y="143"/>
                  </a:lnTo>
                  <a:lnTo>
                    <a:pt x="352" y="138"/>
                  </a:lnTo>
                  <a:lnTo>
                    <a:pt x="367" y="138"/>
                  </a:lnTo>
                  <a:lnTo>
                    <a:pt x="382" y="138"/>
                  </a:lnTo>
                  <a:lnTo>
                    <a:pt x="402" y="138"/>
                  </a:lnTo>
                  <a:lnTo>
                    <a:pt x="418" y="133"/>
                  </a:lnTo>
                  <a:lnTo>
                    <a:pt x="438" y="133"/>
                  </a:lnTo>
                  <a:lnTo>
                    <a:pt x="453" y="133"/>
                  </a:lnTo>
                  <a:lnTo>
                    <a:pt x="473" y="138"/>
                  </a:lnTo>
                  <a:lnTo>
                    <a:pt x="488" y="138"/>
                  </a:lnTo>
                  <a:lnTo>
                    <a:pt x="508" y="143"/>
                  </a:lnTo>
                  <a:lnTo>
                    <a:pt x="528" y="148"/>
                  </a:lnTo>
                  <a:lnTo>
                    <a:pt x="548" y="153"/>
                  </a:lnTo>
                  <a:lnTo>
                    <a:pt x="2191" y="601"/>
                  </a:lnTo>
                  <a:lnTo>
                    <a:pt x="2201" y="596"/>
                  </a:lnTo>
                  <a:lnTo>
                    <a:pt x="2212" y="591"/>
                  </a:lnTo>
                  <a:lnTo>
                    <a:pt x="2217" y="582"/>
                  </a:lnTo>
                  <a:lnTo>
                    <a:pt x="2222" y="577"/>
                  </a:lnTo>
                  <a:lnTo>
                    <a:pt x="2222" y="562"/>
                  </a:lnTo>
                  <a:lnTo>
                    <a:pt x="2222" y="547"/>
                  </a:lnTo>
                  <a:lnTo>
                    <a:pt x="2222" y="527"/>
                  </a:lnTo>
                  <a:lnTo>
                    <a:pt x="2217" y="513"/>
                  </a:lnTo>
                  <a:lnTo>
                    <a:pt x="769" y="93"/>
                  </a:lnTo>
                  <a:lnTo>
                    <a:pt x="759" y="88"/>
                  </a:lnTo>
                  <a:lnTo>
                    <a:pt x="744" y="83"/>
                  </a:lnTo>
                  <a:lnTo>
                    <a:pt x="729" y="79"/>
                  </a:lnTo>
                  <a:lnTo>
                    <a:pt x="719" y="74"/>
                  </a:lnTo>
                  <a:lnTo>
                    <a:pt x="704" y="69"/>
                  </a:lnTo>
                  <a:lnTo>
                    <a:pt x="694" y="64"/>
                  </a:lnTo>
                  <a:lnTo>
                    <a:pt x="679" y="59"/>
                  </a:lnTo>
                  <a:lnTo>
                    <a:pt x="669" y="59"/>
                  </a:lnTo>
                  <a:lnTo>
                    <a:pt x="654" y="49"/>
                  </a:lnTo>
                  <a:lnTo>
                    <a:pt x="639" y="44"/>
                  </a:lnTo>
                  <a:lnTo>
                    <a:pt x="629" y="44"/>
                  </a:lnTo>
                  <a:lnTo>
                    <a:pt x="613" y="39"/>
                  </a:lnTo>
                  <a:lnTo>
                    <a:pt x="598" y="34"/>
                  </a:lnTo>
                  <a:lnTo>
                    <a:pt x="588" y="29"/>
                  </a:lnTo>
                  <a:lnTo>
                    <a:pt x="573" y="29"/>
                  </a:lnTo>
                  <a:lnTo>
                    <a:pt x="563" y="24"/>
                  </a:lnTo>
                  <a:lnTo>
                    <a:pt x="548" y="19"/>
                  </a:lnTo>
                  <a:lnTo>
                    <a:pt x="533" y="19"/>
                  </a:lnTo>
                  <a:lnTo>
                    <a:pt x="518" y="14"/>
                  </a:lnTo>
                  <a:lnTo>
                    <a:pt x="508" y="14"/>
                  </a:lnTo>
                  <a:lnTo>
                    <a:pt x="493" y="9"/>
                  </a:lnTo>
                  <a:lnTo>
                    <a:pt x="478" y="9"/>
                  </a:lnTo>
                  <a:lnTo>
                    <a:pt x="463" y="5"/>
                  </a:lnTo>
                  <a:lnTo>
                    <a:pt x="453" y="5"/>
                  </a:lnTo>
                  <a:lnTo>
                    <a:pt x="438" y="5"/>
                  </a:lnTo>
                  <a:lnTo>
                    <a:pt x="423" y="0"/>
                  </a:lnTo>
                  <a:lnTo>
                    <a:pt x="407" y="0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57" y="0"/>
                  </a:lnTo>
                  <a:lnTo>
                    <a:pt x="342" y="0"/>
                  </a:lnTo>
                  <a:lnTo>
                    <a:pt x="327" y="0"/>
                  </a:lnTo>
                  <a:lnTo>
                    <a:pt x="317" y="0"/>
                  </a:lnTo>
                  <a:lnTo>
                    <a:pt x="302" y="5"/>
                  </a:lnTo>
                  <a:lnTo>
                    <a:pt x="292" y="5"/>
                  </a:lnTo>
                  <a:lnTo>
                    <a:pt x="277" y="5"/>
                  </a:lnTo>
                  <a:lnTo>
                    <a:pt x="262" y="9"/>
                  </a:lnTo>
                  <a:lnTo>
                    <a:pt x="252" y="9"/>
                  </a:lnTo>
                  <a:lnTo>
                    <a:pt x="242" y="14"/>
                  </a:lnTo>
                  <a:lnTo>
                    <a:pt x="227" y="19"/>
                  </a:lnTo>
                  <a:lnTo>
                    <a:pt x="216" y="24"/>
                  </a:lnTo>
                  <a:lnTo>
                    <a:pt x="201" y="29"/>
                  </a:lnTo>
                  <a:lnTo>
                    <a:pt x="191" y="34"/>
                  </a:lnTo>
                  <a:lnTo>
                    <a:pt x="181" y="34"/>
                  </a:lnTo>
                  <a:lnTo>
                    <a:pt x="171" y="44"/>
                  </a:lnTo>
                  <a:lnTo>
                    <a:pt x="156" y="49"/>
                  </a:lnTo>
                  <a:lnTo>
                    <a:pt x="151" y="59"/>
                  </a:lnTo>
                  <a:lnTo>
                    <a:pt x="136" y="64"/>
                  </a:lnTo>
                  <a:lnTo>
                    <a:pt x="126" y="69"/>
                  </a:lnTo>
                  <a:lnTo>
                    <a:pt x="116" y="74"/>
                  </a:lnTo>
                  <a:lnTo>
                    <a:pt x="106" y="83"/>
                  </a:lnTo>
                  <a:lnTo>
                    <a:pt x="91" y="93"/>
                  </a:lnTo>
                  <a:lnTo>
                    <a:pt x="86" y="103"/>
                  </a:lnTo>
                  <a:lnTo>
                    <a:pt x="76" y="113"/>
                  </a:lnTo>
                  <a:lnTo>
                    <a:pt x="66" y="123"/>
                  </a:lnTo>
                  <a:lnTo>
                    <a:pt x="56" y="133"/>
                  </a:lnTo>
                  <a:lnTo>
                    <a:pt x="51" y="143"/>
                  </a:lnTo>
                  <a:lnTo>
                    <a:pt x="41" y="157"/>
                  </a:lnTo>
                  <a:lnTo>
                    <a:pt x="31" y="167"/>
                  </a:lnTo>
                  <a:lnTo>
                    <a:pt x="21" y="182"/>
                  </a:lnTo>
                  <a:lnTo>
                    <a:pt x="15" y="197"/>
                  </a:lnTo>
                  <a:lnTo>
                    <a:pt x="10" y="207"/>
                  </a:lnTo>
                  <a:lnTo>
                    <a:pt x="5" y="226"/>
                  </a:lnTo>
                  <a:lnTo>
                    <a:pt x="0" y="226"/>
                  </a:lnTo>
                  <a:lnTo>
                    <a:pt x="5" y="231"/>
                  </a:lnTo>
                  <a:lnTo>
                    <a:pt x="5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 rot="9362400">
              <a:off x="7391520" y="958680"/>
              <a:ext cx="1922400" cy="4305240"/>
            </a:xfrm>
            <a:custGeom>
              <a:avLst/>
              <a:gdLst/>
              <a:ahLst/>
              <a:rect l="l" t="t" r="r" b="b"/>
              <a:pathLst>
                <a:path w="1211" h="2712">
                  <a:moveTo>
                    <a:pt x="1101" y="113"/>
                  </a:moveTo>
                  <a:lnTo>
                    <a:pt x="1101" y="123"/>
                  </a:lnTo>
                  <a:lnTo>
                    <a:pt x="1101" y="133"/>
                  </a:lnTo>
                  <a:lnTo>
                    <a:pt x="1096" y="143"/>
                  </a:lnTo>
                  <a:lnTo>
                    <a:pt x="1096" y="158"/>
                  </a:lnTo>
                  <a:lnTo>
                    <a:pt x="1096" y="168"/>
                  </a:lnTo>
                  <a:lnTo>
                    <a:pt x="1096" y="178"/>
                  </a:lnTo>
                  <a:lnTo>
                    <a:pt x="1091" y="187"/>
                  </a:lnTo>
                  <a:lnTo>
                    <a:pt x="1091" y="202"/>
                  </a:lnTo>
                  <a:lnTo>
                    <a:pt x="1086" y="212"/>
                  </a:lnTo>
                  <a:lnTo>
                    <a:pt x="1086" y="222"/>
                  </a:lnTo>
                  <a:lnTo>
                    <a:pt x="1086" y="232"/>
                  </a:lnTo>
                  <a:lnTo>
                    <a:pt x="1081" y="242"/>
                  </a:lnTo>
                  <a:lnTo>
                    <a:pt x="1081" y="256"/>
                  </a:lnTo>
                  <a:lnTo>
                    <a:pt x="1081" y="266"/>
                  </a:lnTo>
                  <a:lnTo>
                    <a:pt x="1076" y="276"/>
                  </a:lnTo>
                  <a:lnTo>
                    <a:pt x="1076" y="291"/>
                  </a:lnTo>
                  <a:lnTo>
                    <a:pt x="1071" y="301"/>
                  </a:lnTo>
                  <a:lnTo>
                    <a:pt x="1071" y="311"/>
                  </a:lnTo>
                  <a:lnTo>
                    <a:pt x="1066" y="321"/>
                  </a:lnTo>
                  <a:lnTo>
                    <a:pt x="1066" y="330"/>
                  </a:lnTo>
                  <a:lnTo>
                    <a:pt x="1061" y="340"/>
                  </a:lnTo>
                  <a:lnTo>
                    <a:pt x="1056" y="355"/>
                  </a:lnTo>
                  <a:lnTo>
                    <a:pt x="1056" y="365"/>
                  </a:lnTo>
                  <a:lnTo>
                    <a:pt x="1051" y="375"/>
                  </a:lnTo>
                  <a:lnTo>
                    <a:pt x="1046" y="385"/>
                  </a:lnTo>
                  <a:lnTo>
                    <a:pt x="1046" y="395"/>
                  </a:lnTo>
                  <a:lnTo>
                    <a:pt x="1041" y="404"/>
                  </a:lnTo>
                  <a:lnTo>
                    <a:pt x="1041" y="419"/>
                  </a:lnTo>
                  <a:lnTo>
                    <a:pt x="1036" y="429"/>
                  </a:lnTo>
                  <a:lnTo>
                    <a:pt x="1031" y="439"/>
                  </a:lnTo>
                  <a:lnTo>
                    <a:pt x="1031" y="449"/>
                  </a:lnTo>
                  <a:lnTo>
                    <a:pt x="1026" y="464"/>
                  </a:lnTo>
                  <a:lnTo>
                    <a:pt x="1021" y="469"/>
                  </a:lnTo>
                  <a:lnTo>
                    <a:pt x="1016" y="483"/>
                  </a:lnTo>
                  <a:lnTo>
                    <a:pt x="1016" y="488"/>
                  </a:lnTo>
                  <a:lnTo>
                    <a:pt x="1010" y="503"/>
                  </a:lnTo>
                  <a:lnTo>
                    <a:pt x="1005" y="513"/>
                  </a:lnTo>
                  <a:lnTo>
                    <a:pt x="1000" y="523"/>
                  </a:lnTo>
                  <a:lnTo>
                    <a:pt x="995" y="533"/>
                  </a:lnTo>
                  <a:lnTo>
                    <a:pt x="995" y="543"/>
                  </a:lnTo>
                  <a:lnTo>
                    <a:pt x="985" y="552"/>
                  </a:lnTo>
                  <a:lnTo>
                    <a:pt x="985" y="562"/>
                  </a:lnTo>
                  <a:lnTo>
                    <a:pt x="980" y="572"/>
                  </a:lnTo>
                  <a:lnTo>
                    <a:pt x="975" y="582"/>
                  </a:lnTo>
                  <a:lnTo>
                    <a:pt x="970" y="592"/>
                  </a:lnTo>
                  <a:lnTo>
                    <a:pt x="965" y="602"/>
                  </a:lnTo>
                  <a:lnTo>
                    <a:pt x="965" y="616"/>
                  </a:lnTo>
                  <a:lnTo>
                    <a:pt x="960" y="626"/>
                  </a:lnTo>
                  <a:lnTo>
                    <a:pt x="955" y="636"/>
                  </a:lnTo>
                  <a:lnTo>
                    <a:pt x="950" y="646"/>
                  </a:lnTo>
                  <a:lnTo>
                    <a:pt x="945" y="656"/>
                  </a:lnTo>
                  <a:lnTo>
                    <a:pt x="940" y="666"/>
                  </a:lnTo>
                  <a:lnTo>
                    <a:pt x="935" y="676"/>
                  </a:lnTo>
                  <a:lnTo>
                    <a:pt x="930" y="686"/>
                  </a:lnTo>
                  <a:lnTo>
                    <a:pt x="925" y="695"/>
                  </a:lnTo>
                  <a:lnTo>
                    <a:pt x="920" y="705"/>
                  </a:lnTo>
                  <a:lnTo>
                    <a:pt x="915" y="715"/>
                  </a:lnTo>
                  <a:lnTo>
                    <a:pt x="910" y="725"/>
                  </a:lnTo>
                  <a:lnTo>
                    <a:pt x="905" y="735"/>
                  </a:lnTo>
                  <a:lnTo>
                    <a:pt x="900" y="745"/>
                  </a:lnTo>
                  <a:lnTo>
                    <a:pt x="895" y="755"/>
                  </a:lnTo>
                  <a:lnTo>
                    <a:pt x="895" y="764"/>
                  </a:lnTo>
                  <a:lnTo>
                    <a:pt x="885" y="774"/>
                  </a:lnTo>
                  <a:lnTo>
                    <a:pt x="885" y="789"/>
                  </a:lnTo>
                  <a:lnTo>
                    <a:pt x="880" y="794"/>
                  </a:lnTo>
                  <a:lnTo>
                    <a:pt x="870" y="809"/>
                  </a:lnTo>
                  <a:lnTo>
                    <a:pt x="865" y="819"/>
                  </a:lnTo>
                  <a:lnTo>
                    <a:pt x="860" y="829"/>
                  </a:lnTo>
                  <a:lnTo>
                    <a:pt x="855" y="838"/>
                  </a:lnTo>
                  <a:lnTo>
                    <a:pt x="850" y="848"/>
                  </a:lnTo>
                  <a:lnTo>
                    <a:pt x="845" y="858"/>
                  </a:lnTo>
                  <a:lnTo>
                    <a:pt x="840" y="868"/>
                  </a:lnTo>
                  <a:lnTo>
                    <a:pt x="835" y="883"/>
                  </a:lnTo>
                  <a:lnTo>
                    <a:pt x="830" y="893"/>
                  </a:lnTo>
                  <a:lnTo>
                    <a:pt x="825" y="903"/>
                  </a:lnTo>
                  <a:lnTo>
                    <a:pt x="820" y="912"/>
                  </a:lnTo>
                  <a:lnTo>
                    <a:pt x="814" y="922"/>
                  </a:lnTo>
                  <a:lnTo>
                    <a:pt x="809" y="937"/>
                  </a:lnTo>
                  <a:lnTo>
                    <a:pt x="804" y="947"/>
                  </a:lnTo>
                  <a:lnTo>
                    <a:pt x="804" y="957"/>
                  </a:lnTo>
                  <a:lnTo>
                    <a:pt x="799" y="967"/>
                  </a:lnTo>
                  <a:lnTo>
                    <a:pt x="794" y="981"/>
                  </a:lnTo>
                  <a:lnTo>
                    <a:pt x="789" y="991"/>
                  </a:lnTo>
                  <a:lnTo>
                    <a:pt x="784" y="1001"/>
                  </a:lnTo>
                  <a:lnTo>
                    <a:pt x="779" y="1011"/>
                  </a:lnTo>
                  <a:lnTo>
                    <a:pt x="779" y="1021"/>
                  </a:lnTo>
                  <a:lnTo>
                    <a:pt x="774" y="1036"/>
                  </a:lnTo>
                  <a:lnTo>
                    <a:pt x="769" y="1046"/>
                  </a:lnTo>
                  <a:lnTo>
                    <a:pt x="764" y="1055"/>
                  </a:lnTo>
                  <a:lnTo>
                    <a:pt x="759" y="1065"/>
                  </a:lnTo>
                  <a:lnTo>
                    <a:pt x="754" y="1080"/>
                  </a:lnTo>
                  <a:lnTo>
                    <a:pt x="754" y="1090"/>
                  </a:lnTo>
                  <a:lnTo>
                    <a:pt x="749" y="1100"/>
                  </a:lnTo>
                  <a:lnTo>
                    <a:pt x="744" y="1110"/>
                  </a:lnTo>
                  <a:lnTo>
                    <a:pt x="739" y="1119"/>
                  </a:lnTo>
                  <a:lnTo>
                    <a:pt x="734" y="1134"/>
                  </a:lnTo>
                  <a:lnTo>
                    <a:pt x="729" y="1144"/>
                  </a:lnTo>
                  <a:lnTo>
                    <a:pt x="729" y="1154"/>
                  </a:lnTo>
                  <a:lnTo>
                    <a:pt x="724" y="1164"/>
                  </a:lnTo>
                  <a:lnTo>
                    <a:pt x="719" y="1179"/>
                  </a:lnTo>
                  <a:lnTo>
                    <a:pt x="714" y="1189"/>
                  </a:lnTo>
                  <a:lnTo>
                    <a:pt x="709" y="1198"/>
                  </a:lnTo>
                  <a:lnTo>
                    <a:pt x="704" y="1208"/>
                  </a:lnTo>
                  <a:lnTo>
                    <a:pt x="704" y="1218"/>
                  </a:lnTo>
                  <a:lnTo>
                    <a:pt x="699" y="1233"/>
                  </a:lnTo>
                  <a:lnTo>
                    <a:pt x="694" y="1243"/>
                  </a:lnTo>
                  <a:lnTo>
                    <a:pt x="689" y="1253"/>
                  </a:lnTo>
                  <a:lnTo>
                    <a:pt x="684" y="1263"/>
                  </a:lnTo>
                  <a:lnTo>
                    <a:pt x="679" y="1277"/>
                  </a:lnTo>
                  <a:lnTo>
                    <a:pt x="679" y="1287"/>
                  </a:lnTo>
                  <a:lnTo>
                    <a:pt x="674" y="1297"/>
                  </a:lnTo>
                  <a:lnTo>
                    <a:pt x="669" y="1307"/>
                  </a:lnTo>
                  <a:lnTo>
                    <a:pt x="664" y="1317"/>
                  </a:lnTo>
                  <a:lnTo>
                    <a:pt x="664" y="1327"/>
                  </a:lnTo>
                  <a:lnTo>
                    <a:pt x="654" y="1341"/>
                  </a:lnTo>
                  <a:lnTo>
                    <a:pt x="654" y="1351"/>
                  </a:lnTo>
                  <a:lnTo>
                    <a:pt x="649" y="1361"/>
                  </a:lnTo>
                  <a:lnTo>
                    <a:pt x="644" y="1371"/>
                  </a:lnTo>
                  <a:lnTo>
                    <a:pt x="639" y="1386"/>
                  </a:lnTo>
                  <a:lnTo>
                    <a:pt x="634" y="1396"/>
                  </a:lnTo>
                  <a:lnTo>
                    <a:pt x="629" y="1406"/>
                  </a:lnTo>
                  <a:lnTo>
                    <a:pt x="629" y="1415"/>
                  </a:lnTo>
                  <a:lnTo>
                    <a:pt x="624" y="1425"/>
                  </a:lnTo>
                  <a:lnTo>
                    <a:pt x="619" y="1440"/>
                  </a:lnTo>
                  <a:lnTo>
                    <a:pt x="613" y="1450"/>
                  </a:lnTo>
                  <a:lnTo>
                    <a:pt x="608" y="1460"/>
                  </a:lnTo>
                  <a:lnTo>
                    <a:pt x="603" y="1470"/>
                  </a:lnTo>
                  <a:lnTo>
                    <a:pt x="603" y="1484"/>
                  </a:lnTo>
                  <a:lnTo>
                    <a:pt x="593" y="1499"/>
                  </a:lnTo>
                  <a:lnTo>
                    <a:pt x="583" y="1514"/>
                  </a:lnTo>
                  <a:lnTo>
                    <a:pt x="578" y="1534"/>
                  </a:lnTo>
                  <a:lnTo>
                    <a:pt x="568" y="1549"/>
                  </a:lnTo>
                  <a:lnTo>
                    <a:pt x="563" y="1568"/>
                  </a:lnTo>
                  <a:lnTo>
                    <a:pt x="553" y="1583"/>
                  </a:lnTo>
                  <a:lnTo>
                    <a:pt x="548" y="1603"/>
                  </a:lnTo>
                  <a:lnTo>
                    <a:pt x="538" y="1618"/>
                  </a:lnTo>
                  <a:lnTo>
                    <a:pt x="533" y="1637"/>
                  </a:lnTo>
                  <a:lnTo>
                    <a:pt x="528" y="1652"/>
                  </a:lnTo>
                  <a:lnTo>
                    <a:pt x="518" y="1667"/>
                  </a:lnTo>
                  <a:lnTo>
                    <a:pt x="513" y="1687"/>
                  </a:lnTo>
                  <a:lnTo>
                    <a:pt x="503" y="1701"/>
                  </a:lnTo>
                  <a:lnTo>
                    <a:pt x="498" y="1721"/>
                  </a:lnTo>
                  <a:lnTo>
                    <a:pt x="488" y="1741"/>
                  </a:lnTo>
                  <a:lnTo>
                    <a:pt x="483" y="1761"/>
                  </a:lnTo>
                  <a:lnTo>
                    <a:pt x="478" y="1775"/>
                  </a:lnTo>
                  <a:lnTo>
                    <a:pt x="468" y="1795"/>
                  </a:lnTo>
                  <a:lnTo>
                    <a:pt x="463" y="1810"/>
                  </a:lnTo>
                  <a:lnTo>
                    <a:pt x="453" y="1830"/>
                  </a:lnTo>
                  <a:lnTo>
                    <a:pt x="448" y="1844"/>
                  </a:lnTo>
                  <a:lnTo>
                    <a:pt x="438" y="1864"/>
                  </a:lnTo>
                  <a:lnTo>
                    <a:pt x="433" y="1879"/>
                  </a:lnTo>
                  <a:lnTo>
                    <a:pt x="428" y="1899"/>
                  </a:lnTo>
                  <a:lnTo>
                    <a:pt x="418" y="1913"/>
                  </a:lnTo>
                  <a:lnTo>
                    <a:pt x="412" y="1933"/>
                  </a:lnTo>
                  <a:lnTo>
                    <a:pt x="402" y="1953"/>
                  </a:lnTo>
                  <a:lnTo>
                    <a:pt x="397" y="1973"/>
                  </a:lnTo>
                  <a:lnTo>
                    <a:pt x="392" y="1987"/>
                  </a:lnTo>
                  <a:lnTo>
                    <a:pt x="382" y="2007"/>
                  </a:lnTo>
                  <a:lnTo>
                    <a:pt x="377" y="2022"/>
                  </a:lnTo>
                  <a:lnTo>
                    <a:pt x="372" y="2042"/>
                  </a:lnTo>
                  <a:lnTo>
                    <a:pt x="362" y="2061"/>
                  </a:lnTo>
                  <a:lnTo>
                    <a:pt x="357" y="2081"/>
                  </a:lnTo>
                  <a:lnTo>
                    <a:pt x="347" y="2101"/>
                  </a:lnTo>
                  <a:lnTo>
                    <a:pt x="342" y="2121"/>
                  </a:lnTo>
                  <a:lnTo>
                    <a:pt x="337" y="2126"/>
                  </a:lnTo>
                  <a:lnTo>
                    <a:pt x="332" y="2140"/>
                  </a:lnTo>
                  <a:lnTo>
                    <a:pt x="327" y="2150"/>
                  </a:lnTo>
                  <a:lnTo>
                    <a:pt x="327" y="2160"/>
                  </a:lnTo>
                  <a:lnTo>
                    <a:pt x="322" y="2170"/>
                  </a:lnTo>
                  <a:lnTo>
                    <a:pt x="317" y="2180"/>
                  </a:lnTo>
                  <a:lnTo>
                    <a:pt x="312" y="2190"/>
                  </a:lnTo>
                  <a:lnTo>
                    <a:pt x="312" y="2199"/>
                  </a:lnTo>
                  <a:lnTo>
                    <a:pt x="307" y="2209"/>
                  </a:lnTo>
                  <a:lnTo>
                    <a:pt x="302" y="2219"/>
                  </a:lnTo>
                  <a:lnTo>
                    <a:pt x="297" y="2229"/>
                  </a:lnTo>
                  <a:lnTo>
                    <a:pt x="297" y="2239"/>
                  </a:lnTo>
                  <a:lnTo>
                    <a:pt x="287" y="2249"/>
                  </a:lnTo>
                  <a:lnTo>
                    <a:pt x="287" y="2264"/>
                  </a:lnTo>
                  <a:lnTo>
                    <a:pt x="282" y="2273"/>
                  </a:lnTo>
                  <a:lnTo>
                    <a:pt x="282" y="2283"/>
                  </a:lnTo>
                  <a:lnTo>
                    <a:pt x="277" y="2293"/>
                  </a:lnTo>
                  <a:lnTo>
                    <a:pt x="272" y="2303"/>
                  </a:lnTo>
                  <a:lnTo>
                    <a:pt x="267" y="2313"/>
                  </a:lnTo>
                  <a:lnTo>
                    <a:pt x="262" y="2323"/>
                  </a:lnTo>
                  <a:lnTo>
                    <a:pt x="257" y="2333"/>
                  </a:lnTo>
                  <a:lnTo>
                    <a:pt x="252" y="2343"/>
                  </a:lnTo>
                  <a:lnTo>
                    <a:pt x="247" y="2352"/>
                  </a:lnTo>
                  <a:lnTo>
                    <a:pt x="247" y="2367"/>
                  </a:lnTo>
                  <a:lnTo>
                    <a:pt x="232" y="2382"/>
                  </a:lnTo>
                  <a:lnTo>
                    <a:pt x="222" y="2402"/>
                  </a:lnTo>
                  <a:lnTo>
                    <a:pt x="211" y="2421"/>
                  </a:lnTo>
                  <a:lnTo>
                    <a:pt x="201" y="2441"/>
                  </a:lnTo>
                  <a:lnTo>
                    <a:pt x="186" y="2456"/>
                  </a:lnTo>
                  <a:lnTo>
                    <a:pt x="176" y="2476"/>
                  </a:lnTo>
                  <a:lnTo>
                    <a:pt x="166" y="2495"/>
                  </a:lnTo>
                  <a:lnTo>
                    <a:pt x="151" y="2510"/>
                  </a:lnTo>
                  <a:lnTo>
                    <a:pt x="136" y="2525"/>
                  </a:lnTo>
                  <a:lnTo>
                    <a:pt x="126" y="2545"/>
                  </a:lnTo>
                  <a:lnTo>
                    <a:pt x="111" y="2559"/>
                  </a:lnTo>
                  <a:lnTo>
                    <a:pt x="96" y="2574"/>
                  </a:lnTo>
                  <a:lnTo>
                    <a:pt x="76" y="2584"/>
                  </a:lnTo>
                  <a:lnTo>
                    <a:pt x="61" y="2599"/>
                  </a:lnTo>
                  <a:lnTo>
                    <a:pt x="41" y="2614"/>
                  </a:lnTo>
                  <a:lnTo>
                    <a:pt x="21" y="2624"/>
                  </a:lnTo>
                  <a:lnTo>
                    <a:pt x="10" y="2633"/>
                  </a:lnTo>
                  <a:lnTo>
                    <a:pt x="0" y="2648"/>
                  </a:lnTo>
                  <a:lnTo>
                    <a:pt x="0" y="2663"/>
                  </a:lnTo>
                  <a:lnTo>
                    <a:pt x="0" y="2678"/>
                  </a:lnTo>
                  <a:lnTo>
                    <a:pt x="10" y="2688"/>
                  </a:lnTo>
                  <a:lnTo>
                    <a:pt x="21" y="2703"/>
                  </a:lnTo>
                  <a:lnTo>
                    <a:pt x="31" y="2707"/>
                  </a:lnTo>
                  <a:lnTo>
                    <a:pt x="51" y="2712"/>
                  </a:lnTo>
                  <a:lnTo>
                    <a:pt x="61" y="2707"/>
                  </a:lnTo>
                  <a:lnTo>
                    <a:pt x="71" y="2707"/>
                  </a:lnTo>
                  <a:lnTo>
                    <a:pt x="86" y="2707"/>
                  </a:lnTo>
                  <a:lnTo>
                    <a:pt x="101" y="2707"/>
                  </a:lnTo>
                  <a:lnTo>
                    <a:pt x="111" y="2707"/>
                  </a:lnTo>
                  <a:lnTo>
                    <a:pt x="121" y="2707"/>
                  </a:lnTo>
                  <a:lnTo>
                    <a:pt x="131" y="2703"/>
                  </a:lnTo>
                  <a:lnTo>
                    <a:pt x="146" y="2703"/>
                  </a:lnTo>
                  <a:lnTo>
                    <a:pt x="161" y="2693"/>
                  </a:lnTo>
                  <a:lnTo>
                    <a:pt x="181" y="2688"/>
                  </a:lnTo>
                  <a:lnTo>
                    <a:pt x="201" y="2678"/>
                  </a:lnTo>
                  <a:lnTo>
                    <a:pt x="222" y="2668"/>
                  </a:lnTo>
                  <a:lnTo>
                    <a:pt x="237" y="2653"/>
                  </a:lnTo>
                  <a:lnTo>
                    <a:pt x="252" y="2638"/>
                  </a:lnTo>
                  <a:lnTo>
                    <a:pt x="267" y="2624"/>
                  </a:lnTo>
                  <a:lnTo>
                    <a:pt x="282" y="2609"/>
                  </a:lnTo>
                  <a:lnTo>
                    <a:pt x="297" y="2589"/>
                  </a:lnTo>
                  <a:lnTo>
                    <a:pt x="312" y="2569"/>
                  </a:lnTo>
                  <a:lnTo>
                    <a:pt x="317" y="2559"/>
                  </a:lnTo>
                  <a:lnTo>
                    <a:pt x="322" y="2545"/>
                  </a:lnTo>
                  <a:lnTo>
                    <a:pt x="332" y="2535"/>
                  </a:lnTo>
                  <a:lnTo>
                    <a:pt x="337" y="2525"/>
                  </a:lnTo>
                  <a:lnTo>
                    <a:pt x="342" y="2510"/>
                  </a:lnTo>
                  <a:lnTo>
                    <a:pt x="347" y="2500"/>
                  </a:lnTo>
                  <a:lnTo>
                    <a:pt x="352" y="2486"/>
                  </a:lnTo>
                  <a:lnTo>
                    <a:pt x="362" y="2476"/>
                  </a:lnTo>
                  <a:lnTo>
                    <a:pt x="367" y="2461"/>
                  </a:lnTo>
                  <a:lnTo>
                    <a:pt x="377" y="2446"/>
                  </a:lnTo>
                  <a:lnTo>
                    <a:pt x="382" y="2431"/>
                  </a:lnTo>
                  <a:lnTo>
                    <a:pt x="387" y="2421"/>
                  </a:lnTo>
                  <a:lnTo>
                    <a:pt x="392" y="2407"/>
                  </a:lnTo>
                  <a:lnTo>
                    <a:pt x="397" y="2397"/>
                  </a:lnTo>
                  <a:lnTo>
                    <a:pt x="402" y="2382"/>
                  </a:lnTo>
                  <a:lnTo>
                    <a:pt x="412" y="2367"/>
                  </a:lnTo>
                  <a:lnTo>
                    <a:pt x="418" y="2352"/>
                  </a:lnTo>
                  <a:lnTo>
                    <a:pt x="423" y="2343"/>
                  </a:lnTo>
                  <a:lnTo>
                    <a:pt x="428" y="2328"/>
                  </a:lnTo>
                  <a:lnTo>
                    <a:pt x="438" y="2318"/>
                  </a:lnTo>
                  <a:lnTo>
                    <a:pt x="438" y="2303"/>
                  </a:lnTo>
                  <a:lnTo>
                    <a:pt x="448" y="2288"/>
                  </a:lnTo>
                  <a:lnTo>
                    <a:pt x="453" y="2273"/>
                  </a:lnTo>
                  <a:lnTo>
                    <a:pt x="458" y="2264"/>
                  </a:lnTo>
                  <a:lnTo>
                    <a:pt x="463" y="2249"/>
                  </a:lnTo>
                  <a:lnTo>
                    <a:pt x="468" y="2234"/>
                  </a:lnTo>
                  <a:lnTo>
                    <a:pt x="473" y="2219"/>
                  </a:lnTo>
                  <a:lnTo>
                    <a:pt x="478" y="2204"/>
                  </a:lnTo>
                  <a:lnTo>
                    <a:pt x="483" y="2190"/>
                  </a:lnTo>
                  <a:lnTo>
                    <a:pt x="488" y="2180"/>
                  </a:lnTo>
                  <a:lnTo>
                    <a:pt x="493" y="2165"/>
                  </a:lnTo>
                  <a:lnTo>
                    <a:pt x="498" y="2150"/>
                  </a:lnTo>
                  <a:lnTo>
                    <a:pt x="503" y="2135"/>
                  </a:lnTo>
                  <a:lnTo>
                    <a:pt x="513" y="2126"/>
                  </a:lnTo>
                  <a:lnTo>
                    <a:pt x="518" y="2111"/>
                  </a:lnTo>
                  <a:lnTo>
                    <a:pt x="523" y="2101"/>
                  </a:lnTo>
                  <a:lnTo>
                    <a:pt x="528" y="2081"/>
                  </a:lnTo>
                  <a:lnTo>
                    <a:pt x="533" y="2071"/>
                  </a:lnTo>
                  <a:lnTo>
                    <a:pt x="533" y="2056"/>
                  </a:lnTo>
                  <a:lnTo>
                    <a:pt x="538" y="2042"/>
                  </a:lnTo>
                  <a:lnTo>
                    <a:pt x="548" y="2027"/>
                  </a:lnTo>
                  <a:lnTo>
                    <a:pt x="553" y="2012"/>
                  </a:lnTo>
                  <a:lnTo>
                    <a:pt x="558" y="2002"/>
                  </a:lnTo>
                  <a:lnTo>
                    <a:pt x="563" y="1987"/>
                  </a:lnTo>
                  <a:lnTo>
                    <a:pt x="568" y="1973"/>
                  </a:lnTo>
                  <a:lnTo>
                    <a:pt x="573" y="1958"/>
                  </a:lnTo>
                  <a:lnTo>
                    <a:pt x="578" y="1943"/>
                  </a:lnTo>
                  <a:lnTo>
                    <a:pt x="583" y="1933"/>
                  </a:lnTo>
                  <a:lnTo>
                    <a:pt x="588" y="1918"/>
                  </a:lnTo>
                  <a:lnTo>
                    <a:pt x="593" y="1904"/>
                  </a:lnTo>
                  <a:lnTo>
                    <a:pt x="598" y="1889"/>
                  </a:lnTo>
                  <a:lnTo>
                    <a:pt x="603" y="1879"/>
                  </a:lnTo>
                  <a:lnTo>
                    <a:pt x="608" y="1864"/>
                  </a:lnTo>
                  <a:lnTo>
                    <a:pt x="613" y="1849"/>
                  </a:lnTo>
                  <a:lnTo>
                    <a:pt x="619" y="1835"/>
                  </a:lnTo>
                  <a:lnTo>
                    <a:pt x="624" y="1825"/>
                  </a:lnTo>
                  <a:lnTo>
                    <a:pt x="629" y="1810"/>
                  </a:lnTo>
                  <a:lnTo>
                    <a:pt x="634" y="1795"/>
                  </a:lnTo>
                  <a:lnTo>
                    <a:pt x="639" y="1780"/>
                  </a:lnTo>
                  <a:lnTo>
                    <a:pt x="644" y="1766"/>
                  </a:lnTo>
                  <a:lnTo>
                    <a:pt x="649" y="1751"/>
                  </a:lnTo>
                  <a:lnTo>
                    <a:pt x="654" y="1741"/>
                  </a:lnTo>
                  <a:lnTo>
                    <a:pt x="664" y="1726"/>
                  </a:lnTo>
                  <a:lnTo>
                    <a:pt x="669" y="1716"/>
                  </a:lnTo>
                  <a:lnTo>
                    <a:pt x="674" y="1701"/>
                  </a:lnTo>
                  <a:lnTo>
                    <a:pt x="679" y="1687"/>
                  </a:lnTo>
                  <a:lnTo>
                    <a:pt x="684" y="1677"/>
                  </a:lnTo>
                  <a:lnTo>
                    <a:pt x="694" y="1667"/>
                  </a:lnTo>
                  <a:lnTo>
                    <a:pt x="694" y="1652"/>
                  </a:lnTo>
                  <a:lnTo>
                    <a:pt x="699" y="1637"/>
                  </a:lnTo>
                  <a:lnTo>
                    <a:pt x="704" y="1623"/>
                  </a:lnTo>
                  <a:lnTo>
                    <a:pt x="714" y="1613"/>
                  </a:lnTo>
                  <a:lnTo>
                    <a:pt x="714" y="1598"/>
                  </a:lnTo>
                  <a:lnTo>
                    <a:pt x="719" y="1588"/>
                  </a:lnTo>
                  <a:lnTo>
                    <a:pt x="729" y="1573"/>
                  </a:lnTo>
                  <a:lnTo>
                    <a:pt x="734" y="1558"/>
                  </a:lnTo>
                  <a:lnTo>
                    <a:pt x="734" y="1549"/>
                  </a:lnTo>
                  <a:lnTo>
                    <a:pt x="744" y="1534"/>
                  </a:lnTo>
                  <a:lnTo>
                    <a:pt x="749" y="1519"/>
                  </a:lnTo>
                  <a:lnTo>
                    <a:pt x="754" y="1509"/>
                  </a:lnTo>
                  <a:lnTo>
                    <a:pt x="754" y="1494"/>
                  </a:lnTo>
                  <a:lnTo>
                    <a:pt x="764" y="1484"/>
                  </a:lnTo>
                  <a:lnTo>
                    <a:pt x="769" y="1470"/>
                  </a:lnTo>
                  <a:lnTo>
                    <a:pt x="774" y="1460"/>
                  </a:lnTo>
                  <a:lnTo>
                    <a:pt x="779" y="1445"/>
                  </a:lnTo>
                  <a:lnTo>
                    <a:pt x="784" y="1430"/>
                  </a:lnTo>
                  <a:lnTo>
                    <a:pt x="784" y="1420"/>
                  </a:lnTo>
                  <a:lnTo>
                    <a:pt x="794" y="1406"/>
                  </a:lnTo>
                  <a:lnTo>
                    <a:pt x="794" y="1391"/>
                  </a:lnTo>
                  <a:lnTo>
                    <a:pt x="799" y="1381"/>
                  </a:lnTo>
                  <a:lnTo>
                    <a:pt x="804" y="1366"/>
                  </a:lnTo>
                  <a:lnTo>
                    <a:pt x="814" y="1356"/>
                  </a:lnTo>
                  <a:lnTo>
                    <a:pt x="814" y="1341"/>
                  </a:lnTo>
                  <a:lnTo>
                    <a:pt x="820" y="1327"/>
                  </a:lnTo>
                  <a:lnTo>
                    <a:pt x="825" y="1317"/>
                  </a:lnTo>
                  <a:lnTo>
                    <a:pt x="830" y="1302"/>
                  </a:lnTo>
                  <a:lnTo>
                    <a:pt x="835" y="1292"/>
                  </a:lnTo>
                  <a:lnTo>
                    <a:pt x="840" y="1277"/>
                  </a:lnTo>
                  <a:lnTo>
                    <a:pt x="845" y="1263"/>
                  </a:lnTo>
                  <a:lnTo>
                    <a:pt x="850" y="1253"/>
                  </a:lnTo>
                  <a:lnTo>
                    <a:pt x="855" y="1238"/>
                  </a:lnTo>
                  <a:lnTo>
                    <a:pt x="860" y="1228"/>
                  </a:lnTo>
                  <a:lnTo>
                    <a:pt x="865" y="1213"/>
                  </a:lnTo>
                  <a:lnTo>
                    <a:pt x="870" y="1198"/>
                  </a:lnTo>
                  <a:lnTo>
                    <a:pt x="870" y="1184"/>
                  </a:lnTo>
                  <a:lnTo>
                    <a:pt x="875" y="1174"/>
                  </a:lnTo>
                  <a:lnTo>
                    <a:pt x="880" y="1159"/>
                  </a:lnTo>
                  <a:lnTo>
                    <a:pt x="885" y="1149"/>
                  </a:lnTo>
                  <a:lnTo>
                    <a:pt x="890" y="1134"/>
                  </a:lnTo>
                  <a:lnTo>
                    <a:pt x="895" y="1119"/>
                  </a:lnTo>
                  <a:lnTo>
                    <a:pt x="900" y="1110"/>
                  </a:lnTo>
                  <a:lnTo>
                    <a:pt x="905" y="1095"/>
                  </a:lnTo>
                  <a:lnTo>
                    <a:pt x="905" y="1080"/>
                  </a:lnTo>
                  <a:lnTo>
                    <a:pt x="910" y="1070"/>
                  </a:lnTo>
                  <a:lnTo>
                    <a:pt x="915" y="1055"/>
                  </a:lnTo>
                  <a:lnTo>
                    <a:pt x="920" y="1046"/>
                  </a:lnTo>
                  <a:lnTo>
                    <a:pt x="925" y="1031"/>
                  </a:lnTo>
                  <a:lnTo>
                    <a:pt x="930" y="1016"/>
                  </a:lnTo>
                  <a:lnTo>
                    <a:pt x="935" y="1006"/>
                  </a:lnTo>
                  <a:lnTo>
                    <a:pt x="940" y="991"/>
                  </a:lnTo>
                  <a:lnTo>
                    <a:pt x="945" y="976"/>
                  </a:lnTo>
                  <a:lnTo>
                    <a:pt x="945" y="967"/>
                  </a:lnTo>
                  <a:lnTo>
                    <a:pt x="950" y="952"/>
                  </a:lnTo>
                  <a:lnTo>
                    <a:pt x="955" y="942"/>
                  </a:lnTo>
                  <a:lnTo>
                    <a:pt x="960" y="927"/>
                  </a:lnTo>
                  <a:lnTo>
                    <a:pt x="965" y="912"/>
                  </a:lnTo>
                  <a:lnTo>
                    <a:pt x="965" y="903"/>
                  </a:lnTo>
                  <a:lnTo>
                    <a:pt x="970" y="888"/>
                  </a:lnTo>
                  <a:lnTo>
                    <a:pt x="975" y="873"/>
                  </a:lnTo>
                  <a:lnTo>
                    <a:pt x="980" y="863"/>
                  </a:lnTo>
                  <a:lnTo>
                    <a:pt x="985" y="848"/>
                  </a:lnTo>
                  <a:lnTo>
                    <a:pt x="990" y="838"/>
                  </a:lnTo>
                  <a:lnTo>
                    <a:pt x="995" y="824"/>
                  </a:lnTo>
                  <a:lnTo>
                    <a:pt x="995" y="809"/>
                  </a:lnTo>
                  <a:lnTo>
                    <a:pt x="1000" y="799"/>
                  </a:lnTo>
                  <a:lnTo>
                    <a:pt x="1005" y="789"/>
                  </a:lnTo>
                  <a:lnTo>
                    <a:pt x="1010" y="774"/>
                  </a:lnTo>
                  <a:lnTo>
                    <a:pt x="1016" y="764"/>
                  </a:lnTo>
                  <a:lnTo>
                    <a:pt x="1021" y="750"/>
                  </a:lnTo>
                  <a:lnTo>
                    <a:pt x="1026" y="740"/>
                  </a:lnTo>
                  <a:lnTo>
                    <a:pt x="1031" y="725"/>
                  </a:lnTo>
                  <a:lnTo>
                    <a:pt x="1036" y="710"/>
                  </a:lnTo>
                  <a:lnTo>
                    <a:pt x="1036" y="700"/>
                  </a:lnTo>
                  <a:lnTo>
                    <a:pt x="1046" y="690"/>
                  </a:lnTo>
                  <a:lnTo>
                    <a:pt x="1051" y="676"/>
                  </a:lnTo>
                  <a:lnTo>
                    <a:pt x="1056" y="661"/>
                  </a:lnTo>
                  <a:lnTo>
                    <a:pt x="1061" y="646"/>
                  </a:lnTo>
                  <a:lnTo>
                    <a:pt x="1066" y="636"/>
                  </a:lnTo>
                  <a:lnTo>
                    <a:pt x="1071" y="621"/>
                  </a:lnTo>
                  <a:lnTo>
                    <a:pt x="1076" y="612"/>
                  </a:lnTo>
                  <a:lnTo>
                    <a:pt x="1081" y="597"/>
                  </a:lnTo>
                  <a:lnTo>
                    <a:pt x="1086" y="582"/>
                  </a:lnTo>
                  <a:lnTo>
                    <a:pt x="1091" y="567"/>
                  </a:lnTo>
                  <a:lnTo>
                    <a:pt x="1096" y="557"/>
                  </a:lnTo>
                  <a:lnTo>
                    <a:pt x="1101" y="543"/>
                  </a:lnTo>
                  <a:lnTo>
                    <a:pt x="1106" y="533"/>
                  </a:lnTo>
                  <a:lnTo>
                    <a:pt x="1111" y="518"/>
                  </a:lnTo>
                  <a:lnTo>
                    <a:pt x="1116" y="503"/>
                  </a:lnTo>
                  <a:lnTo>
                    <a:pt x="1121" y="488"/>
                  </a:lnTo>
                  <a:lnTo>
                    <a:pt x="1126" y="478"/>
                  </a:lnTo>
                  <a:lnTo>
                    <a:pt x="1131" y="464"/>
                  </a:lnTo>
                  <a:lnTo>
                    <a:pt x="1136" y="449"/>
                  </a:lnTo>
                  <a:lnTo>
                    <a:pt x="1146" y="434"/>
                  </a:lnTo>
                  <a:lnTo>
                    <a:pt x="1151" y="424"/>
                  </a:lnTo>
                  <a:lnTo>
                    <a:pt x="1151" y="409"/>
                  </a:lnTo>
                  <a:lnTo>
                    <a:pt x="1156" y="395"/>
                  </a:lnTo>
                  <a:lnTo>
                    <a:pt x="1161" y="380"/>
                  </a:lnTo>
                  <a:lnTo>
                    <a:pt x="1166" y="370"/>
                  </a:lnTo>
                  <a:lnTo>
                    <a:pt x="1171" y="355"/>
                  </a:lnTo>
                  <a:lnTo>
                    <a:pt x="1171" y="340"/>
                  </a:lnTo>
                  <a:lnTo>
                    <a:pt x="1176" y="326"/>
                  </a:lnTo>
                  <a:lnTo>
                    <a:pt x="1181" y="316"/>
                  </a:lnTo>
                  <a:lnTo>
                    <a:pt x="1186" y="301"/>
                  </a:lnTo>
                  <a:lnTo>
                    <a:pt x="1186" y="286"/>
                  </a:lnTo>
                  <a:lnTo>
                    <a:pt x="1191" y="271"/>
                  </a:lnTo>
                  <a:lnTo>
                    <a:pt x="1196" y="256"/>
                  </a:lnTo>
                  <a:lnTo>
                    <a:pt x="1196" y="242"/>
                  </a:lnTo>
                  <a:lnTo>
                    <a:pt x="1201" y="232"/>
                  </a:lnTo>
                  <a:lnTo>
                    <a:pt x="1201" y="217"/>
                  </a:lnTo>
                  <a:lnTo>
                    <a:pt x="1206" y="207"/>
                  </a:lnTo>
                  <a:lnTo>
                    <a:pt x="1206" y="192"/>
                  </a:lnTo>
                  <a:lnTo>
                    <a:pt x="1206" y="178"/>
                  </a:lnTo>
                  <a:lnTo>
                    <a:pt x="1206" y="163"/>
                  </a:lnTo>
                  <a:lnTo>
                    <a:pt x="1206" y="153"/>
                  </a:lnTo>
                  <a:lnTo>
                    <a:pt x="1206" y="138"/>
                  </a:lnTo>
                  <a:lnTo>
                    <a:pt x="1206" y="128"/>
                  </a:lnTo>
                  <a:lnTo>
                    <a:pt x="1206" y="113"/>
                  </a:lnTo>
                  <a:lnTo>
                    <a:pt x="1211" y="99"/>
                  </a:lnTo>
                  <a:lnTo>
                    <a:pt x="1206" y="89"/>
                  </a:lnTo>
                  <a:lnTo>
                    <a:pt x="1206" y="74"/>
                  </a:lnTo>
                  <a:lnTo>
                    <a:pt x="1206" y="59"/>
                  </a:lnTo>
                  <a:lnTo>
                    <a:pt x="1206" y="49"/>
                  </a:lnTo>
                  <a:lnTo>
                    <a:pt x="1201" y="35"/>
                  </a:lnTo>
                  <a:lnTo>
                    <a:pt x="1201" y="25"/>
                  </a:lnTo>
                  <a:lnTo>
                    <a:pt x="1196" y="15"/>
                  </a:lnTo>
                  <a:lnTo>
                    <a:pt x="1196" y="0"/>
                  </a:lnTo>
                  <a:lnTo>
                    <a:pt x="1191" y="5"/>
                  </a:lnTo>
                  <a:lnTo>
                    <a:pt x="1186" y="20"/>
                  </a:lnTo>
                  <a:lnTo>
                    <a:pt x="1181" y="30"/>
                  </a:lnTo>
                  <a:lnTo>
                    <a:pt x="1171" y="39"/>
                  </a:lnTo>
                  <a:lnTo>
                    <a:pt x="1166" y="49"/>
                  </a:lnTo>
                  <a:lnTo>
                    <a:pt x="1166" y="64"/>
                  </a:lnTo>
                  <a:lnTo>
                    <a:pt x="1156" y="74"/>
                  </a:lnTo>
                  <a:lnTo>
                    <a:pt x="1151" y="89"/>
                  </a:lnTo>
                  <a:lnTo>
                    <a:pt x="1146" y="99"/>
                  </a:lnTo>
                  <a:lnTo>
                    <a:pt x="1141" y="113"/>
                  </a:lnTo>
                  <a:lnTo>
                    <a:pt x="1136" y="128"/>
                  </a:lnTo>
                  <a:lnTo>
                    <a:pt x="1131" y="138"/>
                  </a:lnTo>
                  <a:lnTo>
                    <a:pt x="1101" y="113"/>
                  </a:lnTo>
                  <a:lnTo>
                    <a:pt x="1101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 rot="9362400">
              <a:off x="7469280" y="1258560"/>
              <a:ext cx="1332000" cy="3704040"/>
            </a:xfrm>
            <a:custGeom>
              <a:avLst/>
              <a:gdLst/>
              <a:ahLst/>
              <a:rect l="l" t="t" r="r" b="b"/>
              <a:pathLst>
                <a:path w="839" h="2333">
                  <a:moveTo>
                    <a:pt x="25" y="2323"/>
                  </a:moveTo>
                  <a:lnTo>
                    <a:pt x="407" y="1327"/>
                  </a:lnTo>
                  <a:lnTo>
                    <a:pt x="834" y="286"/>
                  </a:lnTo>
                  <a:lnTo>
                    <a:pt x="839" y="266"/>
                  </a:lnTo>
                  <a:lnTo>
                    <a:pt x="834" y="252"/>
                  </a:lnTo>
                  <a:lnTo>
                    <a:pt x="824" y="232"/>
                  </a:lnTo>
                  <a:lnTo>
                    <a:pt x="809" y="222"/>
                  </a:lnTo>
                  <a:lnTo>
                    <a:pt x="246" y="0"/>
                  </a:lnTo>
                  <a:lnTo>
                    <a:pt x="231" y="0"/>
                  </a:lnTo>
                  <a:lnTo>
                    <a:pt x="226" y="10"/>
                  </a:lnTo>
                  <a:lnTo>
                    <a:pt x="221" y="20"/>
                  </a:lnTo>
                  <a:lnTo>
                    <a:pt x="221" y="40"/>
                  </a:lnTo>
                  <a:lnTo>
                    <a:pt x="226" y="54"/>
                  </a:lnTo>
                  <a:lnTo>
                    <a:pt x="231" y="69"/>
                  </a:lnTo>
                  <a:lnTo>
                    <a:pt x="241" y="89"/>
                  </a:lnTo>
                  <a:lnTo>
                    <a:pt x="251" y="104"/>
                  </a:lnTo>
                  <a:lnTo>
                    <a:pt x="678" y="311"/>
                  </a:lnTo>
                  <a:lnTo>
                    <a:pt x="427" y="1056"/>
                  </a:lnTo>
                  <a:lnTo>
                    <a:pt x="0" y="2318"/>
                  </a:lnTo>
                  <a:lnTo>
                    <a:pt x="0" y="2328"/>
                  </a:lnTo>
                  <a:lnTo>
                    <a:pt x="5" y="2333"/>
                  </a:lnTo>
                  <a:lnTo>
                    <a:pt x="15" y="2328"/>
                  </a:lnTo>
                  <a:lnTo>
                    <a:pt x="25" y="2323"/>
                  </a:lnTo>
                  <a:lnTo>
                    <a:pt x="25" y="2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 rot="9362400">
              <a:off x="6784560" y="749160"/>
              <a:ext cx="1013400" cy="4540320"/>
            </a:xfrm>
            <a:custGeom>
              <a:avLst/>
              <a:gdLst/>
              <a:ahLst/>
              <a:rect l="l" t="t" r="r" b="b"/>
              <a:pathLst>
                <a:path w="638" h="2860">
                  <a:moveTo>
                    <a:pt x="337" y="2860"/>
                  </a:moveTo>
                  <a:lnTo>
                    <a:pt x="342" y="2825"/>
                  </a:lnTo>
                  <a:lnTo>
                    <a:pt x="347" y="2796"/>
                  </a:lnTo>
                  <a:lnTo>
                    <a:pt x="357" y="2761"/>
                  </a:lnTo>
                  <a:lnTo>
                    <a:pt x="362" y="2732"/>
                  </a:lnTo>
                  <a:lnTo>
                    <a:pt x="367" y="2697"/>
                  </a:lnTo>
                  <a:lnTo>
                    <a:pt x="377" y="2668"/>
                  </a:lnTo>
                  <a:lnTo>
                    <a:pt x="382" y="2638"/>
                  </a:lnTo>
                  <a:lnTo>
                    <a:pt x="392" y="2603"/>
                  </a:lnTo>
                  <a:lnTo>
                    <a:pt x="397" y="2574"/>
                  </a:lnTo>
                  <a:lnTo>
                    <a:pt x="402" y="2539"/>
                  </a:lnTo>
                  <a:lnTo>
                    <a:pt x="407" y="2510"/>
                  </a:lnTo>
                  <a:lnTo>
                    <a:pt x="417" y="2475"/>
                  </a:lnTo>
                  <a:lnTo>
                    <a:pt x="422" y="2446"/>
                  </a:lnTo>
                  <a:lnTo>
                    <a:pt x="427" y="2411"/>
                  </a:lnTo>
                  <a:lnTo>
                    <a:pt x="432" y="2382"/>
                  </a:lnTo>
                  <a:lnTo>
                    <a:pt x="442" y="2352"/>
                  </a:lnTo>
                  <a:lnTo>
                    <a:pt x="447" y="2317"/>
                  </a:lnTo>
                  <a:lnTo>
                    <a:pt x="452" y="2288"/>
                  </a:lnTo>
                  <a:lnTo>
                    <a:pt x="457" y="2253"/>
                  </a:lnTo>
                  <a:lnTo>
                    <a:pt x="462" y="2224"/>
                  </a:lnTo>
                  <a:lnTo>
                    <a:pt x="467" y="2189"/>
                  </a:lnTo>
                  <a:lnTo>
                    <a:pt x="477" y="2160"/>
                  </a:lnTo>
                  <a:lnTo>
                    <a:pt x="482" y="2125"/>
                  </a:lnTo>
                  <a:lnTo>
                    <a:pt x="487" y="2095"/>
                  </a:lnTo>
                  <a:lnTo>
                    <a:pt x="487" y="2061"/>
                  </a:lnTo>
                  <a:lnTo>
                    <a:pt x="497" y="2026"/>
                  </a:lnTo>
                  <a:lnTo>
                    <a:pt x="497" y="1997"/>
                  </a:lnTo>
                  <a:lnTo>
                    <a:pt x="502" y="1962"/>
                  </a:lnTo>
                  <a:lnTo>
                    <a:pt x="507" y="1933"/>
                  </a:lnTo>
                  <a:lnTo>
                    <a:pt x="512" y="1898"/>
                  </a:lnTo>
                  <a:lnTo>
                    <a:pt x="517" y="1869"/>
                  </a:lnTo>
                  <a:lnTo>
                    <a:pt x="528" y="1834"/>
                  </a:lnTo>
                  <a:lnTo>
                    <a:pt x="528" y="1805"/>
                  </a:lnTo>
                  <a:lnTo>
                    <a:pt x="533" y="1770"/>
                  </a:lnTo>
                  <a:lnTo>
                    <a:pt x="538" y="1735"/>
                  </a:lnTo>
                  <a:lnTo>
                    <a:pt x="543" y="1706"/>
                  </a:lnTo>
                  <a:lnTo>
                    <a:pt x="548" y="1671"/>
                  </a:lnTo>
                  <a:lnTo>
                    <a:pt x="548" y="1637"/>
                  </a:lnTo>
                  <a:lnTo>
                    <a:pt x="553" y="1607"/>
                  </a:lnTo>
                  <a:lnTo>
                    <a:pt x="558" y="1573"/>
                  </a:lnTo>
                  <a:lnTo>
                    <a:pt x="563" y="1543"/>
                  </a:lnTo>
                  <a:lnTo>
                    <a:pt x="563" y="1509"/>
                  </a:lnTo>
                  <a:lnTo>
                    <a:pt x="568" y="1474"/>
                  </a:lnTo>
                  <a:lnTo>
                    <a:pt x="573" y="1445"/>
                  </a:lnTo>
                  <a:lnTo>
                    <a:pt x="578" y="1410"/>
                  </a:lnTo>
                  <a:lnTo>
                    <a:pt x="578" y="1380"/>
                  </a:lnTo>
                  <a:lnTo>
                    <a:pt x="583" y="1346"/>
                  </a:lnTo>
                  <a:lnTo>
                    <a:pt x="588" y="1316"/>
                  </a:lnTo>
                  <a:lnTo>
                    <a:pt x="588" y="1282"/>
                  </a:lnTo>
                  <a:lnTo>
                    <a:pt x="593" y="1252"/>
                  </a:lnTo>
                  <a:lnTo>
                    <a:pt x="598" y="1218"/>
                  </a:lnTo>
                  <a:lnTo>
                    <a:pt x="603" y="1183"/>
                  </a:lnTo>
                  <a:lnTo>
                    <a:pt x="603" y="1154"/>
                  </a:lnTo>
                  <a:lnTo>
                    <a:pt x="608" y="1119"/>
                  </a:lnTo>
                  <a:lnTo>
                    <a:pt x="608" y="1089"/>
                  </a:lnTo>
                  <a:lnTo>
                    <a:pt x="613" y="1055"/>
                  </a:lnTo>
                  <a:lnTo>
                    <a:pt x="618" y="1025"/>
                  </a:lnTo>
                  <a:lnTo>
                    <a:pt x="618" y="991"/>
                  </a:lnTo>
                  <a:lnTo>
                    <a:pt x="623" y="956"/>
                  </a:lnTo>
                  <a:lnTo>
                    <a:pt x="628" y="927"/>
                  </a:lnTo>
                  <a:lnTo>
                    <a:pt x="628" y="892"/>
                  </a:lnTo>
                  <a:lnTo>
                    <a:pt x="633" y="863"/>
                  </a:lnTo>
                  <a:lnTo>
                    <a:pt x="633" y="833"/>
                  </a:lnTo>
                  <a:lnTo>
                    <a:pt x="638" y="798"/>
                  </a:lnTo>
                  <a:lnTo>
                    <a:pt x="638" y="784"/>
                  </a:lnTo>
                  <a:lnTo>
                    <a:pt x="638" y="769"/>
                  </a:lnTo>
                  <a:lnTo>
                    <a:pt x="638" y="754"/>
                  </a:lnTo>
                  <a:lnTo>
                    <a:pt x="638" y="739"/>
                  </a:lnTo>
                  <a:lnTo>
                    <a:pt x="638" y="725"/>
                  </a:lnTo>
                  <a:lnTo>
                    <a:pt x="638" y="710"/>
                  </a:lnTo>
                  <a:lnTo>
                    <a:pt x="638" y="695"/>
                  </a:lnTo>
                  <a:lnTo>
                    <a:pt x="638" y="680"/>
                  </a:lnTo>
                  <a:lnTo>
                    <a:pt x="638" y="660"/>
                  </a:lnTo>
                  <a:lnTo>
                    <a:pt x="638" y="651"/>
                  </a:lnTo>
                  <a:lnTo>
                    <a:pt x="638" y="631"/>
                  </a:lnTo>
                  <a:lnTo>
                    <a:pt x="638" y="616"/>
                  </a:lnTo>
                  <a:lnTo>
                    <a:pt x="633" y="601"/>
                  </a:lnTo>
                  <a:lnTo>
                    <a:pt x="633" y="586"/>
                  </a:lnTo>
                  <a:lnTo>
                    <a:pt x="633" y="572"/>
                  </a:lnTo>
                  <a:lnTo>
                    <a:pt x="633" y="557"/>
                  </a:lnTo>
                  <a:lnTo>
                    <a:pt x="628" y="537"/>
                  </a:lnTo>
                  <a:lnTo>
                    <a:pt x="623" y="522"/>
                  </a:lnTo>
                  <a:lnTo>
                    <a:pt x="618" y="508"/>
                  </a:lnTo>
                  <a:lnTo>
                    <a:pt x="618" y="493"/>
                  </a:lnTo>
                  <a:lnTo>
                    <a:pt x="613" y="473"/>
                  </a:lnTo>
                  <a:lnTo>
                    <a:pt x="608" y="458"/>
                  </a:lnTo>
                  <a:lnTo>
                    <a:pt x="603" y="443"/>
                  </a:lnTo>
                  <a:lnTo>
                    <a:pt x="603" y="429"/>
                  </a:lnTo>
                  <a:lnTo>
                    <a:pt x="598" y="414"/>
                  </a:lnTo>
                  <a:lnTo>
                    <a:pt x="588" y="399"/>
                  </a:lnTo>
                  <a:lnTo>
                    <a:pt x="583" y="384"/>
                  </a:lnTo>
                  <a:lnTo>
                    <a:pt x="578" y="369"/>
                  </a:lnTo>
                  <a:lnTo>
                    <a:pt x="573" y="350"/>
                  </a:lnTo>
                  <a:lnTo>
                    <a:pt x="568" y="335"/>
                  </a:lnTo>
                  <a:lnTo>
                    <a:pt x="558" y="320"/>
                  </a:lnTo>
                  <a:lnTo>
                    <a:pt x="553" y="310"/>
                  </a:lnTo>
                  <a:lnTo>
                    <a:pt x="543" y="295"/>
                  </a:lnTo>
                  <a:lnTo>
                    <a:pt x="533" y="281"/>
                  </a:lnTo>
                  <a:lnTo>
                    <a:pt x="528" y="266"/>
                  </a:lnTo>
                  <a:lnTo>
                    <a:pt x="517" y="251"/>
                  </a:lnTo>
                  <a:lnTo>
                    <a:pt x="502" y="236"/>
                  </a:lnTo>
                  <a:lnTo>
                    <a:pt x="497" y="226"/>
                  </a:lnTo>
                  <a:lnTo>
                    <a:pt x="482" y="212"/>
                  </a:lnTo>
                  <a:lnTo>
                    <a:pt x="477" y="202"/>
                  </a:lnTo>
                  <a:lnTo>
                    <a:pt x="462" y="187"/>
                  </a:lnTo>
                  <a:lnTo>
                    <a:pt x="452" y="172"/>
                  </a:lnTo>
                  <a:lnTo>
                    <a:pt x="437" y="162"/>
                  </a:lnTo>
                  <a:lnTo>
                    <a:pt x="427" y="152"/>
                  </a:lnTo>
                  <a:lnTo>
                    <a:pt x="412" y="138"/>
                  </a:lnTo>
                  <a:lnTo>
                    <a:pt x="397" y="128"/>
                  </a:lnTo>
                  <a:lnTo>
                    <a:pt x="382" y="118"/>
                  </a:lnTo>
                  <a:lnTo>
                    <a:pt x="367" y="108"/>
                  </a:lnTo>
                  <a:lnTo>
                    <a:pt x="352" y="98"/>
                  </a:lnTo>
                  <a:lnTo>
                    <a:pt x="332" y="88"/>
                  </a:lnTo>
                  <a:lnTo>
                    <a:pt x="316" y="78"/>
                  </a:lnTo>
                  <a:lnTo>
                    <a:pt x="301" y="69"/>
                  </a:lnTo>
                  <a:lnTo>
                    <a:pt x="281" y="59"/>
                  </a:lnTo>
                  <a:lnTo>
                    <a:pt x="261" y="54"/>
                  </a:lnTo>
                  <a:lnTo>
                    <a:pt x="246" y="44"/>
                  </a:lnTo>
                  <a:lnTo>
                    <a:pt x="226" y="39"/>
                  </a:lnTo>
                  <a:lnTo>
                    <a:pt x="201" y="34"/>
                  </a:lnTo>
                  <a:lnTo>
                    <a:pt x="181" y="24"/>
                  </a:lnTo>
                  <a:lnTo>
                    <a:pt x="161" y="19"/>
                  </a:lnTo>
                  <a:lnTo>
                    <a:pt x="141" y="14"/>
                  </a:lnTo>
                  <a:lnTo>
                    <a:pt x="115" y="9"/>
                  </a:lnTo>
                  <a:lnTo>
                    <a:pt x="95" y="5"/>
                  </a:lnTo>
                  <a:lnTo>
                    <a:pt x="70" y="5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0" y="14"/>
                  </a:lnTo>
                  <a:lnTo>
                    <a:pt x="10" y="29"/>
                  </a:lnTo>
                  <a:lnTo>
                    <a:pt x="15" y="39"/>
                  </a:lnTo>
                  <a:lnTo>
                    <a:pt x="25" y="49"/>
                  </a:lnTo>
                  <a:lnTo>
                    <a:pt x="30" y="54"/>
                  </a:lnTo>
                  <a:lnTo>
                    <a:pt x="40" y="59"/>
                  </a:lnTo>
                  <a:lnTo>
                    <a:pt x="50" y="69"/>
                  </a:lnTo>
                  <a:lnTo>
                    <a:pt x="60" y="74"/>
                  </a:lnTo>
                  <a:lnTo>
                    <a:pt x="70" y="78"/>
                  </a:lnTo>
                  <a:lnTo>
                    <a:pt x="85" y="88"/>
                  </a:lnTo>
                  <a:lnTo>
                    <a:pt x="100" y="93"/>
                  </a:lnTo>
                  <a:lnTo>
                    <a:pt x="115" y="103"/>
                  </a:lnTo>
                  <a:lnTo>
                    <a:pt x="131" y="108"/>
                  </a:lnTo>
                  <a:lnTo>
                    <a:pt x="151" y="118"/>
                  </a:lnTo>
                  <a:lnTo>
                    <a:pt x="161" y="123"/>
                  </a:lnTo>
                  <a:lnTo>
                    <a:pt x="171" y="128"/>
                  </a:lnTo>
                  <a:lnTo>
                    <a:pt x="181" y="133"/>
                  </a:lnTo>
                  <a:lnTo>
                    <a:pt x="191" y="138"/>
                  </a:lnTo>
                  <a:lnTo>
                    <a:pt x="211" y="148"/>
                  </a:lnTo>
                  <a:lnTo>
                    <a:pt x="231" y="157"/>
                  </a:lnTo>
                  <a:lnTo>
                    <a:pt x="251" y="167"/>
                  </a:lnTo>
                  <a:lnTo>
                    <a:pt x="271" y="182"/>
                  </a:lnTo>
                  <a:lnTo>
                    <a:pt x="286" y="192"/>
                  </a:lnTo>
                  <a:lnTo>
                    <a:pt x="301" y="202"/>
                  </a:lnTo>
                  <a:lnTo>
                    <a:pt x="322" y="217"/>
                  </a:lnTo>
                  <a:lnTo>
                    <a:pt x="337" y="231"/>
                  </a:lnTo>
                  <a:lnTo>
                    <a:pt x="352" y="246"/>
                  </a:lnTo>
                  <a:lnTo>
                    <a:pt x="367" y="261"/>
                  </a:lnTo>
                  <a:lnTo>
                    <a:pt x="377" y="271"/>
                  </a:lnTo>
                  <a:lnTo>
                    <a:pt x="392" y="291"/>
                  </a:lnTo>
                  <a:lnTo>
                    <a:pt x="402" y="305"/>
                  </a:lnTo>
                  <a:lnTo>
                    <a:pt x="412" y="320"/>
                  </a:lnTo>
                  <a:lnTo>
                    <a:pt x="422" y="335"/>
                  </a:lnTo>
                  <a:lnTo>
                    <a:pt x="432" y="355"/>
                  </a:lnTo>
                  <a:lnTo>
                    <a:pt x="442" y="374"/>
                  </a:lnTo>
                  <a:lnTo>
                    <a:pt x="447" y="389"/>
                  </a:lnTo>
                  <a:lnTo>
                    <a:pt x="457" y="409"/>
                  </a:lnTo>
                  <a:lnTo>
                    <a:pt x="462" y="429"/>
                  </a:lnTo>
                  <a:lnTo>
                    <a:pt x="467" y="443"/>
                  </a:lnTo>
                  <a:lnTo>
                    <a:pt x="477" y="463"/>
                  </a:lnTo>
                  <a:lnTo>
                    <a:pt x="482" y="483"/>
                  </a:lnTo>
                  <a:lnTo>
                    <a:pt x="487" y="503"/>
                  </a:lnTo>
                  <a:lnTo>
                    <a:pt x="487" y="522"/>
                  </a:lnTo>
                  <a:lnTo>
                    <a:pt x="492" y="542"/>
                  </a:lnTo>
                  <a:lnTo>
                    <a:pt x="492" y="562"/>
                  </a:lnTo>
                  <a:lnTo>
                    <a:pt x="497" y="582"/>
                  </a:lnTo>
                  <a:lnTo>
                    <a:pt x="497" y="601"/>
                  </a:lnTo>
                  <a:lnTo>
                    <a:pt x="502" y="626"/>
                  </a:lnTo>
                  <a:lnTo>
                    <a:pt x="502" y="646"/>
                  </a:lnTo>
                  <a:lnTo>
                    <a:pt x="502" y="670"/>
                  </a:lnTo>
                  <a:lnTo>
                    <a:pt x="502" y="690"/>
                  </a:lnTo>
                  <a:lnTo>
                    <a:pt x="502" y="710"/>
                  </a:lnTo>
                  <a:lnTo>
                    <a:pt x="502" y="729"/>
                  </a:lnTo>
                  <a:lnTo>
                    <a:pt x="502" y="754"/>
                  </a:lnTo>
                  <a:lnTo>
                    <a:pt x="502" y="774"/>
                  </a:lnTo>
                  <a:lnTo>
                    <a:pt x="502" y="794"/>
                  </a:lnTo>
                  <a:lnTo>
                    <a:pt x="497" y="818"/>
                  </a:lnTo>
                  <a:lnTo>
                    <a:pt x="497" y="838"/>
                  </a:lnTo>
                  <a:lnTo>
                    <a:pt x="497" y="863"/>
                  </a:lnTo>
                  <a:lnTo>
                    <a:pt x="492" y="882"/>
                  </a:lnTo>
                  <a:lnTo>
                    <a:pt x="487" y="902"/>
                  </a:lnTo>
                  <a:lnTo>
                    <a:pt x="487" y="927"/>
                  </a:lnTo>
                  <a:lnTo>
                    <a:pt x="482" y="946"/>
                  </a:lnTo>
                  <a:lnTo>
                    <a:pt x="482" y="971"/>
                  </a:lnTo>
                  <a:lnTo>
                    <a:pt x="477" y="991"/>
                  </a:lnTo>
                  <a:lnTo>
                    <a:pt x="477" y="1015"/>
                  </a:lnTo>
                  <a:lnTo>
                    <a:pt x="472" y="1035"/>
                  </a:lnTo>
                  <a:lnTo>
                    <a:pt x="467" y="1055"/>
                  </a:lnTo>
                  <a:lnTo>
                    <a:pt x="462" y="1080"/>
                  </a:lnTo>
                  <a:lnTo>
                    <a:pt x="462" y="1099"/>
                  </a:lnTo>
                  <a:lnTo>
                    <a:pt x="457" y="1119"/>
                  </a:lnTo>
                  <a:lnTo>
                    <a:pt x="452" y="1144"/>
                  </a:lnTo>
                  <a:lnTo>
                    <a:pt x="452" y="1163"/>
                  </a:lnTo>
                  <a:lnTo>
                    <a:pt x="447" y="1183"/>
                  </a:lnTo>
                  <a:lnTo>
                    <a:pt x="442" y="1203"/>
                  </a:lnTo>
                  <a:lnTo>
                    <a:pt x="442" y="1223"/>
                  </a:lnTo>
                  <a:lnTo>
                    <a:pt x="437" y="1242"/>
                  </a:lnTo>
                  <a:lnTo>
                    <a:pt x="432" y="1267"/>
                  </a:lnTo>
                  <a:lnTo>
                    <a:pt x="432" y="1287"/>
                  </a:lnTo>
                  <a:lnTo>
                    <a:pt x="427" y="1306"/>
                  </a:lnTo>
                  <a:lnTo>
                    <a:pt x="427" y="1326"/>
                  </a:lnTo>
                  <a:lnTo>
                    <a:pt x="422" y="1346"/>
                  </a:lnTo>
                  <a:lnTo>
                    <a:pt x="417" y="1366"/>
                  </a:lnTo>
                  <a:lnTo>
                    <a:pt x="417" y="1390"/>
                  </a:lnTo>
                  <a:lnTo>
                    <a:pt x="412" y="1415"/>
                  </a:lnTo>
                  <a:lnTo>
                    <a:pt x="407" y="1440"/>
                  </a:lnTo>
                  <a:lnTo>
                    <a:pt x="402" y="1459"/>
                  </a:lnTo>
                  <a:lnTo>
                    <a:pt x="402" y="1484"/>
                  </a:lnTo>
                  <a:lnTo>
                    <a:pt x="397" y="1509"/>
                  </a:lnTo>
                  <a:lnTo>
                    <a:pt x="397" y="1533"/>
                  </a:lnTo>
                  <a:lnTo>
                    <a:pt x="387" y="1553"/>
                  </a:lnTo>
                  <a:lnTo>
                    <a:pt x="387" y="1578"/>
                  </a:lnTo>
                  <a:lnTo>
                    <a:pt x="382" y="1602"/>
                  </a:lnTo>
                  <a:lnTo>
                    <a:pt x="382" y="1627"/>
                  </a:lnTo>
                  <a:lnTo>
                    <a:pt x="377" y="1647"/>
                  </a:lnTo>
                  <a:lnTo>
                    <a:pt x="372" y="1671"/>
                  </a:lnTo>
                  <a:lnTo>
                    <a:pt x="367" y="1696"/>
                  </a:lnTo>
                  <a:lnTo>
                    <a:pt x="367" y="1721"/>
                  </a:lnTo>
                  <a:lnTo>
                    <a:pt x="362" y="1740"/>
                  </a:lnTo>
                  <a:lnTo>
                    <a:pt x="362" y="1765"/>
                  </a:lnTo>
                  <a:lnTo>
                    <a:pt x="357" y="1790"/>
                  </a:lnTo>
                  <a:lnTo>
                    <a:pt x="352" y="1809"/>
                  </a:lnTo>
                  <a:lnTo>
                    <a:pt x="352" y="1834"/>
                  </a:lnTo>
                  <a:lnTo>
                    <a:pt x="347" y="1859"/>
                  </a:lnTo>
                  <a:lnTo>
                    <a:pt x="347" y="1883"/>
                  </a:lnTo>
                  <a:lnTo>
                    <a:pt x="342" y="1908"/>
                  </a:lnTo>
                  <a:lnTo>
                    <a:pt x="337" y="1928"/>
                  </a:lnTo>
                  <a:lnTo>
                    <a:pt x="337" y="1952"/>
                  </a:lnTo>
                  <a:lnTo>
                    <a:pt x="332" y="1977"/>
                  </a:lnTo>
                  <a:lnTo>
                    <a:pt x="332" y="2002"/>
                  </a:lnTo>
                  <a:lnTo>
                    <a:pt x="327" y="2026"/>
                  </a:lnTo>
                  <a:lnTo>
                    <a:pt x="327" y="2051"/>
                  </a:lnTo>
                  <a:lnTo>
                    <a:pt x="322" y="2071"/>
                  </a:lnTo>
                  <a:lnTo>
                    <a:pt x="322" y="2100"/>
                  </a:lnTo>
                  <a:lnTo>
                    <a:pt x="322" y="2120"/>
                  </a:lnTo>
                  <a:lnTo>
                    <a:pt x="316" y="2145"/>
                  </a:lnTo>
                  <a:lnTo>
                    <a:pt x="316" y="2169"/>
                  </a:lnTo>
                  <a:lnTo>
                    <a:pt x="311" y="2194"/>
                  </a:lnTo>
                  <a:lnTo>
                    <a:pt x="311" y="2214"/>
                  </a:lnTo>
                  <a:lnTo>
                    <a:pt x="311" y="2238"/>
                  </a:lnTo>
                  <a:lnTo>
                    <a:pt x="306" y="2263"/>
                  </a:lnTo>
                  <a:lnTo>
                    <a:pt x="306" y="2288"/>
                  </a:lnTo>
                  <a:lnTo>
                    <a:pt x="306" y="2308"/>
                  </a:lnTo>
                  <a:lnTo>
                    <a:pt x="306" y="2332"/>
                  </a:lnTo>
                  <a:lnTo>
                    <a:pt x="301" y="2357"/>
                  </a:lnTo>
                  <a:lnTo>
                    <a:pt x="301" y="2382"/>
                  </a:lnTo>
                  <a:lnTo>
                    <a:pt x="301" y="2406"/>
                  </a:lnTo>
                  <a:lnTo>
                    <a:pt x="301" y="2426"/>
                  </a:lnTo>
                  <a:lnTo>
                    <a:pt x="301" y="2451"/>
                  </a:lnTo>
                  <a:lnTo>
                    <a:pt x="301" y="2475"/>
                  </a:lnTo>
                  <a:lnTo>
                    <a:pt x="301" y="2500"/>
                  </a:lnTo>
                  <a:lnTo>
                    <a:pt x="301" y="2525"/>
                  </a:lnTo>
                  <a:lnTo>
                    <a:pt x="301" y="2549"/>
                  </a:lnTo>
                  <a:lnTo>
                    <a:pt x="301" y="2574"/>
                  </a:lnTo>
                  <a:lnTo>
                    <a:pt x="301" y="2594"/>
                  </a:lnTo>
                  <a:lnTo>
                    <a:pt x="306" y="2618"/>
                  </a:lnTo>
                  <a:lnTo>
                    <a:pt x="306" y="2643"/>
                  </a:lnTo>
                  <a:lnTo>
                    <a:pt x="311" y="2668"/>
                  </a:lnTo>
                  <a:lnTo>
                    <a:pt x="311" y="2692"/>
                  </a:lnTo>
                  <a:lnTo>
                    <a:pt x="311" y="2717"/>
                  </a:lnTo>
                  <a:lnTo>
                    <a:pt x="311" y="2737"/>
                  </a:lnTo>
                  <a:lnTo>
                    <a:pt x="316" y="2761"/>
                  </a:lnTo>
                  <a:lnTo>
                    <a:pt x="316" y="2786"/>
                  </a:lnTo>
                  <a:lnTo>
                    <a:pt x="322" y="2811"/>
                  </a:lnTo>
                  <a:lnTo>
                    <a:pt x="322" y="2835"/>
                  </a:lnTo>
                  <a:lnTo>
                    <a:pt x="332" y="2860"/>
                  </a:lnTo>
                  <a:lnTo>
                    <a:pt x="332" y="2860"/>
                  </a:lnTo>
                  <a:lnTo>
                    <a:pt x="337" y="2860"/>
                  </a:lnTo>
                  <a:lnTo>
                    <a:pt x="337" y="28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 rot="9362400">
              <a:off x="374400" y="785160"/>
              <a:ext cx="6397920" cy="4610160"/>
            </a:xfrm>
            <a:custGeom>
              <a:avLst/>
              <a:gdLst/>
              <a:ahLst/>
              <a:rect l="l" t="t" r="r" b="b"/>
              <a:pathLst>
                <a:path w="4030" h="2904">
                  <a:moveTo>
                    <a:pt x="4020" y="991"/>
                  </a:moveTo>
                  <a:lnTo>
                    <a:pt x="3990" y="971"/>
                  </a:lnTo>
                  <a:lnTo>
                    <a:pt x="3964" y="961"/>
                  </a:lnTo>
                  <a:lnTo>
                    <a:pt x="3934" y="946"/>
                  </a:lnTo>
                  <a:lnTo>
                    <a:pt x="3904" y="932"/>
                  </a:lnTo>
                  <a:lnTo>
                    <a:pt x="3874" y="922"/>
                  </a:lnTo>
                  <a:lnTo>
                    <a:pt x="3849" y="907"/>
                  </a:lnTo>
                  <a:lnTo>
                    <a:pt x="3819" y="892"/>
                  </a:lnTo>
                  <a:lnTo>
                    <a:pt x="3789" y="882"/>
                  </a:lnTo>
                  <a:lnTo>
                    <a:pt x="3758" y="872"/>
                  </a:lnTo>
                  <a:lnTo>
                    <a:pt x="3733" y="858"/>
                  </a:lnTo>
                  <a:lnTo>
                    <a:pt x="3698" y="843"/>
                  </a:lnTo>
                  <a:lnTo>
                    <a:pt x="3673" y="833"/>
                  </a:lnTo>
                  <a:lnTo>
                    <a:pt x="3638" y="823"/>
                  </a:lnTo>
                  <a:lnTo>
                    <a:pt x="3613" y="813"/>
                  </a:lnTo>
                  <a:lnTo>
                    <a:pt x="3583" y="803"/>
                  </a:lnTo>
                  <a:lnTo>
                    <a:pt x="3552" y="789"/>
                  </a:lnTo>
                  <a:lnTo>
                    <a:pt x="3522" y="779"/>
                  </a:lnTo>
                  <a:lnTo>
                    <a:pt x="3492" y="769"/>
                  </a:lnTo>
                  <a:lnTo>
                    <a:pt x="3457" y="759"/>
                  </a:lnTo>
                  <a:lnTo>
                    <a:pt x="3432" y="744"/>
                  </a:lnTo>
                  <a:lnTo>
                    <a:pt x="3397" y="734"/>
                  </a:lnTo>
                  <a:lnTo>
                    <a:pt x="3366" y="724"/>
                  </a:lnTo>
                  <a:lnTo>
                    <a:pt x="3336" y="715"/>
                  </a:lnTo>
                  <a:lnTo>
                    <a:pt x="3306" y="710"/>
                  </a:lnTo>
                  <a:lnTo>
                    <a:pt x="3276" y="695"/>
                  </a:lnTo>
                  <a:lnTo>
                    <a:pt x="3246" y="690"/>
                  </a:lnTo>
                  <a:lnTo>
                    <a:pt x="3216" y="680"/>
                  </a:lnTo>
                  <a:lnTo>
                    <a:pt x="3186" y="670"/>
                  </a:lnTo>
                  <a:lnTo>
                    <a:pt x="3150" y="660"/>
                  </a:lnTo>
                  <a:lnTo>
                    <a:pt x="3120" y="650"/>
                  </a:lnTo>
                  <a:lnTo>
                    <a:pt x="3090" y="641"/>
                  </a:lnTo>
                  <a:lnTo>
                    <a:pt x="3060" y="636"/>
                  </a:lnTo>
                  <a:lnTo>
                    <a:pt x="3030" y="626"/>
                  </a:lnTo>
                  <a:lnTo>
                    <a:pt x="3000" y="616"/>
                  </a:lnTo>
                  <a:lnTo>
                    <a:pt x="2964" y="606"/>
                  </a:lnTo>
                  <a:lnTo>
                    <a:pt x="2934" y="596"/>
                  </a:lnTo>
                  <a:lnTo>
                    <a:pt x="2904" y="586"/>
                  </a:lnTo>
                  <a:lnTo>
                    <a:pt x="2869" y="581"/>
                  </a:lnTo>
                  <a:lnTo>
                    <a:pt x="2839" y="572"/>
                  </a:lnTo>
                  <a:lnTo>
                    <a:pt x="2809" y="562"/>
                  </a:lnTo>
                  <a:lnTo>
                    <a:pt x="2778" y="552"/>
                  </a:lnTo>
                  <a:lnTo>
                    <a:pt x="2748" y="547"/>
                  </a:lnTo>
                  <a:lnTo>
                    <a:pt x="2713" y="537"/>
                  </a:lnTo>
                  <a:lnTo>
                    <a:pt x="2683" y="532"/>
                  </a:lnTo>
                  <a:lnTo>
                    <a:pt x="2653" y="522"/>
                  </a:lnTo>
                  <a:lnTo>
                    <a:pt x="2618" y="512"/>
                  </a:lnTo>
                  <a:lnTo>
                    <a:pt x="2588" y="503"/>
                  </a:lnTo>
                  <a:lnTo>
                    <a:pt x="2557" y="498"/>
                  </a:lnTo>
                  <a:lnTo>
                    <a:pt x="2522" y="488"/>
                  </a:lnTo>
                  <a:lnTo>
                    <a:pt x="2497" y="478"/>
                  </a:lnTo>
                  <a:lnTo>
                    <a:pt x="2462" y="468"/>
                  </a:lnTo>
                  <a:lnTo>
                    <a:pt x="2432" y="463"/>
                  </a:lnTo>
                  <a:lnTo>
                    <a:pt x="2402" y="453"/>
                  </a:lnTo>
                  <a:lnTo>
                    <a:pt x="2371" y="448"/>
                  </a:lnTo>
                  <a:lnTo>
                    <a:pt x="2341" y="438"/>
                  </a:lnTo>
                  <a:lnTo>
                    <a:pt x="2311" y="429"/>
                  </a:lnTo>
                  <a:lnTo>
                    <a:pt x="2281" y="419"/>
                  </a:lnTo>
                  <a:lnTo>
                    <a:pt x="2251" y="414"/>
                  </a:lnTo>
                  <a:lnTo>
                    <a:pt x="2216" y="404"/>
                  </a:lnTo>
                  <a:lnTo>
                    <a:pt x="2185" y="399"/>
                  </a:lnTo>
                  <a:lnTo>
                    <a:pt x="2155" y="389"/>
                  </a:lnTo>
                  <a:lnTo>
                    <a:pt x="2130" y="379"/>
                  </a:lnTo>
                  <a:lnTo>
                    <a:pt x="2095" y="369"/>
                  </a:lnTo>
                  <a:lnTo>
                    <a:pt x="2070" y="364"/>
                  </a:lnTo>
                  <a:lnTo>
                    <a:pt x="2045" y="355"/>
                  </a:lnTo>
                  <a:lnTo>
                    <a:pt x="2020" y="350"/>
                  </a:lnTo>
                  <a:lnTo>
                    <a:pt x="2000" y="340"/>
                  </a:lnTo>
                  <a:lnTo>
                    <a:pt x="1974" y="335"/>
                  </a:lnTo>
                  <a:lnTo>
                    <a:pt x="1949" y="325"/>
                  </a:lnTo>
                  <a:lnTo>
                    <a:pt x="1924" y="320"/>
                  </a:lnTo>
                  <a:lnTo>
                    <a:pt x="1899" y="310"/>
                  </a:lnTo>
                  <a:lnTo>
                    <a:pt x="1879" y="300"/>
                  </a:lnTo>
                  <a:lnTo>
                    <a:pt x="1849" y="290"/>
                  </a:lnTo>
                  <a:lnTo>
                    <a:pt x="1824" y="286"/>
                  </a:lnTo>
                  <a:lnTo>
                    <a:pt x="1799" y="271"/>
                  </a:lnTo>
                  <a:lnTo>
                    <a:pt x="1773" y="266"/>
                  </a:lnTo>
                  <a:lnTo>
                    <a:pt x="1748" y="256"/>
                  </a:lnTo>
                  <a:lnTo>
                    <a:pt x="1718" y="246"/>
                  </a:lnTo>
                  <a:lnTo>
                    <a:pt x="1693" y="236"/>
                  </a:lnTo>
                  <a:lnTo>
                    <a:pt x="1668" y="226"/>
                  </a:lnTo>
                  <a:lnTo>
                    <a:pt x="1643" y="217"/>
                  </a:lnTo>
                  <a:lnTo>
                    <a:pt x="1613" y="207"/>
                  </a:lnTo>
                  <a:lnTo>
                    <a:pt x="1582" y="197"/>
                  </a:lnTo>
                  <a:lnTo>
                    <a:pt x="1557" y="192"/>
                  </a:lnTo>
                  <a:lnTo>
                    <a:pt x="1527" y="177"/>
                  </a:lnTo>
                  <a:lnTo>
                    <a:pt x="1502" y="172"/>
                  </a:lnTo>
                  <a:lnTo>
                    <a:pt x="1472" y="162"/>
                  </a:lnTo>
                  <a:lnTo>
                    <a:pt x="1447" y="152"/>
                  </a:lnTo>
                  <a:lnTo>
                    <a:pt x="1417" y="143"/>
                  </a:lnTo>
                  <a:lnTo>
                    <a:pt x="1386" y="133"/>
                  </a:lnTo>
                  <a:lnTo>
                    <a:pt x="1361" y="123"/>
                  </a:lnTo>
                  <a:lnTo>
                    <a:pt x="1331" y="113"/>
                  </a:lnTo>
                  <a:lnTo>
                    <a:pt x="1301" y="108"/>
                  </a:lnTo>
                  <a:lnTo>
                    <a:pt x="1276" y="98"/>
                  </a:lnTo>
                  <a:lnTo>
                    <a:pt x="1246" y="88"/>
                  </a:lnTo>
                  <a:lnTo>
                    <a:pt x="1216" y="83"/>
                  </a:lnTo>
                  <a:lnTo>
                    <a:pt x="1185" y="74"/>
                  </a:lnTo>
                  <a:lnTo>
                    <a:pt x="1160" y="69"/>
                  </a:lnTo>
                  <a:lnTo>
                    <a:pt x="1130" y="59"/>
                  </a:lnTo>
                  <a:lnTo>
                    <a:pt x="1100" y="54"/>
                  </a:lnTo>
                  <a:lnTo>
                    <a:pt x="1070" y="44"/>
                  </a:lnTo>
                  <a:lnTo>
                    <a:pt x="1045" y="39"/>
                  </a:lnTo>
                  <a:lnTo>
                    <a:pt x="1015" y="34"/>
                  </a:lnTo>
                  <a:lnTo>
                    <a:pt x="984" y="29"/>
                  </a:lnTo>
                  <a:lnTo>
                    <a:pt x="959" y="24"/>
                  </a:lnTo>
                  <a:lnTo>
                    <a:pt x="929" y="19"/>
                  </a:lnTo>
                  <a:lnTo>
                    <a:pt x="899" y="14"/>
                  </a:lnTo>
                  <a:lnTo>
                    <a:pt x="869" y="14"/>
                  </a:lnTo>
                  <a:lnTo>
                    <a:pt x="844" y="9"/>
                  </a:lnTo>
                  <a:lnTo>
                    <a:pt x="814" y="4"/>
                  </a:lnTo>
                  <a:lnTo>
                    <a:pt x="788" y="4"/>
                  </a:lnTo>
                  <a:lnTo>
                    <a:pt x="763" y="4"/>
                  </a:lnTo>
                  <a:lnTo>
                    <a:pt x="733" y="0"/>
                  </a:lnTo>
                  <a:lnTo>
                    <a:pt x="708" y="0"/>
                  </a:lnTo>
                  <a:lnTo>
                    <a:pt x="678" y="0"/>
                  </a:lnTo>
                  <a:lnTo>
                    <a:pt x="653" y="0"/>
                  </a:lnTo>
                  <a:lnTo>
                    <a:pt x="623" y="0"/>
                  </a:lnTo>
                  <a:lnTo>
                    <a:pt x="598" y="4"/>
                  </a:lnTo>
                  <a:lnTo>
                    <a:pt x="572" y="4"/>
                  </a:lnTo>
                  <a:lnTo>
                    <a:pt x="547" y="9"/>
                  </a:lnTo>
                  <a:lnTo>
                    <a:pt x="517" y="14"/>
                  </a:lnTo>
                  <a:lnTo>
                    <a:pt x="497" y="19"/>
                  </a:lnTo>
                  <a:lnTo>
                    <a:pt x="467" y="24"/>
                  </a:lnTo>
                  <a:lnTo>
                    <a:pt x="447" y="29"/>
                  </a:lnTo>
                  <a:lnTo>
                    <a:pt x="417" y="34"/>
                  </a:lnTo>
                  <a:lnTo>
                    <a:pt x="397" y="44"/>
                  </a:lnTo>
                  <a:lnTo>
                    <a:pt x="371" y="54"/>
                  </a:lnTo>
                  <a:lnTo>
                    <a:pt x="351" y="64"/>
                  </a:lnTo>
                  <a:lnTo>
                    <a:pt x="331" y="69"/>
                  </a:lnTo>
                  <a:lnTo>
                    <a:pt x="311" y="78"/>
                  </a:lnTo>
                  <a:lnTo>
                    <a:pt x="296" y="88"/>
                  </a:lnTo>
                  <a:lnTo>
                    <a:pt x="281" y="98"/>
                  </a:lnTo>
                  <a:lnTo>
                    <a:pt x="266" y="113"/>
                  </a:lnTo>
                  <a:lnTo>
                    <a:pt x="251" y="123"/>
                  </a:lnTo>
                  <a:lnTo>
                    <a:pt x="236" y="133"/>
                  </a:lnTo>
                  <a:lnTo>
                    <a:pt x="226" y="152"/>
                  </a:lnTo>
                  <a:lnTo>
                    <a:pt x="211" y="162"/>
                  </a:lnTo>
                  <a:lnTo>
                    <a:pt x="195" y="182"/>
                  </a:lnTo>
                  <a:lnTo>
                    <a:pt x="185" y="197"/>
                  </a:lnTo>
                  <a:lnTo>
                    <a:pt x="175" y="212"/>
                  </a:lnTo>
                  <a:lnTo>
                    <a:pt x="165" y="231"/>
                  </a:lnTo>
                  <a:lnTo>
                    <a:pt x="155" y="246"/>
                  </a:lnTo>
                  <a:lnTo>
                    <a:pt x="145" y="266"/>
                  </a:lnTo>
                  <a:lnTo>
                    <a:pt x="140" y="286"/>
                  </a:lnTo>
                  <a:lnTo>
                    <a:pt x="130" y="305"/>
                  </a:lnTo>
                  <a:lnTo>
                    <a:pt x="125" y="325"/>
                  </a:lnTo>
                  <a:lnTo>
                    <a:pt x="115" y="345"/>
                  </a:lnTo>
                  <a:lnTo>
                    <a:pt x="110" y="369"/>
                  </a:lnTo>
                  <a:lnTo>
                    <a:pt x="100" y="389"/>
                  </a:lnTo>
                  <a:lnTo>
                    <a:pt x="95" y="409"/>
                  </a:lnTo>
                  <a:lnTo>
                    <a:pt x="90" y="434"/>
                  </a:lnTo>
                  <a:lnTo>
                    <a:pt x="90" y="453"/>
                  </a:lnTo>
                  <a:lnTo>
                    <a:pt x="80" y="473"/>
                  </a:lnTo>
                  <a:lnTo>
                    <a:pt x="75" y="498"/>
                  </a:lnTo>
                  <a:lnTo>
                    <a:pt x="75" y="522"/>
                  </a:lnTo>
                  <a:lnTo>
                    <a:pt x="70" y="547"/>
                  </a:lnTo>
                  <a:lnTo>
                    <a:pt x="65" y="567"/>
                  </a:lnTo>
                  <a:lnTo>
                    <a:pt x="65" y="596"/>
                  </a:lnTo>
                  <a:lnTo>
                    <a:pt x="65" y="616"/>
                  </a:lnTo>
                  <a:lnTo>
                    <a:pt x="65" y="646"/>
                  </a:lnTo>
                  <a:lnTo>
                    <a:pt x="60" y="665"/>
                  </a:lnTo>
                  <a:lnTo>
                    <a:pt x="60" y="690"/>
                  </a:lnTo>
                  <a:lnTo>
                    <a:pt x="55" y="715"/>
                  </a:lnTo>
                  <a:lnTo>
                    <a:pt x="55" y="739"/>
                  </a:lnTo>
                  <a:lnTo>
                    <a:pt x="55" y="764"/>
                  </a:lnTo>
                  <a:lnTo>
                    <a:pt x="55" y="789"/>
                  </a:lnTo>
                  <a:lnTo>
                    <a:pt x="55" y="808"/>
                  </a:lnTo>
                  <a:lnTo>
                    <a:pt x="55" y="838"/>
                  </a:lnTo>
                  <a:lnTo>
                    <a:pt x="55" y="858"/>
                  </a:lnTo>
                  <a:lnTo>
                    <a:pt x="55" y="882"/>
                  </a:lnTo>
                  <a:lnTo>
                    <a:pt x="55" y="907"/>
                  </a:lnTo>
                  <a:lnTo>
                    <a:pt x="60" y="932"/>
                  </a:lnTo>
                  <a:lnTo>
                    <a:pt x="60" y="951"/>
                  </a:lnTo>
                  <a:lnTo>
                    <a:pt x="60" y="976"/>
                  </a:lnTo>
                  <a:lnTo>
                    <a:pt x="60" y="1001"/>
                  </a:lnTo>
                  <a:lnTo>
                    <a:pt x="65" y="1025"/>
                  </a:lnTo>
                  <a:lnTo>
                    <a:pt x="65" y="1045"/>
                  </a:lnTo>
                  <a:lnTo>
                    <a:pt x="65" y="1065"/>
                  </a:lnTo>
                  <a:lnTo>
                    <a:pt x="65" y="1089"/>
                  </a:lnTo>
                  <a:lnTo>
                    <a:pt x="65" y="1109"/>
                  </a:lnTo>
                  <a:lnTo>
                    <a:pt x="65" y="1129"/>
                  </a:lnTo>
                  <a:lnTo>
                    <a:pt x="70" y="1154"/>
                  </a:lnTo>
                  <a:lnTo>
                    <a:pt x="70" y="1173"/>
                  </a:lnTo>
                  <a:lnTo>
                    <a:pt x="75" y="1193"/>
                  </a:lnTo>
                  <a:lnTo>
                    <a:pt x="75" y="1213"/>
                  </a:lnTo>
                  <a:lnTo>
                    <a:pt x="75" y="1227"/>
                  </a:lnTo>
                  <a:lnTo>
                    <a:pt x="75" y="1247"/>
                  </a:lnTo>
                  <a:lnTo>
                    <a:pt x="80" y="1262"/>
                  </a:lnTo>
                  <a:lnTo>
                    <a:pt x="80" y="1282"/>
                  </a:lnTo>
                  <a:lnTo>
                    <a:pt x="80" y="1297"/>
                  </a:lnTo>
                  <a:lnTo>
                    <a:pt x="80" y="1311"/>
                  </a:lnTo>
                  <a:lnTo>
                    <a:pt x="85" y="1326"/>
                  </a:lnTo>
                  <a:lnTo>
                    <a:pt x="85" y="1341"/>
                  </a:lnTo>
                  <a:lnTo>
                    <a:pt x="85" y="1361"/>
                  </a:lnTo>
                  <a:lnTo>
                    <a:pt x="85" y="1375"/>
                  </a:lnTo>
                  <a:lnTo>
                    <a:pt x="85" y="1390"/>
                  </a:lnTo>
                  <a:lnTo>
                    <a:pt x="85" y="1405"/>
                  </a:lnTo>
                  <a:lnTo>
                    <a:pt x="85" y="1425"/>
                  </a:lnTo>
                  <a:lnTo>
                    <a:pt x="85" y="1440"/>
                  </a:lnTo>
                  <a:lnTo>
                    <a:pt x="85" y="1454"/>
                  </a:lnTo>
                  <a:lnTo>
                    <a:pt x="85" y="1469"/>
                  </a:lnTo>
                  <a:lnTo>
                    <a:pt x="85" y="1489"/>
                  </a:lnTo>
                  <a:lnTo>
                    <a:pt x="85" y="1504"/>
                  </a:lnTo>
                  <a:lnTo>
                    <a:pt x="85" y="1518"/>
                  </a:lnTo>
                  <a:lnTo>
                    <a:pt x="85" y="1533"/>
                  </a:lnTo>
                  <a:lnTo>
                    <a:pt x="85" y="1548"/>
                  </a:lnTo>
                  <a:lnTo>
                    <a:pt x="85" y="1568"/>
                  </a:lnTo>
                  <a:lnTo>
                    <a:pt x="85" y="1583"/>
                  </a:lnTo>
                  <a:lnTo>
                    <a:pt x="85" y="1597"/>
                  </a:lnTo>
                  <a:lnTo>
                    <a:pt x="85" y="1612"/>
                  </a:lnTo>
                  <a:lnTo>
                    <a:pt x="85" y="1627"/>
                  </a:lnTo>
                  <a:lnTo>
                    <a:pt x="85" y="1647"/>
                  </a:lnTo>
                  <a:lnTo>
                    <a:pt x="80" y="1657"/>
                  </a:lnTo>
                  <a:lnTo>
                    <a:pt x="80" y="1676"/>
                  </a:lnTo>
                  <a:lnTo>
                    <a:pt x="80" y="1691"/>
                  </a:lnTo>
                  <a:lnTo>
                    <a:pt x="80" y="1706"/>
                  </a:lnTo>
                  <a:lnTo>
                    <a:pt x="80" y="1721"/>
                  </a:lnTo>
                  <a:lnTo>
                    <a:pt x="80" y="1735"/>
                  </a:lnTo>
                  <a:lnTo>
                    <a:pt x="80" y="1750"/>
                  </a:lnTo>
                  <a:lnTo>
                    <a:pt x="80" y="1770"/>
                  </a:lnTo>
                  <a:lnTo>
                    <a:pt x="75" y="1785"/>
                  </a:lnTo>
                  <a:lnTo>
                    <a:pt x="75" y="1800"/>
                  </a:lnTo>
                  <a:lnTo>
                    <a:pt x="75" y="1814"/>
                  </a:lnTo>
                  <a:lnTo>
                    <a:pt x="75" y="1834"/>
                  </a:lnTo>
                  <a:lnTo>
                    <a:pt x="75" y="1849"/>
                  </a:lnTo>
                  <a:lnTo>
                    <a:pt x="75" y="1864"/>
                  </a:lnTo>
                  <a:lnTo>
                    <a:pt x="70" y="1878"/>
                  </a:lnTo>
                  <a:lnTo>
                    <a:pt x="70" y="1893"/>
                  </a:lnTo>
                  <a:lnTo>
                    <a:pt x="70" y="1908"/>
                  </a:lnTo>
                  <a:lnTo>
                    <a:pt x="65" y="1923"/>
                  </a:lnTo>
                  <a:lnTo>
                    <a:pt x="65" y="1938"/>
                  </a:lnTo>
                  <a:lnTo>
                    <a:pt x="65" y="1957"/>
                  </a:lnTo>
                  <a:lnTo>
                    <a:pt x="65" y="1972"/>
                  </a:lnTo>
                  <a:lnTo>
                    <a:pt x="60" y="1987"/>
                  </a:lnTo>
                  <a:lnTo>
                    <a:pt x="60" y="2002"/>
                  </a:lnTo>
                  <a:lnTo>
                    <a:pt x="60" y="2017"/>
                  </a:lnTo>
                  <a:lnTo>
                    <a:pt x="60" y="2031"/>
                  </a:lnTo>
                  <a:lnTo>
                    <a:pt x="55" y="2046"/>
                  </a:lnTo>
                  <a:lnTo>
                    <a:pt x="55" y="2061"/>
                  </a:lnTo>
                  <a:lnTo>
                    <a:pt x="55" y="2081"/>
                  </a:lnTo>
                  <a:lnTo>
                    <a:pt x="50" y="2095"/>
                  </a:lnTo>
                  <a:lnTo>
                    <a:pt x="50" y="2110"/>
                  </a:lnTo>
                  <a:lnTo>
                    <a:pt x="45" y="2125"/>
                  </a:lnTo>
                  <a:lnTo>
                    <a:pt x="45" y="2140"/>
                  </a:lnTo>
                  <a:lnTo>
                    <a:pt x="40" y="2155"/>
                  </a:lnTo>
                  <a:lnTo>
                    <a:pt x="40" y="2169"/>
                  </a:lnTo>
                  <a:lnTo>
                    <a:pt x="40" y="2189"/>
                  </a:lnTo>
                  <a:lnTo>
                    <a:pt x="40" y="2204"/>
                  </a:lnTo>
                  <a:lnTo>
                    <a:pt x="35" y="2219"/>
                  </a:lnTo>
                  <a:lnTo>
                    <a:pt x="30" y="2234"/>
                  </a:lnTo>
                  <a:lnTo>
                    <a:pt x="30" y="2248"/>
                  </a:lnTo>
                  <a:lnTo>
                    <a:pt x="30" y="2268"/>
                  </a:lnTo>
                  <a:lnTo>
                    <a:pt x="25" y="2283"/>
                  </a:lnTo>
                  <a:lnTo>
                    <a:pt x="25" y="2298"/>
                  </a:lnTo>
                  <a:lnTo>
                    <a:pt x="20" y="2312"/>
                  </a:lnTo>
                  <a:lnTo>
                    <a:pt x="20" y="2332"/>
                  </a:lnTo>
                  <a:lnTo>
                    <a:pt x="15" y="2347"/>
                  </a:lnTo>
                  <a:lnTo>
                    <a:pt x="15" y="2362"/>
                  </a:lnTo>
                  <a:lnTo>
                    <a:pt x="10" y="2381"/>
                  </a:lnTo>
                  <a:lnTo>
                    <a:pt x="10" y="2401"/>
                  </a:lnTo>
                  <a:lnTo>
                    <a:pt x="5" y="2416"/>
                  </a:lnTo>
                  <a:lnTo>
                    <a:pt x="5" y="2436"/>
                  </a:lnTo>
                  <a:lnTo>
                    <a:pt x="0" y="2450"/>
                  </a:lnTo>
                  <a:lnTo>
                    <a:pt x="0" y="2470"/>
                  </a:lnTo>
                  <a:lnTo>
                    <a:pt x="0" y="2490"/>
                  </a:lnTo>
                  <a:lnTo>
                    <a:pt x="0" y="2505"/>
                  </a:lnTo>
                  <a:lnTo>
                    <a:pt x="0" y="2524"/>
                  </a:lnTo>
                  <a:lnTo>
                    <a:pt x="0" y="2539"/>
                  </a:lnTo>
                  <a:lnTo>
                    <a:pt x="0" y="2559"/>
                  </a:lnTo>
                  <a:lnTo>
                    <a:pt x="0" y="2574"/>
                  </a:lnTo>
                  <a:lnTo>
                    <a:pt x="0" y="2594"/>
                  </a:lnTo>
                  <a:lnTo>
                    <a:pt x="0" y="2613"/>
                  </a:lnTo>
                  <a:lnTo>
                    <a:pt x="0" y="2628"/>
                  </a:lnTo>
                  <a:lnTo>
                    <a:pt x="0" y="2643"/>
                  </a:lnTo>
                  <a:lnTo>
                    <a:pt x="5" y="2663"/>
                  </a:lnTo>
                  <a:lnTo>
                    <a:pt x="10" y="2677"/>
                  </a:lnTo>
                  <a:lnTo>
                    <a:pt x="10" y="2697"/>
                  </a:lnTo>
                  <a:lnTo>
                    <a:pt x="15" y="2717"/>
                  </a:lnTo>
                  <a:lnTo>
                    <a:pt x="20" y="2732"/>
                  </a:lnTo>
                  <a:lnTo>
                    <a:pt x="25" y="2751"/>
                  </a:lnTo>
                  <a:lnTo>
                    <a:pt x="30" y="2766"/>
                  </a:lnTo>
                  <a:lnTo>
                    <a:pt x="35" y="2781"/>
                  </a:lnTo>
                  <a:lnTo>
                    <a:pt x="40" y="2801"/>
                  </a:lnTo>
                  <a:lnTo>
                    <a:pt x="45" y="2815"/>
                  </a:lnTo>
                  <a:lnTo>
                    <a:pt x="50" y="2830"/>
                  </a:lnTo>
                  <a:lnTo>
                    <a:pt x="60" y="2850"/>
                  </a:lnTo>
                  <a:lnTo>
                    <a:pt x="70" y="2865"/>
                  </a:lnTo>
                  <a:lnTo>
                    <a:pt x="80" y="2880"/>
                  </a:lnTo>
                  <a:lnTo>
                    <a:pt x="85" y="2889"/>
                  </a:lnTo>
                  <a:lnTo>
                    <a:pt x="95" y="2899"/>
                  </a:lnTo>
                  <a:lnTo>
                    <a:pt x="105" y="2899"/>
                  </a:lnTo>
                  <a:lnTo>
                    <a:pt x="115" y="2904"/>
                  </a:lnTo>
                  <a:lnTo>
                    <a:pt x="125" y="2904"/>
                  </a:lnTo>
                  <a:lnTo>
                    <a:pt x="140" y="2904"/>
                  </a:lnTo>
                  <a:lnTo>
                    <a:pt x="150" y="2904"/>
                  </a:lnTo>
                  <a:lnTo>
                    <a:pt x="160" y="2904"/>
                  </a:lnTo>
                  <a:lnTo>
                    <a:pt x="180" y="2889"/>
                  </a:lnTo>
                  <a:lnTo>
                    <a:pt x="190" y="2875"/>
                  </a:lnTo>
                  <a:lnTo>
                    <a:pt x="195" y="2865"/>
                  </a:lnTo>
                  <a:lnTo>
                    <a:pt x="201" y="2855"/>
                  </a:lnTo>
                  <a:lnTo>
                    <a:pt x="195" y="2845"/>
                  </a:lnTo>
                  <a:lnTo>
                    <a:pt x="195" y="2835"/>
                  </a:lnTo>
                  <a:lnTo>
                    <a:pt x="190" y="2815"/>
                  </a:lnTo>
                  <a:lnTo>
                    <a:pt x="180" y="2796"/>
                  </a:lnTo>
                  <a:lnTo>
                    <a:pt x="175" y="2776"/>
                  </a:lnTo>
                  <a:lnTo>
                    <a:pt x="170" y="2761"/>
                  </a:lnTo>
                  <a:lnTo>
                    <a:pt x="165" y="2741"/>
                  </a:lnTo>
                  <a:lnTo>
                    <a:pt x="160" y="2727"/>
                  </a:lnTo>
                  <a:lnTo>
                    <a:pt x="155" y="2707"/>
                  </a:lnTo>
                  <a:lnTo>
                    <a:pt x="150" y="2687"/>
                  </a:lnTo>
                  <a:lnTo>
                    <a:pt x="145" y="2667"/>
                  </a:lnTo>
                  <a:lnTo>
                    <a:pt x="145" y="2653"/>
                  </a:lnTo>
                  <a:lnTo>
                    <a:pt x="140" y="2628"/>
                  </a:lnTo>
                  <a:lnTo>
                    <a:pt x="140" y="2613"/>
                  </a:lnTo>
                  <a:lnTo>
                    <a:pt x="140" y="2594"/>
                  </a:lnTo>
                  <a:lnTo>
                    <a:pt x="135" y="2574"/>
                  </a:lnTo>
                  <a:lnTo>
                    <a:pt x="135" y="2554"/>
                  </a:lnTo>
                  <a:lnTo>
                    <a:pt x="135" y="2539"/>
                  </a:lnTo>
                  <a:lnTo>
                    <a:pt x="135" y="2515"/>
                  </a:lnTo>
                  <a:lnTo>
                    <a:pt x="130" y="2495"/>
                  </a:lnTo>
                  <a:lnTo>
                    <a:pt x="130" y="2475"/>
                  </a:lnTo>
                  <a:lnTo>
                    <a:pt x="130" y="2455"/>
                  </a:lnTo>
                  <a:lnTo>
                    <a:pt x="130" y="2436"/>
                  </a:lnTo>
                  <a:lnTo>
                    <a:pt x="135" y="2416"/>
                  </a:lnTo>
                  <a:lnTo>
                    <a:pt x="135" y="2396"/>
                  </a:lnTo>
                  <a:lnTo>
                    <a:pt x="135" y="2377"/>
                  </a:lnTo>
                  <a:lnTo>
                    <a:pt x="135" y="2352"/>
                  </a:lnTo>
                  <a:lnTo>
                    <a:pt x="140" y="2332"/>
                  </a:lnTo>
                  <a:lnTo>
                    <a:pt x="140" y="2312"/>
                  </a:lnTo>
                  <a:lnTo>
                    <a:pt x="145" y="2293"/>
                  </a:lnTo>
                  <a:lnTo>
                    <a:pt x="145" y="2273"/>
                  </a:lnTo>
                  <a:lnTo>
                    <a:pt x="150" y="2253"/>
                  </a:lnTo>
                  <a:lnTo>
                    <a:pt x="150" y="2234"/>
                  </a:lnTo>
                  <a:lnTo>
                    <a:pt x="155" y="2214"/>
                  </a:lnTo>
                  <a:lnTo>
                    <a:pt x="155" y="2189"/>
                  </a:lnTo>
                  <a:lnTo>
                    <a:pt x="160" y="2169"/>
                  </a:lnTo>
                  <a:lnTo>
                    <a:pt x="160" y="2145"/>
                  </a:lnTo>
                  <a:lnTo>
                    <a:pt x="165" y="2125"/>
                  </a:lnTo>
                  <a:lnTo>
                    <a:pt x="165" y="2105"/>
                  </a:lnTo>
                  <a:lnTo>
                    <a:pt x="170" y="2086"/>
                  </a:lnTo>
                  <a:lnTo>
                    <a:pt x="170" y="2061"/>
                  </a:lnTo>
                  <a:lnTo>
                    <a:pt x="175" y="2041"/>
                  </a:lnTo>
                  <a:lnTo>
                    <a:pt x="180" y="2021"/>
                  </a:lnTo>
                  <a:lnTo>
                    <a:pt x="180" y="1997"/>
                  </a:lnTo>
                  <a:lnTo>
                    <a:pt x="185" y="1977"/>
                  </a:lnTo>
                  <a:lnTo>
                    <a:pt x="190" y="1957"/>
                  </a:lnTo>
                  <a:lnTo>
                    <a:pt x="190" y="1938"/>
                  </a:lnTo>
                  <a:lnTo>
                    <a:pt x="195" y="1918"/>
                  </a:lnTo>
                  <a:lnTo>
                    <a:pt x="195" y="1898"/>
                  </a:lnTo>
                  <a:lnTo>
                    <a:pt x="201" y="1878"/>
                  </a:lnTo>
                  <a:lnTo>
                    <a:pt x="201" y="1859"/>
                  </a:lnTo>
                  <a:lnTo>
                    <a:pt x="206" y="1834"/>
                  </a:lnTo>
                  <a:lnTo>
                    <a:pt x="206" y="1814"/>
                  </a:lnTo>
                  <a:lnTo>
                    <a:pt x="211" y="1795"/>
                  </a:lnTo>
                  <a:lnTo>
                    <a:pt x="211" y="1775"/>
                  </a:lnTo>
                  <a:lnTo>
                    <a:pt x="216" y="1760"/>
                  </a:lnTo>
                  <a:lnTo>
                    <a:pt x="216" y="1735"/>
                  </a:lnTo>
                  <a:lnTo>
                    <a:pt x="221" y="1721"/>
                  </a:lnTo>
                  <a:lnTo>
                    <a:pt x="221" y="1701"/>
                  </a:lnTo>
                  <a:lnTo>
                    <a:pt x="221" y="1681"/>
                  </a:lnTo>
                  <a:lnTo>
                    <a:pt x="221" y="1661"/>
                  </a:lnTo>
                  <a:lnTo>
                    <a:pt x="226" y="1642"/>
                  </a:lnTo>
                  <a:lnTo>
                    <a:pt x="226" y="1622"/>
                  </a:lnTo>
                  <a:lnTo>
                    <a:pt x="226" y="1602"/>
                  </a:lnTo>
                  <a:lnTo>
                    <a:pt x="226" y="1587"/>
                  </a:lnTo>
                  <a:lnTo>
                    <a:pt x="226" y="1568"/>
                  </a:lnTo>
                  <a:lnTo>
                    <a:pt x="226" y="1558"/>
                  </a:lnTo>
                  <a:lnTo>
                    <a:pt x="226" y="1543"/>
                  </a:lnTo>
                  <a:lnTo>
                    <a:pt x="226" y="1533"/>
                  </a:lnTo>
                  <a:lnTo>
                    <a:pt x="226" y="1523"/>
                  </a:lnTo>
                  <a:lnTo>
                    <a:pt x="226" y="1509"/>
                  </a:lnTo>
                  <a:lnTo>
                    <a:pt x="226" y="1499"/>
                  </a:lnTo>
                  <a:lnTo>
                    <a:pt x="226" y="1489"/>
                  </a:lnTo>
                  <a:lnTo>
                    <a:pt x="226" y="1479"/>
                  </a:lnTo>
                  <a:lnTo>
                    <a:pt x="221" y="1464"/>
                  </a:lnTo>
                  <a:lnTo>
                    <a:pt x="221" y="1454"/>
                  </a:lnTo>
                  <a:lnTo>
                    <a:pt x="221" y="1444"/>
                  </a:lnTo>
                  <a:lnTo>
                    <a:pt x="221" y="1430"/>
                  </a:lnTo>
                  <a:lnTo>
                    <a:pt x="221" y="1420"/>
                  </a:lnTo>
                  <a:lnTo>
                    <a:pt x="221" y="1410"/>
                  </a:lnTo>
                  <a:lnTo>
                    <a:pt x="221" y="1400"/>
                  </a:lnTo>
                  <a:lnTo>
                    <a:pt x="221" y="1390"/>
                  </a:lnTo>
                  <a:lnTo>
                    <a:pt x="216" y="1375"/>
                  </a:lnTo>
                  <a:lnTo>
                    <a:pt x="216" y="1366"/>
                  </a:lnTo>
                  <a:lnTo>
                    <a:pt x="216" y="1356"/>
                  </a:lnTo>
                  <a:lnTo>
                    <a:pt x="216" y="1341"/>
                  </a:lnTo>
                  <a:lnTo>
                    <a:pt x="216" y="1331"/>
                  </a:lnTo>
                  <a:lnTo>
                    <a:pt x="216" y="1316"/>
                  </a:lnTo>
                  <a:lnTo>
                    <a:pt x="216" y="1306"/>
                  </a:lnTo>
                  <a:lnTo>
                    <a:pt x="216" y="1297"/>
                  </a:lnTo>
                  <a:lnTo>
                    <a:pt x="216" y="1282"/>
                  </a:lnTo>
                  <a:lnTo>
                    <a:pt x="216" y="1272"/>
                  </a:lnTo>
                  <a:lnTo>
                    <a:pt x="211" y="1262"/>
                  </a:lnTo>
                  <a:lnTo>
                    <a:pt x="211" y="1252"/>
                  </a:lnTo>
                  <a:lnTo>
                    <a:pt x="211" y="1242"/>
                  </a:lnTo>
                  <a:lnTo>
                    <a:pt x="211" y="1227"/>
                  </a:lnTo>
                  <a:lnTo>
                    <a:pt x="211" y="1218"/>
                  </a:lnTo>
                  <a:lnTo>
                    <a:pt x="211" y="1208"/>
                  </a:lnTo>
                  <a:lnTo>
                    <a:pt x="211" y="1193"/>
                  </a:lnTo>
                  <a:lnTo>
                    <a:pt x="211" y="1183"/>
                  </a:lnTo>
                  <a:lnTo>
                    <a:pt x="211" y="1173"/>
                  </a:lnTo>
                  <a:lnTo>
                    <a:pt x="211" y="1163"/>
                  </a:lnTo>
                  <a:lnTo>
                    <a:pt x="206" y="1149"/>
                  </a:lnTo>
                  <a:lnTo>
                    <a:pt x="206" y="1139"/>
                  </a:lnTo>
                  <a:lnTo>
                    <a:pt x="206" y="1129"/>
                  </a:lnTo>
                  <a:lnTo>
                    <a:pt x="206" y="1114"/>
                  </a:lnTo>
                  <a:lnTo>
                    <a:pt x="206" y="1104"/>
                  </a:lnTo>
                  <a:lnTo>
                    <a:pt x="206" y="1089"/>
                  </a:lnTo>
                  <a:lnTo>
                    <a:pt x="206" y="1080"/>
                  </a:lnTo>
                  <a:lnTo>
                    <a:pt x="206" y="1070"/>
                  </a:lnTo>
                  <a:lnTo>
                    <a:pt x="206" y="1060"/>
                  </a:lnTo>
                  <a:lnTo>
                    <a:pt x="206" y="1050"/>
                  </a:lnTo>
                  <a:lnTo>
                    <a:pt x="206" y="1035"/>
                  </a:lnTo>
                  <a:lnTo>
                    <a:pt x="206" y="1025"/>
                  </a:lnTo>
                  <a:lnTo>
                    <a:pt x="201" y="1015"/>
                  </a:lnTo>
                  <a:lnTo>
                    <a:pt x="201" y="1001"/>
                  </a:lnTo>
                  <a:lnTo>
                    <a:pt x="201" y="991"/>
                  </a:lnTo>
                  <a:lnTo>
                    <a:pt x="201" y="981"/>
                  </a:lnTo>
                  <a:lnTo>
                    <a:pt x="201" y="966"/>
                  </a:lnTo>
                  <a:lnTo>
                    <a:pt x="201" y="956"/>
                  </a:lnTo>
                  <a:lnTo>
                    <a:pt x="201" y="946"/>
                  </a:lnTo>
                  <a:lnTo>
                    <a:pt x="201" y="937"/>
                  </a:lnTo>
                  <a:lnTo>
                    <a:pt x="201" y="922"/>
                  </a:lnTo>
                  <a:lnTo>
                    <a:pt x="201" y="912"/>
                  </a:lnTo>
                  <a:lnTo>
                    <a:pt x="201" y="902"/>
                  </a:lnTo>
                  <a:lnTo>
                    <a:pt x="201" y="887"/>
                  </a:lnTo>
                  <a:lnTo>
                    <a:pt x="201" y="877"/>
                  </a:lnTo>
                  <a:lnTo>
                    <a:pt x="201" y="867"/>
                  </a:lnTo>
                  <a:lnTo>
                    <a:pt x="201" y="858"/>
                  </a:lnTo>
                  <a:lnTo>
                    <a:pt x="201" y="843"/>
                  </a:lnTo>
                  <a:lnTo>
                    <a:pt x="201" y="828"/>
                  </a:lnTo>
                  <a:lnTo>
                    <a:pt x="201" y="808"/>
                  </a:lnTo>
                  <a:lnTo>
                    <a:pt x="201" y="789"/>
                  </a:lnTo>
                  <a:lnTo>
                    <a:pt x="201" y="774"/>
                  </a:lnTo>
                  <a:lnTo>
                    <a:pt x="201" y="754"/>
                  </a:lnTo>
                  <a:lnTo>
                    <a:pt x="201" y="739"/>
                  </a:lnTo>
                  <a:lnTo>
                    <a:pt x="201" y="724"/>
                  </a:lnTo>
                  <a:lnTo>
                    <a:pt x="206" y="705"/>
                  </a:lnTo>
                  <a:lnTo>
                    <a:pt x="206" y="690"/>
                  </a:lnTo>
                  <a:lnTo>
                    <a:pt x="206" y="675"/>
                  </a:lnTo>
                  <a:lnTo>
                    <a:pt x="206" y="655"/>
                  </a:lnTo>
                  <a:lnTo>
                    <a:pt x="211" y="641"/>
                  </a:lnTo>
                  <a:lnTo>
                    <a:pt x="211" y="626"/>
                  </a:lnTo>
                  <a:lnTo>
                    <a:pt x="211" y="606"/>
                  </a:lnTo>
                  <a:lnTo>
                    <a:pt x="211" y="591"/>
                  </a:lnTo>
                  <a:lnTo>
                    <a:pt x="216" y="577"/>
                  </a:lnTo>
                  <a:lnTo>
                    <a:pt x="216" y="562"/>
                  </a:lnTo>
                  <a:lnTo>
                    <a:pt x="221" y="542"/>
                  </a:lnTo>
                  <a:lnTo>
                    <a:pt x="221" y="527"/>
                  </a:lnTo>
                  <a:lnTo>
                    <a:pt x="226" y="512"/>
                  </a:lnTo>
                  <a:lnTo>
                    <a:pt x="226" y="498"/>
                  </a:lnTo>
                  <a:lnTo>
                    <a:pt x="231" y="483"/>
                  </a:lnTo>
                  <a:lnTo>
                    <a:pt x="231" y="468"/>
                  </a:lnTo>
                  <a:lnTo>
                    <a:pt x="241" y="458"/>
                  </a:lnTo>
                  <a:lnTo>
                    <a:pt x="241" y="443"/>
                  </a:lnTo>
                  <a:lnTo>
                    <a:pt x="246" y="429"/>
                  </a:lnTo>
                  <a:lnTo>
                    <a:pt x="251" y="414"/>
                  </a:lnTo>
                  <a:lnTo>
                    <a:pt x="256" y="404"/>
                  </a:lnTo>
                  <a:lnTo>
                    <a:pt x="261" y="389"/>
                  </a:lnTo>
                  <a:lnTo>
                    <a:pt x="266" y="374"/>
                  </a:lnTo>
                  <a:lnTo>
                    <a:pt x="276" y="364"/>
                  </a:lnTo>
                  <a:lnTo>
                    <a:pt x="281" y="355"/>
                  </a:lnTo>
                  <a:lnTo>
                    <a:pt x="286" y="340"/>
                  </a:lnTo>
                  <a:lnTo>
                    <a:pt x="291" y="330"/>
                  </a:lnTo>
                  <a:lnTo>
                    <a:pt x="301" y="320"/>
                  </a:lnTo>
                  <a:lnTo>
                    <a:pt x="311" y="305"/>
                  </a:lnTo>
                  <a:lnTo>
                    <a:pt x="316" y="295"/>
                  </a:lnTo>
                  <a:lnTo>
                    <a:pt x="326" y="286"/>
                  </a:lnTo>
                  <a:lnTo>
                    <a:pt x="331" y="276"/>
                  </a:lnTo>
                  <a:lnTo>
                    <a:pt x="341" y="271"/>
                  </a:lnTo>
                  <a:lnTo>
                    <a:pt x="351" y="256"/>
                  </a:lnTo>
                  <a:lnTo>
                    <a:pt x="361" y="246"/>
                  </a:lnTo>
                  <a:lnTo>
                    <a:pt x="371" y="241"/>
                  </a:lnTo>
                  <a:lnTo>
                    <a:pt x="381" y="231"/>
                  </a:lnTo>
                  <a:lnTo>
                    <a:pt x="391" y="221"/>
                  </a:lnTo>
                  <a:lnTo>
                    <a:pt x="407" y="217"/>
                  </a:lnTo>
                  <a:lnTo>
                    <a:pt x="417" y="212"/>
                  </a:lnTo>
                  <a:lnTo>
                    <a:pt x="432" y="207"/>
                  </a:lnTo>
                  <a:lnTo>
                    <a:pt x="442" y="197"/>
                  </a:lnTo>
                  <a:lnTo>
                    <a:pt x="457" y="192"/>
                  </a:lnTo>
                  <a:lnTo>
                    <a:pt x="467" y="187"/>
                  </a:lnTo>
                  <a:lnTo>
                    <a:pt x="482" y="182"/>
                  </a:lnTo>
                  <a:lnTo>
                    <a:pt x="497" y="177"/>
                  </a:lnTo>
                  <a:lnTo>
                    <a:pt x="512" y="172"/>
                  </a:lnTo>
                  <a:lnTo>
                    <a:pt x="532" y="172"/>
                  </a:lnTo>
                  <a:lnTo>
                    <a:pt x="547" y="167"/>
                  </a:lnTo>
                  <a:lnTo>
                    <a:pt x="567" y="162"/>
                  </a:lnTo>
                  <a:lnTo>
                    <a:pt x="582" y="162"/>
                  </a:lnTo>
                  <a:lnTo>
                    <a:pt x="603" y="162"/>
                  </a:lnTo>
                  <a:lnTo>
                    <a:pt x="618" y="162"/>
                  </a:lnTo>
                  <a:lnTo>
                    <a:pt x="638" y="162"/>
                  </a:lnTo>
                  <a:lnTo>
                    <a:pt x="658" y="162"/>
                  </a:lnTo>
                  <a:lnTo>
                    <a:pt x="683" y="162"/>
                  </a:lnTo>
                  <a:lnTo>
                    <a:pt x="703" y="162"/>
                  </a:lnTo>
                  <a:lnTo>
                    <a:pt x="728" y="162"/>
                  </a:lnTo>
                  <a:lnTo>
                    <a:pt x="753" y="167"/>
                  </a:lnTo>
                  <a:lnTo>
                    <a:pt x="778" y="167"/>
                  </a:lnTo>
                  <a:lnTo>
                    <a:pt x="804" y="172"/>
                  </a:lnTo>
                  <a:lnTo>
                    <a:pt x="824" y="172"/>
                  </a:lnTo>
                  <a:lnTo>
                    <a:pt x="849" y="177"/>
                  </a:lnTo>
                  <a:lnTo>
                    <a:pt x="874" y="182"/>
                  </a:lnTo>
                  <a:lnTo>
                    <a:pt x="899" y="187"/>
                  </a:lnTo>
                  <a:lnTo>
                    <a:pt x="924" y="187"/>
                  </a:lnTo>
                  <a:lnTo>
                    <a:pt x="949" y="192"/>
                  </a:lnTo>
                  <a:lnTo>
                    <a:pt x="974" y="197"/>
                  </a:lnTo>
                  <a:lnTo>
                    <a:pt x="1000" y="202"/>
                  </a:lnTo>
                  <a:lnTo>
                    <a:pt x="1025" y="207"/>
                  </a:lnTo>
                  <a:lnTo>
                    <a:pt x="1050" y="212"/>
                  </a:lnTo>
                  <a:lnTo>
                    <a:pt x="1075" y="217"/>
                  </a:lnTo>
                  <a:lnTo>
                    <a:pt x="1100" y="221"/>
                  </a:lnTo>
                  <a:lnTo>
                    <a:pt x="1125" y="226"/>
                  </a:lnTo>
                  <a:lnTo>
                    <a:pt x="1150" y="236"/>
                  </a:lnTo>
                  <a:lnTo>
                    <a:pt x="1170" y="241"/>
                  </a:lnTo>
                  <a:lnTo>
                    <a:pt x="1196" y="246"/>
                  </a:lnTo>
                  <a:lnTo>
                    <a:pt x="1221" y="251"/>
                  </a:lnTo>
                  <a:lnTo>
                    <a:pt x="1246" y="256"/>
                  </a:lnTo>
                  <a:lnTo>
                    <a:pt x="1271" y="261"/>
                  </a:lnTo>
                  <a:lnTo>
                    <a:pt x="1296" y="271"/>
                  </a:lnTo>
                  <a:lnTo>
                    <a:pt x="1316" y="276"/>
                  </a:lnTo>
                  <a:lnTo>
                    <a:pt x="1346" y="286"/>
                  </a:lnTo>
                  <a:lnTo>
                    <a:pt x="1366" y="290"/>
                  </a:lnTo>
                  <a:lnTo>
                    <a:pt x="1397" y="295"/>
                  </a:lnTo>
                  <a:lnTo>
                    <a:pt x="1417" y="305"/>
                  </a:lnTo>
                  <a:lnTo>
                    <a:pt x="1442" y="310"/>
                  </a:lnTo>
                  <a:lnTo>
                    <a:pt x="1467" y="320"/>
                  </a:lnTo>
                  <a:lnTo>
                    <a:pt x="1492" y="330"/>
                  </a:lnTo>
                  <a:lnTo>
                    <a:pt x="1517" y="335"/>
                  </a:lnTo>
                  <a:lnTo>
                    <a:pt x="1542" y="340"/>
                  </a:lnTo>
                  <a:lnTo>
                    <a:pt x="1562" y="350"/>
                  </a:lnTo>
                  <a:lnTo>
                    <a:pt x="1593" y="355"/>
                  </a:lnTo>
                  <a:lnTo>
                    <a:pt x="1613" y="364"/>
                  </a:lnTo>
                  <a:lnTo>
                    <a:pt x="1638" y="374"/>
                  </a:lnTo>
                  <a:lnTo>
                    <a:pt x="1663" y="379"/>
                  </a:lnTo>
                  <a:lnTo>
                    <a:pt x="1688" y="389"/>
                  </a:lnTo>
                  <a:lnTo>
                    <a:pt x="1708" y="394"/>
                  </a:lnTo>
                  <a:lnTo>
                    <a:pt x="1733" y="404"/>
                  </a:lnTo>
                  <a:lnTo>
                    <a:pt x="1758" y="409"/>
                  </a:lnTo>
                  <a:lnTo>
                    <a:pt x="1783" y="419"/>
                  </a:lnTo>
                  <a:lnTo>
                    <a:pt x="1804" y="429"/>
                  </a:lnTo>
                  <a:lnTo>
                    <a:pt x="1829" y="438"/>
                  </a:lnTo>
                  <a:lnTo>
                    <a:pt x="1854" y="443"/>
                  </a:lnTo>
                  <a:lnTo>
                    <a:pt x="1879" y="453"/>
                  </a:lnTo>
                  <a:lnTo>
                    <a:pt x="1904" y="458"/>
                  </a:lnTo>
                  <a:lnTo>
                    <a:pt x="1929" y="468"/>
                  </a:lnTo>
                  <a:lnTo>
                    <a:pt x="1949" y="473"/>
                  </a:lnTo>
                  <a:lnTo>
                    <a:pt x="1979" y="483"/>
                  </a:lnTo>
                  <a:lnTo>
                    <a:pt x="2000" y="488"/>
                  </a:lnTo>
                  <a:lnTo>
                    <a:pt x="2025" y="498"/>
                  </a:lnTo>
                  <a:lnTo>
                    <a:pt x="2050" y="507"/>
                  </a:lnTo>
                  <a:lnTo>
                    <a:pt x="2075" y="517"/>
                  </a:lnTo>
                  <a:lnTo>
                    <a:pt x="2095" y="522"/>
                  </a:lnTo>
                  <a:lnTo>
                    <a:pt x="2120" y="532"/>
                  </a:lnTo>
                  <a:lnTo>
                    <a:pt x="2145" y="537"/>
                  </a:lnTo>
                  <a:lnTo>
                    <a:pt x="2170" y="547"/>
                  </a:lnTo>
                  <a:lnTo>
                    <a:pt x="2196" y="552"/>
                  </a:lnTo>
                  <a:lnTo>
                    <a:pt x="2221" y="562"/>
                  </a:lnTo>
                  <a:lnTo>
                    <a:pt x="2246" y="567"/>
                  </a:lnTo>
                  <a:lnTo>
                    <a:pt x="2271" y="577"/>
                  </a:lnTo>
                  <a:lnTo>
                    <a:pt x="2296" y="581"/>
                  </a:lnTo>
                  <a:lnTo>
                    <a:pt x="2321" y="591"/>
                  </a:lnTo>
                  <a:lnTo>
                    <a:pt x="2346" y="596"/>
                  </a:lnTo>
                  <a:lnTo>
                    <a:pt x="2371" y="606"/>
                  </a:lnTo>
                  <a:lnTo>
                    <a:pt x="2402" y="611"/>
                  </a:lnTo>
                  <a:lnTo>
                    <a:pt x="2427" y="621"/>
                  </a:lnTo>
                  <a:lnTo>
                    <a:pt x="2452" y="626"/>
                  </a:lnTo>
                  <a:lnTo>
                    <a:pt x="2482" y="636"/>
                  </a:lnTo>
                  <a:lnTo>
                    <a:pt x="2507" y="646"/>
                  </a:lnTo>
                  <a:lnTo>
                    <a:pt x="2532" y="650"/>
                  </a:lnTo>
                  <a:lnTo>
                    <a:pt x="2562" y="660"/>
                  </a:lnTo>
                  <a:lnTo>
                    <a:pt x="2588" y="665"/>
                  </a:lnTo>
                  <a:lnTo>
                    <a:pt x="2613" y="675"/>
                  </a:lnTo>
                  <a:lnTo>
                    <a:pt x="2638" y="685"/>
                  </a:lnTo>
                  <a:lnTo>
                    <a:pt x="2668" y="690"/>
                  </a:lnTo>
                  <a:lnTo>
                    <a:pt x="2698" y="700"/>
                  </a:lnTo>
                  <a:lnTo>
                    <a:pt x="2723" y="705"/>
                  </a:lnTo>
                  <a:lnTo>
                    <a:pt x="2748" y="715"/>
                  </a:lnTo>
                  <a:lnTo>
                    <a:pt x="2773" y="724"/>
                  </a:lnTo>
                  <a:lnTo>
                    <a:pt x="2804" y="729"/>
                  </a:lnTo>
                  <a:lnTo>
                    <a:pt x="2829" y="739"/>
                  </a:lnTo>
                  <a:lnTo>
                    <a:pt x="2854" y="744"/>
                  </a:lnTo>
                  <a:lnTo>
                    <a:pt x="2884" y="754"/>
                  </a:lnTo>
                  <a:lnTo>
                    <a:pt x="2914" y="764"/>
                  </a:lnTo>
                  <a:lnTo>
                    <a:pt x="2939" y="769"/>
                  </a:lnTo>
                  <a:lnTo>
                    <a:pt x="2964" y="779"/>
                  </a:lnTo>
                  <a:lnTo>
                    <a:pt x="2990" y="784"/>
                  </a:lnTo>
                  <a:lnTo>
                    <a:pt x="3020" y="794"/>
                  </a:lnTo>
                  <a:lnTo>
                    <a:pt x="3045" y="798"/>
                  </a:lnTo>
                  <a:lnTo>
                    <a:pt x="3075" y="808"/>
                  </a:lnTo>
                  <a:lnTo>
                    <a:pt x="3100" y="813"/>
                  </a:lnTo>
                  <a:lnTo>
                    <a:pt x="3130" y="823"/>
                  </a:lnTo>
                  <a:lnTo>
                    <a:pt x="3155" y="828"/>
                  </a:lnTo>
                  <a:lnTo>
                    <a:pt x="3181" y="838"/>
                  </a:lnTo>
                  <a:lnTo>
                    <a:pt x="3206" y="843"/>
                  </a:lnTo>
                  <a:lnTo>
                    <a:pt x="3236" y="853"/>
                  </a:lnTo>
                  <a:lnTo>
                    <a:pt x="3261" y="858"/>
                  </a:lnTo>
                  <a:lnTo>
                    <a:pt x="3291" y="867"/>
                  </a:lnTo>
                  <a:lnTo>
                    <a:pt x="3316" y="872"/>
                  </a:lnTo>
                  <a:lnTo>
                    <a:pt x="3346" y="882"/>
                  </a:lnTo>
                  <a:lnTo>
                    <a:pt x="3371" y="887"/>
                  </a:lnTo>
                  <a:lnTo>
                    <a:pt x="3402" y="897"/>
                  </a:lnTo>
                  <a:lnTo>
                    <a:pt x="3427" y="902"/>
                  </a:lnTo>
                  <a:lnTo>
                    <a:pt x="3452" y="912"/>
                  </a:lnTo>
                  <a:lnTo>
                    <a:pt x="3482" y="917"/>
                  </a:lnTo>
                  <a:lnTo>
                    <a:pt x="3507" y="922"/>
                  </a:lnTo>
                  <a:lnTo>
                    <a:pt x="3537" y="932"/>
                  </a:lnTo>
                  <a:lnTo>
                    <a:pt x="3562" y="937"/>
                  </a:lnTo>
                  <a:lnTo>
                    <a:pt x="3588" y="941"/>
                  </a:lnTo>
                  <a:lnTo>
                    <a:pt x="3618" y="951"/>
                  </a:lnTo>
                  <a:lnTo>
                    <a:pt x="3643" y="956"/>
                  </a:lnTo>
                  <a:lnTo>
                    <a:pt x="3673" y="966"/>
                  </a:lnTo>
                  <a:lnTo>
                    <a:pt x="3698" y="971"/>
                  </a:lnTo>
                  <a:lnTo>
                    <a:pt x="3723" y="976"/>
                  </a:lnTo>
                  <a:lnTo>
                    <a:pt x="3753" y="981"/>
                  </a:lnTo>
                  <a:lnTo>
                    <a:pt x="3784" y="986"/>
                  </a:lnTo>
                  <a:lnTo>
                    <a:pt x="3809" y="991"/>
                  </a:lnTo>
                  <a:lnTo>
                    <a:pt x="3834" y="1001"/>
                  </a:lnTo>
                  <a:lnTo>
                    <a:pt x="3864" y="1006"/>
                  </a:lnTo>
                  <a:lnTo>
                    <a:pt x="3889" y="1010"/>
                  </a:lnTo>
                  <a:lnTo>
                    <a:pt x="3919" y="1015"/>
                  </a:lnTo>
                  <a:lnTo>
                    <a:pt x="3944" y="1020"/>
                  </a:lnTo>
                  <a:lnTo>
                    <a:pt x="3974" y="1025"/>
                  </a:lnTo>
                  <a:lnTo>
                    <a:pt x="4000" y="1035"/>
                  </a:lnTo>
                  <a:lnTo>
                    <a:pt x="4020" y="1030"/>
                  </a:lnTo>
                  <a:lnTo>
                    <a:pt x="4030" y="1020"/>
                  </a:lnTo>
                  <a:lnTo>
                    <a:pt x="4030" y="1001"/>
                  </a:lnTo>
                  <a:lnTo>
                    <a:pt x="4020" y="991"/>
                  </a:lnTo>
                  <a:lnTo>
                    <a:pt x="4020" y="9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 rot="9362400">
              <a:off x="1720440" y="4868640"/>
              <a:ext cx="6405480" cy="2026800"/>
            </a:xfrm>
            <a:custGeom>
              <a:avLst/>
              <a:gdLst/>
              <a:ahLst/>
              <a:rect l="l" t="t" r="r" b="b"/>
              <a:pathLst>
                <a:path w="4035" h="1277">
                  <a:moveTo>
                    <a:pt x="75" y="207"/>
                  </a:moveTo>
                  <a:lnTo>
                    <a:pt x="90" y="222"/>
                  </a:lnTo>
                  <a:lnTo>
                    <a:pt x="115" y="237"/>
                  </a:lnTo>
                  <a:lnTo>
                    <a:pt x="135" y="252"/>
                  </a:lnTo>
                  <a:lnTo>
                    <a:pt x="156" y="266"/>
                  </a:lnTo>
                  <a:lnTo>
                    <a:pt x="176" y="281"/>
                  </a:lnTo>
                  <a:lnTo>
                    <a:pt x="201" y="296"/>
                  </a:lnTo>
                  <a:lnTo>
                    <a:pt x="221" y="306"/>
                  </a:lnTo>
                  <a:lnTo>
                    <a:pt x="246" y="321"/>
                  </a:lnTo>
                  <a:lnTo>
                    <a:pt x="271" y="331"/>
                  </a:lnTo>
                  <a:lnTo>
                    <a:pt x="291" y="345"/>
                  </a:lnTo>
                  <a:lnTo>
                    <a:pt x="316" y="360"/>
                  </a:lnTo>
                  <a:lnTo>
                    <a:pt x="342" y="370"/>
                  </a:lnTo>
                  <a:lnTo>
                    <a:pt x="367" y="380"/>
                  </a:lnTo>
                  <a:lnTo>
                    <a:pt x="392" y="395"/>
                  </a:lnTo>
                  <a:lnTo>
                    <a:pt x="417" y="404"/>
                  </a:lnTo>
                  <a:lnTo>
                    <a:pt x="447" y="414"/>
                  </a:lnTo>
                  <a:lnTo>
                    <a:pt x="472" y="424"/>
                  </a:lnTo>
                  <a:lnTo>
                    <a:pt x="497" y="434"/>
                  </a:lnTo>
                  <a:lnTo>
                    <a:pt x="522" y="444"/>
                  </a:lnTo>
                  <a:lnTo>
                    <a:pt x="553" y="454"/>
                  </a:lnTo>
                  <a:lnTo>
                    <a:pt x="578" y="464"/>
                  </a:lnTo>
                  <a:lnTo>
                    <a:pt x="608" y="474"/>
                  </a:lnTo>
                  <a:lnTo>
                    <a:pt x="633" y="483"/>
                  </a:lnTo>
                  <a:lnTo>
                    <a:pt x="663" y="493"/>
                  </a:lnTo>
                  <a:lnTo>
                    <a:pt x="693" y="503"/>
                  </a:lnTo>
                  <a:lnTo>
                    <a:pt x="718" y="508"/>
                  </a:lnTo>
                  <a:lnTo>
                    <a:pt x="749" y="518"/>
                  </a:lnTo>
                  <a:lnTo>
                    <a:pt x="774" y="528"/>
                  </a:lnTo>
                  <a:lnTo>
                    <a:pt x="804" y="533"/>
                  </a:lnTo>
                  <a:lnTo>
                    <a:pt x="834" y="543"/>
                  </a:lnTo>
                  <a:lnTo>
                    <a:pt x="864" y="548"/>
                  </a:lnTo>
                  <a:lnTo>
                    <a:pt x="894" y="557"/>
                  </a:lnTo>
                  <a:lnTo>
                    <a:pt x="919" y="562"/>
                  </a:lnTo>
                  <a:lnTo>
                    <a:pt x="950" y="572"/>
                  </a:lnTo>
                  <a:lnTo>
                    <a:pt x="980" y="577"/>
                  </a:lnTo>
                  <a:lnTo>
                    <a:pt x="1010" y="582"/>
                  </a:lnTo>
                  <a:lnTo>
                    <a:pt x="1035" y="587"/>
                  </a:lnTo>
                  <a:lnTo>
                    <a:pt x="1065" y="597"/>
                  </a:lnTo>
                  <a:lnTo>
                    <a:pt x="1095" y="602"/>
                  </a:lnTo>
                  <a:lnTo>
                    <a:pt x="1125" y="607"/>
                  </a:lnTo>
                  <a:lnTo>
                    <a:pt x="1156" y="617"/>
                  </a:lnTo>
                  <a:lnTo>
                    <a:pt x="1186" y="621"/>
                  </a:lnTo>
                  <a:lnTo>
                    <a:pt x="1211" y="626"/>
                  </a:lnTo>
                  <a:lnTo>
                    <a:pt x="1241" y="631"/>
                  </a:lnTo>
                  <a:lnTo>
                    <a:pt x="1271" y="636"/>
                  </a:lnTo>
                  <a:lnTo>
                    <a:pt x="1301" y="641"/>
                  </a:lnTo>
                  <a:lnTo>
                    <a:pt x="1326" y="646"/>
                  </a:lnTo>
                  <a:lnTo>
                    <a:pt x="1357" y="651"/>
                  </a:lnTo>
                  <a:lnTo>
                    <a:pt x="1387" y="656"/>
                  </a:lnTo>
                  <a:lnTo>
                    <a:pt x="1417" y="661"/>
                  </a:lnTo>
                  <a:lnTo>
                    <a:pt x="1442" y="666"/>
                  </a:lnTo>
                  <a:lnTo>
                    <a:pt x="1472" y="671"/>
                  </a:lnTo>
                  <a:lnTo>
                    <a:pt x="1497" y="676"/>
                  </a:lnTo>
                  <a:lnTo>
                    <a:pt x="1527" y="681"/>
                  </a:lnTo>
                  <a:lnTo>
                    <a:pt x="1553" y="686"/>
                  </a:lnTo>
                  <a:lnTo>
                    <a:pt x="1583" y="691"/>
                  </a:lnTo>
                  <a:lnTo>
                    <a:pt x="1608" y="691"/>
                  </a:lnTo>
                  <a:lnTo>
                    <a:pt x="1633" y="700"/>
                  </a:lnTo>
                  <a:lnTo>
                    <a:pt x="1658" y="700"/>
                  </a:lnTo>
                  <a:lnTo>
                    <a:pt x="1688" y="705"/>
                  </a:lnTo>
                  <a:lnTo>
                    <a:pt x="1713" y="710"/>
                  </a:lnTo>
                  <a:lnTo>
                    <a:pt x="1739" y="715"/>
                  </a:lnTo>
                  <a:lnTo>
                    <a:pt x="1769" y="720"/>
                  </a:lnTo>
                  <a:lnTo>
                    <a:pt x="1794" y="730"/>
                  </a:lnTo>
                  <a:lnTo>
                    <a:pt x="1809" y="730"/>
                  </a:lnTo>
                  <a:lnTo>
                    <a:pt x="1824" y="735"/>
                  </a:lnTo>
                  <a:lnTo>
                    <a:pt x="1844" y="735"/>
                  </a:lnTo>
                  <a:lnTo>
                    <a:pt x="1859" y="740"/>
                  </a:lnTo>
                  <a:lnTo>
                    <a:pt x="1874" y="740"/>
                  </a:lnTo>
                  <a:lnTo>
                    <a:pt x="1894" y="745"/>
                  </a:lnTo>
                  <a:lnTo>
                    <a:pt x="1909" y="750"/>
                  </a:lnTo>
                  <a:lnTo>
                    <a:pt x="1924" y="755"/>
                  </a:lnTo>
                  <a:lnTo>
                    <a:pt x="1945" y="755"/>
                  </a:lnTo>
                  <a:lnTo>
                    <a:pt x="1960" y="760"/>
                  </a:lnTo>
                  <a:lnTo>
                    <a:pt x="1975" y="764"/>
                  </a:lnTo>
                  <a:lnTo>
                    <a:pt x="1995" y="764"/>
                  </a:lnTo>
                  <a:lnTo>
                    <a:pt x="2010" y="769"/>
                  </a:lnTo>
                  <a:lnTo>
                    <a:pt x="2025" y="774"/>
                  </a:lnTo>
                  <a:lnTo>
                    <a:pt x="2045" y="779"/>
                  </a:lnTo>
                  <a:lnTo>
                    <a:pt x="2060" y="784"/>
                  </a:lnTo>
                  <a:lnTo>
                    <a:pt x="2080" y="784"/>
                  </a:lnTo>
                  <a:lnTo>
                    <a:pt x="2095" y="789"/>
                  </a:lnTo>
                  <a:lnTo>
                    <a:pt x="2110" y="794"/>
                  </a:lnTo>
                  <a:lnTo>
                    <a:pt x="2131" y="799"/>
                  </a:lnTo>
                  <a:lnTo>
                    <a:pt x="2146" y="804"/>
                  </a:lnTo>
                  <a:lnTo>
                    <a:pt x="2161" y="804"/>
                  </a:lnTo>
                  <a:lnTo>
                    <a:pt x="2181" y="809"/>
                  </a:lnTo>
                  <a:lnTo>
                    <a:pt x="2196" y="814"/>
                  </a:lnTo>
                  <a:lnTo>
                    <a:pt x="2211" y="819"/>
                  </a:lnTo>
                  <a:lnTo>
                    <a:pt x="2231" y="824"/>
                  </a:lnTo>
                  <a:lnTo>
                    <a:pt x="2246" y="829"/>
                  </a:lnTo>
                  <a:lnTo>
                    <a:pt x="2261" y="834"/>
                  </a:lnTo>
                  <a:lnTo>
                    <a:pt x="2281" y="834"/>
                  </a:lnTo>
                  <a:lnTo>
                    <a:pt x="2296" y="843"/>
                  </a:lnTo>
                  <a:lnTo>
                    <a:pt x="2311" y="848"/>
                  </a:lnTo>
                  <a:lnTo>
                    <a:pt x="2332" y="853"/>
                  </a:lnTo>
                  <a:lnTo>
                    <a:pt x="2347" y="858"/>
                  </a:lnTo>
                  <a:lnTo>
                    <a:pt x="2362" y="858"/>
                  </a:lnTo>
                  <a:lnTo>
                    <a:pt x="2377" y="863"/>
                  </a:lnTo>
                  <a:lnTo>
                    <a:pt x="2397" y="868"/>
                  </a:lnTo>
                  <a:lnTo>
                    <a:pt x="2412" y="873"/>
                  </a:lnTo>
                  <a:lnTo>
                    <a:pt x="2427" y="878"/>
                  </a:lnTo>
                  <a:lnTo>
                    <a:pt x="2447" y="883"/>
                  </a:lnTo>
                  <a:lnTo>
                    <a:pt x="2462" y="888"/>
                  </a:lnTo>
                  <a:lnTo>
                    <a:pt x="2477" y="893"/>
                  </a:lnTo>
                  <a:lnTo>
                    <a:pt x="2492" y="898"/>
                  </a:lnTo>
                  <a:lnTo>
                    <a:pt x="2512" y="903"/>
                  </a:lnTo>
                  <a:lnTo>
                    <a:pt x="2528" y="908"/>
                  </a:lnTo>
                  <a:lnTo>
                    <a:pt x="2543" y="912"/>
                  </a:lnTo>
                  <a:lnTo>
                    <a:pt x="2563" y="917"/>
                  </a:lnTo>
                  <a:lnTo>
                    <a:pt x="2578" y="927"/>
                  </a:lnTo>
                  <a:lnTo>
                    <a:pt x="2593" y="932"/>
                  </a:lnTo>
                  <a:lnTo>
                    <a:pt x="2608" y="937"/>
                  </a:lnTo>
                  <a:lnTo>
                    <a:pt x="2628" y="942"/>
                  </a:lnTo>
                  <a:lnTo>
                    <a:pt x="2643" y="947"/>
                  </a:lnTo>
                  <a:lnTo>
                    <a:pt x="2658" y="952"/>
                  </a:lnTo>
                  <a:lnTo>
                    <a:pt x="2678" y="957"/>
                  </a:lnTo>
                  <a:lnTo>
                    <a:pt x="2693" y="962"/>
                  </a:lnTo>
                  <a:lnTo>
                    <a:pt x="2708" y="972"/>
                  </a:lnTo>
                  <a:lnTo>
                    <a:pt x="2729" y="977"/>
                  </a:lnTo>
                  <a:lnTo>
                    <a:pt x="2744" y="981"/>
                  </a:lnTo>
                  <a:lnTo>
                    <a:pt x="2759" y="986"/>
                  </a:lnTo>
                  <a:lnTo>
                    <a:pt x="2779" y="991"/>
                  </a:lnTo>
                  <a:lnTo>
                    <a:pt x="2794" y="996"/>
                  </a:lnTo>
                  <a:lnTo>
                    <a:pt x="2809" y="1001"/>
                  </a:lnTo>
                  <a:lnTo>
                    <a:pt x="2829" y="1011"/>
                  </a:lnTo>
                  <a:lnTo>
                    <a:pt x="2844" y="1016"/>
                  </a:lnTo>
                  <a:lnTo>
                    <a:pt x="2859" y="1021"/>
                  </a:lnTo>
                  <a:lnTo>
                    <a:pt x="2879" y="1026"/>
                  </a:lnTo>
                  <a:lnTo>
                    <a:pt x="2894" y="1031"/>
                  </a:lnTo>
                  <a:lnTo>
                    <a:pt x="2909" y="1041"/>
                  </a:lnTo>
                  <a:lnTo>
                    <a:pt x="2930" y="1046"/>
                  </a:lnTo>
                  <a:lnTo>
                    <a:pt x="2945" y="1051"/>
                  </a:lnTo>
                  <a:lnTo>
                    <a:pt x="2960" y="1055"/>
                  </a:lnTo>
                  <a:lnTo>
                    <a:pt x="2980" y="1060"/>
                  </a:lnTo>
                  <a:lnTo>
                    <a:pt x="2995" y="1065"/>
                  </a:lnTo>
                  <a:lnTo>
                    <a:pt x="3015" y="1070"/>
                  </a:lnTo>
                  <a:lnTo>
                    <a:pt x="3030" y="1075"/>
                  </a:lnTo>
                  <a:lnTo>
                    <a:pt x="3045" y="1080"/>
                  </a:lnTo>
                  <a:lnTo>
                    <a:pt x="3065" y="1085"/>
                  </a:lnTo>
                  <a:lnTo>
                    <a:pt x="3080" y="1090"/>
                  </a:lnTo>
                  <a:lnTo>
                    <a:pt x="3100" y="1095"/>
                  </a:lnTo>
                  <a:lnTo>
                    <a:pt x="3115" y="1100"/>
                  </a:lnTo>
                  <a:lnTo>
                    <a:pt x="3136" y="1105"/>
                  </a:lnTo>
                  <a:lnTo>
                    <a:pt x="3151" y="1110"/>
                  </a:lnTo>
                  <a:lnTo>
                    <a:pt x="3171" y="1110"/>
                  </a:lnTo>
                  <a:lnTo>
                    <a:pt x="3186" y="1115"/>
                  </a:lnTo>
                  <a:lnTo>
                    <a:pt x="3201" y="1120"/>
                  </a:lnTo>
                  <a:lnTo>
                    <a:pt x="3221" y="1124"/>
                  </a:lnTo>
                  <a:lnTo>
                    <a:pt x="3236" y="1129"/>
                  </a:lnTo>
                  <a:lnTo>
                    <a:pt x="3251" y="1134"/>
                  </a:lnTo>
                  <a:lnTo>
                    <a:pt x="3271" y="1139"/>
                  </a:lnTo>
                  <a:lnTo>
                    <a:pt x="3286" y="1139"/>
                  </a:lnTo>
                  <a:lnTo>
                    <a:pt x="3306" y="1144"/>
                  </a:lnTo>
                  <a:lnTo>
                    <a:pt x="3322" y="1144"/>
                  </a:lnTo>
                  <a:lnTo>
                    <a:pt x="3342" y="1154"/>
                  </a:lnTo>
                  <a:lnTo>
                    <a:pt x="3357" y="1154"/>
                  </a:lnTo>
                  <a:lnTo>
                    <a:pt x="3377" y="1159"/>
                  </a:lnTo>
                  <a:lnTo>
                    <a:pt x="3392" y="1159"/>
                  </a:lnTo>
                  <a:lnTo>
                    <a:pt x="3412" y="1169"/>
                  </a:lnTo>
                  <a:lnTo>
                    <a:pt x="3427" y="1169"/>
                  </a:lnTo>
                  <a:lnTo>
                    <a:pt x="3442" y="1174"/>
                  </a:lnTo>
                  <a:lnTo>
                    <a:pt x="3462" y="1174"/>
                  </a:lnTo>
                  <a:lnTo>
                    <a:pt x="3477" y="1179"/>
                  </a:lnTo>
                  <a:lnTo>
                    <a:pt x="3492" y="1184"/>
                  </a:lnTo>
                  <a:lnTo>
                    <a:pt x="3512" y="1184"/>
                  </a:lnTo>
                  <a:lnTo>
                    <a:pt x="3528" y="1189"/>
                  </a:lnTo>
                  <a:lnTo>
                    <a:pt x="3548" y="1194"/>
                  </a:lnTo>
                  <a:lnTo>
                    <a:pt x="3563" y="1194"/>
                  </a:lnTo>
                  <a:lnTo>
                    <a:pt x="3583" y="1198"/>
                  </a:lnTo>
                  <a:lnTo>
                    <a:pt x="3598" y="1203"/>
                  </a:lnTo>
                  <a:lnTo>
                    <a:pt x="3618" y="1203"/>
                  </a:lnTo>
                  <a:lnTo>
                    <a:pt x="3633" y="1208"/>
                  </a:lnTo>
                  <a:lnTo>
                    <a:pt x="3653" y="1213"/>
                  </a:lnTo>
                  <a:lnTo>
                    <a:pt x="3668" y="1213"/>
                  </a:lnTo>
                  <a:lnTo>
                    <a:pt x="3688" y="1218"/>
                  </a:lnTo>
                  <a:lnTo>
                    <a:pt x="3703" y="1223"/>
                  </a:lnTo>
                  <a:lnTo>
                    <a:pt x="3724" y="1223"/>
                  </a:lnTo>
                  <a:lnTo>
                    <a:pt x="3739" y="1228"/>
                  </a:lnTo>
                  <a:lnTo>
                    <a:pt x="3759" y="1233"/>
                  </a:lnTo>
                  <a:lnTo>
                    <a:pt x="3774" y="1233"/>
                  </a:lnTo>
                  <a:lnTo>
                    <a:pt x="3794" y="1238"/>
                  </a:lnTo>
                  <a:lnTo>
                    <a:pt x="3809" y="1243"/>
                  </a:lnTo>
                  <a:lnTo>
                    <a:pt x="3829" y="1248"/>
                  </a:lnTo>
                  <a:lnTo>
                    <a:pt x="3844" y="1248"/>
                  </a:lnTo>
                  <a:lnTo>
                    <a:pt x="3859" y="1253"/>
                  </a:lnTo>
                  <a:lnTo>
                    <a:pt x="3879" y="1258"/>
                  </a:lnTo>
                  <a:lnTo>
                    <a:pt x="3899" y="1258"/>
                  </a:lnTo>
                  <a:lnTo>
                    <a:pt x="3914" y="1263"/>
                  </a:lnTo>
                  <a:lnTo>
                    <a:pt x="3935" y="1268"/>
                  </a:lnTo>
                  <a:lnTo>
                    <a:pt x="3955" y="1272"/>
                  </a:lnTo>
                  <a:lnTo>
                    <a:pt x="3970" y="1277"/>
                  </a:lnTo>
                  <a:lnTo>
                    <a:pt x="3980" y="1272"/>
                  </a:lnTo>
                  <a:lnTo>
                    <a:pt x="3995" y="1272"/>
                  </a:lnTo>
                  <a:lnTo>
                    <a:pt x="4005" y="1268"/>
                  </a:lnTo>
                  <a:lnTo>
                    <a:pt x="4010" y="1268"/>
                  </a:lnTo>
                  <a:lnTo>
                    <a:pt x="4025" y="1248"/>
                  </a:lnTo>
                  <a:lnTo>
                    <a:pt x="4035" y="1233"/>
                  </a:lnTo>
                  <a:lnTo>
                    <a:pt x="4035" y="1223"/>
                  </a:lnTo>
                  <a:lnTo>
                    <a:pt x="4035" y="1213"/>
                  </a:lnTo>
                  <a:lnTo>
                    <a:pt x="4035" y="1203"/>
                  </a:lnTo>
                  <a:lnTo>
                    <a:pt x="4030" y="1194"/>
                  </a:lnTo>
                  <a:lnTo>
                    <a:pt x="4025" y="1184"/>
                  </a:lnTo>
                  <a:lnTo>
                    <a:pt x="4020" y="1179"/>
                  </a:lnTo>
                  <a:lnTo>
                    <a:pt x="4010" y="1174"/>
                  </a:lnTo>
                  <a:lnTo>
                    <a:pt x="4000" y="1169"/>
                  </a:lnTo>
                  <a:lnTo>
                    <a:pt x="3985" y="1164"/>
                  </a:lnTo>
                  <a:lnTo>
                    <a:pt x="3970" y="1164"/>
                  </a:lnTo>
                  <a:lnTo>
                    <a:pt x="3955" y="1159"/>
                  </a:lnTo>
                  <a:lnTo>
                    <a:pt x="3945" y="1159"/>
                  </a:lnTo>
                  <a:lnTo>
                    <a:pt x="3930" y="1154"/>
                  </a:lnTo>
                  <a:lnTo>
                    <a:pt x="3914" y="1154"/>
                  </a:lnTo>
                  <a:lnTo>
                    <a:pt x="3899" y="1149"/>
                  </a:lnTo>
                  <a:lnTo>
                    <a:pt x="3889" y="1144"/>
                  </a:lnTo>
                  <a:lnTo>
                    <a:pt x="3874" y="1144"/>
                  </a:lnTo>
                  <a:lnTo>
                    <a:pt x="3859" y="1139"/>
                  </a:lnTo>
                  <a:lnTo>
                    <a:pt x="3844" y="1139"/>
                  </a:lnTo>
                  <a:lnTo>
                    <a:pt x="3829" y="1134"/>
                  </a:lnTo>
                  <a:lnTo>
                    <a:pt x="3814" y="1134"/>
                  </a:lnTo>
                  <a:lnTo>
                    <a:pt x="3804" y="1129"/>
                  </a:lnTo>
                  <a:lnTo>
                    <a:pt x="3789" y="1129"/>
                  </a:lnTo>
                  <a:lnTo>
                    <a:pt x="3774" y="1124"/>
                  </a:lnTo>
                  <a:lnTo>
                    <a:pt x="3759" y="1124"/>
                  </a:lnTo>
                  <a:lnTo>
                    <a:pt x="3749" y="1120"/>
                  </a:lnTo>
                  <a:lnTo>
                    <a:pt x="3734" y="1120"/>
                  </a:lnTo>
                  <a:lnTo>
                    <a:pt x="3719" y="1115"/>
                  </a:lnTo>
                  <a:lnTo>
                    <a:pt x="3703" y="1110"/>
                  </a:lnTo>
                  <a:lnTo>
                    <a:pt x="3693" y="1110"/>
                  </a:lnTo>
                  <a:lnTo>
                    <a:pt x="3678" y="1110"/>
                  </a:lnTo>
                  <a:lnTo>
                    <a:pt x="3663" y="1110"/>
                  </a:lnTo>
                  <a:lnTo>
                    <a:pt x="3648" y="1105"/>
                  </a:lnTo>
                  <a:lnTo>
                    <a:pt x="3638" y="1105"/>
                  </a:lnTo>
                  <a:lnTo>
                    <a:pt x="3623" y="1100"/>
                  </a:lnTo>
                  <a:lnTo>
                    <a:pt x="3608" y="1095"/>
                  </a:lnTo>
                  <a:lnTo>
                    <a:pt x="3593" y="1095"/>
                  </a:lnTo>
                  <a:lnTo>
                    <a:pt x="3578" y="1095"/>
                  </a:lnTo>
                  <a:lnTo>
                    <a:pt x="3563" y="1090"/>
                  </a:lnTo>
                  <a:lnTo>
                    <a:pt x="3553" y="1090"/>
                  </a:lnTo>
                  <a:lnTo>
                    <a:pt x="3538" y="1085"/>
                  </a:lnTo>
                  <a:lnTo>
                    <a:pt x="3528" y="1080"/>
                  </a:lnTo>
                  <a:lnTo>
                    <a:pt x="3512" y="1080"/>
                  </a:lnTo>
                  <a:lnTo>
                    <a:pt x="3497" y="1075"/>
                  </a:lnTo>
                  <a:lnTo>
                    <a:pt x="3482" y="1075"/>
                  </a:lnTo>
                  <a:lnTo>
                    <a:pt x="3472" y="1070"/>
                  </a:lnTo>
                  <a:lnTo>
                    <a:pt x="3457" y="1070"/>
                  </a:lnTo>
                  <a:lnTo>
                    <a:pt x="3442" y="1065"/>
                  </a:lnTo>
                  <a:lnTo>
                    <a:pt x="3427" y="1060"/>
                  </a:lnTo>
                  <a:lnTo>
                    <a:pt x="3412" y="1060"/>
                  </a:lnTo>
                  <a:lnTo>
                    <a:pt x="3397" y="1055"/>
                  </a:lnTo>
                  <a:lnTo>
                    <a:pt x="3387" y="1055"/>
                  </a:lnTo>
                  <a:lnTo>
                    <a:pt x="3372" y="1051"/>
                  </a:lnTo>
                  <a:lnTo>
                    <a:pt x="3357" y="1051"/>
                  </a:lnTo>
                  <a:lnTo>
                    <a:pt x="3347" y="1046"/>
                  </a:lnTo>
                  <a:lnTo>
                    <a:pt x="3332" y="1046"/>
                  </a:lnTo>
                  <a:lnTo>
                    <a:pt x="3316" y="1041"/>
                  </a:lnTo>
                  <a:lnTo>
                    <a:pt x="3306" y="1036"/>
                  </a:lnTo>
                  <a:lnTo>
                    <a:pt x="3291" y="1031"/>
                  </a:lnTo>
                  <a:lnTo>
                    <a:pt x="3276" y="1031"/>
                  </a:lnTo>
                  <a:lnTo>
                    <a:pt x="3261" y="1026"/>
                  </a:lnTo>
                  <a:lnTo>
                    <a:pt x="3246" y="1021"/>
                  </a:lnTo>
                  <a:lnTo>
                    <a:pt x="3236" y="1021"/>
                  </a:lnTo>
                  <a:lnTo>
                    <a:pt x="3221" y="1016"/>
                  </a:lnTo>
                  <a:lnTo>
                    <a:pt x="3206" y="1011"/>
                  </a:lnTo>
                  <a:lnTo>
                    <a:pt x="3196" y="1011"/>
                  </a:lnTo>
                  <a:lnTo>
                    <a:pt x="3181" y="1006"/>
                  </a:lnTo>
                  <a:lnTo>
                    <a:pt x="3166" y="1001"/>
                  </a:lnTo>
                  <a:lnTo>
                    <a:pt x="3151" y="996"/>
                  </a:lnTo>
                  <a:lnTo>
                    <a:pt x="3141" y="996"/>
                  </a:lnTo>
                  <a:lnTo>
                    <a:pt x="3126" y="991"/>
                  </a:lnTo>
                  <a:lnTo>
                    <a:pt x="3110" y="986"/>
                  </a:lnTo>
                  <a:lnTo>
                    <a:pt x="3095" y="981"/>
                  </a:lnTo>
                  <a:lnTo>
                    <a:pt x="3080" y="977"/>
                  </a:lnTo>
                  <a:lnTo>
                    <a:pt x="3060" y="972"/>
                  </a:lnTo>
                  <a:lnTo>
                    <a:pt x="3045" y="967"/>
                  </a:lnTo>
                  <a:lnTo>
                    <a:pt x="3030" y="962"/>
                  </a:lnTo>
                  <a:lnTo>
                    <a:pt x="3015" y="957"/>
                  </a:lnTo>
                  <a:lnTo>
                    <a:pt x="2995" y="947"/>
                  </a:lnTo>
                  <a:lnTo>
                    <a:pt x="2980" y="942"/>
                  </a:lnTo>
                  <a:lnTo>
                    <a:pt x="2965" y="937"/>
                  </a:lnTo>
                  <a:lnTo>
                    <a:pt x="2950" y="932"/>
                  </a:lnTo>
                  <a:lnTo>
                    <a:pt x="2930" y="927"/>
                  </a:lnTo>
                  <a:lnTo>
                    <a:pt x="2919" y="922"/>
                  </a:lnTo>
                  <a:lnTo>
                    <a:pt x="2899" y="917"/>
                  </a:lnTo>
                  <a:lnTo>
                    <a:pt x="2884" y="912"/>
                  </a:lnTo>
                  <a:lnTo>
                    <a:pt x="2869" y="908"/>
                  </a:lnTo>
                  <a:lnTo>
                    <a:pt x="2854" y="898"/>
                  </a:lnTo>
                  <a:lnTo>
                    <a:pt x="2839" y="893"/>
                  </a:lnTo>
                  <a:lnTo>
                    <a:pt x="2819" y="888"/>
                  </a:lnTo>
                  <a:lnTo>
                    <a:pt x="2804" y="883"/>
                  </a:lnTo>
                  <a:lnTo>
                    <a:pt x="2789" y="878"/>
                  </a:lnTo>
                  <a:lnTo>
                    <a:pt x="2774" y="868"/>
                  </a:lnTo>
                  <a:lnTo>
                    <a:pt x="2759" y="863"/>
                  </a:lnTo>
                  <a:lnTo>
                    <a:pt x="2739" y="858"/>
                  </a:lnTo>
                  <a:lnTo>
                    <a:pt x="2724" y="853"/>
                  </a:lnTo>
                  <a:lnTo>
                    <a:pt x="2708" y="848"/>
                  </a:lnTo>
                  <a:lnTo>
                    <a:pt x="2693" y="843"/>
                  </a:lnTo>
                  <a:lnTo>
                    <a:pt x="2678" y="834"/>
                  </a:lnTo>
                  <a:lnTo>
                    <a:pt x="2663" y="829"/>
                  </a:lnTo>
                  <a:lnTo>
                    <a:pt x="2643" y="824"/>
                  </a:lnTo>
                  <a:lnTo>
                    <a:pt x="2628" y="819"/>
                  </a:lnTo>
                  <a:lnTo>
                    <a:pt x="2618" y="814"/>
                  </a:lnTo>
                  <a:lnTo>
                    <a:pt x="2603" y="809"/>
                  </a:lnTo>
                  <a:lnTo>
                    <a:pt x="2583" y="799"/>
                  </a:lnTo>
                  <a:lnTo>
                    <a:pt x="2568" y="794"/>
                  </a:lnTo>
                  <a:lnTo>
                    <a:pt x="2553" y="789"/>
                  </a:lnTo>
                  <a:lnTo>
                    <a:pt x="2538" y="784"/>
                  </a:lnTo>
                  <a:lnTo>
                    <a:pt x="2517" y="779"/>
                  </a:lnTo>
                  <a:lnTo>
                    <a:pt x="2502" y="774"/>
                  </a:lnTo>
                  <a:lnTo>
                    <a:pt x="2487" y="769"/>
                  </a:lnTo>
                  <a:lnTo>
                    <a:pt x="2472" y="764"/>
                  </a:lnTo>
                  <a:lnTo>
                    <a:pt x="2457" y="755"/>
                  </a:lnTo>
                  <a:lnTo>
                    <a:pt x="2437" y="750"/>
                  </a:lnTo>
                  <a:lnTo>
                    <a:pt x="2422" y="745"/>
                  </a:lnTo>
                  <a:lnTo>
                    <a:pt x="2407" y="740"/>
                  </a:lnTo>
                  <a:lnTo>
                    <a:pt x="2392" y="735"/>
                  </a:lnTo>
                  <a:lnTo>
                    <a:pt x="2377" y="730"/>
                  </a:lnTo>
                  <a:lnTo>
                    <a:pt x="2357" y="725"/>
                  </a:lnTo>
                  <a:lnTo>
                    <a:pt x="2342" y="720"/>
                  </a:lnTo>
                  <a:lnTo>
                    <a:pt x="2327" y="715"/>
                  </a:lnTo>
                  <a:lnTo>
                    <a:pt x="2311" y="710"/>
                  </a:lnTo>
                  <a:lnTo>
                    <a:pt x="2291" y="705"/>
                  </a:lnTo>
                  <a:lnTo>
                    <a:pt x="2276" y="700"/>
                  </a:lnTo>
                  <a:lnTo>
                    <a:pt x="2261" y="695"/>
                  </a:lnTo>
                  <a:lnTo>
                    <a:pt x="2246" y="691"/>
                  </a:lnTo>
                  <a:lnTo>
                    <a:pt x="2226" y="686"/>
                  </a:lnTo>
                  <a:lnTo>
                    <a:pt x="2211" y="681"/>
                  </a:lnTo>
                  <a:lnTo>
                    <a:pt x="2196" y="676"/>
                  </a:lnTo>
                  <a:lnTo>
                    <a:pt x="2181" y="671"/>
                  </a:lnTo>
                  <a:lnTo>
                    <a:pt x="2161" y="671"/>
                  </a:lnTo>
                  <a:lnTo>
                    <a:pt x="2146" y="666"/>
                  </a:lnTo>
                  <a:lnTo>
                    <a:pt x="2131" y="661"/>
                  </a:lnTo>
                  <a:lnTo>
                    <a:pt x="2110" y="656"/>
                  </a:lnTo>
                  <a:lnTo>
                    <a:pt x="2095" y="651"/>
                  </a:lnTo>
                  <a:lnTo>
                    <a:pt x="2080" y="651"/>
                  </a:lnTo>
                  <a:lnTo>
                    <a:pt x="2050" y="641"/>
                  </a:lnTo>
                  <a:lnTo>
                    <a:pt x="2020" y="636"/>
                  </a:lnTo>
                  <a:lnTo>
                    <a:pt x="1990" y="631"/>
                  </a:lnTo>
                  <a:lnTo>
                    <a:pt x="1960" y="621"/>
                  </a:lnTo>
                  <a:lnTo>
                    <a:pt x="1930" y="617"/>
                  </a:lnTo>
                  <a:lnTo>
                    <a:pt x="1899" y="607"/>
                  </a:lnTo>
                  <a:lnTo>
                    <a:pt x="1869" y="602"/>
                  </a:lnTo>
                  <a:lnTo>
                    <a:pt x="1839" y="597"/>
                  </a:lnTo>
                  <a:lnTo>
                    <a:pt x="1809" y="592"/>
                  </a:lnTo>
                  <a:lnTo>
                    <a:pt x="1779" y="587"/>
                  </a:lnTo>
                  <a:lnTo>
                    <a:pt x="1749" y="577"/>
                  </a:lnTo>
                  <a:lnTo>
                    <a:pt x="1718" y="572"/>
                  </a:lnTo>
                  <a:lnTo>
                    <a:pt x="1688" y="567"/>
                  </a:lnTo>
                  <a:lnTo>
                    <a:pt x="1658" y="557"/>
                  </a:lnTo>
                  <a:lnTo>
                    <a:pt x="1628" y="552"/>
                  </a:lnTo>
                  <a:lnTo>
                    <a:pt x="1598" y="548"/>
                  </a:lnTo>
                  <a:lnTo>
                    <a:pt x="1568" y="543"/>
                  </a:lnTo>
                  <a:lnTo>
                    <a:pt x="1533" y="533"/>
                  </a:lnTo>
                  <a:lnTo>
                    <a:pt x="1502" y="528"/>
                  </a:lnTo>
                  <a:lnTo>
                    <a:pt x="1472" y="523"/>
                  </a:lnTo>
                  <a:lnTo>
                    <a:pt x="1442" y="513"/>
                  </a:lnTo>
                  <a:lnTo>
                    <a:pt x="1412" y="508"/>
                  </a:lnTo>
                  <a:lnTo>
                    <a:pt x="1377" y="503"/>
                  </a:lnTo>
                  <a:lnTo>
                    <a:pt x="1352" y="493"/>
                  </a:lnTo>
                  <a:lnTo>
                    <a:pt x="1316" y="488"/>
                  </a:lnTo>
                  <a:lnTo>
                    <a:pt x="1286" y="478"/>
                  </a:lnTo>
                  <a:lnTo>
                    <a:pt x="1256" y="474"/>
                  </a:lnTo>
                  <a:lnTo>
                    <a:pt x="1226" y="469"/>
                  </a:lnTo>
                  <a:lnTo>
                    <a:pt x="1196" y="459"/>
                  </a:lnTo>
                  <a:lnTo>
                    <a:pt x="1166" y="454"/>
                  </a:lnTo>
                  <a:lnTo>
                    <a:pt x="1136" y="444"/>
                  </a:lnTo>
                  <a:lnTo>
                    <a:pt x="1105" y="439"/>
                  </a:lnTo>
                  <a:lnTo>
                    <a:pt x="1070" y="429"/>
                  </a:lnTo>
                  <a:lnTo>
                    <a:pt x="1040" y="424"/>
                  </a:lnTo>
                  <a:lnTo>
                    <a:pt x="1010" y="414"/>
                  </a:lnTo>
                  <a:lnTo>
                    <a:pt x="980" y="409"/>
                  </a:lnTo>
                  <a:lnTo>
                    <a:pt x="950" y="400"/>
                  </a:lnTo>
                  <a:lnTo>
                    <a:pt x="919" y="390"/>
                  </a:lnTo>
                  <a:lnTo>
                    <a:pt x="889" y="385"/>
                  </a:lnTo>
                  <a:lnTo>
                    <a:pt x="859" y="375"/>
                  </a:lnTo>
                  <a:lnTo>
                    <a:pt x="824" y="365"/>
                  </a:lnTo>
                  <a:lnTo>
                    <a:pt x="799" y="360"/>
                  </a:lnTo>
                  <a:lnTo>
                    <a:pt x="764" y="350"/>
                  </a:lnTo>
                  <a:lnTo>
                    <a:pt x="733" y="340"/>
                  </a:lnTo>
                  <a:lnTo>
                    <a:pt x="703" y="331"/>
                  </a:lnTo>
                  <a:lnTo>
                    <a:pt x="673" y="326"/>
                  </a:lnTo>
                  <a:lnTo>
                    <a:pt x="648" y="311"/>
                  </a:lnTo>
                  <a:lnTo>
                    <a:pt x="618" y="306"/>
                  </a:lnTo>
                  <a:lnTo>
                    <a:pt x="588" y="296"/>
                  </a:lnTo>
                  <a:lnTo>
                    <a:pt x="558" y="286"/>
                  </a:lnTo>
                  <a:lnTo>
                    <a:pt x="527" y="276"/>
                  </a:lnTo>
                  <a:lnTo>
                    <a:pt x="502" y="266"/>
                  </a:lnTo>
                  <a:lnTo>
                    <a:pt x="472" y="252"/>
                  </a:lnTo>
                  <a:lnTo>
                    <a:pt x="442" y="242"/>
                  </a:lnTo>
                  <a:lnTo>
                    <a:pt x="412" y="232"/>
                  </a:lnTo>
                  <a:lnTo>
                    <a:pt x="387" y="222"/>
                  </a:lnTo>
                  <a:lnTo>
                    <a:pt x="357" y="207"/>
                  </a:lnTo>
                  <a:lnTo>
                    <a:pt x="326" y="197"/>
                  </a:lnTo>
                  <a:lnTo>
                    <a:pt x="301" y="183"/>
                  </a:lnTo>
                  <a:lnTo>
                    <a:pt x="271" y="173"/>
                  </a:lnTo>
                  <a:lnTo>
                    <a:pt x="241" y="163"/>
                  </a:lnTo>
                  <a:lnTo>
                    <a:pt x="216" y="148"/>
                  </a:lnTo>
                  <a:lnTo>
                    <a:pt x="186" y="133"/>
                  </a:lnTo>
                  <a:lnTo>
                    <a:pt x="161" y="123"/>
                  </a:lnTo>
                  <a:lnTo>
                    <a:pt x="156" y="118"/>
                  </a:lnTo>
                  <a:lnTo>
                    <a:pt x="156" y="114"/>
                  </a:lnTo>
                  <a:lnTo>
                    <a:pt x="151" y="104"/>
                  </a:lnTo>
                  <a:lnTo>
                    <a:pt x="146" y="89"/>
                  </a:lnTo>
                  <a:lnTo>
                    <a:pt x="135" y="84"/>
                  </a:lnTo>
                  <a:lnTo>
                    <a:pt x="130" y="74"/>
                  </a:lnTo>
                  <a:lnTo>
                    <a:pt x="120" y="64"/>
                  </a:lnTo>
                  <a:lnTo>
                    <a:pt x="110" y="54"/>
                  </a:lnTo>
                  <a:lnTo>
                    <a:pt x="95" y="40"/>
                  </a:lnTo>
                  <a:lnTo>
                    <a:pt x="80" y="30"/>
                  </a:lnTo>
                  <a:lnTo>
                    <a:pt x="65" y="20"/>
                  </a:lnTo>
                  <a:lnTo>
                    <a:pt x="45" y="1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5" y="15"/>
                  </a:lnTo>
                  <a:lnTo>
                    <a:pt x="0" y="25"/>
                  </a:lnTo>
                  <a:lnTo>
                    <a:pt x="5" y="44"/>
                  </a:lnTo>
                  <a:lnTo>
                    <a:pt x="5" y="54"/>
                  </a:lnTo>
                  <a:lnTo>
                    <a:pt x="10" y="64"/>
                  </a:lnTo>
                  <a:lnTo>
                    <a:pt x="15" y="74"/>
                  </a:lnTo>
                  <a:lnTo>
                    <a:pt x="20" y="84"/>
                  </a:lnTo>
                  <a:lnTo>
                    <a:pt x="20" y="94"/>
                  </a:lnTo>
                  <a:lnTo>
                    <a:pt x="25" y="104"/>
                  </a:lnTo>
                  <a:lnTo>
                    <a:pt x="30" y="118"/>
                  </a:lnTo>
                  <a:lnTo>
                    <a:pt x="35" y="128"/>
                  </a:lnTo>
                  <a:lnTo>
                    <a:pt x="40" y="138"/>
                  </a:lnTo>
                  <a:lnTo>
                    <a:pt x="45" y="148"/>
                  </a:lnTo>
                  <a:lnTo>
                    <a:pt x="50" y="153"/>
                  </a:lnTo>
                  <a:lnTo>
                    <a:pt x="55" y="168"/>
                  </a:lnTo>
                  <a:lnTo>
                    <a:pt x="60" y="183"/>
                  </a:lnTo>
                  <a:lnTo>
                    <a:pt x="65" y="192"/>
                  </a:lnTo>
                  <a:lnTo>
                    <a:pt x="70" y="202"/>
                  </a:lnTo>
                  <a:lnTo>
                    <a:pt x="75" y="207"/>
                  </a:lnTo>
                  <a:lnTo>
                    <a:pt x="75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 rot="21032400">
            <a:off x="4871880" y="5140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3-45-67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19810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979"/>
                </a:solidFill>
                <a:latin typeface="Times New Roman"/>
              </a:rPr>
              <a:t>Scenario 1: FAA’s review of student’s file shows an overpaym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86080" y="2971800"/>
          <a:ext cx="4038480" cy="2924280"/>
        </p:xfrm>
        <a:graphic>
          <a:graphicData uri="http://schemas.openxmlformats.org/drawingml/2006/table">
            <a:tbl>
              <a:tblPr/>
              <a:tblGrid>
                <a:gridCol w="1337040"/>
                <a:gridCol w="621720"/>
                <a:gridCol w="216000"/>
                <a:gridCol w="608040"/>
                <a:gridCol w="1255680"/>
              </a:tblGrid>
              <a:tr h="428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Ollie's Aid Package/Workshe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(Award Year 2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C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$5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$4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N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-  EF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$1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$3,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PE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= N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$4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$   4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SEO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$   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Merit Scholarshi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$400 Outside Scholarship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6979"/>
                          </a:solidFill>
                          <a:latin typeface="Arial"/>
                          <a:ea typeface="Times New Roman"/>
                        </a:rPr>
                        <a:t>(received Aug. 3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5562720" y="3962520"/>
            <a:ext cx="282600" cy="1447560"/>
          </a:xfrm>
          <a:custGeom>
            <a:avLst/>
            <a:gdLst>
              <a:gd name="textAreaLeft" fmla="*/ 0 w 282600"/>
              <a:gd name="textAreaRight" fmla="*/ 101880 w 282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54680" y="4470480"/>
            <a:ext cx="83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isbur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ept.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97200" y="556272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OVERPAY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D1B5-36DC-4F78-81CA-1EC65047F7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4725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104760" y="1219320"/>
          <a:ext cx="2666520" cy="4647600"/>
        </p:xfrm>
        <a:graphic>
          <a:graphicData uri="http://schemas.openxmlformats.org/drawingml/2006/table">
            <a:tbl>
              <a:tblPr/>
              <a:tblGrid>
                <a:gridCol w="2666520"/>
              </a:tblGrid>
              <a:tr h="26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</a:rPr>
                        <a:t>Loan Types / Bucket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6979"/>
                          </a:solidFill>
                          <a:latin typeface="Times New Roman"/>
                        </a:rPr>
                        <a:t>Consolidation- FF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</a:rPr>
                        <a:t>(from Loan Summar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9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6979"/>
                          </a:solidFill>
                          <a:latin typeface="Times New Roman"/>
                        </a:rPr>
                        <a:t>CL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</a:rPr>
                        <a:t> – FFEL Consolidation Lo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6979"/>
                        </a:buClr>
                        <a:buFont typeface="Symbol" charset="2"/>
                        <a:buChar char="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</a:rPr>
                        <a:t>60 day rule (if no underlying loans then $ 0 Aggr. OPB calculate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6979"/>
                        </a:buClr>
                        <a:buFont typeface="Symbol" charset="2"/>
                        <a:buChar char="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</a:rPr>
                        <a:t>If over 60 days old, and no identified underlying loans, then all is treated/Calc’d as Subsidiz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6979"/>
                        </a:buClr>
                        <a:buFont typeface="Symbol" charset="2"/>
                        <a:buChar char="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</a:rPr>
                        <a:t>Loan Category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</a:rPr>
                        <a:t>Other lo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6979"/>
                        </a:buClr>
                        <a:buFont typeface="Symbol" charset="2"/>
                        <a:buChar char="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NSLDS Methodology / Algorith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Calc’d Subsidiz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Calc’d Unsubsidiz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Calc’d Unalloca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2" marL="914400">
                        <a:buClr>
                          <a:srgbClr val="000000"/>
                        </a:buClr>
                        <a:buFont typeface="Times"/>
                        <a:buChar char="•"/>
                        <a:tabLst>
                          <a:tab algn="l" pos="160200"/>
                          <a:tab algn="l" pos="228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Perkins Share factored 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2" marL="914400">
                        <a:buClr>
                          <a:srgbClr val="000000"/>
                        </a:buClr>
                        <a:buFont typeface="Times"/>
                        <a:buChar char="•"/>
                        <a:tabLst>
                          <a:tab algn="l" pos="160200"/>
                          <a:tab algn="l" pos="228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PLUS Share factored out (for the PLUS Borrowe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Calc’d Combin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6979"/>
                        </a:buClr>
                        <a:buFont typeface="Symbol" charset="2"/>
                        <a:buChar char="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Underlying Lo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Loan Status date 210 days +/- of CL’s  Loan 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Loan Status Codes: PN, PC, DN, PF, D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6979"/>
                        </a:buClr>
                        <a:buFont typeface="Symbol" charset="2"/>
                        <a:buChar char="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‘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Adjusted Agg OPB’ displayed wh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Underlying Perkins loans factored out of Unallocated Amou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Underling PLUS loans factored out of Unallocated Amou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6979"/>
                        </a:buClr>
                        <a:buFont typeface="Symbol" charset="2"/>
                        <a:buChar char=""/>
                        <a:tabLst>
                          <a:tab algn="l" pos="16020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6979"/>
                          </a:solidFill>
                          <a:latin typeface="Times New Roman"/>
                          <a:ea typeface="Times New Roman"/>
                        </a:rPr>
                        <a:t>Inherits underlying CL loan’s underlying lo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2784600" y="2057400"/>
            <a:ext cx="282600" cy="3276720"/>
          </a:xfrm>
          <a:custGeom>
            <a:avLst/>
            <a:gdLst>
              <a:gd name="textAreaLeft" fmla="*/ 0 w 282600"/>
              <a:gd name="textAreaRight" fmla="*/ 101880 w 282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76560" y="3730680"/>
            <a:ext cx="142920" cy="16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 flipV="1">
            <a:off x="3219480" y="3505320"/>
            <a:ext cx="76320" cy="838080"/>
          </a:xfrm>
          <a:custGeom>
            <a:avLst/>
            <a:gdLst>
              <a:gd name="textAreaLeft" fmla="*/ 0 w 76320"/>
              <a:gd name="textAreaRight" fmla="*/ 2736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306600" y="2259000"/>
            <a:ext cx="5811840" cy="28670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04920" y="609480"/>
            <a:ext cx="883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Times New Roman"/>
              </a:rPr>
              <a:t>FFEL Consolidation (CL) Loan type make-up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8E7F-553C-4F2B-AD5F-202ED92F463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FFEL Consolidation Loans (CL)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mpacting the Agg OPB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dentification of underlying loan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How many FFEL CL loan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atio of underlying loan’s disbursement amounts to CL’s Disbursement Amount(s)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atio is applied to the current CL OPB amount(s)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2DEE-ACFF-45FB-82D3-08D8296E244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efinit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Underlying Loan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Loan Status Code = PN, DN, PC, DP or PF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Loan Status Date within 210 days (before or after) of the Consolidation Loan Dat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1FE5-0A95-4B5F-B0E4-7299215E271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4343400" cy="5256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52280" y="3429000"/>
            <a:ext cx="4343400" cy="5335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52280" y="3971880"/>
            <a:ext cx="4343400" cy="5349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152280" y="4505400"/>
            <a:ext cx="4343400" cy="5331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5"/>
          <a:stretch/>
        </p:blipFill>
        <p:spPr>
          <a:xfrm>
            <a:off x="173160" y="5040360"/>
            <a:ext cx="4322520" cy="5173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6"/>
          <a:stretch/>
        </p:blipFill>
        <p:spPr>
          <a:xfrm>
            <a:off x="4572000" y="2971800"/>
            <a:ext cx="4322880" cy="5144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7"/>
          <a:stretch/>
        </p:blipFill>
        <p:spPr>
          <a:xfrm>
            <a:off x="4572000" y="3494160"/>
            <a:ext cx="4343400" cy="528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8"/>
          <a:stretch/>
        </p:blipFill>
        <p:spPr>
          <a:xfrm>
            <a:off x="4572000" y="4038480"/>
            <a:ext cx="4343400" cy="5209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9"/>
          <a:stretch/>
        </p:blipFill>
        <p:spPr>
          <a:xfrm>
            <a:off x="4572000" y="4572000"/>
            <a:ext cx="4343400" cy="5349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10"/>
          <a:stretch/>
        </p:blipFill>
        <p:spPr>
          <a:xfrm>
            <a:off x="1763640" y="2133720"/>
            <a:ext cx="5410440" cy="7016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11"/>
          <a:stretch/>
        </p:blipFill>
        <p:spPr>
          <a:xfrm>
            <a:off x="1752480" y="1438200"/>
            <a:ext cx="5410440" cy="6955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068560" y="2655720"/>
            <a:ext cx="1295280" cy="18576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7400" y="1959120"/>
            <a:ext cx="1295280" cy="18576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33800" y="2895480"/>
            <a:ext cx="1371600" cy="18576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4080" y="3962520"/>
            <a:ext cx="1371600" cy="18576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24080" y="3429000"/>
            <a:ext cx="1371600" cy="18576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24080" y="4495680"/>
            <a:ext cx="1371600" cy="18576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5029200"/>
            <a:ext cx="1371600" cy="18576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543800" y="2971800"/>
            <a:ext cx="1371600" cy="18576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543800" y="3505320"/>
            <a:ext cx="1371600" cy="18576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543800" y="4038480"/>
            <a:ext cx="1371600" cy="18576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543800" y="4572000"/>
            <a:ext cx="1371600" cy="18576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"/>
          <p:cNvCxnSpPr/>
          <p:nvPr/>
        </p:nvCxnSpPr>
        <p:spPr>
          <a:xfrm rot="10800000">
            <a:off x="7314480" y="2133000"/>
            <a:ext cx="1143720" cy="762480"/>
          </a:xfrm>
          <a:prstGeom prst="bentConnector3">
            <a:avLst>
              <a:gd name="adj1" fmla="val 1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 flipV="1">
            <a:off x="456840" y="2133000"/>
            <a:ext cx="1143720" cy="686520"/>
          </a:xfrm>
          <a:prstGeom prst="bentConnector3">
            <a:avLst>
              <a:gd name="adj1" fmla="val 12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609480" y="6094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Identifying the underlying lo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1B3F-AB7C-41FC-B0BD-2676046A20C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80880" y="2143080"/>
            <a:ext cx="3962520" cy="1933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66680" y="4533840"/>
            <a:ext cx="3733920" cy="137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05520" y="3467160"/>
            <a:ext cx="3809880" cy="137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57320" y="371808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CL Disbursement Amount: $39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87280" y="457848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kins Loa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00640" y="35226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S Loa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23880" y="552456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kins Disbursement Total:  $4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10080" y="445788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S Disbursement Total:  $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186696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Add the Disbursement Amounts of the loan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9480" y="217188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FEL Consolidation Loa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429000" cy="6098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609480" y="3076560"/>
            <a:ext cx="3429000" cy="5572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1219320" y="4876920"/>
            <a:ext cx="3352680" cy="5140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5334120" y="3886200"/>
            <a:ext cx="3352680" cy="5349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304920" y="68580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Begin the breakdown/rat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A616-A1D2-4AC9-B23E-B432FBCC8DC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46040" y="1897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sidized Loa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76840" y="3354480"/>
            <a:ext cx="23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subsidized Loa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25560" y="4626000"/>
            <a:ext cx="34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Sub Disbursement Amount:  $18,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962600" y="5477040"/>
            <a:ext cx="37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Unsub Disbursement Amount:  $13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9720" y="1852560"/>
            <a:ext cx="3962520" cy="3200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57760" y="3243240"/>
            <a:ext cx="3962520" cy="26668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828960" cy="6001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468360" y="2743200"/>
            <a:ext cx="3809880" cy="6033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457200" y="3321000"/>
            <a:ext cx="3800520" cy="6476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457200" y="3962520"/>
            <a:ext cx="3819600" cy="676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4800600" y="4876920"/>
            <a:ext cx="3809880" cy="6285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4800600" y="3657600"/>
            <a:ext cx="3838680" cy="6001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4824360" y="4267080"/>
            <a:ext cx="3800520" cy="5907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04920" y="68580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Begin the breakdown/rat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24280" y="182880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Add the Disbursement Amounts of the loan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C9FF-D429-413E-A351-5D82DF2D8EA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 flipV="1" rot="10800000">
            <a:off x="990720" y="1180080"/>
            <a:ext cx="7548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Sum the Disbursed Amounts of all Underlying SF, D1, D6 loa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Divided that by the Amount Disbursed from the CLs (getting the ratio %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Multiplied that by the CL’s Aggregate OPB (Other Loan); if multiple CL’s apply ratio % to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is the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Calculated Subsidized Aggregate OP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27280" y="293364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CL Disbursement Amount: $39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59080" y="2629080"/>
            <a:ext cx="44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Total Underlying Sub Disbursement Amount:  $18,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05000" y="3314880"/>
            <a:ext cx="750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18,625 divided by 39,000 = .47756  (over all percentage what we can attribute to be Subsidiz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32000" y="453384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 .47756 x 17,000 = $8,119 Calc’d Sub Agg O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415880" y="59054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47756 x 22,000 = $10,506 Calc’d Sub Agg O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382760" y="3772080"/>
            <a:ext cx="6999120" cy="7617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382760" y="5067360"/>
            <a:ext cx="6989760" cy="7905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57240" y="5572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Calculating the Subsidized Aggregate OP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E7D-A780-40D1-800E-9CEE0EA211C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o the same Calculation to Determine Proportion of each CL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alculated Unsubsidized Aggregate OPB 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alculated Perkins share 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alculated PLUS share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55D-3BDB-4862-86D2-CA01C37F383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685800" y="905040"/>
            <a:ext cx="7696080" cy="849240"/>
          </a:xfrm>
          <a:prstGeom prst="rect">
            <a:avLst/>
          </a:prstGeom>
          <a:ln w="0">
            <a:noFill/>
          </a:ln>
        </p:spPr>
      </p:pic>
      <p:grpSp>
        <p:nvGrpSpPr>
          <p:cNvPr id="407" name=""/>
          <p:cNvGrpSpPr/>
          <p:nvPr/>
        </p:nvGrpSpPr>
        <p:grpSpPr>
          <a:xfrm>
            <a:off x="608040" y="3418920"/>
            <a:ext cx="7773840" cy="520920"/>
            <a:chOff x="608040" y="3418920"/>
            <a:chExt cx="7773840" cy="520920"/>
          </a:xfrm>
        </p:grpSpPr>
        <p:sp>
          <p:nvSpPr>
            <p:cNvPr id="408" name=""/>
            <p:cNvSpPr/>
            <p:nvPr/>
          </p:nvSpPr>
          <p:spPr>
            <a:xfrm flipV="1" rot="10800000">
              <a:off x="608040" y="3418560"/>
              <a:ext cx="419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ft over amount =  </a:t>
              </a: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Calculated FFEL Consolidation, Unallocated  Aggregate OP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724280" y="3419640"/>
              <a:ext cx="3657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$1,034 Calculated FFEL Consolidation, Unallocated Agg OP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7238880" y="905040"/>
            <a:ext cx="804960" cy="3808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684000" y="1819440"/>
            <a:ext cx="6867720" cy="307080"/>
            <a:chOff x="684000" y="1819440"/>
            <a:chExt cx="6867720" cy="307080"/>
          </a:xfrm>
        </p:grpSpPr>
        <p:sp>
          <p:nvSpPr>
            <p:cNvPr id="412" name=""/>
            <p:cNvSpPr/>
            <p:nvPr/>
          </p:nvSpPr>
          <p:spPr>
            <a:xfrm>
              <a:off x="4613400" y="1819440"/>
              <a:ext cx="293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 Agg OPB : $17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 rot="10800000">
              <a:off x="684000" y="1819080"/>
              <a:ext cx="435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  Start with the CL Agg OPB (Other Loa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85800" y="2123280"/>
            <a:ext cx="8077320" cy="307800"/>
            <a:chOff x="685800" y="2123280"/>
            <a:chExt cx="8077320" cy="307800"/>
          </a:xfrm>
        </p:grpSpPr>
        <p:sp>
          <p:nvSpPr>
            <p:cNvPr id="415" name=""/>
            <p:cNvSpPr/>
            <p:nvPr/>
          </p:nvSpPr>
          <p:spPr>
            <a:xfrm>
              <a:off x="4572000" y="2124000"/>
              <a:ext cx="419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nus $1,744 Perkins Share of the CL’s  Agg OP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 rot="10800000">
              <a:off x="685800" y="2122920"/>
              <a:ext cx="289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 Take out Perkins Sh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84000" y="2428200"/>
            <a:ext cx="7794720" cy="307800"/>
            <a:chOff x="684000" y="2428200"/>
            <a:chExt cx="7794720" cy="307800"/>
          </a:xfrm>
        </p:grpSpPr>
        <p:sp>
          <p:nvSpPr>
            <p:cNvPr id="418" name=""/>
            <p:cNvSpPr/>
            <p:nvPr/>
          </p:nvSpPr>
          <p:spPr>
            <a:xfrm>
              <a:off x="4516560" y="2428920"/>
              <a:ext cx="396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nus $436 PLUS Share of the CL’s  Agg OP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 rot="10800000">
              <a:off x="684000" y="242784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 Take out PLUS Sh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74280" y="2733840"/>
            <a:ext cx="6869520" cy="316440"/>
            <a:chOff x="674280" y="2733840"/>
            <a:chExt cx="6869520" cy="316440"/>
          </a:xfrm>
        </p:grpSpPr>
        <p:sp>
          <p:nvSpPr>
            <p:cNvPr id="421" name=""/>
            <p:cNvSpPr/>
            <p:nvPr/>
          </p:nvSpPr>
          <p:spPr>
            <a:xfrm>
              <a:off x="4267080" y="2743200"/>
              <a:ext cx="327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nus $8,119 Calc’d Sub Agg OP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 rot="10800000">
              <a:off x="674280" y="2733480"/>
              <a:ext cx="335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 Take out Calc’d Sub Agg OP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84360" y="3037680"/>
            <a:ext cx="7075440" cy="307800"/>
            <a:chOff x="684360" y="3037680"/>
            <a:chExt cx="7075440" cy="307800"/>
          </a:xfrm>
        </p:grpSpPr>
        <p:sp>
          <p:nvSpPr>
            <p:cNvPr id="424" name=""/>
            <p:cNvSpPr/>
            <p:nvPr/>
          </p:nvSpPr>
          <p:spPr>
            <a:xfrm>
              <a:off x="4495680" y="3038400"/>
              <a:ext cx="32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nus $5,667 Calc’d Unsub Agg OP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 rot="10800000">
              <a:off x="684360" y="303732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 Take out Calc’d Unsub Agg OP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1981080" y="3929040"/>
            <a:ext cx="4876920" cy="22352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838080" y="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lculating what is left over: Unalloc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13B9-508D-4889-8BBD-1B412F88BC0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 flipV="1" rot="10800000">
            <a:off x="608040" y="3347640"/>
            <a:ext cx="419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ft over amount =  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Calculated FFEL Consolidation, Unallocated  Aggregate OP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13400" y="1747800"/>
            <a:ext cx="29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 Agg OPB : $22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243320" y="2357280"/>
            <a:ext cx="424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us $564 PLUS Share of the CL’s  Agg OP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0" y="20527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us $2,256 Perkins Share of the CL’s  Agg OP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76880" y="2662200"/>
            <a:ext cx="32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us $10,506 Calc’d Sub Agg OP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2967120"/>
            <a:ext cx="326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us $7,333 Calc’d Unsub Agg OP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24280" y="334800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1,341 Calculated FFEL Consolidation, Unallocated Agg OP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 rot="10800000">
            <a:off x="684000" y="1746720"/>
            <a:ext cx="43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Start with the CL Agg OPB (Other Lo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 rot="10800000">
            <a:off x="685800" y="2052360"/>
            <a:ext cx="289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Take out Perkins Sh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 rot="10800000">
            <a:off x="684000" y="23562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Take out PLUS Sh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684000" y="2661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Take out Calc’d Sub Agg OP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 rot="10800000">
            <a:off x="684360" y="296676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Take out Calc’d Unsub Agg OP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762120" y="833400"/>
            <a:ext cx="7619760" cy="8622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7281720" y="833400"/>
            <a:ext cx="762120" cy="3808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2009880" y="3948120"/>
            <a:ext cx="4890960" cy="21906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838080" y="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lculating what is left over: Unalloc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1CA-CACD-480D-B7D4-6CDA56B5B21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verpaym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Issue: Overpayment, so what’s next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Effects of the Overpayment: Student not eligible for additional aid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Resolution: Work with student to remedy  and report Overpayment to NSLDS 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A2CF-62F5-4427-AC52-8C7F5B1918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289080" y="1752480"/>
            <a:ext cx="4890960" cy="219096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336600" y="2960640"/>
            <a:ext cx="4800600" cy="16344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6600" y="3146400"/>
            <a:ext cx="4800600" cy="16344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0120" y="3332160"/>
            <a:ext cx="4800600" cy="16344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6880" y="3529080"/>
            <a:ext cx="4800600" cy="1634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4480" y="3114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00080" y="3506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5920" y="3297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17480" y="1676520"/>
            <a:ext cx="8479440" cy="4259880"/>
            <a:chOff x="717480" y="1676520"/>
            <a:chExt cx="8479440" cy="4259880"/>
          </a:xfrm>
        </p:grpSpPr>
        <p:pic>
          <p:nvPicPr>
            <p:cNvPr id="453" name="" descr=""/>
            <p:cNvPicPr/>
            <p:nvPr/>
          </p:nvPicPr>
          <p:blipFill>
            <a:blip r:embed="rId2"/>
            <a:stretch/>
          </p:blipFill>
          <p:spPr>
            <a:xfrm>
              <a:off x="762120" y="4648320"/>
              <a:ext cx="696096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410080" y="1676520"/>
              <a:ext cx="335304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gg OPB  displayed is ‘adjusted’ when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derlying Perkins loans factored out of Unallocated Amou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derling PLUS loans factored out of Unallocated Amount (for the PLUS Borrow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86600" y="5105520"/>
              <a:ext cx="609480" cy="2286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452000">
              <a:off x="8031240" y="3740040"/>
              <a:ext cx="761760" cy="2133720"/>
            </a:xfrm>
            <a:custGeom>
              <a:avLst/>
              <a:gdLst>
                <a:gd name="textAreaLeft" fmla="*/ 101880 w 761760"/>
                <a:gd name="textAreaRight" fmla="*/ 659880 w 761760"/>
                <a:gd name="textAreaTop" fmla="*/ 373320 h 2133720"/>
                <a:gd name="textAreaBottom" fmla="*/ 154692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7" name="" descr=""/>
            <p:cNvPicPr/>
            <p:nvPr/>
          </p:nvPicPr>
          <p:blipFill>
            <a:blip r:embed="rId3"/>
            <a:stretch/>
          </p:blipFill>
          <p:spPr>
            <a:xfrm>
              <a:off x="717480" y="4267080"/>
              <a:ext cx="1219320" cy="24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257040" y="1400040"/>
            <a:ext cx="657360" cy="20016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Calculated Combined Aggregate OPB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5551-4A1F-4578-8E7E-0A30F62C99C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3429000" y="762120"/>
            <a:ext cx="5486400" cy="27064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1676520" y="5119560"/>
            <a:ext cx="5781600" cy="3240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1371600" y="4510080"/>
            <a:ext cx="5830920" cy="6476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4"/>
          <a:stretch/>
        </p:blipFill>
        <p:spPr>
          <a:xfrm>
            <a:off x="304920" y="3817800"/>
            <a:ext cx="6553080" cy="6159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5551560" y="4221000"/>
            <a:ext cx="1295280" cy="2286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856120" y="4851360"/>
            <a:ext cx="1295640" cy="2286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127920" y="5156280"/>
            <a:ext cx="1295280" cy="2286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1916280"/>
            <a:ext cx="1120680" cy="1951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114800" y="685800"/>
          <a:ext cx="83808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685800"/>
                    <a:ext cx="83808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 flipV="1" rot="10800000">
            <a:off x="-1440" y="989640"/>
            <a:ext cx="335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Rolling 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Subsidized Loan 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7"/>
          <a:stretch/>
        </p:blipFill>
        <p:spPr>
          <a:xfrm>
            <a:off x="304920" y="3513240"/>
            <a:ext cx="1218960" cy="2476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8"/>
          <a:stretch/>
        </p:blipFill>
        <p:spPr>
          <a:xfrm>
            <a:off x="609480" y="5037120"/>
            <a:ext cx="657360" cy="20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9A13-0759-45CD-8390-9A065A9932A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3122640" y="3276720"/>
            <a:ext cx="5686560" cy="287964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5996160" y="4495680"/>
            <a:ext cx="533160" cy="6638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96040" y="457200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88120" y="49849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5713560" y="5181480"/>
            <a:ext cx="815760" cy="15264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7466040" y="3124080"/>
          <a:ext cx="838080" cy="71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66040" y="3124080"/>
                    <a:ext cx="838080" cy="7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0" y="28954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n determine Aggregate Loan Amoun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oll up other aggregate categories: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nsubsidized Loan type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nallocated Amounts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AF15-0F43-4B71-AB25-696014C8324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1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gregate data informat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Results of resolution: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Understanding how NSLDS breaks down the consolidation amounts for FAA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duces burden on FAA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AE58-6F43-4651-8662-A51B60514BB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"/>
          <p:cNvGrpSpPr/>
          <p:nvPr/>
        </p:nvGrpSpPr>
        <p:grpSpPr>
          <a:xfrm>
            <a:off x="-285480" y="-1136520"/>
            <a:ext cx="10391040" cy="9245880"/>
            <a:chOff x="-285480" y="-1136520"/>
            <a:chExt cx="10391040" cy="9245880"/>
          </a:xfrm>
        </p:grpSpPr>
        <p:sp>
          <p:nvSpPr>
            <p:cNvPr id="485" name=""/>
            <p:cNvSpPr/>
            <p:nvPr/>
          </p:nvSpPr>
          <p:spPr>
            <a:xfrm flipH="1" flipV="1" rot="9362400">
              <a:off x="2228400" y="-49680"/>
              <a:ext cx="6700680" cy="6348240"/>
            </a:xfrm>
            <a:custGeom>
              <a:avLst/>
              <a:gdLst/>
              <a:ahLst/>
              <a:rect l="l" t="t" r="r" b="b"/>
              <a:pathLst>
                <a:path w="4221" h="3999">
                  <a:moveTo>
                    <a:pt x="0" y="113"/>
                  </a:moveTo>
                  <a:lnTo>
                    <a:pt x="276" y="0"/>
                  </a:lnTo>
                  <a:lnTo>
                    <a:pt x="804" y="133"/>
                  </a:lnTo>
                  <a:lnTo>
                    <a:pt x="2125" y="463"/>
                  </a:lnTo>
                  <a:lnTo>
                    <a:pt x="2402" y="310"/>
                  </a:lnTo>
                  <a:lnTo>
                    <a:pt x="3744" y="715"/>
                  </a:lnTo>
                  <a:lnTo>
                    <a:pt x="3844" y="1080"/>
                  </a:lnTo>
                  <a:lnTo>
                    <a:pt x="4221" y="1356"/>
                  </a:lnTo>
                  <a:lnTo>
                    <a:pt x="4221" y="1662"/>
                  </a:lnTo>
                  <a:lnTo>
                    <a:pt x="3296" y="3950"/>
                  </a:lnTo>
                  <a:lnTo>
                    <a:pt x="3090" y="3999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 rot="9362400">
              <a:off x="834120" y="680760"/>
              <a:ext cx="6837480" cy="6246720"/>
            </a:xfrm>
            <a:custGeom>
              <a:avLst/>
              <a:gdLst/>
              <a:ahLst/>
              <a:rect l="l" t="t" r="r" b="b"/>
              <a:pathLst>
                <a:path w="4307" h="3935">
                  <a:moveTo>
                    <a:pt x="311" y="59"/>
                  </a:moveTo>
                  <a:lnTo>
                    <a:pt x="774" y="0"/>
                  </a:lnTo>
                  <a:lnTo>
                    <a:pt x="4070" y="1001"/>
                  </a:lnTo>
                  <a:lnTo>
                    <a:pt x="4276" y="1223"/>
                  </a:lnTo>
                  <a:lnTo>
                    <a:pt x="4307" y="1681"/>
                  </a:lnTo>
                  <a:lnTo>
                    <a:pt x="4100" y="3915"/>
                  </a:lnTo>
                  <a:lnTo>
                    <a:pt x="3889" y="3935"/>
                  </a:lnTo>
                  <a:lnTo>
                    <a:pt x="1432" y="3269"/>
                  </a:lnTo>
                  <a:lnTo>
                    <a:pt x="427" y="3032"/>
                  </a:lnTo>
                  <a:lnTo>
                    <a:pt x="110" y="2860"/>
                  </a:lnTo>
                  <a:lnTo>
                    <a:pt x="0" y="2579"/>
                  </a:lnTo>
                  <a:lnTo>
                    <a:pt x="65" y="1301"/>
                  </a:lnTo>
                  <a:lnTo>
                    <a:pt x="75" y="438"/>
                  </a:lnTo>
                  <a:lnTo>
                    <a:pt x="311" y="59"/>
                  </a:lnTo>
                  <a:lnTo>
                    <a:pt x="311" y="59"/>
                  </a:lnTo>
                  <a:close/>
                </a:path>
              </a:pathLst>
            </a:custGeom>
            <a:solidFill>
              <a:srgbClr val="fce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 rot="9362400">
              <a:off x="7415640" y="1358640"/>
              <a:ext cx="1285920" cy="3632760"/>
            </a:xfrm>
            <a:custGeom>
              <a:avLst/>
              <a:gdLst/>
              <a:ahLst/>
              <a:rect l="l" t="t" r="r" b="b"/>
              <a:pathLst>
                <a:path w="810" h="2288">
                  <a:moveTo>
                    <a:pt x="237" y="0"/>
                  </a:moveTo>
                  <a:lnTo>
                    <a:pt x="810" y="246"/>
                  </a:lnTo>
                  <a:lnTo>
                    <a:pt x="51" y="2288"/>
                  </a:lnTo>
                  <a:lnTo>
                    <a:pt x="0" y="2258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 flipV="1" rot="9362400">
              <a:off x="4663080" y="-189720"/>
              <a:ext cx="3533760" cy="1957320"/>
            </a:xfrm>
            <a:custGeom>
              <a:avLst/>
              <a:gdLst/>
              <a:ahLst/>
              <a:rect l="l" t="t" r="r" b="b"/>
              <a:pathLst>
                <a:path w="2226" h="1233">
                  <a:moveTo>
                    <a:pt x="40" y="286"/>
                  </a:moveTo>
                  <a:lnTo>
                    <a:pt x="56" y="276"/>
                  </a:lnTo>
                  <a:lnTo>
                    <a:pt x="71" y="266"/>
                  </a:lnTo>
                  <a:lnTo>
                    <a:pt x="86" y="252"/>
                  </a:lnTo>
                  <a:lnTo>
                    <a:pt x="101" y="242"/>
                  </a:lnTo>
                  <a:lnTo>
                    <a:pt x="116" y="222"/>
                  </a:lnTo>
                  <a:lnTo>
                    <a:pt x="131" y="207"/>
                  </a:lnTo>
                  <a:lnTo>
                    <a:pt x="146" y="197"/>
                  </a:lnTo>
                  <a:lnTo>
                    <a:pt x="161" y="183"/>
                  </a:lnTo>
                  <a:lnTo>
                    <a:pt x="171" y="173"/>
                  </a:lnTo>
                  <a:lnTo>
                    <a:pt x="186" y="163"/>
                  </a:lnTo>
                  <a:lnTo>
                    <a:pt x="201" y="153"/>
                  </a:lnTo>
                  <a:lnTo>
                    <a:pt x="216" y="143"/>
                  </a:lnTo>
                  <a:lnTo>
                    <a:pt x="226" y="138"/>
                  </a:lnTo>
                  <a:lnTo>
                    <a:pt x="241" y="133"/>
                  </a:lnTo>
                  <a:lnTo>
                    <a:pt x="257" y="128"/>
                  </a:lnTo>
                  <a:lnTo>
                    <a:pt x="272" y="123"/>
                  </a:lnTo>
                  <a:lnTo>
                    <a:pt x="282" y="119"/>
                  </a:lnTo>
                  <a:lnTo>
                    <a:pt x="297" y="119"/>
                  </a:lnTo>
                  <a:lnTo>
                    <a:pt x="312" y="119"/>
                  </a:lnTo>
                  <a:lnTo>
                    <a:pt x="327" y="119"/>
                  </a:lnTo>
                  <a:lnTo>
                    <a:pt x="337" y="119"/>
                  </a:lnTo>
                  <a:lnTo>
                    <a:pt x="352" y="119"/>
                  </a:lnTo>
                  <a:lnTo>
                    <a:pt x="367" y="119"/>
                  </a:lnTo>
                  <a:lnTo>
                    <a:pt x="382" y="123"/>
                  </a:lnTo>
                  <a:lnTo>
                    <a:pt x="397" y="123"/>
                  </a:lnTo>
                  <a:lnTo>
                    <a:pt x="412" y="128"/>
                  </a:lnTo>
                  <a:lnTo>
                    <a:pt x="422" y="133"/>
                  </a:lnTo>
                  <a:lnTo>
                    <a:pt x="437" y="138"/>
                  </a:lnTo>
                  <a:lnTo>
                    <a:pt x="453" y="143"/>
                  </a:lnTo>
                  <a:lnTo>
                    <a:pt x="468" y="143"/>
                  </a:lnTo>
                  <a:lnTo>
                    <a:pt x="478" y="148"/>
                  </a:lnTo>
                  <a:lnTo>
                    <a:pt x="493" y="158"/>
                  </a:lnTo>
                  <a:lnTo>
                    <a:pt x="508" y="163"/>
                  </a:lnTo>
                  <a:lnTo>
                    <a:pt x="523" y="168"/>
                  </a:lnTo>
                  <a:lnTo>
                    <a:pt x="538" y="173"/>
                  </a:lnTo>
                  <a:lnTo>
                    <a:pt x="553" y="178"/>
                  </a:lnTo>
                  <a:lnTo>
                    <a:pt x="563" y="183"/>
                  </a:lnTo>
                  <a:lnTo>
                    <a:pt x="583" y="188"/>
                  </a:lnTo>
                  <a:lnTo>
                    <a:pt x="593" y="193"/>
                  </a:lnTo>
                  <a:lnTo>
                    <a:pt x="613" y="197"/>
                  </a:lnTo>
                  <a:lnTo>
                    <a:pt x="623" y="202"/>
                  </a:lnTo>
                  <a:lnTo>
                    <a:pt x="633" y="207"/>
                  </a:lnTo>
                  <a:lnTo>
                    <a:pt x="649" y="212"/>
                  </a:lnTo>
                  <a:lnTo>
                    <a:pt x="664" y="217"/>
                  </a:lnTo>
                  <a:lnTo>
                    <a:pt x="674" y="222"/>
                  </a:lnTo>
                  <a:lnTo>
                    <a:pt x="684" y="227"/>
                  </a:lnTo>
                  <a:lnTo>
                    <a:pt x="699" y="227"/>
                  </a:lnTo>
                  <a:lnTo>
                    <a:pt x="714" y="232"/>
                  </a:lnTo>
                  <a:lnTo>
                    <a:pt x="724" y="237"/>
                  </a:lnTo>
                  <a:lnTo>
                    <a:pt x="734" y="242"/>
                  </a:lnTo>
                  <a:lnTo>
                    <a:pt x="749" y="247"/>
                  </a:lnTo>
                  <a:lnTo>
                    <a:pt x="764" y="252"/>
                  </a:lnTo>
                  <a:lnTo>
                    <a:pt x="774" y="257"/>
                  </a:lnTo>
                  <a:lnTo>
                    <a:pt x="789" y="262"/>
                  </a:lnTo>
                  <a:lnTo>
                    <a:pt x="799" y="266"/>
                  </a:lnTo>
                  <a:lnTo>
                    <a:pt x="814" y="271"/>
                  </a:lnTo>
                  <a:lnTo>
                    <a:pt x="829" y="276"/>
                  </a:lnTo>
                  <a:lnTo>
                    <a:pt x="839" y="281"/>
                  </a:lnTo>
                  <a:lnTo>
                    <a:pt x="855" y="286"/>
                  </a:lnTo>
                  <a:lnTo>
                    <a:pt x="865" y="291"/>
                  </a:lnTo>
                  <a:lnTo>
                    <a:pt x="880" y="296"/>
                  </a:lnTo>
                  <a:lnTo>
                    <a:pt x="890" y="301"/>
                  </a:lnTo>
                  <a:lnTo>
                    <a:pt x="905" y="306"/>
                  </a:lnTo>
                  <a:lnTo>
                    <a:pt x="920" y="311"/>
                  </a:lnTo>
                  <a:lnTo>
                    <a:pt x="930" y="311"/>
                  </a:lnTo>
                  <a:lnTo>
                    <a:pt x="945" y="321"/>
                  </a:lnTo>
                  <a:lnTo>
                    <a:pt x="955" y="321"/>
                  </a:lnTo>
                  <a:lnTo>
                    <a:pt x="970" y="326"/>
                  </a:lnTo>
                  <a:lnTo>
                    <a:pt x="985" y="331"/>
                  </a:lnTo>
                  <a:lnTo>
                    <a:pt x="1000" y="336"/>
                  </a:lnTo>
                  <a:lnTo>
                    <a:pt x="1010" y="340"/>
                  </a:lnTo>
                  <a:lnTo>
                    <a:pt x="1025" y="345"/>
                  </a:lnTo>
                  <a:lnTo>
                    <a:pt x="1035" y="350"/>
                  </a:lnTo>
                  <a:lnTo>
                    <a:pt x="1051" y="355"/>
                  </a:lnTo>
                  <a:lnTo>
                    <a:pt x="1066" y="360"/>
                  </a:lnTo>
                  <a:lnTo>
                    <a:pt x="1081" y="365"/>
                  </a:lnTo>
                  <a:lnTo>
                    <a:pt x="1091" y="370"/>
                  </a:lnTo>
                  <a:lnTo>
                    <a:pt x="1106" y="375"/>
                  </a:lnTo>
                  <a:lnTo>
                    <a:pt x="1116" y="375"/>
                  </a:lnTo>
                  <a:lnTo>
                    <a:pt x="1131" y="385"/>
                  </a:lnTo>
                  <a:lnTo>
                    <a:pt x="1146" y="385"/>
                  </a:lnTo>
                  <a:lnTo>
                    <a:pt x="1156" y="390"/>
                  </a:lnTo>
                  <a:lnTo>
                    <a:pt x="1171" y="395"/>
                  </a:lnTo>
                  <a:lnTo>
                    <a:pt x="1186" y="395"/>
                  </a:lnTo>
                  <a:lnTo>
                    <a:pt x="1196" y="400"/>
                  </a:lnTo>
                  <a:lnTo>
                    <a:pt x="1211" y="405"/>
                  </a:lnTo>
                  <a:lnTo>
                    <a:pt x="1221" y="409"/>
                  </a:lnTo>
                  <a:lnTo>
                    <a:pt x="1236" y="414"/>
                  </a:lnTo>
                  <a:lnTo>
                    <a:pt x="1252" y="414"/>
                  </a:lnTo>
                  <a:lnTo>
                    <a:pt x="1267" y="419"/>
                  </a:lnTo>
                  <a:lnTo>
                    <a:pt x="1277" y="424"/>
                  </a:lnTo>
                  <a:lnTo>
                    <a:pt x="1292" y="424"/>
                  </a:lnTo>
                  <a:lnTo>
                    <a:pt x="1302" y="429"/>
                  </a:lnTo>
                  <a:lnTo>
                    <a:pt x="1317" y="434"/>
                  </a:lnTo>
                  <a:lnTo>
                    <a:pt x="1332" y="434"/>
                  </a:lnTo>
                  <a:lnTo>
                    <a:pt x="1347" y="439"/>
                  </a:lnTo>
                  <a:lnTo>
                    <a:pt x="1357" y="444"/>
                  </a:lnTo>
                  <a:lnTo>
                    <a:pt x="1372" y="449"/>
                  </a:lnTo>
                  <a:lnTo>
                    <a:pt x="1382" y="449"/>
                  </a:lnTo>
                  <a:lnTo>
                    <a:pt x="1397" y="454"/>
                  </a:lnTo>
                  <a:lnTo>
                    <a:pt x="1407" y="454"/>
                  </a:lnTo>
                  <a:lnTo>
                    <a:pt x="1422" y="459"/>
                  </a:lnTo>
                  <a:lnTo>
                    <a:pt x="1438" y="459"/>
                  </a:lnTo>
                  <a:lnTo>
                    <a:pt x="1453" y="464"/>
                  </a:lnTo>
                  <a:lnTo>
                    <a:pt x="1463" y="464"/>
                  </a:lnTo>
                  <a:lnTo>
                    <a:pt x="1473" y="469"/>
                  </a:lnTo>
                  <a:lnTo>
                    <a:pt x="1483" y="469"/>
                  </a:lnTo>
                  <a:lnTo>
                    <a:pt x="1498" y="474"/>
                  </a:lnTo>
                  <a:lnTo>
                    <a:pt x="1513" y="479"/>
                  </a:lnTo>
                  <a:lnTo>
                    <a:pt x="1533" y="483"/>
                  </a:lnTo>
                  <a:lnTo>
                    <a:pt x="1543" y="488"/>
                  </a:lnTo>
                  <a:lnTo>
                    <a:pt x="1558" y="498"/>
                  </a:lnTo>
                  <a:lnTo>
                    <a:pt x="1568" y="508"/>
                  </a:lnTo>
                  <a:lnTo>
                    <a:pt x="1578" y="518"/>
                  </a:lnTo>
                  <a:lnTo>
                    <a:pt x="1583" y="523"/>
                  </a:lnTo>
                  <a:lnTo>
                    <a:pt x="1593" y="533"/>
                  </a:lnTo>
                  <a:lnTo>
                    <a:pt x="1598" y="548"/>
                  </a:lnTo>
                  <a:lnTo>
                    <a:pt x="1603" y="557"/>
                  </a:lnTo>
                  <a:lnTo>
                    <a:pt x="1603" y="567"/>
                  </a:lnTo>
                  <a:lnTo>
                    <a:pt x="1608" y="577"/>
                  </a:lnTo>
                  <a:lnTo>
                    <a:pt x="1608" y="587"/>
                  </a:lnTo>
                  <a:lnTo>
                    <a:pt x="1613" y="602"/>
                  </a:lnTo>
                  <a:lnTo>
                    <a:pt x="1613" y="612"/>
                  </a:lnTo>
                  <a:lnTo>
                    <a:pt x="1613" y="622"/>
                  </a:lnTo>
                  <a:lnTo>
                    <a:pt x="1613" y="636"/>
                  </a:lnTo>
                  <a:lnTo>
                    <a:pt x="1613" y="651"/>
                  </a:lnTo>
                  <a:lnTo>
                    <a:pt x="1613" y="661"/>
                  </a:lnTo>
                  <a:lnTo>
                    <a:pt x="1613" y="676"/>
                  </a:lnTo>
                  <a:lnTo>
                    <a:pt x="1613" y="686"/>
                  </a:lnTo>
                  <a:lnTo>
                    <a:pt x="1618" y="700"/>
                  </a:lnTo>
                  <a:lnTo>
                    <a:pt x="1618" y="715"/>
                  </a:lnTo>
                  <a:lnTo>
                    <a:pt x="1618" y="730"/>
                  </a:lnTo>
                  <a:lnTo>
                    <a:pt x="1623" y="745"/>
                  </a:lnTo>
                  <a:lnTo>
                    <a:pt x="1628" y="760"/>
                  </a:lnTo>
                  <a:lnTo>
                    <a:pt x="1633" y="769"/>
                  </a:lnTo>
                  <a:lnTo>
                    <a:pt x="1639" y="789"/>
                  </a:lnTo>
                  <a:lnTo>
                    <a:pt x="1649" y="799"/>
                  </a:lnTo>
                  <a:lnTo>
                    <a:pt x="1659" y="814"/>
                  </a:lnTo>
                  <a:lnTo>
                    <a:pt x="1669" y="829"/>
                  </a:lnTo>
                  <a:lnTo>
                    <a:pt x="1679" y="843"/>
                  </a:lnTo>
                  <a:lnTo>
                    <a:pt x="1689" y="853"/>
                  </a:lnTo>
                  <a:lnTo>
                    <a:pt x="1704" y="868"/>
                  </a:lnTo>
                  <a:lnTo>
                    <a:pt x="1719" y="878"/>
                  </a:lnTo>
                  <a:lnTo>
                    <a:pt x="1734" y="888"/>
                  </a:lnTo>
                  <a:lnTo>
                    <a:pt x="1749" y="898"/>
                  </a:lnTo>
                  <a:lnTo>
                    <a:pt x="1764" y="913"/>
                  </a:lnTo>
                  <a:lnTo>
                    <a:pt x="1779" y="922"/>
                  </a:lnTo>
                  <a:lnTo>
                    <a:pt x="1799" y="932"/>
                  </a:lnTo>
                  <a:lnTo>
                    <a:pt x="1814" y="942"/>
                  </a:lnTo>
                  <a:lnTo>
                    <a:pt x="1829" y="952"/>
                  </a:lnTo>
                  <a:lnTo>
                    <a:pt x="1850" y="962"/>
                  </a:lnTo>
                  <a:lnTo>
                    <a:pt x="1865" y="972"/>
                  </a:lnTo>
                  <a:lnTo>
                    <a:pt x="1885" y="982"/>
                  </a:lnTo>
                  <a:lnTo>
                    <a:pt x="1900" y="991"/>
                  </a:lnTo>
                  <a:lnTo>
                    <a:pt x="1915" y="1001"/>
                  </a:lnTo>
                  <a:lnTo>
                    <a:pt x="1935" y="1011"/>
                  </a:lnTo>
                  <a:lnTo>
                    <a:pt x="1950" y="1021"/>
                  </a:lnTo>
                  <a:lnTo>
                    <a:pt x="1965" y="1031"/>
                  </a:lnTo>
                  <a:lnTo>
                    <a:pt x="1980" y="1041"/>
                  </a:lnTo>
                  <a:lnTo>
                    <a:pt x="2000" y="1051"/>
                  </a:lnTo>
                  <a:lnTo>
                    <a:pt x="2015" y="1065"/>
                  </a:lnTo>
                  <a:lnTo>
                    <a:pt x="2025" y="1075"/>
                  </a:lnTo>
                  <a:lnTo>
                    <a:pt x="2041" y="1085"/>
                  </a:lnTo>
                  <a:lnTo>
                    <a:pt x="2051" y="1100"/>
                  </a:lnTo>
                  <a:lnTo>
                    <a:pt x="2066" y="1115"/>
                  </a:lnTo>
                  <a:lnTo>
                    <a:pt x="2076" y="1125"/>
                  </a:lnTo>
                  <a:lnTo>
                    <a:pt x="2081" y="1139"/>
                  </a:lnTo>
                  <a:lnTo>
                    <a:pt x="2091" y="1159"/>
                  </a:lnTo>
                  <a:lnTo>
                    <a:pt x="2096" y="1174"/>
                  </a:lnTo>
                  <a:lnTo>
                    <a:pt x="2106" y="1194"/>
                  </a:lnTo>
                  <a:lnTo>
                    <a:pt x="2106" y="1203"/>
                  </a:lnTo>
                  <a:lnTo>
                    <a:pt x="2116" y="1213"/>
                  </a:lnTo>
                  <a:lnTo>
                    <a:pt x="2121" y="1218"/>
                  </a:lnTo>
                  <a:lnTo>
                    <a:pt x="2131" y="1228"/>
                  </a:lnTo>
                  <a:lnTo>
                    <a:pt x="2136" y="1228"/>
                  </a:lnTo>
                  <a:lnTo>
                    <a:pt x="2151" y="1233"/>
                  </a:lnTo>
                  <a:lnTo>
                    <a:pt x="2161" y="1233"/>
                  </a:lnTo>
                  <a:lnTo>
                    <a:pt x="2171" y="1233"/>
                  </a:lnTo>
                  <a:lnTo>
                    <a:pt x="2181" y="1233"/>
                  </a:lnTo>
                  <a:lnTo>
                    <a:pt x="2191" y="1228"/>
                  </a:lnTo>
                  <a:lnTo>
                    <a:pt x="2201" y="1218"/>
                  </a:lnTo>
                  <a:lnTo>
                    <a:pt x="2211" y="1213"/>
                  </a:lnTo>
                  <a:lnTo>
                    <a:pt x="2216" y="1203"/>
                  </a:lnTo>
                  <a:lnTo>
                    <a:pt x="2221" y="1199"/>
                  </a:lnTo>
                  <a:lnTo>
                    <a:pt x="2226" y="1184"/>
                  </a:lnTo>
                  <a:lnTo>
                    <a:pt x="2226" y="1174"/>
                  </a:lnTo>
                  <a:lnTo>
                    <a:pt x="2226" y="1154"/>
                  </a:lnTo>
                  <a:lnTo>
                    <a:pt x="2226" y="1139"/>
                  </a:lnTo>
                  <a:lnTo>
                    <a:pt x="2221" y="1120"/>
                  </a:lnTo>
                  <a:lnTo>
                    <a:pt x="2221" y="1105"/>
                  </a:lnTo>
                  <a:lnTo>
                    <a:pt x="2216" y="1090"/>
                  </a:lnTo>
                  <a:lnTo>
                    <a:pt x="2206" y="1075"/>
                  </a:lnTo>
                  <a:lnTo>
                    <a:pt x="2201" y="1065"/>
                  </a:lnTo>
                  <a:lnTo>
                    <a:pt x="2196" y="1051"/>
                  </a:lnTo>
                  <a:lnTo>
                    <a:pt x="2186" y="1036"/>
                  </a:lnTo>
                  <a:lnTo>
                    <a:pt x="2176" y="1026"/>
                  </a:lnTo>
                  <a:lnTo>
                    <a:pt x="2171" y="1016"/>
                  </a:lnTo>
                  <a:lnTo>
                    <a:pt x="2161" y="1006"/>
                  </a:lnTo>
                  <a:lnTo>
                    <a:pt x="2151" y="991"/>
                  </a:lnTo>
                  <a:lnTo>
                    <a:pt x="2136" y="982"/>
                  </a:lnTo>
                  <a:lnTo>
                    <a:pt x="2126" y="972"/>
                  </a:lnTo>
                  <a:lnTo>
                    <a:pt x="2116" y="962"/>
                  </a:lnTo>
                  <a:lnTo>
                    <a:pt x="2101" y="952"/>
                  </a:lnTo>
                  <a:lnTo>
                    <a:pt x="2086" y="942"/>
                  </a:lnTo>
                  <a:lnTo>
                    <a:pt x="2076" y="937"/>
                  </a:lnTo>
                  <a:lnTo>
                    <a:pt x="2061" y="927"/>
                  </a:lnTo>
                  <a:lnTo>
                    <a:pt x="2046" y="917"/>
                  </a:lnTo>
                  <a:lnTo>
                    <a:pt x="2030" y="913"/>
                  </a:lnTo>
                  <a:lnTo>
                    <a:pt x="2015" y="903"/>
                  </a:lnTo>
                  <a:lnTo>
                    <a:pt x="2005" y="898"/>
                  </a:lnTo>
                  <a:lnTo>
                    <a:pt x="1985" y="888"/>
                  </a:lnTo>
                  <a:lnTo>
                    <a:pt x="1970" y="878"/>
                  </a:lnTo>
                  <a:lnTo>
                    <a:pt x="1955" y="873"/>
                  </a:lnTo>
                  <a:lnTo>
                    <a:pt x="1945" y="863"/>
                  </a:lnTo>
                  <a:lnTo>
                    <a:pt x="1925" y="858"/>
                  </a:lnTo>
                  <a:lnTo>
                    <a:pt x="1915" y="848"/>
                  </a:lnTo>
                  <a:lnTo>
                    <a:pt x="1900" y="843"/>
                  </a:lnTo>
                  <a:lnTo>
                    <a:pt x="1890" y="839"/>
                  </a:lnTo>
                  <a:lnTo>
                    <a:pt x="1875" y="829"/>
                  </a:lnTo>
                  <a:lnTo>
                    <a:pt x="1865" y="824"/>
                  </a:lnTo>
                  <a:lnTo>
                    <a:pt x="1855" y="814"/>
                  </a:lnTo>
                  <a:lnTo>
                    <a:pt x="1845" y="809"/>
                  </a:lnTo>
                  <a:lnTo>
                    <a:pt x="1824" y="794"/>
                  </a:lnTo>
                  <a:lnTo>
                    <a:pt x="1814" y="779"/>
                  </a:lnTo>
                  <a:lnTo>
                    <a:pt x="1804" y="765"/>
                  </a:lnTo>
                  <a:lnTo>
                    <a:pt x="1794" y="745"/>
                  </a:lnTo>
                  <a:lnTo>
                    <a:pt x="1784" y="730"/>
                  </a:lnTo>
                  <a:lnTo>
                    <a:pt x="1784" y="715"/>
                  </a:lnTo>
                  <a:lnTo>
                    <a:pt x="1774" y="696"/>
                  </a:lnTo>
                  <a:lnTo>
                    <a:pt x="1774" y="681"/>
                  </a:lnTo>
                  <a:lnTo>
                    <a:pt x="1774" y="666"/>
                  </a:lnTo>
                  <a:lnTo>
                    <a:pt x="1774" y="646"/>
                  </a:lnTo>
                  <a:lnTo>
                    <a:pt x="1774" y="631"/>
                  </a:lnTo>
                  <a:lnTo>
                    <a:pt x="1774" y="612"/>
                  </a:lnTo>
                  <a:lnTo>
                    <a:pt x="1774" y="597"/>
                  </a:lnTo>
                  <a:lnTo>
                    <a:pt x="1774" y="582"/>
                  </a:lnTo>
                  <a:lnTo>
                    <a:pt x="1774" y="562"/>
                  </a:lnTo>
                  <a:lnTo>
                    <a:pt x="1774" y="548"/>
                  </a:lnTo>
                  <a:lnTo>
                    <a:pt x="1774" y="528"/>
                  </a:lnTo>
                  <a:lnTo>
                    <a:pt x="1774" y="513"/>
                  </a:lnTo>
                  <a:lnTo>
                    <a:pt x="1769" y="498"/>
                  </a:lnTo>
                  <a:lnTo>
                    <a:pt x="1769" y="479"/>
                  </a:lnTo>
                  <a:lnTo>
                    <a:pt x="1764" y="464"/>
                  </a:lnTo>
                  <a:lnTo>
                    <a:pt x="1754" y="449"/>
                  </a:lnTo>
                  <a:lnTo>
                    <a:pt x="1744" y="434"/>
                  </a:lnTo>
                  <a:lnTo>
                    <a:pt x="1734" y="419"/>
                  </a:lnTo>
                  <a:lnTo>
                    <a:pt x="1719" y="405"/>
                  </a:lnTo>
                  <a:lnTo>
                    <a:pt x="1704" y="395"/>
                  </a:lnTo>
                  <a:lnTo>
                    <a:pt x="1694" y="390"/>
                  </a:lnTo>
                  <a:lnTo>
                    <a:pt x="1684" y="385"/>
                  </a:lnTo>
                  <a:lnTo>
                    <a:pt x="1674" y="375"/>
                  </a:lnTo>
                  <a:lnTo>
                    <a:pt x="1659" y="370"/>
                  </a:lnTo>
                  <a:lnTo>
                    <a:pt x="1649" y="365"/>
                  </a:lnTo>
                  <a:lnTo>
                    <a:pt x="1639" y="360"/>
                  </a:lnTo>
                  <a:lnTo>
                    <a:pt x="1623" y="355"/>
                  </a:lnTo>
                  <a:lnTo>
                    <a:pt x="1608" y="355"/>
                  </a:lnTo>
                  <a:lnTo>
                    <a:pt x="1588" y="345"/>
                  </a:lnTo>
                  <a:lnTo>
                    <a:pt x="1573" y="340"/>
                  </a:lnTo>
                  <a:lnTo>
                    <a:pt x="1558" y="336"/>
                  </a:lnTo>
                  <a:lnTo>
                    <a:pt x="1538" y="331"/>
                  </a:lnTo>
                  <a:lnTo>
                    <a:pt x="1523" y="326"/>
                  </a:lnTo>
                  <a:lnTo>
                    <a:pt x="1508" y="321"/>
                  </a:lnTo>
                  <a:lnTo>
                    <a:pt x="1488" y="316"/>
                  </a:lnTo>
                  <a:lnTo>
                    <a:pt x="1473" y="311"/>
                  </a:lnTo>
                  <a:lnTo>
                    <a:pt x="1458" y="306"/>
                  </a:lnTo>
                  <a:lnTo>
                    <a:pt x="1438" y="301"/>
                  </a:lnTo>
                  <a:lnTo>
                    <a:pt x="1422" y="296"/>
                  </a:lnTo>
                  <a:lnTo>
                    <a:pt x="1407" y="291"/>
                  </a:lnTo>
                  <a:lnTo>
                    <a:pt x="1387" y="286"/>
                  </a:lnTo>
                  <a:lnTo>
                    <a:pt x="1372" y="281"/>
                  </a:lnTo>
                  <a:lnTo>
                    <a:pt x="1357" y="276"/>
                  </a:lnTo>
                  <a:lnTo>
                    <a:pt x="1337" y="271"/>
                  </a:lnTo>
                  <a:lnTo>
                    <a:pt x="1322" y="266"/>
                  </a:lnTo>
                  <a:lnTo>
                    <a:pt x="1307" y="262"/>
                  </a:lnTo>
                  <a:lnTo>
                    <a:pt x="1287" y="257"/>
                  </a:lnTo>
                  <a:lnTo>
                    <a:pt x="1272" y="252"/>
                  </a:lnTo>
                  <a:lnTo>
                    <a:pt x="1257" y="247"/>
                  </a:lnTo>
                  <a:lnTo>
                    <a:pt x="1236" y="242"/>
                  </a:lnTo>
                  <a:lnTo>
                    <a:pt x="1221" y="237"/>
                  </a:lnTo>
                  <a:lnTo>
                    <a:pt x="1206" y="232"/>
                  </a:lnTo>
                  <a:lnTo>
                    <a:pt x="1186" y="227"/>
                  </a:lnTo>
                  <a:lnTo>
                    <a:pt x="1171" y="222"/>
                  </a:lnTo>
                  <a:lnTo>
                    <a:pt x="1156" y="217"/>
                  </a:lnTo>
                  <a:lnTo>
                    <a:pt x="1136" y="212"/>
                  </a:lnTo>
                  <a:lnTo>
                    <a:pt x="1121" y="207"/>
                  </a:lnTo>
                  <a:lnTo>
                    <a:pt x="1106" y="207"/>
                  </a:lnTo>
                  <a:lnTo>
                    <a:pt x="1086" y="197"/>
                  </a:lnTo>
                  <a:lnTo>
                    <a:pt x="1071" y="197"/>
                  </a:lnTo>
                  <a:lnTo>
                    <a:pt x="1051" y="193"/>
                  </a:lnTo>
                  <a:lnTo>
                    <a:pt x="1035" y="183"/>
                  </a:lnTo>
                  <a:lnTo>
                    <a:pt x="1020" y="178"/>
                  </a:lnTo>
                  <a:lnTo>
                    <a:pt x="1000" y="178"/>
                  </a:lnTo>
                  <a:lnTo>
                    <a:pt x="985" y="168"/>
                  </a:lnTo>
                  <a:lnTo>
                    <a:pt x="970" y="163"/>
                  </a:lnTo>
                  <a:lnTo>
                    <a:pt x="950" y="158"/>
                  </a:lnTo>
                  <a:lnTo>
                    <a:pt x="935" y="158"/>
                  </a:lnTo>
                  <a:lnTo>
                    <a:pt x="920" y="148"/>
                  </a:lnTo>
                  <a:lnTo>
                    <a:pt x="900" y="143"/>
                  </a:lnTo>
                  <a:lnTo>
                    <a:pt x="885" y="138"/>
                  </a:lnTo>
                  <a:lnTo>
                    <a:pt x="870" y="133"/>
                  </a:lnTo>
                  <a:lnTo>
                    <a:pt x="850" y="128"/>
                  </a:lnTo>
                  <a:lnTo>
                    <a:pt x="834" y="128"/>
                  </a:lnTo>
                  <a:lnTo>
                    <a:pt x="819" y="119"/>
                  </a:lnTo>
                  <a:lnTo>
                    <a:pt x="799" y="119"/>
                  </a:lnTo>
                  <a:lnTo>
                    <a:pt x="784" y="114"/>
                  </a:lnTo>
                  <a:lnTo>
                    <a:pt x="769" y="109"/>
                  </a:lnTo>
                  <a:lnTo>
                    <a:pt x="749" y="99"/>
                  </a:lnTo>
                  <a:lnTo>
                    <a:pt x="734" y="99"/>
                  </a:lnTo>
                  <a:lnTo>
                    <a:pt x="719" y="94"/>
                  </a:lnTo>
                  <a:lnTo>
                    <a:pt x="699" y="89"/>
                  </a:lnTo>
                  <a:lnTo>
                    <a:pt x="684" y="84"/>
                  </a:lnTo>
                  <a:lnTo>
                    <a:pt x="669" y="79"/>
                  </a:lnTo>
                  <a:lnTo>
                    <a:pt x="649" y="74"/>
                  </a:lnTo>
                  <a:lnTo>
                    <a:pt x="633" y="69"/>
                  </a:lnTo>
                  <a:lnTo>
                    <a:pt x="618" y="64"/>
                  </a:lnTo>
                  <a:lnTo>
                    <a:pt x="598" y="59"/>
                  </a:lnTo>
                  <a:lnTo>
                    <a:pt x="583" y="54"/>
                  </a:lnTo>
                  <a:lnTo>
                    <a:pt x="568" y="49"/>
                  </a:lnTo>
                  <a:lnTo>
                    <a:pt x="548" y="45"/>
                  </a:lnTo>
                  <a:lnTo>
                    <a:pt x="533" y="40"/>
                  </a:lnTo>
                  <a:lnTo>
                    <a:pt x="518" y="35"/>
                  </a:lnTo>
                  <a:lnTo>
                    <a:pt x="498" y="30"/>
                  </a:lnTo>
                  <a:lnTo>
                    <a:pt x="483" y="25"/>
                  </a:lnTo>
                  <a:lnTo>
                    <a:pt x="473" y="20"/>
                  </a:lnTo>
                  <a:lnTo>
                    <a:pt x="458" y="15"/>
                  </a:lnTo>
                  <a:lnTo>
                    <a:pt x="442" y="15"/>
                  </a:lnTo>
                  <a:lnTo>
                    <a:pt x="432" y="10"/>
                  </a:lnTo>
                  <a:lnTo>
                    <a:pt x="417" y="10"/>
                  </a:lnTo>
                  <a:lnTo>
                    <a:pt x="407" y="5"/>
                  </a:lnTo>
                  <a:lnTo>
                    <a:pt x="397" y="5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62" y="0"/>
                  </a:lnTo>
                  <a:lnTo>
                    <a:pt x="352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17" y="0"/>
                  </a:lnTo>
                  <a:lnTo>
                    <a:pt x="302" y="0"/>
                  </a:lnTo>
                  <a:lnTo>
                    <a:pt x="287" y="0"/>
                  </a:lnTo>
                  <a:lnTo>
                    <a:pt x="272" y="5"/>
                  </a:lnTo>
                  <a:lnTo>
                    <a:pt x="257" y="5"/>
                  </a:lnTo>
                  <a:lnTo>
                    <a:pt x="247" y="15"/>
                  </a:lnTo>
                  <a:lnTo>
                    <a:pt x="236" y="20"/>
                  </a:lnTo>
                  <a:lnTo>
                    <a:pt x="221" y="25"/>
                  </a:lnTo>
                  <a:lnTo>
                    <a:pt x="211" y="30"/>
                  </a:lnTo>
                  <a:lnTo>
                    <a:pt x="201" y="40"/>
                  </a:lnTo>
                  <a:lnTo>
                    <a:pt x="186" y="49"/>
                  </a:lnTo>
                  <a:lnTo>
                    <a:pt x="176" y="59"/>
                  </a:lnTo>
                  <a:lnTo>
                    <a:pt x="166" y="69"/>
                  </a:lnTo>
                  <a:lnTo>
                    <a:pt x="156" y="79"/>
                  </a:lnTo>
                  <a:lnTo>
                    <a:pt x="146" y="94"/>
                  </a:lnTo>
                  <a:lnTo>
                    <a:pt x="131" y="109"/>
                  </a:lnTo>
                  <a:lnTo>
                    <a:pt x="116" y="119"/>
                  </a:lnTo>
                  <a:lnTo>
                    <a:pt x="106" y="133"/>
                  </a:lnTo>
                  <a:lnTo>
                    <a:pt x="91" y="148"/>
                  </a:lnTo>
                  <a:lnTo>
                    <a:pt x="76" y="163"/>
                  </a:lnTo>
                  <a:lnTo>
                    <a:pt x="61" y="178"/>
                  </a:lnTo>
                  <a:lnTo>
                    <a:pt x="40" y="197"/>
                  </a:lnTo>
                  <a:lnTo>
                    <a:pt x="20" y="212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0" y="286"/>
                  </a:lnTo>
                  <a:lnTo>
                    <a:pt x="4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 rot="9362400">
              <a:off x="1118160" y="782640"/>
              <a:ext cx="3527640" cy="953640"/>
            </a:xfrm>
            <a:custGeom>
              <a:avLst/>
              <a:gdLst/>
              <a:ahLst/>
              <a:rect l="l" t="t" r="r" b="b"/>
              <a:pathLst>
                <a:path w="2222" h="601">
                  <a:moveTo>
                    <a:pt x="5" y="231"/>
                  </a:moveTo>
                  <a:lnTo>
                    <a:pt x="21" y="226"/>
                  </a:lnTo>
                  <a:lnTo>
                    <a:pt x="36" y="222"/>
                  </a:lnTo>
                  <a:lnTo>
                    <a:pt x="56" y="217"/>
                  </a:lnTo>
                  <a:lnTo>
                    <a:pt x="71" y="212"/>
                  </a:lnTo>
                  <a:lnTo>
                    <a:pt x="86" y="207"/>
                  </a:lnTo>
                  <a:lnTo>
                    <a:pt x="106" y="202"/>
                  </a:lnTo>
                  <a:lnTo>
                    <a:pt x="121" y="197"/>
                  </a:lnTo>
                  <a:lnTo>
                    <a:pt x="136" y="192"/>
                  </a:lnTo>
                  <a:lnTo>
                    <a:pt x="151" y="187"/>
                  </a:lnTo>
                  <a:lnTo>
                    <a:pt x="171" y="182"/>
                  </a:lnTo>
                  <a:lnTo>
                    <a:pt x="186" y="177"/>
                  </a:lnTo>
                  <a:lnTo>
                    <a:pt x="201" y="172"/>
                  </a:lnTo>
                  <a:lnTo>
                    <a:pt x="216" y="167"/>
                  </a:lnTo>
                  <a:lnTo>
                    <a:pt x="237" y="162"/>
                  </a:lnTo>
                  <a:lnTo>
                    <a:pt x="252" y="162"/>
                  </a:lnTo>
                  <a:lnTo>
                    <a:pt x="267" y="157"/>
                  </a:lnTo>
                  <a:lnTo>
                    <a:pt x="282" y="153"/>
                  </a:lnTo>
                  <a:lnTo>
                    <a:pt x="302" y="148"/>
                  </a:lnTo>
                  <a:lnTo>
                    <a:pt x="317" y="143"/>
                  </a:lnTo>
                  <a:lnTo>
                    <a:pt x="332" y="143"/>
                  </a:lnTo>
                  <a:lnTo>
                    <a:pt x="352" y="138"/>
                  </a:lnTo>
                  <a:lnTo>
                    <a:pt x="367" y="138"/>
                  </a:lnTo>
                  <a:lnTo>
                    <a:pt x="382" y="138"/>
                  </a:lnTo>
                  <a:lnTo>
                    <a:pt x="402" y="138"/>
                  </a:lnTo>
                  <a:lnTo>
                    <a:pt x="418" y="133"/>
                  </a:lnTo>
                  <a:lnTo>
                    <a:pt x="438" y="133"/>
                  </a:lnTo>
                  <a:lnTo>
                    <a:pt x="453" y="133"/>
                  </a:lnTo>
                  <a:lnTo>
                    <a:pt x="473" y="138"/>
                  </a:lnTo>
                  <a:lnTo>
                    <a:pt x="488" y="138"/>
                  </a:lnTo>
                  <a:lnTo>
                    <a:pt x="508" y="143"/>
                  </a:lnTo>
                  <a:lnTo>
                    <a:pt x="528" y="148"/>
                  </a:lnTo>
                  <a:lnTo>
                    <a:pt x="548" y="153"/>
                  </a:lnTo>
                  <a:lnTo>
                    <a:pt x="2191" y="601"/>
                  </a:lnTo>
                  <a:lnTo>
                    <a:pt x="2201" y="596"/>
                  </a:lnTo>
                  <a:lnTo>
                    <a:pt x="2212" y="591"/>
                  </a:lnTo>
                  <a:lnTo>
                    <a:pt x="2217" y="582"/>
                  </a:lnTo>
                  <a:lnTo>
                    <a:pt x="2222" y="577"/>
                  </a:lnTo>
                  <a:lnTo>
                    <a:pt x="2222" y="562"/>
                  </a:lnTo>
                  <a:lnTo>
                    <a:pt x="2222" y="547"/>
                  </a:lnTo>
                  <a:lnTo>
                    <a:pt x="2222" y="527"/>
                  </a:lnTo>
                  <a:lnTo>
                    <a:pt x="2217" y="513"/>
                  </a:lnTo>
                  <a:lnTo>
                    <a:pt x="769" y="93"/>
                  </a:lnTo>
                  <a:lnTo>
                    <a:pt x="759" y="88"/>
                  </a:lnTo>
                  <a:lnTo>
                    <a:pt x="744" y="83"/>
                  </a:lnTo>
                  <a:lnTo>
                    <a:pt x="729" y="79"/>
                  </a:lnTo>
                  <a:lnTo>
                    <a:pt x="719" y="74"/>
                  </a:lnTo>
                  <a:lnTo>
                    <a:pt x="704" y="69"/>
                  </a:lnTo>
                  <a:lnTo>
                    <a:pt x="694" y="64"/>
                  </a:lnTo>
                  <a:lnTo>
                    <a:pt x="679" y="59"/>
                  </a:lnTo>
                  <a:lnTo>
                    <a:pt x="669" y="59"/>
                  </a:lnTo>
                  <a:lnTo>
                    <a:pt x="654" y="49"/>
                  </a:lnTo>
                  <a:lnTo>
                    <a:pt x="639" y="44"/>
                  </a:lnTo>
                  <a:lnTo>
                    <a:pt x="629" y="44"/>
                  </a:lnTo>
                  <a:lnTo>
                    <a:pt x="613" y="39"/>
                  </a:lnTo>
                  <a:lnTo>
                    <a:pt x="598" y="34"/>
                  </a:lnTo>
                  <a:lnTo>
                    <a:pt x="588" y="29"/>
                  </a:lnTo>
                  <a:lnTo>
                    <a:pt x="573" y="29"/>
                  </a:lnTo>
                  <a:lnTo>
                    <a:pt x="563" y="24"/>
                  </a:lnTo>
                  <a:lnTo>
                    <a:pt x="548" y="19"/>
                  </a:lnTo>
                  <a:lnTo>
                    <a:pt x="533" y="19"/>
                  </a:lnTo>
                  <a:lnTo>
                    <a:pt x="518" y="14"/>
                  </a:lnTo>
                  <a:lnTo>
                    <a:pt x="508" y="14"/>
                  </a:lnTo>
                  <a:lnTo>
                    <a:pt x="493" y="9"/>
                  </a:lnTo>
                  <a:lnTo>
                    <a:pt x="478" y="9"/>
                  </a:lnTo>
                  <a:lnTo>
                    <a:pt x="463" y="5"/>
                  </a:lnTo>
                  <a:lnTo>
                    <a:pt x="453" y="5"/>
                  </a:lnTo>
                  <a:lnTo>
                    <a:pt x="438" y="5"/>
                  </a:lnTo>
                  <a:lnTo>
                    <a:pt x="423" y="0"/>
                  </a:lnTo>
                  <a:lnTo>
                    <a:pt x="407" y="0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57" y="0"/>
                  </a:lnTo>
                  <a:lnTo>
                    <a:pt x="342" y="0"/>
                  </a:lnTo>
                  <a:lnTo>
                    <a:pt x="327" y="0"/>
                  </a:lnTo>
                  <a:lnTo>
                    <a:pt x="317" y="0"/>
                  </a:lnTo>
                  <a:lnTo>
                    <a:pt x="302" y="5"/>
                  </a:lnTo>
                  <a:lnTo>
                    <a:pt x="292" y="5"/>
                  </a:lnTo>
                  <a:lnTo>
                    <a:pt x="277" y="5"/>
                  </a:lnTo>
                  <a:lnTo>
                    <a:pt x="262" y="9"/>
                  </a:lnTo>
                  <a:lnTo>
                    <a:pt x="252" y="9"/>
                  </a:lnTo>
                  <a:lnTo>
                    <a:pt x="242" y="14"/>
                  </a:lnTo>
                  <a:lnTo>
                    <a:pt x="227" y="19"/>
                  </a:lnTo>
                  <a:lnTo>
                    <a:pt x="216" y="24"/>
                  </a:lnTo>
                  <a:lnTo>
                    <a:pt x="201" y="29"/>
                  </a:lnTo>
                  <a:lnTo>
                    <a:pt x="191" y="34"/>
                  </a:lnTo>
                  <a:lnTo>
                    <a:pt x="181" y="34"/>
                  </a:lnTo>
                  <a:lnTo>
                    <a:pt x="171" y="44"/>
                  </a:lnTo>
                  <a:lnTo>
                    <a:pt x="156" y="49"/>
                  </a:lnTo>
                  <a:lnTo>
                    <a:pt x="151" y="59"/>
                  </a:lnTo>
                  <a:lnTo>
                    <a:pt x="136" y="64"/>
                  </a:lnTo>
                  <a:lnTo>
                    <a:pt x="126" y="69"/>
                  </a:lnTo>
                  <a:lnTo>
                    <a:pt x="116" y="74"/>
                  </a:lnTo>
                  <a:lnTo>
                    <a:pt x="106" y="83"/>
                  </a:lnTo>
                  <a:lnTo>
                    <a:pt x="91" y="93"/>
                  </a:lnTo>
                  <a:lnTo>
                    <a:pt x="86" y="103"/>
                  </a:lnTo>
                  <a:lnTo>
                    <a:pt x="76" y="113"/>
                  </a:lnTo>
                  <a:lnTo>
                    <a:pt x="66" y="123"/>
                  </a:lnTo>
                  <a:lnTo>
                    <a:pt x="56" y="133"/>
                  </a:lnTo>
                  <a:lnTo>
                    <a:pt x="51" y="143"/>
                  </a:lnTo>
                  <a:lnTo>
                    <a:pt x="41" y="157"/>
                  </a:lnTo>
                  <a:lnTo>
                    <a:pt x="31" y="167"/>
                  </a:lnTo>
                  <a:lnTo>
                    <a:pt x="21" y="182"/>
                  </a:lnTo>
                  <a:lnTo>
                    <a:pt x="15" y="197"/>
                  </a:lnTo>
                  <a:lnTo>
                    <a:pt x="10" y="207"/>
                  </a:lnTo>
                  <a:lnTo>
                    <a:pt x="5" y="226"/>
                  </a:lnTo>
                  <a:lnTo>
                    <a:pt x="0" y="226"/>
                  </a:lnTo>
                  <a:lnTo>
                    <a:pt x="5" y="231"/>
                  </a:lnTo>
                  <a:lnTo>
                    <a:pt x="5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flipV="1" rot="9362400">
              <a:off x="7391520" y="958680"/>
              <a:ext cx="1922400" cy="4305240"/>
            </a:xfrm>
            <a:custGeom>
              <a:avLst/>
              <a:gdLst/>
              <a:ahLst/>
              <a:rect l="l" t="t" r="r" b="b"/>
              <a:pathLst>
                <a:path w="1211" h="2712">
                  <a:moveTo>
                    <a:pt x="1101" y="113"/>
                  </a:moveTo>
                  <a:lnTo>
                    <a:pt x="1101" y="123"/>
                  </a:lnTo>
                  <a:lnTo>
                    <a:pt x="1101" y="133"/>
                  </a:lnTo>
                  <a:lnTo>
                    <a:pt x="1096" y="143"/>
                  </a:lnTo>
                  <a:lnTo>
                    <a:pt x="1096" y="158"/>
                  </a:lnTo>
                  <a:lnTo>
                    <a:pt x="1096" y="168"/>
                  </a:lnTo>
                  <a:lnTo>
                    <a:pt x="1096" y="178"/>
                  </a:lnTo>
                  <a:lnTo>
                    <a:pt x="1091" y="187"/>
                  </a:lnTo>
                  <a:lnTo>
                    <a:pt x="1091" y="202"/>
                  </a:lnTo>
                  <a:lnTo>
                    <a:pt x="1086" y="212"/>
                  </a:lnTo>
                  <a:lnTo>
                    <a:pt x="1086" y="222"/>
                  </a:lnTo>
                  <a:lnTo>
                    <a:pt x="1086" y="232"/>
                  </a:lnTo>
                  <a:lnTo>
                    <a:pt x="1081" y="242"/>
                  </a:lnTo>
                  <a:lnTo>
                    <a:pt x="1081" y="256"/>
                  </a:lnTo>
                  <a:lnTo>
                    <a:pt x="1081" y="266"/>
                  </a:lnTo>
                  <a:lnTo>
                    <a:pt x="1076" y="276"/>
                  </a:lnTo>
                  <a:lnTo>
                    <a:pt x="1076" y="291"/>
                  </a:lnTo>
                  <a:lnTo>
                    <a:pt x="1071" y="301"/>
                  </a:lnTo>
                  <a:lnTo>
                    <a:pt x="1071" y="311"/>
                  </a:lnTo>
                  <a:lnTo>
                    <a:pt x="1066" y="321"/>
                  </a:lnTo>
                  <a:lnTo>
                    <a:pt x="1066" y="330"/>
                  </a:lnTo>
                  <a:lnTo>
                    <a:pt x="1061" y="340"/>
                  </a:lnTo>
                  <a:lnTo>
                    <a:pt x="1056" y="355"/>
                  </a:lnTo>
                  <a:lnTo>
                    <a:pt x="1056" y="365"/>
                  </a:lnTo>
                  <a:lnTo>
                    <a:pt x="1051" y="375"/>
                  </a:lnTo>
                  <a:lnTo>
                    <a:pt x="1046" y="385"/>
                  </a:lnTo>
                  <a:lnTo>
                    <a:pt x="1046" y="395"/>
                  </a:lnTo>
                  <a:lnTo>
                    <a:pt x="1041" y="404"/>
                  </a:lnTo>
                  <a:lnTo>
                    <a:pt x="1041" y="419"/>
                  </a:lnTo>
                  <a:lnTo>
                    <a:pt x="1036" y="429"/>
                  </a:lnTo>
                  <a:lnTo>
                    <a:pt x="1031" y="439"/>
                  </a:lnTo>
                  <a:lnTo>
                    <a:pt x="1031" y="449"/>
                  </a:lnTo>
                  <a:lnTo>
                    <a:pt x="1026" y="464"/>
                  </a:lnTo>
                  <a:lnTo>
                    <a:pt x="1021" y="469"/>
                  </a:lnTo>
                  <a:lnTo>
                    <a:pt x="1016" y="483"/>
                  </a:lnTo>
                  <a:lnTo>
                    <a:pt x="1016" y="488"/>
                  </a:lnTo>
                  <a:lnTo>
                    <a:pt x="1010" y="503"/>
                  </a:lnTo>
                  <a:lnTo>
                    <a:pt x="1005" y="513"/>
                  </a:lnTo>
                  <a:lnTo>
                    <a:pt x="1000" y="523"/>
                  </a:lnTo>
                  <a:lnTo>
                    <a:pt x="995" y="533"/>
                  </a:lnTo>
                  <a:lnTo>
                    <a:pt x="995" y="543"/>
                  </a:lnTo>
                  <a:lnTo>
                    <a:pt x="985" y="552"/>
                  </a:lnTo>
                  <a:lnTo>
                    <a:pt x="985" y="562"/>
                  </a:lnTo>
                  <a:lnTo>
                    <a:pt x="980" y="572"/>
                  </a:lnTo>
                  <a:lnTo>
                    <a:pt x="975" y="582"/>
                  </a:lnTo>
                  <a:lnTo>
                    <a:pt x="970" y="592"/>
                  </a:lnTo>
                  <a:lnTo>
                    <a:pt x="965" y="602"/>
                  </a:lnTo>
                  <a:lnTo>
                    <a:pt x="965" y="616"/>
                  </a:lnTo>
                  <a:lnTo>
                    <a:pt x="960" y="626"/>
                  </a:lnTo>
                  <a:lnTo>
                    <a:pt x="955" y="636"/>
                  </a:lnTo>
                  <a:lnTo>
                    <a:pt x="950" y="646"/>
                  </a:lnTo>
                  <a:lnTo>
                    <a:pt x="945" y="656"/>
                  </a:lnTo>
                  <a:lnTo>
                    <a:pt x="940" y="666"/>
                  </a:lnTo>
                  <a:lnTo>
                    <a:pt x="935" y="676"/>
                  </a:lnTo>
                  <a:lnTo>
                    <a:pt x="930" y="686"/>
                  </a:lnTo>
                  <a:lnTo>
                    <a:pt x="925" y="695"/>
                  </a:lnTo>
                  <a:lnTo>
                    <a:pt x="920" y="705"/>
                  </a:lnTo>
                  <a:lnTo>
                    <a:pt x="915" y="715"/>
                  </a:lnTo>
                  <a:lnTo>
                    <a:pt x="910" y="725"/>
                  </a:lnTo>
                  <a:lnTo>
                    <a:pt x="905" y="735"/>
                  </a:lnTo>
                  <a:lnTo>
                    <a:pt x="900" y="745"/>
                  </a:lnTo>
                  <a:lnTo>
                    <a:pt x="895" y="755"/>
                  </a:lnTo>
                  <a:lnTo>
                    <a:pt x="895" y="764"/>
                  </a:lnTo>
                  <a:lnTo>
                    <a:pt x="885" y="774"/>
                  </a:lnTo>
                  <a:lnTo>
                    <a:pt x="885" y="789"/>
                  </a:lnTo>
                  <a:lnTo>
                    <a:pt x="880" y="794"/>
                  </a:lnTo>
                  <a:lnTo>
                    <a:pt x="870" y="809"/>
                  </a:lnTo>
                  <a:lnTo>
                    <a:pt x="865" y="819"/>
                  </a:lnTo>
                  <a:lnTo>
                    <a:pt x="860" y="829"/>
                  </a:lnTo>
                  <a:lnTo>
                    <a:pt x="855" y="838"/>
                  </a:lnTo>
                  <a:lnTo>
                    <a:pt x="850" y="848"/>
                  </a:lnTo>
                  <a:lnTo>
                    <a:pt x="845" y="858"/>
                  </a:lnTo>
                  <a:lnTo>
                    <a:pt x="840" y="868"/>
                  </a:lnTo>
                  <a:lnTo>
                    <a:pt x="835" y="883"/>
                  </a:lnTo>
                  <a:lnTo>
                    <a:pt x="830" y="893"/>
                  </a:lnTo>
                  <a:lnTo>
                    <a:pt x="825" y="903"/>
                  </a:lnTo>
                  <a:lnTo>
                    <a:pt x="820" y="912"/>
                  </a:lnTo>
                  <a:lnTo>
                    <a:pt x="814" y="922"/>
                  </a:lnTo>
                  <a:lnTo>
                    <a:pt x="809" y="937"/>
                  </a:lnTo>
                  <a:lnTo>
                    <a:pt x="804" y="947"/>
                  </a:lnTo>
                  <a:lnTo>
                    <a:pt x="804" y="957"/>
                  </a:lnTo>
                  <a:lnTo>
                    <a:pt x="799" y="967"/>
                  </a:lnTo>
                  <a:lnTo>
                    <a:pt x="794" y="981"/>
                  </a:lnTo>
                  <a:lnTo>
                    <a:pt x="789" y="991"/>
                  </a:lnTo>
                  <a:lnTo>
                    <a:pt x="784" y="1001"/>
                  </a:lnTo>
                  <a:lnTo>
                    <a:pt x="779" y="1011"/>
                  </a:lnTo>
                  <a:lnTo>
                    <a:pt x="779" y="1021"/>
                  </a:lnTo>
                  <a:lnTo>
                    <a:pt x="774" y="1036"/>
                  </a:lnTo>
                  <a:lnTo>
                    <a:pt x="769" y="1046"/>
                  </a:lnTo>
                  <a:lnTo>
                    <a:pt x="764" y="1055"/>
                  </a:lnTo>
                  <a:lnTo>
                    <a:pt x="759" y="1065"/>
                  </a:lnTo>
                  <a:lnTo>
                    <a:pt x="754" y="1080"/>
                  </a:lnTo>
                  <a:lnTo>
                    <a:pt x="754" y="1090"/>
                  </a:lnTo>
                  <a:lnTo>
                    <a:pt x="749" y="1100"/>
                  </a:lnTo>
                  <a:lnTo>
                    <a:pt x="744" y="1110"/>
                  </a:lnTo>
                  <a:lnTo>
                    <a:pt x="739" y="1119"/>
                  </a:lnTo>
                  <a:lnTo>
                    <a:pt x="734" y="1134"/>
                  </a:lnTo>
                  <a:lnTo>
                    <a:pt x="729" y="1144"/>
                  </a:lnTo>
                  <a:lnTo>
                    <a:pt x="729" y="1154"/>
                  </a:lnTo>
                  <a:lnTo>
                    <a:pt x="724" y="1164"/>
                  </a:lnTo>
                  <a:lnTo>
                    <a:pt x="719" y="1179"/>
                  </a:lnTo>
                  <a:lnTo>
                    <a:pt x="714" y="1189"/>
                  </a:lnTo>
                  <a:lnTo>
                    <a:pt x="709" y="1198"/>
                  </a:lnTo>
                  <a:lnTo>
                    <a:pt x="704" y="1208"/>
                  </a:lnTo>
                  <a:lnTo>
                    <a:pt x="704" y="1218"/>
                  </a:lnTo>
                  <a:lnTo>
                    <a:pt x="699" y="1233"/>
                  </a:lnTo>
                  <a:lnTo>
                    <a:pt x="694" y="1243"/>
                  </a:lnTo>
                  <a:lnTo>
                    <a:pt x="689" y="1253"/>
                  </a:lnTo>
                  <a:lnTo>
                    <a:pt x="684" y="1263"/>
                  </a:lnTo>
                  <a:lnTo>
                    <a:pt x="679" y="1277"/>
                  </a:lnTo>
                  <a:lnTo>
                    <a:pt x="679" y="1287"/>
                  </a:lnTo>
                  <a:lnTo>
                    <a:pt x="674" y="1297"/>
                  </a:lnTo>
                  <a:lnTo>
                    <a:pt x="669" y="1307"/>
                  </a:lnTo>
                  <a:lnTo>
                    <a:pt x="664" y="1317"/>
                  </a:lnTo>
                  <a:lnTo>
                    <a:pt x="664" y="1327"/>
                  </a:lnTo>
                  <a:lnTo>
                    <a:pt x="654" y="1341"/>
                  </a:lnTo>
                  <a:lnTo>
                    <a:pt x="654" y="1351"/>
                  </a:lnTo>
                  <a:lnTo>
                    <a:pt x="649" y="1361"/>
                  </a:lnTo>
                  <a:lnTo>
                    <a:pt x="644" y="1371"/>
                  </a:lnTo>
                  <a:lnTo>
                    <a:pt x="639" y="1386"/>
                  </a:lnTo>
                  <a:lnTo>
                    <a:pt x="634" y="1396"/>
                  </a:lnTo>
                  <a:lnTo>
                    <a:pt x="629" y="1406"/>
                  </a:lnTo>
                  <a:lnTo>
                    <a:pt x="629" y="1415"/>
                  </a:lnTo>
                  <a:lnTo>
                    <a:pt x="624" y="1425"/>
                  </a:lnTo>
                  <a:lnTo>
                    <a:pt x="619" y="1440"/>
                  </a:lnTo>
                  <a:lnTo>
                    <a:pt x="613" y="1450"/>
                  </a:lnTo>
                  <a:lnTo>
                    <a:pt x="608" y="1460"/>
                  </a:lnTo>
                  <a:lnTo>
                    <a:pt x="603" y="1470"/>
                  </a:lnTo>
                  <a:lnTo>
                    <a:pt x="603" y="1484"/>
                  </a:lnTo>
                  <a:lnTo>
                    <a:pt x="593" y="1499"/>
                  </a:lnTo>
                  <a:lnTo>
                    <a:pt x="583" y="1514"/>
                  </a:lnTo>
                  <a:lnTo>
                    <a:pt x="578" y="1534"/>
                  </a:lnTo>
                  <a:lnTo>
                    <a:pt x="568" y="1549"/>
                  </a:lnTo>
                  <a:lnTo>
                    <a:pt x="563" y="1568"/>
                  </a:lnTo>
                  <a:lnTo>
                    <a:pt x="553" y="1583"/>
                  </a:lnTo>
                  <a:lnTo>
                    <a:pt x="548" y="1603"/>
                  </a:lnTo>
                  <a:lnTo>
                    <a:pt x="538" y="1618"/>
                  </a:lnTo>
                  <a:lnTo>
                    <a:pt x="533" y="1637"/>
                  </a:lnTo>
                  <a:lnTo>
                    <a:pt x="528" y="1652"/>
                  </a:lnTo>
                  <a:lnTo>
                    <a:pt x="518" y="1667"/>
                  </a:lnTo>
                  <a:lnTo>
                    <a:pt x="513" y="1687"/>
                  </a:lnTo>
                  <a:lnTo>
                    <a:pt x="503" y="1701"/>
                  </a:lnTo>
                  <a:lnTo>
                    <a:pt x="498" y="1721"/>
                  </a:lnTo>
                  <a:lnTo>
                    <a:pt x="488" y="1741"/>
                  </a:lnTo>
                  <a:lnTo>
                    <a:pt x="483" y="1761"/>
                  </a:lnTo>
                  <a:lnTo>
                    <a:pt x="478" y="1775"/>
                  </a:lnTo>
                  <a:lnTo>
                    <a:pt x="468" y="1795"/>
                  </a:lnTo>
                  <a:lnTo>
                    <a:pt x="463" y="1810"/>
                  </a:lnTo>
                  <a:lnTo>
                    <a:pt x="453" y="1830"/>
                  </a:lnTo>
                  <a:lnTo>
                    <a:pt x="448" y="1844"/>
                  </a:lnTo>
                  <a:lnTo>
                    <a:pt x="438" y="1864"/>
                  </a:lnTo>
                  <a:lnTo>
                    <a:pt x="433" y="1879"/>
                  </a:lnTo>
                  <a:lnTo>
                    <a:pt x="428" y="1899"/>
                  </a:lnTo>
                  <a:lnTo>
                    <a:pt x="418" y="1913"/>
                  </a:lnTo>
                  <a:lnTo>
                    <a:pt x="412" y="1933"/>
                  </a:lnTo>
                  <a:lnTo>
                    <a:pt x="402" y="1953"/>
                  </a:lnTo>
                  <a:lnTo>
                    <a:pt x="397" y="1973"/>
                  </a:lnTo>
                  <a:lnTo>
                    <a:pt x="392" y="1987"/>
                  </a:lnTo>
                  <a:lnTo>
                    <a:pt x="382" y="2007"/>
                  </a:lnTo>
                  <a:lnTo>
                    <a:pt x="377" y="2022"/>
                  </a:lnTo>
                  <a:lnTo>
                    <a:pt x="372" y="2042"/>
                  </a:lnTo>
                  <a:lnTo>
                    <a:pt x="362" y="2061"/>
                  </a:lnTo>
                  <a:lnTo>
                    <a:pt x="357" y="2081"/>
                  </a:lnTo>
                  <a:lnTo>
                    <a:pt x="347" y="2101"/>
                  </a:lnTo>
                  <a:lnTo>
                    <a:pt x="342" y="2121"/>
                  </a:lnTo>
                  <a:lnTo>
                    <a:pt x="337" y="2126"/>
                  </a:lnTo>
                  <a:lnTo>
                    <a:pt x="332" y="2140"/>
                  </a:lnTo>
                  <a:lnTo>
                    <a:pt x="327" y="2150"/>
                  </a:lnTo>
                  <a:lnTo>
                    <a:pt x="327" y="2160"/>
                  </a:lnTo>
                  <a:lnTo>
                    <a:pt x="322" y="2170"/>
                  </a:lnTo>
                  <a:lnTo>
                    <a:pt x="317" y="2180"/>
                  </a:lnTo>
                  <a:lnTo>
                    <a:pt x="312" y="2190"/>
                  </a:lnTo>
                  <a:lnTo>
                    <a:pt x="312" y="2199"/>
                  </a:lnTo>
                  <a:lnTo>
                    <a:pt x="307" y="2209"/>
                  </a:lnTo>
                  <a:lnTo>
                    <a:pt x="302" y="2219"/>
                  </a:lnTo>
                  <a:lnTo>
                    <a:pt x="297" y="2229"/>
                  </a:lnTo>
                  <a:lnTo>
                    <a:pt x="297" y="2239"/>
                  </a:lnTo>
                  <a:lnTo>
                    <a:pt x="287" y="2249"/>
                  </a:lnTo>
                  <a:lnTo>
                    <a:pt x="287" y="2264"/>
                  </a:lnTo>
                  <a:lnTo>
                    <a:pt x="282" y="2273"/>
                  </a:lnTo>
                  <a:lnTo>
                    <a:pt x="282" y="2283"/>
                  </a:lnTo>
                  <a:lnTo>
                    <a:pt x="277" y="2293"/>
                  </a:lnTo>
                  <a:lnTo>
                    <a:pt x="272" y="2303"/>
                  </a:lnTo>
                  <a:lnTo>
                    <a:pt x="267" y="2313"/>
                  </a:lnTo>
                  <a:lnTo>
                    <a:pt x="262" y="2323"/>
                  </a:lnTo>
                  <a:lnTo>
                    <a:pt x="257" y="2333"/>
                  </a:lnTo>
                  <a:lnTo>
                    <a:pt x="252" y="2343"/>
                  </a:lnTo>
                  <a:lnTo>
                    <a:pt x="247" y="2352"/>
                  </a:lnTo>
                  <a:lnTo>
                    <a:pt x="247" y="2367"/>
                  </a:lnTo>
                  <a:lnTo>
                    <a:pt x="232" y="2382"/>
                  </a:lnTo>
                  <a:lnTo>
                    <a:pt x="222" y="2402"/>
                  </a:lnTo>
                  <a:lnTo>
                    <a:pt x="211" y="2421"/>
                  </a:lnTo>
                  <a:lnTo>
                    <a:pt x="201" y="2441"/>
                  </a:lnTo>
                  <a:lnTo>
                    <a:pt x="186" y="2456"/>
                  </a:lnTo>
                  <a:lnTo>
                    <a:pt x="176" y="2476"/>
                  </a:lnTo>
                  <a:lnTo>
                    <a:pt x="166" y="2495"/>
                  </a:lnTo>
                  <a:lnTo>
                    <a:pt x="151" y="2510"/>
                  </a:lnTo>
                  <a:lnTo>
                    <a:pt x="136" y="2525"/>
                  </a:lnTo>
                  <a:lnTo>
                    <a:pt x="126" y="2545"/>
                  </a:lnTo>
                  <a:lnTo>
                    <a:pt x="111" y="2559"/>
                  </a:lnTo>
                  <a:lnTo>
                    <a:pt x="96" y="2574"/>
                  </a:lnTo>
                  <a:lnTo>
                    <a:pt x="76" y="2584"/>
                  </a:lnTo>
                  <a:lnTo>
                    <a:pt x="61" y="2599"/>
                  </a:lnTo>
                  <a:lnTo>
                    <a:pt x="41" y="2614"/>
                  </a:lnTo>
                  <a:lnTo>
                    <a:pt x="21" y="2624"/>
                  </a:lnTo>
                  <a:lnTo>
                    <a:pt x="10" y="2633"/>
                  </a:lnTo>
                  <a:lnTo>
                    <a:pt x="0" y="2648"/>
                  </a:lnTo>
                  <a:lnTo>
                    <a:pt x="0" y="2663"/>
                  </a:lnTo>
                  <a:lnTo>
                    <a:pt x="0" y="2678"/>
                  </a:lnTo>
                  <a:lnTo>
                    <a:pt x="10" y="2688"/>
                  </a:lnTo>
                  <a:lnTo>
                    <a:pt x="21" y="2703"/>
                  </a:lnTo>
                  <a:lnTo>
                    <a:pt x="31" y="2707"/>
                  </a:lnTo>
                  <a:lnTo>
                    <a:pt x="51" y="2712"/>
                  </a:lnTo>
                  <a:lnTo>
                    <a:pt x="61" y="2707"/>
                  </a:lnTo>
                  <a:lnTo>
                    <a:pt x="71" y="2707"/>
                  </a:lnTo>
                  <a:lnTo>
                    <a:pt x="86" y="2707"/>
                  </a:lnTo>
                  <a:lnTo>
                    <a:pt x="101" y="2707"/>
                  </a:lnTo>
                  <a:lnTo>
                    <a:pt x="111" y="2707"/>
                  </a:lnTo>
                  <a:lnTo>
                    <a:pt x="121" y="2707"/>
                  </a:lnTo>
                  <a:lnTo>
                    <a:pt x="131" y="2703"/>
                  </a:lnTo>
                  <a:lnTo>
                    <a:pt x="146" y="2703"/>
                  </a:lnTo>
                  <a:lnTo>
                    <a:pt x="161" y="2693"/>
                  </a:lnTo>
                  <a:lnTo>
                    <a:pt x="181" y="2688"/>
                  </a:lnTo>
                  <a:lnTo>
                    <a:pt x="201" y="2678"/>
                  </a:lnTo>
                  <a:lnTo>
                    <a:pt x="222" y="2668"/>
                  </a:lnTo>
                  <a:lnTo>
                    <a:pt x="237" y="2653"/>
                  </a:lnTo>
                  <a:lnTo>
                    <a:pt x="252" y="2638"/>
                  </a:lnTo>
                  <a:lnTo>
                    <a:pt x="267" y="2624"/>
                  </a:lnTo>
                  <a:lnTo>
                    <a:pt x="282" y="2609"/>
                  </a:lnTo>
                  <a:lnTo>
                    <a:pt x="297" y="2589"/>
                  </a:lnTo>
                  <a:lnTo>
                    <a:pt x="312" y="2569"/>
                  </a:lnTo>
                  <a:lnTo>
                    <a:pt x="317" y="2559"/>
                  </a:lnTo>
                  <a:lnTo>
                    <a:pt x="322" y="2545"/>
                  </a:lnTo>
                  <a:lnTo>
                    <a:pt x="332" y="2535"/>
                  </a:lnTo>
                  <a:lnTo>
                    <a:pt x="337" y="2525"/>
                  </a:lnTo>
                  <a:lnTo>
                    <a:pt x="342" y="2510"/>
                  </a:lnTo>
                  <a:lnTo>
                    <a:pt x="347" y="2500"/>
                  </a:lnTo>
                  <a:lnTo>
                    <a:pt x="352" y="2486"/>
                  </a:lnTo>
                  <a:lnTo>
                    <a:pt x="362" y="2476"/>
                  </a:lnTo>
                  <a:lnTo>
                    <a:pt x="367" y="2461"/>
                  </a:lnTo>
                  <a:lnTo>
                    <a:pt x="377" y="2446"/>
                  </a:lnTo>
                  <a:lnTo>
                    <a:pt x="382" y="2431"/>
                  </a:lnTo>
                  <a:lnTo>
                    <a:pt x="387" y="2421"/>
                  </a:lnTo>
                  <a:lnTo>
                    <a:pt x="392" y="2407"/>
                  </a:lnTo>
                  <a:lnTo>
                    <a:pt x="397" y="2397"/>
                  </a:lnTo>
                  <a:lnTo>
                    <a:pt x="402" y="2382"/>
                  </a:lnTo>
                  <a:lnTo>
                    <a:pt x="412" y="2367"/>
                  </a:lnTo>
                  <a:lnTo>
                    <a:pt x="418" y="2352"/>
                  </a:lnTo>
                  <a:lnTo>
                    <a:pt x="423" y="2343"/>
                  </a:lnTo>
                  <a:lnTo>
                    <a:pt x="428" y="2328"/>
                  </a:lnTo>
                  <a:lnTo>
                    <a:pt x="438" y="2318"/>
                  </a:lnTo>
                  <a:lnTo>
                    <a:pt x="438" y="2303"/>
                  </a:lnTo>
                  <a:lnTo>
                    <a:pt x="448" y="2288"/>
                  </a:lnTo>
                  <a:lnTo>
                    <a:pt x="453" y="2273"/>
                  </a:lnTo>
                  <a:lnTo>
                    <a:pt x="458" y="2264"/>
                  </a:lnTo>
                  <a:lnTo>
                    <a:pt x="463" y="2249"/>
                  </a:lnTo>
                  <a:lnTo>
                    <a:pt x="468" y="2234"/>
                  </a:lnTo>
                  <a:lnTo>
                    <a:pt x="473" y="2219"/>
                  </a:lnTo>
                  <a:lnTo>
                    <a:pt x="478" y="2204"/>
                  </a:lnTo>
                  <a:lnTo>
                    <a:pt x="483" y="2190"/>
                  </a:lnTo>
                  <a:lnTo>
                    <a:pt x="488" y="2180"/>
                  </a:lnTo>
                  <a:lnTo>
                    <a:pt x="493" y="2165"/>
                  </a:lnTo>
                  <a:lnTo>
                    <a:pt x="498" y="2150"/>
                  </a:lnTo>
                  <a:lnTo>
                    <a:pt x="503" y="2135"/>
                  </a:lnTo>
                  <a:lnTo>
                    <a:pt x="513" y="2126"/>
                  </a:lnTo>
                  <a:lnTo>
                    <a:pt x="518" y="2111"/>
                  </a:lnTo>
                  <a:lnTo>
                    <a:pt x="523" y="2101"/>
                  </a:lnTo>
                  <a:lnTo>
                    <a:pt x="528" y="2081"/>
                  </a:lnTo>
                  <a:lnTo>
                    <a:pt x="533" y="2071"/>
                  </a:lnTo>
                  <a:lnTo>
                    <a:pt x="533" y="2056"/>
                  </a:lnTo>
                  <a:lnTo>
                    <a:pt x="538" y="2042"/>
                  </a:lnTo>
                  <a:lnTo>
                    <a:pt x="548" y="2027"/>
                  </a:lnTo>
                  <a:lnTo>
                    <a:pt x="553" y="2012"/>
                  </a:lnTo>
                  <a:lnTo>
                    <a:pt x="558" y="2002"/>
                  </a:lnTo>
                  <a:lnTo>
                    <a:pt x="563" y="1987"/>
                  </a:lnTo>
                  <a:lnTo>
                    <a:pt x="568" y="1973"/>
                  </a:lnTo>
                  <a:lnTo>
                    <a:pt x="573" y="1958"/>
                  </a:lnTo>
                  <a:lnTo>
                    <a:pt x="578" y="1943"/>
                  </a:lnTo>
                  <a:lnTo>
                    <a:pt x="583" y="1933"/>
                  </a:lnTo>
                  <a:lnTo>
                    <a:pt x="588" y="1918"/>
                  </a:lnTo>
                  <a:lnTo>
                    <a:pt x="593" y="1904"/>
                  </a:lnTo>
                  <a:lnTo>
                    <a:pt x="598" y="1889"/>
                  </a:lnTo>
                  <a:lnTo>
                    <a:pt x="603" y="1879"/>
                  </a:lnTo>
                  <a:lnTo>
                    <a:pt x="608" y="1864"/>
                  </a:lnTo>
                  <a:lnTo>
                    <a:pt x="613" y="1849"/>
                  </a:lnTo>
                  <a:lnTo>
                    <a:pt x="619" y="1835"/>
                  </a:lnTo>
                  <a:lnTo>
                    <a:pt x="624" y="1825"/>
                  </a:lnTo>
                  <a:lnTo>
                    <a:pt x="629" y="1810"/>
                  </a:lnTo>
                  <a:lnTo>
                    <a:pt x="634" y="1795"/>
                  </a:lnTo>
                  <a:lnTo>
                    <a:pt x="639" y="1780"/>
                  </a:lnTo>
                  <a:lnTo>
                    <a:pt x="644" y="1766"/>
                  </a:lnTo>
                  <a:lnTo>
                    <a:pt x="649" y="1751"/>
                  </a:lnTo>
                  <a:lnTo>
                    <a:pt x="654" y="1741"/>
                  </a:lnTo>
                  <a:lnTo>
                    <a:pt x="664" y="1726"/>
                  </a:lnTo>
                  <a:lnTo>
                    <a:pt x="669" y="1716"/>
                  </a:lnTo>
                  <a:lnTo>
                    <a:pt x="674" y="1701"/>
                  </a:lnTo>
                  <a:lnTo>
                    <a:pt x="679" y="1687"/>
                  </a:lnTo>
                  <a:lnTo>
                    <a:pt x="684" y="1677"/>
                  </a:lnTo>
                  <a:lnTo>
                    <a:pt x="694" y="1667"/>
                  </a:lnTo>
                  <a:lnTo>
                    <a:pt x="694" y="1652"/>
                  </a:lnTo>
                  <a:lnTo>
                    <a:pt x="699" y="1637"/>
                  </a:lnTo>
                  <a:lnTo>
                    <a:pt x="704" y="1623"/>
                  </a:lnTo>
                  <a:lnTo>
                    <a:pt x="714" y="1613"/>
                  </a:lnTo>
                  <a:lnTo>
                    <a:pt x="714" y="1598"/>
                  </a:lnTo>
                  <a:lnTo>
                    <a:pt x="719" y="1588"/>
                  </a:lnTo>
                  <a:lnTo>
                    <a:pt x="729" y="1573"/>
                  </a:lnTo>
                  <a:lnTo>
                    <a:pt x="734" y="1558"/>
                  </a:lnTo>
                  <a:lnTo>
                    <a:pt x="734" y="1549"/>
                  </a:lnTo>
                  <a:lnTo>
                    <a:pt x="744" y="1534"/>
                  </a:lnTo>
                  <a:lnTo>
                    <a:pt x="749" y="1519"/>
                  </a:lnTo>
                  <a:lnTo>
                    <a:pt x="754" y="1509"/>
                  </a:lnTo>
                  <a:lnTo>
                    <a:pt x="754" y="1494"/>
                  </a:lnTo>
                  <a:lnTo>
                    <a:pt x="764" y="1484"/>
                  </a:lnTo>
                  <a:lnTo>
                    <a:pt x="769" y="1470"/>
                  </a:lnTo>
                  <a:lnTo>
                    <a:pt x="774" y="1460"/>
                  </a:lnTo>
                  <a:lnTo>
                    <a:pt x="779" y="1445"/>
                  </a:lnTo>
                  <a:lnTo>
                    <a:pt x="784" y="1430"/>
                  </a:lnTo>
                  <a:lnTo>
                    <a:pt x="784" y="1420"/>
                  </a:lnTo>
                  <a:lnTo>
                    <a:pt x="794" y="1406"/>
                  </a:lnTo>
                  <a:lnTo>
                    <a:pt x="794" y="1391"/>
                  </a:lnTo>
                  <a:lnTo>
                    <a:pt x="799" y="1381"/>
                  </a:lnTo>
                  <a:lnTo>
                    <a:pt x="804" y="1366"/>
                  </a:lnTo>
                  <a:lnTo>
                    <a:pt x="814" y="1356"/>
                  </a:lnTo>
                  <a:lnTo>
                    <a:pt x="814" y="1341"/>
                  </a:lnTo>
                  <a:lnTo>
                    <a:pt x="820" y="1327"/>
                  </a:lnTo>
                  <a:lnTo>
                    <a:pt x="825" y="1317"/>
                  </a:lnTo>
                  <a:lnTo>
                    <a:pt x="830" y="1302"/>
                  </a:lnTo>
                  <a:lnTo>
                    <a:pt x="835" y="1292"/>
                  </a:lnTo>
                  <a:lnTo>
                    <a:pt x="840" y="1277"/>
                  </a:lnTo>
                  <a:lnTo>
                    <a:pt x="845" y="1263"/>
                  </a:lnTo>
                  <a:lnTo>
                    <a:pt x="850" y="1253"/>
                  </a:lnTo>
                  <a:lnTo>
                    <a:pt x="855" y="1238"/>
                  </a:lnTo>
                  <a:lnTo>
                    <a:pt x="860" y="1228"/>
                  </a:lnTo>
                  <a:lnTo>
                    <a:pt x="865" y="1213"/>
                  </a:lnTo>
                  <a:lnTo>
                    <a:pt x="870" y="1198"/>
                  </a:lnTo>
                  <a:lnTo>
                    <a:pt x="870" y="1184"/>
                  </a:lnTo>
                  <a:lnTo>
                    <a:pt x="875" y="1174"/>
                  </a:lnTo>
                  <a:lnTo>
                    <a:pt x="880" y="1159"/>
                  </a:lnTo>
                  <a:lnTo>
                    <a:pt x="885" y="1149"/>
                  </a:lnTo>
                  <a:lnTo>
                    <a:pt x="890" y="1134"/>
                  </a:lnTo>
                  <a:lnTo>
                    <a:pt x="895" y="1119"/>
                  </a:lnTo>
                  <a:lnTo>
                    <a:pt x="900" y="1110"/>
                  </a:lnTo>
                  <a:lnTo>
                    <a:pt x="905" y="1095"/>
                  </a:lnTo>
                  <a:lnTo>
                    <a:pt x="905" y="1080"/>
                  </a:lnTo>
                  <a:lnTo>
                    <a:pt x="910" y="1070"/>
                  </a:lnTo>
                  <a:lnTo>
                    <a:pt x="915" y="1055"/>
                  </a:lnTo>
                  <a:lnTo>
                    <a:pt x="920" y="1046"/>
                  </a:lnTo>
                  <a:lnTo>
                    <a:pt x="925" y="1031"/>
                  </a:lnTo>
                  <a:lnTo>
                    <a:pt x="930" y="1016"/>
                  </a:lnTo>
                  <a:lnTo>
                    <a:pt x="935" y="1006"/>
                  </a:lnTo>
                  <a:lnTo>
                    <a:pt x="940" y="991"/>
                  </a:lnTo>
                  <a:lnTo>
                    <a:pt x="945" y="976"/>
                  </a:lnTo>
                  <a:lnTo>
                    <a:pt x="945" y="967"/>
                  </a:lnTo>
                  <a:lnTo>
                    <a:pt x="950" y="952"/>
                  </a:lnTo>
                  <a:lnTo>
                    <a:pt x="955" y="942"/>
                  </a:lnTo>
                  <a:lnTo>
                    <a:pt x="960" y="927"/>
                  </a:lnTo>
                  <a:lnTo>
                    <a:pt x="965" y="912"/>
                  </a:lnTo>
                  <a:lnTo>
                    <a:pt x="965" y="903"/>
                  </a:lnTo>
                  <a:lnTo>
                    <a:pt x="970" y="888"/>
                  </a:lnTo>
                  <a:lnTo>
                    <a:pt x="975" y="873"/>
                  </a:lnTo>
                  <a:lnTo>
                    <a:pt x="980" y="863"/>
                  </a:lnTo>
                  <a:lnTo>
                    <a:pt x="985" y="848"/>
                  </a:lnTo>
                  <a:lnTo>
                    <a:pt x="990" y="838"/>
                  </a:lnTo>
                  <a:lnTo>
                    <a:pt x="995" y="824"/>
                  </a:lnTo>
                  <a:lnTo>
                    <a:pt x="995" y="809"/>
                  </a:lnTo>
                  <a:lnTo>
                    <a:pt x="1000" y="799"/>
                  </a:lnTo>
                  <a:lnTo>
                    <a:pt x="1005" y="789"/>
                  </a:lnTo>
                  <a:lnTo>
                    <a:pt x="1010" y="774"/>
                  </a:lnTo>
                  <a:lnTo>
                    <a:pt x="1016" y="764"/>
                  </a:lnTo>
                  <a:lnTo>
                    <a:pt x="1021" y="750"/>
                  </a:lnTo>
                  <a:lnTo>
                    <a:pt x="1026" y="740"/>
                  </a:lnTo>
                  <a:lnTo>
                    <a:pt x="1031" y="725"/>
                  </a:lnTo>
                  <a:lnTo>
                    <a:pt x="1036" y="710"/>
                  </a:lnTo>
                  <a:lnTo>
                    <a:pt x="1036" y="700"/>
                  </a:lnTo>
                  <a:lnTo>
                    <a:pt x="1046" y="690"/>
                  </a:lnTo>
                  <a:lnTo>
                    <a:pt x="1051" y="676"/>
                  </a:lnTo>
                  <a:lnTo>
                    <a:pt x="1056" y="661"/>
                  </a:lnTo>
                  <a:lnTo>
                    <a:pt x="1061" y="646"/>
                  </a:lnTo>
                  <a:lnTo>
                    <a:pt x="1066" y="636"/>
                  </a:lnTo>
                  <a:lnTo>
                    <a:pt x="1071" y="621"/>
                  </a:lnTo>
                  <a:lnTo>
                    <a:pt x="1076" y="612"/>
                  </a:lnTo>
                  <a:lnTo>
                    <a:pt x="1081" y="597"/>
                  </a:lnTo>
                  <a:lnTo>
                    <a:pt x="1086" y="582"/>
                  </a:lnTo>
                  <a:lnTo>
                    <a:pt x="1091" y="567"/>
                  </a:lnTo>
                  <a:lnTo>
                    <a:pt x="1096" y="557"/>
                  </a:lnTo>
                  <a:lnTo>
                    <a:pt x="1101" y="543"/>
                  </a:lnTo>
                  <a:lnTo>
                    <a:pt x="1106" y="533"/>
                  </a:lnTo>
                  <a:lnTo>
                    <a:pt x="1111" y="518"/>
                  </a:lnTo>
                  <a:lnTo>
                    <a:pt x="1116" y="503"/>
                  </a:lnTo>
                  <a:lnTo>
                    <a:pt x="1121" y="488"/>
                  </a:lnTo>
                  <a:lnTo>
                    <a:pt x="1126" y="478"/>
                  </a:lnTo>
                  <a:lnTo>
                    <a:pt x="1131" y="464"/>
                  </a:lnTo>
                  <a:lnTo>
                    <a:pt x="1136" y="449"/>
                  </a:lnTo>
                  <a:lnTo>
                    <a:pt x="1146" y="434"/>
                  </a:lnTo>
                  <a:lnTo>
                    <a:pt x="1151" y="424"/>
                  </a:lnTo>
                  <a:lnTo>
                    <a:pt x="1151" y="409"/>
                  </a:lnTo>
                  <a:lnTo>
                    <a:pt x="1156" y="395"/>
                  </a:lnTo>
                  <a:lnTo>
                    <a:pt x="1161" y="380"/>
                  </a:lnTo>
                  <a:lnTo>
                    <a:pt x="1166" y="370"/>
                  </a:lnTo>
                  <a:lnTo>
                    <a:pt x="1171" y="355"/>
                  </a:lnTo>
                  <a:lnTo>
                    <a:pt x="1171" y="340"/>
                  </a:lnTo>
                  <a:lnTo>
                    <a:pt x="1176" y="326"/>
                  </a:lnTo>
                  <a:lnTo>
                    <a:pt x="1181" y="316"/>
                  </a:lnTo>
                  <a:lnTo>
                    <a:pt x="1186" y="301"/>
                  </a:lnTo>
                  <a:lnTo>
                    <a:pt x="1186" y="286"/>
                  </a:lnTo>
                  <a:lnTo>
                    <a:pt x="1191" y="271"/>
                  </a:lnTo>
                  <a:lnTo>
                    <a:pt x="1196" y="256"/>
                  </a:lnTo>
                  <a:lnTo>
                    <a:pt x="1196" y="242"/>
                  </a:lnTo>
                  <a:lnTo>
                    <a:pt x="1201" y="232"/>
                  </a:lnTo>
                  <a:lnTo>
                    <a:pt x="1201" y="217"/>
                  </a:lnTo>
                  <a:lnTo>
                    <a:pt x="1206" y="207"/>
                  </a:lnTo>
                  <a:lnTo>
                    <a:pt x="1206" y="192"/>
                  </a:lnTo>
                  <a:lnTo>
                    <a:pt x="1206" y="178"/>
                  </a:lnTo>
                  <a:lnTo>
                    <a:pt x="1206" y="163"/>
                  </a:lnTo>
                  <a:lnTo>
                    <a:pt x="1206" y="153"/>
                  </a:lnTo>
                  <a:lnTo>
                    <a:pt x="1206" y="138"/>
                  </a:lnTo>
                  <a:lnTo>
                    <a:pt x="1206" y="128"/>
                  </a:lnTo>
                  <a:lnTo>
                    <a:pt x="1206" y="113"/>
                  </a:lnTo>
                  <a:lnTo>
                    <a:pt x="1211" y="99"/>
                  </a:lnTo>
                  <a:lnTo>
                    <a:pt x="1206" y="89"/>
                  </a:lnTo>
                  <a:lnTo>
                    <a:pt x="1206" y="74"/>
                  </a:lnTo>
                  <a:lnTo>
                    <a:pt x="1206" y="59"/>
                  </a:lnTo>
                  <a:lnTo>
                    <a:pt x="1206" y="49"/>
                  </a:lnTo>
                  <a:lnTo>
                    <a:pt x="1201" y="35"/>
                  </a:lnTo>
                  <a:lnTo>
                    <a:pt x="1201" y="25"/>
                  </a:lnTo>
                  <a:lnTo>
                    <a:pt x="1196" y="15"/>
                  </a:lnTo>
                  <a:lnTo>
                    <a:pt x="1196" y="0"/>
                  </a:lnTo>
                  <a:lnTo>
                    <a:pt x="1191" y="5"/>
                  </a:lnTo>
                  <a:lnTo>
                    <a:pt x="1186" y="20"/>
                  </a:lnTo>
                  <a:lnTo>
                    <a:pt x="1181" y="30"/>
                  </a:lnTo>
                  <a:lnTo>
                    <a:pt x="1171" y="39"/>
                  </a:lnTo>
                  <a:lnTo>
                    <a:pt x="1166" y="49"/>
                  </a:lnTo>
                  <a:lnTo>
                    <a:pt x="1166" y="64"/>
                  </a:lnTo>
                  <a:lnTo>
                    <a:pt x="1156" y="74"/>
                  </a:lnTo>
                  <a:lnTo>
                    <a:pt x="1151" y="89"/>
                  </a:lnTo>
                  <a:lnTo>
                    <a:pt x="1146" y="99"/>
                  </a:lnTo>
                  <a:lnTo>
                    <a:pt x="1141" y="113"/>
                  </a:lnTo>
                  <a:lnTo>
                    <a:pt x="1136" y="128"/>
                  </a:lnTo>
                  <a:lnTo>
                    <a:pt x="1131" y="138"/>
                  </a:lnTo>
                  <a:lnTo>
                    <a:pt x="1101" y="113"/>
                  </a:lnTo>
                  <a:lnTo>
                    <a:pt x="1101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 rot="9362400">
              <a:off x="7469280" y="1258560"/>
              <a:ext cx="1332000" cy="3704040"/>
            </a:xfrm>
            <a:custGeom>
              <a:avLst/>
              <a:gdLst/>
              <a:ahLst/>
              <a:rect l="l" t="t" r="r" b="b"/>
              <a:pathLst>
                <a:path w="839" h="2333">
                  <a:moveTo>
                    <a:pt x="25" y="2323"/>
                  </a:moveTo>
                  <a:lnTo>
                    <a:pt x="407" y="1327"/>
                  </a:lnTo>
                  <a:lnTo>
                    <a:pt x="834" y="286"/>
                  </a:lnTo>
                  <a:lnTo>
                    <a:pt x="839" y="266"/>
                  </a:lnTo>
                  <a:lnTo>
                    <a:pt x="834" y="252"/>
                  </a:lnTo>
                  <a:lnTo>
                    <a:pt x="824" y="232"/>
                  </a:lnTo>
                  <a:lnTo>
                    <a:pt x="809" y="222"/>
                  </a:lnTo>
                  <a:lnTo>
                    <a:pt x="246" y="0"/>
                  </a:lnTo>
                  <a:lnTo>
                    <a:pt x="231" y="0"/>
                  </a:lnTo>
                  <a:lnTo>
                    <a:pt x="226" y="10"/>
                  </a:lnTo>
                  <a:lnTo>
                    <a:pt x="221" y="20"/>
                  </a:lnTo>
                  <a:lnTo>
                    <a:pt x="221" y="40"/>
                  </a:lnTo>
                  <a:lnTo>
                    <a:pt x="226" y="54"/>
                  </a:lnTo>
                  <a:lnTo>
                    <a:pt x="231" y="69"/>
                  </a:lnTo>
                  <a:lnTo>
                    <a:pt x="241" y="89"/>
                  </a:lnTo>
                  <a:lnTo>
                    <a:pt x="251" y="104"/>
                  </a:lnTo>
                  <a:lnTo>
                    <a:pt x="678" y="311"/>
                  </a:lnTo>
                  <a:lnTo>
                    <a:pt x="427" y="1056"/>
                  </a:lnTo>
                  <a:lnTo>
                    <a:pt x="0" y="2318"/>
                  </a:lnTo>
                  <a:lnTo>
                    <a:pt x="0" y="2328"/>
                  </a:lnTo>
                  <a:lnTo>
                    <a:pt x="5" y="2333"/>
                  </a:lnTo>
                  <a:lnTo>
                    <a:pt x="15" y="2328"/>
                  </a:lnTo>
                  <a:lnTo>
                    <a:pt x="25" y="2323"/>
                  </a:lnTo>
                  <a:lnTo>
                    <a:pt x="25" y="2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 rot="9362400">
              <a:off x="6784560" y="749160"/>
              <a:ext cx="1013400" cy="4540320"/>
            </a:xfrm>
            <a:custGeom>
              <a:avLst/>
              <a:gdLst/>
              <a:ahLst/>
              <a:rect l="l" t="t" r="r" b="b"/>
              <a:pathLst>
                <a:path w="638" h="2860">
                  <a:moveTo>
                    <a:pt x="337" y="2860"/>
                  </a:moveTo>
                  <a:lnTo>
                    <a:pt x="342" y="2825"/>
                  </a:lnTo>
                  <a:lnTo>
                    <a:pt x="347" y="2796"/>
                  </a:lnTo>
                  <a:lnTo>
                    <a:pt x="357" y="2761"/>
                  </a:lnTo>
                  <a:lnTo>
                    <a:pt x="362" y="2732"/>
                  </a:lnTo>
                  <a:lnTo>
                    <a:pt x="367" y="2697"/>
                  </a:lnTo>
                  <a:lnTo>
                    <a:pt x="377" y="2668"/>
                  </a:lnTo>
                  <a:lnTo>
                    <a:pt x="382" y="2638"/>
                  </a:lnTo>
                  <a:lnTo>
                    <a:pt x="392" y="2603"/>
                  </a:lnTo>
                  <a:lnTo>
                    <a:pt x="397" y="2574"/>
                  </a:lnTo>
                  <a:lnTo>
                    <a:pt x="402" y="2539"/>
                  </a:lnTo>
                  <a:lnTo>
                    <a:pt x="407" y="2510"/>
                  </a:lnTo>
                  <a:lnTo>
                    <a:pt x="417" y="2475"/>
                  </a:lnTo>
                  <a:lnTo>
                    <a:pt x="422" y="2446"/>
                  </a:lnTo>
                  <a:lnTo>
                    <a:pt x="427" y="2411"/>
                  </a:lnTo>
                  <a:lnTo>
                    <a:pt x="432" y="2382"/>
                  </a:lnTo>
                  <a:lnTo>
                    <a:pt x="442" y="2352"/>
                  </a:lnTo>
                  <a:lnTo>
                    <a:pt x="447" y="2317"/>
                  </a:lnTo>
                  <a:lnTo>
                    <a:pt x="452" y="2288"/>
                  </a:lnTo>
                  <a:lnTo>
                    <a:pt x="457" y="2253"/>
                  </a:lnTo>
                  <a:lnTo>
                    <a:pt x="462" y="2224"/>
                  </a:lnTo>
                  <a:lnTo>
                    <a:pt x="467" y="2189"/>
                  </a:lnTo>
                  <a:lnTo>
                    <a:pt x="477" y="2160"/>
                  </a:lnTo>
                  <a:lnTo>
                    <a:pt x="482" y="2125"/>
                  </a:lnTo>
                  <a:lnTo>
                    <a:pt x="487" y="2095"/>
                  </a:lnTo>
                  <a:lnTo>
                    <a:pt x="487" y="2061"/>
                  </a:lnTo>
                  <a:lnTo>
                    <a:pt x="497" y="2026"/>
                  </a:lnTo>
                  <a:lnTo>
                    <a:pt x="497" y="1997"/>
                  </a:lnTo>
                  <a:lnTo>
                    <a:pt x="502" y="1962"/>
                  </a:lnTo>
                  <a:lnTo>
                    <a:pt x="507" y="1933"/>
                  </a:lnTo>
                  <a:lnTo>
                    <a:pt x="512" y="1898"/>
                  </a:lnTo>
                  <a:lnTo>
                    <a:pt x="517" y="1869"/>
                  </a:lnTo>
                  <a:lnTo>
                    <a:pt x="528" y="1834"/>
                  </a:lnTo>
                  <a:lnTo>
                    <a:pt x="528" y="1805"/>
                  </a:lnTo>
                  <a:lnTo>
                    <a:pt x="533" y="1770"/>
                  </a:lnTo>
                  <a:lnTo>
                    <a:pt x="538" y="1735"/>
                  </a:lnTo>
                  <a:lnTo>
                    <a:pt x="543" y="1706"/>
                  </a:lnTo>
                  <a:lnTo>
                    <a:pt x="548" y="1671"/>
                  </a:lnTo>
                  <a:lnTo>
                    <a:pt x="548" y="1637"/>
                  </a:lnTo>
                  <a:lnTo>
                    <a:pt x="553" y="1607"/>
                  </a:lnTo>
                  <a:lnTo>
                    <a:pt x="558" y="1573"/>
                  </a:lnTo>
                  <a:lnTo>
                    <a:pt x="563" y="1543"/>
                  </a:lnTo>
                  <a:lnTo>
                    <a:pt x="563" y="1509"/>
                  </a:lnTo>
                  <a:lnTo>
                    <a:pt x="568" y="1474"/>
                  </a:lnTo>
                  <a:lnTo>
                    <a:pt x="573" y="1445"/>
                  </a:lnTo>
                  <a:lnTo>
                    <a:pt x="578" y="1410"/>
                  </a:lnTo>
                  <a:lnTo>
                    <a:pt x="578" y="1380"/>
                  </a:lnTo>
                  <a:lnTo>
                    <a:pt x="583" y="1346"/>
                  </a:lnTo>
                  <a:lnTo>
                    <a:pt x="588" y="1316"/>
                  </a:lnTo>
                  <a:lnTo>
                    <a:pt x="588" y="1282"/>
                  </a:lnTo>
                  <a:lnTo>
                    <a:pt x="593" y="1252"/>
                  </a:lnTo>
                  <a:lnTo>
                    <a:pt x="598" y="1218"/>
                  </a:lnTo>
                  <a:lnTo>
                    <a:pt x="603" y="1183"/>
                  </a:lnTo>
                  <a:lnTo>
                    <a:pt x="603" y="1154"/>
                  </a:lnTo>
                  <a:lnTo>
                    <a:pt x="608" y="1119"/>
                  </a:lnTo>
                  <a:lnTo>
                    <a:pt x="608" y="1089"/>
                  </a:lnTo>
                  <a:lnTo>
                    <a:pt x="613" y="1055"/>
                  </a:lnTo>
                  <a:lnTo>
                    <a:pt x="618" y="1025"/>
                  </a:lnTo>
                  <a:lnTo>
                    <a:pt x="618" y="991"/>
                  </a:lnTo>
                  <a:lnTo>
                    <a:pt x="623" y="956"/>
                  </a:lnTo>
                  <a:lnTo>
                    <a:pt x="628" y="927"/>
                  </a:lnTo>
                  <a:lnTo>
                    <a:pt x="628" y="892"/>
                  </a:lnTo>
                  <a:lnTo>
                    <a:pt x="633" y="863"/>
                  </a:lnTo>
                  <a:lnTo>
                    <a:pt x="633" y="833"/>
                  </a:lnTo>
                  <a:lnTo>
                    <a:pt x="638" y="798"/>
                  </a:lnTo>
                  <a:lnTo>
                    <a:pt x="638" y="784"/>
                  </a:lnTo>
                  <a:lnTo>
                    <a:pt x="638" y="769"/>
                  </a:lnTo>
                  <a:lnTo>
                    <a:pt x="638" y="754"/>
                  </a:lnTo>
                  <a:lnTo>
                    <a:pt x="638" y="739"/>
                  </a:lnTo>
                  <a:lnTo>
                    <a:pt x="638" y="725"/>
                  </a:lnTo>
                  <a:lnTo>
                    <a:pt x="638" y="710"/>
                  </a:lnTo>
                  <a:lnTo>
                    <a:pt x="638" y="695"/>
                  </a:lnTo>
                  <a:lnTo>
                    <a:pt x="638" y="680"/>
                  </a:lnTo>
                  <a:lnTo>
                    <a:pt x="638" y="660"/>
                  </a:lnTo>
                  <a:lnTo>
                    <a:pt x="638" y="651"/>
                  </a:lnTo>
                  <a:lnTo>
                    <a:pt x="638" y="631"/>
                  </a:lnTo>
                  <a:lnTo>
                    <a:pt x="638" y="616"/>
                  </a:lnTo>
                  <a:lnTo>
                    <a:pt x="633" y="601"/>
                  </a:lnTo>
                  <a:lnTo>
                    <a:pt x="633" y="586"/>
                  </a:lnTo>
                  <a:lnTo>
                    <a:pt x="633" y="572"/>
                  </a:lnTo>
                  <a:lnTo>
                    <a:pt x="633" y="557"/>
                  </a:lnTo>
                  <a:lnTo>
                    <a:pt x="628" y="537"/>
                  </a:lnTo>
                  <a:lnTo>
                    <a:pt x="623" y="522"/>
                  </a:lnTo>
                  <a:lnTo>
                    <a:pt x="618" y="508"/>
                  </a:lnTo>
                  <a:lnTo>
                    <a:pt x="618" y="493"/>
                  </a:lnTo>
                  <a:lnTo>
                    <a:pt x="613" y="473"/>
                  </a:lnTo>
                  <a:lnTo>
                    <a:pt x="608" y="458"/>
                  </a:lnTo>
                  <a:lnTo>
                    <a:pt x="603" y="443"/>
                  </a:lnTo>
                  <a:lnTo>
                    <a:pt x="603" y="429"/>
                  </a:lnTo>
                  <a:lnTo>
                    <a:pt x="598" y="414"/>
                  </a:lnTo>
                  <a:lnTo>
                    <a:pt x="588" y="399"/>
                  </a:lnTo>
                  <a:lnTo>
                    <a:pt x="583" y="384"/>
                  </a:lnTo>
                  <a:lnTo>
                    <a:pt x="578" y="369"/>
                  </a:lnTo>
                  <a:lnTo>
                    <a:pt x="573" y="350"/>
                  </a:lnTo>
                  <a:lnTo>
                    <a:pt x="568" y="335"/>
                  </a:lnTo>
                  <a:lnTo>
                    <a:pt x="558" y="320"/>
                  </a:lnTo>
                  <a:lnTo>
                    <a:pt x="553" y="310"/>
                  </a:lnTo>
                  <a:lnTo>
                    <a:pt x="543" y="295"/>
                  </a:lnTo>
                  <a:lnTo>
                    <a:pt x="533" y="281"/>
                  </a:lnTo>
                  <a:lnTo>
                    <a:pt x="528" y="266"/>
                  </a:lnTo>
                  <a:lnTo>
                    <a:pt x="517" y="251"/>
                  </a:lnTo>
                  <a:lnTo>
                    <a:pt x="502" y="236"/>
                  </a:lnTo>
                  <a:lnTo>
                    <a:pt x="497" y="226"/>
                  </a:lnTo>
                  <a:lnTo>
                    <a:pt x="482" y="212"/>
                  </a:lnTo>
                  <a:lnTo>
                    <a:pt x="477" y="202"/>
                  </a:lnTo>
                  <a:lnTo>
                    <a:pt x="462" y="187"/>
                  </a:lnTo>
                  <a:lnTo>
                    <a:pt x="452" y="172"/>
                  </a:lnTo>
                  <a:lnTo>
                    <a:pt x="437" y="162"/>
                  </a:lnTo>
                  <a:lnTo>
                    <a:pt x="427" y="152"/>
                  </a:lnTo>
                  <a:lnTo>
                    <a:pt x="412" y="138"/>
                  </a:lnTo>
                  <a:lnTo>
                    <a:pt x="397" y="128"/>
                  </a:lnTo>
                  <a:lnTo>
                    <a:pt x="382" y="118"/>
                  </a:lnTo>
                  <a:lnTo>
                    <a:pt x="367" y="108"/>
                  </a:lnTo>
                  <a:lnTo>
                    <a:pt x="352" y="98"/>
                  </a:lnTo>
                  <a:lnTo>
                    <a:pt x="332" y="88"/>
                  </a:lnTo>
                  <a:lnTo>
                    <a:pt x="316" y="78"/>
                  </a:lnTo>
                  <a:lnTo>
                    <a:pt x="301" y="69"/>
                  </a:lnTo>
                  <a:lnTo>
                    <a:pt x="281" y="59"/>
                  </a:lnTo>
                  <a:lnTo>
                    <a:pt x="261" y="54"/>
                  </a:lnTo>
                  <a:lnTo>
                    <a:pt x="246" y="44"/>
                  </a:lnTo>
                  <a:lnTo>
                    <a:pt x="226" y="39"/>
                  </a:lnTo>
                  <a:lnTo>
                    <a:pt x="201" y="34"/>
                  </a:lnTo>
                  <a:lnTo>
                    <a:pt x="181" y="24"/>
                  </a:lnTo>
                  <a:lnTo>
                    <a:pt x="161" y="19"/>
                  </a:lnTo>
                  <a:lnTo>
                    <a:pt x="141" y="14"/>
                  </a:lnTo>
                  <a:lnTo>
                    <a:pt x="115" y="9"/>
                  </a:lnTo>
                  <a:lnTo>
                    <a:pt x="95" y="5"/>
                  </a:lnTo>
                  <a:lnTo>
                    <a:pt x="70" y="5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0" y="14"/>
                  </a:lnTo>
                  <a:lnTo>
                    <a:pt x="10" y="29"/>
                  </a:lnTo>
                  <a:lnTo>
                    <a:pt x="15" y="39"/>
                  </a:lnTo>
                  <a:lnTo>
                    <a:pt x="25" y="49"/>
                  </a:lnTo>
                  <a:lnTo>
                    <a:pt x="30" y="54"/>
                  </a:lnTo>
                  <a:lnTo>
                    <a:pt x="40" y="59"/>
                  </a:lnTo>
                  <a:lnTo>
                    <a:pt x="50" y="69"/>
                  </a:lnTo>
                  <a:lnTo>
                    <a:pt x="60" y="74"/>
                  </a:lnTo>
                  <a:lnTo>
                    <a:pt x="70" y="78"/>
                  </a:lnTo>
                  <a:lnTo>
                    <a:pt x="85" y="88"/>
                  </a:lnTo>
                  <a:lnTo>
                    <a:pt x="100" y="93"/>
                  </a:lnTo>
                  <a:lnTo>
                    <a:pt x="115" y="103"/>
                  </a:lnTo>
                  <a:lnTo>
                    <a:pt x="131" y="108"/>
                  </a:lnTo>
                  <a:lnTo>
                    <a:pt x="151" y="118"/>
                  </a:lnTo>
                  <a:lnTo>
                    <a:pt x="161" y="123"/>
                  </a:lnTo>
                  <a:lnTo>
                    <a:pt x="171" y="128"/>
                  </a:lnTo>
                  <a:lnTo>
                    <a:pt x="181" y="133"/>
                  </a:lnTo>
                  <a:lnTo>
                    <a:pt x="191" y="138"/>
                  </a:lnTo>
                  <a:lnTo>
                    <a:pt x="211" y="148"/>
                  </a:lnTo>
                  <a:lnTo>
                    <a:pt x="231" y="157"/>
                  </a:lnTo>
                  <a:lnTo>
                    <a:pt x="251" y="167"/>
                  </a:lnTo>
                  <a:lnTo>
                    <a:pt x="271" y="182"/>
                  </a:lnTo>
                  <a:lnTo>
                    <a:pt x="286" y="192"/>
                  </a:lnTo>
                  <a:lnTo>
                    <a:pt x="301" y="202"/>
                  </a:lnTo>
                  <a:lnTo>
                    <a:pt x="322" y="217"/>
                  </a:lnTo>
                  <a:lnTo>
                    <a:pt x="337" y="231"/>
                  </a:lnTo>
                  <a:lnTo>
                    <a:pt x="352" y="246"/>
                  </a:lnTo>
                  <a:lnTo>
                    <a:pt x="367" y="261"/>
                  </a:lnTo>
                  <a:lnTo>
                    <a:pt x="377" y="271"/>
                  </a:lnTo>
                  <a:lnTo>
                    <a:pt x="392" y="291"/>
                  </a:lnTo>
                  <a:lnTo>
                    <a:pt x="402" y="305"/>
                  </a:lnTo>
                  <a:lnTo>
                    <a:pt x="412" y="320"/>
                  </a:lnTo>
                  <a:lnTo>
                    <a:pt x="422" y="335"/>
                  </a:lnTo>
                  <a:lnTo>
                    <a:pt x="432" y="355"/>
                  </a:lnTo>
                  <a:lnTo>
                    <a:pt x="442" y="374"/>
                  </a:lnTo>
                  <a:lnTo>
                    <a:pt x="447" y="389"/>
                  </a:lnTo>
                  <a:lnTo>
                    <a:pt x="457" y="409"/>
                  </a:lnTo>
                  <a:lnTo>
                    <a:pt x="462" y="429"/>
                  </a:lnTo>
                  <a:lnTo>
                    <a:pt x="467" y="443"/>
                  </a:lnTo>
                  <a:lnTo>
                    <a:pt x="477" y="463"/>
                  </a:lnTo>
                  <a:lnTo>
                    <a:pt x="482" y="483"/>
                  </a:lnTo>
                  <a:lnTo>
                    <a:pt x="487" y="503"/>
                  </a:lnTo>
                  <a:lnTo>
                    <a:pt x="487" y="522"/>
                  </a:lnTo>
                  <a:lnTo>
                    <a:pt x="492" y="542"/>
                  </a:lnTo>
                  <a:lnTo>
                    <a:pt x="492" y="562"/>
                  </a:lnTo>
                  <a:lnTo>
                    <a:pt x="497" y="582"/>
                  </a:lnTo>
                  <a:lnTo>
                    <a:pt x="497" y="601"/>
                  </a:lnTo>
                  <a:lnTo>
                    <a:pt x="502" y="626"/>
                  </a:lnTo>
                  <a:lnTo>
                    <a:pt x="502" y="646"/>
                  </a:lnTo>
                  <a:lnTo>
                    <a:pt x="502" y="670"/>
                  </a:lnTo>
                  <a:lnTo>
                    <a:pt x="502" y="690"/>
                  </a:lnTo>
                  <a:lnTo>
                    <a:pt x="502" y="710"/>
                  </a:lnTo>
                  <a:lnTo>
                    <a:pt x="502" y="729"/>
                  </a:lnTo>
                  <a:lnTo>
                    <a:pt x="502" y="754"/>
                  </a:lnTo>
                  <a:lnTo>
                    <a:pt x="502" y="774"/>
                  </a:lnTo>
                  <a:lnTo>
                    <a:pt x="502" y="794"/>
                  </a:lnTo>
                  <a:lnTo>
                    <a:pt x="497" y="818"/>
                  </a:lnTo>
                  <a:lnTo>
                    <a:pt x="497" y="838"/>
                  </a:lnTo>
                  <a:lnTo>
                    <a:pt x="497" y="863"/>
                  </a:lnTo>
                  <a:lnTo>
                    <a:pt x="492" y="882"/>
                  </a:lnTo>
                  <a:lnTo>
                    <a:pt x="487" y="902"/>
                  </a:lnTo>
                  <a:lnTo>
                    <a:pt x="487" y="927"/>
                  </a:lnTo>
                  <a:lnTo>
                    <a:pt x="482" y="946"/>
                  </a:lnTo>
                  <a:lnTo>
                    <a:pt x="482" y="971"/>
                  </a:lnTo>
                  <a:lnTo>
                    <a:pt x="477" y="991"/>
                  </a:lnTo>
                  <a:lnTo>
                    <a:pt x="477" y="1015"/>
                  </a:lnTo>
                  <a:lnTo>
                    <a:pt x="472" y="1035"/>
                  </a:lnTo>
                  <a:lnTo>
                    <a:pt x="467" y="1055"/>
                  </a:lnTo>
                  <a:lnTo>
                    <a:pt x="462" y="1080"/>
                  </a:lnTo>
                  <a:lnTo>
                    <a:pt x="462" y="1099"/>
                  </a:lnTo>
                  <a:lnTo>
                    <a:pt x="457" y="1119"/>
                  </a:lnTo>
                  <a:lnTo>
                    <a:pt x="452" y="1144"/>
                  </a:lnTo>
                  <a:lnTo>
                    <a:pt x="452" y="1163"/>
                  </a:lnTo>
                  <a:lnTo>
                    <a:pt x="447" y="1183"/>
                  </a:lnTo>
                  <a:lnTo>
                    <a:pt x="442" y="1203"/>
                  </a:lnTo>
                  <a:lnTo>
                    <a:pt x="442" y="1223"/>
                  </a:lnTo>
                  <a:lnTo>
                    <a:pt x="437" y="1242"/>
                  </a:lnTo>
                  <a:lnTo>
                    <a:pt x="432" y="1267"/>
                  </a:lnTo>
                  <a:lnTo>
                    <a:pt x="432" y="1287"/>
                  </a:lnTo>
                  <a:lnTo>
                    <a:pt x="427" y="1306"/>
                  </a:lnTo>
                  <a:lnTo>
                    <a:pt x="427" y="1326"/>
                  </a:lnTo>
                  <a:lnTo>
                    <a:pt x="422" y="1346"/>
                  </a:lnTo>
                  <a:lnTo>
                    <a:pt x="417" y="1366"/>
                  </a:lnTo>
                  <a:lnTo>
                    <a:pt x="417" y="1390"/>
                  </a:lnTo>
                  <a:lnTo>
                    <a:pt x="412" y="1415"/>
                  </a:lnTo>
                  <a:lnTo>
                    <a:pt x="407" y="1440"/>
                  </a:lnTo>
                  <a:lnTo>
                    <a:pt x="402" y="1459"/>
                  </a:lnTo>
                  <a:lnTo>
                    <a:pt x="402" y="1484"/>
                  </a:lnTo>
                  <a:lnTo>
                    <a:pt x="397" y="1509"/>
                  </a:lnTo>
                  <a:lnTo>
                    <a:pt x="397" y="1533"/>
                  </a:lnTo>
                  <a:lnTo>
                    <a:pt x="387" y="1553"/>
                  </a:lnTo>
                  <a:lnTo>
                    <a:pt x="387" y="1578"/>
                  </a:lnTo>
                  <a:lnTo>
                    <a:pt x="382" y="1602"/>
                  </a:lnTo>
                  <a:lnTo>
                    <a:pt x="382" y="1627"/>
                  </a:lnTo>
                  <a:lnTo>
                    <a:pt x="377" y="1647"/>
                  </a:lnTo>
                  <a:lnTo>
                    <a:pt x="372" y="1671"/>
                  </a:lnTo>
                  <a:lnTo>
                    <a:pt x="367" y="1696"/>
                  </a:lnTo>
                  <a:lnTo>
                    <a:pt x="367" y="1721"/>
                  </a:lnTo>
                  <a:lnTo>
                    <a:pt x="362" y="1740"/>
                  </a:lnTo>
                  <a:lnTo>
                    <a:pt x="362" y="1765"/>
                  </a:lnTo>
                  <a:lnTo>
                    <a:pt x="357" y="1790"/>
                  </a:lnTo>
                  <a:lnTo>
                    <a:pt x="352" y="1809"/>
                  </a:lnTo>
                  <a:lnTo>
                    <a:pt x="352" y="1834"/>
                  </a:lnTo>
                  <a:lnTo>
                    <a:pt x="347" y="1859"/>
                  </a:lnTo>
                  <a:lnTo>
                    <a:pt x="347" y="1883"/>
                  </a:lnTo>
                  <a:lnTo>
                    <a:pt x="342" y="1908"/>
                  </a:lnTo>
                  <a:lnTo>
                    <a:pt x="337" y="1928"/>
                  </a:lnTo>
                  <a:lnTo>
                    <a:pt x="337" y="1952"/>
                  </a:lnTo>
                  <a:lnTo>
                    <a:pt x="332" y="1977"/>
                  </a:lnTo>
                  <a:lnTo>
                    <a:pt x="332" y="2002"/>
                  </a:lnTo>
                  <a:lnTo>
                    <a:pt x="327" y="2026"/>
                  </a:lnTo>
                  <a:lnTo>
                    <a:pt x="327" y="2051"/>
                  </a:lnTo>
                  <a:lnTo>
                    <a:pt x="322" y="2071"/>
                  </a:lnTo>
                  <a:lnTo>
                    <a:pt x="322" y="2100"/>
                  </a:lnTo>
                  <a:lnTo>
                    <a:pt x="322" y="2120"/>
                  </a:lnTo>
                  <a:lnTo>
                    <a:pt x="316" y="2145"/>
                  </a:lnTo>
                  <a:lnTo>
                    <a:pt x="316" y="2169"/>
                  </a:lnTo>
                  <a:lnTo>
                    <a:pt x="311" y="2194"/>
                  </a:lnTo>
                  <a:lnTo>
                    <a:pt x="311" y="2214"/>
                  </a:lnTo>
                  <a:lnTo>
                    <a:pt x="311" y="2238"/>
                  </a:lnTo>
                  <a:lnTo>
                    <a:pt x="306" y="2263"/>
                  </a:lnTo>
                  <a:lnTo>
                    <a:pt x="306" y="2288"/>
                  </a:lnTo>
                  <a:lnTo>
                    <a:pt x="306" y="2308"/>
                  </a:lnTo>
                  <a:lnTo>
                    <a:pt x="306" y="2332"/>
                  </a:lnTo>
                  <a:lnTo>
                    <a:pt x="301" y="2357"/>
                  </a:lnTo>
                  <a:lnTo>
                    <a:pt x="301" y="2382"/>
                  </a:lnTo>
                  <a:lnTo>
                    <a:pt x="301" y="2406"/>
                  </a:lnTo>
                  <a:lnTo>
                    <a:pt x="301" y="2426"/>
                  </a:lnTo>
                  <a:lnTo>
                    <a:pt x="301" y="2451"/>
                  </a:lnTo>
                  <a:lnTo>
                    <a:pt x="301" y="2475"/>
                  </a:lnTo>
                  <a:lnTo>
                    <a:pt x="301" y="2500"/>
                  </a:lnTo>
                  <a:lnTo>
                    <a:pt x="301" y="2525"/>
                  </a:lnTo>
                  <a:lnTo>
                    <a:pt x="301" y="2549"/>
                  </a:lnTo>
                  <a:lnTo>
                    <a:pt x="301" y="2574"/>
                  </a:lnTo>
                  <a:lnTo>
                    <a:pt x="301" y="2594"/>
                  </a:lnTo>
                  <a:lnTo>
                    <a:pt x="306" y="2618"/>
                  </a:lnTo>
                  <a:lnTo>
                    <a:pt x="306" y="2643"/>
                  </a:lnTo>
                  <a:lnTo>
                    <a:pt x="311" y="2668"/>
                  </a:lnTo>
                  <a:lnTo>
                    <a:pt x="311" y="2692"/>
                  </a:lnTo>
                  <a:lnTo>
                    <a:pt x="311" y="2717"/>
                  </a:lnTo>
                  <a:lnTo>
                    <a:pt x="311" y="2737"/>
                  </a:lnTo>
                  <a:lnTo>
                    <a:pt x="316" y="2761"/>
                  </a:lnTo>
                  <a:lnTo>
                    <a:pt x="316" y="2786"/>
                  </a:lnTo>
                  <a:lnTo>
                    <a:pt x="322" y="2811"/>
                  </a:lnTo>
                  <a:lnTo>
                    <a:pt x="322" y="2835"/>
                  </a:lnTo>
                  <a:lnTo>
                    <a:pt x="332" y="2860"/>
                  </a:lnTo>
                  <a:lnTo>
                    <a:pt x="332" y="2860"/>
                  </a:lnTo>
                  <a:lnTo>
                    <a:pt x="337" y="2860"/>
                  </a:lnTo>
                  <a:lnTo>
                    <a:pt x="337" y="28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flipV="1" rot="9362400">
              <a:off x="374400" y="785160"/>
              <a:ext cx="6397920" cy="4610160"/>
            </a:xfrm>
            <a:custGeom>
              <a:avLst/>
              <a:gdLst/>
              <a:ahLst/>
              <a:rect l="l" t="t" r="r" b="b"/>
              <a:pathLst>
                <a:path w="4030" h="2904">
                  <a:moveTo>
                    <a:pt x="4020" y="991"/>
                  </a:moveTo>
                  <a:lnTo>
                    <a:pt x="3990" y="971"/>
                  </a:lnTo>
                  <a:lnTo>
                    <a:pt x="3964" y="961"/>
                  </a:lnTo>
                  <a:lnTo>
                    <a:pt x="3934" y="946"/>
                  </a:lnTo>
                  <a:lnTo>
                    <a:pt x="3904" y="932"/>
                  </a:lnTo>
                  <a:lnTo>
                    <a:pt x="3874" y="922"/>
                  </a:lnTo>
                  <a:lnTo>
                    <a:pt x="3849" y="907"/>
                  </a:lnTo>
                  <a:lnTo>
                    <a:pt x="3819" y="892"/>
                  </a:lnTo>
                  <a:lnTo>
                    <a:pt x="3789" y="882"/>
                  </a:lnTo>
                  <a:lnTo>
                    <a:pt x="3758" y="872"/>
                  </a:lnTo>
                  <a:lnTo>
                    <a:pt x="3733" y="858"/>
                  </a:lnTo>
                  <a:lnTo>
                    <a:pt x="3698" y="843"/>
                  </a:lnTo>
                  <a:lnTo>
                    <a:pt x="3673" y="833"/>
                  </a:lnTo>
                  <a:lnTo>
                    <a:pt x="3638" y="823"/>
                  </a:lnTo>
                  <a:lnTo>
                    <a:pt x="3613" y="813"/>
                  </a:lnTo>
                  <a:lnTo>
                    <a:pt x="3583" y="803"/>
                  </a:lnTo>
                  <a:lnTo>
                    <a:pt x="3552" y="789"/>
                  </a:lnTo>
                  <a:lnTo>
                    <a:pt x="3522" y="779"/>
                  </a:lnTo>
                  <a:lnTo>
                    <a:pt x="3492" y="769"/>
                  </a:lnTo>
                  <a:lnTo>
                    <a:pt x="3457" y="759"/>
                  </a:lnTo>
                  <a:lnTo>
                    <a:pt x="3432" y="744"/>
                  </a:lnTo>
                  <a:lnTo>
                    <a:pt x="3397" y="734"/>
                  </a:lnTo>
                  <a:lnTo>
                    <a:pt x="3366" y="724"/>
                  </a:lnTo>
                  <a:lnTo>
                    <a:pt x="3336" y="715"/>
                  </a:lnTo>
                  <a:lnTo>
                    <a:pt x="3306" y="710"/>
                  </a:lnTo>
                  <a:lnTo>
                    <a:pt x="3276" y="695"/>
                  </a:lnTo>
                  <a:lnTo>
                    <a:pt x="3246" y="690"/>
                  </a:lnTo>
                  <a:lnTo>
                    <a:pt x="3216" y="680"/>
                  </a:lnTo>
                  <a:lnTo>
                    <a:pt x="3186" y="670"/>
                  </a:lnTo>
                  <a:lnTo>
                    <a:pt x="3150" y="660"/>
                  </a:lnTo>
                  <a:lnTo>
                    <a:pt x="3120" y="650"/>
                  </a:lnTo>
                  <a:lnTo>
                    <a:pt x="3090" y="641"/>
                  </a:lnTo>
                  <a:lnTo>
                    <a:pt x="3060" y="636"/>
                  </a:lnTo>
                  <a:lnTo>
                    <a:pt x="3030" y="626"/>
                  </a:lnTo>
                  <a:lnTo>
                    <a:pt x="3000" y="616"/>
                  </a:lnTo>
                  <a:lnTo>
                    <a:pt x="2964" y="606"/>
                  </a:lnTo>
                  <a:lnTo>
                    <a:pt x="2934" y="596"/>
                  </a:lnTo>
                  <a:lnTo>
                    <a:pt x="2904" y="586"/>
                  </a:lnTo>
                  <a:lnTo>
                    <a:pt x="2869" y="581"/>
                  </a:lnTo>
                  <a:lnTo>
                    <a:pt x="2839" y="572"/>
                  </a:lnTo>
                  <a:lnTo>
                    <a:pt x="2809" y="562"/>
                  </a:lnTo>
                  <a:lnTo>
                    <a:pt x="2778" y="552"/>
                  </a:lnTo>
                  <a:lnTo>
                    <a:pt x="2748" y="547"/>
                  </a:lnTo>
                  <a:lnTo>
                    <a:pt x="2713" y="537"/>
                  </a:lnTo>
                  <a:lnTo>
                    <a:pt x="2683" y="532"/>
                  </a:lnTo>
                  <a:lnTo>
                    <a:pt x="2653" y="522"/>
                  </a:lnTo>
                  <a:lnTo>
                    <a:pt x="2618" y="512"/>
                  </a:lnTo>
                  <a:lnTo>
                    <a:pt x="2588" y="503"/>
                  </a:lnTo>
                  <a:lnTo>
                    <a:pt x="2557" y="498"/>
                  </a:lnTo>
                  <a:lnTo>
                    <a:pt x="2522" y="488"/>
                  </a:lnTo>
                  <a:lnTo>
                    <a:pt x="2497" y="478"/>
                  </a:lnTo>
                  <a:lnTo>
                    <a:pt x="2462" y="468"/>
                  </a:lnTo>
                  <a:lnTo>
                    <a:pt x="2432" y="463"/>
                  </a:lnTo>
                  <a:lnTo>
                    <a:pt x="2402" y="453"/>
                  </a:lnTo>
                  <a:lnTo>
                    <a:pt x="2371" y="448"/>
                  </a:lnTo>
                  <a:lnTo>
                    <a:pt x="2341" y="438"/>
                  </a:lnTo>
                  <a:lnTo>
                    <a:pt x="2311" y="429"/>
                  </a:lnTo>
                  <a:lnTo>
                    <a:pt x="2281" y="419"/>
                  </a:lnTo>
                  <a:lnTo>
                    <a:pt x="2251" y="414"/>
                  </a:lnTo>
                  <a:lnTo>
                    <a:pt x="2216" y="404"/>
                  </a:lnTo>
                  <a:lnTo>
                    <a:pt x="2185" y="399"/>
                  </a:lnTo>
                  <a:lnTo>
                    <a:pt x="2155" y="389"/>
                  </a:lnTo>
                  <a:lnTo>
                    <a:pt x="2130" y="379"/>
                  </a:lnTo>
                  <a:lnTo>
                    <a:pt x="2095" y="369"/>
                  </a:lnTo>
                  <a:lnTo>
                    <a:pt x="2070" y="364"/>
                  </a:lnTo>
                  <a:lnTo>
                    <a:pt x="2045" y="355"/>
                  </a:lnTo>
                  <a:lnTo>
                    <a:pt x="2020" y="350"/>
                  </a:lnTo>
                  <a:lnTo>
                    <a:pt x="2000" y="340"/>
                  </a:lnTo>
                  <a:lnTo>
                    <a:pt x="1974" y="335"/>
                  </a:lnTo>
                  <a:lnTo>
                    <a:pt x="1949" y="325"/>
                  </a:lnTo>
                  <a:lnTo>
                    <a:pt x="1924" y="320"/>
                  </a:lnTo>
                  <a:lnTo>
                    <a:pt x="1899" y="310"/>
                  </a:lnTo>
                  <a:lnTo>
                    <a:pt x="1879" y="300"/>
                  </a:lnTo>
                  <a:lnTo>
                    <a:pt x="1849" y="290"/>
                  </a:lnTo>
                  <a:lnTo>
                    <a:pt x="1824" y="286"/>
                  </a:lnTo>
                  <a:lnTo>
                    <a:pt x="1799" y="271"/>
                  </a:lnTo>
                  <a:lnTo>
                    <a:pt x="1773" y="266"/>
                  </a:lnTo>
                  <a:lnTo>
                    <a:pt x="1748" y="256"/>
                  </a:lnTo>
                  <a:lnTo>
                    <a:pt x="1718" y="246"/>
                  </a:lnTo>
                  <a:lnTo>
                    <a:pt x="1693" y="236"/>
                  </a:lnTo>
                  <a:lnTo>
                    <a:pt x="1668" y="226"/>
                  </a:lnTo>
                  <a:lnTo>
                    <a:pt x="1643" y="217"/>
                  </a:lnTo>
                  <a:lnTo>
                    <a:pt x="1613" y="207"/>
                  </a:lnTo>
                  <a:lnTo>
                    <a:pt x="1582" y="197"/>
                  </a:lnTo>
                  <a:lnTo>
                    <a:pt x="1557" y="192"/>
                  </a:lnTo>
                  <a:lnTo>
                    <a:pt x="1527" y="177"/>
                  </a:lnTo>
                  <a:lnTo>
                    <a:pt x="1502" y="172"/>
                  </a:lnTo>
                  <a:lnTo>
                    <a:pt x="1472" y="162"/>
                  </a:lnTo>
                  <a:lnTo>
                    <a:pt x="1447" y="152"/>
                  </a:lnTo>
                  <a:lnTo>
                    <a:pt x="1417" y="143"/>
                  </a:lnTo>
                  <a:lnTo>
                    <a:pt x="1386" y="133"/>
                  </a:lnTo>
                  <a:lnTo>
                    <a:pt x="1361" y="123"/>
                  </a:lnTo>
                  <a:lnTo>
                    <a:pt x="1331" y="113"/>
                  </a:lnTo>
                  <a:lnTo>
                    <a:pt x="1301" y="108"/>
                  </a:lnTo>
                  <a:lnTo>
                    <a:pt x="1276" y="98"/>
                  </a:lnTo>
                  <a:lnTo>
                    <a:pt x="1246" y="88"/>
                  </a:lnTo>
                  <a:lnTo>
                    <a:pt x="1216" y="83"/>
                  </a:lnTo>
                  <a:lnTo>
                    <a:pt x="1185" y="74"/>
                  </a:lnTo>
                  <a:lnTo>
                    <a:pt x="1160" y="69"/>
                  </a:lnTo>
                  <a:lnTo>
                    <a:pt x="1130" y="59"/>
                  </a:lnTo>
                  <a:lnTo>
                    <a:pt x="1100" y="54"/>
                  </a:lnTo>
                  <a:lnTo>
                    <a:pt x="1070" y="44"/>
                  </a:lnTo>
                  <a:lnTo>
                    <a:pt x="1045" y="39"/>
                  </a:lnTo>
                  <a:lnTo>
                    <a:pt x="1015" y="34"/>
                  </a:lnTo>
                  <a:lnTo>
                    <a:pt x="984" y="29"/>
                  </a:lnTo>
                  <a:lnTo>
                    <a:pt x="959" y="24"/>
                  </a:lnTo>
                  <a:lnTo>
                    <a:pt x="929" y="19"/>
                  </a:lnTo>
                  <a:lnTo>
                    <a:pt x="899" y="14"/>
                  </a:lnTo>
                  <a:lnTo>
                    <a:pt x="869" y="14"/>
                  </a:lnTo>
                  <a:lnTo>
                    <a:pt x="844" y="9"/>
                  </a:lnTo>
                  <a:lnTo>
                    <a:pt x="814" y="4"/>
                  </a:lnTo>
                  <a:lnTo>
                    <a:pt x="788" y="4"/>
                  </a:lnTo>
                  <a:lnTo>
                    <a:pt x="763" y="4"/>
                  </a:lnTo>
                  <a:lnTo>
                    <a:pt x="733" y="0"/>
                  </a:lnTo>
                  <a:lnTo>
                    <a:pt x="708" y="0"/>
                  </a:lnTo>
                  <a:lnTo>
                    <a:pt x="678" y="0"/>
                  </a:lnTo>
                  <a:lnTo>
                    <a:pt x="653" y="0"/>
                  </a:lnTo>
                  <a:lnTo>
                    <a:pt x="623" y="0"/>
                  </a:lnTo>
                  <a:lnTo>
                    <a:pt x="598" y="4"/>
                  </a:lnTo>
                  <a:lnTo>
                    <a:pt x="572" y="4"/>
                  </a:lnTo>
                  <a:lnTo>
                    <a:pt x="547" y="9"/>
                  </a:lnTo>
                  <a:lnTo>
                    <a:pt x="517" y="14"/>
                  </a:lnTo>
                  <a:lnTo>
                    <a:pt x="497" y="19"/>
                  </a:lnTo>
                  <a:lnTo>
                    <a:pt x="467" y="24"/>
                  </a:lnTo>
                  <a:lnTo>
                    <a:pt x="447" y="29"/>
                  </a:lnTo>
                  <a:lnTo>
                    <a:pt x="417" y="34"/>
                  </a:lnTo>
                  <a:lnTo>
                    <a:pt x="397" y="44"/>
                  </a:lnTo>
                  <a:lnTo>
                    <a:pt x="371" y="54"/>
                  </a:lnTo>
                  <a:lnTo>
                    <a:pt x="351" y="64"/>
                  </a:lnTo>
                  <a:lnTo>
                    <a:pt x="331" y="69"/>
                  </a:lnTo>
                  <a:lnTo>
                    <a:pt x="311" y="78"/>
                  </a:lnTo>
                  <a:lnTo>
                    <a:pt x="296" y="88"/>
                  </a:lnTo>
                  <a:lnTo>
                    <a:pt x="281" y="98"/>
                  </a:lnTo>
                  <a:lnTo>
                    <a:pt x="266" y="113"/>
                  </a:lnTo>
                  <a:lnTo>
                    <a:pt x="251" y="123"/>
                  </a:lnTo>
                  <a:lnTo>
                    <a:pt x="236" y="133"/>
                  </a:lnTo>
                  <a:lnTo>
                    <a:pt x="226" y="152"/>
                  </a:lnTo>
                  <a:lnTo>
                    <a:pt x="211" y="162"/>
                  </a:lnTo>
                  <a:lnTo>
                    <a:pt x="195" y="182"/>
                  </a:lnTo>
                  <a:lnTo>
                    <a:pt x="185" y="197"/>
                  </a:lnTo>
                  <a:lnTo>
                    <a:pt x="175" y="212"/>
                  </a:lnTo>
                  <a:lnTo>
                    <a:pt x="165" y="231"/>
                  </a:lnTo>
                  <a:lnTo>
                    <a:pt x="155" y="246"/>
                  </a:lnTo>
                  <a:lnTo>
                    <a:pt x="145" y="266"/>
                  </a:lnTo>
                  <a:lnTo>
                    <a:pt x="140" y="286"/>
                  </a:lnTo>
                  <a:lnTo>
                    <a:pt x="130" y="305"/>
                  </a:lnTo>
                  <a:lnTo>
                    <a:pt x="125" y="325"/>
                  </a:lnTo>
                  <a:lnTo>
                    <a:pt x="115" y="345"/>
                  </a:lnTo>
                  <a:lnTo>
                    <a:pt x="110" y="369"/>
                  </a:lnTo>
                  <a:lnTo>
                    <a:pt x="100" y="389"/>
                  </a:lnTo>
                  <a:lnTo>
                    <a:pt x="95" y="409"/>
                  </a:lnTo>
                  <a:lnTo>
                    <a:pt x="90" y="434"/>
                  </a:lnTo>
                  <a:lnTo>
                    <a:pt x="90" y="453"/>
                  </a:lnTo>
                  <a:lnTo>
                    <a:pt x="80" y="473"/>
                  </a:lnTo>
                  <a:lnTo>
                    <a:pt x="75" y="498"/>
                  </a:lnTo>
                  <a:lnTo>
                    <a:pt x="75" y="522"/>
                  </a:lnTo>
                  <a:lnTo>
                    <a:pt x="70" y="547"/>
                  </a:lnTo>
                  <a:lnTo>
                    <a:pt x="65" y="567"/>
                  </a:lnTo>
                  <a:lnTo>
                    <a:pt x="65" y="596"/>
                  </a:lnTo>
                  <a:lnTo>
                    <a:pt x="65" y="616"/>
                  </a:lnTo>
                  <a:lnTo>
                    <a:pt x="65" y="646"/>
                  </a:lnTo>
                  <a:lnTo>
                    <a:pt x="60" y="665"/>
                  </a:lnTo>
                  <a:lnTo>
                    <a:pt x="60" y="690"/>
                  </a:lnTo>
                  <a:lnTo>
                    <a:pt x="55" y="715"/>
                  </a:lnTo>
                  <a:lnTo>
                    <a:pt x="55" y="739"/>
                  </a:lnTo>
                  <a:lnTo>
                    <a:pt x="55" y="764"/>
                  </a:lnTo>
                  <a:lnTo>
                    <a:pt x="55" y="789"/>
                  </a:lnTo>
                  <a:lnTo>
                    <a:pt x="55" y="808"/>
                  </a:lnTo>
                  <a:lnTo>
                    <a:pt x="55" y="838"/>
                  </a:lnTo>
                  <a:lnTo>
                    <a:pt x="55" y="858"/>
                  </a:lnTo>
                  <a:lnTo>
                    <a:pt x="55" y="882"/>
                  </a:lnTo>
                  <a:lnTo>
                    <a:pt x="55" y="907"/>
                  </a:lnTo>
                  <a:lnTo>
                    <a:pt x="60" y="932"/>
                  </a:lnTo>
                  <a:lnTo>
                    <a:pt x="60" y="951"/>
                  </a:lnTo>
                  <a:lnTo>
                    <a:pt x="60" y="976"/>
                  </a:lnTo>
                  <a:lnTo>
                    <a:pt x="60" y="1001"/>
                  </a:lnTo>
                  <a:lnTo>
                    <a:pt x="65" y="1025"/>
                  </a:lnTo>
                  <a:lnTo>
                    <a:pt x="65" y="1045"/>
                  </a:lnTo>
                  <a:lnTo>
                    <a:pt x="65" y="1065"/>
                  </a:lnTo>
                  <a:lnTo>
                    <a:pt x="65" y="1089"/>
                  </a:lnTo>
                  <a:lnTo>
                    <a:pt x="65" y="1109"/>
                  </a:lnTo>
                  <a:lnTo>
                    <a:pt x="65" y="1129"/>
                  </a:lnTo>
                  <a:lnTo>
                    <a:pt x="70" y="1154"/>
                  </a:lnTo>
                  <a:lnTo>
                    <a:pt x="70" y="1173"/>
                  </a:lnTo>
                  <a:lnTo>
                    <a:pt x="75" y="1193"/>
                  </a:lnTo>
                  <a:lnTo>
                    <a:pt x="75" y="1213"/>
                  </a:lnTo>
                  <a:lnTo>
                    <a:pt x="75" y="1227"/>
                  </a:lnTo>
                  <a:lnTo>
                    <a:pt x="75" y="1247"/>
                  </a:lnTo>
                  <a:lnTo>
                    <a:pt x="80" y="1262"/>
                  </a:lnTo>
                  <a:lnTo>
                    <a:pt x="80" y="1282"/>
                  </a:lnTo>
                  <a:lnTo>
                    <a:pt x="80" y="1297"/>
                  </a:lnTo>
                  <a:lnTo>
                    <a:pt x="80" y="1311"/>
                  </a:lnTo>
                  <a:lnTo>
                    <a:pt x="85" y="1326"/>
                  </a:lnTo>
                  <a:lnTo>
                    <a:pt x="85" y="1341"/>
                  </a:lnTo>
                  <a:lnTo>
                    <a:pt x="85" y="1361"/>
                  </a:lnTo>
                  <a:lnTo>
                    <a:pt x="85" y="1375"/>
                  </a:lnTo>
                  <a:lnTo>
                    <a:pt x="85" y="1390"/>
                  </a:lnTo>
                  <a:lnTo>
                    <a:pt x="85" y="1405"/>
                  </a:lnTo>
                  <a:lnTo>
                    <a:pt x="85" y="1425"/>
                  </a:lnTo>
                  <a:lnTo>
                    <a:pt x="85" y="1440"/>
                  </a:lnTo>
                  <a:lnTo>
                    <a:pt x="85" y="1454"/>
                  </a:lnTo>
                  <a:lnTo>
                    <a:pt x="85" y="1469"/>
                  </a:lnTo>
                  <a:lnTo>
                    <a:pt x="85" y="1489"/>
                  </a:lnTo>
                  <a:lnTo>
                    <a:pt x="85" y="1504"/>
                  </a:lnTo>
                  <a:lnTo>
                    <a:pt x="85" y="1518"/>
                  </a:lnTo>
                  <a:lnTo>
                    <a:pt x="85" y="1533"/>
                  </a:lnTo>
                  <a:lnTo>
                    <a:pt x="85" y="1548"/>
                  </a:lnTo>
                  <a:lnTo>
                    <a:pt x="85" y="1568"/>
                  </a:lnTo>
                  <a:lnTo>
                    <a:pt x="85" y="1583"/>
                  </a:lnTo>
                  <a:lnTo>
                    <a:pt x="85" y="1597"/>
                  </a:lnTo>
                  <a:lnTo>
                    <a:pt x="85" y="1612"/>
                  </a:lnTo>
                  <a:lnTo>
                    <a:pt x="85" y="1627"/>
                  </a:lnTo>
                  <a:lnTo>
                    <a:pt x="85" y="1647"/>
                  </a:lnTo>
                  <a:lnTo>
                    <a:pt x="80" y="1657"/>
                  </a:lnTo>
                  <a:lnTo>
                    <a:pt x="80" y="1676"/>
                  </a:lnTo>
                  <a:lnTo>
                    <a:pt x="80" y="1691"/>
                  </a:lnTo>
                  <a:lnTo>
                    <a:pt x="80" y="1706"/>
                  </a:lnTo>
                  <a:lnTo>
                    <a:pt x="80" y="1721"/>
                  </a:lnTo>
                  <a:lnTo>
                    <a:pt x="80" y="1735"/>
                  </a:lnTo>
                  <a:lnTo>
                    <a:pt x="80" y="1750"/>
                  </a:lnTo>
                  <a:lnTo>
                    <a:pt x="80" y="1770"/>
                  </a:lnTo>
                  <a:lnTo>
                    <a:pt x="75" y="1785"/>
                  </a:lnTo>
                  <a:lnTo>
                    <a:pt x="75" y="1800"/>
                  </a:lnTo>
                  <a:lnTo>
                    <a:pt x="75" y="1814"/>
                  </a:lnTo>
                  <a:lnTo>
                    <a:pt x="75" y="1834"/>
                  </a:lnTo>
                  <a:lnTo>
                    <a:pt x="75" y="1849"/>
                  </a:lnTo>
                  <a:lnTo>
                    <a:pt x="75" y="1864"/>
                  </a:lnTo>
                  <a:lnTo>
                    <a:pt x="70" y="1878"/>
                  </a:lnTo>
                  <a:lnTo>
                    <a:pt x="70" y="1893"/>
                  </a:lnTo>
                  <a:lnTo>
                    <a:pt x="70" y="1908"/>
                  </a:lnTo>
                  <a:lnTo>
                    <a:pt x="65" y="1923"/>
                  </a:lnTo>
                  <a:lnTo>
                    <a:pt x="65" y="1938"/>
                  </a:lnTo>
                  <a:lnTo>
                    <a:pt x="65" y="1957"/>
                  </a:lnTo>
                  <a:lnTo>
                    <a:pt x="65" y="1972"/>
                  </a:lnTo>
                  <a:lnTo>
                    <a:pt x="60" y="1987"/>
                  </a:lnTo>
                  <a:lnTo>
                    <a:pt x="60" y="2002"/>
                  </a:lnTo>
                  <a:lnTo>
                    <a:pt x="60" y="2017"/>
                  </a:lnTo>
                  <a:lnTo>
                    <a:pt x="60" y="2031"/>
                  </a:lnTo>
                  <a:lnTo>
                    <a:pt x="55" y="2046"/>
                  </a:lnTo>
                  <a:lnTo>
                    <a:pt x="55" y="2061"/>
                  </a:lnTo>
                  <a:lnTo>
                    <a:pt x="55" y="2081"/>
                  </a:lnTo>
                  <a:lnTo>
                    <a:pt x="50" y="2095"/>
                  </a:lnTo>
                  <a:lnTo>
                    <a:pt x="50" y="2110"/>
                  </a:lnTo>
                  <a:lnTo>
                    <a:pt x="45" y="2125"/>
                  </a:lnTo>
                  <a:lnTo>
                    <a:pt x="45" y="2140"/>
                  </a:lnTo>
                  <a:lnTo>
                    <a:pt x="40" y="2155"/>
                  </a:lnTo>
                  <a:lnTo>
                    <a:pt x="40" y="2169"/>
                  </a:lnTo>
                  <a:lnTo>
                    <a:pt x="40" y="2189"/>
                  </a:lnTo>
                  <a:lnTo>
                    <a:pt x="40" y="2204"/>
                  </a:lnTo>
                  <a:lnTo>
                    <a:pt x="35" y="2219"/>
                  </a:lnTo>
                  <a:lnTo>
                    <a:pt x="30" y="2234"/>
                  </a:lnTo>
                  <a:lnTo>
                    <a:pt x="30" y="2248"/>
                  </a:lnTo>
                  <a:lnTo>
                    <a:pt x="30" y="2268"/>
                  </a:lnTo>
                  <a:lnTo>
                    <a:pt x="25" y="2283"/>
                  </a:lnTo>
                  <a:lnTo>
                    <a:pt x="25" y="2298"/>
                  </a:lnTo>
                  <a:lnTo>
                    <a:pt x="20" y="2312"/>
                  </a:lnTo>
                  <a:lnTo>
                    <a:pt x="20" y="2332"/>
                  </a:lnTo>
                  <a:lnTo>
                    <a:pt x="15" y="2347"/>
                  </a:lnTo>
                  <a:lnTo>
                    <a:pt x="15" y="2362"/>
                  </a:lnTo>
                  <a:lnTo>
                    <a:pt x="10" y="2381"/>
                  </a:lnTo>
                  <a:lnTo>
                    <a:pt x="10" y="2401"/>
                  </a:lnTo>
                  <a:lnTo>
                    <a:pt x="5" y="2416"/>
                  </a:lnTo>
                  <a:lnTo>
                    <a:pt x="5" y="2436"/>
                  </a:lnTo>
                  <a:lnTo>
                    <a:pt x="0" y="2450"/>
                  </a:lnTo>
                  <a:lnTo>
                    <a:pt x="0" y="2470"/>
                  </a:lnTo>
                  <a:lnTo>
                    <a:pt x="0" y="2490"/>
                  </a:lnTo>
                  <a:lnTo>
                    <a:pt x="0" y="2505"/>
                  </a:lnTo>
                  <a:lnTo>
                    <a:pt x="0" y="2524"/>
                  </a:lnTo>
                  <a:lnTo>
                    <a:pt x="0" y="2539"/>
                  </a:lnTo>
                  <a:lnTo>
                    <a:pt x="0" y="2559"/>
                  </a:lnTo>
                  <a:lnTo>
                    <a:pt x="0" y="2574"/>
                  </a:lnTo>
                  <a:lnTo>
                    <a:pt x="0" y="2594"/>
                  </a:lnTo>
                  <a:lnTo>
                    <a:pt x="0" y="2613"/>
                  </a:lnTo>
                  <a:lnTo>
                    <a:pt x="0" y="2628"/>
                  </a:lnTo>
                  <a:lnTo>
                    <a:pt x="0" y="2643"/>
                  </a:lnTo>
                  <a:lnTo>
                    <a:pt x="5" y="2663"/>
                  </a:lnTo>
                  <a:lnTo>
                    <a:pt x="10" y="2677"/>
                  </a:lnTo>
                  <a:lnTo>
                    <a:pt x="10" y="2697"/>
                  </a:lnTo>
                  <a:lnTo>
                    <a:pt x="15" y="2717"/>
                  </a:lnTo>
                  <a:lnTo>
                    <a:pt x="20" y="2732"/>
                  </a:lnTo>
                  <a:lnTo>
                    <a:pt x="25" y="2751"/>
                  </a:lnTo>
                  <a:lnTo>
                    <a:pt x="30" y="2766"/>
                  </a:lnTo>
                  <a:lnTo>
                    <a:pt x="35" y="2781"/>
                  </a:lnTo>
                  <a:lnTo>
                    <a:pt x="40" y="2801"/>
                  </a:lnTo>
                  <a:lnTo>
                    <a:pt x="45" y="2815"/>
                  </a:lnTo>
                  <a:lnTo>
                    <a:pt x="50" y="2830"/>
                  </a:lnTo>
                  <a:lnTo>
                    <a:pt x="60" y="2850"/>
                  </a:lnTo>
                  <a:lnTo>
                    <a:pt x="70" y="2865"/>
                  </a:lnTo>
                  <a:lnTo>
                    <a:pt x="80" y="2880"/>
                  </a:lnTo>
                  <a:lnTo>
                    <a:pt x="85" y="2889"/>
                  </a:lnTo>
                  <a:lnTo>
                    <a:pt x="95" y="2899"/>
                  </a:lnTo>
                  <a:lnTo>
                    <a:pt x="105" y="2899"/>
                  </a:lnTo>
                  <a:lnTo>
                    <a:pt x="115" y="2904"/>
                  </a:lnTo>
                  <a:lnTo>
                    <a:pt x="125" y="2904"/>
                  </a:lnTo>
                  <a:lnTo>
                    <a:pt x="140" y="2904"/>
                  </a:lnTo>
                  <a:lnTo>
                    <a:pt x="150" y="2904"/>
                  </a:lnTo>
                  <a:lnTo>
                    <a:pt x="160" y="2904"/>
                  </a:lnTo>
                  <a:lnTo>
                    <a:pt x="180" y="2889"/>
                  </a:lnTo>
                  <a:lnTo>
                    <a:pt x="190" y="2875"/>
                  </a:lnTo>
                  <a:lnTo>
                    <a:pt x="195" y="2865"/>
                  </a:lnTo>
                  <a:lnTo>
                    <a:pt x="201" y="2855"/>
                  </a:lnTo>
                  <a:lnTo>
                    <a:pt x="195" y="2845"/>
                  </a:lnTo>
                  <a:lnTo>
                    <a:pt x="195" y="2835"/>
                  </a:lnTo>
                  <a:lnTo>
                    <a:pt x="190" y="2815"/>
                  </a:lnTo>
                  <a:lnTo>
                    <a:pt x="180" y="2796"/>
                  </a:lnTo>
                  <a:lnTo>
                    <a:pt x="175" y="2776"/>
                  </a:lnTo>
                  <a:lnTo>
                    <a:pt x="170" y="2761"/>
                  </a:lnTo>
                  <a:lnTo>
                    <a:pt x="165" y="2741"/>
                  </a:lnTo>
                  <a:lnTo>
                    <a:pt x="160" y="2727"/>
                  </a:lnTo>
                  <a:lnTo>
                    <a:pt x="155" y="2707"/>
                  </a:lnTo>
                  <a:lnTo>
                    <a:pt x="150" y="2687"/>
                  </a:lnTo>
                  <a:lnTo>
                    <a:pt x="145" y="2667"/>
                  </a:lnTo>
                  <a:lnTo>
                    <a:pt x="145" y="2653"/>
                  </a:lnTo>
                  <a:lnTo>
                    <a:pt x="140" y="2628"/>
                  </a:lnTo>
                  <a:lnTo>
                    <a:pt x="140" y="2613"/>
                  </a:lnTo>
                  <a:lnTo>
                    <a:pt x="140" y="2594"/>
                  </a:lnTo>
                  <a:lnTo>
                    <a:pt x="135" y="2574"/>
                  </a:lnTo>
                  <a:lnTo>
                    <a:pt x="135" y="2554"/>
                  </a:lnTo>
                  <a:lnTo>
                    <a:pt x="135" y="2539"/>
                  </a:lnTo>
                  <a:lnTo>
                    <a:pt x="135" y="2515"/>
                  </a:lnTo>
                  <a:lnTo>
                    <a:pt x="130" y="2495"/>
                  </a:lnTo>
                  <a:lnTo>
                    <a:pt x="130" y="2475"/>
                  </a:lnTo>
                  <a:lnTo>
                    <a:pt x="130" y="2455"/>
                  </a:lnTo>
                  <a:lnTo>
                    <a:pt x="130" y="2436"/>
                  </a:lnTo>
                  <a:lnTo>
                    <a:pt x="135" y="2416"/>
                  </a:lnTo>
                  <a:lnTo>
                    <a:pt x="135" y="2396"/>
                  </a:lnTo>
                  <a:lnTo>
                    <a:pt x="135" y="2377"/>
                  </a:lnTo>
                  <a:lnTo>
                    <a:pt x="135" y="2352"/>
                  </a:lnTo>
                  <a:lnTo>
                    <a:pt x="140" y="2332"/>
                  </a:lnTo>
                  <a:lnTo>
                    <a:pt x="140" y="2312"/>
                  </a:lnTo>
                  <a:lnTo>
                    <a:pt x="145" y="2293"/>
                  </a:lnTo>
                  <a:lnTo>
                    <a:pt x="145" y="2273"/>
                  </a:lnTo>
                  <a:lnTo>
                    <a:pt x="150" y="2253"/>
                  </a:lnTo>
                  <a:lnTo>
                    <a:pt x="150" y="2234"/>
                  </a:lnTo>
                  <a:lnTo>
                    <a:pt x="155" y="2214"/>
                  </a:lnTo>
                  <a:lnTo>
                    <a:pt x="155" y="2189"/>
                  </a:lnTo>
                  <a:lnTo>
                    <a:pt x="160" y="2169"/>
                  </a:lnTo>
                  <a:lnTo>
                    <a:pt x="160" y="2145"/>
                  </a:lnTo>
                  <a:lnTo>
                    <a:pt x="165" y="2125"/>
                  </a:lnTo>
                  <a:lnTo>
                    <a:pt x="165" y="2105"/>
                  </a:lnTo>
                  <a:lnTo>
                    <a:pt x="170" y="2086"/>
                  </a:lnTo>
                  <a:lnTo>
                    <a:pt x="170" y="2061"/>
                  </a:lnTo>
                  <a:lnTo>
                    <a:pt x="175" y="2041"/>
                  </a:lnTo>
                  <a:lnTo>
                    <a:pt x="180" y="2021"/>
                  </a:lnTo>
                  <a:lnTo>
                    <a:pt x="180" y="1997"/>
                  </a:lnTo>
                  <a:lnTo>
                    <a:pt x="185" y="1977"/>
                  </a:lnTo>
                  <a:lnTo>
                    <a:pt x="190" y="1957"/>
                  </a:lnTo>
                  <a:lnTo>
                    <a:pt x="190" y="1938"/>
                  </a:lnTo>
                  <a:lnTo>
                    <a:pt x="195" y="1918"/>
                  </a:lnTo>
                  <a:lnTo>
                    <a:pt x="195" y="1898"/>
                  </a:lnTo>
                  <a:lnTo>
                    <a:pt x="201" y="1878"/>
                  </a:lnTo>
                  <a:lnTo>
                    <a:pt x="201" y="1859"/>
                  </a:lnTo>
                  <a:lnTo>
                    <a:pt x="206" y="1834"/>
                  </a:lnTo>
                  <a:lnTo>
                    <a:pt x="206" y="1814"/>
                  </a:lnTo>
                  <a:lnTo>
                    <a:pt x="211" y="1795"/>
                  </a:lnTo>
                  <a:lnTo>
                    <a:pt x="211" y="1775"/>
                  </a:lnTo>
                  <a:lnTo>
                    <a:pt x="216" y="1760"/>
                  </a:lnTo>
                  <a:lnTo>
                    <a:pt x="216" y="1735"/>
                  </a:lnTo>
                  <a:lnTo>
                    <a:pt x="221" y="1721"/>
                  </a:lnTo>
                  <a:lnTo>
                    <a:pt x="221" y="1701"/>
                  </a:lnTo>
                  <a:lnTo>
                    <a:pt x="221" y="1681"/>
                  </a:lnTo>
                  <a:lnTo>
                    <a:pt x="221" y="1661"/>
                  </a:lnTo>
                  <a:lnTo>
                    <a:pt x="226" y="1642"/>
                  </a:lnTo>
                  <a:lnTo>
                    <a:pt x="226" y="1622"/>
                  </a:lnTo>
                  <a:lnTo>
                    <a:pt x="226" y="1602"/>
                  </a:lnTo>
                  <a:lnTo>
                    <a:pt x="226" y="1587"/>
                  </a:lnTo>
                  <a:lnTo>
                    <a:pt x="226" y="1568"/>
                  </a:lnTo>
                  <a:lnTo>
                    <a:pt x="226" y="1558"/>
                  </a:lnTo>
                  <a:lnTo>
                    <a:pt x="226" y="1543"/>
                  </a:lnTo>
                  <a:lnTo>
                    <a:pt x="226" y="1533"/>
                  </a:lnTo>
                  <a:lnTo>
                    <a:pt x="226" y="1523"/>
                  </a:lnTo>
                  <a:lnTo>
                    <a:pt x="226" y="1509"/>
                  </a:lnTo>
                  <a:lnTo>
                    <a:pt x="226" y="1499"/>
                  </a:lnTo>
                  <a:lnTo>
                    <a:pt x="226" y="1489"/>
                  </a:lnTo>
                  <a:lnTo>
                    <a:pt x="226" y="1479"/>
                  </a:lnTo>
                  <a:lnTo>
                    <a:pt x="221" y="1464"/>
                  </a:lnTo>
                  <a:lnTo>
                    <a:pt x="221" y="1454"/>
                  </a:lnTo>
                  <a:lnTo>
                    <a:pt x="221" y="1444"/>
                  </a:lnTo>
                  <a:lnTo>
                    <a:pt x="221" y="1430"/>
                  </a:lnTo>
                  <a:lnTo>
                    <a:pt x="221" y="1420"/>
                  </a:lnTo>
                  <a:lnTo>
                    <a:pt x="221" y="1410"/>
                  </a:lnTo>
                  <a:lnTo>
                    <a:pt x="221" y="1400"/>
                  </a:lnTo>
                  <a:lnTo>
                    <a:pt x="221" y="1390"/>
                  </a:lnTo>
                  <a:lnTo>
                    <a:pt x="216" y="1375"/>
                  </a:lnTo>
                  <a:lnTo>
                    <a:pt x="216" y="1366"/>
                  </a:lnTo>
                  <a:lnTo>
                    <a:pt x="216" y="1356"/>
                  </a:lnTo>
                  <a:lnTo>
                    <a:pt x="216" y="1341"/>
                  </a:lnTo>
                  <a:lnTo>
                    <a:pt x="216" y="1331"/>
                  </a:lnTo>
                  <a:lnTo>
                    <a:pt x="216" y="1316"/>
                  </a:lnTo>
                  <a:lnTo>
                    <a:pt x="216" y="1306"/>
                  </a:lnTo>
                  <a:lnTo>
                    <a:pt x="216" y="1297"/>
                  </a:lnTo>
                  <a:lnTo>
                    <a:pt x="216" y="1282"/>
                  </a:lnTo>
                  <a:lnTo>
                    <a:pt x="216" y="1272"/>
                  </a:lnTo>
                  <a:lnTo>
                    <a:pt x="211" y="1262"/>
                  </a:lnTo>
                  <a:lnTo>
                    <a:pt x="211" y="1252"/>
                  </a:lnTo>
                  <a:lnTo>
                    <a:pt x="211" y="1242"/>
                  </a:lnTo>
                  <a:lnTo>
                    <a:pt x="211" y="1227"/>
                  </a:lnTo>
                  <a:lnTo>
                    <a:pt x="211" y="1218"/>
                  </a:lnTo>
                  <a:lnTo>
                    <a:pt x="211" y="1208"/>
                  </a:lnTo>
                  <a:lnTo>
                    <a:pt x="211" y="1193"/>
                  </a:lnTo>
                  <a:lnTo>
                    <a:pt x="211" y="1183"/>
                  </a:lnTo>
                  <a:lnTo>
                    <a:pt x="211" y="1173"/>
                  </a:lnTo>
                  <a:lnTo>
                    <a:pt x="211" y="1163"/>
                  </a:lnTo>
                  <a:lnTo>
                    <a:pt x="206" y="1149"/>
                  </a:lnTo>
                  <a:lnTo>
                    <a:pt x="206" y="1139"/>
                  </a:lnTo>
                  <a:lnTo>
                    <a:pt x="206" y="1129"/>
                  </a:lnTo>
                  <a:lnTo>
                    <a:pt x="206" y="1114"/>
                  </a:lnTo>
                  <a:lnTo>
                    <a:pt x="206" y="1104"/>
                  </a:lnTo>
                  <a:lnTo>
                    <a:pt x="206" y="1089"/>
                  </a:lnTo>
                  <a:lnTo>
                    <a:pt x="206" y="1080"/>
                  </a:lnTo>
                  <a:lnTo>
                    <a:pt x="206" y="1070"/>
                  </a:lnTo>
                  <a:lnTo>
                    <a:pt x="206" y="1060"/>
                  </a:lnTo>
                  <a:lnTo>
                    <a:pt x="206" y="1050"/>
                  </a:lnTo>
                  <a:lnTo>
                    <a:pt x="206" y="1035"/>
                  </a:lnTo>
                  <a:lnTo>
                    <a:pt x="206" y="1025"/>
                  </a:lnTo>
                  <a:lnTo>
                    <a:pt x="201" y="1015"/>
                  </a:lnTo>
                  <a:lnTo>
                    <a:pt x="201" y="1001"/>
                  </a:lnTo>
                  <a:lnTo>
                    <a:pt x="201" y="991"/>
                  </a:lnTo>
                  <a:lnTo>
                    <a:pt x="201" y="981"/>
                  </a:lnTo>
                  <a:lnTo>
                    <a:pt x="201" y="966"/>
                  </a:lnTo>
                  <a:lnTo>
                    <a:pt x="201" y="956"/>
                  </a:lnTo>
                  <a:lnTo>
                    <a:pt x="201" y="946"/>
                  </a:lnTo>
                  <a:lnTo>
                    <a:pt x="201" y="937"/>
                  </a:lnTo>
                  <a:lnTo>
                    <a:pt x="201" y="922"/>
                  </a:lnTo>
                  <a:lnTo>
                    <a:pt x="201" y="912"/>
                  </a:lnTo>
                  <a:lnTo>
                    <a:pt x="201" y="902"/>
                  </a:lnTo>
                  <a:lnTo>
                    <a:pt x="201" y="887"/>
                  </a:lnTo>
                  <a:lnTo>
                    <a:pt x="201" y="877"/>
                  </a:lnTo>
                  <a:lnTo>
                    <a:pt x="201" y="867"/>
                  </a:lnTo>
                  <a:lnTo>
                    <a:pt x="201" y="858"/>
                  </a:lnTo>
                  <a:lnTo>
                    <a:pt x="201" y="843"/>
                  </a:lnTo>
                  <a:lnTo>
                    <a:pt x="201" y="828"/>
                  </a:lnTo>
                  <a:lnTo>
                    <a:pt x="201" y="808"/>
                  </a:lnTo>
                  <a:lnTo>
                    <a:pt x="201" y="789"/>
                  </a:lnTo>
                  <a:lnTo>
                    <a:pt x="201" y="774"/>
                  </a:lnTo>
                  <a:lnTo>
                    <a:pt x="201" y="754"/>
                  </a:lnTo>
                  <a:lnTo>
                    <a:pt x="201" y="739"/>
                  </a:lnTo>
                  <a:lnTo>
                    <a:pt x="201" y="724"/>
                  </a:lnTo>
                  <a:lnTo>
                    <a:pt x="206" y="705"/>
                  </a:lnTo>
                  <a:lnTo>
                    <a:pt x="206" y="690"/>
                  </a:lnTo>
                  <a:lnTo>
                    <a:pt x="206" y="675"/>
                  </a:lnTo>
                  <a:lnTo>
                    <a:pt x="206" y="655"/>
                  </a:lnTo>
                  <a:lnTo>
                    <a:pt x="211" y="641"/>
                  </a:lnTo>
                  <a:lnTo>
                    <a:pt x="211" y="626"/>
                  </a:lnTo>
                  <a:lnTo>
                    <a:pt x="211" y="606"/>
                  </a:lnTo>
                  <a:lnTo>
                    <a:pt x="211" y="591"/>
                  </a:lnTo>
                  <a:lnTo>
                    <a:pt x="216" y="577"/>
                  </a:lnTo>
                  <a:lnTo>
                    <a:pt x="216" y="562"/>
                  </a:lnTo>
                  <a:lnTo>
                    <a:pt x="221" y="542"/>
                  </a:lnTo>
                  <a:lnTo>
                    <a:pt x="221" y="527"/>
                  </a:lnTo>
                  <a:lnTo>
                    <a:pt x="226" y="512"/>
                  </a:lnTo>
                  <a:lnTo>
                    <a:pt x="226" y="498"/>
                  </a:lnTo>
                  <a:lnTo>
                    <a:pt x="231" y="483"/>
                  </a:lnTo>
                  <a:lnTo>
                    <a:pt x="231" y="468"/>
                  </a:lnTo>
                  <a:lnTo>
                    <a:pt x="241" y="458"/>
                  </a:lnTo>
                  <a:lnTo>
                    <a:pt x="241" y="443"/>
                  </a:lnTo>
                  <a:lnTo>
                    <a:pt x="246" y="429"/>
                  </a:lnTo>
                  <a:lnTo>
                    <a:pt x="251" y="414"/>
                  </a:lnTo>
                  <a:lnTo>
                    <a:pt x="256" y="404"/>
                  </a:lnTo>
                  <a:lnTo>
                    <a:pt x="261" y="389"/>
                  </a:lnTo>
                  <a:lnTo>
                    <a:pt x="266" y="374"/>
                  </a:lnTo>
                  <a:lnTo>
                    <a:pt x="276" y="364"/>
                  </a:lnTo>
                  <a:lnTo>
                    <a:pt x="281" y="355"/>
                  </a:lnTo>
                  <a:lnTo>
                    <a:pt x="286" y="340"/>
                  </a:lnTo>
                  <a:lnTo>
                    <a:pt x="291" y="330"/>
                  </a:lnTo>
                  <a:lnTo>
                    <a:pt x="301" y="320"/>
                  </a:lnTo>
                  <a:lnTo>
                    <a:pt x="311" y="305"/>
                  </a:lnTo>
                  <a:lnTo>
                    <a:pt x="316" y="295"/>
                  </a:lnTo>
                  <a:lnTo>
                    <a:pt x="326" y="286"/>
                  </a:lnTo>
                  <a:lnTo>
                    <a:pt x="331" y="276"/>
                  </a:lnTo>
                  <a:lnTo>
                    <a:pt x="341" y="271"/>
                  </a:lnTo>
                  <a:lnTo>
                    <a:pt x="351" y="256"/>
                  </a:lnTo>
                  <a:lnTo>
                    <a:pt x="361" y="246"/>
                  </a:lnTo>
                  <a:lnTo>
                    <a:pt x="371" y="241"/>
                  </a:lnTo>
                  <a:lnTo>
                    <a:pt x="381" y="231"/>
                  </a:lnTo>
                  <a:lnTo>
                    <a:pt x="391" y="221"/>
                  </a:lnTo>
                  <a:lnTo>
                    <a:pt x="407" y="217"/>
                  </a:lnTo>
                  <a:lnTo>
                    <a:pt x="417" y="212"/>
                  </a:lnTo>
                  <a:lnTo>
                    <a:pt x="432" y="207"/>
                  </a:lnTo>
                  <a:lnTo>
                    <a:pt x="442" y="197"/>
                  </a:lnTo>
                  <a:lnTo>
                    <a:pt x="457" y="192"/>
                  </a:lnTo>
                  <a:lnTo>
                    <a:pt x="467" y="187"/>
                  </a:lnTo>
                  <a:lnTo>
                    <a:pt x="482" y="182"/>
                  </a:lnTo>
                  <a:lnTo>
                    <a:pt x="497" y="177"/>
                  </a:lnTo>
                  <a:lnTo>
                    <a:pt x="512" y="172"/>
                  </a:lnTo>
                  <a:lnTo>
                    <a:pt x="532" y="172"/>
                  </a:lnTo>
                  <a:lnTo>
                    <a:pt x="547" y="167"/>
                  </a:lnTo>
                  <a:lnTo>
                    <a:pt x="567" y="162"/>
                  </a:lnTo>
                  <a:lnTo>
                    <a:pt x="582" y="162"/>
                  </a:lnTo>
                  <a:lnTo>
                    <a:pt x="603" y="162"/>
                  </a:lnTo>
                  <a:lnTo>
                    <a:pt x="618" y="162"/>
                  </a:lnTo>
                  <a:lnTo>
                    <a:pt x="638" y="162"/>
                  </a:lnTo>
                  <a:lnTo>
                    <a:pt x="658" y="162"/>
                  </a:lnTo>
                  <a:lnTo>
                    <a:pt x="683" y="162"/>
                  </a:lnTo>
                  <a:lnTo>
                    <a:pt x="703" y="162"/>
                  </a:lnTo>
                  <a:lnTo>
                    <a:pt x="728" y="162"/>
                  </a:lnTo>
                  <a:lnTo>
                    <a:pt x="753" y="167"/>
                  </a:lnTo>
                  <a:lnTo>
                    <a:pt x="778" y="167"/>
                  </a:lnTo>
                  <a:lnTo>
                    <a:pt x="804" y="172"/>
                  </a:lnTo>
                  <a:lnTo>
                    <a:pt x="824" y="172"/>
                  </a:lnTo>
                  <a:lnTo>
                    <a:pt x="849" y="177"/>
                  </a:lnTo>
                  <a:lnTo>
                    <a:pt x="874" y="182"/>
                  </a:lnTo>
                  <a:lnTo>
                    <a:pt x="899" y="187"/>
                  </a:lnTo>
                  <a:lnTo>
                    <a:pt x="924" y="187"/>
                  </a:lnTo>
                  <a:lnTo>
                    <a:pt x="949" y="192"/>
                  </a:lnTo>
                  <a:lnTo>
                    <a:pt x="974" y="197"/>
                  </a:lnTo>
                  <a:lnTo>
                    <a:pt x="1000" y="202"/>
                  </a:lnTo>
                  <a:lnTo>
                    <a:pt x="1025" y="207"/>
                  </a:lnTo>
                  <a:lnTo>
                    <a:pt x="1050" y="212"/>
                  </a:lnTo>
                  <a:lnTo>
                    <a:pt x="1075" y="217"/>
                  </a:lnTo>
                  <a:lnTo>
                    <a:pt x="1100" y="221"/>
                  </a:lnTo>
                  <a:lnTo>
                    <a:pt x="1125" y="226"/>
                  </a:lnTo>
                  <a:lnTo>
                    <a:pt x="1150" y="236"/>
                  </a:lnTo>
                  <a:lnTo>
                    <a:pt x="1170" y="241"/>
                  </a:lnTo>
                  <a:lnTo>
                    <a:pt x="1196" y="246"/>
                  </a:lnTo>
                  <a:lnTo>
                    <a:pt x="1221" y="251"/>
                  </a:lnTo>
                  <a:lnTo>
                    <a:pt x="1246" y="256"/>
                  </a:lnTo>
                  <a:lnTo>
                    <a:pt x="1271" y="261"/>
                  </a:lnTo>
                  <a:lnTo>
                    <a:pt x="1296" y="271"/>
                  </a:lnTo>
                  <a:lnTo>
                    <a:pt x="1316" y="276"/>
                  </a:lnTo>
                  <a:lnTo>
                    <a:pt x="1346" y="286"/>
                  </a:lnTo>
                  <a:lnTo>
                    <a:pt x="1366" y="290"/>
                  </a:lnTo>
                  <a:lnTo>
                    <a:pt x="1397" y="295"/>
                  </a:lnTo>
                  <a:lnTo>
                    <a:pt x="1417" y="305"/>
                  </a:lnTo>
                  <a:lnTo>
                    <a:pt x="1442" y="310"/>
                  </a:lnTo>
                  <a:lnTo>
                    <a:pt x="1467" y="320"/>
                  </a:lnTo>
                  <a:lnTo>
                    <a:pt x="1492" y="330"/>
                  </a:lnTo>
                  <a:lnTo>
                    <a:pt x="1517" y="335"/>
                  </a:lnTo>
                  <a:lnTo>
                    <a:pt x="1542" y="340"/>
                  </a:lnTo>
                  <a:lnTo>
                    <a:pt x="1562" y="350"/>
                  </a:lnTo>
                  <a:lnTo>
                    <a:pt x="1593" y="355"/>
                  </a:lnTo>
                  <a:lnTo>
                    <a:pt x="1613" y="364"/>
                  </a:lnTo>
                  <a:lnTo>
                    <a:pt x="1638" y="374"/>
                  </a:lnTo>
                  <a:lnTo>
                    <a:pt x="1663" y="379"/>
                  </a:lnTo>
                  <a:lnTo>
                    <a:pt x="1688" y="389"/>
                  </a:lnTo>
                  <a:lnTo>
                    <a:pt x="1708" y="394"/>
                  </a:lnTo>
                  <a:lnTo>
                    <a:pt x="1733" y="404"/>
                  </a:lnTo>
                  <a:lnTo>
                    <a:pt x="1758" y="409"/>
                  </a:lnTo>
                  <a:lnTo>
                    <a:pt x="1783" y="419"/>
                  </a:lnTo>
                  <a:lnTo>
                    <a:pt x="1804" y="429"/>
                  </a:lnTo>
                  <a:lnTo>
                    <a:pt x="1829" y="438"/>
                  </a:lnTo>
                  <a:lnTo>
                    <a:pt x="1854" y="443"/>
                  </a:lnTo>
                  <a:lnTo>
                    <a:pt x="1879" y="453"/>
                  </a:lnTo>
                  <a:lnTo>
                    <a:pt x="1904" y="458"/>
                  </a:lnTo>
                  <a:lnTo>
                    <a:pt x="1929" y="468"/>
                  </a:lnTo>
                  <a:lnTo>
                    <a:pt x="1949" y="473"/>
                  </a:lnTo>
                  <a:lnTo>
                    <a:pt x="1979" y="483"/>
                  </a:lnTo>
                  <a:lnTo>
                    <a:pt x="2000" y="488"/>
                  </a:lnTo>
                  <a:lnTo>
                    <a:pt x="2025" y="498"/>
                  </a:lnTo>
                  <a:lnTo>
                    <a:pt x="2050" y="507"/>
                  </a:lnTo>
                  <a:lnTo>
                    <a:pt x="2075" y="517"/>
                  </a:lnTo>
                  <a:lnTo>
                    <a:pt x="2095" y="522"/>
                  </a:lnTo>
                  <a:lnTo>
                    <a:pt x="2120" y="532"/>
                  </a:lnTo>
                  <a:lnTo>
                    <a:pt x="2145" y="537"/>
                  </a:lnTo>
                  <a:lnTo>
                    <a:pt x="2170" y="547"/>
                  </a:lnTo>
                  <a:lnTo>
                    <a:pt x="2196" y="552"/>
                  </a:lnTo>
                  <a:lnTo>
                    <a:pt x="2221" y="562"/>
                  </a:lnTo>
                  <a:lnTo>
                    <a:pt x="2246" y="567"/>
                  </a:lnTo>
                  <a:lnTo>
                    <a:pt x="2271" y="577"/>
                  </a:lnTo>
                  <a:lnTo>
                    <a:pt x="2296" y="581"/>
                  </a:lnTo>
                  <a:lnTo>
                    <a:pt x="2321" y="591"/>
                  </a:lnTo>
                  <a:lnTo>
                    <a:pt x="2346" y="596"/>
                  </a:lnTo>
                  <a:lnTo>
                    <a:pt x="2371" y="606"/>
                  </a:lnTo>
                  <a:lnTo>
                    <a:pt x="2402" y="611"/>
                  </a:lnTo>
                  <a:lnTo>
                    <a:pt x="2427" y="621"/>
                  </a:lnTo>
                  <a:lnTo>
                    <a:pt x="2452" y="626"/>
                  </a:lnTo>
                  <a:lnTo>
                    <a:pt x="2482" y="636"/>
                  </a:lnTo>
                  <a:lnTo>
                    <a:pt x="2507" y="646"/>
                  </a:lnTo>
                  <a:lnTo>
                    <a:pt x="2532" y="650"/>
                  </a:lnTo>
                  <a:lnTo>
                    <a:pt x="2562" y="660"/>
                  </a:lnTo>
                  <a:lnTo>
                    <a:pt x="2588" y="665"/>
                  </a:lnTo>
                  <a:lnTo>
                    <a:pt x="2613" y="675"/>
                  </a:lnTo>
                  <a:lnTo>
                    <a:pt x="2638" y="685"/>
                  </a:lnTo>
                  <a:lnTo>
                    <a:pt x="2668" y="690"/>
                  </a:lnTo>
                  <a:lnTo>
                    <a:pt x="2698" y="700"/>
                  </a:lnTo>
                  <a:lnTo>
                    <a:pt x="2723" y="705"/>
                  </a:lnTo>
                  <a:lnTo>
                    <a:pt x="2748" y="715"/>
                  </a:lnTo>
                  <a:lnTo>
                    <a:pt x="2773" y="724"/>
                  </a:lnTo>
                  <a:lnTo>
                    <a:pt x="2804" y="729"/>
                  </a:lnTo>
                  <a:lnTo>
                    <a:pt x="2829" y="739"/>
                  </a:lnTo>
                  <a:lnTo>
                    <a:pt x="2854" y="744"/>
                  </a:lnTo>
                  <a:lnTo>
                    <a:pt x="2884" y="754"/>
                  </a:lnTo>
                  <a:lnTo>
                    <a:pt x="2914" y="764"/>
                  </a:lnTo>
                  <a:lnTo>
                    <a:pt x="2939" y="769"/>
                  </a:lnTo>
                  <a:lnTo>
                    <a:pt x="2964" y="779"/>
                  </a:lnTo>
                  <a:lnTo>
                    <a:pt x="2990" y="784"/>
                  </a:lnTo>
                  <a:lnTo>
                    <a:pt x="3020" y="794"/>
                  </a:lnTo>
                  <a:lnTo>
                    <a:pt x="3045" y="798"/>
                  </a:lnTo>
                  <a:lnTo>
                    <a:pt x="3075" y="808"/>
                  </a:lnTo>
                  <a:lnTo>
                    <a:pt x="3100" y="813"/>
                  </a:lnTo>
                  <a:lnTo>
                    <a:pt x="3130" y="823"/>
                  </a:lnTo>
                  <a:lnTo>
                    <a:pt x="3155" y="828"/>
                  </a:lnTo>
                  <a:lnTo>
                    <a:pt x="3181" y="838"/>
                  </a:lnTo>
                  <a:lnTo>
                    <a:pt x="3206" y="843"/>
                  </a:lnTo>
                  <a:lnTo>
                    <a:pt x="3236" y="853"/>
                  </a:lnTo>
                  <a:lnTo>
                    <a:pt x="3261" y="858"/>
                  </a:lnTo>
                  <a:lnTo>
                    <a:pt x="3291" y="867"/>
                  </a:lnTo>
                  <a:lnTo>
                    <a:pt x="3316" y="872"/>
                  </a:lnTo>
                  <a:lnTo>
                    <a:pt x="3346" y="882"/>
                  </a:lnTo>
                  <a:lnTo>
                    <a:pt x="3371" y="887"/>
                  </a:lnTo>
                  <a:lnTo>
                    <a:pt x="3402" y="897"/>
                  </a:lnTo>
                  <a:lnTo>
                    <a:pt x="3427" y="902"/>
                  </a:lnTo>
                  <a:lnTo>
                    <a:pt x="3452" y="912"/>
                  </a:lnTo>
                  <a:lnTo>
                    <a:pt x="3482" y="917"/>
                  </a:lnTo>
                  <a:lnTo>
                    <a:pt x="3507" y="922"/>
                  </a:lnTo>
                  <a:lnTo>
                    <a:pt x="3537" y="932"/>
                  </a:lnTo>
                  <a:lnTo>
                    <a:pt x="3562" y="937"/>
                  </a:lnTo>
                  <a:lnTo>
                    <a:pt x="3588" y="941"/>
                  </a:lnTo>
                  <a:lnTo>
                    <a:pt x="3618" y="951"/>
                  </a:lnTo>
                  <a:lnTo>
                    <a:pt x="3643" y="956"/>
                  </a:lnTo>
                  <a:lnTo>
                    <a:pt x="3673" y="966"/>
                  </a:lnTo>
                  <a:lnTo>
                    <a:pt x="3698" y="971"/>
                  </a:lnTo>
                  <a:lnTo>
                    <a:pt x="3723" y="976"/>
                  </a:lnTo>
                  <a:lnTo>
                    <a:pt x="3753" y="981"/>
                  </a:lnTo>
                  <a:lnTo>
                    <a:pt x="3784" y="986"/>
                  </a:lnTo>
                  <a:lnTo>
                    <a:pt x="3809" y="991"/>
                  </a:lnTo>
                  <a:lnTo>
                    <a:pt x="3834" y="1001"/>
                  </a:lnTo>
                  <a:lnTo>
                    <a:pt x="3864" y="1006"/>
                  </a:lnTo>
                  <a:lnTo>
                    <a:pt x="3889" y="1010"/>
                  </a:lnTo>
                  <a:lnTo>
                    <a:pt x="3919" y="1015"/>
                  </a:lnTo>
                  <a:lnTo>
                    <a:pt x="3944" y="1020"/>
                  </a:lnTo>
                  <a:lnTo>
                    <a:pt x="3974" y="1025"/>
                  </a:lnTo>
                  <a:lnTo>
                    <a:pt x="4000" y="1035"/>
                  </a:lnTo>
                  <a:lnTo>
                    <a:pt x="4020" y="1030"/>
                  </a:lnTo>
                  <a:lnTo>
                    <a:pt x="4030" y="1020"/>
                  </a:lnTo>
                  <a:lnTo>
                    <a:pt x="4030" y="1001"/>
                  </a:lnTo>
                  <a:lnTo>
                    <a:pt x="4020" y="991"/>
                  </a:lnTo>
                  <a:lnTo>
                    <a:pt x="4020" y="9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 rot="9362400">
              <a:off x="1720440" y="4868640"/>
              <a:ext cx="6405480" cy="2026800"/>
            </a:xfrm>
            <a:custGeom>
              <a:avLst/>
              <a:gdLst/>
              <a:ahLst/>
              <a:rect l="l" t="t" r="r" b="b"/>
              <a:pathLst>
                <a:path w="4035" h="1277">
                  <a:moveTo>
                    <a:pt x="75" y="207"/>
                  </a:moveTo>
                  <a:lnTo>
                    <a:pt x="90" y="222"/>
                  </a:lnTo>
                  <a:lnTo>
                    <a:pt x="115" y="237"/>
                  </a:lnTo>
                  <a:lnTo>
                    <a:pt x="135" y="252"/>
                  </a:lnTo>
                  <a:lnTo>
                    <a:pt x="156" y="266"/>
                  </a:lnTo>
                  <a:lnTo>
                    <a:pt x="176" y="281"/>
                  </a:lnTo>
                  <a:lnTo>
                    <a:pt x="201" y="296"/>
                  </a:lnTo>
                  <a:lnTo>
                    <a:pt x="221" y="306"/>
                  </a:lnTo>
                  <a:lnTo>
                    <a:pt x="246" y="321"/>
                  </a:lnTo>
                  <a:lnTo>
                    <a:pt x="271" y="331"/>
                  </a:lnTo>
                  <a:lnTo>
                    <a:pt x="291" y="345"/>
                  </a:lnTo>
                  <a:lnTo>
                    <a:pt x="316" y="360"/>
                  </a:lnTo>
                  <a:lnTo>
                    <a:pt x="342" y="370"/>
                  </a:lnTo>
                  <a:lnTo>
                    <a:pt x="367" y="380"/>
                  </a:lnTo>
                  <a:lnTo>
                    <a:pt x="392" y="395"/>
                  </a:lnTo>
                  <a:lnTo>
                    <a:pt x="417" y="404"/>
                  </a:lnTo>
                  <a:lnTo>
                    <a:pt x="447" y="414"/>
                  </a:lnTo>
                  <a:lnTo>
                    <a:pt x="472" y="424"/>
                  </a:lnTo>
                  <a:lnTo>
                    <a:pt x="497" y="434"/>
                  </a:lnTo>
                  <a:lnTo>
                    <a:pt x="522" y="444"/>
                  </a:lnTo>
                  <a:lnTo>
                    <a:pt x="553" y="454"/>
                  </a:lnTo>
                  <a:lnTo>
                    <a:pt x="578" y="464"/>
                  </a:lnTo>
                  <a:lnTo>
                    <a:pt x="608" y="474"/>
                  </a:lnTo>
                  <a:lnTo>
                    <a:pt x="633" y="483"/>
                  </a:lnTo>
                  <a:lnTo>
                    <a:pt x="663" y="493"/>
                  </a:lnTo>
                  <a:lnTo>
                    <a:pt x="693" y="503"/>
                  </a:lnTo>
                  <a:lnTo>
                    <a:pt x="718" y="508"/>
                  </a:lnTo>
                  <a:lnTo>
                    <a:pt x="749" y="518"/>
                  </a:lnTo>
                  <a:lnTo>
                    <a:pt x="774" y="528"/>
                  </a:lnTo>
                  <a:lnTo>
                    <a:pt x="804" y="533"/>
                  </a:lnTo>
                  <a:lnTo>
                    <a:pt x="834" y="543"/>
                  </a:lnTo>
                  <a:lnTo>
                    <a:pt x="864" y="548"/>
                  </a:lnTo>
                  <a:lnTo>
                    <a:pt x="894" y="557"/>
                  </a:lnTo>
                  <a:lnTo>
                    <a:pt x="919" y="562"/>
                  </a:lnTo>
                  <a:lnTo>
                    <a:pt x="950" y="572"/>
                  </a:lnTo>
                  <a:lnTo>
                    <a:pt x="980" y="577"/>
                  </a:lnTo>
                  <a:lnTo>
                    <a:pt x="1010" y="582"/>
                  </a:lnTo>
                  <a:lnTo>
                    <a:pt x="1035" y="587"/>
                  </a:lnTo>
                  <a:lnTo>
                    <a:pt x="1065" y="597"/>
                  </a:lnTo>
                  <a:lnTo>
                    <a:pt x="1095" y="602"/>
                  </a:lnTo>
                  <a:lnTo>
                    <a:pt x="1125" y="607"/>
                  </a:lnTo>
                  <a:lnTo>
                    <a:pt x="1156" y="617"/>
                  </a:lnTo>
                  <a:lnTo>
                    <a:pt x="1186" y="621"/>
                  </a:lnTo>
                  <a:lnTo>
                    <a:pt x="1211" y="626"/>
                  </a:lnTo>
                  <a:lnTo>
                    <a:pt x="1241" y="631"/>
                  </a:lnTo>
                  <a:lnTo>
                    <a:pt x="1271" y="636"/>
                  </a:lnTo>
                  <a:lnTo>
                    <a:pt x="1301" y="641"/>
                  </a:lnTo>
                  <a:lnTo>
                    <a:pt x="1326" y="646"/>
                  </a:lnTo>
                  <a:lnTo>
                    <a:pt x="1357" y="651"/>
                  </a:lnTo>
                  <a:lnTo>
                    <a:pt x="1387" y="656"/>
                  </a:lnTo>
                  <a:lnTo>
                    <a:pt x="1417" y="661"/>
                  </a:lnTo>
                  <a:lnTo>
                    <a:pt x="1442" y="666"/>
                  </a:lnTo>
                  <a:lnTo>
                    <a:pt x="1472" y="671"/>
                  </a:lnTo>
                  <a:lnTo>
                    <a:pt x="1497" y="676"/>
                  </a:lnTo>
                  <a:lnTo>
                    <a:pt x="1527" y="681"/>
                  </a:lnTo>
                  <a:lnTo>
                    <a:pt x="1553" y="686"/>
                  </a:lnTo>
                  <a:lnTo>
                    <a:pt x="1583" y="691"/>
                  </a:lnTo>
                  <a:lnTo>
                    <a:pt x="1608" y="691"/>
                  </a:lnTo>
                  <a:lnTo>
                    <a:pt x="1633" y="700"/>
                  </a:lnTo>
                  <a:lnTo>
                    <a:pt x="1658" y="700"/>
                  </a:lnTo>
                  <a:lnTo>
                    <a:pt x="1688" y="705"/>
                  </a:lnTo>
                  <a:lnTo>
                    <a:pt x="1713" y="710"/>
                  </a:lnTo>
                  <a:lnTo>
                    <a:pt x="1739" y="715"/>
                  </a:lnTo>
                  <a:lnTo>
                    <a:pt x="1769" y="720"/>
                  </a:lnTo>
                  <a:lnTo>
                    <a:pt x="1794" y="730"/>
                  </a:lnTo>
                  <a:lnTo>
                    <a:pt x="1809" y="730"/>
                  </a:lnTo>
                  <a:lnTo>
                    <a:pt x="1824" y="735"/>
                  </a:lnTo>
                  <a:lnTo>
                    <a:pt x="1844" y="735"/>
                  </a:lnTo>
                  <a:lnTo>
                    <a:pt x="1859" y="740"/>
                  </a:lnTo>
                  <a:lnTo>
                    <a:pt x="1874" y="740"/>
                  </a:lnTo>
                  <a:lnTo>
                    <a:pt x="1894" y="745"/>
                  </a:lnTo>
                  <a:lnTo>
                    <a:pt x="1909" y="750"/>
                  </a:lnTo>
                  <a:lnTo>
                    <a:pt x="1924" y="755"/>
                  </a:lnTo>
                  <a:lnTo>
                    <a:pt x="1945" y="755"/>
                  </a:lnTo>
                  <a:lnTo>
                    <a:pt x="1960" y="760"/>
                  </a:lnTo>
                  <a:lnTo>
                    <a:pt x="1975" y="764"/>
                  </a:lnTo>
                  <a:lnTo>
                    <a:pt x="1995" y="764"/>
                  </a:lnTo>
                  <a:lnTo>
                    <a:pt x="2010" y="769"/>
                  </a:lnTo>
                  <a:lnTo>
                    <a:pt x="2025" y="774"/>
                  </a:lnTo>
                  <a:lnTo>
                    <a:pt x="2045" y="779"/>
                  </a:lnTo>
                  <a:lnTo>
                    <a:pt x="2060" y="784"/>
                  </a:lnTo>
                  <a:lnTo>
                    <a:pt x="2080" y="784"/>
                  </a:lnTo>
                  <a:lnTo>
                    <a:pt x="2095" y="789"/>
                  </a:lnTo>
                  <a:lnTo>
                    <a:pt x="2110" y="794"/>
                  </a:lnTo>
                  <a:lnTo>
                    <a:pt x="2131" y="799"/>
                  </a:lnTo>
                  <a:lnTo>
                    <a:pt x="2146" y="804"/>
                  </a:lnTo>
                  <a:lnTo>
                    <a:pt x="2161" y="804"/>
                  </a:lnTo>
                  <a:lnTo>
                    <a:pt x="2181" y="809"/>
                  </a:lnTo>
                  <a:lnTo>
                    <a:pt x="2196" y="814"/>
                  </a:lnTo>
                  <a:lnTo>
                    <a:pt x="2211" y="819"/>
                  </a:lnTo>
                  <a:lnTo>
                    <a:pt x="2231" y="824"/>
                  </a:lnTo>
                  <a:lnTo>
                    <a:pt x="2246" y="829"/>
                  </a:lnTo>
                  <a:lnTo>
                    <a:pt x="2261" y="834"/>
                  </a:lnTo>
                  <a:lnTo>
                    <a:pt x="2281" y="834"/>
                  </a:lnTo>
                  <a:lnTo>
                    <a:pt x="2296" y="843"/>
                  </a:lnTo>
                  <a:lnTo>
                    <a:pt x="2311" y="848"/>
                  </a:lnTo>
                  <a:lnTo>
                    <a:pt x="2332" y="853"/>
                  </a:lnTo>
                  <a:lnTo>
                    <a:pt x="2347" y="858"/>
                  </a:lnTo>
                  <a:lnTo>
                    <a:pt x="2362" y="858"/>
                  </a:lnTo>
                  <a:lnTo>
                    <a:pt x="2377" y="863"/>
                  </a:lnTo>
                  <a:lnTo>
                    <a:pt x="2397" y="868"/>
                  </a:lnTo>
                  <a:lnTo>
                    <a:pt x="2412" y="873"/>
                  </a:lnTo>
                  <a:lnTo>
                    <a:pt x="2427" y="878"/>
                  </a:lnTo>
                  <a:lnTo>
                    <a:pt x="2447" y="883"/>
                  </a:lnTo>
                  <a:lnTo>
                    <a:pt x="2462" y="888"/>
                  </a:lnTo>
                  <a:lnTo>
                    <a:pt x="2477" y="893"/>
                  </a:lnTo>
                  <a:lnTo>
                    <a:pt x="2492" y="898"/>
                  </a:lnTo>
                  <a:lnTo>
                    <a:pt x="2512" y="903"/>
                  </a:lnTo>
                  <a:lnTo>
                    <a:pt x="2528" y="908"/>
                  </a:lnTo>
                  <a:lnTo>
                    <a:pt x="2543" y="912"/>
                  </a:lnTo>
                  <a:lnTo>
                    <a:pt x="2563" y="917"/>
                  </a:lnTo>
                  <a:lnTo>
                    <a:pt x="2578" y="927"/>
                  </a:lnTo>
                  <a:lnTo>
                    <a:pt x="2593" y="932"/>
                  </a:lnTo>
                  <a:lnTo>
                    <a:pt x="2608" y="937"/>
                  </a:lnTo>
                  <a:lnTo>
                    <a:pt x="2628" y="942"/>
                  </a:lnTo>
                  <a:lnTo>
                    <a:pt x="2643" y="947"/>
                  </a:lnTo>
                  <a:lnTo>
                    <a:pt x="2658" y="952"/>
                  </a:lnTo>
                  <a:lnTo>
                    <a:pt x="2678" y="957"/>
                  </a:lnTo>
                  <a:lnTo>
                    <a:pt x="2693" y="962"/>
                  </a:lnTo>
                  <a:lnTo>
                    <a:pt x="2708" y="972"/>
                  </a:lnTo>
                  <a:lnTo>
                    <a:pt x="2729" y="977"/>
                  </a:lnTo>
                  <a:lnTo>
                    <a:pt x="2744" y="981"/>
                  </a:lnTo>
                  <a:lnTo>
                    <a:pt x="2759" y="986"/>
                  </a:lnTo>
                  <a:lnTo>
                    <a:pt x="2779" y="991"/>
                  </a:lnTo>
                  <a:lnTo>
                    <a:pt x="2794" y="996"/>
                  </a:lnTo>
                  <a:lnTo>
                    <a:pt x="2809" y="1001"/>
                  </a:lnTo>
                  <a:lnTo>
                    <a:pt x="2829" y="1011"/>
                  </a:lnTo>
                  <a:lnTo>
                    <a:pt x="2844" y="1016"/>
                  </a:lnTo>
                  <a:lnTo>
                    <a:pt x="2859" y="1021"/>
                  </a:lnTo>
                  <a:lnTo>
                    <a:pt x="2879" y="1026"/>
                  </a:lnTo>
                  <a:lnTo>
                    <a:pt x="2894" y="1031"/>
                  </a:lnTo>
                  <a:lnTo>
                    <a:pt x="2909" y="1041"/>
                  </a:lnTo>
                  <a:lnTo>
                    <a:pt x="2930" y="1046"/>
                  </a:lnTo>
                  <a:lnTo>
                    <a:pt x="2945" y="1051"/>
                  </a:lnTo>
                  <a:lnTo>
                    <a:pt x="2960" y="1055"/>
                  </a:lnTo>
                  <a:lnTo>
                    <a:pt x="2980" y="1060"/>
                  </a:lnTo>
                  <a:lnTo>
                    <a:pt x="2995" y="1065"/>
                  </a:lnTo>
                  <a:lnTo>
                    <a:pt x="3015" y="1070"/>
                  </a:lnTo>
                  <a:lnTo>
                    <a:pt x="3030" y="1075"/>
                  </a:lnTo>
                  <a:lnTo>
                    <a:pt x="3045" y="1080"/>
                  </a:lnTo>
                  <a:lnTo>
                    <a:pt x="3065" y="1085"/>
                  </a:lnTo>
                  <a:lnTo>
                    <a:pt x="3080" y="1090"/>
                  </a:lnTo>
                  <a:lnTo>
                    <a:pt x="3100" y="1095"/>
                  </a:lnTo>
                  <a:lnTo>
                    <a:pt x="3115" y="1100"/>
                  </a:lnTo>
                  <a:lnTo>
                    <a:pt x="3136" y="1105"/>
                  </a:lnTo>
                  <a:lnTo>
                    <a:pt x="3151" y="1110"/>
                  </a:lnTo>
                  <a:lnTo>
                    <a:pt x="3171" y="1110"/>
                  </a:lnTo>
                  <a:lnTo>
                    <a:pt x="3186" y="1115"/>
                  </a:lnTo>
                  <a:lnTo>
                    <a:pt x="3201" y="1120"/>
                  </a:lnTo>
                  <a:lnTo>
                    <a:pt x="3221" y="1124"/>
                  </a:lnTo>
                  <a:lnTo>
                    <a:pt x="3236" y="1129"/>
                  </a:lnTo>
                  <a:lnTo>
                    <a:pt x="3251" y="1134"/>
                  </a:lnTo>
                  <a:lnTo>
                    <a:pt x="3271" y="1139"/>
                  </a:lnTo>
                  <a:lnTo>
                    <a:pt x="3286" y="1139"/>
                  </a:lnTo>
                  <a:lnTo>
                    <a:pt x="3306" y="1144"/>
                  </a:lnTo>
                  <a:lnTo>
                    <a:pt x="3322" y="1144"/>
                  </a:lnTo>
                  <a:lnTo>
                    <a:pt x="3342" y="1154"/>
                  </a:lnTo>
                  <a:lnTo>
                    <a:pt x="3357" y="1154"/>
                  </a:lnTo>
                  <a:lnTo>
                    <a:pt x="3377" y="1159"/>
                  </a:lnTo>
                  <a:lnTo>
                    <a:pt x="3392" y="1159"/>
                  </a:lnTo>
                  <a:lnTo>
                    <a:pt x="3412" y="1169"/>
                  </a:lnTo>
                  <a:lnTo>
                    <a:pt x="3427" y="1169"/>
                  </a:lnTo>
                  <a:lnTo>
                    <a:pt x="3442" y="1174"/>
                  </a:lnTo>
                  <a:lnTo>
                    <a:pt x="3462" y="1174"/>
                  </a:lnTo>
                  <a:lnTo>
                    <a:pt x="3477" y="1179"/>
                  </a:lnTo>
                  <a:lnTo>
                    <a:pt x="3492" y="1184"/>
                  </a:lnTo>
                  <a:lnTo>
                    <a:pt x="3512" y="1184"/>
                  </a:lnTo>
                  <a:lnTo>
                    <a:pt x="3528" y="1189"/>
                  </a:lnTo>
                  <a:lnTo>
                    <a:pt x="3548" y="1194"/>
                  </a:lnTo>
                  <a:lnTo>
                    <a:pt x="3563" y="1194"/>
                  </a:lnTo>
                  <a:lnTo>
                    <a:pt x="3583" y="1198"/>
                  </a:lnTo>
                  <a:lnTo>
                    <a:pt x="3598" y="1203"/>
                  </a:lnTo>
                  <a:lnTo>
                    <a:pt x="3618" y="1203"/>
                  </a:lnTo>
                  <a:lnTo>
                    <a:pt x="3633" y="1208"/>
                  </a:lnTo>
                  <a:lnTo>
                    <a:pt x="3653" y="1213"/>
                  </a:lnTo>
                  <a:lnTo>
                    <a:pt x="3668" y="1213"/>
                  </a:lnTo>
                  <a:lnTo>
                    <a:pt x="3688" y="1218"/>
                  </a:lnTo>
                  <a:lnTo>
                    <a:pt x="3703" y="1223"/>
                  </a:lnTo>
                  <a:lnTo>
                    <a:pt x="3724" y="1223"/>
                  </a:lnTo>
                  <a:lnTo>
                    <a:pt x="3739" y="1228"/>
                  </a:lnTo>
                  <a:lnTo>
                    <a:pt x="3759" y="1233"/>
                  </a:lnTo>
                  <a:lnTo>
                    <a:pt x="3774" y="1233"/>
                  </a:lnTo>
                  <a:lnTo>
                    <a:pt x="3794" y="1238"/>
                  </a:lnTo>
                  <a:lnTo>
                    <a:pt x="3809" y="1243"/>
                  </a:lnTo>
                  <a:lnTo>
                    <a:pt x="3829" y="1248"/>
                  </a:lnTo>
                  <a:lnTo>
                    <a:pt x="3844" y="1248"/>
                  </a:lnTo>
                  <a:lnTo>
                    <a:pt x="3859" y="1253"/>
                  </a:lnTo>
                  <a:lnTo>
                    <a:pt x="3879" y="1258"/>
                  </a:lnTo>
                  <a:lnTo>
                    <a:pt x="3899" y="1258"/>
                  </a:lnTo>
                  <a:lnTo>
                    <a:pt x="3914" y="1263"/>
                  </a:lnTo>
                  <a:lnTo>
                    <a:pt x="3935" y="1268"/>
                  </a:lnTo>
                  <a:lnTo>
                    <a:pt x="3955" y="1272"/>
                  </a:lnTo>
                  <a:lnTo>
                    <a:pt x="3970" y="1277"/>
                  </a:lnTo>
                  <a:lnTo>
                    <a:pt x="3980" y="1272"/>
                  </a:lnTo>
                  <a:lnTo>
                    <a:pt x="3995" y="1272"/>
                  </a:lnTo>
                  <a:lnTo>
                    <a:pt x="4005" y="1268"/>
                  </a:lnTo>
                  <a:lnTo>
                    <a:pt x="4010" y="1268"/>
                  </a:lnTo>
                  <a:lnTo>
                    <a:pt x="4025" y="1248"/>
                  </a:lnTo>
                  <a:lnTo>
                    <a:pt x="4035" y="1233"/>
                  </a:lnTo>
                  <a:lnTo>
                    <a:pt x="4035" y="1223"/>
                  </a:lnTo>
                  <a:lnTo>
                    <a:pt x="4035" y="1213"/>
                  </a:lnTo>
                  <a:lnTo>
                    <a:pt x="4035" y="1203"/>
                  </a:lnTo>
                  <a:lnTo>
                    <a:pt x="4030" y="1194"/>
                  </a:lnTo>
                  <a:lnTo>
                    <a:pt x="4025" y="1184"/>
                  </a:lnTo>
                  <a:lnTo>
                    <a:pt x="4020" y="1179"/>
                  </a:lnTo>
                  <a:lnTo>
                    <a:pt x="4010" y="1174"/>
                  </a:lnTo>
                  <a:lnTo>
                    <a:pt x="4000" y="1169"/>
                  </a:lnTo>
                  <a:lnTo>
                    <a:pt x="3985" y="1164"/>
                  </a:lnTo>
                  <a:lnTo>
                    <a:pt x="3970" y="1164"/>
                  </a:lnTo>
                  <a:lnTo>
                    <a:pt x="3955" y="1159"/>
                  </a:lnTo>
                  <a:lnTo>
                    <a:pt x="3945" y="1159"/>
                  </a:lnTo>
                  <a:lnTo>
                    <a:pt x="3930" y="1154"/>
                  </a:lnTo>
                  <a:lnTo>
                    <a:pt x="3914" y="1154"/>
                  </a:lnTo>
                  <a:lnTo>
                    <a:pt x="3899" y="1149"/>
                  </a:lnTo>
                  <a:lnTo>
                    <a:pt x="3889" y="1144"/>
                  </a:lnTo>
                  <a:lnTo>
                    <a:pt x="3874" y="1144"/>
                  </a:lnTo>
                  <a:lnTo>
                    <a:pt x="3859" y="1139"/>
                  </a:lnTo>
                  <a:lnTo>
                    <a:pt x="3844" y="1139"/>
                  </a:lnTo>
                  <a:lnTo>
                    <a:pt x="3829" y="1134"/>
                  </a:lnTo>
                  <a:lnTo>
                    <a:pt x="3814" y="1134"/>
                  </a:lnTo>
                  <a:lnTo>
                    <a:pt x="3804" y="1129"/>
                  </a:lnTo>
                  <a:lnTo>
                    <a:pt x="3789" y="1129"/>
                  </a:lnTo>
                  <a:lnTo>
                    <a:pt x="3774" y="1124"/>
                  </a:lnTo>
                  <a:lnTo>
                    <a:pt x="3759" y="1124"/>
                  </a:lnTo>
                  <a:lnTo>
                    <a:pt x="3749" y="1120"/>
                  </a:lnTo>
                  <a:lnTo>
                    <a:pt x="3734" y="1120"/>
                  </a:lnTo>
                  <a:lnTo>
                    <a:pt x="3719" y="1115"/>
                  </a:lnTo>
                  <a:lnTo>
                    <a:pt x="3703" y="1110"/>
                  </a:lnTo>
                  <a:lnTo>
                    <a:pt x="3693" y="1110"/>
                  </a:lnTo>
                  <a:lnTo>
                    <a:pt x="3678" y="1110"/>
                  </a:lnTo>
                  <a:lnTo>
                    <a:pt x="3663" y="1110"/>
                  </a:lnTo>
                  <a:lnTo>
                    <a:pt x="3648" y="1105"/>
                  </a:lnTo>
                  <a:lnTo>
                    <a:pt x="3638" y="1105"/>
                  </a:lnTo>
                  <a:lnTo>
                    <a:pt x="3623" y="1100"/>
                  </a:lnTo>
                  <a:lnTo>
                    <a:pt x="3608" y="1095"/>
                  </a:lnTo>
                  <a:lnTo>
                    <a:pt x="3593" y="1095"/>
                  </a:lnTo>
                  <a:lnTo>
                    <a:pt x="3578" y="1095"/>
                  </a:lnTo>
                  <a:lnTo>
                    <a:pt x="3563" y="1090"/>
                  </a:lnTo>
                  <a:lnTo>
                    <a:pt x="3553" y="1090"/>
                  </a:lnTo>
                  <a:lnTo>
                    <a:pt x="3538" y="1085"/>
                  </a:lnTo>
                  <a:lnTo>
                    <a:pt x="3528" y="1080"/>
                  </a:lnTo>
                  <a:lnTo>
                    <a:pt x="3512" y="1080"/>
                  </a:lnTo>
                  <a:lnTo>
                    <a:pt x="3497" y="1075"/>
                  </a:lnTo>
                  <a:lnTo>
                    <a:pt x="3482" y="1075"/>
                  </a:lnTo>
                  <a:lnTo>
                    <a:pt x="3472" y="1070"/>
                  </a:lnTo>
                  <a:lnTo>
                    <a:pt x="3457" y="1070"/>
                  </a:lnTo>
                  <a:lnTo>
                    <a:pt x="3442" y="1065"/>
                  </a:lnTo>
                  <a:lnTo>
                    <a:pt x="3427" y="1060"/>
                  </a:lnTo>
                  <a:lnTo>
                    <a:pt x="3412" y="1060"/>
                  </a:lnTo>
                  <a:lnTo>
                    <a:pt x="3397" y="1055"/>
                  </a:lnTo>
                  <a:lnTo>
                    <a:pt x="3387" y="1055"/>
                  </a:lnTo>
                  <a:lnTo>
                    <a:pt x="3372" y="1051"/>
                  </a:lnTo>
                  <a:lnTo>
                    <a:pt x="3357" y="1051"/>
                  </a:lnTo>
                  <a:lnTo>
                    <a:pt x="3347" y="1046"/>
                  </a:lnTo>
                  <a:lnTo>
                    <a:pt x="3332" y="1046"/>
                  </a:lnTo>
                  <a:lnTo>
                    <a:pt x="3316" y="1041"/>
                  </a:lnTo>
                  <a:lnTo>
                    <a:pt x="3306" y="1036"/>
                  </a:lnTo>
                  <a:lnTo>
                    <a:pt x="3291" y="1031"/>
                  </a:lnTo>
                  <a:lnTo>
                    <a:pt x="3276" y="1031"/>
                  </a:lnTo>
                  <a:lnTo>
                    <a:pt x="3261" y="1026"/>
                  </a:lnTo>
                  <a:lnTo>
                    <a:pt x="3246" y="1021"/>
                  </a:lnTo>
                  <a:lnTo>
                    <a:pt x="3236" y="1021"/>
                  </a:lnTo>
                  <a:lnTo>
                    <a:pt x="3221" y="1016"/>
                  </a:lnTo>
                  <a:lnTo>
                    <a:pt x="3206" y="1011"/>
                  </a:lnTo>
                  <a:lnTo>
                    <a:pt x="3196" y="1011"/>
                  </a:lnTo>
                  <a:lnTo>
                    <a:pt x="3181" y="1006"/>
                  </a:lnTo>
                  <a:lnTo>
                    <a:pt x="3166" y="1001"/>
                  </a:lnTo>
                  <a:lnTo>
                    <a:pt x="3151" y="996"/>
                  </a:lnTo>
                  <a:lnTo>
                    <a:pt x="3141" y="996"/>
                  </a:lnTo>
                  <a:lnTo>
                    <a:pt x="3126" y="991"/>
                  </a:lnTo>
                  <a:lnTo>
                    <a:pt x="3110" y="986"/>
                  </a:lnTo>
                  <a:lnTo>
                    <a:pt x="3095" y="981"/>
                  </a:lnTo>
                  <a:lnTo>
                    <a:pt x="3080" y="977"/>
                  </a:lnTo>
                  <a:lnTo>
                    <a:pt x="3060" y="972"/>
                  </a:lnTo>
                  <a:lnTo>
                    <a:pt x="3045" y="967"/>
                  </a:lnTo>
                  <a:lnTo>
                    <a:pt x="3030" y="962"/>
                  </a:lnTo>
                  <a:lnTo>
                    <a:pt x="3015" y="957"/>
                  </a:lnTo>
                  <a:lnTo>
                    <a:pt x="2995" y="947"/>
                  </a:lnTo>
                  <a:lnTo>
                    <a:pt x="2980" y="942"/>
                  </a:lnTo>
                  <a:lnTo>
                    <a:pt x="2965" y="937"/>
                  </a:lnTo>
                  <a:lnTo>
                    <a:pt x="2950" y="932"/>
                  </a:lnTo>
                  <a:lnTo>
                    <a:pt x="2930" y="927"/>
                  </a:lnTo>
                  <a:lnTo>
                    <a:pt x="2919" y="922"/>
                  </a:lnTo>
                  <a:lnTo>
                    <a:pt x="2899" y="917"/>
                  </a:lnTo>
                  <a:lnTo>
                    <a:pt x="2884" y="912"/>
                  </a:lnTo>
                  <a:lnTo>
                    <a:pt x="2869" y="908"/>
                  </a:lnTo>
                  <a:lnTo>
                    <a:pt x="2854" y="898"/>
                  </a:lnTo>
                  <a:lnTo>
                    <a:pt x="2839" y="893"/>
                  </a:lnTo>
                  <a:lnTo>
                    <a:pt x="2819" y="888"/>
                  </a:lnTo>
                  <a:lnTo>
                    <a:pt x="2804" y="883"/>
                  </a:lnTo>
                  <a:lnTo>
                    <a:pt x="2789" y="878"/>
                  </a:lnTo>
                  <a:lnTo>
                    <a:pt x="2774" y="868"/>
                  </a:lnTo>
                  <a:lnTo>
                    <a:pt x="2759" y="863"/>
                  </a:lnTo>
                  <a:lnTo>
                    <a:pt x="2739" y="858"/>
                  </a:lnTo>
                  <a:lnTo>
                    <a:pt x="2724" y="853"/>
                  </a:lnTo>
                  <a:lnTo>
                    <a:pt x="2708" y="848"/>
                  </a:lnTo>
                  <a:lnTo>
                    <a:pt x="2693" y="843"/>
                  </a:lnTo>
                  <a:lnTo>
                    <a:pt x="2678" y="834"/>
                  </a:lnTo>
                  <a:lnTo>
                    <a:pt x="2663" y="829"/>
                  </a:lnTo>
                  <a:lnTo>
                    <a:pt x="2643" y="824"/>
                  </a:lnTo>
                  <a:lnTo>
                    <a:pt x="2628" y="819"/>
                  </a:lnTo>
                  <a:lnTo>
                    <a:pt x="2618" y="814"/>
                  </a:lnTo>
                  <a:lnTo>
                    <a:pt x="2603" y="809"/>
                  </a:lnTo>
                  <a:lnTo>
                    <a:pt x="2583" y="799"/>
                  </a:lnTo>
                  <a:lnTo>
                    <a:pt x="2568" y="794"/>
                  </a:lnTo>
                  <a:lnTo>
                    <a:pt x="2553" y="789"/>
                  </a:lnTo>
                  <a:lnTo>
                    <a:pt x="2538" y="784"/>
                  </a:lnTo>
                  <a:lnTo>
                    <a:pt x="2517" y="779"/>
                  </a:lnTo>
                  <a:lnTo>
                    <a:pt x="2502" y="774"/>
                  </a:lnTo>
                  <a:lnTo>
                    <a:pt x="2487" y="769"/>
                  </a:lnTo>
                  <a:lnTo>
                    <a:pt x="2472" y="764"/>
                  </a:lnTo>
                  <a:lnTo>
                    <a:pt x="2457" y="755"/>
                  </a:lnTo>
                  <a:lnTo>
                    <a:pt x="2437" y="750"/>
                  </a:lnTo>
                  <a:lnTo>
                    <a:pt x="2422" y="745"/>
                  </a:lnTo>
                  <a:lnTo>
                    <a:pt x="2407" y="740"/>
                  </a:lnTo>
                  <a:lnTo>
                    <a:pt x="2392" y="735"/>
                  </a:lnTo>
                  <a:lnTo>
                    <a:pt x="2377" y="730"/>
                  </a:lnTo>
                  <a:lnTo>
                    <a:pt x="2357" y="725"/>
                  </a:lnTo>
                  <a:lnTo>
                    <a:pt x="2342" y="720"/>
                  </a:lnTo>
                  <a:lnTo>
                    <a:pt x="2327" y="715"/>
                  </a:lnTo>
                  <a:lnTo>
                    <a:pt x="2311" y="710"/>
                  </a:lnTo>
                  <a:lnTo>
                    <a:pt x="2291" y="705"/>
                  </a:lnTo>
                  <a:lnTo>
                    <a:pt x="2276" y="700"/>
                  </a:lnTo>
                  <a:lnTo>
                    <a:pt x="2261" y="695"/>
                  </a:lnTo>
                  <a:lnTo>
                    <a:pt x="2246" y="691"/>
                  </a:lnTo>
                  <a:lnTo>
                    <a:pt x="2226" y="686"/>
                  </a:lnTo>
                  <a:lnTo>
                    <a:pt x="2211" y="681"/>
                  </a:lnTo>
                  <a:lnTo>
                    <a:pt x="2196" y="676"/>
                  </a:lnTo>
                  <a:lnTo>
                    <a:pt x="2181" y="671"/>
                  </a:lnTo>
                  <a:lnTo>
                    <a:pt x="2161" y="671"/>
                  </a:lnTo>
                  <a:lnTo>
                    <a:pt x="2146" y="666"/>
                  </a:lnTo>
                  <a:lnTo>
                    <a:pt x="2131" y="661"/>
                  </a:lnTo>
                  <a:lnTo>
                    <a:pt x="2110" y="656"/>
                  </a:lnTo>
                  <a:lnTo>
                    <a:pt x="2095" y="651"/>
                  </a:lnTo>
                  <a:lnTo>
                    <a:pt x="2080" y="651"/>
                  </a:lnTo>
                  <a:lnTo>
                    <a:pt x="2050" y="641"/>
                  </a:lnTo>
                  <a:lnTo>
                    <a:pt x="2020" y="636"/>
                  </a:lnTo>
                  <a:lnTo>
                    <a:pt x="1990" y="631"/>
                  </a:lnTo>
                  <a:lnTo>
                    <a:pt x="1960" y="621"/>
                  </a:lnTo>
                  <a:lnTo>
                    <a:pt x="1930" y="617"/>
                  </a:lnTo>
                  <a:lnTo>
                    <a:pt x="1899" y="607"/>
                  </a:lnTo>
                  <a:lnTo>
                    <a:pt x="1869" y="602"/>
                  </a:lnTo>
                  <a:lnTo>
                    <a:pt x="1839" y="597"/>
                  </a:lnTo>
                  <a:lnTo>
                    <a:pt x="1809" y="592"/>
                  </a:lnTo>
                  <a:lnTo>
                    <a:pt x="1779" y="587"/>
                  </a:lnTo>
                  <a:lnTo>
                    <a:pt x="1749" y="577"/>
                  </a:lnTo>
                  <a:lnTo>
                    <a:pt x="1718" y="572"/>
                  </a:lnTo>
                  <a:lnTo>
                    <a:pt x="1688" y="567"/>
                  </a:lnTo>
                  <a:lnTo>
                    <a:pt x="1658" y="557"/>
                  </a:lnTo>
                  <a:lnTo>
                    <a:pt x="1628" y="552"/>
                  </a:lnTo>
                  <a:lnTo>
                    <a:pt x="1598" y="548"/>
                  </a:lnTo>
                  <a:lnTo>
                    <a:pt x="1568" y="543"/>
                  </a:lnTo>
                  <a:lnTo>
                    <a:pt x="1533" y="533"/>
                  </a:lnTo>
                  <a:lnTo>
                    <a:pt x="1502" y="528"/>
                  </a:lnTo>
                  <a:lnTo>
                    <a:pt x="1472" y="523"/>
                  </a:lnTo>
                  <a:lnTo>
                    <a:pt x="1442" y="513"/>
                  </a:lnTo>
                  <a:lnTo>
                    <a:pt x="1412" y="508"/>
                  </a:lnTo>
                  <a:lnTo>
                    <a:pt x="1377" y="503"/>
                  </a:lnTo>
                  <a:lnTo>
                    <a:pt x="1352" y="493"/>
                  </a:lnTo>
                  <a:lnTo>
                    <a:pt x="1316" y="488"/>
                  </a:lnTo>
                  <a:lnTo>
                    <a:pt x="1286" y="478"/>
                  </a:lnTo>
                  <a:lnTo>
                    <a:pt x="1256" y="474"/>
                  </a:lnTo>
                  <a:lnTo>
                    <a:pt x="1226" y="469"/>
                  </a:lnTo>
                  <a:lnTo>
                    <a:pt x="1196" y="459"/>
                  </a:lnTo>
                  <a:lnTo>
                    <a:pt x="1166" y="454"/>
                  </a:lnTo>
                  <a:lnTo>
                    <a:pt x="1136" y="444"/>
                  </a:lnTo>
                  <a:lnTo>
                    <a:pt x="1105" y="439"/>
                  </a:lnTo>
                  <a:lnTo>
                    <a:pt x="1070" y="429"/>
                  </a:lnTo>
                  <a:lnTo>
                    <a:pt x="1040" y="424"/>
                  </a:lnTo>
                  <a:lnTo>
                    <a:pt x="1010" y="414"/>
                  </a:lnTo>
                  <a:lnTo>
                    <a:pt x="980" y="409"/>
                  </a:lnTo>
                  <a:lnTo>
                    <a:pt x="950" y="400"/>
                  </a:lnTo>
                  <a:lnTo>
                    <a:pt x="919" y="390"/>
                  </a:lnTo>
                  <a:lnTo>
                    <a:pt x="889" y="385"/>
                  </a:lnTo>
                  <a:lnTo>
                    <a:pt x="859" y="375"/>
                  </a:lnTo>
                  <a:lnTo>
                    <a:pt x="824" y="365"/>
                  </a:lnTo>
                  <a:lnTo>
                    <a:pt x="799" y="360"/>
                  </a:lnTo>
                  <a:lnTo>
                    <a:pt x="764" y="350"/>
                  </a:lnTo>
                  <a:lnTo>
                    <a:pt x="733" y="340"/>
                  </a:lnTo>
                  <a:lnTo>
                    <a:pt x="703" y="331"/>
                  </a:lnTo>
                  <a:lnTo>
                    <a:pt x="673" y="326"/>
                  </a:lnTo>
                  <a:lnTo>
                    <a:pt x="648" y="311"/>
                  </a:lnTo>
                  <a:lnTo>
                    <a:pt x="618" y="306"/>
                  </a:lnTo>
                  <a:lnTo>
                    <a:pt x="588" y="296"/>
                  </a:lnTo>
                  <a:lnTo>
                    <a:pt x="558" y="286"/>
                  </a:lnTo>
                  <a:lnTo>
                    <a:pt x="527" y="276"/>
                  </a:lnTo>
                  <a:lnTo>
                    <a:pt x="502" y="266"/>
                  </a:lnTo>
                  <a:lnTo>
                    <a:pt x="472" y="252"/>
                  </a:lnTo>
                  <a:lnTo>
                    <a:pt x="442" y="242"/>
                  </a:lnTo>
                  <a:lnTo>
                    <a:pt x="412" y="232"/>
                  </a:lnTo>
                  <a:lnTo>
                    <a:pt x="387" y="222"/>
                  </a:lnTo>
                  <a:lnTo>
                    <a:pt x="357" y="207"/>
                  </a:lnTo>
                  <a:lnTo>
                    <a:pt x="326" y="197"/>
                  </a:lnTo>
                  <a:lnTo>
                    <a:pt x="301" y="183"/>
                  </a:lnTo>
                  <a:lnTo>
                    <a:pt x="271" y="173"/>
                  </a:lnTo>
                  <a:lnTo>
                    <a:pt x="241" y="163"/>
                  </a:lnTo>
                  <a:lnTo>
                    <a:pt x="216" y="148"/>
                  </a:lnTo>
                  <a:lnTo>
                    <a:pt x="186" y="133"/>
                  </a:lnTo>
                  <a:lnTo>
                    <a:pt x="161" y="123"/>
                  </a:lnTo>
                  <a:lnTo>
                    <a:pt x="156" y="118"/>
                  </a:lnTo>
                  <a:lnTo>
                    <a:pt x="156" y="114"/>
                  </a:lnTo>
                  <a:lnTo>
                    <a:pt x="151" y="104"/>
                  </a:lnTo>
                  <a:lnTo>
                    <a:pt x="146" y="89"/>
                  </a:lnTo>
                  <a:lnTo>
                    <a:pt x="135" y="84"/>
                  </a:lnTo>
                  <a:lnTo>
                    <a:pt x="130" y="74"/>
                  </a:lnTo>
                  <a:lnTo>
                    <a:pt x="120" y="64"/>
                  </a:lnTo>
                  <a:lnTo>
                    <a:pt x="110" y="54"/>
                  </a:lnTo>
                  <a:lnTo>
                    <a:pt x="95" y="40"/>
                  </a:lnTo>
                  <a:lnTo>
                    <a:pt x="80" y="30"/>
                  </a:lnTo>
                  <a:lnTo>
                    <a:pt x="65" y="20"/>
                  </a:lnTo>
                  <a:lnTo>
                    <a:pt x="45" y="1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5" y="15"/>
                  </a:lnTo>
                  <a:lnTo>
                    <a:pt x="0" y="25"/>
                  </a:lnTo>
                  <a:lnTo>
                    <a:pt x="5" y="44"/>
                  </a:lnTo>
                  <a:lnTo>
                    <a:pt x="5" y="54"/>
                  </a:lnTo>
                  <a:lnTo>
                    <a:pt x="10" y="64"/>
                  </a:lnTo>
                  <a:lnTo>
                    <a:pt x="15" y="74"/>
                  </a:lnTo>
                  <a:lnTo>
                    <a:pt x="20" y="84"/>
                  </a:lnTo>
                  <a:lnTo>
                    <a:pt x="20" y="94"/>
                  </a:lnTo>
                  <a:lnTo>
                    <a:pt x="25" y="104"/>
                  </a:lnTo>
                  <a:lnTo>
                    <a:pt x="30" y="118"/>
                  </a:lnTo>
                  <a:lnTo>
                    <a:pt x="35" y="128"/>
                  </a:lnTo>
                  <a:lnTo>
                    <a:pt x="40" y="138"/>
                  </a:lnTo>
                  <a:lnTo>
                    <a:pt x="45" y="148"/>
                  </a:lnTo>
                  <a:lnTo>
                    <a:pt x="50" y="153"/>
                  </a:lnTo>
                  <a:lnTo>
                    <a:pt x="55" y="168"/>
                  </a:lnTo>
                  <a:lnTo>
                    <a:pt x="60" y="183"/>
                  </a:lnTo>
                  <a:lnTo>
                    <a:pt x="65" y="192"/>
                  </a:lnTo>
                  <a:lnTo>
                    <a:pt x="70" y="202"/>
                  </a:lnTo>
                  <a:lnTo>
                    <a:pt x="75" y="207"/>
                  </a:lnTo>
                  <a:lnTo>
                    <a:pt x="75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1371600" y="1889280"/>
            <a:ext cx="6324480" cy="37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Times New Roman"/>
              </a:rPr>
              <a:t>Scenario 5: Ernie Enrollment withdraws from school early in the Spring semester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Times New Roman"/>
              </a:rPr>
              <a:t>The school’s next roster isn’t scheduled until after spring graduation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Times New Roman"/>
              </a:rPr>
              <a:t>What should the FAA do about Ernie’s early withdraw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21088800">
            <a:off x="5029200" y="45684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3-45-67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2186-E0BF-4954-B600-59256856F5A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Enrollment Report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ssue: FAA not sure what to do about the student’s early withdrawal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Effects of the issue: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ompliance with enrollment reporting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Student’s responsibilities and grace period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solution: Review NSLDS website for  enrollment reporting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1BBD-103F-445E-B1C9-68E13EAB236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533520" y="5335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Enrollment Rep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28600" y="2104920"/>
          <a:ext cx="6523200" cy="9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04920"/>
                    <a:ext cx="652320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"/>
          <p:cNvSpPr/>
          <p:nvPr/>
        </p:nvSpPr>
        <p:spPr>
          <a:xfrm>
            <a:off x="156960" y="1287360"/>
            <a:ext cx="825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solution: Update NSLDS enrollment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533520" y="3552840"/>
          <a:ext cx="6087960" cy="25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552840"/>
                    <a:ext cx="608796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4191120" y="4890960"/>
            <a:ext cx="2438280" cy="3049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81680" y="2762280"/>
            <a:ext cx="838080" cy="3049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28760" y="2514600"/>
            <a:ext cx="175248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52640" y="2104920"/>
            <a:ext cx="685800" cy="38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93FE-A660-4541-A580-4A0AB01DA39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457200" y="3348000"/>
          <a:ext cx="6991200" cy="27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348000"/>
                    <a:ext cx="699120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/>
          <p:nvPr/>
        </p:nvSpPr>
        <p:spPr>
          <a:xfrm>
            <a:off x="533520" y="5335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Enrollment Rep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6960" y="1349280"/>
            <a:ext cx="825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solution: Update NSLDS enrollment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066680" y="2433600"/>
          <a:ext cx="56674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433600"/>
                    <a:ext cx="56674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"/>
          <p:cNvSpPr/>
          <p:nvPr/>
        </p:nvSpPr>
        <p:spPr>
          <a:xfrm>
            <a:off x="2519280" y="5729400"/>
            <a:ext cx="2438640" cy="3045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3520" y="4662360"/>
            <a:ext cx="2590560" cy="2764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05120" y="5133960"/>
            <a:ext cx="2114280" cy="33336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053-6029-4F1B-9C9B-1B2E593B09F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8" name=""/>
          <p:cNvGraphicFramePr/>
          <p:nvPr/>
        </p:nvGraphicFramePr>
        <p:xfrm>
          <a:off x="457200" y="4552920"/>
          <a:ext cx="7602480" cy="10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52920"/>
                    <a:ext cx="760248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533520" y="5335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Enrollment Rep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56960" y="1287360"/>
            <a:ext cx="825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solution: Update NSLDS enrollment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1066680" y="2114640"/>
          <a:ext cx="5667480" cy="63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114640"/>
                    <a:ext cx="566748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3414600" y="5257800"/>
            <a:ext cx="838440" cy="3808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380880" y="2952720"/>
          <a:ext cx="5457960" cy="14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2952720"/>
                    <a:ext cx="545796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3200400" y="5772240"/>
          <a:ext cx="244800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5772240"/>
                    <a:ext cx="24480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E91B-439C-4636-A80D-3DE018F0137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Enrollment Report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Results of resolution: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Facilitates timely conversion to repayment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Timely notification of enrollment changes to Data Provider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46BB-EFFE-4754-9B96-4F93B20AAD8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219320" y="2343240"/>
          <a:ext cx="6087960" cy="79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43240"/>
                    <a:ext cx="60879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209680" y="3429000"/>
          <a:ext cx="4876920" cy="238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429000"/>
                    <a:ext cx="487692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238480" y="2790720"/>
            <a:ext cx="21384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2362320"/>
            <a:ext cx="838440" cy="428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95840" y="5457960"/>
            <a:ext cx="1676160" cy="3808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verpaym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porting Overpayments to NSLD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1372-6AC5-4CF6-8FE8-3D852931D8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838080" y="1676520"/>
            <a:ext cx="670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idbi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dditional references: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CL: GEN-96-17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This letter describes the implementation of the Student Status Confirmation Report function of the NSLDS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FAP.ED.GOV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Under NSLDS References, NSLDS User Documentati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NSLDS Enrollment Reporting Guid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5A4D-D124-471E-AD3D-B5745A07D8B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-285480" y="-1136520"/>
            <a:ext cx="10391040" cy="9245880"/>
            <a:chOff x="-285480" y="-1136520"/>
            <a:chExt cx="10391040" cy="9245880"/>
          </a:xfrm>
        </p:grpSpPr>
        <p:sp>
          <p:nvSpPr>
            <p:cNvPr id="535" name=""/>
            <p:cNvSpPr/>
            <p:nvPr/>
          </p:nvSpPr>
          <p:spPr>
            <a:xfrm flipH="1" flipV="1" rot="9362400">
              <a:off x="2228400" y="-49680"/>
              <a:ext cx="6700680" cy="6348240"/>
            </a:xfrm>
            <a:custGeom>
              <a:avLst/>
              <a:gdLst/>
              <a:ahLst/>
              <a:rect l="l" t="t" r="r" b="b"/>
              <a:pathLst>
                <a:path w="4221" h="3999">
                  <a:moveTo>
                    <a:pt x="0" y="113"/>
                  </a:moveTo>
                  <a:lnTo>
                    <a:pt x="276" y="0"/>
                  </a:lnTo>
                  <a:lnTo>
                    <a:pt x="804" y="133"/>
                  </a:lnTo>
                  <a:lnTo>
                    <a:pt x="2125" y="463"/>
                  </a:lnTo>
                  <a:lnTo>
                    <a:pt x="2402" y="310"/>
                  </a:lnTo>
                  <a:lnTo>
                    <a:pt x="3744" y="715"/>
                  </a:lnTo>
                  <a:lnTo>
                    <a:pt x="3844" y="1080"/>
                  </a:lnTo>
                  <a:lnTo>
                    <a:pt x="4221" y="1356"/>
                  </a:lnTo>
                  <a:lnTo>
                    <a:pt x="4221" y="1662"/>
                  </a:lnTo>
                  <a:lnTo>
                    <a:pt x="3296" y="3950"/>
                  </a:lnTo>
                  <a:lnTo>
                    <a:pt x="3090" y="3999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 rot="9362400">
              <a:off x="834120" y="680760"/>
              <a:ext cx="6837480" cy="6246720"/>
            </a:xfrm>
            <a:custGeom>
              <a:avLst/>
              <a:gdLst/>
              <a:ahLst/>
              <a:rect l="l" t="t" r="r" b="b"/>
              <a:pathLst>
                <a:path w="4307" h="3935">
                  <a:moveTo>
                    <a:pt x="311" y="59"/>
                  </a:moveTo>
                  <a:lnTo>
                    <a:pt x="774" y="0"/>
                  </a:lnTo>
                  <a:lnTo>
                    <a:pt x="4070" y="1001"/>
                  </a:lnTo>
                  <a:lnTo>
                    <a:pt x="4276" y="1223"/>
                  </a:lnTo>
                  <a:lnTo>
                    <a:pt x="4307" y="1681"/>
                  </a:lnTo>
                  <a:lnTo>
                    <a:pt x="4100" y="3915"/>
                  </a:lnTo>
                  <a:lnTo>
                    <a:pt x="3889" y="3935"/>
                  </a:lnTo>
                  <a:lnTo>
                    <a:pt x="1432" y="3269"/>
                  </a:lnTo>
                  <a:lnTo>
                    <a:pt x="427" y="3032"/>
                  </a:lnTo>
                  <a:lnTo>
                    <a:pt x="110" y="2860"/>
                  </a:lnTo>
                  <a:lnTo>
                    <a:pt x="0" y="2579"/>
                  </a:lnTo>
                  <a:lnTo>
                    <a:pt x="65" y="1301"/>
                  </a:lnTo>
                  <a:lnTo>
                    <a:pt x="75" y="438"/>
                  </a:lnTo>
                  <a:lnTo>
                    <a:pt x="311" y="59"/>
                  </a:lnTo>
                  <a:lnTo>
                    <a:pt x="311" y="59"/>
                  </a:lnTo>
                  <a:close/>
                </a:path>
              </a:pathLst>
            </a:custGeom>
            <a:solidFill>
              <a:srgbClr val="fce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 rot="9362400">
              <a:off x="7415640" y="1358640"/>
              <a:ext cx="1285920" cy="3632760"/>
            </a:xfrm>
            <a:custGeom>
              <a:avLst/>
              <a:gdLst/>
              <a:ahLst/>
              <a:rect l="l" t="t" r="r" b="b"/>
              <a:pathLst>
                <a:path w="810" h="2288">
                  <a:moveTo>
                    <a:pt x="237" y="0"/>
                  </a:moveTo>
                  <a:lnTo>
                    <a:pt x="810" y="246"/>
                  </a:lnTo>
                  <a:lnTo>
                    <a:pt x="51" y="2288"/>
                  </a:lnTo>
                  <a:lnTo>
                    <a:pt x="0" y="2258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 rot="9362400">
              <a:off x="4663080" y="-189720"/>
              <a:ext cx="3533760" cy="1957320"/>
            </a:xfrm>
            <a:custGeom>
              <a:avLst/>
              <a:gdLst/>
              <a:ahLst/>
              <a:rect l="l" t="t" r="r" b="b"/>
              <a:pathLst>
                <a:path w="2226" h="1233">
                  <a:moveTo>
                    <a:pt x="40" y="286"/>
                  </a:moveTo>
                  <a:lnTo>
                    <a:pt x="56" y="276"/>
                  </a:lnTo>
                  <a:lnTo>
                    <a:pt x="71" y="266"/>
                  </a:lnTo>
                  <a:lnTo>
                    <a:pt x="86" y="252"/>
                  </a:lnTo>
                  <a:lnTo>
                    <a:pt x="101" y="242"/>
                  </a:lnTo>
                  <a:lnTo>
                    <a:pt x="116" y="222"/>
                  </a:lnTo>
                  <a:lnTo>
                    <a:pt x="131" y="207"/>
                  </a:lnTo>
                  <a:lnTo>
                    <a:pt x="146" y="197"/>
                  </a:lnTo>
                  <a:lnTo>
                    <a:pt x="161" y="183"/>
                  </a:lnTo>
                  <a:lnTo>
                    <a:pt x="171" y="173"/>
                  </a:lnTo>
                  <a:lnTo>
                    <a:pt x="186" y="163"/>
                  </a:lnTo>
                  <a:lnTo>
                    <a:pt x="201" y="153"/>
                  </a:lnTo>
                  <a:lnTo>
                    <a:pt x="216" y="143"/>
                  </a:lnTo>
                  <a:lnTo>
                    <a:pt x="226" y="138"/>
                  </a:lnTo>
                  <a:lnTo>
                    <a:pt x="241" y="133"/>
                  </a:lnTo>
                  <a:lnTo>
                    <a:pt x="257" y="128"/>
                  </a:lnTo>
                  <a:lnTo>
                    <a:pt x="272" y="123"/>
                  </a:lnTo>
                  <a:lnTo>
                    <a:pt x="282" y="119"/>
                  </a:lnTo>
                  <a:lnTo>
                    <a:pt x="297" y="119"/>
                  </a:lnTo>
                  <a:lnTo>
                    <a:pt x="312" y="119"/>
                  </a:lnTo>
                  <a:lnTo>
                    <a:pt x="327" y="119"/>
                  </a:lnTo>
                  <a:lnTo>
                    <a:pt x="337" y="119"/>
                  </a:lnTo>
                  <a:lnTo>
                    <a:pt x="352" y="119"/>
                  </a:lnTo>
                  <a:lnTo>
                    <a:pt x="367" y="119"/>
                  </a:lnTo>
                  <a:lnTo>
                    <a:pt x="382" y="123"/>
                  </a:lnTo>
                  <a:lnTo>
                    <a:pt x="397" y="123"/>
                  </a:lnTo>
                  <a:lnTo>
                    <a:pt x="412" y="128"/>
                  </a:lnTo>
                  <a:lnTo>
                    <a:pt x="422" y="133"/>
                  </a:lnTo>
                  <a:lnTo>
                    <a:pt x="437" y="138"/>
                  </a:lnTo>
                  <a:lnTo>
                    <a:pt x="453" y="143"/>
                  </a:lnTo>
                  <a:lnTo>
                    <a:pt x="468" y="143"/>
                  </a:lnTo>
                  <a:lnTo>
                    <a:pt x="478" y="148"/>
                  </a:lnTo>
                  <a:lnTo>
                    <a:pt x="493" y="158"/>
                  </a:lnTo>
                  <a:lnTo>
                    <a:pt x="508" y="163"/>
                  </a:lnTo>
                  <a:lnTo>
                    <a:pt x="523" y="168"/>
                  </a:lnTo>
                  <a:lnTo>
                    <a:pt x="538" y="173"/>
                  </a:lnTo>
                  <a:lnTo>
                    <a:pt x="553" y="178"/>
                  </a:lnTo>
                  <a:lnTo>
                    <a:pt x="563" y="183"/>
                  </a:lnTo>
                  <a:lnTo>
                    <a:pt x="583" y="188"/>
                  </a:lnTo>
                  <a:lnTo>
                    <a:pt x="593" y="193"/>
                  </a:lnTo>
                  <a:lnTo>
                    <a:pt x="613" y="197"/>
                  </a:lnTo>
                  <a:lnTo>
                    <a:pt x="623" y="202"/>
                  </a:lnTo>
                  <a:lnTo>
                    <a:pt x="633" y="207"/>
                  </a:lnTo>
                  <a:lnTo>
                    <a:pt x="649" y="212"/>
                  </a:lnTo>
                  <a:lnTo>
                    <a:pt x="664" y="217"/>
                  </a:lnTo>
                  <a:lnTo>
                    <a:pt x="674" y="222"/>
                  </a:lnTo>
                  <a:lnTo>
                    <a:pt x="684" y="227"/>
                  </a:lnTo>
                  <a:lnTo>
                    <a:pt x="699" y="227"/>
                  </a:lnTo>
                  <a:lnTo>
                    <a:pt x="714" y="232"/>
                  </a:lnTo>
                  <a:lnTo>
                    <a:pt x="724" y="237"/>
                  </a:lnTo>
                  <a:lnTo>
                    <a:pt x="734" y="242"/>
                  </a:lnTo>
                  <a:lnTo>
                    <a:pt x="749" y="247"/>
                  </a:lnTo>
                  <a:lnTo>
                    <a:pt x="764" y="252"/>
                  </a:lnTo>
                  <a:lnTo>
                    <a:pt x="774" y="257"/>
                  </a:lnTo>
                  <a:lnTo>
                    <a:pt x="789" y="262"/>
                  </a:lnTo>
                  <a:lnTo>
                    <a:pt x="799" y="266"/>
                  </a:lnTo>
                  <a:lnTo>
                    <a:pt x="814" y="271"/>
                  </a:lnTo>
                  <a:lnTo>
                    <a:pt x="829" y="276"/>
                  </a:lnTo>
                  <a:lnTo>
                    <a:pt x="839" y="281"/>
                  </a:lnTo>
                  <a:lnTo>
                    <a:pt x="855" y="286"/>
                  </a:lnTo>
                  <a:lnTo>
                    <a:pt x="865" y="291"/>
                  </a:lnTo>
                  <a:lnTo>
                    <a:pt x="880" y="296"/>
                  </a:lnTo>
                  <a:lnTo>
                    <a:pt x="890" y="301"/>
                  </a:lnTo>
                  <a:lnTo>
                    <a:pt x="905" y="306"/>
                  </a:lnTo>
                  <a:lnTo>
                    <a:pt x="920" y="311"/>
                  </a:lnTo>
                  <a:lnTo>
                    <a:pt x="930" y="311"/>
                  </a:lnTo>
                  <a:lnTo>
                    <a:pt x="945" y="321"/>
                  </a:lnTo>
                  <a:lnTo>
                    <a:pt x="955" y="321"/>
                  </a:lnTo>
                  <a:lnTo>
                    <a:pt x="970" y="326"/>
                  </a:lnTo>
                  <a:lnTo>
                    <a:pt x="985" y="331"/>
                  </a:lnTo>
                  <a:lnTo>
                    <a:pt x="1000" y="336"/>
                  </a:lnTo>
                  <a:lnTo>
                    <a:pt x="1010" y="340"/>
                  </a:lnTo>
                  <a:lnTo>
                    <a:pt x="1025" y="345"/>
                  </a:lnTo>
                  <a:lnTo>
                    <a:pt x="1035" y="350"/>
                  </a:lnTo>
                  <a:lnTo>
                    <a:pt x="1051" y="355"/>
                  </a:lnTo>
                  <a:lnTo>
                    <a:pt x="1066" y="360"/>
                  </a:lnTo>
                  <a:lnTo>
                    <a:pt x="1081" y="365"/>
                  </a:lnTo>
                  <a:lnTo>
                    <a:pt x="1091" y="370"/>
                  </a:lnTo>
                  <a:lnTo>
                    <a:pt x="1106" y="375"/>
                  </a:lnTo>
                  <a:lnTo>
                    <a:pt x="1116" y="375"/>
                  </a:lnTo>
                  <a:lnTo>
                    <a:pt x="1131" y="385"/>
                  </a:lnTo>
                  <a:lnTo>
                    <a:pt x="1146" y="385"/>
                  </a:lnTo>
                  <a:lnTo>
                    <a:pt x="1156" y="390"/>
                  </a:lnTo>
                  <a:lnTo>
                    <a:pt x="1171" y="395"/>
                  </a:lnTo>
                  <a:lnTo>
                    <a:pt x="1186" y="395"/>
                  </a:lnTo>
                  <a:lnTo>
                    <a:pt x="1196" y="400"/>
                  </a:lnTo>
                  <a:lnTo>
                    <a:pt x="1211" y="405"/>
                  </a:lnTo>
                  <a:lnTo>
                    <a:pt x="1221" y="409"/>
                  </a:lnTo>
                  <a:lnTo>
                    <a:pt x="1236" y="414"/>
                  </a:lnTo>
                  <a:lnTo>
                    <a:pt x="1252" y="414"/>
                  </a:lnTo>
                  <a:lnTo>
                    <a:pt x="1267" y="419"/>
                  </a:lnTo>
                  <a:lnTo>
                    <a:pt x="1277" y="424"/>
                  </a:lnTo>
                  <a:lnTo>
                    <a:pt x="1292" y="424"/>
                  </a:lnTo>
                  <a:lnTo>
                    <a:pt x="1302" y="429"/>
                  </a:lnTo>
                  <a:lnTo>
                    <a:pt x="1317" y="434"/>
                  </a:lnTo>
                  <a:lnTo>
                    <a:pt x="1332" y="434"/>
                  </a:lnTo>
                  <a:lnTo>
                    <a:pt x="1347" y="439"/>
                  </a:lnTo>
                  <a:lnTo>
                    <a:pt x="1357" y="444"/>
                  </a:lnTo>
                  <a:lnTo>
                    <a:pt x="1372" y="449"/>
                  </a:lnTo>
                  <a:lnTo>
                    <a:pt x="1382" y="449"/>
                  </a:lnTo>
                  <a:lnTo>
                    <a:pt x="1397" y="454"/>
                  </a:lnTo>
                  <a:lnTo>
                    <a:pt x="1407" y="454"/>
                  </a:lnTo>
                  <a:lnTo>
                    <a:pt x="1422" y="459"/>
                  </a:lnTo>
                  <a:lnTo>
                    <a:pt x="1438" y="459"/>
                  </a:lnTo>
                  <a:lnTo>
                    <a:pt x="1453" y="464"/>
                  </a:lnTo>
                  <a:lnTo>
                    <a:pt x="1463" y="464"/>
                  </a:lnTo>
                  <a:lnTo>
                    <a:pt x="1473" y="469"/>
                  </a:lnTo>
                  <a:lnTo>
                    <a:pt x="1483" y="469"/>
                  </a:lnTo>
                  <a:lnTo>
                    <a:pt x="1498" y="474"/>
                  </a:lnTo>
                  <a:lnTo>
                    <a:pt x="1513" y="479"/>
                  </a:lnTo>
                  <a:lnTo>
                    <a:pt x="1533" y="483"/>
                  </a:lnTo>
                  <a:lnTo>
                    <a:pt x="1543" y="488"/>
                  </a:lnTo>
                  <a:lnTo>
                    <a:pt x="1558" y="498"/>
                  </a:lnTo>
                  <a:lnTo>
                    <a:pt x="1568" y="508"/>
                  </a:lnTo>
                  <a:lnTo>
                    <a:pt x="1578" y="518"/>
                  </a:lnTo>
                  <a:lnTo>
                    <a:pt x="1583" y="523"/>
                  </a:lnTo>
                  <a:lnTo>
                    <a:pt x="1593" y="533"/>
                  </a:lnTo>
                  <a:lnTo>
                    <a:pt x="1598" y="548"/>
                  </a:lnTo>
                  <a:lnTo>
                    <a:pt x="1603" y="557"/>
                  </a:lnTo>
                  <a:lnTo>
                    <a:pt x="1603" y="567"/>
                  </a:lnTo>
                  <a:lnTo>
                    <a:pt x="1608" y="577"/>
                  </a:lnTo>
                  <a:lnTo>
                    <a:pt x="1608" y="587"/>
                  </a:lnTo>
                  <a:lnTo>
                    <a:pt x="1613" y="602"/>
                  </a:lnTo>
                  <a:lnTo>
                    <a:pt x="1613" y="612"/>
                  </a:lnTo>
                  <a:lnTo>
                    <a:pt x="1613" y="622"/>
                  </a:lnTo>
                  <a:lnTo>
                    <a:pt x="1613" y="636"/>
                  </a:lnTo>
                  <a:lnTo>
                    <a:pt x="1613" y="651"/>
                  </a:lnTo>
                  <a:lnTo>
                    <a:pt x="1613" y="661"/>
                  </a:lnTo>
                  <a:lnTo>
                    <a:pt x="1613" y="676"/>
                  </a:lnTo>
                  <a:lnTo>
                    <a:pt x="1613" y="686"/>
                  </a:lnTo>
                  <a:lnTo>
                    <a:pt x="1618" y="700"/>
                  </a:lnTo>
                  <a:lnTo>
                    <a:pt x="1618" y="715"/>
                  </a:lnTo>
                  <a:lnTo>
                    <a:pt x="1618" y="730"/>
                  </a:lnTo>
                  <a:lnTo>
                    <a:pt x="1623" y="745"/>
                  </a:lnTo>
                  <a:lnTo>
                    <a:pt x="1628" y="760"/>
                  </a:lnTo>
                  <a:lnTo>
                    <a:pt x="1633" y="769"/>
                  </a:lnTo>
                  <a:lnTo>
                    <a:pt x="1639" y="789"/>
                  </a:lnTo>
                  <a:lnTo>
                    <a:pt x="1649" y="799"/>
                  </a:lnTo>
                  <a:lnTo>
                    <a:pt x="1659" y="814"/>
                  </a:lnTo>
                  <a:lnTo>
                    <a:pt x="1669" y="829"/>
                  </a:lnTo>
                  <a:lnTo>
                    <a:pt x="1679" y="843"/>
                  </a:lnTo>
                  <a:lnTo>
                    <a:pt x="1689" y="853"/>
                  </a:lnTo>
                  <a:lnTo>
                    <a:pt x="1704" y="868"/>
                  </a:lnTo>
                  <a:lnTo>
                    <a:pt x="1719" y="878"/>
                  </a:lnTo>
                  <a:lnTo>
                    <a:pt x="1734" y="888"/>
                  </a:lnTo>
                  <a:lnTo>
                    <a:pt x="1749" y="898"/>
                  </a:lnTo>
                  <a:lnTo>
                    <a:pt x="1764" y="913"/>
                  </a:lnTo>
                  <a:lnTo>
                    <a:pt x="1779" y="922"/>
                  </a:lnTo>
                  <a:lnTo>
                    <a:pt x="1799" y="932"/>
                  </a:lnTo>
                  <a:lnTo>
                    <a:pt x="1814" y="942"/>
                  </a:lnTo>
                  <a:lnTo>
                    <a:pt x="1829" y="952"/>
                  </a:lnTo>
                  <a:lnTo>
                    <a:pt x="1850" y="962"/>
                  </a:lnTo>
                  <a:lnTo>
                    <a:pt x="1865" y="972"/>
                  </a:lnTo>
                  <a:lnTo>
                    <a:pt x="1885" y="982"/>
                  </a:lnTo>
                  <a:lnTo>
                    <a:pt x="1900" y="991"/>
                  </a:lnTo>
                  <a:lnTo>
                    <a:pt x="1915" y="1001"/>
                  </a:lnTo>
                  <a:lnTo>
                    <a:pt x="1935" y="1011"/>
                  </a:lnTo>
                  <a:lnTo>
                    <a:pt x="1950" y="1021"/>
                  </a:lnTo>
                  <a:lnTo>
                    <a:pt x="1965" y="1031"/>
                  </a:lnTo>
                  <a:lnTo>
                    <a:pt x="1980" y="1041"/>
                  </a:lnTo>
                  <a:lnTo>
                    <a:pt x="2000" y="1051"/>
                  </a:lnTo>
                  <a:lnTo>
                    <a:pt x="2015" y="1065"/>
                  </a:lnTo>
                  <a:lnTo>
                    <a:pt x="2025" y="1075"/>
                  </a:lnTo>
                  <a:lnTo>
                    <a:pt x="2041" y="1085"/>
                  </a:lnTo>
                  <a:lnTo>
                    <a:pt x="2051" y="1100"/>
                  </a:lnTo>
                  <a:lnTo>
                    <a:pt x="2066" y="1115"/>
                  </a:lnTo>
                  <a:lnTo>
                    <a:pt x="2076" y="1125"/>
                  </a:lnTo>
                  <a:lnTo>
                    <a:pt x="2081" y="1139"/>
                  </a:lnTo>
                  <a:lnTo>
                    <a:pt x="2091" y="1159"/>
                  </a:lnTo>
                  <a:lnTo>
                    <a:pt x="2096" y="1174"/>
                  </a:lnTo>
                  <a:lnTo>
                    <a:pt x="2106" y="1194"/>
                  </a:lnTo>
                  <a:lnTo>
                    <a:pt x="2106" y="1203"/>
                  </a:lnTo>
                  <a:lnTo>
                    <a:pt x="2116" y="1213"/>
                  </a:lnTo>
                  <a:lnTo>
                    <a:pt x="2121" y="1218"/>
                  </a:lnTo>
                  <a:lnTo>
                    <a:pt x="2131" y="1228"/>
                  </a:lnTo>
                  <a:lnTo>
                    <a:pt x="2136" y="1228"/>
                  </a:lnTo>
                  <a:lnTo>
                    <a:pt x="2151" y="1233"/>
                  </a:lnTo>
                  <a:lnTo>
                    <a:pt x="2161" y="1233"/>
                  </a:lnTo>
                  <a:lnTo>
                    <a:pt x="2171" y="1233"/>
                  </a:lnTo>
                  <a:lnTo>
                    <a:pt x="2181" y="1233"/>
                  </a:lnTo>
                  <a:lnTo>
                    <a:pt x="2191" y="1228"/>
                  </a:lnTo>
                  <a:lnTo>
                    <a:pt x="2201" y="1218"/>
                  </a:lnTo>
                  <a:lnTo>
                    <a:pt x="2211" y="1213"/>
                  </a:lnTo>
                  <a:lnTo>
                    <a:pt x="2216" y="1203"/>
                  </a:lnTo>
                  <a:lnTo>
                    <a:pt x="2221" y="1199"/>
                  </a:lnTo>
                  <a:lnTo>
                    <a:pt x="2226" y="1184"/>
                  </a:lnTo>
                  <a:lnTo>
                    <a:pt x="2226" y="1174"/>
                  </a:lnTo>
                  <a:lnTo>
                    <a:pt x="2226" y="1154"/>
                  </a:lnTo>
                  <a:lnTo>
                    <a:pt x="2226" y="1139"/>
                  </a:lnTo>
                  <a:lnTo>
                    <a:pt x="2221" y="1120"/>
                  </a:lnTo>
                  <a:lnTo>
                    <a:pt x="2221" y="1105"/>
                  </a:lnTo>
                  <a:lnTo>
                    <a:pt x="2216" y="1090"/>
                  </a:lnTo>
                  <a:lnTo>
                    <a:pt x="2206" y="1075"/>
                  </a:lnTo>
                  <a:lnTo>
                    <a:pt x="2201" y="1065"/>
                  </a:lnTo>
                  <a:lnTo>
                    <a:pt x="2196" y="1051"/>
                  </a:lnTo>
                  <a:lnTo>
                    <a:pt x="2186" y="1036"/>
                  </a:lnTo>
                  <a:lnTo>
                    <a:pt x="2176" y="1026"/>
                  </a:lnTo>
                  <a:lnTo>
                    <a:pt x="2171" y="1016"/>
                  </a:lnTo>
                  <a:lnTo>
                    <a:pt x="2161" y="1006"/>
                  </a:lnTo>
                  <a:lnTo>
                    <a:pt x="2151" y="991"/>
                  </a:lnTo>
                  <a:lnTo>
                    <a:pt x="2136" y="982"/>
                  </a:lnTo>
                  <a:lnTo>
                    <a:pt x="2126" y="972"/>
                  </a:lnTo>
                  <a:lnTo>
                    <a:pt x="2116" y="962"/>
                  </a:lnTo>
                  <a:lnTo>
                    <a:pt x="2101" y="952"/>
                  </a:lnTo>
                  <a:lnTo>
                    <a:pt x="2086" y="942"/>
                  </a:lnTo>
                  <a:lnTo>
                    <a:pt x="2076" y="937"/>
                  </a:lnTo>
                  <a:lnTo>
                    <a:pt x="2061" y="927"/>
                  </a:lnTo>
                  <a:lnTo>
                    <a:pt x="2046" y="917"/>
                  </a:lnTo>
                  <a:lnTo>
                    <a:pt x="2030" y="913"/>
                  </a:lnTo>
                  <a:lnTo>
                    <a:pt x="2015" y="903"/>
                  </a:lnTo>
                  <a:lnTo>
                    <a:pt x="2005" y="898"/>
                  </a:lnTo>
                  <a:lnTo>
                    <a:pt x="1985" y="888"/>
                  </a:lnTo>
                  <a:lnTo>
                    <a:pt x="1970" y="878"/>
                  </a:lnTo>
                  <a:lnTo>
                    <a:pt x="1955" y="873"/>
                  </a:lnTo>
                  <a:lnTo>
                    <a:pt x="1945" y="863"/>
                  </a:lnTo>
                  <a:lnTo>
                    <a:pt x="1925" y="858"/>
                  </a:lnTo>
                  <a:lnTo>
                    <a:pt x="1915" y="848"/>
                  </a:lnTo>
                  <a:lnTo>
                    <a:pt x="1900" y="843"/>
                  </a:lnTo>
                  <a:lnTo>
                    <a:pt x="1890" y="839"/>
                  </a:lnTo>
                  <a:lnTo>
                    <a:pt x="1875" y="829"/>
                  </a:lnTo>
                  <a:lnTo>
                    <a:pt x="1865" y="824"/>
                  </a:lnTo>
                  <a:lnTo>
                    <a:pt x="1855" y="814"/>
                  </a:lnTo>
                  <a:lnTo>
                    <a:pt x="1845" y="809"/>
                  </a:lnTo>
                  <a:lnTo>
                    <a:pt x="1824" y="794"/>
                  </a:lnTo>
                  <a:lnTo>
                    <a:pt x="1814" y="779"/>
                  </a:lnTo>
                  <a:lnTo>
                    <a:pt x="1804" y="765"/>
                  </a:lnTo>
                  <a:lnTo>
                    <a:pt x="1794" y="745"/>
                  </a:lnTo>
                  <a:lnTo>
                    <a:pt x="1784" y="730"/>
                  </a:lnTo>
                  <a:lnTo>
                    <a:pt x="1784" y="715"/>
                  </a:lnTo>
                  <a:lnTo>
                    <a:pt x="1774" y="696"/>
                  </a:lnTo>
                  <a:lnTo>
                    <a:pt x="1774" y="681"/>
                  </a:lnTo>
                  <a:lnTo>
                    <a:pt x="1774" y="666"/>
                  </a:lnTo>
                  <a:lnTo>
                    <a:pt x="1774" y="646"/>
                  </a:lnTo>
                  <a:lnTo>
                    <a:pt x="1774" y="631"/>
                  </a:lnTo>
                  <a:lnTo>
                    <a:pt x="1774" y="612"/>
                  </a:lnTo>
                  <a:lnTo>
                    <a:pt x="1774" y="597"/>
                  </a:lnTo>
                  <a:lnTo>
                    <a:pt x="1774" y="582"/>
                  </a:lnTo>
                  <a:lnTo>
                    <a:pt x="1774" y="562"/>
                  </a:lnTo>
                  <a:lnTo>
                    <a:pt x="1774" y="548"/>
                  </a:lnTo>
                  <a:lnTo>
                    <a:pt x="1774" y="528"/>
                  </a:lnTo>
                  <a:lnTo>
                    <a:pt x="1774" y="513"/>
                  </a:lnTo>
                  <a:lnTo>
                    <a:pt x="1769" y="498"/>
                  </a:lnTo>
                  <a:lnTo>
                    <a:pt x="1769" y="479"/>
                  </a:lnTo>
                  <a:lnTo>
                    <a:pt x="1764" y="464"/>
                  </a:lnTo>
                  <a:lnTo>
                    <a:pt x="1754" y="449"/>
                  </a:lnTo>
                  <a:lnTo>
                    <a:pt x="1744" y="434"/>
                  </a:lnTo>
                  <a:lnTo>
                    <a:pt x="1734" y="419"/>
                  </a:lnTo>
                  <a:lnTo>
                    <a:pt x="1719" y="405"/>
                  </a:lnTo>
                  <a:lnTo>
                    <a:pt x="1704" y="395"/>
                  </a:lnTo>
                  <a:lnTo>
                    <a:pt x="1694" y="390"/>
                  </a:lnTo>
                  <a:lnTo>
                    <a:pt x="1684" y="385"/>
                  </a:lnTo>
                  <a:lnTo>
                    <a:pt x="1674" y="375"/>
                  </a:lnTo>
                  <a:lnTo>
                    <a:pt x="1659" y="370"/>
                  </a:lnTo>
                  <a:lnTo>
                    <a:pt x="1649" y="365"/>
                  </a:lnTo>
                  <a:lnTo>
                    <a:pt x="1639" y="360"/>
                  </a:lnTo>
                  <a:lnTo>
                    <a:pt x="1623" y="355"/>
                  </a:lnTo>
                  <a:lnTo>
                    <a:pt x="1608" y="355"/>
                  </a:lnTo>
                  <a:lnTo>
                    <a:pt x="1588" y="345"/>
                  </a:lnTo>
                  <a:lnTo>
                    <a:pt x="1573" y="340"/>
                  </a:lnTo>
                  <a:lnTo>
                    <a:pt x="1558" y="336"/>
                  </a:lnTo>
                  <a:lnTo>
                    <a:pt x="1538" y="331"/>
                  </a:lnTo>
                  <a:lnTo>
                    <a:pt x="1523" y="326"/>
                  </a:lnTo>
                  <a:lnTo>
                    <a:pt x="1508" y="321"/>
                  </a:lnTo>
                  <a:lnTo>
                    <a:pt x="1488" y="316"/>
                  </a:lnTo>
                  <a:lnTo>
                    <a:pt x="1473" y="311"/>
                  </a:lnTo>
                  <a:lnTo>
                    <a:pt x="1458" y="306"/>
                  </a:lnTo>
                  <a:lnTo>
                    <a:pt x="1438" y="301"/>
                  </a:lnTo>
                  <a:lnTo>
                    <a:pt x="1422" y="296"/>
                  </a:lnTo>
                  <a:lnTo>
                    <a:pt x="1407" y="291"/>
                  </a:lnTo>
                  <a:lnTo>
                    <a:pt x="1387" y="286"/>
                  </a:lnTo>
                  <a:lnTo>
                    <a:pt x="1372" y="281"/>
                  </a:lnTo>
                  <a:lnTo>
                    <a:pt x="1357" y="276"/>
                  </a:lnTo>
                  <a:lnTo>
                    <a:pt x="1337" y="271"/>
                  </a:lnTo>
                  <a:lnTo>
                    <a:pt x="1322" y="266"/>
                  </a:lnTo>
                  <a:lnTo>
                    <a:pt x="1307" y="262"/>
                  </a:lnTo>
                  <a:lnTo>
                    <a:pt x="1287" y="257"/>
                  </a:lnTo>
                  <a:lnTo>
                    <a:pt x="1272" y="252"/>
                  </a:lnTo>
                  <a:lnTo>
                    <a:pt x="1257" y="247"/>
                  </a:lnTo>
                  <a:lnTo>
                    <a:pt x="1236" y="242"/>
                  </a:lnTo>
                  <a:lnTo>
                    <a:pt x="1221" y="237"/>
                  </a:lnTo>
                  <a:lnTo>
                    <a:pt x="1206" y="232"/>
                  </a:lnTo>
                  <a:lnTo>
                    <a:pt x="1186" y="227"/>
                  </a:lnTo>
                  <a:lnTo>
                    <a:pt x="1171" y="222"/>
                  </a:lnTo>
                  <a:lnTo>
                    <a:pt x="1156" y="217"/>
                  </a:lnTo>
                  <a:lnTo>
                    <a:pt x="1136" y="212"/>
                  </a:lnTo>
                  <a:lnTo>
                    <a:pt x="1121" y="207"/>
                  </a:lnTo>
                  <a:lnTo>
                    <a:pt x="1106" y="207"/>
                  </a:lnTo>
                  <a:lnTo>
                    <a:pt x="1086" y="197"/>
                  </a:lnTo>
                  <a:lnTo>
                    <a:pt x="1071" y="197"/>
                  </a:lnTo>
                  <a:lnTo>
                    <a:pt x="1051" y="193"/>
                  </a:lnTo>
                  <a:lnTo>
                    <a:pt x="1035" y="183"/>
                  </a:lnTo>
                  <a:lnTo>
                    <a:pt x="1020" y="178"/>
                  </a:lnTo>
                  <a:lnTo>
                    <a:pt x="1000" y="178"/>
                  </a:lnTo>
                  <a:lnTo>
                    <a:pt x="985" y="168"/>
                  </a:lnTo>
                  <a:lnTo>
                    <a:pt x="970" y="163"/>
                  </a:lnTo>
                  <a:lnTo>
                    <a:pt x="950" y="158"/>
                  </a:lnTo>
                  <a:lnTo>
                    <a:pt x="935" y="158"/>
                  </a:lnTo>
                  <a:lnTo>
                    <a:pt x="920" y="148"/>
                  </a:lnTo>
                  <a:lnTo>
                    <a:pt x="900" y="143"/>
                  </a:lnTo>
                  <a:lnTo>
                    <a:pt x="885" y="138"/>
                  </a:lnTo>
                  <a:lnTo>
                    <a:pt x="870" y="133"/>
                  </a:lnTo>
                  <a:lnTo>
                    <a:pt x="850" y="128"/>
                  </a:lnTo>
                  <a:lnTo>
                    <a:pt x="834" y="128"/>
                  </a:lnTo>
                  <a:lnTo>
                    <a:pt x="819" y="119"/>
                  </a:lnTo>
                  <a:lnTo>
                    <a:pt x="799" y="119"/>
                  </a:lnTo>
                  <a:lnTo>
                    <a:pt x="784" y="114"/>
                  </a:lnTo>
                  <a:lnTo>
                    <a:pt x="769" y="109"/>
                  </a:lnTo>
                  <a:lnTo>
                    <a:pt x="749" y="99"/>
                  </a:lnTo>
                  <a:lnTo>
                    <a:pt x="734" y="99"/>
                  </a:lnTo>
                  <a:lnTo>
                    <a:pt x="719" y="94"/>
                  </a:lnTo>
                  <a:lnTo>
                    <a:pt x="699" y="89"/>
                  </a:lnTo>
                  <a:lnTo>
                    <a:pt x="684" y="84"/>
                  </a:lnTo>
                  <a:lnTo>
                    <a:pt x="669" y="79"/>
                  </a:lnTo>
                  <a:lnTo>
                    <a:pt x="649" y="74"/>
                  </a:lnTo>
                  <a:lnTo>
                    <a:pt x="633" y="69"/>
                  </a:lnTo>
                  <a:lnTo>
                    <a:pt x="618" y="64"/>
                  </a:lnTo>
                  <a:lnTo>
                    <a:pt x="598" y="59"/>
                  </a:lnTo>
                  <a:lnTo>
                    <a:pt x="583" y="54"/>
                  </a:lnTo>
                  <a:lnTo>
                    <a:pt x="568" y="49"/>
                  </a:lnTo>
                  <a:lnTo>
                    <a:pt x="548" y="45"/>
                  </a:lnTo>
                  <a:lnTo>
                    <a:pt x="533" y="40"/>
                  </a:lnTo>
                  <a:lnTo>
                    <a:pt x="518" y="35"/>
                  </a:lnTo>
                  <a:lnTo>
                    <a:pt x="498" y="30"/>
                  </a:lnTo>
                  <a:lnTo>
                    <a:pt x="483" y="25"/>
                  </a:lnTo>
                  <a:lnTo>
                    <a:pt x="473" y="20"/>
                  </a:lnTo>
                  <a:lnTo>
                    <a:pt x="458" y="15"/>
                  </a:lnTo>
                  <a:lnTo>
                    <a:pt x="442" y="15"/>
                  </a:lnTo>
                  <a:lnTo>
                    <a:pt x="432" y="10"/>
                  </a:lnTo>
                  <a:lnTo>
                    <a:pt x="417" y="10"/>
                  </a:lnTo>
                  <a:lnTo>
                    <a:pt x="407" y="5"/>
                  </a:lnTo>
                  <a:lnTo>
                    <a:pt x="397" y="5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62" y="0"/>
                  </a:lnTo>
                  <a:lnTo>
                    <a:pt x="352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17" y="0"/>
                  </a:lnTo>
                  <a:lnTo>
                    <a:pt x="302" y="0"/>
                  </a:lnTo>
                  <a:lnTo>
                    <a:pt x="287" y="0"/>
                  </a:lnTo>
                  <a:lnTo>
                    <a:pt x="272" y="5"/>
                  </a:lnTo>
                  <a:lnTo>
                    <a:pt x="257" y="5"/>
                  </a:lnTo>
                  <a:lnTo>
                    <a:pt x="247" y="15"/>
                  </a:lnTo>
                  <a:lnTo>
                    <a:pt x="236" y="20"/>
                  </a:lnTo>
                  <a:lnTo>
                    <a:pt x="221" y="25"/>
                  </a:lnTo>
                  <a:lnTo>
                    <a:pt x="211" y="30"/>
                  </a:lnTo>
                  <a:lnTo>
                    <a:pt x="201" y="40"/>
                  </a:lnTo>
                  <a:lnTo>
                    <a:pt x="186" y="49"/>
                  </a:lnTo>
                  <a:lnTo>
                    <a:pt x="176" y="59"/>
                  </a:lnTo>
                  <a:lnTo>
                    <a:pt x="166" y="69"/>
                  </a:lnTo>
                  <a:lnTo>
                    <a:pt x="156" y="79"/>
                  </a:lnTo>
                  <a:lnTo>
                    <a:pt x="146" y="94"/>
                  </a:lnTo>
                  <a:lnTo>
                    <a:pt x="131" y="109"/>
                  </a:lnTo>
                  <a:lnTo>
                    <a:pt x="116" y="119"/>
                  </a:lnTo>
                  <a:lnTo>
                    <a:pt x="106" y="133"/>
                  </a:lnTo>
                  <a:lnTo>
                    <a:pt x="91" y="148"/>
                  </a:lnTo>
                  <a:lnTo>
                    <a:pt x="76" y="163"/>
                  </a:lnTo>
                  <a:lnTo>
                    <a:pt x="61" y="178"/>
                  </a:lnTo>
                  <a:lnTo>
                    <a:pt x="40" y="197"/>
                  </a:lnTo>
                  <a:lnTo>
                    <a:pt x="20" y="212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0" y="286"/>
                  </a:lnTo>
                  <a:lnTo>
                    <a:pt x="4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 rot="9362400">
              <a:off x="1118160" y="782640"/>
              <a:ext cx="3527640" cy="953640"/>
            </a:xfrm>
            <a:custGeom>
              <a:avLst/>
              <a:gdLst/>
              <a:ahLst/>
              <a:rect l="l" t="t" r="r" b="b"/>
              <a:pathLst>
                <a:path w="2222" h="601">
                  <a:moveTo>
                    <a:pt x="5" y="231"/>
                  </a:moveTo>
                  <a:lnTo>
                    <a:pt x="21" y="226"/>
                  </a:lnTo>
                  <a:lnTo>
                    <a:pt x="36" y="222"/>
                  </a:lnTo>
                  <a:lnTo>
                    <a:pt x="56" y="217"/>
                  </a:lnTo>
                  <a:lnTo>
                    <a:pt x="71" y="212"/>
                  </a:lnTo>
                  <a:lnTo>
                    <a:pt x="86" y="207"/>
                  </a:lnTo>
                  <a:lnTo>
                    <a:pt x="106" y="202"/>
                  </a:lnTo>
                  <a:lnTo>
                    <a:pt x="121" y="197"/>
                  </a:lnTo>
                  <a:lnTo>
                    <a:pt x="136" y="192"/>
                  </a:lnTo>
                  <a:lnTo>
                    <a:pt x="151" y="187"/>
                  </a:lnTo>
                  <a:lnTo>
                    <a:pt x="171" y="182"/>
                  </a:lnTo>
                  <a:lnTo>
                    <a:pt x="186" y="177"/>
                  </a:lnTo>
                  <a:lnTo>
                    <a:pt x="201" y="172"/>
                  </a:lnTo>
                  <a:lnTo>
                    <a:pt x="216" y="167"/>
                  </a:lnTo>
                  <a:lnTo>
                    <a:pt x="237" y="162"/>
                  </a:lnTo>
                  <a:lnTo>
                    <a:pt x="252" y="162"/>
                  </a:lnTo>
                  <a:lnTo>
                    <a:pt x="267" y="157"/>
                  </a:lnTo>
                  <a:lnTo>
                    <a:pt x="282" y="153"/>
                  </a:lnTo>
                  <a:lnTo>
                    <a:pt x="302" y="148"/>
                  </a:lnTo>
                  <a:lnTo>
                    <a:pt x="317" y="143"/>
                  </a:lnTo>
                  <a:lnTo>
                    <a:pt x="332" y="143"/>
                  </a:lnTo>
                  <a:lnTo>
                    <a:pt x="352" y="138"/>
                  </a:lnTo>
                  <a:lnTo>
                    <a:pt x="367" y="138"/>
                  </a:lnTo>
                  <a:lnTo>
                    <a:pt x="382" y="138"/>
                  </a:lnTo>
                  <a:lnTo>
                    <a:pt x="402" y="138"/>
                  </a:lnTo>
                  <a:lnTo>
                    <a:pt x="418" y="133"/>
                  </a:lnTo>
                  <a:lnTo>
                    <a:pt x="438" y="133"/>
                  </a:lnTo>
                  <a:lnTo>
                    <a:pt x="453" y="133"/>
                  </a:lnTo>
                  <a:lnTo>
                    <a:pt x="473" y="138"/>
                  </a:lnTo>
                  <a:lnTo>
                    <a:pt x="488" y="138"/>
                  </a:lnTo>
                  <a:lnTo>
                    <a:pt x="508" y="143"/>
                  </a:lnTo>
                  <a:lnTo>
                    <a:pt x="528" y="148"/>
                  </a:lnTo>
                  <a:lnTo>
                    <a:pt x="548" y="153"/>
                  </a:lnTo>
                  <a:lnTo>
                    <a:pt x="2191" y="601"/>
                  </a:lnTo>
                  <a:lnTo>
                    <a:pt x="2201" y="596"/>
                  </a:lnTo>
                  <a:lnTo>
                    <a:pt x="2212" y="591"/>
                  </a:lnTo>
                  <a:lnTo>
                    <a:pt x="2217" y="582"/>
                  </a:lnTo>
                  <a:lnTo>
                    <a:pt x="2222" y="577"/>
                  </a:lnTo>
                  <a:lnTo>
                    <a:pt x="2222" y="562"/>
                  </a:lnTo>
                  <a:lnTo>
                    <a:pt x="2222" y="547"/>
                  </a:lnTo>
                  <a:lnTo>
                    <a:pt x="2222" y="527"/>
                  </a:lnTo>
                  <a:lnTo>
                    <a:pt x="2217" y="513"/>
                  </a:lnTo>
                  <a:lnTo>
                    <a:pt x="769" y="93"/>
                  </a:lnTo>
                  <a:lnTo>
                    <a:pt x="759" y="88"/>
                  </a:lnTo>
                  <a:lnTo>
                    <a:pt x="744" y="83"/>
                  </a:lnTo>
                  <a:lnTo>
                    <a:pt x="729" y="79"/>
                  </a:lnTo>
                  <a:lnTo>
                    <a:pt x="719" y="74"/>
                  </a:lnTo>
                  <a:lnTo>
                    <a:pt x="704" y="69"/>
                  </a:lnTo>
                  <a:lnTo>
                    <a:pt x="694" y="64"/>
                  </a:lnTo>
                  <a:lnTo>
                    <a:pt x="679" y="59"/>
                  </a:lnTo>
                  <a:lnTo>
                    <a:pt x="669" y="59"/>
                  </a:lnTo>
                  <a:lnTo>
                    <a:pt x="654" y="49"/>
                  </a:lnTo>
                  <a:lnTo>
                    <a:pt x="639" y="44"/>
                  </a:lnTo>
                  <a:lnTo>
                    <a:pt x="629" y="44"/>
                  </a:lnTo>
                  <a:lnTo>
                    <a:pt x="613" y="39"/>
                  </a:lnTo>
                  <a:lnTo>
                    <a:pt x="598" y="34"/>
                  </a:lnTo>
                  <a:lnTo>
                    <a:pt x="588" y="29"/>
                  </a:lnTo>
                  <a:lnTo>
                    <a:pt x="573" y="29"/>
                  </a:lnTo>
                  <a:lnTo>
                    <a:pt x="563" y="24"/>
                  </a:lnTo>
                  <a:lnTo>
                    <a:pt x="548" y="19"/>
                  </a:lnTo>
                  <a:lnTo>
                    <a:pt x="533" y="19"/>
                  </a:lnTo>
                  <a:lnTo>
                    <a:pt x="518" y="14"/>
                  </a:lnTo>
                  <a:lnTo>
                    <a:pt x="508" y="14"/>
                  </a:lnTo>
                  <a:lnTo>
                    <a:pt x="493" y="9"/>
                  </a:lnTo>
                  <a:lnTo>
                    <a:pt x="478" y="9"/>
                  </a:lnTo>
                  <a:lnTo>
                    <a:pt x="463" y="5"/>
                  </a:lnTo>
                  <a:lnTo>
                    <a:pt x="453" y="5"/>
                  </a:lnTo>
                  <a:lnTo>
                    <a:pt x="438" y="5"/>
                  </a:lnTo>
                  <a:lnTo>
                    <a:pt x="423" y="0"/>
                  </a:lnTo>
                  <a:lnTo>
                    <a:pt x="407" y="0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57" y="0"/>
                  </a:lnTo>
                  <a:lnTo>
                    <a:pt x="342" y="0"/>
                  </a:lnTo>
                  <a:lnTo>
                    <a:pt x="327" y="0"/>
                  </a:lnTo>
                  <a:lnTo>
                    <a:pt x="317" y="0"/>
                  </a:lnTo>
                  <a:lnTo>
                    <a:pt x="302" y="5"/>
                  </a:lnTo>
                  <a:lnTo>
                    <a:pt x="292" y="5"/>
                  </a:lnTo>
                  <a:lnTo>
                    <a:pt x="277" y="5"/>
                  </a:lnTo>
                  <a:lnTo>
                    <a:pt x="262" y="9"/>
                  </a:lnTo>
                  <a:lnTo>
                    <a:pt x="252" y="9"/>
                  </a:lnTo>
                  <a:lnTo>
                    <a:pt x="242" y="14"/>
                  </a:lnTo>
                  <a:lnTo>
                    <a:pt x="227" y="19"/>
                  </a:lnTo>
                  <a:lnTo>
                    <a:pt x="216" y="24"/>
                  </a:lnTo>
                  <a:lnTo>
                    <a:pt x="201" y="29"/>
                  </a:lnTo>
                  <a:lnTo>
                    <a:pt x="191" y="34"/>
                  </a:lnTo>
                  <a:lnTo>
                    <a:pt x="181" y="34"/>
                  </a:lnTo>
                  <a:lnTo>
                    <a:pt x="171" y="44"/>
                  </a:lnTo>
                  <a:lnTo>
                    <a:pt x="156" y="49"/>
                  </a:lnTo>
                  <a:lnTo>
                    <a:pt x="151" y="59"/>
                  </a:lnTo>
                  <a:lnTo>
                    <a:pt x="136" y="64"/>
                  </a:lnTo>
                  <a:lnTo>
                    <a:pt x="126" y="69"/>
                  </a:lnTo>
                  <a:lnTo>
                    <a:pt x="116" y="74"/>
                  </a:lnTo>
                  <a:lnTo>
                    <a:pt x="106" y="83"/>
                  </a:lnTo>
                  <a:lnTo>
                    <a:pt x="91" y="93"/>
                  </a:lnTo>
                  <a:lnTo>
                    <a:pt x="86" y="103"/>
                  </a:lnTo>
                  <a:lnTo>
                    <a:pt x="76" y="113"/>
                  </a:lnTo>
                  <a:lnTo>
                    <a:pt x="66" y="123"/>
                  </a:lnTo>
                  <a:lnTo>
                    <a:pt x="56" y="133"/>
                  </a:lnTo>
                  <a:lnTo>
                    <a:pt x="51" y="143"/>
                  </a:lnTo>
                  <a:lnTo>
                    <a:pt x="41" y="157"/>
                  </a:lnTo>
                  <a:lnTo>
                    <a:pt x="31" y="167"/>
                  </a:lnTo>
                  <a:lnTo>
                    <a:pt x="21" y="182"/>
                  </a:lnTo>
                  <a:lnTo>
                    <a:pt x="15" y="197"/>
                  </a:lnTo>
                  <a:lnTo>
                    <a:pt x="10" y="207"/>
                  </a:lnTo>
                  <a:lnTo>
                    <a:pt x="5" y="226"/>
                  </a:lnTo>
                  <a:lnTo>
                    <a:pt x="0" y="226"/>
                  </a:lnTo>
                  <a:lnTo>
                    <a:pt x="5" y="231"/>
                  </a:lnTo>
                  <a:lnTo>
                    <a:pt x="5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flipV="1" rot="9362400">
              <a:off x="7391520" y="958680"/>
              <a:ext cx="1922400" cy="4305240"/>
            </a:xfrm>
            <a:custGeom>
              <a:avLst/>
              <a:gdLst/>
              <a:ahLst/>
              <a:rect l="l" t="t" r="r" b="b"/>
              <a:pathLst>
                <a:path w="1211" h="2712">
                  <a:moveTo>
                    <a:pt x="1101" y="113"/>
                  </a:moveTo>
                  <a:lnTo>
                    <a:pt x="1101" y="123"/>
                  </a:lnTo>
                  <a:lnTo>
                    <a:pt x="1101" y="133"/>
                  </a:lnTo>
                  <a:lnTo>
                    <a:pt x="1096" y="143"/>
                  </a:lnTo>
                  <a:lnTo>
                    <a:pt x="1096" y="158"/>
                  </a:lnTo>
                  <a:lnTo>
                    <a:pt x="1096" y="168"/>
                  </a:lnTo>
                  <a:lnTo>
                    <a:pt x="1096" y="178"/>
                  </a:lnTo>
                  <a:lnTo>
                    <a:pt x="1091" y="187"/>
                  </a:lnTo>
                  <a:lnTo>
                    <a:pt x="1091" y="202"/>
                  </a:lnTo>
                  <a:lnTo>
                    <a:pt x="1086" y="212"/>
                  </a:lnTo>
                  <a:lnTo>
                    <a:pt x="1086" y="222"/>
                  </a:lnTo>
                  <a:lnTo>
                    <a:pt x="1086" y="232"/>
                  </a:lnTo>
                  <a:lnTo>
                    <a:pt x="1081" y="242"/>
                  </a:lnTo>
                  <a:lnTo>
                    <a:pt x="1081" y="256"/>
                  </a:lnTo>
                  <a:lnTo>
                    <a:pt x="1081" y="266"/>
                  </a:lnTo>
                  <a:lnTo>
                    <a:pt x="1076" y="276"/>
                  </a:lnTo>
                  <a:lnTo>
                    <a:pt x="1076" y="291"/>
                  </a:lnTo>
                  <a:lnTo>
                    <a:pt x="1071" y="301"/>
                  </a:lnTo>
                  <a:lnTo>
                    <a:pt x="1071" y="311"/>
                  </a:lnTo>
                  <a:lnTo>
                    <a:pt x="1066" y="321"/>
                  </a:lnTo>
                  <a:lnTo>
                    <a:pt x="1066" y="330"/>
                  </a:lnTo>
                  <a:lnTo>
                    <a:pt x="1061" y="340"/>
                  </a:lnTo>
                  <a:lnTo>
                    <a:pt x="1056" y="355"/>
                  </a:lnTo>
                  <a:lnTo>
                    <a:pt x="1056" y="365"/>
                  </a:lnTo>
                  <a:lnTo>
                    <a:pt x="1051" y="375"/>
                  </a:lnTo>
                  <a:lnTo>
                    <a:pt x="1046" y="385"/>
                  </a:lnTo>
                  <a:lnTo>
                    <a:pt x="1046" y="395"/>
                  </a:lnTo>
                  <a:lnTo>
                    <a:pt x="1041" y="404"/>
                  </a:lnTo>
                  <a:lnTo>
                    <a:pt x="1041" y="419"/>
                  </a:lnTo>
                  <a:lnTo>
                    <a:pt x="1036" y="429"/>
                  </a:lnTo>
                  <a:lnTo>
                    <a:pt x="1031" y="439"/>
                  </a:lnTo>
                  <a:lnTo>
                    <a:pt x="1031" y="449"/>
                  </a:lnTo>
                  <a:lnTo>
                    <a:pt x="1026" y="464"/>
                  </a:lnTo>
                  <a:lnTo>
                    <a:pt x="1021" y="469"/>
                  </a:lnTo>
                  <a:lnTo>
                    <a:pt x="1016" y="483"/>
                  </a:lnTo>
                  <a:lnTo>
                    <a:pt x="1016" y="488"/>
                  </a:lnTo>
                  <a:lnTo>
                    <a:pt x="1010" y="503"/>
                  </a:lnTo>
                  <a:lnTo>
                    <a:pt x="1005" y="513"/>
                  </a:lnTo>
                  <a:lnTo>
                    <a:pt x="1000" y="523"/>
                  </a:lnTo>
                  <a:lnTo>
                    <a:pt x="995" y="533"/>
                  </a:lnTo>
                  <a:lnTo>
                    <a:pt x="995" y="543"/>
                  </a:lnTo>
                  <a:lnTo>
                    <a:pt x="985" y="552"/>
                  </a:lnTo>
                  <a:lnTo>
                    <a:pt x="985" y="562"/>
                  </a:lnTo>
                  <a:lnTo>
                    <a:pt x="980" y="572"/>
                  </a:lnTo>
                  <a:lnTo>
                    <a:pt x="975" y="582"/>
                  </a:lnTo>
                  <a:lnTo>
                    <a:pt x="970" y="592"/>
                  </a:lnTo>
                  <a:lnTo>
                    <a:pt x="965" y="602"/>
                  </a:lnTo>
                  <a:lnTo>
                    <a:pt x="965" y="616"/>
                  </a:lnTo>
                  <a:lnTo>
                    <a:pt x="960" y="626"/>
                  </a:lnTo>
                  <a:lnTo>
                    <a:pt x="955" y="636"/>
                  </a:lnTo>
                  <a:lnTo>
                    <a:pt x="950" y="646"/>
                  </a:lnTo>
                  <a:lnTo>
                    <a:pt x="945" y="656"/>
                  </a:lnTo>
                  <a:lnTo>
                    <a:pt x="940" y="666"/>
                  </a:lnTo>
                  <a:lnTo>
                    <a:pt x="935" y="676"/>
                  </a:lnTo>
                  <a:lnTo>
                    <a:pt x="930" y="686"/>
                  </a:lnTo>
                  <a:lnTo>
                    <a:pt x="925" y="695"/>
                  </a:lnTo>
                  <a:lnTo>
                    <a:pt x="920" y="705"/>
                  </a:lnTo>
                  <a:lnTo>
                    <a:pt x="915" y="715"/>
                  </a:lnTo>
                  <a:lnTo>
                    <a:pt x="910" y="725"/>
                  </a:lnTo>
                  <a:lnTo>
                    <a:pt x="905" y="735"/>
                  </a:lnTo>
                  <a:lnTo>
                    <a:pt x="900" y="745"/>
                  </a:lnTo>
                  <a:lnTo>
                    <a:pt x="895" y="755"/>
                  </a:lnTo>
                  <a:lnTo>
                    <a:pt x="895" y="764"/>
                  </a:lnTo>
                  <a:lnTo>
                    <a:pt x="885" y="774"/>
                  </a:lnTo>
                  <a:lnTo>
                    <a:pt x="885" y="789"/>
                  </a:lnTo>
                  <a:lnTo>
                    <a:pt x="880" y="794"/>
                  </a:lnTo>
                  <a:lnTo>
                    <a:pt x="870" y="809"/>
                  </a:lnTo>
                  <a:lnTo>
                    <a:pt x="865" y="819"/>
                  </a:lnTo>
                  <a:lnTo>
                    <a:pt x="860" y="829"/>
                  </a:lnTo>
                  <a:lnTo>
                    <a:pt x="855" y="838"/>
                  </a:lnTo>
                  <a:lnTo>
                    <a:pt x="850" y="848"/>
                  </a:lnTo>
                  <a:lnTo>
                    <a:pt x="845" y="858"/>
                  </a:lnTo>
                  <a:lnTo>
                    <a:pt x="840" y="868"/>
                  </a:lnTo>
                  <a:lnTo>
                    <a:pt x="835" y="883"/>
                  </a:lnTo>
                  <a:lnTo>
                    <a:pt x="830" y="893"/>
                  </a:lnTo>
                  <a:lnTo>
                    <a:pt x="825" y="903"/>
                  </a:lnTo>
                  <a:lnTo>
                    <a:pt x="820" y="912"/>
                  </a:lnTo>
                  <a:lnTo>
                    <a:pt x="814" y="922"/>
                  </a:lnTo>
                  <a:lnTo>
                    <a:pt x="809" y="937"/>
                  </a:lnTo>
                  <a:lnTo>
                    <a:pt x="804" y="947"/>
                  </a:lnTo>
                  <a:lnTo>
                    <a:pt x="804" y="957"/>
                  </a:lnTo>
                  <a:lnTo>
                    <a:pt x="799" y="967"/>
                  </a:lnTo>
                  <a:lnTo>
                    <a:pt x="794" y="981"/>
                  </a:lnTo>
                  <a:lnTo>
                    <a:pt x="789" y="991"/>
                  </a:lnTo>
                  <a:lnTo>
                    <a:pt x="784" y="1001"/>
                  </a:lnTo>
                  <a:lnTo>
                    <a:pt x="779" y="1011"/>
                  </a:lnTo>
                  <a:lnTo>
                    <a:pt x="779" y="1021"/>
                  </a:lnTo>
                  <a:lnTo>
                    <a:pt x="774" y="1036"/>
                  </a:lnTo>
                  <a:lnTo>
                    <a:pt x="769" y="1046"/>
                  </a:lnTo>
                  <a:lnTo>
                    <a:pt x="764" y="1055"/>
                  </a:lnTo>
                  <a:lnTo>
                    <a:pt x="759" y="1065"/>
                  </a:lnTo>
                  <a:lnTo>
                    <a:pt x="754" y="1080"/>
                  </a:lnTo>
                  <a:lnTo>
                    <a:pt x="754" y="1090"/>
                  </a:lnTo>
                  <a:lnTo>
                    <a:pt x="749" y="1100"/>
                  </a:lnTo>
                  <a:lnTo>
                    <a:pt x="744" y="1110"/>
                  </a:lnTo>
                  <a:lnTo>
                    <a:pt x="739" y="1119"/>
                  </a:lnTo>
                  <a:lnTo>
                    <a:pt x="734" y="1134"/>
                  </a:lnTo>
                  <a:lnTo>
                    <a:pt x="729" y="1144"/>
                  </a:lnTo>
                  <a:lnTo>
                    <a:pt x="729" y="1154"/>
                  </a:lnTo>
                  <a:lnTo>
                    <a:pt x="724" y="1164"/>
                  </a:lnTo>
                  <a:lnTo>
                    <a:pt x="719" y="1179"/>
                  </a:lnTo>
                  <a:lnTo>
                    <a:pt x="714" y="1189"/>
                  </a:lnTo>
                  <a:lnTo>
                    <a:pt x="709" y="1198"/>
                  </a:lnTo>
                  <a:lnTo>
                    <a:pt x="704" y="1208"/>
                  </a:lnTo>
                  <a:lnTo>
                    <a:pt x="704" y="1218"/>
                  </a:lnTo>
                  <a:lnTo>
                    <a:pt x="699" y="1233"/>
                  </a:lnTo>
                  <a:lnTo>
                    <a:pt x="694" y="1243"/>
                  </a:lnTo>
                  <a:lnTo>
                    <a:pt x="689" y="1253"/>
                  </a:lnTo>
                  <a:lnTo>
                    <a:pt x="684" y="1263"/>
                  </a:lnTo>
                  <a:lnTo>
                    <a:pt x="679" y="1277"/>
                  </a:lnTo>
                  <a:lnTo>
                    <a:pt x="679" y="1287"/>
                  </a:lnTo>
                  <a:lnTo>
                    <a:pt x="674" y="1297"/>
                  </a:lnTo>
                  <a:lnTo>
                    <a:pt x="669" y="1307"/>
                  </a:lnTo>
                  <a:lnTo>
                    <a:pt x="664" y="1317"/>
                  </a:lnTo>
                  <a:lnTo>
                    <a:pt x="664" y="1327"/>
                  </a:lnTo>
                  <a:lnTo>
                    <a:pt x="654" y="1341"/>
                  </a:lnTo>
                  <a:lnTo>
                    <a:pt x="654" y="1351"/>
                  </a:lnTo>
                  <a:lnTo>
                    <a:pt x="649" y="1361"/>
                  </a:lnTo>
                  <a:lnTo>
                    <a:pt x="644" y="1371"/>
                  </a:lnTo>
                  <a:lnTo>
                    <a:pt x="639" y="1386"/>
                  </a:lnTo>
                  <a:lnTo>
                    <a:pt x="634" y="1396"/>
                  </a:lnTo>
                  <a:lnTo>
                    <a:pt x="629" y="1406"/>
                  </a:lnTo>
                  <a:lnTo>
                    <a:pt x="629" y="1415"/>
                  </a:lnTo>
                  <a:lnTo>
                    <a:pt x="624" y="1425"/>
                  </a:lnTo>
                  <a:lnTo>
                    <a:pt x="619" y="1440"/>
                  </a:lnTo>
                  <a:lnTo>
                    <a:pt x="613" y="1450"/>
                  </a:lnTo>
                  <a:lnTo>
                    <a:pt x="608" y="1460"/>
                  </a:lnTo>
                  <a:lnTo>
                    <a:pt x="603" y="1470"/>
                  </a:lnTo>
                  <a:lnTo>
                    <a:pt x="603" y="1484"/>
                  </a:lnTo>
                  <a:lnTo>
                    <a:pt x="593" y="1499"/>
                  </a:lnTo>
                  <a:lnTo>
                    <a:pt x="583" y="1514"/>
                  </a:lnTo>
                  <a:lnTo>
                    <a:pt x="578" y="1534"/>
                  </a:lnTo>
                  <a:lnTo>
                    <a:pt x="568" y="1549"/>
                  </a:lnTo>
                  <a:lnTo>
                    <a:pt x="563" y="1568"/>
                  </a:lnTo>
                  <a:lnTo>
                    <a:pt x="553" y="1583"/>
                  </a:lnTo>
                  <a:lnTo>
                    <a:pt x="548" y="1603"/>
                  </a:lnTo>
                  <a:lnTo>
                    <a:pt x="538" y="1618"/>
                  </a:lnTo>
                  <a:lnTo>
                    <a:pt x="533" y="1637"/>
                  </a:lnTo>
                  <a:lnTo>
                    <a:pt x="528" y="1652"/>
                  </a:lnTo>
                  <a:lnTo>
                    <a:pt x="518" y="1667"/>
                  </a:lnTo>
                  <a:lnTo>
                    <a:pt x="513" y="1687"/>
                  </a:lnTo>
                  <a:lnTo>
                    <a:pt x="503" y="1701"/>
                  </a:lnTo>
                  <a:lnTo>
                    <a:pt x="498" y="1721"/>
                  </a:lnTo>
                  <a:lnTo>
                    <a:pt x="488" y="1741"/>
                  </a:lnTo>
                  <a:lnTo>
                    <a:pt x="483" y="1761"/>
                  </a:lnTo>
                  <a:lnTo>
                    <a:pt x="478" y="1775"/>
                  </a:lnTo>
                  <a:lnTo>
                    <a:pt x="468" y="1795"/>
                  </a:lnTo>
                  <a:lnTo>
                    <a:pt x="463" y="1810"/>
                  </a:lnTo>
                  <a:lnTo>
                    <a:pt x="453" y="1830"/>
                  </a:lnTo>
                  <a:lnTo>
                    <a:pt x="448" y="1844"/>
                  </a:lnTo>
                  <a:lnTo>
                    <a:pt x="438" y="1864"/>
                  </a:lnTo>
                  <a:lnTo>
                    <a:pt x="433" y="1879"/>
                  </a:lnTo>
                  <a:lnTo>
                    <a:pt x="428" y="1899"/>
                  </a:lnTo>
                  <a:lnTo>
                    <a:pt x="418" y="1913"/>
                  </a:lnTo>
                  <a:lnTo>
                    <a:pt x="412" y="1933"/>
                  </a:lnTo>
                  <a:lnTo>
                    <a:pt x="402" y="1953"/>
                  </a:lnTo>
                  <a:lnTo>
                    <a:pt x="397" y="1973"/>
                  </a:lnTo>
                  <a:lnTo>
                    <a:pt x="392" y="1987"/>
                  </a:lnTo>
                  <a:lnTo>
                    <a:pt x="382" y="2007"/>
                  </a:lnTo>
                  <a:lnTo>
                    <a:pt x="377" y="2022"/>
                  </a:lnTo>
                  <a:lnTo>
                    <a:pt x="372" y="2042"/>
                  </a:lnTo>
                  <a:lnTo>
                    <a:pt x="362" y="2061"/>
                  </a:lnTo>
                  <a:lnTo>
                    <a:pt x="357" y="2081"/>
                  </a:lnTo>
                  <a:lnTo>
                    <a:pt x="347" y="2101"/>
                  </a:lnTo>
                  <a:lnTo>
                    <a:pt x="342" y="2121"/>
                  </a:lnTo>
                  <a:lnTo>
                    <a:pt x="337" y="2126"/>
                  </a:lnTo>
                  <a:lnTo>
                    <a:pt x="332" y="2140"/>
                  </a:lnTo>
                  <a:lnTo>
                    <a:pt x="327" y="2150"/>
                  </a:lnTo>
                  <a:lnTo>
                    <a:pt x="327" y="2160"/>
                  </a:lnTo>
                  <a:lnTo>
                    <a:pt x="322" y="2170"/>
                  </a:lnTo>
                  <a:lnTo>
                    <a:pt x="317" y="2180"/>
                  </a:lnTo>
                  <a:lnTo>
                    <a:pt x="312" y="2190"/>
                  </a:lnTo>
                  <a:lnTo>
                    <a:pt x="312" y="2199"/>
                  </a:lnTo>
                  <a:lnTo>
                    <a:pt x="307" y="2209"/>
                  </a:lnTo>
                  <a:lnTo>
                    <a:pt x="302" y="2219"/>
                  </a:lnTo>
                  <a:lnTo>
                    <a:pt x="297" y="2229"/>
                  </a:lnTo>
                  <a:lnTo>
                    <a:pt x="297" y="2239"/>
                  </a:lnTo>
                  <a:lnTo>
                    <a:pt x="287" y="2249"/>
                  </a:lnTo>
                  <a:lnTo>
                    <a:pt x="287" y="2264"/>
                  </a:lnTo>
                  <a:lnTo>
                    <a:pt x="282" y="2273"/>
                  </a:lnTo>
                  <a:lnTo>
                    <a:pt x="282" y="2283"/>
                  </a:lnTo>
                  <a:lnTo>
                    <a:pt x="277" y="2293"/>
                  </a:lnTo>
                  <a:lnTo>
                    <a:pt x="272" y="2303"/>
                  </a:lnTo>
                  <a:lnTo>
                    <a:pt x="267" y="2313"/>
                  </a:lnTo>
                  <a:lnTo>
                    <a:pt x="262" y="2323"/>
                  </a:lnTo>
                  <a:lnTo>
                    <a:pt x="257" y="2333"/>
                  </a:lnTo>
                  <a:lnTo>
                    <a:pt x="252" y="2343"/>
                  </a:lnTo>
                  <a:lnTo>
                    <a:pt x="247" y="2352"/>
                  </a:lnTo>
                  <a:lnTo>
                    <a:pt x="247" y="2367"/>
                  </a:lnTo>
                  <a:lnTo>
                    <a:pt x="232" y="2382"/>
                  </a:lnTo>
                  <a:lnTo>
                    <a:pt x="222" y="2402"/>
                  </a:lnTo>
                  <a:lnTo>
                    <a:pt x="211" y="2421"/>
                  </a:lnTo>
                  <a:lnTo>
                    <a:pt x="201" y="2441"/>
                  </a:lnTo>
                  <a:lnTo>
                    <a:pt x="186" y="2456"/>
                  </a:lnTo>
                  <a:lnTo>
                    <a:pt x="176" y="2476"/>
                  </a:lnTo>
                  <a:lnTo>
                    <a:pt x="166" y="2495"/>
                  </a:lnTo>
                  <a:lnTo>
                    <a:pt x="151" y="2510"/>
                  </a:lnTo>
                  <a:lnTo>
                    <a:pt x="136" y="2525"/>
                  </a:lnTo>
                  <a:lnTo>
                    <a:pt x="126" y="2545"/>
                  </a:lnTo>
                  <a:lnTo>
                    <a:pt x="111" y="2559"/>
                  </a:lnTo>
                  <a:lnTo>
                    <a:pt x="96" y="2574"/>
                  </a:lnTo>
                  <a:lnTo>
                    <a:pt x="76" y="2584"/>
                  </a:lnTo>
                  <a:lnTo>
                    <a:pt x="61" y="2599"/>
                  </a:lnTo>
                  <a:lnTo>
                    <a:pt x="41" y="2614"/>
                  </a:lnTo>
                  <a:lnTo>
                    <a:pt x="21" y="2624"/>
                  </a:lnTo>
                  <a:lnTo>
                    <a:pt x="10" y="2633"/>
                  </a:lnTo>
                  <a:lnTo>
                    <a:pt x="0" y="2648"/>
                  </a:lnTo>
                  <a:lnTo>
                    <a:pt x="0" y="2663"/>
                  </a:lnTo>
                  <a:lnTo>
                    <a:pt x="0" y="2678"/>
                  </a:lnTo>
                  <a:lnTo>
                    <a:pt x="10" y="2688"/>
                  </a:lnTo>
                  <a:lnTo>
                    <a:pt x="21" y="2703"/>
                  </a:lnTo>
                  <a:lnTo>
                    <a:pt x="31" y="2707"/>
                  </a:lnTo>
                  <a:lnTo>
                    <a:pt x="51" y="2712"/>
                  </a:lnTo>
                  <a:lnTo>
                    <a:pt x="61" y="2707"/>
                  </a:lnTo>
                  <a:lnTo>
                    <a:pt x="71" y="2707"/>
                  </a:lnTo>
                  <a:lnTo>
                    <a:pt x="86" y="2707"/>
                  </a:lnTo>
                  <a:lnTo>
                    <a:pt x="101" y="2707"/>
                  </a:lnTo>
                  <a:lnTo>
                    <a:pt x="111" y="2707"/>
                  </a:lnTo>
                  <a:lnTo>
                    <a:pt x="121" y="2707"/>
                  </a:lnTo>
                  <a:lnTo>
                    <a:pt x="131" y="2703"/>
                  </a:lnTo>
                  <a:lnTo>
                    <a:pt x="146" y="2703"/>
                  </a:lnTo>
                  <a:lnTo>
                    <a:pt x="161" y="2693"/>
                  </a:lnTo>
                  <a:lnTo>
                    <a:pt x="181" y="2688"/>
                  </a:lnTo>
                  <a:lnTo>
                    <a:pt x="201" y="2678"/>
                  </a:lnTo>
                  <a:lnTo>
                    <a:pt x="222" y="2668"/>
                  </a:lnTo>
                  <a:lnTo>
                    <a:pt x="237" y="2653"/>
                  </a:lnTo>
                  <a:lnTo>
                    <a:pt x="252" y="2638"/>
                  </a:lnTo>
                  <a:lnTo>
                    <a:pt x="267" y="2624"/>
                  </a:lnTo>
                  <a:lnTo>
                    <a:pt x="282" y="2609"/>
                  </a:lnTo>
                  <a:lnTo>
                    <a:pt x="297" y="2589"/>
                  </a:lnTo>
                  <a:lnTo>
                    <a:pt x="312" y="2569"/>
                  </a:lnTo>
                  <a:lnTo>
                    <a:pt x="317" y="2559"/>
                  </a:lnTo>
                  <a:lnTo>
                    <a:pt x="322" y="2545"/>
                  </a:lnTo>
                  <a:lnTo>
                    <a:pt x="332" y="2535"/>
                  </a:lnTo>
                  <a:lnTo>
                    <a:pt x="337" y="2525"/>
                  </a:lnTo>
                  <a:lnTo>
                    <a:pt x="342" y="2510"/>
                  </a:lnTo>
                  <a:lnTo>
                    <a:pt x="347" y="2500"/>
                  </a:lnTo>
                  <a:lnTo>
                    <a:pt x="352" y="2486"/>
                  </a:lnTo>
                  <a:lnTo>
                    <a:pt x="362" y="2476"/>
                  </a:lnTo>
                  <a:lnTo>
                    <a:pt x="367" y="2461"/>
                  </a:lnTo>
                  <a:lnTo>
                    <a:pt x="377" y="2446"/>
                  </a:lnTo>
                  <a:lnTo>
                    <a:pt x="382" y="2431"/>
                  </a:lnTo>
                  <a:lnTo>
                    <a:pt x="387" y="2421"/>
                  </a:lnTo>
                  <a:lnTo>
                    <a:pt x="392" y="2407"/>
                  </a:lnTo>
                  <a:lnTo>
                    <a:pt x="397" y="2397"/>
                  </a:lnTo>
                  <a:lnTo>
                    <a:pt x="402" y="2382"/>
                  </a:lnTo>
                  <a:lnTo>
                    <a:pt x="412" y="2367"/>
                  </a:lnTo>
                  <a:lnTo>
                    <a:pt x="418" y="2352"/>
                  </a:lnTo>
                  <a:lnTo>
                    <a:pt x="423" y="2343"/>
                  </a:lnTo>
                  <a:lnTo>
                    <a:pt x="428" y="2328"/>
                  </a:lnTo>
                  <a:lnTo>
                    <a:pt x="438" y="2318"/>
                  </a:lnTo>
                  <a:lnTo>
                    <a:pt x="438" y="2303"/>
                  </a:lnTo>
                  <a:lnTo>
                    <a:pt x="448" y="2288"/>
                  </a:lnTo>
                  <a:lnTo>
                    <a:pt x="453" y="2273"/>
                  </a:lnTo>
                  <a:lnTo>
                    <a:pt x="458" y="2264"/>
                  </a:lnTo>
                  <a:lnTo>
                    <a:pt x="463" y="2249"/>
                  </a:lnTo>
                  <a:lnTo>
                    <a:pt x="468" y="2234"/>
                  </a:lnTo>
                  <a:lnTo>
                    <a:pt x="473" y="2219"/>
                  </a:lnTo>
                  <a:lnTo>
                    <a:pt x="478" y="2204"/>
                  </a:lnTo>
                  <a:lnTo>
                    <a:pt x="483" y="2190"/>
                  </a:lnTo>
                  <a:lnTo>
                    <a:pt x="488" y="2180"/>
                  </a:lnTo>
                  <a:lnTo>
                    <a:pt x="493" y="2165"/>
                  </a:lnTo>
                  <a:lnTo>
                    <a:pt x="498" y="2150"/>
                  </a:lnTo>
                  <a:lnTo>
                    <a:pt x="503" y="2135"/>
                  </a:lnTo>
                  <a:lnTo>
                    <a:pt x="513" y="2126"/>
                  </a:lnTo>
                  <a:lnTo>
                    <a:pt x="518" y="2111"/>
                  </a:lnTo>
                  <a:lnTo>
                    <a:pt x="523" y="2101"/>
                  </a:lnTo>
                  <a:lnTo>
                    <a:pt x="528" y="2081"/>
                  </a:lnTo>
                  <a:lnTo>
                    <a:pt x="533" y="2071"/>
                  </a:lnTo>
                  <a:lnTo>
                    <a:pt x="533" y="2056"/>
                  </a:lnTo>
                  <a:lnTo>
                    <a:pt x="538" y="2042"/>
                  </a:lnTo>
                  <a:lnTo>
                    <a:pt x="548" y="2027"/>
                  </a:lnTo>
                  <a:lnTo>
                    <a:pt x="553" y="2012"/>
                  </a:lnTo>
                  <a:lnTo>
                    <a:pt x="558" y="2002"/>
                  </a:lnTo>
                  <a:lnTo>
                    <a:pt x="563" y="1987"/>
                  </a:lnTo>
                  <a:lnTo>
                    <a:pt x="568" y="1973"/>
                  </a:lnTo>
                  <a:lnTo>
                    <a:pt x="573" y="1958"/>
                  </a:lnTo>
                  <a:lnTo>
                    <a:pt x="578" y="1943"/>
                  </a:lnTo>
                  <a:lnTo>
                    <a:pt x="583" y="1933"/>
                  </a:lnTo>
                  <a:lnTo>
                    <a:pt x="588" y="1918"/>
                  </a:lnTo>
                  <a:lnTo>
                    <a:pt x="593" y="1904"/>
                  </a:lnTo>
                  <a:lnTo>
                    <a:pt x="598" y="1889"/>
                  </a:lnTo>
                  <a:lnTo>
                    <a:pt x="603" y="1879"/>
                  </a:lnTo>
                  <a:lnTo>
                    <a:pt x="608" y="1864"/>
                  </a:lnTo>
                  <a:lnTo>
                    <a:pt x="613" y="1849"/>
                  </a:lnTo>
                  <a:lnTo>
                    <a:pt x="619" y="1835"/>
                  </a:lnTo>
                  <a:lnTo>
                    <a:pt x="624" y="1825"/>
                  </a:lnTo>
                  <a:lnTo>
                    <a:pt x="629" y="1810"/>
                  </a:lnTo>
                  <a:lnTo>
                    <a:pt x="634" y="1795"/>
                  </a:lnTo>
                  <a:lnTo>
                    <a:pt x="639" y="1780"/>
                  </a:lnTo>
                  <a:lnTo>
                    <a:pt x="644" y="1766"/>
                  </a:lnTo>
                  <a:lnTo>
                    <a:pt x="649" y="1751"/>
                  </a:lnTo>
                  <a:lnTo>
                    <a:pt x="654" y="1741"/>
                  </a:lnTo>
                  <a:lnTo>
                    <a:pt x="664" y="1726"/>
                  </a:lnTo>
                  <a:lnTo>
                    <a:pt x="669" y="1716"/>
                  </a:lnTo>
                  <a:lnTo>
                    <a:pt x="674" y="1701"/>
                  </a:lnTo>
                  <a:lnTo>
                    <a:pt x="679" y="1687"/>
                  </a:lnTo>
                  <a:lnTo>
                    <a:pt x="684" y="1677"/>
                  </a:lnTo>
                  <a:lnTo>
                    <a:pt x="694" y="1667"/>
                  </a:lnTo>
                  <a:lnTo>
                    <a:pt x="694" y="1652"/>
                  </a:lnTo>
                  <a:lnTo>
                    <a:pt x="699" y="1637"/>
                  </a:lnTo>
                  <a:lnTo>
                    <a:pt x="704" y="1623"/>
                  </a:lnTo>
                  <a:lnTo>
                    <a:pt x="714" y="1613"/>
                  </a:lnTo>
                  <a:lnTo>
                    <a:pt x="714" y="1598"/>
                  </a:lnTo>
                  <a:lnTo>
                    <a:pt x="719" y="1588"/>
                  </a:lnTo>
                  <a:lnTo>
                    <a:pt x="729" y="1573"/>
                  </a:lnTo>
                  <a:lnTo>
                    <a:pt x="734" y="1558"/>
                  </a:lnTo>
                  <a:lnTo>
                    <a:pt x="734" y="1549"/>
                  </a:lnTo>
                  <a:lnTo>
                    <a:pt x="744" y="1534"/>
                  </a:lnTo>
                  <a:lnTo>
                    <a:pt x="749" y="1519"/>
                  </a:lnTo>
                  <a:lnTo>
                    <a:pt x="754" y="1509"/>
                  </a:lnTo>
                  <a:lnTo>
                    <a:pt x="754" y="1494"/>
                  </a:lnTo>
                  <a:lnTo>
                    <a:pt x="764" y="1484"/>
                  </a:lnTo>
                  <a:lnTo>
                    <a:pt x="769" y="1470"/>
                  </a:lnTo>
                  <a:lnTo>
                    <a:pt x="774" y="1460"/>
                  </a:lnTo>
                  <a:lnTo>
                    <a:pt x="779" y="1445"/>
                  </a:lnTo>
                  <a:lnTo>
                    <a:pt x="784" y="1430"/>
                  </a:lnTo>
                  <a:lnTo>
                    <a:pt x="784" y="1420"/>
                  </a:lnTo>
                  <a:lnTo>
                    <a:pt x="794" y="1406"/>
                  </a:lnTo>
                  <a:lnTo>
                    <a:pt x="794" y="1391"/>
                  </a:lnTo>
                  <a:lnTo>
                    <a:pt x="799" y="1381"/>
                  </a:lnTo>
                  <a:lnTo>
                    <a:pt x="804" y="1366"/>
                  </a:lnTo>
                  <a:lnTo>
                    <a:pt x="814" y="1356"/>
                  </a:lnTo>
                  <a:lnTo>
                    <a:pt x="814" y="1341"/>
                  </a:lnTo>
                  <a:lnTo>
                    <a:pt x="820" y="1327"/>
                  </a:lnTo>
                  <a:lnTo>
                    <a:pt x="825" y="1317"/>
                  </a:lnTo>
                  <a:lnTo>
                    <a:pt x="830" y="1302"/>
                  </a:lnTo>
                  <a:lnTo>
                    <a:pt x="835" y="1292"/>
                  </a:lnTo>
                  <a:lnTo>
                    <a:pt x="840" y="1277"/>
                  </a:lnTo>
                  <a:lnTo>
                    <a:pt x="845" y="1263"/>
                  </a:lnTo>
                  <a:lnTo>
                    <a:pt x="850" y="1253"/>
                  </a:lnTo>
                  <a:lnTo>
                    <a:pt x="855" y="1238"/>
                  </a:lnTo>
                  <a:lnTo>
                    <a:pt x="860" y="1228"/>
                  </a:lnTo>
                  <a:lnTo>
                    <a:pt x="865" y="1213"/>
                  </a:lnTo>
                  <a:lnTo>
                    <a:pt x="870" y="1198"/>
                  </a:lnTo>
                  <a:lnTo>
                    <a:pt x="870" y="1184"/>
                  </a:lnTo>
                  <a:lnTo>
                    <a:pt x="875" y="1174"/>
                  </a:lnTo>
                  <a:lnTo>
                    <a:pt x="880" y="1159"/>
                  </a:lnTo>
                  <a:lnTo>
                    <a:pt x="885" y="1149"/>
                  </a:lnTo>
                  <a:lnTo>
                    <a:pt x="890" y="1134"/>
                  </a:lnTo>
                  <a:lnTo>
                    <a:pt x="895" y="1119"/>
                  </a:lnTo>
                  <a:lnTo>
                    <a:pt x="900" y="1110"/>
                  </a:lnTo>
                  <a:lnTo>
                    <a:pt x="905" y="1095"/>
                  </a:lnTo>
                  <a:lnTo>
                    <a:pt x="905" y="1080"/>
                  </a:lnTo>
                  <a:lnTo>
                    <a:pt x="910" y="1070"/>
                  </a:lnTo>
                  <a:lnTo>
                    <a:pt x="915" y="1055"/>
                  </a:lnTo>
                  <a:lnTo>
                    <a:pt x="920" y="1046"/>
                  </a:lnTo>
                  <a:lnTo>
                    <a:pt x="925" y="1031"/>
                  </a:lnTo>
                  <a:lnTo>
                    <a:pt x="930" y="1016"/>
                  </a:lnTo>
                  <a:lnTo>
                    <a:pt x="935" y="1006"/>
                  </a:lnTo>
                  <a:lnTo>
                    <a:pt x="940" y="991"/>
                  </a:lnTo>
                  <a:lnTo>
                    <a:pt x="945" y="976"/>
                  </a:lnTo>
                  <a:lnTo>
                    <a:pt x="945" y="967"/>
                  </a:lnTo>
                  <a:lnTo>
                    <a:pt x="950" y="952"/>
                  </a:lnTo>
                  <a:lnTo>
                    <a:pt x="955" y="942"/>
                  </a:lnTo>
                  <a:lnTo>
                    <a:pt x="960" y="927"/>
                  </a:lnTo>
                  <a:lnTo>
                    <a:pt x="965" y="912"/>
                  </a:lnTo>
                  <a:lnTo>
                    <a:pt x="965" y="903"/>
                  </a:lnTo>
                  <a:lnTo>
                    <a:pt x="970" y="888"/>
                  </a:lnTo>
                  <a:lnTo>
                    <a:pt x="975" y="873"/>
                  </a:lnTo>
                  <a:lnTo>
                    <a:pt x="980" y="863"/>
                  </a:lnTo>
                  <a:lnTo>
                    <a:pt x="985" y="848"/>
                  </a:lnTo>
                  <a:lnTo>
                    <a:pt x="990" y="838"/>
                  </a:lnTo>
                  <a:lnTo>
                    <a:pt x="995" y="824"/>
                  </a:lnTo>
                  <a:lnTo>
                    <a:pt x="995" y="809"/>
                  </a:lnTo>
                  <a:lnTo>
                    <a:pt x="1000" y="799"/>
                  </a:lnTo>
                  <a:lnTo>
                    <a:pt x="1005" y="789"/>
                  </a:lnTo>
                  <a:lnTo>
                    <a:pt x="1010" y="774"/>
                  </a:lnTo>
                  <a:lnTo>
                    <a:pt x="1016" y="764"/>
                  </a:lnTo>
                  <a:lnTo>
                    <a:pt x="1021" y="750"/>
                  </a:lnTo>
                  <a:lnTo>
                    <a:pt x="1026" y="740"/>
                  </a:lnTo>
                  <a:lnTo>
                    <a:pt x="1031" y="725"/>
                  </a:lnTo>
                  <a:lnTo>
                    <a:pt x="1036" y="710"/>
                  </a:lnTo>
                  <a:lnTo>
                    <a:pt x="1036" y="700"/>
                  </a:lnTo>
                  <a:lnTo>
                    <a:pt x="1046" y="690"/>
                  </a:lnTo>
                  <a:lnTo>
                    <a:pt x="1051" y="676"/>
                  </a:lnTo>
                  <a:lnTo>
                    <a:pt x="1056" y="661"/>
                  </a:lnTo>
                  <a:lnTo>
                    <a:pt x="1061" y="646"/>
                  </a:lnTo>
                  <a:lnTo>
                    <a:pt x="1066" y="636"/>
                  </a:lnTo>
                  <a:lnTo>
                    <a:pt x="1071" y="621"/>
                  </a:lnTo>
                  <a:lnTo>
                    <a:pt x="1076" y="612"/>
                  </a:lnTo>
                  <a:lnTo>
                    <a:pt x="1081" y="597"/>
                  </a:lnTo>
                  <a:lnTo>
                    <a:pt x="1086" y="582"/>
                  </a:lnTo>
                  <a:lnTo>
                    <a:pt x="1091" y="567"/>
                  </a:lnTo>
                  <a:lnTo>
                    <a:pt x="1096" y="557"/>
                  </a:lnTo>
                  <a:lnTo>
                    <a:pt x="1101" y="543"/>
                  </a:lnTo>
                  <a:lnTo>
                    <a:pt x="1106" y="533"/>
                  </a:lnTo>
                  <a:lnTo>
                    <a:pt x="1111" y="518"/>
                  </a:lnTo>
                  <a:lnTo>
                    <a:pt x="1116" y="503"/>
                  </a:lnTo>
                  <a:lnTo>
                    <a:pt x="1121" y="488"/>
                  </a:lnTo>
                  <a:lnTo>
                    <a:pt x="1126" y="478"/>
                  </a:lnTo>
                  <a:lnTo>
                    <a:pt x="1131" y="464"/>
                  </a:lnTo>
                  <a:lnTo>
                    <a:pt x="1136" y="449"/>
                  </a:lnTo>
                  <a:lnTo>
                    <a:pt x="1146" y="434"/>
                  </a:lnTo>
                  <a:lnTo>
                    <a:pt x="1151" y="424"/>
                  </a:lnTo>
                  <a:lnTo>
                    <a:pt x="1151" y="409"/>
                  </a:lnTo>
                  <a:lnTo>
                    <a:pt x="1156" y="395"/>
                  </a:lnTo>
                  <a:lnTo>
                    <a:pt x="1161" y="380"/>
                  </a:lnTo>
                  <a:lnTo>
                    <a:pt x="1166" y="370"/>
                  </a:lnTo>
                  <a:lnTo>
                    <a:pt x="1171" y="355"/>
                  </a:lnTo>
                  <a:lnTo>
                    <a:pt x="1171" y="340"/>
                  </a:lnTo>
                  <a:lnTo>
                    <a:pt x="1176" y="326"/>
                  </a:lnTo>
                  <a:lnTo>
                    <a:pt x="1181" y="316"/>
                  </a:lnTo>
                  <a:lnTo>
                    <a:pt x="1186" y="301"/>
                  </a:lnTo>
                  <a:lnTo>
                    <a:pt x="1186" y="286"/>
                  </a:lnTo>
                  <a:lnTo>
                    <a:pt x="1191" y="271"/>
                  </a:lnTo>
                  <a:lnTo>
                    <a:pt x="1196" y="256"/>
                  </a:lnTo>
                  <a:lnTo>
                    <a:pt x="1196" y="242"/>
                  </a:lnTo>
                  <a:lnTo>
                    <a:pt x="1201" y="232"/>
                  </a:lnTo>
                  <a:lnTo>
                    <a:pt x="1201" y="217"/>
                  </a:lnTo>
                  <a:lnTo>
                    <a:pt x="1206" y="207"/>
                  </a:lnTo>
                  <a:lnTo>
                    <a:pt x="1206" y="192"/>
                  </a:lnTo>
                  <a:lnTo>
                    <a:pt x="1206" y="178"/>
                  </a:lnTo>
                  <a:lnTo>
                    <a:pt x="1206" y="163"/>
                  </a:lnTo>
                  <a:lnTo>
                    <a:pt x="1206" y="153"/>
                  </a:lnTo>
                  <a:lnTo>
                    <a:pt x="1206" y="138"/>
                  </a:lnTo>
                  <a:lnTo>
                    <a:pt x="1206" y="128"/>
                  </a:lnTo>
                  <a:lnTo>
                    <a:pt x="1206" y="113"/>
                  </a:lnTo>
                  <a:lnTo>
                    <a:pt x="1211" y="99"/>
                  </a:lnTo>
                  <a:lnTo>
                    <a:pt x="1206" y="89"/>
                  </a:lnTo>
                  <a:lnTo>
                    <a:pt x="1206" y="74"/>
                  </a:lnTo>
                  <a:lnTo>
                    <a:pt x="1206" y="59"/>
                  </a:lnTo>
                  <a:lnTo>
                    <a:pt x="1206" y="49"/>
                  </a:lnTo>
                  <a:lnTo>
                    <a:pt x="1201" y="35"/>
                  </a:lnTo>
                  <a:lnTo>
                    <a:pt x="1201" y="25"/>
                  </a:lnTo>
                  <a:lnTo>
                    <a:pt x="1196" y="15"/>
                  </a:lnTo>
                  <a:lnTo>
                    <a:pt x="1196" y="0"/>
                  </a:lnTo>
                  <a:lnTo>
                    <a:pt x="1191" y="5"/>
                  </a:lnTo>
                  <a:lnTo>
                    <a:pt x="1186" y="20"/>
                  </a:lnTo>
                  <a:lnTo>
                    <a:pt x="1181" y="30"/>
                  </a:lnTo>
                  <a:lnTo>
                    <a:pt x="1171" y="39"/>
                  </a:lnTo>
                  <a:lnTo>
                    <a:pt x="1166" y="49"/>
                  </a:lnTo>
                  <a:lnTo>
                    <a:pt x="1166" y="64"/>
                  </a:lnTo>
                  <a:lnTo>
                    <a:pt x="1156" y="74"/>
                  </a:lnTo>
                  <a:lnTo>
                    <a:pt x="1151" y="89"/>
                  </a:lnTo>
                  <a:lnTo>
                    <a:pt x="1146" y="99"/>
                  </a:lnTo>
                  <a:lnTo>
                    <a:pt x="1141" y="113"/>
                  </a:lnTo>
                  <a:lnTo>
                    <a:pt x="1136" y="128"/>
                  </a:lnTo>
                  <a:lnTo>
                    <a:pt x="1131" y="138"/>
                  </a:lnTo>
                  <a:lnTo>
                    <a:pt x="1101" y="113"/>
                  </a:lnTo>
                  <a:lnTo>
                    <a:pt x="1101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 rot="9362400">
              <a:off x="7469280" y="1258560"/>
              <a:ext cx="1332000" cy="3704040"/>
            </a:xfrm>
            <a:custGeom>
              <a:avLst/>
              <a:gdLst/>
              <a:ahLst/>
              <a:rect l="l" t="t" r="r" b="b"/>
              <a:pathLst>
                <a:path w="839" h="2333">
                  <a:moveTo>
                    <a:pt x="25" y="2323"/>
                  </a:moveTo>
                  <a:lnTo>
                    <a:pt x="407" y="1327"/>
                  </a:lnTo>
                  <a:lnTo>
                    <a:pt x="834" y="286"/>
                  </a:lnTo>
                  <a:lnTo>
                    <a:pt x="839" y="266"/>
                  </a:lnTo>
                  <a:lnTo>
                    <a:pt x="834" y="252"/>
                  </a:lnTo>
                  <a:lnTo>
                    <a:pt x="824" y="232"/>
                  </a:lnTo>
                  <a:lnTo>
                    <a:pt x="809" y="222"/>
                  </a:lnTo>
                  <a:lnTo>
                    <a:pt x="246" y="0"/>
                  </a:lnTo>
                  <a:lnTo>
                    <a:pt x="231" y="0"/>
                  </a:lnTo>
                  <a:lnTo>
                    <a:pt x="226" y="10"/>
                  </a:lnTo>
                  <a:lnTo>
                    <a:pt x="221" y="20"/>
                  </a:lnTo>
                  <a:lnTo>
                    <a:pt x="221" y="40"/>
                  </a:lnTo>
                  <a:lnTo>
                    <a:pt x="226" y="54"/>
                  </a:lnTo>
                  <a:lnTo>
                    <a:pt x="231" y="69"/>
                  </a:lnTo>
                  <a:lnTo>
                    <a:pt x="241" y="89"/>
                  </a:lnTo>
                  <a:lnTo>
                    <a:pt x="251" y="104"/>
                  </a:lnTo>
                  <a:lnTo>
                    <a:pt x="678" y="311"/>
                  </a:lnTo>
                  <a:lnTo>
                    <a:pt x="427" y="1056"/>
                  </a:lnTo>
                  <a:lnTo>
                    <a:pt x="0" y="2318"/>
                  </a:lnTo>
                  <a:lnTo>
                    <a:pt x="0" y="2328"/>
                  </a:lnTo>
                  <a:lnTo>
                    <a:pt x="5" y="2333"/>
                  </a:lnTo>
                  <a:lnTo>
                    <a:pt x="15" y="2328"/>
                  </a:lnTo>
                  <a:lnTo>
                    <a:pt x="25" y="2323"/>
                  </a:lnTo>
                  <a:lnTo>
                    <a:pt x="25" y="2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flipV="1" rot="9362400">
              <a:off x="6784560" y="749160"/>
              <a:ext cx="1013400" cy="4540320"/>
            </a:xfrm>
            <a:custGeom>
              <a:avLst/>
              <a:gdLst/>
              <a:ahLst/>
              <a:rect l="l" t="t" r="r" b="b"/>
              <a:pathLst>
                <a:path w="638" h="2860">
                  <a:moveTo>
                    <a:pt x="337" y="2860"/>
                  </a:moveTo>
                  <a:lnTo>
                    <a:pt x="342" y="2825"/>
                  </a:lnTo>
                  <a:lnTo>
                    <a:pt x="347" y="2796"/>
                  </a:lnTo>
                  <a:lnTo>
                    <a:pt x="357" y="2761"/>
                  </a:lnTo>
                  <a:lnTo>
                    <a:pt x="362" y="2732"/>
                  </a:lnTo>
                  <a:lnTo>
                    <a:pt x="367" y="2697"/>
                  </a:lnTo>
                  <a:lnTo>
                    <a:pt x="377" y="2668"/>
                  </a:lnTo>
                  <a:lnTo>
                    <a:pt x="382" y="2638"/>
                  </a:lnTo>
                  <a:lnTo>
                    <a:pt x="392" y="2603"/>
                  </a:lnTo>
                  <a:lnTo>
                    <a:pt x="397" y="2574"/>
                  </a:lnTo>
                  <a:lnTo>
                    <a:pt x="402" y="2539"/>
                  </a:lnTo>
                  <a:lnTo>
                    <a:pt x="407" y="2510"/>
                  </a:lnTo>
                  <a:lnTo>
                    <a:pt x="417" y="2475"/>
                  </a:lnTo>
                  <a:lnTo>
                    <a:pt x="422" y="2446"/>
                  </a:lnTo>
                  <a:lnTo>
                    <a:pt x="427" y="2411"/>
                  </a:lnTo>
                  <a:lnTo>
                    <a:pt x="432" y="2382"/>
                  </a:lnTo>
                  <a:lnTo>
                    <a:pt x="442" y="2352"/>
                  </a:lnTo>
                  <a:lnTo>
                    <a:pt x="447" y="2317"/>
                  </a:lnTo>
                  <a:lnTo>
                    <a:pt x="452" y="2288"/>
                  </a:lnTo>
                  <a:lnTo>
                    <a:pt x="457" y="2253"/>
                  </a:lnTo>
                  <a:lnTo>
                    <a:pt x="462" y="2224"/>
                  </a:lnTo>
                  <a:lnTo>
                    <a:pt x="467" y="2189"/>
                  </a:lnTo>
                  <a:lnTo>
                    <a:pt x="477" y="2160"/>
                  </a:lnTo>
                  <a:lnTo>
                    <a:pt x="482" y="2125"/>
                  </a:lnTo>
                  <a:lnTo>
                    <a:pt x="487" y="2095"/>
                  </a:lnTo>
                  <a:lnTo>
                    <a:pt x="487" y="2061"/>
                  </a:lnTo>
                  <a:lnTo>
                    <a:pt x="497" y="2026"/>
                  </a:lnTo>
                  <a:lnTo>
                    <a:pt x="497" y="1997"/>
                  </a:lnTo>
                  <a:lnTo>
                    <a:pt x="502" y="1962"/>
                  </a:lnTo>
                  <a:lnTo>
                    <a:pt x="507" y="1933"/>
                  </a:lnTo>
                  <a:lnTo>
                    <a:pt x="512" y="1898"/>
                  </a:lnTo>
                  <a:lnTo>
                    <a:pt x="517" y="1869"/>
                  </a:lnTo>
                  <a:lnTo>
                    <a:pt x="528" y="1834"/>
                  </a:lnTo>
                  <a:lnTo>
                    <a:pt x="528" y="1805"/>
                  </a:lnTo>
                  <a:lnTo>
                    <a:pt x="533" y="1770"/>
                  </a:lnTo>
                  <a:lnTo>
                    <a:pt x="538" y="1735"/>
                  </a:lnTo>
                  <a:lnTo>
                    <a:pt x="543" y="1706"/>
                  </a:lnTo>
                  <a:lnTo>
                    <a:pt x="548" y="1671"/>
                  </a:lnTo>
                  <a:lnTo>
                    <a:pt x="548" y="1637"/>
                  </a:lnTo>
                  <a:lnTo>
                    <a:pt x="553" y="1607"/>
                  </a:lnTo>
                  <a:lnTo>
                    <a:pt x="558" y="1573"/>
                  </a:lnTo>
                  <a:lnTo>
                    <a:pt x="563" y="1543"/>
                  </a:lnTo>
                  <a:lnTo>
                    <a:pt x="563" y="1509"/>
                  </a:lnTo>
                  <a:lnTo>
                    <a:pt x="568" y="1474"/>
                  </a:lnTo>
                  <a:lnTo>
                    <a:pt x="573" y="1445"/>
                  </a:lnTo>
                  <a:lnTo>
                    <a:pt x="578" y="1410"/>
                  </a:lnTo>
                  <a:lnTo>
                    <a:pt x="578" y="1380"/>
                  </a:lnTo>
                  <a:lnTo>
                    <a:pt x="583" y="1346"/>
                  </a:lnTo>
                  <a:lnTo>
                    <a:pt x="588" y="1316"/>
                  </a:lnTo>
                  <a:lnTo>
                    <a:pt x="588" y="1282"/>
                  </a:lnTo>
                  <a:lnTo>
                    <a:pt x="593" y="1252"/>
                  </a:lnTo>
                  <a:lnTo>
                    <a:pt x="598" y="1218"/>
                  </a:lnTo>
                  <a:lnTo>
                    <a:pt x="603" y="1183"/>
                  </a:lnTo>
                  <a:lnTo>
                    <a:pt x="603" y="1154"/>
                  </a:lnTo>
                  <a:lnTo>
                    <a:pt x="608" y="1119"/>
                  </a:lnTo>
                  <a:lnTo>
                    <a:pt x="608" y="1089"/>
                  </a:lnTo>
                  <a:lnTo>
                    <a:pt x="613" y="1055"/>
                  </a:lnTo>
                  <a:lnTo>
                    <a:pt x="618" y="1025"/>
                  </a:lnTo>
                  <a:lnTo>
                    <a:pt x="618" y="991"/>
                  </a:lnTo>
                  <a:lnTo>
                    <a:pt x="623" y="956"/>
                  </a:lnTo>
                  <a:lnTo>
                    <a:pt x="628" y="927"/>
                  </a:lnTo>
                  <a:lnTo>
                    <a:pt x="628" y="892"/>
                  </a:lnTo>
                  <a:lnTo>
                    <a:pt x="633" y="863"/>
                  </a:lnTo>
                  <a:lnTo>
                    <a:pt x="633" y="833"/>
                  </a:lnTo>
                  <a:lnTo>
                    <a:pt x="638" y="798"/>
                  </a:lnTo>
                  <a:lnTo>
                    <a:pt x="638" y="784"/>
                  </a:lnTo>
                  <a:lnTo>
                    <a:pt x="638" y="769"/>
                  </a:lnTo>
                  <a:lnTo>
                    <a:pt x="638" y="754"/>
                  </a:lnTo>
                  <a:lnTo>
                    <a:pt x="638" y="739"/>
                  </a:lnTo>
                  <a:lnTo>
                    <a:pt x="638" y="725"/>
                  </a:lnTo>
                  <a:lnTo>
                    <a:pt x="638" y="710"/>
                  </a:lnTo>
                  <a:lnTo>
                    <a:pt x="638" y="695"/>
                  </a:lnTo>
                  <a:lnTo>
                    <a:pt x="638" y="680"/>
                  </a:lnTo>
                  <a:lnTo>
                    <a:pt x="638" y="660"/>
                  </a:lnTo>
                  <a:lnTo>
                    <a:pt x="638" y="651"/>
                  </a:lnTo>
                  <a:lnTo>
                    <a:pt x="638" y="631"/>
                  </a:lnTo>
                  <a:lnTo>
                    <a:pt x="638" y="616"/>
                  </a:lnTo>
                  <a:lnTo>
                    <a:pt x="633" y="601"/>
                  </a:lnTo>
                  <a:lnTo>
                    <a:pt x="633" y="586"/>
                  </a:lnTo>
                  <a:lnTo>
                    <a:pt x="633" y="572"/>
                  </a:lnTo>
                  <a:lnTo>
                    <a:pt x="633" y="557"/>
                  </a:lnTo>
                  <a:lnTo>
                    <a:pt x="628" y="537"/>
                  </a:lnTo>
                  <a:lnTo>
                    <a:pt x="623" y="522"/>
                  </a:lnTo>
                  <a:lnTo>
                    <a:pt x="618" y="508"/>
                  </a:lnTo>
                  <a:lnTo>
                    <a:pt x="618" y="493"/>
                  </a:lnTo>
                  <a:lnTo>
                    <a:pt x="613" y="473"/>
                  </a:lnTo>
                  <a:lnTo>
                    <a:pt x="608" y="458"/>
                  </a:lnTo>
                  <a:lnTo>
                    <a:pt x="603" y="443"/>
                  </a:lnTo>
                  <a:lnTo>
                    <a:pt x="603" y="429"/>
                  </a:lnTo>
                  <a:lnTo>
                    <a:pt x="598" y="414"/>
                  </a:lnTo>
                  <a:lnTo>
                    <a:pt x="588" y="399"/>
                  </a:lnTo>
                  <a:lnTo>
                    <a:pt x="583" y="384"/>
                  </a:lnTo>
                  <a:lnTo>
                    <a:pt x="578" y="369"/>
                  </a:lnTo>
                  <a:lnTo>
                    <a:pt x="573" y="350"/>
                  </a:lnTo>
                  <a:lnTo>
                    <a:pt x="568" y="335"/>
                  </a:lnTo>
                  <a:lnTo>
                    <a:pt x="558" y="320"/>
                  </a:lnTo>
                  <a:lnTo>
                    <a:pt x="553" y="310"/>
                  </a:lnTo>
                  <a:lnTo>
                    <a:pt x="543" y="295"/>
                  </a:lnTo>
                  <a:lnTo>
                    <a:pt x="533" y="281"/>
                  </a:lnTo>
                  <a:lnTo>
                    <a:pt x="528" y="266"/>
                  </a:lnTo>
                  <a:lnTo>
                    <a:pt x="517" y="251"/>
                  </a:lnTo>
                  <a:lnTo>
                    <a:pt x="502" y="236"/>
                  </a:lnTo>
                  <a:lnTo>
                    <a:pt x="497" y="226"/>
                  </a:lnTo>
                  <a:lnTo>
                    <a:pt x="482" y="212"/>
                  </a:lnTo>
                  <a:lnTo>
                    <a:pt x="477" y="202"/>
                  </a:lnTo>
                  <a:lnTo>
                    <a:pt x="462" y="187"/>
                  </a:lnTo>
                  <a:lnTo>
                    <a:pt x="452" y="172"/>
                  </a:lnTo>
                  <a:lnTo>
                    <a:pt x="437" y="162"/>
                  </a:lnTo>
                  <a:lnTo>
                    <a:pt x="427" y="152"/>
                  </a:lnTo>
                  <a:lnTo>
                    <a:pt x="412" y="138"/>
                  </a:lnTo>
                  <a:lnTo>
                    <a:pt x="397" y="128"/>
                  </a:lnTo>
                  <a:lnTo>
                    <a:pt x="382" y="118"/>
                  </a:lnTo>
                  <a:lnTo>
                    <a:pt x="367" y="108"/>
                  </a:lnTo>
                  <a:lnTo>
                    <a:pt x="352" y="98"/>
                  </a:lnTo>
                  <a:lnTo>
                    <a:pt x="332" y="88"/>
                  </a:lnTo>
                  <a:lnTo>
                    <a:pt x="316" y="78"/>
                  </a:lnTo>
                  <a:lnTo>
                    <a:pt x="301" y="69"/>
                  </a:lnTo>
                  <a:lnTo>
                    <a:pt x="281" y="59"/>
                  </a:lnTo>
                  <a:lnTo>
                    <a:pt x="261" y="54"/>
                  </a:lnTo>
                  <a:lnTo>
                    <a:pt x="246" y="44"/>
                  </a:lnTo>
                  <a:lnTo>
                    <a:pt x="226" y="39"/>
                  </a:lnTo>
                  <a:lnTo>
                    <a:pt x="201" y="34"/>
                  </a:lnTo>
                  <a:lnTo>
                    <a:pt x="181" y="24"/>
                  </a:lnTo>
                  <a:lnTo>
                    <a:pt x="161" y="19"/>
                  </a:lnTo>
                  <a:lnTo>
                    <a:pt x="141" y="14"/>
                  </a:lnTo>
                  <a:lnTo>
                    <a:pt x="115" y="9"/>
                  </a:lnTo>
                  <a:lnTo>
                    <a:pt x="95" y="5"/>
                  </a:lnTo>
                  <a:lnTo>
                    <a:pt x="70" y="5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0" y="14"/>
                  </a:lnTo>
                  <a:lnTo>
                    <a:pt x="10" y="29"/>
                  </a:lnTo>
                  <a:lnTo>
                    <a:pt x="15" y="39"/>
                  </a:lnTo>
                  <a:lnTo>
                    <a:pt x="25" y="49"/>
                  </a:lnTo>
                  <a:lnTo>
                    <a:pt x="30" y="54"/>
                  </a:lnTo>
                  <a:lnTo>
                    <a:pt x="40" y="59"/>
                  </a:lnTo>
                  <a:lnTo>
                    <a:pt x="50" y="69"/>
                  </a:lnTo>
                  <a:lnTo>
                    <a:pt x="60" y="74"/>
                  </a:lnTo>
                  <a:lnTo>
                    <a:pt x="70" y="78"/>
                  </a:lnTo>
                  <a:lnTo>
                    <a:pt x="85" y="88"/>
                  </a:lnTo>
                  <a:lnTo>
                    <a:pt x="100" y="93"/>
                  </a:lnTo>
                  <a:lnTo>
                    <a:pt x="115" y="103"/>
                  </a:lnTo>
                  <a:lnTo>
                    <a:pt x="131" y="108"/>
                  </a:lnTo>
                  <a:lnTo>
                    <a:pt x="151" y="118"/>
                  </a:lnTo>
                  <a:lnTo>
                    <a:pt x="161" y="123"/>
                  </a:lnTo>
                  <a:lnTo>
                    <a:pt x="171" y="128"/>
                  </a:lnTo>
                  <a:lnTo>
                    <a:pt x="181" y="133"/>
                  </a:lnTo>
                  <a:lnTo>
                    <a:pt x="191" y="138"/>
                  </a:lnTo>
                  <a:lnTo>
                    <a:pt x="211" y="148"/>
                  </a:lnTo>
                  <a:lnTo>
                    <a:pt x="231" y="157"/>
                  </a:lnTo>
                  <a:lnTo>
                    <a:pt x="251" y="167"/>
                  </a:lnTo>
                  <a:lnTo>
                    <a:pt x="271" y="182"/>
                  </a:lnTo>
                  <a:lnTo>
                    <a:pt x="286" y="192"/>
                  </a:lnTo>
                  <a:lnTo>
                    <a:pt x="301" y="202"/>
                  </a:lnTo>
                  <a:lnTo>
                    <a:pt x="322" y="217"/>
                  </a:lnTo>
                  <a:lnTo>
                    <a:pt x="337" y="231"/>
                  </a:lnTo>
                  <a:lnTo>
                    <a:pt x="352" y="246"/>
                  </a:lnTo>
                  <a:lnTo>
                    <a:pt x="367" y="261"/>
                  </a:lnTo>
                  <a:lnTo>
                    <a:pt x="377" y="271"/>
                  </a:lnTo>
                  <a:lnTo>
                    <a:pt x="392" y="291"/>
                  </a:lnTo>
                  <a:lnTo>
                    <a:pt x="402" y="305"/>
                  </a:lnTo>
                  <a:lnTo>
                    <a:pt x="412" y="320"/>
                  </a:lnTo>
                  <a:lnTo>
                    <a:pt x="422" y="335"/>
                  </a:lnTo>
                  <a:lnTo>
                    <a:pt x="432" y="355"/>
                  </a:lnTo>
                  <a:lnTo>
                    <a:pt x="442" y="374"/>
                  </a:lnTo>
                  <a:lnTo>
                    <a:pt x="447" y="389"/>
                  </a:lnTo>
                  <a:lnTo>
                    <a:pt x="457" y="409"/>
                  </a:lnTo>
                  <a:lnTo>
                    <a:pt x="462" y="429"/>
                  </a:lnTo>
                  <a:lnTo>
                    <a:pt x="467" y="443"/>
                  </a:lnTo>
                  <a:lnTo>
                    <a:pt x="477" y="463"/>
                  </a:lnTo>
                  <a:lnTo>
                    <a:pt x="482" y="483"/>
                  </a:lnTo>
                  <a:lnTo>
                    <a:pt x="487" y="503"/>
                  </a:lnTo>
                  <a:lnTo>
                    <a:pt x="487" y="522"/>
                  </a:lnTo>
                  <a:lnTo>
                    <a:pt x="492" y="542"/>
                  </a:lnTo>
                  <a:lnTo>
                    <a:pt x="492" y="562"/>
                  </a:lnTo>
                  <a:lnTo>
                    <a:pt x="497" y="582"/>
                  </a:lnTo>
                  <a:lnTo>
                    <a:pt x="497" y="601"/>
                  </a:lnTo>
                  <a:lnTo>
                    <a:pt x="502" y="626"/>
                  </a:lnTo>
                  <a:lnTo>
                    <a:pt x="502" y="646"/>
                  </a:lnTo>
                  <a:lnTo>
                    <a:pt x="502" y="670"/>
                  </a:lnTo>
                  <a:lnTo>
                    <a:pt x="502" y="690"/>
                  </a:lnTo>
                  <a:lnTo>
                    <a:pt x="502" y="710"/>
                  </a:lnTo>
                  <a:lnTo>
                    <a:pt x="502" y="729"/>
                  </a:lnTo>
                  <a:lnTo>
                    <a:pt x="502" y="754"/>
                  </a:lnTo>
                  <a:lnTo>
                    <a:pt x="502" y="774"/>
                  </a:lnTo>
                  <a:lnTo>
                    <a:pt x="502" y="794"/>
                  </a:lnTo>
                  <a:lnTo>
                    <a:pt x="497" y="818"/>
                  </a:lnTo>
                  <a:lnTo>
                    <a:pt x="497" y="838"/>
                  </a:lnTo>
                  <a:lnTo>
                    <a:pt x="497" y="863"/>
                  </a:lnTo>
                  <a:lnTo>
                    <a:pt x="492" y="882"/>
                  </a:lnTo>
                  <a:lnTo>
                    <a:pt x="487" y="902"/>
                  </a:lnTo>
                  <a:lnTo>
                    <a:pt x="487" y="927"/>
                  </a:lnTo>
                  <a:lnTo>
                    <a:pt x="482" y="946"/>
                  </a:lnTo>
                  <a:lnTo>
                    <a:pt x="482" y="971"/>
                  </a:lnTo>
                  <a:lnTo>
                    <a:pt x="477" y="991"/>
                  </a:lnTo>
                  <a:lnTo>
                    <a:pt x="477" y="1015"/>
                  </a:lnTo>
                  <a:lnTo>
                    <a:pt x="472" y="1035"/>
                  </a:lnTo>
                  <a:lnTo>
                    <a:pt x="467" y="1055"/>
                  </a:lnTo>
                  <a:lnTo>
                    <a:pt x="462" y="1080"/>
                  </a:lnTo>
                  <a:lnTo>
                    <a:pt x="462" y="1099"/>
                  </a:lnTo>
                  <a:lnTo>
                    <a:pt x="457" y="1119"/>
                  </a:lnTo>
                  <a:lnTo>
                    <a:pt x="452" y="1144"/>
                  </a:lnTo>
                  <a:lnTo>
                    <a:pt x="452" y="1163"/>
                  </a:lnTo>
                  <a:lnTo>
                    <a:pt x="447" y="1183"/>
                  </a:lnTo>
                  <a:lnTo>
                    <a:pt x="442" y="1203"/>
                  </a:lnTo>
                  <a:lnTo>
                    <a:pt x="442" y="1223"/>
                  </a:lnTo>
                  <a:lnTo>
                    <a:pt x="437" y="1242"/>
                  </a:lnTo>
                  <a:lnTo>
                    <a:pt x="432" y="1267"/>
                  </a:lnTo>
                  <a:lnTo>
                    <a:pt x="432" y="1287"/>
                  </a:lnTo>
                  <a:lnTo>
                    <a:pt x="427" y="1306"/>
                  </a:lnTo>
                  <a:lnTo>
                    <a:pt x="427" y="1326"/>
                  </a:lnTo>
                  <a:lnTo>
                    <a:pt x="422" y="1346"/>
                  </a:lnTo>
                  <a:lnTo>
                    <a:pt x="417" y="1366"/>
                  </a:lnTo>
                  <a:lnTo>
                    <a:pt x="417" y="1390"/>
                  </a:lnTo>
                  <a:lnTo>
                    <a:pt x="412" y="1415"/>
                  </a:lnTo>
                  <a:lnTo>
                    <a:pt x="407" y="1440"/>
                  </a:lnTo>
                  <a:lnTo>
                    <a:pt x="402" y="1459"/>
                  </a:lnTo>
                  <a:lnTo>
                    <a:pt x="402" y="1484"/>
                  </a:lnTo>
                  <a:lnTo>
                    <a:pt x="397" y="1509"/>
                  </a:lnTo>
                  <a:lnTo>
                    <a:pt x="397" y="1533"/>
                  </a:lnTo>
                  <a:lnTo>
                    <a:pt x="387" y="1553"/>
                  </a:lnTo>
                  <a:lnTo>
                    <a:pt x="387" y="1578"/>
                  </a:lnTo>
                  <a:lnTo>
                    <a:pt x="382" y="1602"/>
                  </a:lnTo>
                  <a:lnTo>
                    <a:pt x="382" y="1627"/>
                  </a:lnTo>
                  <a:lnTo>
                    <a:pt x="377" y="1647"/>
                  </a:lnTo>
                  <a:lnTo>
                    <a:pt x="372" y="1671"/>
                  </a:lnTo>
                  <a:lnTo>
                    <a:pt x="367" y="1696"/>
                  </a:lnTo>
                  <a:lnTo>
                    <a:pt x="367" y="1721"/>
                  </a:lnTo>
                  <a:lnTo>
                    <a:pt x="362" y="1740"/>
                  </a:lnTo>
                  <a:lnTo>
                    <a:pt x="362" y="1765"/>
                  </a:lnTo>
                  <a:lnTo>
                    <a:pt x="357" y="1790"/>
                  </a:lnTo>
                  <a:lnTo>
                    <a:pt x="352" y="1809"/>
                  </a:lnTo>
                  <a:lnTo>
                    <a:pt x="352" y="1834"/>
                  </a:lnTo>
                  <a:lnTo>
                    <a:pt x="347" y="1859"/>
                  </a:lnTo>
                  <a:lnTo>
                    <a:pt x="347" y="1883"/>
                  </a:lnTo>
                  <a:lnTo>
                    <a:pt x="342" y="1908"/>
                  </a:lnTo>
                  <a:lnTo>
                    <a:pt x="337" y="1928"/>
                  </a:lnTo>
                  <a:lnTo>
                    <a:pt x="337" y="1952"/>
                  </a:lnTo>
                  <a:lnTo>
                    <a:pt x="332" y="1977"/>
                  </a:lnTo>
                  <a:lnTo>
                    <a:pt x="332" y="2002"/>
                  </a:lnTo>
                  <a:lnTo>
                    <a:pt x="327" y="2026"/>
                  </a:lnTo>
                  <a:lnTo>
                    <a:pt x="327" y="2051"/>
                  </a:lnTo>
                  <a:lnTo>
                    <a:pt x="322" y="2071"/>
                  </a:lnTo>
                  <a:lnTo>
                    <a:pt x="322" y="2100"/>
                  </a:lnTo>
                  <a:lnTo>
                    <a:pt x="322" y="2120"/>
                  </a:lnTo>
                  <a:lnTo>
                    <a:pt x="316" y="2145"/>
                  </a:lnTo>
                  <a:lnTo>
                    <a:pt x="316" y="2169"/>
                  </a:lnTo>
                  <a:lnTo>
                    <a:pt x="311" y="2194"/>
                  </a:lnTo>
                  <a:lnTo>
                    <a:pt x="311" y="2214"/>
                  </a:lnTo>
                  <a:lnTo>
                    <a:pt x="311" y="2238"/>
                  </a:lnTo>
                  <a:lnTo>
                    <a:pt x="306" y="2263"/>
                  </a:lnTo>
                  <a:lnTo>
                    <a:pt x="306" y="2288"/>
                  </a:lnTo>
                  <a:lnTo>
                    <a:pt x="306" y="2308"/>
                  </a:lnTo>
                  <a:lnTo>
                    <a:pt x="306" y="2332"/>
                  </a:lnTo>
                  <a:lnTo>
                    <a:pt x="301" y="2357"/>
                  </a:lnTo>
                  <a:lnTo>
                    <a:pt x="301" y="2382"/>
                  </a:lnTo>
                  <a:lnTo>
                    <a:pt x="301" y="2406"/>
                  </a:lnTo>
                  <a:lnTo>
                    <a:pt x="301" y="2426"/>
                  </a:lnTo>
                  <a:lnTo>
                    <a:pt x="301" y="2451"/>
                  </a:lnTo>
                  <a:lnTo>
                    <a:pt x="301" y="2475"/>
                  </a:lnTo>
                  <a:lnTo>
                    <a:pt x="301" y="2500"/>
                  </a:lnTo>
                  <a:lnTo>
                    <a:pt x="301" y="2525"/>
                  </a:lnTo>
                  <a:lnTo>
                    <a:pt x="301" y="2549"/>
                  </a:lnTo>
                  <a:lnTo>
                    <a:pt x="301" y="2574"/>
                  </a:lnTo>
                  <a:lnTo>
                    <a:pt x="301" y="2594"/>
                  </a:lnTo>
                  <a:lnTo>
                    <a:pt x="306" y="2618"/>
                  </a:lnTo>
                  <a:lnTo>
                    <a:pt x="306" y="2643"/>
                  </a:lnTo>
                  <a:lnTo>
                    <a:pt x="311" y="2668"/>
                  </a:lnTo>
                  <a:lnTo>
                    <a:pt x="311" y="2692"/>
                  </a:lnTo>
                  <a:lnTo>
                    <a:pt x="311" y="2717"/>
                  </a:lnTo>
                  <a:lnTo>
                    <a:pt x="311" y="2737"/>
                  </a:lnTo>
                  <a:lnTo>
                    <a:pt x="316" y="2761"/>
                  </a:lnTo>
                  <a:lnTo>
                    <a:pt x="316" y="2786"/>
                  </a:lnTo>
                  <a:lnTo>
                    <a:pt x="322" y="2811"/>
                  </a:lnTo>
                  <a:lnTo>
                    <a:pt x="322" y="2835"/>
                  </a:lnTo>
                  <a:lnTo>
                    <a:pt x="332" y="2860"/>
                  </a:lnTo>
                  <a:lnTo>
                    <a:pt x="332" y="2860"/>
                  </a:lnTo>
                  <a:lnTo>
                    <a:pt x="337" y="2860"/>
                  </a:lnTo>
                  <a:lnTo>
                    <a:pt x="337" y="28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flipV="1" rot="9362400">
              <a:off x="374400" y="785160"/>
              <a:ext cx="6397920" cy="4610160"/>
            </a:xfrm>
            <a:custGeom>
              <a:avLst/>
              <a:gdLst/>
              <a:ahLst/>
              <a:rect l="l" t="t" r="r" b="b"/>
              <a:pathLst>
                <a:path w="4030" h="2904">
                  <a:moveTo>
                    <a:pt x="4020" y="991"/>
                  </a:moveTo>
                  <a:lnTo>
                    <a:pt x="3990" y="971"/>
                  </a:lnTo>
                  <a:lnTo>
                    <a:pt x="3964" y="961"/>
                  </a:lnTo>
                  <a:lnTo>
                    <a:pt x="3934" y="946"/>
                  </a:lnTo>
                  <a:lnTo>
                    <a:pt x="3904" y="932"/>
                  </a:lnTo>
                  <a:lnTo>
                    <a:pt x="3874" y="922"/>
                  </a:lnTo>
                  <a:lnTo>
                    <a:pt x="3849" y="907"/>
                  </a:lnTo>
                  <a:lnTo>
                    <a:pt x="3819" y="892"/>
                  </a:lnTo>
                  <a:lnTo>
                    <a:pt x="3789" y="882"/>
                  </a:lnTo>
                  <a:lnTo>
                    <a:pt x="3758" y="872"/>
                  </a:lnTo>
                  <a:lnTo>
                    <a:pt x="3733" y="858"/>
                  </a:lnTo>
                  <a:lnTo>
                    <a:pt x="3698" y="843"/>
                  </a:lnTo>
                  <a:lnTo>
                    <a:pt x="3673" y="833"/>
                  </a:lnTo>
                  <a:lnTo>
                    <a:pt x="3638" y="823"/>
                  </a:lnTo>
                  <a:lnTo>
                    <a:pt x="3613" y="813"/>
                  </a:lnTo>
                  <a:lnTo>
                    <a:pt x="3583" y="803"/>
                  </a:lnTo>
                  <a:lnTo>
                    <a:pt x="3552" y="789"/>
                  </a:lnTo>
                  <a:lnTo>
                    <a:pt x="3522" y="779"/>
                  </a:lnTo>
                  <a:lnTo>
                    <a:pt x="3492" y="769"/>
                  </a:lnTo>
                  <a:lnTo>
                    <a:pt x="3457" y="759"/>
                  </a:lnTo>
                  <a:lnTo>
                    <a:pt x="3432" y="744"/>
                  </a:lnTo>
                  <a:lnTo>
                    <a:pt x="3397" y="734"/>
                  </a:lnTo>
                  <a:lnTo>
                    <a:pt x="3366" y="724"/>
                  </a:lnTo>
                  <a:lnTo>
                    <a:pt x="3336" y="715"/>
                  </a:lnTo>
                  <a:lnTo>
                    <a:pt x="3306" y="710"/>
                  </a:lnTo>
                  <a:lnTo>
                    <a:pt x="3276" y="695"/>
                  </a:lnTo>
                  <a:lnTo>
                    <a:pt x="3246" y="690"/>
                  </a:lnTo>
                  <a:lnTo>
                    <a:pt x="3216" y="680"/>
                  </a:lnTo>
                  <a:lnTo>
                    <a:pt x="3186" y="670"/>
                  </a:lnTo>
                  <a:lnTo>
                    <a:pt x="3150" y="660"/>
                  </a:lnTo>
                  <a:lnTo>
                    <a:pt x="3120" y="650"/>
                  </a:lnTo>
                  <a:lnTo>
                    <a:pt x="3090" y="641"/>
                  </a:lnTo>
                  <a:lnTo>
                    <a:pt x="3060" y="636"/>
                  </a:lnTo>
                  <a:lnTo>
                    <a:pt x="3030" y="626"/>
                  </a:lnTo>
                  <a:lnTo>
                    <a:pt x="3000" y="616"/>
                  </a:lnTo>
                  <a:lnTo>
                    <a:pt x="2964" y="606"/>
                  </a:lnTo>
                  <a:lnTo>
                    <a:pt x="2934" y="596"/>
                  </a:lnTo>
                  <a:lnTo>
                    <a:pt x="2904" y="586"/>
                  </a:lnTo>
                  <a:lnTo>
                    <a:pt x="2869" y="581"/>
                  </a:lnTo>
                  <a:lnTo>
                    <a:pt x="2839" y="572"/>
                  </a:lnTo>
                  <a:lnTo>
                    <a:pt x="2809" y="562"/>
                  </a:lnTo>
                  <a:lnTo>
                    <a:pt x="2778" y="552"/>
                  </a:lnTo>
                  <a:lnTo>
                    <a:pt x="2748" y="547"/>
                  </a:lnTo>
                  <a:lnTo>
                    <a:pt x="2713" y="537"/>
                  </a:lnTo>
                  <a:lnTo>
                    <a:pt x="2683" y="532"/>
                  </a:lnTo>
                  <a:lnTo>
                    <a:pt x="2653" y="522"/>
                  </a:lnTo>
                  <a:lnTo>
                    <a:pt x="2618" y="512"/>
                  </a:lnTo>
                  <a:lnTo>
                    <a:pt x="2588" y="503"/>
                  </a:lnTo>
                  <a:lnTo>
                    <a:pt x="2557" y="498"/>
                  </a:lnTo>
                  <a:lnTo>
                    <a:pt x="2522" y="488"/>
                  </a:lnTo>
                  <a:lnTo>
                    <a:pt x="2497" y="478"/>
                  </a:lnTo>
                  <a:lnTo>
                    <a:pt x="2462" y="468"/>
                  </a:lnTo>
                  <a:lnTo>
                    <a:pt x="2432" y="463"/>
                  </a:lnTo>
                  <a:lnTo>
                    <a:pt x="2402" y="453"/>
                  </a:lnTo>
                  <a:lnTo>
                    <a:pt x="2371" y="448"/>
                  </a:lnTo>
                  <a:lnTo>
                    <a:pt x="2341" y="438"/>
                  </a:lnTo>
                  <a:lnTo>
                    <a:pt x="2311" y="429"/>
                  </a:lnTo>
                  <a:lnTo>
                    <a:pt x="2281" y="419"/>
                  </a:lnTo>
                  <a:lnTo>
                    <a:pt x="2251" y="414"/>
                  </a:lnTo>
                  <a:lnTo>
                    <a:pt x="2216" y="404"/>
                  </a:lnTo>
                  <a:lnTo>
                    <a:pt x="2185" y="399"/>
                  </a:lnTo>
                  <a:lnTo>
                    <a:pt x="2155" y="389"/>
                  </a:lnTo>
                  <a:lnTo>
                    <a:pt x="2130" y="379"/>
                  </a:lnTo>
                  <a:lnTo>
                    <a:pt x="2095" y="369"/>
                  </a:lnTo>
                  <a:lnTo>
                    <a:pt x="2070" y="364"/>
                  </a:lnTo>
                  <a:lnTo>
                    <a:pt x="2045" y="355"/>
                  </a:lnTo>
                  <a:lnTo>
                    <a:pt x="2020" y="350"/>
                  </a:lnTo>
                  <a:lnTo>
                    <a:pt x="2000" y="340"/>
                  </a:lnTo>
                  <a:lnTo>
                    <a:pt x="1974" y="335"/>
                  </a:lnTo>
                  <a:lnTo>
                    <a:pt x="1949" y="325"/>
                  </a:lnTo>
                  <a:lnTo>
                    <a:pt x="1924" y="320"/>
                  </a:lnTo>
                  <a:lnTo>
                    <a:pt x="1899" y="310"/>
                  </a:lnTo>
                  <a:lnTo>
                    <a:pt x="1879" y="300"/>
                  </a:lnTo>
                  <a:lnTo>
                    <a:pt x="1849" y="290"/>
                  </a:lnTo>
                  <a:lnTo>
                    <a:pt x="1824" y="286"/>
                  </a:lnTo>
                  <a:lnTo>
                    <a:pt x="1799" y="271"/>
                  </a:lnTo>
                  <a:lnTo>
                    <a:pt x="1773" y="266"/>
                  </a:lnTo>
                  <a:lnTo>
                    <a:pt x="1748" y="256"/>
                  </a:lnTo>
                  <a:lnTo>
                    <a:pt x="1718" y="246"/>
                  </a:lnTo>
                  <a:lnTo>
                    <a:pt x="1693" y="236"/>
                  </a:lnTo>
                  <a:lnTo>
                    <a:pt x="1668" y="226"/>
                  </a:lnTo>
                  <a:lnTo>
                    <a:pt x="1643" y="217"/>
                  </a:lnTo>
                  <a:lnTo>
                    <a:pt x="1613" y="207"/>
                  </a:lnTo>
                  <a:lnTo>
                    <a:pt x="1582" y="197"/>
                  </a:lnTo>
                  <a:lnTo>
                    <a:pt x="1557" y="192"/>
                  </a:lnTo>
                  <a:lnTo>
                    <a:pt x="1527" y="177"/>
                  </a:lnTo>
                  <a:lnTo>
                    <a:pt x="1502" y="172"/>
                  </a:lnTo>
                  <a:lnTo>
                    <a:pt x="1472" y="162"/>
                  </a:lnTo>
                  <a:lnTo>
                    <a:pt x="1447" y="152"/>
                  </a:lnTo>
                  <a:lnTo>
                    <a:pt x="1417" y="143"/>
                  </a:lnTo>
                  <a:lnTo>
                    <a:pt x="1386" y="133"/>
                  </a:lnTo>
                  <a:lnTo>
                    <a:pt x="1361" y="123"/>
                  </a:lnTo>
                  <a:lnTo>
                    <a:pt x="1331" y="113"/>
                  </a:lnTo>
                  <a:lnTo>
                    <a:pt x="1301" y="108"/>
                  </a:lnTo>
                  <a:lnTo>
                    <a:pt x="1276" y="98"/>
                  </a:lnTo>
                  <a:lnTo>
                    <a:pt x="1246" y="88"/>
                  </a:lnTo>
                  <a:lnTo>
                    <a:pt x="1216" y="83"/>
                  </a:lnTo>
                  <a:lnTo>
                    <a:pt x="1185" y="74"/>
                  </a:lnTo>
                  <a:lnTo>
                    <a:pt x="1160" y="69"/>
                  </a:lnTo>
                  <a:lnTo>
                    <a:pt x="1130" y="59"/>
                  </a:lnTo>
                  <a:lnTo>
                    <a:pt x="1100" y="54"/>
                  </a:lnTo>
                  <a:lnTo>
                    <a:pt x="1070" y="44"/>
                  </a:lnTo>
                  <a:lnTo>
                    <a:pt x="1045" y="39"/>
                  </a:lnTo>
                  <a:lnTo>
                    <a:pt x="1015" y="34"/>
                  </a:lnTo>
                  <a:lnTo>
                    <a:pt x="984" y="29"/>
                  </a:lnTo>
                  <a:lnTo>
                    <a:pt x="959" y="24"/>
                  </a:lnTo>
                  <a:lnTo>
                    <a:pt x="929" y="19"/>
                  </a:lnTo>
                  <a:lnTo>
                    <a:pt x="899" y="14"/>
                  </a:lnTo>
                  <a:lnTo>
                    <a:pt x="869" y="14"/>
                  </a:lnTo>
                  <a:lnTo>
                    <a:pt x="844" y="9"/>
                  </a:lnTo>
                  <a:lnTo>
                    <a:pt x="814" y="4"/>
                  </a:lnTo>
                  <a:lnTo>
                    <a:pt x="788" y="4"/>
                  </a:lnTo>
                  <a:lnTo>
                    <a:pt x="763" y="4"/>
                  </a:lnTo>
                  <a:lnTo>
                    <a:pt x="733" y="0"/>
                  </a:lnTo>
                  <a:lnTo>
                    <a:pt x="708" y="0"/>
                  </a:lnTo>
                  <a:lnTo>
                    <a:pt x="678" y="0"/>
                  </a:lnTo>
                  <a:lnTo>
                    <a:pt x="653" y="0"/>
                  </a:lnTo>
                  <a:lnTo>
                    <a:pt x="623" y="0"/>
                  </a:lnTo>
                  <a:lnTo>
                    <a:pt x="598" y="4"/>
                  </a:lnTo>
                  <a:lnTo>
                    <a:pt x="572" y="4"/>
                  </a:lnTo>
                  <a:lnTo>
                    <a:pt x="547" y="9"/>
                  </a:lnTo>
                  <a:lnTo>
                    <a:pt x="517" y="14"/>
                  </a:lnTo>
                  <a:lnTo>
                    <a:pt x="497" y="19"/>
                  </a:lnTo>
                  <a:lnTo>
                    <a:pt x="467" y="24"/>
                  </a:lnTo>
                  <a:lnTo>
                    <a:pt x="447" y="29"/>
                  </a:lnTo>
                  <a:lnTo>
                    <a:pt x="417" y="34"/>
                  </a:lnTo>
                  <a:lnTo>
                    <a:pt x="397" y="44"/>
                  </a:lnTo>
                  <a:lnTo>
                    <a:pt x="371" y="54"/>
                  </a:lnTo>
                  <a:lnTo>
                    <a:pt x="351" y="64"/>
                  </a:lnTo>
                  <a:lnTo>
                    <a:pt x="331" y="69"/>
                  </a:lnTo>
                  <a:lnTo>
                    <a:pt x="311" y="78"/>
                  </a:lnTo>
                  <a:lnTo>
                    <a:pt x="296" y="88"/>
                  </a:lnTo>
                  <a:lnTo>
                    <a:pt x="281" y="98"/>
                  </a:lnTo>
                  <a:lnTo>
                    <a:pt x="266" y="113"/>
                  </a:lnTo>
                  <a:lnTo>
                    <a:pt x="251" y="123"/>
                  </a:lnTo>
                  <a:lnTo>
                    <a:pt x="236" y="133"/>
                  </a:lnTo>
                  <a:lnTo>
                    <a:pt x="226" y="152"/>
                  </a:lnTo>
                  <a:lnTo>
                    <a:pt x="211" y="162"/>
                  </a:lnTo>
                  <a:lnTo>
                    <a:pt x="195" y="182"/>
                  </a:lnTo>
                  <a:lnTo>
                    <a:pt x="185" y="197"/>
                  </a:lnTo>
                  <a:lnTo>
                    <a:pt x="175" y="212"/>
                  </a:lnTo>
                  <a:lnTo>
                    <a:pt x="165" y="231"/>
                  </a:lnTo>
                  <a:lnTo>
                    <a:pt x="155" y="246"/>
                  </a:lnTo>
                  <a:lnTo>
                    <a:pt x="145" y="266"/>
                  </a:lnTo>
                  <a:lnTo>
                    <a:pt x="140" y="286"/>
                  </a:lnTo>
                  <a:lnTo>
                    <a:pt x="130" y="305"/>
                  </a:lnTo>
                  <a:lnTo>
                    <a:pt x="125" y="325"/>
                  </a:lnTo>
                  <a:lnTo>
                    <a:pt x="115" y="345"/>
                  </a:lnTo>
                  <a:lnTo>
                    <a:pt x="110" y="369"/>
                  </a:lnTo>
                  <a:lnTo>
                    <a:pt x="100" y="389"/>
                  </a:lnTo>
                  <a:lnTo>
                    <a:pt x="95" y="409"/>
                  </a:lnTo>
                  <a:lnTo>
                    <a:pt x="90" y="434"/>
                  </a:lnTo>
                  <a:lnTo>
                    <a:pt x="90" y="453"/>
                  </a:lnTo>
                  <a:lnTo>
                    <a:pt x="80" y="473"/>
                  </a:lnTo>
                  <a:lnTo>
                    <a:pt x="75" y="498"/>
                  </a:lnTo>
                  <a:lnTo>
                    <a:pt x="75" y="522"/>
                  </a:lnTo>
                  <a:lnTo>
                    <a:pt x="70" y="547"/>
                  </a:lnTo>
                  <a:lnTo>
                    <a:pt x="65" y="567"/>
                  </a:lnTo>
                  <a:lnTo>
                    <a:pt x="65" y="596"/>
                  </a:lnTo>
                  <a:lnTo>
                    <a:pt x="65" y="616"/>
                  </a:lnTo>
                  <a:lnTo>
                    <a:pt x="65" y="646"/>
                  </a:lnTo>
                  <a:lnTo>
                    <a:pt x="60" y="665"/>
                  </a:lnTo>
                  <a:lnTo>
                    <a:pt x="60" y="690"/>
                  </a:lnTo>
                  <a:lnTo>
                    <a:pt x="55" y="715"/>
                  </a:lnTo>
                  <a:lnTo>
                    <a:pt x="55" y="739"/>
                  </a:lnTo>
                  <a:lnTo>
                    <a:pt x="55" y="764"/>
                  </a:lnTo>
                  <a:lnTo>
                    <a:pt x="55" y="789"/>
                  </a:lnTo>
                  <a:lnTo>
                    <a:pt x="55" y="808"/>
                  </a:lnTo>
                  <a:lnTo>
                    <a:pt x="55" y="838"/>
                  </a:lnTo>
                  <a:lnTo>
                    <a:pt x="55" y="858"/>
                  </a:lnTo>
                  <a:lnTo>
                    <a:pt x="55" y="882"/>
                  </a:lnTo>
                  <a:lnTo>
                    <a:pt x="55" y="907"/>
                  </a:lnTo>
                  <a:lnTo>
                    <a:pt x="60" y="932"/>
                  </a:lnTo>
                  <a:lnTo>
                    <a:pt x="60" y="951"/>
                  </a:lnTo>
                  <a:lnTo>
                    <a:pt x="60" y="976"/>
                  </a:lnTo>
                  <a:lnTo>
                    <a:pt x="60" y="1001"/>
                  </a:lnTo>
                  <a:lnTo>
                    <a:pt x="65" y="1025"/>
                  </a:lnTo>
                  <a:lnTo>
                    <a:pt x="65" y="1045"/>
                  </a:lnTo>
                  <a:lnTo>
                    <a:pt x="65" y="1065"/>
                  </a:lnTo>
                  <a:lnTo>
                    <a:pt x="65" y="1089"/>
                  </a:lnTo>
                  <a:lnTo>
                    <a:pt x="65" y="1109"/>
                  </a:lnTo>
                  <a:lnTo>
                    <a:pt x="65" y="1129"/>
                  </a:lnTo>
                  <a:lnTo>
                    <a:pt x="70" y="1154"/>
                  </a:lnTo>
                  <a:lnTo>
                    <a:pt x="70" y="1173"/>
                  </a:lnTo>
                  <a:lnTo>
                    <a:pt x="75" y="1193"/>
                  </a:lnTo>
                  <a:lnTo>
                    <a:pt x="75" y="1213"/>
                  </a:lnTo>
                  <a:lnTo>
                    <a:pt x="75" y="1227"/>
                  </a:lnTo>
                  <a:lnTo>
                    <a:pt x="75" y="1247"/>
                  </a:lnTo>
                  <a:lnTo>
                    <a:pt x="80" y="1262"/>
                  </a:lnTo>
                  <a:lnTo>
                    <a:pt x="80" y="1282"/>
                  </a:lnTo>
                  <a:lnTo>
                    <a:pt x="80" y="1297"/>
                  </a:lnTo>
                  <a:lnTo>
                    <a:pt x="80" y="1311"/>
                  </a:lnTo>
                  <a:lnTo>
                    <a:pt x="85" y="1326"/>
                  </a:lnTo>
                  <a:lnTo>
                    <a:pt x="85" y="1341"/>
                  </a:lnTo>
                  <a:lnTo>
                    <a:pt x="85" y="1361"/>
                  </a:lnTo>
                  <a:lnTo>
                    <a:pt x="85" y="1375"/>
                  </a:lnTo>
                  <a:lnTo>
                    <a:pt x="85" y="1390"/>
                  </a:lnTo>
                  <a:lnTo>
                    <a:pt x="85" y="1405"/>
                  </a:lnTo>
                  <a:lnTo>
                    <a:pt x="85" y="1425"/>
                  </a:lnTo>
                  <a:lnTo>
                    <a:pt x="85" y="1440"/>
                  </a:lnTo>
                  <a:lnTo>
                    <a:pt x="85" y="1454"/>
                  </a:lnTo>
                  <a:lnTo>
                    <a:pt x="85" y="1469"/>
                  </a:lnTo>
                  <a:lnTo>
                    <a:pt x="85" y="1489"/>
                  </a:lnTo>
                  <a:lnTo>
                    <a:pt x="85" y="1504"/>
                  </a:lnTo>
                  <a:lnTo>
                    <a:pt x="85" y="1518"/>
                  </a:lnTo>
                  <a:lnTo>
                    <a:pt x="85" y="1533"/>
                  </a:lnTo>
                  <a:lnTo>
                    <a:pt x="85" y="1548"/>
                  </a:lnTo>
                  <a:lnTo>
                    <a:pt x="85" y="1568"/>
                  </a:lnTo>
                  <a:lnTo>
                    <a:pt x="85" y="1583"/>
                  </a:lnTo>
                  <a:lnTo>
                    <a:pt x="85" y="1597"/>
                  </a:lnTo>
                  <a:lnTo>
                    <a:pt x="85" y="1612"/>
                  </a:lnTo>
                  <a:lnTo>
                    <a:pt x="85" y="1627"/>
                  </a:lnTo>
                  <a:lnTo>
                    <a:pt x="85" y="1647"/>
                  </a:lnTo>
                  <a:lnTo>
                    <a:pt x="80" y="1657"/>
                  </a:lnTo>
                  <a:lnTo>
                    <a:pt x="80" y="1676"/>
                  </a:lnTo>
                  <a:lnTo>
                    <a:pt x="80" y="1691"/>
                  </a:lnTo>
                  <a:lnTo>
                    <a:pt x="80" y="1706"/>
                  </a:lnTo>
                  <a:lnTo>
                    <a:pt x="80" y="1721"/>
                  </a:lnTo>
                  <a:lnTo>
                    <a:pt x="80" y="1735"/>
                  </a:lnTo>
                  <a:lnTo>
                    <a:pt x="80" y="1750"/>
                  </a:lnTo>
                  <a:lnTo>
                    <a:pt x="80" y="1770"/>
                  </a:lnTo>
                  <a:lnTo>
                    <a:pt x="75" y="1785"/>
                  </a:lnTo>
                  <a:lnTo>
                    <a:pt x="75" y="1800"/>
                  </a:lnTo>
                  <a:lnTo>
                    <a:pt x="75" y="1814"/>
                  </a:lnTo>
                  <a:lnTo>
                    <a:pt x="75" y="1834"/>
                  </a:lnTo>
                  <a:lnTo>
                    <a:pt x="75" y="1849"/>
                  </a:lnTo>
                  <a:lnTo>
                    <a:pt x="75" y="1864"/>
                  </a:lnTo>
                  <a:lnTo>
                    <a:pt x="70" y="1878"/>
                  </a:lnTo>
                  <a:lnTo>
                    <a:pt x="70" y="1893"/>
                  </a:lnTo>
                  <a:lnTo>
                    <a:pt x="70" y="1908"/>
                  </a:lnTo>
                  <a:lnTo>
                    <a:pt x="65" y="1923"/>
                  </a:lnTo>
                  <a:lnTo>
                    <a:pt x="65" y="1938"/>
                  </a:lnTo>
                  <a:lnTo>
                    <a:pt x="65" y="1957"/>
                  </a:lnTo>
                  <a:lnTo>
                    <a:pt x="65" y="1972"/>
                  </a:lnTo>
                  <a:lnTo>
                    <a:pt x="60" y="1987"/>
                  </a:lnTo>
                  <a:lnTo>
                    <a:pt x="60" y="2002"/>
                  </a:lnTo>
                  <a:lnTo>
                    <a:pt x="60" y="2017"/>
                  </a:lnTo>
                  <a:lnTo>
                    <a:pt x="60" y="2031"/>
                  </a:lnTo>
                  <a:lnTo>
                    <a:pt x="55" y="2046"/>
                  </a:lnTo>
                  <a:lnTo>
                    <a:pt x="55" y="2061"/>
                  </a:lnTo>
                  <a:lnTo>
                    <a:pt x="55" y="2081"/>
                  </a:lnTo>
                  <a:lnTo>
                    <a:pt x="50" y="2095"/>
                  </a:lnTo>
                  <a:lnTo>
                    <a:pt x="50" y="2110"/>
                  </a:lnTo>
                  <a:lnTo>
                    <a:pt x="45" y="2125"/>
                  </a:lnTo>
                  <a:lnTo>
                    <a:pt x="45" y="2140"/>
                  </a:lnTo>
                  <a:lnTo>
                    <a:pt x="40" y="2155"/>
                  </a:lnTo>
                  <a:lnTo>
                    <a:pt x="40" y="2169"/>
                  </a:lnTo>
                  <a:lnTo>
                    <a:pt x="40" y="2189"/>
                  </a:lnTo>
                  <a:lnTo>
                    <a:pt x="40" y="2204"/>
                  </a:lnTo>
                  <a:lnTo>
                    <a:pt x="35" y="2219"/>
                  </a:lnTo>
                  <a:lnTo>
                    <a:pt x="30" y="2234"/>
                  </a:lnTo>
                  <a:lnTo>
                    <a:pt x="30" y="2248"/>
                  </a:lnTo>
                  <a:lnTo>
                    <a:pt x="30" y="2268"/>
                  </a:lnTo>
                  <a:lnTo>
                    <a:pt x="25" y="2283"/>
                  </a:lnTo>
                  <a:lnTo>
                    <a:pt x="25" y="2298"/>
                  </a:lnTo>
                  <a:lnTo>
                    <a:pt x="20" y="2312"/>
                  </a:lnTo>
                  <a:lnTo>
                    <a:pt x="20" y="2332"/>
                  </a:lnTo>
                  <a:lnTo>
                    <a:pt x="15" y="2347"/>
                  </a:lnTo>
                  <a:lnTo>
                    <a:pt x="15" y="2362"/>
                  </a:lnTo>
                  <a:lnTo>
                    <a:pt x="10" y="2381"/>
                  </a:lnTo>
                  <a:lnTo>
                    <a:pt x="10" y="2401"/>
                  </a:lnTo>
                  <a:lnTo>
                    <a:pt x="5" y="2416"/>
                  </a:lnTo>
                  <a:lnTo>
                    <a:pt x="5" y="2436"/>
                  </a:lnTo>
                  <a:lnTo>
                    <a:pt x="0" y="2450"/>
                  </a:lnTo>
                  <a:lnTo>
                    <a:pt x="0" y="2470"/>
                  </a:lnTo>
                  <a:lnTo>
                    <a:pt x="0" y="2490"/>
                  </a:lnTo>
                  <a:lnTo>
                    <a:pt x="0" y="2505"/>
                  </a:lnTo>
                  <a:lnTo>
                    <a:pt x="0" y="2524"/>
                  </a:lnTo>
                  <a:lnTo>
                    <a:pt x="0" y="2539"/>
                  </a:lnTo>
                  <a:lnTo>
                    <a:pt x="0" y="2559"/>
                  </a:lnTo>
                  <a:lnTo>
                    <a:pt x="0" y="2574"/>
                  </a:lnTo>
                  <a:lnTo>
                    <a:pt x="0" y="2594"/>
                  </a:lnTo>
                  <a:lnTo>
                    <a:pt x="0" y="2613"/>
                  </a:lnTo>
                  <a:lnTo>
                    <a:pt x="0" y="2628"/>
                  </a:lnTo>
                  <a:lnTo>
                    <a:pt x="0" y="2643"/>
                  </a:lnTo>
                  <a:lnTo>
                    <a:pt x="5" y="2663"/>
                  </a:lnTo>
                  <a:lnTo>
                    <a:pt x="10" y="2677"/>
                  </a:lnTo>
                  <a:lnTo>
                    <a:pt x="10" y="2697"/>
                  </a:lnTo>
                  <a:lnTo>
                    <a:pt x="15" y="2717"/>
                  </a:lnTo>
                  <a:lnTo>
                    <a:pt x="20" y="2732"/>
                  </a:lnTo>
                  <a:lnTo>
                    <a:pt x="25" y="2751"/>
                  </a:lnTo>
                  <a:lnTo>
                    <a:pt x="30" y="2766"/>
                  </a:lnTo>
                  <a:lnTo>
                    <a:pt x="35" y="2781"/>
                  </a:lnTo>
                  <a:lnTo>
                    <a:pt x="40" y="2801"/>
                  </a:lnTo>
                  <a:lnTo>
                    <a:pt x="45" y="2815"/>
                  </a:lnTo>
                  <a:lnTo>
                    <a:pt x="50" y="2830"/>
                  </a:lnTo>
                  <a:lnTo>
                    <a:pt x="60" y="2850"/>
                  </a:lnTo>
                  <a:lnTo>
                    <a:pt x="70" y="2865"/>
                  </a:lnTo>
                  <a:lnTo>
                    <a:pt x="80" y="2880"/>
                  </a:lnTo>
                  <a:lnTo>
                    <a:pt x="85" y="2889"/>
                  </a:lnTo>
                  <a:lnTo>
                    <a:pt x="95" y="2899"/>
                  </a:lnTo>
                  <a:lnTo>
                    <a:pt x="105" y="2899"/>
                  </a:lnTo>
                  <a:lnTo>
                    <a:pt x="115" y="2904"/>
                  </a:lnTo>
                  <a:lnTo>
                    <a:pt x="125" y="2904"/>
                  </a:lnTo>
                  <a:lnTo>
                    <a:pt x="140" y="2904"/>
                  </a:lnTo>
                  <a:lnTo>
                    <a:pt x="150" y="2904"/>
                  </a:lnTo>
                  <a:lnTo>
                    <a:pt x="160" y="2904"/>
                  </a:lnTo>
                  <a:lnTo>
                    <a:pt x="180" y="2889"/>
                  </a:lnTo>
                  <a:lnTo>
                    <a:pt x="190" y="2875"/>
                  </a:lnTo>
                  <a:lnTo>
                    <a:pt x="195" y="2865"/>
                  </a:lnTo>
                  <a:lnTo>
                    <a:pt x="201" y="2855"/>
                  </a:lnTo>
                  <a:lnTo>
                    <a:pt x="195" y="2845"/>
                  </a:lnTo>
                  <a:lnTo>
                    <a:pt x="195" y="2835"/>
                  </a:lnTo>
                  <a:lnTo>
                    <a:pt x="190" y="2815"/>
                  </a:lnTo>
                  <a:lnTo>
                    <a:pt x="180" y="2796"/>
                  </a:lnTo>
                  <a:lnTo>
                    <a:pt x="175" y="2776"/>
                  </a:lnTo>
                  <a:lnTo>
                    <a:pt x="170" y="2761"/>
                  </a:lnTo>
                  <a:lnTo>
                    <a:pt x="165" y="2741"/>
                  </a:lnTo>
                  <a:lnTo>
                    <a:pt x="160" y="2727"/>
                  </a:lnTo>
                  <a:lnTo>
                    <a:pt x="155" y="2707"/>
                  </a:lnTo>
                  <a:lnTo>
                    <a:pt x="150" y="2687"/>
                  </a:lnTo>
                  <a:lnTo>
                    <a:pt x="145" y="2667"/>
                  </a:lnTo>
                  <a:lnTo>
                    <a:pt x="145" y="2653"/>
                  </a:lnTo>
                  <a:lnTo>
                    <a:pt x="140" y="2628"/>
                  </a:lnTo>
                  <a:lnTo>
                    <a:pt x="140" y="2613"/>
                  </a:lnTo>
                  <a:lnTo>
                    <a:pt x="140" y="2594"/>
                  </a:lnTo>
                  <a:lnTo>
                    <a:pt x="135" y="2574"/>
                  </a:lnTo>
                  <a:lnTo>
                    <a:pt x="135" y="2554"/>
                  </a:lnTo>
                  <a:lnTo>
                    <a:pt x="135" y="2539"/>
                  </a:lnTo>
                  <a:lnTo>
                    <a:pt x="135" y="2515"/>
                  </a:lnTo>
                  <a:lnTo>
                    <a:pt x="130" y="2495"/>
                  </a:lnTo>
                  <a:lnTo>
                    <a:pt x="130" y="2475"/>
                  </a:lnTo>
                  <a:lnTo>
                    <a:pt x="130" y="2455"/>
                  </a:lnTo>
                  <a:lnTo>
                    <a:pt x="130" y="2436"/>
                  </a:lnTo>
                  <a:lnTo>
                    <a:pt x="135" y="2416"/>
                  </a:lnTo>
                  <a:lnTo>
                    <a:pt x="135" y="2396"/>
                  </a:lnTo>
                  <a:lnTo>
                    <a:pt x="135" y="2377"/>
                  </a:lnTo>
                  <a:lnTo>
                    <a:pt x="135" y="2352"/>
                  </a:lnTo>
                  <a:lnTo>
                    <a:pt x="140" y="2332"/>
                  </a:lnTo>
                  <a:lnTo>
                    <a:pt x="140" y="2312"/>
                  </a:lnTo>
                  <a:lnTo>
                    <a:pt x="145" y="2293"/>
                  </a:lnTo>
                  <a:lnTo>
                    <a:pt x="145" y="2273"/>
                  </a:lnTo>
                  <a:lnTo>
                    <a:pt x="150" y="2253"/>
                  </a:lnTo>
                  <a:lnTo>
                    <a:pt x="150" y="2234"/>
                  </a:lnTo>
                  <a:lnTo>
                    <a:pt x="155" y="2214"/>
                  </a:lnTo>
                  <a:lnTo>
                    <a:pt x="155" y="2189"/>
                  </a:lnTo>
                  <a:lnTo>
                    <a:pt x="160" y="2169"/>
                  </a:lnTo>
                  <a:lnTo>
                    <a:pt x="160" y="2145"/>
                  </a:lnTo>
                  <a:lnTo>
                    <a:pt x="165" y="2125"/>
                  </a:lnTo>
                  <a:lnTo>
                    <a:pt x="165" y="2105"/>
                  </a:lnTo>
                  <a:lnTo>
                    <a:pt x="170" y="2086"/>
                  </a:lnTo>
                  <a:lnTo>
                    <a:pt x="170" y="2061"/>
                  </a:lnTo>
                  <a:lnTo>
                    <a:pt x="175" y="2041"/>
                  </a:lnTo>
                  <a:lnTo>
                    <a:pt x="180" y="2021"/>
                  </a:lnTo>
                  <a:lnTo>
                    <a:pt x="180" y="1997"/>
                  </a:lnTo>
                  <a:lnTo>
                    <a:pt x="185" y="1977"/>
                  </a:lnTo>
                  <a:lnTo>
                    <a:pt x="190" y="1957"/>
                  </a:lnTo>
                  <a:lnTo>
                    <a:pt x="190" y="1938"/>
                  </a:lnTo>
                  <a:lnTo>
                    <a:pt x="195" y="1918"/>
                  </a:lnTo>
                  <a:lnTo>
                    <a:pt x="195" y="1898"/>
                  </a:lnTo>
                  <a:lnTo>
                    <a:pt x="201" y="1878"/>
                  </a:lnTo>
                  <a:lnTo>
                    <a:pt x="201" y="1859"/>
                  </a:lnTo>
                  <a:lnTo>
                    <a:pt x="206" y="1834"/>
                  </a:lnTo>
                  <a:lnTo>
                    <a:pt x="206" y="1814"/>
                  </a:lnTo>
                  <a:lnTo>
                    <a:pt x="211" y="1795"/>
                  </a:lnTo>
                  <a:lnTo>
                    <a:pt x="211" y="1775"/>
                  </a:lnTo>
                  <a:lnTo>
                    <a:pt x="216" y="1760"/>
                  </a:lnTo>
                  <a:lnTo>
                    <a:pt x="216" y="1735"/>
                  </a:lnTo>
                  <a:lnTo>
                    <a:pt x="221" y="1721"/>
                  </a:lnTo>
                  <a:lnTo>
                    <a:pt x="221" y="1701"/>
                  </a:lnTo>
                  <a:lnTo>
                    <a:pt x="221" y="1681"/>
                  </a:lnTo>
                  <a:lnTo>
                    <a:pt x="221" y="1661"/>
                  </a:lnTo>
                  <a:lnTo>
                    <a:pt x="226" y="1642"/>
                  </a:lnTo>
                  <a:lnTo>
                    <a:pt x="226" y="1622"/>
                  </a:lnTo>
                  <a:lnTo>
                    <a:pt x="226" y="1602"/>
                  </a:lnTo>
                  <a:lnTo>
                    <a:pt x="226" y="1587"/>
                  </a:lnTo>
                  <a:lnTo>
                    <a:pt x="226" y="1568"/>
                  </a:lnTo>
                  <a:lnTo>
                    <a:pt x="226" y="1558"/>
                  </a:lnTo>
                  <a:lnTo>
                    <a:pt x="226" y="1543"/>
                  </a:lnTo>
                  <a:lnTo>
                    <a:pt x="226" y="1533"/>
                  </a:lnTo>
                  <a:lnTo>
                    <a:pt x="226" y="1523"/>
                  </a:lnTo>
                  <a:lnTo>
                    <a:pt x="226" y="1509"/>
                  </a:lnTo>
                  <a:lnTo>
                    <a:pt x="226" y="1499"/>
                  </a:lnTo>
                  <a:lnTo>
                    <a:pt x="226" y="1489"/>
                  </a:lnTo>
                  <a:lnTo>
                    <a:pt x="226" y="1479"/>
                  </a:lnTo>
                  <a:lnTo>
                    <a:pt x="221" y="1464"/>
                  </a:lnTo>
                  <a:lnTo>
                    <a:pt x="221" y="1454"/>
                  </a:lnTo>
                  <a:lnTo>
                    <a:pt x="221" y="1444"/>
                  </a:lnTo>
                  <a:lnTo>
                    <a:pt x="221" y="1430"/>
                  </a:lnTo>
                  <a:lnTo>
                    <a:pt x="221" y="1420"/>
                  </a:lnTo>
                  <a:lnTo>
                    <a:pt x="221" y="1410"/>
                  </a:lnTo>
                  <a:lnTo>
                    <a:pt x="221" y="1400"/>
                  </a:lnTo>
                  <a:lnTo>
                    <a:pt x="221" y="1390"/>
                  </a:lnTo>
                  <a:lnTo>
                    <a:pt x="216" y="1375"/>
                  </a:lnTo>
                  <a:lnTo>
                    <a:pt x="216" y="1366"/>
                  </a:lnTo>
                  <a:lnTo>
                    <a:pt x="216" y="1356"/>
                  </a:lnTo>
                  <a:lnTo>
                    <a:pt x="216" y="1341"/>
                  </a:lnTo>
                  <a:lnTo>
                    <a:pt x="216" y="1331"/>
                  </a:lnTo>
                  <a:lnTo>
                    <a:pt x="216" y="1316"/>
                  </a:lnTo>
                  <a:lnTo>
                    <a:pt x="216" y="1306"/>
                  </a:lnTo>
                  <a:lnTo>
                    <a:pt x="216" y="1297"/>
                  </a:lnTo>
                  <a:lnTo>
                    <a:pt x="216" y="1282"/>
                  </a:lnTo>
                  <a:lnTo>
                    <a:pt x="216" y="1272"/>
                  </a:lnTo>
                  <a:lnTo>
                    <a:pt x="211" y="1262"/>
                  </a:lnTo>
                  <a:lnTo>
                    <a:pt x="211" y="1252"/>
                  </a:lnTo>
                  <a:lnTo>
                    <a:pt x="211" y="1242"/>
                  </a:lnTo>
                  <a:lnTo>
                    <a:pt x="211" y="1227"/>
                  </a:lnTo>
                  <a:lnTo>
                    <a:pt x="211" y="1218"/>
                  </a:lnTo>
                  <a:lnTo>
                    <a:pt x="211" y="1208"/>
                  </a:lnTo>
                  <a:lnTo>
                    <a:pt x="211" y="1193"/>
                  </a:lnTo>
                  <a:lnTo>
                    <a:pt x="211" y="1183"/>
                  </a:lnTo>
                  <a:lnTo>
                    <a:pt x="211" y="1173"/>
                  </a:lnTo>
                  <a:lnTo>
                    <a:pt x="211" y="1163"/>
                  </a:lnTo>
                  <a:lnTo>
                    <a:pt x="206" y="1149"/>
                  </a:lnTo>
                  <a:lnTo>
                    <a:pt x="206" y="1139"/>
                  </a:lnTo>
                  <a:lnTo>
                    <a:pt x="206" y="1129"/>
                  </a:lnTo>
                  <a:lnTo>
                    <a:pt x="206" y="1114"/>
                  </a:lnTo>
                  <a:lnTo>
                    <a:pt x="206" y="1104"/>
                  </a:lnTo>
                  <a:lnTo>
                    <a:pt x="206" y="1089"/>
                  </a:lnTo>
                  <a:lnTo>
                    <a:pt x="206" y="1080"/>
                  </a:lnTo>
                  <a:lnTo>
                    <a:pt x="206" y="1070"/>
                  </a:lnTo>
                  <a:lnTo>
                    <a:pt x="206" y="1060"/>
                  </a:lnTo>
                  <a:lnTo>
                    <a:pt x="206" y="1050"/>
                  </a:lnTo>
                  <a:lnTo>
                    <a:pt x="206" y="1035"/>
                  </a:lnTo>
                  <a:lnTo>
                    <a:pt x="206" y="1025"/>
                  </a:lnTo>
                  <a:lnTo>
                    <a:pt x="201" y="1015"/>
                  </a:lnTo>
                  <a:lnTo>
                    <a:pt x="201" y="1001"/>
                  </a:lnTo>
                  <a:lnTo>
                    <a:pt x="201" y="991"/>
                  </a:lnTo>
                  <a:lnTo>
                    <a:pt x="201" y="981"/>
                  </a:lnTo>
                  <a:lnTo>
                    <a:pt x="201" y="966"/>
                  </a:lnTo>
                  <a:lnTo>
                    <a:pt x="201" y="956"/>
                  </a:lnTo>
                  <a:lnTo>
                    <a:pt x="201" y="946"/>
                  </a:lnTo>
                  <a:lnTo>
                    <a:pt x="201" y="937"/>
                  </a:lnTo>
                  <a:lnTo>
                    <a:pt x="201" y="922"/>
                  </a:lnTo>
                  <a:lnTo>
                    <a:pt x="201" y="912"/>
                  </a:lnTo>
                  <a:lnTo>
                    <a:pt x="201" y="902"/>
                  </a:lnTo>
                  <a:lnTo>
                    <a:pt x="201" y="887"/>
                  </a:lnTo>
                  <a:lnTo>
                    <a:pt x="201" y="877"/>
                  </a:lnTo>
                  <a:lnTo>
                    <a:pt x="201" y="867"/>
                  </a:lnTo>
                  <a:lnTo>
                    <a:pt x="201" y="858"/>
                  </a:lnTo>
                  <a:lnTo>
                    <a:pt x="201" y="843"/>
                  </a:lnTo>
                  <a:lnTo>
                    <a:pt x="201" y="828"/>
                  </a:lnTo>
                  <a:lnTo>
                    <a:pt x="201" y="808"/>
                  </a:lnTo>
                  <a:lnTo>
                    <a:pt x="201" y="789"/>
                  </a:lnTo>
                  <a:lnTo>
                    <a:pt x="201" y="774"/>
                  </a:lnTo>
                  <a:lnTo>
                    <a:pt x="201" y="754"/>
                  </a:lnTo>
                  <a:lnTo>
                    <a:pt x="201" y="739"/>
                  </a:lnTo>
                  <a:lnTo>
                    <a:pt x="201" y="724"/>
                  </a:lnTo>
                  <a:lnTo>
                    <a:pt x="206" y="705"/>
                  </a:lnTo>
                  <a:lnTo>
                    <a:pt x="206" y="690"/>
                  </a:lnTo>
                  <a:lnTo>
                    <a:pt x="206" y="675"/>
                  </a:lnTo>
                  <a:lnTo>
                    <a:pt x="206" y="655"/>
                  </a:lnTo>
                  <a:lnTo>
                    <a:pt x="211" y="641"/>
                  </a:lnTo>
                  <a:lnTo>
                    <a:pt x="211" y="626"/>
                  </a:lnTo>
                  <a:lnTo>
                    <a:pt x="211" y="606"/>
                  </a:lnTo>
                  <a:lnTo>
                    <a:pt x="211" y="591"/>
                  </a:lnTo>
                  <a:lnTo>
                    <a:pt x="216" y="577"/>
                  </a:lnTo>
                  <a:lnTo>
                    <a:pt x="216" y="562"/>
                  </a:lnTo>
                  <a:lnTo>
                    <a:pt x="221" y="542"/>
                  </a:lnTo>
                  <a:lnTo>
                    <a:pt x="221" y="527"/>
                  </a:lnTo>
                  <a:lnTo>
                    <a:pt x="226" y="512"/>
                  </a:lnTo>
                  <a:lnTo>
                    <a:pt x="226" y="498"/>
                  </a:lnTo>
                  <a:lnTo>
                    <a:pt x="231" y="483"/>
                  </a:lnTo>
                  <a:lnTo>
                    <a:pt x="231" y="468"/>
                  </a:lnTo>
                  <a:lnTo>
                    <a:pt x="241" y="458"/>
                  </a:lnTo>
                  <a:lnTo>
                    <a:pt x="241" y="443"/>
                  </a:lnTo>
                  <a:lnTo>
                    <a:pt x="246" y="429"/>
                  </a:lnTo>
                  <a:lnTo>
                    <a:pt x="251" y="414"/>
                  </a:lnTo>
                  <a:lnTo>
                    <a:pt x="256" y="404"/>
                  </a:lnTo>
                  <a:lnTo>
                    <a:pt x="261" y="389"/>
                  </a:lnTo>
                  <a:lnTo>
                    <a:pt x="266" y="374"/>
                  </a:lnTo>
                  <a:lnTo>
                    <a:pt x="276" y="364"/>
                  </a:lnTo>
                  <a:lnTo>
                    <a:pt x="281" y="355"/>
                  </a:lnTo>
                  <a:lnTo>
                    <a:pt x="286" y="340"/>
                  </a:lnTo>
                  <a:lnTo>
                    <a:pt x="291" y="330"/>
                  </a:lnTo>
                  <a:lnTo>
                    <a:pt x="301" y="320"/>
                  </a:lnTo>
                  <a:lnTo>
                    <a:pt x="311" y="305"/>
                  </a:lnTo>
                  <a:lnTo>
                    <a:pt x="316" y="295"/>
                  </a:lnTo>
                  <a:lnTo>
                    <a:pt x="326" y="286"/>
                  </a:lnTo>
                  <a:lnTo>
                    <a:pt x="331" y="276"/>
                  </a:lnTo>
                  <a:lnTo>
                    <a:pt x="341" y="271"/>
                  </a:lnTo>
                  <a:lnTo>
                    <a:pt x="351" y="256"/>
                  </a:lnTo>
                  <a:lnTo>
                    <a:pt x="361" y="246"/>
                  </a:lnTo>
                  <a:lnTo>
                    <a:pt x="371" y="241"/>
                  </a:lnTo>
                  <a:lnTo>
                    <a:pt x="381" y="231"/>
                  </a:lnTo>
                  <a:lnTo>
                    <a:pt x="391" y="221"/>
                  </a:lnTo>
                  <a:lnTo>
                    <a:pt x="407" y="217"/>
                  </a:lnTo>
                  <a:lnTo>
                    <a:pt x="417" y="212"/>
                  </a:lnTo>
                  <a:lnTo>
                    <a:pt x="432" y="207"/>
                  </a:lnTo>
                  <a:lnTo>
                    <a:pt x="442" y="197"/>
                  </a:lnTo>
                  <a:lnTo>
                    <a:pt x="457" y="192"/>
                  </a:lnTo>
                  <a:lnTo>
                    <a:pt x="467" y="187"/>
                  </a:lnTo>
                  <a:lnTo>
                    <a:pt x="482" y="182"/>
                  </a:lnTo>
                  <a:lnTo>
                    <a:pt x="497" y="177"/>
                  </a:lnTo>
                  <a:lnTo>
                    <a:pt x="512" y="172"/>
                  </a:lnTo>
                  <a:lnTo>
                    <a:pt x="532" y="172"/>
                  </a:lnTo>
                  <a:lnTo>
                    <a:pt x="547" y="167"/>
                  </a:lnTo>
                  <a:lnTo>
                    <a:pt x="567" y="162"/>
                  </a:lnTo>
                  <a:lnTo>
                    <a:pt x="582" y="162"/>
                  </a:lnTo>
                  <a:lnTo>
                    <a:pt x="603" y="162"/>
                  </a:lnTo>
                  <a:lnTo>
                    <a:pt x="618" y="162"/>
                  </a:lnTo>
                  <a:lnTo>
                    <a:pt x="638" y="162"/>
                  </a:lnTo>
                  <a:lnTo>
                    <a:pt x="658" y="162"/>
                  </a:lnTo>
                  <a:lnTo>
                    <a:pt x="683" y="162"/>
                  </a:lnTo>
                  <a:lnTo>
                    <a:pt x="703" y="162"/>
                  </a:lnTo>
                  <a:lnTo>
                    <a:pt x="728" y="162"/>
                  </a:lnTo>
                  <a:lnTo>
                    <a:pt x="753" y="167"/>
                  </a:lnTo>
                  <a:lnTo>
                    <a:pt x="778" y="167"/>
                  </a:lnTo>
                  <a:lnTo>
                    <a:pt x="804" y="172"/>
                  </a:lnTo>
                  <a:lnTo>
                    <a:pt x="824" y="172"/>
                  </a:lnTo>
                  <a:lnTo>
                    <a:pt x="849" y="177"/>
                  </a:lnTo>
                  <a:lnTo>
                    <a:pt x="874" y="182"/>
                  </a:lnTo>
                  <a:lnTo>
                    <a:pt x="899" y="187"/>
                  </a:lnTo>
                  <a:lnTo>
                    <a:pt x="924" y="187"/>
                  </a:lnTo>
                  <a:lnTo>
                    <a:pt x="949" y="192"/>
                  </a:lnTo>
                  <a:lnTo>
                    <a:pt x="974" y="197"/>
                  </a:lnTo>
                  <a:lnTo>
                    <a:pt x="1000" y="202"/>
                  </a:lnTo>
                  <a:lnTo>
                    <a:pt x="1025" y="207"/>
                  </a:lnTo>
                  <a:lnTo>
                    <a:pt x="1050" y="212"/>
                  </a:lnTo>
                  <a:lnTo>
                    <a:pt x="1075" y="217"/>
                  </a:lnTo>
                  <a:lnTo>
                    <a:pt x="1100" y="221"/>
                  </a:lnTo>
                  <a:lnTo>
                    <a:pt x="1125" y="226"/>
                  </a:lnTo>
                  <a:lnTo>
                    <a:pt x="1150" y="236"/>
                  </a:lnTo>
                  <a:lnTo>
                    <a:pt x="1170" y="241"/>
                  </a:lnTo>
                  <a:lnTo>
                    <a:pt x="1196" y="246"/>
                  </a:lnTo>
                  <a:lnTo>
                    <a:pt x="1221" y="251"/>
                  </a:lnTo>
                  <a:lnTo>
                    <a:pt x="1246" y="256"/>
                  </a:lnTo>
                  <a:lnTo>
                    <a:pt x="1271" y="261"/>
                  </a:lnTo>
                  <a:lnTo>
                    <a:pt x="1296" y="271"/>
                  </a:lnTo>
                  <a:lnTo>
                    <a:pt x="1316" y="276"/>
                  </a:lnTo>
                  <a:lnTo>
                    <a:pt x="1346" y="286"/>
                  </a:lnTo>
                  <a:lnTo>
                    <a:pt x="1366" y="290"/>
                  </a:lnTo>
                  <a:lnTo>
                    <a:pt x="1397" y="295"/>
                  </a:lnTo>
                  <a:lnTo>
                    <a:pt x="1417" y="305"/>
                  </a:lnTo>
                  <a:lnTo>
                    <a:pt x="1442" y="310"/>
                  </a:lnTo>
                  <a:lnTo>
                    <a:pt x="1467" y="320"/>
                  </a:lnTo>
                  <a:lnTo>
                    <a:pt x="1492" y="330"/>
                  </a:lnTo>
                  <a:lnTo>
                    <a:pt x="1517" y="335"/>
                  </a:lnTo>
                  <a:lnTo>
                    <a:pt x="1542" y="340"/>
                  </a:lnTo>
                  <a:lnTo>
                    <a:pt x="1562" y="350"/>
                  </a:lnTo>
                  <a:lnTo>
                    <a:pt x="1593" y="355"/>
                  </a:lnTo>
                  <a:lnTo>
                    <a:pt x="1613" y="364"/>
                  </a:lnTo>
                  <a:lnTo>
                    <a:pt x="1638" y="374"/>
                  </a:lnTo>
                  <a:lnTo>
                    <a:pt x="1663" y="379"/>
                  </a:lnTo>
                  <a:lnTo>
                    <a:pt x="1688" y="389"/>
                  </a:lnTo>
                  <a:lnTo>
                    <a:pt x="1708" y="394"/>
                  </a:lnTo>
                  <a:lnTo>
                    <a:pt x="1733" y="404"/>
                  </a:lnTo>
                  <a:lnTo>
                    <a:pt x="1758" y="409"/>
                  </a:lnTo>
                  <a:lnTo>
                    <a:pt x="1783" y="419"/>
                  </a:lnTo>
                  <a:lnTo>
                    <a:pt x="1804" y="429"/>
                  </a:lnTo>
                  <a:lnTo>
                    <a:pt x="1829" y="438"/>
                  </a:lnTo>
                  <a:lnTo>
                    <a:pt x="1854" y="443"/>
                  </a:lnTo>
                  <a:lnTo>
                    <a:pt x="1879" y="453"/>
                  </a:lnTo>
                  <a:lnTo>
                    <a:pt x="1904" y="458"/>
                  </a:lnTo>
                  <a:lnTo>
                    <a:pt x="1929" y="468"/>
                  </a:lnTo>
                  <a:lnTo>
                    <a:pt x="1949" y="473"/>
                  </a:lnTo>
                  <a:lnTo>
                    <a:pt x="1979" y="483"/>
                  </a:lnTo>
                  <a:lnTo>
                    <a:pt x="2000" y="488"/>
                  </a:lnTo>
                  <a:lnTo>
                    <a:pt x="2025" y="498"/>
                  </a:lnTo>
                  <a:lnTo>
                    <a:pt x="2050" y="507"/>
                  </a:lnTo>
                  <a:lnTo>
                    <a:pt x="2075" y="517"/>
                  </a:lnTo>
                  <a:lnTo>
                    <a:pt x="2095" y="522"/>
                  </a:lnTo>
                  <a:lnTo>
                    <a:pt x="2120" y="532"/>
                  </a:lnTo>
                  <a:lnTo>
                    <a:pt x="2145" y="537"/>
                  </a:lnTo>
                  <a:lnTo>
                    <a:pt x="2170" y="547"/>
                  </a:lnTo>
                  <a:lnTo>
                    <a:pt x="2196" y="552"/>
                  </a:lnTo>
                  <a:lnTo>
                    <a:pt x="2221" y="562"/>
                  </a:lnTo>
                  <a:lnTo>
                    <a:pt x="2246" y="567"/>
                  </a:lnTo>
                  <a:lnTo>
                    <a:pt x="2271" y="577"/>
                  </a:lnTo>
                  <a:lnTo>
                    <a:pt x="2296" y="581"/>
                  </a:lnTo>
                  <a:lnTo>
                    <a:pt x="2321" y="591"/>
                  </a:lnTo>
                  <a:lnTo>
                    <a:pt x="2346" y="596"/>
                  </a:lnTo>
                  <a:lnTo>
                    <a:pt x="2371" y="606"/>
                  </a:lnTo>
                  <a:lnTo>
                    <a:pt x="2402" y="611"/>
                  </a:lnTo>
                  <a:lnTo>
                    <a:pt x="2427" y="621"/>
                  </a:lnTo>
                  <a:lnTo>
                    <a:pt x="2452" y="626"/>
                  </a:lnTo>
                  <a:lnTo>
                    <a:pt x="2482" y="636"/>
                  </a:lnTo>
                  <a:lnTo>
                    <a:pt x="2507" y="646"/>
                  </a:lnTo>
                  <a:lnTo>
                    <a:pt x="2532" y="650"/>
                  </a:lnTo>
                  <a:lnTo>
                    <a:pt x="2562" y="660"/>
                  </a:lnTo>
                  <a:lnTo>
                    <a:pt x="2588" y="665"/>
                  </a:lnTo>
                  <a:lnTo>
                    <a:pt x="2613" y="675"/>
                  </a:lnTo>
                  <a:lnTo>
                    <a:pt x="2638" y="685"/>
                  </a:lnTo>
                  <a:lnTo>
                    <a:pt x="2668" y="690"/>
                  </a:lnTo>
                  <a:lnTo>
                    <a:pt x="2698" y="700"/>
                  </a:lnTo>
                  <a:lnTo>
                    <a:pt x="2723" y="705"/>
                  </a:lnTo>
                  <a:lnTo>
                    <a:pt x="2748" y="715"/>
                  </a:lnTo>
                  <a:lnTo>
                    <a:pt x="2773" y="724"/>
                  </a:lnTo>
                  <a:lnTo>
                    <a:pt x="2804" y="729"/>
                  </a:lnTo>
                  <a:lnTo>
                    <a:pt x="2829" y="739"/>
                  </a:lnTo>
                  <a:lnTo>
                    <a:pt x="2854" y="744"/>
                  </a:lnTo>
                  <a:lnTo>
                    <a:pt x="2884" y="754"/>
                  </a:lnTo>
                  <a:lnTo>
                    <a:pt x="2914" y="764"/>
                  </a:lnTo>
                  <a:lnTo>
                    <a:pt x="2939" y="769"/>
                  </a:lnTo>
                  <a:lnTo>
                    <a:pt x="2964" y="779"/>
                  </a:lnTo>
                  <a:lnTo>
                    <a:pt x="2990" y="784"/>
                  </a:lnTo>
                  <a:lnTo>
                    <a:pt x="3020" y="794"/>
                  </a:lnTo>
                  <a:lnTo>
                    <a:pt x="3045" y="798"/>
                  </a:lnTo>
                  <a:lnTo>
                    <a:pt x="3075" y="808"/>
                  </a:lnTo>
                  <a:lnTo>
                    <a:pt x="3100" y="813"/>
                  </a:lnTo>
                  <a:lnTo>
                    <a:pt x="3130" y="823"/>
                  </a:lnTo>
                  <a:lnTo>
                    <a:pt x="3155" y="828"/>
                  </a:lnTo>
                  <a:lnTo>
                    <a:pt x="3181" y="838"/>
                  </a:lnTo>
                  <a:lnTo>
                    <a:pt x="3206" y="843"/>
                  </a:lnTo>
                  <a:lnTo>
                    <a:pt x="3236" y="853"/>
                  </a:lnTo>
                  <a:lnTo>
                    <a:pt x="3261" y="858"/>
                  </a:lnTo>
                  <a:lnTo>
                    <a:pt x="3291" y="867"/>
                  </a:lnTo>
                  <a:lnTo>
                    <a:pt x="3316" y="872"/>
                  </a:lnTo>
                  <a:lnTo>
                    <a:pt x="3346" y="882"/>
                  </a:lnTo>
                  <a:lnTo>
                    <a:pt x="3371" y="887"/>
                  </a:lnTo>
                  <a:lnTo>
                    <a:pt x="3402" y="897"/>
                  </a:lnTo>
                  <a:lnTo>
                    <a:pt x="3427" y="902"/>
                  </a:lnTo>
                  <a:lnTo>
                    <a:pt x="3452" y="912"/>
                  </a:lnTo>
                  <a:lnTo>
                    <a:pt x="3482" y="917"/>
                  </a:lnTo>
                  <a:lnTo>
                    <a:pt x="3507" y="922"/>
                  </a:lnTo>
                  <a:lnTo>
                    <a:pt x="3537" y="932"/>
                  </a:lnTo>
                  <a:lnTo>
                    <a:pt x="3562" y="937"/>
                  </a:lnTo>
                  <a:lnTo>
                    <a:pt x="3588" y="941"/>
                  </a:lnTo>
                  <a:lnTo>
                    <a:pt x="3618" y="951"/>
                  </a:lnTo>
                  <a:lnTo>
                    <a:pt x="3643" y="956"/>
                  </a:lnTo>
                  <a:lnTo>
                    <a:pt x="3673" y="966"/>
                  </a:lnTo>
                  <a:lnTo>
                    <a:pt x="3698" y="971"/>
                  </a:lnTo>
                  <a:lnTo>
                    <a:pt x="3723" y="976"/>
                  </a:lnTo>
                  <a:lnTo>
                    <a:pt x="3753" y="981"/>
                  </a:lnTo>
                  <a:lnTo>
                    <a:pt x="3784" y="986"/>
                  </a:lnTo>
                  <a:lnTo>
                    <a:pt x="3809" y="991"/>
                  </a:lnTo>
                  <a:lnTo>
                    <a:pt x="3834" y="1001"/>
                  </a:lnTo>
                  <a:lnTo>
                    <a:pt x="3864" y="1006"/>
                  </a:lnTo>
                  <a:lnTo>
                    <a:pt x="3889" y="1010"/>
                  </a:lnTo>
                  <a:lnTo>
                    <a:pt x="3919" y="1015"/>
                  </a:lnTo>
                  <a:lnTo>
                    <a:pt x="3944" y="1020"/>
                  </a:lnTo>
                  <a:lnTo>
                    <a:pt x="3974" y="1025"/>
                  </a:lnTo>
                  <a:lnTo>
                    <a:pt x="4000" y="1035"/>
                  </a:lnTo>
                  <a:lnTo>
                    <a:pt x="4020" y="1030"/>
                  </a:lnTo>
                  <a:lnTo>
                    <a:pt x="4030" y="1020"/>
                  </a:lnTo>
                  <a:lnTo>
                    <a:pt x="4030" y="1001"/>
                  </a:lnTo>
                  <a:lnTo>
                    <a:pt x="4020" y="991"/>
                  </a:lnTo>
                  <a:lnTo>
                    <a:pt x="4020" y="9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flipV="1" rot="9362400">
              <a:off x="1720440" y="4868640"/>
              <a:ext cx="6405480" cy="2026800"/>
            </a:xfrm>
            <a:custGeom>
              <a:avLst/>
              <a:gdLst/>
              <a:ahLst/>
              <a:rect l="l" t="t" r="r" b="b"/>
              <a:pathLst>
                <a:path w="4035" h="1277">
                  <a:moveTo>
                    <a:pt x="75" y="207"/>
                  </a:moveTo>
                  <a:lnTo>
                    <a:pt x="90" y="222"/>
                  </a:lnTo>
                  <a:lnTo>
                    <a:pt x="115" y="237"/>
                  </a:lnTo>
                  <a:lnTo>
                    <a:pt x="135" y="252"/>
                  </a:lnTo>
                  <a:lnTo>
                    <a:pt x="156" y="266"/>
                  </a:lnTo>
                  <a:lnTo>
                    <a:pt x="176" y="281"/>
                  </a:lnTo>
                  <a:lnTo>
                    <a:pt x="201" y="296"/>
                  </a:lnTo>
                  <a:lnTo>
                    <a:pt x="221" y="306"/>
                  </a:lnTo>
                  <a:lnTo>
                    <a:pt x="246" y="321"/>
                  </a:lnTo>
                  <a:lnTo>
                    <a:pt x="271" y="331"/>
                  </a:lnTo>
                  <a:lnTo>
                    <a:pt x="291" y="345"/>
                  </a:lnTo>
                  <a:lnTo>
                    <a:pt x="316" y="360"/>
                  </a:lnTo>
                  <a:lnTo>
                    <a:pt x="342" y="370"/>
                  </a:lnTo>
                  <a:lnTo>
                    <a:pt x="367" y="380"/>
                  </a:lnTo>
                  <a:lnTo>
                    <a:pt x="392" y="395"/>
                  </a:lnTo>
                  <a:lnTo>
                    <a:pt x="417" y="404"/>
                  </a:lnTo>
                  <a:lnTo>
                    <a:pt x="447" y="414"/>
                  </a:lnTo>
                  <a:lnTo>
                    <a:pt x="472" y="424"/>
                  </a:lnTo>
                  <a:lnTo>
                    <a:pt x="497" y="434"/>
                  </a:lnTo>
                  <a:lnTo>
                    <a:pt x="522" y="444"/>
                  </a:lnTo>
                  <a:lnTo>
                    <a:pt x="553" y="454"/>
                  </a:lnTo>
                  <a:lnTo>
                    <a:pt x="578" y="464"/>
                  </a:lnTo>
                  <a:lnTo>
                    <a:pt x="608" y="474"/>
                  </a:lnTo>
                  <a:lnTo>
                    <a:pt x="633" y="483"/>
                  </a:lnTo>
                  <a:lnTo>
                    <a:pt x="663" y="493"/>
                  </a:lnTo>
                  <a:lnTo>
                    <a:pt x="693" y="503"/>
                  </a:lnTo>
                  <a:lnTo>
                    <a:pt x="718" y="508"/>
                  </a:lnTo>
                  <a:lnTo>
                    <a:pt x="749" y="518"/>
                  </a:lnTo>
                  <a:lnTo>
                    <a:pt x="774" y="528"/>
                  </a:lnTo>
                  <a:lnTo>
                    <a:pt x="804" y="533"/>
                  </a:lnTo>
                  <a:lnTo>
                    <a:pt x="834" y="543"/>
                  </a:lnTo>
                  <a:lnTo>
                    <a:pt x="864" y="548"/>
                  </a:lnTo>
                  <a:lnTo>
                    <a:pt x="894" y="557"/>
                  </a:lnTo>
                  <a:lnTo>
                    <a:pt x="919" y="562"/>
                  </a:lnTo>
                  <a:lnTo>
                    <a:pt x="950" y="572"/>
                  </a:lnTo>
                  <a:lnTo>
                    <a:pt x="980" y="577"/>
                  </a:lnTo>
                  <a:lnTo>
                    <a:pt x="1010" y="582"/>
                  </a:lnTo>
                  <a:lnTo>
                    <a:pt x="1035" y="587"/>
                  </a:lnTo>
                  <a:lnTo>
                    <a:pt x="1065" y="597"/>
                  </a:lnTo>
                  <a:lnTo>
                    <a:pt x="1095" y="602"/>
                  </a:lnTo>
                  <a:lnTo>
                    <a:pt x="1125" y="607"/>
                  </a:lnTo>
                  <a:lnTo>
                    <a:pt x="1156" y="617"/>
                  </a:lnTo>
                  <a:lnTo>
                    <a:pt x="1186" y="621"/>
                  </a:lnTo>
                  <a:lnTo>
                    <a:pt x="1211" y="626"/>
                  </a:lnTo>
                  <a:lnTo>
                    <a:pt x="1241" y="631"/>
                  </a:lnTo>
                  <a:lnTo>
                    <a:pt x="1271" y="636"/>
                  </a:lnTo>
                  <a:lnTo>
                    <a:pt x="1301" y="641"/>
                  </a:lnTo>
                  <a:lnTo>
                    <a:pt x="1326" y="646"/>
                  </a:lnTo>
                  <a:lnTo>
                    <a:pt x="1357" y="651"/>
                  </a:lnTo>
                  <a:lnTo>
                    <a:pt x="1387" y="656"/>
                  </a:lnTo>
                  <a:lnTo>
                    <a:pt x="1417" y="661"/>
                  </a:lnTo>
                  <a:lnTo>
                    <a:pt x="1442" y="666"/>
                  </a:lnTo>
                  <a:lnTo>
                    <a:pt x="1472" y="671"/>
                  </a:lnTo>
                  <a:lnTo>
                    <a:pt x="1497" y="676"/>
                  </a:lnTo>
                  <a:lnTo>
                    <a:pt x="1527" y="681"/>
                  </a:lnTo>
                  <a:lnTo>
                    <a:pt x="1553" y="686"/>
                  </a:lnTo>
                  <a:lnTo>
                    <a:pt x="1583" y="691"/>
                  </a:lnTo>
                  <a:lnTo>
                    <a:pt x="1608" y="691"/>
                  </a:lnTo>
                  <a:lnTo>
                    <a:pt x="1633" y="700"/>
                  </a:lnTo>
                  <a:lnTo>
                    <a:pt x="1658" y="700"/>
                  </a:lnTo>
                  <a:lnTo>
                    <a:pt x="1688" y="705"/>
                  </a:lnTo>
                  <a:lnTo>
                    <a:pt x="1713" y="710"/>
                  </a:lnTo>
                  <a:lnTo>
                    <a:pt x="1739" y="715"/>
                  </a:lnTo>
                  <a:lnTo>
                    <a:pt x="1769" y="720"/>
                  </a:lnTo>
                  <a:lnTo>
                    <a:pt x="1794" y="730"/>
                  </a:lnTo>
                  <a:lnTo>
                    <a:pt x="1809" y="730"/>
                  </a:lnTo>
                  <a:lnTo>
                    <a:pt x="1824" y="735"/>
                  </a:lnTo>
                  <a:lnTo>
                    <a:pt x="1844" y="735"/>
                  </a:lnTo>
                  <a:lnTo>
                    <a:pt x="1859" y="740"/>
                  </a:lnTo>
                  <a:lnTo>
                    <a:pt x="1874" y="740"/>
                  </a:lnTo>
                  <a:lnTo>
                    <a:pt x="1894" y="745"/>
                  </a:lnTo>
                  <a:lnTo>
                    <a:pt x="1909" y="750"/>
                  </a:lnTo>
                  <a:lnTo>
                    <a:pt x="1924" y="755"/>
                  </a:lnTo>
                  <a:lnTo>
                    <a:pt x="1945" y="755"/>
                  </a:lnTo>
                  <a:lnTo>
                    <a:pt x="1960" y="760"/>
                  </a:lnTo>
                  <a:lnTo>
                    <a:pt x="1975" y="764"/>
                  </a:lnTo>
                  <a:lnTo>
                    <a:pt x="1995" y="764"/>
                  </a:lnTo>
                  <a:lnTo>
                    <a:pt x="2010" y="769"/>
                  </a:lnTo>
                  <a:lnTo>
                    <a:pt x="2025" y="774"/>
                  </a:lnTo>
                  <a:lnTo>
                    <a:pt x="2045" y="779"/>
                  </a:lnTo>
                  <a:lnTo>
                    <a:pt x="2060" y="784"/>
                  </a:lnTo>
                  <a:lnTo>
                    <a:pt x="2080" y="784"/>
                  </a:lnTo>
                  <a:lnTo>
                    <a:pt x="2095" y="789"/>
                  </a:lnTo>
                  <a:lnTo>
                    <a:pt x="2110" y="794"/>
                  </a:lnTo>
                  <a:lnTo>
                    <a:pt x="2131" y="799"/>
                  </a:lnTo>
                  <a:lnTo>
                    <a:pt x="2146" y="804"/>
                  </a:lnTo>
                  <a:lnTo>
                    <a:pt x="2161" y="804"/>
                  </a:lnTo>
                  <a:lnTo>
                    <a:pt x="2181" y="809"/>
                  </a:lnTo>
                  <a:lnTo>
                    <a:pt x="2196" y="814"/>
                  </a:lnTo>
                  <a:lnTo>
                    <a:pt x="2211" y="819"/>
                  </a:lnTo>
                  <a:lnTo>
                    <a:pt x="2231" y="824"/>
                  </a:lnTo>
                  <a:lnTo>
                    <a:pt x="2246" y="829"/>
                  </a:lnTo>
                  <a:lnTo>
                    <a:pt x="2261" y="834"/>
                  </a:lnTo>
                  <a:lnTo>
                    <a:pt x="2281" y="834"/>
                  </a:lnTo>
                  <a:lnTo>
                    <a:pt x="2296" y="843"/>
                  </a:lnTo>
                  <a:lnTo>
                    <a:pt x="2311" y="848"/>
                  </a:lnTo>
                  <a:lnTo>
                    <a:pt x="2332" y="853"/>
                  </a:lnTo>
                  <a:lnTo>
                    <a:pt x="2347" y="858"/>
                  </a:lnTo>
                  <a:lnTo>
                    <a:pt x="2362" y="858"/>
                  </a:lnTo>
                  <a:lnTo>
                    <a:pt x="2377" y="863"/>
                  </a:lnTo>
                  <a:lnTo>
                    <a:pt x="2397" y="868"/>
                  </a:lnTo>
                  <a:lnTo>
                    <a:pt x="2412" y="873"/>
                  </a:lnTo>
                  <a:lnTo>
                    <a:pt x="2427" y="878"/>
                  </a:lnTo>
                  <a:lnTo>
                    <a:pt x="2447" y="883"/>
                  </a:lnTo>
                  <a:lnTo>
                    <a:pt x="2462" y="888"/>
                  </a:lnTo>
                  <a:lnTo>
                    <a:pt x="2477" y="893"/>
                  </a:lnTo>
                  <a:lnTo>
                    <a:pt x="2492" y="898"/>
                  </a:lnTo>
                  <a:lnTo>
                    <a:pt x="2512" y="903"/>
                  </a:lnTo>
                  <a:lnTo>
                    <a:pt x="2528" y="908"/>
                  </a:lnTo>
                  <a:lnTo>
                    <a:pt x="2543" y="912"/>
                  </a:lnTo>
                  <a:lnTo>
                    <a:pt x="2563" y="917"/>
                  </a:lnTo>
                  <a:lnTo>
                    <a:pt x="2578" y="927"/>
                  </a:lnTo>
                  <a:lnTo>
                    <a:pt x="2593" y="932"/>
                  </a:lnTo>
                  <a:lnTo>
                    <a:pt x="2608" y="937"/>
                  </a:lnTo>
                  <a:lnTo>
                    <a:pt x="2628" y="942"/>
                  </a:lnTo>
                  <a:lnTo>
                    <a:pt x="2643" y="947"/>
                  </a:lnTo>
                  <a:lnTo>
                    <a:pt x="2658" y="952"/>
                  </a:lnTo>
                  <a:lnTo>
                    <a:pt x="2678" y="957"/>
                  </a:lnTo>
                  <a:lnTo>
                    <a:pt x="2693" y="962"/>
                  </a:lnTo>
                  <a:lnTo>
                    <a:pt x="2708" y="972"/>
                  </a:lnTo>
                  <a:lnTo>
                    <a:pt x="2729" y="977"/>
                  </a:lnTo>
                  <a:lnTo>
                    <a:pt x="2744" y="981"/>
                  </a:lnTo>
                  <a:lnTo>
                    <a:pt x="2759" y="986"/>
                  </a:lnTo>
                  <a:lnTo>
                    <a:pt x="2779" y="991"/>
                  </a:lnTo>
                  <a:lnTo>
                    <a:pt x="2794" y="996"/>
                  </a:lnTo>
                  <a:lnTo>
                    <a:pt x="2809" y="1001"/>
                  </a:lnTo>
                  <a:lnTo>
                    <a:pt x="2829" y="1011"/>
                  </a:lnTo>
                  <a:lnTo>
                    <a:pt x="2844" y="1016"/>
                  </a:lnTo>
                  <a:lnTo>
                    <a:pt x="2859" y="1021"/>
                  </a:lnTo>
                  <a:lnTo>
                    <a:pt x="2879" y="1026"/>
                  </a:lnTo>
                  <a:lnTo>
                    <a:pt x="2894" y="1031"/>
                  </a:lnTo>
                  <a:lnTo>
                    <a:pt x="2909" y="1041"/>
                  </a:lnTo>
                  <a:lnTo>
                    <a:pt x="2930" y="1046"/>
                  </a:lnTo>
                  <a:lnTo>
                    <a:pt x="2945" y="1051"/>
                  </a:lnTo>
                  <a:lnTo>
                    <a:pt x="2960" y="1055"/>
                  </a:lnTo>
                  <a:lnTo>
                    <a:pt x="2980" y="1060"/>
                  </a:lnTo>
                  <a:lnTo>
                    <a:pt x="2995" y="1065"/>
                  </a:lnTo>
                  <a:lnTo>
                    <a:pt x="3015" y="1070"/>
                  </a:lnTo>
                  <a:lnTo>
                    <a:pt x="3030" y="1075"/>
                  </a:lnTo>
                  <a:lnTo>
                    <a:pt x="3045" y="1080"/>
                  </a:lnTo>
                  <a:lnTo>
                    <a:pt x="3065" y="1085"/>
                  </a:lnTo>
                  <a:lnTo>
                    <a:pt x="3080" y="1090"/>
                  </a:lnTo>
                  <a:lnTo>
                    <a:pt x="3100" y="1095"/>
                  </a:lnTo>
                  <a:lnTo>
                    <a:pt x="3115" y="1100"/>
                  </a:lnTo>
                  <a:lnTo>
                    <a:pt x="3136" y="1105"/>
                  </a:lnTo>
                  <a:lnTo>
                    <a:pt x="3151" y="1110"/>
                  </a:lnTo>
                  <a:lnTo>
                    <a:pt x="3171" y="1110"/>
                  </a:lnTo>
                  <a:lnTo>
                    <a:pt x="3186" y="1115"/>
                  </a:lnTo>
                  <a:lnTo>
                    <a:pt x="3201" y="1120"/>
                  </a:lnTo>
                  <a:lnTo>
                    <a:pt x="3221" y="1124"/>
                  </a:lnTo>
                  <a:lnTo>
                    <a:pt x="3236" y="1129"/>
                  </a:lnTo>
                  <a:lnTo>
                    <a:pt x="3251" y="1134"/>
                  </a:lnTo>
                  <a:lnTo>
                    <a:pt x="3271" y="1139"/>
                  </a:lnTo>
                  <a:lnTo>
                    <a:pt x="3286" y="1139"/>
                  </a:lnTo>
                  <a:lnTo>
                    <a:pt x="3306" y="1144"/>
                  </a:lnTo>
                  <a:lnTo>
                    <a:pt x="3322" y="1144"/>
                  </a:lnTo>
                  <a:lnTo>
                    <a:pt x="3342" y="1154"/>
                  </a:lnTo>
                  <a:lnTo>
                    <a:pt x="3357" y="1154"/>
                  </a:lnTo>
                  <a:lnTo>
                    <a:pt x="3377" y="1159"/>
                  </a:lnTo>
                  <a:lnTo>
                    <a:pt x="3392" y="1159"/>
                  </a:lnTo>
                  <a:lnTo>
                    <a:pt x="3412" y="1169"/>
                  </a:lnTo>
                  <a:lnTo>
                    <a:pt x="3427" y="1169"/>
                  </a:lnTo>
                  <a:lnTo>
                    <a:pt x="3442" y="1174"/>
                  </a:lnTo>
                  <a:lnTo>
                    <a:pt x="3462" y="1174"/>
                  </a:lnTo>
                  <a:lnTo>
                    <a:pt x="3477" y="1179"/>
                  </a:lnTo>
                  <a:lnTo>
                    <a:pt x="3492" y="1184"/>
                  </a:lnTo>
                  <a:lnTo>
                    <a:pt x="3512" y="1184"/>
                  </a:lnTo>
                  <a:lnTo>
                    <a:pt x="3528" y="1189"/>
                  </a:lnTo>
                  <a:lnTo>
                    <a:pt x="3548" y="1194"/>
                  </a:lnTo>
                  <a:lnTo>
                    <a:pt x="3563" y="1194"/>
                  </a:lnTo>
                  <a:lnTo>
                    <a:pt x="3583" y="1198"/>
                  </a:lnTo>
                  <a:lnTo>
                    <a:pt x="3598" y="1203"/>
                  </a:lnTo>
                  <a:lnTo>
                    <a:pt x="3618" y="1203"/>
                  </a:lnTo>
                  <a:lnTo>
                    <a:pt x="3633" y="1208"/>
                  </a:lnTo>
                  <a:lnTo>
                    <a:pt x="3653" y="1213"/>
                  </a:lnTo>
                  <a:lnTo>
                    <a:pt x="3668" y="1213"/>
                  </a:lnTo>
                  <a:lnTo>
                    <a:pt x="3688" y="1218"/>
                  </a:lnTo>
                  <a:lnTo>
                    <a:pt x="3703" y="1223"/>
                  </a:lnTo>
                  <a:lnTo>
                    <a:pt x="3724" y="1223"/>
                  </a:lnTo>
                  <a:lnTo>
                    <a:pt x="3739" y="1228"/>
                  </a:lnTo>
                  <a:lnTo>
                    <a:pt x="3759" y="1233"/>
                  </a:lnTo>
                  <a:lnTo>
                    <a:pt x="3774" y="1233"/>
                  </a:lnTo>
                  <a:lnTo>
                    <a:pt x="3794" y="1238"/>
                  </a:lnTo>
                  <a:lnTo>
                    <a:pt x="3809" y="1243"/>
                  </a:lnTo>
                  <a:lnTo>
                    <a:pt x="3829" y="1248"/>
                  </a:lnTo>
                  <a:lnTo>
                    <a:pt x="3844" y="1248"/>
                  </a:lnTo>
                  <a:lnTo>
                    <a:pt x="3859" y="1253"/>
                  </a:lnTo>
                  <a:lnTo>
                    <a:pt x="3879" y="1258"/>
                  </a:lnTo>
                  <a:lnTo>
                    <a:pt x="3899" y="1258"/>
                  </a:lnTo>
                  <a:lnTo>
                    <a:pt x="3914" y="1263"/>
                  </a:lnTo>
                  <a:lnTo>
                    <a:pt x="3935" y="1268"/>
                  </a:lnTo>
                  <a:lnTo>
                    <a:pt x="3955" y="1272"/>
                  </a:lnTo>
                  <a:lnTo>
                    <a:pt x="3970" y="1277"/>
                  </a:lnTo>
                  <a:lnTo>
                    <a:pt x="3980" y="1272"/>
                  </a:lnTo>
                  <a:lnTo>
                    <a:pt x="3995" y="1272"/>
                  </a:lnTo>
                  <a:lnTo>
                    <a:pt x="4005" y="1268"/>
                  </a:lnTo>
                  <a:lnTo>
                    <a:pt x="4010" y="1268"/>
                  </a:lnTo>
                  <a:lnTo>
                    <a:pt x="4025" y="1248"/>
                  </a:lnTo>
                  <a:lnTo>
                    <a:pt x="4035" y="1233"/>
                  </a:lnTo>
                  <a:lnTo>
                    <a:pt x="4035" y="1223"/>
                  </a:lnTo>
                  <a:lnTo>
                    <a:pt x="4035" y="1213"/>
                  </a:lnTo>
                  <a:lnTo>
                    <a:pt x="4035" y="1203"/>
                  </a:lnTo>
                  <a:lnTo>
                    <a:pt x="4030" y="1194"/>
                  </a:lnTo>
                  <a:lnTo>
                    <a:pt x="4025" y="1184"/>
                  </a:lnTo>
                  <a:lnTo>
                    <a:pt x="4020" y="1179"/>
                  </a:lnTo>
                  <a:lnTo>
                    <a:pt x="4010" y="1174"/>
                  </a:lnTo>
                  <a:lnTo>
                    <a:pt x="4000" y="1169"/>
                  </a:lnTo>
                  <a:lnTo>
                    <a:pt x="3985" y="1164"/>
                  </a:lnTo>
                  <a:lnTo>
                    <a:pt x="3970" y="1164"/>
                  </a:lnTo>
                  <a:lnTo>
                    <a:pt x="3955" y="1159"/>
                  </a:lnTo>
                  <a:lnTo>
                    <a:pt x="3945" y="1159"/>
                  </a:lnTo>
                  <a:lnTo>
                    <a:pt x="3930" y="1154"/>
                  </a:lnTo>
                  <a:lnTo>
                    <a:pt x="3914" y="1154"/>
                  </a:lnTo>
                  <a:lnTo>
                    <a:pt x="3899" y="1149"/>
                  </a:lnTo>
                  <a:lnTo>
                    <a:pt x="3889" y="1144"/>
                  </a:lnTo>
                  <a:lnTo>
                    <a:pt x="3874" y="1144"/>
                  </a:lnTo>
                  <a:lnTo>
                    <a:pt x="3859" y="1139"/>
                  </a:lnTo>
                  <a:lnTo>
                    <a:pt x="3844" y="1139"/>
                  </a:lnTo>
                  <a:lnTo>
                    <a:pt x="3829" y="1134"/>
                  </a:lnTo>
                  <a:lnTo>
                    <a:pt x="3814" y="1134"/>
                  </a:lnTo>
                  <a:lnTo>
                    <a:pt x="3804" y="1129"/>
                  </a:lnTo>
                  <a:lnTo>
                    <a:pt x="3789" y="1129"/>
                  </a:lnTo>
                  <a:lnTo>
                    <a:pt x="3774" y="1124"/>
                  </a:lnTo>
                  <a:lnTo>
                    <a:pt x="3759" y="1124"/>
                  </a:lnTo>
                  <a:lnTo>
                    <a:pt x="3749" y="1120"/>
                  </a:lnTo>
                  <a:lnTo>
                    <a:pt x="3734" y="1120"/>
                  </a:lnTo>
                  <a:lnTo>
                    <a:pt x="3719" y="1115"/>
                  </a:lnTo>
                  <a:lnTo>
                    <a:pt x="3703" y="1110"/>
                  </a:lnTo>
                  <a:lnTo>
                    <a:pt x="3693" y="1110"/>
                  </a:lnTo>
                  <a:lnTo>
                    <a:pt x="3678" y="1110"/>
                  </a:lnTo>
                  <a:lnTo>
                    <a:pt x="3663" y="1110"/>
                  </a:lnTo>
                  <a:lnTo>
                    <a:pt x="3648" y="1105"/>
                  </a:lnTo>
                  <a:lnTo>
                    <a:pt x="3638" y="1105"/>
                  </a:lnTo>
                  <a:lnTo>
                    <a:pt x="3623" y="1100"/>
                  </a:lnTo>
                  <a:lnTo>
                    <a:pt x="3608" y="1095"/>
                  </a:lnTo>
                  <a:lnTo>
                    <a:pt x="3593" y="1095"/>
                  </a:lnTo>
                  <a:lnTo>
                    <a:pt x="3578" y="1095"/>
                  </a:lnTo>
                  <a:lnTo>
                    <a:pt x="3563" y="1090"/>
                  </a:lnTo>
                  <a:lnTo>
                    <a:pt x="3553" y="1090"/>
                  </a:lnTo>
                  <a:lnTo>
                    <a:pt x="3538" y="1085"/>
                  </a:lnTo>
                  <a:lnTo>
                    <a:pt x="3528" y="1080"/>
                  </a:lnTo>
                  <a:lnTo>
                    <a:pt x="3512" y="1080"/>
                  </a:lnTo>
                  <a:lnTo>
                    <a:pt x="3497" y="1075"/>
                  </a:lnTo>
                  <a:lnTo>
                    <a:pt x="3482" y="1075"/>
                  </a:lnTo>
                  <a:lnTo>
                    <a:pt x="3472" y="1070"/>
                  </a:lnTo>
                  <a:lnTo>
                    <a:pt x="3457" y="1070"/>
                  </a:lnTo>
                  <a:lnTo>
                    <a:pt x="3442" y="1065"/>
                  </a:lnTo>
                  <a:lnTo>
                    <a:pt x="3427" y="1060"/>
                  </a:lnTo>
                  <a:lnTo>
                    <a:pt x="3412" y="1060"/>
                  </a:lnTo>
                  <a:lnTo>
                    <a:pt x="3397" y="1055"/>
                  </a:lnTo>
                  <a:lnTo>
                    <a:pt x="3387" y="1055"/>
                  </a:lnTo>
                  <a:lnTo>
                    <a:pt x="3372" y="1051"/>
                  </a:lnTo>
                  <a:lnTo>
                    <a:pt x="3357" y="1051"/>
                  </a:lnTo>
                  <a:lnTo>
                    <a:pt x="3347" y="1046"/>
                  </a:lnTo>
                  <a:lnTo>
                    <a:pt x="3332" y="1046"/>
                  </a:lnTo>
                  <a:lnTo>
                    <a:pt x="3316" y="1041"/>
                  </a:lnTo>
                  <a:lnTo>
                    <a:pt x="3306" y="1036"/>
                  </a:lnTo>
                  <a:lnTo>
                    <a:pt x="3291" y="1031"/>
                  </a:lnTo>
                  <a:lnTo>
                    <a:pt x="3276" y="1031"/>
                  </a:lnTo>
                  <a:lnTo>
                    <a:pt x="3261" y="1026"/>
                  </a:lnTo>
                  <a:lnTo>
                    <a:pt x="3246" y="1021"/>
                  </a:lnTo>
                  <a:lnTo>
                    <a:pt x="3236" y="1021"/>
                  </a:lnTo>
                  <a:lnTo>
                    <a:pt x="3221" y="1016"/>
                  </a:lnTo>
                  <a:lnTo>
                    <a:pt x="3206" y="1011"/>
                  </a:lnTo>
                  <a:lnTo>
                    <a:pt x="3196" y="1011"/>
                  </a:lnTo>
                  <a:lnTo>
                    <a:pt x="3181" y="1006"/>
                  </a:lnTo>
                  <a:lnTo>
                    <a:pt x="3166" y="1001"/>
                  </a:lnTo>
                  <a:lnTo>
                    <a:pt x="3151" y="996"/>
                  </a:lnTo>
                  <a:lnTo>
                    <a:pt x="3141" y="996"/>
                  </a:lnTo>
                  <a:lnTo>
                    <a:pt x="3126" y="991"/>
                  </a:lnTo>
                  <a:lnTo>
                    <a:pt x="3110" y="986"/>
                  </a:lnTo>
                  <a:lnTo>
                    <a:pt x="3095" y="981"/>
                  </a:lnTo>
                  <a:lnTo>
                    <a:pt x="3080" y="977"/>
                  </a:lnTo>
                  <a:lnTo>
                    <a:pt x="3060" y="972"/>
                  </a:lnTo>
                  <a:lnTo>
                    <a:pt x="3045" y="967"/>
                  </a:lnTo>
                  <a:lnTo>
                    <a:pt x="3030" y="962"/>
                  </a:lnTo>
                  <a:lnTo>
                    <a:pt x="3015" y="957"/>
                  </a:lnTo>
                  <a:lnTo>
                    <a:pt x="2995" y="947"/>
                  </a:lnTo>
                  <a:lnTo>
                    <a:pt x="2980" y="942"/>
                  </a:lnTo>
                  <a:lnTo>
                    <a:pt x="2965" y="937"/>
                  </a:lnTo>
                  <a:lnTo>
                    <a:pt x="2950" y="932"/>
                  </a:lnTo>
                  <a:lnTo>
                    <a:pt x="2930" y="927"/>
                  </a:lnTo>
                  <a:lnTo>
                    <a:pt x="2919" y="922"/>
                  </a:lnTo>
                  <a:lnTo>
                    <a:pt x="2899" y="917"/>
                  </a:lnTo>
                  <a:lnTo>
                    <a:pt x="2884" y="912"/>
                  </a:lnTo>
                  <a:lnTo>
                    <a:pt x="2869" y="908"/>
                  </a:lnTo>
                  <a:lnTo>
                    <a:pt x="2854" y="898"/>
                  </a:lnTo>
                  <a:lnTo>
                    <a:pt x="2839" y="893"/>
                  </a:lnTo>
                  <a:lnTo>
                    <a:pt x="2819" y="888"/>
                  </a:lnTo>
                  <a:lnTo>
                    <a:pt x="2804" y="883"/>
                  </a:lnTo>
                  <a:lnTo>
                    <a:pt x="2789" y="878"/>
                  </a:lnTo>
                  <a:lnTo>
                    <a:pt x="2774" y="868"/>
                  </a:lnTo>
                  <a:lnTo>
                    <a:pt x="2759" y="863"/>
                  </a:lnTo>
                  <a:lnTo>
                    <a:pt x="2739" y="858"/>
                  </a:lnTo>
                  <a:lnTo>
                    <a:pt x="2724" y="853"/>
                  </a:lnTo>
                  <a:lnTo>
                    <a:pt x="2708" y="848"/>
                  </a:lnTo>
                  <a:lnTo>
                    <a:pt x="2693" y="843"/>
                  </a:lnTo>
                  <a:lnTo>
                    <a:pt x="2678" y="834"/>
                  </a:lnTo>
                  <a:lnTo>
                    <a:pt x="2663" y="829"/>
                  </a:lnTo>
                  <a:lnTo>
                    <a:pt x="2643" y="824"/>
                  </a:lnTo>
                  <a:lnTo>
                    <a:pt x="2628" y="819"/>
                  </a:lnTo>
                  <a:lnTo>
                    <a:pt x="2618" y="814"/>
                  </a:lnTo>
                  <a:lnTo>
                    <a:pt x="2603" y="809"/>
                  </a:lnTo>
                  <a:lnTo>
                    <a:pt x="2583" y="799"/>
                  </a:lnTo>
                  <a:lnTo>
                    <a:pt x="2568" y="794"/>
                  </a:lnTo>
                  <a:lnTo>
                    <a:pt x="2553" y="789"/>
                  </a:lnTo>
                  <a:lnTo>
                    <a:pt x="2538" y="784"/>
                  </a:lnTo>
                  <a:lnTo>
                    <a:pt x="2517" y="779"/>
                  </a:lnTo>
                  <a:lnTo>
                    <a:pt x="2502" y="774"/>
                  </a:lnTo>
                  <a:lnTo>
                    <a:pt x="2487" y="769"/>
                  </a:lnTo>
                  <a:lnTo>
                    <a:pt x="2472" y="764"/>
                  </a:lnTo>
                  <a:lnTo>
                    <a:pt x="2457" y="755"/>
                  </a:lnTo>
                  <a:lnTo>
                    <a:pt x="2437" y="750"/>
                  </a:lnTo>
                  <a:lnTo>
                    <a:pt x="2422" y="745"/>
                  </a:lnTo>
                  <a:lnTo>
                    <a:pt x="2407" y="740"/>
                  </a:lnTo>
                  <a:lnTo>
                    <a:pt x="2392" y="735"/>
                  </a:lnTo>
                  <a:lnTo>
                    <a:pt x="2377" y="730"/>
                  </a:lnTo>
                  <a:lnTo>
                    <a:pt x="2357" y="725"/>
                  </a:lnTo>
                  <a:lnTo>
                    <a:pt x="2342" y="720"/>
                  </a:lnTo>
                  <a:lnTo>
                    <a:pt x="2327" y="715"/>
                  </a:lnTo>
                  <a:lnTo>
                    <a:pt x="2311" y="710"/>
                  </a:lnTo>
                  <a:lnTo>
                    <a:pt x="2291" y="705"/>
                  </a:lnTo>
                  <a:lnTo>
                    <a:pt x="2276" y="700"/>
                  </a:lnTo>
                  <a:lnTo>
                    <a:pt x="2261" y="695"/>
                  </a:lnTo>
                  <a:lnTo>
                    <a:pt x="2246" y="691"/>
                  </a:lnTo>
                  <a:lnTo>
                    <a:pt x="2226" y="686"/>
                  </a:lnTo>
                  <a:lnTo>
                    <a:pt x="2211" y="681"/>
                  </a:lnTo>
                  <a:lnTo>
                    <a:pt x="2196" y="676"/>
                  </a:lnTo>
                  <a:lnTo>
                    <a:pt x="2181" y="671"/>
                  </a:lnTo>
                  <a:lnTo>
                    <a:pt x="2161" y="671"/>
                  </a:lnTo>
                  <a:lnTo>
                    <a:pt x="2146" y="666"/>
                  </a:lnTo>
                  <a:lnTo>
                    <a:pt x="2131" y="661"/>
                  </a:lnTo>
                  <a:lnTo>
                    <a:pt x="2110" y="656"/>
                  </a:lnTo>
                  <a:lnTo>
                    <a:pt x="2095" y="651"/>
                  </a:lnTo>
                  <a:lnTo>
                    <a:pt x="2080" y="651"/>
                  </a:lnTo>
                  <a:lnTo>
                    <a:pt x="2050" y="641"/>
                  </a:lnTo>
                  <a:lnTo>
                    <a:pt x="2020" y="636"/>
                  </a:lnTo>
                  <a:lnTo>
                    <a:pt x="1990" y="631"/>
                  </a:lnTo>
                  <a:lnTo>
                    <a:pt x="1960" y="621"/>
                  </a:lnTo>
                  <a:lnTo>
                    <a:pt x="1930" y="617"/>
                  </a:lnTo>
                  <a:lnTo>
                    <a:pt x="1899" y="607"/>
                  </a:lnTo>
                  <a:lnTo>
                    <a:pt x="1869" y="602"/>
                  </a:lnTo>
                  <a:lnTo>
                    <a:pt x="1839" y="597"/>
                  </a:lnTo>
                  <a:lnTo>
                    <a:pt x="1809" y="592"/>
                  </a:lnTo>
                  <a:lnTo>
                    <a:pt x="1779" y="587"/>
                  </a:lnTo>
                  <a:lnTo>
                    <a:pt x="1749" y="577"/>
                  </a:lnTo>
                  <a:lnTo>
                    <a:pt x="1718" y="572"/>
                  </a:lnTo>
                  <a:lnTo>
                    <a:pt x="1688" y="567"/>
                  </a:lnTo>
                  <a:lnTo>
                    <a:pt x="1658" y="557"/>
                  </a:lnTo>
                  <a:lnTo>
                    <a:pt x="1628" y="552"/>
                  </a:lnTo>
                  <a:lnTo>
                    <a:pt x="1598" y="548"/>
                  </a:lnTo>
                  <a:lnTo>
                    <a:pt x="1568" y="543"/>
                  </a:lnTo>
                  <a:lnTo>
                    <a:pt x="1533" y="533"/>
                  </a:lnTo>
                  <a:lnTo>
                    <a:pt x="1502" y="528"/>
                  </a:lnTo>
                  <a:lnTo>
                    <a:pt x="1472" y="523"/>
                  </a:lnTo>
                  <a:lnTo>
                    <a:pt x="1442" y="513"/>
                  </a:lnTo>
                  <a:lnTo>
                    <a:pt x="1412" y="508"/>
                  </a:lnTo>
                  <a:lnTo>
                    <a:pt x="1377" y="503"/>
                  </a:lnTo>
                  <a:lnTo>
                    <a:pt x="1352" y="493"/>
                  </a:lnTo>
                  <a:lnTo>
                    <a:pt x="1316" y="488"/>
                  </a:lnTo>
                  <a:lnTo>
                    <a:pt x="1286" y="478"/>
                  </a:lnTo>
                  <a:lnTo>
                    <a:pt x="1256" y="474"/>
                  </a:lnTo>
                  <a:lnTo>
                    <a:pt x="1226" y="469"/>
                  </a:lnTo>
                  <a:lnTo>
                    <a:pt x="1196" y="459"/>
                  </a:lnTo>
                  <a:lnTo>
                    <a:pt x="1166" y="454"/>
                  </a:lnTo>
                  <a:lnTo>
                    <a:pt x="1136" y="444"/>
                  </a:lnTo>
                  <a:lnTo>
                    <a:pt x="1105" y="439"/>
                  </a:lnTo>
                  <a:lnTo>
                    <a:pt x="1070" y="429"/>
                  </a:lnTo>
                  <a:lnTo>
                    <a:pt x="1040" y="424"/>
                  </a:lnTo>
                  <a:lnTo>
                    <a:pt x="1010" y="414"/>
                  </a:lnTo>
                  <a:lnTo>
                    <a:pt x="980" y="409"/>
                  </a:lnTo>
                  <a:lnTo>
                    <a:pt x="950" y="400"/>
                  </a:lnTo>
                  <a:lnTo>
                    <a:pt x="919" y="390"/>
                  </a:lnTo>
                  <a:lnTo>
                    <a:pt x="889" y="385"/>
                  </a:lnTo>
                  <a:lnTo>
                    <a:pt x="859" y="375"/>
                  </a:lnTo>
                  <a:lnTo>
                    <a:pt x="824" y="365"/>
                  </a:lnTo>
                  <a:lnTo>
                    <a:pt x="799" y="360"/>
                  </a:lnTo>
                  <a:lnTo>
                    <a:pt x="764" y="350"/>
                  </a:lnTo>
                  <a:lnTo>
                    <a:pt x="733" y="340"/>
                  </a:lnTo>
                  <a:lnTo>
                    <a:pt x="703" y="331"/>
                  </a:lnTo>
                  <a:lnTo>
                    <a:pt x="673" y="326"/>
                  </a:lnTo>
                  <a:lnTo>
                    <a:pt x="648" y="311"/>
                  </a:lnTo>
                  <a:lnTo>
                    <a:pt x="618" y="306"/>
                  </a:lnTo>
                  <a:lnTo>
                    <a:pt x="588" y="296"/>
                  </a:lnTo>
                  <a:lnTo>
                    <a:pt x="558" y="286"/>
                  </a:lnTo>
                  <a:lnTo>
                    <a:pt x="527" y="276"/>
                  </a:lnTo>
                  <a:lnTo>
                    <a:pt x="502" y="266"/>
                  </a:lnTo>
                  <a:lnTo>
                    <a:pt x="472" y="252"/>
                  </a:lnTo>
                  <a:lnTo>
                    <a:pt x="442" y="242"/>
                  </a:lnTo>
                  <a:lnTo>
                    <a:pt x="412" y="232"/>
                  </a:lnTo>
                  <a:lnTo>
                    <a:pt x="387" y="222"/>
                  </a:lnTo>
                  <a:lnTo>
                    <a:pt x="357" y="207"/>
                  </a:lnTo>
                  <a:lnTo>
                    <a:pt x="326" y="197"/>
                  </a:lnTo>
                  <a:lnTo>
                    <a:pt x="301" y="183"/>
                  </a:lnTo>
                  <a:lnTo>
                    <a:pt x="271" y="173"/>
                  </a:lnTo>
                  <a:lnTo>
                    <a:pt x="241" y="163"/>
                  </a:lnTo>
                  <a:lnTo>
                    <a:pt x="216" y="148"/>
                  </a:lnTo>
                  <a:lnTo>
                    <a:pt x="186" y="133"/>
                  </a:lnTo>
                  <a:lnTo>
                    <a:pt x="161" y="123"/>
                  </a:lnTo>
                  <a:lnTo>
                    <a:pt x="156" y="118"/>
                  </a:lnTo>
                  <a:lnTo>
                    <a:pt x="156" y="114"/>
                  </a:lnTo>
                  <a:lnTo>
                    <a:pt x="151" y="104"/>
                  </a:lnTo>
                  <a:lnTo>
                    <a:pt x="146" y="89"/>
                  </a:lnTo>
                  <a:lnTo>
                    <a:pt x="135" y="84"/>
                  </a:lnTo>
                  <a:lnTo>
                    <a:pt x="130" y="74"/>
                  </a:lnTo>
                  <a:lnTo>
                    <a:pt x="120" y="64"/>
                  </a:lnTo>
                  <a:lnTo>
                    <a:pt x="110" y="54"/>
                  </a:lnTo>
                  <a:lnTo>
                    <a:pt x="95" y="40"/>
                  </a:lnTo>
                  <a:lnTo>
                    <a:pt x="80" y="30"/>
                  </a:lnTo>
                  <a:lnTo>
                    <a:pt x="65" y="20"/>
                  </a:lnTo>
                  <a:lnTo>
                    <a:pt x="45" y="1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5" y="15"/>
                  </a:lnTo>
                  <a:lnTo>
                    <a:pt x="0" y="25"/>
                  </a:lnTo>
                  <a:lnTo>
                    <a:pt x="5" y="44"/>
                  </a:lnTo>
                  <a:lnTo>
                    <a:pt x="5" y="54"/>
                  </a:lnTo>
                  <a:lnTo>
                    <a:pt x="10" y="64"/>
                  </a:lnTo>
                  <a:lnTo>
                    <a:pt x="15" y="74"/>
                  </a:lnTo>
                  <a:lnTo>
                    <a:pt x="20" y="84"/>
                  </a:lnTo>
                  <a:lnTo>
                    <a:pt x="20" y="94"/>
                  </a:lnTo>
                  <a:lnTo>
                    <a:pt x="25" y="104"/>
                  </a:lnTo>
                  <a:lnTo>
                    <a:pt x="30" y="118"/>
                  </a:lnTo>
                  <a:lnTo>
                    <a:pt x="35" y="128"/>
                  </a:lnTo>
                  <a:lnTo>
                    <a:pt x="40" y="138"/>
                  </a:lnTo>
                  <a:lnTo>
                    <a:pt x="45" y="148"/>
                  </a:lnTo>
                  <a:lnTo>
                    <a:pt x="50" y="153"/>
                  </a:lnTo>
                  <a:lnTo>
                    <a:pt x="55" y="168"/>
                  </a:lnTo>
                  <a:lnTo>
                    <a:pt x="60" y="183"/>
                  </a:lnTo>
                  <a:lnTo>
                    <a:pt x="65" y="192"/>
                  </a:lnTo>
                  <a:lnTo>
                    <a:pt x="70" y="202"/>
                  </a:lnTo>
                  <a:lnTo>
                    <a:pt x="75" y="207"/>
                  </a:lnTo>
                  <a:lnTo>
                    <a:pt x="75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1143000" y="2057400"/>
            <a:ext cx="60199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Times New Roman"/>
              </a:rPr>
              <a:t>Scenario 6: Duey Decimal previously defaulted but has made satisfactory repayment arrangements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Times New Roman"/>
              </a:rPr>
              <a:t>He’s again attending school but the defaulted loan remains on NSLD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Times New Roman"/>
              </a:rPr>
              <a:t>What should the FAA do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21225600">
            <a:off x="5029200" y="438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23-45-67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F374-B970-43C1-8255-3A4EEBDFA0F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7" name=""/>
          <p:cNvGraphicFramePr/>
          <p:nvPr/>
        </p:nvGraphicFramePr>
        <p:xfrm>
          <a:off x="6858000" y="2514600"/>
          <a:ext cx="76212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514600"/>
                    <a:ext cx="76212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ata matters and NSLD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ssue: GA unsuccessful in reporting loan status update.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Effects of the issue: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onflicting NSLDS informati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FAA not sure what to do when reviewing student’s file for award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solution: FAA can accept student’s documentation and verify satisfactory arrangements with GA/Lender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C421-AA71-46F4-82E6-9D0D5F894BE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ata matters and NSLD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Results of resolution: 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Student not negatively impacted by GA’s reporting issue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FAA able to proceed with award because documentation satisfies discrepancy (GEN-96-13)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89F3-A5E5-41C8-BA8C-8F8D5AFE323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"/>
          <p:cNvGrpSpPr/>
          <p:nvPr/>
        </p:nvGrpSpPr>
        <p:grpSpPr>
          <a:xfrm>
            <a:off x="-285480" y="-1136520"/>
            <a:ext cx="10391040" cy="9245880"/>
            <a:chOff x="-285480" y="-1136520"/>
            <a:chExt cx="10391040" cy="9245880"/>
          </a:xfrm>
        </p:grpSpPr>
        <p:sp>
          <p:nvSpPr>
            <p:cNvPr id="554" name=""/>
            <p:cNvSpPr/>
            <p:nvPr/>
          </p:nvSpPr>
          <p:spPr>
            <a:xfrm flipH="1" flipV="1" rot="9362400">
              <a:off x="2228400" y="-49680"/>
              <a:ext cx="6700680" cy="6348240"/>
            </a:xfrm>
            <a:custGeom>
              <a:avLst/>
              <a:gdLst/>
              <a:ahLst/>
              <a:rect l="l" t="t" r="r" b="b"/>
              <a:pathLst>
                <a:path w="4221" h="3999">
                  <a:moveTo>
                    <a:pt x="0" y="113"/>
                  </a:moveTo>
                  <a:lnTo>
                    <a:pt x="276" y="0"/>
                  </a:lnTo>
                  <a:lnTo>
                    <a:pt x="804" y="133"/>
                  </a:lnTo>
                  <a:lnTo>
                    <a:pt x="2125" y="463"/>
                  </a:lnTo>
                  <a:lnTo>
                    <a:pt x="2402" y="310"/>
                  </a:lnTo>
                  <a:lnTo>
                    <a:pt x="3744" y="715"/>
                  </a:lnTo>
                  <a:lnTo>
                    <a:pt x="3844" y="1080"/>
                  </a:lnTo>
                  <a:lnTo>
                    <a:pt x="4221" y="1356"/>
                  </a:lnTo>
                  <a:lnTo>
                    <a:pt x="4221" y="1662"/>
                  </a:lnTo>
                  <a:lnTo>
                    <a:pt x="3296" y="3950"/>
                  </a:lnTo>
                  <a:lnTo>
                    <a:pt x="3090" y="3999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flipV="1" rot="9362400">
              <a:off x="834120" y="680760"/>
              <a:ext cx="6837480" cy="6246720"/>
            </a:xfrm>
            <a:custGeom>
              <a:avLst/>
              <a:gdLst/>
              <a:ahLst/>
              <a:rect l="l" t="t" r="r" b="b"/>
              <a:pathLst>
                <a:path w="4307" h="3935">
                  <a:moveTo>
                    <a:pt x="311" y="59"/>
                  </a:moveTo>
                  <a:lnTo>
                    <a:pt x="774" y="0"/>
                  </a:lnTo>
                  <a:lnTo>
                    <a:pt x="4070" y="1001"/>
                  </a:lnTo>
                  <a:lnTo>
                    <a:pt x="4276" y="1223"/>
                  </a:lnTo>
                  <a:lnTo>
                    <a:pt x="4307" y="1681"/>
                  </a:lnTo>
                  <a:lnTo>
                    <a:pt x="4100" y="3915"/>
                  </a:lnTo>
                  <a:lnTo>
                    <a:pt x="3889" y="3935"/>
                  </a:lnTo>
                  <a:lnTo>
                    <a:pt x="1432" y="3269"/>
                  </a:lnTo>
                  <a:lnTo>
                    <a:pt x="427" y="3032"/>
                  </a:lnTo>
                  <a:lnTo>
                    <a:pt x="110" y="2860"/>
                  </a:lnTo>
                  <a:lnTo>
                    <a:pt x="0" y="2579"/>
                  </a:lnTo>
                  <a:lnTo>
                    <a:pt x="65" y="1301"/>
                  </a:lnTo>
                  <a:lnTo>
                    <a:pt x="75" y="438"/>
                  </a:lnTo>
                  <a:lnTo>
                    <a:pt x="311" y="59"/>
                  </a:lnTo>
                  <a:lnTo>
                    <a:pt x="311" y="59"/>
                  </a:lnTo>
                  <a:close/>
                </a:path>
              </a:pathLst>
            </a:custGeom>
            <a:solidFill>
              <a:srgbClr val="fce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flipV="1" rot="9362400">
              <a:off x="7415640" y="1358640"/>
              <a:ext cx="1285920" cy="3632760"/>
            </a:xfrm>
            <a:custGeom>
              <a:avLst/>
              <a:gdLst/>
              <a:ahLst/>
              <a:rect l="l" t="t" r="r" b="b"/>
              <a:pathLst>
                <a:path w="810" h="2288">
                  <a:moveTo>
                    <a:pt x="237" y="0"/>
                  </a:moveTo>
                  <a:lnTo>
                    <a:pt x="810" y="246"/>
                  </a:lnTo>
                  <a:lnTo>
                    <a:pt x="51" y="2288"/>
                  </a:lnTo>
                  <a:lnTo>
                    <a:pt x="0" y="2258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 rot="9362400">
              <a:off x="4663080" y="-189720"/>
              <a:ext cx="3533760" cy="1957320"/>
            </a:xfrm>
            <a:custGeom>
              <a:avLst/>
              <a:gdLst/>
              <a:ahLst/>
              <a:rect l="l" t="t" r="r" b="b"/>
              <a:pathLst>
                <a:path w="2226" h="1233">
                  <a:moveTo>
                    <a:pt x="40" y="286"/>
                  </a:moveTo>
                  <a:lnTo>
                    <a:pt x="56" y="276"/>
                  </a:lnTo>
                  <a:lnTo>
                    <a:pt x="71" y="266"/>
                  </a:lnTo>
                  <a:lnTo>
                    <a:pt x="86" y="252"/>
                  </a:lnTo>
                  <a:lnTo>
                    <a:pt x="101" y="242"/>
                  </a:lnTo>
                  <a:lnTo>
                    <a:pt x="116" y="222"/>
                  </a:lnTo>
                  <a:lnTo>
                    <a:pt x="131" y="207"/>
                  </a:lnTo>
                  <a:lnTo>
                    <a:pt x="146" y="197"/>
                  </a:lnTo>
                  <a:lnTo>
                    <a:pt x="161" y="183"/>
                  </a:lnTo>
                  <a:lnTo>
                    <a:pt x="171" y="173"/>
                  </a:lnTo>
                  <a:lnTo>
                    <a:pt x="186" y="163"/>
                  </a:lnTo>
                  <a:lnTo>
                    <a:pt x="201" y="153"/>
                  </a:lnTo>
                  <a:lnTo>
                    <a:pt x="216" y="143"/>
                  </a:lnTo>
                  <a:lnTo>
                    <a:pt x="226" y="138"/>
                  </a:lnTo>
                  <a:lnTo>
                    <a:pt x="241" y="133"/>
                  </a:lnTo>
                  <a:lnTo>
                    <a:pt x="257" y="128"/>
                  </a:lnTo>
                  <a:lnTo>
                    <a:pt x="272" y="123"/>
                  </a:lnTo>
                  <a:lnTo>
                    <a:pt x="282" y="119"/>
                  </a:lnTo>
                  <a:lnTo>
                    <a:pt x="297" y="119"/>
                  </a:lnTo>
                  <a:lnTo>
                    <a:pt x="312" y="119"/>
                  </a:lnTo>
                  <a:lnTo>
                    <a:pt x="327" y="119"/>
                  </a:lnTo>
                  <a:lnTo>
                    <a:pt x="337" y="119"/>
                  </a:lnTo>
                  <a:lnTo>
                    <a:pt x="352" y="119"/>
                  </a:lnTo>
                  <a:lnTo>
                    <a:pt x="367" y="119"/>
                  </a:lnTo>
                  <a:lnTo>
                    <a:pt x="382" y="123"/>
                  </a:lnTo>
                  <a:lnTo>
                    <a:pt x="397" y="123"/>
                  </a:lnTo>
                  <a:lnTo>
                    <a:pt x="412" y="128"/>
                  </a:lnTo>
                  <a:lnTo>
                    <a:pt x="422" y="133"/>
                  </a:lnTo>
                  <a:lnTo>
                    <a:pt x="437" y="138"/>
                  </a:lnTo>
                  <a:lnTo>
                    <a:pt x="453" y="143"/>
                  </a:lnTo>
                  <a:lnTo>
                    <a:pt x="468" y="143"/>
                  </a:lnTo>
                  <a:lnTo>
                    <a:pt x="478" y="148"/>
                  </a:lnTo>
                  <a:lnTo>
                    <a:pt x="493" y="158"/>
                  </a:lnTo>
                  <a:lnTo>
                    <a:pt x="508" y="163"/>
                  </a:lnTo>
                  <a:lnTo>
                    <a:pt x="523" y="168"/>
                  </a:lnTo>
                  <a:lnTo>
                    <a:pt x="538" y="173"/>
                  </a:lnTo>
                  <a:lnTo>
                    <a:pt x="553" y="178"/>
                  </a:lnTo>
                  <a:lnTo>
                    <a:pt x="563" y="183"/>
                  </a:lnTo>
                  <a:lnTo>
                    <a:pt x="583" y="188"/>
                  </a:lnTo>
                  <a:lnTo>
                    <a:pt x="593" y="193"/>
                  </a:lnTo>
                  <a:lnTo>
                    <a:pt x="613" y="197"/>
                  </a:lnTo>
                  <a:lnTo>
                    <a:pt x="623" y="202"/>
                  </a:lnTo>
                  <a:lnTo>
                    <a:pt x="633" y="207"/>
                  </a:lnTo>
                  <a:lnTo>
                    <a:pt x="649" y="212"/>
                  </a:lnTo>
                  <a:lnTo>
                    <a:pt x="664" y="217"/>
                  </a:lnTo>
                  <a:lnTo>
                    <a:pt x="674" y="222"/>
                  </a:lnTo>
                  <a:lnTo>
                    <a:pt x="684" y="227"/>
                  </a:lnTo>
                  <a:lnTo>
                    <a:pt x="699" y="227"/>
                  </a:lnTo>
                  <a:lnTo>
                    <a:pt x="714" y="232"/>
                  </a:lnTo>
                  <a:lnTo>
                    <a:pt x="724" y="237"/>
                  </a:lnTo>
                  <a:lnTo>
                    <a:pt x="734" y="242"/>
                  </a:lnTo>
                  <a:lnTo>
                    <a:pt x="749" y="247"/>
                  </a:lnTo>
                  <a:lnTo>
                    <a:pt x="764" y="252"/>
                  </a:lnTo>
                  <a:lnTo>
                    <a:pt x="774" y="257"/>
                  </a:lnTo>
                  <a:lnTo>
                    <a:pt x="789" y="262"/>
                  </a:lnTo>
                  <a:lnTo>
                    <a:pt x="799" y="266"/>
                  </a:lnTo>
                  <a:lnTo>
                    <a:pt x="814" y="271"/>
                  </a:lnTo>
                  <a:lnTo>
                    <a:pt x="829" y="276"/>
                  </a:lnTo>
                  <a:lnTo>
                    <a:pt x="839" y="281"/>
                  </a:lnTo>
                  <a:lnTo>
                    <a:pt x="855" y="286"/>
                  </a:lnTo>
                  <a:lnTo>
                    <a:pt x="865" y="291"/>
                  </a:lnTo>
                  <a:lnTo>
                    <a:pt x="880" y="296"/>
                  </a:lnTo>
                  <a:lnTo>
                    <a:pt x="890" y="301"/>
                  </a:lnTo>
                  <a:lnTo>
                    <a:pt x="905" y="306"/>
                  </a:lnTo>
                  <a:lnTo>
                    <a:pt x="920" y="311"/>
                  </a:lnTo>
                  <a:lnTo>
                    <a:pt x="930" y="311"/>
                  </a:lnTo>
                  <a:lnTo>
                    <a:pt x="945" y="321"/>
                  </a:lnTo>
                  <a:lnTo>
                    <a:pt x="955" y="321"/>
                  </a:lnTo>
                  <a:lnTo>
                    <a:pt x="970" y="326"/>
                  </a:lnTo>
                  <a:lnTo>
                    <a:pt x="985" y="331"/>
                  </a:lnTo>
                  <a:lnTo>
                    <a:pt x="1000" y="336"/>
                  </a:lnTo>
                  <a:lnTo>
                    <a:pt x="1010" y="340"/>
                  </a:lnTo>
                  <a:lnTo>
                    <a:pt x="1025" y="345"/>
                  </a:lnTo>
                  <a:lnTo>
                    <a:pt x="1035" y="350"/>
                  </a:lnTo>
                  <a:lnTo>
                    <a:pt x="1051" y="355"/>
                  </a:lnTo>
                  <a:lnTo>
                    <a:pt x="1066" y="360"/>
                  </a:lnTo>
                  <a:lnTo>
                    <a:pt x="1081" y="365"/>
                  </a:lnTo>
                  <a:lnTo>
                    <a:pt x="1091" y="370"/>
                  </a:lnTo>
                  <a:lnTo>
                    <a:pt x="1106" y="375"/>
                  </a:lnTo>
                  <a:lnTo>
                    <a:pt x="1116" y="375"/>
                  </a:lnTo>
                  <a:lnTo>
                    <a:pt x="1131" y="385"/>
                  </a:lnTo>
                  <a:lnTo>
                    <a:pt x="1146" y="385"/>
                  </a:lnTo>
                  <a:lnTo>
                    <a:pt x="1156" y="390"/>
                  </a:lnTo>
                  <a:lnTo>
                    <a:pt x="1171" y="395"/>
                  </a:lnTo>
                  <a:lnTo>
                    <a:pt x="1186" y="395"/>
                  </a:lnTo>
                  <a:lnTo>
                    <a:pt x="1196" y="400"/>
                  </a:lnTo>
                  <a:lnTo>
                    <a:pt x="1211" y="405"/>
                  </a:lnTo>
                  <a:lnTo>
                    <a:pt x="1221" y="409"/>
                  </a:lnTo>
                  <a:lnTo>
                    <a:pt x="1236" y="414"/>
                  </a:lnTo>
                  <a:lnTo>
                    <a:pt x="1252" y="414"/>
                  </a:lnTo>
                  <a:lnTo>
                    <a:pt x="1267" y="419"/>
                  </a:lnTo>
                  <a:lnTo>
                    <a:pt x="1277" y="424"/>
                  </a:lnTo>
                  <a:lnTo>
                    <a:pt x="1292" y="424"/>
                  </a:lnTo>
                  <a:lnTo>
                    <a:pt x="1302" y="429"/>
                  </a:lnTo>
                  <a:lnTo>
                    <a:pt x="1317" y="434"/>
                  </a:lnTo>
                  <a:lnTo>
                    <a:pt x="1332" y="434"/>
                  </a:lnTo>
                  <a:lnTo>
                    <a:pt x="1347" y="439"/>
                  </a:lnTo>
                  <a:lnTo>
                    <a:pt x="1357" y="444"/>
                  </a:lnTo>
                  <a:lnTo>
                    <a:pt x="1372" y="449"/>
                  </a:lnTo>
                  <a:lnTo>
                    <a:pt x="1382" y="449"/>
                  </a:lnTo>
                  <a:lnTo>
                    <a:pt x="1397" y="454"/>
                  </a:lnTo>
                  <a:lnTo>
                    <a:pt x="1407" y="454"/>
                  </a:lnTo>
                  <a:lnTo>
                    <a:pt x="1422" y="459"/>
                  </a:lnTo>
                  <a:lnTo>
                    <a:pt x="1438" y="459"/>
                  </a:lnTo>
                  <a:lnTo>
                    <a:pt x="1453" y="464"/>
                  </a:lnTo>
                  <a:lnTo>
                    <a:pt x="1463" y="464"/>
                  </a:lnTo>
                  <a:lnTo>
                    <a:pt x="1473" y="469"/>
                  </a:lnTo>
                  <a:lnTo>
                    <a:pt x="1483" y="469"/>
                  </a:lnTo>
                  <a:lnTo>
                    <a:pt x="1498" y="474"/>
                  </a:lnTo>
                  <a:lnTo>
                    <a:pt x="1513" y="479"/>
                  </a:lnTo>
                  <a:lnTo>
                    <a:pt x="1533" y="483"/>
                  </a:lnTo>
                  <a:lnTo>
                    <a:pt x="1543" y="488"/>
                  </a:lnTo>
                  <a:lnTo>
                    <a:pt x="1558" y="498"/>
                  </a:lnTo>
                  <a:lnTo>
                    <a:pt x="1568" y="508"/>
                  </a:lnTo>
                  <a:lnTo>
                    <a:pt x="1578" y="518"/>
                  </a:lnTo>
                  <a:lnTo>
                    <a:pt x="1583" y="523"/>
                  </a:lnTo>
                  <a:lnTo>
                    <a:pt x="1593" y="533"/>
                  </a:lnTo>
                  <a:lnTo>
                    <a:pt x="1598" y="548"/>
                  </a:lnTo>
                  <a:lnTo>
                    <a:pt x="1603" y="557"/>
                  </a:lnTo>
                  <a:lnTo>
                    <a:pt x="1603" y="567"/>
                  </a:lnTo>
                  <a:lnTo>
                    <a:pt x="1608" y="577"/>
                  </a:lnTo>
                  <a:lnTo>
                    <a:pt x="1608" y="587"/>
                  </a:lnTo>
                  <a:lnTo>
                    <a:pt x="1613" y="602"/>
                  </a:lnTo>
                  <a:lnTo>
                    <a:pt x="1613" y="612"/>
                  </a:lnTo>
                  <a:lnTo>
                    <a:pt x="1613" y="622"/>
                  </a:lnTo>
                  <a:lnTo>
                    <a:pt x="1613" y="636"/>
                  </a:lnTo>
                  <a:lnTo>
                    <a:pt x="1613" y="651"/>
                  </a:lnTo>
                  <a:lnTo>
                    <a:pt x="1613" y="661"/>
                  </a:lnTo>
                  <a:lnTo>
                    <a:pt x="1613" y="676"/>
                  </a:lnTo>
                  <a:lnTo>
                    <a:pt x="1613" y="686"/>
                  </a:lnTo>
                  <a:lnTo>
                    <a:pt x="1618" y="700"/>
                  </a:lnTo>
                  <a:lnTo>
                    <a:pt x="1618" y="715"/>
                  </a:lnTo>
                  <a:lnTo>
                    <a:pt x="1618" y="730"/>
                  </a:lnTo>
                  <a:lnTo>
                    <a:pt x="1623" y="745"/>
                  </a:lnTo>
                  <a:lnTo>
                    <a:pt x="1628" y="760"/>
                  </a:lnTo>
                  <a:lnTo>
                    <a:pt x="1633" y="769"/>
                  </a:lnTo>
                  <a:lnTo>
                    <a:pt x="1639" y="789"/>
                  </a:lnTo>
                  <a:lnTo>
                    <a:pt x="1649" y="799"/>
                  </a:lnTo>
                  <a:lnTo>
                    <a:pt x="1659" y="814"/>
                  </a:lnTo>
                  <a:lnTo>
                    <a:pt x="1669" y="829"/>
                  </a:lnTo>
                  <a:lnTo>
                    <a:pt x="1679" y="843"/>
                  </a:lnTo>
                  <a:lnTo>
                    <a:pt x="1689" y="853"/>
                  </a:lnTo>
                  <a:lnTo>
                    <a:pt x="1704" y="868"/>
                  </a:lnTo>
                  <a:lnTo>
                    <a:pt x="1719" y="878"/>
                  </a:lnTo>
                  <a:lnTo>
                    <a:pt x="1734" y="888"/>
                  </a:lnTo>
                  <a:lnTo>
                    <a:pt x="1749" y="898"/>
                  </a:lnTo>
                  <a:lnTo>
                    <a:pt x="1764" y="913"/>
                  </a:lnTo>
                  <a:lnTo>
                    <a:pt x="1779" y="922"/>
                  </a:lnTo>
                  <a:lnTo>
                    <a:pt x="1799" y="932"/>
                  </a:lnTo>
                  <a:lnTo>
                    <a:pt x="1814" y="942"/>
                  </a:lnTo>
                  <a:lnTo>
                    <a:pt x="1829" y="952"/>
                  </a:lnTo>
                  <a:lnTo>
                    <a:pt x="1850" y="962"/>
                  </a:lnTo>
                  <a:lnTo>
                    <a:pt x="1865" y="972"/>
                  </a:lnTo>
                  <a:lnTo>
                    <a:pt x="1885" y="982"/>
                  </a:lnTo>
                  <a:lnTo>
                    <a:pt x="1900" y="991"/>
                  </a:lnTo>
                  <a:lnTo>
                    <a:pt x="1915" y="1001"/>
                  </a:lnTo>
                  <a:lnTo>
                    <a:pt x="1935" y="1011"/>
                  </a:lnTo>
                  <a:lnTo>
                    <a:pt x="1950" y="1021"/>
                  </a:lnTo>
                  <a:lnTo>
                    <a:pt x="1965" y="1031"/>
                  </a:lnTo>
                  <a:lnTo>
                    <a:pt x="1980" y="1041"/>
                  </a:lnTo>
                  <a:lnTo>
                    <a:pt x="2000" y="1051"/>
                  </a:lnTo>
                  <a:lnTo>
                    <a:pt x="2015" y="1065"/>
                  </a:lnTo>
                  <a:lnTo>
                    <a:pt x="2025" y="1075"/>
                  </a:lnTo>
                  <a:lnTo>
                    <a:pt x="2041" y="1085"/>
                  </a:lnTo>
                  <a:lnTo>
                    <a:pt x="2051" y="1100"/>
                  </a:lnTo>
                  <a:lnTo>
                    <a:pt x="2066" y="1115"/>
                  </a:lnTo>
                  <a:lnTo>
                    <a:pt x="2076" y="1125"/>
                  </a:lnTo>
                  <a:lnTo>
                    <a:pt x="2081" y="1139"/>
                  </a:lnTo>
                  <a:lnTo>
                    <a:pt x="2091" y="1159"/>
                  </a:lnTo>
                  <a:lnTo>
                    <a:pt x="2096" y="1174"/>
                  </a:lnTo>
                  <a:lnTo>
                    <a:pt x="2106" y="1194"/>
                  </a:lnTo>
                  <a:lnTo>
                    <a:pt x="2106" y="1203"/>
                  </a:lnTo>
                  <a:lnTo>
                    <a:pt x="2116" y="1213"/>
                  </a:lnTo>
                  <a:lnTo>
                    <a:pt x="2121" y="1218"/>
                  </a:lnTo>
                  <a:lnTo>
                    <a:pt x="2131" y="1228"/>
                  </a:lnTo>
                  <a:lnTo>
                    <a:pt x="2136" y="1228"/>
                  </a:lnTo>
                  <a:lnTo>
                    <a:pt x="2151" y="1233"/>
                  </a:lnTo>
                  <a:lnTo>
                    <a:pt x="2161" y="1233"/>
                  </a:lnTo>
                  <a:lnTo>
                    <a:pt x="2171" y="1233"/>
                  </a:lnTo>
                  <a:lnTo>
                    <a:pt x="2181" y="1233"/>
                  </a:lnTo>
                  <a:lnTo>
                    <a:pt x="2191" y="1228"/>
                  </a:lnTo>
                  <a:lnTo>
                    <a:pt x="2201" y="1218"/>
                  </a:lnTo>
                  <a:lnTo>
                    <a:pt x="2211" y="1213"/>
                  </a:lnTo>
                  <a:lnTo>
                    <a:pt x="2216" y="1203"/>
                  </a:lnTo>
                  <a:lnTo>
                    <a:pt x="2221" y="1199"/>
                  </a:lnTo>
                  <a:lnTo>
                    <a:pt x="2226" y="1184"/>
                  </a:lnTo>
                  <a:lnTo>
                    <a:pt x="2226" y="1174"/>
                  </a:lnTo>
                  <a:lnTo>
                    <a:pt x="2226" y="1154"/>
                  </a:lnTo>
                  <a:lnTo>
                    <a:pt x="2226" y="1139"/>
                  </a:lnTo>
                  <a:lnTo>
                    <a:pt x="2221" y="1120"/>
                  </a:lnTo>
                  <a:lnTo>
                    <a:pt x="2221" y="1105"/>
                  </a:lnTo>
                  <a:lnTo>
                    <a:pt x="2216" y="1090"/>
                  </a:lnTo>
                  <a:lnTo>
                    <a:pt x="2206" y="1075"/>
                  </a:lnTo>
                  <a:lnTo>
                    <a:pt x="2201" y="1065"/>
                  </a:lnTo>
                  <a:lnTo>
                    <a:pt x="2196" y="1051"/>
                  </a:lnTo>
                  <a:lnTo>
                    <a:pt x="2186" y="1036"/>
                  </a:lnTo>
                  <a:lnTo>
                    <a:pt x="2176" y="1026"/>
                  </a:lnTo>
                  <a:lnTo>
                    <a:pt x="2171" y="1016"/>
                  </a:lnTo>
                  <a:lnTo>
                    <a:pt x="2161" y="1006"/>
                  </a:lnTo>
                  <a:lnTo>
                    <a:pt x="2151" y="991"/>
                  </a:lnTo>
                  <a:lnTo>
                    <a:pt x="2136" y="982"/>
                  </a:lnTo>
                  <a:lnTo>
                    <a:pt x="2126" y="972"/>
                  </a:lnTo>
                  <a:lnTo>
                    <a:pt x="2116" y="962"/>
                  </a:lnTo>
                  <a:lnTo>
                    <a:pt x="2101" y="952"/>
                  </a:lnTo>
                  <a:lnTo>
                    <a:pt x="2086" y="942"/>
                  </a:lnTo>
                  <a:lnTo>
                    <a:pt x="2076" y="937"/>
                  </a:lnTo>
                  <a:lnTo>
                    <a:pt x="2061" y="927"/>
                  </a:lnTo>
                  <a:lnTo>
                    <a:pt x="2046" y="917"/>
                  </a:lnTo>
                  <a:lnTo>
                    <a:pt x="2030" y="913"/>
                  </a:lnTo>
                  <a:lnTo>
                    <a:pt x="2015" y="903"/>
                  </a:lnTo>
                  <a:lnTo>
                    <a:pt x="2005" y="898"/>
                  </a:lnTo>
                  <a:lnTo>
                    <a:pt x="1985" y="888"/>
                  </a:lnTo>
                  <a:lnTo>
                    <a:pt x="1970" y="878"/>
                  </a:lnTo>
                  <a:lnTo>
                    <a:pt x="1955" y="873"/>
                  </a:lnTo>
                  <a:lnTo>
                    <a:pt x="1945" y="863"/>
                  </a:lnTo>
                  <a:lnTo>
                    <a:pt x="1925" y="858"/>
                  </a:lnTo>
                  <a:lnTo>
                    <a:pt x="1915" y="848"/>
                  </a:lnTo>
                  <a:lnTo>
                    <a:pt x="1900" y="843"/>
                  </a:lnTo>
                  <a:lnTo>
                    <a:pt x="1890" y="839"/>
                  </a:lnTo>
                  <a:lnTo>
                    <a:pt x="1875" y="829"/>
                  </a:lnTo>
                  <a:lnTo>
                    <a:pt x="1865" y="824"/>
                  </a:lnTo>
                  <a:lnTo>
                    <a:pt x="1855" y="814"/>
                  </a:lnTo>
                  <a:lnTo>
                    <a:pt x="1845" y="809"/>
                  </a:lnTo>
                  <a:lnTo>
                    <a:pt x="1824" y="794"/>
                  </a:lnTo>
                  <a:lnTo>
                    <a:pt x="1814" y="779"/>
                  </a:lnTo>
                  <a:lnTo>
                    <a:pt x="1804" y="765"/>
                  </a:lnTo>
                  <a:lnTo>
                    <a:pt x="1794" y="745"/>
                  </a:lnTo>
                  <a:lnTo>
                    <a:pt x="1784" y="730"/>
                  </a:lnTo>
                  <a:lnTo>
                    <a:pt x="1784" y="715"/>
                  </a:lnTo>
                  <a:lnTo>
                    <a:pt x="1774" y="696"/>
                  </a:lnTo>
                  <a:lnTo>
                    <a:pt x="1774" y="681"/>
                  </a:lnTo>
                  <a:lnTo>
                    <a:pt x="1774" y="666"/>
                  </a:lnTo>
                  <a:lnTo>
                    <a:pt x="1774" y="646"/>
                  </a:lnTo>
                  <a:lnTo>
                    <a:pt x="1774" y="631"/>
                  </a:lnTo>
                  <a:lnTo>
                    <a:pt x="1774" y="612"/>
                  </a:lnTo>
                  <a:lnTo>
                    <a:pt x="1774" y="597"/>
                  </a:lnTo>
                  <a:lnTo>
                    <a:pt x="1774" y="582"/>
                  </a:lnTo>
                  <a:lnTo>
                    <a:pt x="1774" y="562"/>
                  </a:lnTo>
                  <a:lnTo>
                    <a:pt x="1774" y="548"/>
                  </a:lnTo>
                  <a:lnTo>
                    <a:pt x="1774" y="528"/>
                  </a:lnTo>
                  <a:lnTo>
                    <a:pt x="1774" y="513"/>
                  </a:lnTo>
                  <a:lnTo>
                    <a:pt x="1769" y="498"/>
                  </a:lnTo>
                  <a:lnTo>
                    <a:pt x="1769" y="479"/>
                  </a:lnTo>
                  <a:lnTo>
                    <a:pt x="1764" y="464"/>
                  </a:lnTo>
                  <a:lnTo>
                    <a:pt x="1754" y="449"/>
                  </a:lnTo>
                  <a:lnTo>
                    <a:pt x="1744" y="434"/>
                  </a:lnTo>
                  <a:lnTo>
                    <a:pt x="1734" y="419"/>
                  </a:lnTo>
                  <a:lnTo>
                    <a:pt x="1719" y="405"/>
                  </a:lnTo>
                  <a:lnTo>
                    <a:pt x="1704" y="395"/>
                  </a:lnTo>
                  <a:lnTo>
                    <a:pt x="1694" y="390"/>
                  </a:lnTo>
                  <a:lnTo>
                    <a:pt x="1684" y="385"/>
                  </a:lnTo>
                  <a:lnTo>
                    <a:pt x="1674" y="375"/>
                  </a:lnTo>
                  <a:lnTo>
                    <a:pt x="1659" y="370"/>
                  </a:lnTo>
                  <a:lnTo>
                    <a:pt x="1649" y="365"/>
                  </a:lnTo>
                  <a:lnTo>
                    <a:pt x="1639" y="360"/>
                  </a:lnTo>
                  <a:lnTo>
                    <a:pt x="1623" y="355"/>
                  </a:lnTo>
                  <a:lnTo>
                    <a:pt x="1608" y="355"/>
                  </a:lnTo>
                  <a:lnTo>
                    <a:pt x="1588" y="345"/>
                  </a:lnTo>
                  <a:lnTo>
                    <a:pt x="1573" y="340"/>
                  </a:lnTo>
                  <a:lnTo>
                    <a:pt x="1558" y="336"/>
                  </a:lnTo>
                  <a:lnTo>
                    <a:pt x="1538" y="331"/>
                  </a:lnTo>
                  <a:lnTo>
                    <a:pt x="1523" y="326"/>
                  </a:lnTo>
                  <a:lnTo>
                    <a:pt x="1508" y="321"/>
                  </a:lnTo>
                  <a:lnTo>
                    <a:pt x="1488" y="316"/>
                  </a:lnTo>
                  <a:lnTo>
                    <a:pt x="1473" y="311"/>
                  </a:lnTo>
                  <a:lnTo>
                    <a:pt x="1458" y="306"/>
                  </a:lnTo>
                  <a:lnTo>
                    <a:pt x="1438" y="301"/>
                  </a:lnTo>
                  <a:lnTo>
                    <a:pt x="1422" y="296"/>
                  </a:lnTo>
                  <a:lnTo>
                    <a:pt x="1407" y="291"/>
                  </a:lnTo>
                  <a:lnTo>
                    <a:pt x="1387" y="286"/>
                  </a:lnTo>
                  <a:lnTo>
                    <a:pt x="1372" y="281"/>
                  </a:lnTo>
                  <a:lnTo>
                    <a:pt x="1357" y="276"/>
                  </a:lnTo>
                  <a:lnTo>
                    <a:pt x="1337" y="271"/>
                  </a:lnTo>
                  <a:lnTo>
                    <a:pt x="1322" y="266"/>
                  </a:lnTo>
                  <a:lnTo>
                    <a:pt x="1307" y="262"/>
                  </a:lnTo>
                  <a:lnTo>
                    <a:pt x="1287" y="257"/>
                  </a:lnTo>
                  <a:lnTo>
                    <a:pt x="1272" y="252"/>
                  </a:lnTo>
                  <a:lnTo>
                    <a:pt x="1257" y="247"/>
                  </a:lnTo>
                  <a:lnTo>
                    <a:pt x="1236" y="242"/>
                  </a:lnTo>
                  <a:lnTo>
                    <a:pt x="1221" y="237"/>
                  </a:lnTo>
                  <a:lnTo>
                    <a:pt x="1206" y="232"/>
                  </a:lnTo>
                  <a:lnTo>
                    <a:pt x="1186" y="227"/>
                  </a:lnTo>
                  <a:lnTo>
                    <a:pt x="1171" y="222"/>
                  </a:lnTo>
                  <a:lnTo>
                    <a:pt x="1156" y="217"/>
                  </a:lnTo>
                  <a:lnTo>
                    <a:pt x="1136" y="212"/>
                  </a:lnTo>
                  <a:lnTo>
                    <a:pt x="1121" y="207"/>
                  </a:lnTo>
                  <a:lnTo>
                    <a:pt x="1106" y="207"/>
                  </a:lnTo>
                  <a:lnTo>
                    <a:pt x="1086" y="197"/>
                  </a:lnTo>
                  <a:lnTo>
                    <a:pt x="1071" y="197"/>
                  </a:lnTo>
                  <a:lnTo>
                    <a:pt x="1051" y="193"/>
                  </a:lnTo>
                  <a:lnTo>
                    <a:pt x="1035" y="183"/>
                  </a:lnTo>
                  <a:lnTo>
                    <a:pt x="1020" y="178"/>
                  </a:lnTo>
                  <a:lnTo>
                    <a:pt x="1000" y="178"/>
                  </a:lnTo>
                  <a:lnTo>
                    <a:pt x="985" y="168"/>
                  </a:lnTo>
                  <a:lnTo>
                    <a:pt x="970" y="163"/>
                  </a:lnTo>
                  <a:lnTo>
                    <a:pt x="950" y="158"/>
                  </a:lnTo>
                  <a:lnTo>
                    <a:pt x="935" y="158"/>
                  </a:lnTo>
                  <a:lnTo>
                    <a:pt x="920" y="148"/>
                  </a:lnTo>
                  <a:lnTo>
                    <a:pt x="900" y="143"/>
                  </a:lnTo>
                  <a:lnTo>
                    <a:pt x="885" y="138"/>
                  </a:lnTo>
                  <a:lnTo>
                    <a:pt x="870" y="133"/>
                  </a:lnTo>
                  <a:lnTo>
                    <a:pt x="850" y="128"/>
                  </a:lnTo>
                  <a:lnTo>
                    <a:pt x="834" y="128"/>
                  </a:lnTo>
                  <a:lnTo>
                    <a:pt x="819" y="119"/>
                  </a:lnTo>
                  <a:lnTo>
                    <a:pt x="799" y="119"/>
                  </a:lnTo>
                  <a:lnTo>
                    <a:pt x="784" y="114"/>
                  </a:lnTo>
                  <a:lnTo>
                    <a:pt x="769" y="109"/>
                  </a:lnTo>
                  <a:lnTo>
                    <a:pt x="749" y="99"/>
                  </a:lnTo>
                  <a:lnTo>
                    <a:pt x="734" y="99"/>
                  </a:lnTo>
                  <a:lnTo>
                    <a:pt x="719" y="94"/>
                  </a:lnTo>
                  <a:lnTo>
                    <a:pt x="699" y="89"/>
                  </a:lnTo>
                  <a:lnTo>
                    <a:pt x="684" y="84"/>
                  </a:lnTo>
                  <a:lnTo>
                    <a:pt x="669" y="79"/>
                  </a:lnTo>
                  <a:lnTo>
                    <a:pt x="649" y="74"/>
                  </a:lnTo>
                  <a:lnTo>
                    <a:pt x="633" y="69"/>
                  </a:lnTo>
                  <a:lnTo>
                    <a:pt x="618" y="64"/>
                  </a:lnTo>
                  <a:lnTo>
                    <a:pt x="598" y="59"/>
                  </a:lnTo>
                  <a:lnTo>
                    <a:pt x="583" y="54"/>
                  </a:lnTo>
                  <a:lnTo>
                    <a:pt x="568" y="49"/>
                  </a:lnTo>
                  <a:lnTo>
                    <a:pt x="548" y="45"/>
                  </a:lnTo>
                  <a:lnTo>
                    <a:pt x="533" y="40"/>
                  </a:lnTo>
                  <a:lnTo>
                    <a:pt x="518" y="35"/>
                  </a:lnTo>
                  <a:lnTo>
                    <a:pt x="498" y="30"/>
                  </a:lnTo>
                  <a:lnTo>
                    <a:pt x="483" y="25"/>
                  </a:lnTo>
                  <a:lnTo>
                    <a:pt x="473" y="20"/>
                  </a:lnTo>
                  <a:lnTo>
                    <a:pt x="458" y="15"/>
                  </a:lnTo>
                  <a:lnTo>
                    <a:pt x="442" y="15"/>
                  </a:lnTo>
                  <a:lnTo>
                    <a:pt x="432" y="10"/>
                  </a:lnTo>
                  <a:lnTo>
                    <a:pt x="417" y="10"/>
                  </a:lnTo>
                  <a:lnTo>
                    <a:pt x="407" y="5"/>
                  </a:lnTo>
                  <a:lnTo>
                    <a:pt x="397" y="5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62" y="0"/>
                  </a:lnTo>
                  <a:lnTo>
                    <a:pt x="352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17" y="0"/>
                  </a:lnTo>
                  <a:lnTo>
                    <a:pt x="302" y="0"/>
                  </a:lnTo>
                  <a:lnTo>
                    <a:pt x="287" y="0"/>
                  </a:lnTo>
                  <a:lnTo>
                    <a:pt x="272" y="5"/>
                  </a:lnTo>
                  <a:lnTo>
                    <a:pt x="257" y="5"/>
                  </a:lnTo>
                  <a:lnTo>
                    <a:pt x="247" y="15"/>
                  </a:lnTo>
                  <a:lnTo>
                    <a:pt x="236" y="20"/>
                  </a:lnTo>
                  <a:lnTo>
                    <a:pt x="221" y="25"/>
                  </a:lnTo>
                  <a:lnTo>
                    <a:pt x="211" y="30"/>
                  </a:lnTo>
                  <a:lnTo>
                    <a:pt x="201" y="40"/>
                  </a:lnTo>
                  <a:lnTo>
                    <a:pt x="186" y="49"/>
                  </a:lnTo>
                  <a:lnTo>
                    <a:pt x="176" y="59"/>
                  </a:lnTo>
                  <a:lnTo>
                    <a:pt x="166" y="69"/>
                  </a:lnTo>
                  <a:lnTo>
                    <a:pt x="156" y="79"/>
                  </a:lnTo>
                  <a:lnTo>
                    <a:pt x="146" y="94"/>
                  </a:lnTo>
                  <a:lnTo>
                    <a:pt x="131" y="109"/>
                  </a:lnTo>
                  <a:lnTo>
                    <a:pt x="116" y="119"/>
                  </a:lnTo>
                  <a:lnTo>
                    <a:pt x="106" y="133"/>
                  </a:lnTo>
                  <a:lnTo>
                    <a:pt x="91" y="148"/>
                  </a:lnTo>
                  <a:lnTo>
                    <a:pt x="76" y="163"/>
                  </a:lnTo>
                  <a:lnTo>
                    <a:pt x="61" y="178"/>
                  </a:lnTo>
                  <a:lnTo>
                    <a:pt x="40" y="197"/>
                  </a:lnTo>
                  <a:lnTo>
                    <a:pt x="20" y="212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0" y="286"/>
                  </a:lnTo>
                  <a:lnTo>
                    <a:pt x="4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 rot="9362400">
              <a:off x="1118160" y="782640"/>
              <a:ext cx="3527640" cy="953640"/>
            </a:xfrm>
            <a:custGeom>
              <a:avLst/>
              <a:gdLst/>
              <a:ahLst/>
              <a:rect l="l" t="t" r="r" b="b"/>
              <a:pathLst>
                <a:path w="2222" h="601">
                  <a:moveTo>
                    <a:pt x="5" y="231"/>
                  </a:moveTo>
                  <a:lnTo>
                    <a:pt x="21" y="226"/>
                  </a:lnTo>
                  <a:lnTo>
                    <a:pt x="36" y="222"/>
                  </a:lnTo>
                  <a:lnTo>
                    <a:pt x="56" y="217"/>
                  </a:lnTo>
                  <a:lnTo>
                    <a:pt x="71" y="212"/>
                  </a:lnTo>
                  <a:lnTo>
                    <a:pt x="86" y="207"/>
                  </a:lnTo>
                  <a:lnTo>
                    <a:pt x="106" y="202"/>
                  </a:lnTo>
                  <a:lnTo>
                    <a:pt x="121" y="197"/>
                  </a:lnTo>
                  <a:lnTo>
                    <a:pt x="136" y="192"/>
                  </a:lnTo>
                  <a:lnTo>
                    <a:pt x="151" y="187"/>
                  </a:lnTo>
                  <a:lnTo>
                    <a:pt x="171" y="182"/>
                  </a:lnTo>
                  <a:lnTo>
                    <a:pt x="186" y="177"/>
                  </a:lnTo>
                  <a:lnTo>
                    <a:pt x="201" y="172"/>
                  </a:lnTo>
                  <a:lnTo>
                    <a:pt x="216" y="167"/>
                  </a:lnTo>
                  <a:lnTo>
                    <a:pt x="237" y="162"/>
                  </a:lnTo>
                  <a:lnTo>
                    <a:pt x="252" y="162"/>
                  </a:lnTo>
                  <a:lnTo>
                    <a:pt x="267" y="157"/>
                  </a:lnTo>
                  <a:lnTo>
                    <a:pt x="282" y="153"/>
                  </a:lnTo>
                  <a:lnTo>
                    <a:pt x="302" y="148"/>
                  </a:lnTo>
                  <a:lnTo>
                    <a:pt x="317" y="143"/>
                  </a:lnTo>
                  <a:lnTo>
                    <a:pt x="332" y="143"/>
                  </a:lnTo>
                  <a:lnTo>
                    <a:pt x="352" y="138"/>
                  </a:lnTo>
                  <a:lnTo>
                    <a:pt x="367" y="138"/>
                  </a:lnTo>
                  <a:lnTo>
                    <a:pt x="382" y="138"/>
                  </a:lnTo>
                  <a:lnTo>
                    <a:pt x="402" y="138"/>
                  </a:lnTo>
                  <a:lnTo>
                    <a:pt x="418" y="133"/>
                  </a:lnTo>
                  <a:lnTo>
                    <a:pt x="438" y="133"/>
                  </a:lnTo>
                  <a:lnTo>
                    <a:pt x="453" y="133"/>
                  </a:lnTo>
                  <a:lnTo>
                    <a:pt x="473" y="138"/>
                  </a:lnTo>
                  <a:lnTo>
                    <a:pt x="488" y="138"/>
                  </a:lnTo>
                  <a:lnTo>
                    <a:pt x="508" y="143"/>
                  </a:lnTo>
                  <a:lnTo>
                    <a:pt x="528" y="148"/>
                  </a:lnTo>
                  <a:lnTo>
                    <a:pt x="548" y="153"/>
                  </a:lnTo>
                  <a:lnTo>
                    <a:pt x="2191" y="601"/>
                  </a:lnTo>
                  <a:lnTo>
                    <a:pt x="2201" y="596"/>
                  </a:lnTo>
                  <a:lnTo>
                    <a:pt x="2212" y="591"/>
                  </a:lnTo>
                  <a:lnTo>
                    <a:pt x="2217" y="582"/>
                  </a:lnTo>
                  <a:lnTo>
                    <a:pt x="2222" y="577"/>
                  </a:lnTo>
                  <a:lnTo>
                    <a:pt x="2222" y="562"/>
                  </a:lnTo>
                  <a:lnTo>
                    <a:pt x="2222" y="547"/>
                  </a:lnTo>
                  <a:lnTo>
                    <a:pt x="2222" y="527"/>
                  </a:lnTo>
                  <a:lnTo>
                    <a:pt x="2217" y="513"/>
                  </a:lnTo>
                  <a:lnTo>
                    <a:pt x="769" y="93"/>
                  </a:lnTo>
                  <a:lnTo>
                    <a:pt x="759" y="88"/>
                  </a:lnTo>
                  <a:lnTo>
                    <a:pt x="744" y="83"/>
                  </a:lnTo>
                  <a:lnTo>
                    <a:pt x="729" y="79"/>
                  </a:lnTo>
                  <a:lnTo>
                    <a:pt x="719" y="74"/>
                  </a:lnTo>
                  <a:lnTo>
                    <a:pt x="704" y="69"/>
                  </a:lnTo>
                  <a:lnTo>
                    <a:pt x="694" y="64"/>
                  </a:lnTo>
                  <a:lnTo>
                    <a:pt x="679" y="59"/>
                  </a:lnTo>
                  <a:lnTo>
                    <a:pt x="669" y="59"/>
                  </a:lnTo>
                  <a:lnTo>
                    <a:pt x="654" y="49"/>
                  </a:lnTo>
                  <a:lnTo>
                    <a:pt x="639" y="44"/>
                  </a:lnTo>
                  <a:lnTo>
                    <a:pt x="629" y="44"/>
                  </a:lnTo>
                  <a:lnTo>
                    <a:pt x="613" y="39"/>
                  </a:lnTo>
                  <a:lnTo>
                    <a:pt x="598" y="34"/>
                  </a:lnTo>
                  <a:lnTo>
                    <a:pt x="588" y="29"/>
                  </a:lnTo>
                  <a:lnTo>
                    <a:pt x="573" y="29"/>
                  </a:lnTo>
                  <a:lnTo>
                    <a:pt x="563" y="24"/>
                  </a:lnTo>
                  <a:lnTo>
                    <a:pt x="548" y="19"/>
                  </a:lnTo>
                  <a:lnTo>
                    <a:pt x="533" y="19"/>
                  </a:lnTo>
                  <a:lnTo>
                    <a:pt x="518" y="14"/>
                  </a:lnTo>
                  <a:lnTo>
                    <a:pt x="508" y="14"/>
                  </a:lnTo>
                  <a:lnTo>
                    <a:pt x="493" y="9"/>
                  </a:lnTo>
                  <a:lnTo>
                    <a:pt x="478" y="9"/>
                  </a:lnTo>
                  <a:lnTo>
                    <a:pt x="463" y="5"/>
                  </a:lnTo>
                  <a:lnTo>
                    <a:pt x="453" y="5"/>
                  </a:lnTo>
                  <a:lnTo>
                    <a:pt x="438" y="5"/>
                  </a:lnTo>
                  <a:lnTo>
                    <a:pt x="423" y="0"/>
                  </a:lnTo>
                  <a:lnTo>
                    <a:pt x="407" y="0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57" y="0"/>
                  </a:lnTo>
                  <a:lnTo>
                    <a:pt x="342" y="0"/>
                  </a:lnTo>
                  <a:lnTo>
                    <a:pt x="327" y="0"/>
                  </a:lnTo>
                  <a:lnTo>
                    <a:pt x="317" y="0"/>
                  </a:lnTo>
                  <a:lnTo>
                    <a:pt x="302" y="5"/>
                  </a:lnTo>
                  <a:lnTo>
                    <a:pt x="292" y="5"/>
                  </a:lnTo>
                  <a:lnTo>
                    <a:pt x="277" y="5"/>
                  </a:lnTo>
                  <a:lnTo>
                    <a:pt x="262" y="9"/>
                  </a:lnTo>
                  <a:lnTo>
                    <a:pt x="252" y="9"/>
                  </a:lnTo>
                  <a:lnTo>
                    <a:pt x="242" y="14"/>
                  </a:lnTo>
                  <a:lnTo>
                    <a:pt x="227" y="19"/>
                  </a:lnTo>
                  <a:lnTo>
                    <a:pt x="216" y="24"/>
                  </a:lnTo>
                  <a:lnTo>
                    <a:pt x="201" y="29"/>
                  </a:lnTo>
                  <a:lnTo>
                    <a:pt x="191" y="34"/>
                  </a:lnTo>
                  <a:lnTo>
                    <a:pt x="181" y="34"/>
                  </a:lnTo>
                  <a:lnTo>
                    <a:pt x="171" y="44"/>
                  </a:lnTo>
                  <a:lnTo>
                    <a:pt x="156" y="49"/>
                  </a:lnTo>
                  <a:lnTo>
                    <a:pt x="151" y="59"/>
                  </a:lnTo>
                  <a:lnTo>
                    <a:pt x="136" y="64"/>
                  </a:lnTo>
                  <a:lnTo>
                    <a:pt x="126" y="69"/>
                  </a:lnTo>
                  <a:lnTo>
                    <a:pt x="116" y="74"/>
                  </a:lnTo>
                  <a:lnTo>
                    <a:pt x="106" y="83"/>
                  </a:lnTo>
                  <a:lnTo>
                    <a:pt x="91" y="93"/>
                  </a:lnTo>
                  <a:lnTo>
                    <a:pt x="86" y="103"/>
                  </a:lnTo>
                  <a:lnTo>
                    <a:pt x="76" y="113"/>
                  </a:lnTo>
                  <a:lnTo>
                    <a:pt x="66" y="123"/>
                  </a:lnTo>
                  <a:lnTo>
                    <a:pt x="56" y="133"/>
                  </a:lnTo>
                  <a:lnTo>
                    <a:pt x="51" y="143"/>
                  </a:lnTo>
                  <a:lnTo>
                    <a:pt x="41" y="157"/>
                  </a:lnTo>
                  <a:lnTo>
                    <a:pt x="31" y="167"/>
                  </a:lnTo>
                  <a:lnTo>
                    <a:pt x="21" y="182"/>
                  </a:lnTo>
                  <a:lnTo>
                    <a:pt x="15" y="197"/>
                  </a:lnTo>
                  <a:lnTo>
                    <a:pt x="10" y="207"/>
                  </a:lnTo>
                  <a:lnTo>
                    <a:pt x="5" y="226"/>
                  </a:lnTo>
                  <a:lnTo>
                    <a:pt x="0" y="226"/>
                  </a:lnTo>
                  <a:lnTo>
                    <a:pt x="5" y="231"/>
                  </a:lnTo>
                  <a:lnTo>
                    <a:pt x="5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 flipV="1" rot="9362400">
              <a:off x="7391520" y="958680"/>
              <a:ext cx="1922400" cy="4305240"/>
            </a:xfrm>
            <a:custGeom>
              <a:avLst/>
              <a:gdLst/>
              <a:ahLst/>
              <a:rect l="l" t="t" r="r" b="b"/>
              <a:pathLst>
                <a:path w="1211" h="2712">
                  <a:moveTo>
                    <a:pt x="1101" y="113"/>
                  </a:moveTo>
                  <a:lnTo>
                    <a:pt x="1101" y="123"/>
                  </a:lnTo>
                  <a:lnTo>
                    <a:pt x="1101" y="133"/>
                  </a:lnTo>
                  <a:lnTo>
                    <a:pt x="1096" y="143"/>
                  </a:lnTo>
                  <a:lnTo>
                    <a:pt x="1096" y="158"/>
                  </a:lnTo>
                  <a:lnTo>
                    <a:pt x="1096" y="168"/>
                  </a:lnTo>
                  <a:lnTo>
                    <a:pt x="1096" y="178"/>
                  </a:lnTo>
                  <a:lnTo>
                    <a:pt x="1091" y="187"/>
                  </a:lnTo>
                  <a:lnTo>
                    <a:pt x="1091" y="202"/>
                  </a:lnTo>
                  <a:lnTo>
                    <a:pt x="1086" y="212"/>
                  </a:lnTo>
                  <a:lnTo>
                    <a:pt x="1086" y="222"/>
                  </a:lnTo>
                  <a:lnTo>
                    <a:pt x="1086" y="232"/>
                  </a:lnTo>
                  <a:lnTo>
                    <a:pt x="1081" y="242"/>
                  </a:lnTo>
                  <a:lnTo>
                    <a:pt x="1081" y="256"/>
                  </a:lnTo>
                  <a:lnTo>
                    <a:pt x="1081" y="266"/>
                  </a:lnTo>
                  <a:lnTo>
                    <a:pt x="1076" y="276"/>
                  </a:lnTo>
                  <a:lnTo>
                    <a:pt x="1076" y="291"/>
                  </a:lnTo>
                  <a:lnTo>
                    <a:pt x="1071" y="301"/>
                  </a:lnTo>
                  <a:lnTo>
                    <a:pt x="1071" y="311"/>
                  </a:lnTo>
                  <a:lnTo>
                    <a:pt x="1066" y="321"/>
                  </a:lnTo>
                  <a:lnTo>
                    <a:pt x="1066" y="330"/>
                  </a:lnTo>
                  <a:lnTo>
                    <a:pt x="1061" y="340"/>
                  </a:lnTo>
                  <a:lnTo>
                    <a:pt x="1056" y="355"/>
                  </a:lnTo>
                  <a:lnTo>
                    <a:pt x="1056" y="365"/>
                  </a:lnTo>
                  <a:lnTo>
                    <a:pt x="1051" y="375"/>
                  </a:lnTo>
                  <a:lnTo>
                    <a:pt x="1046" y="385"/>
                  </a:lnTo>
                  <a:lnTo>
                    <a:pt x="1046" y="395"/>
                  </a:lnTo>
                  <a:lnTo>
                    <a:pt x="1041" y="404"/>
                  </a:lnTo>
                  <a:lnTo>
                    <a:pt x="1041" y="419"/>
                  </a:lnTo>
                  <a:lnTo>
                    <a:pt x="1036" y="429"/>
                  </a:lnTo>
                  <a:lnTo>
                    <a:pt x="1031" y="439"/>
                  </a:lnTo>
                  <a:lnTo>
                    <a:pt x="1031" y="449"/>
                  </a:lnTo>
                  <a:lnTo>
                    <a:pt x="1026" y="464"/>
                  </a:lnTo>
                  <a:lnTo>
                    <a:pt x="1021" y="469"/>
                  </a:lnTo>
                  <a:lnTo>
                    <a:pt x="1016" y="483"/>
                  </a:lnTo>
                  <a:lnTo>
                    <a:pt x="1016" y="488"/>
                  </a:lnTo>
                  <a:lnTo>
                    <a:pt x="1010" y="503"/>
                  </a:lnTo>
                  <a:lnTo>
                    <a:pt x="1005" y="513"/>
                  </a:lnTo>
                  <a:lnTo>
                    <a:pt x="1000" y="523"/>
                  </a:lnTo>
                  <a:lnTo>
                    <a:pt x="995" y="533"/>
                  </a:lnTo>
                  <a:lnTo>
                    <a:pt x="995" y="543"/>
                  </a:lnTo>
                  <a:lnTo>
                    <a:pt x="985" y="552"/>
                  </a:lnTo>
                  <a:lnTo>
                    <a:pt x="985" y="562"/>
                  </a:lnTo>
                  <a:lnTo>
                    <a:pt x="980" y="572"/>
                  </a:lnTo>
                  <a:lnTo>
                    <a:pt x="975" y="582"/>
                  </a:lnTo>
                  <a:lnTo>
                    <a:pt x="970" y="592"/>
                  </a:lnTo>
                  <a:lnTo>
                    <a:pt x="965" y="602"/>
                  </a:lnTo>
                  <a:lnTo>
                    <a:pt x="965" y="616"/>
                  </a:lnTo>
                  <a:lnTo>
                    <a:pt x="960" y="626"/>
                  </a:lnTo>
                  <a:lnTo>
                    <a:pt x="955" y="636"/>
                  </a:lnTo>
                  <a:lnTo>
                    <a:pt x="950" y="646"/>
                  </a:lnTo>
                  <a:lnTo>
                    <a:pt x="945" y="656"/>
                  </a:lnTo>
                  <a:lnTo>
                    <a:pt x="940" y="666"/>
                  </a:lnTo>
                  <a:lnTo>
                    <a:pt x="935" y="676"/>
                  </a:lnTo>
                  <a:lnTo>
                    <a:pt x="930" y="686"/>
                  </a:lnTo>
                  <a:lnTo>
                    <a:pt x="925" y="695"/>
                  </a:lnTo>
                  <a:lnTo>
                    <a:pt x="920" y="705"/>
                  </a:lnTo>
                  <a:lnTo>
                    <a:pt x="915" y="715"/>
                  </a:lnTo>
                  <a:lnTo>
                    <a:pt x="910" y="725"/>
                  </a:lnTo>
                  <a:lnTo>
                    <a:pt x="905" y="735"/>
                  </a:lnTo>
                  <a:lnTo>
                    <a:pt x="900" y="745"/>
                  </a:lnTo>
                  <a:lnTo>
                    <a:pt x="895" y="755"/>
                  </a:lnTo>
                  <a:lnTo>
                    <a:pt x="895" y="764"/>
                  </a:lnTo>
                  <a:lnTo>
                    <a:pt x="885" y="774"/>
                  </a:lnTo>
                  <a:lnTo>
                    <a:pt x="885" y="789"/>
                  </a:lnTo>
                  <a:lnTo>
                    <a:pt x="880" y="794"/>
                  </a:lnTo>
                  <a:lnTo>
                    <a:pt x="870" y="809"/>
                  </a:lnTo>
                  <a:lnTo>
                    <a:pt x="865" y="819"/>
                  </a:lnTo>
                  <a:lnTo>
                    <a:pt x="860" y="829"/>
                  </a:lnTo>
                  <a:lnTo>
                    <a:pt x="855" y="838"/>
                  </a:lnTo>
                  <a:lnTo>
                    <a:pt x="850" y="848"/>
                  </a:lnTo>
                  <a:lnTo>
                    <a:pt x="845" y="858"/>
                  </a:lnTo>
                  <a:lnTo>
                    <a:pt x="840" y="868"/>
                  </a:lnTo>
                  <a:lnTo>
                    <a:pt x="835" y="883"/>
                  </a:lnTo>
                  <a:lnTo>
                    <a:pt x="830" y="893"/>
                  </a:lnTo>
                  <a:lnTo>
                    <a:pt x="825" y="903"/>
                  </a:lnTo>
                  <a:lnTo>
                    <a:pt x="820" y="912"/>
                  </a:lnTo>
                  <a:lnTo>
                    <a:pt x="814" y="922"/>
                  </a:lnTo>
                  <a:lnTo>
                    <a:pt x="809" y="937"/>
                  </a:lnTo>
                  <a:lnTo>
                    <a:pt x="804" y="947"/>
                  </a:lnTo>
                  <a:lnTo>
                    <a:pt x="804" y="957"/>
                  </a:lnTo>
                  <a:lnTo>
                    <a:pt x="799" y="967"/>
                  </a:lnTo>
                  <a:lnTo>
                    <a:pt x="794" y="981"/>
                  </a:lnTo>
                  <a:lnTo>
                    <a:pt x="789" y="991"/>
                  </a:lnTo>
                  <a:lnTo>
                    <a:pt x="784" y="1001"/>
                  </a:lnTo>
                  <a:lnTo>
                    <a:pt x="779" y="1011"/>
                  </a:lnTo>
                  <a:lnTo>
                    <a:pt x="779" y="1021"/>
                  </a:lnTo>
                  <a:lnTo>
                    <a:pt x="774" y="1036"/>
                  </a:lnTo>
                  <a:lnTo>
                    <a:pt x="769" y="1046"/>
                  </a:lnTo>
                  <a:lnTo>
                    <a:pt x="764" y="1055"/>
                  </a:lnTo>
                  <a:lnTo>
                    <a:pt x="759" y="1065"/>
                  </a:lnTo>
                  <a:lnTo>
                    <a:pt x="754" y="1080"/>
                  </a:lnTo>
                  <a:lnTo>
                    <a:pt x="754" y="1090"/>
                  </a:lnTo>
                  <a:lnTo>
                    <a:pt x="749" y="1100"/>
                  </a:lnTo>
                  <a:lnTo>
                    <a:pt x="744" y="1110"/>
                  </a:lnTo>
                  <a:lnTo>
                    <a:pt x="739" y="1119"/>
                  </a:lnTo>
                  <a:lnTo>
                    <a:pt x="734" y="1134"/>
                  </a:lnTo>
                  <a:lnTo>
                    <a:pt x="729" y="1144"/>
                  </a:lnTo>
                  <a:lnTo>
                    <a:pt x="729" y="1154"/>
                  </a:lnTo>
                  <a:lnTo>
                    <a:pt x="724" y="1164"/>
                  </a:lnTo>
                  <a:lnTo>
                    <a:pt x="719" y="1179"/>
                  </a:lnTo>
                  <a:lnTo>
                    <a:pt x="714" y="1189"/>
                  </a:lnTo>
                  <a:lnTo>
                    <a:pt x="709" y="1198"/>
                  </a:lnTo>
                  <a:lnTo>
                    <a:pt x="704" y="1208"/>
                  </a:lnTo>
                  <a:lnTo>
                    <a:pt x="704" y="1218"/>
                  </a:lnTo>
                  <a:lnTo>
                    <a:pt x="699" y="1233"/>
                  </a:lnTo>
                  <a:lnTo>
                    <a:pt x="694" y="1243"/>
                  </a:lnTo>
                  <a:lnTo>
                    <a:pt x="689" y="1253"/>
                  </a:lnTo>
                  <a:lnTo>
                    <a:pt x="684" y="1263"/>
                  </a:lnTo>
                  <a:lnTo>
                    <a:pt x="679" y="1277"/>
                  </a:lnTo>
                  <a:lnTo>
                    <a:pt x="679" y="1287"/>
                  </a:lnTo>
                  <a:lnTo>
                    <a:pt x="674" y="1297"/>
                  </a:lnTo>
                  <a:lnTo>
                    <a:pt x="669" y="1307"/>
                  </a:lnTo>
                  <a:lnTo>
                    <a:pt x="664" y="1317"/>
                  </a:lnTo>
                  <a:lnTo>
                    <a:pt x="664" y="1327"/>
                  </a:lnTo>
                  <a:lnTo>
                    <a:pt x="654" y="1341"/>
                  </a:lnTo>
                  <a:lnTo>
                    <a:pt x="654" y="1351"/>
                  </a:lnTo>
                  <a:lnTo>
                    <a:pt x="649" y="1361"/>
                  </a:lnTo>
                  <a:lnTo>
                    <a:pt x="644" y="1371"/>
                  </a:lnTo>
                  <a:lnTo>
                    <a:pt x="639" y="1386"/>
                  </a:lnTo>
                  <a:lnTo>
                    <a:pt x="634" y="1396"/>
                  </a:lnTo>
                  <a:lnTo>
                    <a:pt x="629" y="1406"/>
                  </a:lnTo>
                  <a:lnTo>
                    <a:pt x="629" y="1415"/>
                  </a:lnTo>
                  <a:lnTo>
                    <a:pt x="624" y="1425"/>
                  </a:lnTo>
                  <a:lnTo>
                    <a:pt x="619" y="1440"/>
                  </a:lnTo>
                  <a:lnTo>
                    <a:pt x="613" y="1450"/>
                  </a:lnTo>
                  <a:lnTo>
                    <a:pt x="608" y="1460"/>
                  </a:lnTo>
                  <a:lnTo>
                    <a:pt x="603" y="1470"/>
                  </a:lnTo>
                  <a:lnTo>
                    <a:pt x="603" y="1484"/>
                  </a:lnTo>
                  <a:lnTo>
                    <a:pt x="593" y="1499"/>
                  </a:lnTo>
                  <a:lnTo>
                    <a:pt x="583" y="1514"/>
                  </a:lnTo>
                  <a:lnTo>
                    <a:pt x="578" y="1534"/>
                  </a:lnTo>
                  <a:lnTo>
                    <a:pt x="568" y="1549"/>
                  </a:lnTo>
                  <a:lnTo>
                    <a:pt x="563" y="1568"/>
                  </a:lnTo>
                  <a:lnTo>
                    <a:pt x="553" y="1583"/>
                  </a:lnTo>
                  <a:lnTo>
                    <a:pt x="548" y="1603"/>
                  </a:lnTo>
                  <a:lnTo>
                    <a:pt x="538" y="1618"/>
                  </a:lnTo>
                  <a:lnTo>
                    <a:pt x="533" y="1637"/>
                  </a:lnTo>
                  <a:lnTo>
                    <a:pt x="528" y="1652"/>
                  </a:lnTo>
                  <a:lnTo>
                    <a:pt x="518" y="1667"/>
                  </a:lnTo>
                  <a:lnTo>
                    <a:pt x="513" y="1687"/>
                  </a:lnTo>
                  <a:lnTo>
                    <a:pt x="503" y="1701"/>
                  </a:lnTo>
                  <a:lnTo>
                    <a:pt x="498" y="1721"/>
                  </a:lnTo>
                  <a:lnTo>
                    <a:pt x="488" y="1741"/>
                  </a:lnTo>
                  <a:lnTo>
                    <a:pt x="483" y="1761"/>
                  </a:lnTo>
                  <a:lnTo>
                    <a:pt x="478" y="1775"/>
                  </a:lnTo>
                  <a:lnTo>
                    <a:pt x="468" y="1795"/>
                  </a:lnTo>
                  <a:lnTo>
                    <a:pt x="463" y="1810"/>
                  </a:lnTo>
                  <a:lnTo>
                    <a:pt x="453" y="1830"/>
                  </a:lnTo>
                  <a:lnTo>
                    <a:pt x="448" y="1844"/>
                  </a:lnTo>
                  <a:lnTo>
                    <a:pt x="438" y="1864"/>
                  </a:lnTo>
                  <a:lnTo>
                    <a:pt x="433" y="1879"/>
                  </a:lnTo>
                  <a:lnTo>
                    <a:pt x="428" y="1899"/>
                  </a:lnTo>
                  <a:lnTo>
                    <a:pt x="418" y="1913"/>
                  </a:lnTo>
                  <a:lnTo>
                    <a:pt x="412" y="1933"/>
                  </a:lnTo>
                  <a:lnTo>
                    <a:pt x="402" y="1953"/>
                  </a:lnTo>
                  <a:lnTo>
                    <a:pt x="397" y="1973"/>
                  </a:lnTo>
                  <a:lnTo>
                    <a:pt x="392" y="1987"/>
                  </a:lnTo>
                  <a:lnTo>
                    <a:pt x="382" y="2007"/>
                  </a:lnTo>
                  <a:lnTo>
                    <a:pt x="377" y="2022"/>
                  </a:lnTo>
                  <a:lnTo>
                    <a:pt x="372" y="2042"/>
                  </a:lnTo>
                  <a:lnTo>
                    <a:pt x="362" y="2061"/>
                  </a:lnTo>
                  <a:lnTo>
                    <a:pt x="357" y="2081"/>
                  </a:lnTo>
                  <a:lnTo>
                    <a:pt x="347" y="2101"/>
                  </a:lnTo>
                  <a:lnTo>
                    <a:pt x="342" y="2121"/>
                  </a:lnTo>
                  <a:lnTo>
                    <a:pt x="337" y="2126"/>
                  </a:lnTo>
                  <a:lnTo>
                    <a:pt x="332" y="2140"/>
                  </a:lnTo>
                  <a:lnTo>
                    <a:pt x="327" y="2150"/>
                  </a:lnTo>
                  <a:lnTo>
                    <a:pt x="327" y="2160"/>
                  </a:lnTo>
                  <a:lnTo>
                    <a:pt x="322" y="2170"/>
                  </a:lnTo>
                  <a:lnTo>
                    <a:pt x="317" y="2180"/>
                  </a:lnTo>
                  <a:lnTo>
                    <a:pt x="312" y="2190"/>
                  </a:lnTo>
                  <a:lnTo>
                    <a:pt x="312" y="2199"/>
                  </a:lnTo>
                  <a:lnTo>
                    <a:pt x="307" y="2209"/>
                  </a:lnTo>
                  <a:lnTo>
                    <a:pt x="302" y="2219"/>
                  </a:lnTo>
                  <a:lnTo>
                    <a:pt x="297" y="2229"/>
                  </a:lnTo>
                  <a:lnTo>
                    <a:pt x="297" y="2239"/>
                  </a:lnTo>
                  <a:lnTo>
                    <a:pt x="287" y="2249"/>
                  </a:lnTo>
                  <a:lnTo>
                    <a:pt x="287" y="2264"/>
                  </a:lnTo>
                  <a:lnTo>
                    <a:pt x="282" y="2273"/>
                  </a:lnTo>
                  <a:lnTo>
                    <a:pt x="282" y="2283"/>
                  </a:lnTo>
                  <a:lnTo>
                    <a:pt x="277" y="2293"/>
                  </a:lnTo>
                  <a:lnTo>
                    <a:pt x="272" y="2303"/>
                  </a:lnTo>
                  <a:lnTo>
                    <a:pt x="267" y="2313"/>
                  </a:lnTo>
                  <a:lnTo>
                    <a:pt x="262" y="2323"/>
                  </a:lnTo>
                  <a:lnTo>
                    <a:pt x="257" y="2333"/>
                  </a:lnTo>
                  <a:lnTo>
                    <a:pt x="252" y="2343"/>
                  </a:lnTo>
                  <a:lnTo>
                    <a:pt x="247" y="2352"/>
                  </a:lnTo>
                  <a:lnTo>
                    <a:pt x="247" y="2367"/>
                  </a:lnTo>
                  <a:lnTo>
                    <a:pt x="232" y="2382"/>
                  </a:lnTo>
                  <a:lnTo>
                    <a:pt x="222" y="2402"/>
                  </a:lnTo>
                  <a:lnTo>
                    <a:pt x="211" y="2421"/>
                  </a:lnTo>
                  <a:lnTo>
                    <a:pt x="201" y="2441"/>
                  </a:lnTo>
                  <a:lnTo>
                    <a:pt x="186" y="2456"/>
                  </a:lnTo>
                  <a:lnTo>
                    <a:pt x="176" y="2476"/>
                  </a:lnTo>
                  <a:lnTo>
                    <a:pt x="166" y="2495"/>
                  </a:lnTo>
                  <a:lnTo>
                    <a:pt x="151" y="2510"/>
                  </a:lnTo>
                  <a:lnTo>
                    <a:pt x="136" y="2525"/>
                  </a:lnTo>
                  <a:lnTo>
                    <a:pt x="126" y="2545"/>
                  </a:lnTo>
                  <a:lnTo>
                    <a:pt x="111" y="2559"/>
                  </a:lnTo>
                  <a:lnTo>
                    <a:pt x="96" y="2574"/>
                  </a:lnTo>
                  <a:lnTo>
                    <a:pt x="76" y="2584"/>
                  </a:lnTo>
                  <a:lnTo>
                    <a:pt x="61" y="2599"/>
                  </a:lnTo>
                  <a:lnTo>
                    <a:pt x="41" y="2614"/>
                  </a:lnTo>
                  <a:lnTo>
                    <a:pt x="21" y="2624"/>
                  </a:lnTo>
                  <a:lnTo>
                    <a:pt x="10" y="2633"/>
                  </a:lnTo>
                  <a:lnTo>
                    <a:pt x="0" y="2648"/>
                  </a:lnTo>
                  <a:lnTo>
                    <a:pt x="0" y="2663"/>
                  </a:lnTo>
                  <a:lnTo>
                    <a:pt x="0" y="2678"/>
                  </a:lnTo>
                  <a:lnTo>
                    <a:pt x="10" y="2688"/>
                  </a:lnTo>
                  <a:lnTo>
                    <a:pt x="21" y="2703"/>
                  </a:lnTo>
                  <a:lnTo>
                    <a:pt x="31" y="2707"/>
                  </a:lnTo>
                  <a:lnTo>
                    <a:pt x="51" y="2712"/>
                  </a:lnTo>
                  <a:lnTo>
                    <a:pt x="61" y="2707"/>
                  </a:lnTo>
                  <a:lnTo>
                    <a:pt x="71" y="2707"/>
                  </a:lnTo>
                  <a:lnTo>
                    <a:pt x="86" y="2707"/>
                  </a:lnTo>
                  <a:lnTo>
                    <a:pt x="101" y="2707"/>
                  </a:lnTo>
                  <a:lnTo>
                    <a:pt x="111" y="2707"/>
                  </a:lnTo>
                  <a:lnTo>
                    <a:pt x="121" y="2707"/>
                  </a:lnTo>
                  <a:lnTo>
                    <a:pt x="131" y="2703"/>
                  </a:lnTo>
                  <a:lnTo>
                    <a:pt x="146" y="2703"/>
                  </a:lnTo>
                  <a:lnTo>
                    <a:pt x="161" y="2693"/>
                  </a:lnTo>
                  <a:lnTo>
                    <a:pt x="181" y="2688"/>
                  </a:lnTo>
                  <a:lnTo>
                    <a:pt x="201" y="2678"/>
                  </a:lnTo>
                  <a:lnTo>
                    <a:pt x="222" y="2668"/>
                  </a:lnTo>
                  <a:lnTo>
                    <a:pt x="237" y="2653"/>
                  </a:lnTo>
                  <a:lnTo>
                    <a:pt x="252" y="2638"/>
                  </a:lnTo>
                  <a:lnTo>
                    <a:pt x="267" y="2624"/>
                  </a:lnTo>
                  <a:lnTo>
                    <a:pt x="282" y="2609"/>
                  </a:lnTo>
                  <a:lnTo>
                    <a:pt x="297" y="2589"/>
                  </a:lnTo>
                  <a:lnTo>
                    <a:pt x="312" y="2569"/>
                  </a:lnTo>
                  <a:lnTo>
                    <a:pt x="317" y="2559"/>
                  </a:lnTo>
                  <a:lnTo>
                    <a:pt x="322" y="2545"/>
                  </a:lnTo>
                  <a:lnTo>
                    <a:pt x="332" y="2535"/>
                  </a:lnTo>
                  <a:lnTo>
                    <a:pt x="337" y="2525"/>
                  </a:lnTo>
                  <a:lnTo>
                    <a:pt x="342" y="2510"/>
                  </a:lnTo>
                  <a:lnTo>
                    <a:pt x="347" y="2500"/>
                  </a:lnTo>
                  <a:lnTo>
                    <a:pt x="352" y="2486"/>
                  </a:lnTo>
                  <a:lnTo>
                    <a:pt x="362" y="2476"/>
                  </a:lnTo>
                  <a:lnTo>
                    <a:pt x="367" y="2461"/>
                  </a:lnTo>
                  <a:lnTo>
                    <a:pt x="377" y="2446"/>
                  </a:lnTo>
                  <a:lnTo>
                    <a:pt x="382" y="2431"/>
                  </a:lnTo>
                  <a:lnTo>
                    <a:pt x="387" y="2421"/>
                  </a:lnTo>
                  <a:lnTo>
                    <a:pt x="392" y="2407"/>
                  </a:lnTo>
                  <a:lnTo>
                    <a:pt x="397" y="2397"/>
                  </a:lnTo>
                  <a:lnTo>
                    <a:pt x="402" y="2382"/>
                  </a:lnTo>
                  <a:lnTo>
                    <a:pt x="412" y="2367"/>
                  </a:lnTo>
                  <a:lnTo>
                    <a:pt x="418" y="2352"/>
                  </a:lnTo>
                  <a:lnTo>
                    <a:pt x="423" y="2343"/>
                  </a:lnTo>
                  <a:lnTo>
                    <a:pt x="428" y="2328"/>
                  </a:lnTo>
                  <a:lnTo>
                    <a:pt x="438" y="2318"/>
                  </a:lnTo>
                  <a:lnTo>
                    <a:pt x="438" y="2303"/>
                  </a:lnTo>
                  <a:lnTo>
                    <a:pt x="448" y="2288"/>
                  </a:lnTo>
                  <a:lnTo>
                    <a:pt x="453" y="2273"/>
                  </a:lnTo>
                  <a:lnTo>
                    <a:pt x="458" y="2264"/>
                  </a:lnTo>
                  <a:lnTo>
                    <a:pt x="463" y="2249"/>
                  </a:lnTo>
                  <a:lnTo>
                    <a:pt x="468" y="2234"/>
                  </a:lnTo>
                  <a:lnTo>
                    <a:pt x="473" y="2219"/>
                  </a:lnTo>
                  <a:lnTo>
                    <a:pt x="478" y="2204"/>
                  </a:lnTo>
                  <a:lnTo>
                    <a:pt x="483" y="2190"/>
                  </a:lnTo>
                  <a:lnTo>
                    <a:pt x="488" y="2180"/>
                  </a:lnTo>
                  <a:lnTo>
                    <a:pt x="493" y="2165"/>
                  </a:lnTo>
                  <a:lnTo>
                    <a:pt x="498" y="2150"/>
                  </a:lnTo>
                  <a:lnTo>
                    <a:pt x="503" y="2135"/>
                  </a:lnTo>
                  <a:lnTo>
                    <a:pt x="513" y="2126"/>
                  </a:lnTo>
                  <a:lnTo>
                    <a:pt x="518" y="2111"/>
                  </a:lnTo>
                  <a:lnTo>
                    <a:pt x="523" y="2101"/>
                  </a:lnTo>
                  <a:lnTo>
                    <a:pt x="528" y="2081"/>
                  </a:lnTo>
                  <a:lnTo>
                    <a:pt x="533" y="2071"/>
                  </a:lnTo>
                  <a:lnTo>
                    <a:pt x="533" y="2056"/>
                  </a:lnTo>
                  <a:lnTo>
                    <a:pt x="538" y="2042"/>
                  </a:lnTo>
                  <a:lnTo>
                    <a:pt x="548" y="2027"/>
                  </a:lnTo>
                  <a:lnTo>
                    <a:pt x="553" y="2012"/>
                  </a:lnTo>
                  <a:lnTo>
                    <a:pt x="558" y="2002"/>
                  </a:lnTo>
                  <a:lnTo>
                    <a:pt x="563" y="1987"/>
                  </a:lnTo>
                  <a:lnTo>
                    <a:pt x="568" y="1973"/>
                  </a:lnTo>
                  <a:lnTo>
                    <a:pt x="573" y="1958"/>
                  </a:lnTo>
                  <a:lnTo>
                    <a:pt x="578" y="1943"/>
                  </a:lnTo>
                  <a:lnTo>
                    <a:pt x="583" y="1933"/>
                  </a:lnTo>
                  <a:lnTo>
                    <a:pt x="588" y="1918"/>
                  </a:lnTo>
                  <a:lnTo>
                    <a:pt x="593" y="1904"/>
                  </a:lnTo>
                  <a:lnTo>
                    <a:pt x="598" y="1889"/>
                  </a:lnTo>
                  <a:lnTo>
                    <a:pt x="603" y="1879"/>
                  </a:lnTo>
                  <a:lnTo>
                    <a:pt x="608" y="1864"/>
                  </a:lnTo>
                  <a:lnTo>
                    <a:pt x="613" y="1849"/>
                  </a:lnTo>
                  <a:lnTo>
                    <a:pt x="619" y="1835"/>
                  </a:lnTo>
                  <a:lnTo>
                    <a:pt x="624" y="1825"/>
                  </a:lnTo>
                  <a:lnTo>
                    <a:pt x="629" y="1810"/>
                  </a:lnTo>
                  <a:lnTo>
                    <a:pt x="634" y="1795"/>
                  </a:lnTo>
                  <a:lnTo>
                    <a:pt x="639" y="1780"/>
                  </a:lnTo>
                  <a:lnTo>
                    <a:pt x="644" y="1766"/>
                  </a:lnTo>
                  <a:lnTo>
                    <a:pt x="649" y="1751"/>
                  </a:lnTo>
                  <a:lnTo>
                    <a:pt x="654" y="1741"/>
                  </a:lnTo>
                  <a:lnTo>
                    <a:pt x="664" y="1726"/>
                  </a:lnTo>
                  <a:lnTo>
                    <a:pt x="669" y="1716"/>
                  </a:lnTo>
                  <a:lnTo>
                    <a:pt x="674" y="1701"/>
                  </a:lnTo>
                  <a:lnTo>
                    <a:pt x="679" y="1687"/>
                  </a:lnTo>
                  <a:lnTo>
                    <a:pt x="684" y="1677"/>
                  </a:lnTo>
                  <a:lnTo>
                    <a:pt x="694" y="1667"/>
                  </a:lnTo>
                  <a:lnTo>
                    <a:pt x="694" y="1652"/>
                  </a:lnTo>
                  <a:lnTo>
                    <a:pt x="699" y="1637"/>
                  </a:lnTo>
                  <a:lnTo>
                    <a:pt x="704" y="1623"/>
                  </a:lnTo>
                  <a:lnTo>
                    <a:pt x="714" y="1613"/>
                  </a:lnTo>
                  <a:lnTo>
                    <a:pt x="714" y="1598"/>
                  </a:lnTo>
                  <a:lnTo>
                    <a:pt x="719" y="1588"/>
                  </a:lnTo>
                  <a:lnTo>
                    <a:pt x="729" y="1573"/>
                  </a:lnTo>
                  <a:lnTo>
                    <a:pt x="734" y="1558"/>
                  </a:lnTo>
                  <a:lnTo>
                    <a:pt x="734" y="1549"/>
                  </a:lnTo>
                  <a:lnTo>
                    <a:pt x="744" y="1534"/>
                  </a:lnTo>
                  <a:lnTo>
                    <a:pt x="749" y="1519"/>
                  </a:lnTo>
                  <a:lnTo>
                    <a:pt x="754" y="1509"/>
                  </a:lnTo>
                  <a:lnTo>
                    <a:pt x="754" y="1494"/>
                  </a:lnTo>
                  <a:lnTo>
                    <a:pt x="764" y="1484"/>
                  </a:lnTo>
                  <a:lnTo>
                    <a:pt x="769" y="1470"/>
                  </a:lnTo>
                  <a:lnTo>
                    <a:pt x="774" y="1460"/>
                  </a:lnTo>
                  <a:lnTo>
                    <a:pt x="779" y="1445"/>
                  </a:lnTo>
                  <a:lnTo>
                    <a:pt x="784" y="1430"/>
                  </a:lnTo>
                  <a:lnTo>
                    <a:pt x="784" y="1420"/>
                  </a:lnTo>
                  <a:lnTo>
                    <a:pt x="794" y="1406"/>
                  </a:lnTo>
                  <a:lnTo>
                    <a:pt x="794" y="1391"/>
                  </a:lnTo>
                  <a:lnTo>
                    <a:pt x="799" y="1381"/>
                  </a:lnTo>
                  <a:lnTo>
                    <a:pt x="804" y="1366"/>
                  </a:lnTo>
                  <a:lnTo>
                    <a:pt x="814" y="1356"/>
                  </a:lnTo>
                  <a:lnTo>
                    <a:pt x="814" y="1341"/>
                  </a:lnTo>
                  <a:lnTo>
                    <a:pt x="820" y="1327"/>
                  </a:lnTo>
                  <a:lnTo>
                    <a:pt x="825" y="1317"/>
                  </a:lnTo>
                  <a:lnTo>
                    <a:pt x="830" y="1302"/>
                  </a:lnTo>
                  <a:lnTo>
                    <a:pt x="835" y="1292"/>
                  </a:lnTo>
                  <a:lnTo>
                    <a:pt x="840" y="1277"/>
                  </a:lnTo>
                  <a:lnTo>
                    <a:pt x="845" y="1263"/>
                  </a:lnTo>
                  <a:lnTo>
                    <a:pt x="850" y="1253"/>
                  </a:lnTo>
                  <a:lnTo>
                    <a:pt x="855" y="1238"/>
                  </a:lnTo>
                  <a:lnTo>
                    <a:pt x="860" y="1228"/>
                  </a:lnTo>
                  <a:lnTo>
                    <a:pt x="865" y="1213"/>
                  </a:lnTo>
                  <a:lnTo>
                    <a:pt x="870" y="1198"/>
                  </a:lnTo>
                  <a:lnTo>
                    <a:pt x="870" y="1184"/>
                  </a:lnTo>
                  <a:lnTo>
                    <a:pt x="875" y="1174"/>
                  </a:lnTo>
                  <a:lnTo>
                    <a:pt x="880" y="1159"/>
                  </a:lnTo>
                  <a:lnTo>
                    <a:pt x="885" y="1149"/>
                  </a:lnTo>
                  <a:lnTo>
                    <a:pt x="890" y="1134"/>
                  </a:lnTo>
                  <a:lnTo>
                    <a:pt x="895" y="1119"/>
                  </a:lnTo>
                  <a:lnTo>
                    <a:pt x="900" y="1110"/>
                  </a:lnTo>
                  <a:lnTo>
                    <a:pt x="905" y="1095"/>
                  </a:lnTo>
                  <a:lnTo>
                    <a:pt x="905" y="1080"/>
                  </a:lnTo>
                  <a:lnTo>
                    <a:pt x="910" y="1070"/>
                  </a:lnTo>
                  <a:lnTo>
                    <a:pt x="915" y="1055"/>
                  </a:lnTo>
                  <a:lnTo>
                    <a:pt x="920" y="1046"/>
                  </a:lnTo>
                  <a:lnTo>
                    <a:pt x="925" y="1031"/>
                  </a:lnTo>
                  <a:lnTo>
                    <a:pt x="930" y="1016"/>
                  </a:lnTo>
                  <a:lnTo>
                    <a:pt x="935" y="1006"/>
                  </a:lnTo>
                  <a:lnTo>
                    <a:pt x="940" y="991"/>
                  </a:lnTo>
                  <a:lnTo>
                    <a:pt x="945" y="976"/>
                  </a:lnTo>
                  <a:lnTo>
                    <a:pt x="945" y="967"/>
                  </a:lnTo>
                  <a:lnTo>
                    <a:pt x="950" y="952"/>
                  </a:lnTo>
                  <a:lnTo>
                    <a:pt x="955" y="942"/>
                  </a:lnTo>
                  <a:lnTo>
                    <a:pt x="960" y="927"/>
                  </a:lnTo>
                  <a:lnTo>
                    <a:pt x="965" y="912"/>
                  </a:lnTo>
                  <a:lnTo>
                    <a:pt x="965" y="903"/>
                  </a:lnTo>
                  <a:lnTo>
                    <a:pt x="970" y="888"/>
                  </a:lnTo>
                  <a:lnTo>
                    <a:pt x="975" y="873"/>
                  </a:lnTo>
                  <a:lnTo>
                    <a:pt x="980" y="863"/>
                  </a:lnTo>
                  <a:lnTo>
                    <a:pt x="985" y="848"/>
                  </a:lnTo>
                  <a:lnTo>
                    <a:pt x="990" y="838"/>
                  </a:lnTo>
                  <a:lnTo>
                    <a:pt x="995" y="824"/>
                  </a:lnTo>
                  <a:lnTo>
                    <a:pt x="995" y="809"/>
                  </a:lnTo>
                  <a:lnTo>
                    <a:pt x="1000" y="799"/>
                  </a:lnTo>
                  <a:lnTo>
                    <a:pt x="1005" y="789"/>
                  </a:lnTo>
                  <a:lnTo>
                    <a:pt x="1010" y="774"/>
                  </a:lnTo>
                  <a:lnTo>
                    <a:pt x="1016" y="764"/>
                  </a:lnTo>
                  <a:lnTo>
                    <a:pt x="1021" y="750"/>
                  </a:lnTo>
                  <a:lnTo>
                    <a:pt x="1026" y="740"/>
                  </a:lnTo>
                  <a:lnTo>
                    <a:pt x="1031" y="725"/>
                  </a:lnTo>
                  <a:lnTo>
                    <a:pt x="1036" y="710"/>
                  </a:lnTo>
                  <a:lnTo>
                    <a:pt x="1036" y="700"/>
                  </a:lnTo>
                  <a:lnTo>
                    <a:pt x="1046" y="690"/>
                  </a:lnTo>
                  <a:lnTo>
                    <a:pt x="1051" y="676"/>
                  </a:lnTo>
                  <a:lnTo>
                    <a:pt x="1056" y="661"/>
                  </a:lnTo>
                  <a:lnTo>
                    <a:pt x="1061" y="646"/>
                  </a:lnTo>
                  <a:lnTo>
                    <a:pt x="1066" y="636"/>
                  </a:lnTo>
                  <a:lnTo>
                    <a:pt x="1071" y="621"/>
                  </a:lnTo>
                  <a:lnTo>
                    <a:pt x="1076" y="612"/>
                  </a:lnTo>
                  <a:lnTo>
                    <a:pt x="1081" y="597"/>
                  </a:lnTo>
                  <a:lnTo>
                    <a:pt x="1086" y="582"/>
                  </a:lnTo>
                  <a:lnTo>
                    <a:pt x="1091" y="567"/>
                  </a:lnTo>
                  <a:lnTo>
                    <a:pt x="1096" y="557"/>
                  </a:lnTo>
                  <a:lnTo>
                    <a:pt x="1101" y="543"/>
                  </a:lnTo>
                  <a:lnTo>
                    <a:pt x="1106" y="533"/>
                  </a:lnTo>
                  <a:lnTo>
                    <a:pt x="1111" y="518"/>
                  </a:lnTo>
                  <a:lnTo>
                    <a:pt x="1116" y="503"/>
                  </a:lnTo>
                  <a:lnTo>
                    <a:pt x="1121" y="488"/>
                  </a:lnTo>
                  <a:lnTo>
                    <a:pt x="1126" y="478"/>
                  </a:lnTo>
                  <a:lnTo>
                    <a:pt x="1131" y="464"/>
                  </a:lnTo>
                  <a:lnTo>
                    <a:pt x="1136" y="449"/>
                  </a:lnTo>
                  <a:lnTo>
                    <a:pt x="1146" y="434"/>
                  </a:lnTo>
                  <a:lnTo>
                    <a:pt x="1151" y="424"/>
                  </a:lnTo>
                  <a:lnTo>
                    <a:pt x="1151" y="409"/>
                  </a:lnTo>
                  <a:lnTo>
                    <a:pt x="1156" y="395"/>
                  </a:lnTo>
                  <a:lnTo>
                    <a:pt x="1161" y="380"/>
                  </a:lnTo>
                  <a:lnTo>
                    <a:pt x="1166" y="370"/>
                  </a:lnTo>
                  <a:lnTo>
                    <a:pt x="1171" y="355"/>
                  </a:lnTo>
                  <a:lnTo>
                    <a:pt x="1171" y="340"/>
                  </a:lnTo>
                  <a:lnTo>
                    <a:pt x="1176" y="326"/>
                  </a:lnTo>
                  <a:lnTo>
                    <a:pt x="1181" y="316"/>
                  </a:lnTo>
                  <a:lnTo>
                    <a:pt x="1186" y="301"/>
                  </a:lnTo>
                  <a:lnTo>
                    <a:pt x="1186" y="286"/>
                  </a:lnTo>
                  <a:lnTo>
                    <a:pt x="1191" y="271"/>
                  </a:lnTo>
                  <a:lnTo>
                    <a:pt x="1196" y="256"/>
                  </a:lnTo>
                  <a:lnTo>
                    <a:pt x="1196" y="242"/>
                  </a:lnTo>
                  <a:lnTo>
                    <a:pt x="1201" y="232"/>
                  </a:lnTo>
                  <a:lnTo>
                    <a:pt x="1201" y="217"/>
                  </a:lnTo>
                  <a:lnTo>
                    <a:pt x="1206" y="207"/>
                  </a:lnTo>
                  <a:lnTo>
                    <a:pt x="1206" y="192"/>
                  </a:lnTo>
                  <a:lnTo>
                    <a:pt x="1206" y="178"/>
                  </a:lnTo>
                  <a:lnTo>
                    <a:pt x="1206" y="163"/>
                  </a:lnTo>
                  <a:lnTo>
                    <a:pt x="1206" y="153"/>
                  </a:lnTo>
                  <a:lnTo>
                    <a:pt x="1206" y="138"/>
                  </a:lnTo>
                  <a:lnTo>
                    <a:pt x="1206" y="128"/>
                  </a:lnTo>
                  <a:lnTo>
                    <a:pt x="1206" y="113"/>
                  </a:lnTo>
                  <a:lnTo>
                    <a:pt x="1211" y="99"/>
                  </a:lnTo>
                  <a:lnTo>
                    <a:pt x="1206" y="89"/>
                  </a:lnTo>
                  <a:lnTo>
                    <a:pt x="1206" y="74"/>
                  </a:lnTo>
                  <a:lnTo>
                    <a:pt x="1206" y="59"/>
                  </a:lnTo>
                  <a:lnTo>
                    <a:pt x="1206" y="49"/>
                  </a:lnTo>
                  <a:lnTo>
                    <a:pt x="1201" y="35"/>
                  </a:lnTo>
                  <a:lnTo>
                    <a:pt x="1201" y="25"/>
                  </a:lnTo>
                  <a:lnTo>
                    <a:pt x="1196" y="15"/>
                  </a:lnTo>
                  <a:lnTo>
                    <a:pt x="1196" y="0"/>
                  </a:lnTo>
                  <a:lnTo>
                    <a:pt x="1191" y="5"/>
                  </a:lnTo>
                  <a:lnTo>
                    <a:pt x="1186" y="20"/>
                  </a:lnTo>
                  <a:lnTo>
                    <a:pt x="1181" y="30"/>
                  </a:lnTo>
                  <a:lnTo>
                    <a:pt x="1171" y="39"/>
                  </a:lnTo>
                  <a:lnTo>
                    <a:pt x="1166" y="49"/>
                  </a:lnTo>
                  <a:lnTo>
                    <a:pt x="1166" y="64"/>
                  </a:lnTo>
                  <a:lnTo>
                    <a:pt x="1156" y="74"/>
                  </a:lnTo>
                  <a:lnTo>
                    <a:pt x="1151" y="89"/>
                  </a:lnTo>
                  <a:lnTo>
                    <a:pt x="1146" y="99"/>
                  </a:lnTo>
                  <a:lnTo>
                    <a:pt x="1141" y="113"/>
                  </a:lnTo>
                  <a:lnTo>
                    <a:pt x="1136" y="128"/>
                  </a:lnTo>
                  <a:lnTo>
                    <a:pt x="1131" y="138"/>
                  </a:lnTo>
                  <a:lnTo>
                    <a:pt x="1101" y="113"/>
                  </a:lnTo>
                  <a:lnTo>
                    <a:pt x="1101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 flipV="1" rot="9362400">
              <a:off x="7469280" y="1258560"/>
              <a:ext cx="1332000" cy="3704040"/>
            </a:xfrm>
            <a:custGeom>
              <a:avLst/>
              <a:gdLst/>
              <a:ahLst/>
              <a:rect l="l" t="t" r="r" b="b"/>
              <a:pathLst>
                <a:path w="839" h="2333">
                  <a:moveTo>
                    <a:pt x="25" y="2323"/>
                  </a:moveTo>
                  <a:lnTo>
                    <a:pt x="407" y="1327"/>
                  </a:lnTo>
                  <a:lnTo>
                    <a:pt x="834" y="286"/>
                  </a:lnTo>
                  <a:lnTo>
                    <a:pt x="839" y="266"/>
                  </a:lnTo>
                  <a:lnTo>
                    <a:pt x="834" y="252"/>
                  </a:lnTo>
                  <a:lnTo>
                    <a:pt x="824" y="232"/>
                  </a:lnTo>
                  <a:lnTo>
                    <a:pt x="809" y="222"/>
                  </a:lnTo>
                  <a:lnTo>
                    <a:pt x="246" y="0"/>
                  </a:lnTo>
                  <a:lnTo>
                    <a:pt x="231" y="0"/>
                  </a:lnTo>
                  <a:lnTo>
                    <a:pt x="226" y="10"/>
                  </a:lnTo>
                  <a:lnTo>
                    <a:pt x="221" y="20"/>
                  </a:lnTo>
                  <a:lnTo>
                    <a:pt x="221" y="40"/>
                  </a:lnTo>
                  <a:lnTo>
                    <a:pt x="226" y="54"/>
                  </a:lnTo>
                  <a:lnTo>
                    <a:pt x="231" y="69"/>
                  </a:lnTo>
                  <a:lnTo>
                    <a:pt x="241" y="89"/>
                  </a:lnTo>
                  <a:lnTo>
                    <a:pt x="251" y="104"/>
                  </a:lnTo>
                  <a:lnTo>
                    <a:pt x="678" y="311"/>
                  </a:lnTo>
                  <a:lnTo>
                    <a:pt x="427" y="1056"/>
                  </a:lnTo>
                  <a:lnTo>
                    <a:pt x="0" y="2318"/>
                  </a:lnTo>
                  <a:lnTo>
                    <a:pt x="0" y="2328"/>
                  </a:lnTo>
                  <a:lnTo>
                    <a:pt x="5" y="2333"/>
                  </a:lnTo>
                  <a:lnTo>
                    <a:pt x="15" y="2328"/>
                  </a:lnTo>
                  <a:lnTo>
                    <a:pt x="25" y="2323"/>
                  </a:lnTo>
                  <a:lnTo>
                    <a:pt x="25" y="2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 flipV="1" rot="9362400">
              <a:off x="6784560" y="749160"/>
              <a:ext cx="1013400" cy="4540320"/>
            </a:xfrm>
            <a:custGeom>
              <a:avLst/>
              <a:gdLst/>
              <a:ahLst/>
              <a:rect l="l" t="t" r="r" b="b"/>
              <a:pathLst>
                <a:path w="638" h="2860">
                  <a:moveTo>
                    <a:pt x="337" y="2860"/>
                  </a:moveTo>
                  <a:lnTo>
                    <a:pt x="342" y="2825"/>
                  </a:lnTo>
                  <a:lnTo>
                    <a:pt x="347" y="2796"/>
                  </a:lnTo>
                  <a:lnTo>
                    <a:pt x="357" y="2761"/>
                  </a:lnTo>
                  <a:lnTo>
                    <a:pt x="362" y="2732"/>
                  </a:lnTo>
                  <a:lnTo>
                    <a:pt x="367" y="2697"/>
                  </a:lnTo>
                  <a:lnTo>
                    <a:pt x="377" y="2668"/>
                  </a:lnTo>
                  <a:lnTo>
                    <a:pt x="382" y="2638"/>
                  </a:lnTo>
                  <a:lnTo>
                    <a:pt x="392" y="2603"/>
                  </a:lnTo>
                  <a:lnTo>
                    <a:pt x="397" y="2574"/>
                  </a:lnTo>
                  <a:lnTo>
                    <a:pt x="402" y="2539"/>
                  </a:lnTo>
                  <a:lnTo>
                    <a:pt x="407" y="2510"/>
                  </a:lnTo>
                  <a:lnTo>
                    <a:pt x="417" y="2475"/>
                  </a:lnTo>
                  <a:lnTo>
                    <a:pt x="422" y="2446"/>
                  </a:lnTo>
                  <a:lnTo>
                    <a:pt x="427" y="2411"/>
                  </a:lnTo>
                  <a:lnTo>
                    <a:pt x="432" y="2382"/>
                  </a:lnTo>
                  <a:lnTo>
                    <a:pt x="442" y="2352"/>
                  </a:lnTo>
                  <a:lnTo>
                    <a:pt x="447" y="2317"/>
                  </a:lnTo>
                  <a:lnTo>
                    <a:pt x="452" y="2288"/>
                  </a:lnTo>
                  <a:lnTo>
                    <a:pt x="457" y="2253"/>
                  </a:lnTo>
                  <a:lnTo>
                    <a:pt x="462" y="2224"/>
                  </a:lnTo>
                  <a:lnTo>
                    <a:pt x="467" y="2189"/>
                  </a:lnTo>
                  <a:lnTo>
                    <a:pt x="477" y="2160"/>
                  </a:lnTo>
                  <a:lnTo>
                    <a:pt x="482" y="2125"/>
                  </a:lnTo>
                  <a:lnTo>
                    <a:pt x="487" y="2095"/>
                  </a:lnTo>
                  <a:lnTo>
                    <a:pt x="487" y="2061"/>
                  </a:lnTo>
                  <a:lnTo>
                    <a:pt x="497" y="2026"/>
                  </a:lnTo>
                  <a:lnTo>
                    <a:pt x="497" y="1997"/>
                  </a:lnTo>
                  <a:lnTo>
                    <a:pt x="502" y="1962"/>
                  </a:lnTo>
                  <a:lnTo>
                    <a:pt x="507" y="1933"/>
                  </a:lnTo>
                  <a:lnTo>
                    <a:pt x="512" y="1898"/>
                  </a:lnTo>
                  <a:lnTo>
                    <a:pt x="517" y="1869"/>
                  </a:lnTo>
                  <a:lnTo>
                    <a:pt x="528" y="1834"/>
                  </a:lnTo>
                  <a:lnTo>
                    <a:pt x="528" y="1805"/>
                  </a:lnTo>
                  <a:lnTo>
                    <a:pt x="533" y="1770"/>
                  </a:lnTo>
                  <a:lnTo>
                    <a:pt x="538" y="1735"/>
                  </a:lnTo>
                  <a:lnTo>
                    <a:pt x="543" y="1706"/>
                  </a:lnTo>
                  <a:lnTo>
                    <a:pt x="548" y="1671"/>
                  </a:lnTo>
                  <a:lnTo>
                    <a:pt x="548" y="1637"/>
                  </a:lnTo>
                  <a:lnTo>
                    <a:pt x="553" y="1607"/>
                  </a:lnTo>
                  <a:lnTo>
                    <a:pt x="558" y="1573"/>
                  </a:lnTo>
                  <a:lnTo>
                    <a:pt x="563" y="1543"/>
                  </a:lnTo>
                  <a:lnTo>
                    <a:pt x="563" y="1509"/>
                  </a:lnTo>
                  <a:lnTo>
                    <a:pt x="568" y="1474"/>
                  </a:lnTo>
                  <a:lnTo>
                    <a:pt x="573" y="1445"/>
                  </a:lnTo>
                  <a:lnTo>
                    <a:pt x="578" y="1410"/>
                  </a:lnTo>
                  <a:lnTo>
                    <a:pt x="578" y="1380"/>
                  </a:lnTo>
                  <a:lnTo>
                    <a:pt x="583" y="1346"/>
                  </a:lnTo>
                  <a:lnTo>
                    <a:pt x="588" y="1316"/>
                  </a:lnTo>
                  <a:lnTo>
                    <a:pt x="588" y="1282"/>
                  </a:lnTo>
                  <a:lnTo>
                    <a:pt x="593" y="1252"/>
                  </a:lnTo>
                  <a:lnTo>
                    <a:pt x="598" y="1218"/>
                  </a:lnTo>
                  <a:lnTo>
                    <a:pt x="603" y="1183"/>
                  </a:lnTo>
                  <a:lnTo>
                    <a:pt x="603" y="1154"/>
                  </a:lnTo>
                  <a:lnTo>
                    <a:pt x="608" y="1119"/>
                  </a:lnTo>
                  <a:lnTo>
                    <a:pt x="608" y="1089"/>
                  </a:lnTo>
                  <a:lnTo>
                    <a:pt x="613" y="1055"/>
                  </a:lnTo>
                  <a:lnTo>
                    <a:pt x="618" y="1025"/>
                  </a:lnTo>
                  <a:lnTo>
                    <a:pt x="618" y="991"/>
                  </a:lnTo>
                  <a:lnTo>
                    <a:pt x="623" y="956"/>
                  </a:lnTo>
                  <a:lnTo>
                    <a:pt x="628" y="927"/>
                  </a:lnTo>
                  <a:lnTo>
                    <a:pt x="628" y="892"/>
                  </a:lnTo>
                  <a:lnTo>
                    <a:pt x="633" y="863"/>
                  </a:lnTo>
                  <a:lnTo>
                    <a:pt x="633" y="833"/>
                  </a:lnTo>
                  <a:lnTo>
                    <a:pt x="638" y="798"/>
                  </a:lnTo>
                  <a:lnTo>
                    <a:pt x="638" y="784"/>
                  </a:lnTo>
                  <a:lnTo>
                    <a:pt x="638" y="769"/>
                  </a:lnTo>
                  <a:lnTo>
                    <a:pt x="638" y="754"/>
                  </a:lnTo>
                  <a:lnTo>
                    <a:pt x="638" y="739"/>
                  </a:lnTo>
                  <a:lnTo>
                    <a:pt x="638" y="725"/>
                  </a:lnTo>
                  <a:lnTo>
                    <a:pt x="638" y="710"/>
                  </a:lnTo>
                  <a:lnTo>
                    <a:pt x="638" y="695"/>
                  </a:lnTo>
                  <a:lnTo>
                    <a:pt x="638" y="680"/>
                  </a:lnTo>
                  <a:lnTo>
                    <a:pt x="638" y="660"/>
                  </a:lnTo>
                  <a:lnTo>
                    <a:pt x="638" y="651"/>
                  </a:lnTo>
                  <a:lnTo>
                    <a:pt x="638" y="631"/>
                  </a:lnTo>
                  <a:lnTo>
                    <a:pt x="638" y="616"/>
                  </a:lnTo>
                  <a:lnTo>
                    <a:pt x="633" y="601"/>
                  </a:lnTo>
                  <a:lnTo>
                    <a:pt x="633" y="586"/>
                  </a:lnTo>
                  <a:lnTo>
                    <a:pt x="633" y="572"/>
                  </a:lnTo>
                  <a:lnTo>
                    <a:pt x="633" y="557"/>
                  </a:lnTo>
                  <a:lnTo>
                    <a:pt x="628" y="537"/>
                  </a:lnTo>
                  <a:lnTo>
                    <a:pt x="623" y="522"/>
                  </a:lnTo>
                  <a:lnTo>
                    <a:pt x="618" y="508"/>
                  </a:lnTo>
                  <a:lnTo>
                    <a:pt x="618" y="493"/>
                  </a:lnTo>
                  <a:lnTo>
                    <a:pt x="613" y="473"/>
                  </a:lnTo>
                  <a:lnTo>
                    <a:pt x="608" y="458"/>
                  </a:lnTo>
                  <a:lnTo>
                    <a:pt x="603" y="443"/>
                  </a:lnTo>
                  <a:lnTo>
                    <a:pt x="603" y="429"/>
                  </a:lnTo>
                  <a:lnTo>
                    <a:pt x="598" y="414"/>
                  </a:lnTo>
                  <a:lnTo>
                    <a:pt x="588" y="399"/>
                  </a:lnTo>
                  <a:lnTo>
                    <a:pt x="583" y="384"/>
                  </a:lnTo>
                  <a:lnTo>
                    <a:pt x="578" y="369"/>
                  </a:lnTo>
                  <a:lnTo>
                    <a:pt x="573" y="350"/>
                  </a:lnTo>
                  <a:lnTo>
                    <a:pt x="568" y="335"/>
                  </a:lnTo>
                  <a:lnTo>
                    <a:pt x="558" y="320"/>
                  </a:lnTo>
                  <a:lnTo>
                    <a:pt x="553" y="310"/>
                  </a:lnTo>
                  <a:lnTo>
                    <a:pt x="543" y="295"/>
                  </a:lnTo>
                  <a:lnTo>
                    <a:pt x="533" y="281"/>
                  </a:lnTo>
                  <a:lnTo>
                    <a:pt x="528" y="266"/>
                  </a:lnTo>
                  <a:lnTo>
                    <a:pt x="517" y="251"/>
                  </a:lnTo>
                  <a:lnTo>
                    <a:pt x="502" y="236"/>
                  </a:lnTo>
                  <a:lnTo>
                    <a:pt x="497" y="226"/>
                  </a:lnTo>
                  <a:lnTo>
                    <a:pt x="482" y="212"/>
                  </a:lnTo>
                  <a:lnTo>
                    <a:pt x="477" y="202"/>
                  </a:lnTo>
                  <a:lnTo>
                    <a:pt x="462" y="187"/>
                  </a:lnTo>
                  <a:lnTo>
                    <a:pt x="452" y="172"/>
                  </a:lnTo>
                  <a:lnTo>
                    <a:pt x="437" y="162"/>
                  </a:lnTo>
                  <a:lnTo>
                    <a:pt x="427" y="152"/>
                  </a:lnTo>
                  <a:lnTo>
                    <a:pt x="412" y="138"/>
                  </a:lnTo>
                  <a:lnTo>
                    <a:pt x="397" y="128"/>
                  </a:lnTo>
                  <a:lnTo>
                    <a:pt x="382" y="118"/>
                  </a:lnTo>
                  <a:lnTo>
                    <a:pt x="367" y="108"/>
                  </a:lnTo>
                  <a:lnTo>
                    <a:pt x="352" y="98"/>
                  </a:lnTo>
                  <a:lnTo>
                    <a:pt x="332" y="88"/>
                  </a:lnTo>
                  <a:lnTo>
                    <a:pt x="316" y="78"/>
                  </a:lnTo>
                  <a:lnTo>
                    <a:pt x="301" y="69"/>
                  </a:lnTo>
                  <a:lnTo>
                    <a:pt x="281" y="59"/>
                  </a:lnTo>
                  <a:lnTo>
                    <a:pt x="261" y="54"/>
                  </a:lnTo>
                  <a:lnTo>
                    <a:pt x="246" y="44"/>
                  </a:lnTo>
                  <a:lnTo>
                    <a:pt x="226" y="39"/>
                  </a:lnTo>
                  <a:lnTo>
                    <a:pt x="201" y="34"/>
                  </a:lnTo>
                  <a:lnTo>
                    <a:pt x="181" y="24"/>
                  </a:lnTo>
                  <a:lnTo>
                    <a:pt x="161" y="19"/>
                  </a:lnTo>
                  <a:lnTo>
                    <a:pt x="141" y="14"/>
                  </a:lnTo>
                  <a:lnTo>
                    <a:pt x="115" y="9"/>
                  </a:lnTo>
                  <a:lnTo>
                    <a:pt x="95" y="5"/>
                  </a:lnTo>
                  <a:lnTo>
                    <a:pt x="70" y="5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0" y="14"/>
                  </a:lnTo>
                  <a:lnTo>
                    <a:pt x="10" y="29"/>
                  </a:lnTo>
                  <a:lnTo>
                    <a:pt x="15" y="39"/>
                  </a:lnTo>
                  <a:lnTo>
                    <a:pt x="25" y="49"/>
                  </a:lnTo>
                  <a:lnTo>
                    <a:pt x="30" y="54"/>
                  </a:lnTo>
                  <a:lnTo>
                    <a:pt x="40" y="59"/>
                  </a:lnTo>
                  <a:lnTo>
                    <a:pt x="50" y="69"/>
                  </a:lnTo>
                  <a:lnTo>
                    <a:pt x="60" y="74"/>
                  </a:lnTo>
                  <a:lnTo>
                    <a:pt x="70" y="78"/>
                  </a:lnTo>
                  <a:lnTo>
                    <a:pt x="85" y="88"/>
                  </a:lnTo>
                  <a:lnTo>
                    <a:pt x="100" y="93"/>
                  </a:lnTo>
                  <a:lnTo>
                    <a:pt x="115" y="103"/>
                  </a:lnTo>
                  <a:lnTo>
                    <a:pt x="131" y="108"/>
                  </a:lnTo>
                  <a:lnTo>
                    <a:pt x="151" y="118"/>
                  </a:lnTo>
                  <a:lnTo>
                    <a:pt x="161" y="123"/>
                  </a:lnTo>
                  <a:lnTo>
                    <a:pt x="171" y="128"/>
                  </a:lnTo>
                  <a:lnTo>
                    <a:pt x="181" y="133"/>
                  </a:lnTo>
                  <a:lnTo>
                    <a:pt x="191" y="138"/>
                  </a:lnTo>
                  <a:lnTo>
                    <a:pt x="211" y="148"/>
                  </a:lnTo>
                  <a:lnTo>
                    <a:pt x="231" y="157"/>
                  </a:lnTo>
                  <a:lnTo>
                    <a:pt x="251" y="167"/>
                  </a:lnTo>
                  <a:lnTo>
                    <a:pt x="271" y="182"/>
                  </a:lnTo>
                  <a:lnTo>
                    <a:pt x="286" y="192"/>
                  </a:lnTo>
                  <a:lnTo>
                    <a:pt x="301" y="202"/>
                  </a:lnTo>
                  <a:lnTo>
                    <a:pt x="322" y="217"/>
                  </a:lnTo>
                  <a:lnTo>
                    <a:pt x="337" y="231"/>
                  </a:lnTo>
                  <a:lnTo>
                    <a:pt x="352" y="246"/>
                  </a:lnTo>
                  <a:lnTo>
                    <a:pt x="367" y="261"/>
                  </a:lnTo>
                  <a:lnTo>
                    <a:pt x="377" y="271"/>
                  </a:lnTo>
                  <a:lnTo>
                    <a:pt x="392" y="291"/>
                  </a:lnTo>
                  <a:lnTo>
                    <a:pt x="402" y="305"/>
                  </a:lnTo>
                  <a:lnTo>
                    <a:pt x="412" y="320"/>
                  </a:lnTo>
                  <a:lnTo>
                    <a:pt x="422" y="335"/>
                  </a:lnTo>
                  <a:lnTo>
                    <a:pt x="432" y="355"/>
                  </a:lnTo>
                  <a:lnTo>
                    <a:pt x="442" y="374"/>
                  </a:lnTo>
                  <a:lnTo>
                    <a:pt x="447" y="389"/>
                  </a:lnTo>
                  <a:lnTo>
                    <a:pt x="457" y="409"/>
                  </a:lnTo>
                  <a:lnTo>
                    <a:pt x="462" y="429"/>
                  </a:lnTo>
                  <a:lnTo>
                    <a:pt x="467" y="443"/>
                  </a:lnTo>
                  <a:lnTo>
                    <a:pt x="477" y="463"/>
                  </a:lnTo>
                  <a:lnTo>
                    <a:pt x="482" y="483"/>
                  </a:lnTo>
                  <a:lnTo>
                    <a:pt x="487" y="503"/>
                  </a:lnTo>
                  <a:lnTo>
                    <a:pt x="487" y="522"/>
                  </a:lnTo>
                  <a:lnTo>
                    <a:pt x="492" y="542"/>
                  </a:lnTo>
                  <a:lnTo>
                    <a:pt x="492" y="562"/>
                  </a:lnTo>
                  <a:lnTo>
                    <a:pt x="497" y="582"/>
                  </a:lnTo>
                  <a:lnTo>
                    <a:pt x="497" y="601"/>
                  </a:lnTo>
                  <a:lnTo>
                    <a:pt x="502" y="626"/>
                  </a:lnTo>
                  <a:lnTo>
                    <a:pt x="502" y="646"/>
                  </a:lnTo>
                  <a:lnTo>
                    <a:pt x="502" y="670"/>
                  </a:lnTo>
                  <a:lnTo>
                    <a:pt x="502" y="690"/>
                  </a:lnTo>
                  <a:lnTo>
                    <a:pt x="502" y="710"/>
                  </a:lnTo>
                  <a:lnTo>
                    <a:pt x="502" y="729"/>
                  </a:lnTo>
                  <a:lnTo>
                    <a:pt x="502" y="754"/>
                  </a:lnTo>
                  <a:lnTo>
                    <a:pt x="502" y="774"/>
                  </a:lnTo>
                  <a:lnTo>
                    <a:pt x="502" y="794"/>
                  </a:lnTo>
                  <a:lnTo>
                    <a:pt x="497" y="818"/>
                  </a:lnTo>
                  <a:lnTo>
                    <a:pt x="497" y="838"/>
                  </a:lnTo>
                  <a:lnTo>
                    <a:pt x="497" y="863"/>
                  </a:lnTo>
                  <a:lnTo>
                    <a:pt x="492" y="882"/>
                  </a:lnTo>
                  <a:lnTo>
                    <a:pt x="487" y="902"/>
                  </a:lnTo>
                  <a:lnTo>
                    <a:pt x="487" y="927"/>
                  </a:lnTo>
                  <a:lnTo>
                    <a:pt x="482" y="946"/>
                  </a:lnTo>
                  <a:lnTo>
                    <a:pt x="482" y="971"/>
                  </a:lnTo>
                  <a:lnTo>
                    <a:pt x="477" y="991"/>
                  </a:lnTo>
                  <a:lnTo>
                    <a:pt x="477" y="1015"/>
                  </a:lnTo>
                  <a:lnTo>
                    <a:pt x="472" y="1035"/>
                  </a:lnTo>
                  <a:lnTo>
                    <a:pt x="467" y="1055"/>
                  </a:lnTo>
                  <a:lnTo>
                    <a:pt x="462" y="1080"/>
                  </a:lnTo>
                  <a:lnTo>
                    <a:pt x="462" y="1099"/>
                  </a:lnTo>
                  <a:lnTo>
                    <a:pt x="457" y="1119"/>
                  </a:lnTo>
                  <a:lnTo>
                    <a:pt x="452" y="1144"/>
                  </a:lnTo>
                  <a:lnTo>
                    <a:pt x="452" y="1163"/>
                  </a:lnTo>
                  <a:lnTo>
                    <a:pt x="447" y="1183"/>
                  </a:lnTo>
                  <a:lnTo>
                    <a:pt x="442" y="1203"/>
                  </a:lnTo>
                  <a:lnTo>
                    <a:pt x="442" y="1223"/>
                  </a:lnTo>
                  <a:lnTo>
                    <a:pt x="437" y="1242"/>
                  </a:lnTo>
                  <a:lnTo>
                    <a:pt x="432" y="1267"/>
                  </a:lnTo>
                  <a:lnTo>
                    <a:pt x="432" y="1287"/>
                  </a:lnTo>
                  <a:lnTo>
                    <a:pt x="427" y="1306"/>
                  </a:lnTo>
                  <a:lnTo>
                    <a:pt x="427" y="1326"/>
                  </a:lnTo>
                  <a:lnTo>
                    <a:pt x="422" y="1346"/>
                  </a:lnTo>
                  <a:lnTo>
                    <a:pt x="417" y="1366"/>
                  </a:lnTo>
                  <a:lnTo>
                    <a:pt x="417" y="1390"/>
                  </a:lnTo>
                  <a:lnTo>
                    <a:pt x="412" y="1415"/>
                  </a:lnTo>
                  <a:lnTo>
                    <a:pt x="407" y="1440"/>
                  </a:lnTo>
                  <a:lnTo>
                    <a:pt x="402" y="1459"/>
                  </a:lnTo>
                  <a:lnTo>
                    <a:pt x="402" y="1484"/>
                  </a:lnTo>
                  <a:lnTo>
                    <a:pt x="397" y="1509"/>
                  </a:lnTo>
                  <a:lnTo>
                    <a:pt x="397" y="1533"/>
                  </a:lnTo>
                  <a:lnTo>
                    <a:pt x="387" y="1553"/>
                  </a:lnTo>
                  <a:lnTo>
                    <a:pt x="387" y="1578"/>
                  </a:lnTo>
                  <a:lnTo>
                    <a:pt x="382" y="1602"/>
                  </a:lnTo>
                  <a:lnTo>
                    <a:pt x="382" y="1627"/>
                  </a:lnTo>
                  <a:lnTo>
                    <a:pt x="377" y="1647"/>
                  </a:lnTo>
                  <a:lnTo>
                    <a:pt x="372" y="1671"/>
                  </a:lnTo>
                  <a:lnTo>
                    <a:pt x="367" y="1696"/>
                  </a:lnTo>
                  <a:lnTo>
                    <a:pt x="367" y="1721"/>
                  </a:lnTo>
                  <a:lnTo>
                    <a:pt x="362" y="1740"/>
                  </a:lnTo>
                  <a:lnTo>
                    <a:pt x="362" y="1765"/>
                  </a:lnTo>
                  <a:lnTo>
                    <a:pt x="357" y="1790"/>
                  </a:lnTo>
                  <a:lnTo>
                    <a:pt x="352" y="1809"/>
                  </a:lnTo>
                  <a:lnTo>
                    <a:pt x="352" y="1834"/>
                  </a:lnTo>
                  <a:lnTo>
                    <a:pt x="347" y="1859"/>
                  </a:lnTo>
                  <a:lnTo>
                    <a:pt x="347" y="1883"/>
                  </a:lnTo>
                  <a:lnTo>
                    <a:pt x="342" y="1908"/>
                  </a:lnTo>
                  <a:lnTo>
                    <a:pt x="337" y="1928"/>
                  </a:lnTo>
                  <a:lnTo>
                    <a:pt x="337" y="1952"/>
                  </a:lnTo>
                  <a:lnTo>
                    <a:pt x="332" y="1977"/>
                  </a:lnTo>
                  <a:lnTo>
                    <a:pt x="332" y="2002"/>
                  </a:lnTo>
                  <a:lnTo>
                    <a:pt x="327" y="2026"/>
                  </a:lnTo>
                  <a:lnTo>
                    <a:pt x="327" y="2051"/>
                  </a:lnTo>
                  <a:lnTo>
                    <a:pt x="322" y="2071"/>
                  </a:lnTo>
                  <a:lnTo>
                    <a:pt x="322" y="2100"/>
                  </a:lnTo>
                  <a:lnTo>
                    <a:pt x="322" y="2120"/>
                  </a:lnTo>
                  <a:lnTo>
                    <a:pt x="316" y="2145"/>
                  </a:lnTo>
                  <a:lnTo>
                    <a:pt x="316" y="2169"/>
                  </a:lnTo>
                  <a:lnTo>
                    <a:pt x="311" y="2194"/>
                  </a:lnTo>
                  <a:lnTo>
                    <a:pt x="311" y="2214"/>
                  </a:lnTo>
                  <a:lnTo>
                    <a:pt x="311" y="2238"/>
                  </a:lnTo>
                  <a:lnTo>
                    <a:pt x="306" y="2263"/>
                  </a:lnTo>
                  <a:lnTo>
                    <a:pt x="306" y="2288"/>
                  </a:lnTo>
                  <a:lnTo>
                    <a:pt x="306" y="2308"/>
                  </a:lnTo>
                  <a:lnTo>
                    <a:pt x="306" y="2332"/>
                  </a:lnTo>
                  <a:lnTo>
                    <a:pt x="301" y="2357"/>
                  </a:lnTo>
                  <a:lnTo>
                    <a:pt x="301" y="2382"/>
                  </a:lnTo>
                  <a:lnTo>
                    <a:pt x="301" y="2406"/>
                  </a:lnTo>
                  <a:lnTo>
                    <a:pt x="301" y="2426"/>
                  </a:lnTo>
                  <a:lnTo>
                    <a:pt x="301" y="2451"/>
                  </a:lnTo>
                  <a:lnTo>
                    <a:pt x="301" y="2475"/>
                  </a:lnTo>
                  <a:lnTo>
                    <a:pt x="301" y="2500"/>
                  </a:lnTo>
                  <a:lnTo>
                    <a:pt x="301" y="2525"/>
                  </a:lnTo>
                  <a:lnTo>
                    <a:pt x="301" y="2549"/>
                  </a:lnTo>
                  <a:lnTo>
                    <a:pt x="301" y="2574"/>
                  </a:lnTo>
                  <a:lnTo>
                    <a:pt x="301" y="2594"/>
                  </a:lnTo>
                  <a:lnTo>
                    <a:pt x="306" y="2618"/>
                  </a:lnTo>
                  <a:lnTo>
                    <a:pt x="306" y="2643"/>
                  </a:lnTo>
                  <a:lnTo>
                    <a:pt x="311" y="2668"/>
                  </a:lnTo>
                  <a:lnTo>
                    <a:pt x="311" y="2692"/>
                  </a:lnTo>
                  <a:lnTo>
                    <a:pt x="311" y="2717"/>
                  </a:lnTo>
                  <a:lnTo>
                    <a:pt x="311" y="2737"/>
                  </a:lnTo>
                  <a:lnTo>
                    <a:pt x="316" y="2761"/>
                  </a:lnTo>
                  <a:lnTo>
                    <a:pt x="316" y="2786"/>
                  </a:lnTo>
                  <a:lnTo>
                    <a:pt x="322" y="2811"/>
                  </a:lnTo>
                  <a:lnTo>
                    <a:pt x="322" y="2835"/>
                  </a:lnTo>
                  <a:lnTo>
                    <a:pt x="332" y="2860"/>
                  </a:lnTo>
                  <a:lnTo>
                    <a:pt x="332" y="2860"/>
                  </a:lnTo>
                  <a:lnTo>
                    <a:pt x="337" y="2860"/>
                  </a:lnTo>
                  <a:lnTo>
                    <a:pt x="337" y="28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 flipV="1" rot="9362400">
              <a:off x="374400" y="785160"/>
              <a:ext cx="6397920" cy="4610160"/>
            </a:xfrm>
            <a:custGeom>
              <a:avLst/>
              <a:gdLst/>
              <a:ahLst/>
              <a:rect l="l" t="t" r="r" b="b"/>
              <a:pathLst>
                <a:path w="4030" h="2904">
                  <a:moveTo>
                    <a:pt x="4020" y="991"/>
                  </a:moveTo>
                  <a:lnTo>
                    <a:pt x="3990" y="971"/>
                  </a:lnTo>
                  <a:lnTo>
                    <a:pt x="3964" y="961"/>
                  </a:lnTo>
                  <a:lnTo>
                    <a:pt x="3934" y="946"/>
                  </a:lnTo>
                  <a:lnTo>
                    <a:pt x="3904" y="932"/>
                  </a:lnTo>
                  <a:lnTo>
                    <a:pt x="3874" y="922"/>
                  </a:lnTo>
                  <a:lnTo>
                    <a:pt x="3849" y="907"/>
                  </a:lnTo>
                  <a:lnTo>
                    <a:pt x="3819" y="892"/>
                  </a:lnTo>
                  <a:lnTo>
                    <a:pt x="3789" y="882"/>
                  </a:lnTo>
                  <a:lnTo>
                    <a:pt x="3758" y="872"/>
                  </a:lnTo>
                  <a:lnTo>
                    <a:pt x="3733" y="858"/>
                  </a:lnTo>
                  <a:lnTo>
                    <a:pt x="3698" y="843"/>
                  </a:lnTo>
                  <a:lnTo>
                    <a:pt x="3673" y="833"/>
                  </a:lnTo>
                  <a:lnTo>
                    <a:pt x="3638" y="823"/>
                  </a:lnTo>
                  <a:lnTo>
                    <a:pt x="3613" y="813"/>
                  </a:lnTo>
                  <a:lnTo>
                    <a:pt x="3583" y="803"/>
                  </a:lnTo>
                  <a:lnTo>
                    <a:pt x="3552" y="789"/>
                  </a:lnTo>
                  <a:lnTo>
                    <a:pt x="3522" y="779"/>
                  </a:lnTo>
                  <a:lnTo>
                    <a:pt x="3492" y="769"/>
                  </a:lnTo>
                  <a:lnTo>
                    <a:pt x="3457" y="759"/>
                  </a:lnTo>
                  <a:lnTo>
                    <a:pt x="3432" y="744"/>
                  </a:lnTo>
                  <a:lnTo>
                    <a:pt x="3397" y="734"/>
                  </a:lnTo>
                  <a:lnTo>
                    <a:pt x="3366" y="724"/>
                  </a:lnTo>
                  <a:lnTo>
                    <a:pt x="3336" y="715"/>
                  </a:lnTo>
                  <a:lnTo>
                    <a:pt x="3306" y="710"/>
                  </a:lnTo>
                  <a:lnTo>
                    <a:pt x="3276" y="695"/>
                  </a:lnTo>
                  <a:lnTo>
                    <a:pt x="3246" y="690"/>
                  </a:lnTo>
                  <a:lnTo>
                    <a:pt x="3216" y="680"/>
                  </a:lnTo>
                  <a:lnTo>
                    <a:pt x="3186" y="670"/>
                  </a:lnTo>
                  <a:lnTo>
                    <a:pt x="3150" y="660"/>
                  </a:lnTo>
                  <a:lnTo>
                    <a:pt x="3120" y="650"/>
                  </a:lnTo>
                  <a:lnTo>
                    <a:pt x="3090" y="641"/>
                  </a:lnTo>
                  <a:lnTo>
                    <a:pt x="3060" y="636"/>
                  </a:lnTo>
                  <a:lnTo>
                    <a:pt x="3030" y="626"/>
                  </a:lnTo>
                  <a:lnTo>
                    <a:pt x="3000" y="616"/>
                  </a:lnTo>
                  <a:lnTo>
                    <a:pt x="2964" y="606"/>
                  </a:lnTo>
                  <a:lnTo>
                    <a:pt x="2934" y="596"/>
                  </a:lnTo>
                  <a:lnTo>
                    <a:pt x="2904" y="586"/>
                  </a:lnTo>
                  <a:lnTo>
                    <a:pt x="2869" y="581"/>
                  </a:lnTo>
                  <a:lnTo>
                    <a:pt x="2839" y="572"/>
                  </a:lnTo>
                  <a:lnTo>
                    <a:pt x="2809" y="562"/>
                  </a:lnTo>
                  <a:lnTo>
                    <a:pt x="2778" y="552"/>
                  </a:lnTo>
                  <a:lnTo>
                    <a:pt x="2748" y="547"/>
                  </a:lnTo>
                  <a:lnTo>
                    <a:pt x="2713" y="537"/>
                  </a:lnTo>
                  <a:lnTo>
                    <a:pt x="2683" y="532"/>
                  </a:lnTo>
                  <a:lnTo>
                    <a:pt x="2653" y="522"/>
                  </a:lnTo>
                  <a:lnTo>
                    <a:pt x="2618" y="512"/>
                  </a:lnTo>
                  <a:lnTo>
                    <a:pt x="2588" y="503"/>
                  </a:lnTo>
                  <a:lnTo>
                    <a:pt x="2557" y="498"/>
                  </a:lnTo>
                  <a:lnTo>
                    <a:pt x="2522" y="488"/>
                  </a:lnTo>
                  <a:lnTo>
                    <a:pt x="2497" y="478"/>
                  </a:lnTo>
                  <a:lnTo>
                    <a:pt x="2462" y="468"/>
                  </a:lnTo>
                  <a:lnTo>
                    <a:pt x="2432" y="463"/>
                  </a:lnTo>
                  <a:lnTo>
                    <a:pt x="2402" y="453"/>
                  </a:lnTo>
                  <a:lnTo>
                    <a:pt x="2371" y="448"/>
                  </a:lnTo>
                  <a:lnTo>
                    <a:pt x="2341" y="438"/>
                  </a:lnTo>
                  <a:lnTo>
                    <a:pt x="2311" y="429"/>
                  </a:lnTo>
                  <a:lnTo>
                    <a:pt x="2281" y="419"/>
                  </a:lnTo>
                  <a:lnTo>
                    <a:pt x="2251" y="414"/>
                  </a:lnTo>
                  <a:lnTo>
                    <a:pt x="2216" y="404"/>
                  </a:lnTo>
                  <a:lnTo>
                    <a:pt x="2185" y="399"/>
                  </a:lnTo>
                  <a:lnTo>
                    <a:pt x="2155" y="389"/>
                  </a:lnTo>
                  <a:lnTo>
                    <a:pt x="2130" y="379"/>
                  </a:lnTo>
                  <a:lnTo>
                    <a:pt x="2095" y="369"/>
                  </a:lnTo>
                  <a:lnTo>
                    <a:pt x="2070" y="364"/>
                  </a:lnTo>
                  <a:lnTo>
                    <a:pt x="2045" y="355"/>
                  </a:lnTo>
                  <a:lnTo>
                    <a:pt x="2020" y="350"/>
                  </a:lnTo>
                  <a:lnTo>
                    <a:pt x="2000" y="340"/>
                  </a:lnTo>
                  <a:lnTo>
                    <a:pt x="1974" y="335"/>
                  </a:lnTo>
                  <a:lnTo>
                    <a:pt x="1949" y="325"/>
                  </a:lnTo>
                  <a:lnTo>
                    <a:pt x="1924" y="320"/>
                  </a:lnTo>
                  <a:lnTo>
                    <a:pt x="1899" y="310"/>
                  </a:lnTo>
                  <a:lnTo>
                    <a:pt x="1879" y="300"/>
                  </a:lnTo>
                  <a:lnTo>
                    <a:pt x="1849" y="290"/>
                  </a:lnTo>
                  <a:lnTo>
                    <a:pt x="1824" y="286"/>
                  </a:lnTo>
                  <a:lnTo>
                    <a:pt x="1799" y="271"/>
                  </a:lnTo>
                  <a:lnTo>
                    <a:pt x="1773" y="266"/>
                  </a:lnTo>
                  <a:lnTo>
                    <a:pt x="1748" y="256"/>
                  </a:lnTo>
                  <a:lnTo>
                    <a:pt x="1718" y="246"/>
                  </a:lnTo>
                  <a:lnTo>
                    <a:pt x="1693" y="236"/>
                  </a:lnTo>
                  <a:lnTo>
                    <a:pt x="1668" y="226"/>
                  </a:lnTo>
                  <a:lnTo>
                    <a:pt x="1643" y="217"/>
                  </a:lnTo>
                  <a:lnTo>
                    <a:pt x="1613" y="207"/>
                  </a:lnTo>
                  <a:lnTo>
                    <a:pt x="1582" y="197"/>
                  </a:lnTo>
                  <a:lnTo>
                    <a:pt x="1557" y="192"/>
                  </a:lnTo>
                  <a:lnTo>
                    <a:pt x="1527" y="177"/>
                  </a:lnTo>
                  <a:lnTo>
                    <a:pt x="1502" y="172"/>
                  </a:lnTo>
                  <a:lnTo>
                    <a:pt x="1472" y="162"/>
                  </a:lnTo>
                  <a:lnTo>
                    <a:pt x="1447" y="152"/>
                  </a:lnTo>
                  <a:lnTo>
                    <a:pt x="1417" y="143"/>
                  </a:lnTo>
                  <a:lnTo>
                    <a:pt x="1386" y="133"/>
                  </a:lnTo>
                  <a:lnTo>
                    <a:pt x="1361" y="123"/>
                  </a:lnTo>
                  <a:lnTo>
                    <a:pt x="1331" y="113"/>
                  </a:lnTo>
                  <a:lnTo>
                    <a:pt x="1301" y="108"/>
                  </a:lnTo>
                  <a:lnTo>
                    <a:pt x="1276" y="98"/>
                  </a:lnTo>
                  <a:lnTo>
                    <a:pt x="1246" y="88"/>
                  </a:lnTo>
                  <a:lnTo>
                    <a:pt x="1216" y="83"/>
                  </a:lnTo>
                  <a:lnTo>
                    <a:pt x="1185" y="74"/>
                  </a:lnTo>
                  <a:lnTo>
                    <a:pt x="1160" y="69"/>
                  </a:lnTo>
                  <a:lnTo>
                    <a:pt x="1130" y="59"/>
                  </a:lnTo>
                  <a:lnTo>
                    <a:pt x="1100" y="54"/>
                  </a:lnTo>
                  <a:lnTo>
                    <a:pt x="1070" y="44"/>
                  </a:lnTo>
                  <a:lnTo>
                    <a:pt x="1045" y="39"/>
                  </a:lnTo>
                  <a:lnTo>
                    <a:pt x="1015" y="34"/>
                  </a:lnTo>
                  <a:lnTo>
                    <a:pt x="984" y="29"/>
                  </a:lnTo>
                  <a:lnTo>
                    <a:pt x="959" y="24"/>
                  </a:lnTo>
                  <a:lnTo>
                    <a:pt x="929" y="19"/>
                  </a:lnTo>
                  <a:lnTo>
                    <a:pt x="899" y="14"/>
                  </a:lnTo>
                  <a:lnTo>
                    <a:pt x="869" y="14"/>
                  </a:lnTo>
                  <a:lnTo>
                    <a:pt x="844" y="9"/>
                  </a:lnTo>
                  <a:lnTo>
                    <a:pt x="814" y="4"/>
                  </a:lnTo>
                  <a:lnTo>
                    <a:pt x="788" y="4"/>
                  </a:lnTo>
                  <a:lnTo>
                    <a:pt x="763" y="4"/>
                  </a:lnTo>
                  <a:lnTo>
                    <a:pt x="733" y="0"/>
                  </a:lnTo>
                  <a:lnTo>
                    <a:pt x="708" y="0"/>
                  </a:lnTo>
                  <a:lnTo>
                    <a:pt x="678" y="0"/>
                  </a:lnTo>
                  <a:lnTo>
                    <a:pt x="653" y="0"/>
                  </a:lnTo>
                  <a:lnTo>
                    <a:pt x="623" y="0"/>
                  </a:lnTo>
                  <a:lnTo>
                    <a:pt x="598" y="4"/>
                  </a:lnTo>
                  <a:lnTo>
                    <a:pt x="572" y="4"/>
                  </a:lnTo>
                  <a:lnTo>
                    <a:pt x="547" y="9"/>
                  </a:lnTo>
                  <a:lnTo>
                    <a:pt x="517" y="14"/>
                  </a:lnTo>
                  <a:lnTo>
                    <a:pt x="497" y="19"/>
                  </a:lnTo>
                  <a:lnTo>
                    <a:pt x="467" y="24"/>
                  </a:lnTo>
                  <a:lnTo>
                    <a:pt x="447" y="29"/>
                  </a:lnTo>
                  <a:lnTo>
                    <a:pt x="417" y="34"/>
                  </a:lnTo>
                  <a:lnTo>
                    <a:pt x="397" y="44"/>
                  </a:lnTo>
                  <a:lnTo>
                    <a:pt x="371" y="54"/>
                  </a:lnTo>
                  <a:lnTo>
                    <a:pt x="351" y="64"/>
                  </a:lnTo>
                  <a:lnTo>
                    <a:pt x="331" y="69"/>
                  </a:lnTo>
                  <a:lnTo>
                    <a:pt x="311" y="78"/>
                  </a:lnTo>
                  <a:lnTo>
                    <a:pt x="296" y="88"/>
                  </a:lnTo>
                  <a:lnTo>
                    <a:pt x="281" y="98"/>
                  </a:lnTo>
                  <a:lnTo>
                    <a:pt x="266" y="113"/>
                  </a:lnTo>
                  <a:lnTo>
                    <a:pt x="251" y="123"/>
                  </a:lnTo>
                  <a:lnTo>
                    <a:pt x="236" y="133"/>
                  </a:lnTo>
                  <a:lnTo>
                    <a:pt x="226" y="152"/>
                  </a:lnTo>
                  <a:lnTo>
                    <a:pt x="211" y="162"/>
                  </a:lnTo>
                  <a:lnTo>
                    <a:pt x="195" y="182"/>
                  </a:lnTo>
                  <a:lnTo>
                    <a:pt x="185" y="197"/>
                  </a:lnTo>
                  <a:lnTo>
                    <a:pt x="175" y="212"/>
                  </a:lnTo>
                  <a:lnTo>
                    <a:pt x="165" y="231"/>
                  </a:lnTo>
                  <a:lnTo>
                    <a:pt x="155" y="246"/>
                  </a:lnTo>
                  <a:lnTo>
                    <a:pt x="145" y="266"/>
                  </a:lnTo>
                  <a:lnTo>
                    <a:pt x="140" y="286"/>
                  </a:lnTo>
                  <a:lnTo>
                    <a:pt x="130" y="305"/>
                  </a:lnTo>
                  <a:lnTo>
                    <a:pt x="125" y="325"/>
                  </a:lnTo>
                  <a:lnTo>
                    <a:pt x="115" y="345"/>
                  </a:lnTo>
                  <a:lnTo>
                    <a:pt x="110" y="369"/>
                  </a:lnTo>
                  <a:lnTo>
                    <a:pt x="100" y="389"/>
                  </a:lnTo>
                  <a:lnTo>
                    <a:pt x="95" y="409"/>
                  </a:lnTo>
                  <a:lnTo>
                    <a:pt x="90" y="434"/>
                  </a:lnTo>
                  <a:lnTo>
                    <a:pt x="90" y="453"/>
                  </a:lnTo>
                  <a:lnTo>
                    <a:pt x="80" y="473"/>
                  </a:lnTo>
                  <a:lnTo>
                    <a:pt x="75" y="498"/>
                  </a:lnTo>
                  <a:lnTo>
                    <a:pt x="75" y="522"/>
                  </a:lnTo>
                  <a:lnTo>
                    <a:pt x="70" y="547"/>
                  </a:lnTo>
                  <a:lnTo>
                    <a:pt x="65" y="567"/>
                  </a:lnTo>
                  <a:lnTo>
                    <a:pt x="65" y="596"/>
                  </a:lnTo>
                  <a:lnTo>
                    <a:pt x="65" y="616"/>
                  </a:lnTo>
                  <a:lnTo>
                    <a:pt x="65" y="646"/>
                  </a:lnTo>
                  <a:lnTo>
                    <a:pt x="60" y="665"/>
                  </a:lnTo>
                  <a:lnTo>
                    <a:pt x="60" y="690"/>
                  </a:lnTo>
                  <a:lnTo>
                    <a:pt x="55" y="715"/>
                  </a:lnTo>
                  <a:lnTo>
                    <a:pt x="55" y="739"/>
                  </a:lnTo>
                  <a:lnTo>
                    <a:pt x="55" y="764"/>
                  </a:lnTo>
                  <a:lnTo>
                    <a:pt x="55" y="789"/>
                  </a:lnTo>
                  <a:lnTo>
                    <a:pt x="55" y="808"/>
                  </a:lnTo>
                  <a:lnTo>
                    <a:pt x="55" y="838"/>
                  </a:lnTo>
                  <a:lnTo>
                    <a:pt x="55" y="858"/>
                  </a:lnTo>
                  <a:lnTo>
                    <a:pt x="55" y="882"/>
                  </a:lnTo>
                  <a:lnTo>
                    <a:pt x="55" y="907"/>
                  </a:lnTo>
                  <a:lnTo>
                    <a:pt x="60" y="932"/>
                  </a:lnTo>
                  <a:lnTo>
                    <a:pt x="60" y="951"/>
                  </a:lnTo>
                  <a:lnTo>
                    <a:pt x="60" y="976"/>
                  </a:lnTo>
                  <a:lnTo>
                    <a:pt x="60" y="1001"/>
                  </a:lnTo>
                  <a:lnTo>
                    <a:pt x="65" y="1025"/>
                  </a:lnTo>
                  <a:lnTo>
                    <a:pt x="65" y="1045"/>
                  </a:lnTo>
                  <a:lnTo>
                    <a:pt x="65" y="1065"/>
                  </a:lnTo>
                  <a:lnTo>
                    <a:pt x="65" y="1089"/>
                  </a:lnTo>
                  <a:lnTo>
                    <a:pt x="65" y="1109"/>
                  </a:lnTo>
                  <a:lnTo>
                    <a:pt x="65" y="1129"/>
                  </a:lnTo>
                  <a:lnTo>
                    <a:pt x="70" y="1154"/>
                  </a:lnTo>
                  <a:lnTo>
                    <a:pt x="70" y="1173"/>
                  </a:lnTo>
                  <a:lnTo>
                    <a:pt x="75" y="1193"/>
                  </a:lnTo>
                  <a:lnTo>
                    <a:pt x="75" y="1213"/>
                  </a:lnTo>
                  <a:lnTo>
                    <a:pt x="75" y="1227"/>
                  </a:lnTo>
                  <a:lnTo>
                    <a:pt x="75" y="1247"/>
                  </a:lnTo>
                  <a:lnTo>
                    <a:pt x="80" y="1262"/>
                  </a:lnTo>
                  <a:lnTo>
                    <a:pt x="80" y="1282"/>
                  </a:lnTo>
                  <a:lnTo>
                    <a:pt x="80" y="1297"/>
                  </a:lnTo>
                  <a:lnTo>
                    <a:pt x="80" y="1311"/>
                  </a:lnTo>
                  <a:lnTo>
                    <a:pt x="85" y="1326"/>
                  </a:lnTo>
                  <a:lnTo>
                    <a:pt x="85" y="1341"/>
                  </a:lnTo>
                  <a:lnTo>
                    <a:pt x="85" y="1361"/>
                  </a:lnTo>
                  <a:lnTo>
                    <a:pt x="85" y="1375"/>
                  </a:lnTo>
                  <a:lnTo>
                    <a:pt x="85" y="1390"/>
                  </a:lnTo>
                  <a:lnTo>
                    <a:pt x="85" y="1405"/>
                  </a:lnTo>
                  <a:lnTo>
                    <a:pt x="85" y="1425"/>
                  </a:lnTo>
                  <a:lnTo>
                    <a:pt x="85" y="1440"/>
                  </a:lnTo>
                  <a:lnTo>
                    <a:pt x="85" y="1454"/>
                  </a:lnTo>
                  <a:lnTo>
                    <a:pt x="85" y="1469"/>
                  </a:lnTo>
                  <a:lnTo>
                    <a:pt x="85" y="1489"/>
                  </a:lnTo>
                  <a:lnTo>
                    <a:pt x="85" y="1504"/>
                  </a:lnTo>
                  <a:lnTo>
                    <a:pt x="85" y="1518"/>
                  </a:lnTo>
                  <a:lnTo>
                    <a:pt x="85" y="1533"/>
                  </a:lnTo>
                  <a:lnTo>
                    <a:pt x="85" y="1548"/>
                  </a:lnTo>
                  <a:lnTo>
                    <a:pt x="85" y="1568"/>
                  </a:lnTo>
                  <a:lnTo>
                    <a:pt x="85" y="1583"/>
                  </a:lnTo>
                  <a:lnTo>
                    <a:pt x="85" y="1597"/>
                  </a:lnTo>
                  <a:lnTo>
                    <a:pt x="85" y="1612"/>
                  </a:lnTo>
                  <a:lnTo>
                    <a:pt x="85" y="1627"/>
                  </a:lnTo>
                  <a:lnTo>
                    <a:pt x="85" y="1647"/>
                  </a:lnTo>
                  <a:lnTo>
                    <a:pt x="80" y="1657"/>
                  </a:lnTo>
                  <a:lnTo>
                    <a:pt x="80" y="1676"/>
                  </a:lnTo>
                  <a:lnTo>
                    <a:pt x="80" y="1691"/>
                  </a:lnTo>
                  <a:lnTo>
                    <a:pt x="80" y="1706"/>
                  </a:lnTo>
                  <a:lnTo>
                    <a:pt x="80" y="1721"/>
                  </a:lnTo>
                  <a:lnTo>
                    <a:pt x="80" y="1735"/>
                  </a:lnTo>
                  <a:lnTo>
                    <a:pt x="80" y="1750"/>
                  </a:lnTo>
                  <a:lnTo>
                    <a:pt x="80" y="1770"/>
                  </a:lnTo>
                  <a:lnTo>
                    <a:pt x="75" y="1785"/>
                  </a:lnTo>
                  <a:lnTo>
                    <a:pt x="75" y="1800"/>
                  </a:lnTo>
                  <a:lnTo>
                    <a:pt x="75" y="1814"/>
                  </a:lnTo>
                  <a:lnTo>
                    <a:pt x="75" y="1834"/>
                  </a:lnTo>
                  <a:lnTo>
                    <a:pt x="75" y="1849"/>
                  </a:lnTo>
                  <a:lnTo>
                    <a:pt x="75" y="1864"/>
                  </a:lnTo>
                  <a:lnTo>
                    <a:pt x="70" y="1878"/>
                  </a:lnTo>
                  <a:lnTo>
                    <a:pt x="70" y="1893"/>
                  </a:lnTo>
                  <a:lnTo>
                    <a:pt x="70" y="1908"/>
                  </a:lnTo>
                  <a:lnTo>
                    <a:pt x="65" y="1923"/>
                  </a:lnTo>
                  <a:lnTo>
                    <a:pt x="65" y="1938"/>
                  </a:lnTo>
                  <a:lnTo>
                    <a:pt x="65" y="1957"/>
                  </a:lnTo>
                  <a:lnTo>
                    <a:pt x="65" y="1972"/>
                  </a:lnTo>
                  <a:lnTo>
                    <a:pt x="60" y="1987"/>
                  </a:lnTo>
                  <a:lnTo>
                    <a:pt x="60" y="2002"/>
                  </a:lnTo>
                  <a:lnTo>
                    <a:pt x="60" y="2017"/>
                  </a:lnTo>
                  <a:lnTo>
                    <a:pt x="60" y="2031"/>
                  </a:lnTo>
                  <a:lnTo>
                    <a:pt x="55" y="2046"/>
                  </a:lnTo>
                  <a:lnTo>
                    <a:pt x="55" y="2061"/>
                  </a:lnTo>
                  <a:lnTo>
                    <a:pt x="55" y="2081"/>
                  </a:lnTo>
                  <a:lnTo>
                    <a:pt x="50" y="2095"/>
                  </a:lnTo>
                  <a:lnTo>
                    <a:pt x="50" y="2110"/>
                  </a:lnTo>
                  <a:lnTo>
                    <a:pt x="45" y="2125"/>
                  </a:lnTo>
                  <a:lnTo>
                    <a:pt x="45" y="2140"/>
                  </a:lnTo>
                  <a:lnTo>
                    <a:pt x="40" y="2155"/>
                  </a:lnTo>
                  <a:lnTo>
                    <a:pt x="40" y="2169"/>
                  </a:lnTo>
                  <a:lnTo>
                    <a:pt x="40" y="2189"/>
                  </a:lnTo>
                  <a:lnTo>
                    <a:pt x="40" y="2204"/>
                  </a:lnTo>
                  <a:lnTo>
                    <a:pt x="35" y="2219"/>
                  </a:lnTo>
                  <a:lnTo>
                    <a:pt x="30" y="2234"/>
                  </a:lnTo>
                  <a:lnTo>
                    <a:pt x="30" y="2248"/>
                  </a:lnTo>
                  <a:lnTo>
                    <a:pt x="30" y="2268"/>
                  </a:lnTo>
                  <a:lnTo>
                    <a:pt x="25" y="2283"/>
                  </a:lnTo>
                  <a:lnTo>
                    <a:pt x="25" y="2298"/>
                  </a:lnTo>
                  <a:lnTo>
                    <a:pt x="20" y="2312"/>
                  </a:lnTo>
                  <a:lnTo>
                    <a:pt x="20" y="2332"/>
                  </a:lnTo>
                  <a:lnTo>
                    <a:pt x="15" y="2347"/>
                  </a:lnTo>
                  <a:lnTo>
                    <a:pt x="15" y="2362"/>
                  </a:lnTo>
                  <a:lnTo>
                    <a:pt x="10" y="2381"/>
                  </a:lnTo>
                  <a:lnTo>
                    <a:pt x="10" y="2401"/>
                  </a:lnTo>
                  <a:lnTo>
                    <a:pt x="5" y="2416"/>
                  </a:lnTo>
                  <a:lnTo>
                    <a:pt x="5" y="2436"/>
                  </a:lnTo>
                  <a:lnTo>
                    <a:pt x="0" y="2450"/>
                  </a:lnTo>
                  <a:lnTo>
                    <a:pt x="0" y="2470"/>
                  </a:lnTo>
                  <a:lnTo>
                    <a:pt x="0" y="2490"/>
                  </a:lnTo>
                  <a:lnTo>
                    <a:pt x="0" y="2505"/>
                  </a:lnTo>
                  <a:lnTo>
                    <a:pt x="0" y="2524"/>
                  </a:lnTo>
                  <a:lnTo>
                    <a:pt x="0" y="2539"/>
                  </a:lnTo>
                  <a:lnTo>
                    <a:pt x="0" y="2559"/>
                  </a:lnTo>
                  <a:lnTo>
                    <a:pt x="0" y="2574"/>
                  </a:lnTo>
                  <a:lnTo>
                    <a:pt x="0" y="2594"/>
                  </a:lnTo>
                  <a:lnTo>
                    <a:pt x="0" y="2613"/>
                  </a:lnTo>
                  <a:lnTo>
                    <a:pt x="0" y="2628"/>
                  </a:lnTo>
                  <a:lnTo>
                    <a:pt x="0" y="2643"/>
                  </a:lnTo>
                  <a:lnTo>
                    <a:pt x="5" y="2663"/>
                  </a:lnTo>
                  <a:lnTo>
                    <a:pt x="10" y="2677"/>
                  </a:lnTo>
                  <a:lnTo>
                    <a:pt x="10" y="2697"/>
                  </a:lnTo>
                  <a:lnTo>
                    <a:pt x="15" y="2717"/>
                  </a:lnTo>
                  <a:lnTo>
                    <a:pt x="20" y="2732"/>
                  </a:lnTo>
                  <a:lnTo>
                    <a:pt x="25" y="2751"/>
                  </a:lnTo>
                  <a:lnTo>
                    <a:pt x="30" y="2766"/>
                  </a:lnTo>
                  <a:lnTo>
                    <a:pt x="35" y="2781"/>
                  </a:lnTo>
                  <a:lnTo>
                    <a:pt x="40" y="2801"/>
                  </a:lnTo>
                  <a:lnTo>
                    <a:pt x="45" y="2815"/>
                  </a:lnTo>
                  <a:lnTo>
                    <a:pt x="50" y="2830"/>
                  </a:lnTo>
                  <a:lnTo>
                    <a:pt x="60" y="2850"/>
                  </a:lnTo>
                  <a:lnTo>
                    <a:pt x="70" y="2865"/>
                  </a:lnTo>
                  <a:lnTo>
                    <a:pt x="80" y="2880"/>
                  </a:lnTo>
                  <a:lnTo>
                    <a:pt x="85" y="2889"/>
                  </a:lnTo>
                  <a:lnTo>
                    <a:pt x="95" y="2899"/>
                  </a:lnTo>
                  <a:lnTo>
                    <a:pt x="105" y="2899"/>
                  </a:lnTo>
                  <a:lnTo>
                    <a:pt x="115" y="2904"/>
                  </a:lnTo>
                  <a:lnTo>
                    <a:pt x="125" y="2904"/>
                  </a:lnTo>
                  <a:lnTo>
                    <a:pt x="140" y="2904"/>
                  </a:lnTo>
                  <a:lnTo>
                    <a:pt x="150" y="2904"/>
                  </a:lnTo>
                  <a:lnTo>
                    <a:pt x="160" y="2904"/>
                  </a:lnTo>
                  <a:lnTo>
                    <a:pt x="180" y="2889"/>
                  </a:lnTo>
                  <a:lnTo>
                    <a:pt x="190" y="2875"/>
                  </a:lnTo>
                  <a:lnTo>
                    <a:pt x="195" y="2865"/>
                  </a:lnTo>
                  <a:lnTo>
                    <a:pt x="201" y="2855"/>
                  </a:lnTo>
                  <a:lnTo>
                    <a:pt x="195" y="2845"/>
                  </a:lnTo>
                  <a:lnTo>
                    <a:pt x="195" y="2835"/>
                  </a:lnTo>
                  <a:lnTo>
                    <a:pt x="190" y="2815"/>
                  </a:lnTo>
                  <a:lnTo>
                    <a:pt x="180" y="2796"/>
                  </a:lnTo>
                  <a:lnTo>
                    <a:pt x="175" y="2776"/>
                  </a:lnTo>
                  <a:lnTo>
                    <a:pt x="170" y="2761"/>
                  </a:lnTo>
                  <a:lnTo>
                    <a:pt x="165" y="2741"/>
                  </a:lnTo>
                  <a:lnTo>
                    <a:pt x="160" y="2727"/>
                  </a:lnTo>
                  <a:lnTo>
                    <a:pt x="155" y="2707"/>
                  </a:lnTo>
                  <a:lnTo>
                    <a:pt x="150" y="2687"/>
                  </a:lnTo>
                  <a:lnTo>
                    <a:pt x="145" y="2667"/>
                  </a:lnTo>
                  <a:lnTo>
                    <a:pt x="145" y="2653"/>
                  </a:lnTo>
                  <a:lnTo>
                    <a:pt x="140" y="2628"/>
                  </a:lnTo>
                  <a:lnTo>
                    <a:pt x="140" y="2613"/>
                  </a:lnTo>
                  <a:lnTo>
                    <a:pt x="140" y="2594"/>
                  </a:lnTo>
                  <a:lnTo>
                    <a:pt x="135" y="2574"/>
                  </a:lnTo>
                  <a:lnTo>
                    <a:pt x="135" y="2554"/>
                  </a:lnTo>
                  <a:lnTo>
                    <a:pt x="135" y="2539"/>
                  </a:lnTo>
                  <a:lnTo>
                    <a:pt x="135" y="2515"/>
                  </a:lnTo>
                  <a:lnTo>
                    <a:pt x="130" y="2495"/>
                  </a:lnTo>
                  <a:lnTo>
                    <a:pt x="130" y="2475"/>
                  </a:lnTo>
                  <a:lnTo>
                    <a:pt x="130" y="2455"/>
                  </a:lnTo>
                  <a:lnTo>
                    <a:pt x="130" y="2436"/>
                  </a:lnTo>
                  <a:lnTo>
                    <a:pt x="135" y="2416"/>
                  </a:lnTo>
                  <a:lnTo>
                    <a:pt x="135" y="2396"/>
                  </a:lnTo>
                  <a:lnTo>
                    <a:pt x="135" y="2377"/>
                  </a:lnTo>
                  <a:lnTo>
                    <a:pt x="135" y="2352"/>
                  </a:lnTo>
                  <a:lnTo>
                    <a:pt x="140" y="2332"/>
                  </a:lnTo>
                  <a:lnTo>
                    <a:pt x="140" y="2312"/>
                  </a:lnTo>
                  <a:lnTo>
                    <a:pt x="145" y="2293"/>
                  </a:lnTo>
                  <a:lnTo>
                    <a:pt x="145" y="2273"/>
                  </a:lnTo>
                  <a:lnTo>
                    <a:pt x="150" y="2253"/>
                  </a:lnTo>
                  <a:lnTo>
                    <a:pt x="150" y="2234"/>
                  </a:lnTo>
                  <a:lnTo>
                    <a:pt x="155" y="2214"/>
                  </a:lnTo>
                  <a:lnTo>
                    <a:pt x="155" y="2189"/>
                  </a:lnTo>
                  <a:lnTo>
                    <a:pt x="160" y="2169"/>
                  </a:lnTo>
                  <a:lnTo>
                    <a:pt x="160" y="2145"/>
                  </a:lnTo>
                  <a:lnTo>
                    <a:pt x="165" y="2125"/>
                  </a:lnTo>
                  <a:lnTo>
                    <a:pt x="165" y="2105"/>
                  </a:lnTo>
                  <a:lnTo>
                    <a:pt x="170" y="2086"/>
                  </a:lnTo>
                  <a:lnTo>
                    <a:pt x="170" y="2061"/>
                  </a:lnTo>
                  <a:lnTo>
                    <a:pt x="175" y="2041"/>
                  </a:lnTo>
                  <a:lnTo>
                    <a:pt x="180" y="2021"/>
                  </a:lnTo>
                  <a:lnTo>
                    <a:pt x="180" y="1997"/>
                  </a:lnTo>
                  <a:lnTo>
                    <a:pt x="185" y="1977"/>
                  </a:lnTo>
                  <a:lnTo>
                    <a:pt x="190" y="1957"/>
                  </a:lnTo>
                  <a:lnTo>
                    <a:pt x="190" y="1938"/>
                  </a:lnTo>
                  <a:lnTo>
                    <a:pt x="195" y="1918"/>
                  </a:lnTo>
                  <a:lnTo>
                    <a:pt x="195" y="1898"/>
                  </a:lnTo>
                  <a:lnTo>
                    <a:pt x="201" y="1878"/>
                  </a:lnTo>
                  <a:lnTo>
                    <a:pt x="201" y="1859"/>
                  </a:lnTo>
                  <a:lnTo>
                    <a:pt x="206" y="1834"/>
                  </a:lnTo>
                  <a:lnTo>
                    <a:pt x="206" y="1814"/>
                  </a:lnTo>
                  <a:lnTo>
                    <a:pt x="211" y="1795"/>
                  </a:lnTo>
                  <a:lnTo>
                    <a:pt x="211" y="1775"/>
                  </a:lnTo>
                  <a:lnTo>
                    <a:pt x="216" y="1760"/>
                  </a:lnTo>
                  <a:lnTo>
                    <a:pt x="216" y="1735"/>
                  </a:lnTo>
                  <a:lnTo>
                    <a:pt x="221" y="1721"/>
                  </a:lnTo>
                  <a:lnTo>
                    <a:pt x="221" y="1701"/>
                  </a:lnTo>
                  <a:lnTo>
                    <a:pt x="221" y="1681"/>
                  </a:lnTo>
                  <a:lnTo>
                    <a:pt x="221" y="1661"/>
                  </a:lnTo>
                  <a:lnTo>
                    <a:pt x="226" y="1642"/>
                  </a:lnTo>
                  <a:lnTo>
                    <a:pt x="226" y="1622"/>
                  </a:lnTo>
                  <a:lnTo>
                    <a:pt x="226" y="1602"/>
                  </a:lnTo>
                  <a:lnTo>
                    <a:pt x="226" y="1587"/>
                  </a:lnTo>
                  <a:lnTo>
                    <a:pt x="226" y="1568"/>
                  </a:lnTo>
                  <a:lnTo>
                    <a:pt x="226" y="1558"/>
                  </a:lnTo>
                  <a:lnTo>
                    <a:pt x="226" y="1543"/>
                  </a:lnTo>
                  <a:lnTo>
                    <a:pt x="226" y="1533"/>
                  </a:lnTo>
                  <a:lnTo>
                    <a:pt x="226" y="1523"/>
                  </a:lnTo>
                  <a:lnTo>
                    <a:pt x="226" y="1509"/>
                  </a:lnTo>
                  <a:lnTo>
                    <a:pt x="226" y="1499"/>
                  </a:lnTo>
                  <a:lnTo>
                    <a:pt x="226" y="1489"/>
                  </a:lnTo>
                  <a:lnTo>
                    <a:pt x="226" y="1479"/>
                  </a:lnTo>
                  <a:lnTo>
                    <a:pt x="221" y="1464"/>
                  </a:lnTo>
                  <a:lnTo>
                    <a:pt x="221" y="1454"/>
                  </a:lnTo>
                  <a:lnTo>
                    <a:pt x="221" y="1444"/>
                  </a:lnTo>
                  <a:lnTo>
                    <a:pt x="221" y="1430"/>
                  </a:lnTo>
                  <a:lnTo>
                    <a:pt x="221" y="1420"/>
                  </a:lnTo>
                  <a:lnTo>
                    <a:pt x="221" y="1410"/>
                  </a:lnTo>
                  <a:lnTo>
                    <a:pt x="221" y="1400"/>
                  </a:lnTo>
                  <a:lnTo>
                    <a:pt x="221" y="1390"/>
                  </a:lnTo>
                  <a:lnTo>
                    <a:pt x="216" y="1375"/>
                  </a:lnTo>
                  <a:lnTo>
                    <a:pt x="216" y="1366"/>
                  </a:lnTo>
                  <a:lnTo>
                    <a:pt x="216" y="1356"/>
                  </a:lnTo>
                  <a:lnTo>
                    <a:pt x="216" y="1341"/>
                  </a:lnTo>
                  <a:lnTo>
                    <a:pt x="216" y="1331"/>
                  </a:lnTo>
                  <a:lnTo>
                    <a:pt x="216" y="1316"/>
                  </a:lnTo>
                  <a:lnTo>
                    <a:pt x="216" y="1306"/>
                  </a:lnTo>
                  <a:lnTo>
                    <a:pt x="216" y="1297"/>
                  </a:lnTo>
                  <a:lnTo>
                    <a:pt x="216" y="1282"/>
                  </a:lnTo>
                  <a:lnTo>
                    <a:pt x="216" y="1272"/>
                  </a:lnTo>
                  <a:lnTo>
                    <a:pt x="211" y="1262"/>
                  </a:lnTo>
                  <a:lnTo>
                    <a:pt x="211" y="1252"/>
                  </a:lnTo>
                  <a:lnTo>
                    <a:pt x="211" y="1242"/>
                  </a:lnTo>
                  <a:lnTo>
                    <a:pt x="211" y="1227"/>
                  </a:lnTo>
                  <a:lnTo>
                    <a:pt x="211" y="1218"/>
                  </a:lnTo>
                  <a:lnTo>
                    <a:pt x="211" y="1208"/>
                  </a:lnTo>
                  <a:lnTo>
                    <a:pt x="211" y="1193"/>
                  </a:lnTo>
                  <a:lnTo>
                    <a:pt x="211" y="1183"/>
                  </a:lnTo>
                  <a:lnTo>
                    <a:pt x="211" y="1173"/>
                  </a:lnTo>
                  <a:lnTo>
                    <a:pt x="211" y="1163"/>
                  </a:lnTo>
                  <a:lnTo>
                    <a:pt x="206" y="1149"/>
                  </a:lnTo>
                  <a:lnTo>
                    <a:pt x="206" y="1139"/>
                  </a:lnTo>
                  <a:lnTo>
                    <a:pt x="206" y="1129"/>
                  </a:lnTo>
                  <a:lnTo>
                    <a:pt x="206" y="1114"/>
                  </a:lnTo>
                  <a:lnTo>
                    <a:pt x="206" y="1104"/>
                  </a:lnTo>
                  <a:lnTo>
                    <a:pt x="206" y="1089"/>
                  </a:lnTo>
                  <a:lnTo>
                    <a:pt x="206" y="1080"/>
                  </a:lnTo>
                  <a:lnTo>
                    <a:pt x="206" y="1070"/>
                  </a:lnTo>
                  <a:lnTo>
                    <a:pt x="206" y="1060"/>
                  </a:lnTo>
                  <a:lnTo>
                    <a:pt x="206" y="1050"/>
                  </a:lnTo>
                  <a:lnTo>
                    <a:pt x="206" y="1035"/>
                  </a:lnTo>
                  <a:lnTo>
                    <a:pt x="206" y="1025"/>
                  </a:lnTo>
                  <a:lnTo>
                    <a:pt x="201" y="1015"/>
                  </a:lnTo>
                  <a:lnTo>
                    <a:pt x="201" y="1001"/>
                  </a:lnTo>
                  <a:lnTo>
                    <a:pt x="201" y="991"/>
                  </a:lnTo>
                  <a:lnTo>
                    <a:pt x="201" y="981"/>
                  </a:lnTo>
                  <a:lnTo>
                    <a:pt x="201" y="966"/>
                  </a:lnTo>
                  <a:lnTo>
                    <a:pt x="201" y="956"/>
                  </a:lnTo>
                  <a:lnTo>
                    <a:pt x="201" y="946"/>
                  </a:lnTo>
                  <a:lnTo>
                    <a:pt x="201" y="937"/>
                  </a:lnTo>
                  <a:lnTo>
                    <a:pt x="201" y="922"/>
                  </a:lnTo>
                  <a:lnTo>
                    <a:pt x="201" y="912"/>
                  </a:lnTo>
                  <a:lnTo>
                    <a:pt x="201" y="902"/>
                  </a:lnTo>
                  <a:lnTo>
                    <a:pt x="201" y="887"/>
                  </a:lnTo>
                  <a:lnTo>
                    <a:pt x="201" y="877"/>
                  </a:lnTo>
                  <a:lnTo>
                    <a:pt x="201" y="867"/>
                  </a:lnTo>
                  <a:lnTo>
                    <a:pt x="201" y="858"/>
                  </a:lnTo>
                  <a:lnTo>
                    <a:pt x="201" y="843"/>
                  </a:lnTo>
                  <a:lnTo>
                    <a:pt x="201" y="828"/>
                  </a:lnTo>
                  <a:lnTo>
                    <a:pt x="201" y="808"/>
                  </a:lnTo>
                  <a:lnTo>
                    <a:pt x="201" y="789"/>
                  </a:lnTo>
                  <a:lnTo>
                    <a:pt x="201" y="774"/>
                  </a:lnTo>
                  <a:lnTo>
                    <a:pt x="201" y="754"/>
                  </a:lnTo>
                  <a:lnTo>
                    <a:pt x="201" y="739"/>
                  </a:lnTo>
                  <a:lnTo>
                    <a:pt x="201" y="724"/>
                  </a:lnTo>
                  <a:lnTo>
                    <a:pt x="206" y="705"/>
                  </a:lnTo>
                  <a:lnTo>
                    <a:pt x="206" y="690"/>
                  </a:lnTo>
                  <a:lnTo>
                    <a:pt x="206" y="675"/>
                  </a:lnTo>
                  <a:lnTo>
                    <a:pt x="206" y="655"/>
                  </a:lnTo>
                  <a:lnTo>
                    <a:pt x="211" y="641"/>
                  </a:lnTo>
                  <a:lnTo>
                    <a:pt x="211" y="626"/>
                  </a:lnTo>
                  <a:lnTo>
                    <a:pt x="211" y="606"/>
                  </a:lnTo>
                  <a:lnTo>
                    <a:pt x="211" y="591"/>
                  </a:lnTo>
                  <a:lnTo>
                    <a:pt x="216" y="577"/>
                  </a:lnTo>
                  <a:lnTo>
                    <a:pt x="216" y="562"/>
                  </a:lnTo>
                  <a:lnTo>
                    <a:pt x="221" y="542"/>
                  </a:lnTo>
                  <a:lnTo>
                    <a:pt x="221" y="527"/>
                  </a:lnTo>
                  <a:lnTo>
                    <a:pt x="226" y="512"/>
                  </a:lnTo>
                  <a:lnTo>
                    <a:pt x="226" y="498"/>
                  </a:lnTo>
                  <a:lnTo>
                    <a:pt x="231" y="483"/>
                  </a:lnTo>
                  <a:lnTo>
                    <a:pt x="231" y="468"/>
                  </a:lnTo>
                  <a:lnTo>
                    <a:pt x="241" y="458"/>
                  </a:lnTo>
                  <a:lnTo>
                    <a:pt x="241" y="443"/>
                  </a:lnTo>
                  <a:lnTo>
                    <a:pt x="246" y="429"/>
                  </a:lnTo>
                  <a:lnTo>
                    <a:pt x="251" y="414"/>
                  </a:lnTo>
                  <a:lnTo>
                    <a:pt x="256" y="404"/>
                  </a:lnTo>
                  <a:lnTo>
                    <a:pt x="261" y="389"/>
                  </a:lnTo>
                  <a:lnTo>
                    <a:pt x="266" y="374"/>
                  </a:lnTo>
                  <a:lnTo>
                    <a:pt x="276" y="364"/>
                  </a:lnTo>
                  <a:lnTo>
                    <a:pt x="281" y="355"/>
                  </a:lnTo>
                  <a:lnTo>
                    <a:pt x="286" y="340"/>
                  </a:lnTo>
                  <a:lnTo>
                    <a:pt x="291" y="330"/>
                  </a:lnTo>
                  <a:lnTo>
                    <a:pt x="301" y="320"/>
                  </a:lnTo>
                  <a:lnTo>
                    <a:pt x="311" y="305"/>
                  </a:lnTo>
                  <a:lnTo>
                    <a:pt x="316" y="295"/>
                  </a:lnTo>
                  <a:lnTo>
                    <a:pt x="326" y="286"/>
                  </a:lnTo>
                  <a:lnTo>
                    <a:pt x="331" y="276"/>
                  </a:lnTo>
                  <a:lnTo>
                    <a:pt x="341" y="271"/>
                  </a:lnTo>
                  <a:lnTo>
                    <a:pt x="351" y="256"/>
                  </a:lnTo>
                  <a:lnTo>
                    <a:pt x="361" y="246"/>
                  </a:lnTo>
                  <a:lnTo>
                    <a:pt x="371" y="241"/>
                  </a:lnTo>
                  <a:lnTo>
                    <a:pt x="381" y="231"/>
                  </a:lnTo>
                  <a:lnTo>
                    <a:pt x="391" y="221"/>
                  </a:lnTo>
                  <a:lnTo>
                    <a:pt x="407" y="217"/>
                  </a:lnTo>
                  <a:lnTo>
                    <a:pt x="417" y="212"/>
                  </a:lnTo>
                  <a:lnTo>
                    <a:pt x="432" y="207"/>
                  </a:lnTo>
                  <a:lnTo>
                    <a:pt x="442" y="197"/>
                  </a:lnTo>
                  <a:lnTo>
                    <a:pt x="457" y="192"/>
                  </a:lnTo>
                  <a:lnTo>
                    <a:pt x="467" y="187"/>
                  </a:lnTo>
                  <a:lnTo>
                    <a:pt x="482" y="182"/>
                  </a:lnTo>
                  <a:lnTo>
                    <a:pt x="497" y="177"/>
                  </a:lnTo>
                  <a:lnTo>
                    <a:pt x="512" y="172"/>
                  </a:lnTo>
                  <a:lnTo>
                    <a:pt x="532" y="172"/>
                  </a:lnTo>
                  <a:lnTo>
                    <a:pt x="547" y="167"/>
                  </a:lnTo>
                  <a:lnTo>
                    <a:pt x="567" y="162"/>
                  </a:lnTo>
                  <a:lnTo>
                    <a:pt x="582" y="162"/>
                  </a:lnTo>
                  <a:lnTo>
                    <a:pt x="603" y="162"/>
                  </a:lnTo>
                  <a:lnTo>
                    <a:pt x="618" y="162"/>
                  </a:lnTo>
                  <a:lnTo>
                    <a:pt x="638" y="162"/>
                  </a:lnTo>
                  <a:lnTo>
                    <a:pt x="658" y="162"/>
                  </a:lnTo>
                  <a:lnTo>
                    <a:pt x="683" y="162"/>
                  </a:lnTo>
                  <a:lnTo>
                    <a:pt x="703" y="162"/>
                  </a:lnTo>
                  <a:lnTo>
                    <a:pt x="728" y="162"/>
                  </a:lnTo>
                  <a:lnTo>
                    <a:pt x="753" y="167"/>
                  </a:lnTo>
                  <a:lnTo>
                    <a:pt x="778" y="167"/>
                  </a:lnTo>
                  <a:lnTo>
                    <a:pt x="804" y="172"/>
                  </a:lnTo>
                  <a:lnTo>
                    <a:pt x="824" y="172"/>
                  </a:lnTo>
                  <a:lnTo>
                    <a:pt x="849" y="177"/>
                  </a:lnTo>
                  <a:lnTo>
                    <a:pt x="874" y="182"/>
                  </a:lnTo>
                  <a:lnTo>
                    <a:pt x="899" y="187"/>
                  </a:lnTo>
                  <a:lnTo>
                    <a:pt x="924" y="187"/>
                  </a:lnTo>
                  <a:lnTo>
                    <a:pt x="949" y="192"/>
                  </a:lnTo>
                  <a:lnTo>
                    <a:pt x="974" y="197"/>
                  </a:lnTo>
                  <a:lnTo>
                    <a:pt x="1000" y="202"/>
                  </a:lnTo>
                  <a:lnTo>
                    <a:pt x="1025" y="207"/>
                  </a:lnTo>
                  <a:lnTo>
                    <a:pt x="1050" y="212"/>
                  </a:lnTo>
                  <a:lnTo>
                    <a:pt x="1075" y="217"/>
                  </a:lnTo>
                  <a:lnTo>
                    <a:pt x="1100" y="221"/>
                  </a:lnTo>
                  <a:lnTo>
                    <a:pt x="1125" y="226"/>
                  </a:lnTo>
                  <a:lnTo>
                    <a:pt x="1150" y="236"/>
                  </a:lnTo>
                  <a:lnTo>
                    <a:pt x="1170" y="241"/>
                  </a:lnTo>
                  <a:lnTo>
                    <a:pt x="1196" y="246"/>
                  </a:lnTo>
                  <a:lnTo>
                    <a:pt x="1221" y="251"/>
                  </a:lnTo>
                  <a:lnTo>
                    <a:pt x="1246" y="256"/>
                  </a:lnTo>
                  <a:lnTo>
                    <a:pt x="1271" y="261"/>
                  </a:lnTo>
                  <a:lnTo>
                    <a:pt x="1296" y="271"/>
                  </a:lnTo>
                  <a:lnTo>
                    <a:pt x="1316" y="276"/>
                  </a:lnTo>
                  <a:lnTo>
                    <a:pt x="1346" y="286"/>
                  </a:lnTo>
                  <a:lnTo>
                    <a:pt x="1366" y="290"/>
                  </a:lnTo>
                  <a:lnTo>
                    <a:pt x="1397" y="295"/>
                  </a:lnTo>
                  <a:lnTo>
                    <a:pt x="1417" y="305"/>
                  </a:lnTo>
                  <a:lnTo>
                    <a:pt x="1442" y="310"/>
                  </a:lnTo>
                  <a:lnTo>
                    <a:pt x="1467" y="320"/>
                  </a:lnTo>
                  <a:lnTo>
                    <a:pt x="1492" y="330"/>
                  </a:lnTo>
                  <a:lnTo>
                    <a:pt x="1517" y="335"/>
                  </a:lnTo>
                  <a:lnTo>
                    <a:pt x="1542" y="340"/>
                  </a:lnTo>
                  <a:lnTo>
                    <a:pt x="1562" y="350"/>
                  </a:lnTo>
                  <a:lnTo>
                    <a:pt x="1593" y="355"/>
                  </a:lnTo>
                  <a:lnTo>
                    <a:pt x="1613" y="364"/>
                  </a:lnTo>
                  <a:lnTo>
                    <a:pt x="1638" y="374"/>
                  </a:lnTo>
                  <a:lnTo>
                    <a:pt x="1663" y="379"/>
                  </a:lnTo>
                  <a:lnTo>
                    <a:pt x="1688" y="389"/>
                  </a:lnTo>
                  <a:lnTo>
                    <a:pt x="1708" y="394"/>
                  </a:lnTo>
                  <a:lnTo>
                    <a:pt x="1733" y="404"/>
                  </a:lnTo>
                  <a:lnTo>
                    <a:pt x="1758" y="409"/>
                  </a:lnTo>
                  <a:lnTo>
                    <a:pt x="1783" y="419"/>
                  </a:lnTo>
                  <a:lnTo>
                    <a:pt x="1804" y="429"/>
                  </a:lnTo>
                  <a:lnTo>
                    <a:pt x="1829" y="438"/>
                  </a:lnTo>
                  <a:lnTo>
                    <a:pt x="1854" y="443"/>
                  </a:lnTo>
                  <a:lnTo>
                    <a:pt x="1879" y="453"/>
                  </a:lnTo>
                  <a:lnTo>
                    <a:pt x="1904" y="458"/>
                  </a:lnTo>
                  <a:lnTo>
                    <a:pt x="1929" y="468"/>
                  </a:lnTo>
                  <a:lnTo>
                    <a:pt x="1949" y="473"/>
                  </a:lnTo>
                  <a:lnTo>
                    <a:pt x="1979" y="483"/>
                  </a:lnTo>
                  <a:lnTo>
                    <a:pt x="2000" y="488"/>
                  </a:lnTo>
                  <a:lnTo>
                    <a:pt x="2025" y="498"/>
                  </a:lnTo>
                  <a:lnTo>
                    <a:pt x="2050" y="507"/>
                  </a:lnTo>
                  <a:lnTo>
                    <a:pt x="2075" y="517"/>
                  </a:lnTo>
                  <a:lnTo>
                    <a:pt x="2095" y="522"/>
                  </a:lnTo>
                  <a:lnTo>
                    <a:pt x="2120" y="532"/>
                  </a:lnTo>
                  <a:lnTo>
                    <a:pt x="2145" y="537"/>
                  </a:lnTo>
                  <a:lnTo>
                    <a:pt x="2170" y="547"/>
                  </a:lnTo>
                  <a:lnTo>
                    <a:pt x="2196" y="552"/>
                  </a:lnTo>
                  <a:lnTo>
                    <a:pt x="2221" y="562"/>
                  </a:lnTo>
                  <a:lnTo>
                    <a:pt x="2246" y="567"/>
                  </a:lnTo>
                  <a:lnTo>
                    <a:pt x="2271" y="577"/>
                  </a:lnTo>
                  <a:lnTo>
                    <a:pt x="2296" y="581"/>
                  </a:lnTo>
                  <a:lnTo>
                    <a:pt x="2321" y="591"/>
                  </a:lnTo>
                  <a:lnTo>
                    <a:pt x="2346" y="596"/>
                  </a:lnTo>
                  <a:lnTo>
                    <a:pt x="2371" y="606"/>
                  </a:lnTo>
                  <a:lnTo>
                    <a:pt x="2402" y="611"/>
                  </a:lnTo>
                  <a:lnTo>
                    <a:pt x="2427" y="621"/>
                  </a:lnTo>
                  <a:lnTo>
                    <a:pt x="2452" y="626"/>
                  </a:lnTo>
                  <a:lnTo>
                    <a:pt x="2482" y="636"/>
                  </a:lnTo>
                  <a:lnTo>
                    <a:pt x="2507" y="646"/>
                  </a:lnTo>
                  <a:lnTo>
                    <a:pt x="2532" y="650"/>
                  </a:lnTo>
                  <a:lnTo>
                    <a:pt x="2562" y="660"/>
                  </a:lnTo>
                  <a:lnTo>
                    <a:pt x="2588" y="665"/>
                  </a:lnTo>
                  <a:lnTo>
                    <a:pt x="2613" y="675"/>
                  </a:lnTo>
                  <a:lnTo>
                    <a:pt x="2638" y="685"/>
                  </a:lnTo>
                  <a:lnTo>
                    <a:pt x="2668" y="690"/>
                  </a:lnTo>
                  <a:lnTo>
                    <a:pt x="2698" y="700"/>
                  </a:lnTo>
                  <a:lnTo>
                    <a:pt x="2723" y="705"/>
                  </a:lnTo>
                  <a:lnTo>
                    <a:pt x="2748" y="715"/>
                  </a:lnTo>
                  <a:lnTo>
                    <a:pt x="2773" y="724"/>
                  </a:lnTo>
                  <a:lnTo>
                    <a:pt x="2804" y="729"/>
                  </a:lnTo>
                  <a:lnTo>
                    <a:pt x="2829" y="739"/>
                  </a:lnTo>
                  <a:lnTo>
                    <a:pt x="2854" y="744"/>
                  </a:lnTo>
                  <a:lnTo>
                    <a:pt x="2884" y="754"/>
                  </a:lnTo>
                  <a:lnTo>
                    <a:pt x="2914" y="764"/>
                  </a:lnTo>
                  <a:lnTo>
                    <a:pt x="2939" y="769"/>
                  </a:lnTo>
                  <a:lnTo>
                    <a:pt x="2964" y="779"/>
                  </a:lnTo>
                  <a:lnTo>
                    <a:pt x="2990" y="784"/>
                  </a:lnTo>
                  <a:lnTo>
                    <a:pt x="3020" y="794"/>
                  </a:lnTo>
                  <a:lnTo>
                    <a:pt x="3045" y="798"/>
                  </a:lnTo>
                  <a:lnTo>
                    <a:pt x="3075" y="808"/>
                  </a:lnTo>
                  <a:lnTo>
                    <a:pt x="3100" y="813"/>
                  </a:lnTo>
                  <a:lnTo>
                    <a:pt x="3130" y="823"/>
                  </a:lnTo>
                  <a:lnTo>
                    <a:pt x="3155" y="828"/>
                  </a:lnTo>
                  <a:lnTo>
                    <a:pt x="3181" y="838"/>
                  </a:lnTo>
                  <a:lnTo>
                    <a:pt x="3206" y="843"/>
                  </a:lnTo>
                  <a:lnTo>
                    <a:pt x="3236" y="853"/>
                  </a:lnTo>
                  <a:lnTo>
                    <a:pt x="3261" y="858"/>
                  </a:lnTo>
                  <a:lnTo>
                    <a:pt x="3291" y="867"/>
                  </a:lnTo>
                  <a:lnTo>
                    <a:pt x="3316" y="872"/>
                  </a:lnTo>
                  <a:lnTo>
                    <a:pt x="3346" y="882"/>
                  </a:lnTo>
                  <a:lnTo>
                    <a:pt x="3371" y="887"/>
                  </a:lnTo>
                  <a:lnTo>
                    <a:pt x="3402" y="897"/>
                  </a:lnTo>
                  <a:lnTo>
                    <a:pt x="3427" y="902"/>
                  </a:lnTo>
                  <a:lnTo>
                    <a:pt x="3452" y="912"/>
                  </a:lnTo>
                  <a:lnTo>
                    <a:pt x="3482" y="917"/>
                  </a:lnTo>
                  <a:lnTo>
                    <a:pt x="3507" y="922"/>
                  </a:lnTo>
                  <a:lnTo>
                    <a:pt x="3537" y="932"/>
                  </a:lnTo>
                  <a:lnTo>
                    <a:pt x="3562" y="937"/>
                  </a:lnTo>
                  <a:lnTo>
                    <a:pt x="3588" y="941"/>
                  </a:lnTo>
                  <a:lnTo>
                    <a:pt x="3618" y="951"/>
                  </a:lnTo>
                  <a:lnTo>
                    <a:pt x="3643" y="956"/>
                  </a:lnTo>
                  <a:lnTo>
                    <a:pt x="3673" y="966"/>
                  </a:lnTo>
                  <a:lnTo>
                    <a:pt x="3698" y="971"/>
                  </a:lnTo>
                  <a:lnTo>
                    <a:pt x="3723" y="976"/>
                  </a:lnTo>
                  <a:lnTo>
                    <a:pt x="3753" y="981"/>
                  </a:lnTo>
                  <a:lnTo>
                    <a:pt x="3784" y="986"/>
                  </a:lnTo>
                  <a:lnTo>
                    <a:pt x="3809" y="991"/>
                  </a:lnTo>
                  <a:lnTo>
                    <a:pt x="3834" y="1001"/>
                  </a:lnTo>
                  <a:lnTo>
                    <a:pt x="3864" y="1006"/>
                  </a:lnTo>
                  <a:lnTo>
                    <a:pt x="3889" y="1010"/>
                  </a:lnTo>
                  <a:lnTo>
                    <a:pt x="3919" y="1015"/>
                  </a:lnTo>
                  <a:lnTo>
                    <a:pt x="3944" y="1020"/>
                  </a:lnTo>
                  <a:lnTo>
                    <a:pt x="3974" y="1025"/>
                  </a:lnTo>
                  <a:lnTo>
                    <a:pt x="4000" y="1035"/>
                  </a:lnTo>
                  <a:lnTo>
                    <a:pt x="4020" y="1030"/>
                  </a:lnTo>
                  <a:lnTo>
                    <a:pt x="4030" y="1020"/>
                  </a:lnTo>
                  <a:lnTo>
                    <a:pt x="4030" y="1001"/>
                  </a:lnTo>
                  <a:lnTo>
                    <a:pt x="4020" y="991"/>
                  </a:lnTo>
                  <a:lnTo>
                    <a:pt x="4020" y="9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 flipV="1" rot="9362400">
              <a:off x="1720440" y="4868640"/>
              <a:ext cx="6405480" cy="2026800"/>
            </a:xfrm>
            <a:custGeom>
              <a:avLst/>
              <a:gdLst/>
              <a:ahLst/>
              <a:rect l="l" t="t" r="r" b="b"/>
              <a:pathLst>
                <a:path w="4035" h="1277">
                  <a:moveTo>
                    <a:pt x="75" y="207"/>
                  </a:moveTo>
                  <a:lnTo>
                    <a:pt x="90" y="222"/>
                  </a:lnTo>
                  <a:lnTo>
                    <a:pt x="115" y="237"/>
                  </a:lnTo>
                  <a:lnTo>
                    <a:pt x="135" y="252"/>
                  </a:lnTo>
                  <a:lnTo>
                    <a:pt x="156" y="266"/>
                  </a:lnTo>
                  <a:lnTo>
                    <a:pt x="176" y="281"/>
                  </a:lnTo>
                  <a:lnTo>
                    <a:pt x="201" y="296"/>
                  </a:lnTo>
                  <a:lnTo>
                    <a:pt x="221" y="306"/>
                  </a:lnTo>
                  <a:lnTo>
                    <a:pt x="246" y="321"/>
                  </a:lnTo>
                  <a:lnTo>
                    <a:pt x="271" y="331"/>
                  </a:lnTo>
                  <a:lnTo>
                    <a:pt x="291" y="345"/>
                  </a:lnTo>
                  <a:lnTo>
                    <a:pt x="316" y="360"/>
                  </a:lnTo>
                  <a:lnTo>
                    <a:pt x="342" y="370"/>
                  </a:lnTo>
                  <a:lnTo>
                    <a:pt x="367" y="380"/>
                  </a:lnTo>
                  <a:lnTo>
                    <a:pt x="392" y="395"/>
                  </a:lnTo>
                  <a:lnTo>
                    <a:pt x="417" y="404"/>
                  </a:lnTo>
                  <a:lnTo>
                    <a:pt x="447" y="414"/>
                  </a:lnTo>
                  <a:lnTo>
                    <a:pt x="472" y="424"/>
                  </a:lnTo>
                  <a:lnTo>
                    <a:pt x="497" y="434"/>
                  </a:lnTo>
                  <a:lnTo>
                    <a:pt x="522" y="444"/>
                  </a:lnTo>
                  <a:lnTo>
                    <a:pt x="553" y="454"/>
                  </a:lnTo>
                  <a:lnTo>
                    <a:pt x="578" y="464"/>
                  </a:lnTo>
                  <a:lnTo>
                    <a:pt x="608" y="474"/>
                  </a:lnTo>
                  <a:lnTo>
                    <a:pt x="633" y="483"/>
                  </a:lnTo>
                  <a:lnTo>
                    <a:pt x="663" y="493"/>
                  </a:lnTo>
                  <a:lnTo>
                    <a:pt x="693" y="503"/>
                  </a:lnTo>
                  <a:lnTo>
                    <a:pt x="718" y="508"/>
                  </a:lnTo>
                  <a:lnTo>
                    <a:pt x="749" y="518"/>
                  </a:lnTo>
                  <a:lnTo>
                    <a:pt x="774" y="528"/>
                  </a:lnTo>
                  <a:lnTo>
                    <a:pt x="804" y="533"/>
                  </a:lnTo>
                  <a:lnTo>
                    <a:pt x="834" y="543"/>
                  </a:lnTo>
                  <a:lnTo>
                    <a:pt x="864" y="548"/>
                  </a:lnTo>
                  <a:lnTo>
                    <a:pt x="894" y="557"/>
                  </a:lnTo>
                  <a:lnTo>
                    <a:pt x="919" y="562"/>
                  </a:lnTo>
                  <a:lnTo>
                    <a:pt x="950" y="572"/>
                  </a:lnTo>
                  <a:lnTo>
                    <a:pt x="980" y="577"/>
                  </a:lnTo>
                  <a:lnTo>
                    <a:pt x="1010" y="582"/>
                  </a:lnTo>
                  <a:lnTo>
                    <a:pt x="1035" y="587"/>
                  </a:lnTo>
                  <a:lnTo>
                    <a:pt x="1065" y="597"/>
                  </a:lnTo>
                  <a:lnTo>
                    <a:pt x="1095" y="602"/>
                  </a:lnTo>
                  <a:lnTo>
                    <a:pt x="1125" y="607"/>
                  </a:lnTo>
                  <a:lnTo>
                    <a:pt x="1156" y="617"/>
                  </a:lnTo>
                  <a:lnTo>
                    <a:pt x="1186" y="621"/>
                  </a:lnTo>
                  <a:lnTo>
                    <a:pt x="1211" y="626"/>
                  </a:lnTo>
                  <a:lnTo>
                    <a:pt x="1241" y="631"/>
                  </a:lnTo>
                  <a:lnTo>
                    <a:pt x="1271" y="636"/>
                  </a:lnTo>
                  <a:lnTo>
                    <a:pt x="1301" y="641"/>
                  </a:lnTo>
                  <a:lnTo>
                    <a:pt x="1326" y="646"/>
                  </a:lnTo>
                  <a:lnTo>
                    <a:pt x="1357" y="651"/>
                  </a:lnTo>
                  <a:lnTo>
                    <a:pt x="1387" y="656"/>
                  </a:lnTo>
                  <a:lnTo>
                    <a:pt x="1417" y="661"/>
                  </a:lnTo>
                  <a:lnTo>
                    <a:pt x="1442" y="666"/>
                  </a:lnTo>
                  <a:lnTo>
                    <a:pt x="1472" y="671"/>
                  </a:lnTo>
                  <a:lnTo>
                    <a:pt x="1497" y="676"/>
                  </a:lnTo>
                  <a:lnTo>
                    <a:pt x="1527" y="681"/>
                  </a:lnTo>
                  <a:lnTo>
                    <a:pt x="1553" y="686"/>
                  </a:lnTo>
                  <a:lnTo>
                    <a:pt x="1583" y="691"/>
                  </a:lnTo>
                  <a:lnTo>
                    <a:pt x="1608" y="691"/>
                  </a:lnTo>
                  <a:lnTo>
                    <a:pt x="1633" y="700"/>
                  </a:lnTo>
                  <a:lnTo>
                    <a:pt x="1658" y="700"/>
                  </a:lnTo>
                  <a:lnTo>
                    <a:pt x="1688" y="705"/>
                  </a:lnTo>
                  <a:lnTo>
                    <a:pt x="1713" y="710"/>
                  </a:lnTo>
                  <a:lnTo>
                    <a:pt x="1739" y="715"/>
                  </a:lnTo>
                  <a:lnTo>
                    <a:pt x="1769" y="720"/>
                  </a:lnTo>
                  <a:lnTo>
                    <a:pt x="1794" y="730"/>
                  </a:lnTo>
                  <a:lnTo>
                    <a:pt x="1809" y="730"/>
                  </a:lnTo>
                  <a:lnTo>
                    <a:pt x="1824" y="735"/>
                  </a:lnTo>
                  <a:lnTo>
                    <a:pt x="1844" y="735"/>
                  </a:lnTo>
                  <a:lnTo>
                    <a:pt x="1859" y="740"/>
                  </a:lnTo>
                  <a:lnTo>
                    <a:pt x="1874" y="740"/>
                  </a:lnTo>
                  <a:lnTo>
                    <a:pt x="1894" y="745"/>
                  </a:lnTo>
                  <a:lnTo>
                    <a:pt x="1909" y="750"/>
                  </a:lnTo>
                  <a:lnTo>
                    <a:pt x="1924" y="755"/>
                  </a:lnTo>
                  <a:lnTo>
                    <a:pt x="1945" y="755"/>
                  </a:lnTo>
                  <a:lnTo>
                    <a:pt x="1960" y="760"/>
                  </a:lnTo>
                  <a:lnTo>
                    <a:pt x="1975" y="764"/>
                  </a:lnTo>
                  <a:lnTo>
                    <a:pt x="1995" y="764"/>
                  </a:lnTo>
                  <a:lnTo>
                    <a:pt x="2010" y="769"/>
                  </a:lnTo>
                  <a:lnTo>
                    <a:pt x="2025" y="774"/>
                  </a:lnTo>
                  <a:lnTo>
                    <a:pt x="2045" y="779"/>
                  </a:lnTo>
                  <a:lnTo>
                    <a:pt x="2060" y="784"/>
                  </a:lnTo>
                  <a:lnTo>
                    <a:pt x="2080" y="784"/>
                  </a:lnTo>
                  <a:lnTo>
                    <a:pt x="2095" y="789"/>
                  </a:lnTo>
                  <a:lnTo>
                    <a:pt x="2110" y="794"/>
                  </a:lnTo>
                  <a:lnTo>
                    <a:pt x="2131" y="799"/>
                  </a:lnTo>
                  <a:lnTo>
                    <a:pt x="2146" y="804"/>
                  </a:lnTo>
                  <a:lnTo>
                    <a:pt x="2161" y="804"/>
                  </a:lnTo>
                  <a:lnTo>
                    <a:pt x="2181" y="809"/>
                  </a:lnTo>
                  <a:lnTo>
                    <a:pt x="2196" y="814"/>
                  </a:lnTo>
                  <a:lnTo>
                    <a:pt x="2211" y="819"/>
                  </a:lnTo>
                  <a:lnTo>
                    <a:pt x="2231" y="824"/>
                  </a:lnTo>
                  <a:lnTo>
                    <a:pt x="2246" y="829"/>
                  </a:lnTo>
                  <a:lnTo>
                    <a:pt x="2261" y="834"/>
                  </a:lnTo>
                  <a:lnTo>
                    <a:pt x="2281" y="834"/>
                  </a:lnTo>
                  <a:lnTo>
                    <a:pt x="2296" y="843"/>
                  </a:lnTo>
                  <a:lnTo>
                    <a:pt x="2311" y="848"/>
                  </a:lnTo>
                  <a:lnTo>
                    <a:pt x="2332" y="853"/>
                  </a:lnTo>
                  <a:lnTo>
                    <a:pt x="2347" y="858"/>
                  </a:lnTo>
                  <a:lnTo>
                    <a:pt x="2362" y="858"/>
                  </a:lnTo>
                  <a:lnTo>
                    <a:pt x="2377" y="863"/>
                  </a:lnTo>
                  <a:lnTo>
                    <a:pt x="2397" y="868"/>
                  </a:lnTo>
                  <a:lnTo>
                    <a:pt x="2412" y="873"/>
                  </a:lnTo>
                  <a:lnTo>
                    <a:pt x="2427" y="878"/>
                  </a:lnTo>
                  <a:lnTo>
                    <a:pt x="2447" y="883"/>
                  </a:lnTo>
                  <a:lnTo>
                    <a:pt x="2462" y="888"/>
                  </a:lnTo>
                  <a:lnTo>
                    <a:pt x="2477" y="893"/>
                  </a:lnTo>
                  <a:lnTo>
                    <a:pt x="2492" y="898"/>
                  </a:lnTo>
                  <a:lnTo>
                    <a:pt x="2512" y="903"/>
                  </a:lnTo>
                  <a:lnTo>
                    <a:pt x="2528" y="908"/>
                  </a:lnTo>
                  <a:lnTo>
                    <a:pt x="2543" y="912"/>
                  </a:lnTo>
                  <a:lnTo>
                    <a:pt x="2563" y="917"/>
                  </a:lnTo>
                  <a:lnTo>
                    <a:pt x="2578" y="927"/>
                  </a:lnTo>
                  <a:lnTo>
                    <a:pt x="2593" y="932"/>
                  </a:lnTo>
                  <a:lnTo>
                    <a:pt x="2608" y="937"/>
                  </a:lnTo>
                  <a:lnTo>
                    <a:pt x="2628" y="942"/>
                  </a:lnTo>
                  <a:lnTo>
                    <a:pt x="2643" y="947"/>
                  </a:lnTo>
                  <a:lnTo>
                    <a:pt x="2658" y="952"/>
                  </a:lnTo>
                  <a:lnTo>
                    <a:pt x="2678" y="957"/>
                  </a:lnTo>
                  <a:lnTo>
                    <a:pt x="2693" y="962"/>
                  </a:lnTo>
                  <a:lnTo>
                    <a:pt x="2708" y="972"/>
                  </a:lnTo>
                  <a:lnTo>
                    <a:pt x="2729" y="977"/>
                  </a:lnTo>
                  <a:lnTo>
                    <a:pt x="2744" y="981"/>
                  </a:lnTo>
                  <a:lnTo>
                    <a:pt x="2759" y="986"/>
                  </a:lnTo>
                  <a:lnTo>
                    <a:pt x="2779" y="991"/>
                  </a:lnTo>
                  <a:lnTo>
                    <a:pt x="2794" y="996"/>
                  </a:lnTo>
                  <a:lnTo>
                    <a:pt x="2809" y="1001"/>
                  </a:lnTo>
                  <a:lnTo>
                    <a:pt x="2829" y="1011"/>
                  </a:lnTo>
                  <a:lnTo>
                    <a:pt x="2844" y="1016"/>
                  </a:lnTo>
                  <a:lnTo>
                    <a:pt x="2859" y="1021"/>
                  </a:lnTo>
                  <a:lnTo>
                    <a:pt x="2879" y="1026"/>
                  </a:lnTo>
                  <a:lnTo>
                    <a:pt x="2894" y="1031"/>
                  </a:lnTo>
                  <a:lnTo>
                    <a:pt x="2909" y="1041"/>
                  </a:lnTo>
                  <a:lnTo>
                    <a:pt x="2930" y="1046"/>
                  </a:lnTo>
                  <a:lnTo>
                    <a:pt x="2945" y="1051"/>
                  </a:lnTo>
                  <a:lnTo>
                    <a:pt x="2960" y="1055"/>
                  </a:lnTo>
                  <a:lnTo>
                    <a:pt x="2980" y="1060"/>
                  </a:lnTo>
                  <a:lnTo>
                    <a:pt x="2995" y="1065"/>
                  </a:lnTo>
                  <a:lnTo>
                    <a:pt x="3015" y="1070"/>
                  </a:lnTo>
                  <a:lnTo>
                    <a:pt x="3030" y="1075"/>
                  </a:lnTo>
                  <a:lnTo>
                    <a:pt x="3045" y="1080"/>
                  </a:lnTo>
                  <a:lnTo>
                    <a:pt x="3065" y="1085"/>
                  </a:lnTo>
                  <a:lnTo>
                    <a:pt x="3080" y="1090"/>
                  </a:lnTo>
                  <a:lnTo>
                    <a:pt x="3100" y="1095"/>
                  </a:lnTo>
                  <a:lnTo>
                    <a:pt x="3115" y="1100"/>
                  </a:lnTo>
                  <a:lnTo>
                    <a:pt x="3136" y="1105"/>
                  </a:lnTo>
                  <a:lnTo>
                    <a:pt x="3151" y="1110"/>
                  </a:lnTo>
                  <a:lnTo>
                    <a:pt x="3171" y="1110"/>
                  </a:lnTo>
                  <a:lnTo>
                    <a:pt x="3186" y="1115"/>
                  </a:lnTo>
                  <a:lnTo>
                    <a:pt x="3201" y="1120"/>
                  </a:lnTo>
                  <a:lnTo>
                    <a:pt x="3221" y="1124"/>
                  </a:lnTo>
                  <a:lnTo>
                    <a:pt x="3236" y="1129"/>
                  </a:lnTo>
                  <a:lnTo>
                    <a:pt x="3251" y="1134"/>
                  </a:lnTo>
                  <a:lnTo>
                    <a:pt x="3271" y="1139"/>
                  </a:lnTo>
                  <a:lnTo>
                    <a:pt x="3286" y="1139"/>
                  </a:lnTo>
                  <a:lnTo>
                    <a:pt x="3306" y="1144"/>
                  </a:lnTo>
                  <a:lnTo>
                    <a:pt x="3322" y="1144"/>
                  </a:lnTo>
                  <a:lnTo>
                    <a:pt x="3342" y="1154"/>
                  </a:lnTo>
                  <a:lnTo>
                    <a:pt x="3357" y="1154"/>
                  </a:lnTo>
                  <a:lnTo>
                    <a:pt x="3377" y="1159"/>
                  </a:lnTo>
                  <a:lnTo>
                    <a:pt x="3392" y="1159"/>
                  </a:lnTo>
                  <a:lnTo>
                    <a:pt x="3412" y="1169"/>
                  </a:lnTo>
                  <a:lnTo>
                    <a:pt x="3427" y="1169"/>
                  </a:lnTo>
                  <a:lnTo>
                    <a:pt x="3442" y="1174"/>
                  </a:lnTo>
                  <a:lnTo>
                    <a:pt x="3462" y="1174"/>
                  </a:lnTo>
                  <a:lnTo>
                    <a:pt x="3477" y="1179"/>
                  </a:lnTo>
                  <a:lnTo>
                    <a:pt x="3492" y="1184"/>
                  </a:lnTo>
                  <a:lnTo>
                    <a:pt x="3512" y="1184"/>
                  </a:lnTo>
                  <a:lnTo>
                    <a:pt x="3528" y="1189"/>
                  </a:lnTo>
                  <a:lnTo>
                    <a:pt x="3548" y="1194"/>
                  </a:lnTo>
                  <a:lnTo>
                    <a:pt x="3563" y="1194"/>
                  </a:lnTo>
                  <a:lnTo>
                    <a:pt x="3583" y="1198"/>
                  </a:lnTo>
                  <a:lnTo>
                    <a:pt x="3598" y="1203"/>
                  </a:lnTo>
                  <a:lnTo>
                    <a:pt x="3618" y="1203"/>
                  </a:lnTo>
                  <a:lnTo>
                    <a:pt x="3633" y="1208"/>
                  </a:lnTo>
                  <a:lnTo>
                    <a:pt x="3653" y="1213"/>
                  </a:lnTo>
                  <a:lnTo>
                    <a:pt x="3668" y="1213"/>
                  </a:lnTo>
                  <a:lnTo>
                    <a:pt x="3688" y="1218"/>
                  </a:lnTo>
                  <a:lnTo>
                    <a:pt x="3703" y="1223"/>
                  </a:lnTo>
                  <a:lnTo>
                    <a:pt x="3724" y="1223"/>
                  </a:lnTo>
                  <a:lnTo>
                    <a:pt x="3739" y="1228"/>
                  </a:lnTo>
                  <a:lnTo>
                    <a:pt x="3759" y="1233"/>
                  </a:lnTo>
                  <a:lnTo>
                    <a:pt x="3774" y="1233"/>
                  </a:lnTo>
                  <a:lnTo>
                    <a:pt x="3794" y="1238"/>
                  </a:lnTo>
                  <a:lnTo>
                    <a:pt x="3809" y="1243"/>
                  </a:lnTo>
                  <a:lnTo>
                    <a:pt x="3829" y="1248"/>
                  </a:lnTo>
                  <a:lnTo>
                    <a:pt x="3844" y="1248"/>
                  </a:lnTo>
                  <a:lnTo>
                    <a:pt x="3859" y="1253"/>
                  </a:lnTo>
                  <a:lnTo>
                    <a:pt x="3879" y="1258"/>
                  </a:lnTo>
                  <a:lnTo>
                    <a:pt x="3899" y="1258"/>
                  </a:lnTo>
                  <a:lnTo>
                    <a:pt x="3914" y="1263"/>
                  </a:lnTo>
                  <a:lnTo>
                    <a:pt x="3935" y="1268"/>
                  </a:lnTo>
                  <a:lnTo>
                    <a:pt x="3955" y="1272"/>
                  </a:lnTo>
                  <a:lnTo>
                    <a:pt x="3970" y="1277"/>
                  </a:lnTo>
                  <a:lnTo>
                    <a:pt x="3980" y="1272"/>
                  </a:lnTo>
                  <a:lnTo>
                    <a:pt x="3995" y="1272"/>
                  </a:lnTo>
                  <a:lnTo>
                    <a:pt x="4005" y="1268"/>
                  </a:lnTo>
                  <a:lnTo>
                    <a:pt x="4010" y="1268"/>
                  </a:lnTo>
                  <a:lnTo>
                    <a:pt x="4025" y="1248"/>
                  </a:lnTo>
                  <a:lnTo>
                    <a:pt x="4035" y="1233"/>
                  </a:lnTo>
                  <a:lnTo>
                    <a:pt x="4035" y="1223"/>
                  </a:lnTo>
                  <a:lnTo>
                    <a:pt x="4035" y="1213"/>
                  </a:lnTo>
                  <a:lnTo>
                    <a:pt x="4035" y="1203"/>
                  </a:lnTo>
                  <a:lnTo>
                    <a:pt x="4030" y="1194"/>
                  </a:lnTo>
                  <a:lnTo>
                    <a:pt x="4025" y="1184"/>
                  </a:lnTo>
                  <a:lnTo>
                    <a:pt x="4020" y="1179"/>
                  </a:lnTo>
                  <a:lnTo>
                    <a:pt x="4010" y="1174"/>
                  </a:lnTo>
                  <a:lnTo>
                    <a:pt x="4000" y="1169"/>
                  </a:lnTo>
                  <a:lnTo>
                    <a:pt x="3985" y="1164"/>
                  </a:lnTo>
                  <a:lnTo>
                    <a:pt x="3970" y="1164"/>
                  </a:lnTo>
                  <a:lnTo>
                    <a:pt x="3955" y="1159"/>
                  </a:lnTo>
                  <a:lnTo>
                    <a:pt x="3945" y="1159"/>
                  </a:lnTo>
                  <a:lnTo>
                    <a:pt x="3930" y="1154"/>
                  </a:lnTo>
                  <a:lnTo>
                    <a:pt x="3914" y="1154"/>
                  </a:lnTo>
                  <a:lnTo>
                    <a:pt x="3899" y="1149"/>
                  </a:lnTo>
                  <a:lnTo>
                    <a:pt x="3889" y="1144"/>
                  </a:lnTo>
                  <a:lnTo>
                    <a:pt x="3874" y="1144"/>
                  </a:lnTo>
                  <a:lnTo>
                    <a:pt x="3859" y="1139"/>
                  </a:lnTo>
                  <a:lnTo>
                    <a:pt x="3844" y="1139"/>
                  </a:lnTo>
                  <a:lnTo>
                    <a:pt x="3829" y="1134"/>
                  </a:lnTo>
                  <a:lnTo>
                    <a:pt x="3814" y="1134"/>
                  </a:lnTo>
                  <a:lnTo>
                    <a:pt x="3804" y="1129"/>
                  </a:lnTo>
                  <a:lnTo>
                    <a:pt x="3789" y="1129"/>
                  </a:lnTo>
                  <a:lnTo>
                    <a:pt x="3774" y="1124"/>
                  </a:lnTo>
                  <a:lnTo>
                    <a:pt x="3759" y="1124"/>
                  </a:lnTo>
                  <a:lnTo>
                    <a:pt x="3749" y="1120"/>
                  </a:lnTo>
                  <a:lnTo>
                    <a:pt x="3734" y="1120"/>
                  </a:lnTo>
                  <a:lnTo>
                    <a:pt x="3719" y="1115"/>
                  </a:lnTo>
                  <a:lnTo>
                    <a:pt x="3703" y="1110"/>
                  </a:lnTo>
                  <a:lnTo>
                    <a:pt x="3693" y="1110"/>
                  </a:lnTo>
                  <a:lnTo>
                    <a:pt x="3678" y="1110"/>
                  </a:lnTo>
                  <a:lnTo>
                    <a:pt x="3663" y="1110"/>
                  </a:lnTo>
                  <a:lnTo>
                    <a:pt x="3648" y="1105"/>
                  </a:lnTo>
                  <a:lnTo>
                    <a:pt x="3638" y="1105"/>
                  </a:lnTo>
                  <a:lnTo>
                    <a:pt x="3623" y="1100"/>
                  </a:lnTo>
                  <a:lnTo>
                    <a:pt x="3608" y="1095"/>
                  </a:lnTo>
                  <a:lnTo>
                    <a:pt x="3593" y="1095"/>
                  </a:lnTo>
                  <a:lnTo>
                    <a:pt x="3578" y="1095"/>
                  </a:lnTo>
                  <a:lnTo>
                    <a:pt x="3563" y="1090"/>
                  </a:lnTo>
                  <a:lnTo>
                    <a:pt x="3553" y="1090"/>
                  </a:lnTo>
                  <a:lnTo>
                    <a:pt x="3538" y="1085"/>
                  </a:lnTo>
                  <a:lnTo>
                    <a:pt x="3528" y="1080"/>
                  </a:lnTo>
                  <a:lnTo>
                    <a:pt x="3512" y="1080"/>
                  </a:lnTo>
                  <a:lnTo>
                    <a:pt x="3497" y="1075"/>
                  </a:lnTo>
                  <a:lnTo>
                    <a:pt x="3482" y="1075"/>
                  </a:lnTo>
                  <a:lnTo>
                    <a:pt x="3472" y="1070"/>
                  </a:lnTo>
                  <a:lnTo>
                    <a:pt x="3457" y="1070"/>
                  </a:lnTo>
                  <a:lnTo>
                    <a:pt x="3442" y="1065"/>
                  </a:lnTo>
                  <a:lnTo>
                    <a:pt x="3427" y="1060"/>
                  </a:lnTo>
                  <a:lnTo>
                    <a:pt x="3412" y="1060"/>
                  </a:lnTo>
                  <a:lnTo>
                    <a:pt x="3397" y="1055"/>
                  </a:lnTo>
                  <a:lnTo>
                    <a:pt x="3387" y="1055"/>
                  </a:lnTo>
                  <a:lnTo>
                    <a:pt x="3372" y="1051"/>
                  </a:lnTo>
                  <a:lnTo>
                    <a:pt x="3357" y="1051"/>
                  </a:lnTo>
                  <a:lnTo>
                    <a:pt x="3347" y="1046"/>
                  </a:lnTo>
                  <a:lnTo>
                    <a:pt x="3332" y="1046"/>
                  </a:lnTo>
                  <a:lnTo>
                    <a:pt x="3316" y="1041"/>
                  </a:lnTo>
                  <a:lnTo>
                    <a:pt x="3306" y="1036"/>
                  </a:lnTo>
                  <a:lnTo>
                    <a:pt x="3291" y="1031"/>
                  </a:lnTo>
                  <a:lnTo>
                    <a:pt x="3276" y="1031"/>
                  </a:lnTo>
                  <a:lnTo>
                    <a:pt x="3261" y="1026"/>
                  </a:lnTo>
                  <a:lnTo>
                    <a:pt x="3246" y="1021"/>
                  </a:lnTo>
                  <a:lnTo>
                    <a:pt x="3236" y="1021"/>
                  </a:lnTo>
                  <a:lnTo>
                    <a:pt x="3221" y="1016"/>
                  </a:lnTo>
                  <a:lnTo>
                    <a:pt x="3206" y="1011"/>
                  </a:lnTo>
                  <a:lnTo>
                    <a:pt x="3196" y="1011"/>
                  </a:lnTo>
                  <a:lnTo>
                    <a:pt x="3181" y="1006"/>
                  </a:lnTo>
                  <a:lnTo>
                    <a:pt x="3166" y="1001"/>
                  </a:lnTo>
                  <a:lnTo>
                    <a:pt x="3151" y="996"/>
                  </a:lnTo>
                  <a:lnTo>
                    <a:pt x="3141" y="996"/>
                  </a:lnTo>
                  <a:lnTo>
                    <a:pt x="3126" y="991"/>
                  </a:lnTo>
                  <a:lnTo>
                    <a:pt x="3110" y="986"/>
                  </a:lnTo>
                  <a:lnTo>
                    <a:pt x="3095" y="981"/>
                  </a:lnTo>
                  <a:lnTo>
                    <a:pt x="3080" y="977"/>
                  </a:lnTo>
                  <a:lnTo>
                    <a:pt x="3060" y="972"/>
                  </a:lnTo>
                  <a:lnTo>
                    <a:pt x="3045" y="967"/>
                  </a:lnTo>
                  <a:lnTo>
                    <a:pt x="3030" y="962"/>
                  </a:lnTo>
                  <a:lnTo>
                    <a:pt x="3015" y="957"/>
                  </a:lnTo>
                  <a:lnTo>
                    <a:pt x="2995" y="947"/>
                  </a:lnTo>
                  <a:lnTo>
                    <a:pt x="2980" y="942"/>
                  </a:lnTo>
                  <a:lnTo>
                    <a:pt x="2965" y="937"/>
                  </a:lnTo>
                  <a:lnTo>
                    <a:pt x="2950" y="932"/>
                  </a:lnTo>
                  <a:lnTo>
                    <a:pt x="2930" y="927"/>
                  </a:lnTo>
                  <a:lnTo>
                    <a:pt x="2919" y="922"/>
                  </a:lnTo>
                  <a:lnTo>
                    <a:pt x="2899" y="917"/>
                  </a:lnTo>
                  <a:lnTo>
                    <a:pt x="2884" y="912"/>
                  </a:lnTo>
                  <a:lnTo>
                    <a:pt x="2869" y="908"/>
                  </a:lnTo>
                  <a:lnTo>
                    <a:pt x="2854" y="898"/>
                  </a:lnTo>
                  <a:lnTo>
                    <a:pt x="2839" y="893"/>
                  </a:lnTo>
                  <a:lnTo>
                    <a:pt x="2819" y="888"/>
                  </a:lnTo>
                  <a:lnTo>
                    <a:pt x="2804" y="883"/>
                  </a:lnTo>
                  <a:lnTo>
                    <a:pt x="2789" y="878"/>
                  </a:lnTo>
                  <a:lnTo>
                    <a:pt x="2774" y="868"/>
                  </a:lnTo>
                  <a:lnTo>
                    <a:pt x="2759" y="863"/>
                  </a:lnTo>
                  <a:lnTo>
                    <a:pt x="2739" y="858"/>
                  </a:lnTo>
                  <a:lnTo>
                    <a:pt x="2724" y="853"/>
                  </a:lnTo>
                  <a:lnTo>
                    <a:pt x="2708" y="848"/>
                  </a:lnTo>
                  <a:lnTo>
                    <a:pt x="2693" y="843"/>
                  </a:lnTo>
                  <a:lnTo>
                    <a:pt x="2678" y="834"/>
                  </a:lnTo>
                  <a:lnTo>
                    <a:pt x="2663" y="829"/>
                  </a:lnTo>
                  <a:lnTo>
                    <a:pt x="2643" y="824"/>
                  </a:lnTo>
                  <a:lnTo>
                    <a:pt x="2628" y="819"/>
                  </a:lnTo>
                  <a:lnTo>
                    <a:pt x="2618" y="814"/>
                  </a:lnTo>
                  <a:lnTo>
                    <a:pt x="2603" y="809"/>
                  </a:lnTo>
                  <a:lnTo>
                    <a:pt x="2583" y="799"/>
                  </a:lnTo>
                  <a:lnTo>
                    <a:pt x="2568" y="794"/>
                  </a:lnTo>
                  <a:lnTo>
                    <a:pt x="2553" y="789"/>
                  </a:lnTo>
                  <a:lnTo>
                    <a:pt x="2538" y="784"/>
                  </a:lnTo>
                  <a:lnTo>
                    <a:pt x="2517" y="779"/>
                  </a:lnTo>
                  <a:lnTo>
                    <a:pt x="2502" y="774"/>
                  </a:lnTo>
                  <a:lnTo>
                    <a:pt x="2487" y="769"/>
                  </a:lnTo>
                  <a:lnTo>
                    <a:pt x="2472" y="764"/>
                  </a:lnTo>
                  <a:lnTo>
                    <a:pt x="2457" y="755"/>
                  </a:lnTo>
                  <a:lnTo>
                    <a:pt x="2437" y="750"/>
                  </a:lnTo>
                  <a:lnTo>
                    <a:pt x="2422" y="745"/>
                  </a:lnTo>
                  <a:lnTo>
                    <a:pt x="2407" y="740"/>
                  </a:lnTo>
                  <a:lnTo>
                    <a:pt x="2392" y="735"/>
                  </a:lnTo>
                  <a:lnTo>
                    <a:pt x="2377" y="730"/>
                  </a:lnTo>
                  <a:lnTo>
                    <a:pt x="2357" y="725"/>
                  </a:lnTo>
                  <a:lnTo>
                    <a:pt x="2342" y="720"/>
                  </a:lnTo>
                  <a:lnTo>
                    <a:pt x="2327" y="715"/>
                  </a:lnTo>
                  <a:lnTo>
                    <a:pt x="2311" y="710"/>
                  </a:lnTo>
                  <a:lnTo>
                    <a:pt x="2291" y="705"/>
                  </a:lnTo>
                  <a:lnTo>
                    <a:pt x="2276" y="700"/>
                  </a:lnTo>
                  <a:lnTo>
                    <a:pt x="2261" y="695"/>
                  </a:lnTo>
                  <a:lnTo>
                    <a:pt x="2246" y="691"/>
                  </a:lnTo>
                  <a:lnTo>
                    <a:pt x="2226" y="686"/>
                  </a:lnTo>
                  <a:lnTo>
                    <a:pt x="2211" y="681"/>
                  </a:lnTo>
                  <a:lnTo>
                    <a:pt x="2196" y="676"/>
                  </a:lnTo>
                  <a:lnTo>
                    <a:pt x="2181" y="671"/>
                  </a:lnTo>
                  <a:lnTo>
                    <a:pt x="2161" y="671"/>
                  </a:lnTo>
                  <a:lnTo>
                    <a:pt x="2146" y="666"/>
                  </a:lnTo>
                  <a:lnTo>
                    <a:pt x="2131" y="661"/>
                  </a:lnTo>
                  <a:lnTo>
                    <a:pt x="2110" y="656"/>
                  </a:lnTo>
                  <a:lnTo>
                    <a:pt x="2095" y="651"/>
                  </a:lnTo>
                  <a:lnTo>
                    <a:pt x="2080" y="651"/>
                  </a:lnTo>
                  <a:lnTo>
                    <a:pt x="2050" y="641"/>
                  </a:lnTo>
                  <a:lnTo>
                    <a:pt x="2020" y="636"/>
                  </a:lnTo>
                  <a:lnTo>
                    <a:pt x="1990" y="631"/>
                  </a:lnTo>
                  <a:lnTo>
                    <a:pt x="1960" y="621"/>
                  </a:lnTo>
                  <a:lnTo>
                    <a:pt x="1930" y="617"/>
                  </a:lnTo>
                  <a:lnTo>
                    <a:pt x="1899" y="607"/>
                  </a:lnTo>
                  <a:lnTo>
                    <a:pt x="1869" y="602"/>
                  </a:lnTo>
                  <a:lnTo>
                    <a:pt x="1839" y="597"/>
                  </a:lnTo>
                  <a:lnTo>
                    <a:pt x="1809" y="592"/>
                  </a:lnTo>
                  <a:lnTo>
                    <a:pt x="1779" y="587"/>
                  </a:lnTo>
                  <a:lnTo>
                    <a:pt x="1749" y="577"/>
                  </a:lnTo>
                  <a:lnTo>
                    <a:pt x="1718" y="572"/>
                  </a:lnTo>
                  <a:lnTo>
                    <a:pt x="1688" y="567"/>
                  </a:lnTo>
                  <a:lnTo>
                    <a:pt x="1658" y="557"/>
                  </a:lnTo>
                  <a:lnTo>
                    <a:pt x="1628" y="552"/>
                  </a:lnTo>
                  <a:lnTo>
                    <a:pt x="1598" y="548"/>
                  </a:lnTo>
                  <a:lnTo>
                    <a:pt x="1568" y="543"/>
                  </a:lnTo>
                  <a:lnTo>
                    <a:pt x="1533" y="533"/>
                  </a:lnTo>
                  <a:lnTo>
                    <a:pt x="1502" y="528"/>
                  </a:lnTo>
                  <a:lnTo>
                    <a:pt x="1472" y="523"/>
                  </a:lnTo>
                  <a:lnTo>
                    <a:pt x="1442" y="513"/>
                  </a:lnTo>
                  <a:lnTo>
                    <a:pt x="1412" y="508"/>
                  </a:lnTo>
                  <a:lnTo>
                    <a:pt x="1377" y="503"/>
                  </a:lnTo>
                  <a:lnTo>
                    <a:pt x="1352" y="493"/>
                  </a:lnTo>
                  <a:lnTo>
                    <a:pt x="1316" y="488"/>
                  </a:lnTo>
                  <a:lnTo>
                    <a:pt x="1286" y="478"/>
                  </a:lnTo>
                  <a:lnTo>
                    <a:pt x="1256" y="474"/>
                  </a:lnTo>
                  <a:lnTo>
                    <a:pt x="1226" y="469"/>
                  </a:lnTo>
                  <a:lnTo>
                    <a:pt x="1196" y="459"/>
                  </a:lnTo>
                  <a:lnTo>
                    <a:pt x="1166" y="454"/>
                  </a:lnTo>
                  <a:lnTo>
                    <a:pt x="1136" y="444"/>
                  </a:lnTo>
                  <a:lnTo>
                    <a:pt x="1105" y="439"/>
                  </a:lnTo>
                  <a:lnTo>
                    <a:pt x="1070" y="429"/>
                  </a:lnTo>
                  <a:lnTo>
                    <a:pt x="1040" y="424"/>
                  </a:lnTo>
                  <a:lnTo>
                    <a:pt x="1010" y="414"/>
                  </a:lnTo>
                  <a:lnTo>
                    <a:pt x="980" y="409"/>
                  </a:lnTo>
                  <a:lnTo>
                    <a:pt x="950" y="400"/>
                  </a:lnTo>
                  <a:lnTo>
                    <a:pt x="919" y="390"/>
                  </a:lnTo>
                  <a:lnTo>
                    <a:pt x="889" y="385"/>
                  </a:lnTo>
                  <a:lnTo>
                    <a:pt x="859" y="375"/>
                  </a:lnTo>
                  <a:lnTo>
                    <a:pt x="824" y="365"/>
                  </a:lnTo>
                  <a:lnTo>
                    <a:pt x="799" y="360"/>
                  </a:lnTo>
                  <a:lnTo>
                    <a:pt x="764" y="350"/>
                  </a:lnTo>
                  <a:lnTo>
                    <a:pt x="733" y="340"/>
                  </a:lnTo>
                  <a:lnTo>
                    <a:pt x="703" y="331"/>
                  </a:lnTo>
                  <a:lnTo>
                    <a:pt x="673" y="326"/>
                  </a:lnTo>
                  <a:lnTo>
                    <a:pt x="648" y="311"/>
                  </a:lnTo>
                  <a:lnTo>
                    <a:pt x="618" y="306"/>
                  </a:lnTo>
                  <a:lnTo>
                    <a:pt x="588" y="296"/>
                  </a:lnTo>
                  <a:lnTo>
                    <a:pt x="558" y="286"/>
                  </a:lnTo>
                  <a:lnTo>
                    <a:pt x="527" y="276"/>
                  </a:lnTo>
                  <a:lnTo>
                    <a:pt x="502" y="266"/>
                  </a:lnTo>
                  <a:lnTo>
                    <a:pt x="472" y="252"/>
                  </a:lnTo>
                  <a:lnTo>
                    <a:pt x="442" y="242"/>
                  </a:lnTo>
                  <a:lnTo>
                    <a:pt x="412" y="232"/>
                  </a:lnTo>
                  <a:lnTo>
                    <a:pt x="387" y="222"/>
                  </a:lnTo>
                  <a:lnTo>
                    <a:pt x="357" y="207"/>
                  </a:lnTo>
                  <a:lnTo>
                    <a:pt x="326" y="197"/>
                  </a:lnTo>
                  <a:lnTo>
                    <a:pt x="301" y="183"/>
                  </a:lnTo>
                  <a:lnTo>
                    <a:pt x="271" y="173"/>
                  </a:lnTo>
                  <a:lnTo>
                    <a:pt x="241" y="163"/>
                  </a:lnTo>
                  <a:lnTo>
                    <a:pt x="216" y="148"/>
                  </a:lnTo>
                  <a:lnTo>
                    <a:pt x="186" y="133"/>
                  </a:lnTo>
                  <a:lnTo>
                    <a:pt x="161" y="123"/>
                  </a:lnTo>
                  <a:lnTo>
                    <a:pt x="156" y="118"/>
                  </a:lnTo>
                  <a:lnTo>
                    <a:pt x="156" y="114"/>
                  </a:lnTo>
                  <a:lnTo>
                    <a:pt x="151" y="104"/>
                  </a:lnTo>
                  <a:lnTo>
                    <a:pt x="146" y="89"/>
                  </a:lnTo>
                  <a:lnTo>
                    <a:pt x="135" y="84"/>
                  </a:lnTo>
                  <a:lnTo>
                    <a:pt x="130" y="74"/>
                  </a:lnTo>
                  <a:lnTo>
                    <a:pt x="120" y="64"/>
                  </a:lnTo>
                  <a:lnTo>
                    <a:pt x="110" y="54"/>
                  </a:lnTo>
                  <a:lnTo>
                    <a:pt x="95" y="40"/>
                  </a:lnTo>
                  <a:lnTo>
                    <a:pt x="80" y="30"/>
                  </a:lnTo>
                  <a:lnTo>
                    <a:pt x="65" y="20"/>
                  </a:lnTo>
                  <a:lnTo>
                    <a:pt x="45" y="1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5" y="15"/>
                  </a:lnTo>
                  <a:lnTo>
                    <a:pt x="0" y="25"/>
                  </a:lnTo>
                  <a:lnTo>
                    <a:pt x="5" y="44"/>
                  </a:lnTo>
                  <a:lnTo>
                    <a:pt x="5" y="54"/>
                  </a:lnTo>
                  <a:lnTo>
                    <a:pt x="10" y="64"/>
                  </a:lnTo>
                  <a:lnTo>
                    <a:pt x="15" y="74"/>
                  </a:lnTo>
                  <a:lnTo>
                    <a:pt x="20" y="84"/>
                  </a:lnTo>
                  <a:lnTo>
                    <a:pt x="20" y="94"/>
                  </a:lnTo>
                  <a:lnTo>
                    <a:pt x="25" y="104"/>
                  </a:lnTo>
                  <a:lnTo>
                    <a:pt x="30" y="118"/>
                  </a:lnTo>
                  <a:lnTo>
                    <a:pt x="35" y="128"/>
                  </a:lnTo>
                  <a:lnTo>
                    <a:pt x="40" y="138"/>
                  </a:lnTo>
                  <a:lnTo>
                    <a:pt x="45" y="148"/>
                  </a:lnTo>
                  <a:lnTo>
                    <a:pt x="50" y="153"/>
                  </a:lnTo>
                  <a:lnTo>
                    <a:pt x="55" y="168"/>
                  </a:lnTo>
                  <a:lnTo>
                    <a:pt x="60" y="183"/>
                  </a:lnTo>
                  <a:lnTo>
                    <a:pt x="65" y="192"/>
                  </a:lnTo>
                  <a:lnTo>
                    <a:pt x="70" y="202"/>
                  </a:lnTo>
                  <a:lnTo>
                    <a:pt x="75" y="207"/>
                  </a:lnTo>
                  <a:lnTo>
                    <a:pt x="75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990720" y="2286000"/>
            <a:ext cx="640080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979"/>
                </a:solidFill>
                <a:latin typeface="Times New Roman"/>
              </a:rPr>
              <a:t>Scenario 7: While reviewing Paula Perfect’s freshmen award file, you verify if Paula has any history on NSLD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979"/>
                </a:solidFill>
                <a:latin typeface="Times New Roman"/>
              </a:rPr>
              <a:t>When you enter in Paula’s SSN, you get NSLDS information for Carla Conflict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979"/>
                </a:solidFill>
                <a:latin typeface="Times New Roman"/>
              </a:rPr>
              <a:t>What should the FAA do about the conflic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21055800">
            <a:off x="5029200" y="4572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1-22-33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3DF9-221B-458F-A260-421309BB642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28600" y="19810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When you enter Paula Perfect’s SSN, you get NSLDS information for Carla Confli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8574120" cy="102852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SN Conflic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6E6A-22A0-48EE-9101-041A34E4408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SN Conflic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Issue: SSN Conflict, so what’s next?</a:t>
            </a:r>
            <a:endParaRPr b="0" lang="en-US" sz="4400" spc="-1" strike="noStrike">
              <a:solidFill>
                <a:srgbClr val="00697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Effects of the Conflict: Student’s loan eligibility cannot be determined</a:t>
            </a:r>
            <a:endParaRPr b="0" lang="en-US" sz="4400" spc="-1" strike="noStrike">
              <a:solidFill>
                <a:srgbClr val="00697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Resolution: Report to and work with NSLDS to resolve the conflict</a:t>
            </a:r>
            <a:endParaRPr b="0" lang="en-US" sz="44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757F-0D53-426A-B6B9-D4CDA49C6B9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685800" y="13716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Resolution: Report conflict to NS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SN Conflic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FAA obtains the Appropriate Documentatio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For SSN Conflicts: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2" marL="1447920" indent="-53352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ocial Security Card (or other SSA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2" marL="144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documentation) 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2" marL="144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2.  Current Driver’s license/State ID (if it 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2" marL="144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contains a Social Security Number) 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2" marL="144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3.  Unexpired U.S. Military ID 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0C8C-EE3D-4F94-A611-8882C29CB45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1295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solution: NSLDS and Data Provider ac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SN Conflic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NSLDS negotiates resolution with the appropriate data provider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Data Provider makes identifier correction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Batch Proces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On-line Update (emergency cases)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NSLDS emails you when resolved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3B1C-6B67-485A-87D8-E031C191766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914400" y="1600200"/>
            <a:ext cx="48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sult of resolu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2286000" y="2286000"/>
          <a:ext cx="448632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0"/>
                    <a:ext cx="44863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SN Conflic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4080-BBD0-4AB0-B0AE-97DD8E1DE1D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verpaym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porting Overpayments to NSLD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23880" y="2438280"/>
          <a:ext cx="5838840" cy="27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438280"/>
                    <a:ext cx="5838840" cy="27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847960" y="3381480"/>
            <a:ext cx="504720" cy="2761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85840" y="3657600"/>
            <a:ext cx="1266840" cy="2761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85840" y="3962520"/>
            <a:ext cx="1266840" cy="2761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85840" y="4219560"/>
            <a:ext cx="1266840" cy="2761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85840" y="4495680"/>
            <a:ext cx="1266840" cy="2764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324480" y="3352680"/>
          <a:ext cx="281016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3352680"/>
                    <a:ext cx="28101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6858000" y="3962520"/>
          <a:ext cx="2076480" cy="55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3962520"/>
                    <a:ext cx="20764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858000" y="4572000"/>
          <a:ext cx="124776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0" y="4572000"/>
                    <a:ext cx="12477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086360" y="4876920"/>
            <a:ext cx="699840" cy="3333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9AB-8BEF-4CE8-A62B-B45387467A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-285480" y="-1136520"/>
            <a:ext cx="10391040" cy="9245880"/>
            <a:chOff x="-285480" y="-1136520"/>
            <a:chExt cx="10391040" cy="9245880"/>
          </a:xfrm>
        </p:grpSpPr>
        <p:sp>
          <p:nvSpPr>
            <p:cNvPr id="583" name=""/>
            <p:cNvSpPr/>
            <p:nvPr/>
          </p:nvSpPr>
          <p:spPr>
            <a:xfrm flipH="1" flipV="1" rot="9362400">
              <a:off x="2228400" y="-49680"/>
              <a:ext cx="6700680" cy="6348240"/>
            </a:xfrm>
            <a:custGeom>
              <a:avLst/>
              <a:gdLst/>
              <a:ahLst/>
              <a:rect l="l" t="t" r="r" b="b"/>
              <a:pathLst>
                <a:path w="4221" h="3999">
                  <a:moveTo>
                    <a:pt x="0" y="113"/>
                  </a:moveTo>
                  <a:lnTo>
                    <a:pt x="276" y="0"/>
                  </a:lnTo>
                  <a:lnTo>
                    <a:pt x="804" y="133"/>
                  </a:lnTo>
                  <a:lnTo>
                    <a:pt x="2125" y="463"/>
                  </a:lnTo>
                  <a:lnTo>
                    <a:pt x="2402" y="310"/>
                  </a:lnTo>
                  <a:lnTo>
                    <a:pt x="3744" y="715"/>
                  </a:lnTo>
                  <a:lnTo>
                    <a:pt x="3844" y="1080"/>
                  </a:lnTo>
                  <a:lnTo>
                    <a:pt x="4221" y="1356"/>
                  </a:lnTo>
                  <a:lnTo>
                    <a:pt x="4221" y="1662"/>
                  </a:lnTo>
                  <a:lnTo>
                    <a:pt x="3296" y="3950"/>
                  </a:lnTo>
                  <a:lnTo>
                    <a:pt x="3090" y="3999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flipV="1" rot="9362400">
              <a:off x="834120" y="680760"/>
              <a:ext cx="6837480" cy="6246720"/>
            </a:xfrm>
            <a:custGeom>
              <a:avLst/>
              <a:gdLst/>
              <a:ahLst/>
              <a:rect l="l" t="t" r="r" b="b"/>
              <a:pathLst>
                <a:path w="4307" h="3935">
                  <a:moveTo>
                    <a:pt x="311" y="59"/>
                  </a:moveTo>
                  <a:lnTo>
                    <a:pt x="774" y="0"/>
                  </a:lnTo>
                  <a:lnTo>
                    <a:pt x="4070" y="1001"/>
                  </a:lnTo>
                  <a:lnTo>
                    <a:pt x="4276" y="1223"/>
                  </a:lnTo>
                  <a:lnTo>
                    <a:pt x="4307" y="1681"/>
                  </a:lnTo>
                  <a:lnTo>
                    <a:pt x="4100" y="3915"/>
                  </a:lnTo>
                  <a:lnTo>
                    <a:pt x="3889" y="3935"/>
                  </a:lnTo>
                  <a:lnTo>
                    <a:pt x="1432" y="3269"/>
                  </a:lnTo>
                  <a:lnTo>
                    <a:pt x="427" y="3032"/>
                  </a:lnTo>
                  <a:lnTo>
                    <a:pt x="110" y="2860"/>
                  </a:lnTo>
                  <a:lnTo>
                    <a:pt x="0" y="2579"/>
                  </a:lnTo>
                  <a:lnTo>
                    <a:pt x="65" y="1301"/>
                  </a:lnTo>
                  <a:lnTo>
                    <a:pt x="75" y="438"/>
                  </a:lnTo>
                  <a:lnTo>
                    <a:pt x="311" y="59"/>
                  </a:lnTo>
                  <a:lnTo>
                    <a:pt x="311" y="59"/>
                  </a:lnTo>
                  <a:close/>
                </a:path>
              </a:pathLst>
            </a:custGeom>
            <a:solidFill>
              <a:srgbClr val="fce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 rot="9362400">
              <a:off x="7415640" y="1358640"/>
              <a:ext cx="1285920" cy="3632760"/>
            </a:xfrm>
            <a:custGeom>
              <a:avLst/>
              <a:gdLst/>
              <a:ahLst/>
              <a:rect l="l" t="t" r="r" b="b"/>
              <a:pathLst>
                <a:path w="810" h="2288">
                  <a:moveTo>
                    <a:pt x="237" y="0"/>
                  </a:moveTo>
                  <a:lnTo>
                    <a:pt x="810" y="246"/>
                  </a:lnTo>
                  <a:lnTo>
                    <a:pt x="51" y="2288"/>
                  </a:lnTo>
                  <a:lnTo>
                    <a:pt x="0" y="2258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 rot="9362400">
              <a:off x="4663080" y="-189720"/>
              <a:ext cx="3533760" cy="1957320"/>
            </a:xfrm>
            <a:custGeom>
              <a:avLst/>
              <a:gdLst/>
              <a:ahLst/>
              <a:rect l="l" t="t" r="r" b="b"/>
              <a:pathLst>
                <a:path w="2226" h="1233">
                  <a:moveTo>
                    <a:pt x="40" y="286"/>
                  </a:moveTo>
                  <a:lnTo>
                    <a:pt x="56" y="276"/>
                  </a:lnTo>
                  <a:lnTo>
                    <a:pt x="71" y="266"/>
                  </a:lnTo>
                  <a:lnTo>
                    <a:pt x="86" y="252"/>
                  </a:lnTo>
                  <a:lnTo>
                    <a:pt x="101" y="242"/>
                  </a:lnTo>
                  <a:lnTo>
                    <a:pt x="116" y="222"/>
                  </a:lnTo>
                  <a:lnTo>
                    <a:pt x="131" y="207"/>
                  </a:lnTo>
                  <a:lnTo>
                    <a:pt x="146" y="197"/>
                  </a:lnTo>
                  <a:lnTo>
                    <a:pt x="161" y="183"/>
                  </a:lnTo>
                  <a:lnTo>
                    <a:pt x="171" y="173"/>
                  </a:lnTo>
                  <a:lnTo>
                    <a:pt x="186" y="163"/>
                  </a:lnTo>
                  <a:lnTo>
                    <a:pt x="201" y="153"/>
                  </a:lnTo>
                  <a:lnTo>
                    <a:pt x="216" y="143"/>
                  </a:lnTo>
                  <a:lnTo>
                    <a:pt x="226" y="138"/>
                  </a:lnTo>
                  <a:lnTo>
                    <a:pt x="241" y="133"/>
                  </a:lnTo>
                  <a:lnTo>
                    <a:pt x="257" y="128"/>
                  </a:lnTo>
                  <a:lnTo>
                    <a:pt x="272" y="123"/>
                  </a:lnTo>
                  <a:lnTo>
                    <a:pt x="282" y="119"/>
                  </a:lnTo>
                  <a:lnTo>
                    <a:pt x="297" y="119"/>
                  </a:lnTo>
                  <a:lnTo>
                    <a:pt x="312" y="119"/>
                  </a:lnTo>
                  <a:lnTo>
                    <a:pt x="327" y="119"/>
                  </a:lnTo>
                  <a:lnTo>
                    <a:pt x="337" y="119"/>
                  </a:lnTo>
                  <a:lnTo>
                    <a:pt x="352" y="119"/>
                  </a:lnTo>
                  <a:lnTo>
                    <a:pt x="367" y="119"/>
                  </a:lnTo>
                  <a:lnTo>
                    <a:pt x="382" y="123"/>
                  </a:lnTo>
                  <a:lnTo>
                    <a:pt x="397" y="123"/>
                  </a:lnTo>
                  <a:lnTo>
                    <a:pt x="412" y="128"/>
                  </a:lnTo>
                  <a:lnTo>
                    <a:pt x="422" y="133"/>
                  </a:lnTo>
                  <a:lnTo>
                    <a:pt x="437" y="138"/>
                  </a:lnTo>
                  <a:lnTo>
                    <a:pt x="453" y="143"/>
                  </a:lnTo>
                  <a:lnTo>
                    <a:pt x="468" y="143"/>
                  </a:lnTo>
                  <a:lnTo>
                    <a:pt x="478" y="148"/>
                  </a:lnTo>
                  <a:lnTo>
                    <a:pt x="493" y="158"/>
                  </a:lnTo>
                  <a:lnTo>
                    <a:pt x="508" y="163"/>
                  </a:lnTo>
                  <a:lnTo>
                    <a:pt x="523" y="168"/>
                  </a:lnTo>
                  <a:lnTo>
                    <a:pt x="538" y="173"/>
                  </a:lnTo>
                  <a:lnTo>
                    <a:pt x="553" y="178"/>
                  </a:lnTo>
                  <a:lnTo>
                    <a:pt x="563" y="183"/>
                  </a:lnTo>
                  <a:lnTo>
                    <a:pt x="583" y="188"/>
                  </a:lnTo>
                  <a:lnTo>
                    <a:pt x="593" y="193"/>
                  </a:lnTo>
                  <a:lnTo>
                    <a:pt x="613" y="197"/>
                  </a:lnTo>
                  <a:lnTo>
                    <a:pt x="623" y="202"/>
                  </a:lnTo>
                  <a:lnTo>
                    <a:pt x="633" y="207"/>
                  </a:lnTo>
                  <a:lnTo>
                    <a:pt x="649" y="212"/>
                  </a:lnTo>
                  <a:lnTo>
                    <a:pt x="664" y="217"/>
                  </a:lnTo>
                  <a:lnTo>
                    <a:pt x="674" y="222"/>
                  </a:lnTo>
                  <a:lnTo>
                    <a:pt x="684" y="227"/>
                  </a:lnTo>
                  <a:lnTo>
                    <a:pt x="699" y="227"/>
                  </a:lnTo>
                  <a:lnTo>
                    <a:pt x="714" y="232"/>
                  </a:lnTo>
                  <a:lnTo>
                    <a:pt x="724" y="237"/>
                  </a:lnTo>
                  <a:lnTo>
                    <a:pt x="734" y="242"/>
                  </a:lnTo>
                  <a:lnTo>
                    <a:pt x="749" y="247"/>
                  </a:lnTo>
                  <a:lnTo>
                    <a:pt x="764" y="252"/>
                  </a:lnTo>
                  <a:lnTo>
                    <a:pt x="774" y="257"/>
                  </a:lnTo>
                  <a:lnTo>
                    <a:pt x="789" y="262"/>
                  </a:lnTo>
                  <a:lnTo>
                    <a:pt x="799" y="266"/>
                  </a:lnTo>
                  <a:lnTo>
                    <a:pt x="814" y="271"/>
                  </a:lnTo>
                  <a:lnTo>
                    <a:pt x="829" y="276"/>
                  </a:lnTo>
                  <a:lnTo>
                    <a:pt x="839" y="281"/>
                  </a:lnTo>
                  <a:lnTo>
                    <a:pt x="855" y="286"/>
                  </a:lnTo>
                  <a:lnTo>
                    <a:pt x="865" y="291"/>
                  </a:lnTo>
                  <a:lnTo>
                    <a:pt x="880" y="296"/>
                  </a:lnTo>
                  <a:lnTo>
                    <a:pt x="890" y="301"/>
                  </a:lnTo>
                  <a:lnTo>
                    <a:pt x="905" y="306"/>
                  </a:lnTo>
                  <a:lnTo>
                    <a:pt x="920" y="311"/>
                  </a:lnTo>
                  <a:lnTo>
                    <a:pt x="930" y="311"/>
                  </a:lnTo>
                  <a:lnTo>
                    <a:pt x="945" y="321"/>
                  </a:lnTo>
                  <a:lnTo>
                    <a:pt x="955" y="321"/>
                  </a:lnTo>
                  <a:lnTo>
                    <a:pt x="970" y="326"/>
                  </a:lnTo>
                  <a:lnTo>
                    <a:pt x="985" y="331"/>
                  </a:lnTo>
                  <a:lnTo>
                    <a:pt x="1000" y="336"/>
                  </a:lnTo>
                  <a:lnTo>
                    <a:pt x="1010" y="340"/>
                  </a:lnTo>
                  <a:lnTo>
                    <a:pt x="1025" y="345"/>
                  </a:lnTo>
                  <a:lnTo>
                    <a:pt x="1035" y="350"/>
                  </a:lnTo>
                  <a:lnTo>
                    <a:pt x="1051" y="355"/>
                  </a:lnTo>
                  <a:lnTo>
                    <a:pt x="1066" y="360"/>
                  </a:lnTo>
                  <a:lnTo>
                    <a:pt x="1081" y="365"/>
                  </a:lnTo>
                  <a:lnTo>
                    <a:pt x="1091" y="370"/>
                  </a:lnTo>
                  <a:lnTo>
                    <a:pt x="1106" y="375"/>
                  </a:lnTo>
                  <a:lnTo>
                    <a:pt x="1116" y="375"/>
                  </a:lnTo>
                  <a:lnTo>
                    <a:pt x="1131" y="385"/>
                  </a:lnTo>
                  <a:lnTo>
                    <a:pt x="1146" y="385"/>
                  </a:lnTo>
                  <a:lnTo>
                    <a:pt x="1156" y="390"/>
                  </a:lnTo>
                  <a:lnTo>
                    <a:pt x="1171" y="395"/>
                  </a:lnTo>
                  <a:lnTo>
                    <a:pt x="1186" y="395"/>
                  </a:lnTo>
                  <a:lnTo>
                    <a:pt x="1196" y="400"/>
                  </a:lnTo>
                  <a:lnTo>
                    <a:pt x="1211" y="405"/>
                  </a:lnTo>
                  <a:lnTo>
                    <a:pt x="1221" y="409"/>
                  </a:lnTo>
                  <a:lnTo>
                    <a:pt x="1236" y="414"/>
                  </a:lnTo>
                  <a:lnTo>
                    <a:pt x="1252" y="414"/>
                  </a:lnTo>
                  <a:lnTo>
                    <a:pt x="1267" y="419"/>
                  </a:lnTo>
                  <a:lnTo>
                    <a:pt x="1277" y="424"/>
                  </a:lnTo>
                  <a:lnTo>
                    <a:pt x="1292" y="424"/>
                  </a:lnTo>
                  <a:lnTo>
                    <a:pt x="1302" y="429"/>
                  </a:lnTo>
                  <a:lnTo>
                    <a:pt x="1317" y="434"/>
                  </a:lnTo>
                  <a:lnTo>
                    <a:pt x="1332" y="434"/>
                  </a:lnTo>
                  <a:lnTo>
                    <a:pt x="1347" y="439"/>
                  </a:lnTo>
                  <a:lnTo>
                    <a:pt x="1357" y="444"/>
                  </a:lnTo>
                  <a:lnTo>
                    <a:pt x="1372" y="449"/>
                  </a:lnTo>
                  <a:lnTo>
                    <a:pt x="1382" y="449"/>
                  </a:lnTo>
                  <a:lnTo>
                    <a:pt x="1397" y="454"/>
                  </a:lnTo>
                  <a:lnTo>
                    <a:pt x="1407" y="454"/>
                  </a:lnTo>
                  <a:lnTo>
                    <a:pt x="1422" y="459"/>
                  </a:lnTo>
                  <a:lnTo>
                    <a:pt x="1438" y="459"/>
                  </a:lnTo>
                  <a:lnTo>
                    <a:pt x="1453" y="464"/>
                  </a:lnTo>
                  <a:lnTo>
                    <a:pt x="1463" y="464"/>
                  </a:lnTo>
                  <a:lnTo>
                    <a:pt x="1473" y="469"/>
                  </a:lnTo>
                  <a:lnTo>
                    <a:pt x="1483" y="469"/>
                  </a:lnTo>
                  <a:lnTo>
                    <a:pt x="1498" y="474"/>
                  </a:lnTo>
                  <a:lnTo>
                    <a:pt x="1513" y="479"/>
                  </a:lnTo>
                  <a:lnTo>
                    <a:pt x="1533" y="483"/>
                  </a:lnTo>
                  <a:lnTo>
                    <a:pt x="1543" y="488"/>
                  </a:lnTo>
                  <a:lnTo>
                    <a:pt x="1558" y="498"/>
                  </a:lnTo>
                  <a:lnTo>
                    <a:pt x="1568" y="508"/>
                  </a:lnTo>
                  <a:lnTo>
                    <a:pt x="1578" y="518"/>
                  </a:lnTo>
                  <a:lnTo>
                    <a:pt x="1583" y="523"/>
                  </a:lnTo>
                  <a:lnTo>
                    <a:pt x="1593" y="533"/>
                  </a:lnTo>
                  <a:lnTo>
                    <a:pt x="1598" y="548"/>
                  </a:lnTo>
                  <a:lnTo>
                    <a:pt x="1603" y="557"/>
                  </a:lnTo>
                  <a:lnTo>
                    <a:pt x="1603" y="567"/>
                  </a:lnTo>
                  <a:lnTo>
                    <a:pt x="1608" y="577"/>
                  </a:lnTo>
                  <a:lnTo>
                    <a:pt x="1608" y="587"/>
                  </a:lnTo>
                  <a:lnTo>
                    <a:pt x="1613" y="602"/>
                  </a:lnTo>
                  <a:lnTo>
                    <a:pt x="1613" y="612"/>
                  </a:lnTo>
                  <a:lnTo>
                    <a:pt x="1613" y="622"/>
                  </a:lnTo>
                  <a:lnTo>
                    <a:pt x="1613" y="636"/>
                  </a:lnTo>
                  <a:lnTo>
                    <a:pt x="1613" y="651"/>
                  </a:lnTo>
                  <a:lnTo>
                    <a:pt x="1613" y="661"/>
                  </a:lnTo>
                  <a:lnTo>
                    <a:pt x="1613" y="676"/>
                  </a:lnTo>
                  <a:lnTo>
                    <a:pt x="1613" y="686"/>
                  </a:lnTo>
                  <a:lnTo>
                    <a:pt x="1618" y="700"/>
                  </a:lnTo>
                  <a:lnTo>
                    <a:pt x="1618" y="715"/>
                  </a:lnTo>
                  <a:lnTo>
                    <a:pt x="1618" y="730"/>
                  </a:lnTo>
                  <a:lnTo>
                    <a:pt x="1623" y="745"/>
                  </a:lnTo>
                  <a:lnTo>
                    <a:pt x="1628" y="760"/>
                  </a:lnTo>
                  <a:lnTo>
                    <a:pt x="1633" y="769"/>
                  </a:lnTo>
                  <a:lnTo>
                    <a:pt x="1639" y="789"/>
                  </a:lnTo>
                  <a:lnTo>
                    <a:pt x="1649" y="799"/>
                  </a:lnTo>
                  <a:lnTo>
                    <a:pt x="1659" y="814"/>
                  </a:lnTo>
                  <a:lnTo>
                    <a:pt x="1669" y="829"/>
                  </a:lnTo>
                  <a:lnTo>
                    <a:pt x="1679" y="843"/>
                  </a:lnTo>
                  <a:lnTo>
                    <a:pt x="1689" y="853"/>
                  </a:lnTo>
                  <a:lnTo>
                    <a:pt x="1704" y="868"/>
                  </a:lnTo>
                  <a:lnTo>
                    <a:pt x="1719" y="878"/>
                  </a:lnTo>
                  <a:lnTo>
                    <a:pt x="1734" y="888"/>
                  </a:lnTo>
                  <a:lnTo>
                    <a:pt x="1749" y="898"/>
                  </a:lnTo>
                  <a:lnTo>
                    <a:pt x="1764" y="913"/>
                  </a:lnTo>
                  <a:lnTo>
                    <a:pt x="1779" y="922"/>
                  </a:lnTo>
                  <a:lnTo>
                    <a:pt x="1799" y="932"/>
                  </a:lnTo>
                  <a:lnTo>
                    <a:pt x="1814" y="942"/>
                  </a:lnTo>
                  <a:lnTo>
                    <a:pt x="1829" y="952"/>
                  </a:lnTo>
                  <a:lnTo>
                    <a:pt x="1850" y="962"/>
                  </a:lnTo>
                  <a:lnTo>
                    <a:pt x="1865" y="972"/>
                  </a:lnTo>
                  <a:lnTo>
                    <a:pt x="1885" y="982"/>
                  </a:lnTo>
                  <a:lnTo>
                    <a:pt x="1900" y="991"/>
                  </a:lnTo>
                  <a:lnTo>
                    <a:pt x="1915" y="1001"/>
                  </a:lnTo>
                  <a:lnTo>
                    <a:pt x="1935" y="1011"/>
                  </a:lnTo>
                  <a:lnTo>
                    <a:pt x="1950" y="1021"/>
                  </a:lnTo>
                  <a:lnTo>
                    <a:pt x="1965" y="1031"/>
                  </a:lnTo>
                  <a:lnTo>
                    <a:pt x="1980" y="1041"/>
                  </a:lnTo>
                  <a:lnTo>
                    <a:pt x="2000" y="1051"/>
                  </a:lnTo>
                  <a:lnTo>
                    <a:pt x="2015" y="1065"/>
                  </a:lnTo>
                  <a:lnTo>
                    <a:pt x="2025" y="1075"/>
                  </a:lnTo>
                  <a:lnTo>
                    <a:pt x="2041" y="1085"/>
                  </a:lnTo>
                  <a:lnTo>
                    <a:pt x="2051" y="1100"/>
                  </a:lnTo>
                  <a:lnTo>
                    <a:pt x="2066" y="1115"/>
                  </a:lnTo>
                  <a:lnTo>
                    <a:pt x="2076" y="1125"/>
                  </a:lnTo>
                  <a:lnTo>
                    <a:pt x="2081" y="1139"/>
                  </a:lnTo>
                  <a:lnTo>
                    <a:pt x="2091" y="1159"/>
                  </a:lnTo>
                  <a:lnTo>
                    <a:pt x="2096" y="1174"/>
                  </a:lnTo>
                  <a:lnTo>
                    <a:pt x="2106" y="1194"/>
                  </a:lnTo>
                  <a:lnTo>
                    <a:pt x="2106" y="1203"/>
                  </a:lnTo>
                  <a:lnTo>
                    <a:pt x="2116" y="1213"/>
                  </a:lnTo>
                  <a:lnTo>
                    <a:pt x="2121" y="1218"/>
                  </a:lnTo>
                  <a:lnTo>
                    <a:pt x="2131" y="1228"/>
                  </a:lnTo>
                  <a:lnTo>
                    <a:pt x="2136" y="1228"/>
                  </a:lnTo>
                  <a:lnTo>
                    <a:pt x="2151" y="1233"/>
                  </a:lnTo>
                  <a:lnTo>
                    <a:pt x="2161" y="1233"/>
                  </a:lnTo>
                  <a:lnTo>
                    <a:pt x="2171" y="1233"/>
                  </a:lnTo>
                  <a:lnTo>
                    <a:pt x="2181" y="1233"/>
                  </a:lnTo>
                  <a:lnTo>
                    <a:pt x="2191" y="1228"/>
                  </a:lnTo>
                  <a:lnTo>
                    <a:pt x="2201" y="1218"/>
                  </a:lnTo>
                  <a:lnTo>
                    <a:pt x="2211" y="1213"/>
                  </a:lnTo>
                  <a:lnTo>
                    <a:pt x="2216" y="1203"/>
                  </a:lnTo>
                  <a:lnTo>
                    <a:pt x="2221" y="1199"/>
                  </a:lnTo>
                  <a:lnTo>
                    <a:pt x="2226" y="1184"/>
                  </a:lnTo>
                  <a:lnTo>
                    <a:pt x="2226" y="1174"/>
                  </a:lnTo>
                  <a:lnTo>
                    <a:pt x="2226" y="1154"/>
                  </a:lnTo>
                  <a:lnTo>
                    <a:pt x="2226" y="1139"/>
                  </a:lnTo>
                  <a:lnTo>
                    <a:pt x="2221" y="1120"/>
                  </a:lnTo>
                  <a:lnTo>
                    <a:pt x="2221" y="1105"/>
                  </a:lnTo>
                  <a:lnTo>
                    <a:pt x="2216" y="1090"/>
                  </a:lnTo>
                  <a:lnTo>
                    <a:pt x="2206" y="1075"/>
                  </a:lnTo>
                  <a:lnTo>
                    <a:pt x="2201" y="1065"/>
                  </a:lnTo>
                  <a:lnTo>
                    <a:pt x="2196" y="1051"/>
                  </a:lnTo>
                  <a:lnTo>
                    <a:pt x="2186" y="1036"/>
                  </a:lnTo>
                  <a:lnTo>
                    <a:pt x="2176" y="1026"/>
                  </a:lnTo>
                  <a:lnTo>
                    <a:pt x="2171" y="1016"/>
                  </a:lnTo>
                  <a:lnTo>
                    <a:pt x="2161" y="1006"/>
                  </a:lnTo>
                  <a:lnTo>
                    <a:pt x="2151" y="991"/>
                  </a:lnTo>
                  <a:lnTo>
                    <a:pt x="2136" y="982"/>
                  </a:lnTo>
                  <a:lnTo>
                    <a:pt x="2126" y="972"/>
                  </a:lnTo>
                  <a:lnTo>
                    <a:pt x="2116" y="962"/>
                  </a:lnTo>
                  <a:lnTo>
                    <a:pt x="2101" y="952"/>
                  </a:lnTo>
                  <a:lnTo>
                    <a:pt x="2086" y="942"/>
                  </a:lnTo>
                  <a:lnTo>
                    <a:pt x="2076" y="937"/>
                  </a:lnTo>
                  <a:lnTo>
                    <a:pt x="2061" y="927"/>
                  </a:lnTo>
                  <a:lnTo>
                    <a:pt x="2046" y="917"/>
                  </a:lnTo>
                  <a:lnTo>
                    <a:pt x="2030" y="913"/>
                  </a:lnTo>
                  <a:lnTo>
                    <a:pt x="2015" y="903"/>
                  </a:lnTo>
                  <a:lnTo>
                    <a:pt x="2005" y="898"/>
                  </a:lnTo>
                  <a:lnTo>
                    <a:pt x="1985" y="888"/>
                  </a:lnTo>
                  <a:lnTo>
                    <a:pt x="1970" y="878"/>
                  </a:lnTo>
                  <a:lnTo>
                    <a:pt x="1955" y="873"/>
                  </a:lnTo>
                  <a:lnTo>
                    <a:pt x="1945" y="863"/>
                  </a:lnTo>
                  <a:lnTo>
                    <a:pt x="1925" y="858"/>
                  </a:lnTo>
                  <a:lnTo>
                    <a:pt x="1915" y="848"/>
                  </a:lnTo>
                  <a:lnTo>
                    <a:pt x="1900" y="843"/>
                  </a:lnTo>
                  <a:lnTo>
                    <a:pt x="1890" y="839"/>
                  </a:lnTo>
                  <a:lnTo>
                    <a:pt x="1875" y="829"/>
                  </a:lnTo>
                  <a:lnTo>
                    <a:pt x="1865" y="824"/>
                  </a:lnTo>
                  <a:lnTo>
                    <a:pt x="1855" y="814"/>
                  </a:lnTo>
                  <a:lnTo>
                    <a:pt x="1845" y="809"/>
                  </a:lnTo>
                  <a:lnTo>
                    <a:pt x="1824" y="794"/>
                  </a:lnTo>
                  <a:lnTo>
                    <a:pt x="1814" y="779"/>
                  </a:lnTo>
                  <a:lnTo>
                    <a:pt x="1804" y="765"/>
                  </a:lnTo>
                  <a:lnTo>
                    <a:pt x="1794" y="745"/>
                  </a:lnTo>
                  <a:lnTo>
                    <a:pt x="1784" y="730"/>
                  </a:lnTo>
                  <a:lnTo>
                    <a:pt x="1784" y="715"/>
                  </a:lnTo>
                  <a:lnTo>
                    <a:pt x="1774" y="696"/>
                  </a:lnTo>
                  <a:lnTo>
                    <a:pt x="1774" y="681"/>
                  </a:lnTo>
                  <a:lnTo>
                    <a:pt x="1774" y="666"/>
                  </a:lnTo>
                  <a:lnTo>
                    <a:pt x="1774" y="646"/>
                  </a:lnTo>
                  <a:lnTo>
                    <a:pt x="1774" y="631"/>
                  </a:lnTo>
                  <a:lnTo>
                    <a:pt x="1774" y="612"/>
                  </a:lnTo>
                  <a:lnTo>
                    <a:pt x="1774" y="597"/>
                  </a:lnTo>
                  <a:lnTo>
                    <a:pt x="1774" y="582"/>
                  </a:lnTo>
                  <a:lnTo>
                    <a:pt x="1774" y="562"/>
                  </a:lnTo>
                  <a:lnTo>
                    <a:pt x="1774" y="548"/>
                  </a:lnTo>
                  <a:lnTo>
                    <a:pt x="1774" y="528"/>
                  </a:lnTo>
                  <a:lnTo>
                    <a:pt x="1774" y="513"/>
                  </a:lnTo>
                  <a:lnTo>
                    <a:pt x="1769" y="498"/>
                  </a:lnTo>
                  <a:lnTo>
                    <a:pt x="1769" y="479"/>
                  </a:lnTo>
                  <a:lnTo>
                    <a:pt x="1764" y="464"/>
                  </a:lnTo>
                  <a:lnTo>
                    <a:pt x="1754" y="449"/>
                  </a:lnTo>
                  <a:lnTo>
                    <a:pt x="1744" y="434"/>
                  </a:lnTo>
                  <a:lnTo>
                    <a:pt x="1734" y="419"/>
                  </a:lnTo>
                  <a:lnTo>
                    <a:pt x="1719" y="405"/>
                  </a:lnTo>
                  <a:lnTo>
                    <a:pt x="1704" y="395"/>
                  </a:lnTo>
                  <a:lnTo>
                    <a:pt x="1694" y="390"/>
                  </a:lnTo>
                  <a:lnTo>
                    <a:pt x="1684" y="385"/>
                  </a:lnTo>
                  <a:lnTo>
                    <a:pt x="1674" y="375"/>
                  </a:lnTo>
                  <a:lnTo>
                    <a:pt x="1659" y="370"/>
                  </a:lnTo>
                  <a:lnTo>
                    <a:pt x="1649" y="365"/>
                  </a:lnTo>
                  <a:lnTo>
                    <a:pt x="1639" y="360"/>
                  </a:lnTo>
                  <a:lnTo>
                    <a:pt x="1623" y="355"/>
                  </a:lnTo>
                  <a:lnTo>
                    <a:pt x="1608" y="355"/>
                  </a:lnTo>
                  <a:lnTo>
                    <a:pt x="1588" y="345"/>
                  </a:lnTo>
                  <a:lnTo>
                    <a:pt x="1573" y="340"/>
                  </a:lnTo>
                  <a:lnTo>
                    <a:pt x="1558" y="336"/>
                  </a:lnTo>
                  <a:lnTo>
                    <a:pt x="1538" y="331"/>
                  </a:lnTo>
                  <a:lnTo>
                    <a:pt x="1523" y="326"/>
                  </a:lnTo>
                  <a:lnTo>
                    <a:pt x="1508" y="321"/>
                  </a:lnTo>
                  <a:lnTo>
                    <a:pt x="1488" y="316"/>
                  </a:lnTo>
                  <a:lnTo>
                    <a:pt x="1473" y="311"/>
                  </a:lnTo>
                  <a:lnTo>
                    <a:pt x="1458" y="306"/>
                  </a:lnTo>
                  <a:lnTo>
                    <a:pt x="1438" y="301"/>
                  </a:lnTo>
                  <a:lnTo>
                    <a:pt x="1422" y="296"/>
                  </a:lnTo>
                  <a:lnTo>
                    <a:pt x="1407" y="291"/>
                  </a:lnTo>
                  <a:lnTo>
                    <a:pt x="1387" y="286"/>
                  </a:lnTo>
                  <a:lnTo>
                    <a:pt x="1372" y="281"/>
                  </a:lnTo>
                  <a:lnTo>
                    <a:pt x="1357" y="276"/>
                  </a:lnTo>
                  <a:lnTo>
                    <a:pt x="1337" y="271"/>
                  </a:lnTo>
                  <a:lnTo>
                    <a:pt x="1322" y="266"/>
                  </a:lnTo>
                  <a:lnTo>
                    <a:pt x="1307" y="262"/>
                  </a:lnTo>
                  <a:lnTo>
                    <a:pt x="1287" y="257"/>
                  </a:lnTo>
                  <a:lnTo>
                    <a:pt x="1272" y="252"/>
                  </a:lnTo>
                  <a:lnTo>
                    <a:pt x="1257" y="247"/>
                  </a:lnTo>
                  <a:lnTo>
                    <a:pt x="1236" y="242"/>
                  </a:lnTo>
                  <a:lnTo>
                    <a:pt x="1221" y="237"/>
                  </a:lnTo>
                  <a:lnTo>
                    <a:pt x="1206" y="232"/>
                  </a:lnTo>
                  <a:lnTo>
                    <a:pt x="1186" y="227"/>
                  </a:lnTo>
                  <a:lnTo>
                    <a:pt x="1171" y="222"/>
                  </a:lnTo>
                  <a:lnTo>
                    <a:pt x="1156" y="217"/>
                  </a:lnTo>
                  <a:lnTo>
                    <a:pt x="1136" y="212"/>
                  </a:lnTo>
                  <a:lnTo>
                    <a:pt x="1121" y="207"/>
                  </a:lnTo>
                  <a:lnTo>
                    <a:pt x="1106" y="207"/>
                  </a:lnTo>
                  <a:lnTo>
                    <a:pt x="1086" y="197"/>
                  </a:lnTo>
                  <a:lnTo>
                    <a:pt x="1071" y="197"/>
                  </a:lnTo>
                  <a:lnTo>
                    <a:pt x="1051" y="193"/>
                  </a:lnTo>
                  <a:lnTo>
                    <a:pt x="1035" y="183"/>
                  </a:lnTo>
                  <a:lnTo>
                    <a:pt x="1020" y="178"/>
                  </a:lnTo>
                  <a:lnTo>
                    <a:pt x="1000" y="178"/>
                  </a:lnTo>
                  <a:lnTo>
                    <a:pt x="985" y="168"/>
                  </a:lnTo>
                  <a:lnTo>
                    <a:pt x="970" y="163"/>
                  </a:lnTo>
                  <a:lnTo>
                    <a:pt x="950" y="158"/>
                  </a:lnTo>
                  <a:lnTo>
                    <a:pt x="935" y="158"/>
                  </a:lnTo>
                  <a:lnTo>
                    <a:pt x="920" y="148"/>
                  </a:lnTo>
                  <a:lnTo>
                    <a:pt x="900" y="143"/>
                  </a:lnTo>
                  <a:lnTo>
                    <a:pt x="885" y="138"/>
                  </a:lnTo>
                  <a:lnTo>
                    <a:pt x="870" y="133"/>
                  </a:lnTo>
                  <a:lnTo>
                    <a:pt x="850" y="128"/>
                  </a:lnTo>
                  <a:lnTo>
                    <a:pt x="834" y="128"/>
                  </a:lnTo>
                  <a:lnTo>
                    <a:pt x="819" y="119"/>
                  </a:lnTo>
                  <a:lnTo>
                    <a:pt x="799" y="119"/>
                  </a:lnTo>
                  <a:lnTo>
                    <a:pt x="784" y="114"/>
                  </a:lnTo>
                  <a:lnTo>
                    <a:pt x="769" y="109"/>
                  </a:lnTo>
                  <a:lnTo>
                    <a:pt x="749" y="99"/>
                  </a:lnTo>
                  <a:lnTo>
                    <a:pt x="734" y="99"/>
                  </a:lnTo>
                  <a:lnTo>
                    <a:pt x="719" y="94"/>
                  </a:lnTo>
                  <a:lnTo>
                    <a:pt x="699" y="89"/>
                  </a:lnTo>
                  <a:lnTo>
                    <a:pt x="684" y="84"/>
                  </a:lnTo>
                  <a:lnTo>
                    <a:pt x="669" y="79"/>
                  </a:lnTo>
                  <a:lnTo>
                    <a:pt x="649" y="74"/>
                  </a:lnTo>
                  <a:lnTo>
                    <a:pt x="633" y="69"/>
                  </a:lnTo>
                  <a:lnTo>
                    <a:pt x="618" y="64"/>
                  </a:lnTo>
                  <a:lnTo>
                    <a:pt x="598" y="59"/>
                  </a:lnTo>
                  <a:lnTo>
                    <a:pt x="583" y="54"/>
                  </a:lnTo>
                  <a:lnTo>
                    <a:pt x="568" y="49"/>
                  </a:lnTo>
                  <a:lnTo>
                    <a:pt x="548" y="45"/>
                  </a:lnTo>
                  <a:lnTo>
                    <a:pt x="533" y="40"/>
                  </a:lnTo>
                  <a:lnTo>
                    <a:pt x="518" y="35"/>
                  </a:lnTo>
                  <a:lnTo>
                    <a:pt x="498" y="30"/>
                  </a:lnTo>
                  <a:lnTo>
                    <a:pt x="483" y="25"/>
                  </a:lnTo>
                  <a:lnTo>
                    <a:pt x="473" y="20"/>
                  </a:lnTo>
                  <a:lnTo>
                    <a:pt x="458" y="15"/>
                  </a:lnTo>
                  <a:lnTo>
                    <a:pt x="442" y="15"/>
                  </a:lnTo>
                  <a:lnTo>
                    <a:pt x="432" y="10"/>
                  </a:lnTo>
                  <a:lnTo>
                    <a:pt x="417" y="10"/>
                  </a:lnTo>
                  <a:lnTo>
                    <a:pt x="407" y="5"/>
                  </a:lnTo>
                  <a:lnTo>
                    <a:pt x="397" y="5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62" y="0"/>
                  </a:lnTo>
                  <a:lnTo>
                    <a:pt x="352" y="0"/>
                  </a:lnTo>
                  <a:lnTo>
                    <a:pt x="342" y="0"/>
                  </a:lnTo>
                  <a:lnTo>
                    <a:pt x="337" y="0"/>
                  </a:lnTo>
                  <a:lnTo>
                    <a:pt x="317" y="0"/>
                  </a:lnTo>
                  <a:lnTo>
                    <a:pt x="302" y="0"/>
                  </a:lnTo>
                  <a:lnTo>
                    <a:pt x="287" y="0"/>
                  </a:lnTo>
                  <a:lnTo>
                    <a:pt x="272" y="5"/>
                  </a:lnTo>
                  <a:lnTo>
                    <a:pt x="257" y="5"/>
                  </a:lnTo>
                  <a:lnTo>
                    <a:pt x="247" y="15"/>
                  </a:lnTo>
                  <a:lnTo>
                    <a:pt x="236" y="20"/>
                  </a:lnTo>
                  <a:lnTo>
                    <a:pt x="221" y="25"/>
                  </a:lnTo>
                  <a:lnTo>
                    <a:pt x="211" y="30"/>
                  </a:lnTo>
                  <a:lnTo>
                    <a:pt x="201" y="40"/>
                  </a:lnTo>
                  <a:lnTo>
                    <a:pt x="186" y="49"/>
                  </a:lnTo>
                  <a:lnTo>
                    <a:pt x="176" y="59"/>
                  </a:lnTo>
                  <a:lnTo>
                    <a:pt x="166" y="69"/>
                  </a:lnTo>
                  <a:lnTo>
                    <a:pt x="156" y="79"/>
                  </a:lnTo>
                  <a:lnTo>
                    <a:pt x="146" y="94"/>
                  </a:lnTo>
                  <a:lnTo>
                    <a:pt x="131" y="109"/>
                  </a:lnTo>
                  <a:lnTo>
                    <a:pt x="116" y="119"/>
                  </a:lnTo>
                  <a:lnTo>
                    <a:pt x="106" y="133"/>
                  </a:lnTo>
                  <a:lnTo>
                    <a:pt x="91" y="148"/>
                  </a:lnTo>
                  <a:lnTo>
                    <a:pt x="76" y="163"/>
                  </a:lnTo>
                  <a:lnTo>
                    <a:pt x="61" y="178"/>
                  </a:lnTo>
                  <a:lnTo>
                    <a:pt x="40" y="197"/>
                  </a:lnTo>
                  <a:lnTo>
                    <a:pt x="20" y="212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0" y="286"/>
                  </a:lnTo>
                  <a:lnTo>
                    <a:pt x="4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 rot="9362400">
              <a:off x="1118160" y="782640"/>
              <a:ext cx="3527640" cy="953640"/>
            </a:xfrm>
            <a:custGeom>
              <a:avLst/>
              <a:gdLst/>
              <a:ahLst/>
              <a:rect l="l" t="t" r="r" b="b"/>
              <a:pathLst>
                <a:path w="2222" h="601">
                  <a:moveTo>
                    <a:pt x="5" y="231"/>
                  </a:moveTo>
                  <a:lnTo>
                    <a:pt x="21" y="226"/>
                  </a:lnTo>
                  <a:lnTo>
                    <a:pt x="36" y="222"/>
                  </a:lnTo>
                  <a:lnTo>
                    <a:pt x="56" y="217"/>
                  </a:lnTo>
                  <a:lnTo>
                    <a:pt x="71" y="212"/>
                  </a:lnTo>
                  <a:lnTo>
                    <a:pt x="86" y="207"/>
                  </a:lnTo>
                  <a:lnTo>
                    <a:pt x="106" y="202"/>
                  </a:lnTo>
                  <a:lnTo>
                    <a:pt x="121" y="197"/>
                  </a:lnTo>
                  <a:lnTo>
                    <a:pt x="136" y="192"/>
                  </a:lnTo>
                  <a:lnTo>
                    <a:pt x="151" y="187"/>
                  </a:lnTo>
                  <a:lnTo>
                    <a:pt x="171" y="182"/>
                  </a:lnTo>
                  <a:lnTo>
                    <a:pt x="186" y="177"/>
                  </a:lnTo>
                  <a:lnTo>
                    <a:pt x="201" y="172"/>
                  </a:lnTo>
                  <a:lnTo>
                    <a:pt x="216" y="167"/>
                  </a:lnTo>
                  <a:lnTo>
                    <a:pt x="237" y="162"/>
                  </a:lnTo>
                  <a:lnTo>
                    <a:pt x="252" y="162"/>
                  </a:lnTo>
                  <a:lnTo>
                    <a:pt x="267" y="157"/>
                  </a:lnTo>
                  <a:lnTo>
                    <a:pt x="282" y="153"/>
                  </a:lnTo>
                  <a:lnTo>
                    <a:pt x="302" y="148"/>
                  </a:lnTo>
                  <a:lnTo>
                    <a:pt x="317" y="143"/>
                  </a:lnTo>
                  <a:lnTo>
                    <a:pt x="332" y="143"/>
                  </a:lnTo>
                  <a:lnTo>
                    <a:pt x="352" y="138"/>
                  </a:lnTo>
                  <a:lnTo>
                    <a:pt x="367" y="138"/>
                  </a:lnTo>
                  <a:lnTo>
                    <a:pt x="382" y="138"/>
                  </a:lnTo>
                  <a:lnTo>
                    <a:pt x="402" y="138"/>
                  </a:lnTo>
                  <a:lnTo>
                    <a:pt x="418" y="133"/>
                  </a:lnTo>
                  <a:lnTo>
                    <a:pt x="438" y="133"/>
                  </a:lnTo>
                  <a:lnTo>
                    <a:pt x="453" y="133"/>
                  </a:lnTo>
                  <a:lnTo>
                    <a:pt x="473" y="138"/>
                  </a:lnTo>
                  <a:lnTo>
                    <a:pt x="488" y="138"/>
                  </a:lnTo>
                  <a:lnTo>
                    <a:pt x="508" y="143"/>
                  </a:lnTo>
                  <a:lnTo>
                    <a:pt x="528" y="148"/>
                  </a:lnTo>
                  <a:lnTo>
                    <a:pt x="548" y="153"/>
                  </a:lnTo>
                  <a:lnTo>
                    <a:pt x="2191" y="601"/>
                  </a:lnTo>
                  <a:lnTo>
                    <a:pt x="2201" y="596"/>
                  </a:lnTo>
                  <a:lnTo>
                    <a:pt x="2212" y="591"/>
                  </a:lnTo>
                  <a:lnTo>
                    <a:pt x="2217" y="582"/>
                  </a:lnTo>
                  <a:lnTo>
                    <a:pt x="2222" y="577"/>
                  </a:lnTo>
                  <a:lnTo>
                    <a:pt x="2222" y="562"/>
                  </a:lnTo>
                  <a:lnTo>
                    <a:pt x="2222" y="547"/>
                  </a:lnTo>
                  <a:lnTo>
                    <a:pt x="2222" y="527"/>
                  </a:lnTo>
                  <a:lnTo>
                    <a:pt x="2217" y="513"/>
                  </a:lnTo>
                  <a:lnTo>
                    <a:pt x="769" y="93"/>
                  </a:lnTo>
                  <a:lnTo>
                    <a:pt x="759" y="88"/>
                  </a:lnTo>
                  <a:lnTo>
                    <a:pt x="744" y="83"/>
                  </a:lnTo>
                  <a:lnTo>
                    <a:pt x="729" y="79"/>
                  </a:lnTo>
                  <a:lnTo>
                    <a:pt x="719" y="74"/>
                  </a:lnTo>
                  <a:lnTo>
                    <a:pt x="704" y="69"/>
                  </a:lnTo>
                  <a:lnTo>
                    <a:pt x="694" y="64"/>
                  </a:lnTo>
                  <a:lnTo>
                    <a:pt x="679" y="59"/>
                  </a:lnTo>
                  <a:lnTo>
                    <a:pt x="669" y="59"/>
                  </a:lnTo>
                  <a:lnTo>
                    <a:pt x="654" y="49"/>
                  </a:lnTo>
                  <a:lnTo>
                    <a:pt x="639" y="44"/>
                  </a:lnTo>
                  <a:lnTo>
                    <a:pt x="629" y="44"/>
                  </a:lnTo>
                  <a:lnTo>
                    <a:pt x="613" y="39"/>
                  </a:lnTo>
                  <a:lnTo>
                    <a:pt x="598" y="34"/>
                  </a:lnTo>
                  <a:lnTo>
                    <a:pt x="588" y="29"/>
                  </a:lnTo>
                  <a:lnTo>
                    <a:pt x="573" y="29"/>
                  </a:lnTo>
                  <a:lnTo>
                    <a:pt x="563" y="24"/>
                  </a:lnTo>
                  <a:lnTo>
                    <a:pt x="548" y="19"/>
                  </a:lnTo>
                  <a:lnTo>
                    <a:pt x="533" y="19"/>
                  </a:lnTo>
                  <a:lnTo>
                    <a:pt x="518" y="14"/>
                  </a:lnTo>
                  <a:lnTo>
                    <a:pt x="508" y="14"/>
                  </a:lnTo>
                  <a:lnTo>
                    <a:pt x="493" y="9"/>
                  </a:lnTo>
                  <a:lnTo>
                    <a:pt x="478" y="9"/>
                  </a:lnTo>
                  <a:lnTo>
                    <a:pt x="463" y="5"/>
                  </a:lnTo>
                  <a:lnTo>
                    <a:pt x="453" y="5"/>
                  </a:lnTo>
                  <a:lnTo>
                    <a:pt x="438" y="5"/>
                  </a:lnTo>
                  <a:lnTo>
                    <a:pt x="423" y="0"/>
                  </a:lnTo>
                  <a:lnTo>
                    <a:pt x="407" y="0"/>
                  </a:lnTo>
                  <a:lnTo>
                    <a:pt x="397" y="0"/>
                  </a:lnTo>
                  <a:lnTo>
                    <a:pt x="382" y="0"/>
                  </a:lnTo>
                  <a:lnTo>
                    <a:pt x="372" y="0"/>
                  </a:lnTo>
                  <a:lnTo>
                    <a:pt x="357" y="0"/>
                  </a:lnTo>
                  <a:lnTo>
                    <a:pt x="342" y="0"/>
                  </a:lnTo>
                  <a:lnTo>
                    <a:pt x="327" y="0"/>
                  </a:lnTo>
                  <a:lnTo>
                    <a:pt x="317" y="0"/>
                  </a:lnTo>
                  <a:lnTo>
                    <a:pt x="302" y="5"/>
                  </a:lnTo>
                  <a:lnTo>
                    <a:pt x="292" y="5"/>
                  </a:lnTo>
                  <a:lnTo>
                    <a:pt x="277" y="5"/>
                  </a:lnTo>
                  <a:lnTo>
                    <a:pt x="262" y="9"/>
                  </a:lnTo>
                  <a:lnTo>
                    <a:pt x="252" y="9"/>
                  </a:lnTo>
                  <a:lnTo>
                    <a:pt x="242" y="14"/>
                  </a:lnTo>
                  <a:lnTo>
                    <a:pt x="227" y="19"/>
                  </a:lnTo>
                  <a:lnTo>
                    <a:pt x="216" y="24"/>
                  </a:lnTo>
                  <a:lnTo>
                    <a:pt x="201" y="29"/>
                  </a:lnTo>
                  <a:lnTo>
                    <a:pt x="191" y="34"/>
                  </a:lnTo>
                  <a:lnTo>
                    <a:pt x="181" y="34"/>
                  </a:lnTo>
                  <a:lnTo>
                    <a:pt x="171" y="44"/>
                  </a:lnTo>
                  <a:lnTo>
                    <a:pt x="156" y="49"/>
                  </a:lnTo>
                  <a:lnTo>
                    <a:pt x="151" y="59"/>
                  </a:lnTo>
                  <a:lnTo>
                    <a:pt x="136" y="64"/>
                  </a:lnTo>
                  <a:lnTo>
                    <a:pt x="126" y="69"/>
                  </a:lnTo>
                  <a:lnTo>
                    <a:pt x="116" y="74"/>
                  </a:lnTo>
                  <a:lnTo>
                    <a:pt x="106" y="83"/>
                  </a:lnTo>
                  <a:lnTo>
                    <a:pt x="91" y="93"/>
                  </a:lnTo>
                  <a:lnTo>
                    <a:pt x="86" y="103"/>
                  </a:lnTo>
                  <a:lnTo>
                    <a:pt x="76" y="113"/>
                  </a:lnTo>
                  <a:lnTo>
                    <a:pt x="66" y="123"/>
                  </a:lnTo>
                  <a:lnTo>
                    <a:pt x="56" y="133"/>
                  </a:lnTo>
                  <a:lnTo>
                    <a:pt x="51" y="143"/>
                  </a:lnTo>
                  <a:lnTo>
                    <a:pt x="41" y="157"/>
                  </a:lnTo>
                  <a:lnTo>
                    <a:pt x="31" y="167"/>
                  </a:lnTo>
                  <a:lnTo>
                    <a:pt x="21" y="182"/>
                  </a:lnTo>
                  <a:lnTo>
                    <a:pt x="15" y="197"/>
                  </a:lnTo>
                  <a:lnTo>
                    <a:pt x="10" y="207"/>
                  </a:lnTo>
                  <a:lnTo>
                    <a:pt x="5" y="226"/>
                  </a:lnTo>
                  <a:lnTo>
                    <a:pt x="0" y="226"/>
                  </a:lnTo>
                  <a:lnTo>
                    <a:pt x="5" y="231"/>
                  </a:lnTo>
                  <a:lnTo>
                    <a:pt x="5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 rot="9362400">
              <a:off x="7391520" y="958680"/>
              <a:ext cx="1922400" cy="4305240"/>
            </a:xfrm>
            <a:custGeom>
              <a:avLst/>
              <a:gdLst/>
              <a:ahLst/>
              <a:rect l="l" t="t" r="r" b="b"/>
              <a:pathLst>
                <a:path w="1211" h="2712">
                  <a:moveTo>
                    <a:pt x="1101" y="113"/>
                  </a:moveTo>
                  <a:lnTo>
                    <a:pt x="1101" y="123"/>
                  </a:lnTo>
                  <a:lnTo>
                    <a:pt x="1101" y="133"/>
                  </a:lnTo>
                  <a:lnTo>
                    <a:pt x="1096" y="143"/>
                  </a:lnTo>
                  <a:lnTo>
                    <a:pt x="1096" y="158"/>
                  </a:lnTo>
                  <a:lnTo>
                    <a:pt x="1096" y="168"/>
                  </a:lnTo>
                  <a:lnTo>
                    <a:pt x="1096" y="178"/>
                  </a:lnTo>
                  <a:lnTo>
                    <a:pt x="1091" y="187"/>
                  </a:lnTo>
                  <a:lnTo>
                    <a:pt x="1091" y="202"/>
                  </a:lnTo>
                  <a:lnTo>
                    <a:pt x="1086" y="212"/>
                  </a:lnTo>
                  <a:lnTo>
                    <a:pt x="1086" y="222"/>
                  </a:lnTo>
                  <a:lnTo>
                    <a:pt x="1086" y="232"/>
                  </a:lnTo>
                  <a:lnTo>
                    <a:pt x="1081" y="242"/>
                  </a:lnTo>
                  <a:lnTo>
                    <a:pt x="1081" y="256"/>
                  </a:lnTo>
                  <a:lnTo>
                    <a:pt x="1081" y="266"/>
                  </a:lnTo>
                  <a:lnTo>
                    <a:pt x="1076" y="276"/>
                  </a:lnTo>
                  <a:lnTo>
                    <a:pt x="1076" y="291"/>
                  </a:lnTo>
                  <a:lnTo>
                    <a:pt x="1071" y="301"/>
                  </a:lnTo>
                  <a:lnTo>
                    <a:pt x="1071" y="311"/>
                  </a:lnTo>
                  <a:lnTo>
                    <a:pt x="1066" y="321"/>
                  </a:lnTo>
                  <a:lnTo>
                    <a:pt x="1066" y="330"/>
                  </a:lnTo>
                  <a:lnTo>
                    <a:pt x="1061" y="340"/>
                  </a:lnTo>
                  <a:lnTo>
                    <a:pt x="1056" y="355"/>
                  </a:lnTo>
                  <a:lnTo>
                    <a:pt x="1056" y="365"/>
                  </a:lnTo>
                  <a:lnTo>
                    <a:pt x="1051" y="375"/>
                  </a:lnTo>
                  <a:lnTo>
                    <a:pt x="1046" y="385"/>
                  </a:lnTo>
                  <a:lnTo>
                    <a:pt x="1046" y="395"/>
                  </a:lnTo>
                  <a:lnTo>
                    <a:pt x="1041" y="404"/>
                  </a:lnTo>
                  <a:lnTo>
                    <a:pt x="1041" y="419"/>
                  </a:lnTo>
                  <a:lnTo>
                    <a:pt x="1036" y="429"/>
                  </a:lnTo>
                  <a:lnTo>
                    <a:pt x="1031" y="439"/>
                  </a:lnTo>
                  <a:lnTo>
                    <a:pt x="1031" y="449"/>
                  </a:lnTo>
                  <a:lnTo>
                    <a:pt x="1026" y="464"/>
                  </a:lnTo>
                  <a:lnTo>
                    <a:pt x="1021" y="469"/>
                  </a:lnTo>
                  <a:lnTo>
                    <a:pt x="1016" y="483"/>
                  </a:lnTo>
                  <a:lnTo>
                    <a:pt x="1016" y="488"/>
                  </a:lnTo>
                  <a:lnTo>
                    <a:pt x="1010" y="503"/>
                  </a:lnTo>
                  <a:lnTo>
                    <a:pt x="1005" y="513"/>
                  </a:lnTo>
                  <a:lnTo>
                    <a:pt x="1000" y="523"/>
                  </a:lnTo>
                  <a:lnTo>
                    <a:pt x="995" y="533"/>
                  </a:lnTo>
                  <a:lnTo>
                    <a:pt x="995" y="543"/>
                  </a:lnTo>
                  <a:lnTo>
                    <a:pt x="985" y="552"/>
                  </a:lnTo>
                  <a:lnTo>
                    <a:pt x="985" y="562"/>
                  </a:lnTo>
                  <a:lnTo>
                    <a:pt x="980" y="572"/>
                  </a:lnTo>
                  <a:lnTo>
                    <a:pt x="975" y="582"/>
                  </a:lnTo>
                  <a:lnTo>
                    <a:pt x="970" y="592"/>
                  </a:lnTo>
                  <a:lnTo>
                    <a:pt x="965" y="602"/>
                  </a:lnTo>
                  <a:lnTo>
                    <a:pt x="965" y="616"/>
                  </a:lnTo>
                  <a:lnTo>
                    <a:pt x="960" y="626"/>
                  </a:lnTo>
                  <a:lnTo>
                    <a:pt x="955" y="636"/>
                  </a:lnTo>
                  <a:lnTo>
                    <a:pt x="950" y="646"/>
                  </a:lnTo>
                  <a:lnTo>
                    <a:pt x="945" y="656"/>
                  </a:lnTo>
                  <a:lnTo>
                    <a:pt x="940" y="666"/>
                  </a:lnTo>
                  <a:lnTo>
                    <a:pt x="935" y="676"/>
                  </a:lnTo>
                  <a:lnTo>
                    <a:pt x="930" y="686"/>
                  </a:lnTo>
                  <a:lnTo>
                    <a:pt x="925" y="695"/>
                  </a:lnTo>
                  <a:lnTo>
                    <a:pt x="920" y="705"/>
                  </a:lnTo>
                  <a:lnTo>
                    <a:pt x="915" y="715"/>
                  </a:lnTo>
                  <a:lnTo>
                    <a:pt x="910" y="725"/>
                  </a:lnTo>
                  <a:lnTo>
                    <a:pt x="905" y="735"/>
                  </a:lnTo>
                  <a:lnTo>
                    <a:pt x="900" y="745"/>
                  </a:lnTo>
                  <a:lnTo>
                    <a:pt x="895" y="755"/>
                  </a:lnTo>
                  <a:lnTo>
                    <a:pt x="895" y="764"/>
                  </a:lnTo>
                  <a:lnTo>
                    <a:pt x="885" y="774"/>
                  </a:lnTo>
                  <a:lnTo>
                    <a:pt x="885" y="789"/>
                  </a:lnTo>
                  <a:lnTo>
                    <a:pt x="880" y="794"/>
                  </a:lnTo>
                  <a:lnTo>
                    <a:pt x="870" y="809"/>
                  </a:lnTo>
                  <a:lnTo>
                    <a:pt x="865" y="819"/>
                  </a:lnTo>
                  <a:lnTo>
                    <a:pt x="860" y="829"/>
                  </a:lnTo>
                  <a:lnTo>
                    <a:pt x="855" y="838"/>
                  </a:lnTo>
                  <a:lnTo>
                    <a:pt x="850" y="848"/>
                  </a:lnTo>
                  <a:lnTo>
                    <a:pt x="845" y="858"/>
                  </a:lnTo>
                  <a:lnTo>
                    <a:pt x="840" y="868"/>
                  </a:lnTo>
                  <a:lnTo>
                    <a:pt x="835" y="883"/>
                  </a:lnTo>
                  <a:lnTo>
                    <a:pt x="830" y="893"/>
                  </a:lnTo>
                  <a:lnTo>
                    <a:pt x="825" y="903"/>
                  </a:lnTo>
                  <a:lnTo>
                    <a:pt x="820" y="912"/>
                  </a:lnTo>
                  <a:lnTo>
                    <a:pt x="814" y="922"/>
                  </a:lnTo>
                  <a:lnTo>
                    <a:pt x="809" y="937"/>
                  </a:lnTo>
                  <a:lnTo>
                    <a:pt x="804" y="947"/>
                  </a:lnTo>
                  <a:lnTo>
                    <a:pt x="804" y="957"/>
                  </a:lnTo>
                  <a:lnTo>
                    <a:pt x="799" y="967"/>
                  </a:lnTo>
                  <a:lnTo>
                    <a:pt x="794" y="981"/>
                  </a:lnTo>
                  <a:lnTo>
                    <a:pt x="789" y="991"/>
                  </a:lnTo>
                  <a:lnTo>
                    <a:pt x="784" y="1001"/>
                  </a:lnTo>
                  <a:lnTo>
                    <a:pt x="779" y="1011"/>
                  </a:lnTo>
                  <a:lnTo>
                    <a:pt x="779" y="1021"/>
                  </a:lnTo>
                  <a:lnTo>
                    <a:pt x="774" y="1036"/>
                  </a:lnTo>
                  <a:lnTo>
                    <a:pt x="769" y="1046"/>
                  </a:lnTo>
                  <a:lnTo>
                    <a:pt x="764" y="1055"/>
                  </a:lnTo>
                  <a:lnTo>
                    <a:pt x="759" y="1065"/>
                  </a:lnTo>
                  <a:lnTo>
                    <a:pt x="754" y="1080"/>
                  </a:lnTo>
                  <a:lnTo>
                    <a:pt x="754" y="1090"/>
                  </a:lnTo>
                  <a:lnTo>
                    <a:pt x="749" y="1100"/>
                  </a:lnTo>
                  <a:lnTo>
                    <a:pt x="744" y="1110"/>
                  </a:lnTo>
                  <a:lnTo>
                    <a:pt x="739" y="1119"/>
                  </a:lnTo>
                  <a:lnTo>
                    <a:pt x="734" y="1134"/>
                  </a:lnTo>
                  <a:lnTo>
                    <a:pt x="729" y="1144"/>
                  </a:lnTo>
                  <a:lnTo>
                    <a:pt x="729" y="1154"/>
                  </a:lnTo>
                  <a:lnTo>
                    <a:pt x="724" y="1164"/>
                  </a:lnTo>
                  <a:lnTo>
                    <a:pt x="719" y="1179"/>
                  </a:lnTo>
                  <a:lnTo>
                    <a:pt x="714" y="1189"/>
                  </a:lnTo>
                  <a:lnTo>
                    <a:pt x="709" y="1198"/>
                  </a:lnTo>
                  <a:lnTo>
                    <a:pt x="704" y="1208"/>
                  </a:lnTo>
                  <a:lnTo>
                    <a:pt x="704" y="1218"/>
                  </a:lnTo>
                  <a:lnTo>
                    <a:pt x="699" y="1233"/>
                  </a:lnTo>
                  <a:lnTo>
                    <a:pt x="694" y="1243"/>
                  </a:lnTo>
                  <a:lnTo>
                    <a:pt x="689" y="1253"/>
                  </a:lnTo>
                  <a:lnTo>
                    <a:pt x="684" y="1263"/>
                  </a:lnTo>
                  <a:lnTo>
                    <a:pt x="679" y="1277"/>
                  </a:lnTo>
                  <a:lnTo>
                    <a:pt x="679" y="1287"/>
                  </a:lnTo>
                  <a:lnTo>
                    <a:pt x="674" y="1297"/>
                  </a:lnTo>
                  <a:lnTo>
                    <a:pt x="669" y="1307"/>
                  </a:lnTo>
                  <a:lnTo>
                    <a:pt x="664" y="1317"/>
                  </a:lnTo>
                  <a:lnTo>
                    <a:pt x="664" y="1327"/>
                  </a:lnTo>
                  <a:lnTo>
                    <a:pt x="654" y="1341"/>
                  </a:lnTo>
                  <a:lnTo>
                    <a:pt x="654" y="1351"/>
                  </a:lnTo>
                  <a:lnTo>
                    <a:pt x="649" y="1361"/>
                  </a:lnTo>
                  <a:lnTo>
                    <a:pt x="644" y="1371"/>
                  </a:lnTo>
                  <a:lnTo>
                    <a:pt x="639" y="1386"/>
                  </a:lnTo>
                  <a:lnTo>
                    <a:pt x="634" y="1396"/>
                  </a:lnTo>
                  <a:lnTo>
                    <a:pt x="629" y="1406"/>
                  </a:lnTo>
                  <a:lnTo>
                    <a:pt x="629" y="1415"/>
                  </a:lnTo>
                  <a:lnTo>
                    <a:pt x="624" y="1425"/>
                  </a:lnTo>
                  <a:lnTo>
                    <a:pt x="619" y="1440"/>
                  </a:lnTo>
                  <a:lnTo>
                    <a:pt x="613" y="1450"/>
                  </a:lnTo>
                  <a:lnTo>
                    <a:pt x="608" y="1460"/>
                  </a:lnTo>
                  <a:lnTo>
                    <a:pt x="603" y="1470"/>
                  </a:lnTo>
                  <a:lnTo>
                    <a:pt x="603" y="1484"/>
                  </a:lnTo>
                  <a:lnTo>
                    <a:pt x="593" y="1499"/>
                  </a:lnTo>
                  <a:lnTo>
                    <a:pt x="583" y="1514"/>
                  </a:lnTo>
                  <a:lnTo>
                    <a:pt x="578" y="1534"/>
                  </a:lnTo>
                  <a:lnTo>
                    <a:pt x="568" y="1549"/>
                  </a:lnTo>
                  <a:lnTo>
                    <a:pt x="563" y="1568"/>
                  </a:lnTo>
                  <a:lnTo>
                    <a:pt x="553" y="1583"/>
                  </a:lnTo>
                  <a:lnTo>
                    <a:pt x="548" y="1603"/>
                  </a:lnTo>
                  <a:lnTo>
                    <a:pt x="538" y="1618"/>
                  </a:lnTo>
                  <a:lnTo>
                    <a:pt x="533" y="1637"/>
                  </a:lnTo>
                  <a:lnTo>
                    <a:pt x="528" y="1652"/>
                  </a:lnTo>
                  <a:lnTo>
                    <a:pt x="518" y="1667"/>
                  </a:lnTo>
                  <a:lnTo>
                    <a:pt x="513" y="1687"/>
                  </a:lnTo>
                  <a:lnTo>
                    <a:pt x="503" y="1701"/>
                  </a:lnTo>
                  <a:lnTo>
                    <a:pt x="498" y="1721"/>
                  </a:lnTo>
                  <a:lnTo>
                    <a:pt x="488" y="1741"/>
                  </a:lnTo>
                  <a:lnTo>
                    <a:pt x="483" y="1761"/>
                  </a:lnTo>
                  <a:lnTo>
                    <a:pt x="478" y="1775"/>
                  </a:lnTo>
                  <a:lnTo>
                    <a:pt x="468" y="1795"/>
                  </a:lnTo>
                  <a:lnTo>
                    <a:pt x="463" y="1810"/>
                  </a:lnTo>
                  <a:lnTo>
                    <a:pt x="453" y="1830"/>
                  </a:lnTo>
                  <a:lnTo>
                    <a:pt x="448" y="1844"/>
                  </a:lnTo>
                  <a:lnTo>
                    <a:pt x="438" y="1864"/>
                  </a:lnTo>
                  <a:lnTo>
                    <a:pt x="433" y="1879"/>
                  </a:lnTo>
                  <a:lnTo>
                    <a:pt x="428" y="1899"/>
                  </a:lnTo>
                  <a:lnTo>
                    <a:pt x="418" y="1913"/>
                  </a:lnTo>
                  <a:lnTo>
                    <a:pt x="412" y="1933"/>
                  </a:lnTo>
                  <a:lnTo>
                    <a:pt x="402" y="1953"/>
                  </a:lnTo>
                  <a:lnTo>
                    <a:pt x="397" y="1973"/>
                  </a:lnTo>
                  <a:lnTo>
                    <a:pt x="392" y="1987"/>
                  </a:lnTo>
                  <a:lnTo>
                    <a:pt x="382" y="2007"/>
                  </a:lnTo>
                  <a:lnTo>
                    <a:pt x="377" y="2022"/>
                  </a:lnTo>
                  <a:lnTo>
                    <a:pt x="372" y="2042"/>
                  </a:lnTo>
                  <a:lnTo>
                    <a:pt x="362" y="2061"/>
                  </a:lnTo>
                  <a:lnTo>
                    <a:pt x="357" y="2081"/>
                  </a:lnTo>
                  <a:lnTo>
                    <a:pt x="347" y="2101"/>
                  </a:lnTo>
                  <a:lnTo>
                    <a:pt x="342" y="2121"/>
                  </a:lnTo>
                  <a:lnTo>
                    <a:pt x="337" y="2126"/>
                  </a:lnTo>
                  <a:lnTo>
                    <a:pt x="332" y="2140"/>
                  </a:lnTo>
                  <a:lnTo>
                    <a:pt x="327" y="2150"/>
                  </a:lnTo>
                  <a:lnTo>
                    <a:pt x="327" y="2160"/>
                  </a:lnTo>
                  <a:lnTo>
                    <a:pt x="322" y="2170"/>
                  </a:lnTo>
                  <a:lnTo>
                    <a:pt x="317" y="2180"/>
                  </a:lnTo>
                  <a:lnTo>
                    <a:pt x="312" y="2190"/>
                  </a:lnTo>
                  <a:lnTo>
                    <a:pt x="312" y="2199"/>
                  </a:lnTo>
                  <a:lnTo>
                    <a:pt x="307" y="2209"/>
                  </a:lnTo>
                  <a:lnTo>
                    <a:pt x="302" y="2219"/>
                  </a:lnTo>
                  <a:lnTo>
                    <a:pt x="297" y="2229"/>
                  </a:lnTo>
                  <a:lnTo>
                    <a:pt x="297" y="2239"/>
                  </a:lnTo>
                  <a:lnTo>
                    <a:pt x="287" y="2249"/>
                  </a:lnTo>
                  <a:lnTo>
                    <a:pt x="287" y="2264"/>
                  </a:lnTo>
                  <a:lnTo>
                    <a:pt x="282" y="2273"/>
                  </a:lnTo>
                  <a:lnTo>
                    <a:pt x="282" y="2283"/>
                  </a:lnTo>
                  <a:lnTo>
                    <a:pt x="277" y="2293"/>
                  </a:lnTo>
                  <a:lnTo>
                    <a:pt x="272" y="2303"/>
                  </a:lnTo>
                  <a:lnTo>
                    <a:pt x="267" y="2313"/>
                  </a:lnTo>
                  <a:lnTo>
                    <a:pt x="262" y="2323"/>
                  </a:lnTo>
                  <a:lnTo>
                    <a:pt x="257" y="2333"/>
                  </a:lnTo>
                  <a:lnTo>
                    <a:pt x="252" y="2343"/>
                  </a:lnTo>
                  <a:lnTo>
                    <a:pt x="247" y="2352"/>
                  </a:lnTo>
                  <a:lnTo>
                    <a:pt x="247" y="2367"/>
                  </a:lnTo>
                  <a:lnTo>
                    <a:pt x="232" y="2382"/>
                  </a:lnTo>
                  <a:lnTo>
                    <a:pt x="222" y="2402"/>
                  </a:lnTo>
                  <a:lnTo>
                    <a:pt x="211" y="2421"/>
                  </a:lnTo>
                  <a:lnTo>
                    <a:pt x="201" y="2441"/>
                  </a:lnTo>
                  <a:lnTo>
                    <a:pt x="186" y="2456"/>
                  </a:lnTo>
                  <a:lnTo>
                    <a:pt x="176" y="2476"/>
                  </a:lnTo>
                  <a:lnTo>
                    <a:pt x="166" y="2495"/>
                  </a:lnTo>
                  <a:lnTo>
                    <a:pt x="151" y="2510"/>
                  </a:lnTo>
                  <a:lnTo>
                    <a:pt x="136" y="2525"/>
                  </a:lnTo>
                  <a:lnTo>
                    <a:pt x="126" y="2545"/>
                  </a:lnTo>
                  <a:lnTo>
                    <a:pt x="111" y="2559"/>
                  </a:lnTo>
                  <a:lnTo>
                    <a:pt x="96" y="2574"/>
                  </a:lnTo>
                  <a:lnTo>
                    <a:pt x="76" y="2584"/>
                  </a:lnTo>
                  <a:lnTo>
                    <a:pt x="61" y="2599"/>
                  </a:lnTo>
                  <a:lnTo>
                    <a:pt x="41" y="2614"/>
                  </a:lnTo>
                  <a:lnTo>
                    <a:pt x="21" y="2624"/>
                  </a:lnTo>
                  <a:lnTo>
                    <a:pt x="10" y="2633"/>
                  </a:lnTo>
                  <a:lnTo>
                    <a:pt x="0" y="2648"/>
                  </a:lnTo>
                  <a:lnTo>
                    <a:pt x="0" y="2663"/>
                  </a:lnTo>
                  <a:lnTo>
                    <a:pt x="0" y="2678"/>
                  </a:lnTo>
                  <a:lnTo>
                    <a:pt x="10" y="2688"/>
                  </a:lnTo>
                  <a:lnTo>
                    <a:pt x="21" y="2703"/>
                  </a:lnTo>
                  <a:lnTo>
                    <a:pt x="31" y="2707"/>
                  </a:lnTo>
                  <a:lnTo>
                    <a:pt x="51" y="2712"/>
                  </a:lnTo>
                  <a:lnTo>
                    <a:pt x="61" y="2707"/>
                  </a:lnTo>
                  <a:lnTo>
                    <a:pt x="71" y="2707"/>
                  </a:lnTo>
                  <a:lnTo>
                    <a:pt x="86" y="2707"/>
                  </a:lnTo>
                  <a:lnTo>
                    <a:pt x="101" y="2707"/>
                  </a:lnTo>
                  <a:lnTo>
                    <a:pt x="111" y="2707"/>
                  </a:lnTo>
                  <a:lnTo>
                    <a:pt x="121" y="2707"/>
                  </a:lnTo>
                  <a:lnTo>
                    <a:pt x="131" y="2703"/>
                  </a:lnTo>
                  <a:lnTo>
                    <a:pt x="146" y="2703"/>
                  </a:lnTo>
                  <a:lnTo>
                    <a:pt x="161" y="2693"/>
                  </a:lnTo>
                  <a:lnTo>
                    <a:pt x="181" y="2688"/>
                  </a:lnTo>
                  <a:lnTo>
                    <a:pt x="201" y="2678"/>
                  </a:lnTo>
                  <a:lnTo>
                    <a:pt x="222" y="2668"/>
                  </a:lnTo>
                  <a:lnTo>
                    <a:pt x="237" y="2653"/>
                  </a:lnTo>
                  <a:lnTo>
                    <a:pt x="252" y="2638"/>
                  </a:lnTo>
                  <a:lnTo>
                    <a:pt x="267" y="2624"/>
                  </a:lnTo>
                  <a:lnTo>
                    <a:pt x="282" y="2609"/>
                  </a:lnTo>
                  <a:lnTo>
                    <a:pt x="297" y="2589"/>
                  </a:lnTo>
                  <a:lnTo>
                    <a:pt x="312" y="2569"/>
                  </a:lnTo>
                  <a:lnTo>
                    <a:pt x="317" y="2559"/>
                  </a:lnTo>
                  <a:lnTo>
                    <a:pt x="322" y="2545"/>
                  </a:lnTo>
                  <a:lnTo>
                    <a:pt x="332" y="2535"/>
                  </a:lnTo>
                  <a:lnTo>
                    <a:pt x="337" y="2525"/>
                  </a:lnTo>
                  <a:lnTo>
                    <a:pt x="342" y="2510"/>
                  </a:lnTo>
                  <a:lnTo>
                    <a:pt x="347" y="2500"/>
                  </a:lnTo>
                  <a:lnTo>
                    <a:pt x="352" y="2486"/>
                  </a:lnTo>
                  <a:lnTo>
                    <a:pt x="362" y="2476"/>
                  </a:lnTo>
                  <a:lnTo>
                    <a:pt x="367" y="2461"/>
                  </a:lnTo>
                  <a:lnTo>
                    <a:pt x="377" y="2446"/>
                  </a:lnTo>
                  <a:lnTo>
                    <a:pt x="382" y="2431"/>
                  </a:lnTo>
                  <a:lnTo>
                    <a:pt x="387" y="2421"/>
                  </a:lnTo>
                  <a:lnTo>
                    <a:pt x="392" y="2407"/>
                  </a:lnTo>
                  <a:lnTo>
                    <a:pt x="397" y="2397"/>
                  </a:lnTo>
                  <a:lnTo>
                    <a:pt x="402" y="2382"/>
                  </a:lnTo>
                  <a:lnTo>
                    <a:pt x="412" y="2367"/>
                  </a:lnTo>
                  <a:lnTo>
                    <a:pt x="418" y="2352"/>
                  </a:lnTo>
                  <a:lnTo>
                    <a:pt x="423" y="2343"/>
                  </a:lnTo>
                  <a:lnTo>
                    <a:pt x="428" y="2328"/>
                  </a:lnTo>
                  <a:lnTo>
                    <a:pt x="438" y="2318"/>
                  </a:lnTo>
                  <a:lnTo>
                    <a:pt x="438" y="2303"/>
                  </a:lnTo>
                  <a:lnTo>
                    <a:pt x="448" y="2288"/>
                  </a:lnTo>
                  <a:lnTo>
                    <a:pt x="453" y="2273"/>
                  </a:lnTo>
                  <a:lnTo>
                    <a:pt x="458" y="2264"/>
                  </a:lnTo>
                  <a:lnTo>
                    <a:pt x="463" y="2249"/>
                  </a:lnTo>
                  <a:lnTo>
                    <a:pt x="468" y="2234"/>
                  </a:lnTo>
                  <a:lnTo>
                    <a:pt x="473" y="2219"/>
                  </a:lnTo>
                  <a:lnTo>
                    <a:pt x="478" y="2204"/>
                  </a:lnTo>
                  <a:lnTo>
                    <a:pt x="483" y="2190"/>
                  </a:lnTo>
                  <a:lnTo>
                    <a:pt x="488" y="2180"/>
                  </a:lnTo>
                  <a:lnTo>
                    <a:pt x="493" y="2165"/>
                  </a:lnTo>
                  <a:lnTo>
                    <a:pt x="498" y="2150"/>
                  </a:lnTo>
                  <a:lnTo>
                    <a:pt x="503" y="2135"/>
                  </a:lnTo>
                  <a:lnTo>
                    <a:pt x="513" y="2126"/>
                  </a:lnTo>
                  <a:lnTo>
                    <a:pt x="518" y="2111"/>
                  </a:lnTo>
                  <a:lnTo>
                    <a:pt x="523" y="2101"/>
                  </a:lnTo>
                  <a:lnTo>
                    <a:pt x="528" y="2081"/>
                  </a:lnTo>
                  <a:lnTo>
                    <a:pt x="533" y="2071"/>
                  </a:lnTo>
                  <a:lnTo>
                    <a:pt x="533" y="2056"/>
                  </a:lnTo>
                  <a:lnTo>
                    <a:pt x="538" y="2042"/>
                  </a:lnTo>
                  <a:lnTo>
                    <a:pt x="548" y="2027"/>
                  </a:lnTo>
                  <a:lnTo>
                    <a:pt x="553" y="2012"/>
                  </a:lnTo>
                  <a:lnTo>
                    <a:pt x="558" y="2002"/>
                  </a:lnTo>
                  <a:lnTo>
                    <a:pt x="563" y="1987"/>
                  </a:lnTo>
                  <a:lnTo>
                    <a:pt x="568" y="1973"/>
                  </a:lnTo>
                  <a:lnTo>
                    <a:pt x="573" y="1958"/>
                  </a:lnTo>
                  <a:lnTo>
                    <a:pt x="578" y="1943"/>
                  </a:lnTo>
                  <a:lnTo>
                    <a:pt x="583" y="1933"/>
                  </a:lnTo>
                  <a:lnTo>
                    <a:pt x="588" y="1918"/>
                  </a:lnTo>
                  <a:lnTo>
                    <a:pt x="593" y="1904"/>
                  </a:lnTo>
                  <a:lnTo>
                    <a:pt x="598" y="1889"/>
                  </a:lnTo>
                  <a:lnTo>
                    <a:pt x="603" y="1879"/>
                  </a:lnTo>
                  <a:lnTo>
                    <a:pt x="608" y="1864"/>
                  </a:lnTo>
                  <a:lnTo>
                    <a:pt x="613" y="1849"/>
                  </a:lnTo>
                  <a:lnTo>
                    <a:pt x="619" y="1835"/>
                  </a:lnTo>
                  <a:lnTo>
                    <a:pt x="624" y="1825"/>
                  </a:lnTo>
                  <a:lnTo>
                    <a:pt x="629" y="1810"/>
                  </a:lnTo>
                  <a:lnTo>
                    <a:pt x="634" y="1795"/>
                  </a:lnTo>
                  <a:lnTo>
                    <a:pt x="639" y="1780"/>
                  </a:lnTo>
                  <a:lnTo>
                    <a:pt x="644" y="1766"/>
                  </a:lnTo>
                  <a:lnTo>
                    <a:pt x="649" y="1751"/>
                  </a:lnTo>
                  <a:lnTo>
                    <a:pt x="654" y="1741"/>
                  </a:lnTo>
                  <a:lnTo>
                    <a:pt x="664" y="1726"/>
                  </a:lnTo>
                  <a:lnTo>
                    <a:pt x="669" y="1716"/>
                  </a:lnTo>
                  <a:lnTo>
                    <a:pt x="674" y="1701"/>
                  </a:lnTo>
                  <a:lnTo>
                    <a:pt x="679" y="1687"/>
                  </a:lnTo>
                  <a:lnTo>
                    <a:pt x="684" y="1677"/>
                  </a:lnTo>
                  <a:lnTo>
                    <a:pt x="694" y="1667"/>
                  </a:lnTo>
                  <a:lnTo>
                    <a:pt x="694" y="1652"/>
                  </a:lnTo>
                  <a:lnTo>
                    <a:pt x="699" y="1637"/>
                  </a:lnTo>
                  <a:lnTo>
                    <a:pt x="704" y="1623"/>
                  </a:lnTo>
                  <a:lnTo>
                    <a:pt x="714" y="1613"/>
                  </a:lnTo>
                  <a:lnTo>
                    <a:pt x="714" y="1598"/>
                  </a:lnTo>
                  <a:lnTo>
                    <a:pt x="719" y="1588"/>
                  </a:lnTo>
                  <a:lnTo>
                    <a:pt x="729" y="1573"/>
                  </a:lnTo>
                  <a:lnTo>
                    <a:pt x="734" y="1558"/>
                  </a:lnTo>
                  <a:lnTo>
                    <a:pt x="734" y="1549"/>
                  </a:lnTo>
                  <a:lnTo>
                    <a:pt x="744" y="1534"/>
                  </a:lnTo>
                  <a:lnTo>
                    <a:pt x="749" y="1519"/>
                  </a:lnTo>
                  <a:lnTo>
                    <a:pt x="754" y="1509"/>
                  </a:lnTo>
                  <a:lnTo>
                    <a:pt x="754" y="1494"/>
                  </a:lnTo>
                  <a:lnTo>
                    <a:pt x="764" y="1484"/>
                  </a:lnTo>
                  <a:lnTo>
                    <a:pt x="769" y="1470"/>
                  </a:lnTo>
                  <a:lnTo>
                    <a:pt x="774" y="1460"/>
                  </a:lnTo>
                  <a:lnTo>
                    <a:pt x="779" y="1445"/>
                  </a:lnTo>
                  <a:lnTo>
                    <a:pt x="784" y="1430"/>
                  </a:lnTo>
                  <a:lnTo>
                    <a:pt x="784" y="1420"/>
                  </a:lnTo>
                  <a:lnTo>
                    <a:pt x="794" y="1406"/>
                  </a:lnTo>
                  <a:lnTo>
                    <a:pt x="794" y="1391"/>
                  </a:lnTo>
                  <a:lnTo>
                    <a:pt x="799" y="1381"/>
                  </a:lnTo>
                  <a:lnTo>
                    <a:pt x="804" y="1366"/>
                  </a:lnTo>
                  <a:lnTo>
                    <a:pt x="814" y="1356"/>
                  </a:lnTo>
                  <a:lnTo>
                    <a:pt x="814" y="1341"/>
                  </a:lnTo>
                  <a:lnTo>
                    <a:pt x="820" y="1327"/>
                  </a:lnTo>
                  <a:lnTo>
                    <a:pt x="825" y="1317"/>
                  </a:lnTo>
                  <a:lnTo>
                    <a:pt x="830" y="1302"/>
                  </a:lnTo>
                  <a:lnTo>
                    <a:pt x="835" y="1292"/>
                  </a:lnTo>
                  <a:lnTo>
                    <a:pt x="840" y="1277"/>
                  </a:lnTo>
                  <a:lnTo>
                    <a:pt x="845" y="1263"/>
                  </a:lnTo>
                  <a:lnTo>
                    <a:pt x="850" y="1253"/>
                  </a:lnTo>
                  <a:lnTo>
                    <a:pt x="855" y="1238"/>
                  </a:lnTo>
                  <a:lnTo>
                    <a:pt x="860" y="1228"/>
                  </a:lnTo>
                  <a:lnTo>
                    <a:pt x="865" y="1213"/>
                  </a:lnTo>
                  <a:lnTo>
                    <a:pt x="870" y="1198"/>
                  </a:lnTo>
                  <a:lnTo>
                    <a:pt x="870" y="1184"/>
                  </a:lnTo>
                  <a:lnTo>
                    <a:pt x="875" y="1174"/>
                  </a:lnTo>
                  <a:lnTo>
                    <a:pt x="880" y="1159"/>
                  </a:lnTo>
                  <a:lnTo>
                    <a:pt x="885" y="1149"/>
                  </a:lnTo>
                  <a:lnTo>
                    <a:pt x="890" y="1134"/>
                  </a:lnTo>
                  <a:lnTo>
                    <a:pt x="895" y="1119"/>
                  </a:lnTo>
                  <a:lnTo>
                    <a:pt x="900" y="1110"/>
                  </a:lnTo>
                  <a:lnTo>
                    <a:pt x="905" y="1095"/>
                  </a:lnTo>
                  <a:lnTo>
                    <a:pt x="905" y="1080"/>
                  </a:lnTo>
                  <a:lnTo>
                    <a:pt x="910" y="1070"/>
                  </a:lnTo>
                  <a:lnTo>
                    <a:pt x="915" y="1055"/>
                  </a:lnTo>
                  <a:lnTo>
                    <a:pt x="920" y="1046"/>
                  </a:lnTo>
                  <a:lnTo>
                    <a:pt x="925" y="1031"/>
                  </a:lnTo>
                  <a:lnTo>
                    <a:pt x="930" y="1016"/>
                  </a:lnTo>
                  <a:lnTo>
                    <a:pt x="935" y="1006"/>
                  </a:lnTo>
                  <a:lnTo>
                    <a:pt x="940" y="991"/>
                  </a:lnTo>
                  <a:lnTo>
                    <a:pt x="945" y="976"/>
                  </a:lnTo>
                  <a:lnTo>
                    <a:pt x="945" y="967"/>
                  </a:lnTo>
                  <a:lnTo>
                    <a:pt x="950" y="952"/>
                  </a:lnTo>
                  <a:lnTo>
                    <a:pt x="955" y="942"/>
                  </a:lnTo>
                  <a:lnTo>
                    <a:pt x="960" y="927"/>
                  </a:lnTo>
                  <a:lnTo>
                    <a:pt x="965" y="912"/>
                  </a:lnTo>
                  <a:lnTo>
                    <a:pt x="965" y="903"/>
                  </a:lnTo>
                  <a:lnTo>
                    <a:pt x="970" y="888"/>
                  </a:lnTo>
                  <a:lnTo>
                    <a:pt x="975" y="873"/>
                  </a:lnTo>
                  <a:lnTo>
                    <a:pt x="980" y="863"/>
                  </a:lnTo>
                  <a:lnTo>
                    <a:pt x="985" y="848"/>
                  </a:lnTo>
                  <a:lnTo>
                    <a:pt x="990" y="838"/>
                  </a:lnTo>
                  <a:lnTo>
                    <a:pt x="995" y="824"/>
                  </a:lnTo>
                  <a:lnTo>
                    <a:pt x="995" y="809"/>
                  </a:lnTo>
                  <a:lnTo>
                    <a:pt x="1000" y="799"/>
                  </a:lnTo>
                  <a:lnTo>
                    <a:pt x="1005" y="789"/>
                  </a:lnTo>
                  <a:lnTo>
                    <a:pt x="1010" y="774"/>
                  </a:lnTo>
                  <a:lnTo>
                    <a:pt x="1016" y="764"/>
                  </a:lnTo>
                  <a:lnTo>
                    <a:pt x="1021" y="750"/>
                  </a:lnTo>
                  <a:lnTo>
                    <a:pt x="1026" y="740"/>
                  </a:lnTo>
                  <a:lnTo>
                    <a:pt x="1031" y="725"/>
                  </a:lnTo>
                  <a:lnTo>
                    <a:pt x="1036" y="710"/>
                  </a:lnTo>
                  <a:lnTo>
                    <a:pt x="1036" y="700"/>
                  </a:lnTo>
                  <a:lnTo>
                    <a:pt x="1046" y="690"/>
                  </a:lnTo>
                  <a:lnTo>
                    <a:pt x="1051" y="676"/>
                  </a:lnTo>
                  <a:lnTo>
                    <a:pt x="1056" y="661"/>
                  </a:lnTo>
                  <a:lnTo>
                    <a:pt x="1061" y="646"/>
                  </a:lnTo>
                  <a:lnTo>
                    <a:pt x="1066" y="636"/>
                  </a:lnTo>
                  <a:lnTo>
                    <a:pt x="1071" y="621"/>
                  </a:lnTo>
                  <a:lnTo>
                    <a:pt x="1076" y="612"/>
                  </a:lnTo>
                  <a:lnTo>
                    <a:pt x="1081" y="597"/>
                  </a:lnTo>
                  <a:lnTo>
                    <a:pt x="1086" y="582"/>
                  </a:lnTo>
                  <a:lnTo>
                    <a:pt x="1091" y="567"/>
                  </a:lnTo>
                  <a:lnTo>
                    <a:pt x="1096" y="557"/>
                  </a:lnTo>
                  <a:lnTo>
                    <a:pt x="1101" y="543"/>
                  </a:lnTo>
                  <a:lnTo>
                    <a:pt x="1106" y="533"/>
                  </a:lnTo>
                  <a:lnTo>
                    <a:pt x="1111" y="518"/>
                  </a:lnTo>
                  <a:lnTo>
                    <a:pt x="1116" y="503"/>
                  </a:lnTo>
                  <a:lnTo>
                    <a:pt x="1121" y="488"/>
                  </a:lnTo>
                  <a:lnTo>
                    <a:pt x="1126" y="478"/>
                  </a:lnTo>
                  <a:lnTo>
                    <a:pt x="1131" y="464"/>
                  </a:lnTo>
                  <a:lnTo>
                    <a:pt x="1136" y="449"/>
                  </a:lnTo>
                  <a:lnTo>
                    <a:pt x="1146" y="434"/>
                  </a:lnTo>
                  <a:lnTo>
                    <a:pt x="1151" y="424"/>
                  </a:lnTo>
                  <a:lnTo>
                    <a:pt x="1151" y="409"/>
                  </a:lnTo>
                  <a:lnTo>
                    <a:pt x="1156" y="395"/>
                  </a:lnTo>
                  <a:lnTo>
                    <a:pt x="1161" y="380"/>
                  </a:lnTo>
                  <a:lnTo>
                    <a:pt x="1166" y="370"/>
                  </a:lnTo>
                  <a:lnTo>
                    <a:pt x="1171" y="355"/>
                  </a:lnTo>
                  <a:lnTo>
                    <a:pt x="1171" y="340"/>
                  </a:lnTo>
                  <a:lnTo>
                    <a:pt x="1176" y="326"/>
                  </a:lnTo>
                  <a:lnTo>
                    <a:pt x="1181" y="316"/>
                  </a:lnTo>
                  <a:lnTo>
                    <a:pt x="1186" y="301"/>
                  </a:lnTo>
                  <a:lnTo>
                    <a:pt x="1186" y="286"/>
                  </a:lnTo>
                  <a:lnTo>
                    <a:pt x="1191" y="271"/>
                  </a:lnTo>
                  <a:lnTo>
                    <a:pt x="1196" y="256"/>
                  </a:lnTo>
                  <a:lnTo>
                    <a:pt x="1196" y="242"/>
                  </a:lnTo>
                  <a:lnTo>
                    <a:pt x="1201" y="232"/>
                  </a:lnTo>
                  <a:lnTo>
                    <a:pt x="1201" y="217"/>
                  </a:lnTo>
                  <a:lnTo>
                    <a:pt x="1206" y="207"/>
                  </a:lnTo>
                  <a:lnTo>
                    <a:pt x="1206" y="192"/>
                  </a:lnTo>
                  <a:lnTo>
                    <a:pt x="1206" y="178"/>
                  </a:lnTo>
                  <a:lnTo>
                    <a:pt x="1206" y="163"/>
                  </a:lnTo>
                  <a:lnTo>
                    <a:pt x="1206" y="153"/>
                  </a:lnTo>
                  <a:lnTo>
                    <a:pt x="1206" y="138"/>
                  </a:lnTo>
                  <a:lnTo>
                    <a:pt x="1206" y="128"/>
                  </a:lnTo>
                  <a:lnTo>
                    <a:pt x="1206" y="113"/>
                  </a:lnTo>
                  <a:lnTo>
                    <a:pt x="1211" y="99"/>
                  </a:lnTo>
                  <a:lnTo>
                    <a:pt x="1206" y="89"/>
                  </a:lnTo>
                  <a:lnTo>
                    <a:pt x="1206" y="74"/>
                  </a:lnTo>
                  <a:lnTo>
                    <a:pt x="1206" y="59"/>
                  </a:lnTo>
                  <a:lnTo>
                    <a:pt x="1206" y="49"/>
                  </a:lnTo>
                  <a:lnTo>
                    <a:pt x="1201" y="35"/>
                  </a:lnTo>
                  <a:lnTo>
                    <a:pt x="1201" y="25"/>
                  </a:lnTo>
                  <a:lnTo>
                    <a:pt x="1196" y="15"/>
                  </a:lnTo>
                  <a:lnTo>
                    <a:pt x="1196" y="0"/>
                  </a:lnTo>
                  <a:lnTo>
                    <a:pt x="1191" y="5"/>
                  </a:lnTo>
                  <a:lnTo>
                    <a:pt x="1186" y="20"/>
                  </a:lnTo>
                  <a:lnTo>
                    <a:pt x="1181" y="30"/>
                  </a:lnTo>
                  <a:lnTo>
                    <a:pt x="1171" y="39"/>
                  </a:lnTo>
                  <a:lnTo>
                    <a:pt x="1166" y="49"/>
                  </a:lnTo>
                  <a:lnTo>
                    <a:pt x="1166" y="64"/>
                  </a:lnTo>
                  <a:lnTo>
                    <a:pt x="1156" y="74"/>
                  </a:lnTo>
                  <a:lnTo>
                    <a:pt x="1151" y="89"/>
                  </a:lnTo>
                  <a:lnTo>
                    <a:pt x="1146" y="99"/>
                  </a:lnTo>
                  <a:lnTo>
                    <a:pt x="1141" y="113"/>
                  </a:lnTo>
                  <a:lnTo>
                    <a:pt x="1136" y="128"/>
                  </a:lnTo>
                  <a:lnTo>
                    <a:pt x="1131" y="138"/>
                  </a:lnTo>
                  <a:lnTo>
                    <a:pt x="1101" y="113"/>
                  </a:lnTo>
                  <a:lnTo>
                    <a:pt x="1101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 flipV="1" rot="9362400">
              <a:off x="7469280" y="1258560"/>
              <a:ext cx="1332000" cy="3704040"/>
            </a:xfrm>
            <a:custGeom>
              <a:avLst/>
              <a:gdLst/>
              <a:ahLst/>
              <a:rect l="l" t="t" r="r" b="b"/>
              <a:pathLst>
                <a:path w="839" h="2333">
                  <a:moveTo>
                    <a:pt x="25" y="2323"/>
                  </a:moveTo>
                  <a:lnTo>
                    <a:pt x="407" y="1327"/>
                  </a:lnTo>
                  <a:lnTo>
                    <a:pt x="834" y="286"/>
                  </a:lnTo>
                  <a:lnTo>
                    <a:pt x="839" y="266"/>
                  </a:lnTo>
                  <a:lnTo>
                    <a:pt x="834" y="252"/>
                  </a:lnTo>
                  <a:lnTo>
                    <a:pt x="824" y="232"/>
                  </a:lnTo>
                  <a:lnTo>
                    <a:pt x="809" y="222"/>
                  </a:lnTo>
                  <a:lnTo>
                    <a:pt x="246" y="0"/>
                  </a:lnTo>
                  <a:lnTo>
                    <a:pt x="231" y="0"/>
                  </a:lnTo>
                  <a:lnTo>
                    <a:pt x="226" y="10"/>
                  </a:lnTo>
                  <a:lnTo>
                    <a:pt x="221" y="20"/>
                  </a:lnTo>
                  <a:lnTo>
                    <a:pt x="221" y="40"/>
                  </a:lnTo>
                  <a:lnTo>
                    <a:pt x="226" y="54"/>
                  </a:lnTo>
                  <a:lnTo>
                    <a:pt x="231" y="69"/>
                  </a:lnTo>
                  <a:lnTo>
                    <a:pt x="241" y="89"/>
                  </a:lnTo>
                  <a:lnTo>
                    <a:pt x="251" y="104"/>
                  </a:lnTo>
                  <a:lnTo>
                    <a:pt x="678" y="311"/>
                  </a:lnTo>
                  <a:lnTo>
                    <a:pt x="427" y="1056"/>
                  </a:lnTo>
                  <a:lnTo>
                    <a:pt x="0" y="2318"/>
                  </a:lnTo>
                  <a:lnTo>
                    <a:pt x="0" y="2328"/>
                  </a:lnTo>
                  <a:lnTo>
                    <a:pt x="5" y="2333"/>
                  </a:lnTo>
                  <a:lnTo>
                    <a:pt x="15" y="2328"/>
                  </a:lnTo>
                  <a:lnTo>
                    <a:pt x="25" y="2323"/>
                  </a:lnTo>
                  <a:lnTo>
                    <a:pt x="25" y="2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 rot="9362400">
              <a:off x="6784560" y="749160"/>
              <a:ext cx="1013400" cy="4540320"/>
            </a:xfrm>
            <a:custGeom>
              <a:avLst/>
              <a:gdLst/>
              <a:ahLst/>
              <a:rect l="l" t="t" r="r" b="b"/>
              <a:pathLst>
                <a:path w="638" h="2860">
                  <a:moveTo>
                    <a:pt x="337" y="2860"/>
                  </a:moveTo>
                  <a:lnTo>
                    <a:pt x="342" y="2825"/>
                  </a:lnTo>
                  <a:lnTo>
                    <a:pt x="347" y="2796"/>
                  </a:lnTo>
                  <a:lnTo>
                    <a:pt x="357" y="2761"/>
                  </a:lnTo>
                  <a:lnTo>
                    <a:pt x="362" y="2732"/>
                  </a:lnTo>
                  <a:lnTo>
                    <a:pt x="367" y="2697"/>
                  </a:lnTo>
                  <a:lnTo>
                    <a:pt x="377" y="2668"/>
                  </a:lnTo>
                  <a:lnTo>
                    <a:pt x="382" y="2638"/>
                  </a:lnTo>
                  <a:lnTo>
                    <a:pt x="392" y="2603"/>
                  </a:lnTo>
                  <a:lnTo>
                    <a:pt x="397" y="2574"/>
                  </a:lnTo>
                  <a:lnTo>
                    <a:pt x="402" y="2539"/>
                  </a:lnTo>
                  <a:lnTo>
                    <a:pt x="407" y="2510"/>
                  </a:lnTo>
                  <a:lnTo>
                    <a:pt x="417" y="2475"/>
                  </a:lnTo>
                  <a:lnTo>
                    <a:pt x="422" y="2446"/>
                  </a:lnTo>
                  <a:lnTo>
                    <a:pt x="427" y="2411"/>
                  </a:lnTo>
                  <a:lnTo>
                    <a:pt x="432" y="2382"/>
                  </a:lnTo>
                  <a:lnTo>
                    <a:pt x="442" y="2352"/>
                  </a:lnTo>
                  <a:lnTo>
                    <a:pt x="447" y="2317"/>
                  </a:lnTo>
                  <a:lnTo>
                    <a:pt x="452" y="2288"/>
                  </a:lnTo>
                  <a:lnTo>
                    <a:pt x="457" y="2253"/>
                  </a:lnTo>
                  <a:lnTo>
                    <a:pt x="462" y="2224"/>
                  </a:lnTo>
                  <a:lnTo>
                    <a:pt x="467" y="2189"/>
                  </a:lnTo>
                  <a:lnTo>
                    <a:pt x="477" y="2160"/>
                  </a:lnTo>
                  <a:lnTo>
                    <a:pt x="482" y="2125"/>
                  </a:lnTo>
                  <a:lnTo>
                    <a:pt x="487" y="2095"/>
                  </a:lnTo>
                  <a:lnTo>
                    <a:pt x="487" y="2061"/>
                  </a:lnTo>
                  <a:lnTo>
                    <a:pt x="497" y="2026"/>
                  </a:lnTo>
                  <a:lnTo>
                    <a:pt x="497" y="1997"/>
                  </a:lnTo>
                  <a:lnTo>
                    <a:pt x="502" y="1962"/>
                  </a:lnTo>
                  <a:lnTo>
                    <a:pt x="507" y="1933"/>
                  </a:lnTo>
                  <a:lnTo>
                    <a:pt x="512" y="1898"/>
                  </a:lnTo>
                  <a:lnTo>
                    <a:pt x="517" y="1869"/>
                  </a:lnTo>
                  <a:lnTo>
                    <a:pt x="528" y="1834"/>
                  </a:lnTo>
                  <a:lnTo>
                    <a:pt x="528" y="1805"/>
                  </a:lnTo>
                  <a:lnTo>
                    <a:pt x="533" y="1770"/>
                  </a:lnTo>
                  <a:lnTo>
                    <a:pt x="538" y="1735"/>
                  </a:lnTo>
                  <a:lnTo>
                    <a:pt x="543" y="1706"/>
                  </a:lnTo>
                  <a:lnTo>
                    <a:pt x="548" y="1671"/>
                  </a:lnTo>
                  <a:lnTo>
                    <a:pt x="548" y="1637"/>
                  </a:lnTo>
                  <a:lnTo>
                    <a:pt x="553" y="1607"/>
                  </a:lnTo>
                  <a:lnTo>
                    <a:pt x="558" y="1573"/>
                  </a:lnTo>
                  <a:lnTo>
                    <a:pt x="563" y="1543"/>
                  </a:lnTo>
                  <a:lnTo>
                    <a:pt x="563" y="1509"/>
                  </a:lnTo>
                  <a:lnTo>
                    <a:pt x="568" y="1474"/>
                  </a:lnTo>
                  <a:lnTo>
                    <a:pt x="573" y="1445"/>
                  </a:lnTo>
                  <a:lnTo>
                    <a:pt x="578" y="1410"/>
                  </a:lnTo>
                  <a:lnTo>
                    <a:pt x="578" y="1380"/>
                  </a:lnTo>
                  <a:lnTo>
                    <a:pt x="583" y="1346"/>
                  </a:lnTo>
                  <a:lnTo>
                    <a:pt x="588" y="1316"/>
                  </a:lnTo>
                  <a:lnTo>
                    <a:pt x="588" y="1282"/>
                  </a:lnTo>
                  <a:lnTo>
                    <a:pt x="593" y="1252"/>
                  </a:lnTo>
                  <a:lnTo>
                    <a:pt x="598" y="1218"/>
                  </a:lnTo>
                  <a:lnTo>
                    <a:pt x="603" y="1183"/>
                  </a:lnTo>
                  <a:lnTo>
                    <a:pt x="603" y="1154"/>
                  </a:lnTo>
                  <a:lnTo>
                    <a:pt x="608" y="1119"/>
                  </a:lnTo>
                  <a:lnTo>
                    <a:pt x="608" y="1089"/>
                  </a:lnTo>
                  <a:lnTo>
                    <a:pt x="613" y="1055"/>
                  </a:lnTo>
                  <a:lnTo>
                    <a:pt x="618" y="1025"/>
                  </a:lnTo>
                  <a:lnTo>
                    <a:pt x="618" y="991"/>
                  </a:lnTo>
                  <a:lnTo>
                    <a:pt x="623" y="956"/>
                  </a:lnTo>
                  <a:lnTo>
                    <a:pt x="628" y="927"/>
                  </a:lnTo>
                  <a:lnTo>
                    <a:pt x="628" y="892"/>
                  </a:lnTo>
                  <a:lnTo>
                    <a:pt x="633" y="863"/>
                  </a:lnTo>
                  <a:lnTo>
                    <a:pt x="633" y="833"/>
                  </a:lnTo>
                  <a:lnTo>
                    <a:pt x="638" y="798"/>
                  </a:lnTo>
                  <a:lnTo>
                    <a:pt x="638" y="784"/>
                  </a:lnTo>
                  <a:lnTo>
                    <a:pt x="638" y="769"/>
                  </a:lnTo>
                  <a:lnTo>
                    <a:pt x="638" y="754"/>
                  </a:lnTo>
                  <a:lnTo>
                    <a:pt x="638" y="739"/>
                  </a:lnTo>
                  <a:lnTo>
                    <a:pt x="638" y="725"/>
                  </a:lnTo>
                  <a:lnTo>
                    <a:pt x="638" y="710"/>
                  </a:lnTo>
                  <a:lnTo>
                    <a:pt x="638" y="695"/>
                  </a:lnTo>
                  <a:lnTo>
                    <a:pt x="638" y="680"/>
                  </a:lnTo>
                  <a:lnTo>
                    <a:pt x="638" y="660"/>
                  </a:lnTo>
                  <a:lnTo>
                    <a:pt x="638" y="651"/>
                  </a:lnTo>
                  <a:lnTo>
                    <a:pt x="638" y="631"/>
                  </a:lnTo>
                  <a:lnTo>
                    <a:pt x="638" y="616"/>
                  </a:lnTo>
                  <a:lnTo>
                    <a:pt x="633" y="601"/>
                  </a:lnTo>
                  <a:lnTo>
                    <a:pt x="633" y="586"/>
                  </a:lnTo>
                  <a:lnTo>
                    <a:pt x="633" y="572"/>
                  </a:lnTo>
                  <a:lnTo>
                    <a:pt x="633" y="557"/>
                  </a:lnTo>
                  <a:lnTo>
                    <a:pt x="628" y="537"/>
                  </a:lnTo>
                  <a:lnTo>
                    <a:pt x="623" y="522"/>
                  </a:lnTo>
                  <a:lnTo>
                    <a:pt x="618" y="508"/>
                  </a:lnTo>
                  <a:lnTo>
                    <a:pt x="618" y="493"/>
                  </a:lnTo>
                  <a:lnTo>
                    <a:pt x="613" y="473"/>
                  </a:lnTo>
                  <a:lnTo>
                    <a:pt x="608" y="458"/>
                  </a:lnTo>
                  <a:lnTo>
                    <a:pt x="603" y="443"/>
                  </a:lnTo>
                  <a:lnTo>
                    <a:pt x="603" y="429"/>
                  </a:lnTo>
                  <a:lnTo>
                    <a:pt x="598" y="414"/>
                  </a:lnTo>
                  <a:lnTo>
                    <a:pt x="588" y="399"/>
                  </a:lnTo>
                  <a:lnTo>
                    <a:pt x="583" y="384"/>
                  </a:lnTo>
                  <a:lnTo>
                    <a:pt x="578" y="369"/>
                  </a:lnTo>
                  <a:lnTo>
                    <a:pt x="573" y="350"/>
                  </a:lnTo>
                  <a:lnTo>
                    <a:pt x="568" y="335"/>
                  </a:lnTo>
                  <a:lnTo>
                    <a:pt x="558" y="320"/>
                  </a:lnTo>
                  <a:lnTo>
                    <a:pt x="553" y="310"/>
                  </a:lnTo>
                  <a:lnTo>
                    <a:pt x="543" y="295"/>
                  </a:lnTo>
                  <a:lnTo>
                    <a:pt x="533" y="281"/>
                  </a:lnTo>
                  <a:lnTo>
                    <a:pt x="528" y="266"/>
                  </a:lnTo>
                  <a:lnTo>
                    <a:pt x="517" y="251"/>
                  </a:lnTo>
                  <a:lnTo>
                    <a:pt x="502" y="236"/>
                  </a:lnTo>
                  <a:lnTo>
                    <a:pt x="497" y="226"/>
                  </a:lnTo>
                  <a:lnTo>
                    <a:pt x="482" y="212"/>
                  </a:lnTo>
                  <a:lnTo>
                    <a:pt x="477" y="202"/>
                  </a:lnTo>
                  <a:lnTo>
                    <a:pt x="462" y="187"/>
                  </a:lnTo>
                  <a:lnTo>
                    <a:pt x="452" y="172"/>
                  </a:lnTo>
                  <a:lnTo>
                    <a:pt x="437" y="162"/>
                  </a:lnTo>
                  <a:lnTo>
                    <a:pt x="427" y="152"/>
                  </a:lnTo>
                  <a:lnTo>
                    <a:pt x="412" y="138"/>
                  </a:lnTo>
                  <a:lnTo>
                    <a:pt x="397" y="128"/>
                  </a:lnTo>
                  <a:lnTo>
                    <a:pt x="382" y="118"/>
                  </a:lnTo>
                  <a:lnTo>
                    <a:pt x="367" y="108"/>
                  </a:lnTo>
                  <a:lnTo>
                    <a:pt x="352" y="98"/>
                  </a:lnTo>
                  <a:lnTo>
                    <a:pt x="332" y="88"/>
                  </a:lnTo>
                  <a:lnTo>
                    <a:pt x="316" y="78"/>
                  </a:lnTo>
                  <a:lnTo>
                    <a:pt x="301" y="69"/>
                  </a:lnTo>
                  <a:lnTo>
                    <a:pt x="281" y="59"/>
                  </a:lnTo>
                  <a:lnTo>
                    <a:pt x="261" y="54"/>
                  </a:lnTo>
                  <a:lnTo>
                    <a:pt x="246" y="44"/>
                  </a:lnTo>
                  <a:lnTo>
                    <a:pt x="226" y="39"/>
                  </a:lnTo>
                  <a:lnTo>
                    <a:pt x="201" y="34"/>
                  </a:lnTo>
                  <a:lnTo>
                    <a:pt x="181" y="24"/>
                  </a:lnTo>
                  <a:lnTo>
                    <a:pt x="161" y="19"/>
                  </a:lnTo>
                  <a:lnTo>
                    <a:pt x="141" y="14"/>
                  </a:lnTo>
                  <a:lnTo>
                    <a:pt x="115" y="9"/>
                  </a:lnTo>
                  <a:lnTo>
                    <a:pt x="95" y="5"/>
                  </a:lnTo>
                  <a:lnTo>
                    <a:pt x="70" y="5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0" y="14"/>
                  </a:lnTo>
                  <a:lnTo>
                    <a:pt x="10" y="29"/>
                  </a:lnTo>
                  <a:lnTo>
                    <a:pt x="15" y="39"/>
                  </a:lnTo>
                  <a:lnTo>
                    <a:pt x="25" y="49"/>
                  </a:lnTo>
                  <a:lnTo>
                    <a:pt x="30" y="54"/>
                  </a:lnTo>
                  <a:lnTo>
                    <a:pt x="40" y="59"/>
                  </a:lnTo>
                  <a:lnTo>
                    <a:pt x="50" y="69"/>
                  </a:lnTo>
                  <a:lnTo>
                    <a:pt x="60" y="74"/>
                  </a:lnTo>
                  <a:lnTo>
                    <a:pt x="70" y="78"/>
                  </a:lnTo>
                  <a:lnTo>
                    <a:pt x="85" y="88"/>
                  </a:lnTo>
                  <a:lnTo>
                    <a:pt x="100" y="93"/>
                  </a:lnTo>
                  <a:lnTo>
                    <a:pt x="115" y="103"/>
                  </a:lnTo>
                  <a:lnTo>
                    <a:pt x="131" y="108"/>
                  </a:lnTo>
                  <a:lnTo>
                    <a:pt x="151" y="118"/>
                  </a:lnTo>
                  <a:lnTo>
                    <a:pt x="161" y="123"/>
                  </a:lnTo>
                  <a:lnTo>
                    <a:pt x="171" y="128"/>
                  </a:lnTo>
                  <a:lnTo>
                    <a:pt x="181" y="133"/>
                  </a:lnTo>
                  <a:lnTo>
                    <a:pt x="191" y="138"/>
                  </a:lnTo>
                  <a:lnTo>
                    <a:pt x="211" y="148"/>
                  </a:lnTo>
                  <a:lnTo>
                    <a:pt x="231" y="157"/>
                  </a:lnTo>
                  <a:lnTo>
                    <a:pt x="251" y="167"/>
                  </a:lnTo>
                  <a:lnTo>
                    <a:pt x="271" y="182"/>
                  </a:lnTo>
                  <a:lnTo>
                    <a:pt x="286" y="192"/>
                  </a:lnTo>
                  <a:lnTo>
                    <a:pt x="301" y="202"/>
                  </a:lnTo>
                  <a:lnTo>
                    <a:pt x="322" y="217"/>
                  </a:lnTo>
                  <a:lnTo>
                    <a:pt x="337" y="231"/>
                  </a:lnTo>
                  <a:lnTo>
                    <a:pt x="352" y="246"/>
                  </a:lnTo>
                  <a:lnTo>
                    <a:pt x="367" y="261"/>
                  </a:lnTo>
                  <a:lnTo>
                    <a:pt x="377" y="271"/>
                  </a:lnTo>
                  <a:lnTo>
                    <a:pt x="392" y="291"/>
                  </a:lnTo>
                  <a:lnTo>
                    <a:pt x="402" y="305"/>
                  </a:lnTo>
                  <a:lnTo>
                    <a:pt x="412" y="320"/>
                  </a:lnTo>
                  <a:lnTo>
                    <a:pt x="422" y="335"/>
                  </a:lnTo>
                  <a:lnTo>
                    <a:pt x="432" y="355"/>
                  </a:lnTo>
                  <a:lnTo>
                    <a:pt x="442" y="374"/>
                  </a:lnTo>
                  <a:lnTo>
                    <a:pt x="447" y="389"/>
                  </a:lnTo>
                  <a:lnTo>
                    <a:pt x="457" y="409"/>
                  </a:lnTo>
                  <a:lnTo>
                    <a:pt x="462" y="429"/>
                  </a:lnTo>
                  <a:lnTo>
                    <a:pt x="467" y="443"/>
                  </a:lnTo>
                  <a:lnTo>
                    <a:pt x="477" y="463"/>
                  </a:lnTo>
                  <a:lnTo>
                    <a:pt x="482" y="483"/>
                  </a:lnTo>
                  <a:lnTo>
                    <a:pt x="487" y="503"/>
                  </a:lnTo>
                  <a:lnTo>
                    <a:pt x="487" y="522"/>
                  </a:lnTo>
                  <a:lnTo>
                    <a:pt x="492" y="542"/>
                  </a:lnTo>
                  <a:lnTo>
                    <a:pt x="492" y="562"/>
                  </a:lnTo>
                  <a:lnTo>
                    <a:pt x="497" y="582"/>
                  </a:lnTo>
                  <a:lnTo>
                    <a:pt x="497" y="601"/>
                  </a:lnTo>
                  <a:lnTo>
                    <a:pt x="502" y="626"/>
                  </a:lnTo>
                  <a:lnTo>
                    <a:pt x="502" y="646"/>
                  </a:lnTo>
                  <a:lnTo>
                    <a:pt x="502" y="670"/>
                  </a:lnTo>
                  <a:lnTo>
                    <a:pt x="502" y="690"/>
                  </a:lnTo>
                  <a:lnTo>
                    <a:pt x="502" y="710"/>
                  </a:lnTo>
                  <a:lnTo>
                    <a:pt x="502" y="729"/>
                  </a:lnTo>
                  <a:lnTo>
                    <a:pt x="502" y="754"/>
                  </a:lnTo>
                  <a:lnTo>
                    <a:pt x="502" y="774"/>
                  </a:lnTo>
                  <a:lnTo>
                    <a:pt x="502" y="794"/>
                  </a:lnTo>
                  <a:lnTo>
                    <a:pt x="497" y="818"/>
                  </a:lnTo>
                  <a:lnTo>
                    <a:pt x="497" y="838"/>
                  </a:lnTo>
                  <a:lnTo>
                    <a:pt x="497" y="863"/>
                  </a:lnTo>
                  <a:lnTo>
                    <a:pt x="492" y="882"/>
                  </a:lnTo>
                  <a:lnTo>
                    <a:pt x="487" y="902"/>
                  </a:lnTo>
                  <a:lnTo>
                    <a:pt x="487" y="927"/>
                  </a:lnTo>
                  <a:lnTo>
                    <a:pt x="482" y="946"/>
                  </a:lnTo>
                  <a:lnTo>
                    <a:pt x="482" y="971"/>
                  </a:lnTo>
                  <a:lnTo>
                    <a:pt x="477" y="991"/>
                  </a:lnTo>
                  <a:lnTo>
                    <a:pt x="477" y="1015"/>
                  </a:lnTo>
                  <a:lnTo>
                    <a:pt x="472" y="1035"/>
                  </a:lnTo>
                  <a:lnTo>
                    <a:pt x="467" y="1055"/>
                  </a:lnTo>
                  <a:lnTo>
                    <a:pt x="462" y="1080"/>
                  </a:lnTo>
                  <a:lnTo>
                    <a:pt x="462" y="1099"/>
                  </a:lnTo>
                  <a:lnTo>
                    <a:pt x="457" y="1119"/>
                  </a:lnTo>
                  <a:lnTo>
                    <a:pt x="452" y="1144"/>
                  </a:lnTo>
                  <a:lnTo>
                    <a:pt x="452" y="1163"/>
                  </a:lnTo>
                  <a:lnTo>
                    <a:pt x="447" y="1183"/>
                  </a:lnTo>
                  <a:lnTo>
                    <a:pt x="442" y="1203"/>
                  </a:lnTo>
                  <a:lnTo>
                    <a:pt x="442" y="1223"/>
                  </a:lnTo>
                  <a:lnTo>
                    <a:pt x="437" y="1242"/>
                  </a:lnTo>
                  <a:lnTo>
                    <a:pt x="432" y="1267"/>
                  </a:lnTo>
                  <a:lnTo>
                    <a:pt x="432" y="1287"/>
                  </a:lnTo>
                  <a:lnTo>
                    <a:pt x="427" y="1306"/>
                  </a:lnTo>
                  <a:lnTo>
                    <a:pt x="427" y="1326"/>
                  </a:lnTo>
                  <a:lnTo>
                    <a:pt x="422" y="1346"/>
                  </a:lnTo>
                  <a:lnTo>
                    <a:pt x="417" y="1366"/>
                  </a:lnTo>
                  <a:lnTo>
                    <a:pt x="417" y="1390"/>
                  </a:lnTo>
                  <a:lnTo>
                    <a:pt x="412" y="1415"/>
                  </a:lnTo>
                  <a:lnTo>
                    <a:pt x="407" y="1440"/>
                  </a:lnTo>
                  <a:lnTo>
                    <a:pt x="402" y="1459"/>
                  </a:lnTo>
                  <a:lnTo>
                    <a:pt x="402" y="1484"/>
                  </a:lnTo>
                  <a:lnTo>
                    <a:pt x="397" y="1509"/>
                  </a:lnTo>
                  <a:lnTo>
                    <a:pt x="397" y="1533"/>
                  </a:lnTo>
                  <a:lnTo>
                    <a:pt x="387" y="1553"/>
                  </a:lnTo>
                  <a:lnTo>
                    <a:pt x="387" y="1578"/>
                  </a:lnTo>
                  <a:lnTo>
                    <a:pt x="382" y="1602"/>
                  </a:lnTo>
                  <a:lnTo>
                    <a:pt x="382" y="1627"/>
                  </a:lnTo>
                  <a:lnTo>
                    <a:pt x="377" y="1647"/>
                  </a:lnTo>
                  <a:lnTo>
                    <a:pt x="372" y="1671"/>
                  </a:lnTo>
                  <a:lnTo>
                    <a:pt x="367" y="1696"/>
                  </a:lnTo>
                  <a:lnTo>
                    <a:pt x="367" y="1721"/>
                  </a:lnTo>
                  <a:lnTo>
                    <a:pt x="362" y="1740"/>
                  </a:lnTo>
                  <a:lnTo>
                    <a:pt x="362" y="1765"/>
                  </a:lnTo>
                  <a:lnTo>
                    <a:pt x="357" y="1790"/>
                  </a:lnTo>
                  <a:lnTo>
                    <a:pt x="352" y="1809"/>
                  </a:lnTo>
                  <a:lnTo>
                    <a:pt x="352" y="1834"/>
                  </a:lnTo>
                  <a:lnTo>
                    <a:pt x="347" y="1859"/>
                  </a:lnTo>
                  <a:lnTo>
                    <a:pt x="347" y="1883"/>
                  </a:lnTo>
                  <a:lnTo>
                    <a:pt x="342" y="1908"/>
                  </a:lnTo>
                  <a:lnTo>
                    <a:pt x="337" y="1928"/>
                  </a:lnTo>
                  <a:lnTo>
                    <a:pt x="337" y="1952"/>
                  </a:lnTo>
                  <a:lnTo>
                    <a:pt x="332" y="1977"/>
                  </a:lnTo>
                  <a:lnTo>
                    <a:pt x="332" y="2002"/>
                  </a:lnTo>
                  <a:lnTo>
                    <a:pt x="327" y="2026"/>
                  </a:lnTo>
                  <a:lnTo>
                    <a:pt x="327" y="2051"/>
                  </a:lnTo>
                  <a:lnTo>
                    <a:pt x="322" y="2071"/>
                  </a:lnTo>
                  <a:lnTo>
                    <a:pt x="322" y="2100"/>
                  </a:lnTo>
                  <a:lnTo>
                    <a:pt x="322" y="2120"/>
                  </a:lnTo>
                  <a:lnTo>
                    <a:pt x="316" y="2145"/>
                  </a:lnTo>
                  <a:lnTo>
                    <a:pt x="316" y="2169"/>
                  </a:lnTo>
                  <a:lnTo>
                    <a:pt x="311" y="2194"/>
                  </a:lnTo>
                  <a:lnTo>
                    <a:pt x="311" y="2214"/>
                  </a:lnTo>
                  <a:lnTo>
                    <a:pt x="311" y="2238"/>
                  </a:lnTo>
                  <a:lnTo>
                    <a:pt x="306" y="2263"/>
                  </a:lnTo>
                  <a:lnTo>
                    <a:pt x="306" y="2288"/>
                  </a:lnTo>
                  <a:lnTo>
                    <a:pt x="306" y="2308"/>
                  </a:lnTo>
                  <a:lnTo>
                    <a:pt x="306" y="2332"/>
                  </a:lnTo>
                  <a:lnTo>
                    <a:pt x="301" y="2357"/>
                  </a:lnTo>
                  <a:lnTo>
                    <a:pt x="301" y="2382"/>
                  </a:lnTo>
                  <a:lnTo>
                    <a:pt x="301" y="2406"/>
                  </a:lnTo>
                  <a:lnTo>
                    <a:pt x="301" y="2426"/>
                  </a:lnTo>
                  <a:lnTo>
                    <a:pt x="301" y="2451"/>
                  </a:lnTo>
                  <a:lnTo>
                    <a:pt x="301" y="2475"/>
                  </a:lnTo>
                  <a:lnTo>
                    <a:pt x="301" y="2500"/>
                  </a:lnTo>
                  <a:lnTo>
                    <a:pt x="301" y="2525"/>
                  </a:lnTo>
                  <a:lnTo>
                    <a:pt x="301" y="2549"/>
                  </a:lnTo>
                  <a:lnTo>
                    <a:pt x="301" y="2574"/>
                  </a:lnTo>
                  <a:lnTo>
                    <a:pt x="301" y="2594"/>
                  </a:lnTo>
                  <a:lnTo>
                    <a:pt x="306" y="2618"/>
                  </a:lnTo>
                  <a:lnTo>
                    <a:pt x="306" y="2643"/>
                  </a:lnTo>
                  <a:lnTo>
                    <a:pt x="311" y="2668"/>
                  </a:lnTo>
                  <a:lnTo>
                    <a:pt x="311" y="2692"/>
                  </a:lnTo>
                  <a:lnTo>
                    <a:pt x="311" y="2717"/>
                  </a:lnTo>
                  <a:lnTo>
                    <a:pt x="311" y="2737"/>
                  </a:lnTo>
                  <a:lnTo>
                    <a:pt x="316" y="2761"/>
                  </a:lnTo>
                  <a:lnTo>
                    <a:pt x="316" y="2786"/>
                  </a:lnTo>
                  <a:lnTo>
                    <a:pt x="322" y="2811"/>
                  </a:lnTo>
                  <a:lnTo>
                    <a:pt x="322" y="2835"/>
                  </a:lnTo>
                  <a:lnTo>
                    <a:pt x="332" y="2860"/>
                  </a:lnTo>
                  <a:lnTo>
                    <a:pt x="332" y="2860"/>
                  </a:lnTo>
                  <a:lnTo>
                    <a:pt x="337" y="2860"/>
                  </a:lnTo>
                  <a:lnTo>
                    <a:pt x="337" y="28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 flipV="1" rot="9362400">
              <a:off x="374400" y="785160"/>
              <a:ext cx="6397920" cy="4610160"/>
            </a:xfrm>
            <a:custGeom>
              <a:avLst/>
              <a:gdLst/>
              <a:ahLst/>
              <a:rect l="l" t="t" r="r" b="b"/>
              <a:pathLst>
                <a:path w="4030" h="2904">
                  <a:moveTo>
                    <a:pt x="4020" y="991"/>
                  </a:moveTo>
                  <a:lnTo>
                    <a:pt x="3990" y="971"/>
                  </a:lnTo>
                  <a:lnTo>
                    <a:pt x="3964" y="961"/>
                  </a:lnTo>
                  <a:lnTo>
                    <a:pt x="3934" y="946"/>
                  </a:lnTo>
                  <a:lnTo>
                    <a:pt x="3904" y="932"/>
                  </a:lnTo>
                  <a:lnTo>
                    <a:pt x="3874" y="922"/>
                  </a:lnTo>
                  <a:lnTo>
                    <a:pt x="3849" y="907"/>
                  </a:lnTo>
                  <a:lnTo>
                    <a:pt x="3819" y="892"/>
                  </a:lnTo>
                  <a:lnTo>
                    <a:pt x="3789" y="882"/>
                  </a:lnTo>
                  <a:lnTo>
                    <a:pt x="3758" y="872"/>
                  </a:lnTo>
                  <a:lnTo>
                    <a:pt x="3733" y="858"/>
                  </a:lnTo>
                  <a:lnTo>
                    <a:pt x="3698" y="843"/>
                  </a:lnTo>
                  <a:lnTo>
                    <a:pt x="3673" y="833"/>
                  </a:lnTo>
                  <a:lnTo>
                    <a:pt x="3638" y="823"/>
                  </a:lnTo>
                  <a:lnTo>
                    <a:pt x="3613" y="813"/>
                  </a:lnTo>
                  <a:lnTo>
                    <a:pt x="3583" y="803"/>
                  </a:lnTo>
                  <a:lnTo>
                    <a:pt x="3552" y="789"/>
                  </a:lnTo>
                  <a:lnTo>
                    <a:pt x="3522" y="779"/>
                  </a:lnTo>
                  <a:lnTo>
                    <a:pt x="3492" y="769"/>
                  </a:lnTo>
                  <a:lnTo>
                    <a:pt x="3457" y="759"/>
                  </a:lnTo>
                  <a:lnTo>
                    <a:pt x="3432" y="744"/>
                  </a:lnTo>
                  <a:lnTo>
                    <a:pt x="3397" y="734"/>
                  </a:lnTo>
                  <a:lnTo>
                    <a:pt x="3366" y="724"/>
                  </a:lnTo>
                  <a:lnTo>
                    <a:pt x="3336" y="715"/>
                  </a:lnTo>
                  <a:lnTo>
                    <a:pt x="3306" y="710"/>
                  </a:lnTo>
                  <a:lnTo>
                    <a:pt x="3276" y="695"/>
                  </a:lnTo>
                  <a:lnTo>
                    <a:pt x="3246" y="690"/>
                  </a:lnTo>
                  <a:lnTo>
                    <a:pt x="3216" y="680"/>
                  </a:lnTo>
                  <a:lnTo>
                    <a:pt x="3186" y="670"/>
                  </a:lnTo>
                  <a:lnTo>
                    <a:pt x="3150" y="660"/>
                  </a:lnTo>
                  <a:lnTo>
                    <a:pt x="3120" y="650"/>
                  </a:lnTo>
                  <a:lnTo>
                    <a:pt x="3090" y="641"/>
                  </a:lnTo>
                  <a:lnTo>
                    <a:pt x="3060" y="636"/>
                  </a:lnTo>
                  <a:lnTo>
                    <a:pt x="3030" y="626"/>
                  </a:lnTo>
                  <a:lnTo>
                    <a:pt x="3000" y="616"/>
                  </a:lnTo>
                  <a:lnTo>
                    <a:pt x="2964" y="606"/>
                  </a:lnTo>
                  <a:lnTo>
                    <a:pt x="2934" y="596"/>
                  </a:lnTo>
                  <a:lnTo>
                    <a:pt x="2904" y="586"/>
                  </a:lnTo>
                  <a:lnTo>
                    <a:pt x="2869" y="581"/>
                  </a:lnTo>
                  <a:lnTo>
                    <a:pt x="2839" y="572"/>
                  </a:lnTo>
                  <a:lnTo>
                    <a:pt x="2809" y="562"/>
                  </a:lnTo>
                  <a:lnTo>
                    <a:pt x="2778" y="552"/>
                  </a:lnTo>
                  <a:lnTo>
                    <a:pt x="2748" y="547"/>
                  </a:lnTo>
                  <a:lnTo>
                    <a:pt x="2713" y="537"/>
                  </a:lnTo>
                  <a:lnTo>
                    <a:pt x="2683" y="532"/>
                  </a:lnTo>
                  <a:lnTo>
                    <a:pt x="2653" y="522"/>
                  </a:lnTo>
                  <a:lnTo>
                    <a:pt x="2618" y="512"/>
                  </a:lnTo>
                  <a:lnTo>
                    <a:pt x="2588" y="503"/>
                  </a:lnTo>
                  <a:lnTo>
                    <a:pt x="2557" y="498"/>
                  </a:lnTo>
                  <a:lnTo>
                    <a:pt x="2522" y="488"/>
                  </a:lnTo>
                  <a:lnTo>
                    <a:pt x="2497" y="478"/>
                  </a:lnTo>
                  <a:lnTo>
                    <a:pt x="2462" y="468"/>
                  </a:lnTo>
                  <a:lnTo>
                    <a:pt x="2432" y="463"/>
                  </a:lnTo>
                  <a:lnTo>
                    <a:pt x="2402" y="453"/>
                  </a:lnTo>
                  <a:lnTo>
                    <a:pt x="2371" y="448"/>
                  </a:lnTo>
                  <a:lnTo>
                    <a:pt x="2341" y="438"/>
                  </a:lnTo>
                  <a:lnTo>
                    <a:pt x="2311" y="429"/>
                  </a:lnTo>
                  <a:lnTo>
                    <a:pt x="2281" y="419"/>
                  </a:lnTo>
                  <a:lnTo>
                    <a:pt x="2251" y="414"/>
                  </a:lnTo>
                  <a:lnTo>
                    <a:pt x="2216" y="404"/>
                  </a:lnTo>
                  <a:lnTo>
                    <a:pt x="2185" y="399"/>
                  </a:lnTo>
                  <a:lnTo>
                    <a:pt x="2155" y="389"/>
                  </a:lnTo>
                  <a:lnTo>
                    <a:pt x="2130" y="379"/>
                  </a:lnTo>
                  <a:lnTo>
                    <a:pt x="2095" y="369"/>
                  </a:lnTo>
                  <a:lnTo>
                    <a:pt x="2070" y="364"/>
                  </a:lnTo>
                  <a:lnTo>
                    <a:pt x="2045" y="355"/>
                  </a:lnTo>
                  <a:lnTo>
                    <a:pt x="2020" y="350"/>
                  </a:lnTo>
                  <a:lnTo>
                    <a:pt x="2000" y="340"/>
                  </a:lnTo>
                  <a:lnTo>
                    <a:pt x="1974" y="335"/>
                  </a:lnTo>
                  <a:lnTo>
                    <a:pt x="1949" y="325"/>
                  </a:lnTo>
                  <a:lnTo>
                    <a:pt x="1924" y="320"/>
                  </a:lnTo>
                  <a:lnTo>
                    <a:pt x="1899" y="310"/>
                  </a:lnTo>
                  <a:lnTo>
                    <a:pt x="1879" y="300"/>
                  </a:lnTo>
                  <a:lnTo>
                    <a:pt x="1849" y="290"/>
                  </a:lnTo>
                  <a:lnTo>
                    <a:pt x="1824" y="286"/>
                  </a:lnTo>
                  <a:lnTo>
                    <a:pt x="1799" y="271"/>
                  </a:lnTo>
                  <a:lnTo>
                    <a:pt x="1773" y="266"/>
                  </a:lnTo>
                  <a:lnTo>
                    <a:pt x="1748" y="256"/>
                  </a:lnTo>
                  <a:lnTo>
                    <a:pt x="1718" y="246"/>
                  </a:lnTo>
                  <a:lnTo>
                    <a:pt x="1693" y="236"/>
                  </a:lnTo>
                  <a:lnTo>
                    <a:pt x="1668" y="226"/>
                  </a:lnTo>
                  <a:lnTo>
                    <a:pt x="1643" y="217"/>
                  </a:lnTo>
                  <a:lnTo>
                    <a:pt x="1613" y="207"/>
                  </a:lnTo>
                  <a:lnTo>
                    <a:pt x="1582" y="197"/>
                  </a:lnTo>
                  <a:lnTo>
                    <a:pt x="1557" y="192"/>
                  </a:lnTo>
                  <a:lnTo>
                    <a:pt x="1527" y="177"/>
                  </a:lnTo>
                  <a:lnTo>
                    <a:pt x="1502" y="172"/>
                  </a:lnTo>
                  <a:lnTo>
                    <a:pt x="1472" y="162"/>
                  </a:lnTo>
                  <a:lnTo>
                    <a:pt x="1447" y="152"/>
                  </a:lnTo>
                  <a:lnTo>
                    <a:pt x="1417" y="143"/>
                  </a:lnTo>
                  <a:lnTo>
                    <a:pt x="1386" y="133"/>
                  </a:lnTo>
                  <a:lnTo>
                    <a:pt x="1361" y="123"/>
                  </a:lnTo>
                  <a:lnTo>
                    <a:pt x="1331" y="113"/>
                  </a:lnTo>
                  <a:lnTo>
                    <a:pt x="1301" y="108"/>
                  </a:lnTo>
                  <a:lnTo>
                    <a:pt x="1276" y="98"/>
                  </a:lnTo>
                  <a:lnTo>
                    <a:pt x="1246" y="88"/>
                  </a:lnTo>
                  <a:lnTo>
                    <a:pt x="1216" y="83"/>
                  </a:lnTo>
                  <a:lnTo>
                    <a:pt x="1185" y="74"/>
                  </a:lnTo>
                  <a:lnTo>
                    <a:pt x="1160" y="69"/>
                  </a:lnTo>
                  <a:lnTo>
                    <a:pt x="1130" y="59"/>
                  </a:lnTo>
                  <a:lnTo>
                    <a:pt x="1100" y="54"/>
                  </a:lnTo>
                  <a:lnTo>
                    <a:pt x="1070" y="44"/>
                  </a:lnTo>
                  <a:lnTo>
                    <a:pt x="1045" y="39"/>
                  </a:lnTo>
                  <a:lnTo>
                    <a:pt x="1015" y="34"/>
                  </a:lnTo>
                  <a:lnTo>
                    <a:pt x="984" y="29"/>
                  </a:lnTo>
                  <a:lnTo>
                    <a:pt x="959" y="24"/>
                  </a:lnTo>
                  <a:lnTo>
                    <a:pt x="929" y="19"/>
                  </a:lnTo>
                  <a:lnTo>
                    <a:pt x="899" y="14"/>
                  </a:lnTo>
                  <a:lnTo>
                    <a:pt x="869" y="14"/>
                  </a:lnTo>
                  <a:lnTo>
                    <a:pt x="844" y="9"/>
                  </a:lnTo>
                  <a:lnTo>
                    <a:pt x="814" y="4"/>
                  </a:lnTo>
                  <a:lnTo>
                    <a:pt x="788" y="4"/>
                  </a:lnTo>
                  <a:lnTo>
                    <a:pt x="763" y="4"/>
                  </a:lnTo>
                  <a:lnTo>
                    <a:pt x="733" y="0"/>
                  </a:lnTo>
                  <a:lnTo>
                    <a:pt x="708" y="0"/>
                  </a:lnTo>
                  <a:lnTo>
                    <a:pt x="678" y="0"/>
                  </a:lnTo>
                  <a:lnTo>
                    <a:pt x="653" y="0"/>
                  </a:lnTo>
                  <a:lnTo>
                    <a:pt x="623" y="0"/>
                  </a:lnTo>
                  <a:lnTo>
                    <a:pt x="598" y="4"/>
                  </a:lnTo>
                  <a:lnTo>
                    <a:pt x="572" y="4"/>
                  </a:lnTo>
                  <a:lnTo>
                    <a:pt x="547" y="9"/>
                  </a:lnTo>
                  <a:lnTo>
                    <a:pt x="517" y="14"/>
                  </a:lnTo>
                  <a:lnTo>
                    <a:pt x="497" y="19"/>
                  </a:lnTo>
                  <a:lnTo>
                    <a:pt x="467" y="24"/>
                  </a:lnTo>
                  <a:lnTo>
                    <a:pt x="447" y="29"/>
                  </a:lnTo>
                  <a:lnTo>
                    <a:pt x="417" y="34"/>
                  </a:lnTo>
                  <a:lnTo>
                    <a:pt x="397" y="44"/>
                  </a:lnTo>
                  <a:lnTo>
                    <a:pt x="371" y="54"/>
                  </a:lnTo>
                  <a:lnTo>
                    <a:pt x="351" y="64"/>
                  </a:lnTo>
                  <a:lnTo>
                    <a:pt x="331" y="69"/>
                  </a:lnTo>
                  <a:lnTo>
                    <a:pt x="311" y="78"/>
                  </a:lnTo>
                  <a:lnTo>
                    <a:pt x="296" y="88"/>
                  </a:lnTo>
                  <a:lnTo>
                    <a:pt x="281" y="98"/>
                  </a:lnTo>
                  <a:lnTo>
                    <a:pt x="266" y="113"/>
                  </a:lnTo>
                  <a:lnTo>
                    <a:pt x="251" y="123"/>
                  </a:lnTo>
                  <a:lnTo>
                    <a:pt x="236" y="133"/>
                  </a:lnTo>
                  <a:lnTo>
                    <a:pt x="226" y="152"/>
                  </a:lnTo>
                  <a:lnTo>
                    <a:pt x="211" y="162"/>
                  </a:lnTo>
                  <a:lnTo>
                    <a:pt x="195" y="182"/>
                  </a:lnTo>
                  <a:lnTo>
                    <a:pt x="185" y="197"/>
                  </a:lnTo>
                  <a:lnTo>
                    <a:pt x="175" y="212"/>
                  </a:lnTo>
                  <a:lnTo>
                    <a:pt x="165" y="231"/>
                  </a:lnTo>
                  <a:lnTo>
                    <a:pt x="155" y="246"/>
                  </a:lnTo>
                  <a:lnTo>
                    <a:pt x="145" y="266"/>
                  </a:lnTo>
                  <a:lnTo>
                    <a:pt x="140" y="286"/>
                  </a:lnTo>
                  <a:lnTo>
                    <a:pt x="130" y="305"/>
                  </a:lnTo>
                  <a:lnTo>
                    <a:pt x="125" y="325"/>
                  </a:lnTo>
                  <a:lnTo>
                    <a:pt x="115" y="345"/>
                  </a:lnTo>
                  <a:lnTo>
                    <a:pt x="110" y="369"/>
                  </a:lnTo>
                  <a:lnTo>
                    <a:pt x="100" y="389"/>
                  </a:lnTo>
                  <a:lnTo>
                    <a:pt x="95" y="409"/>
                  </a:lnTo>
                  <a:lnTo>
                    <a:pt x="90" y="434"/>
                  </a:lnTo>
                  <a:lnTo>
                    <a:pt x="90" y="453"/>
                  </a:lnTo>
                  <a:lnTo>
                    <a:pt x="80" y="473"/>
                  </a:lnTo>
                  <a:lnTo>
                    <a:pt x="75" y="498"/>
                  </a:lnTo>
                  <a:lnTo>
                    <a:pt x="75" y="522"/>
                  </a:lnTo>
                  <a:lnTo>
                    <a:pt x="70" y="547"/>
                  </a:lnTo>
                  <a:lnTo>
                    <a:pt x="65" y="567"/>
                  </a:lnTo>
                  <a:lnTo>
                    <a:pt x="65" y="596"/>
                  </a:lnTo>
                  <a:lnTo>
                    <a:pt x="65" y="616"/>
                  </a:lnTo>
                  <a:lnTo>
                    <a:pt x="65" y="646"/>
                  </a:lnTo>
                  <a:lnTo>
                    <a:pt x="60" y="665"/>
                  </a:lnTo>
                  <a:lnTo>
                    <a:pt x="60" y="690"/>
                  </a:lnTo>
                  <a:lnTo>
                    <a:pt x="55" y="715"/>
                  </a:lnTo>
                  <a:lnTo>
                    <a:pt x="55" y="739"/>
                  </a:lnTo>
                  <a:lnTo>
                    <a:pt x="55" y="764"/>
                  </a:lnTo>
                  <a:lnTo>
                    <a:pt x="55" y="789"/>
                  </a:lnTo>
                  <a:lnTo>
                    <a:pt x="55" y="808"/>
                  </a:lnTo>
                  <a:lnTo>
                    <a:pt x="55" y="838"/>
                  </a:lnTo>
                  <a:lnTo>
                    <a:pt x="55" y="858"/>
                  </a:lnTo>
                  <a:lnTo>
                    <a:pt x="55" y="882"/>
                  </a:lnTo>
                  <a:lnTo>
                    <a:pt x="55" y="907"/>
                  </a:lnTo>
                  <a:lnTo>
                    <a:pt x="60" y="932"/>
                  </a:lnTo>
                  <a:lnTo>
                    <a:pt x="60" y="951"/>
                  </a:lnTo>
                  <a:lnTo>
                    <a:pt x="60" y="976"/>
                  </a:lnTo>
                  <a:lnTo>
                    <a:pt x="60" y="1001"/>
                  </a:lnTo>
                  <a:lnTo>
                    <a:pt x="65" y="1025"/>
                  </a:lnTo>
                  <a:lnTo>
                    <a:pt x="65" y="1045"/>
                  </a:lnTo>
                  <a:lnTo>
                    <a:pt x="65" y="1065"/>
                  </a:lnTo>
                  <a:lnTo>
                    <a:pt x="65" y="1089"/>
                  </a:lnTo>
                  <a:lnTo>
                    <a:pt x="65" y="1109"/>
                  </a:lnTo>
                  <a:lnTo>
                    <a:pt x="65" y="1129"/>
                  </a:lnTo>
                  <a:lnTo>
                    <a:pt x="70" y="1154"/>
                  </a:lnTo>
                  <a:lnTo>
                    <a:pt x="70" y="1173"/>
                  </a:lnTo>
                  <a:lnTo>
                    <a:pt x="75" y="1193"/>
                  </a:lnTo>
                  <a:lnTo>
                    <a:pt x="75" y="1213"/>
                  </a:lnTo>
                  <a:lnTo>
                    <a:pt x="75" y="1227"/>
                  </a:lnTo>
                  <a:lnTo>
                    <a:pt x="75" y="1247"/>
                  </a:lnTo>
                  <a:lnTo>
                    <a:pt x="80" y="1262"/>
                  </a:lnTo>
                  <a:lnTo>
                    <a:pt x="80" y="1282"/>
                  </a:lnTo>
                  <a:lnTo>
                    <a:pt x="80" y="1297"/>
                  </a:lnTo>
                  <a:lnTo>
                    <a:pt x="80" y="1311"/>
                  </a:lnTo>
                  <a:lnTo>
                    <a:pt x="85" y="1326"/>
                  </a:lnTo>
                  <a:lnTo>
                    <a:pt x="85" y="1341"/>
                  </a:lnTo>
                  <a:lnTo>
                    <a:pt x="85" y="1361"/>
                  </a:lnTo>
                  <a:lnTo>
                    <a:pt x="85" y="1375"/>
                  </a:lnTo>
                  <a:lnTo>
                    <a:pt x="85" y="1390"/>
                  </a:lnTo>
                  <a:lnTo>
                    <a:pt x="85" y="1405"/>
                  </a:lnTo>
                  <a:lnTo>
                    <a:pt x="85" y="1425"/>
                  </a:lnTo>
                  <a:lnTo>
                    <a:pt x="85" y="1440"/>
                  </a:lnTo>
                  <a:lnTo>
                    <a:pt x="85" y="1454"/>
                  </a:lnTo>
                  <a:lnTo>
                    <a:pt x="85" y="1469"/>
                  </a:lnTo>
                  <a:lnTo>
                    <a:pt x="85" y="1489"/>
                  </a:lnTo>
                  <a:lnTo>
                    <a:pt x="85" y="1504"/>
                  </a:lnTo>
                  <a:lnTo>
                    <a:pt x="85" y="1518"/>
                  </a:lnTo>
                  <a:lnTo>
                    <a:pt x="85" y="1533"/>
                  </a:lnTo>
                  <a:lnTo>
                    <a:pt x="85" y="1548"/>
                  </a:lnTo>
                  <a:lnTo>
                    <a:pt x="85" y="1568"/>
                  </a:lnTo>
                  <a:lnTo>
                    <a:pt x="85" y="1583"/>
                  </a:lnTo>
                  <a:lnTo>
                    <a:pt x="85" y="1597"/>
                  </a:lnTo>
                  <a:lnTo>
                    <a:pt x="85" y="1612"/>
                  </a:lnTo>
                  <a:lnTo>
                    <a:pt x="85" y="1627"/>
                  </a:lnTo>
                  <a:lnTo>
                    <a:pt x="85" y="1647"/>
                  </a:lnTo>
                  <a:lnTo>
                    <a:pt x="80" y="1657"/>
                  </a:lnTo>
                  <a:lnTo>
                    <a:pt x="80" y="1676"/>
                  </a:lnTo>
                  <a:lnTo>
                    <a:pt x="80" y="1691"/>
                  </a:lnTo>
                  <a:lnTo>
                    <a:pt x="80" y="1706"/>
                  </a:lnTo>
                  <a:lnTo>
                    <a:pt x="80" y="1721"/>
                  </a:lnTo>
                  <a:lnTo>
                    <a:pt x="80" y="1735"/>
                  </a:lnTo>
                  <a:lnTo>
                    <a:pt x="80" y="1750"/>
                  </a:lnTo>
                  <a:lnTo>
                    <a:pt x="80" y="1770"/>
                  </a:lnTo>
                  <a:lnTo>
                    <a:pt x="75" y="1785"/>
                  </a:lnTo>
                  <a:lnTo>
                    <a:pt x="75" y="1800"/>
                  </a:lnTo>
                  <a:lnTo>
                    <a:pt x="75" y="1814"/>
                  </a:lnTo>
                  <a:lnTo>
                    <a:pt x="75" y="1834"/>
                  </a:lnTo>
                  <a:lnTo>
                    <a:pt x="75" y="1849"/>
                  </a:lnTo>
                  <a:lnTo>
                    <a:pt x="75" y="1864"/>
                  </a:lnTo>
                  <a:lnTo>
                    <a:pt x="70" y="1878"/>
                  </a:lnTo>
                  <a:lnTo>
                    <a:pt x="70" y="1893"/>
                  </a:lnTo>
                  <a:lnTo>
                    <a:pt x="70" y="1908"/>
                  </a:lnTo>
                  <a:lnTo>
                    <a:pt x="65" y="1923"/>
                  </a:lnTo>
                  <a:lnTo>
                    <a:pt x="65" y="1938"/>
                  </a:lnTo>
                  <a:lnTo>
                    <a:pt x="65" y="1957"/>
                  </a:lnTo>
                  <a:lnTo>
                    <a:pt x="65" y="1972"/>
                  </a:lnTo>
                  <a:lnTo>
                    <a:pt x="60" y="1987"/>
                  </a:lnTo>
                  <a:lnTo>
                    <a:pt x="60" y="2002"/>
                  </a:lnTo>
                  <a:lnTo>
                    <a:pt x="60" y="2017"/>
                  </a:lnTo>
                  <a:lnTo>
                    <a:pt x="60" y="2031"/>
                  </a:lnTo>
                  <a:lnTo>
                    <a:pt x="55" y="2046"/>
                  </a:lnTo>
                  <a:lnTo>
                    <a:pt x="55" y="2061"/>
                  </a:lnTo>
                  <a:lnTo>
                    <a:pt x="55" y="2081"/>
                  </a:lnTo>
                  <a:lnTo>
                    <a:pt x="50" y="2095"/>
                  </a:lnTo>
                  <a:lnTo>
                    <a:pt x="50" y="2110"/>
                  </a:lnTo>
                  <a:lnTo>
                    <a:pt x="45" y="2125"/>
                  </a:lnTo>
                  <a:lnTo>
                    <a:pt x="45" y="2140"/>
                  </a:lnTo>
                  <a:lnTo>
                    <a:pt x="40" y="2155"/>
                  </a:lnTo>
                  <a:lnTo>
                    <a:pt x="40" y="2169"/>
                  </a:lnTo>
                  <a:lnTo>
                    <a:pt x="40" y="2189"/>
                  </a:lnTo>
                  <a:lnTo>
                    <a:pt x="40" y="2204"/>
                  </a:lnTo>
                  <a:lnTo>
                    <a:pt x="35" y="2219"/>
                  </a:lnTo>
                  <a:lnTo>
                    <a:pt x="30" y="2234"/>
                  </a:lnTo>
                  <a:lnTo>
                    <a:pt x="30" y="2248"/>
                  </a:lnTo>
                  <a:lnTo>
                    <a:pt x="30" y="2268"/>
                  </a:lnTo>
                  <a:lnTo>
                    <a:pt x="25" y="2283"/>
                  </a:lnTo>
                  <a:lnTo>
                    <a:pt x="25" y="2298"/>
                  </a:lnTo>
                  <a:lnTo>
                    <a:pt x="20" y="2312"/>
                  </a:lnTo>
                  <a:lnTo>
                    <a:pt x="20" y="2332"/>
                  </a:lnTo>
                  <a:lnTo>
                    <a:pt x="15" y="2347"/>
                  </a:lnTo>
                  <a:lnTo>
                    <a:pt x="15" y="2362"/>
                  </a:lnTo>
                  <a:lnTo>
                    <a:pt x="10" y="2381"/>
                  </a:lnTo>
                  <a:lnTo>
                    <a:pt x="10" y="2401"/>
                  </a:lnTo>
                  <a:lnTo>
                    <a:pt x="5" y="2416"/>
                  </a:lnTo>
                  <a:lnTo>
                    <a:pt x="5" y="2436"/>
                  </a:lnTo>
                  <a:lnTo>
                    <a:pt x="0" y="2450"/>
                  </a:lnTo>
                  <a:lnTo>
                    <a:pt x="0" y="2470"/>
                  </a:lnTo>
                  <a:lnTo>
                    <a:pt x="0" y="2490"/>
                  </a:lnTo>
                  <a:lnTo>
                    <a:pt x="0" y="2505"/>
                  </a:lnTo>
                  <a:lnTo>
                    <a:pt x="0" y="2524"/>
                  </a:lnTo>
                  <a:lnTo>
                    <a:pt x="0" y="2539"/>
                  </a:lnTo>
                  <a:lnTo>
                    <a:pt x="0" y="2559"/>
                  </a:lnTo>
                  <a:lnTo>
                    <a:pt x="0" y="2574"/>
                  </a:lnTo>
                  <a:lnTo>
                    <a:pt x="0" y="2594"/>
                  </a:lnTo>
                  <a:lnTo>
                    <a:pt x="0" y="2613"/>
                  </a:lnTo>
                  <a:lnTo>
                    <a:pt x="0" y="2628"/>
                  </a:lnTo>
                  <a:lnTo>
                    <a:pt x="0" y="2643"/>
                  </a:lnTo>
                  <a:lnTo>
                    <a:pt x="5" y="2663"/>
                  </a:lnTo>
                  <a:lnTo>
                    <a:pt x="10" y="2677"/>
                  </a:lnTo>
                  <a:lnTo>
                    <a:pt x="10" y="2697"/>
                  </a:lnTo>
                  <a:lnTo>
                    <a:pt x="15" y="2717"/>
                  </a:lnTo>
                  <a:lnTo>
                    <a:pt x="20" y="2732"/>
                  </a:lnTo>
                  <a:lnTo>
                    <a:pt x="25" y="2751"/>
                  </a:lnTo>
                  <a:lnTo>
                    <a:pt x="30" y="2766"/>
                  </a:lnTo>
                  <a:lnTo>
                    <a:pt x="35" y="2781"/>
                  </a:lnTo>
                  <a:lnTo>
                    <a:pt x="40" y="2801"/>
                  </a:lnTo>
                  <a:lnTo>
                    <a:pt x="45" y="2815"/>
                  </a:lnTo>
                  <a:lnTo>
                    <a:pt x="50" y="2830"/>
                  </a:lnTo>
                  <a:lnTo>
                    <a:pt x="60" y="2850"/>
                  </a:lnTo>
                  <a:lnTo>
                    <a:pt x="70" y="2865"/>
                  </a:lnTo>
                  <a:lnTo>
                    <a:pt x="80" y="2880"/>
                  </a:lnTo>
                  <a:lnTo>
                    <a:pt x="85" y="2889"/>
                  </a:lnTo>
                  <a:lnTo>
                    <a:pt x="95" y="2899"/>
                  </a:lnTo>
                  <a:lnTo>
                    <a:pt x="105" y="2899"/>
                  </a:lnTo>
                  <a:lnTo>
                    <a:pt x="115" y="2904"/>
                  </a:lnTo>
                  <a:lnTo>
                    <a:pt x="125" y="2904"/>
                  </a:lnTo>
                  <a:lnTo>
                    <a:pt x="140" y="2904"/>
                  </a:lnTo>
                  <a:lnTo>
                    <a:pt x="150" y="2904"/>
                  </a:lnTo>
                  <a:lnTo>
                    <a:pt x="160" y="2904"/>
                  </a:lnTo>
                  <a:lnTo>
                    <a:pt x="180" y="2889"/>
                  </a:lnTo>
                  <a:lnTo>
                    <a:pt x="190" y="2875"/>
                  </a:lnTo>
                  <a:lnTo>
                    <a:pt x="195" y="2865"/>
                  </a:lnTo>
                  <a:lnTo>
                    <a:pt x="201" y="2855"/>
                  </a:lnTo>
                  <a:lnTo>
                    <a:pt x="195" y="2845"/>
                  </a:lnTo>
                  <a:lnTo>
                    <a:pt x="195" y="2835"/>
                  </a:lnTo>
                  <a:lnTo>
                    <a:pt x="190" y="2815"/>
                  </a:lnTo>
                  <a:lnTo>
                    <a:pt x="180" y="2796"/>
                  </a:lnTo>
                  <a:lnTo>
                    <a:pt x="175" y="2776"/>
                  </a:lnTo>
                  <a:lnTo>
                    <a:pt x="170" y="2761"/>
                  </a:lnTo>
                  <a:lnTo>
                    <a:pt x="165" y="2741"/>
                  </a:lnTo>
                  <a:lnTo>
                    <a:pt x="160" y="2727"/>
                  </a:lnTo>
                  <a:lnTo>
                    <a:pt x="155" y="2707"/>
                  </a:lnTo>
                  <a:lnTo>
                    <a:pt x="150" y="2687"/>
                  </a:lnTo>
                  <a:lnTo>
                    <a:pt x="145" y="2667"/>
                  </a:lnTo>
                  <a:lnTo>
                    <a:pt x="145" y="2653"/>
                  </a:lnTo>
                  <a:lnTo>
                    <a:pt x="140" y="2628"/>
                  </a:lnTo>
                  <a:lnTo>
                    <a:pt x="140" y="2613"/>
                  </a:lnTo>
                  <a:lnTo>
                    <a:pt x="140" y="2594"/>
                  </a:lnTo>
                  <a:lnTo>
                    <a:pt x="135" y="2574"/>
                  </a:lnTo>
                  <a:lnTo>
                    <a:pt x="135" y="2554"/>
                  </a:lnTo>
                  <a:lnTo>
                    <a:pt x="135" y="2539"/>
                  </a:lnTo>
                  <a:lnTo>
                    <a:pt x="135" y="2515"/>
                  </a:lnTo>
                  <a:lnTo>
                    <a:pt x="130" y="2495"/>
                  </a:lnTo>
                  <a:lnTo>
                    <a:pt x="130" y="2475"/>
                  </a:lnTo>
                  <a:lnTo>
                    <a:pt x="130" y="2455"/>
                  </a:lnTo>
                  <a:lnTo>
                    <a:pt x="130" y="2436"/>
                  </a:lnTo>
                  <a:lnTo>
                    <a:pt x="135" y="2416"/>
                  </a:lnTo>
                  <a:lnTo>
                    <a:pt x="135" y="2396"/>
                  </a:lnTo>
                  <a:lnTo>
                    <a:pt x="135" y="2377"/>
                  </a:lnTo>
                  <a:lnTo>
                    <a:pt x="135" y="2352"/>
                  </a:lnTo>
                  <a:lnTo>
                    <a:pt x="140" y="2332"/>
                  </a:lnTo>
                  <a:lnTo>
                    <a:pt x="140" y="2312"/>
                  </a:lnTo>
                  <a:lnTo>
                    <a:pt x="145" y="2293"/>
                  </a:lnTo>
                  <a:lnTo>
                    <a:pt x="145" y="2273"/>
                  </a:lnTo>
                  <a:lnTo>
                    <a:pt x="150" y="2253"/>
                  </a:lnTo>
                  <a:lnTo>
                    <a:pt x="150" y="2234"/>
                  </a:lnTo>
                  <a:lnTo>
                    <a:pt x="155" y="2214"/>
                  </a:lnTo>
                  <a:lnTo>
                    <a:pt x="155" y="2189"/>
                  </a:lnTo>
                  <a:lnTo>
                    <a:pt x="160" y="2169"/>
                  </a:lnTo>
                  <a:lnTo>
                    <a:pt x="160" y="2145"/>
                  </a:lnTo>
                  <a:lnTo>
                    <a:pt x="165" y="2125"/>
                  </a:lnTo>
                  <a:lnTo>
                    <a:pt x="165" y="2105"/>
                  </a:lnTo>
                  <a:lnTo>
                    <a:pt x="170" y="2086"/>
                  </a:lnTo>
                  <a:lnTo>
                    <a:pt x="170" y="2061"/>
                  </a:lnTo>
                  <a:lnTo>
                    <a:pt x="175" y="2041"/>
                  </a:lnTo>
                  <a:lnTo>
                    <a:pt x="180" y="2021"/>
                  </a:lnTo>
                  <a:lnTo>
                    <a:pt x="180" y="1997"/>
                  </a:lnTo>
                  <a:lnTo>
                    <a:pt x="185" y="1977"/>
                  </a:lnTo>
                  <a:lnTo>
                    <a:pt x="190" y="1957"/>
                  </a:lnTo>
                  <a:lnTo>
                    <a:pt x="190" y="1938"/>
                  </a:lnTo>
                  <a:lnTo>
                    <a:pt x="195" y="1918"/>
                  </a:lnTo>
                  <a:lnTo>
                    <a:pt x="195" y="1898"/>
                  </a:lnTo>
                  <a:lnTo>
                    <a:pt x="201" y="1878"/>
                  </a:lnTo>
                  <a:lnTo>
                    <a:pt x="201" y="1859"/>
                  </a:lnTo>
                  <a:lnTo>
                    <a:pt x="206" y="1834"/>
                  </a:lnTo>
                  <a:lnTo>
                    <a:pt x="206" y="1814"/>
                  </a:lnTo>
                  <a:lnTo>
                    <a:pt x="211" y="1795"/>
                  </a:lnTo>
                  <a:lnTo>
                    <a:pt x="211" y="1775"/>
                  </a:lnTo>
                  <a:lnTo>
                    <a:pt x="216" y="1760"/>
                  </a:lnTo>
                  <a:lnTo>
                    <a:pt x="216" y="1735"/>
                  </a:lnTo>
                  <a:lnTo>
                    <a:pt x="221" y="1721"/>
                  </a:lnTo>
                  <a:lnTo>
                    <a:pt x="221" y="1701"/>
                  </a:lnTo>
                  <a:lnTo>
                    <a:pt x="221" y="1681"/>
                  </a:lnTo>
                  <a:lnTo>
                    <a:pt x="221" y="1661"/>
                  </a:lnTo>
                  <a:lnTo>
                    <a:pt x="226" y="1642"/>
                  </a:lnTo>
                  <a:lnTo>
                    <a:pt x="226" y="1622"/>
                  </a:lnTo>
                  <a:lnTo>
                    <a:pt x="226" y="1602"/>
                  </a:lnTo>
                  <a:lnTo>
                    <a:pt x="226" y="1587"/>
                  </a:lnTo>
                  <a:lnTo>
                    <a:pt x="226" y="1568"/>
                  </a:lnTo>
                  <a:lnTo>
                    <a:pt x="226" y="1558"/>
                  </a:lnTo>
                  <a:lnTo>
                    <a:pt x="226" y="1543"/>
                  </a:lnTo>
                  <a:lnTo>
                    <a:pt x="226" y="1533"/>
                  </a:lnTo>
                  <a:lnTo>
                    <a:pt x="226" y="1523"/>
                  </a:lnTo>
                  <a:lnTo>
                    <a:pt x="226" y="1509"/>
                  </a:lnTo>
                  <a:lnTo>
                    <a:pt x="226" y="1499"/>
                  </a:lnTo>
                  <a:lnTo>
                    <a:pt x="226" y="1489"/>
                  </a:lnTo>
                  <a:lnTo>
                    <a:pt x="226" y="1479"/>
                  </a:lnTo>
                  <a:lnTo>
                    <a:pt x="221" y="1464"/>
                  </a:lnTo>
                  <a:lnTo>
                    <a:pt x="221" y="1454"/>
                  </a:lnTo>
                  <a:lnTo>
                    <a:pt x="221" y="1444"/>
                  </a:lnTo>
                  <a:lnTo>
                    <a:pt x="221" y="1430"/>
                  </a:lnTo>
                  <a:lnTo>
                    <a:pt x="221" y="1420"/>
                  </a:lnTo>
                  <a:lnTo>
                    <a:pt x="221" y="1410"/>
                  </a:lnTo>
                  <a:lnTo>
                    <a:pt x="221" y="1400"/>
                  </a:lnTo>
                  <a:lnTo>
                    <a:pt x="221" y="1390"/>
                  </a:lnTo>
                  <a:lnTo>
                    <a:pt x="216" y="1375"/>
                  </a:lnTo>
                  <a:lnTo>
                    <a:pt x="216" y="1366"/>
                  </a:lnTo>
                  <a:lnTo>
                    <a:pt x="216" y="1356"/>
                  </a:lnTo>
                  <a:lnTo>
                    <a:pt x="216" y="1341"/>
                  </a:lnTo>
                  <a:lnTo>
                    <a:pt x="216" y="1331"/>
                  </a:lnTo>
                  <a:lnTo>
                    <a:pt x="216" y="1316"/>
                  </a:lnTo>
                  <a:lnTo>
                    <a:pt x="216" y="1306"/>
                  </a:lnTo>
                  <a:lnTo>
                    <a:pt x="216" y="1297"/>
                  </a:lnTo>
                  <a:lnTo>
                    <a:pt x="216" y="1282"/>
                  </a:lnTo>
                  <a:lnTo>
                    <a:pt x="216" y="1272"/>
                  </a:lnTo>
                  <a:lnTo>
                    <a:pt x="211" y="1262"/>
                  </a:lnTo>
                  <a:lnTo>
                    <a:pt x="211" y="1252"/>
                  </a:lnTo>
                  <a:lnTo>
                    <a:pt x="211" y="1242"/>
                  </a:lnTo>
                  <a:lnTo>
                    <a:pt x="211" y="1227"/>
                  </a:lnTo>
                  <a:lnTo>
                    <a:pt x="211" y="1218"/>
                  </a:lnTo>
                  <a:lnTo>
                    <a:pt x="211" y="1208"/>
                  </a:lnTo>
                  <a:lnTo>
                    <a:pt x="211" y="1193"/>
                  </a:lnTo>
                  <a:lnTo>
                    <a:pt x="211" y="1183"/>
                  </a:lnTo>
                  <a:lnTo>
                    <a:pt x="211" y="1173"/>
                  </a:lnTo>
                  <a:lnTo>
                    <a:pt x="211" y="1163"/>
                  </a:lnTo>
                  <a:lnTo>
                    <a:pt x="206" y="1149"/>
                  </a:lnTo>
                  <a:lnTo>
                    <a:pt x="206" y="1139"/>
                  </a:lnTo>
                  <a:lnTo>
                    <a:pt x="206" y="1129"/>
                  </a:lnTo>
                  <a:lnTo>
                    <a:pt x="206" y="1114"/>
                  </a:lnTo>
                  <a:lnTo>
                    <a:pt x="206" y="1104"/>
                  </a:lnTo>
                  <a:lnTo>
                    <a:pt x="206" y="1089"/>
                  </a:lnTo>
                  <a:lnTo>
                    <a:pt x="206" y="1080"/>
                  </a:lnTo>
                  <a:lnTo>
                    <a:pt x="206" y="1070"/>
                  </a:lnTo>
                  <a:lnTo>
                    <a:pt x="206" y="1060"/>
                  </a:lnTo>
                  <a:lnTo>
                    <a:pt x="206" y="1050"/>
                  </a:lnTo>
                  <a:lnTo>
                    <a:pt x="206" y="1035"/>
                  </a:lnTo>
                  <a:lnTo>
                    <a:pt x="206" y="1025"/>
                  </a:lnTo>
                  <a:lnTo>
                    <a:pt x="201" y="1015"/>
                  </a:lnTo>
                  <a:lnTo>
                    <a:pt x="201" y="1001"/>
                  </a:lnTo>
                  <a:lnTo>
                    <a:pt x="201" y="991"/>
                  </a:lnTo>
                  <a:lnTo>
                    <a:pt x="201" y="981"/>
                  </a:lnTo>
                  <a:lnTo>
                    <a:pt x="201" y="966"/>
                  </a:lnTo>
                  <a:lnTo>
                    <a:pt x="201" y="956"/>
                  </a:lnTo>
                  <a:lnTo>
                    <a:pt x="201" y="946"/>
                  </a:lnTo>
                  <a:lnTo>
                    <a:pt x="201" y="937"/>
                  </a:lnTo>
                  <a:lnTo>
                    <a:pt x="201" y="922"/>
                  </a:lnTo>
                  <a:lnTo>
                    <a:pt x="201" y="912"/>
                  </a:lnTo>
                  <a:lnTo>
                    <a:pt x="201" y="902"/>
                  </a:lnTo>
                  <a:lnTo>
                    <a:pt x="201" y="887"/>
                  </a:lnTo>
                  <a:lnTo>
                    <a:pt x="201" y="877"/>
                  </a:lnTo>
                  <a:lnTo>
                    <a:pt x="201" y="867"/>
                  </a:lnTo>
                  <a:lnTo>
                    <a:pt x="201" y="858"/>
                  </a:lnTo>
                  <a:lnTo>
                    <a:pt x="201" y="843"/>
                  </a:lnTo>
                  <a:lnTo>
                    <a:pt x="201" y="828"/>
                  </a:lnTo>
                  <a:lnTo>
                    <a:pt x="201" y="808"/>
                  </a:lnTo>
                  <a:lnTo>
                    <a:pt x="201" y="789"/>
                  </a:lnTo>
                  <a:lnTo>
                    <a:pt x="201" y="774"/>
                  </a:lnTo>
                  <a:lnTo>
                    <a:pt x="201" y="754"/>
                  </a:lnTo>
                  <a:lnTo>
                    <a:pt x="201" y="739"/>
                  </a:lnTo>
                  <a:lnTo>
                    <a:pt x="201" y="724"/>
                  </a:lnTo>
                  <a:lnTo>
                    <a:pt x="206" y="705"/>
                  </a:lnTo>
                  <a:lnTo>
                    <a:pt x="206" y="690"/>
                  </a:lnTo>
                  <a:lnTo>
                    <a:pt x="206" y="675"/>
                  </a:lnTo>
                  <a:lnTo>
                    <a:pt x="206" y="655"/>
                  </a:lnTo>
                  <a:lnTo>
                    <a:pt x="211" y="641"/>
                  </a:lnTo>
                  <a:lnTo>
                    <a:pt x="211" y="626"/>
                  </a:lnTo>
                  <a:lnTo>
                    <a:pt x="211" y="606"/>
                  </a:lnTo>
                  <a:lnTo>
                    <a:pt x="211" y="591"/>
                  </a:lnTo>
                  <a:lnTo>
                    <a:pt x="216" y="577"/>
                  </a:lnTo>
                  <a:lnTo>
                    <a:pt x="216" y="562"/>
                  </a:lnTo>
                  <a:lnTo>
                    <a:pt x="221" y="542"/>
                  </a:lnTo>
                  <a:lnTo>
                    <a:pt x="221" y="527"/>
                  </a:lnTo>
                  <a:lnTo>
                    <a:pt x="226" y="512"/>
                  </a:lnTo>
                  <a:lnTo>
                    <a:pt x="226" y="498"/>
                  </a:lnTo>
                  <a:lnTo>
                    <a:pt x="231" y="483"/>
                  </a:lnTo>
                  <a:lnTo>
                    <a:pt x="231" y="468"/>
                  </a:lnTo>
                  <a:lnTo>
                    <a:pt x="241" y="458"/>
                  </a:lnTo>
                  <a:lnTo>
                    <a:pt x="241" y="443"/>
                  </a:lnTo>
                  <a:lnTo>
                    <a:pt x="246" y="429"/>
                  </a:lnTo>
                  <a:lnTo>
                    <a:pt x="251" y="414"/>
                  </a:lnTo>
                  <a:lnTo>
                    <a:pt x="256" y="404"/>
                  </a:lnTo>
                  <a:lnTo>
                    <a:pt x="261" y="389"/>
                  </a:lnTo>
                  <a:lnTo>
                    <a:pt x="266" y="374"/>
                  </a:lnTo>
                  <a:lnTo>
                    <a:pt x="276" y="364"/>
                  </a:lnTo>
                  <a:lnTo>
                    <a:pt x="281" y="355"/>
                  </a:lnTo>
                  <a:lnTo>
                    <a:pt x="286" y="340"/>
                  </a:lnTo>
                  <a:lnTo>
                    <a:pt x="291" y="330"/>
                  </a:lnTo>
                  <a:lnTo>
                    <a:pt x="301" y="320"/>
                  </a:lnTo>
                  <a:lnTo>
                    <a:pt x="311" y="305"/>
                  </a:lnTo>
                  <a:lnTo>
                    <a:pt x="316" y="295"/>
                  </a:lnTo>
                  <a:lnTo>
                    <a:pt x="326" y="286"/>
                  </a:lnTo>
                  <a:lnTo>
                    <a:pt x="331" y="276"/>
                  </a:lnTo>
                  <a:lnTo>
                    <a:pt x="341" y="271"/>
                  </a:lnTo>
                  <a:lnTo>
                    <a:pt x="351" y="256"/>
                  </a:lnTo>
                  <a:lnTo>
                    <a:pt x="361" y="246"/>
                  </a:lnTo>
                  <a:lnTo>
                    <a:pt x="371" y="241"/>
                  </a:lnTo>
                  <a:lnTo>
                    <a:pt x="381" y="231"/>
                  </a:lnTo>
                  <a:lnTo>
                    <a:pt x="391" y="221"/>
                  </a:lnTo>
                  <a:lnTo>
                    <a:pt x="407" y="217"/>
                  </a:lnTo>
                  <a:lnTo>
                    <a:pt x="417" y="212"/>
                  </a:lnTo>
                  <a:lnTo>
                    <a:pt x="432" y="207"/>
                  </a:lnTo>
                  <a:lnTo>
                    <a:pt x="442" y="197"/>
                  </a:lnTo>
                  <a:lnTo>
                    <a:pt x="457" y="192"/>
                  </a:lnTo>
                  <a:lnTo>
                    <a:pt x="467" y="187"/>
                  </a:lnTo>
                  <a:lnTo>
                    <a:pt x="482" y="182"/>
                  </a:lnTo>
                  <a:lnTo>
                    <a:pt x="497" y="177"/>
                  </a:lnTo>
                  <a:lnTo>
                    <a:pt x="512" y="172"/>
                  </a:lnTo>
                  <a:lnTo>
                    <a:pt x="532" y="172"/>
                  </a:lnTo>
                  <a:lnTo>
                    <a:pt x="547" y="167"/>
                  </a:lnTo>
                  <a:lnTo>
                    <a:pt x="567" y="162"/>
                  </a:lnTo>
                  <a:lnTo>
                    <a:pt x="582" y="162"/>
                  </a:lnTo>
                  <a:lnTo>
                    <a:pt x="603" y="162"/>
                  </a:lnTo>
                  <a:lnTo>
                    <a:pt x="618" y="162"/>
                  </a:lnTo>
                  <a:lnTo>
                    <a:pt x="638" y="162"/>
                  </a:lnTo>
                  <a:lnTo>
                    <a:pt x="658" y="162"/>
                  </a:lnTo>
                  <a:lnTo>
                    <a:pt x="683" y="162"/>
                  </a:lnTo>
                  <a:lnTo>
                    <a:pt x="703" y="162"/>
                  </a:lnTo>
                  <a:lnTo>
                    <a:pt x="728" y="162"/>
                  </a:lnTo>
                  <a:lnTo>
                    <a:pt x="753" y="167"/>
                  </a:lnTo>
                  <a:lnTo>
                    <a:pt x="778" y="167"/>
                  </a:lnTo>
                  <a:lnTo>
                    <a:pt x="804" y="172"/>
                  </a:lnTo>
                  <a:lnTo>
                    <a:pt x="824" y="172"/>
                  </a:lnTo>
                  <a:lnTo>
                    <a:pt x="849" y="177"/>
                  </a:lnTo>
                  <a:lnTo>
                    <a:pt x="874" y="182"/>
                  </a:lnTo>
                  <a:lnTo>
                    <a:pt x="899" y="187"/>
                  </a:lnTo>
                  <a:lnTo>
                    <a:pt x="924" y="187"/>
                  </a:lnTo>
                  <a:lnTo>
                    <a:pt x="949" y="192"/>
                  </a:lnTo>
                  <a:lnTo>
                    <a:pt x="974" y="197"/>
                  </a:lnTo>
                  <a:lnTo>
                    <a:pt x="1000" y="202"/>
                  </a:lnTo>
                  <a:lnTo>
                    <a:pt x="1025" y="207"/>
                  </a:lnTo>
                  <a:lnTo>
                    <a:pt x="1050" y="212"/>
                  </a:lnTo>
                  <a:lnTo>
                    <a:pt x="1075" y="217"/>
                  </a:lnTo>
                  <a:lnTo>
                    <a:pt x="1100" y="221"/>
                  </a:lnTo>
                  <a:lnTo>
                    <a:pt x="1125" y="226"/>
                  </a:lnTo>
                  <a:lnTo>
                    <a:pt x="1150" y="236"/>
                  </a:lnTo>
                  <a:lnTo>
                    <a:pt x="1170" y="241"/>
                  </a:lnTo>
                  <a:lnTo>
                    <a:pt x="1196" y="246"/>
                  </a:lnTo>
                  <a:lnTo>
                    <a:pt x="1221" y="251"/>
                  </a:lnTo>
                  <a:lnTo>
                    <a:pt x="1246" y="256"/>
                  </a:lnTo>
                  <a:lnTo>
                    <a:pt x="1271" y="261"/>
                  </a:lnTo>
                  <a:lnTo>
                    <a:pt x="1296" y="271"/>
                  </a:lnTo>
                  <a:lnTo>
                    <a:pt x="1316" y="276"/>
                  </a:lnTo>
                  <a:lnTo>
                    <a:pt x="1346" y="286"/>
                  </a:lnTo>
                  <a:lnTo>
                    <a:pt x="1366" y="290"/>
                  </a:lnTo>
                  <a:lnTo>
                    <a:pt x="1397" y="295"/>
                  </a:lnTo>
                  <a:lnTo>
                    <a:pt x="1417" y="305"/>
                  </a:lnTo>
                  <a:lnTo>
                    <a:pt x="1442" y="310"/>
                  </a:lnTo>
                  <a:lnTo>
                    <a:pt x="1467" y="320"/>
                  </a:lnTo>
                  <a:lnTo>
                    <a:pt x="1492" y="330"/>
                  </a:lnTo>
                  <a:lnTo>
                    <a:pt x="1517" y="335"/>
                  </a:lnTo>
                  <a:lnTo>
                    <a:pt x="1542" y="340"/>
                  </a:lnTo>
                  <a:lnTo>
                    <a:pt x="1562" y="350"/>
                  </a:lnTo>
                  <a:lnTo>
                    <a:pt x="1593" y="355"/>
                  </a:lnTo>
                  <a:lnTo>
                    <a:pt x="1613" y="364"/>
                  </a:lnTo>
                  <a:lnTo>
                    <a:pt x="1638" y="374"/>
                  </a:lnTo>
                  <a:lnTo>
                    <a:pt x="1663" y="379"/>
                  </a:lnTo>
                  <a:lnTo>
                    <a:pt x="1688" y="389"/>
                  </a:lnTo>
                  <a:lnTo>
                    <a:pt x="1708" y="394"/>
                  </a:lnTo>
                  <a:lnTo>
                    <a:pt x="1733" y="404"/>
                  </a:lnTo>
                  <a:lnTo>
                    <a:pt x="1758" y="409"/>
                  </a:lnTo>
                  <a:lnTo>
                    <a:pt x="1783" y="419"/>
                  </a:lnTo>
                  <a:lnTo>
                    <a:pt x="1804" y="429"/>
                  </a:lnTo>
                  <a:lnTo>
                    <a:pt x="1829" y="438"/>
                  </a:lnTo>
                  <a:lnTo>
                    <a:pt x="1854" y="443"/>
                  </a:lnTo>
                  <a:lnTo>
                    <a:pt x="1879" y="453"/>
                  </a:lnTo>
                  <a:lnTo>
                    <a:pt x="1904" y="458"/>
                  </a:lnTo>
                  <a:lnTo>
                    <a:pt x="1929" y="468"/>
                  </a:lnTo>
                  <a:lnTo>
                    <a:pt x="1949" y="473"/>
                  </a:lnTo>
                  <a:lnTo>
                    <a:pt x="1979" y="483"/>
                  </a:lnTo>
                  <a:lnTo>
                    <a:pt x="2000" y="488"/>
                  </a:lnTo>
                  <a:lnTo>
                    <a:pt x="2025" y="498"/>
                  </a:lnTo>
                  <a:lnTo>
                    <a:pt x="2050" y="507"/>
                  </a:lnTo>
                  <a:lnTo>
                    <a:pt x="2075" y="517"/>
                  </a:lnTo>
                  <a:lnTo>
                    <a:pt x="2095" y="522"/>
                  </a:lnTo>
                  <a:lnTo>
                    <a:pt x="2120" y="532"/>
                  </a:lnTo>
                  <a:lnTo>
                    <a:pt x="2145" y="537"/>
                  </a:lnTo>
                  <a:lnTo>
                    <a:pt x="2170" y="547"/>
                  </a:lnTo>
                  <a:lnTo>
                    <a:pt x="2196" y="552"/>
                  </a:lnTo>
                  <a:lnTo>
                    <a:pt x="2221" y="562"/>
                  </a:lnTo>
                  <a:lnTo>
                    <a:pt x="2246" y="567"/>
                  </a:lnTo>
                  <a:lnTo>
                    <a:pt x="2271" y="577"/>
                  </a:lnTo>
                  <a:lnTo>
                    <a:pt x="2296" y="581"/>
                  </a:lnTo>
                  <a:lnTo>
                    <a:pt x="2321" y="591"/>
                  </a:lnTo>
                  <a:lnTo>
                    <a:pt x="2346" y="596"/>
                  </a:lnTo>
                  <a:lnTo>
                    <a:pt x="2371" y="606"/>
                  </a:lnTo>
                  <a:lnTo>
                    <a:pt x="2402" y="611"/>
                  </a:lnTo>
                  <a:lnTo>
                    <a:pt x="2427" y="621"/>
                  </a:lnTo>
                  <a:lnTo>
                    <a:pt x="2452" y="626"/>
                  </a:lnTo>
                  <a:lnTo>
                    <a:pt x="2482" y="636"/>
                  </a:lnTo>
                  <a:lnTo>
                    <a:pt x="2507" y="646"/>
                  </a:lnTo>
                  <a:lnTo>
                    <a:pt x="2532" y="650"/>
                  </a:lnTo>
                  <a:lnTo>
                    <a:pt x="2562" y="660"/>
                  </a:lnTo>
                  <a:lnTo>
                    <a:pt x="2588" y="665"/>
                  </a:lnTo>
                  <a:lnTo>
                    <a:pt x="2613" y="675"/>
                  </a:lnTo>
                  <a:lnTo>
                    <a:pt x="2638" y="685"/>
                  </a:lnTo>
                  <a:lnTo>
                    <a:pt x="2668" y="690"/>
                  </a:lnTo>
                  <a:lnTo>
                    <a:pt x="2698" y="700"/>
                  </a:lnTo>
                  <a:lnTo>
                    <a:pt x="2723" y="705"/>
                  </a:lnTo>
                  <a:lnTo>
                    <a:pt x="2748" y="715"/>
                  </a:lnTo>
                  <a:lnTo>
                    <a:pt x="2773" y="724"/>
                  </a:lnTo>
                  <a:lnTo>
                    <a:pt x="2804" y="729"/>
                  </a:lnTo>
                  <a:lnTo>
                    <a:pt x="2829" y="739"/>
                  </a:lnTo>
                  <a:lnTo>
                    <a:pt x="2854" y="744"/>
                  </a:lnTo>
                  <a:lnTo>
                    <a:pt x="2884" y="754"/>
                  </a:lnTo>
                  <a:lnTo>
                    <a:pt x="2914" y="764"/>
                  </a:lnTo>
                  <a:lnTo>
                    <a:pt x="2939" y="769"/>
                  </a:lnTo>
                  <a:lnTo>
                    <a:pt x="2964" y="779"/>
                  </a:lnTo>
                  <a:lnTo>
                    <a:pt x="2990" y="784"/>
                  </a:lnTo>
                  <a:lnTo>
                    <a:pt x="3020" y="794"/>
                  </a:lnTo>
                  <a:lnTo>
                    <a:pt x="3045" y="798"/>
                  </a:lnTo>
                  <a:lnTo>
                    <a:pt x="3075" y="808"/>
                  </a:lnTo>
                  <a:lnTo>
                    <a:pt x="3100" y="813"/>
                  </a:lnTo>
                  <a:lnTo>
                    <a:pt x="3130" y="823"/>
                  </a:lnTo>
                  <a:lnTo>
                    <a:pt x="3155" y="828"/>
                  </a:lnTo>
                  <a:lnTo>
                    <a:pt x="3181" y="838"/>
                  </a:lnTo>
                  <a:lnTo>
                    <a:pt x="3206" y="843"/>
                  </a:lnTo>
                  <a:lnTo>
                    <a:pt x="3236" y="853"/>
                  </a:lnTo>
                  <a:lnTo>
                    <a:pt x="3261" y="858"/>
                  </a:lnTo>
                  <a:lnTo>
                    <a:pt x="3291" y="867"/>
                  </a:lnTo>
                  <a:lnTo>
                    <a:pt x="3316" y="872"/>
                  </a:lnTo>
                  <a:lnTo>
                    <a:pt x="3346" y="882"/>
                  </a:lnTo>
                  <a:lnTo>
                    <a:pt x="3371" y="887"/>
                  </a:lnTo>
                  <a:lnTo>
                    <a:pt x="3402" y="897"/>
                  </a:lnTo>
                  <a:lnTo>
                    <a:pt x="3427" y="902"/>
                  </a:lnTo>
                  <a:lnTo>
                    <a:pt x="3452" y="912"/>
                  </a:lnTo>
                  <a:lnTo>
                    <a:pt x="3482" y="917"/>
                  </a:lnTo>
                  <a:lnTo>
                    <a:pt x="3507" y="922"/>
                  </a:lnTo>
                  <a:lnTo>
                    <a:pt x="3537" y="932"/>
                  </a:lnTo>
                  <a:lnTo>
                    <a:pt x="3562" y="937"/>
                  </a:lnTo>
                  <a:lnTo>
                    <a:pt x="3588" y="941"/>
                  </a:lnTo>
                  <a:lnTo>
                    <a:pt x="3618" y="951"/>
                  </a:lnTo>
                  <a:lnTo>
                    <a:pt x="3643" y="956"/>
                  </a:lnTo>
                  <a:lnTo>
                    <a:pt x="3673" y="966"/>
                  </a:lnTo>
                  <a:lnTo>
                    <a:pt x="3698" y="971"/>
                  </a:lnTo>
                  <a:lnTo>
                    <a:pt x="3723" y="976"/>
                  </a:lnTo>
                  <a:lnTo>
                    <a:pt x="3753" y="981"/>
                  </a:lnTo>
                  <a:lnTo>
                    <a:pt x="3784" y="986"/>
                  </a:lnTo>
                  <a:lnTo>
                    <a:pt x="3809" y="991"/>
                  </a:lnTo>
                  <a:lnTo>
                    <a:pt x="3834" y="1001"/>
                  </a:lnTo>
                  <a:lnTo>
                    <a:pt x="3864" y="1006"/>
                  </a:lnTo>
                  <a:lnTo>
                    <a:pt x="3889" y="1010"/>
                  </a:lnTo>
                  <a:lnTo>
                    <a:pt x="3919" y="1015"/>
                  </a:lnTo>
                  <a:lnTo>
                    <a:pt x="3944" y="1020"/>
                  </a:lnTo>
                  <a:lnTo>
                    <a:pt x="3974" y="1025"/>
                  </a:lnTo>
                  <a:lnTo>
                    <a:pt x="4000" y="1035"/>
                  </a:lnTo>
                  <a:lnTo>
                    <a:pt x="4020" y="1030"/>
                  </a:lnTo>
                  <a:lnTo>
                    <a:pt x="4030" y="1020"/>
                  </a:lnTo>
                  <a:lnTo>
                    <a:pt x="4030" y="1001"/>
                  </a:lnTo>
                  <a:lnTo>
                    <a:pt x="4020" y="991"/>
                  </a:lnTo>
                  <a:lnTo>
                    <a:pt x="4020" y="9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flipV="1" rot="9362400">
              <a:off x="1720440" y="4868640"/>
              <a:ext cx="6405480" cy="2026800"/>
            </a:xfrm>
            <a:custGeom>
              <a:avLst/>
              <a:gdLst/>
              <a:ahLst/>
              <a:rect l="l" t="t" r="r" b="b"/>
              <a:pathLst>
                <a:path w="4035" h="1277">
                  <a:moveTo>
                    <a:pt x="75" y="207"/>
                  </a:moveTo>
                  <a:lnTo>
                    <a:pt x="90" y="222"/>
                  </a:lnTo>
                  <a:lnTo>
                    <a:pt x="115" y="237"/>
                  </a:lnTo>
                  <a:lnTo>
                    <a:pt x="135" y="252"/>
                  </a:lnTo>
                  <a:lnTo>
                    <a:pt x="156" y="266"/>
                  </a:lnTo>
                  <a:lnTo>
                    <a:pt x="176" y="281"/>
                  </a:lnTo>
                  <a:lnTo>
                    <a:pt x="201" y="296"/>
                  </a:lnTo>
                  <a:lnTo>
                    <a:pt x="221" y="306"/>
                  </a:lnTo>
                  <a:lnTo>
                    <a:pt x="246" y="321"/>
                  </a:lnTo>
                  <a:lnTo>
                    <a:pt x="271" y="331"/>
                  </a:lnTo>
                  <a:lnTo>
                    <a:pt x="291" y="345"/>
                  </a:lnTo>
                  <a:lnTo>
                    <a:pt x="316" y="360"/>
                  </a:lnTo>
                  <a:lnTo>
                    <a:pt x="342" y="370"/>
                  </a:lnTo>
                  <a:lnTo>
                    <a:pt x="367" y="380"/>
                  </a:lnTo>
                  <a:lnTo>
                    <a:pt x="392" y="395"/>
                  </a:lnTo>
                  <a:lnTo>
                    <a:pt x="417" y="404"/>
                  </a:lnTo>
                  <a:lnTo>
                    <a:pt x="447" y="414"/>
                  </a:lnTo>
                  <a:lnTo>
                    <a:pt x="472" y="424"/>
                  </a:lnTo>
                  <a:lnTo>
                    <a:pt x="497" y="434"/>
                  </a:lnTo>
                  <a:lnTo>
                    <a:pt x="522" y="444"/>
                  </a:lnTo>
                  <a:lnTo>
                    <a:pt x="553" y="454"/>
                  </a:lnTo>
                  <a:lnTo>
                    <a:pt x="578" y="464"/>
                  </a:lnTo>
                  <a:lnTo>
                    <a:pt x="608" y="474"/>
                  </a:lnTo>
                  <a:lnTo>
                    <a:pt x="633" y="483"/>
                  </a:lnTo>
                  <a:lnTo>
                    <a:pt x="663" y="493"/>
                  </a:lnTo>
                  <a:lnTo>
                    <a:pt x="693" y="503"/>
                  </a:lnTo>
                  <a:lnTo>
                    <a:pt x="718" y="508"/>
                  </a:lnTo>
                  <a:lnTo>
                    <a:pt x="749" y="518"/>
                  </a:lnTo>
                  <a:lnTo>
                    <a:pt x="774" y="528"/>
                  </a:lnTo>
                  <a:lnTo>
                    <a:pt x="804" y="533"/>
                  </a:lnTo>
                  <a:lnTo>
                    <a:pt x="834" y="543"/>
                  </a:lnTo>
                  <a:lnTo>
                    <a:pt x="864" y="548"/>
                  </a:lnTo>
                  <a:lnTo>
                    <a:pt x="894" y="557"/>
                  </a:lnTo>
                  <a:lnTo>
                    <a:pt x="919" y="562"/>
                  </a:lnTo>
                  <a:lnTo>
                    <a:pt x="950" y="572"/>
                  </a:lnTo>
                  <a:lnTo>
                    <a:pt x="980" y="577"/>
                  </a:lnTo>
                  <a:lnTo>
                    <a:pt x="1010" y="582"/>
                  </a:lnTo>
                  <a:lnTo>
                    <a:pt x="1035" y="587"/>
                  </a:lnTo>
                  <a:lnTo>
                    <a:pt x="1065" y="597"/>
                  </a:lnTo>
                  <a:lnTo>
                    <a:pt x="1095" y="602"/>
                  </a:lnTo>
                  <a:lnTo>
                    <a:pt x="1125" y="607"/>
                  </a:lnTo>
                  <a:lnTo>
                    <a:pt x="1156" y="617"/>
                  </a:lnTo>
                  <a:lnTo>
                    <a:pt x="1186" y="621"/>
                  </a:lnTo>
                  <a:lnTo>
                    <a:pt x="1211" y="626"/>
                  </a:lnTo>
                  <a:lnTo>
                    <a:pt x="1241" y="631"/>
                  </a:lnTo>
                  <a:lnTo>
                    <a:pt x="1271" y="636"/>
                  </a:lnTo>
                  <a:lnTo>
                    <a:pt x="1301" y="641"/>
                  </a:lnTo>
                  <a:lnTo>
                    <a:pt x="1326" y="646"/>
                  </a:lnTo>
                  <a:lnTo>
                    <a:pt x="1357" y="651"/>
                  </a:lnTo>
                  <a:lnTo>
                    <a:pt x="1387" y="656"/>
                  </a:lnTo>
                  <a:lnTo>
                    <a:pt x="1417" y="661"/>
                  </a:lnTo>
                  <a:lnTo>
                    <a:pt x="1442" y="666"/>
                  </a:lnTo>
                  <a:lnTo>
                    <a:pt x="1472" y="671"/>
                  </a:lnTo>
                  <a:lnTo>
                    <a:pt x="1497" y="676"/>
                  </a:lnTo>
                  <a:lnTo>
                    <a:pt x="1527" y="681"/>
                  </a:lnTo>
                  <a:lnTo>
                    <a:pt x="1553" y="686"/>
                  </a:lnTo>
                  <a:lnTo>
                    <a:pt x="1583" y="691"/>
                  </a:lnTo>
                  <a:lnTo>
                    <a:pt x="1608" y="691"/>
                  </a:lnTo>
                  <a:lnTo>
                    <a:pt x="1633" y="700"/>
                  </a:lnTo>
                  <a:lnTo>
                    <a:pt x="1658" y="700"/>
                  </a:lnTo>
                  <a:lnTo>
                    <a:pt x="1688" y="705"/>
                  </a:lnTo>
                  <a:lnTo>
                    <a:pt x="1713" y="710"/>
                  </a:lnTo>
                  <a:lnTo>
                    <a:pt x="1739" y="715"/>
                  </a:lnTo>
                  <a:lnTo>
                    <a:pt x="1769" y="720"/>
                  </a:lnTo>
                  <a:lnTo>
                    <a:pt x="1794" y="730"/>
                  </a:lnTo>
                  <a:lnTo>
                    <a:pt x="1809" y="730"/>
                  </a:lnTo>
                  <a:lnTo>
                    <a:pt x="1824" y="735"/>
                  </a:lnTo>
                  <a:lnTo>
                    <a:pt x="1844" y="735"/>
                  </a:lnTo>
                  <a:lnTo>
                    <a:pt x="1859" y="740"/>
                  </a:lnTo>
                  <a:lnTo>
                    <a:pt x="1874" y="740"/>
                  </a:lnTo>
                  <a:lnTo>
                    <a:pt x="1894" y="745"/>
                  </a:lnTo>
                  <a:lnTo>
                    <a:pt x="1909" y="750"/>
                  </a:lnTo>
                  <a:lnTo>
                    <a:pt x="1924" y="755"/>
                  </a:lnTo>
                  <a:lnTo>
                    <a:pt x="1945" y="755"/>
                  </a:lnTo>
                  <a:lnTo>
                    <a:pt x="1960" y="760"/>
                  </a:lnTo>
                  <a:lnTo>
                    <a:pt x="1975" y="764"/>
                  </a:lnTo>
                  <a:lnTo>
                    <a:pt x="1995" y="764"/>
                  </a:lnTo>
                  <a:lnTo>
                    <a:pt x="2010" y="769"/>
                  </a:lnTo>
                  <a:lnTo>
                    <a:pt x="2025" y="774"/>
                  </a:lnTo>
                  <a:lnTo>
                    <a:pt x="2045" y="779"/>
                  </a:lnTo>
                  <a:lnTo>
                    <a:pt x="2060" y="784"/>
                  </a:lnTo>
                  <a:lnTo>
                    <a:pt x="2080" y="784"/>
                  </a:lnTo>
                  <a:lnTo>
                    <a:pt x="2095" y="789"/>
                  </a:lnTo>
                  <a:lnTo>
                    <a:pt x="2110" y="794"/>
                  </a:lnTo>
                  <a:lnTo>
                    <a:pt x="2131" y="799"/>
                  </a:lnTo>
                  <a:lnTo>
                    <a:pt x="2146" y="804"/>
                  </a:lnTo>
                  <a:lnTo>
                    <a:pt x="2161" y="804"/>
                  </a:lnTo>
                  <a:lnTo>
                    <a:pt x="2181" y="809"/>
                  </a:lnTo>
                  <a:lnTo>
                    <a:pt x="2196" y="814"/>
                  </a:lnTo>
                  <a:lnTo>
                    <a:pt x="2211" y="819"/>
                  </a:lnTo>
                  <a:lnTo>
                    <a:pt x="2231" y="824"/>
                  </a:lnTo>
                  <a:lnTo>
                    <a:pt x="2246" y="829"/>
                  </a:lnTo>
                  <a:lnTo>
                    <a:pt x="2261" y="834"/>
                  </a:lnTo>
                  <a:lnTo>
                    <a:pt x="2281" y="834"/>
                  </a:lnTo>
                  <a:lnTo>
                    <a:pt x="2296" y="843"/>
                  </a:lnTo>
                  <a:lnTo>
                    <a:pt x="2311" y="848"/>
                  </a:lnTo>
                  <a:lnTo>
                    <a:pt x="2332" y="853"/>
                  </a:lnTo>
                  <a:lnTo>
                    <a:pt x="2347" y="858"/>
                  </a:lnTo>
                  <a:lnTo>
                    <a:pt x="2362" y="858"/>
                  </a:lnTo>
                  <a:lnTo>
                    <a:pt x="2377" y="863"/>
                  </a:lnTo>
                  <a:lnTo>
                    <a:pt x="2397" y="868"/>
                  </a:lnTo>
                  <a:lnTo>
                    <a:pt x="2412" y="873"/>
                  </a:lnTo>
                  <a:lnTo>
                    <a:pt x="2427" y="878"/>
                  </a:lnTo>
                  <a:lnTo>
                    <a:pt x="2447" y="883"/>
                  </a:lnTo>
                  <a:lnTo>
                    <a:pt x="2462" y="888"/>
                  </a:lnTo>
                  <a:lnTo>
                    <a:pt x="2477" y="893"/>
                  </a:lnTo>
                  <a:lnTo>
                    <a:pt x="2492" y="898"/>
                  </a:lnTo>
                  <a:lnTo>
                    <a:pt x="2512" y="903"/>
                  </a:lnTo>
                  <a:lnTo>
                    <a:pt x="2528" y="908"/>
                  </a:lnTo>
                  <a:lnTo>
                    <a:pt x="2543" y="912"/>
                  </a:lnTo>
                  <a:lnTo>
                    <a:pt x="2563" y="917"/>
                  </a:lnTo>
                  <a:lnTo>
                    <a:pt x="2578" y="927"/>
                  </a:lnTo>
                  <a:lnTo>
                    <a:pt x="2593" y="932"/>
                  </a:lnTo>
                  <a:lnTo>
                    <a:pt x="2608" y="937"/>
                  </a:lnTo>
                  <a:lnTo>
                    <a:pt x="2628" y="942"/>
                  </a:lnTo>
                  <a:lnTo>
                    <a:pt x="2643" y="947"/>
                  </a:lnTo>
                  <a:lnTo>
                    <a:pt x="2658" y="952"/>
                  </a:lnTo>
                  <a:lnTo>
                    <a:pt x="2678" y="957"/>
                  </a:lnTo>
                  <a:lnTo>
                    <a:pt x="2693" y="962"/>
                  </a:lnTo>
                  <a:lnTo>
                    <a:pt x="2708" y="972"/>
                  </a:lnTo>
                  <a:lnTo>
                    <a:pt x="2729" y="977"/>
                  </a:lnTo>
                  <a:lnTo>
                    <a:pt x="2744" y="981"/>
                  </a:lnTo>
                  <a:lnTo>
                    <a:pt x="2759" y="986"/>
                  </a:lnTo>
                  <a:lnTo>
                    <a:pt x="2779" y="991"/>
                  </a:lnTo>
                  <a:lnTo>
                    <a:pt x="2794" y="996"/>
                  </a:lnTo>
                  <a:lnTo>
                    <a:pt x="2809" y="1001"/>
                  </a:lnTo>
                  <a:lnTo>
                    <a:pt x="2829" y="1011"/>
                  </a:lnTo>
                  <a:lnTo>
                    <a:pt x="2844" y="1016"/>
                  </a:lnTo>
                  <a:lnTo>
                    <a:pt x="2859" y="1021"/>
                  </a:lnTo>
                  <a:lnTo>
                    <a:pt x="2879" y="1026"/>
                  </a:lnTo>
                  <a:lnTo>
                    <a:pt x="2894" y="1031"/>
                  </a:lnTo>
                  <a:lnTo>
                    <a:pt x="2909" y="1041"/>
                  </a:lnTo>
                  <a:lnTo>
                    <a:pt x="2930" y="1046"/>
                  </a:lnTo>
                  <a:lnTo>
                    <a:pt x="2945" y="1051"/>
                  </a:lnTo>
                  <a:lnTo>
                    <a:pt x="2960" y="1055"/>
                  </a:lnTo>
                  <a:lnTo>
                    <a:pt x="2980" y="1060"/>
                  </a:lnTo>
                  <a:lnTo>
                    <a:pt x="2995" y="1065"/>
                  </a:lnTo>
                  <a:lnTo>
                    <a:pt x="3015" y="1070"/>
                  </a:lnTo>
                  <a:lnTo>
                    <a:pt x="3030" y="1075"/>
                  </a:lnTo>
                  <a:lnTo>
                    <a:pt x="3045" y="1080"/>
                  </a:lnTo>
                  <a:lnTo>
                    <a:pt x="3065" y="1085"/>
                  </a:lnTo>
                  <a:lnTo>
                    <a:pt x="3080" y="1090"/>
                  </a:lnTo>
                  <a:lnTo>
                    <a:pt x="3100" y="1095"/>
                  </a:lnTo>
                  <a:lnTo>
                    <a:pt x="3115" y="1100"/>
                  </a:lnTo>
                  <a:lnTo>
                    <a:pt x="3136" y="1105"/>
                  </a:lnTo>
                  <a:lnTo>
                    <a:pt x="3151" y="1110"/>
                  </a:lnTo>
                  <a:lnTo>
                    <a:pt x="3171" y="1110"/>
                  </a:lnTo>
                  <a:lnTo>
                    <a:pt x="3186" y="1115"/>
                  </a:lnTo>
                  <a:lnTo>
                    <a:pt x="3201" y="1120"/>
                  </a:lnTo>
                  <a:lnTo>
                    <a:pt x="3221" y="1124"/>
                  </a:lnTo>
                  <a:lnTo>
                    <a:pt x="3236" y="1129"/>
                  </a:lnTo>
                  <a:lnTo>
                    <a:pt x="3251" y="1134"/>
                  </a:lnTo>
                  <a:lnTo>
                    <a:pt x="3271" y="1139"/>
                  </a:lnTo>
                  <a:lnTo>
                    <a:pt x="3286" y="1139"/>
                  </a:lnTo>
                  <a:lnTo>
                    <a:pt x="3306" y="1144"/>
                  </a:lnTo>
                  <a:lnTo>
                    <a:pt x="3322" y="1144"/>
                  </a:lnTo>
                  <a:lnTo>
                    <a:pt x="3342" y="1154"/>
                  </a:lnTo>
                  <a:lnTo>
                    <a:pt x="3357" y="1154"/>
                  </a:lnTo>
                  <a:lnTo>
                    <a:pt x="3377" y="1159"/>
                  </a:lnTo>
                  <a:lnTo>
                    <a:pt x="3392" y="1159"/>
                  </a:lnTo>
                  <a:lnTo>
                    <a:pt x="3412" y="1169"/>
                  </a:lnTo>
                  <a:lnTo>
                    <a:pt x="3427" y="1169"/>
                  </a:lnTo>
                  <a:lnTo>
                    <a:pt x="3442" y="1174"/>
                  </a:lnTo>
                  <a:lnTo>
                    <a:pt x="3462" y="1174"/>
                  </a:lnTo>
                  <a:lnTo>
                    <a:pt x="3477" y="1179"/>
                  </a:lnTo>
                  <a:lnTo>
                    <a:pt x="3492" y="1184"/>
                  </a:lnTo>
                  <a:lnTo>
                    <a:pt x="3512" y="1184"/>
                  </a:lnTo>
                  <a:lnTo>
                    <a:pt x="3528" y="1189"/>
                  </a:lnTo>
                  <a:lnTo>
                    <a:pt x="3548" y="1194"/>
                  </a:lnTo>
                  <a:lnTo>
                    <a:pt x="3563" y="1194"/>
                  </a:lnTo>
                  <a:lnTo>
                    <a:pt x="3583" y="1198"/>
                  </a:lnTo>
                  <a:lnTo>
                    <a:pt x="3598" y="1203"/>
                  </a:lnTo>
                  <a:lnTo>
                    <a:pt x="3618" y="1203"/>
                  </a:lnTo>
                  <a:lnTo>
                    <a:pt x="3633" y="1208"/>
                  </a:lnTo>
                  <a:lnTo>
                    <a:pt x="3653" y="1213"/>
                  </a:lnTo>
                  <a:lnTo>
                    <a:pt x="3668" y="1213"/>
                  </a:lnTo>
                  <a:lnTo>
                    <a:pt x="3688" y="1218"/>
                  </a:lnTo>
                  <a:lnTo>
                    <a:pt x="3703" y="1223"/>
                  </a:lnTo>
                  <a:lnTo>
                    <a:pt x="3724" y="1223"/>
                  </a:lnTo>
                  <a:lnTo>
                    <a:pt x="3739" y="1228"/>
                  </a:lnTo>
                  <a:lnTo>
                    <a:pt x="3759" y="1233"/>
                  </a:lnTo>
                  <a:lnTo>
                    <a:pt x="3774" y="1233"/>
                  </a:lnTo>
                  <a:lnTo>
                    <a:pt x="3794" y="1238"/>
                  </a:lnTo>
                  <a:lnTo>
                    <a:pt x="3809" y="1243"/>
                  </a:lnTo>
                  <a:lnTo>
                    <a:pt x="3829" y="1248"/>
                  </a:lnTo>
                  <a:lnTo>
                    <a:pt x="3844" y="1248"/>
                  </a:lnTo>
                  <a:lnTo>
                    <a:pt x="3859" y="1253"/>
                  </a:lnTo>
                  <a:lnTo>
                    <a:pt x="3879" y="1258"/>
                  </a:lnTo>
                  <a:lnTo>
                    <a:pt x="3899" y="1258"/>
                  </a:lnTo>
                  <a:lnTo>
                    <a:pt x="3914" y="1263"/>
                  </a:lnTo>
                  <a:lnTo>
                    <a:pt x="3935" y="1268"/>
                  </a:lnTo>
                  <a:lnTo>
                    <a:pt x="3955" y="1272"/>
                  </a:lnTo>
                  <a:lnTo>
                    <a:pt x="3970" y="1277"/>
                  </a:lnTo>
                  <a:lnTo>
                    <a:pt x="3980" y="1272"/>
                  </a:lnTo>
                  <a:lnTo>
                    <a:pt x="3995" y="1272"/>
                  </a:lnTo>
                  <a:lnTo>
                    <a:pt x="4005" y="1268"/>
                  </a:lnTo>
                  <a:lnTo>
                    <a:pt x="4010" y="1268"/>
                  </a:lnTo>
                  <a:lnTo>
                    <a:pt x="4025" y="1248"/>
                  </a:lnTo>
                  <a:lnTo>
                    <a:pt x="4035" y="1233"/>
                  </a:lnTo>
                  <a:lnTo>
                    <a:pt x="4035" y="1223"/>
                  </a:lnTo>
                  <a:lnTo>
                    <a:pt x="4035" y="1213"/>
                  </a:lnTo>
                  <a:lnTo>
                    <a:pt x="4035" y="1203"/>
                  </a:lnTo>
                  <a:lnTo>
                    <a:pt x="4030" y="1194"/>
                  </a:lnTo>
                  <a:lnTo>
                    <a:pt x="4025" y="1184"/>
                  </a:lnTo>
                  <a:lnTo>
                    <a:pt x="4020" y="1179"/>
                  </a:lnTo>
                  <a:lnTo>
                    <a:pt x="4010" y="1174"/>
                  </a:lnTo>
                  <a:lnTo>
                    <a:pt x="4000" y="1169"/>
                  </a:lnTo>
                  <a:lnTo>
                    <a:pt x="3985" y="1164"/>
                  </a:lnTo>
                  <a:lnTo>
                    <a:pt x="3970" y="1164"/>
                  </a:lnTo>
                  <a:lnTo>
                    <a:pt x="3955" y="1159"/>
                  </a:lnTo>
                  <a:lnTo>
                    <a:pt x="3945" y="1159"/>
                  </a:lnTo>
                  <a:lnTo>
                    <a:pt x="3930" y="1154"/>
                  </a:lnTo>
                  <a:lnTo>
                    <a:pt x="3914" y="1154"/>
                  </a:lnTo>
                  <a:lnTo>
                    <a:pt x="3899" y="1149"/>
                  </a:lnTo>
                  <a:lnTo>
                    <a:pt x="3889" y="1144"/>
                  </a:lnTo>
                  <a:lnTo>
                    <a:pt x="3874" y="1144"/>
                  </a:lnTo>
                  <a:lnTo>
                    <a:pt x="3859" y="1139"/>
                  </a:lnTo>
                  <a:lnTo>
                    <a:pt x="3844" y="1139"/>
                  </a:lnTo>
                  <a:lnTo>
                    <a:pt x="3829" y="1134"/>
                  </a:lnTo>
                  <a:lnTo>
                    <a:pt x="3814" y="1134"/>
                  </a:lnTo>
                  <a:lnTo>
                    <a:pt x="3804" y="1129"/>
                  </a:lnTo>
                  <a:lnTo>
                    <a:pt x="3789" y="1129"/>
                  </a:lnTo>
                  <a:lnTo>
                    <a:pt x="3774" y="1124"/>
                  </a:lnTo>
                  <a:lnTo>
                    <a:pt x="3759" y="1124"/>
                  </a:lnTo>
                  <a:lnTo>
                    <a:pt x="3749" y="1120"/>
                  </a:lnTo>
                  <a:lnTo>
                    <a:pt x="3734" y="1120"/>
                  </a:lnTo>
                  <a:lnTo>
                    <a:pt x="3719" y="1115"/>
                  </a:lnTo>
                  <a:lnTo>
                    <a:pt x="3703" y="1110"/>
                  </a:lnTo>
                  <a:lnTo>
                    <a:pt x="3693" y="1110"/>
                  </a:lnTo>
                  <a:lnTo>
                    <a:pt x="3678" y="1110"/>
                  </a:lnTo>
                  <a:lnTo>
                    <a:pt x="3663" y="1110"/>
                  </a:lnTo>
                  <a:lnTo>
                    <a:pt x="3648" y="1105"/>
                  </a:lnTo>
                  <a:lnTo>
                    <a:pt x="3638" y="1105"/>
                  </a:lnTo>
                  <a:lnTo>
                    <a:pt x="3623" y="1100"/>
                  </a:lnTo>
                  <a:lnTo>
                    <a:pt x="3608" y="1095"/>
                  </a:lnTo>
                  <a:lnTo>
                    <a:pt x="3593" y="1095"/>
                  </a:lnTo>
                  <a:lnTo>
                    <a:pt x="3578" y="1095"/>
                  </a:lnTo>
                  <a:lnTo>
                    <a:pt x="3563" y="1090"/>
                  </a:lnTo>
                  <a:lnTo>
                    <a:pt x="3553" y="1090"/>
                  </a:lnTo>
                  <a:lnTo>
                    <a:pt x="3538" y="1085"/>
                  </a:lnTo>
                  <a:lnTo>
                    <a:pt x="3528" y="1080"/>
                  </a:lnTo>
                  <a:lnTo>
                    <a:pt x="3512" y="1080"/>
                  </a:lnTo>
                  <a:lnTo>
                    <a:pt x="3497" y="1075"/>
                  </a:lnTo>
                  <a:lnTo>
                    <a:pt x="3482" y="1075"/>
                  </a:lnTo>
                  <a:lnTo>
                    <a:pt x="3472" y="1070"/>
                  </a:lnTo>
                  <a:lnTo>
                    <a:pt x="3457" y="1070"/>
                  </a:lnTo>
                  <a:lnTo>
                    <a:pt x="3442" y="1065"/>
                  </a:lnTo>
                  <a:lnTo>
                    <a:pt x="3427" y="1060"/>
                  </a:lnTo>
                  <a:lnTo>
                    <a:pt x="3412" y="1060"/>
                  </a:lnTo>
                  <a:lnTo>
                    <a:pt x="3397" y="1055"/>
                  </a:lnTo>
                  <a:lnTo>
                    <a:pt x="3387" y="1055"/>
                  </a:lnTo>
                  <a:lnTo>
                    <a:pt x="3372" y="1051"/>
                  </a:lnTo>
                  <a:lnTo>
                    <a:pt x="3357" y="1051"/>
                  </a:lnTo>
                  <a:lnTo>
                    <a:pt x="3347" y="1046"/>
                  </a:lnTo>
                  <a:lnTo>
                    <a:pt x="3332" y="1046"/>
                  </a:lnTo>
                  <a:lnTo>
                    <a:pt x="3316" y="1041"/>
                  </a:lnTo>
                  <a:lnTo>
                    <a:pt x="3306" y="1036"/>
                  </a:lnTo>
                  <a:lnTo>
                    <a:pt x="3291" y="1031"/>
                  </a:lnTo>
                  <a:lnTo>
                    <a:pt x="3276" y="1031"/>
                  </a:lnTo>
                  <a:lnTo>
                    <a:pt x="3261" y="1026"/>
                  </a:lnTo>
                  <a:lnTo>
                    <a:pt x="3246" y="1021"/>
                  </a:lnTo>
                  <a:lnTo>
                    <a:pt x="3236" y="1021"/>
                  </a:lnTo>
                  <a:lnTo>
                    <a:pt x="3221" y="1016"/>
                  </a:lnTo>
                  <a:lnTo>
                    <a:pt x="3206" y="1011"/>
                  </a:lnTo>
                  <a:lnTo>
                    <a:pt x="3196" y="1011"/>
                  </a:lnTo>
                  <a:lnTo>
                    <a:pt x="3181" y="1006"/>
                  </a:lnTo>
                  <a:lnTo>
                    <a:pt x="3166" y="1001"/>
                  </a:lnTo>
                  <a:lnTo>
                    <a:pt x="3151" y="996"/>
                  </a:lnTo>
                  <a:lnTo>
                    <a:pt x="3141" y="996"/>
                  </a:lnTo>
                  <a:lnTo>
                    <a:pt x="3126" y="991"/>
                  </a:lnTo>
                  <a:lnTo>
                    <a:pt x="3110" y="986"/>
                  </a:lnTo>
                  <a:lnTo>
                    <a:pt x="3095" y="981"/>
                  </a:lnTo>
                  <a:lnTo>
                    <a:pt x="3080" y="977"/>
                  </a:lnTo>
                  <a:lnTo>
                    <a:pt x="3060" y="972"/>
                  </a:lnTo>
                  <a:lnTo>
                    <a:pt x="3045" y="967"/>
                  </a:lnTo>
                  <a:lnTo>
                    <a:pt x="3030" y="962"/>
                  </a:lnTo>
                  <a:lnTo>
                    <a:pt x="3015" y="957"/>
                  </a:lnTo>
                  <a:lnTo>
                    <a:pt x="2995" y="947"/>
                  </a:lnTo>
                  <a:lnTo>
                    <a:pt x="2980" y="942"/>
                  </a:lnTo>
                  <a:lnTo>
                    <a:pt x="2965" y="937"/>
                  </a:lnTo>
                  <a:lnTo>
                    <a:pt x="2950" y="932"/>
                  </a:lnTo>
                  <a:lnTo>
                    <a:pt x="2930" y="927"/>
                  </a:lnTo>
                  <a:lnTo>
                    <a:pt x="2919" y="922"/>
                  </a:lnTo>
                  <a:lnTo>
                    <a:pt x="2899" y="917"/>
                  </a:lnTo>
                  <a:lnTo>
                    <a:pt x="2884" y="912"/>
                  </a:lnTo>
                  <a:lnTo>
                    <a:pt x="2869" y="908"/>
                  </a:lnTo>
                  <a:lnTo>
                    <a:pt x="2854" y="898"/>
                  </a:lnTo>
                  <a:lnTo>
                    <a:pt x="2839" y="893"/>
                  </a:lnTo>
                  <a:lnTo>
                    <a:pt x="2819" y="888"/>
                  </a:lnTo>
                  <a:lnTo>
                    <a:pt x="2804" y="883"/>
                  </a:lnTo>
                  <a:lnTo>
                    <a:pt x="2789" y="878"/>
                  </a:lnTo>
                  <a:lnTo>
                    <a:pt x="2774" y="868"/>
                  </a:lnTo>
                  <a:lnTo>
                    <a:pt x="2759" y="863"/>
                  </a:lnTo>
                  <a:lnTo>
                    <a:pt x="2739" y="858"/>
                  </a:lnTo>
                  <a:lnTo>
                    <a:pt x="2724" y="853"/>
                  </a:lnTo>
                  <a:lnTo>
                    <a:pt x="2708" y="848"/>
                  </a:lnTo>
                  <a:lnTo>
                    <a:pt x="2693" y="843"/>
                  </a:lnTo>
                  <a:lnTo>
                    <a:pt x="2678" y="834"/>
                  </a:lnTo>
                  <a:lnTo>
                    <a:pt x="2663" y="829"/>
                  </a:lnTo>
                  <a:lnTo>
                    <a:pt x="2643" y="824"/>
                  </a:lnTo>
                  <a:lnTo>
                    <a:pt x="2628" y="819"/>
                  </a:lnTo>
                  <a:lnTo>
                    <a:pt x="2618" y="814"/>
                  </a:lnTo>
                  <a:lnTo>
                    <a:pt x="2603" y="809"/>
                  </a:lnTo>
                  <a:lnTo>
                    <a:pt x="2583" y="799"/>
                  </a:lnTo>
                  <a:lnTo>
                    <a:pt x="2568" y="794"/>
                  </a:lnTo>
                  <a:lnTo>
                    <a:pt x="2553" y="789"/>
                  </a:lnTo>
                  <a:lnTo>
                    <a:pt x="2538" y="784"/>
                  </a:lnTo>
                  <a:lnTo>
                    <a:pt x="2517" y="779"/>
                  </a:lnTo>
                  <a:lnTo>
                    <a:pt x="2502" y="774"/>
                  </a:lnTo>
                  <a:lnTo>
                    <a:pt x="2487" y="769"/>
                  </a:lnTo>
                  <a:lnTo>
                    <a:pt x="2472" y="764"/>
                  </a:lnTo>
                  <a:lnTo>
                    <a:pt x="2457" y="755"/>
                  </a:lnTo>
                  <a:lnTo>
                    <a:pt x="2437" y="750"/>
                  </a:lnTo>
                  <a:lnTo>
                    <a:pt x="2422" y="745"/>
                  </a:lnTo>
                  <a:lnTo>
                    <a:pt x="2407" y="740"/>
                  </a:lnTo>
                  <a:lnTo>
                    <a:pt x="2392" y="735"/>
                  </a:lnTo>
                  <a:lnTo>
                    <a:pt x="2377" y="730"/>
                  </a:lnTo>
                  <a:lnTo>
                    <a:pt x="2357" y="725"/>
                  </a:lnTo>
                  <a:lnTo>
                    <a:pt x="2342" y="720"/>
                  </a:lnTo>
                  <a:lnTo>
                    <a:pt x="2327" y="715"/>
                  </a:lnTo>
                  <a:lnTo>
                    <a:pt x="2311" y="710"/>
                  </a:lnTo>
                  <a:lnTo>
                    <a:pt x="2291" y="705"/>
                  </a:lnTo>
                  <a:lnTo>
                    <a:pt x="2276" y="700"/>
                  </a:lnTo>
                  <a:lnTo>
                    <a:pt x="2261" y="695"/>
                  </a:lnTo>
                  <a:lnTo>
                    <a:pt x="2246" y="691"/>
                  </a:lnTo>
                  <a:lnTo>
                    <a:pt x="2226" y="686"/>
                  </a:lnTo>
                  <a:lnTo>
                    <a:pt x="2211" y="681"/>
                  </a:lnTo>
                  <a:lnTo>
                    <a:pt x="2196" y="676"/>
                  </a:lnTo>
                  <a:lnTo>
                    <a:pt x="2181" y="671"/>
                  </a:lnTo>
                  <a:lnTo>
                    <a:pt x="2161" y="671"/>
                  </a:lnTo>
                  <a:lnTo>
                    <a:pt x="2146" y="666"/>
                  </a:lnTo>
                  <a:lnTo>
                    <a:pt x="2131" y="661"/>
                  </a:lnTo>
                  <a:lnTo>
                    <a:pt x="2110" y="656"/>
                  </a:lnTo>
                  <a:lnTo>
                    <a:pt x="2095" y="651"/>
                  </a:lnTo>
                  <a:lnTo>
                    <a:pt x="2080" y="651"/>
                  </a:lnTo>
                  <a:lnTo>
                    <a:pt x="2050" y="641"/>
                  </a:lnTo>
                  <a:lnTo>
                    <a:pt x="2020" y="636"/>
                  </a:lnTo>
                  <a:lnTo>
                    <a:pt x="1990" y="631"/>
                  </a:lnTo>
                  <a:lnTo>
                    <a:pt x="1960" y="621"/>
                  </a:lnTo>
                  <a:lnTo>
                    <a:pt x="1930" y="617"/>
                  </a:lnTo>
                  <a:lnTo>
                    <a:pt x="1899" y="607"/>
                  </a:lnTo>
                  <a:lnTo>
                    <a:pt x="1869" y="602"/>
                  </a:lnTo>
                  <a:lnTo>
                    <a:pt x="1839" y="597"/>
                  </a:lnTo>
                  <a:lnTo>
                    <a:pt x="1809" y="592"/>
                  </a:lnTo>
                  <a:lnTo>
                    <a:pt x="1779" y="587"/>
                  </a:lnTo>
                  <a:lnTo>
                    <a:pt x="1749" y="577"/>
                  </a:lnTo>
                  <a:lnTo>
                    <a:pt x="1718" y="572"/>
                  </a:lnTo>
                  <a:lnTo>
                    <a:pt x="1688" y="567"/>
                  </a:lnTo>
                  <a:lnTo>
                    <a:pt x="1658" y="557"/>
                  </a:lnTo>
                  <a:lnTo>
                    <a:pt x="1628" y="552"/>
                  </a:lnTo>
                  <a:lnTo>
                    <a:pt x="1598" y="548"/>
                  </a:lnTo>
                  <a:lnTo>
                    <a:pt x="1568" y="543"/>
                  </a:lnTo>
                  <a:lnTo>
                    <a:pt x="1533" y="533"/>
                  </a:lnTo>
                  <a:lnTo>
                    <a:pt x="1502" y="528"/>
                  </a:lnTo>
                  <a:lnTo>
                    <a:pt x="1472" y="523"/>
                  </a:lnTo>
                  <a:lnTo>
                    <a:pt x="1442" y="513"/>
                  </a:lnTo>
                  <a:lnTo>
                    <a:pt x="1412" y="508"/>
                  </a:lnTo>
                  <a:lnTo>
                    <a:pt x="1377" y="503"/>
                  </a:lnTo>
                  <a:lnTo>
                    <a:pt x="1352" y="493"/>
                  </a:lnTo>
                  <a:lnTo>
                    <a:pt x="1316" y="488"/>
                  </a:lnTo>
                  <a:lnTo>
                    <a:pt x="1286" y="478"/>
                  </a:lnTo>
                  <a:lnTo>
                    <a:pt x="1256" y="474"/>
                  </a:lnTo>
                  <a:lnTo>
                    <a:pt x="1226" y="469"/>
                  </a:lnTo>
                  <a:lnTo>
                    <a:pt x="1196" y="459"/>
                  </a:lnTo>
                  <a:lnTo>
                    <a:pt x="1166" y="454"/>
                  </a:lnTo>
                  <a:lnTo>
                    <a:pt x="1136" y="444"/>
                  </a:lnTo>
                  <a:lnTo>
                    <a:pt x="1105" y="439"/>
                  </a:lnTo>
                  <a:lnTo>
                    <a:pt x="1070" y="429"/>
                  </a:lnTo>
                  <a:lnTo>
                    <a:pt x="1040" y="424"/>
                  </a:lnTo>
                  <a:lnTo>
                    <a:pt x="1010" y="414"/>
                  </a:lnTo>
                  <a:lnTo>
                    <a:pt x="980" y="409"/>
                  </a:lnTo>
                  <a:lnTo>
                    <a:pt x="950" y="400"/>
                  </a:lnTo>
                  <a:lnTo>
                    <a:pt x="919" y="390"/>
                  </a:lnTo>
                  <a:lnTo>
                    <a:pt x="889" y="385"/>
                  </a:lnTo>
                  <a:lnTo>
                    <a:pt x="859" y="375"/>
                  </a:lnTo>
                  <a:lnTo>
                    <a:pt x="824" y="365"/>
                  </a:lnTo>
                  <a:lnTo>
                    <a:pt x="799" y="360"/>
                  </a:lnTo>
                  <a:lnTo>
                    <a:pt x="764" y="350"/>
                  </a:lnTo>
                  <a:lnTo>
                    <a:pt x="733" y="340"/>
                  </a:lnTo>
                  <a:lnTo>
                    <a:pt x="703" y="331"/>
                  </a:lnTo>
                  <a:lnTo>
                    <a:pt x="673" y="326"/>
                  </a:lnTo>
                  <a:lnTo>
                    <a:pt x="648" y="311"/>
                  </a:lnTo>
                  <a:lnTo>
                    <a:pt x="618" y="306"/>
                  </a:lnTo>
                  <a:lnTo>
                    <a:pt x="588" y="296"/>
                  </a:lnTo>
                  <a:lnTo>
                    <a:pt x="558" y="286"/>
                  </a:lnTo>
                  <a:lnTo>
                    <a:pt x="527" y="276"/>
                  </a:lnTo>
                  <a:lnTo>
                    <a:pt x="502" y="266"/>
                  </a:lnTo>
                  <a:lnTo>
                    <a:pt x="472" y="252"/>
                  </a:lnTo>
                  <a:lnTo>
                    <a:pt x="442" y="242"/>
                  </a:lnTo>
                  <a:lnTo>
                    <a:pt x="412" y="232"/>
                  </a:lnTo>
                  <a:lnTo>
                    <a:pt x="387" y="222"/>
                  </a:lnTo>
                  <a:lnTo>
                    <a:pt x="357" y="207"/>
                  </a:lnTo>
                  <a:lnTo>
                    <a:pt x="326" y="197"/>
                  </a:lnTo>
                  <a:lnTo>
                    <a:pt x="301" y="183"/>
                  </a:lnTo>
                  <a:lnTo>
                    <a:pt x="271" y="173"/>
                  </a:lnTo>
                  <a:lnTo>
                    <a:pt x="241" y="163"/>
                  </a:lnTo>
                  <a:lnTo>
                    <a:pt x="216" y="148"/>
                  </a:lnTo>
                  <a:lnTo>
                    <a:pt x="186" y="133"/>
                  </a:lnTo>
                  <a:lnTo>
                    <a:pt x="161" y="123"/>
                  </a:lnTo>
                  <a:lnTo>
                    <a:pt x="156" y="118"/>
                  </a:lnTo>
                  <a:lnTo>
                    <a:pt x="156" y="114"/>
                  </a:lnTo>
                  <a:lnTo>
                    <a:pt x="151" y="104"/>
                  </a:lnTo>
                  <a:lnTo>
                    <a:pt x="146" y="89"/>
                  </a:lnTo>
                  <a:lnTo>
                    <a:pt x="135" y="84"/>
                  </a:lnTo>
                  <a:lnTo>
                    <a:pt x="130" y="74"/>
                  </a:lnTo>
                  <a:lnTo>
                    <a:pt x="120" y="64"/>
                  </a:lnTo>
                  <a:lnTo>
                    <a:pt x="110" y="54"/>
                  </a:lnTo>
                  <a:lnTo>
                    <a:pt x="95" y="40"/>
                  </a:lnTo>
                  <a:lnTo>
                    <a:pt x="80" y="30"/>
                  </a:lnTo>
                  <a:lnTo>
                    <a:pt x="65" y="20"/>
                  </a:lnTo>
                  <a:lnTo>
                    <a:pt x="45" y="1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5" y="15"/>
                  </a:lnTo>
                  <a:lnTo>
                    <a:pt x="0" y="25"/>
                  </a:lnTo>
                  <a:lnTo>
                    <a:pt x="5" y="44"/>
                  </a:lnTo>
                  <a:lnTo>
                    <a:pt x="5" y="54"/>
                  </a:lnTo>
                  <a:lnTo>
                    <a:pt x="10" y="64"/>
                  </a:lnTo>
                  <a:lnTo>
                    <a:pt x="15" y="74"/>
                  </a:lnTo>
                  <a:lnTo>
                    <a:pt x="20" y="84"/>
                  </a:lnTo>
                  <a:lnTo>
                    <a:pt x="20" y="94"/>
                  </a:lnTo>
                  <a:lnTo>
                    <a:pt x="25" y="104"/>
                  </a:lnTo>
                  <a:lnTo>
                    <a:pt x="30" y="118"/>
                  </a:lnTo>
                  <a:lnTo>
                    <a:pt x="35" y="128"/>
                  </a:lnTo>
                  <a:lnTo>
                    <a:pt x="40" y="138"/>
                  </a:lnTo>
                  <a:lnTo>
                    <a:pt x="45" y="148"/>
                  </a:lnTo>
                  <a:lnTo>
                    <a:pt x="50" y="153"/>
                  </a:lnTo>
                  <a:lnTo>
                    <a:pt x="55" y="168"/>
                  </a:lnTo>
                  <a:lnTo>
                    <a:pt x="60" y="183"/>
                  </a:lnTo>
                  <a:lnTo>
                    <a:pt x="65" y="192"/>
                  </a:lnTo>
                  <a:lnTo>
                    <a:pt x="70" y="202"/>
                  </a:lnTo>
                  <a:lnTo>
                    <a:pt x="75" y="207"/>
                  </a:lnTo>
                  <a:lnTo>
                    <a:pt x="75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1371600" y="1981080"/>
            <a:ext cx="57913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cenario 8: Derrick Duplicated left your college in 1992 and then Defaulted on his Perkins Lo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You subrogated the loan to FSA in 1999 and now the loan is duplicated on NSLDS:  one assigned to your college, the other to Debt Collection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rot="21156000">
            <a:off x="5029200" y="47124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23-45-67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A5AC-9193-4478-B0EB-10AC50C21A9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5" name=""/>
          <p:cNvGraphicFramePr/>
          <p:nvPr/>
        </p:nvGraphicFramePr>
        <p:xfrm>
          <a:off x="304920" y="2133720"/>
          <a:ext cx="8275680" cy="14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27568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304920" y="3809880"/>
          <a:ext cx="8294400" cy="12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809880"/>
                    <a:ext cx="829440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uplicate Perkins Loa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66D-72BE-444A-BF83-48F660E40B2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uplicate Perkins Loa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ssue: Duplicated Perkins loa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Effects of the Conflict: Student’s indebtedness is not accurately reflected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solution: Report the Duplicated Loan to NSLDS to facilitate data correction proces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A9D1-7E22-4A4C-9E74-317FB18A83A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uplicate Perkins Loa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NSLDS will ask you to provide (when NSLDS is the Data Provider of last resort):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Authorization to allow NSLDS to make the correction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All of the loan identifiers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The exact reason why the school (or its Servicer) can not make the  update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Work with DCS if additional action is necessary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C996-67E6-4776-B63B-A96CD3B8DA9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4" name=""/>
          <p:cNvGraphicFramePr/>
          <p:nvPr/>
        </p:nvGraphicFramePr>
        <p:xfrm>
          <a:off x="380880" y="2590920"/>
          <a:ext cx="828828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90920"/>
                    <a:ext cx="828828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"/>
          <p:cNvSpPr/>
          <p:nvPr/>
        </p:nvSpPr>
        <p:spPr>
          <a:xfrm>
            <a:off x="914400" y="1600200"/>
            <a:ext cx="48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sult of resolu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3"/>
          <a:stretch/>
        </p:blipFill>
        <p:spPr>
          <a:xfrm>
            <a:off x="428760" y="4219560"/>
            <a:ext cx="8258040" cy="141912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uplicate Perkins Loa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2875-B3B5-4365-A565-5F59B10D42D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609480" y="9907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066680" y="198108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We appreciate your feedback and comments.  We can be reached 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066680" y="3200400"/>
            <a:ext cx="7086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Phone: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800-999-82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Fax: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785-838-21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Web: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www.nsldsfap.ed.g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Email: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nslds@pearson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7E8-105D-4A71-812F-86200ED5E43A}" type="slidenum">
              <a:t>65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verpaym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porting Overpayments to NSLD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971800" y="2971800"/>
          <a:ext cx="2914560" cy="4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971800"/>
                    <a:ext cx="291456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858000" y="2971800"/>
          <a:ext cx="914400" cy="6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2971800"/>
                    <a:ext cx="9144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80880" y="3657600"/>
            <a:ext cx="8371080" cy="133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A650-EB1B-4C0D-BB57-D71981772C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verpaym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Resolution Results: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Postscreened ISIR generated to alert other schools of Overpayment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omment Code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 flag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Web displays Icon to highlight overpayment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5F5-3E24-418C-821D-8CFC5BACCC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209680" y="3809880"/>
            <a:ext cx="5781960" cy="1857600"/>
            <a:chOff x="2209680" y="3809880"/>
            <a:chExt cx="5781960" cy="1857600"/>
          </a:xfrm>
        </p:grpSpPr>
        <p:graphicFrame>
          <p:nvGraphicFramePr>
            <p:cNvPr id="103" name=""/>
            <p:cNvGraphicFramePr/>
            <p:nvPr/>
          </p:nvGraphicFramePr>
          <p:xfrm>
            <a:off x="2209680" y="4114800"/>
            <a:ext cx="5781960" cy="15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09680" y="4114800"/>
                      <a:ext cx="578196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2286000" y="3809880"/>
            <a:ext cx="1781280" cy="181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0" y="3809880"/>
                      <a:ext cx="17812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7" name=""/>
          <p:cNvGraphicFramePr/>
          <p:nvPr/>
        </p:nvGraphicFramePr>
        <p:xfrm>
          <a:off x="4114800" y="5638680"/>
          <a:ext cx="2724120" cy="44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5638680"/>
                    <a:ext cx="27241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6629400" y="3124080"/>
          <a:ext cx="914400" cy="657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3124080"/>
                    <a:ext cx="9144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304920" y="3809880"/>
            <a:ext cx="1447560" cy="1862280"/>
            <a:chOff x="304920" y="3809880"/>
            <a:chExt cx="1447560" cy="1862280"/>
          </a:xfrm>
        </p:grpSpPr>
        <p:grpSp>
          <p:nvGrpSpPr>
            <p:cNvPr id="112" name=""/>
            <p:cNvGrpSpPr/>
            <p:nvPr/>
          </p:nvGrpSpPr>
          <p:grpSpPr>
            <a:xfrm>
              <a:off x="304920" y="3809880"/>
              <a:ext cx="1447560" cy="1841760"/>
              <a:chOff x="304920" y="3809880"/>
              <a:chExt cx="1447560" cy="1841760"/>
            </a:xfrm>
          </p:grpSpPr>
          <p:graphicFrame>
            <p:nvGraphicFramePr>
              <p:cNvPr id="113" name=""/>
              <p:cNvGraphicFramePr/>
              <p:nvPr/>
            </p:nvGraphicFramePr>
            <p:xfrm>
              <a:off x="304920" y="3809880"/>
              <a:ext cx="1447560" cy="10191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14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04920" y="3809880"/>
                        <a:ext cx="1447560" cy="1019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1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4920" y="5105520"/>
                <a:ext cx="12949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" name=""/>
            <p:cNvSpPr/>
            <p:nvPr/>
          </p:nvSpPr>
          <p:spPr>
            <a:xfrm>
              <a:off x="304920" y="4343400"/>
              <a:ext cx="304560" cy="30492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2520" y="5443560"/>
              <a:ext cx="533160" cy="22860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verpaym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Clearing Overpayment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Web Warning Icon disappear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Postscreened ISIR generated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970-D842-49E4-8E9A-F599684242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6:35:40Z</dcterms:created>
  <dc:creator>James Burt</dc:creator>
  <dc:description/>
  <dc:language>en-US</dc:language>
  <cp:lastModifiedBy>2005 EAC</cp:lastModifiedBy>
  <dcterms:modified xsi:type="dcterms:W3CDTF">2005-12-02T17:28:06Z</dcterms:modified>
  <cp:revision>495</cp:revision>
  <dc:subject/>
  <dc:title>PowerPoint Presentation</dc:title>
</cp:coreProperties>
</file>