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9.wmf" ContentType="image/x-wmf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99D-E009-4A36-9243-14758940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990-7B3E-40A7-A93E-3F4172BD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F87-5BA4-43CA-BDF3-DA33B587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D44-69B9-4487-84AB-13C5040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41A-10C4-47BF-9DE6-A2E85DD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6A5-86CA-4349-A664-63422A2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F47-1CCE-4436-9C69-FCFA4E6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A50-39E1-4FAE-8877-D522C1B2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DA7-C5D6-45EF-BF56-E4328F3A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B3E-8913-4A99-9A50-932DD02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A5C-42EC-4FB9-A041-4ADC640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3EA-1E67-4154-9EC3-3979352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011-7911-488E-951F-E1A2C973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eannouncements/0623MyFSAPassword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sa4schools.ed.gov/SCHOOLSWebApp/index.js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Knowledge is Power: the FSA Schools Portal and IFAP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Marcello Rojtma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y FSA - Customization 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806560"/>
            <a:ext cx="4038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11519" r="0" b="5805"/>
          <a:stretch/>
        </p:blipFill>
        <p:spPr>
          <a:xfrm>
            <a:off x="1143000" y="2133720"/>
            <a:ext cx="6477120" cy="36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11185" r="0" b="4329"/>
          <a:stretch/>
        </p:blipFill>
        <p:spPr>
          <a:xfrm>
            <a:off x="1143000" y="2057400"/>
            <a:ext cx="6553080" cy="375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11101" r="0" b="5805"/>
          <a:stretch/>
        </p:blipFill>
        <p:spPr>
          <a:xfrm>
            <a:off x="1143000" y="2057400"/>
            <a:ext cx="6629400" cy="373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2799" r="0" b="5805"/>
          <a:stretch/>
        </p:blipFill>
        <p:spPr>
          <a:xfrm>
            <a:off x="1143000" y="2133720"/>
            <a:ext cx="6629400" cy="3662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rcRect l="0" t="12792" r="0" b="5805"/>
          <a:stretch/>
        </p:blipFill>
        <p:spPr>
          <a:xfrm>
            <a:off x="1143000" y="2133720"/>
            <a:ext cx="6629400" cy="366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rcRect l="0" t="11101" r="0" b="5805"/>
          <a:stretch/>
        </p:blipFill>
        <p:spPr>
          <a:xfrm>
            <a:off x="1143000" y="2057400"/>
            <a:ext cx="6629400" cy="373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rcRect l="0" t="9953" r="0" b="4329"/>
          <a:stretch/>
        </p:blipFill>
        <p:spPr>
          <a:xfrm>
            <a:off x="1143000" y="2057400"/>
            <a:ext cx="6324480" cy="367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rcRect l="0" t="11324" r="0" b="4329"/>
          <a:stretch/>
        </p:blipFill>
        <p:spPr>
          <a:xfrm>
            <a:off x="1143000" y="2133720"/>
            <a:ext cx="6629400" cy="3795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rcRect l="0" t="12799" r="0" b="5805"/>
          <a:stretch/>
        </p:blipFill>
        <p:spPr>
          <a:xfrm>
            <a:off x="1143000" y="2133720"/>
            <a:ext cx="6629400" cy="36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24B-AA3E-4A6D-8B13-2E50F5DB0A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Security 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680-83FA-43C9-8D2D-E93731B4E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n My F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806560"/>
            <a:ext cx="4038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uidance on new security controls is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lectronic Announcement published on June 23, 2005 titled: “</a:t>
            </a:r>
            <a:r>
              <a:rPr b="0" i="1" lang="en-US" sz="2800" spc="-1" strike="noStrike">
                <a:solidFill>
                  <a:srgbClr val="006979"/>
                </a:solidFill>
                <a:latin typeface="Arial"/>
              </a:rPr>
              <a:t>Summary: This announcement briefly describes the Schools Portal's My FSA customization feature, and then explains the security enhancements that will be added to My FSA beginning Monday, June 27</a:t>
            </a:r>
            <a:r>
              <a:rPr b="0" lang="en-US" sz="2800" spc="-1" strike="noStrike">
                <a:solidFill>
                  <a:srgbClr val="00697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eannouncements/0623MyFSAPasswo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644-188A-4380-89DE-9CDBC7BE5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Password must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e unique from the last five previously used passwords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e eight characters long with a mix of alpha and numeric characters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Use upper and lowercase letters (Note: Passwords are case sensitive)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ontain at least one special character (Note: special characters consist of !@#$^*()_-+={[}]|:;,.~.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1CC-2763-4B9C-80E7-18BE33A468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mit to three login attempts before account is locked.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assword expires a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ter 90 days so immediately upon initial login, the user will be forced to change their password.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B8A-A79F-489C-8544-5AA61542F6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hange password” message on My FSA homepage will appear 5 days before the password expires.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336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429000"/>
            <a:ext cx="3809520" cy="2437560"/>
            <a:chOff x="2743200" y="3429000"/>
            <a:chExt cx="3809520" cy="24375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15334" r="57003" b="54004"/>
            <a:stretch/>
          </p:blipFill>
          <p:spPr>
            <a:xfrm>
              <a:off x="2743200" y="3429000"/>
              <a:ext cx="3809520" cy="23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34366" r="52201" b="53762"/>
            <a:stretch/>
          </p:blipFill>
          <p:spPr>
            <a:xfrm>
              <a:off x="2743200" y="4952520"/>
              <a:ext cx="38095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F35-F093-4E6A-8D07-9910851A9B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31A-7191-4885-A8BF-E501247BE1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ormation for Financial Aid Professionals – IFA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ifap.ed.gov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Online library for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Aid Professionals.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ost up to date guidance on administering Title 4  Federal Student Aid Programs.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pecial Link to guidance for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hools, Students,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Partners, and Borrowers affecte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y the hurricane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3923" r="1960" b="47714"/>
          <a:stretch/>
        </p:blipFill>
        <p:spPr>
          <a:xfrm>
            <a:off x="4876920" y="342900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AD5-83C2-4E30-8105-83BDA4307FD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Special Guidanc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pecial guidance is placed in one area for easy retrieval.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4169" r="0" b="23936"/>
          <a:stretch/>
        </p:blipFill>
        <p:spPr>
          <a:xfrm>
            <a:off x="2057400" y="2362320"/>
            <a:ext cx="6781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9DA-F237-40A4-97A0-15DA0FA832E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1143000"/>
            <a:ext cx="2819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Mast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eb Page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atego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Popular Publications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and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3125" r="3127" b="0"/>
          <a:stretch/>
        </p:blipFill>
        <p:spPr>
          <a:xfrm>
            <a:off x="4114800" y="1066680"/>
            <a:ext cx="4419720" cy="40388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895480" y="1752480"/>
            <a:ext cx="2057400" cy="1981440"/>
            <a:chOff x="2895480" y="1752480"/>
            <a:chExt cx="2057400" cy="1981440"/>
          </a:xfrm>
        </p:grpSpPr>
        <p:sp>
          <p:nvSpPr>
            <p:cNvPr id="127" name=""/>
            <p:cNvSpPr/>
            <p:nvPr/>
          </p:nvSpPr>
          <p:spPr>
            <a:xfrm>
              <a:off x="4114800" y="1752480"/>
              <a:ext cx="838080" cy="19814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895480"/>
              <a:ext cx="12193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971800" y="1752480"/>
            <a:ext cx="5562720" cy="3353040"/>
            <a:chOff x="2971800" y="1752480"/>
            <a:chExt cx="5562720" cy="3353040"/>
          </a:xfrm>
        </p:grpSpPr>
        <p:sp>
          <p:nvSpPr>
            <p:cNvPr id="130" name=""/>
            <p:cNvSpPr/>
            <p:nvPr/>
          </p:nvSpPr>
          <p:spPr>
            <a:xfrm>
              <a:off x="5029200" y="1752480"/>
              <a:ext cx="3505320" cy="3353040"/>
            </a:xfrm>
            <a:prstGeom prst="rect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1800" y="464832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895480" y="1066680"/>
            <a:ext cx="5639040" cy="685800"/>
            <a:chOff x="2895480" y="1066680"/>
            <a:chExt cx="5639040" cy="685800"/>
          </a:xfrm>
        </p:grpSpPr>
        <p:sp>
          <p:nvSpPr>
            <p:cNvPr id="133" name=""/>
            <p:cNvSpPr/>
            <p:nvPr/>
          </p:nvSpPr>
          <p:spPr>
            <a:xfrm>
              <a:off x="4114800" y="1066680"/>
              <a:ext cx="4419720" cy="685800"/>
            </a:xfrm>
            <a:prstGeom prst="rect">
              <a:avLst/>
            </a:pr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371600"/>
              <a:ext cx="121932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7AB-F4BF-4AE9-874D-273B4A44C014}" type="slidenum">
              <a:t>19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39860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B22-D1C9-4266-A63B-E9E0343CC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Current FSA Publication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6665" r="2249" b="0"/>
          <a:stretch/>
        </p:blipFill>
        <p:spPr>
          <a:xfrm>
            <a:off x="1143000" y="1447920"/>
            <a:ext cx="723888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4C2-FD8B-4477-A0C1-1482C1EA8C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Member Services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A29-4CFC-49D0-B3AB-B2FF199869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867280" y="1638360"/>
            <a:ext cx="2911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Notification of new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ember Services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ifferent from 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853-F0CF-4475-A502-6F97E9FF43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 -- Registration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Member Service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Click Here to Register.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omplete the IFAP User Registration form and select the Submit Registration Button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15334" r="0" b="4668"/>
          <a:stretch/>
        </p:blipFill>
        <p:spPr>
          <a:xfrm>
            <a:off x="5257800" y="1828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3333" r="0" b="4668"/>
          <a:stretch/>
        </p:blipFill>
        <p:spPr>
          <a:xfrm>
            <a:off x="5105520" y="1828800"/>
            <a:ext cx="396216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0" t="3333" r="0" b="7333"/>
          <a:stretch/>
        </p:blipFill>
        <p:spPr>
          <a:xfrm>
            <a:off x="5029200" y="1828800"/>
            <a:ext cx="4038480" cy="2706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0" t="3333" r="0" b="4668"/>
          <a:stretch/>
        </p:blipFill>
        <p:spPr>
          <a:xfrm>
            <a:off x="5029200" y="1828800"/>
            <a:ext cx="403848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1A9-CC4E-4AD1-B4A6-5DE5D1ED35F9}" type="slidenum">
              <a:t>23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685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-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ubscription Servic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91320" y="1295280"/>
            <a:ext cx="3047760" cy="4838760"/>
            <a:chOff x="5791320" y="1295280"/>
            <a:chExt cx="3047760" cy="4838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0" r="2438" b="0"/>
            <a:stretch/>
          </p:blipFill>
          <p:spPr>
            <a:xfrm>
              <a:off x="5791320" y="1295280"/>
              <a:ext cx="3047760" cy="16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rcRect l="0" t="33308" r="2438" b="0"/>
            <a:stretch/>
          </p:blipFill>
          <p:spPr>
            <a:xfrm>
              <a:off x="5791320" y="2970360"/>
              <a:ext cx="304776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rcRect l="0" t="27418" r="2438" b="0"/>
            <a:stretch/>
          </p:blipFill>
          <p:spPr>
            <a:xfrm>
              <a:off x="5791320" y="4086360"/>
              <a:ext cx="304776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rcRect l="0" t="50797" r="2438" b="0"/>
            <a:stretch/>
          </p:blipFill>
          <p:spPr>
            <a:xfrm>
              <a:off x="5791320" y="5310360"/>
              <a:ext cx="3047760" cy="82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1295280" y="1447920"/>
            <a:ext cx="2895480" cy="4438440"/>
            <a:chOff x="1295280" y="1447920"/>
            <a:chExt cx="2895480" cy="443844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rcRect l="0" t="0" r="2565" b="7692"/>
            <a:stretch/>
          </p:blipFill>
          <p:spPr>
            <a:xfrm>
              <a:off x="1295280" y="1447920"/>
              <a:ext cx="2895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rcRect l="0" t="61545" r="2565" b="0"/>
            <a:stretch/>
          </p:blipFill>
          <p:spPr>
            <a:xfrm>
              <a:off x="1295280" y="3505320"/>
              <a:ext cx="28954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rcRect l="0" t="30769" r="2565" b="0"/>
            <a:stretch/>
          </p:blipFill>
          <p:spPr>
            <a:xfrm>
              <a:off x="1295280" y="4343400"/>
              <a:ext cx="2895480" cy="15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419720" y="1371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e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7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48 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EC6-16E9-441A-BF04-711C1E0C395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IFAP—Member Services Case Study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200400"/>
            <a:ext cx="7635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Thomas has a new job with new different responsibilities. He would like to make sure his Member Services profile is updated with his new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How does Thomas update the IFAP Member Services prof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81944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441-FE41-485D-8DCD-4A4D8E783EC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9F5-A7FC-4817-AF0F-71E59E61E2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arch Engine – Powered by Googl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438280"/>
            <a:ext cx="306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or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ort By Date or Rele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Blue Status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F62-28B3-4F3F-BCF7-ED5D072E7D1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32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Use the FAP search to search all FSA web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Use IFAP to search IFAP cont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3360" y="762120"/>
            <a:ext cx="68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Google is on both FAP and IFAP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15334" r="0" b="56669"/>
          <a:stretch/>
        </p:blipFill>
        <p:spPr>
          <a:xfrm>
            <a:off x="3657600" y="1981080"/>
            <a:ext cx="5029200" cy="1055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3125" r="3127" b="62504"/>
          <a:stretch/>
        </p:blipFill>
        <p:spPr>
          <a:xfrm>
            <a:off x="3657600" y="3581280"/>
            <a:ext cx="518148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2B4-117C-4D3D-9EC6-0EC1E01CD2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410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Automatically checks spelling and makes sugges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3333" r="0" b="7333"/>
          <a:stretch/>
        </p:blipFill>
        <p:spPr>
          <a:xfrm>
            <a:off x="1523880" y="1447920"/>
            <a:ext cx="5791320" cy="3879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7080" y="7621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arch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C3C-A159-40FB-8BBD-726DCD9B5F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8120"/>
            <a:ext cx="4267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ateway to Financial Aid Professional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Head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n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ederal Student Aid Schools Portal/ Financial Aid Professionals Portal -F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981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fsa4schools.ed.gov</a:t>
            </a:r>
            <a:r>
              <a:rPr b="0" lang="en-US" sz="2400" spc="-1" strike="noStrike">
                <a:solidFill>
                  <a:srgbClr val="c7862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622-D86C-4E63-97EC-B23DEC584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0574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arch Phrases by using Qu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arch with the “OR”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arch – with Google Operato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5334" r="3000" b="8669"/>
          <a:stretch/>
        </p:blipFill>
        <p:spPr>
          <a:xfrm>
            <a:off x="2362320" y="1878120"/>
            <a:ext cx="640080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724-9ACB-4F80-8E4D-122E81C5E7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3553" r="0" b="0"/>
          <a:stretch/>
        </p:blipFill>
        <p:spPr>
          <a:xfrm>
            <a:off x="3276720" y="1905120"/>
            <a:ext cx="5715000" cy="4133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0" t="28004" r="60003" b="48000"/>
          <a:stretch/>
        </p:blipFill>
        <p:spPr>
          <a:xfrm>
            <a:off x="76320" y="1828800"/>
            <a:ext cx="3047760" cy="1371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656160"/>
            <a:ext cx="29718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-” Operator is used to exclude an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e Googles web page for more information about Google Operators a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www.google.com/help/refine search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arch – with Google Operato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DCC-216D-4F88-8FE8-74BB78BD6A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3125" r="2344" b="62504"/>
          <a:stretch/>
        </p:blipFill>
        <p:spPr>
          <a:xfrm>
            <a:off x="2438280" y="3733920"/>
            <a:ext cx="6324840" cy="226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812880"/>
            <a:ext cx="45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15334" r="0" b="56669"/>
          <a:stretch/>
        </p:blipFill>
        <p:spPr>
          <a:xfrm>
            <a:off x="2514600" y="1676520"/>
            <a:ext cx="6400800" cy="1342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477120" y="2362320"/>
            <a:ext cx="685800" cy="4572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5410080"/>
            <a:ext cx="990720" cy="4572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86000"/>
            <a:ext cx="22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dvance search option is available on both FAP and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C81-89A1-4792-A3A1-42E2A1D05F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520" y="838080"/>
            <a:ext cx="59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 on F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33920" y="1447920"/>
            <a:ext cx="5181480" cy="4495320"/>
            <a:chOff x="3733920" y="1447920"/>
            <a:chExt cx="5181480" cy="44953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35337" r="0" b="8669"/>
            <a:stretch/>
          </p:blipFill>
          <p:spPr>
            <a:xfrm>
              <a:off x="3733920" y="3845520"/>
              <a:ext cx="5181480" cy="20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0" t="16670" r="0" b="16670"/>
            <a:stretch/>
          </p:blipFill>
          <p:spPr>
            <a:xfrm>
              <a:off x="3733920" y="1447920"/>
              <a:ext cx="5181480" cy="249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228600" y="1828800"/>
            <a:ext cx="358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FSA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the amount of results that appear on a web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D91-9C57-4648-A018-AB8EBE3437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9520" y="762120"/>
            <a:ext cx="61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 on IF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1523880"/>
            <a:ext cx="5105520" cy="3809880"/>
            <a:chOff x="3657600" y="1523880"/>
            <a:chExt cx="5105520" cy="38098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rcRect l="1998" t="15334" r="4001" b="7333"/>
            <a:stretch/>
          </p:blipFill>
          <p:spPr>
            <a:xfrm>
              <a:off x="3657600" y="2546640"/>
              <a:ext cx="504468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rcRect l="0" t="17999" r="0" b="52668"/>
            <a:stretch/>
          </p:blipFill>
          <p:spPr>
            <a:xfrm>
              <a:off x="3657600" y="1523880"/>
              <a:ext cx="5105520" cy="10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152280" y="18288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the amount of results that appear on a web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D6B-4F04-43BC-B989-CFCDB14340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Enhancements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C3A-B7E4-4455-9A83-6B64B9CC5F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s for FAP and IFAP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FAP included in the “</a:t>
            </a: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ADvance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” initiativ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Customize calenda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More functional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IFAP Redesign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Implementing the latest web technolog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Design for ease of use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87F-22F3-4C5F-9067-46DA7671C1E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</a:rPr>
              <a:t>Listserv - 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228-025F-4784-BFED-4D06403E78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Listserv - FSA TECH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87631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r technical questions about FSA systems, software, and mainframe products. Answers are researched by FSA systems developers and sent to everyone on the listse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o Sign up for FSA Tech or Change FSATECH Digest Options: http://www.ed.gov/offices/OSFAP/services/fsatechsubscrib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r Assistance E-mail at  fsa.customer.support@ed.gov or call 1.800.433.7327 if you have any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890-9F60-4BB2-9403-ABC84CA8E4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027-D763-4282-83B3-EDD8B1FB11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600" y="1295280"/>
            <a:ext cx="6019560" cy="4640400"/>
            <a:chOff x="1371600" y="1295280"/>
            <a:chExt cx="6019560" cy="4640400"/>
          </a:xfrm>
        </p:grpSpPr>
        <p:sp>
          <p:nvSpPr>
            <p:cNvPr id="53" name=""/>
            <p:cNvSpPr/>
            <p:nvPr/>
          </p:nvSpPr>
          <p:spPr>
            <a:xfrm>
              <a:off x="1371600" y="1295280"/>
              <a:ext cx="43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979"/>
                  </a:solidFill>
                  <a:latin typeface="Times New Roman"/>
                </a:rPr>
                <a:t>The look of  yesterda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371600" y="2057400"/>
              <a:ext cx="6019560" cy="38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753-DB86-4AB7-99D7-B90EA73E5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871200"/>
            <a:ext cx="8381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er Service Center – 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er Service 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700360"/>
            <a:ext cx="861048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rogram and operational questions regarding FSA Progra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Hours: 9 AM to 5 PM Eastern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Voice Mail is available during off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oll Free Telephone Number: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1-800-433-73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ax number:                           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1-202-275-5532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-Mail:             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fsa.customer.support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A3D-023D-498A-B0A8-A62CB9F6E2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905120"/>
            <a:ext cx="716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oth the FAP Portal and IFAP web sites provide timely information to the Financial Aid Community regardless of location or time of day.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C54-833E-4D08-8811-753FB84AFAB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Customer Service Case Study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5146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Nicki and Thomas attended Marcello’s EAC presentation on the FAP Portal and IFAP and would like an electronic copy of the presentation to use to brief their colleagues at “home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What should they do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5160" y="5022720"/>
            <a:ext cx="1819440" cy="16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202-B0AF-4346-AC57-AF735517FA2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160020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7080" y="685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FB2-5D61-4F30-A2EA-592B2FFFB5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276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Questions and Com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Knowledge is Power: the FAP Portal and IFAP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F49-E851-43FC-B69A-7174976DA6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lease join us in the PC Lab for further discussion, questions, or demonstration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Knowledge is Power: the FAP Portal and IFAP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New Name and New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D66-D87D-4C9A-B582-AF5DCFA207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24200"/>
            <a:ext cx="5790960" cy="394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inancial Aid Professionals - F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50640" y="2666880"/>
            <a:ext cx="2206800" cy="3428280"/>
            <a:chOff x="3050640" y="2666880"/>
            <a:chExt cx="2206800" cy="3428280"/>
          </a:xfrm>
        </p:grpSpPr>
        <p:sp>
          <p:nvSpPr>
            <p:cNvPr id="61" name=""/>
            <p:cNvSpPr/>
            <p:nvPr/>
          </p:nvSpPr>
          <p:spPr>
            <a:xfrm>
              <a:off x="3129840" y="5537520"/>
              <a:ext cx="2127600" cy="5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eff7f8"/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50640" y="5537520"/>
              <a:ext cx="20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FSA Calend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29840" y="2666880"/>
              <a:ext cx="2127600" cy="247176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0"/>
              <a:endCxn id="63" idx="2"/>
            </p:cNvCxnSpPr>
            <p:nvPr/>
          </p:nvCxnSpPr>
          <p:spPr>
            <a:xfrm flipV="1">
              <a:off x="4193280" y="5158080"/>
              <a:ext cx="1080" cy="359640"/>
            </a:xfrm>
            <a:prstGeom prst="straightConnector1">
              <a:avLst/>
            </a:prstGeom>
            <a:ln w="38160">
              <a:solidFill>
                <a:srgbClr val="99cc00"/>
              </a:solidFill>
              <a:miter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5257800" y="2666880"/>
            <a:ext cx="3886200" cy="2590920"/>
            <a:chOff x="5257800" y="2666880"/>
            <a:chExt cx="3886200" cy="2590920"/>
          </a:xfrm>
        </p:grpSpPr>
        <p:sp>
          <p:nvSpPr>
            <p:cNvPr id="66" name=""/>
            <p:cNvSpPr/>
            <p:nvPr/>
          </p:nvSpPr>
          <p:spPr>
            <a:xfrm>
              <a:off x="5257800" y="2666880"/>
              <a:ext cx="2057400" cy="25909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43800" y="3504960"/>
              <a:ext cx="1447560" cy="8384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67480" y="342900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F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Head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 flipV="1">
              <a:off x="7333920" y="3923640"/>
              <a:ext cx="191160" cy="385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</p:grpSp>
      <p:grpSp>
        <p:nvGrpSpPr>
          <p:cNvPr id="70" name=""/>
          <p:cNvGrpSpPr/>
          <p:nvPr/>
        </p:nvGrpSpPr>
        <p:grpSpPr>
          <a:xfrm>
            <a:off x="49320" y="1905120"/>
            <a:ext cx="7418160" cy="761760"/>
            <a:chOff x="49320" y="1905120"/>
            <a:chExt cx="7418160" cy="761760"/>
          </a:xfrm>
        </p:grpSpPr>
        <p:sp>
          <p:nvSpPr>
            <p:cNvPr id="71" name=""/>
            <p:cNvSpPr/>
            <p:nvPr/>
          </p:nvSpPr>
          <p:spPr>
            <a:xfrm>
              <a:off x="49320" y="2057400"/>
              <a:ext cx="1450800" cy="5335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60" y="213372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Mast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1905120"/>
              <a:ext cx="5790960" cy="761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2" idx="3"/>
              <a:endCxn id="73" idx="1"/>
            </p:cNvCxnSpPr>
            <p:nvPr/>
          </p:nvCxnSpPr>
          <p:spPr>
            <a:xfrm flipV="1">
              <a:off x="1547280" y="2286000"/>
              <a:ext cx="110520" cy="7668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</a:ln>
          </p:spPr>
        </p:cxnSp>
      </p:grpSp>
      <p:sp>
        <p:nvSpPr>
          <p:cNvPr id="75" name=""/>
          <p:cNvSpPr/>
          <p:nvPr/>
        </p:nvSpPr>
        <p:spPr>
          <a:xfrm>
            <a:off x="168120" y="3352680"/>
            <a:ext cx="1097280" cy="160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346560"/>
            <a:ext cx="9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List of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743200"/>
            <a:ext cx="137160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5" idx="3"/>
            <a:endCxn id="77" idx="1"/>
          </p:cNvCxnSpPr>
          <p:nvPr/>
        </p:nvCxnSpPr>
        <p:spPr>
          <a:xfrm>
            <a:off x="1283760" y="4156200"/>
            <a:ext cx="2977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95A-4A51-41FF-888B-991FF54B5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682560"/>
            <a:ext cx="4114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 Ai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ub Me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Othe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Help Ce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Onlin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u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360" y="83808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AP Mast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22659" b="43752"/>
          <a:stretch/>
        </p:blipFill>
        <p:spPr>
          <a:xfrm>
            <a:off x="152280" y="1509840"/>
            <a:ext cx="4572000" cy="4281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106600">
            <a:off x="3580920" y="2590920"/>
            <a:ext cx="189000" cy="282600"/>
          </a:xfrm>
          <a:prstGeom prst="upArrow">
            <a:avLst>
              <a:gd name="adj1" fmla="val 17009"/>
              <a:gd name="adj2" fmla="val 8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BD2-AE22-44C5-9710-62F70514E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01772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sur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82C-0C9D-4F46-8C20-931F044FF0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10238" r="0" b="4329"/>
          <a:stretch/>
        </p:blipFill>
        <p:spPr>
          <a:xfrm>
            <a:off x="1143000" y="2590920"/>
            <a:ext cx="6019920" cy="34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10718" r="0" b="4329"/>
          <a:stretch/>
        </p:blipFill>
        <p:spPr>
          <a:xfrm>
            <a:off x="1143000" y="266688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5335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Register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iz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inancial Aid Professionals Por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959200"/>
            <a:ext cx="4038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17388" r="0" b="8669"/>
          <a:stretch/>
        </p:blipFill>
        <p:spPr>
          <a:xfrm>
            <a:off x="1143000" y="2743200"/>
            <a:ext cx="6019920" cy="333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11352" r="0" b="4329"/>
          <a:stretch/>
        </p:blipFill>
        <p:spPr>
          <a:xfrm>
            <a:off x="1143000" y="2666880"/>
            <a:ext cx="5943600" cy="340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0" t="10725" r="0" b="5805"/>
          <a:stretch/>
        </p:blipFill>
        <p:spPr>
          <a:xfrm>
            <a:off x="1143000" y="2666880"/>
            <a:ext cx="59436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0" t="12006" r="0" b="5805"/>
          <a:stretch/>
        </p:blipFill>
        <p:spPr>
          <a:xfrm>
            <a:off x="1143000" y="2666880"/>
            <a:ext cx="6095880" cy="340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rcRect l="0" t="15700" r="0" b="8669"/>
          <a:stretch/>
        </p:blipFill>
        <p:spPr>
          <a:xfrm>
            <a:off x="1143000" y="2666880"/>
            <a:ext cx="6019920" cy="341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8BC-FA70-4809-AEFF-0560128FD8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57:47Z</dcterms:created>
  <dc:creator> </dc:creator>
  <dc:description/>
  <dc:language>en-US</dc:language>
  <cp:lastModifiedBy>2005 EAC</cp:lastModifiedBy>
  <dcterms:modified xsi:type="dcterms:W3CDTF">2005-12-02T17:23:58Z</dcterms:modified>
  <cp:revision>82</cp:revision>
  <dc:subject/>
  <dc:title>No Slide Title</dc:title>
</cp:coreProperties>
</file>