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9.wmf" ContentType="image/x-wmf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895-8250-42AA-B3DE-4791AD3D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53D-F881-4D84-A071-48902AD8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0A-6938-4362-A00B-24BCA04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5EA-3EC6-4A99-B71A-93A6635A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778-AC7B-4CB4-8B9A-671D53D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47C-9EFA-4BDC-AAF0-40C2EC9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1CA-4CEE-453F-8F4F-1629205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9E7-4DB7-4384-834F-399F617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3F9-8F91-4902-83F5-EB2D8A6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E65-DC48-49A1-9E20-0D71E9E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903-AD80-4810-85AE-F82F2F3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166-515B-49C7-BF07-189E32B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1EB-2D34-44AB-AC97-FC9331FB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eannouncements/0623MyFSAPassword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sa4schools.ed.gov/SCHOOLSWebApp/index.js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Knowledge is Power: the FSA Schools Portal and IFAP</a:t>
            </a:r>
            <a:br>
              <a:rPr sz="4800"/>
            </a:b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Marcello Rojtma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y FSA - Customization 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806560"/>
            <a:ext cx="4038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11519" r="0" b="5805"/>
          <a:stretch/>
        </p:blipFill>
        <p:spPr>
          <a:xfrm>
            <a:off x="1143000" y="2133720"/>
            <a:ext cx="6477120" cy="363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11185" r="0" b="4329"/>
          <a:stretch/>
        </p:blipFill>
        <p:spPr>
          <a:xfrm>
            <a:off x="1143000" y="2057400"/>
            <a:ext cx="6553080" cy="375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11101" r="0" b="5805"/>
          <a:stretch/>
        </p:blipFill>
        <p:spPr>
          <a:xfrm>
            <a:off x="1143000" y="2057400"/>
            <a:ext cx="6629400" cy="373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2799" r="0" b="5805"/>
          <a:stretch/>
        </p:blipFill>
        <p:spPr>
          <a:xfrm>
            <a:off x="1143000" y="2133720"/>
            <a:ext cx="6629400" cy="3662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rcRect l="0" t="12792" r="0" b="5805"/>
          <a:stretch/>
        </p:blipFill>
        <p:spPr>
          <a:xfrm>
            <a:off x="1143000" y="2133720"/>
            <a:ext cx="6629400" cy="366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rcRect l="0" t="11101" r="0" b="5805"/>
          <a:stretch/>
        </p:blipFill>
        <p:spPr>
          <a:xfrm>
            <a:off x="1143000" y="2057400"/>
            <a:ext cx="6629400" cy="373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rcRect l="0" t="9953" r="0" b="4329"/>
          <a:stretch/>
        </p:blipFill>
        <p:spPr>
          <a:xfrm>
            <a:off x="1143000" y="2057400"/>
            <a:ext cx="6324480" cy="367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rcRect l="0" t="11324" r="0" b="4329"/>
          <a:stretch/>
        </p:blipFill>
        <p:spPr>
          <a:xfrm>
            <a:off x="1143000" y="2133720"/>
            <a:ext cx="6629400" cy="3795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rcRect l="0" t="12799" r="0" b="5805"/>
          <a:stretch/>
        </p:blipFill>
        <p:spPr>
          <a:xfrm>
            <a:off x="1143000" y="2133720"/>
            <a:ext cx="6629400" cy="36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C3C-2489-4AB3-9B9F-8B9BC4DC5D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Security 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641-1D13-4652-91F6-F8B48B5723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8380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n My F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806560"/>
            <a:ext cx="4038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uidance on new security controls is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lectronic Announcement published on June 23, 2005 titled: “</a:t>
            </a:r>
            <a:r>
              <a:rPr b="0" i="1" lang="en-US" sz="2800" spc="-1" strike="noStrike">
                <a:solidFill>
                  <a:srgbClr val="006979"/>
                </a:solidFill>
                <a:latin typeface="Arial"/>
              </a:rPr>
              <a:t>Summary: This announcement briefly describes the Schools Portal's My FSA customization feature, and then explains the security enhancements that will be added to My FSA beginning Monday, June 27</a:t>
            </a:r>
            <a:r>
              <a:rPr b="0" lang="en-US" sz="2800" spc="-1" strike="noStrike">
                <a:solidFill>
                  <a:srgbClr val="00697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eannouncements/0623MyFSAPasswo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108-B80D-4AAC-8DA6-3D776428D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Password must: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e unique from the last five previously used passwords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e eight characters long with a mix of alpha and numeric characters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Use upper and lowercase letters (Note: Passwords are case sensitive);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ontain at least one special character (Note: special characters consist of !@#$^*()_-+={[}]|:;,.~.)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654-6C0C-4320-8FA6-780DE58E8A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mit to three login attempts before account is locked.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assword expires a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ter 90 days so immediately upon initial login, the user will be forced to change their password.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CDA-F352-4510-87DA-58F8831E1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s Incl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hange password” message on My FSA homepage will appear 5 days before the password expires.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3364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429000"/>
            <a:ext cx="3809520" cy="2437560"/>
            <a:chOff x="2743200" y="3429000"/>
            <a:chExt cx="3809520" cy="24375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15334" r="57003" b="54004"/>
            <a:stretch/>
          </p:blipFill>
          <p:spPr>
            <a:xfrm>
              <a:off x="2743200" y="3429000"/>
              <a:ext cx="3809520" cy="23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34366" r="52201" b="53762"/>
            <a:stretch/>
          </p:blipFill>
          <p:spPr>
            <a:xfrm>
              <a:off x="2743200" y="4952520"/>
              <a:ext cx="38095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DF1-7095-48A6-AB1E-83319753E0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B76-299D-41B3-9419-58A85F0719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nformation for Financial Aid Professionals – IFA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ifap.ed.gov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Online library for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Aid Professionals.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ost up to date guidance on administering Title 4  Federal Student Aid Programs.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pecial Link to guidance for 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hools, Students,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Partners, and Borrowers affecte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by the hurricane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3923" r="1960" b="47714"/>
          <a:stretch/>
        </p:blipFill>
        <p:spPr>
          <a:xfrm>
            <a:off x="4876920" y="342900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E88-1B3B-49EC-AE1B-CDA43F46C8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Special Guidanc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pecial guidance is placed in one area for easy retrieval.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4169" r="0" b="23936"/>
          <a:stretch/>
        </p:blipFill>
        <p:spPr>
          <a:xfrm>
            <a:off x="2057400" y="2362320"/>
            <a:ext cx="6781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BC9-107F-4409-AB2E-A30F0DEC75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1143000"/>
            <a:ext cx="2819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Mast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Web Page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atego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Popular Publications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and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3125" r="3127" b="0"/>
          <a:stretch/>
        </p:blipFill>
        <p:spPr>
          <a:xfrm>
            <a:off x="4114800" y="1066680"/>
            <a:ext cx="4419720" cy="40388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895480" y="1752480"/>
            <a:ext cx="2057400" cy="1981440"/>
            <a:chOff x="2895480" y="1752480"/>
            <a:chExt cx="2057400" cy="1981440"/>
          </a:xfrm>
        </p:grpSpPr>
        <p:sp>
          <p:nvSpPr>
            <p:cNvPr id="127" name=""/>
            <p:cNvSpPr/>
            <p:nvPr/>
          </p:nvSpPr>
          <p:spPr>
            <a:xfrm>
              <a:off x="4114800" y="1752480"/>
              <a:ext cx="838080" cy="19814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895480"/>
              <a:ext cx="12193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971800" y="1752480"/>
            <a:ext cx="5562720" cy="3353040"/>
            <a:chOff x="2971800" y="1752480"/>
            <a:chExt cx="5562720" cy="3353040"/>
          </a:xfrm>
        </p:grpSpPr>
        <p:sp>
          <p:nvSpPr>
            <p:cNvPr id="130" name=""/>
            <p:cNvSpPr/>
            <p:nvPr/>
          </p:nvSpPr>
          <p:spPr>
            <a:xfrm>
              <a:off x="5029200" y="1752480"/>
              <a:ext cx="3505320" cy="3353040"/>
            </a:xfrm>
            <a:prstGeom prst="rect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1800" y="4648320"/>
              <a:ext cx="20574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895480" y="1066680"/>
            <a:ext cx="5639040" cy="685800"/>
            <a:chOff x="2895480" y="1066680"/>
            <a:chExt cx="5639040" cy="685800"/>
          </a:xfrm>
        </p:grpSpPr>
        <p:sp>
          <p:nvSpPr>
            <p:cNvPr id="133" name=""/>
            <p:cNvSpPr/>
            <p:nvPr/>
          </p:nvSpPr>
          <p:spPr>
            <a:xfrm>
              <a:off x="4114800" y="1066680"/>
              <a:ext cx="4419720" cy="685800"/>
            </a:xfrm>
            <a:prstGeom prst="rect">
              <a:avLst/>
            </a:pr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371600"/>
              <a:ext cx="121932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CA0-19DB-49C0-9E73-716512FF9EF1}" type="slidenum">
              <a:t>19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39860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B92-D5F6-4D03-BFB3-7284F7BCC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Current FSA Publication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6665" r="2249" b="0"/>
          <a:stretch/>
        </p:blipFill>
        <p:spPr>
          <a:xfrm>
            <a:off x="1143000" y="1447920"/>
            <a:ext cx="723888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CF4-88C3-4407-A5A2-AB435C1F00B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Member Services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324-8E27-4B5C-912C-5EBBB35FA6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867280" y="1638360"/>
            <a:ext cx="2911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Notification of new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ember Services Pro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ifferent from 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F93-AE88-4115-9181-A8CD743560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 –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 -- Registration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Member Service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Click Here to Register.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6979"/>
              </a:buClr>
              <a:buSzPct val="15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omplete the IFAP User Registration form and select the Submit Registration Button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15334" r="0" b="4668"/>
          <a:stretch/>
        </p:blipFill>
        <p:spPr>
          <a:xfrm>
            <a:off x="5257800" y="1828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3333" r="0" b="4668"/>
          <a:stretch/>
        </p:blipFill>
        <p:spPr>
          <a:xfrm>
            <a:off x="5105520" y="1828800"/>
            <a:ext cx="396216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0" t="3333" r="0" b="7333"/>
          <a:stretch/>
        </p:blipFill>
        <p:spPr>
          <a:xfrm>
            <a:off x="5029200" y="1828800"/>
            <a:ext cx="4038480" cy="2706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0" t="3333" r="0" b="4668"/>
          <a:stretch/>
        </p:blipFill>
        <p:spPr>
          <a:xfrm>
            <a:off x="5029200" y="1828800"/>
            <a:ext cx="403848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B63-7C47-4962-8830-7AACA682639B}" type="slidenum">
              <a:t>23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685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FAP-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ember Services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ubscription Servic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91320" y="1295280"/>
            <a:ext cx="3047760" cy="4838760"/>
            <a:chOff x="5791320" y="1295280"/>
            <a:chExt cx="3047760" cy="4838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0" r="2438" b="0"/>
            <a:stretch/>
          </p:blipFill>
          <p:spPr>
            <a:xfrm>
              <a:off x="5791320" y="1295280"/>
              <a:ext cx="3047760" cy="16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rcRect l="0" t="33308" r="2438" b="0"/>
            <a:stretch/>
          </p:blipFill>
          <p:spPr>
            <a:xfrm>
              <a:off x="5791320" y="2970360"/>
              <a:ext cx="304776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rcRect l="0" t="27418" r="2438" b="0"/>
            <a:stretch/>
          </p:blipFill>
          <p:spPr>
            <a:xfrm>
              <a:off x="5791320" y="4086360"/>
              <a:ext cx="304776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rcRect l="0" t="50797" r="2438" b="0"/>
            <a:stretch/>
          </p:blipFill>
          <p:spPr>
            <a:xfrm>
              <a:off x="5791320" y="5310360"/>
              <a:ext cx="3047760" cy="82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1295280" y="1447920"/>
            <a:ext cx="2895480" cy="4438440"/>
            <a:chOff x="1295280" y="1447920"/>
            <a:chExt cx="2895480" cy="443844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rcRect l="0" t="0" r="2565" b="7692"/>
            <a:stretch/>
          </p:blipFill>
          <p:spPr>
            <a:xfrm>
              <a:off x="1295280" y="1447920"/>
              <a:ext cx="28954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rcRect l="0" t="61545" r="2565" b="0"/>
            <a:stretch/>
          </p:blipFill>
          <p:spPr>
            <a:xfrm>
              <a:off x="1295280" y="3505320"/>
              <a:ext cx="28954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rcRect l="0" t="30769" r="2565" b="0"/>
            <a:stretch/>
          </p:blipFill>
          <p:spPr>
            <a:xfrm>
              <a:off x="1295280" y="4343400"/>
              <a:ext cx="2895480" cy="15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419720" y="1371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e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7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48 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AD4-F3C3-4C2D-8700-F35334CD1CC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IFAP—Member Services Case Study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200400"/>
            <a:ext cx="7635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Thomas has a new job with new different responsibilities. He would like to make sure his Member Services profile is updated with his new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How does Thomas update the IFAP Member Services prof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181944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415-021C-4E98-BE85-A4F2595424F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7E2-8592-4FCB-B25C-256340BA70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arch Engine – Powered by Google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438280"/>
            <a:ext cx="306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ore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ort By Date or Rele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Blue Status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BFA-DFF2-416E-84CF-EDFAF3CF0A9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32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Use the FAP search to search all FSA web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Use IFAP to search IFAP cont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3360" y="762120"/>
            <a:ext cx="68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Google is on both FAP and IFAP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15334" r="0" b="56669"/>
          <a:stretch/>
        </p:blipFill>
        <p:spPr>
          <a:xfrm>
            <a:off x="3657600" y="1981080"/>
            <a:ext cx="5029200" cy="1055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3125" r="3127" b="62504"/>
          <a:stretch/>
        </p:blipFill>
        <p:spPr>
          <a:xfrm>
            <a:off x="3657600" y="3581280"/>
            <a:ext cx="518148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CC0-DF6A-4415-8402-00644C4730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5410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Arial"/>
              </a:rPr>
              <a:t>Automatically checks spelling and makes sugges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3333" r="0" b="7333"/>
          <a:stretch/>
        </p:blipFill>
        <p:spPr>
          <a:xfrm>
            <a:off x="1523880" y="1447920"/>
            <a:ext cx="5791320" cy="3879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7080" y="7621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arch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B1F-0647-439B-8F79-0F39A684E5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8120"/>
            <a:ext cx="4267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ateway to Financial Aid Professional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Head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n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ederal Student Aid Schools Portal/ Financial Aid Professionals Portal -F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981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fsa4schools.ed.gov</a:t>
            </a:r>
            <a:r>
              <a:rPr b="0" lang="en-US" sz="2400" spc="-1" strike="noStrike">
                <a:solidFill>
                  <a:srgbClr val="c7862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CE6-C58E-4A66-87B6-B44ED7A81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0574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arch Phrases by using Qu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arch with the “OR”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arch – with Google Operato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5334" r="3000" b="8669"/>
          <a:stretch/>
        </p:blipFill>
        <p:spPr>
          <a:xfrm>
            <a:off x="2362320" y="1878120"/>
            <a:ext cx="640080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DC9-6E6E-4FF7-98A5-B1259655E4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3553" r="0" b="0"/>
          <a:stretch/>
        </p:blipFill>
        <p:spPr>
          <a:xfrm>
            <a:off x="3276720" y="1905120"/>
            <a:ext cx="5715000" cy="4133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0" t="28004" r="60003" b="48000"/>
          <a:stretch/>
        </p:blipFill>
        <p:spPr>
          <a:xfrm>
            <a:off x="76320" y="1828800"/>
            <a:ext cx="3047760" cy="1371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3656160"/>
            <a:ext cx="29718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-” Operator is used to exclude an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ee Googles web page for more information about Google Operators a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www.google.com/help/refine search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arch – with Google Operators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5A6-D789-4FA7-98EC-50C8B1803A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3125" r="2344" b="62504"/>
          <a:stretch/>
        </p:blipFill>
        <p:spPr>
          <a:xfrm>
            <a:off x="2438280" y="3733920"/>
            <a:ext cx="6324840" cy="226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812880"/>
            <a:ext cx="45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15334" r="0" b="56669"/>
          <a:stretch/>
        </p:blipFill>
        <p:spPr>
          <a:xfrm>
            <a:off x="2514600" y="1676520"/>
            <a:ext cx="6400800" cy="1342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477120" y="2362320"/>
            <a:ext cx="685800" cy="4572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5410080"/>
            <a:ext cx="990720" cy="4572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86000"/>
            <a:ext cx="22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dvance search option is available on both FAP and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04A-E3E1-484E-B89F-5B05FFB590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520" y="838080"/>
            <a:ext cx="59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 on F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33920" y="1447920"/>
            <a:ext cx="5181480" cy="4495320"/>
            <a:chOff x="3733920" y="1447920"/>
            <a:chExt cx="5181480" cy="44953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35337" r="0" b="8669"/>
            <a:stretch/>
          </p:blipFill>
          <p:spPr>
            <a:xfrm>
              <a:off x="3733920" y="3845520"/>
              <a:ext cx="5181480" cy="20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0" t="16670" r="0" b="16670"/>
            <a:stretch/>
          </p:blipFill>
          <p:spPr>
            <a:xfrm>
              <a:off x="3733920" y="1447920"/>
              <a:ext cx="5181480" cy="249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228600" y="1828800"/>
            <a:ext cx="358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FSA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the amount of results that appear on a web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A3E-EB45-4B6A-977D-C1945D750D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9520" y="762120"/>
            <a:ext cx="61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dvanced Search Option on IF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7600" y="1523880"/>
            <a:ext cx="5105520" cy="3809880"/>
            <a:chOff x="3657600" y="1523880"/>
            <a:chExt cx="5105520" cy="38098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rcRect l="1998" t="15334" r="4001" b="7333"/>
            <a:stretch/>
          </p:blipFill>
          <p:spPr>
            <a:xfrm>
              <a:off x="3657600" y="2546640"/>
              <a:ext cx="504468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rcRect l="0" t="17999" r="0" b="52668"/>
            <a:stretch/>
          </p:blipFill>
          <p:spPr>
            <a:xfrm>
              <a:off x="3657600" y="1523880"/>
              <a:ext cx="5105520" cy="10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152280" y="182880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lter for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lect the amount of results that appear on a web p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084-851F-4B40-A2A0-4ADE7E263E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Enhancements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5C6-413A-4DEA-8315-8B243125B0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hancements for FAP and IFAP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FAP included in the “</a:t>
            </a: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ADvance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” initiativ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Customize calenda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More functional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IFAP Redesign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Arial"/>
              </a:rPr>
              <a:t>Implementing the latest web technolog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Design for ease of use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071-7FC5-4EF8-B27D-DDE849B9E7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</a:rPr>
              <a:t>Listserv - 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E2D-3D80-4B9C-B399-8C0C9F39FD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Listserv - FSA TECH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87631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r technical questions about FSA systems, software, and mainframe products. Answers are researched by FSA systems developers and sent to everyone on the listser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o Sign up for FSA Tech or Change FSATECH Digest Options: http://www.ed.gov/offices/OSFAP/services/fsatechsubscrib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r Assistance E-mail at  fsa.customer.support@ed.gov or call 1.800.433.7327 if you have any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FCB-33AB-40AA-9973-FD421C79D22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1017720"/>
            <a:ext cx="82296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7C4-19D5-4511-929F-EF83352810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600" y="1295280"/>
            <a:ext cx="6019560" cy="4640400"/>
            <a:chOff x="1371600" y="1295280"/>
            <a:chExt cx="6019560" cy="4640400"/>
          </a:xfrm>
        </p:grpSpPr>
        <p:sp>
          <p:nvSpPr>
            <p:cNvPr id="53" name=""/>
            <p:cNvSpPr/>
            <p:nvPr/>
          </p:nvSpPr>
          <p:spPr>
            <a:xfrm>
              <a:off x="1371600" y="1295280"/>
              <a:ext cx="43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979"/>
                  </a:solidFill>
                  <a:latin typeface="Times New Roman"/>
                </a:rPr>
                <a:t>The look of  yesterda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371600" y="2057400"/>
              <a:ext cx="6019560" cy="38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177-657E-4E31-B66D-4661DA363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871200"/>
            <a:ext cx="8381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er Service Center – 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er Service 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700360"/>
            <a:ext cx="861048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rogram and operational questions regarding FSA Progra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Hours: 9 AM to 5 PM Eastern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Voice Mail is available during off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Toll Free Telephone Number: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1-800-433-73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ax number:                           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1-202-275-5532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-Mail:                   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fsa.customer.support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6C9-7A42-494B-BB32-E769F9D243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0720" y="1905120"/>
            <a:ext cx="716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oth the FAP Portal and IFAP web sites provide timely information to the Financial Aid Community regardless of location or time of day.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713-F2EC-496B-883C-18BD6AEFAC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Customer Service Case Study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5146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Nicki and Thomas attended Marcello’s EAC presentation on the FAP Portal and IFAP and would like an electronic copy of the presentation to use to brief their colleagues at “home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  <a:ea typeface="Arial Unicode MS"/>
              </a:rPr>
              <a:t>What should they do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5160" y="5022720"/>
            <a:ext cx="1819440" cy="16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82B-3856-4525-9A67-0C7C8B1CB9F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160020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curity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</a:t>
            </a: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7080" y="685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0C6-5009-49D0-B179-BA54BBD1F7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2209680"/>
            <a:ext cx="6705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276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Questions and Com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Knowledge is Power: the FAP Portal and IFAP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637-1C80-44F4-9401-1904A6498E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lease join us in the PC Lab for further discussion, questions, or demonstration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Knowledge is Power: the FAP Portal and IFAP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New Name and New 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D8D-441D-4CA9-A0B9-ABDD0A0A94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24200"/>
            <a:ext cx="5790960" cy="394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inancial Aid Professionals - F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50640" y="2666880"/>
            <a:ext cx="2206800" cy="3428280"/>
            <a:chOff x="3050640" y="2666880"/>
            <a:chExt cx="2206800" cy="3428280"/>
          </a:xfrm>
        </p:grpSpPr>
        <p:sp>
          <p:nvSpPr>
            <p:cNvPr id="61" name=""/>
            <p:cNvSpPr/>
            <p:nvPr/>
          </p:nvSpPr>
          <p:spPr>
            <a:xfrm>
              <a:off x="3129840" y="5537520"/>
              <a:ext cx="2127600" cy="5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eff7f8"/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50640" y="5537520"/>
              <a:ext cx="20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FSA Calend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29840" y="2666880"/>
              <a:ext cx="2127600" cy="247176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0"/>
              <a:endCxn id="63" idx="2"/>
            </p:cNvCxnSpPr>
            <p:nvPr/>
          </p:nvCxnSpPr>
          <p:spPr>
            <a:xfrm flipV="1">
              <a:off x="4193280" y="5158080"/>
              <a:ext cx="1080" cy="359640"/>
            </a:xfrm>
            <a:prstGeom prst="straightConnector1">
              <a:avLst/>
            </a:prstGeom>
            <a:ln w="38160">
              <a:solidFill>
                <a:srgbClr val="99cc00"/>
              </a:solidFill>
              <a:miter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5257800" y="2666880"/>
            <a:ext cx="3886200" cy="2590920"/>
            <a:chOff x="5257800" y="2666880"/>
            <a:chExt cx="3886200" cy="2590920"/>
          </a:xfrm>
        </p:grpSpPr>
        <p:sp>
          <p:nvSpPr>
            <p:cNvPr id="66" name=""/>
            <p:cNvSpPr/>
            <p:nvPr/>
          </p:nvSpPr>
          <p:spPr>
            <a:xfrm>
              <a:off x="5257800" y="2666880"/>
              <a:ext cx="2057400" cy="25909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43800" y="3504960"/>
              <a:ext cx="1447560" cy="8384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67480" y="342900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F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Head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 flipV="1">
              <a:off x="7333920" y="3923640"/>
              <a:ext cx="191160" cy="385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</a:ln>
          </p:spPr>
        </p:cxnSp>
      </p:grpSp>
      <p:grpSp>
        <p:nvGrpSpPr>
          <p:cNvPr id="70" name=""/>
          <p:cNvGrpSpPr/>
          <p:nvPr/>
        </p:nvGrpSpPr>
        <p:grpSpPr>
          <a:xfrm>
            <a:off x="49320" y="1905120"/>
            <a:ext cx="7418160" cy="761760"/>
            <a:chOff x="49320" y="1905120"/>
            <a:chExt cx="7418160" cy="761760"/>
          </a:xfrm>
        </p:grpSpPr>
        <p:sp>
          <p:nvSpPr>
            <p:cNvPr id="71" name=""/>
            <p:cNvSpPr/>
            <p:nvPr/>
          </p:nvSpPr>
          <p:spPr>
            <a:xfrm>
              <a:off x="49320" y="2057400"/>
              <a:ext cx="1450800" cy="5335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60" y="213372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979"/>
                  </a:solidFill>
                  <a:latin typeface="Times New Roman"/>
                </a:rPr>
                <a:t>Mast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1905120"/>
              <a:ext cx="5790960" cy="7617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2" idx="3"/>
              <a:endCxn id="73" idx="1"/>
            </p:cNvCxnSpPr>
            <p:nvPr/>
          </p:nvCxnSpPr>
          <p:spPr>
            <a:xfrm flipV="1">
              <a:off x="1547280" y="2286000"/>
              <a:ext cx="110520" cy="7668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</a:ln>
          </p:spPr>
        </p:cxnSp>
      </p:grpSp>
      <p:sp>
        <p:nvSpPr>
          <p:cNvPr id="75" name=""/>
          <p:cNvSpPr/>
          <p:nvPr/>
        </p:nvSpPr>
        <p:spPr>
          <a:xfrm>
            <a:off x="168120" y="3352680"/>
            <a:ext cx="1097280" cy="160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346560"/>
            <a:ext cx="9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List of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743200"/>
            <a:ext cx="137160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5" idx="3"/>
            <a:endCxn id="77" idx="1"/>
          </p:cNvCxnSpPr>
          <p:nvPr/>
        </p:nvCxnSpPr>
        <p:spPr>
          <a:xfrm>
            <a:off x="1283760" y="4156200"/>
            <a:ext cx="2977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447-7236-428F-B290-B804F0974E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52880" y="682560"/>
            <a:ext cx="4114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inancial Ai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ub Men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y F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Othe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Help Ce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Onlin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u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360" y="83808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AP Mast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22659" b="43752"/>
          <a:stretch/>
        </p:blipFill>
        <p:spPr>
          <a:xfrm>
            <a:off x="152280" y="1509840"/>
            <a:ext cx="4572000" cy="4281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0106600">
            <a:off x="3580920" y="2590920"/>
            <a:ext cx="189000" cy="282600"/>
          </a:xfrm>
          <a:prstGeom prst="upArrow">
            <a:avLst>
              <a:gd name="adj1" fmla="val 17009"/>
              <a:gd name="adj2" fmla="val 82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061-2785-41DD-824B-076522164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017720"/>
            <a:ext cx="87631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FSA Schools Portal / Financial Aid Professionals - 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979"/>
                </a:solidFill>
                <a:uFillTx/>
                <a:latin typeface="Times New Roman"/>
                <a:ea typeface="Times New Roman"/>
              </a:rPr>
              <a:t>My FSA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sur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Information for Financial Aid Professionals –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69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Memb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Enhancemen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istserv -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 FS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  <a:ea typeface="Times New Roman"/>
              </a:rPr>
              <a:t>Customer Service Call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94B-59B5-420E-9F7F-36C3D77E4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10238" r="0" b="4329"/>
          <a:stretch/>
        </p:blipFill>
        <p:spPr>
          <a:xfrm>
            <a:off x="1143000" y="2590920"/>
            <a:ext cx="6019920" cy="34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10718" r="0" b="4329"/>
          <a:stretch/>
        </p:blipFill>
        <p:spPr>
          <a:xfrm>
            <a:off x="1143000" y="266688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5335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Register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ustomiz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Financial Aid Professionals Por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959200"/>
            <a:ext cx="4038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17388" r="0" b="8669"/>
          <a:stretch/>
        </p:blipFill>
        <p:spPr>
          <a:xfrm>
            <a:off x="1143000" y="2743200"/>
            <a:ext cx="6019920" cy="333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11352" r="0" b="4329"/>
          <a:stretch/>
        </p:blipFill>
        <p:spPr>
          <a:xfrm>
            <a:off x="1143000" y="2666880"/>
            <a:ext cx="5943600" cy="340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0" t="10725" r="0" b="5805"/>
          <a:stretch/>
        </p:blipFill>
        <p:spPr>
          <a:xfrm>
            <a:off x="1143000" y="2666880"/>
            <a:ext cx="59436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0" t="12006" r="0" b="5805"/>
          <a:stretch/>
        </p:blipFill>
        <p:spPr>
          <a:xfrm>
            <a:off x="1143000" y="2666880"/>
            <a:ext cx="6095880" cy="340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rcRect l="0" t="15700" r="0" b="8669"/>
          <a:stretch/>
        </p:blipFill>
        <p:spPr>
          <a:xfrm>
            <a:off x="1143000" y="2666880"/>
            <a:ext cx="6019920" cy="341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D62-B781-4BFB-B316-06DF85C3E7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57:47Z</dcterms:created>
  <dc:creator> </dc:creator>
  <dc:description/>
  <dc:language>en-US</dc:language>
  <cp:lastModifiedBy>2005 EAC</cp:lastModifiedBy>
  <dcterms:modified xsi:type="dcterms:W3CDTF">2005-12-02T17:23:58Z</dcterms:modified>
  <cp:revision>82</cp:revision>
  <dc:subject/>
  <dc:title>No Slide Title</dc:title>
</cp:coreProperties>
</file>