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2E9-6FAB-45E7-BE8C-C8E7DE5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AFB-187D-4EDE-B8B4-3D3BC9C7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DB9-E6AD-4FBA-8D0A-CD21128A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07D-12A4-49FD-9104-45EEA48D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7CB3-4F25-4721-AB65-5A895D62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04A-A2EF-4866-BFCA-4F131245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EFC8-80CF-47F9-A4FF-70F902F0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A5D-AA9A-4C29-BDC5-3A9ED8D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F7A-9979-464D-AE89-B3F99C2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8D47-CC26-4331-A0E9-7BB38CE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3872-3CB4-404A-A36B-76E21D2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345-E1B4-40B6-B420-8E29A582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9330-C983-4F6B-AE67-3318D09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968E-20AE-46B5-96A9-AF7BB50F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CC5-A1F7-4BCE-A490-06C48A3E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32E5-57F8-4F0E-8566-FC1DEBAB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087A-BB42-461B-99D4-E90B520C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E19-3A1D-41CA-9B9A-9F4CF97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784-839A-4835-A9A3-1DD60881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BD1-309F-4E4A-803C-846B30E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E9E-670B-40F4-AE31-76634D1F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E60-AE3A-4D51-8C48-D05920B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54E-F0E1-4955-A543-41EBCA3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D3F-334C-4DFD-B7DC-F315AC0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740-8E25-48BD-9F08-D4126C38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CD45-4BBD-4C6E-B33D-3AFCE52C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6979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arry.eadie@ed.gov" TargetMode="External"/><Relationship Id="rId2" Type="http://schemas.openxmlformats.org/officeDocument/2006/relationships/hyperlink" Target="mailto:raul.galvan@ed.gov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lumbus.lee@ed.gov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IMPROVED PROGRAM MANAGEMENT WILL BETTER SERVE YOUR STUDENTS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arence M. Hick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ssio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 M. Hicks, Directo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5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.hicks 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 Bellizair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6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.bellizair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arry B. Eadi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4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arry.eadi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aul M. Galv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455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662 (fax)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aul.galvan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FD1-6E1A-4808-A30A-3F5FF97DEF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lumbus “Chris” L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8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lumbus.le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 R. Ro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20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3644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.ross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 G. Selepa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377 4381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.selepak@ed.gov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96E-6765-4671-A915-10E87A082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pecial Initiatives Servi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torically Black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panic Serving Institu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422-DFDD-43EA-BA06-D7B117BF85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DO WE HELP YOU?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Tools currently available on IFAP can maximize the efficiency of the Staff in maintaining compliance with federal regulation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Assess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Coa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Common Origination &amp; Disbursement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AF8-55E5-4BF0-932E-16B634FCF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-1067040"/>
            <a:ext cx="10515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his year the SIS Unit sponsored workshops specifically tailored to address the needs of the Financial Aid and Business Office staff at HBCU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3757680"/>
            <a:ext cx="47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BCUs informed SIS that more training was needed 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 Pl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quidation of Federal Perkins Loa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Verifi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126-D0D4-4990-8B4E-D4A6B277C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SA’s Default Prevention and Management Office team held a workshop in Puerto Rico designed specifically for the Hispanic-Speaking Institutions.  The workshop included a default prevention component and reiterated the school’s responsibility to reduce delinquency and default among borrowers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30A-2224-426F-B541-02DA73076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SIS participated in a day-long session for HSIs on Conflicting Information/Verification.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9B6-D733-4AD8-8504-6A82CAF6C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 (TCU’s) received updated information on compliance with the Family Educational Rights and Privacy Act (FERPA) with respect to protecting the privacy of student education recor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A81-C4E0-4A02-987E-F00E77CFDB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UTURE 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orkshops exclusively geared toward Business Officer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s training will ensure that these professionals are equipped with the information they need to be fiscally sound administrators of Title IV fun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1C8-0ADD-434A-A648-DB05003FD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1:07Z</dcterms:modified>
  <cp:revision>20</cp:revision>
  <dc:subject/>
  <dc:title>PowerPoint Presentation</dc:title>
</cp:coreProperties>
</file>