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A1E-AA64-415E-8AD2-1C1A211C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91A-B12B-44CE-8105-66A439E4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963-6D8D-4B3F-AECB-6ECEE6B1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57F-E5C3-4448-836F-6201D97D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27F-4EF9-4D84-ADBB-041F0064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919-3CA9-4635-B3E2-460527B8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5FB-AA89-4AB1-9069-0DE3B76F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8B0-05E4-4D1F-8C78-6C5C725A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CDF-D7D3-43A5-A5A6-6134C932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106-E7DE-4309-BEEE-3834932A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DA8-ECC4-4804-BCF4-553F8E4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95A-55AE-4BCC-9220-2FC29CE7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924320" y="594324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5832-A932-4EF1-A063-AD282B34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697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7501" t="36672" r="4178" b="36672"/>
          <a:stretch/>
        </p:blipFill>
        <p:spPr>
          <a:xfrm>
            <a:off x="6477120" y="6248520"/>
            <a:ext cx="2666880" cy="609480"/>
          </a:xfrm>
          <a:prstGeom prst="rect">
            <a:avLst/>
          </a:prstGeom>
          <a:ln w="28440">
            <a:solidFill>
              <a:srgbClr val="006979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752480"/>
            <a:ext cx="838224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Helping Financial Aid Professionals 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Students Navigate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979"/>
                </a:solidFill>
                <a:latin typeface="Times New Roman"/>
              </a:rPr>
              <a:t>Alternative Loan Di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856040"/>
            <a:ext cx="8458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rian Cox, First Marblehead/T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elissa Kunes, Penn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990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ssion 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orrower Eligi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 co-signer required? If so, under what circumstance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 there an option to release co-signer at later date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B02-851B-4B33-9F8E-62BC82B9B4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Application Proces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do I apply? Through paper, web, phone application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does my co-signer apply? Through paper, web, phone application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o I have the option of a wet signature or an electronic signatur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0DC-04DF-4E2C-801B-CFB8BB3A62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oan Application Proces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oes my co-signer have the same option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 there an expedited return borrower proces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41A-37AF-455E-8875-698245BBD8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erest Rates and OTHER Fe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is the current interest rat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 there an interest cap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additional fees, interest reductions, or other incentives are offered during the life of the loan? Do any of these conditions vary based on credit rating or availability of a co-signer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6F3-718E-4879-A3CA-338D0F2321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erest Rates and OTHER Fe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en are late charges assessed, and how much are they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How is my loan capitalized, annually or at repayment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791-9655-49E3-8275-C5D9386734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ayment Terms and Conditi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at are the minimum and maximum terms and payment amount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en do payments begin?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an interest only payment be made while in school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EF5-6A37-4B5D-BBE8-1EAA35665E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ayment Terms and Conditi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Is there a penalty for paying off the loan early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Does the lender offer combined billing of alternative and federal loan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Are grace periods, deferments, or forbearance offered? If so, what are the conditions and how is interest capitalized during these period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B72-1468-4166-8CDB-DE61000FAD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orrower Benefi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oes the lender offer any other borrower benefits? If so, what are the eligibility requirement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f the borrower does not qualify for a benefit, is there an appeal process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992-50E9-4E61-8333-A48C256DA7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rvice from the Lend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is the turnaround time for credit decisions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en and how will my loan be disbursed?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are problems resolved? Via phone, written email or other correspondenc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E29-837B-463D-9CFC-502F812B67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ervice from the Lend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s there 24/7 access to loan information via the web and phone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What is the lender’s policy on selling the loan to other lenders after the loan has been disbursed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430-428D-48BA-A0DC-C35612C667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hool Overview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LUS vs. Alternative Loan compariso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chools need to evaluate their needs for a private loan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Questions that students and schools need to ask the lender…research tool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Payment comparison – approach and tools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DEE-AB55-443F-AD2D-5E606DE11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52280" y="1116000"/>
          <a:ext cx="8839440" cy="5132520"/>
        </p:xfrm>
        <a:graphic>
          <a:graphicData uri="http://schemas.openxmlformats.org/drawingml/2006/table">
            <a:tbl>
              <a:tblPr/>
              <a:tblGrid>
                <a:gridCol w="2286000"/>
                <a:gridCol w="1981440"/>
                <a:gridCol w="2133360"/>
                <a:gridCol w="2438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Repayment Option</a:t>
                      </a: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10000"/>
                          </a:solidFill>
                          <a:uFillTx/>
                          <a:latin typeface="Times New Roman"/>
                        </a:rPr>
                        <a:t>Option 1</a:t>
                      </a: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Immediate Repayment</a:t>
                      </a: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10000"/>
                          </a:solidFill>
                          <a:uFillTx/>
                          <a:latin typeface="Times New Roman"/>
                        </a:rPr>
                        <a:t>Option 2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Interest-Only Repayment</a:t>
                      </a: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10000"/>
                          </a:solidFill>
                          <a:uFillTx/>
                          <a:latin typeface="Times New Roman"/>
                        </a:rPr>
                        <a:t>Option 3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Deferred Repayment</a:t>
                      </a: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Amount Requ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Origination F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(5.00%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$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(5.00%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$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(6.50%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  <a:ea typeface="Times New Roman"/>
                        </a:rPr>
                        <a:t>$695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Principal Amount at Loan Disbur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695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Deferment Perio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0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8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8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Monthly Interest Payment (while in school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(included belo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58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(deferr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Principal Amount of Loan at Repay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,526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3,948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Monthly Principal &amp; Interest Payment (after deferral period, if an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79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79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04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Repayment Peri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40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40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40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A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.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.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.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Total Finance 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9118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1,935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5,197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Total Repayment 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19,118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21,935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$25,197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28600" y="533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lternative Loan Repa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4FB-738E-4C82-A7EE-A1D149BC94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58514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97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979"/>
                </a:solidFill>
                <a:latin typeface="Times New Roman"/>
              </a:rPr>
              <a:t>Great online tool:  Education Loan Comparison Calculator, Nelliema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457280"/>
            <a:ext cx="6858000" cy="4486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8000"/>
                </a:solidFill>
                <a:latin typeface="Times New Roman"/>
              </a:rPr>
              <a:t>How to Compare Pricing</a:t>
            </a:r>
            <a:endParaRPr b="1" lang="en-US" sz="4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7D3-F6FE-4760-9870-41101DEDD4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Schools Can D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Determine your Alternative Loan need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search lenders/programs available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Publish information: web, handouts, preferred proces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9A8-2E30-4308-9E9F-C27A16678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Schools Can D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Sample information: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LUS vs. Alternative comparison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Side by side lender comparison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ays students can educate themselves, questions to ask, and online resources; youcandealwithit.com, collegeanswer.com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E79-7F44-4B0A-B7F9-86C0DCCDCD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752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122640"/>
            <a:ext cx="4267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elissa Ku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hone: (814) 863-28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x: (814) 863-03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mail:mjk5@ps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122640"/>
            <a:ext cx="4496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Brian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Phone: (617) 638-20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ax: (888) 454-76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Email:  bcox@fmd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tact Inform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FF3-6D60-481A-B6A9-E50CA03727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28600" y="1471680"/>
          <a:ext cx="8686800" cy="4548240"/>
        </p:xfrm>
        <a:graphic>
          <a:graphicData uri="http://schemas.openxmlformats.org/drawingml/2006/table">
            <a:tbl>
              <a:tblPr/>
              <a:tblGrid>
                <a:gridCol w="4292640"/>
                <a:gridCol w="439416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deral PLUS Lo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vate Alternative Lo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 Terms and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interest rate, set annually on July 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interest rate, changes monthly or quarter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rate capped at 9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rate may become as high as 21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der may offer delayed payment options for up to four years through forbearance.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ments may be deferred while the student is enrolled at least half-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 may borrow up to the total cost of  attendance less other ai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 may borrow up to the total cost of attendance less other ai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 check based on federal standards, no debt-to-income ratios or credit-scoring.  A parent may have a better chance of being approved as a borrower on a PLUS Loan than as a co-signer on an alternative lo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rs must pass a comprehensive credit review process including credit scoring and proof of income requirem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LUS vs. Alternative Loan Comparis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C55-D17B-40C0-9E37-33B7D15C52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48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PLUS vs. Alternative Loan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1371600"/>
          <a:ext cx="8686800" cy="4737240"/>
        </p:xfrm>
        <a:graphic>
          <a:graphicData uri="http://schemas.openxmlformats.org/drawingml/2006/table">
            <a:tbl>
              <a:tblPr/>
              <a:tblGrid>
                <a:gridCol w="4114800"/>
                <a:gridCol w="45720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deral PLUS Lo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vate Alternative Lo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800" spc="-1" strike="noStrike">
                          <a:solidFill>
                            <a:srgbClr val="010000"/>
                          </a:solidFill>
                          <a:latin typeface="Verdana"/>
                        </a:rPr>
                        <a:t>Repa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Parent is responsible for repay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Student is responsible for repayment. Please note: A co-signer is equally liable and the loan appears on their credit report.  Parent can help build the credit rating of the stud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Accrued interest capitalizes once at final repay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Accrued interest may be capitalized monthly, quarterly, or once at repay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Federally insured against death and disability for both the parent and the stud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Not federally insured against death and disabil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Opportunities available to consolidate PLUS Loans, interest rate capped at 8.25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Consolidation options becoming more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810-322C-4EB7-9901-87C3821397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valuate the School’s Loan Need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populations of students do you need to serv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Undergraduate or Graduate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Degree or non-degre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Full time or part time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Traditional/Continuing Education/           Distance Learning courses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697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979"/>
                </a:solidFill>
                <a:latin typeface="Times New Roman"/>
              </a:rPr>
              <a:t>Making academic progress/or not</a:t>
            </a: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D5E-66CF-4407-9BB7-8EB3CACAFF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valuate the School’s Loan Need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Off the Shelf” or “Custom Built”?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lationships with current lender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Understand process flow with each lende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Certify or Not Certify – What to know about DTC loa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66F-5D05-406B-BF25-83F56B0AD2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Questions to “Ask the Lender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 Eligibility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oan Application Proces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Interest Rates and OTHER Fee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Repayment Terms and Condition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E4D-FF35-4D11-9202-69E8E8AF11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Questions to “Ask the Lender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Borrower Benefits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Service from the Lender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Greentree Gazette – Student Loan Buying Guide – Sept 2005  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979"/>
                </a:solidFill>
                <a:latin typeface="Times New Roman"/>
              </a:rPr>
              <a:t>Loan Comparison Worksheets:  petersons.com and finaid.org</a:t>
            </a: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B71-F1E3-460E-9874-25622527D7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orrower Eligi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hat are minimum and maximum loan amounts available?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Will this loan meet long term educational borrowing needs and immediate short term needs? 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97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979"/>
                </a:solidFill>
                <a:latin typeface="Times New Roman"/>
              </a:rPr>
              <a:t>How will my credit rating affect my loan?  Great resources:  myfico.com, mycreditedge.com</a:t>
            </a:r>
            <a:endParaRPr b="0" lang="en-US" sz="3600" spc="-1" strike="noStrike">
              <a:solidFill>
                <a:srgbClr val="00697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C02-E652-44DA-A591-CC38E4975A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5:40Z</dcterms:created>
  <dc:creator>James Burt</dc:creator>
  <dc:description/>
  <dc:language>en-US</dc:language>
  <cp:lastModifiedBy>2005 EAC</cp:lastModifiedBy>
  <dcterms:modified xsi:type="dcterms:W3CDTF">2005-12-02T17:33:29Z</dcterms:modified>
  <cp:revision>53</cp:revision>
  <dc:subject/>
  <dc:title>PowerPoint Presentation</dc:title>
</cp:coreProperties>
</file>