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24F-ECAD-46BB-AA63-6DA307D6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1D6-D2D6-424F-A096-62FD1DC5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78E-47F3-466D-949D-3757B82B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250-2487-412D-A237-5DF775A6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D42-8827-429D-B4B2-823E89BB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40B0-78BD-4AD8-9A04-00FD2B57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255-7D77-4EF0-95EE-155F7F9B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EBDD-D090-45BC-92AA-D92336B6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305-F2AC-41F9-8B1B-B12B79EE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D90-AFBC-4EF2-A5B3-20F608BD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194-F8D7-4CFF-B770-D3A15419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4F2-3F8E-4738-9D2C-ACF57F76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924320" y="594324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9CCE-314A-49E9-A7A2-263EBC305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697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752480"/>
            <a:ext cx="838224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979"/>
                </a:solidFill>
                <a:latin typeface="Times New Roman"/>
              </a:rPr>
              <a:t>Helping Financial Aid Professionals a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979"/>
                </a:solidFill>
                <a:latin typeface="Times New Roman"/>
              </a:rPr>
              <a:t>Students Navigate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979"/>
                </a:solidFill>
                <a:latin typeface="Times New Roman"/>
              </a:rPr>
              <a:t>Alternative Loan Di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856040"/>
            <a:ext cx="8458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rian Cox, First Marblehead/TE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Melissa Kunes, Penn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990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ession 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orrower Eligi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s co-signer required? If so, under what circumstances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s there an option to release co-signer at later date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704-9E47-4878-B0A4-46D63D3307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Loan Application Proces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How do I apply? Through paper, web, phone application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How does my co-signer apply? Through paper, web, phone application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o I have the option of a wet signature or an electronic signature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507-FB4D-45B8-A767-48C6F3E511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Loan Application Proces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Does my co-signer have the same options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s there an expedited return borrower process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384-5998-4785-AD8E-17967A19EC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terest Rates and OTHER Fe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hat is the current interest rate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s there an interest cap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hat additional fees, interest reductions, or other incentives are offered during the life of the loan? Do any of these conditions vary based on credit rating or availability of a co-signer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97B-1F16-4BD6-A62C-F16491059B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terest Rates and OTHER Fe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hen are late charges assessed, and how much are they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How is my loan capitalized, annually or at repayment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8A4-7763-4133-B13D-A12D5D56EA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payment Terms and Conditio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hat are the minimum and maximum terms and payment amounts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hen do payments begin?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an interest only payment be made while in school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2D9-A86E-4146-AA2B-D19160CD08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payment Terms and Conditio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s there a penalty for paying off the loan early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oes the lender offer combined billing of alternative and federal loans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re grace periods, deferments, or forbearance offered? If so, what are the conditions and how is interest capitalized during these periods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253-F1E6-40B7-9C9F-5070199B23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orrower Benefi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Does the lender offer any other borrower benefits? If so, what are the eligibility requirements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f the borrower does not qualify for a benefit, is there an appeal process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A9A-75BE-4A45-B0E2-D93B2FDB4D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ervice from the Lend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hat is the turnaround time for credit decisions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hen and how will my loan be disbursed?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How are problems resolved? Via phone, written email or other correspondence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6C1-543D-4DF7-BE89-3E97D19517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ervice from the Lend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s there 24/7 access to loan information via the web and phone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hat is the lender’s policy on selling the loan to other lenders after the loan has been disbursed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FF7-AE7A-4BD1-B244-D0980F1DA0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hool Overview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LUS vs. Alternative Loan comparis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chools need to evaluate their needs for a private loa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Questions that students and schools need to ask the lender…research tool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ayment comparison – approach and tool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45C-197A-47DF-9BE3-03ABC3C228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52280" y="1116000"/>
          <a:ext cx="8839440" cy="5132520"/>
        </p:xfrm>
        <a:graphic>
          <a:graphicData uri="http://schemas.openxmlformats.org/drawingml/2006/table">
            <a:tbl>
              <a:tblPr/>
              <a:tblGrid>
                <a:gridCol w="2286000"/>
                <a:gridCol w="1981440"/>
                <a:gridCol w="2133360"/>
                <a:gridCol w="2438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Repayment Option</a:t>
                      </a: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10000"/>
                          </a:solidFill>
                          <a:uFillTx/>
                          <a:latin typeface="Times New Roman"/>
                        </a:rPr>
                        <a:t>Option 1</a:t>
                      </a:r>
                      <a:r>
                        <a:rPr b="1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Immediate Repayment</a:t>
                      </a: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10000"/>
                          </a:solidFill>
                          <a:uFillTx/>
                          <a:latin typeface="Times New Roman"/>
                        </a:rPr>
                        <a:t>Option 2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Interest-Only Repayment</a:t>
                      </a: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10000"/>
                          </a:solidFill>
                          <a:uFillTx/>
                          <a:latin typeface="Times New Roman"/>
                        </a:rPr>
                        <a:t>Option 3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Deferred Repayment</a:t>
                      </a: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Amount Requ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Origination F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  <a:ea typeface="Times New Roman"/>
                        </a:rPr>
                        <a:t>(5.00%)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  <a:ea typeface="Times New Roman"/>
                        </a:rPr>
                        <a:t>$526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  <a:ea typeface="Times New Roman"/>
                        </a:rPr>
                        <a:t>(5.00%)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  <a:ea typeface="Times New Roman"/>
                        </a:rPr>
                        <a:t>$526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  <a:ea typeface="Times New Roman"/>
                        </a:rPr>
                        <a:t>(6.50%)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  <a:ea typeface="Times New Roman"/>
                        </a:rPr>
                        <a:t>$695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Principal Amount at Loan Disburs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,526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,526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,695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Deferment Perio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0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48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48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Monthly Interest Payment (while in school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(included belo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58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(deferr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Principal Amount of Loan at Repay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,526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,526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3,948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Monthly Principal &amp; Interest Payment (after deferral period, if an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79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79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4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Repayment Peri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40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40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40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A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7.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7.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7.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Total Finance 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9118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1,935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5,197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Total Repayment 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9,118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21,935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25,197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228600" y="533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lternative Loan Repa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290-7CEC-4456-A7C0-D8B40FEC9D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58514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979"/>
                </a:solidFill>
                <a:latin typeface="Times New Roman"/>
              </a:rPr>
              <a:t>Great online tool:  Education Loan Comparison Calculator, Nelliema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1457280"/>
            <a:ext cx="6858000" cy="4486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8000"/>
                </a:solidFill>
                <a:latin typeface="Times New Roman"/>
              </a:rPr>
              <a:t>How to Compare Pricing</a:t>
            </a:r>
            <a:endParaRPr b="1" lang="en-US" sz="4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A97-DBC8-4603-AB59-A8E3474B05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Schools Can D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Determine your Alternative Loan need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search lenders/programs available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Publish information: web, handouts, preferred proces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44C-B4E1-4EFD-B8AF-D35D3BFCA6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Schools Can D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ample information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LUS vs. Alternative comparis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Side by side lender comparison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ays students can educate themselves, questions to ask, and online resources; youcandealwithit.com, collegeanswer.com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2E7-7D6F-4DC8-99E1-E10A66D187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17524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e appreciate your feedback and comments.  We can be reached 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122640"/>
            <a:ext cx="4267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Melissa Ku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hone: (814) 863-28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ax: (814) 863-03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mail:mjk5@psu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3122640"/>
            <a:ext cx="4496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rian C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hone: (617) 638-202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ax: (888) 454-76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mail:  bcox@fmd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tact Informa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FFD-C791-4879-80D2-1CFC119359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28600" y="1471680"/>
          <a:ext cx="8686800" cy="4548240"/>
        </p:xfrm>
        <a:graphic>
          <a:graphicData uri="http://schemas.openxmlformats.org/drawingml/2006/table">
            <a:tbl>
              <a:tblPr/>
              <a:tblGrid>
                <a:gridCol w="4292640"/>
                <a:gridCol w="439416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deral PLUS Loa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vate Alternative Loa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5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 Terms and 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interest rate, set annually on July 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interest rate, changes monthly or quarterl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est rate capped at 9%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est rate may become as high as 21%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der may offer delayed payment options for up to four years through forbearance.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yments may be deferred while the student is enrolled at least half-ti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 may borrow up to the total cost of  attendance less other ai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 may borrow up to the total cost of attendance less other ai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dit check based on federal standards, no debt-to-income ratios or credit-scoring.  A parent may have a better chance of being approved as a borrower on a PLUS Loan than as a co-signer on an alternative loa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ers must pass a comprehensive credit review process including credit scoring and proof of income requirem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PLUS vs. Alternative Loan Comparis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56A-5B7F-4A16-A040-B0E02E19C1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09480"/>
            <a:ext cx="92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PLUS vs. Alternative Loan Compar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1371600"/>
          <a:ext cx="8686800" cy="4737240"/>
        </p:xfrm>
        <a:graphic>
          <a:graphicData uri="http://schemas.openxmlformats.org/drawingml/2006/table">
            <a:tbl>
              <a:tblPr/>
              <a:tblGrid>
                <a:gridCol w="4114800"/>
                <a:gridCol w="457200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deral PLUS Loa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vate Alternative Loa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800" spc="-1" strike="noStrike">
                          <a:solidFill>
                            <a:srgbClr val="010000"/>
                          </a:solidFill>
                          <a:latin typeface="Verdana"/>
                        </a:rPr>
                        <a:t>Repa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Parent is responsible for repaym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Student is responsible for repayment. Please note: A co-signer is equally liable and the loan appears on their credit report.  Parent can help build the credit rating of the stud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Accrued interest capitalizes once at final repaym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Accrued interest may be capitalized monthly, quarterly, or once at repaym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Federally insured against death and disability for both the parent and the stud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Not federally insured against death and disabil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Opportunities available to consolidate PLUS Loans, interest rate capped at 8.25%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Consolidation options becoming more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6AD-8CD2-433D-9E7F-7E595141F1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valuate the School’s Loan Need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hat populations of students do you need to serve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Undergraduate or Graduat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gree or non-degre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ull time or part tim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Traditional/Continuing Education/           Distance Learning cours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Making academic progress/or not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DB2-4714-4CBC-AFCE-C638F4B93A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valuate the School’s Loan Need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Off the Shelf” or “Custom Built”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lationships with current lender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Understand process flow with each lender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ertify or Not Certify – What to know about DTC loan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E66-64F9-4994-8904-3CD962A6A9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Questions to “Ask the Lender”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Borrower Eligibility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Loan Application Proces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nterest Rates and OTHER Fe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payment Terms and Condition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4C9-AB04-4B18-8062-E93DD5EFF2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Questions to “Ask the Lender”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Borrower Benefit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rvice from the Lender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Greentree Gazette – Student Loan Buying Guide – Sept 2005 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Loan Comparison Worksheets:  petersons.com and finaid.org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DF0F-65EC-4C3B-BCF7-E127FB6CE3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orrower Eligi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hat are minimum and maximum loan amounts available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ill this loan meet long term educational borrowing needs and immediate short term needs?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How will my credit rating affect my loan?  Great resources:  myfico.com, mycreditedge.com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E5AA-9230-4578-BDDC-F442A240EF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6:35:40Z</dcterms:created>
  <dc:creator>James Burt</dc:creator>
  <dc:description/>
  <dc:language>en-US</dc:language>
  <cp:lastModifiedBy>2005 EAC</cp:lastModifiedBy>
  <dcterms:modified xsi:type="dcterms:W3CDTF">2005-12-02T17:33:29Z</dcterms:modified>
  <cp:revision>53</cp:revision>
  <dc:subject/>
  <dc:title>PowerPoint Presentation</dc:title>
</cp:coreProperties>
</file>