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E5B-8FD6-4BC6-9477-5AA3B818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B9E-630E-4269-A115-9A4F984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084-5362-48A5-8B58-2B03C652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68B-E8F5-4FDC-94E0-871A41AB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855A-7EC0-4135-B85A-F75560EA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775E-20AB-4087-B29D-4B1653E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516-2404-4EE0-A21F-E051A81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8B84-44C1-4F1C-9510-ACB8587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076C-F1F9-4725-8000-383FD04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13D4-E291-411F-A6BD-4868F19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DCCE-B713-4E2E-BE02-A8015D1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AE1-E6EC-4FDE-9ACB-98BA295F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2EC-130F-4AE4-97C5-AA26C1A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1CD-CBC4-41BE-A953-103B519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271-2B67-4FB4-B1D4-13C7AF7B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663-5549-40A1-8D1D-6AA49362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BC1-4F65-481F-B7F1-CF04865D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DBA-2458-4B3B-BDCA-7D900505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411-EFAE-44FD-AF26-D060FD4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7F2-5C77-4677-9765-29DCDFA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D89-6122-4F84-8E22-428302B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7B6-FC3E-4766-A4AC-273FBE8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960-E614-4F1F-A3C2-9022C6F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AFC-CC73-4476-8394-F74C930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66E6-2B61-4ED5-8C43-C44792E8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2067-05EC-4CC6-AEB4-537A57CD2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6979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arry.eadie@ed.gov" TargetMode="External"/><Relationship Id="rId2" Type="http://schemas.openxmlformats.org/officeDocument/2006/relationships/hyperlink" Target="mailto:raul.galvan@ed.gov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lumbus.lee@ed.gov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IMPROVED PROGRAM MANAGEMENT WILL BETTER SERVE YOUR STUDENTS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arence M. Hick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ssio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 M. Hicks, Directo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5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.hicks 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 Bellizair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6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.bellizair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arry B. Eadi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4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arry.eadi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aul M. Galv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455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662 (fax)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aul.galvan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56F-96AB-48D4-B79C-C067BED98B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lumbus “Chris” L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8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lumbus.le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 R. Ro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20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3644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.ross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 G. Selepa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377 4381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.selepak@ed.gov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6E0-185C-4116-9A01-617FD952FF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pecial Initiatives Servi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torically Black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panic Serving Institu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65D-BEA3-499F-BA16-6FA0C962E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DO WE HELP YOU?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Tools currently available on IFAP can maximize the efficiency of the Staff in maintaining compliance with federal regulation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Assess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Coa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Common Origination &amp; Disbursement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CA8-FEB5-4686-B501-98683580F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-1067040"/>
            <a:ext cx="10515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his year the SIS Unit sponsored workshops specifically tailored to address the needs of the Financial Aid and Business Office staff at HBCU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3757680"/>
            <a:ext cx="47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BCUs informed SIS that more training was needed 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 Pl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quidation of Federal Perkins Loa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Verifi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F67-04A3-4971-B39B-CC07BE570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SA’s Default Prevention and Management Office team held a workshop in Puerto Rico designed specifically for the Hispanic-Speaking Institutions.  The workshop included a default prevention component and reiterated the school’s responsibility to reduce delinquency and default among borrowers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9FE-2AC3-470E-9DD6-51AF7AE5B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SIS participated in a day-long session for HSIs on Conflicting Information/Verification.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8F7-975B-44B1-8EB6-FD59F36F1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 (TCU’s) received updated information on compliance with the Family Educational Rights and Privacy Act (FERPA) with respect to protecting the privacy of student education recor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314-F1E6-455B-B345-3F6CFBB46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UTURE 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orkshops exclusively geared toward Business Officer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s training will ensure that these professionals are equipped with the information they need to be fiscally sound administrators of Title IV fun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F7F-510A-44BD-8ACC-80A784F0CE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1:37Z</dcterms:modified>
  <cp:revision>21</cp:revision>
  <dc:subject/>
  <dc:title>PowerPoint Presentation</dc:title>
</cp:coreProperties>
</file>