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1DFC-1761-4273-8418-476D0685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66B0-E162-4139-B4AE-3AACA18F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F7FA-06AD-479D-875B-A9067E0A3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40A2-B311-4D3C-80A8-2CEDD2722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6C2E-1DD8-4BD4-9C6A-9EE92EC84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C241-7D80-4311-A55F-F7A9D158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76EE-FBBD-4FB9-98BB-D2A3E7F7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C82E-E074-4CEE-A3F9-3B96045E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F700-22F3-4CEF-B49C-0FC27652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6C4E-7466-4B36-90E4-AC998C93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F821-9BF0-4BF1-B083-7C266A71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B41B-F1BD-4B10-A4AA-B74FC33C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2599-9489-4D96-A33E-2A3B96BC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39B8-02F9-4201-8015-2EA5971A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9A3F-28B5-4C46-A10B-F565AD3D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24F7-BB55-4D6A-AAA2-FBA4287A9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1CE5-1E8B-4B9D-BC29-094369CD6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8A14-4404-43D8-822E-C19BEBC3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6A24-11AD-46E5-A59D-61A92CFF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0FE3-88D3-48CD-8632-7BBA028F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2EA3-3824-4C8F-B9FD-BEC909C0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2E4A-D103-462F-ADBA-CCD904A7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7383-36D7-4067-8976-5A550DC5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008C-E90C-44EE-891F-12CADDAA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7501" t="36672" r="4178" b="36672"/>
          <a:stretch/>
        </p:blipFill>
        <p:spPr>
          <a:xfrm>
            <a:off x="6477120" y="6248520"/>
            <a:ext cx="2666880" cy="609480"/>
          </a:xfrm>
          <a:prstGeom prst="rect">
            <a:avLst/>
          </a:prstGeom>
          <a:ln w="28440">
            <a:solidFill>
              <a:srgbClr val="006979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731520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4061-4C50-4D9F-B87D-A2D49354A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594360" indent="-228600">
              <a:spcBef>
                <a:spcPts val="10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2" marL="914400" indent="-1828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3" marL="1280160" indent="-182880">
              <a:spcBef>
                <a:spcPts val="10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4" marL="1645920" indent="-182880">
              <a:spcBef>
                <a:spcPts val="1001"/>
              </a:spcBef>
              <a:buClr>
                <a:srgbClr val="00697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7501" t="36672" r="4178" b="36672"/>
          <a:stretch/>
        </p:blipFill>
        <p:spPr>
          <a:xfrm>
            <a:off x="6477120" y="6248520"/>
            <a:ext cx="2666880" cy="609480"/>
          </a:xfrm>
          <a:prstGeom prst="rect">
            <a:avLst/>
          </a:prstGeom>
          <a:ln w="28440">
            <a:solidFill>
              <a:srgbClr val="006979"/>
            </a:solidFill>
            <a:miter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5210-9D47-46EC-BF32-D52714491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979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45720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2" marL="914400" algn="ctr"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006979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006979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larry.eadie@ed.gov" TargetMode="External"/><Relationship Id="rId2" Type="http://schemas.openxmlformats.org/officeDocument/2006/relationships/hyperlink" Target="mailto:raul.galvan@ed.gov" TargetMode="External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columbus.lee@ed.gov" TargetMode="External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590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979"/>
                </a:solidFill>
                <a:latin typeface="Times New Roman"/>
              </a:rPr>
              <a:t>IMPROVED PROGRAM MANAGEMENT WILL BETTER SERVE YOUR STUDENTS</a:t>
            </a:r>
            <a:endParaRPr b="1" lang="en-US" sz="54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Clarence M. Hick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7621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Session</a:t>
            </a: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 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IS Staff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Clarence M. Hicks, Director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202 377 4357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202 275 5512 (fax)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clarence.hicks @ed.gov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Demetrius Bellizaire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202 377 4365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202 275 5512 (fax)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demetrius.bellizaire@ed.gov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34120" y="160020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Larry B. Eadie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404 562 6264 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404 562 6283 (fax)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larry.eadie@ed.gov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979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Raul M. Galvan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214 661 9455 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214 661 9662 (fax) 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raul.galvan@ed.gov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E1CA-1A4F-4F64-9CC2-4D845C3990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IS Staff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Columbus “Chris” Lee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404 562 6268 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404 562 6283 (fax)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columbus.lee@ed.gov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979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Esther R. Ros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206 615 2017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206 615 3644 (fax)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esther.ross@ed.gov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7524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onald G. Selepak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202 377 4381 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202 275 5512 (fax)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onald.selepak@ed.gov 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D971-6376-48B9-B029-E73FB54FCB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pecial Initiatives Service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979"/>
                </a:solidFill>
                <a:latin typeface="Times New Roman"/>
              </a:rPr>
              <a:t>Historically Black Colleges and Universitie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979"/>
                </a:solidFill>
                <a:latin typeface="Times New Roman"/>
              </a:rPr>
              <a:t>Hispanic Serving Institution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979"/>
                </a:solidFill>
                <a:latin typeface="Times New Roman"/>
              </a:rPr>
              <a:t>Tribal Colleges and Universitie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E859-218F-44EB-B5EE-F81FE2F467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HOW DO WE HELP YOU?</a:t>
            </a:r>
            <a:br>
              <a:rPr sz="4400"/>
            </a:b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979"/>
                </a:solidFill>
                <a:latin typeface="Times New Roman"/>
              </a:rPr>
              <a:t>Tools currently available on IFAP can maximize the efficiency of the Staff in maintaining compliance with federal regulations: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79"/>
                </a:solidFill>
                <a:latin typeface="Times New Roman"/>
              </a:rPr>
              <a:t>Federal Student Aid Assessment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79"/>
                </a:solidFill>
                <a:latin typeface="Times New Roman"/>
              </a:rPr>
              <a:t>Federal Student Aid Coach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79"/>
                </a:solidFill>
                <a:latin typeface="Times New Roman"/>
              </a:rPr>
              <a:t>Common Origination &amp; Disbursement 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A858-1F50-4552-B759-1979856C87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80880" y="-1067040"/>
            <a:ext cx="10515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979"/>
                </a:solidFill>
                <a:latin typeface="Times New Roman"/>
              </a:rPr>
              <a:t>   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PARTNERSHIP WORKSHOPS</a:t>
            </a:r>
            <a:br>
              <a:rPr sz="4400"/>
            </a:b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440" y="243828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979"/>
                </a:solidFill>
                <a:latin typeface="Times New Roman"/>
              </a:rPr>
              <a:t>This year the SIS Unit sponsored workshops specifically tailored to address the needs of the Financial Aid and Business Office staff at HBCUs.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5280" y="3757680"/>
            <a:ext cx="473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PARTNERSHIP WORKSHOP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HBCUs informed SIS that more training was needed on: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Default Prevention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Default Prevention Plan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Liquidation of Federal Perkins Loan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Conflicting Information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Verification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D6D0-8BD6-44B5-9294-C01740A380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PARTNERSHIP WORKSHOP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FSA’s Default Prevention and Management Office team held a workshop in Puerto Rico designed specifically for the Hispanic-Speaking Institutions.  The workshop included a default prevention component and reiterated the school’s responsibility to reduce delinquency and default among borrowers.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8845-8B8B-4C38-9861-1A8B900C01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PARTNERSHIP WORKSHOP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979"/>
                </a:solidFill>
                <a:latin typeface="Times New Roman"/>
              </a:rPr>
              <a:t>SIS participated in a day-long session for HSIs on Conflicting Information/Verification. 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51A7-217F-4104-BE24-1A93403FCF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PARTNERSHIP WORKSHOP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979"/>
                </a:solidFill>
                <a:latin typeface="Times New Roman"/>
              </a:rPr>
              <a:t>Tribal Colleges and Universities (TCU’s) received updated information on compliance with the Family Educational Rights and Privacy Act (FERPA) with respect to protecting the privacy of student education records.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F8A4-1D4C-46D1-BDD3-33D16E7AA2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FUTURE PARTNERSHIP WORKSHOP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Workshops exclusively geared toward Business Officers.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This training will ensure that these professionals are equipped with the information they need to be fiscally sound administrators of Title IV funds.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3736-734B-47FE-A10E-F34E469D6E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8T16:35:40Z</dcterms:created>
  <dc:creator>James Burt</dc:creator>
  <dc:description/>
  <dc:language>en-US</dc:language>
  <cp:lastModifiedBy>2005 EAC</cp:lastModifiedBy>
  <dcterms:modified xsi:type="dcterms:W3CDTF">2005-12-02T17:21:37Z</dcterms:modified>
  <cp:revision>21</cp:revision>
  <dc:subject/>
  <dc:title>PowerPoint Presentation</dc:title>
</cp:coreProperties>
</file>