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15A-AA89-480C-9AAC-2E14FE75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36D-59FA-4C45-ABFA-C3961F4E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DB2-D781-4D48-8B20-7DEF174F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271-5924-4C6B-B98B-09DAFCEE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758-1746-4FE5-A9A3-72AC7FF8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6A5-A09F-4374-9045-4635867C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FD3-9E29-434E-8EE3-60BAF582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6A8-A218-4B04-BFCF-08A92713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16C-B32C-4254-AA27-0A0DF81A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1BB-B534-4BE9-8501-FC9744C1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7D9-5B1C-4605-A765-B5C4E6BD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4F4-2D16-4808-B607-613D0880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1E41-BEE9-4E9A-831B-EA2742DA9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1337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Fundamentals of EFC Calculations, 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868560"/>
            <a:ext cx="6095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laire Micki Roe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reg Mart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dependent Stud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dependent Students without Dependents other than a spous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pplies to single and married independent stud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y NOT qualify for auto zero EFC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y qualify for simplified formula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udent (and spouse) AGI or earnings from work &lt; $50,000 and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udent (and spouse) not required to file IRS form 1040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C09-85F2-490D-94E8-97CB5EFD9A8F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dependent Students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dependent Students with Dependents other than a Spous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nalysis looks much like that of parents of dependent stud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FC automatically zero if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udent’s (and spouse’s) AGI or income earned from work is $15,000 or less and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udent (and spouse) not required to file IRS form 1040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7EA-A948-48D3-A1C8-06F3D9508A47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dependent Students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ay qualify for simplified formula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(and spouse) AGI or earnings from work &lt; $50,000 </a:t>
            </a: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(and spouse) not required to file IRS form 1040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327672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807-E6F9-4447-85E8-8A4CE3A9D58B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r Student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rol is a dependent studen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ives in OK with a family size of 6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ther works, mother works part tim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arents have total assets of $30,100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irst in her family to go to colle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930-F94E-4C8E-A366-94EB3F3FDE49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Income in F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Total Income: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ase year income from all taxable and untaxable sourc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xclusions (FAFSA Worksheet C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=Total Incom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8769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E3C-5935-4E60-893F-B77E2C44009D}" type="slidenum">
              <a:t>1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Income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Available Income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Portion of income remaining for discretionary spending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otal incom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- Total Allowanc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Available Income (AI)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52578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C21-C08E-40A0-9E0D-15726DD0DF35}" type="slidenum">
              <a:t>1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otal Allowan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llowances for tax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U. S. Income tax pai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imate of state and other tax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ate of residence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mount of total income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ICA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65600" y="1981080"/>
            <a:ext cx="289260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EA0-0FEA-4CBE-8219-E96A6405E6FE}" type="slidenum">
              <a:t>1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otal Allowan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come Protection Allowance-IPA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imates amount needed for basic need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ased on BLS lower budget expenditures adjusted for CPI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ncreases with each household member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creases with each member in colle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934-EB93-491C-82EF-8917C00CDFA4}" type="slidenum">
              <a:t>1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otal Allowances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16720" y="2286000"/>
            <a:ext cx="352728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mployment expense allowanc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resents additional costs when both parents work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lies to single parent working famili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63960" y="3200400"/>
            <a:ext cx="281808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323-C452-4A35-9B27-02CF025A6ECE}" type="slidenum">
              <a:t>1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ssets defin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ash, savings, checking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nvestments and trus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eal estate equit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usiness/farm equity (non-family farms only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Protects first 60% of equity up to $100K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ecreases protection percentage after $100K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CFE-1AAE-4127-B745-7B1064B0257B}" type="slidenum">
              <a:t>1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ow is EFC Determined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ree Federal Methodology (FM) model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ependent stud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dependent stud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dependent student with dependents other than a spous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768-61F3-48C3-8D64-69EDA476AAD5}" type="slidenum">
              <a:t>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Cash, savings, checking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+ Net worth of real estate and investments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+ Adjusted net worth of business/farm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= Total Net Worth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95288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2B6-F672-4822-B806-1C27B3EDB98C}" type="slidenum">
              <a:t>2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Total Net Worth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697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Education Savings and Asset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Protection Allowance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Discretionary Net Worth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6483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609-5E02-4AC8-9B70-D4C1D84DED21}" type="slidenum">
              <a:t>2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ducation Savings and Asset Protection Allowanc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rotects assets for retirement and future education cos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pplies &gt; age 25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Increases with age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djusted for marital statu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o protection for dependent stud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789-EBD7-4F0B-B778-2717D0917A87}" type="slidenum">
              <a:t>2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Discretionary Net Worth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X  12% (asset conversion rate)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Contribution from Assets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4572000"/>
            <a:ext cx="4343400" cy="162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0E9-0F22-4F6D-8170-6D2C8271D9E0}" type="slidenum">
              <a:t>2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djusted Available Inco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arents’ Available Income (+ / -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+  Parents’ Contribution from Assets (+/ 0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otal Adjusted Available Income (+ / -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19112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50B-E9D8-40F9-9EE5-A8BBAE688FD0}" type="slidenum">
              <a:t>2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Parents’ Contribu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s income increases, amount needed for basic household expenses decreas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iscretionary income increas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ncome available for educ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djusted Available Income (AAI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X  AAI contribution rat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otal Parents’ Contribution from AAI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63868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74C-AEE9-483B-B4F7-27B886CE2D95}" type="slidenum">
              <a:t>2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Parents’ Contribu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979"/>
                </a:solidFill>
                <a:latin typeface="Times New Roman"/>
              </a:rPr>
              <a:t>Total contribution from AAI is divided evenly among all household members in college</a:t>
            </a:r>
            <a:endParaRPr b="0" lang="en-US" sz="42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otal PC from AAI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Number in Colleg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1814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46483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9-month P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F70-A331-4D0C-ABBB-8BC30ADA86E9}" type="slidenum">
              <a:t>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Student’s Contribu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otal of student taxed + untaxed incom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-  state and federal tax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-  $2440 IPA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-  allowance for parents’ negative AAI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vailable income (AI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X  50% assessment of AI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contribution from AI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56272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34340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B9F-CEF0-4DB1-826C-4D4BB6DB5843}" type="slidenum">
              <a:t>27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Student’s Contribu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ash, savings, checking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+ Net worth of real estate and investm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+ Adjusted net worth of business/farm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otal Net Worth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X  35%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contribution from asse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73392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87692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2D2-ECEA-4A98-8196-5376553CFDD8}" type="slidenum">
              <a:t>2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EFC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rents’ Contribu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+ Student’s Contribution from AI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+ Student’s Contribution from asse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9 month EFC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038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5880" y="4103640"/>
            <a:ext cx="2743200" cy="20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843-6260-465E-815D-766A3E3AA557}" type="slidenum">
              <a:t>2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ow is EFC Determined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979"/>
                </a:solidFill>
                <a:latin typeface="Times New Roman"/>
              </a:rPr>
              <a:t>Three distinct FM formulas</a:t>
            </a:r>
            <a:endParaRPr b="0" lang="en-US" sz="5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Regular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Simplified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Automatic zero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7400" y="2438280"/>
            <a:ext cx="324504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093-A7D7-410A-AFD3-D284A8ACEE70}" type="slidenum">
              <a:t>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2217600"/>
            <a:ext cx="495288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Claire Micki Roem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Phone: 202-377-34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ax: 202-275-45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Email: claire.roemer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114800"/>
            <a:ext cx="525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reg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Phone: 215-656-64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Email: greg.marti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A00-AD7F-44DB-ADB6-9C15AD57F709}" type="slidenum">
              <a:t>30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actors that affect EFC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umber in Househol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umber in Colle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axed and Untaxed incom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axes pai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vestmen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ge of the older parent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umber of wage earner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B67-869A-4F4D-9222-E794C21BA48D}" type="slidenum">
              <a:t>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rinciples of Need Analysi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mily has primary responsibility to pay for educational cos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tudent and parents are expected to contribute to the extent they are abl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mily should be accepted in its present financial condi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milies should be evaluated in an equitable and consistent mann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7FD-1872-4A84-A3CB-37F380AFF53D}" type="slidenum">
              <a:t>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ed Analysis Concep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Need-based funds are available to assist with educational costs that exceed the family’s ability to pa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M assesses strength at the time of applicatio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amily resources are devoted first to basic subsistenc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501-504C-4FC1-8FE7-E2DED3D595EC}" type="slidenum">
              <a:t>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ed Analysis Concep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Beyond basic needs, families can exercise discre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M allowances protect family resourc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asic need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on-education related discretionary cos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M measures discretionary resourc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ablishes a portion available for educ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EDD-1160-48AB-BB18-A1A9BB113414}" type="slidenum">
              <a:t>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mplified Formul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Assets not considere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rents’ AGI or earnings from work &lt; $50,000 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either parents nor student required to file IRS form 1040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F77-99F3-4AE7-B59E-89BDE3E20743}" type="slidenum">
              <a:t>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utomatic Zer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FC is automatically zero if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rents’ AGI or income earned from work is $15,000 or less 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either parents nor student required to file IRS form 1040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0A6-E4B7-4584-9FB6-D3EC510A6775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2005 EAC</cp:lastModifiedBy>
  <cp:lastPrinted>2002-09-20T18:59:28Z</cp:lastPrinted>
  <dcterms:modified xsi:type="dcterms:W3CDTF">2005-12-02T17:01:50Z</dcterms:modified>
  <cp:revision>47</cp:revision>
  <dc:subject/>
  <dc:title>No Slide Title</dc:title>
</cp:coreProperties>
</file>