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A67-1C1C-4435-9A32-BFEAB1E8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231-D13B-499C-9124-29508CB3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A58-CBCC-47F6-8522-8B8ED128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1F8-3D15-45A2-929C-3C073C18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4E4-7905-4F18-A399-21F81814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113-CE3C-4686-B4C5-789221A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641-370C-47DB-A7DE-4408019C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8EB-5DDD-4705-9A09-BF7B152C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351-4871-487A-9AF1-B348C09A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A40-8440-488B-8F11-BF5A947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050-7C5A-45C4-B25F-858A1B5F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12A-13B1-4451-8ED4-AFAFDA48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639-830D-47D5-95B6-259784ABD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1337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Fundamentals of EFC Calculations,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868560"/>
            <a:ext cx="6095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laire Micki Roe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reg Mart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dependent Stud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s without Dependents other than a spous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pplies to single and married independent stud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y NOT qualify for auto zero EFC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y qualify for simplified formula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 (and spouse) AGI or earnings from work &lt; $50,000 an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 (and spouse) not required to file IRS form 1040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DEA-DE0F-4A08-9F83-83522AB4DF16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dependent Students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s with Dependents other than a Spous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nalysis looks much like that of parents of dependent stud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FC automatically zero if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’s (and spouse’s) AGI or income earned from work is $15,000 or less an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udent (and spouse) not required to file IRS form 1040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4F1-E18F-4B40-86E9-B2814E479933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dependent Students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ay qualify for simplified formula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(and spouse) AGI or earnings from work &lt; $50,000 </a:t>
            </a: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(and spouse) not required to file IRS form 1040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327672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527-8E96-4DDB-AEA4-F0E84805B2C2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r Student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rol is a dependent studen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ives in OK with a family size of 6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ther works, mother works part ti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arents have total assets of $30,100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irst in her family to go to colle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508-C226-419B-923C-603456369E4B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Income in F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Total Income: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ase year income from all taxable and untaxable sourc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xclusions (FAFSA Worksheet C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=Total Incom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8769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95D-FC18-431C-984D-EE44C5F004A9}" type="slidenum">
              <a:t>1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Income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Available Income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Portion of income remaining for discretionary spending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otal incom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- Total Allowanc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Available Income (AI)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52578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828-9F01-4D24-98DF-D9004D22C316}" type="slidenum">
              <a:t>1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otal Allowan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llowances for tax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. S. Income tax pai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imate of state and other tax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tate of residenc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mount of total incom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ICA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65600" y="1981080"/>
            <a:ext cx="289260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DDA-6F60-4FF5-AFDC-D79A9D1A7DAD}" type="slidenum">
              <a:t>1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otal Allowanc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come Protection Allowance-IPA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imates amount needed for basic need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ased on BLS lower budget expenditures adjusted for CP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ncreases with each household membe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creases with each member in colle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565-78DB-488E-BAB0-EEFA7F9CC870}" type="slidenum">
              <a:t>1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otal Allowances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16720" y="2286000"/>
            <a:ext cx="35272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mployment expense allowa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presents additional costs when both parents work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lies to single parent working famili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63960" y="3200400"/>
            <a:ext cx="281808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F2E-1B71-4AED-9F24-7A37637E06F8}" type="slidenum">
              <a:t>1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ssets defin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ash, savings, checkin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nvestments and trus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al estate equit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usiness/farm equity (non-family farms only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rotects first 60% of equity up to $100K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ecreases protection percentage after $100K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DC2-D6F3-4AAA-B07D-AAD565CBC5B9}" type="slidenum">
              <a:t>1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is EFC Determined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ree Federal Methodology (FM) model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ependent stud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dependent student with dependents other than a spous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BEC-555B-4C25-A0D0-9D2CE6493917}" type="slidenum">
              <a:t>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Cash, savings, checking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+ Net worth of real estate and investments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+ Adjusted net worth of business/farm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= Total Net Worth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95288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67B-D214-43C2-8C7D-195FBF87BA04}" type="slidenum">
              <a:t>2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Total Net Worth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6979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Education Savings and Asset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Protection Allowance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Discretionary Net Worth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6483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A76-3238-48DB-A371-B9A18AEA4CBD}" type="slidenum">
              <a:t>2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ducation Savings and Asset Protection Allowanc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rotects assets for retirement and future education cos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pplies &gt; age 25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Increases with ag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Adjusted for marital statu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o protection for dependent stud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070-2F09-48D7-ABBE-A973755AEAF1}" type="slidenum">
              <a:t>2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eatment of Assets in FM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Discretionary Net Worth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X  12% (asset conversion rate)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Contribution from Assets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4572000"/>
            <a:ext cx="4343400" cy="162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41F-1BCE-471A-99F4-9AA1CFA1C770}" type="slidenum">
              <a:t>2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djusted Available Inco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arents’ Available Income (+ / -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+  Parents’ Contribution from Assets (+/ 0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otal Adjusted Available Income (+ / -)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19112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6F2-D90B-4888-BF27-3341BAF9CD89}" type="slidenum">
              <a:t>2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Parents’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s income increases, amount needed for basic household expenses decreas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iscretionary income increas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ncome available for edu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djusted Available Income (AAI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X  AAI contribution rat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otal Parents’ Contribution from AAI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63868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11E-B215-4E25-B560-4EA8FC93BEF1}" type="slidenum">
              <a:t>2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Parents’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979"/>
                </a:solidFill>
                <a:latin typeface="Times New Roman"/>
              </a:rPr>
              <a:t>Total contribution from AAI is divided evenly among all household members in college</a:t>
            </a:r>
            <a:endParaRPr b="0" lang="en-US" sz="42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otal PC from AAI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umber in Colleg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1814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46483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9-month P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154-2452-4282-8590-4126CE05B845}" type="slidenum">
              <a:t>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Student’s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otal of student taxed + untaxed inco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 state and federal tax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 $2440 IPA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-  allowance for parents’ negative AA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vailable income (AI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X  50% assessment of A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contribution from AI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56272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34340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361-376A-4057-808E-CDEBE7232128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Student’s Contribu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Cash, savings, checkin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+ Net worth of real estate and investm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+ Adjusted net worth of business/farm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otal Net Worth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X  35%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tudent contribution from asse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8769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79F-5A12-468E-9012-3F8E4365B32F}" type="slidenum">
              <a:t>2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termining EFC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rents’ Contribu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+ Student’s Contribution from AI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+ Student’s Contribution from asse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9 month EFC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038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5880" y="4103640"/>
            <a:ext cx="2743200" cy="20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C79-86FB-4FBC-9F89-C92D4B78A91F}" type="slidenum">
              <a:t>2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is EFC Determined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979"/>
                </a:solidFill>
                <a:latin typeface="Times New Roman"/>
              </a:rPr>
              <a:t>Three distinct FM formulas</a:t>
            </a:r>
            <a:endParaRPr b="0" lang="en-US" sz="5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Regular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Simplified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Automatic zero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7400" y="2438280"/>
            <a:ext cx="324504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B2C-D811-4B84-B8CE-C3806D4BC32A}" type="slidenum">
              <a:t>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2217600"/>
            <a:ext cx="49528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laire Micki Roem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hone: 202-377-34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ax: 202-275-45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mail: claire.roemer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4114800"/>
            <a:ext cx="525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reg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Phone: 215-656-64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Email: greg.marti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895-5DD6-4B8F-AB40-2C67D654EFE9}" type="slidenum">
              <a:t>30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actors that affect EFC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umber in Househol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umber in Colle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axed and Untaxed incom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axes pai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vestmen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ge of the older parent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umber of wage earn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B40-F8C7-424A-9ECE-48301BE18403}" type="slidenum">
              <a:t>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rinciples of Need Analysi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mily has primary responsibility to pay for educational cos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tudent and parents are expected to contribute to the extent they are abl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mily should be accepted in its present financial condi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amilies should be evaluated in an equitable and consistent mann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942-24BB-4542-8731-CB8D778B43D6}" type="slidenum">
              <a:t>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ed Analysis Concep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eed-based funds are available to assist with educational costs that exceed the family’s ability to pa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M assesses strength at the time of applica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amily resources are devoted first to basic subsiste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BCD-BB69-4044-993E-9E58C98F4585}" type="slidenum">
              <a:t>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ed Analysis Concep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Beyond basic needs, families can exercise discre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M allowances protect family resourc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asic need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on-education related discretionary cos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M measures discretionary resourc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stablishes a portion available for educ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01C-4185-408C-932C-7800245378A2}" type="slidenum">
              <a:t>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implified Formul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Assets not consider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rents’ AGI or earnings from work &lt; $50,000 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either parents nor student required to file IRS form 104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64E-3AE0-45C3-B76E-F6BDBDA05FFD}" type="slidenum">
              <a:t>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utomatic Zer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FC is automatically zero if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rents’ AGI or income earned from work is $15,000 or less 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either parents nor student required to file IRS form 104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770-0433-4994-B902-D814BB2A01A6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2005 EAC</cp:lastModifiedBy>
  <cp:lastPrinted>2002-09-20T18:59:28Z</cp:lastPrinted>
  <dcterms:modified xsi:type="dcterms:W3CDTF">2005-12-02T17:01:50Z</dcterms:modified>
  <cp:revision>47</cp:revision>
  <dc:subject/>
  <dc:title>No Slide Title</dc:title>
</cp:coreProperties>
</file>