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E80-ABF5-4F33-BBF0-D66A3AF0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B61-6291-43A4-B72B-ED054C5C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712-A366-4B23-B6A1-42BFFF2A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32B-0F55-4201-BFE7-6E16B00F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138-B014-4EE8-B876-F7D063F8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F4E-5613-4441-9AB3-036A380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84B-E08F-448F-8C49-054B3218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538-DB1F-4581-A8DF-550BB57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BF0-D948-438A-8C9D-1BF2B10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9F3-C034-42E5-853E-67D0F6B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CC2-AA04-4C58-90C4-1B9D6D4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4CC-0975-48E7-9364-1699130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A128-5DF8-4ACD-9375-3B198F523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1838160"/>
            <a:ext cx="66294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EDExpres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Super Us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97656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ryann Jacobucci, U.S. Department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ria Marella, U.S. Department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b Martin, U.S. Department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2006/07 EDExpress Basics on the Web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ifap.ed.gov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Overview and Apps available 12/18/05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lobal and Packaging available 2/26/0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L and Pell available 4/2/0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508-Compliance text-based training available 5/7/06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28D-9004-476B-A1DA-1273EC795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ands-on Exercis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loba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irect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el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OTE:  EDExpress Packaging Assistance is available in the PC Lab!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E50-F41B-40A0-9A35-1C6CC27B1C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at’s new for 2006-07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inimal Changes for all modul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ands-on Exercises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loba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el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irect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486-77A2-4C01-85F2-6B03F8A425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3382920"/>
            <a:ext cx="396252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plash Screen to be blue to match the FAFSA and SA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D82-5ADA-4C9C-874E-BF10F11A47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5207" r="0" b="3824"/>
          <a:stretch/>
        </p:blipFill>
        <p:spPr>
          <a:xfrm>
            <a:off x="1371600" y="1595520"/>
            <a:ext cx="6705720" cy="4576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7480" y="219240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Express will be 508 Compli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FF5-B1C6-4233-A7A4-F501FD4FEB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441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3048120"/>
            <a:ext cx="519120" cy="15228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514600"/>
            <a:ext cx="519120" cy="152280"/>
          </a:xfrm>
          <a:prstGeom prst="rightArrow">
            <a:avLst>
              <a:gd name="adj1" fmla="val 50000"/>
              <a:gd name="adj2" fmla="val 85225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657600"/>
            <a:ext cx="609840" cy="152280"/>
          </a:xfrm>
          <a:prstGeom prst="leftArrow">
            <a:avLst>
              <a:gd name="adj1" fmla="val 50000"/>
              <a:gd name="adj2" fmla="val 100118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600200"/>
            <a:ext cx="152640" cy="519120"/>
          </a:xfrm>
          <a:prstGeom prst="downArrow">
            <a:avLst>
              <a:gd name="adj1" fmla="val 50000"/>
              <a:gd name="adj2" fmla="val 85024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1600200"/>
            <a:ext cx="152640" cy="519120"/>
          </a:xfrm>
          <a:prstGeom prst="downArrow">
            <a:avLst>
              <a:gd name="adj1" fmla="val 50000"/>
              <a:gd name="adj2" fmla="val 85024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1600200"/>
            <a:ext cx="152280" cy="519120"/>
          </a:xfrm>
          <a:prstGeom prst="downArrow">
            <a:avLst>
              <a:gd name="adj1" fmla="val 50000"/>
              <a:gd name="adj2" fmla="val 85225"/>
            </a:avLst>
          </a:prstGeom>
          <a:solidFill>
            <a:srgbClr val="f71e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6EB-46F1-4BD0-B383-87DE5527E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86880" y="762120"/>
            <a:ext cx="799920" cy="1028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loba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A Access “setup” will carry forward using Prior-Year Impor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Global File Formats will carry forward using Prior-Year Impor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RN removed from ISIR Review tab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 forgot/don’t know my PIN” will link directly to duplicate PIN request Web sit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 message class chang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3F2-2555-455E-84B1-F58FB22D79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ell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ennies will display (where appropriate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Origin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isbursem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or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9AE-F1B0-4319-B20C-9195267F14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rect Loan Changes 2006-07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nd of Entry Edits enhanc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ll references to “Note” have been updated to “MPN”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e "LAA Not Equal to Endorser Amount" pre-defined query has been updated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0C0-0B35-4DAC-A244-EC60C9E74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act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e appreciate your feedback and comment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e can be reached at: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hone:  (800) 330-5947 or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(TDD/TTY: 800/511-5806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mail:  CPSSAIG@ed.gov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465-8A23-43A3-A536-D4F6E55E99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6:39:59Z</dcterms:modified>
  <cp:revision>50</cp:revision>
  <dc:subject/>
  <dc:title>PowerPoint Presentation</dc:title>
</cp:coreProperties>
</file>