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CD26-3CE9-4B91-91B4-FAAB55B3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E4A-F9B5-4DB4-A076-B2248C45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C0D5-DE0A-43A2-B5B1-0F7CF61A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9A99-0574-4DEF-BB96-57CA106D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CFCB-40FD-497C-B30F-F72D8508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7A6-24A2-4A78-984D-9430797B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258-A1CB-4C0E-88CD-8F7D07A1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5A58-E320-489D-B169-7DAEE67D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D09-A7F0-4F25-9B6D-BE2F9371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F49-65E9-4619-A1FB-47E2C751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36D-8BAE-4D41-9325-C7C7CFF6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93A-F802-4789-8933-679EB792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7501" t="36672" r="4178" b="36672"/>
          <a:stretch/>
        </p:blipFill>
        <p:spPr>
          <a:xfrm>
            <a:off x="6477120" y="6248520"/>
            <a:ext cx="2666880" cy="609480"/>
          </a:xfrm>
          <a:prstGeom prst="rect">
            <a:avLst/>
          </a:prstGeom>
          <a:ln w="28440">
            <a:solidFill>
              <a:srgbClr val="00697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3152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67EB-E941-4A3A-973F-2EC9D726B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697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fap.ed.gov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9907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ess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1838160"/>
            <a:ext cx="662940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979"/>
                </a:solidFill>
                <a:latin typeface="Times New Roman"/>
              </a:rPr>
              <a:t>EDExpres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979"/>
                </a:solidFill>
                <a:latin typeface="Times New Roman"/>
              </a:rPr>
              <a:t>Super Us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976560"/>
            <a:ext cx="8534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Maryann Jacobucci, U.S. Department of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Maria Marella, U.S. Department of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ob Martin, U.S. Department of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2006/07 EDExpress Basics on the Web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ifap.ed.gov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Overview and Apps available 12/18/05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Global and Packaging available 2/26/06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L and Pell available 4/2/06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508-Compliance text-based training available 5/7/06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363-8D92-42BD-A9B3-F8B010F358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Hands-on Exercis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Global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irect Loa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Pell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OTE:  EDExpress Packaging Assistance is available in the PC Lab!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E1E-B6E9-4915-B6E5-678634AC5E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da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What’s new for 2006-07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Minimal Changes for all module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Hands-on Exercises: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Global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Pell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irect Loa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BF8-8C83-432D-97E4-3E45AEA22A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3382920"/>
            <a:ext cx="3962520" cy="248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Global Changes 2006-07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plash Screen to be blue to match the FAFSA and SAR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E22-D267-4EE6-8E05-1E70E3F7AD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5207" r="0" b="3824"/>
          <a:stretch/>
        </p:blipFill>
        <p:spPr>
          <a:xfrm>
            <a:off x="1371600" y="1595520"/>
            <a:ext cx="6705720" cy="4576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7480" y="2192400"/>
            <a:ext cx="64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Express will be 508 Compli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Global Changes 2006-07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416-79A9-4483-B9EF-A2016B4691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162920" cy="4419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3048120"/>
            <a:ext cx="519120" cy="152280"/>
          </a:xfrm>
          <a:prstGeom prst="rightArrow">
            <a:avLst>
              <a:gd name="adj1" fmla="val 50000"/>
              <a:gd name="adj2" fmla="val 85225"/>
            </a:avLst>
          </a:prstGeom>
          <a:solidFill>
            <a:srgbClr val="f71e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514600"/>
            <a:ext cx="519120" cy="152280"/>
          </a:xfrm>
          <a:prstGeom prst="rightArrow">
            <a:avLst>
              <a:gd name="adj1" fmla="val 50000"/>
              <a:gd name="adj2" fmla="val 85225"/>
            </a:avLst>
          </a:prstGeom>
          <a:solidFill>
            <a:srgbClr val="f71e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3657600"/>
            <a:ext cx="609840" cy="152280"/>
          </a:xfrm>
          <a:prstGeom prst="leftArrow">
            <a:avLst>
              <a:gd name="adj1" fmla="val 50000"/>
              <a:gd name="adj2" fmla="val 100118"/>
            </a:avLst>
          </a:prstGeom>
          <a:solidFill>
            <a:srgbClr val="f71e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1600200"/>
            <a:ext cx="152640" cy="519120"/>
          </a:xfrm>
          <a:prstGeom prst="downArrow">
            <a:avLst>
              <a:gd name="adj1" fmla="val 50000"/>
              <a:gd name="adj2" fmla="val 85024"/>
            </a:avLst>
          </a:prstGeom>
          <a:solidFill>
            <a:srgbClr val="f71e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1600200"/>
            <a:ext cx="152640" cy="519120"/>
          </a:xfrm>
          <a:prstGeom prst="downArrow">
            <a:avLst>
              <a:gd name="adj1" fmla="val 50000"/>
              <a:gd name="adj2" fmla="val 85024"/>
            </a:avLst>
          </a:prstGeom>
          <a:solidFill>
            <a:srgbClr val="f71e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1600200"/>
            <a:ext cx="152280" cy="519120"/>
          </a:xfrm>
          <a:prstGeom prst="downArrow">
            <a:avLst>
              <a:gd name="adj1" fmla="val 50000"/>
              <a:gd name="adj2" fmla="val 85225"/>
            </a:avLst>
          </a:prstGeom>
          <a:solidFill>
            <a:srgbClr val="f71e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Global Changes 2006-07</a:t>
            </a:r>
            <a:br>
              <a:rPr sz="4400"/>
            </a:b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4AD-05CD-4D8D-9C27-A293725AA7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886880" y="762120"/>
            <a:ext cx="799920" cy="1028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Global Changes 2006-07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FAA Access “setup” will carry forward using Prior-Year Import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Global File Formats will carry forward using Prior-Year Import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RN removed from ISIR Review tab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I forgot/don’t know my PIN” will link directly to duplicate PIN request Web sit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No message class change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A5BE-42F3-4505-AD1F-277FF34F69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ell Changes 2006-07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Pennies will display (where appropriate)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Originatio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isbursement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port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26A5-8D83-4DE8-ACEB-69EB0BCA70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rect Loan Changes 2006-07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End of Entry Edits enhanced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All references to “Note” have been updated to “MPN”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e "LAA Not Equal to Endorser Amount" pre-defined query has been updated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6E82-1D1A-4ABB-8195-83115159BC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tact Informa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We appreciate your feedback and comments.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We can be reached at: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Phone:  (800) 330-5947 or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(TDD/TTY: 800/511-5806)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Email:  CPSSAIG@ed.gov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A211-1912-42BD-8666-5F025D2562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6:35:40Z</dcterms:created>
  <dc:creator>James Burt</dc:creator>
  <dc:description/>
  <dc:language>en-US</dc:language>
  <cp:lastModifiedBy>2005 EAC</cp:lastModifiedBy>
  <dcterms:modified xsi:type="dcterms:W3CDTF">2005-12-02T16:39:59Z</dcterms:modified>
  <cp:revision>50</cp:revision>
  <dc:subject/>
  <dc:title>PowerPoint Presentation</dc:title>
</cp:coreProperties>
</file>