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79300" cy="91328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284-A08C-4D23-8D18-73CCCE32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EC8-1726-44B1-8C5F-60CA9ECA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DEA-3525-414A-A136-EC7F43B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1360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1424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296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41360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1424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16D-9032-4FBE-BDDF-A7F3C91C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CB8-5AF7-46A9-97F2-962DF810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A3CA-0EB9-4EB4-B39B-4E44FBBB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86D8-8B80-451A-A25B-4A5275A9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021-5BF3-4B42-8478-33B2747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F91-3D8B-4D87-880B-78A08A2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39600" y="711360"/>
            <a:ext cx="89312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6B0C-90B3-43A2-8722-77546B4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1C8A-26BE-400A-BFD1-782F126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BD1-FA65-4076-B1E2-85ECD52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2284-A05B-400B-AA0A-FB1E8D2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8EC-38E6-4277-BE48-3F1967A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E9FF-2EC1-4B66-80FD-B4CBD10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53BA-EA5D-4520-A8A1-4CD75EB4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360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424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91296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41360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91424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7BC5-F40F-4D40-8D36-37071CF4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1DD-1CFE-4E49-B2A1-3E1106C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A75-CF24-4137-BD61-7E0F31B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B2E-F8A8-4FB7-ACC1-5C1DC41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739600" y="711360"/>
            <a:ext cx="89312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61C-CAE3-4426-89B2-0117277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3A1-E1CC-42F8-B1D6-03B0126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62F-E6C6-417A-84D9-3A3A15C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18F-877A-4ADF-99CF-A3A6F9F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306360"/>
            <a:ext cx="270360" cy="8662320"/>
            <a:chOff x="236520" y="306360"/>
            <a:chExt cx="270360" cy="8662320"/>
          </a:xfrm>
        </p:grpSpPr>
        <p:sp>
          <p:nvSpPr>
            <p:cNvPr id="1" name=""/>
            <p:cNvSpPr/>
            <p:nvPr/>
          </p:nvSpPr>
          <p:spPr>
            <a:xfrm flipH="1">
              <a:off x="405360" y="342000"/>
              <a:ext cx="101160" cy="862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306360"/>
              <a:ext cx="101880" cy="833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712240" y="293760"/>
            <a:ext cx="262440" cy="8534520"/>
            <a:chOff x="11712240" y="293760"/>
            <a:chExt cx="262440" cy="853452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11883960" y="293760"/>
              <a:ext cx="90360" cy="84340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11712240" y="505800"/>
              <a:ext cx="103320" cy="8322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49360" y="8625600"/>
            <a:ext cx="11570760" cy="305280"/>
            <a:chOff x="549360" y="8625600"/>
            <a:chExt cx="11570760" cy="305280"/>
          </a:xfrm>
        </p:grpSpPr>
        <p:sp>
          <p:nvSpPr>
            <p:cNvPr id="7" name=""/>
            <p:cNvSpPr/>
            <p:nvPr/>
          </p:nvSpPr>
          <p:spPr>
            <a:xfrm flipV="1" rot="5400000">
              <a:off x="6284160" y="2890440"/>
              <a:ext cx="101160" cy="1157076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6160320" y="3218400"/>
              <a:ext cx="101520" cy="113234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101520" y="234360"/>
            <a:ext cx="11648880" cy="215640"/>
            <a:chOff x="101520" y="234360"/>
            <a:chExt cx="11648880" cy="215640"/>
          </a:xfrm>
        </p:grpSpPr>
        <p:sp>
          <p:nvSpPr>
            <p:cNvPr id="10" name=""/>
            <p:cNvSpPr/>
            <p:nvPr/>
          </p:nvSpPr>
          <p:spPr>
            <a:xfrm flipV="1" rot="5400000">
              <a:off x="6032520" y="-5267520"/>
              <a:ext cx="77760" cy="1135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5885640" y="-5550120"/>
              <a:ext cx="80280" cy="1164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95400" y="234360"/>
            <a:ext cx="11648520" cy="215640"/>
            <a:chOff x="95400" y="234360"/>
            <a:chExt cx="11648520" cy="215640"/>
          </a:xfrm>
        </p:grpSpPr>
        <p:sp>
          <p:nvSpPr>
            <p:cNvPr id="13" name=""/>
            <p:cNvSpPr/>
            <p:nvPr/>
          </p:nvSpPr>
          <p:spPr>
            <a:xfrm flipV="1" rot="5400000">
              <a:off x="6026760" y="-5267160"/>
              <a:ext cx="77760" cy="113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5879520" y="-5550120"/>
              <a:ext cx="80280" cy="1164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66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66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09120" y="8018640"/>
            <a:ext cx="253692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160880" y="8018640"/>
            <a:ext cx="385776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9134640" y="8018640"/>
            <a:ext cx="253656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F1C5F8A-4B68-4691-AF7A-CA4635BB158B}" type="slidenum"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609480" y="571680"/>
            <a:ext cx="2021040" cy="10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6520" y="306360"/>
            <a:ext cx="270360" cy="8662320"/>
            <a:chOff x="236520" y="306360"/>
            <a:chExt cx="270360" cy="8662320"/>
          </a:xfrm>
        </p:grpSpPr>
        <p:sp>
          <p:nvSpPr>
            <p:cNvPr id="58" name=""/>
            <p:cNvSpPr/>
            <p:nvPr/>
          </p:nvSpPr>
          <p:spPr>
            <a:xfrm flipH="1">
              <a:off x="405360" y="342000"/>
              <a:ext cx="101160" cy="862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6520" y="306360"/>
              <a:ext cx="101880" cy="833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712240" y="293760"/>
            <a:ext cx="262440" cy="8534520"/>
            <a:chOff x="11712240" y="293760"/>
            <a:chExt cx="262440" cy="853452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11883960" y="293760"/>
              <a:ext cx="90360" cy="84340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11712240" y="505800"/>
              <a:ext cx="103320" cy="8322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9360" y="8625600"/>
            <a:ext cx="11570760" cy="305280"/>
            <a:chOff x="549360" y="8625600"/>
            <a:chExt cx="11570760" cy="305280"/>
          </a:xfrm>
        </p:grpSpPr>
        <p:sp>
          <p:nvSpPr>
            <p:cNvPr id="64" name=""/>
            <p:cNvSpPr/>
            <p:nvPr/>
          </p:nvSpPr>
          <p:spPr>
            <a:xfrm flipV="1" rot="5400000">
              <a:off x="6284160" y="2890440"/>
              <a:ext cx="101160" cy="1157076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6160320" y="3218400"/>
              <a:ext cx="101520" cy="113234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1520" y="234360"/>
            <a:ext cx="11648880" cy="215640"/>
            <a:chOff x="101520" y="234360"/>
            <a:chExt cx="11648880" cy="215640"/>
          </a:xfrm>
        </p:grpSpPr>
        <p:sp>
          <p:nvSpPr>
            <p:cNvPr id="67" name=""/>
            <p:cNvSpPr/>
            <p:nvPr/>
          </p:nvSpPr>
          <p:spPr>
            <a:xfrm flipV="1" rot="5400000">
              <a:off x="6032520" y="-5267520"/>
              <a:ext cx="77760" cy="1135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5885640" y="-5550120"/>
              <a:ext cx="80280" cy="1164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2638080"/>
            <a:ext cx="103536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53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585360" y="7976880"/>
            <a:ext cx="2536920" cy="6094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4176360" y="7994520"/>
            <a:ext cx="3855960" cy="609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9057960" y="7962840"/>
            <a:ext cx="2536920" cy="609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3A42A232-D597-41FC-8328-0ADC19406736}" type="slidenum"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esearchtools.choosemaryland.org/Comparison/index.asp?FA=3" TargetMode="External"/><Relationship Id="rId2" Type="http://schemas.openxmlformats.org/officeDocument/2006/relationships/hyperlink" Target="http://researchtools.choosemaryland.org/Comparison/index.asp?FA=3" TargetMode="External"/><Relationship Id="rId3" Type="http://schemas.openxmlformats.org/officeDocument/2006/relationships/hyperlink" Target="http://researchtools.choosemaryland.org/Comparison/index.asp?FA=3" TargetMode="External"/><Relationship Id="rId4" Type="http://schemas.openxmlformats.org/officeDocument/2006/relationships/hyperlink" Target="http://researchtools.choosemaryland.org/Comparison/index.asp?FA=3" TargetMode="External"/><Relationship Id="rId5" Type="http://schemas.openxmlformats.org/officeDocument/2006/relationships/hyperlink" Target="http://researchtools.choosemaryland.org/Comparison/index.asp?FA=3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2960" y="3044520"/>
            <a:ext cx="10353600" cy="3552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ahoma"/>
                <a:ea typeface="Times New Roman"/>
              </a:rPr>
              <a:t>Sharing the Aid Awareness Challenge: How to Reach Diverse Groups in Urban and Rural Setting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7360" y="7002000"/>
            <a:ext cx="8524800" cy="1420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  <a:ea typeface="Times New Roman"/>
              </a:rPr>
              <a:t>Jane Coll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  <a:ea typeface="Times New Roman"/>
              </a:rPr>
              <a:t>Cissy VanSickl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720" y="1420920"/>
            <a:ext cx="4870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5900" spc="-1" strike="noStrike">
                <a:solidFill>
                  <a:srgbClr val="ff0000"/>
                </a:solidFill>
                <a:latin typeface="Arial Black"/>
              </a:rPr>
              <a:t>Session 23</a:t>
            </a:r>
            <a:endParaRPr b="0" lang="en-US" sz="5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71680"/>
            <a:ext cx="3754440" cy="20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A94C-5B44-4C2D-9166-05ADDB92AE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3808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Arial Black"/>
              </a:rPr>
              <a:t>High Numbers of Out-of-School Youth and Adult Learners</a:t>
            </a:r>
            <a:endParaRPr b="0" lang="en-US" sz="37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960" y="272232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for additional academic and financial resources to meet specific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/work responsibilities conflict wit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s about college costs vs. family living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97C-1AB2-454C-B182-5B27D011C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Other Issu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960" y="279828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tion and residen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traditional families (broad range of official and unofficial guardianships, family situ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licting family values – work vs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E9B-12AE-4D54-8460-B3AE94B4A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unity-based College Resource Center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pen to every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alk-in, ‘as needed’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dvising and application assistance are key servi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inimal registration, participation requiremen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B9E-B8E9-401E-A8CD-D4CEFE7D7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do community-based centers work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elcoming environment for students of all ag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cus is on providing information – helping families understand and successfully navigate the proces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used within the communities they ser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E0D-D7B1-4B6E-B601-3FB04FE24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ostsecondary Encouragement Program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inancially Fit for Colleg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s financial literacy with colle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middle schoo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view of college as a family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families develop individual plans and strategies for college and introduces them to other resources who can assist with specif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264-C9A9-4988-B1CD-28E9D0319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ostsecondary Encouragement Program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Kids2Colleg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middle schools with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s interaction between current college student and middle scho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academ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ollow-up activities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s 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15F-BB43-4900-B0E1-DCE5B39BD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 from Session Participa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960" y="256968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, services that have been successful in your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ional, recruitment ideas that have been effective in encouraging families to particip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 from families that can inform others about successful activiti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ACB-CDEA-4BDE-B596-AE453633CE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43360" y="126504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llege Access Issues: Rural Student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600" y="2333520"/>
            <a:ext cx="10358280" cy="29196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incomes low statistics (e.g. Western MD inc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ck of opportunity-lack of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re limited to the dedicated f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whelmed 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7920" y="5557680"/>
            <a:ext cx="1028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7920" y="5562720"/>
            <a:ext cx="10515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tion in program of interes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responsibilities stats on births + underag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214-0A75-4B60-8C7F-52DC2559EEF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43360" y="91260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Rural Families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89326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costs~averag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whelmed with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 to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ay be expected to contribute to famil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1D4-1A2F-44C1-A7F1-8EBDAAC4F3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43360" y="91260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rograms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94438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AR-UP follows 2001 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co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Intervention – community college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eer and M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eer Fair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 Nights/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Ho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CD2-0408-483E-B7DA-F952B84386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ession Summary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960" y="2333520"/>
            <a:ext cx="10353600" cy="58881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ing colleg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cces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colleg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warenes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s present challenges whether they are in highly populated and diverse urban settings or in sparsely populated rural areas.</a:t>
            </a:r>
            <a:r>
              <a:rPr b="0" lang="en-US" sz="43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ose challenges common to both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challenges are unique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trategies are used to overcome these?</a:t>
            </a:r>
            <a:r>
              <a:rPr b="0" lang="en-US" sz="43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5A2-425B-4C00-9CC9-779DE6EBA94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usehold Median Income Rank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1960" y="3246480"/>
          <a:ext cx="10667880" cy="3252600"/>
        </p:xfrm>
        <a:graphic>
          <a:graphicData uri="http://schemas.openxmlformats.org/drawingml/2006/table">
            <a:tbl>
              <a:tblPr/>
              <a:tblGrid>
                <a:gridCol w="1401480"/>
                <a:gridCol w="857520"/>
                <a:gridCol w="934920"/>
                <a:gridCol w="857160"/>
                <a:gridCol w="1013040"/>
                <a:gridCol w="934920"/>
                <a:gridCol w="934920"/>
                <a:gridCol w="855720"/>
                <a:gridCol w="1013040"/>
                <a:gridCol w="960120"/>
                <a:gridCol w="905040"/>
              </a:tblGrid>
              <a:tr h="1064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535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47080"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.4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812-1DDF-4017-8162-5D421185FE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84080" y="711360"/>
            <a:ext cx="908676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Government Payment as % Personal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come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93720" y="3043080"/>
          <a:ext cx="9444240" cy="1884600"/>
        </p:xfrm>
        <a:graphic>
          <a:graphicData uri="http://schemas.openxmlformats.org/drawingml/2006/table">
            <a:tbl>
              <a:tblPr/>
              <a:tblGrid>
                <a:gridCol w="3911760"/>
                <a:gridCol w="3147840"/>
                <a:gridCol w="238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0.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8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6.9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E41-1DC4-4C60-A340-DA97CC5288F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ducation Outcomes % of Population with High School Diploma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7520" y="3146400"/>
          <a:ext cx="9947520" cy="2343240"/>
        </p:xfrm>
        <a:graphic>
          <a:graphicData uri="http://schemas.openxmlformats.org/drawingml/2006/table">
            <a:tbl>
              <a:tblPr/>
              <a:tblGrid>
                <a:gridCol w="3829320"/>
                <a:gridCol w="2616120"/>
                <a:gridCol w="3502080"/>
              </a:tblGrid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op 200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772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71.0%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0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68.4%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D79-7204-4BC9-8592-EEC924AD145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39600" y="609120"/>
            <a:ext cx="8931240" cy="12430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ducation Outcomes % of Population with Bachelor’s Degree or Higher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3146400"/>
          <a:ext cx="10890360" cy="2335320"/>
        </p:xfrm>
        <a:graphic>
          <a:graphicData uri="http://schemas.openxmlformats.org/drawingml/2006/table">
            <a:tbl>
              <a:tblPr/>
              <a:tblGrid>
                <a:gridCol w="1420920"/>
                <a:gridCol w="934920"/>
                <a:gridCol w="990720"/>
                <a:gridCol w="1066680"/>
                <a:gridCol w="1295640"/>
                <a:gridCol w="1371600"/>
                <a:gridCol w="1295280"/>
                <a:gridCol w="1295280"/>
                <a:gridCol w="1219320"/>
              </a:tblGrid>
              <a:tr h="76932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80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1.4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9.3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6.7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9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7.9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.9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CB5-F427-446B-BD35-CEAD3C7EEF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 Unemployment Rank by Count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1990-1997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90720" y="3119400"/>
          <a:ext cx="8319960" cy="2629080"/>
        </p:xfrm>
        <a:graphic>
          <a:graphicData uri="http://schemas.openxmlformats.org/drawingml/2006/table">
            <a:tbl>
              <a:tblPr/>
              <a:tblGrid>
                <a:gridCol w="1546200"/>
                <a:gridCol w="739800"/>
                <a:gridCol w="793800"/>
                <a:gridCol w="771480"/>
                <a:gridCol w="873000"/>
                <a:gridCol w="947880"/>
                <a:gridCol w="981000"/>
                <a:gridCol w="833400"/>
                <a:gridCol w="833400"/>
              </a:tblGrid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1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2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3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4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5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6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7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1F8-73D3-4148-8D4E-5804992938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– Children Under 18 Living in Povert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5240" y="3195720"/>
          <a:ext cx="9901080" cy="2290680"/>
        </p:xfrm>
        <a:graphic>
          <a:graphicData uri="http://schemas.openxmlformats.org/drawingml/2006/table">
            <a:tbl>
              <a:tblPr/>
              <a:tblGrid>
                <a:gridCol w="3019320"/>
                <a:gridCol w="3395520"/>
                <a:gridCol w="348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5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2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.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3ED-1B7E-4706-B0A6-BDB13CF132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% of Births to Mothers Under 20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6640" y="3119400"/>
          <a:ext cx="10434600" cy="2046240"/>
        </p:xfrm>
        <a:graphic>
          <a:graphicData uri="http://schemas.openxmlformats.org/drawingml/2006/table">
            <a:tbl>
              <a:tblPr/>
              <a:tblGrid>
                <a:gridCol w="4322880"/>
                <a:gridCol w="268272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5.1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1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3.3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E02-B7AC-49BD-9BF6-59E11B3BBFB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of Population Enrolled in Medicaid, 1996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2840" y="3728880"/>
          <a:ext cx="9596520" cy="2786400"/>
        </p:xfrm>
        <a:graphic>
          <a:graphicData uri="http://schemas.openxmlformats.org/drawingml/2006/table">
            <a:tbl>
              <a:tblPr/>
              <a:tblGrid>
                <a:gridCol w="3975120"/>
                <a:gridCol w="3197160"/>
                <a:gridCol w="2424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5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D9E-DF1E-4620-9AB4-B20ABDE9A98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pulation Trends – % Change in Population 90-97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1960" y="3043080"/>
          <a:ext cx="10358280" cy="2971800"/>
        </p:xfrm>
        <a:graphic>
          <a:graphicData uri="http://schemas.openxmlformats.org/drawingml/2006/table">
            <a:tbl>
              <a:tblPr/>
              <a:tblGrid>
                <a:gridCol w="2971800"/>
                <a:gridCol w="3886200"/>
                <a:gridCol w="3500280"/>
              </a:tblGrid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4.9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3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9.2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D22-97D5-496B-BF29-8D514921A1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tatistical Resourc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researchtools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choosemaryland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.org/Comparison/index.asp?FA=3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732-6A7C-487F-A6C5-B84AB1CA0C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What is College Access?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nd services designed to  open the do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ostsecondary education by provi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, career and financial ai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and career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eparation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dollar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wareness activities and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BD0-664B-429D-BB3B-60775B96B7A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3360" y="25099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e Collins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hone: (202) 393-1100, ext. 1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mail:jcollins@collegeinfo.or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2360" y="6167520"/>
            <a:ext cx="701676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ssy VanSick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202) 468-1160, ext 23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Cvansickle@ctsmd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880" y="2052720"/>
            <a:ext cx="109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F92-C1DE-445B-8D71-2E72B7FF60B0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Why College Access?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llege-going rates among low-income, minority students is still far below an acceptable level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Good middle-class jobs increasingly require the additional skills gained through higher educ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nemployment rates for high school grads is four times that of college grad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ur country’s future depends on an educated workforce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DAA-6F81-4346-9DA1-D434A79B46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ollege Access Needs: Urban Stude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101502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of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3% of DC public school students come from families with total incomes less than $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0f DC public school graduates are members of under-represented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sections of the city, less than 12% of adults have completed a four-year college degr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E48-FA78-4152-BC0E-5F7EDBDFFC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hallenges for Urban Famil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knowledge about college planning processes and resourc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isinformation about college cost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nfamiliarity with financial aid progra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mited access to college preparation programs and resour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igh case loads for school-based student services staff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92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4EF-FB86-4C70-B4A0-CB0070077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Low Level of Academic Achievemen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ow scores on standardized tes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wer course offerings for AP classes and challenging electiv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igher drop-out rate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09D-26B8-4A00-88B6-B3F6F716B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onflicting Opportunities for Stude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obs (may be expected to contribute to family resource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amily responsibiliti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angs, parenthood, etc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ultiple programs competing for same stud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B15-3D1A-4442-A83F-E8BDD62375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Low Levels of Parental Involvemen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ental involvement decreases as child ag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mited English proficienc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familiarity with college planning and need for family support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ong work hours – often in multiple job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knowledge of resources and support system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581-1F84-4047-8800-DAF546B00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38:42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7954186</vt:r8>
  </property>
  <property fmtid="{D5CDD505-2E9C-101B-9397-08002B2CF9AE}" pid="3" name="_AuthorEmail">
    <vt:lpwstr>SVansickle@ctsmd.com</vt:lpwstr>
  </property>
  <property fmtid="{D5CDD505-2E9C-101B-9397-08002B2CF9AE}" pid="4" name="_AuthorEmailDisplayName">
    <vt:lpwstr>Cissy VanSickle</vt:lpwstr>
  </property>
  <property fmtid="{D5CDD505-2E9C-101B-9397-08002B2CF9AE}" pid="5" name="_EmailSubject">
    <vt:lpwstr>see attached</vt:lpwstr>
  </property>
</Properties>
</file>