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79300" cy="91328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0EA-A732-4663-B07C-5C8D42F9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2960" y="524952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AFE-1D8F-4E4B-8D38-D27F8625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1828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389-0E6A-4B58-BB4E-DB992428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1360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91424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1296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41360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91424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89D-267B-4F9F-BFBE-3CDB8762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BE93-DE1C-4470-8592-57DE9943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8B47-BFB1-4B96-99DE-6A2637FA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FFA8-763B-4F6B-AC1E-9EFAD7F6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4A15-FA29-4AA6-A066-336F284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F297-0B63-4A7D-8FBC-C8AD4116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739600" y="711360"/>
            <a:ext cx="8931240" cy="61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8D3F-6A15-4B43-B9C9-37AD6141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3FEE-DE3C-4436-A0A1-14575F3A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222-987E-4A5B-BE94-FEE31690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1828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B62-D11F-44CC-BA5A-BA196B9C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5934-7062-4F00-9E5D-226FCB49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912960" y="524952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9429-7C16-44FA-A6D0-0CFD902A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1828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230E-5327-492F-B7C9-77484B56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360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4240" y="233316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91296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41360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7914240" y="5249520"/>
            <a:ext cx="333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4363-ABCC-42C7-ABF3-1DD3A2BC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797-42C4-4FE7-AA81-CA5DDFE1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8B2-0FF9-45FC-9BE7-3F86F90B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6FF-C217-472E-98D9-0CFA5EB8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739600" y="711360"/>
            <a:ext cx="8931240" cy="61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3D7-7389-4C0F-9C57-5F5273ED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F95-F531-419C-91C5-0515EC0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8280" y="524952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335-452D-4953-AB0B-A2E15F8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18280" y="2333160"/>
            <a:ext cx="505224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2960" y="5249520"/>
            <a:ext cx="10353600" cy="2662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374-F5B9-41F7-B928-8008AB68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306360"/>
            <a:ext cx="270360" cy="8662320"/>
            <a:chOff x="236520" y="306360"/>
            <a:chExt cx="270360" cy="8662320"/>
          </a:xfrm>
        </p:grpSpPr>
        <p:sp>
          <p:nvSpPr>
            <p:cNvPr id="1" name=""/>
            <p:cNvSpPr/>
            <p:nvPr/>
          </p:nvSpPr>
          <p:spPr>
            <a:xfrm flipH="1">
              <a:off x="405360" y="342000"/>
              <a:ext cx="101160" cy="8626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306360"/>
              <a:ext cx="101880" cy="833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11712240" y="293760"/>
            <a:ext cx="262440" cy="8534520"/>
            <a:chOff x="11712240" y="293760"/>
            <a:chExt cx="262440" cy="853452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11883960" y="293760"/>
              <a:ext cx="90360" cy="84340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11712240" y="505800"/>
              <a:ext cx="103320" cy="83221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549360" y="8625600"/>
            <a:ext cx="11570760" cy="305280"/>
            <a:chOff x="549360" y="8625600"/>
            <a:chExt cx="11570760" cy="305280"/>
          </a:xfrm>
        </p:grpSpPr>
        <p:sp>
          <p:nvSpPr>
            <p:cNvPr id="7" name=""/>
            <p:cNvSpPr/>
            <p:nvPr/>
          </p:nvSpPr>
          <p:spPr>
            <a:xfrm flipV="1" rot="5400000">
              <a:off x="6284160" y="2890440"/>
              <a:ext cx="101160" cy="1157076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6160320" y="3218400"/>
              <a:ext cx="101520" cy="113234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101520" y="234360"/>
            <a:ext cx="11648880" cy="215640"/>
            <a:chOff x="101520" y="234360"/>
            <a:chExt cx="11648880" cy="215640"/>
          </a:xfrm>
        </p:grpSpPr>
        <p:sp>
          <p:nvSpPr>
            <p:cNvPr id="10" name=""/>
            <p:cNvSpPr/>
            <p:nvPr/>
          </p:nvSpPr>
          <p:spPr>
            <a:xfrm flipV="1" rot="5400000">
              <a:off x="6032520" y="-5267520"/>
              <a:ext cx="77760" cy="1135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5885640" y="-5550120"/>
              <a:ext cx="80280" cy="1164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95400" y="234360"/>
            <a:ext cx="11648520" cy="215640"/>
            <a:chOff x="95400" y="234360"/>
            <a:chExt cx="11648520" cy="215640"/>
          </a:xfrm>
        </p:grpSpPr>
        <p:sp>
          <p:nvSpPr>
            <p:cNvPr id="13" name=""/>
            <p:cNvSpPr/>
            <p:nvPr/>
          </p:nvSpPr>
          <p:spPr>
            <a:xfrm flipV="1" rot="5400000">
              <a:off x="6026760" y="-5267160"/>
              <a:ext cx="77760" cy="113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5879520" y="-5550120"/>
              <a:ext cx="80280" cy="1164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66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66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09120" y="8018640"/>
            <a:ext cx="253692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160880" y="8018640"/>
            <a:ext cx="385776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9134640" y="8018640"/>
            <a:ext cx="253656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A07DE54B-2C21-4075-B23E-5FF8018FFD73}" type="slidenum"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609480" y="571680"/>
            <a:ext cx="2021040" cy="109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36520" y="306360"/>
            <a:ext cx="270360" cy="8662320"/>
            <a:chOff x="236520" y="306360"/>
            <a:chExt cx="270360" cy="8662320"/>
          </a:xfrm>
        </p:grpSpPr>
        <p:sp>
          <p:nvSpPr>
            <p:cNvPr id="58" name=""/>
            <p:cNvSpPr/>
            <p:nvPr/>
          </p:nvSpPr>
          <p:spPr>
            <a:xfrm flipH="1">
              <a:off x="405360" y="342000"/>
              <a:ext cx="101160" cy="8626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6520" y="306360"/>
              <a:ext cx="101880" cy="833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712240" y="293760"/>
            <a:ext cx="262440" cy="8534520"/>
            <a:chOff x="11712240" y="293760"/>
            <a:chExt cx="262440" cy="853452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11883960" y="293760"/>
              <a:ext cx="90360" cy="84340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11712240" y="505800"/>
              <a:ext cx="103320" cy="83221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9360" y="8625600"/>
            <a:ext cx="11570760" cy="305280"/>
            <a:chOff x="549360" y="8625600"/>
            <a:chExt cx="11570760" cy="305280"/>
          </a:xfrm>
        </p:grpSpPr>
        <p:sp>
          <p:nvSpPr>
            <p:cNvPr id="64" name=""/>
            <p:cNvSpPr/>
            <p:nvPr/>
          </p:nvSpPr>
          <p:spPr>
            <a:xfrm flipV="1" rot="5400000">
              <a:off x="6284160" y="2890440"/>
              <a:ext cx="101160" cy="1157076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6160320" y="3218400"/>
              <a:ext cx="101520" cy="113234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1520" y="234360"/>
            <a:ext cx="11648880" cy="215640"/>
            <a:chOff x="101520" y="234360"/>
            <a:chExt cx="11648880" cy="215640"/>
          </a:xfrm>
        </p:grpSpPr>
        <p:sp>
          <p:nvSpPr>
            <p:cNvPr id="67" name=""/>
            <p:cNvSpPr/>
            <p:nvPr/>
          </p:nvSpPr>
          <p:spPr>
            <a:xfrm flipV="1" rot="5400000">
              <a:off x="6032520" y="-5267520"/>
              <a:ext cx="77760" cy="11357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5885640" y="-5550120"/>
              <a:ext cx="80280" cy="1164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960" y="2638080"/>
            <a:ext cx="103536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53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585360" y="7976880"/>
            <a:ext cx="2536920" cy="6094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4176360" y="7994520"/>
            <a:ext cx="3855960" cy="609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9057960" y="7962840"/>
            <a:ext cx="2536920" cy="609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46BC16F-500D-4FDE-ABC6-5C531FCD18C4}" type="slidenum"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17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7360" algn="ctr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35400" algn="ctr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35400">
              <a:spcBef>
                <a:spcPts val="675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35400">
              <a:spcBef>
                <a:spcPts val="675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esearchtools.choosemaryland.org/Comparison/index.asp?FA=3" TargetMode="External"/><Relationship Id="rId2" Type="http://schemas.openxmlformats.org/officeDocument/2006/relationships/hyperlink" Target="http://researchtools.choosemaryland.org/Comparison/index.asp?FA=3" TargetMode="External"/><Relationship Id="rId3" Type="http://schemas.openxmlformats.org/officeDocument/2006/relationships/hyperlink" Target="http://researchtools.choosemaryland.org/Comparison/index.asp?FA=3" TargetMode="External"/><Relationship Id="rId4" Type="http://schemas.openxmlformats.org/officeDocument/2006/relationships/hyperlink" Target="http://researchtools.choosemaryland.org/Comparison/index.asp?FA=3" TargetMode="External"/><Relationship Id="rId5" Type="http://schemas.openxmlformats.org/officeDocument/2006/relationships/hyperlink" Target="http://researchtools.choosemaryland.org/Comparison/index.asp?FA=3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2960" y="3044520"/>
            <a:ext cx="10353600" cy="3552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ahoma"/>
                <a:ea typeface="Times New Roman"/>
              </a:rPr>
              <a:t>Sharing the Aid Awareness Challenge: How to Reach Diverse Groups in Urban and Rural Setting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7360" y="7002000"/>
            <a:ext cx="8524800" cy="1420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ahoma"/>
                <a:ea typeface="Times New Roman"/>
              </a:rPr>
              <a:t>Jane Colli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ahoma"/>
                <a:ea typeface="Times New Roman"/>
              </a:rPr>
              <a:t>Cissy VanSickle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720" y="1420920"/>
            <a:ext cx="4870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5900" spc="-1" strike="noStrike">
                <a:solidFill>
                  <a:srgbClr val="ff0000"/>
                </a:solidFill>
                <a:latin typeface="Arial Black"/>
              </a:rPr>
              <a:t>Session 23</a:t>
            </a:r>
            <a:endParaRPr b="0" lang="en-US" sz="59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571680"/>
            <a:ext cx="3754440" cy="20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F131-6BD1-4949-9977-E04DFD90573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3808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66"/>
                </a:solidFill>
                <a:latin typeface="Arial Black"/>
              </a:rPr>
              <a:t>High Numbers of Out-of-School Youth and Adult Learners</a:t>
            </a:r>
            <a:endParaRPr b="0" lang="en-US" sz="37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2960" y="272232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 for additional academic and financial resources to meet specific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/work responsibilities conflict wit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s about college costs vs. family living exp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C7A-EB0C-40BB-8C55-FBEDC5523E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Other Issu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2960" y="279828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tion and residen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traditional families (broad range of official and unofficial guardianships, family situa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licting family values – work vs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BA6-742D-4197-BFCF-D9B214F31B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uccessful Strategi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unity-based College Resource Center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pen to everyon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alk-in, ‘as needed’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dvising and application assistance are key servic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Minimal registration, participation requiremen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F75-AB66-4273-9037-EA5705A371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uccessful Strategi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y do community-based centers work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elcoming environment for students of all ag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cus is on providing information – helping families understand and successfully navigate the process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oused within the communities they ser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751-0B3D-40C6-9C68-CDA5AAC24A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Postsecondary Encouragement Program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inancially Fit for Colleg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s financial literacy with colleg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middle school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view of college as a family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families develop individual plans and strategies for college and introduces them to other resources who can assist with specif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3B3-A524-4B64-85B7-6A6D1B1EFB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Postsecondary Encouragement Program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Kids2Colleg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middle schools with colle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s interaction between current college student and middle scho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s academic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follow-up activities through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es community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497-4A81-4637-B005-E1B20B186C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uccessful Strategies from Session Participant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2960" y="256968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, services that have been successful in your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otional, recruitment ideas that have been effective in encouraging families to particip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dback from families that can inform others about successful activiti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E20-2D89-4382-889F-05753B2F33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43360" y="1265040"/>
            <a:ext cx="8524800" cy="7110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ollege Access Issues: Rural Students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2600" y="2333520"/>
            <a:ext cx="10358280" cy="29196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incomes low statistics (e.g. Western MD inco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ck of opportunity-lack of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 are limited to the dedicated f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whelmed couns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7920" y="5557680"/>
            <a:ext cx="10287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7920" y="5562720"/>
            <a:ext cx="10515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model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ction in program of interes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responsibilities stats on births + underag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93F-4CF3-4325-8F5E-BAE4F70F2C4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43360" y="912600"/>
            <a:ext cx="8524800" cy="7110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Rural Families 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89326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costs~average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whelmed with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 to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may be expected to contribute to famil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2C5-F627-45A1-BAFA-1AABD521E7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43360" y="912600"/>
            <a:ext cx="8524800" cy="7110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Programs 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94438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AR-UP follows 2001 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de coh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Intervention – community college progra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eer and Me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eer Fair s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School Nights/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Hou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DFE-A898-4C70-A5C7-D19EAA92D49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ession Summary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2960" y="2333520"/>
            <a:ext cx="10353600" cy="58881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ing colleg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acces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colleg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awarenes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s present challenges whether they are in highly populated and diverse urban settings or in sparsely populated rural areas.</a:t>
            </a:r>
            <a:r>
              <a:rPr b="0" lang="en-US" sz="43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ose challenges common to both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challenges are unique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trategies are used to overcome these?</a:t>
            </a:r>
            <a:r>
              <a:rPr b="0" lang="en-US" sz="43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561-61EC-47AA-A391-83A0CBB53A2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mployment and Family Incom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usehold Median Income Rank 2000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507492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1960" y="3246480"/>
          <a:ext cx="10667880" cy="3252600"/>
        </p:xfrm>
        <a:graphic>
          <a:graphicData uri="http://schemas.openxmlformats.org/drawingml/2006/table">
            <a:tbl>
              <a:tblPr/>
              <a:tblGrid>
                <a:gridCol w="1401480"/>
                <a:gridCol w="857520"/>
                <a:gridCol w="934920"/>
                <a:gridCol w="857160"/>
                <a:gridCol w="1013040"/>
                <a:gridCol w="934920"/>
                <a:gridCol w="934920"/>
                <a:gridCol w="855720"/>
                <a:gridCol w="1013040"/>
                <a:gridCol w="960120"/>
                <a:gridCol w="905040"/>
              </a:tblGrid>
              <a:tr h="10641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878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535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47080"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3.4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273-6E38-4695-9CF7-35E08ADB679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84080" y="711360"/>
            <a:ext cx="908676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mployment and Family Incom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Government Payment as % Personal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ncome 2000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507492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93720" y="3043080"/>
          <a:ext cx="9444240" cy="1884600"/>
        </p:xfrm>
        <a:graphic>
          <a:graphicData uri="http://schemas.openxmlformats.org/drawingml/2006/table">
            <a:tbl>
              <a:tblPr/>
              <a:tblGrid>
                <a:gridCol w="3911760"/>
                <a:gridCol w="3147840"/>
                <a:gridCol w="238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30.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Garrett 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.8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8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6.9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607-9A1F-479C-B53E-E524C2DA424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ducation Outcomes % of Population with High School Diploma 2000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507492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17520" y="3146400"/>
          <a:ext cx="9947520" cy="2343240"/>
        </p:xfrm>
        <a:graphic>
          <a:graphicData uri="http://schemas.openxmlformats.org/drawingml/2006/table">
            <a:tbl>
              <a:tblPr/>
              <a:tblGrid>
                <a:gridCol w="3829320"/>
                <a:gridCol w="2616120"/>
                <a:gridCol w="3502080"/>
              </a:tblGrid>
              <a:tr h="48780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op 2000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772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7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71.0%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0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68.4%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02D-6631-4FC7-9C0C-0109913076E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39600" y="609120"/>
            <a:ext cx="8931240" cy="12430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ducation Outcomes % of Population with Bachelor’s Degree or Higher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507492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3146400"/>
          <a:ext cx="10890360" cy="2335320"/>
        </p:xfrm>
        <a:graphic>
          <a:graphicData uri="http://schemas.openxmlformats.org/drawingml/2006/table">
            <a:tbl>
              <a:tblPr/>
              <a:tblGrid>
                <a:gridCol w="1420920"/>
                <a:gridCol w="934920"/>
                <a:gridCol w="990720"/>
                <a:gridCol w="1066680"/>
                <a:gridCol w="1295640"/>
                <a:gridCol w="1371600"/>
                <a:gridCol w="1295280"/>
                <a:gridCol w="1295280"/>
                <a:gridCol w="1219320"/>
              </a:tblGrid>
              <a:tr h="76932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erson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erson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80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erson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7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of Person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780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1.4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9.3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6.7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9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7.9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3.9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121680" rIns="121680" tIns="60840" bIns="6084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E4C-9F8D-439C-B88B-0CE0C77C29F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Employment and Family Income Unemployment Rank by Count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1990-1997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890720" y="3119400"/>
          <a:ext cx="8319960" cy="2629080"/>
        </p:xfrm>
        <a:graphic>
          <a:graphicData uri="http://schemas.openxmlformats.org/drawingml/2006/table">
            <a:tbl>
              <a:tblPr/>
              <a:tblGrid>
                <a:gridCol w="1546200"/>
                <a:gridCol w="739800"/>
                <a:gridCol w="793800"/>
                <a:gridCol w="771480"/>
                <a:gridCol w="873000"/>
                <a:gridCol w="947880"/>
                <a:gridCol w="981000"/>
                <a:gridCol w="833400"/>
                <a:gridCol w="833400"/>
              </a:tblGrid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0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1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2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3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4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5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6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997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ACA-9B3F-4990-BB65-C2AA1428AD6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ublic Health – Children Under 18 Living in Povert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65240" y="3195720"/>
          <a:ext cx="9901080" cy="2290680"/>
        </p:xfrm>
        <a:graphic>
          <a:graphicData uri="http://schemas.openxmlformats.org/drawingml/2006/table">
            <a:tbl>
              <a:tblPr/>
              <a:tblGrid>
                <a:gridCol w="3019320"/>
                <a:gridCol w="3395520"/>
                <a:gridCol w="3486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in Poverty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5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2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4.0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0E2-8EC9-4978-BD1A-7D89D10B44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ublic Health % of Births to Mothers Under 20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6640" y="3119400"/>
          <a:ext cx="10434600" cy="2046240"/>
        </p:xfrm>
        <a:graphic>
          <a:graphicData uri="http://schemas.openxmlformats.org/drawingml/2006/table">
            <a:tbl>
              <a:tblPr/>
              <a:tblGrid>
                <a:gridCol w="4322880"/>
                <a:gridCol w="268272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in Poverty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15.1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1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3.3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5FB-54D6-4FAA-8799-32AFCF48340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ublic Health of Population Enrolled in Medicaid, 1996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2840" y="3728880"/>
          <a:ext cx="9596520" cy="2786400"/>
        </p:xfrm>
        <a:graphic>
          <a:graphicData uri="http://schemas.openxmlformats.org/drawingml/2006/table">
            <a:tbl>
              <a:tblPr/>
              <a:tblGrid>
                <a:gridCol w="3975120"/>
                <a:gridCol w="3197160"/>
                <a:gridCol w="2424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in Poverty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25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2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418-3C0B-4933-8148-B9A945465E0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opulation Trends – % Change in Population 90-97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510048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1960" y="3043080"/>
          <a:ext cx="10358280" cy="2971800"/>
        </p:xfrm>
        <a:graphic>
          <a:graphicData uri="http://schemas.openxmlformats.org/drawingml/2006/table">
            <a:tbl>
              <a:tblPr/>
              <a:tblGrid>
                <a:gridCol w="2971800"/>
                <a:gridCol w="3886200"/>
                <a:gridCol w="3500280"/>
              </a:tblGrid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County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Rank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% in Poverty Incom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Allegany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4.9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Garrett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13.5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9.2%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1A2-0661-46AC-99D3-217A6586033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Statistical Resourc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researchtools</a:t>
            </a: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choosemaryland</a:t>
            </a:r>
            <a:r>
              <a:rPr b="0" lang="en-US" sz="43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.org/Comparison/index.asp?FA=3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382-77E0-46D0-A1D1-09DA9E81AA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What is College Access? 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and services designed to  open the do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ostsecondary education by provi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, career and financial ai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and career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preparation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dollar schola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awareness activities and m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52A-3DBF-4F83-8C50-BDC881D70E4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Technical Assistance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3360" y="250992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ne Collins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82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hone: (202) 393-1100, ext. 1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82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mail:jcollins@collegeinfo.or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825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2360" y="6167520"/>
            <a:ext cx="701676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ssy VanSick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(202) 468-1160, ext 233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Cvansickle@ctsmd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7880" y="2052720"/>
            <a:ext cx="109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CEF-BCD0-427C-AA1C-41200461DD4B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Why College Access?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90000"/>
              </a:lnSpc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llege-going rates among low-income, minority students is still far below an acceptable level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Good middle-class jobs increasingly require the additional skills gained through higher educ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Unemployment rates for high school grads is four times that of college grad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ur country’s future depends on an educated workforce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728-3CE6-48D7-9EE3-06A3B412B9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ollege Access Needs: Urban Student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2600" y="2333160"/>
            <a:ext cx="101502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ors of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3% of DC public school students come from families with total incomes less than $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95% 0f DC public school graduates are members of under-represented minor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sections of the city, less than 12% of adults have completed a four-year college degr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A8D-CB3B-4C34-ABE0-D278C4760D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hallenges for Urban Familie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ack of knowledge about college planning processes and resourc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Misinformation about college cost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Unfamiliarity with financial aid program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imited access to college preparation programs and resourc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igh case loads for school-based student services staff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0">
              <a:spcBef>
                <a:spcPts val="92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F77-3AF6-428F-915C-475C6C55A6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Low Level of Academic Achievement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ow scores on standardized tes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ewer course offerings for AP classes and challenging electiv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igher drop-out rate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85C-3864-4958-9768-085346B73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onflicting Opportunities for Students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Jobs (may be expected to contribute to family resources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amily responsibiliti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angs, parenthood, etc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ultiple programs competing for same stud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181-B165-4DCB-8CAF-FA0942924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39600" y="711360"/>
            <a:ext cx="8931240" cy="1319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Low Levels of Parental Involvement</a:t>
            </a:r>
            <a:endParaRPr b="0" lang="en-US" sz="4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2960" y="2333160"/>
            <a:ext cx="10353600" cy="558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rental involvement decreases as child ag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imited English proficienc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ack of familiarity with college planning and need for family support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ong work hours – often in multiple job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7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ack of knowledge of resources and support system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D68-B6BF-45D3-ABC2-805ED6C1F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5:38:42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7954186</vt:r8>
  </property>
  <property fmtid="{D5CDD505-2E9C-101B-9397-08002B2CF9AE}" pid="3" name="_AuthorEmail">
    <vt:lpwstr>SVansickle@ctsmd.com</vt:lpwstr>
  </property>
  <property fmtid="{D5CDD505-2E9C-101B-9397-08002B2CF9AE}" pid="4" name="_AuthorEmailDisplayName">
    <vt:lpwstr>Cissy VanSickle</vt:lpwstr>
  </property>
  <property fmtid="{D5CDD505-2E9C-101B-9397-08002B2CF9AE}" pid="5" name="_EmailSubject">
    <vt:lpwstr>see attached</vt:lpwstr>
  </property>
</Properties>
</file>