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705F-5CBA-46A3-A0AC-3A2738C46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D3DC-62CD-4B51-8AF5-8BBC3DF3D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B608-80C9-4F84-9A82-6E8AD035A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E9DF-CD25-4333-8019-3C968142C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D6B41-438D-4368-BF76-7859C14CC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84D8B-4E01-4787-B44A-AD1BF28FC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F0896-1484-4A85-B352-84C56B6FB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77D9C-6AEE-4B46-84E2-1A4B54663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A7987-47C6-4E1E-9A8E-01DFA449D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2057040" y="533160"/>
            <a:ext cx="67057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C85FC-50A3-4F1C-8D42-13D0C4D7D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6EB1E-A322-4438-84CA-51FD41420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A0F9-6FB3-45CD-9999-FD0FD7FA8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87456-AA22-4AC1-A1AE-0AFBC81D1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18F42-068E-4E74-B4C7-1FBC6E858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CF873-34F3-49BB-9227-205D9B77E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CAF6D-0463-4021-9166-FCE8B0836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BA464-CDA8-4279-BEB1-74D94241A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0C44-10C4-43C6-9337-7CBCBF935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E162-1DD1-4841-AED2-3518B859A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B644-9000-4195-9E50-9F3506714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2057040" y="533160"/>
            <a:ext cx="67057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9BEF-DDC2-410F-BC99-C54077E83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AAFE-53DC-4AFC-898B-8D06596D0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8B9E-6E52-4A23-BE5B-9C6CA45F0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E151-573F-414F-8DBB-C0D4C1AF6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1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4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7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9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0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2" name=""/>
          <p:cNvGrpSpPr/>
          <p:nvPr/>
        </p:nvGrpSpPr>
        <p:grpSpPr>
          <a:xfrm>
            <a:off x="71280" y="176040"/>
            <a:ext cx="8745840" cy="161280"/>
            <a:chOff x="71280" y="176040"/>
            <a:chExt cx="8745840" cy="161280"/>
          </a:xfrm>
        </p:grpSpPr>
        <p:sp>
          <p:nvSpPr>
            <p:cNvPr id="13" name=""/>
            <p:cNvSpPr/>
            <p:nvPr/>
          </p:nvSpPr>
          <p:spPr>
            <a:xfrm flipV="1" rot="5400000">
              <a:off x="452448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5400000">
              <a:off x="4413960" y="-4166640"/>
              <a:ext cx="60480" cy="8745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4572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8580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B2E50-72C5-4302-B721-67BBE4C54F59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" name="" descr=""/>
          <p:cNvPicPr/>
          <p:nvPr/>
        </p:nvPicPr>
        <p:blipFill>
          <a:blip r:embed="rId2"/>
          <a:stretch/>
        </p:blipFill>
        <p:spPr>
          <a:xfrm>
            <a:off x="457200" y="428760"/>
            <a:ext cx="1517760" cy="820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dt" idx="4"/>
          </p:nvPr>
        </p:nvSpPr>
        <p:spPr>
          <a:xfrm>
            <a:off x="439560" y="5989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ftr" idx="5"/>
          </p:nvPr>
        </p:nvSpPr>
        <p:spPr>
          <a:xfrm>
            <a:off x="3135240" y="6002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6"/>
          </p:nvPr>
        </p:nvSpPr>
        <p:spPr>
          <a:xfrm>
            <a:off x="6800760" y="597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0F339-3510-4947-8615-E17ED204EFF0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mailto:Kshiflet@usafunds.org" TargetMode="External"/><Relationship Id="rId2" Type="http://schemas.openxmlformats.org/officeDocument/2006/relationships/hyperlink" Target="mailto:robert.l.king@citigroup.com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600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Common Record: CommonLine Implementation for FFEL and Alternative Loan Schools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371600" y="525744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im Shiflette, USA F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b King, Citiba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952880" y="1066680"/>
            <a:ext cx="3657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Arial Black"/>
              </a:rPr>
              <a:t>Session 2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57200" y="428760"/>
            <a:ext cx="2819520" cy="152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Business Requirements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intain current CommonLine 5 functional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intain flexibility of FFELP processing for our School custom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mulate CR:COD where applicable - structure, process and naming conventio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reate a cross-industry data dictiona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Collaboration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engineering required highly cooperative collaboration between organiz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CHELP Electronic Standards Committe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ible for the creation and maintenance of standards for the electronic exchange of information for FFELP and alternative loa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verse industry repres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ost-Secondary Electronic Standards Council (PESC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es as an umbrella organization for all wishing to support electronic standards in higher edu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partment of Education FS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Key Differences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formats, new na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n Period Begin and End dates are now referred to as &lt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ancialAwardBeginDate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lt;FinancialAwardEndDate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ds are used when possible to represent information. For example, US Citizen value is now “USCitize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udent - multiple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 trailer or reconciliation at the document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cords sorted by attending sch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l “Requests” can be sent in the same doc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pports School Assigned ID - student/borr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CR:C Structure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ord Structure - building b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 (header inf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tended School (students are grouped by schoo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 (personal data - name, ssn, addres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n (application data - loan period, grade level,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ward (loan data - certified amounts and dates, person information for borrowers who are not the student, co-sign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bursement (disbursement inform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CR COD Document Structure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914400" y="1752480"/>
            <a:ext cx="7543800" cy="4168440"/>
            <a:chOff x="914400" y="1752480"/>
            <a:chExt cx="7543800" cy="4168440"/>
          </a:xfrm>
        </p:grpSpPr>
        <p:sp>
          <p:nvSpPr>
            <p:cNvPr id="143" name=""/>
            <p:cNvSpPr/>
            <p:nvPr/>
          </p:nvSpPr>
          <p:spPr>
            <a:xfrm>
              <a:off x="6115680" y="5619600"/>
              <a:ext cx="2342160" cy="3013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7000"/>
            </a:bodyPr>
            <a:p>
              <a:pPr marL="332640" indent="-3326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953960" y="5619600"/>
              <a:ext cx="1161360" cy="3013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7000"/>
            </a:bodyPr>
            <a:p>
              <a:pPr marL="332640" indent="-3326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488760" y="5619600"/>
              <a:ext cx="1465200" cy="3013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7000"/>
            </a:bodyPr>
            <a:p>
              <a:pPr marL="332640" indent="-3326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201400" y="5619600"/>
              <a:ext cx="1287360" cy="3013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7000"/>
            </a:bodyPr>
            <a:p>
              <a:pPr marL="332640" indent="-3326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14400" y="5619600"/>
              <a:ext cx="1287000" cy="3013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7000"/>
            </a:bodyPr>
            <a:p>
              <a:pPr marL="332640" indent="-3326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115680" y="5317920"/>
              <a:ext cx="2342160" cy="3016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7000"/>
            </a:bodyPr>
            <a:p>
              <a:pPr marL="332640" indent="-3326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953960" y="5317920"/>
              <a:ext cx="1161360" cy="3016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7000"/>
            </a:bodyPr>
            <a:p>
              <a:pPr marL="332640" indent="-3326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488760" y="5317920"/>
              <a:ext cx="1465200" cy="3016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7000"/>
            </a:bodyPr>
            <a:p>
              <a:pPr marL="332640" indent="-3326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201400" y="5317920"/>
              <a:ext cx="1287360" cy="3016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7000"/>
            </a:bodyPr>
            <a:p>
              <a:pPr marL="332640" indent="-3326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914400" y="5317920"/>
              <a:ext cx="1287000" cy="3016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7000"/>
            </a:bodyPr>
            <a:p>
              <a:pPr marL="332640" indent="-3326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115680" y="5016600"/>
              <a:ext cx="2342160" cy="3013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7000"/>
            </a:bodyPr>
            <a:p>
              <a:pPr marL="332640" indent="-3326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953960" y="5016600"/>
              <a:ext cx="1161360" cy="3013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7000"/>
            </a:bodyPr>
            <a:p>
              <a:pPr marL="332640" indent="-3326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488760" y="5016600"/>
              <a:ext cx="1465200" cy="3013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7000"/>
            </a:bodyPr>
            <a:p>
              <a:pPr marL="332640" indent="-3326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201400" y="5016600"/>
              <a:ext cx="1287360" cy="3013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7000"/>
            </a:bodyPr>
            <a:p>
              <a:pPr marL="332640" indent="-3326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914400" y="5016600"/>
              <a:ext cx="1287000" cy="3013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7000"/>
            </a:bodyPr>
            <a:p>
              <a:pPr marL="332640" indent="-3326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115680" y="4714920"/>
              <a:ext cx="2342160" cy="3016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7000"/>
            </a:bodyPr>
            <a:p>
              <a:pPr marL="332640" indent="-3326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953960" y="4714920"/>
              <a:ext cx="1161360" cy="3016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7000"/>
            </a:bodyPr>
            <a:p>
              <a:pPr marL="332640" indent="-3326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88760" y="4714920"/>
              <a:ext cx="1465200" cy="30168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7000"/>
            </a:bodyPr>
            <a:p>
              <a:pPr marL="332640" indent="-3326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201400" y="4714920"/>
              <a:ext cx="1287360" cy="3016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7000"/>
            </a:bodyPr>
            <a:p>
              <a:pPr marL="332640" indent="-3326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914400" y="4714920"/>
              <a:ext cx="1287000" cy="3016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7000"/>
            </a:bodyPr>
            <a:p>
              <a:pPr marL="332640" indent="-3326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15680" y="4138200"/>
              <a:ext cx="2342160" cy="57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sbursement #2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ormation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953960" y="4138200"/>
              <a:ext cx="1161360" cy="5767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488760" y="4138200"/>
              <a:ext cx="1465200" cy="5767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201400" y="4138200"/>
              <a:ext cx="1287360" cy="576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914400" y="4138200"/>
              <a:ext cx="1287000" cy="5767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115680" y="3561480"/>
              <a:ext cx="23421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sbursement #1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ormation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953960" y="3561480"/>
              <a:ext cx="1161360" cy="576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88760" y="3561480"/>
              <a:ext cx="1465200" cy="57636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201400" y="3561480"/>
              <a:ext cx="1287360" cy="5763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914400" y="3561480"/>
              <a:ext cx="1287000" cy="57636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953960" y="3259800"/>
              <a:ext cx="3503880" cy="3016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7000"/>
            </a:bodyPr>
            <a:p>
              <a:pPr marL="332640" indent="-3326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ward Information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488760" y="3259800"/>
              <a:ext cx="1465200" cy="30168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7000"/>
            </a:bodyPr>
            <a:p>
              <a:pPr marL="332640" indent="-3326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201400" y="3259800"/>
              <a:ext cx="1287360" cy="3016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7000"/>
            </a:bodyPr>
            <a:p>
              <a:pPr marL="332640" indent="-3326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914400" y="3259800"/>
              <a:ext cx="1287000" cy="3016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7000"/>
            </a:bodyPr>
            <a:p>
              <a:pPr marL="332640" indent="-3326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953960" y="2958480"/>
              <a:ext cx="3503880" cy="301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7000"/>
            </a:bodyPr>
            <a:p>
              <a:pPr marL="332640" indent="-3326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an Information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488760" y="2958480"/>
              <a:ext cx="1465200" cy="3013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7000"/>
            </a:bodyPr>
            <a:p>
              <a:pPr marL="332640" indent="-3326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201400" y="2958480"/>
              <a:ext cx="1287360" cy="3013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7000"/>
            </a:bodyPr>
            <a:p>
              <a:pPr marL="332640" indent="-3326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914400" y="2958480"/>
              <a:ext cx="1287000" cy="3013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7000"/>
            </a:bodyPr>
            <a:p>
              <a:pPr marL="332640" indent="-3326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15680" y="2656800"/>
              <a:ext cx="2342160" cy="30168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7000"/>
            </a:bodyPr>
            <a:p>
              <a:pPr marL="332640" indent="-3326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488760" y="2656800"/>
              <a:ext cx="2626560" cy="30168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7000"/>
            </a:bodyPr>
            <a:p>
              <a:pPr marL="332640" indent="-3326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udent Information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01400" y="2656800"/>
              <a:ext cx="1287360" cy="3016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7000"/>
            </a:bodyPr>
            <a:p>
              <a:pPr marL="332640" indent="-3326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914400" y="2656800"/>
              <a:ext cx="1287000" cy="3016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7000"/>
            </a:bodyPr>
            <a:p>
              <a:pPr marL="332640" indent="-3326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15680" y="2355480"/>
              <a:ext cx="2342160" cy="3013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7000"/>
            </a:bodyPr>
            <a:p>
              <a:pPr marL="332640" indent="-3326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953960" y="2355480"/>
              <a:ext cx="1161360" cy="3013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7000"/>
            </a:bodyPr>
            <a:p>
              <a:pPr marL="332640" indent="-3326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201400" y="2355480"/>
              <a:ext cx="2752560" cy="3013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7000"/>
            </a:bodyPr>
            <a:p>
              <a:pPr marL="332640" indent="-3326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ity Information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914400" y="2355480"/>
              <a:ext cx="1287000" cy="3013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7000"/>
            </a:bodyPr>
            <a:p>
              <a:pPr marL="332640" indent="-3326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115680" y="2053800"/>
              <a:ext cx="2342160" cy="3016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7000"/>
            </a:bodyPr>
            <a:p>
              <a:pPr marL="332640" indent="-3326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53960" y="2053800"/>
              <a:ext cx="1161360" cy="3016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7000"/>
            </a:bodyPr>
            <a:p>
              <a:pPr marL="332640" indent="-3326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201400" y="2053800"/>
              <a:ext cx="2752560" cy="3016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7000"/>
            </a:bodyPr>
            <a:p>
              <a:pPr marL="332640" indent="-3326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ocument Information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914400" y="2053800"/>
              <a:ext cx="1287000" cy="3016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7000"/>
            </a:bodyPr>
            <a:p>
              <a:pPr marL="332640" indent="-3326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115680" y="1752480"/>
              <a:ext cx="2342160" cy="3013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7000"/>
            </a:bodyPr>
            <a:p>
              <a:pPr marL="332640" indent="-3326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953960" y="1752480"/>
              <a:ext cx="1161360" cy="3013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7000"/>
            </a:bodyPr>
            <a:p>
              <a:pPr marL="332640" indent="-3326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488760" y="1752480"/>
              <a:ext cx="1465200" cy="3013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7000"/>
            </a:bodyPr>
            <a:p>
              <a:pPr marL="332640" indent="-3326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914400" y="1752480"/>
              <a:ext cx="2574360" cy="3013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7000"/>
            </a:bodyPr>
            <a:p>
              <a:pPr marL="332640" indent="-3326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mmon Record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914400" y="1752480"/>
              <a:ext cx="75438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914400" y="5920920"/>
              <a:ext cx="75438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914400" y="1752480"/>
              <a:ext cx="0" cy="41684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458200" y="1752480"/>
              <a:ext cx="0" cy="41684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201400" y="2053800"/>
              <a:ext cx="625644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201400" y="2355480"/>
              <a:ext cx="625644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201400" y="2053800"/>
              <a:ext cx="0" cy="356580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488760" y="2656800"/>
              <a:ext cx="496908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488760" y="2656800"/>
              <a:ext cx="0" cy="266112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953960" y="2958480"/>
              <a:ext cx="350388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953960" y="3259800"/>
              <a:ext cx="350388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953960" y="2958480"/>
              <a:ext cx="0" cy="205812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115680" y="3561480"/>
              <a:ext cx="23421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115680" y="4138200"/>
              <a:ext cx="23421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115680" y="3561480"/>
              <a:ext cx="0" cy="115308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115680" y="4714920"/>
              <a:ext cx="23421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953960" y="5016600"/>
              <a:ext cx="350388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488760" y="5317920"/>
              <a:ext cx="496908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201400" y="5619600"/>
              <a:ext cx="625644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CR CommonLine Document Structure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17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914400" y="1752480"/>
            <a:ext cx="7543800" cy="4168440"/>
            <a:chOff x="914400" y="1752480"/>
            <a:chExt cx="7543800" cy="4168440"/>
          </a:xfrm>
        </p:grpSpPr>
        <p:sp>
          <p:nvSpPr>
            <p:cNvPr id="219" name=""/>
            <p:cNvSpPr/>
            <p:nvPr/>
          </p:nvSpPr>
          <p:spPr>
            <a:xfrm>
              <a:off x="6115680" y="5619600"/>
              <a:ext cx="2342160" cy="3013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7000"/>
            </a:bodyPr>
            <a:p>
              <a:pPr marL="332640" indent="-3326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953960" y="5619600"/>
              <a:ext cx="1161360" cy="3013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7000"/>
            </a:bodyPr>
            <a:p>
              <a:pPr marL="332640" indent="-3326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488760" y="5619600"/>
              <a:ext cx="1465200" cy="3013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7000"/>
            </a:bodyPr>
            <a:p>
              <a:pPr marL="332640" indent="-3326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201400" y="5619600"/>
              <a:ext cx="1287360" cy="3013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7000"/>
            </a:bodyPr>
            <a:p>
              <a:pPr marL="332640" indent="-3326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914400" y="5619600"/>
              <a:ext cx="1287000" cy="3013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7000"/>
            </a:bodyPr>
            <a:p>
              <a:pPr marL="332640" indent="-3326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115680" y="5317920"/>
              <a:ext cx="2342160" cy="3016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7000"/>
            </a:bodyPr>
            <a:p>
              <a:pPr marL="332640" indent="-3326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953960" y="5317920"/>
              <a:ext cx="1161360" cy="3016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7000"/>
            </a:bodyPr>
            <a:p>
              <a:pPr marL="332640" indent="-3326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488760" y="5317920"/>
              <a:ext cx="1465200" cy="3016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7000"/>
            </a:bodyPr>
            <a:p>
              <a:pPr marL="332640" indent="-3326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201400" y="5317920"/>
              <a:ext cx="1287360" cy="3016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7000"/>
            </a:bodyPr>
            <a:p>
              <a:pPr marL="332640" indent="-3326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914400" y="5317920"/>
              <a:ext cx="1287000" cy="3016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7000"/>
            </a:bodyPr>
            <a:p>
              <a:pPr marL="332640" indent="-3326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115680" y="5016600"/>
              <a:ext cx="2342160" cy="3013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7000"/>
            </a:bodyPr>
            <a:p>
              <a:pPr marL="332640" indent="-3326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953960" y="5016600"/>
              <a:ext cx="1161360" cy="3013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7000"/>
            </a:bodyPr>
            <a:p>
              <a:pPr marL="332640" indent="-3326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488760" y="5016600"/>
              <a:ext cx="1465200" cy="3013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7000"/>
            </a:bodyPr>
            <a:p>
              <a:pPr marL="332640" indent="-3326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201400" y="5016600"/>
              <a:ext cx="1287360" cy="3013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7000"/>
            </a:bodyPr>
            <a:p>
              <a:pPr marL="332640" indent="-3326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914400" y="5016600"/>
              <a:ext cx="1287000" cy="3013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7000"/>
            </a:bodyPr>
            <a:p>
              <a:pPr marL="332640" indent="-3326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115680" y="4714920"/>
              <a:ext cx="2342160" cy="3016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7000"/>
            </a:bodyPr>
            <a:p>
              <a:pPr marL="332640" indent="-3326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953960" y="4714920"/>
              <a:ext cx="1161360" cy="3016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7000"/>
            </a:bodyPr>
            <a:p>
              <a:pPr marL="332640" indent="-3326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488760" y="4714920"/>
              <a:ext cx="1465200" cy="30168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7000"/>
            </a:bodyPr>
            <a:p>
              <a:pPr marL="332640" indent="-3326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201400" y="4714920"/>
              <a:ext cx="1287360" cy="3016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7000"/>
            </a:bodyPr>
            <a:p>
              <a:pPr marL="332640" indent="-3326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914400" y="4714920"/>
              <a:ext cx="1287000" cy="3016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7000"/>
            </a:bodyPr>
            <a:p>
              <a:pPr marL="332640" indent="-3326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115680" y="4138200"/>
              <a:ext cx="2342160" cy="57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sbursement #2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ormation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953960" y="4138200"/>
              <a:ext cx="1161360" cy="5767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488760" y="4138200"/>
              <a:ext cx="1465200" cy="5767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201400" y="4138200"/>
              <a:ext cx="1287360" cy="576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914400" y="4138200"/>
              <a:ext cx="1287000" cy="5767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115680" y="3561480"/>
              <a:ext cx="23421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sbursement #1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ormation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953960" y="3561480"/>
              <a:ext cx="1161360" cy="576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488760" y="3561480"/>
              <a:ext cx="1465200" cy="57636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201400" y="3561480"/>
              <a:ext cx="1287360" cy="5763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914400" y="3561480"/>
              <a:ext cx="1287000" cy="57636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953960" y="3259800"/>
              <a:ext cx="3503880" cy="3016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7000"/>
            </a:bodyPr>
            <a:p>
              <a:pPr marL="332640" indent="-3326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ward Information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488760" y="3259800"/>
              <a:ext cx="1465200" cy="30168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7000"/>
            </a:bodyPr>
            <a:p>
              <a:pPr marL="332640" indent="-3326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201400" y="3259800"/>
              <a:ext cx="1287360" cy="3016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7000"/>
            </a:bodyPr>
            <a:p>
              <a:pPr marL="332640" indent="-3326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914400" y="3259800"/>
              <a:ext cx="1287000" cy="3016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7000"/>
            </a:bodyPr>
            <a:p>
              <a:pPr marL="332640" indent="-3326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953960" y="2958480"/>
              <a:ext cx="3503880" cy="301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7000"/>
            </a:bodyPr>
            <a:p>
              <a:pPr marL="332640" indent="-3326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an Information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488760" y="2958480"/>
              <a:ext cx="1465200" cy="3013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7000"/>
            </a:bodyPr>
            <a:p>
              <a:pPr marL="332640" indent="-3326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201400" y="2958480"/>
              <a:ext cx="1287360" cy="3013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7000"/>
            </a:bodyPr>
            <a:p>
              <a:pPr marL="332640" indent="-3326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914400" y="2958480"/>
              <a:ext cx="1287000" cy="3013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7000"/>
            </a:bodyPr>
            <a:p>
              <a:pPr marL="332640" indent="-3326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115680" y="2656800"/>
              <a:ext cx="2342160" cy="30168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7000"/>
            </a:bodyPr>
            <a:p>
              <a:pPr marL="332640" indent="-3326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488760" y="2656800"/>
              <a:ext cx="2626560" cy="30168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7000"/>
            </a:bodyPr>
            <a:p>
              <a:pPr marL="332640" indent="-3326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udent Information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201400" y="2656800"/>
              <a:ext cx="1287360" cy="3016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7000"/>
            </a:bodyPr>
            <a:p>
              <a:pPr marL="332640" indent="-3326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914400" y="2656800"/>
              <a:ext cx="1287000" cy="3016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7000"/>
            </a:bodyPr>
            <a:p>
              <a:pPr marL="332640" indent="-3326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115680" y="2355480"/>
              <a:ext cx="2342160" cy="3013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7000"/>
            </a:bodyPr>
            <a:p>
              <a:pPr marL="332640" indent="-3326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953960" y="2355480"/>
              <a:ext cx="1161360" cy="3013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7000"/>
            </a:bodyPr>
            <a:p>
              <a:pPr marL="332640" indent="-3326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01400" y="2355480"/>
              <a:ext cx="2752560" cy="3013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7000"/>
            </a:bodyPr>
            <a:p>
              <a:pPr marL="332640" indent="-3326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ity Information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914400" y="2355480"/>
              <a:ext cx="1287000" cy="3013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7000"/>
            </a:bodyPr>
            <a:p>
              <a:pPr marL="332640" indent="-3326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115680" y="2053800"/>
              <a:ext cx="2342160" cy="3016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7000"/>
            </a:bodyPr>
            <a:p>
              <a:pPr marL="332640" indent="-3326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953960" y="2053800"/>
              <a:ext cx="1161360" cy="3016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7000"/>
            </a:bodyPr>
            <a:p>
              <a:pPr marL="332640" indent="-3326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201400" y="2053800"/>
              <a:ext cx="2752560" cy="3016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7000"/>
            </a:bodyPr>
            <a:p>
              <a:pPr marL="332640" indent="-3326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ocument Information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914400" y="2053800"/>
              <a:ext cx="1287000" cy="3016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7000"/>
            </a:bodyPr>
            <a:p>
              <a:pPr marL="332640" indent="-3326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115680" y="1752480"/>
              <a:ext cx="2342160" cy="3013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7000"/>
            </a:bodyPr>
            <a:p>
              <a:pPr marL="332640" indent="-3326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953960" y="1752480"/>
              <a:ext cx="1161360" cy="3013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7000"/>
            </a:bodyPr>
            <a:p>
              <a:pPr marL="332640" indent="-3326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488760" y="1752480"/>
              <a:ext cx="1465200" cy="3013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7000"/>
            </a:bodyPr>
            <a:p>
              <a:pPr marL="332640" indent="-3326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914400" y="1752480"/>
              <a:ext cx="2574360" cy="3013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7000"/>
            </a:bodyPr>
            <a:p>
              <a:pPr marL="332640" indent="-3326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mmon Record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914400" y="1752480"/>
              <a:ext cx="75438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914400" y="5920920"/>
              <a:ext cx="75438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914400" y="1752480"/>
              <a:ext cx="0" cy="41684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8458200" y="1752480"/>
              <a:ext cx="0" cy="41684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201400" y="2053800"/>
              <a:ext cx="625644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201400" y="2355480"/>
              <a:ext cx="625644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201400" y="2053800"/>
              <a:ext cx="0" cy="356580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488760" y="2656800"/>
              <a:ext cx="496908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488760" y="2656800"/>
              <a:ext cx="0" cy="266112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953960" y="2958480"/>
              <a:ext cx="350388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953960" y="3259800"/>
              <a:ext cx="350388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953960" y="2958480"/>
              <a:ext cx="0" cy="205812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115680" y="3561480"/>
              <a:ext cx="23421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115680" y="4138200"/>
              <a:ext cx="23421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115680" y="3561480"/>
              <a:ext cx="0" cy="115308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115680" y="4714920"/>
              <a:ext cx="23421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953960" y="5016600"/>
              <a:ext cx="350388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488760" y="5317920"/>
              <a:ext cx="496908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201400" y="5619600"/>
              <a:ext cx="625644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CR:C XML Structure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CommonRecord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DocumentInformation&gt;&lt;/DocumentInformation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AttendedSchool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Student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Loan&gt;&lt;/Loan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Award&gt;&lt;/Award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Disbursement&gt;&lt;Disbursement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/Student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/AttendedSchool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/CommonRecord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Black"/>
              </a:rPr>
              <a:t>CR:C Supported Processes</a:t>
            </a:r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Loan Requ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Loan Reprint Requ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Loan Termination Requ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Loan Certification Requ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re-guarantee Correction Requ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ost-guarantee Change Requ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Black"/>
              </a:rPr>
              <a:t>CR:C Supported Processes</a:t>
            </a:r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hange Requ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 Borrower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ress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one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-mail Address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n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udent Level Code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ncial Award Period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duation Date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uarantee Incr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an Re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057040" y="533520"/>
            <a:ext cx="67057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Black"/>
              </a:rPr>
              <a:t>CR:C Supported Processes</a:t>
            </a:r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hange Requests (co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-disbursement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bursement Date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ll Disbursement Cancel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ial Disbursement Cancel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ll/Partial Disbursement Increase and/or Reinstat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a disburs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ld and Release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bination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an Reallocation with Post-disbursement Cancel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an Reallocation with Loan Incr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uarantee Increase and Disbursement Addition or Disbursement Date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Session Objectives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64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gence/Benef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iness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y Differences from Common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:C Proc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n Requ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 Requ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burs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What’s Next  - Steps and Tim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057040" y="533520"/>
            <a:ext cx="67057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Black"/>
              </a:rPr>
              <a:t>CR:C Supported Processes</a:t>
            </a:r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hange Requests (co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-disbursement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ll Disbursement Reiss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ial Disbursement Reiss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ll Disbursement Cancel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ial Disbursement Cancel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ll or Partial Disbursement Reinstat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-withdrawal Return of Fu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-withdrawal Return of Funds Corr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onses to Requ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napsh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Black"/>
              </a:rPr>
              <a:t>CR:C Loan Request Process</a:t>
            </a:r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Business Process - New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requests are combined in one rec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more @1, @4, @7, @8 record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more Record Type Indicators (A, C, R,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est”: Loan Request (Reprints, Terminates and pre-guarantee corrections) and/or Post-Guarantee Change Reques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cation”: Loan Requests on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”: Change Requests on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Black"/>
              </a:rPr>
              <a:t>CR:C Loan Request Process</a:t>
            </a:r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Additional Featur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bursement Day Override Ind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ility to pass Credit Status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mal data for Pre-guarantee Corrections, Reprint and Termin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bursement Amounts can be passed for Stafford and PLUS requ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Black"/>
              </a:rPr>
              <a:t>CR:C Change Request Process</a:t>
            </a:r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ew Business Process - New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sults oriented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ultiple updates with one record - no more @1-05, @1-07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ly changed data elements need to be s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up to the recipient to determine the intent of the reques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change per element per student may be requested in each docu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nded to be easier for SIS and FAMS providers to design and program the change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CR:C Response Process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Business Process - New Structure and Form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odified Error Codes to be more COD li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sponse format override capability -&lt;FullResponseCode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onses are associated to each individual block of the request document  - not to the rec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ice provider may accept one block of the student’s loan request, while rejecting other s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limited error c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CR:C Response Formats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3 Response Formats now 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napshot: An image of the student and loan data on the service provider’s system at the time the response is created plus respons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ll: Data tags and values sent in the original change request plus respons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: Response data on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onse Data includ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sing Status of the requ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y errors identified during processing of the requ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Black"/>
              </a:rPr>
              <a:t>CR:C Process: Disbursement</a:t>
            </a:r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ame Business Process - New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eparate Document Types for Disbursement Roster,Forecasts and Acknowledgem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bursement Acknowledgement contains response data and has it’s own sch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Progress Report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llaboration continues to move us forwa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chools, The College Board, Datatel, Oracle, PeopleSoft, SCT Corp., and Sigma Systems have all indicated their support of the new CR:C standa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nders, guarantors, and servicers have also indicated their support and intent to implement the new standa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Documentation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79246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ation Guide development has proceeded at an accelerated 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l” documentation published – July 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ew and updates to documentation - On-go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ation Includ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ation Gu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e Components Data Diction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e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ance Doc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Documentation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79246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mplementation Guide includ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siness r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definitions and valid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ML Document Element Layo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ML standards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oss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Crosswalk docu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 C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CR:C Defined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mon Record: CommonLine (CR:C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new XML-based electronic data exchange standard for FFELP and alternative loan origination and disbursement process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Next Steps for FFELP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e tune and finalize schema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e tune and update the documentation  - version 1.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 and resolve reported issues and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ongoing training, education, and outre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courage FFELP community transition to the new stand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Training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:C Training Sessions provide a detailed orientation and introduction to the CR:C stand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tential future da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ly - Port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ctober/November - TB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ing sessions are two full days e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ssion feedback has been very posi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CR:C Testing Tool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ifies format, content and provide cross field valid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to provide common validation of the interpretation and programming of the Implementation Guide and to certify participants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an Request  - February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25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ponse - Spring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25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ool Certification - Spring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25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bursement - Summer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25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nge - Fall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Data Transport Standards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SC has initiated a collaborative effort with software providers, FSA, ELM, lenders, guarantors, and servicers to identify standard transport tools and protocols that can be employed as a standard across higher education for the batch and real-time electronic exchange of da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icularly important because of the large data payloads resulting from the use of XML data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Black"/>
              </a:rPr>
              <a:t>Implementation Schedule - FAMS Vendors</a:t>
            </a:r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lectronic Standards Committee has been in close touch with College Board, Datatel, PeopleSoft, Oracle, SCT, Sigma for their pla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are in various stages of analysis and are forecasting production implementations between Fall ’04 and Spring ’05.  Sigma is looking for testing partners in Summer ’0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Black"/>
              </a:rPr>
              <a:t>Implementation Schedule - Service Providers</a:t>
            </a:r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lenders, guarantors, and servicers are planning schedules parallel to the vendor timeline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are too early in analysis to determine if their implementation strategy will be all-in or phase-in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phase-in, most would implement in lifecycl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Black"/>
              </a:rPr>
              <a:t>What this means for Schools</a:t>
            </a:r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ools with a FAMS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y in touch with your vendor for updates on their implementation plans and your option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courage your vendors to continue their development of CR:C func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ools that do their own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ccess all of the documentation available online for your IT staf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ttend train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Black"/>
              </a:rPr>
              <a:t>What this means for Service Providers</a:t>
            </a:r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ice providers will continue to support their current versions of CommonLine flat fi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grade systems to support the CR:C XML process b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ing a CR:C XML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ying a system that supports CR: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lating XML to flat file and 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Crosswalks provided for transla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Information Sources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CHELP - The CR:C Implementation Guide is available at www.nchelp.or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AP – COD news, technical documentation, updates, etc. at www.ifap.ed.g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SC – XML Technical Specifications, Data Dictionaries, Schemas, assistance and approvals, etc. at www.standardscouncil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Technical Assistance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appreciate your feedback and comments.  We can be reach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im Shiflet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b 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one: 317 806-121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85 248-71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x: 317 806-120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85 248-75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ail: </a:t>
            </a:r>
            <a:r>
              <a:rPr b="0" lang="en-US" sz="1800" spc="-1" strike="noStrike" u="sng">
                <a:solidFill>
                  <a:srgbClr val="003399"/>
                </a:solidFill>
                <a:uFillTx/>
                <a:latin typeface="Arial"/>
                <a:hlinkClick r:id="rId1"/>
              </a:rPr>
              <a:t>Kshiflet@usafunds.or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 u="sng">
                <a:solidFill>
                  <a:srgbClr val="003399"/>
                </a:solidFill>
                <a:uFillTx/>
                <a:latin typeface="Arial"/>
                <a:hlinkClick r:id="rId2"/>
              </a:rPr>
              <a:t>robert.l.king@citigroup.co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Black"/>
              </a:rPr>
              <a:t>Convergence – Historical Perspective</a:t>
            </a:r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FELP was pursuing implementation of  CommonLine 5.0 - Flat and X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the same time SIS and FAMS vendors were implementing FSA’s new COD Common Record XML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te 2001, began to consider the benefits of converging CommonLine and Common Rec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ll 2002, convergence proposal approved by the Electronics Standards Committee (ES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Convergence – Efforts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FEL community, through the ESC and PESC, invested heavily in the convergence effort over the past y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d a Common Data Dictionary across higher edu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ed similar XML sche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ilar processing concepts where appropriate and pos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Data Dictionary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76201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s names and characteristics of data to ensure common underst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3124080"/>
          <a:ext cx="8001000" cy="2743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124080"/>
                    <a:ext cx="800100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XML Schema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077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ordinary English, definitions related to Schema inclu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diagrammatic 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isposition of constituents in a pattern or according to a sche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cheme or systematic arran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XML terms it describes and constrains the content and sequence of content of XML docu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Benefits of XML and CR:C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schools to use one Record structure between disparate databases or different systems - COD, CL, Meteor, Transcript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eamlines the automation of Application and Disbursement Pro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rts Change Processes from  Transaction-based to End Result-b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ML is Human Read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Benefits – cont.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Record: CommonLine can suppor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tc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l-tim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ex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:C’s XML record structure i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lex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ML let’s you sen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nly the data need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the process being perform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:C is designed to meet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ed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chool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AMS Vend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5T16:11:26Z</dcterms:created>
  <dc:creator>jennifer.do</dc:creator>
  <dc:description/>
  <dc:language>en-US</dc:language>
  <cp:lastModifiedBy>jennifer.do</cp:lastModifiedBy>
  <dcterms:modified xsi:type="dcterms:W3CDTF">2004-04-05T15:28:02Z</dcterms:modified>
  <cp:revision>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097361219</vt:r8>
  </property>
  <property fmtid="{D5CDD505-2E9C-101B-9397-08002B2CF9AE}" pid="3" name="_AuthorEmail">
    <vt:lpwstr>rk94273@imcnam.ssmb.com</vt:lpwstr>
  </property>
  <property fmtid="{D5CDD505-2E9C-101B-9397-08002B2CF9AE}" pid="4" name="_AuthorEmailDisplayName">
    <vt:lpwstr>King, Robert L</vt:lpwstr>
  </property>
  <property fmtid="{D5CDD505-2E9C-101B-9397-08002B2CF9AE}" pid="5" name="_EmailSubject">
    <vt:lpwstr>Presentation Updates</vt:lpwstr>
  </property>
</Properties>
</file>