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AA4-129F-4ECB-BFCE-6CE5E50C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294-BE8B-4E96-8464-DD36C2A6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550-D1B2-4B3C-A37A-09ED6444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BD1-4BF2-4A61-A9F7-81FD4D75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1418-CCE3-44EF-84DD-EB192F00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76E5-BB99-41D5-AAF4-C6CF1522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C126-C1F3-471A-97CD-0234AA62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B9B4-03C5-47C4-82AA-495DA0A2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514C-0CD7-4028-80BF-C3A41C53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B3C2-D3A3-4B3A-84F3-4A983EBF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0FC4-1F20-4FF6-A4F4-3A3BD60F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20D-8E9C-4DFB-9622-B114F8B6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827A-707F-4763-AB4F-4A94EB9A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6F02-7789-4660-B4A8-24BCF85B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BA0D-0B66-4DDD-A7B3-84E8E69C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94F4-8421-47C2-A8A2-FA5AC620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6A1F-8313-43D2-BB83-FEDF2B8A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A16-562B-4931-9E62-C1C58AE1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1A0-3857-42FF-88F1-BD28EA1C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AD4-E0A5-4BC5-9D06-65C6A714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6705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317-3D21-496F-A0E4-0C4CD6A8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04B-F32C-46C1-8582-9DFFC71B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556-78A3-43E3-83DE-D851DA93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2F5-8BB3-4BEE-8E93-FF8C036A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2B7E-34D2-4FA4-9BB9-5F1355CA589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457200" y="428760"/>
            <a:ext cx="15177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2E1D-4246-4ACC-970A-4EC7BCA84AD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Kshiflet@usafunds.org" TargetMode="External"/><Relationship Id="rId2" Type="http://schemas.openxmlformats.org/officeDocument/2006/relationships/hyperlink" Target="mailto:robert.l.king@citigroup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mmon Record: CommonLine Implementation for FFEL and Alternative Loan Schoo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m Shiflette, USA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King, Citi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0666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Session 2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2819520" cy="152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usiness Requireme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ain current CommonLine 5 function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ain flexibility of FFELP processing for our School custo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ulate CR:COD where applicable - structure, process and naming conven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 cross-industry data diction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llabor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ngineering required highly cooperative collaboration betwee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CHELP Electronic Standards 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ible for the creation and maintenance of standards for the electronic exchange of information for FFELP and alternative 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e industry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Secondary Electronic Standards Council (PESC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n umbrella organization for all wishing to support electronic standards in higher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artment of Education F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Key Differen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mats, new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Period Begin and End dates are now referred to as 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AwardBeginDat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FinancialAwardEndDat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are used when possible to represent information. For example, US Citizen value is now “USCitiz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udent - multipl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trailer or reconciliation at the docum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rds sorted by attending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“Requests” can be sent in the sam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s School Assigned ID - student/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Stru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Structure - building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(header in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ed School (students are grouped by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(personal data - name, ssn, addres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(application data - loan period, grade level,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 (loan data - certified amounts and dates, person information for borrowers who are not the student, co-sign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(disbursement in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 COD Document Stru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1752480"/>
            <a:ext cx="7543800" cy="4168440"/>
            <a:chOff x="914400" y="1752480"/>
            <a:chExt cx="7543800" cy="4168440"/>
          </a:xfrm>
        </p:grpSpPr>
        <p:sp>
          <p:nvSpPr>
            <p:cNvPr id="143" name=""/>
            <p:cNvSpPr/>
            <p:nvPr/>
          </p:nvSpPr>
          <p:spPr>
            <a:xfrm>
              <a:off x="6115680" y="5619600"/>
              <a:ext cx="23421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3960" y="5619600"/>
              <a:ext cx="1161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88760" y="5619600"/>
              <a:ext cx="14652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1400" y="5619600"/>
              <a:ext cx="1287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561960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5680" y="5317920"/>
              <a:ext cx="23421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3960" y="5317920"/>
              <a:ext cx="1161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88760" y="5317920"/>
              <a:ext cx="146520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1400" y="531792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4400" y="531792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15680" y="5016600"/>
              <a:ext cx="234216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3960" y="5016600"/>
              <a:ext cx="116136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88760" y="5016600"/>
              <a:ext cx="146520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1400" y="5016600"/>
              <a:ext cx="1287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01660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15680" y="4714920"/>
              <a:ext cx="234216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53960" y="4714920"/>
              <a:ext cx="116136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88760" y="4714920"/>
              <a:ext cx="146520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01400" y="471492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14400" y="471492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5680" y="4138200"/>
              <a:ext cx="234216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53960" y="4138200"/>
              <a:ext cx="1161360" cy="576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88760" y="4138200"/>
              <a:ext cx="1465200" cy="576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1400" y="4138200"/>
              <a:ext cx="1287360" cy="576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4138200"/>
              <a:ext cx="1287000" cy="576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15680" y="3561480"/>
              <a:ext cx="2342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3960" y="3561480"/>
              <a:ext cx="1161360" cy="576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88760" y="3561480"/>
              <a:ext cx="1465200" cy="576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01400" y="3561480"/>
              <a:ext cx="1287360" cy="57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14400" y="3561480"/>
              <a:ext cx="1287000" cy="576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3960" y="3259800"/>
              <a:ext cx="350388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ard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88760" y="3259800"/>
              <a:ext cx="146520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01400" y="325980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3259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3960" y="2958480"/>
              <a:ext cx="3503880" cy="301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88760" y="2958480"/>
              <a:ext cx="146520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1400" y="2958480"/>
              <a:ext cx="1287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4400" y="295848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15680" y="2656800"/>
              <a:ext cx="23421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88760" y="2656800"/>
              <a:ext cx="26265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1400" y="265680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14400" y="2656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5680" y="2355480"/>
              <a:ext cx="23421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53960" y="2355480"/>
              <a:ext cx="1161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1400" y="2355480"/>
              <a:ext cx="27525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ty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4400" y="235548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5680" y="2053800"/>
              <a:ext cx="23421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3960" y="2053800"/>
              <a:ext cx="11613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01400" y="2053800"/>
              <a:ext cx="27525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400" y="2053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5680" y="1752480"/>
              <a:ext cx="23421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3960" y="1752480"/>
              <a:ext cx="1161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88760" y="1752480"/>
              <a:ext cx="14652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14400" y="1752480"/>
              <a:ext cx="2574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Recor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4400" y="1752480"/>
              <a:ext cx="754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4400" y="5920920"/>
              <a:ext cx="754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14400" y="1752480"/>
              <a:ext cx="0" cy="416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58200" y="1752480"/>
              <a:ext cx="0" cy="416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1400" y="205380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01400" y="235548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1400" y="2053800"/>
              <a:ext cx="0" cy="356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88760" y="2656800"/>
              <a:ext cx="49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88760" y="2656800"/>
              <a:ext cx="0" cy="2661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53960" y="295848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53960" y="325980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53960" y="2958480"/>
              <a:ext cx="0" cy="2058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5680" y="356148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5680" y="413820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5680" y="3561480"/>
              <a:ext cx="0" cy="11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5680" y="471492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3960" y="501660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88760" y="5317920"/>
              <a:ext cx="49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01400" y="561960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 CommonLine Document Stru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14400" y="1752480"/>
            <a:ext cx="7543800" cy="4168440"/>
            <a:chOff x="914400" y="1752480"/>
            <a:chExt cx="7543800" cy="4168440"/>
          </a:xfrm>
        </p:grpSpPr>
        <p:sp>
          <p:nvSpPr>
            <p:cNvPr id="219" name=""/>
            <p:cNvSpPr/>
            <p:nvPr/>
          </p:nvSpPr>
          <p:spPr>
            <a:xfrm>
              <a:off x="6115680" y="5619600"/>
              <a:ext cx="23421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3960" y="5619600"/>
              <a:ext cx="1161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88760" y="5619600"/>
              <a:ext cx="14652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01400" y="5619600"/>
              <a:ext cx="1287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4400" y="561960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5680" y="5317920"/>
              <a:ext cx="23421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53960" y="5317920"/>
              <a:ext cx="1161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88760" y="5317920"/>
              <a:ext cx="146520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01400" y="531792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4400" y="531792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5680" y="5016600"/>
              <a:ext cx="234216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53960" y="5016600"/>
              <a:ext cx="116136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88760" y="5016600"/>
              <a:ext cx="146520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1400" y="5016600"/>
              <a:ext cx="1287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501660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5680" y="4714920"/>
              <a:ext cx="234216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53960" y="4714920"/>
              <a:ext cx="116136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88760" y="4714920"/>
              <a:ext cx="146520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1400" y="471492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471492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5680" y="4138200"/>
              <a:ext cx="234216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53960" y="4138200"/>
              <a:ext cx="1161360" cy="576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88760" y="4138200"/>
              <a:ext cx="1465200" cy="576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1400" y="4138200"/>
              <a:ext cx="1287360" cy="576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4400" y="4138200"/>
              <a:ext cx="1287000" cy="576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15680" y="3561480"/>
              <a:ext cx="2342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bursement 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3960" y="3561480"/>
              <a:ext cx="1161360" cy="576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88760" y="3561480"/>
              <a:ext cx="1465200" cy="576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1400" y="3561480"/>
              <a:ext cx="1287360" cy="57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14400" y="3561480"/>
              <a:ext cx="1287000" cy="576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3960" y="3259800"/>
              <a:ext cx="3503880" cy="301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ard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88760" y="3259800"/>
              <a:ext cx="146520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01400" y="325980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14400" y="3259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3960" y="2958480"/>
              <a:ext cx="3503880" cy="301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8760" y="2958480"/>
              <a:ext cx="1465200" cy="301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01400" y="2958480"/>
              <a:ext cx="1287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14400" y="295848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15680" y="2656800"/>
              <a:ext cx="23421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88760" y="2656800"/>
              <a:ext cx="2626560" cy="301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01400" y="2656800"/>
              <a:ext cx="1287360" cy="301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2656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5680" y="2355480"/>
              <a:ext cx="23421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53960" y="2355480"/>
              <a:ext cx="11613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01400" y="2355480"/>
              <a:ext cx="2752560" cy="30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ty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4400" y="2355480"/>
              <a:ext cx="12870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15680" y="2053800"/>
              <a:ext cx="23421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53960" y="2053800"/>
              <a:ext cx="11613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01400" y="2053800"/>
              <a:ext cx="2752560" cy="301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ument Informa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2053800"/>
              <a:ext cx="1287000" cy="301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5680" y="1752480"/>
              <a:ext cx="23421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960" y="1752480"/>
              <a:ext cx="1161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88760" y="1752480"/>
              <a:ext cx="146520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14400" y="1752480"/>
              <a:ext cx="2574360" cy="301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marL="332640" indent="-332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Recor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14400" y="1752480"/>
              <a:ext cx="754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14400" y="5920920"/>
              <a:ext cx="754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4400" y="1752480"/>
              <a:ext cx="0" cy="416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58200" y="1752480"/>
              <a:ext cx="0" cy="416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01400" y="205380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01400" y="235548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01400" y="2053800"/>
              <a:ext cx="0" cy="356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88760" y="2656800"/>
              <a:ext cx="49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88760" y="2656800"/>
              <a:ext cx="0" cy="2661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53960" y="295848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53960" y="325980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3960" y="2958480"/>
              <a:ext cx="0" cy="20581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15680" y="356148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15680" y="413820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5680" y="3561480"/>
              <a:ext cx="0" cy="11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5680" y="4714920"/>
              <a:ext cx="23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3960" y="5016600"/>
              <a:ext cx="3503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88760" y="5317920"/>
              <a:ext cx="49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1400" y="5619600"/>
              <a:ext cx="6256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XML Stru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CommonRecor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DocumentInformation&gt;&lt;/DocumentInforma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AttendedSchoo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Stud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Loan&gt;&lt;/Loa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Award&gt;&lt;/Awar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Disbursement&gt;&lt;Disbursem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Stud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AttendedSchoo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/CommonRecor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Supported Process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an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an Reprint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an Termination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an Certification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-guarantee Correction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t-guarantee Chang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Supported Process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Borrow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Addres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Level Cod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Award Period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ion D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Supported Process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Request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disburse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bursement D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/Partial Disbursement Increase and/or Rein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isbu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and Releas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Reallocation with Post-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Reallocation with Loan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Increase and Disbursement Addition or Disbursement D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ession Objectiv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/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ifferences from Comm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:C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’s Next  - Steps and 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Supported Process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Request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disburse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Disbursement Re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Disbursement Re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Disbursement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or Partial Disbursement Rein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withdrawal Return of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withdrawal Return of Funds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 to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Loan Request Proces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usiness Process - New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quests are combined in on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@1, @4, @7, @8 record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Record Type Indicators (A, C, R,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”: Loan Request (Reprints, Terminates and pre-guarantee corrections) and/or Post-Guarantee Change Requ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”: Loan Request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”: Change Request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Loan Request Proces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dditional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Day Override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pass Credit Statu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data for Pre-guarantee Corrections, Reprint and Ter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ursement Amounts can be passed for Stafford and PLUS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Change Request Proces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Business Process - New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 orient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updates with one record - no more @1-05, @1-07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changed data elements need to b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p to the recipient to determine the intent of the requ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change per element per student may be requested in each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ded to be easier for SIS and FAMS providers to design and program the chang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Response Proces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usiness Process - New Structure and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ified Error Codes to be more COD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format override capability -&lt;FullResponseCod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 are associated to each individual block of the request document  - not to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 may accept one block of the student’s loan request, while rejecting other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mited error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Response Forma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Response Formats now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pshot: An image of the student and loan data on the service provider’s system at the time the response is created plus respon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: Data tags and values sent in the original change request plus respon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: Response data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Data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Status of the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errors identified during processing of the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R:C Process: Disbursemen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me Business Process - New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arate Document Types for Disbursement Roster,Forecasts and Acknowledg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bursement Acknowledgement contains response data and has it’s own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rogress Repor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laboration continues to move us forw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s, The College Board, Datatel, Oracle, PeopleSoft, SCT Corp., and Sigma Systems have all indicated their support of the new CR:C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ders, guarantors, and servicers have also indicated their support and intent to implement the new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ocument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Guide development has proceeded at an accelerated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” documentation published – July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updates to documentation - On-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mponents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ocument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ementation Guide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finitions and vali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Document Element Lay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standard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rosswalk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Defined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Record: CommonLine (CR: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XML-based electronic data exchange standard for FFELP and alternative loan origination and disbursement proc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Next Steps for FFELP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tune and finalize schema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tune and update the documentation  - version 1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solve reported issu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ngoing training, education, and 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FFELP community transition to the new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rainin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:C Training Sessions provide a detailed orientation and introduction to the CR:C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future 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- Port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/November -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sessions are two full day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feedback has been very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R:C Testing Tool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format, content and provide cross field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provide common validation of the interpretation and programming of the Implementation Guide and to certify participant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Request  - February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- Spring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Certification - Spring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bursement - Summer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- Fall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 Transport Standard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C has initiated a collaborative effort with software providers, FSA, ELM, lenders, guarantors, and servicers to identify standard transport tools and protocols that can be employed as a standard across higher education for the batch and real-time electronic exchange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ly important because of the large data payloads resulting from the use of XML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Schedule - FAMS Vendor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ic Standards Committee has been in close touch with College Board, Datatel, PeopleSoft, Oracle, SCT, Sigma for their p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re in various stages of analysis and are forecasting production implementations between Fall ’04 and Spring ’05.  Sigma is looking for testing partners in Summer ’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mplementation Schedule - Service Provider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enders, guarantors, and servicers are planning schedules parallel to the vendor timelin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too early in analysis to determine if their implementation strategy will be all-in or phase-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hase-in, most would implement in lifecycl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this means for School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ith a FAM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y in touch with your vendor for updates on their implementation plans and your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your vendors to continue their development of CR:C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that do their own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all of the documentation available online for your IT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d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this means for Service Provider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 will continue to support their current versions of CommonLine flat 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grade systems to support the CR:C XML proces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a CR:C XM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a system that supports CR: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ng XML to flat file an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rosswalks provided 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Information Source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HELP - The CR:C Implementation Guide is available at www.nchelp.o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– COD news, technical documentation, updates, etc. at www.ifap.ed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C – XML Technical Specifications, Data Dictionaries, Schemas, assistance and approvals, etc. at www.standardscouncil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reciate your feedback and comments.  We can be reac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m Shiflet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: 317 806-12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5 248-7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x: 317 806-12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5 248-7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1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Kshiflet@usafunds.o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robert.l.king@citigroup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onvergence – Historical Perspective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FELP was pursuing implementation of  CommonLine 5.0 - Flat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ame time SIS and FAMS vendors were implementing FSA’s new COD Common Record XM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2001, began to consider the benefits of converging CommonLine and Common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2002, convergence proposal approved by the Electronics Standards Committee (ES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nvergence – Effor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FEL community, through the ESC and PESC, invested heavily in the convergence effort over the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Common Data Dictionary across hig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similar XML sch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processing concepts where appropriate and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 Dictionary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names and characteristics of data to ensure common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3124080"/>
          <a:ext cx="800100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8001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XML Schema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inary English, definitions related to Schema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agrammatic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position of constituents in a pattern or according to a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e or systematic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XML terms it describes and constrains the content and sequence of content of XM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enefits of XML and CR:C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schools to use one Record structure between disparate databases or different systems - COD, CL, Meteor, Transcrip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lines the automation of Application and Disbursement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Change Processes from  Transaction-based to End Result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is Human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Benefits – cont.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cord: CommonLine can suppo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-ti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:C’s XML record struc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let’s you se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the data nee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process being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:C is designed to mee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S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04-05T15:28:0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97361219</vt:r8>
  </property>
  <property fmtid="{D5CDD505-2E9C-101B-9397-08002B2CF9AE}" pid="3" name="_AuthorEmail">
    <vt:lpwstr>rk94273@imcnam.ssmb.com</vt:lpwstr>
  </property>
  <property fmtid="{D5CDD505-2E9C-101B-9397-08002B2CF9AE}" pid="4" name="_AuthorEmailDisplayName">
    <vt:lpwstr>King, Robert L</vt:lpwstr>
  </property>
  <property fmtid="{D5CDD505-2E9C-101B-9397-08002B2CF9AE}" pid="5" name="_EmailSubject">
    <vt:lpwstr>Presentation Updates</vt:lpwstr>
  </property>
</Properties>
</file>