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6.wmf" ContentType="image/x-wmf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5E4-3F92-4ABA-AB75-D6B3E495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C4C-1D4F-4230-A6E7-D3184E9F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308-A5CB-4629-93D3-8DE8189B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BA4-5BDC-48C8-B182-75F4FCB3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89A2-8114-423C-AE6B-EB7B7D11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F050-3018-4935-948D-C0F0E9B5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89CA-DD6A-41E2-9420-6D0CD1FD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150A-0CB0-4054-A80C-713E410B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EDCC-5E54-4B60-A1A5-F98174B1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6393-025E-4BCB-81E4-90ADEFD3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860A-CC42-4F2E-B376-24FCB82A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6E6-663F-42FA-B819-628AC60B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E56D-FE89-46F8-AA27-5B7A4F5E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2F29-8160-4F6E-B62E-BD9FB842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D486-E030-42D0-BA21-02607E11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F0FB-C57F-4562-8453-B842D99E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E4D9-103A-4D9D-BFE7-EB26546C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348-9D1C-428E-A047-4BD83F01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468-9A32-4B3A-ABF9-6FA8EF79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DA0-5CA6-41E4-8FEC-37947EF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B21-53BC-45A6-99A4-D3457B63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4B9-5EA3-4342-B172-A41F3AE5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D4F-832F-4B25-BCD2-D49B00FF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221-0824-4508-87AC-9C797273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C823-B13D-4A80-9B55-B394F111508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springlogo_md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4D9A-8659-400A-ABBA-E015FBFFBE9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09556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mmon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O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igination and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D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sbursement:</a:t>
            </a:r>
            <a:br>
              <a:rPr sz="32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101:The Basics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 Mason, Barbara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etrius Wi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0666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Session 18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springlogo_md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2819520" cy="152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04/05 Full participant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Message Class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n-program specific and non-award year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RECIN, COMRE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n-program specific and award year specific (2004-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RAA05IN, CRAA05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gram specific (Pell, Direct Loan and/or Campus-Based) and award year specific (2004-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RPG05IN, CRDL05IN, CRCB05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gram specific (Pell, Direct Loan and/or Campus-Based) and non-award year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RPGMYIN, CRDLMYIN, CRCBMY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A78-D97E-4435-9F94-1458BB0E47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6560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COD Funding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3962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ONLY ACCEPTED ACTUAL DISBURSEMENTS DRIVE FUNDING!!!!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member to mark your disbursements “TRU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A54-AA60-466C-A363-37595E5F9A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76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Full Participant Set up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447920"/>
            <a:ext cx="67816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end or fax a request letter, printed on school or corporate letterhea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.S. Department of Education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D School Relations Center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ttn: Full Participant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.O. Box 9003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iagara Falls, NY 14302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ax : 877/623-5082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AP Notice dated 2/26/0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5A6-E641-4E72-BA62-AC672F1776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57200" y="519588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ttp://cod.ed.gov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4038480"/>
            <a:ext cx="6400800" cy="3049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AEB-C092-458F-8B70-56AC9360EB5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ebsite tool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78040" y="1657440"/>
            <a:ext cx="6222960" cy="4667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90720" y="426708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449568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10552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571500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417-F33F-4F79-ACD0-4486839A38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705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ily Processing updat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87E-5FDE-4ADD-8679-52622874BB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/CPS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Quick Referenc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56A-567F-4263-94F7-FA65223031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Updating contac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CA6-1D56-4A61-A616-2BBB23E879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 Entity ID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920-D192-4088-87B9-9469875D14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71840" y="228600"/>
            <a:ext cx="2133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Help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F19-7729-4158-AC99-B95B88A0FE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: The Basic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be a Full Particip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work with C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t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232-49D2-434D-9B92-908E31E9D4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95320" y="609480"/>
            <a:ext cx="3962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di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AC8-6A90-4351-99E2-7CC6D9CCFA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57040" y="533520"/>
            <a:ext cx="670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Glossar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EA4-A303-4D17-85E7-0BD9B7C448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Brief tour of the websit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A43-7FA8-4D59-9403-F502BA295C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62360" y="53316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rs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0DA-F478-4B68-BDCD-86EF58C405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pplicant Search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370-DAA7-4666-A5AF-EC884A8A8D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erson Detail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5AE-F8C8-4255-83E4-D60B003D82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chool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392-BE85-459E-9DE8-84542E81DA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ash Activit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BD92-F895-4DC4-8C71-1FF1563F21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Batch Search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C79-2B76-4CF2-A536-70C9618C63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Batch detail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168-7C9B-4EB5-BE71-329C9D4241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46520" y="168228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a common process with a system designed to support origination, disbursement, and reporting for the Federal Pell Grant and Direct Loa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09880" cy="3962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7621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685800"/>
            <a:ext cx="204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COD</a:t>
            </a:r>
            <a:br>
              <a:rPr sz="5400"/>
            </a:b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A45-F182-493A-A42A-E3F401E61A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rvices/Repor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11E-77C3-4366-9BDF-9D8D566441A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67080" y="304560"/>
            <a:ext cx="4114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User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9D7-0D34-40BA-A1F7-F89C8E42A0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How do I Obtain Access to the COD Website?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3880" y="2286000"/>
            <a:ext cx="843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 Security Administrator for y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Security Administrator Request Letter on university or corporate lett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announcement for detailed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d: COD Web Site Access for Schools – March 18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 Web Site Access for /Third Party Servicers and Vendors  – March 18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694-DECC-434C-BF9C-2A5F9CF123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90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 Customer Servic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4724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848-097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o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474-7268 (4P-Gr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Pell 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questions to CODSupport@acs-in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657600" cy="411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983480" y="5486400"/>
            <a:ext cx="415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iagara Falls, NY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58E-70C8-4C32-982E-D08D1CA781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otal Inbound Telephone Call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60360" y="1601640"/>
          <a:ext cx="8601120" cy="44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1601640"/>
                    <a:ext cx="8601120" cy="44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EE1-DE69-4DAB-BAE8-5204103495F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 Processing</a:t>
            </a:r>
            <a:br>
              <a:rPr sz="36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YTD Totals – as of March 23, 2004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33520" y="2743200"/>
          <a:ext cx="8076960" cy="3029040"/>
        </p:xfrm>
        <a:graphic>
          <a:graphicData uri="http://schemas.openxmlformats.org/drawingml/2006/table">
            <a:tbl>
              <a:tblPr/>
              <a:tblGrid>
                <a:gridCol w="3430440"/>
                <a:gridCol w="2430360"/>
                <a:gridCol w="2216160"/>
              </a:tblGrid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66"/>
                      </a:solidFill>
                    </a:lnR>
                    <a:lnT>
                      <a:noFill/>
                    </a:lnT>
                    <a:lnB w="280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-200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28080">
                      <a:solidFill>
                        <a:srgbClr val="000066"/>
                      </a:solidFill>
                    </a:lnT>
                    <a:lnB w="28080">
                      <a:solidFill>
                        <a:srgbClr val="000066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-200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28080">
                      <a:solidFill>
                        <a:srgbClr val="000066"/>
                      </a:solidFill>
                    </a:lnR>
                    <a:lnT w="28080">
                      <a:solidFill>
                        <a:srgbClr val="000066"/>
                      </a:solidFill>
                    </a:lnT>
                    <a:lnB w="28080">
                      <a:solidFill>
                        <a:srgbClr val="000066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tions (#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66"/>
                      </a:solidFill>
                    </a:lnL>
                    <a:lnR w="28080">
                      <a:solidFill>
                        <a:srgbClr val="000066"/>
                      </a:solidFill>
                    </a:lnR>
                    <a:lnT w="280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bb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 mill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280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 mill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28080">
                      <a:solidFill>
                        <a:srgbClr val="000066"/>
                      </a:solidFill>
                    </a:lnR>
                    <a:lnT w="280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tions ($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66"/>
                      </a:solidFill>
                    </a:lnL>
                    <a:lnR w="280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bb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.9 bill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 bill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280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Disbursements (#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66"/>
                      </a:solidFill>
                    </a:lnL>
                    <a:lnR w="280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bb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 mill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 mill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280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Disbursements ($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66"/>
                      </a:solidFill>
                    </a:lnL>
                    <a:lnR w="280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bb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 bill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.2 bill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280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ubstantiate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66"/>
                      </a:solidFill>
                    </a:lnL>
                    <a:lnR w="280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28080">
                      <a:solidFill>
                        <a:srgbClr val="000066"/>
                      </a:solidFill>
                    </a:lnB>
                    <a:solidFill>
                      <a:srgbClr val="ffbb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7%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280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1%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280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280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3" name=""/>
          <p:cNvSpPr txBox="1"/>
          <p:nvPr/>
        </p:nvSpPr>
        <p:spPr>
          <a:xfrm>
            <a:off x="1371600" y="2133720"/>
            <a:ext cx="17146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otal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2286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Pell &amp; Direct Loan Tot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337-C6AF-41DA-894F-116A9332D20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More Information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AP Website (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www.IFAP.ed.gov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on Origination and Disbursemen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nouncements and Frequently Ask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D Technical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L Bullet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ectronic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A41-5258-4882-89EF-2D6296B688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181480" y="2590920"/>
            <a:ext cx="3048120" cy="1522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149560"/>
            <a:ext cx="243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ere Are the CO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sources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209-5E91-4782-8B01-8D781F5F5BE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09480" y="2286000"/>
            <a:ext cx="7772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59A-239B-472E-90F1-856139B388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8892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 Overview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6504120" y="5629320"/>
            <a:ext cx="23223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66"/>
                </a:solidFill>
                <a:latin typeface="Arial"/>
              </a:rPr>
              <a:t>NOTE: </a:t>
            </a:r>
            <a:r>
              <a:rPr b="0" i="1" lang="en-US" sz="800" spc="-1" strike="noStrike">
                <a:solidFill>
                  <a:srgbClr val="000066"/>
                </a:solidFill>
                <a:latin typeface="Arial"/>
                <a:ea typeface="Arial"/>
              </a:rPr>
              <a:t>All COD interfaces routed through EAI except DCS.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81120" y="3765600"/>
            <a:ext cx="981360" cy="4204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SAIG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2920" y="5219640"/>
            <a:ext cx="1101600" cy="1017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Financial Mgt System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(FMS)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62640" y="3521160"/>
            <a:ext cx="1028880" cy="961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Loan Servicing System</a:t>
            </a:r>
            <a:br>
              <a:rPr sz="900"/>
            </a:b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(DLSS)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0560" y="3241800"/>
            <a:ext cx="14590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Common &amp; Legacy Direct Loan and Pell  Origination, Change and Disbursement Records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4300560"/>
            <a:ext cx="12286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Acknowledgements and Response Records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33680" y="1546200"/>
            <a:ext cx="1120680" cy="10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Central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Processing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System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(CPS)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26200" y="4151160"/>
            <a:ext cx="9619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Loan Bookings &amp; Disbursements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895480" y="2316240"/>
            <a:ext cx="63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School Eligibility 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22800" y="4680000"/>
            <a:ext cx="1152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Funding Transactions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yment Transactions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23200" y="277020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Student Level  Pell 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66000" y="4022640"/>
            <a:ext cx="118728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791320" y="2532240"/>
            <a:ext cx="996840" cy="9381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02520" y="2568600"/>
            <a:ext cx="500040" cy="94464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7040" y="27352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Student Level  Direct Loan 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39880" y="5213520"/>
            <a:ext cx="1101960" cy="1017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FMSS / GAPS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23" idx="3"/>
            <a:endCxn id="139" idx="1"/>
          </p:cNvCxnSpPr>
          <p:nvPr/>
        </p:nvCxnSpPr>
        <p:spPr>
          <a:xfrm>
            <a:off x="3462480" y="3976200"/>
            <a:ext cx="676800" cy="396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23960" y="3500280"/>
            <a:ext cx="1028520" cy="9622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School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6"/>
            <a:endCxn id="123" idx="1"/>
          </p:cNvCxnSpPr>
          <p:nvPr/>
        </p:nvCxnSpPr>
        <p:spPr>
          <a:xfrm flipV="1">
            <a:off x="1752480" y="3976200"/>
            <a:ext cx="729360" cy="5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40" idx="4"/>
            <a:endCxn id="137" idx="2"/>
          </p:cNvCxnSpPr>
          <p:nvPr/>
        </p:nvCxnSpPr>
        <p:spPr>
          <a:xfrm flipH="1" rot="16200000">
            <a:off x="1307880" y="4391640"/>
            <a:ext cx="1261080" cy="1402200"/>
          </a:xfrm>
          <a:prstGeom prst="bentConnector2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39" idx="2"/>
            <a:endCxn id="124" idx="0"/>
          </p:cNvCxnSpPr>
          <p:nvPr/>
        </p:nvCxnSpPr>
        <p:spPr>
          <a:xfrm>
            <a:off x="5100120" y="4555800"/>
            <a:ext cx="3960" cy="664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4" name=""/>
          <p:cNvCxnSpPr>
            <a:stCxn id="137" idx="6"/>
            <a:endCxn id="124" idx="2"/>
          </p:cNvCxnSpPr>
          <p:nvPr/>
        </p:nvCxnSpPr>
        <p:spPr>
          <a:xfrm>
            <a:off x="3741480" y="5722920"/>
            <a:ext cx="811800" cy="7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346040" y="5481720"/>
            <a:ext cx="1229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Drawdowns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59160" y="2592360"/>
            <a:ext cx="1652400" cy="1119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49320" y="1558800"/>
            <a:ext cx="1121040" cy="10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Post Secondary Education Participant System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(PEPS)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260960" y="2503440"/>
            <a:ext cx="63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Student Applicant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45160" y="4335120"/>
            <a:ext cx="1712880" cy="141588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69080" y="4802040"/>
            <a:ext cx="115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yment Transactions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35720" y="1539720"/>
            <a:ext cx="1120680" cy="10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Student Data Storage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(NSLDS)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38560" y="3403440"/>
            <a:ext cx="1922400" cy="11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Arial"/>
              </a:rPr>
              <a:t>Common Origination &amp; Disbursement  (COD)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37200" y="3784680"/>
            <a:ext cx="5569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Transa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rocessing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34080" y="3784680"/>
            <a:ext cx="5569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We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24480" y="3784680"/>
            <a:ext cx="5572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Reports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38640" y="4172040"/>
            <a:ext cx="1743120" cy="31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4178160"/>
            <a:ext cx="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26040" y="417528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Customer Service Cen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2280" y="417348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Applicant Services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44960" y="1533600"/>
            <a:ext cx="1121040" cy="1044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Debt Collection Services (DCS)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00680" y="2590920"/>
            <a:ext cx="444240" cy="812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63720" y="2565360"/>
            <a:ext cx="9720" cy="822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476320" y="2579760"/>
            <a:ext cx="63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Student Pell Payment 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4120" y="5972040"/>
            <a:ext cx="1646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4E2-DBDF-4115-A691-A0CD012917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198108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placed the Recipient Financial Management System (RFMS) and the Direct Loan Origination System (DLOS)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ALL SCHOOL data is processed by COD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457200"/>
            <a:ext cx="63482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49840" y="685800"/>
            <a:ext cx="204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COD</a:t>
            </a:r>
            <a:br>
              <a:rPr sz="5400"/>
            </a:b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3D6-2706-43E9-955F-D6A4AFBB1D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905120" y="457200"/>
            <a:ext cx="63482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e Changed The Lingo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19051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mon Recor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21337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ceipt/Respons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3733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F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4495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ull Participa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58672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hase-In Participa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276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ocu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10280" y="5486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3200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lat Fi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1C6-ED7B-43F7-8259-9D486D144A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057040" y="759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ull / Phase-In Participan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chool’s “participant” status is determined by the method they use to transmit their data to C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ull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chools that submit data using the COD Common Record Layout in XML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hase-In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chools that submit data using Pell Grant/Direct Loan Record Layouts in fixed-length, flat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148-644D-44B9-97D6-DD948400D5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COD Full Participants</a:t>
            </a:r>
            <a:br>
              <a:rPr sz="3600"/>
            </a:b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As of March 1, 2004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48320" y="1709640"/>
          <a:ext cx="380988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09640"/>
                    <a:ext cx="38098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57200" y="1751040"/>
          <a:ext cx="376236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751040"/>
                    <a:ext cx="37623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85800" y="3429000"/>
          <a:ext cx="6365880" cy="31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429000"/>
                    <a:ext cx="636588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4400" y="3505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002-200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03-200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04-2005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(Projecte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4038480"/>
            <a:ext cx="2819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360" indent="-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l schools must be Full Participant for the 2005-2006 Award Yea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278-D8BC-48B2-B65A-D830D014D0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The Common Record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“student-centric” document (coded in XML) used to transmit Pell Grant and Direct Loan data to the new COD data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ocument flexible enough to use for ALL Title IV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ocument that uses the same layout for ALL data submission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034-C46D-49F7-9036-BADEB6EC65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7T14:07:28Z</dcterms:modified>
  <cp:revision>65</cp:revision>
  <dc:subject/>
  <dc:title>PowerPoint Presentation</dc:title>
</cp:coreProperties>
</file>