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EAA-045F-472F-BB0A-E3E5FC97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C64-7080-4E80-A3C1-92E3FCF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E3A-4EAE-485E-B37A-67808190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0C0-CCCB-41C2-911C-C8D36F7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EE11-0824-4965-829B-10B3C6C0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69E3-D309-4D37-A3FF-0D1A04C5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96C-0C30-4F5A-B9B0-F082816C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2AEC-7285-43F1-8BBC-1AC6B1C0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D105-58E6-462C-9F32-82447B1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2D6-04BB-412D-BF20-7DB133E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23B-2142-499C-9173-1D3C136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D9E-C81D-40F2-ACAC-E9523AA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B89-988F-49B7-BAFC-A61CA02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AC54-8E9C-4B9C-BE00-64FA5A7E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CC41-EE0E-4CDC-BAFD-FB93D91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A8DA-E650-43A3-A51B-BFF997C8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575-81F1-4C10-A1A1-04E17161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82B-4A36-471C-8F52-68D4159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9E4-B795-4A13-AF06-AAFE951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AFDB-03C4-4FEE-8D70-121452A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EE9-75E1-41BA-B0F9-E49DBB9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6E9-5D5D-42C2-A20E-D929AF5C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17C-8BF8-4465-8890-2262280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735-2715-4265-B0FE-E358265B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2740-174A-40EF-B0B7-8DF6A7935DF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springlogo_md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371-E170-44DB-BD5B-DFEC2F66BC4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gregory.martin@ed.gov" TargetMode="External"/><Relationship Id="rId2" Type="http://schemas.openxmlformats.org/officeDocument/2006/relationships/hyperlink" Target="mailto:thomas.threlkeld@ed.gov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Update on Verification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ory Mart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Threlk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Session 17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springlogo_md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ntaxed Income and Benefi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ecurit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/Keogh d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income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ed income credit (E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on tax-fre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other untaxed income sources reported on the tax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ceptable 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 and 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year tax return or IRS form that lists tax accou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non-filer status and sources and amounts of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size and number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statement or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verification from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axed income and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year tax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agency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statement or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ceptable 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filers who 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s of W2 form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S form 4868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of IRS approved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filers who file fiscal year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or FY that includes greater number of months in bas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resident f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1040 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tax return or value reported in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cceptable 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return to verify individual income and tax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dividual’s AGI using relevant W2 for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other income that can be determined from the join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dividual’s taxes paid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table method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xceptions to Verification Item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stitution receives ISIR within 90 days of applicant’s signing FAFSA, institution is not required to ve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i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HS and/or child support is the same as that verified in the previous award year, institution is not required to ve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xclusions from Verification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dies during award year prior to completing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reason to believe information reported is 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rcerat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ly verified transfe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itle IV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Exclusions from Verification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information for a dependent applicant whose parental information is unob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use’s information for independent applicant whose spouse’s information is unob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residents of Guam, American Samoa, or Northern Mariana Islands and citizens of the Marshall Islands, Federated States of Micronesia, or Republic of Pal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erim Disburs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conflicting data or reason to believe information is inaccurate, schools m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deral Pell, FSEOG, and Per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hold payme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ne disbursement for student’s first pay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erim Disburs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ithhold payme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applicant for first 60 consecutive days after student’s enrollment in that award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deral Stafford Loan and Direct Subsidized Loan f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se to certify or originate loa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y or originate loan, but may not deliver loan proceeds to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terim Disburs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 is liable if interim disbursement causes an over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eliminate overpayment by adjusting Title IV aid in subsequent payment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ell, Perkins, FSEOG, reimburse program by earlier of 60 days after LDA or last day of award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afford, withhold and return any amount of a disbursement received but not yet delivered for which student is ineligible based on verifi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y do I have to Verify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program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60 billion in grants, loans, and work-study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12 billion in Federal 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 million aid recip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ing the integrity of the student aid programs and minimizing improper payments is a major objective of all partners in the financial ai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pdating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selected for verification must update information as of the date of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applicants not selected for verification cannot update for changes occurring after original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pdating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ways update dependency status if it changes during an awar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the reason is a change in the student’s 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ways update household size and number in college when student is selected for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the reason is a change in the student’s 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pdating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must complete verification before it exercises professional judgment to change the EFC of a student selected for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calculating Chang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a result of verification, the EFC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must submit correction to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ll award must be based on the corrected 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mpus-Based and Sta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is not required to submit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is liable if pays based on an incorrect E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Tolerance Op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calculation of EFC is required if as a result of verification, there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rrors in nondollar item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t difference greater than $400 in dollar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original AGI plus untaxed income and benefits minus original U.S. taxes pai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ed AGI plus untaxed income and benefits minus corrected U.S. taxes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Tracking Number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priority for selection and likelihood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mean applicant was selected for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number indicates higher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is 00 to 99 for 2003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is 0001 to 9999 for 2004-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Tracking Fla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nancial Aid Office Use Onl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ndicates student is select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ndicates student is not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cates student is selected o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Cod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003-2004 and 2004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but not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lected or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anges After Verific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ust review all subsequent ISIRs received even if verification has been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post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/BCIS secondary con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or parent may mak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school may mak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hanges After Verific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us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porting records (MR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over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transfer monitoring 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t’s All About Being Righ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amount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right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igh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f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of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Deadlin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el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of 120 days after last day of enrollment or August 31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y never increase Pell award during verification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mpus-Based, subsidized FFEL and Direc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of institution’s verification deadline or the dates established by the Secretary (se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nflicting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solved for all Title IV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y information affecting Title IV recipient’s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ompleted for “selected” Title IV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specific ISIR data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erification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Financial Aid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Assess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verif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/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Q&amp;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dditional Referen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gister (Dec. 12, 2003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waivers and modifications of some statutory and regulatory provisions for certain individuals pursuant to the HEROE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L GEN-04-03 (Feb.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issues relating to verification and the calculation of R2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lated Conference Ses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31 – FSA Assessments:  Evaluation Tools to Keep You on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7 – The New FSA Handbook:  Who Moved the Gruy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11 – Managing the “Conflicting Information” Requirements of th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 Black"/>
              </a:rPr>
              <a:t>  </a:t>
            </a:r>
            <a:r>
              <a:rPr b="0" i="1" lang="en-US" sz="4400" spc="-1" strike="noStrike">
                <a:solidFill>
                  <a:srgbClr val="000066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 Martin</a:t>
            </a:r>
            <a:br>
              <a:rPr sz="2800"/>
            </a:b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gregory.martin@ed.gov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215) 656-6452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 Threlkeld</a:t>
            </a:r>
            <a:br>
              <a:rPr sz="2800"/>
            </a:b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thomas.threlkeld@ed.gov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617) 223-9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is Verification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by which institutions ensure that certain information provided on the FAFSA is reviewed for accuracy and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and implementing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. 487 of the HEA 1965, as amended, 20 U.S.C. 10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CFR 668.51 – 668.61  (Subpart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licies and Procedur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must establish and use written policies and procedures for verify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procedures must provide for clear and timely notifica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applicants’ responsibiliti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explanation of requir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licies and Procedur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and procedures mus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s for students to provide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failure to provide require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by which student will be notified of award changes resulting from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for correction of applic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for referring overpayments to the U. S.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lection of Applica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System (C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process to develop new and improved 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/IRS statistical studies comparing AGI and taxes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hecks which identify inconsistencies and potenti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30% of total appl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’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30% Verification Op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stitution is required to verify more than 30% of its total applicants for Title IV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efines total Title IV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ay include in its 30% only those applicants selected for verification by the 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verify any applicant’s information that school has reason to believe is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quired Verification Item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 S. income tax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in househol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household members enrolled in eligible postsecondary school as at least a half-tim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axed income and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19:39Z</dcterms:modified>
  <cp:revision>149</cp:revision>
  <dc:subject/>
  <dc:title>PowerPoint Presentation</dc:title>
</cp:coreProperties>
</file>