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3.wmf" ContentType="image/x-wmf"/>
  <Override PartName="/ppt/media/image26.wmf" ContentType="image/x-wmf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86868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451-1DC7-43C2-9705-C53C9F6F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73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50880" y="3942000"/>
            <a:ext cx="73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740-A0C2-4F9A-937B-0B48D10E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35200" y="175248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0880" y="394200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435200" y="394200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3F10-B76C-465A-B66B-5863B186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2377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147840" y="1752480"/>
            <a:ext cx="2377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45160" y="1752480"/>
            <a:ext cx="2377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50880" y="3942000"/>
            <a:ext cx="2377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147840" y="3942000"/>
            <a:ext cx="2377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45160" y="3942000"/>
            <a:ext cx="2377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191-7D7C-4145-94AD-A2C98CEF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BCD5-065C-4B26-B455-0A5F2176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50880" y="17524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ADE4-7823-4BC4-80D9-6052E241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A313-46BE-4CC1-AA30-6E2C73E7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3603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35200" y="1752480"/>
            <a:ext cx="3603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6129-140A-4D0A-B7B6-5A2CD535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0ADC-A3FF-45B9-AA46-7BF53457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953720" y="533160"/>
            <a:ext cx="6370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FC20-7524-46BC-B0EA-E58BEC92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35200" y="1752480"/>
            <a:ext cx="3603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0880" y="394200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18FC-B077-4C02-8E8B-E84BB5A3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50880" y="17524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6A91-714B-454F-9939-6A4350CA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3603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435200" y="175248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435200" y="394200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71D3-375D-4092-B1D3-DC86E33B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35200" y="175248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0880" y="3942000"/>
            <a:ext cx="73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706A-52CB-41CB-9416-9602FD09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73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50880" y="3942000"/>
            <a:ext cx="73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1F2C-3956-4C91-9B83-97041E81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35200" y="175248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0880" y="394200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435200" y="394200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550F-0157-42DA-ACD0-4985F9A6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2377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47840" y="1752480"/>
            <a:ext cx="2377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45160" y="1752480"/>
            <a:ext cx="2377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50880" y="3942000"/>
            <a:ext cx="2377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47840" y="3942000"/>
            <a:ext cx="2377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45160" y="3942000"/>
            <a:ext cx="2377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0A37-6A27-4A00-A2FB-948FDD90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6A1-01AE-441B-B79A-7F33DF1D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3603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35200" y="1752480"/>
            <a:ext cx="3603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5DF0-E53F-445D-9350-BCF41C64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9D0-477C-46D6-8659-3A486471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953720" y="533160"/>
            <a:ext cx="6370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8997-DBCB-4D25-83E9-6C93B5DA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35200" y="1752480"/>
            <a:ext cx="3603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0880" y="394200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141B-2995-45B4-87E2-DC611850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3603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35200" y="175248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35200" y="394200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3B16-CD13-4802-A33F-E3D5CB02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35200" y="175248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880" y="3942000"/>
            <a:ext cx="73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5C47-D4B0-4E77-9156-EECB4D65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68120" y="230040"/>
            <a:ext cx="192960" cy="6504120"/>
            <a:chOff x="168120" y="230040"/>
            <a:chExt cx="192960" cy="6504120"/>
          </a:xfrm>
        </p:grpSpPr>
        <p:sp>
          <p:nvSpPr>
            <p:cNvPr id="1" name=""/>
            <p:cNvSpPr/>
            <p:nvPr/>
          </p:nvSpPr>
          <p:spPr>
            <a:xfrm flipH="1">
              <a:off x="288360" y="257040"/>
              <a:ext cx="723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8120" y="230040"/>
              <a:ext cx="727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353440" y="220680"/>
            <a:ext cx="188640" cy="6408000"/>
            <a:chOff x="8353440" y="220680"/>
            <a:chExt cx="18864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477280" y="220680"/>
              <a:ext cx="648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353440" y="379800"/>
              <a:ext cx="7416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392040" y="6476400"/>
            <a:ext cx="8251920" cy="229320"/>
            <a:chOff x="392040" y="6476400"/>
            <a:chExt cx="825192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479840" y="2387880"/>
              <a:ext cx="75960" cy="825192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391280" y="2629800"/>
              <a:ext cx="76320" cy="80751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3080" y="176040"/>
            <a:ext cx="8307360" cy="161280"/>
            <a:chOff x="73080" y="176040"/>
            <a:chExt cx="830736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300920" y="-3741840"/>
              <a:ext cx="58680" cy="809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196520" y="-3947400"/>
              <a:ext cx="60480" cy="8307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68400" y="176040"/>
            <a:ext cx="8307360" cy="161280"/>
            <a:chOff x="68400" y="176040"/>
            <a:chExt cx="830736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296600" y="-3741840"/>
              <a:ext cx="58680" cy="809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191840" y="-3947400"/>
              <a:ext cx="60480" cy="8307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50880" y="17524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34520" y="6019920"/>
            <a:ext cx="180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3D04-1BDD-41B3-9495-7BE6CF21FCDD}" type="datetime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2968560" y="6019920"/>
            <a:ext cx="274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14920" y="6019920"/>
            <a:ext cx="180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7EA4-D1BD-400D-B8A2-786B539A2EAF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springlogo_md" descr=""/>
          <p:cNvPicPr/>
          <p:nvPr/>
        </p:nvPicPr>
        <p:blipFill>
          <a:blip r:embed="rId2"/>
          <a:stretch/>
        </p:blipFill>
        <p:spPr>
          <a:xfrm>
            <a:off x="434880" y="428760"/>
            <a:ext cx="144144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68120" y="230040"/>
            <a:ext cx="192960" cy="6504120"/>
            <a:chOff x="168120" y="230040"/>
            <a:chExt cx="192960" cy="6504120"/>
          </a:xfrm>
        </p:grpSpPr>
        <p:sp>
          <p:nvSpPr>
            <p:cNvPr id="58" name=""/>
            <p:cNvSpPr/>
            <p:nvPr/>
          </p:nvSpPr>
          <p:spPr>
            <a:xfrm flipH="1">
              <a:off x="288360" y="257040"/>
              <a:ext cx="723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8120" y="230040"/>
              <a:ext cx="727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353440" y="220680"/>
            <a:ext cx="188640" cy="6408000"/>
            <a:chOff x="8353440" y="220680"/>
            <a:chExt cx="18864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477280" y="220680"/>
              <a:ext cx="648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353440" y="379800"/>
              <a:ext cx="7416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92040" y="6476400"/>
            <a:ext cx="8251920" cy="229320"/>
            <a:chOff x="392040" y="6476400"/>
            <a:chExt cx="825192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479840" y="2387880"/>
              <a:ext cx="75960" cy="825192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391280" y="2629800"/>
              <a:ext cx="76320" cy="80751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3080" y="176040"/>
            <a:ext cx="8307360" cy="161280"/>
            <a:chOff x="73080" y="176040"/>
            <a:chExt cx="830736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300920" y="-3741840"/>
              <a:ext cx="58680" cy="809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196520" y="-3947400"/>
              <a:ext cx="60480" cy="8307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880" y="1980720"/>
            <a:ext cx="738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417240" y="5989680"/>
            <a:ext cx="180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4B9E-D457-4654-B357-F2524D41B8AC}" type="datetime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2978280" y="6002280"/>
            <a:ext cx="275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460920" y="5978520"/>
            <a:ext cx="180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71C8-85A7-4601-A7B3-DAC175696ED1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34160" y="1604520"/>
            <a:ext cx="781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2590920"/>
            <a:ext cx="738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Session #13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Using COD and GAPS to Reconcile Pell Grant and Direct Loan Program Funds</a:t>
            </a:r>
            <a:br>
              <a:rPr sz="4000"/>
            </a:b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03200" y="5257440"/>
            <a:ext cx="6080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hony Laing, George Karayianis and Tremayne Co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05200" y="1066680"/>
            <a:ext cx="3475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3" name="springlogo_md" descr=""/>
          <p:cNvPicPr/>
          <p:nvPr/>
        </p:nvPicPr>
        <p:blipFill>
          <a:blip r:embed="rId1"/>
          <a:stretch/>
        </p:blipFill>
        <p:spPr>
          <a:xfrm>
            <a:off x="434880" y="428760"/>
            <a:ext cx="2678040" cy="152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C1D4-DE3E-4C65-B1BE-5E9712F36C2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6370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Arial Black"/>
              </a:rPr>
              <a:t>Pell Processing Example: </a:t>
            </a:r>
            <a:r>
              <a:rPr b="0" i="1" lang="en-US" sz="3500" spc="-1" strike="noStrike">
                <a:solidFill>
                  <a:srgbClr val="000066"/>
                </a:solidFill>
                <a:latin typeface="Arial Black"/>
              </a:rPr>
              <a:t>Initial CFL of $5 Million</a:t>
            </a:r>
            <a:endParaRPr b="0" lang="en-US" sz="35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16080" y="1447920"/>
          <a:ext cx="8054640" cy="4689360"/>
        </p:xfrm>
        <a:graphic>
          <a:graphicData uri="http://schemas.openxmlformats.org/drawingml/2006/table">
            <a:tbl>
              <a:tblPr/>
              <a:tblGrid>
                <a:gridCol w="1703160"/>
                <a:gridCol w="1604880"/>
                <a:gridCol w="1067040"/>
                <a:gridCol w="871560"/>
                <a:gridCol w="914400"/>
                <a:gridCol w="1893600"/>
              </a:tblGrid>
              <a:tr h="105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Dat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b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L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 submits actual disb of $2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30/0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2/0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FL adjustmen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ew ESOA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 submits anticipated disb of $4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1/0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5/0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FL adjustmen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ew ESOA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 updates DRI of T for disb of $4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08/0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5/0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L adjustment on 1/8/04 of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M Current CFL of $6M New ESOA  of  $6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1C3-3201-4F5C-85FC-41F18DBE97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370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Arial Black"/>
              </a:rPr>
              <a:t>Pell Processing Example: </a:t>
            </a:r>
            <a:r>
              <a:rPr b="0" i="1" lang="en-US" sz="3500" spc="-1" strike="noStrike">
                <a:solidFill>
                  <a:srgbClr val="000066"/>
                </a:solidFill>
                <a:latin typeface="Arial Black"/>
              </a:rPr>
              <a:t>Initial CFL of $5 Million</a:t>
            </a:r>
            <a:endParaRPr b="0" lang="en-US" sz="35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80880" y="1371600"/>
          <a:ext cx="7925040" cy="4881600"/>
        </p:xfrm>
        <a:graphic>
          <a:graphicData uri="http://schemas.openxmlformats.org/drawingml/2006/table">
            <a:tbl>
              <a:tblPr/>
              <a:tblGrid>
                <a:gridCol w="1676520"/>
                <a:gridCol w="1469880"/>
                <a:gridCol w="1214640"/>
                <a:gridCol w="971640"/>
                <a:gridCol w="973080"/>
                <a:gridCol w="1619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Dat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b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L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 submits actual disb of $2M</a:t>
                      </a:r>
                      <a:endParaRPr b="0" lang="en-US" sz="17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30/0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2/0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FL adjustment</a:t>
                      </a:r>
                      <a:endParaRPr b="0" lang="en-US" sz="17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ew ESOA</a:t>
                      </a:r>
                      <a:endParaRPr b="0" lang="en-US" sz="17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3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 submits anticipated disb of $4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0/0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0/0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L adjustment on 10/13/03 of $1M Current CFL of 6M New ESOA of $6M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 submits adjustment of  $100K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/0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5/0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.9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L adjustment on 2/2/04 of $100K Current CFL of $5.9M New ESOA of $5.9M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F3C4-4154-4760-8F5C-7F7FAB1167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15880" y="914040"/>
            <a:ext cx="553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ell Daily CFL Adjustmen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4120" y="1980720"/>
            <a:ext cx="79185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Gen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submit disbursement increas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s throughout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Over-award Project (P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09D8-47CA-4D99-A917-0E202D1FBC9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98440" y="990360"/>
            <a:ext cx="5864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ell Global CFL Reduction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3600" y="2133360"/>
            <a:ext cx="7383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for “W” Verification (Apr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to level of accepted and posted disbursement records (M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to level of net GAPS drawdowns (end of second y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A84-1355-4D92-9C3D-4DEEA3A27AC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33320" y="5331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ell Funding Reconcili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   CFL    =    Disb Records  =    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D)            (COD)               (GAPS)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293840" y="137304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3840" y="137304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"/>
          <p:cNvGrpSpPr/>
          <p:nvPr/>
        </p:nvGrpSpPr>
        <p:grpSpPr>
          <a:xfrm>
            <a:off x="307800" y="2971800"/>
            <a:ext cx="8071200" cy="2514600"/>
            <a:chOff x="307800" y="2971800"/>
            <a:chExt cx="8071200" cy="2514600"/>
          </a:xfrm>
        </p:grpSpPr>
        <p:sp>
          <p:nvSpPr>
            <p:cNvPr id="144" name=""/>
            <p:cNvSpPr/>
            <p:nvPr/>
          </p:nvSpPr>
          <p:spPr>
            <a:xfrm>
              <a:off x="6177600" y="4857840"/>
              <a:ext cx="220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0,000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36280" y="4857840"/>
              <a:ext cx="26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0,000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55200" y="4857840"/>
              <a:ext cx="198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0,000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7800" y="4857840"/>
              <a:ext cx="124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77600" y="4229280"/>
              <a:ext cx="220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500,000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36280" y="4229280"/>
              <a:ext cx="26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750,000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55200" y="4229280"/>
              <a:ext cx="198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500,000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7800" y="42292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/0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77600" y="3600720"/>
              <a:ext cx="220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500,000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36280" y="3600720"/>
              <a:ext cx="26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750,000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55200" y="3600720"/>
              <a:ext cx="198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750,000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7800" y="36007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/0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77600" y="2971800"/>
              <a:ext cx="220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500,000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36280" y="2971800"/>
              <a:ext cx="26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750,000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55200" y="2971800"/>
              <a:ext cx="198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1,000,000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7800" y="29718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1/0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7800" y="2971800"/>
              <a:ext cx="8071200" cy="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7800" y="3600720"/>
              <a:ext cx="8071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7800" y="4229280"/>
              <a:ext cx="8071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7800" y="4857840"/>
              <a:ext cx="8071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7800" y="5486400"/>
              <a:ext cx="8071200" cy="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7800" y="2971800"/>
              <a:ext cx="0" cy="251460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55200" y="2971800"/>
              <a:ext cx="0" cy="251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36280" y="2971800"/>
              <a:ext cx="0" cy="251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77600" y="2971800"/>
              <a:ext cx="0" cy="251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79000" y="2971800"/>
              <a:ext cx="0" cy="251460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703D-2A19-462C-861D-73578A6A918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ell Reconciliation Tools  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Year to Dat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Reconcili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Pending Disburse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ES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eb Scre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 Web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3F40-A973-4D65-ACFD-858D9777CB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54080" y="456840"/>
            <a:ext cx="61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Electronic Statement of Account (ESOA)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8240" y="1599840"/>
            <a:ext cx="79185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APS AWARD NUMBER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063P0344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evious Pell Grant Oblig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$5,000,00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 Pell Grant Oblig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$6,000,00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djustment (Increase + or Decrease -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$1,000,000.00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evious Pell Grant Obligation/Pay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$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 Pell Grant Obligation/Pay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$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djustment (Increase + or Decrease -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$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APS Drawdowns/Payments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$5,000,00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ate of Last Activity in G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/06/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TD Total Unduplicated Recipie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,5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TD Pell Accepted and Posted Disbursement Amou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$6,000,00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TD Administrative Cost Allow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$7,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s of Document ID/Batch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0312345619990101123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yments Apply only to “:Obligate/Pay” Account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BAEE-1C87-40D5-B0C9-7A472C3C0FD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chool Funding Info Web Screen (Pell)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506520" y="2133720"/>
            <a:ext cx="868680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MOELLER UNIVERSIT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unding Inform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Pell Grant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ward Year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03-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ntity I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2333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nitial CF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2,000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CF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6,000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evious CF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5,000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FL Adjust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1,000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vailable Balan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   500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et Accepted &amp; Posted Disbursemen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6,000,000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et Drawdown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5,000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otal Unduplicated Recipients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15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B47E-E1FA-44E9-ABF9-2A8C2177729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16240" y="838080"/>
            <a:ext cx="6370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Ongoing Pell Reconcili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880" y="26668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Aid Office and Business Office reconcile as of September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deadline adjustments (after 9/30 – administrative relief, audits, decre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C3DB-247A-4E5B-9B10-7AD3AE9BF5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16240" y="457200"/>
            <a:ext cx="6370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Negative Available Balances -- exampl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303200" y="1461960"/>
          <a:ext cx="6659640" cy="4542120"/>
        </p:xfrm>
        <a:graphic>
          <a:graphicData uri="http://schemas.openxmlformats.org/drawingml/2006/table">
            <a:tbl>
              <a:tblPr/>
              <a:tblGrid>
                <a:gridCol w="2822760"/>
                <a:gridCol w="2027160"/>
                <a:gridCol w="18097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L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ilable Balance in GAPS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 submits $5,000,000 in disbursement records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000,000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 submits $5,000 negative adjustment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,995,000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5,000)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B14D-3C27-4BB5-8B96-9F55D16267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iscussion Outlin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738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ing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-day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management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l Reconcil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07AA-F19F-480C-A127-AC2D3DE250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53720" y="9903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How to Resolve Negative Balanc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23600" y="2438280"/>
            <a:ext cx="7383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und the c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the draw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the CF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960-51E9-4E30-9549-20924941E2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908520" y="5791320"/>
            <a:ext cx="17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520" y="1143000"/>
            <a:ext cx="680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irect Loan reconciliation versus end of year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oseou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880" y="228600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ly Reconcil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of comparing your internal records with the Department’s to identify and resolve outstanding discrepanc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Accepted and Posted disbursements =GAPS net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ing Cash Balance (ECB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991-E209-4073-B9EF-1040A1F888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16360" y="5638680"/>
            <a:ext cx="37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et cash                 Net disb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82800" y="609480"/>
            <a:ext cx="636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When are you closed out for the award year?  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34880" y="1676160"/>
            <a:ext cx="7383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finished processing, your loan records match the Departments, and your net disburs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 net ca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d (z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B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scales" descr=""/>
          <p:cNvPicPr/>
          <p:nvPr/>
        </p:nvPicPr>
        <p:blipFill>
          <a:blip r:embed="rId1"/>
          <a:stretch/>
        </p:blipFill>
        <p:spPr>
          <a:xfrm>
            <a:off x="3546360" y="3281400"/>
            <a:ext cx="4272120" cy="2179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flipV="1">
            <a:off x="3692520" y="5486400"/>
            <a:ext cx="0" cy="5335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674120" y="5486400"/>
            <a:ext cx="0" cy="5335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5B2-2052-42D3-86CF-600FD9D871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53720" y="9903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Your Ending Cash Balance Equ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506520" y="2517840"/>
            <a:ext cx="1476360" cy="1380960"/>
          </a:xfrm>
          <a:prstGeom prst="rect">
            <a:avLst/>
          </a:prstGeom>
          <a:noFill/>
          <a:ln w="101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ginn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04960" y="2517840"/>
            <a:ext cx="1476360" cy="1380960"/>
          </a:xfrm>
          <a:prstGeom prst="rect">
            <a:avLst/>
          </a:prstGeom>
          <a:noFill/>
          <a:ln w="101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ceip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02320" y="2517840"/>
            <a:ext cx="1476360" cy="1380960"/>
          </a:xfrm>
          <a:prstGeom prst="rect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fund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21040" y="2777760"/>
            <a:ext cx="55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25960" y="2569680"/>
            <a:ext cx="560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87880" y="4410000"/>
            <a:ext cx="1478160" cy="1381320"/>
          </a:xfrm>
          <a:prstGeom prst="rect">
            <a:avLst/>
          </a:prstGeom>
          <a:noFill/>
          <a:ln w="101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h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00640" y="4669920"/>
            <a:ext cx="56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440" y="4410000"/>
            <a:ext cx="1476360" cy="1381320"/>
          </a:xfrm>
          <a:prstGeom prst="rect">
            <a:avLst/>
          </a:prstGeom>
          <a:noFill/>
          <a:ln w="101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ownwar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just-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14800" y="4669920"/>
            <a:ext cx="56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97040" y="4410000"/>
            <a:ext cx="1476360" cy="1381320"/>
          </a:xfrm>
          <a:prstGeom prst="rect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war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just-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20680" y="4462200"/>
            <a:ext cx="55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10480" y="2505240"/>
            <a:ext cx="1476360" cy="1380960"/>
          </a:xfrm>
          <a:prstGeom prst="rect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sburse-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34120" y="2557080"/>
            <a:ext cx="560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4035-D38A-457B-95F1-43DA0BF4DE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7400" y="1371600"/>
            <a:ext cx="6370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OD and GAPS Tools to help reconcile Direct Loan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12680" y="2743200"/>
            <a:ext cx="738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Funding Web scre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(C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4ACC-F2F5-44B2-96CD-8C2A38E0F0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27160" y="838080"/>
            <a:ext cx="6370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OD Webscreen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0880" y="2438280"/>
            <a:ext cx="738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ing 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Financial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D134-A694-4A88-B973-48E6496ECB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chool Funding Info Web Screen 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0" name=""/>
          <p:cNvSpPr/>
          <p:nvPr/>
        </p:nvSpPr>
        <p:spPr>
          <a:xfrm>
            <a:off x="506520" y="2133720"/>
            <a:ext cx="868680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EDUCATION UNIVERSIT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unding Inf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Direct Loan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ward Year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04-0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ntity I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2333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nitial CF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56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CF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200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vailable Balan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15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ash &gt; Net Accepted &amp; Posted Disbursemen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et Accepted &amp; Posted Disbursemen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185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et Drawdown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185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isbursement To Drawdown Rati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0000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34320" y="5181480"/>
            <a:ext cx="115884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34320" y="4876920"/>
            <a:ext cx="1158840" cy="3045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14D-2237-4452-BC39-DD063820AC9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ash Activity Scree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4" name=""/>
          <p:cNvSpPr/>
          <p:nvPr/>
        </p:nvSpPr>
        <p:spPr>
          <a:xfrm>
            <a:off x="361800" y="1905120"/>
            <a:ext cx="868680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HIYA UNIVERSIT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Direct Loan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ward Year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04-0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et Draw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$30,000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ash &gt; Accepted &amp; Posted Disbursements &amp; older than 30 days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$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otal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ate of Transac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0/23/0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Time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1:35P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rawdown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$30,000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$2,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rawdown adjustmen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$0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efund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$1,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eturn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$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ays for On-time reportin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ayment Control Numb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       2003102321221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ccepted &amp; Posted Disbursements Applie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$20,000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$0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ash &gt; Accepted &amp; Posted Disbursemen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$10,000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ource Syste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APS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53120" y="3124080"/>
            <a:ext cx="0" cy="3124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3124080"/>
            <a:ext cx="0" cy="3124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180280" y="3124080"/>
            <a:ext cx="0" cy="3124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24480" y="3124080"/>
            <a:ext cx="1954440" cy="342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3048120"/>
            <a:ext cx="1736640" cy="342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AB5B-8078-4183-AE28-B000524A24C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80720" y="838080"/>
            <a:ext cx="6370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chool Summary Financial Info Scree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286000"/>
            <a:ext cx="868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RAILROAD COLLE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Direct Loan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ward Year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04-0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tity ID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234666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eginning Cash Balan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ash Receip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100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isbursement Amou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80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isbursement Adjustments Amou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-$5,00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efunds of Cas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15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nding Cash Balan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10,000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34320" y="5105520"/>
            <a:ext cx="108576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3962520"/>
            <a:ext cx="123192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15000" y="4952880"/>
            <a:ext cx="11574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638680" y="4419360"/>
            <a:ext cx="1230480" cy="759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7280" y="4724280"/>
            <a:ext cx="10861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3BBC-1228-4495-8780-CB9F86C3E5E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16240" y="1066680"/>
            <a:ext cx="6370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irect Loan School Account Statement (SAS) Repor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0880" y="26668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run from C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ed from mai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/Disburseme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53D9-9B76-4FB2-9166-90EFB90A832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iscussion Outline (continued)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3600" y="1600200"/>
            <a:ext cx="738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Reconcil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GAPS to request payments and manage your ca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ing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re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down adju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3FD3-42E5-4795-9199-BB66238736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80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AS – Year to date Cash Summary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0" t="0" r="0" b="2003"/>
          <a:stretch/>
        </p:blipFill>
        <p:spPr>
          <a:xfrm>
            <a:off x="380880" y="1523880"/>
            <a:ext cx="7925040" cy="45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FB9A-F495-4DC4-88A3-B9A36ED19F6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316240" y="457200"/>
            <a:ext cx="6370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AS – Monthly Cash Summary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0" t="0" r="0" b="3068"/>
          <a:stretch/>
        </p:blipFill>
        <p:spPr>
          <a:xfrm>
            <a:off x="304920" y="1447920"/>
            <a:ext cx="79898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5EB-99AB-45A5-83CD-B21246DC33F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316240" y="228600"/>
            <a:ext cx="6370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AS – Loan Detail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98440" y="1644480"/>
            <a:ext cx="8007480" cy="44514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1CE6-1C43-4026-BB6C-3695DAC1D90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5120" y="2133360"/>
            <a:ext cx="6370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he Department of Education’s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Grant Administration and Payment System  (GAPS)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449748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F5E-E878-4763-9723-460730A6351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GAPS link from COD web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61800" y="1676520"/>
            <a:ext cx="7963200" cy="44956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 flipH="1">
            <a:off x="5638320" y="4343400"/>
            <a:ext cx="160020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402-66E7-436B-9F8F-986432A2632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057400" y="11426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E-Payments Website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(http://e-grants.ed.gov)</a:t>
            </a:r>
            <a:br>
              <a:rPr sz="3600"/>
            </a:b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0010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C0C6-BDED-4D32-B0AF-8C504097C23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606400" y="304560"/>
            <a:ext cx="738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Logon to GAP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792504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1A35-BFC2-4EB3-BFD4-B29D983D60F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rawdown Reques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and program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only what you can disburse within 3 business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 requests - next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wire - sam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D2E-2E9D-470E-9AD7-93A50E581DB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822400" y="2895480"/>
            <a:ext cx="2824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981080"/>
            <a:ext cx="868680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in Men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air Care and Nail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3 Ventura Blvd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ollywood, CA 3122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ease select one of the following options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112920" y="3809880"/>
            <a:ext cx="2460600" cy="2476800"/>
            <a:chOff x="3112920" y="3809880"/>
            <a:chExt cx="2460600" cy="2476800"/>
          </a:xfrm>
        </p:grpSpPr>
        <p:grpSp>
          <p:nvGrpSpPr>
            <p:cNvPr id="250" name=""/>
            <p:cNvGrpSpPr/>
            <p:nvPr/>
          </p:nvGrpSpPr>
          <p:grpSpPr>
            <a:xfrm>
              <a:off x="3119040" y="3812040"/>
              <a:ext cx="2446920" cy="2471760"/>
              <a:chOff x="3119040" y="3812040"/>
              <a:chExt cx="2446920" cy="247176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3119040" y="3812040"/>
                <a:ext cx="2446920" cy="298080"/>
                <a:chOff x="3119040" y="3812040"/>
                <a:chExt cx="2446920" cy="2980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212640" y="3812040"/>
                  <a:ext cx="22597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Payment Request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119040" y="3812040"/>
                  <a:ext cx="244692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119040" y="4110120"/>
                <a:ext cx="2446920" cy="298440"/>
                <a:chOff x="3119040" y="4110120"/>
                <a:chExt cx="2446920" cy="2984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3212640" y="4110120"/>
                  <a:ext cx="22597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Report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119040" y="4110120"/>
                  <a:ext cx="2446920" cy="2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3119040" y="4408920"/>
                <a:ext cx="2446920" cy="298080"/>
                <a:chOff x="3119040" y="4408920"/>
                <a:chExt cx="2446920" cy="2980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3212640" y="4408920"/>
                  <a:ext cx="22597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Refund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19040" y="4408920"/>
                  <a:ext cx="244692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3119040" y="4707000"/>
                <a:ext cx="2446920" cy="383400"/>
                <a:chOff x="3119040" y="4707000"/>
                <a:chExt cx="2446920" cy="3834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3212640" y="4707000"/>
                  <a:ext cx="22597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Password Maintenance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119040" y="4707000"/>
                  <a:ext cx="2446920" cy="38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3119040" y="5090760"/>
                <a:ext cx="2446920" cy="298080"/>
                <a:chOff x="3119040" y="5090760"/>
                <a:chExt cx="2446920" cy="2980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3212640" y="5090760"/>
                  <a:ext cx="22597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User’s Guide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119040" y="5090760"/>
                  <a:ext cx="244692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119040" y="5389200"/>
                <a:ext cx="2446920" cy="298080"/>
                <a:chOff x="3119040" y="5389200"/>
                <a:chExt cx="2446920" cy="2980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212640" y="5389200"/>
                  <a:ext cx="22597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Select New Payee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119040" y="5389200"/>
                  <a:ext cx="244692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3119040" y="5687280"/>
                <a:ext cx="2446920" cy="298080"/>
                <a:chOff x="3119040" y="5687280"/>
                <a:chExt cx="2446920" cy="2980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3212640" y="5687280"/>
                  <a:ext cx="22597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Help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119040" y="5687280"/>
                  <a:ext cx="244692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3119040" y="5985720"/>
                <a:ext cx="2446920" cy="298080"/>
                <a:chOff x="3119040" y="5985720"/>
                <a:chExt cx="2446920" cy="2980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3212640" y="5985720"/>
                  <a:ext cx="22597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Exit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119040" y="5985720"/>
                  <a:ext cx="244692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5" name=""/>
            <p:cNvSpPr/>
            <p:nvPr/>
          </p:nvSpPr>
          <p:spPr>
            <a:xfrm>
              <a:off x="3112920" y="3809880"/>
              <a:ext cx="2460600" cy="2476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 flipH="1">
            <a:off x="5646600" y="3505320"/>
            <a:ext cx="144792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80720" y="1143000"/>
            <a:ext cx="6370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elect Payment Requests  from Main Menu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78" name=""/>
          <p:cNvSpPr/>
          <p:nvPr/>
        </p:nvSpPr>
        <p:spPr>
          <a:xfrm>
            <a:off x="3112920" y="3809880"/>
            <a:ext cx="2460960" cy="337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Payment Requests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5BA-3898-4DB5-888F-522C37AE2FF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53720" y="12189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elect Create Payment from Payment Requests Menu 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2714760" y="2438280"/>
          <a:ext cx="3152520" cy="3822840"/>
        </p:xfrm>
        <a:graphic>
          <a:graphicData uri="http://schemas.openxmlformats.org/drawingml/2006/table">
            <a:tbl>
              <a:tblPr/>
              <a:tblGrid>
                <a:gridCol w="3152520"/>
              </a:tblGrid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Payment Request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y Payment Request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 Payment Request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 Drawdown Amount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 Authorization History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Direct Loan Payment Request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y Direct Loan Payment Request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 Direct Loan Payment Request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  Direct Loan Drawdown Amount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 flipV="1">
            <a:off x="1374840" y="2742840"/>
            <a:ext cx="1085760" cy="10666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6079680" y="4647960"/>
            <a:ext cx="870120" cy="9903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6043-CC96-4417-A2A0-20AF6E0E5C0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UNDING OVERVIEW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365200" y="1679400"/>
            <a:ext cx="3954600" cy="349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C830-A7DB-4EDA-A0D7-5F737C9C4E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Enter Payment Amoun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34880" y="1676520"/>
            <a:ext cx="7890120" cy="46101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297480" y="4648320"/>
            <a:ext cx="1014480" cy="38088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600" y="3124080"/>
            <a:ext cx="21715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Payee DUNS  05546554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12680" y="4572000"/>
            <a:ext cx="1014480" cy="261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Times New Roman"/>
              </a:rPr>
              <a:t>P007A059999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12680" y="4952880"/>
            <a:ext cx="1014480" cy="261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Times New Roman"/>
              </a:rPr>
              <a:t>P063P059999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12680" y="5334120"/>
            <a:ext cx="1014480" cy="261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Times New Roman"/>
              </a:rPr>
              <a:t>P063P049999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12680" y="5715000"/>
            <a:ext cx="1014480" cy="261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Times New Roman"/>
              </a:rPr>
              <a:t>P063P039999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AD98-4B76-4877-9E46-F46812663FF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Electronic Refund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s to GAPS within 2 business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control over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directs from which bank account the money will be refu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refunds on one screen and at on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processing reduces human error and del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1638-5B09-42F0-9006-4CF366034E9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44240" y="609480"/>
            <a:ext cx="644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elect Refunds  from Main Menu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4" name=""/>
          <p:cNvSpPr/>
          <p:nvPr/>
        </p:nvSpPr>
        <p:spPr>
          <a:xfrm>
            <a:off x="2822400" y="2895480"/>
            <a:ext cx="2824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1981080"/>
            <a:ext cx="868680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in Men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air Care and Nail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3 Ventura Blvd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ollywood, CA 3122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ease select one of the following options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112920" y="3809880"/>
            <a:ext cx="2482560" cy="2476800"/>
            <a:chOff x="3112920" y="3809880"/>
            <a:chExt cx="2482560" cy="2476800"/>
          </a:xfrm>
        </p:grpSpPr>
        <p:grpSp>
          <p:nvGrpSpPr>
            <p:cNvPr id="297" name=""/>
            <p:cNvGrpSpPr/>
            <p:nvPr/>
          </p:nvGrpSpPr>
          <p:grpSpPr>
            <a:xfrm>
              <a:off x="3119400" y="3812040"/>
              <a:ext cx="2468880" cy="2471760"/>
              <a:chOff x="3119400" y="3812040"/>
              <a:chExt cx="2468880" cy="247176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3119400" y="3812040"/>
                <a:ext cx="2468880" cy="298080"/>
                <a:chOff x="3119400" y="3812040"/>
                <a:chExt cx="2468880" cy="2980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214080" y="3812040"/>
                  <a:ext cx="227988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Payment Request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119400" y="3812040"/>
                  <a:ext cx="246888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3119400" y="4110120"/>
                <a:ext cx="2468880" cy="298440"/>
                <a:chOff x="3119400" y="4110120"/>
                <a:chExt cx="2468880" cy="29844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3214080" y="4110120"/>
                  <a:ext cx="227988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Report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119400" y="4110120"/>
                  <a:ext cx="2468880" cy="2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3119400" y="4408920"/>
                <a:ext cx="2468880" cy="298080"/>
                <a:chOff x="3119400" y="4408920"/>
                <a:chExt cx="2468880" cy="2980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214080" y="4408920"/>
                  <a:ext cx="227988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Refund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119400" y="4408920"/>
                  <a:ext cx="246888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3119400" y="4707000"/>
                <a:ext cx="2468880" cy="383400"/>
                <a:chOff x="3119400" y="4707000"/>
                <a:chExt cx="2468880" cy="38340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3214080" y="4707000"/>
                  <a:ext cx="227988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Password Maintenance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119400" y="4707000"/>
                  <a:ext cx="2468880" cy="38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3119400" y="5090760"/>
                <a:ext cx="2468880" cy="298080"/>
                <a:chOff x="3119400" y="5090760"/>
                <a:chExt cx="2468880" cy="2980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3214080" y="5090760"/>
                  <a:ext cx="227988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User’s Guide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119400" y="5090760"/>
                  <a:ext cx="246888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3119400" y="5389200"/>
                <a:ext cx="2468880" cy="298080"/>
                <a:chOff x="3119400" y="5389200"/>
                <a:chExt cx="2468880" cy="2980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214080" y="5389200"/>
                  <a:ext cx="227988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Select New Payee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119400" y="5389200"/>
                  <a:ext cx="246888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3119400" y="5687280"/>
                <a:ext cx="2468880" cy="298080"/>
                <a:chOff x="3119400" y="5687280"/>
                <a:chExt cx="2468880" cy="29808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3214080" y="5687280"/>
                  <a:ext cx="227988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Help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119400" y="5687280"/>
                  <a:ext cx="246888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3119400" y="5985720"/>
                <a:ext cx="2468880" cy="298080"/>
                <a:chOff x="3119400" y="5985720"/>
                <a:chExt cx="2468880" cy="29808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3214080" y="5985720"/>
                  <a:ext cx="227988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Exit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119400" y="5985720"/>
                  <a:ext cx="246888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2" name=""/>
            <p:cNvSpPr/>
            <p:nvPr/>
          </p:nvSpPr>
          <p:spPr>
            <a:xfrm>
              <a:off x="3112920" y="3809880"/>
              <a:ext cx="2482560" cy="2476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112920" y="4419720"/>
            <a:ext cx="2460960" cy="358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72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Refun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646600" y="4114800"/>
            <a:ext cx="144792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E41E-1016-4CE2-99F9-C9457DE3726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057400" y="914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heck “refunds to open awards” and “initiate refunds”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6" name=""/>
          <p:cNvSpPr/>
          <p:nvPr/>
        </p:nvSpPr>
        <p:spPr>
          <a:xfrm>
            <a:off x="2822400" y="2971800"/>
            <a:ext cx="2968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2057400"/>
            <a:ext cx="86868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funds Men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air Care and Nail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3 Ventura Blvd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ollywood, CA 3122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ease select one of the following options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786040" y="3809880"/>
            <a:ext cx="3112920" cy="2667240"/>
            <a:chOff x="2786040" y="3809880"/>
            <a:chExt cx="3112920" cy="2667240"/>
          </a:xfrm>
        </p:grpSpPr>
        <p:grpSp>
          <p:nvGrpSpPr>
            <p:cNvPr id="329" name=""/>
            <p:cNvGrpSpPr/>
            <p:nvPr/>
          </p:nvGrpSpPr>
          <p:grpSpPr>
            <a:xfrm>
              <a:off x="2792160" y="3813840"/>
              <a:ext cx="3099240" cy="2658600"/>
              <a:chOff x="2792160" y="3813840"/>
              <a:chExt cx="3099240" cy="265860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2792160" y="3813840"/>
                <a:ext cx="3099240" cy="1016280"/>
                <a:chOff x="2792160" y="3813840"/>
                <a:chExt cx="3099240" cy="10162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2886480" y="3813840"/>
                  <a:ext cx="2910600" cy="101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buClr>
                      <a:srgbClr val="000066"/>
                    </a:buClr>
                    <a:buFont typeface="Wingdings" charset="2"/>
                    <a:buChar char="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Refunds to Open Award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buClr>
                      <a:srgbClr val="000066"/>
                    </a:buClr>
                    <a:buFont typeface="Wingdings" charset="2"/>
                    <a:buChar char="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Perkin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buClr>
                      <a:srgbClr val="000066"/>
                    </a:buClr>
                    <a:buFont typeface="Wingdings" charset="2"/>
                    <a:buChar char="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Interest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buClr>
                      <a:srgbClr val="000066"/>
                    </a:buClr>
                    <a:buFont typeface="Wingdings" charset="2"/>
                    <a:buChar char="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Refunds to Closed Award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792160" y="3813840"/>
                  <a:ext cx="3099240" cy="1016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2792160" y="4830120"/>
                <a:ext cx="3099240" cy="547200"/>
                <a:chOff x="2792160" y="4830120"/>
                <a:chExt cx="3099240" cy="5472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2886480" y="4830120"/>
                  <a:ext cx="291060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Initiate Refund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792160" y="4830120"/>
                  <a:ext cx="3099240" cy="5472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792160" y="5377680"/>
                <a:ext cx="3099240" cy="547200"/>
                <a:chOff x="2792160" y="5377680"/>
                <a:chExt cx="3099240" cy="54720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886480" y="5377680"/>
                  <a:ext cx="291060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Bank Account Maintenance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792160" y="5377680"/>
                  <a:ext cx="3099240" cy="5472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2792160" y="5925240"/>
                <a:ext cx="3099240" cy="547200"/>
                <a:chOff x="2792160" y="5925240"/>
                <a:chExt cx="3099240" cy="5472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886480" y="5925240"/>
                  <a:ext cx="291060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Refunds Report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792160" y="5925240"/>
                  <a:ext cx="3099240" cy="5472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2" name=""/>
            <p:cNvSpPr/>
            <p:nvPr/>
          </p:nvSpPr>
          <p:spPr>
            <a:xfrm>
              <a:off x="2786040" y="3809880"/>
              <a:ext cx="3112920" cy="26672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 flipV="1">
            <a:off x="1523880" y="3962160"/>
            <a:ext cx="1663920" cy="5331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935680" y="4038480"/>
            <a:ext cx="2100240" cy="8384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86040" y="4826160"/>
            <a:ext cx="3113280" cy="547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27432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Initiate Refun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35240" y="3809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4ED6-62E2-4A73-8A82-9DB40F91A821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wards and net draws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will be displayed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7925040" cy="42674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374840" y="3429000"/>
            <a:ext cx="1085760" cy="7621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6520" y="3657600"/>
            <a:ext cx="941400" cy="304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30720" y="3352680"/>
            <a:ext cx="26049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76720" y="3276720"/>
            <a:ext cx="19047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873A-18AF-4D44-A1B0-09AEE50618EE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738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Enter the amount(s) to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be refunded</a:t>
            </a: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438280" y="5410080"/>
            <a:ext cx="12193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4495680"/>
            <a:ext cx="1295280" cy="4572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1F3B-D071-4D87-9E19-E0A09445DDCB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0600" y="304560"/>
            <a:ext cx="5864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Refund Confirm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7925040" cy="44197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 flipH="1" flipV="1">
            <a:off x="6659280" y="4343400"/>
            <a:ext cx="1158840" cy="9144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02000" y="3581280"/>
            <a:ext cx="2244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A65-079D-455E-9977-0E752E1FB4D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33320" y="456840"/>
            <a:ext cx="596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rawdown Adjustmen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move more than has been dra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adjustment must equal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use adjustments as a substitute for returning excess ca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use adjustments to close out a year or bring your school’s cash balance to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D8C1-BEF2-4C32-80F6-F016441E7A8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659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elect Payment Requests from Main Menu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4" name=""/>
          <p:cNvSpPr/>
          <p:nvPr/>
        </p:nvSpPr>
        <p:spPr>
          <a:xfrm>
            <a:off x="2822400" y="2895480"/>
            <a:ext cx="2824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981080"/>
            <a:ext cx="868680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in Men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air Care and Nail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3 Ventura Blvd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ollywood, CA 3122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ease select one of the following options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112920" y="3809880"/>
            <a:ext cx="2460600" cy="2476800"/>
            <a:chOff x="3112920" y="3809880"/>
            <a:chExt cx="2460600" cy="2476800"/>
          </a:xfrm>
        </p:grpSpPr>
        <p:grpSp>
          <p:nvGrpSpPr>
            <p:cNvPr id="367" name=""/>
            <p:cNvGrpSpPr/>
            <p:nvPr/>
          </p:nvGrpSpPr>
          <p:grpSpPr>
            <a:xfrm>
              <a:off x="3119040" y="3812040"/>
              <a:ext cx="2446920" cy="2471760"/>
              <a:chOff x="3119040" y="3812040"/>
              <a:chExt cx="2446920" cy="247176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3119040" y="3812040"/>
                <a:ext cx="2446920" cy="298080"/>
                <a:chOff x="3119040" y="3812040"/>
                <a:chExt cx="2446920" cy="29808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3212640" y="3812040"/>
                  <a:ext cx="22597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Payment Request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3119040" y="3812040"/>
                  <a:ext cx="244692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3119040" y="4110120"/>
                <a:ext cx="2446920" cy="298440"/>
                <a:chOff x="3119040" y="4110120"/>
                <a:chExt cx="2446920" cy="2984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3212640" y="4110120"/>
                  <a:ext cx="22597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Report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119040" y="4110120"/>
                  <a:ext cx="2446920" cy="2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3119040" y="4408920"/>
                <a:ext cx="2446920" cy="298080"/>
                <a:chOff x="3119040" y="4408920"/>
                <a:chExt cx="2446920" cy="29808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3212640" y="4408920"/>
                  <a:ext cx="22597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Refund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119040" y="4408920"/>
                  <a:ext cx="244692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3119040" y="4707000"/>
                <a:ext cx="2446920" cy="383400"/>
                <a:chOff x="3119040" y="4707000"/>
                <a:chExt cx="2446920" cy="3834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3212640" y="4707000"/>
                  <a:ext cx="22597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Password Maintenance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119040" y="4707000"/>
                  <a:ext cx="2446920" cy="38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3119040" y="5090760"/>
                <a:ext cx="2446920" cy="298080"/>
                <a:chOff x="3119040" y="5090760"/>
                <a:chExt cx="2446920" cy="29808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3212640" y="5090760"/>
                  <a:ext cx="22597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User’s Guide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119040" y="5090760"/>
                  <a:ext cx="244692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3119040" y="5389200"/>
                <a:ext cx="2446920" cy="298080"/>
                <a:chOff x="3119040" y="5389200"/>
                <a:chExt cx="2446920" cy="29808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212640" y="5389200"/>
                  <a:ext cx="22597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Select New Payee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119040" y="5389200"/>
                  <a:ext cx="244692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119040" y="5687280"/>
                <a:ext cx="2446920" cy="298080"/>
                <a:chOff x="3119040" y="5687280"/>
                <a:chExt cx="2446920" cy="29808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212640" y="5687280"/>
                  <a:ext cx="22597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Help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119040" y="5687280"/>
                  <a:ext cx="244692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3119040" y="5985720"/>
                <a:ext cx="2446920" cy="298080"/>
                <a:chOff x="3119040" y="5985720"/>
                <a:chExt cx="2446920" cy="29808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3212640" y="5985720"/>
                  <a:ext cx="22597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Exit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3119040" y="5985720"/>
                  <a:ext cx="244692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2" name=""/>
            <p:cNvSpPr/>
            <p:nvPr/>
          </p:nvSpPr>
          <p:spPr>
            <a:xfrm>
              <a:off x="3112920" y="3809880"/>
              <a:ext cx="2460600" cy="2476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3112920" y="3809880"/>
            <a:ext cx="2460960" cy="339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182880" tIns="46800" bIns="1836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ayment Reques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665360" y="3962160"/>
            <a:ext cx="1447560" cy="5331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CE5F-7C38-42FA-92FA-C8EE602F504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809720" y="53316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elect for either Direct 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Loan or Pell adjustmen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96" name=""/>
          <p:cNvSpPr/>
          <p:nvPr/>
        </p:nvSpPr>
        <p:spPr>
          <a:xfrm>
            <a:off x="1736640" y="4343400"/>
            <a:ext cx="13762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1592280" y="3504960"/>
            <a:ext cx="1882800" cy="759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001000" cy="41720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158840" y="3886200"/>
            <a:ext cx="57780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l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09720" y="4114800"/>
            <a:ext cx="123048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42200" y="4038480"/>
            <a:ext cx="137628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 Loa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5646600" y="4495680"/>
            <a:ext cx="795600" cy="10670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66AE-6313-40D6-B78D-2E79088FF94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16240" y="304560"/>
            <a:ext cx="6370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unding Terminology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83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ing Term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  =   Current Funding Level (CF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PS =   Autho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OA =   Obl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tion and Disbursement Reco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Accepted and Posted Disbur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7266-F77E-411D-803E-F550805D0B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54080" y="4568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djustments between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years and/or campus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001000" cy="42670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57200" y="4048200"/>
            <a:ext cx="17524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4191120"/>
            <a:ext cx="16765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09680" y="4191120"/>
            <a:ext cx="914400" cy="17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466E-BC8E-4C01-B484-C09B6253A711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Enter the amounts to be adjusted and click “OK”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7925040" cy="42228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270320" y="4572000"/>
            <a:ext cx="1376280" cy="60948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20560" y="4113360"/>
            <a:ext cx="1752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3B83-34EC-4516-8422-1FB93AD6BBAB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361960" y="609480"/>
            <a:ext cx="5862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djustment Confirm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0" y="4876920"/>
            <a:ext cx="2968560" cy="53316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3967200"/>
            <a:ext cx="18288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81280" y="3962520"/>
            <a:ext cx="99072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4D84-BF97-4F95-BE9B-BA69B272469A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388960" y="685800"/>
            <a:ext cx="5862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GAPS Reports 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ative Activity by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 Activity by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und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list of refunds including confirmation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1590-4A87-4E5A-9CC2-241F8C9F0638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0" y="761760"/>
            <a:ext cx="5864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rom Main Menu select “Reports”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20" name=""/>
          <p:cNvSpPr/>
          <p:nvPr/>
        </p:nvSpPr>
        <p:spPr>
          <a:xfrm>
            <a:off x="2822400" y="2895480"/>
            <a:ext cx="2824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1905120"/>
            <a:ext cx="868680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in Men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air Care and Nail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3 Ventura Blvd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ollywood, CA 3122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ease select one of the following options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3112920" y="3809880"/>
            <a:ext cx="2533320" cy="2476800"/>
            <a:chOff x="3112920" y="3809880"/>
            <a:chExt cx="2533320" cy="2476800"/>
          </a:xfrm>
        </p:grpSpPr>
        <p:grpSp>
          <p:nvGrpSpPr>
            <p:cNvPr id="423" name=""/>
            <p:cNvGrpSpPr/>
            <p:nvPr/>
          </p:nvGrpSpPr>
          <p:grpSpPr>
            <a:xfrm>
              <a:off x="3119400" y="3812040"/>
              <a:ext cx="2519280" cy="2471760"/>
              <a:chOff x="3119400" y="3812040"/>
              <a:chExt cx="2519280" cy="247176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3119400" y="3812040"/>
                <a:ext cx="2519280" cy="298080"/>
                <a:chOff x="3119400" y="3812040"/>
                <a:chExt cx="2519280" cy="2980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3215880" y="3812040"/>
                  <a:ext cx="23263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Payment Request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19400" y="3812040"/>
                  <a:ext cx="251928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3119400" y="4110120"/>
                <a:ext cx="2519280" cy="298440"/>
                <a:chOff x="3119400" y="4110120"/>
                <a:chExt cx="2519280" cy="298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215880" y="4110120"/>
                  <a:ext cx="23263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Report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119400" y="4110120"/>
                  <a:ext cx="2519280" cy="2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3119400" y="4408920"/>
                <a:ext cx="2519280" cy="298080"/>
                <a:chOff x="3119400" y="4408920"/>
                <a:chExt cx="2519280" cy="2980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3215880" y="4408920"/>
                  <a:ext cx="23263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Refund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119400" y="4408920"/>
                  <a:ext cx="251928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3119400" y="4707000"/>
                <a:ext cx="2519280" cy="383400"/>
                <a:chOff x="3119400" y="4707000"/>
                <a:chExt cx="2519280" cy="38340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3215880" y="4707000"/>
                  <a:ext cx="23263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Password Maintenance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119400" y="4707000"/>
                  <a:ext cx="2519280" cy="38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3119400" y="5090760"/>
                <a:ext cx="2519280" cy="298080"/>
                <a:chOff x="3119400" y="5090760"/>
                <a:chExt cx="2519280" cy="2980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3215880" y="5090760"/>
                  <a:ext cx="23263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User’s Guide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119400" y="5090760"/>
                  <a:ext cx="251928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3119400" y="5389200"/>
                <a:ext cx="2519280" cy="298080"/>
                <a:chOff x="3119400" y="5389200"/>
                <a:chExt cx="2519280" cy="2980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215880" y="5389200"/>
                  <a:ext cx="23263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Select New Payee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119400" y="5389200"/>
                  <a:ext cx="251928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3119400" y="5687280"/>
                <a:ext cx="2519280" cy="298080"/>
                <a:chOff x="3119400" y="5687280"/>
                <a:chExt cx="2519280" cy="2980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3215880" y="5687280"/>
                  <a:ext cx="23263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Help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119400" y="5687280"/>
                  <a:ext cx="251928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119400" y="5985720"/>
                <a:ext cx="2519280" cy="298080"/>
                <a:chOff x="3119400" y="5985720"/>
                <a:chExt cx="2519280" cy="29808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215880" y="5985720"/>
                  <a:ext cx="23263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Exit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119400" y="5985720"/>
                  <a:ext cx="251928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8" name=""/>
            <p:cNvSpPr/>
            <p:nvPr/>
          </p:nvSpPr>
          <p:spPr>
            <a:xfrm>
              <a:off x="3112920" y="3809880"/>
              <a:ext cx="2533320" cy="2476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3124080" y="4114800"/>
            <a:ext cx="2522520" cy="339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1836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Repor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5717880" y="3505320"/>
            <a:ext cx="1447560" cy="685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76C-AB32-43D0-ADA3-5EA374341FC2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09680" y="609480"/>
            <a:ext cx="5864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elect “Activity Report”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52" name=""/>
          <p:cNvSpPr/>
          <p:nvPr/>
        </p:nvSpPr>
        <p:spPr>
          <a:xfrm>
            <a:off x="2244600" y="2590920"/>
            <a:ext cx="101304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7848720" cy="41911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2460600" y="3962520"/>
            <a:ext cx="941400" cy="3045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EDA1-2007-4FF0-9577-F5C583FA680F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6370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ctivity Report Selection Scree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7925040" cy="43434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2460600" y="4114800"/>
            <a:ext cx="1014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71600" y="4114800"/>
            <a:ext cx="1371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E14-5F40-4CE6-87AC-B624CA66CCF7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09320" y="609480"/>
            <a:ext cx="5862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ctivity Report - Cumulative Summary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60" name=""/>
          <p:cNvSpPr/>
          <p:nvPr/>
        </p:nvSpPr>
        <p:spPr>
          <a:xfrm>
            <a:off x="1521000" y="2514600"/>
            <a:ext cx="868320" cy="2286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076960" cy="441972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1452600" y="3657600"/>
            <a:ext cx="1066680" cy="146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443221234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5147-4D62-4546-BDF9-C98E70F625B3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209680" y="609480"/>
            <a:ext cx="5864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ctivity Report - Record Detail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7925040" cy="43434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817640" y="2960640"/>
            <a:ext cx="776160" cy="13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95CF-FA52-43BA-A803-996681B95B3B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04760" y="1066680"/>
            <a:ext cx="5864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elect Refunds Report from Reports Menu</a:t>
            </a:r>
            <a:br>
              <a:rPr sz="3200"/>
            </a:b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67" name=""/>
          <p:cNvSpPr/>
          <p:nvPr/>
        </p:nvSpPr>
        <p:spPr>
          <a:xfrm>
            <a:off x="2678040" y="3048120"/>
            <a:ext cx="32576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7925040" cy="41911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 flipH="1">
            <a:off x="5140080" y="4191120"/>
            <a:ext cx="1447560" cy="3045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06B2-38B3-4598-BD6A-F1C89E92C647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27160" y="-36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  </a:t>
            </a: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unding Basic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760" y="133344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ing based on actual disbur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day r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s submitted up to 7 days in advance of disbursement date can trigger change in 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Management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day reporting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Day cash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ly reconciliation (DL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5880" y="4114800"/>
            <a:ext cx="224172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522D-7B2D-4F29-B291-B36DFA02E9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057040" y="457200"/>
            <a:ext cx="5862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Refund Repor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7925040" cy="426744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3330720" y="3048120"/>
            <a:ext cx="1954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0AA-B7A0-47F9-A36D-36F2B4B0A9E1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GAPS Acces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34880" y="2209320"/>
            <a:ext cx="79185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 5 user IDs of each access per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 form off e-payment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x completed form to GA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2-205-072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BC00-2718-450C-A957-FA8E103AC40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GAPS Helpdesk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61800" y="35812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888-336-89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desk hours of operation are 8 a.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6 p.m. Monday through Friday, 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4757760" y="968400"/>
            <a:ext cx="3660840" cy="32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4DD7-57CD-4D29-8589-60AB975177EE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1374840" y="2362320"/>
            <a:ext cx="550224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Questions ???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463E-DECE-4289-8945-0FE2D1B5909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98800" y="761760"/>
            <a:ext cx="6370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Reconciliation  Defined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9240" y="2133360"/>
            <a:ext cx="7383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Funding/Student Data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Funding/Student Data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 C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Goal:  School Financial Aid Office/Business Office data matches the Department’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E1C7-B37E-46F5-86AA-0E5E9B7796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ell Grant  CFL Proces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65280" y="1981080"/>
            <a:ext cx="7356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CFL created in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FL level in  GAPS is not increased until initial CFL has been exc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cannot draw cash in GAPS that exceeds their CF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63A1-C058-43A1-8C4E-59D1CDD4664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ell Funding in COD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880" y="2286000"/>
            <a:ext cx="738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FL level in  GAPS is not increased until initial CFL has been exc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bursement Release Indicator (D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submit disbursement records to COD that adjusts CFL within 7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44C2-3FB2-4ED7-9F08-724D1605482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04-05T15:11:14Z</dcterms:modified>
  <cp:revision>99</cp:revision>
  <dc:subject/>
  <dc:title>PowerPoint Presentation</dc:title>
</cp:coreProperties>
</file>