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3.wmf" ContentType="image/x-wmf"/>
  <Override PartName="/ppt/media/image26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86868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B55-9102-4E70-B554-9F087BC1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50880" y="3942000"/>
            <a:ext cx="73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797-E2EC-46A0-BD8D-3FD60DC6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880" y="394200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435200" y="394200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EB6E-8697-4E5A-A173-C2DD32A6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47840" y="175248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45160" y="175248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50880" y="394200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47840" y="394200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45160" y="394200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ED2-7868-4391-9286-1514398E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2615-3406-4B82-81A8-F98BB721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15CD-F9DD-43B9-B714-83F084E2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D68E-9ED2-475A-8513-C212391D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26C1-84C0-499F-8A1E-33D441D3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D6D3-2F5F-405A-81D6-EBEF2534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953720" y="533160"/>
            <a:ext cx="6370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749D-A046-4EB8-92DD-E3449825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0880" y="394200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309B-203E-4EDB-B767-5F2815FA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449-8118-49F2-9E4A-B1CD2960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435200" y="394200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5461-74A2-401C-A0CF-B77A73FA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880" y="3942000"/>
            <a:ext cx="73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B1C8-C757-4701-8CEB-8ECA6917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50880" y="3942000"/>
            <a:ext cx="73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7603-CD13-41D7-9EE8-DE36A395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880" y="394200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435200" y="394200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16AB-8407-4E84-8929-AAB57D62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47840" y="175248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45160" y="175248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50880" y="394200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47840" y="394200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45160" y="3942000"/>
            <a:ext cx="2377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BDDD-744B-4224-9816-BDD6C6C6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DB2-DFBF-4DF2-8F43-A8F7327A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DE1-1D5C-468C-8FCF-9623D351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733-20DB-4610-9643-6CA660F3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953720" y="533160"/>
            <a:ext cx="6370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819-B8BD-4CC3-95FD-30814E2A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0880" y="394200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8B3D-6052-4A5D-9A8D-7479854D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35200" y="394200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205-5954-467A-B4B7-1B870988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35200" y="1752480"/>
            <a:ext cx="3603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880" y="3942000"/>
            <a:ext cx="73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A159-CDFD-47C0-82C6-67B0FBBA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68120" y="230040"/>
            <a:ext cx="192960" cy="6504120"/>
            <a:chOff x="168120" y="230040"/>
            <a:chExt cx="192960" cy="6504120"/>
          </a:xfrm>
        </p:grpSpPr>
        <p:sp>
          <p:nvSpPr>
            <p:cNvPr id="1" name=""/>
            <p:cNvSpPr/>
            <p:nvPr/>
          </p:nvSpPr>
          <p:spPr>
            <a:xfrm flipH="1">
              <a:off x="288360" y="257040"/>
              <a:ext cx="723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8120" y="230040"/>
              <a:ext cx="727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353440" y="220680"/>
            <a:ext cx="188640" cy="6408000"/>
            <a:chOff x="8353440" y="220680"/>
            <a:chExt cx="18864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477280" y="220680"/>
              <a:ext cx="648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353440" y="379800"/>
              <a:ext cx="7416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392040" y="6476400"/>
            <a:ext cx="8251920" cy="229320"/>
            <a:chOff x="392040" y="6476400"/>
            <a:chExt cx="825192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479840" y="2387880"/>
              <a:ext cx="75960" cy="825192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391280" y="2629800"/>
              <a:ext cx="76320" cy="80751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3080" y="176040"/>
            <a:ext cx="8307360" cy="161280"/>
            <a:chOff x="73080" y="176040"/>
            <a:chExt cx="830736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300920" y="-3741840"/>
              <a:ext cx="58680" cy="809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196520" y="-3947400"/>
              <a:ext cx="60480" cy="8307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68400" y="176040"/>
            <a:ext cx="8307360" cy="161280"/>
            <a:chOff x="68400" y="176040"/>
            <a:chExt cx="830736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296600" y="-3741840"/>
              <a:ext cx="58680" cy="809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191840" y="-3947400"/>
              <a:ext cx="60480" cy="8307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34520" y="6019920"/>
            <a:ext cx="180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52EA-4FD7-4940-AD1D-69BB7AB8A5D2}" type="datetime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968560" y="6019920"/>
            <a:ext cx="274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14920" y="6019920"/>
            <a:ext cx="180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94F4-2F20-4ADF-AE65-5CA867F75EA8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springlogo_md" descr=""/>
          <p:cNvPicPr/>
          <p:nvPr/>
        </p:nvPicPr>
        <p:blipFill>
          <a:blip r:embed="rId2"/>
          <a:stretch/>
        </p:blipFill>
        <p:spPr>
          <a:xfrm>
            <a:off x="434880" y="428760"/>
            <a:ext cx="144144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68120" y="230040"/>
            <a:ext cx="192960" cy="6504120"/>
            <a:chOff x="168120" y="230040"/>
            <a:chExt cx="192960" cy="6504120"/>
          </a:xfrm>
        </p:grpSpPr>
        <p:sp>
          <p:nvSpPr>
            <p:cNvPr id="58" name=""/>
            <p:cNvSpPr/>
            <p:nvPr/>
          </p:nvSpPr>
          <p:spPr>
            <a:xfrm flipH="1">
              <a:off x="288360" y="257040"/>
              <a:ext cx="723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8120" y="230040"/>
              <a:ext cx="727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353440" y="220680"/>
            <a:ext cx="188640" cy="6408000"/>
            <a:chOff x="8353440" y="220680"/>
            <a:chExt cx="18864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477280" y="220680"/>
              <a:ext cx="648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353440" y="379800"/>
              <a:ext cx="7416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92040" y="6476400"/>
            <a:ext cx="8251920" cy="229320"/>
            <a:chOff x="392040" y="6476400"/>
            <a:chExt cx="825192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479840" y="2387880"/>
              <a:ext cx="75960" cy="825192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391280" y="2629800"/>
              <a:ext cx="76320" cy="80751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3080" y="176040"/>
            <a:ext cx="8307360" cy="161280"/>
            <a:chOff x="73080" y="176040"/>
            <a:chExt cx="830736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300920" y="-3741840"/>
              <a:ext cx="58680" cy="809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196520" y="-3947400"/>
              <a:ext cx="60480" cy="8307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880" y="1980720"/>
            <a:ext cx="738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17240" y="5989680"/>
            <a:ext cx="180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E039-6DBC-4242-8BD3-F2475C039C5A}" type="datetime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2978280" y="6002280"/>
            <a:ext cx="275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460920" y="5978520"/>
            <a:ext cx="180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1E4E-DF5F-4FB0-A9CF-307CBB617FE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34160" y="1604520"/>
            <a:ext cx="781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2590920"/>
            <a:ext cx="738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Session #13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Using COD and GAPS to Reconcile Pell Grant and Direct Loan Program Funds</a:t>
            </a: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03200" y="5257440"/>
            <a:ext cx="6080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hony Laing, George Karayianis and Tremayne Co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05200" y="1066680"/>
            <a:ext cx="3475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springlogo_md" descr=""/>
          <p:cNvPicPr/>
          <p:nvPr/>
        </p:nvPicPr>
        <p:blipFill>
          <a:blip r:embed="rId1"/>
          <a:stretch/>
        </p:blipFill>
        <p:spPr>
          <a:xfrm>
            <a:off x="434880" y="428760"/>
            <a:ext cx="2678040" cy="152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B1B2-A44E-4015-A214-80EE0D5E778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370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 Black"/>
              </a:rPr>
              <a:t>Pell Processing Example: </a:t>
            </a:r>
            <a:r>
              <a:rPr b="0" i="1" lang="en-US" sz="3500" spc="-1" strike="noStrike">
                <a:solidFill>
                  <a:srgbClr val="000066"/>
                </a:solidFill>
                <a:latin typeface="Arial Black"/>
              </a:rPr>
              <a:t>Initial CFL of $5 Million</a:t>
            </a:r>
            <a:endParaRPr b="0" lang="en-US" sz="35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16080" y="1447920"/>
          <a:ext cx="8054640" cy="4689360"/>
        </p:xfrm>
        <a:graphic>
          <a:graphicData uri="http://schemas.openxmlformats.org/drawingml/2006/table">
            <a:tbl>
              <a:tblPr/>
              <a:tblGrid>
                <a:gridCol w="1703160"/>
                <a:gridCol w="1604880"/>
                <a:gridCol w="1067040"/>
                <a:gridCol w="871560"/>
                <a:gridCol w="914400"/>
                <a:gridCol w="1893600"/>
              </a:tblGrid>
              <a:tr h="105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Dat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b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L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mits actual disb of $2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0/0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2/0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FL adjustmen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ew ESOA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mits anticipated disb of $4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/0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5/0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FL adjustmen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ew ESOA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updates DRI of T for disb of $4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08/0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5/0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L adjustment on 1/8/04 of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M Current CFL of $6M New ESOA  of  $6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F45-4BB7-46EB-92A8-18F81FD7E8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370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 Black"/>
              </a:rPr>
              <a:t>Pell Processing Example: </a:t>
            </a:r>
            <a:r>
              <a:rPr b="0" i="1" lang="en-US" sz="3500" spc="-1" strike="noStrike">
                <a:solidFill>
                  <a:srgbClr val="000066"/>
                </a:solidFill>
                <a:latin typeface="Arial Black"/>
              </a:rPr>
              <a:t>Initial CFL of $5 Million</a:t>
            </a:r>
            <a:endParaRPr b="0" lang="en-US" sz="35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0880" y="1371600"/>
          <a:ext cx="7925040" cy="4881600"/>
        </p:xfrm>
        <a:graphic>
          <a:graphicData uri="http://schemas.openxmlformats.org/drawingml/2006/table">
            <a:tbl>
              <a:tblPr/>
              <a:tblGrid>
                <a:gridCol w="1676520"/>
                <a:gridCol w="1469880"/>
                <a:gridCol w="1214640"/>
                <a:gridCol w="971640"/>
                <a:gridCol w="973080"/>
                <a:gridCol w="1619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Dat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b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L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mits actual disb of $2M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0/0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2/0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FL adjustment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ew ESOA</a:t>
                      </a:r>
                      <a:endParaRPr b="0" lang="en-US" sz="17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mits anticipated disb of $4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0/0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0/0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L adjustment on 10/13/03 of $1M Current CFL of 6M New ESOA of $6M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mits adjustment of  $100K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/0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5/0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9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L adjustment on 2/2/04 of $100K Current CFL of $5.9M New ESOA of $5.9M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C6A-BB4D-4923-BF5A-4AC08079E5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5880" y="914040"/>
            <a:ext cx="553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ell Daily CFL Adjustme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4120" y="1980720"/>
            <a:ext cx="7918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submit disbursement increas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s throughout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Over-award Project (P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58D-2486-4743-9CD9-2EBE1B854CC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98440" y="990360"/>
            <a:ext cx="5864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ell Global CFL Reduction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3600" y="2133360"/>
            <a:ext cx="7383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for “W” Verification (Apr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to level of accepted and posted disbursement records (M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to level of net GAPS drawdowns (end of second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99E-FDE2-4480-8238-B79B5F99429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33320" y="5331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ell Funding Reconcili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   CFL    =    Disb Records  =    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D)            (COD)               (GAPS)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293840" y="13730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3840" y="13730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307800" y="2971800"/>
            <a:ext cx="8071200" cy="2514600"/>
            <a:chOff x="307800" y="2971800"/>
            <a:chExt cx="8071200" cy="2514600"/>
          </a:xfrm>
        </p:grpSpPr>
        <p:sp>
          <p:nvSpPr>
            <p:cNvPr id="144" name=""/>
            <p:cNvSpPr/>
            <p:nvPr/>
          </p:nvSpPr>
          <p:spPr>
            <a:xfrm>
              <a:off x="6177600" y="4857840"/>
              <a:ext cx="220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36280" y="4857840"/>
              <a:ext cx="26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55200" y="4857840"/>
              <a:ext cx="19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800" y="4857840"/>
              <a:ext cx="124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77600" y="4229280"/>
              <a:ext cx="220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50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36280" y="4229280"/>
              <a:ext cx="26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75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55200" y="4229280"/>
              <a:ext cx="19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50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7800" y="42292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/0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77600" y="3600720"/>
              <a:ext cx="220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50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36280" y="3600720"/>
              <a:ext cx="26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75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55200" y="3600720"/>
              <a:ext cx="19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75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7800" y="36007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/0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7600" y="2971800"/>
              <a:ext cx="220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50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36280" y="2971800"/>
              <a:ext cx="26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75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55200" y="2971800"/>
              <a:ext cx="19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1,000,000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7800" y="29718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1/0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7800" y="2971800"/>
              <a:ext cx="8071200" cy="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7800" y="3600720"/>
              <a:ext cx="8071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800" y="4229280"/>
              <a:ext cx="8071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7800" y="4857840"/>
              <a:ext cx="8071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7800" y="5486400"/>
              <a:ext cx="8071200" cy="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7800" y="2971800"/>
              <a:ext cx="0" cy="251460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55200" y="2971800"/>
              <a:ext cx="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36280" y="2971800"/>
              <a:ext cx="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77600" y="2971800"/>
              <a:ext cx="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79000" y="2971800"/>
              <a:ext cx="0" cy="251460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5C3-1EDE-4952-B493-A6E510DE52C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ell Reconciliation Tools 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Year to Dat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Reconcili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Pending Disburse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ES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cr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Web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391-A786-40DF-BD45-374F766FD6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54080" y="456840"/>
            <a:ext cx="61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lectronic Statement of Account (ESOA)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8240" y="1599840"/>
            <a:ext cx="7918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APS AWARD NUMBER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063P0344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evious Pell Grant Oblig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5,000,00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Pell Grant Oblig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6,000,00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(Increase + or Decrease -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1,000,000.00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evious Pell Grant Obligation/Pay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Pell Grant Obligation/Pay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(Increase + or Decrease -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APS Drawdowns/Payments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5,000,00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Last Activity in G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/06/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TD Total Unduplicated Recipi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,5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TD Pell Accepted and Posted Disbursement Amou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6,000,00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TD Administrative Cost Allow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$7,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s of Document ID/Batch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031234561999010112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yments Apply only to “:Obligate/Pay” Account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512-0653-4169-84FD-94298D34CAD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chool Funding Info Web Screen (Pell)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506520" y="2133720"/>
            <a:ext cx="86868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MOELLER UNIVERSI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unding Inform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Pell Gran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ward Year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03-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tity I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2333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CF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2,00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CF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6,00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evious CF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5,00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FL Adjust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1,00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vailable Bala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   50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t Accepted &amp; Posted Disbursemen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6,000,000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t Drawdow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5,00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otal Unduplicated Recipients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15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6A5-B8F3-4D17-A09E-4E28A4E3446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16240" y="838080"/>
            <a:ext cx="6370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Ongoing Pell Reconcili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880" y="26668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Aid Office and Business Office reconcile as of September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deadline adjustments (after 9/30 – administrative relief, audits, decre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F03-A80D-45F1-8C5A-CF0054F2A6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6240" y="457200"/>
            <a:ext cx="6370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Negative Available Balances -- exampl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303200" y="1461960"/>
          <a:ext cx="6659640" cy="4542120"/>
        </p:xfrm>
        <a:graphic>
          <a:graphicData uri="http://schemas.openxmlformats.org/drawingml/2006/table">
            <a:tbl>
              <a:tblPr/>
              <a:tblGrid>
                <a:gridCol w="2822760"/>
                <a:gridCol w="2027160"/>
                <a:gridCol w="18097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L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le Balance in GAPS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mits $5,000,000 in disbursement records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,00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mits $5,000 negative adjustment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,995,00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,000)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653-410F-4FCA-ABDE-FBB0C0E23D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iscussion Outlin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-day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management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l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B65-5891-4B6D-8042-127A13A90F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53720" y="9903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How to Resolve Negative Balan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3600" y="2438280"/>
            <a:ext cx="738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nd the 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the draw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the C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B7D-9AD7-4748-93E8-17D7887292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908520" y="5791320"/>
            <a:ext cx="17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520" y="1143000"/>
            <a:ext cx="680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irect Loan reconciliation versus end of year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oseou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880" y="228600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Reconcil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of comparing your internal records with the Department’s to identify and resolve outstanding discrepan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Accepted and Posted disbursements =GAPS net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ing Cash Balance (ECB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A11-F000-49DF-9E09-D27DEA3FDA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16360" y="5638680"/>
            <a:ext cx="37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et cash                 Net disb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82800" y="609480"/>
            <a:ext cx="6369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When are you closed out for the award year? 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4880" y="1676160"/>
            <a:ext cx="7383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finished processing, your loan records match the Departments, and your net disburs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net ca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d (z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scales" descr=""/>
          <p:cNvPicPr/>
          <p:nvPr/>
        </p:nvPicPr>
        <p:blipFill>
          <a:blip r:embed="rId1"/>
          <a:stretch/>
        </p:blipFill>
        <p:spPr>
          <a:xfrm>
            <a:off x="3546360" y="3281400"/>
            <a:ext cx="4272120" cy="2179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V="1">
            <a:off x="3692520" y="5486400"/>
            <a:ext cx="0" cy="533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674120" y="5486400"/>
            <a:ext cx="0" cy="533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372E-499B-4EDF-9ED4-98C5B3F41A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53720" y="9903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Your Ending Cash Balance Equ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506520" y="2517840"/>
            <a:ext cx="1476360" cy="138096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ginn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04960" y="2517840"/>
            <a:ext cx="1476360" cy="138096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eip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02320" y="2517840"/>
            <a:ext cx="1476360" cy="138096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fund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21040" y="2777760"/>
            <a:ext cx="55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25960" y="2569680"/>
            <a:ext cx="56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87880" y="4410000"/>
            <a:ext cx="1478160" cy="1381320"/>
          </a:xfrm>
          <a:prstGeom prst="rect">
            <a:avLst/>
          </a:prstGeom>
          <a:noFill/>
          <a:ln w="101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h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00640" y="4669920"/>
            <a:ext cx="56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440" y="4410000"/>
            <a:ext cx="1476360" cy="138132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ownwar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just-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14800" y="4669920"/>
            <a:ext cx="56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97040" y="4410000"/>
            <a:ext cx="1476360" cy="138132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war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just-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20680" y="4462200"/>
            <a:ext cx="55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10480" y="2505240"/>
            <a:ext cx="1476360" cy="138096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sburse-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34120" y="2557080"/>
            <a:ext cx="56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CA7-773E-4EAF-A467-A6096E2E2F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400" y="1371600"/>
            <a:ext cx="6370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D and GAPS Tools to help reconcile Direct Loan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12680" y="2743200"/>
            <a:ext cx="738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Funding Web scr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(C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4B6-1B82-42C8-8512-BBEC935E20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27160" y="838080"/>
            <a:ext cx="6370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D Webscreen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880" y="2438280"/>
            <a:ext cx="738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Financial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2A4-6F75-492F-801E-DFD631691A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chool Funding Info Web Screen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0" name=""/>
          <p:cNvSpPr/>
          <p:nvPr/>
        </p:nvSpPr>
        <p:spPr>
          <a:xfrm>
            <a:off x="506520" y="2133720"/>
            <a:ext cx="868680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EDUCATION UNIVERSI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unding Inf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Direct Loan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ward Year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04-0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tity I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2333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CF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56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CF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20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vailable Bala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15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sh &gt; Net Accepted &amp; Posted Disbursemen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t Accepted &amp; Posted Disbursemen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185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t Drawdow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185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isbursement To Drawdown Rati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0000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5181480"/>
            <a:ext cx="11588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4876920"/>
            <a:ext cx="1158840" cy="3045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CA6-9FCB-4CD1-B9EB-682E776FA75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ash Activity Scree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361800" y="1905120"/>
            <a:ext cx="86868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HIYA UNIVERS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Direct Loan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ward Yea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04-0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et Draw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$30,00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ash &gt; Accepted &amp; Posted Disbursements &amp; older than 30 days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otal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ate of Transac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/23/0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Time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1:35P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rawdown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30,000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2,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rawdown adjustme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efund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1,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eturn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ays for On-time reportin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yment Control Numb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200310232122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ccepted &amp; Posted Disbursements Applie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20,000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0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ash &gt; Accepted &amp; Posted Disburseme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$10,00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 Syste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AP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53120" y="3124080"/>
            <a:ext cx="0" cy="3124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3124080"/>
            <a:ext cx="0" cy="3124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80280" y="3124080"/>
            <a:ext cx="0" cy="3124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4480" y="3124080"/>
            <a:ext cx="1954440" cy="342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3048120"/>
            <a:ext cx="1736640" cy="342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687-0779-479B-87A9-584C9B41216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80720" y="838080"/>
            <a:ext cx="6370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chool Summary Financial Info Scree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286000"/>
            <a:ext cx="86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RAILROAD COLLE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Direct Loan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ward Year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04-0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tity ID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234666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eginning Cash Bala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sh Receip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10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isbursement Amou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80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isbursement Adjustments Amou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-$5,00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funds of Cas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15,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ding Cash Bala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$10,000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34320" y="5105520"/>
            <a:ext cx="108576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3962520"/>
            <a:ext cx="123192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15000" y="4952880"/>
            <a:ext cx="11574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638680" y="4419360"/>
            <a:ext cx="1230480" cy="75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4724280"/>
            <a:ext cx="10861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0AC-1C3C-48E5-8583-D3739C76BA4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6240" y="1066680"/>
            <a:ext cx="6370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irect Loan School Account Statement (SAS) Repor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0880" y="26668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run from C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ed from m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/Disburseme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288-A029-46A2-B219-E92B5F61D8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iscussion Outline (continued)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3600" y="1600200"/>
            <a:ext cx="738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Reconcil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GAPS to request payments and manage your ca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ing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re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down adju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5D0-CC98-4BE5-A25F-65158A3DFF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AS – Year to date Cash Summary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0" r="0" b="2003"/>
          <a:stretch/>
        </p:blipFill>
        <p:spPr>
          <a:xfrm>
            <a:off x="380880" y="1523880"/>
            <a:ext cx="792504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9F1-C68C-4E78-B5E6-07146476249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16240" y="457200"/>
            <a:ext cx="6370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AS – Monthly Cash Summary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0" r="0" b="3068"/>
          <a:stretch/>
        </p:blipFill>
        <p:spPr>
          <a:xfrm>
            <a:off x="304920" y="1447920"/>
            <a:ext cx="79898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A66-28E2-4502-9E81-3ED8A849EC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316240" y="228600"/>
            <a:ext cx="6370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AS – Loan Detail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98440" y="1644480"/>
            <a:ext cx="8007480" cy="44514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F7E-39A3-4195-9BDB-04AE93941E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5120" y="2133360"/>
            <a:ext cx="6370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he Department of Education’s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Grant Administration and Payment System  (GAPS)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49748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431-B57A-4BD1-8249-637F3579C0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GAPS link from COD web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61800" y="1676520"/>
            <a:ext cx="7963200" cy="4495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 flipH="1">
            <a:off x="5638320" y="4343400"/>
            <a:ext cx="160020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18C-DB5C-4ED9-B500-D1A33252A4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57400" y="11426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-Payments Website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(http://e-grants.ed.gov)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2AB5-3C67-4167-8EF0-7876975A5AD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606400" y="304560"/>
            <a:ext cx="738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Logon to GAP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9250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B03-023D-4303-AA56-0B9C613EBB8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rawdown Reques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and program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only what you can disburse within 3 business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 requests - nex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wire - sam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68C-5C86-4548-BAE0-35C1A138102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822400" y="2895480"/>
            <a:ext cx="2824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981080"/>
            <a:ext cx="868680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in Men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air Care and Nail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3 Ventura Blvd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llywood, CA 3122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ease select one of the following options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112920" y="3809880"/>
            <a:ext cx="2460600" cy="2476800"/>
            <a:chOff x="3112920" y="3809880"/>
            <a:chExt cx="2460600" cy="2476800"/>
          </a:xfrm>
        </p:grpSpPr>
        <p:grpSp>
          <p:nvGrpSpPr>
            <p:cNvPr id="250" name=""/>
            <p:cNvGrpSpPr/>
            <p:nvPr/>
          </p:nvGrpSpPr>
          <p:grpSpPr>
            <a:xfrm>
              <a:off x="3119040" y="3812040"/>
              <a:ext cx="2446920" cy="2471760"/>
              <a:chOff x="3119040" y="3812040"/>
              <a:chExt cx="2446920" cy="247176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3119040" y="3812040"/>
                <a:ext cx="2446920" cy="298080"/>
                <a:chOff x="3119040" y="3812040"/>
                <a:chExt cx="2446920" cy="2980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212640" y="381204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ayment Request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119040" y="381204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119040" y="4110120"/>
                <a:ext cx="2446920" cy="298440"/>
                <a:chOff x="3119040" y="4110120"/>
                <a:chExt cx="2446920" cy="2984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212640" y="4110120"/>
                  <a:ext cx="22597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port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119040" y="4110120"/>
                  <a:ext cx="2446920" cy="2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3119040" y="4408920"/>
                <a:ext cx="2446920" cy="298080"/>
                <a:chOff x="3119040" y="4408920"/>
                <a:chExt cx="2446920" cy="2980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3212640" y="440892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fund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19040" y="440892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3119040" y="4707000"/>
                <a:ext cx="2446920" cy="383400"/>
                <a:chOff x="3119040" y="4707000"/>
                <a:chExt cx="2446920" cy="3834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212640" y="4707000"/>
                  <a:ext cx="22597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assword Maintenanc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119040" y="4707000"/>
                  <a:ext cx="2446920" cy="38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3119040" y="5090760"/>
                <a:ext cx="2446920" cy="298080"/>
                <a:chOff x="3119040" y="5090760"/>
                <a:chExt cx="2446920" cy="2980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3212640" y="509076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User’s Guid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119040" y="509076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119040" y="5389200"/>
                <a:ext cx="2446920" cy="298080"/>
                <a:chOff x="3119040" y="5389200"/>
                <a:chExt cx="2446920" cy="2980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212640" y="538920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Select New Paye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119040" y="538920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3119040" y="5687280"/>
                <a:ext cx="2446920" cy="298080"/>
                <a:chOff x="3119040" y="5687280"/>
                <a:chExt cx="2446920" cy="2980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3212640" y="568728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Help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119040" y="568728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3119040" y="5985720"/>
                <a:ext cx="2446920" cy="298080"/>
                <a:chOff x="3119040" y="5985720"/>
                <a:chExt cx="2446920" cy="2980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3212640" y="598572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Exit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119040" y="598572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" name=""/>
            <p:cNvSpPr/>
            <p:nvPr/>
          </p:nvSpPr>
          <p:spPr>
            <a:xfrm>
              <a:off x="3112920" y="3809880"/>
              <a:ext cx="2460600" cy="2476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flipH="1">
            <a:off x="5646600" y="3505320"/>
            <a:ext cx="144792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80720" y="1143000"/>
            <a:ext cx="6370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lect Payment Requests  from Main Menu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78" name=""/>
          <p:cNvSpPr/>
          <p:nvPr/>
        </p:nvSpPr>
        <p:spPr>
          <a:xfrm>
            <a:off x="3112920" y="3809880"/>
            <a:ext cx="2460960" cy="337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Payment Requests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D07-7C31-4E01-8ADC-426B927AC14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53720" y="12189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lect Create Payment from Payment Requests Menu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714760" y="2438280"/>
          <a:ext cx="3152520" cy="3822840"/>
        </p:xfrm>
        <a:graphic>
          <a:graphicData uri="http://schemas.openxmlformats.org/drawingml/2006/table">
            <a:tbl>
              <a:tblPr/>
              <a:tblGrid>
                <a:gridCol w="3152520"/>
              </a:tblGrid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Payment Reques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y Payment Reques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 Payment Reques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 Drawdown Amoun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 Authorization Histor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Direct Loan Payment Reques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y Direct Loan Payment Reques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 Direct Loan Payment Reques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  Direct Loan Drawdown Amoun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 flipV="1">
            <a:off x="1374840" y="2742840"/>
            <a:ext cx="1085760" cy="10666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6079680" y="4647960"/>
            <a:ext cx="870120" cy="9903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50D9-2654-4DD8-A9A1-95876CA9B96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UNDING OVERVIEW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65200" y="1679400"/>
            <a:ext cx="3954600" cy="34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743-78A3-4D5C-8F38-EE8A27AD01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nter Payment Amoun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34880" y="1676520"/>
            <a:ext cx="7890120" cy="46101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297480" y="4648320"/>
            <a:ext cx="1014480" cy="3808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" y="3124080"/>
            <a:ext cx="21715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Payee DUNS  05546554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12680" y="4572000"/>
            <a:ext cx="1014480" cy="261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Times New Roman"/>
              </a:rPr>
              <a:t>P007A059999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12680" y="4952880"/>
            <a:ext cx="1014480" cy="261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Times New Roman"/>
              </a:rPr>
              <a:t>P063P059999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12680" y="5334120"/>
            <a:ext cx="1014480" cy="261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Times New Roman"/>
              </a:rPr>
              <a:t>P063P049999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12680" y="5715000"/>
            <a:ext cx="1014480" cy="261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Times New Roman"/>
              </a:rPr>
              <a:t>P063P039999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C0D-73B4-4007-AB6A-64ADAB13A53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lectronic Refund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s to GAPS within 2 business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control ove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directs from which bank account the money will be refu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refunds on one screen and at on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processing reduces human error and del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C7B4-973D-4FC1-9193-173534D5F4B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44240" y="609480"/>
            <a:ext cx="644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lect Refunds  from Main Menu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4" name=""/>
          <p:cNvSpPr/>
          <p:nvPr/>
        </p:nvSpPr>
        <p:spPr>
          <a:xfrm>
            <a:off x="2822400" y="2895480"/>
            <a:ext cx="2824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981080"/>
            <a:ext cx="868680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in Men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air Care and Nail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3 Ventura Blvd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llywood, CA 3122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ease select one of the following options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12920" y="3809880"/>
            <a:ext cx="2482560" cy="2476800"/>
            <a:chOff x="3112920" y="3809880"/>
            <a:chExt cx="2482560" cy="2476800"/>
          </a:xfrm>
        </p:grpSpPr>
        <p:grpSp>
          <p:nvGrpSpPr>
            <p:cNvPr id="297" name=""/>
            <p:cNvGrpSpPr/>
            <p:nvPr/>
          </p:nvGrpSpPr>
          <p:grpSpPr>
            <a:xfrm>
              <a:off x="3119400" y="3812040"/>
              <a:ext cx="2468880" cy="2471760"/>
              <a:chOff x="3119400" y="3812040"/>
              <a:chExt cx="2468880" cy="247176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3119400" y="3812040"/>
                <a:ext cx="2468880" cy="298080"/>
                <a:chOff x="3119400" y="3812040"/>
                <a:chExt cx="2468880" cy="2980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214080" y="3812040"/>
                  <a:ext cx="227988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ayment Request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119400" y="3812040"/>
                  <a:ext cx="24688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3119400" y="4110120"/>
                <a:ext cx="2468880" cy="298440"/>
                <a:chOff x="3119400" y="4110120"/>
                <a:chExt cx="2468880" cy="2984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214080" y="4110120"/>
                  <a:ext cx="227988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port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119400" y="4110120"/>
                  <a:ext cx="2468880" cy="2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3119400" y="4408920"/>
                <a:ext cx="2468880" cy="298080"/>
                <a:chOff x="3119400" y="4408920"/>
                <a:chExt cx="2468880" cy="2980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214080" y="4408920"/>
                  <a:ext cx="227988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fund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119400" y="4408920"/>
                  <a:ext cx="24688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3119400" y="4707000"/>
                <a:ext cx="2468880" cy="383400"/>
                <a:chOff x="3119400" y="4707000"/>
                <a:chExt cx="2468880" cy="3834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3214080" y="4707000"/>
                  <a:ext cx="227988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assword Maintenanc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119400" y="4707000"/>
                  <a:ext cx="2468880" cy="38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119400" y="5090760"/>
                <a:ext cx="2468880" cy="298080"/>
                <a:chOff x="3119400" y="5090760"/>
                <a:chExt cx="2468880" cy="2980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214080" y="5090760"/>
                  <a:ext cx="227988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User’s Guid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119400" y="5090760"/>
                  <a:ext cx="24688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3119400" y="5389200"/>
                <a:ext cx="2468880" cy="298080"/>
                <a:chOff x="3119400" y="5389200"/>
                <a:chExt cx="2468880" cy="2980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214080" y="5389200"/>
                  <a:ext cx="227988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Select New Paye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119400" y="5389200"/>
                  <a:ext cx="24688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119400" y="5687280"/>
                <a:ext cx="2468880" cy="298080"/>
                <a:chOff x="3119400" y="5687280"/>
                <a:chExt cx="2468880" cy="2980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3214080" y="5687280"/>
                  <a:ext cx="227988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Help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119400" y="5687280"/>
                  <a:ext cx="24688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3119400" y="5985720"/>
                <a:ext cx="2468880" cy="298080"/>
                <a:chOff x="3119400" y="5985720"/>
                <a:chExt cx="2468880" cy="2980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214080" y="5985720"/>
                  <a:ext cx="227988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Exit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119400" y="5985720"/>
                  <a:ext cx="24688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" name=""/>
            <p:cNvSpPr/>
            <p:nvPr/>
          </p:nvSpPr>
          <p:spPr>
            <a:xfrm>
              <a:off x="3112920" y="3809880"/>
              <a:ext cx="2482560" cy="2476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112920" y="4419720"/>
            <a:ext cx="2460960" cy="358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72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Refun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646600" y="4114800"/>
            <a:ext cx="144792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E9F-61E9-4E97-88CC-17E3640E867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heck “refunds to open awards” and “initiate refunds”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6" name=""/>
          <p:cNvSpPr/>
          <p:nvPr/>
        </p:nvSpPr>
        <p:spPr>
          <a:xfrm>
            <a:off x="2822400" y="2971800"/>
            <a:ext cx="2968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2057400"/>
            <a:ext cx="86868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funds Men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air Care and Nail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3 Ventura Blvd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llywood, CA 3122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ease select one of the following options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786040" y="3809880"/>
            <a:ext cx="3112920" cy="2667240"/>
            <a:chOff x="2786040" y="3809880"/>
            <a:chExt cx="3112920" cy="2667240"/>
          </a:xfrm>
        </p:grpSpPr>
        <p:grpSp>
          <p:nvGrpSpPr>
            <p:cNvPr id="329" name=""/>
            <p:cNvGrpSpPr/>
            <p:nvPr/>
          </p:nvGrpSpPr>
          <p:grpSpPr>
            <a:xfrm>
              <a:off x="2792160" y="3813840"/>
              <a:ext cx="3099240" cy="2658600"/>
              <a:chOff x="2792160" y="3813840"/>
              <a:chExt cx="3099240" cy="265860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2792160" y="3813840"/>
                <a:ext cx="3099240" cy="1016280"/>
                <a:chOff x="2792160" y="3813840"/>
                <a:chExt cx="3099240" cy="10162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886480" y="3813840"/>
                  <a:ext cx="2910600" cy="101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buClr>
                      <a:srgbClr val="000066"/>
                    </a:buClr>
                    <a:buFont typeface="Wingdings" charset="2"/>
                    <a:buChar char="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funds to Open Award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buClr>
                      <a:srgbClr val="000066"/>
                    </a:buClr>
                    <a:buFont typeface="Wingdings" charset="2"/>
                    <a:buChar char="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erkin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buClr>
                      <a:srgbClr val="000066"/>
                    </a:buClr>
                    <a:buFont typeface="Wingdings" charset="2"/>
                    <a:buChar char="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Interest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buClr>
                      <a:srgbClr val="000066"/>
                    </a:buClr>
                    <a:buFont typeface="Wingdings" charset="2"/>
                    <a:buChar char="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funds to Closed Award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792160" y="3813840"/>
                  <a:ext cx="3099240" cy="101628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2792160" y="4830120"/>
                <a:ext cx="3099240" cy="547200"/>
                <a:chOff x="2792160" y="4830120"/>
                <a:chExt cx="3099240" cy="5472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886480" y="4830120"/>
                  <a:ext cx="29106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Initiate Refund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792160" y="4830120"/>
                  <a:ext cx="3099240" cy="5472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792160" y="5377680"/>
                <a:ext cx="3099240" cy="547200"/>
                <a:chOff x="2792160" y="5377680"/>
                <a:chExt cx="3099240" cy="5472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886480" y="5377680"/>
                  <a:ext cx="29106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Bank Account Maintenanc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792160" y="5377680"/>
                  <a:ext cx="3099240" cy="5472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2792160" y="5925240"/>
                <a:ext cx="3099240" cy="547200"/>
                <a:chOff x="2792160" y="5925240"/>
                <a:chExt cx="3099240" cy="5472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886480" y="5925240"/>
                  <a:ext cx="29106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funds Report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792160" y="5925240"/>
                  <a:ext cx="3099240" cy="5472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2" name=""/>
            <p:cNvSpPr/>
            <p:nvPr/>
          </p:nvSpPr>
          <p:spPr>
            <a:xfrm>
              <a:off x="2786040" y="3809880"/>
              <a:ext cx="3112920" cy="2667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 flipV="1">
            <a:off x="1523880" y="3962160"/>
            <a:ext cx="1663920" cy="5331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935680" y="4038480"/>
            <a:ext cx="2100240" cy="8384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86040" y="4826160"/>
            <a:ext cx="3113280" cy="547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27432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nitiate Refun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35240" y="3809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F55-F48C-4785-ABC2-BCC79AD9700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wards and net draws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will be displayed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374840" y="3429000"/>
            <a:ext cx="1085760" cy="7621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6520" y="3657600"/>
            <a:ext cx="94140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30720" y="3352680"/>
            <a:ext cx="26049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3276720"/>
            <a:ext cx="19047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72D-83FB-4414-91A9-8A1FA019C17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738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nter the amount(s) to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be refunded</a:t>
            </a: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438280" y="5410080"/>
            <a:ext cx="12193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4495680"/>
            <a:ext cx="1295280" cy="4572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4EC9-FB5F-4089-988C-184E99EED16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0600" y="304560"/>
            <a:ext cx="5864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fund Confirm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925040" cy="4419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 flipH="1" flipV="1">
            <a:off x="6659280" y="4343400"/>
            <a:ext cx="1158840" cy="9144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02000" y="3581280"/>
            <a:ext cx="2244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049-9CB7-4377-905F-3C41057F880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33320" y="456840"/>
            <a:ext cx="596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rawdown Adjustme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move more than has been dra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adjustment must equal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adjustments as a substitute for returning excess ca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adjustments to close out a year or bring your school’s cash balance to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3B7-3332-4396-A078-BFC4A3B9722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659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lect Payment Requests from Main Menu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4" name=""/>
          <p:cNvSpPr/>
          <p:nvPr/>
        </p:nvSpPr>
        <p:spPr>
          <a:xfrm>
            <a:off x="2822400" y="2895480"/>
            <a:ext cx="2824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981080"/>
            <a:ext cx="868680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in Men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air Care and Nail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3 Ventura Blvd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llywood, CA 3122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ease select one of the following options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112920" y="3809880"/>
            <a:ext cx="2460600" cy="2476800"/>
            <a:chOff x="3112920" y="3809880"/>
            <a:chExt cx="2460600" cy="2476800"/>
          </a:xfrm>
        </p:grpSpPr>
        <p:grpSp>
          <p:nvGrpSpPr>
            <p:cNvPr id="367" name=""/>
            <p:cNvGrpSpPr/>
            <p:nvPr/>
          </p:nvGrpSpPr>
          <p:grpSpPr>
            <a:xfrm>
              <a:off x="3119040" y="3812040"/>
              <a:ext cx="2446920" cy="2471760"/>
              <a:chOff x="3119040" y="3812040"/>
              <a:chExt cx="2446920" cy="247176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3119040" y="3812040"/>
                <a:ext cx="2446920" cy="298080"/>
                <a:chOff x="3119040" y="3812040"/>
                <a:chExt cx="2446920" cy="2980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3212640" y="381204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ayment Request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119040" y="381204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119040" y="4110120"/>
                <a:ext cx="2446920" cy="298440"/>
                <a:chOff x="3119040" y="4110120"/>
                <a:chExt cx="2446920" cy="2984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212640" y="4110120"/>
                  <a:ext cx="22597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port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119040" y="4110120"/>
                  <a:ext cx="2446920" cy="2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3119040" y="4408920"/>
                <a:ext cx="2446920" cy="298080"/>
                <a:chOff x="3119040" y="4408920"/>
                <a:chExt cx="2446920" cy="2980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3212640" y="440892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fund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119040" y="440892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3119040" y="4707000"/>
                <a:ext cx="2446920" cy="383400"/>
                <a:chOff x="3119040" y="4707000"/>
                <a:chExt cx="2446920" cy="3834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3212640" y="4707000"/>
                  <a:ext cx="22597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assword Maintenanc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119040" y="4707000"/>
                  <a:ext cx="2446920" cy="38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3119040" y="5090760"/>
                <a:ext cx="2446920" cy="298080"/>
                <a:chOff x="3119040" y="5090760"/>
                <a:chExt cx="2446920" cy="2980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212640" y="509076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User’s Guid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119040" y="509076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119040" y="5389200"/>
                <a:ext cx="2446920" cy="298080"/>
                <a:chOff x="3119040" y="5389200"/>
                <a:chExt cx="2446920" cy="29808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212640" y="538920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Select New Paye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119040" y="538920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119040" y="5687280"/>
                <a:ext cx="2446920" cy="298080"/>
                <a:chOff x="3119040" y="5687280"/>
                <a:chExt cx="2446920" cy="2980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212640" y="568728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Help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119040" y="568728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3119040" y="5985720"/>
                <a:ext cx="2446920" cy="298080"/>
                <a:chOff x="3119040" y="5985720"/>
                <a:chExt cx="2446920" cy="2980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3212640" y="5985720"/>
                  <a:ext cx="22597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Exit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119040" y="5985720"/>
                  <a:ext cx="244692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" name=""/>
            <p:cNvSpPr/>
            <p:nvPr/>
          </p:nvSpPr>
          <p:spPr>
            <a:xfrm>
              <a:off x="3112920" y="3809880"/>
              <a:ext cx="2460600" cy="2476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112920" y="3809880"/>
            <a:ext cx="2460960" cy="339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182880" tIns="46800" bIns="1836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ayment Reques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665360" y="3962160"/>
            <a:ext cx="1447560" cy="5331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3FB-9EE2-4D52-8570-65A0905BA9E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809720" y="53316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lect for either Direct 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Loan or Pell adjustme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6" name=""/>
          <p:cNvSpPr/>
          <p:nvPr/>
        </p:nvSpPr>
        <p:spPr>
          <a:xfrm>
            <a:off x="1736640" y="4343400"/>
            <a:ext cx="13762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592280" y="3504960"/>
            <a:ext cx="1882800" cy="75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001000" cy="41720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158840" y="3886200"/>
            <a:ext cx="57780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l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09720" y="4114800"/>
            <a:ext cx="123048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42200" y="4038480"/>
            <a:ext cx="137628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 Loa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5646600" y="4495680"/>
            <a:ext cx="795600" cy="10670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C43-26F9-4B6A-AB2C-A635A115BF1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16240" y="304560"/>
            <a:ext cx="6370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unding Terminology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83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Term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  =   Current Funding Level (CF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PS =   Auth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OA =   Obl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tion and Disbursement Rec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Accepted and Posted Dis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F0F-4604-4DA4-BC4E-5E297B8593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54080" y="4568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djustments between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years and/or campus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001000" cy="42670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57200" y="4048200"/>
            <a:ext cx="17524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4191120"/>
            <a:ext cx="16765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09680" y="4191120"/>
            <a:ext cx="91440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BA3-322C-4884-A8E2-88A5FE4FF44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nter the amounts to be adjusted and click “OK”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7925040" cy="42228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270320" y="4572000"/>
            <a:ext cx="1376280" cy="6094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0560" y="4113360"/>
            <a:ext cx="1752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EEB-235F-4964-B7D2-8D0DABA0099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361960" y="609480"/>
            <a:ext cx="5862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djustment Confirm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0" y="4876920"/>
            <a:ext cx="2968560" cy="53316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3967200"/>
            <a:ext cx="18288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81280" y="3962520"/>
            <a:ext cx="9907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342-21B6-4DBE-B6A4-FAF2564E7ECC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388960" y="685800"/>
            <a:ext cx="5862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GAPS Reports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880" y="1752480"/>
            <a:ext cx="73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Activity by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Activity b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nd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list of refunds including confirmation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616-E998-4654-B58E-DA9A45C4A67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5864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rom Main Menu select “Reports”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20" name=""/>
          <p:cNvSpPr/>
          <p:nvPr/>
        </p:nvSpPr>
        <p:spPr>
          <a:xfrm>
            <a:off x="2822400" y="2895480"/>
            <a:ext cx="2824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1905120"/>
            <a:ext cx="868680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in Men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air Care and Nail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3 Ventura Blvd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llywood, CA 3122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ease select one of the following options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112920" y="3809880"/>
            <a:ext cx="2533320" cy="2476800"/>
            <a:chOff x="3112920" y="3809880"/>
            <a:chExt cx="2533320" cy="2476800"/>
          </a:xfrm>
        </p:grpSpPr>
        <p:grpSp>
          <p:nvGrpSpPr>
            <p:cNvPr id="423" name=""/>
            <p:cNvGrpSpPr/>
            <p:nvPr/>
          </p:nvGrpSpPr>
          <p:grpSpPr>
            <a:xfrm>
              <a:off x="3119400" y="3812040"/>
              <a:ext cx="2519280" cy="2471760"/>
              <a:chOff x="3119400" y="3812040"/>
              <a:chExt cx="2519280" cy="247176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3119400" y="3812040"/>
                <a:ext cx="2519280" cy="298080"/>
                <a:chOff x="3119400" y="3812040"/>
                <a:chExt cx="2519280" cy="2980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215880" y="3812040"/>
                  <a:ext cx="23263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ayment Request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19400" y="3812040"/>
                  <a:ext cx="25192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3119400" y="4110120"/>
                <a:ext cx="2519280" cy="298440"/>
                <a:chOff x="3119400" y="4110120"/>
                <a:chExt cx="2519280" cy="298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215880" y="4110120"/>
                  <a:ext cx="23263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port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119400" y="4110120"/>
                  <a:ext cx="2519280" cy="2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119400" y="4408920"/>
                <a:ext cx="2519280" cy="298080"/>
                <a:chOff x="3119400" y="4408920"/>
                <a:chExt cx="2519280" cy="2980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215880" y="4408920"/>
                  <a:ext cx="23263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Refunds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119400" y="4408920"/>
                  <a:ext cx="25192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119400" y="4707000"/>
                <a:ext cx="2519280" cy="383400"/>
                <a:chOff x="3119400" y="4707000"/>
                <a:chExt cx="2519280" cy="38340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215880" y="4707000"/>
                  <a:ext cx="2326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Password Maintenanc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119400" y="4707000"/>
                  <a:ext cx="2519280" cy="38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119400" y="5090760"/>
                <a:ext cx="2519280" cy="298080"/>
                <a:chOff x="3119400" y="5090760"/>
                <a:chExt cx="2519280" cy="2980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3215880" y="5090760"/>
                  <a:ext cx="23263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User’s Guid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119400" y="5090760"/>
                  <a:ext cx="25192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3119400" y="5389200"/>
                <a:ext cx="2519280" cy="298080"/>
                <a:chOff x="3119400" y="5389200"/>
                <a:chExt cx="2519280" cy="2980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215880" y="5389200"/>
                  <a:ext cx="23263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Select New Payee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19400" y="5389200"/>
                  <a:ext cx="25192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119400" y="5687280"/>
                <a:ext cx="2519280" cy="298080"/>
                <a:chOff x="3119400" y="5687280"/>
                <a:chExt cx="2519280" cy="2980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215880" y="5687280"/>
                  <a:ext cx="23263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Help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119400" y="5687280"/>
                  <a:ext cx="25192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119400" y="5985720"/>
                <a:ext cx="2519280" cy="298080"/>
                <a:chOff x="3119400" y="5985720"/>
                <a:chExt cx="2519280" cy="29808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215880" y="5985720"/>
                  <a:ext cx="232632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Exit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119400" y="5985720"/>
                  <a:ext cx="2519280" cy="29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8" name=""/>
            <p:cNvSpPr/>
            <p:nvPr/>
          </p:nvSpPr>
          <p:spPr>
            <a:xfrm>
              <a:off x="3112920" y="3809880"/>
              <a:ext cx="2533320" cy="2476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3124080" y="4114800"/>
            <a:ext cx="2522520" cy="339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1836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Repor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717880" y="3505320"/>
            <a:ext cx="144756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967-7929-4D68-ADBB-22A3399D71A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09680" y="609480"/>
            <a:ext cx="5864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lect “Activity Report”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52" name=""/>
          <p:cNvSpPr/>
          <p:nvPr/>
        </p:nvSpPr>
        <p:spPr>
          <a:xfrm>
            <a:off x="2244600" y="2590920"/>
            <a:ext cx="101304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848720" cy="41911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2460600" y="3962520"/>
            <a:ext cx="941400" cy="3045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6AD-22A4-4BF6-91AB-9E116592A33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6370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ctivity Report Selection Scree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7925040" cy="43434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2460600" y="4114800"/>
            <a:ext cx="1014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71600" y="4114800"/>
            <a:ext cx="1371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2BF-BE8A-424C-893A-F086FF4E7CB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09320" y="609480"/>
            <a:ext cx="5862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ctivity Report - Cumulative Summary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0" name=""/>
          <p:cNvSpPr/>
          <p:nvPr/>
        </p:nvSpPr>
        <p:spPr>
          <a:xfrm>
            <a:off x="1521000" y="2514600"/>
            <a:ext cx="868320" cy="228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076960" cy="44197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452600" y="3657600"/>
            <a:ext cx="1066680" cy="146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443221234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2B1-DDC3-4A1E-9AD3-332728FA94C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09680" y="609480"/>
            <a:ext cx="5864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ctivity Report - Record Detail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925040" cy="43434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817640" y="2960640"/>
            <a:ext cx="776160" cy="13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095-4558-4E78-A4AB-183FA30D72B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04760" y="1066680"/>
            <a:ext cx="5864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lect Refunds Report from Reports Menu</a:t>
            </a:r>
            <a:br>
              <a:rPr sz="3200"/>
            </a:b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7" name=""/>
          <p:cNvSpPr/>
          <p:nvPr/>
        </p:nvSpPr>
        <p:spPr>
          <a:xfrm>
            <a:off x="2678040" y="3048120"/>
            <a:ext cx="32576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925040" cy="41911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 flipH="1">
            <a:off x="5140080" y="4191120"/>
            <a:ext cx="1447560" cy="3045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1B6-6AE3-427D-9142-62F94E8B021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27160" y="-36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  </a:t>
            </a: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unding Basic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760" y="133344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based on actual dis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day r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s submitted up to 7 days in advance of disbursement date can trigger change in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Management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day reporting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Day cash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reconciliation (DL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5880" y="4114800"/>
            <a:ext cx="224172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D9F-D7AA-4CF8-BFC1-943D041872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057040" y="457200"/>
            <a:ext cx="5862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fund Repor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330720" y="3048120"/>
            <a:ext cx="1954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BA1-05E0-48C8-BAB5-F7C40FD10B5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GAPS Acces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34880" y="2209320"/>
            <a:ext cx="7918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5 user IDs of each access per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form off e-payment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 completed form to G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2-205-07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D4E-C654-4F87-9D0B-3F1BC938779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GAPS Helpdesk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1800" y="35812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888-336-89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desk hours of operation are 8 a.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6 p.m. Monday through Friday, 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4757760" y="968400"/>
            <a:ext cx="3660840" cy="32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2144-1399-4A00-BD9A-4FD4E67387B2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1374840" y="2362320"/>
            <a:ext cx="550224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estions ???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7DC-4FB9-4085-A57A-780F7601229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98800" y="761760"/>
            <a:ext cx="6370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conciliation  Defined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240" y="2133360"/>
            <a:ext cx="7383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Funding/Student Data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Funding/Student Data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Goal:  School Financial Aid Office/Business Office data matches the Department’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B198-1FFD-4B83-9F5F-000512C146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ell Grant  CFL Proces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5280" y="1981080"/>
            <a:ext cx="7356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FL created in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L level in  GAPS is not increased until initial CFL has been exc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not draw cash in GAPS that exceeds their CF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F8E-AA0C-4C19-A49C-A83AD26E4C3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53720" y="533160"/>
            <a:ext cx="637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ell Funding in COD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880" y="2286000"/>
            <a:ext cx="738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L level in  GAPS is not increased until initial CFL has been exc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ement Release Indicator (D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submit disbursement records to COD that adjusts CFL within 7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D55C-664A-418C-AF82-20BAF12A8A3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04-05T15:11:14Z</dcterms:modified>
  <cp:revision>99</cp:revision>
  <dc:subject/>
  <dc:title>PowerPoint Presentation</dc:title>
</cp:coreProperties>
</file>