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4B6-6B9F-482C-A33A-376371BC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339-7743-4584-B41A-8A40FC2C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22F-98A2-409F-8439-FFB06E2A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187-B9B1-4710-A6E5-8B49CDC7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CDFB-F0EA-4589-88D8-E6FDC88A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A573-E7C4-41D7-B114-95A71D74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8972-0F59-4C9D-94F1-42ED30CB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AFDA-8566-41E4-87E5-2A52C972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E641-9CDD-4F31-A76D-9070CEB7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993A-CF25-4558-9C08-14AB91E6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980F-36D5-46C9-8661-7699E23A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5A2-4485-41A4-BAB1-873AD31A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F5D6-95DB-4EBE-9A51-87585AEE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C762-EC42-402F-BD45-769F25ED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108C-1271-4F22-90ED-77C7E1CC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EAEA-8E88-42B0-B2B8-9D257B18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0EFC-50BF-4C29-9C9B-E007DED8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2BE-3D80-43E4-8BE1-52DC1959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FEE-9016-439C-B6A1-A4B94EF4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463-49AA-466D-BB66-C5ED165D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6DD-7E94-45D7-B88E-1EFE7172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3BF-54FD-4DAF-8EA5-224EA23A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7AC-378D-40BC-A404-192F4E46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CB8-FD92-47E1-B2E7-89FF0407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82FC-3B0D-44E5-A9B1-7A4E34D3E6F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15177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0679-F8A8-4049-8FEF-6BE812685FB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slh2@psu.edu" TargetMode="External"/><Relationship Id="rId2" Type="http://schemas.openxmlformats.org/officeDocument/2006/relationships/hyperlink" Target="mailto:slh2@psu.edu" TargetMode="External"/><Relationship Id="rId3" Type="http://schemas.openxmlformats.org/officeDocument/2006/relationships/hyperlink" Target="mailto:slh2@psu.edu" TargetMode="External"/><Relationship Id="rId4" Type="http://schemas.openxmlformats.org/officeDocument/2006/relationships/hyperlink" Target="mailto:slh2@psu.edu" TargetMode="External"/><Relationship Id="rId5" Type="http://schemas.openxmlformats.org/officeDocument/2006/relationships/hyperlink" Target="mailto:rcd7@psu.edu" TargetMode="External"/><Relationship Id="rId6" Type="http://schemas.openxmlformats.org/officeDocument/2006/relationships/hyperlink" Target="mailto:rcd7@psu.edu" TargetMode="External"/><Relationship Id="rId7" Type="http://schemas.openxmlformats.org/officeDocument/2006/relationships/hyperlink" Target="mailto:rcd7@psu.edu" TargetMode="External"/><Relationship Id="rId8" Type="http://schemas.openxmlformats.org/officeDocument/2006/relationships/hyperlink" Target="mailto:rcd7@psu.edu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Do Entrance and Exit Counseling Make a Difference in Title IV Default Rat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 Ho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y De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0666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 Black"/>
              </a:rPr>
              <a:t>Session 12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2819520" cy="152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38280" y="457200"/>
            <a:ext cx="6705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 Black"/>
              </a:rPr>
              <a:t>Methodology</a:t>
            </a:r>
            <a:endParaRPr b="0" lang="en-US" sz="3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752480"/>
            <a:ext cx="746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id not accept their offer of admission were eliminated from the original coho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of each cohort with TIV loans have been tracked yearly since 1996 to determine loan default rat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438280" y="22860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sul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752480"/>
            <a:ext cx="746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o point in the study have the differences in default rates for each cohort been statistically significa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8080" y="1295280"/>
            <a:ext cx="74678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table shows results from the seven-year study for the 2002-2003 academic yea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iginal sample reduction comes from eliminating students who did not accept their offer of admis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3505320"/>
          <a:ext cx="830592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505320"/>
                    <a:ext cx="830592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120" y="137160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can be seen, the number of students with TIV loans is approximately 81% for each cohor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3276720"/>
          <a:ext cx="830592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76720"/>
                    <a:ext cx="830592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1219320"/>
            <a:ext cx="7467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in default who are PSU graduates represent from 0.2% to 0.7% of their cohor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nsidering only PSU graduates in each cohort, default rates range from 0.3% to 1.0%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differences among cohorts are not statistically significa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3733920"/>
          <a:ext cx="830592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830592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1295280"/>
            <a:ext cx="7467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in default who have not graduated from PSU represent 4.0% to 4.6% of their cohor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differences among cohorts are not statistically significa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3733920"/>
          <a:ext cx="830592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830592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295280"/>
            <a:ext cx="7467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verall default rates of the four cohorts range from 4.3% to 5.4%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differences among cohorts are not statistically significa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3505320"/>
          <a:ext cx="830592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505320"/>
                    <a:ext cx="830592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438280" y="22860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iscuss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746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 significant differences in default rates among the treatment groups or the control group, suggesting that entrance and exit counseling have no effect on loan defaul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results suggest that additional research should be conducted to identify more effective strategies for lowering default rat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057400" y="533520"/>
            <a:ext cx="6705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What’s next?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752480"/>
            <a:ext cx="746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n State is conducting predictive modeling studies in an attempt to identify, at the student level, those borrowers most likely to defaul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is being conducted by building longitudinal data sets with institutional, NSC, and NSLDS data and employing logistic regression and discrete-time survival analys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 Howell   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slh2@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psu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y Deike   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5"/>
              </a:rPr>
              <a:t>rcd7@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6"/>
              </a:rPr>
              <a:t>psu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8"/>
              </a:rPr>
              <a:t>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0720" y="685800"/>
            <a:ext cx="6705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o Entrance and Exit Counseling Make a Difference in TIV Loan Default Rates?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ession provides an overview of research conducted at Penn State University to study the effects of entrance and exit counseling on loan default behavi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valuating Interventio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attribute changes in some outcome to a particular intervention, an experimental design must be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, a change in outcome, such as decreasing default rates, is attributed to some particular intervention without controlling for competing explanations for tha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U example of what not to do– loans and schola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8487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ization is important if we are interested in making caus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ization “standardizes” groups, and in theory, eliminates competing explanations for the study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and Contro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groups involve some intervention, such as traditional entrance/exit couns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group receives no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5120" y="457200"/>
            <a:ext cx="69339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enn State’s Entrance/Exit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unseling Stud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209680"/>
            <a:ext cx="746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selected and assigned 6,000 of 9,000 newly admitted undergraduate students awarded TIV loans to 1 of 3 treatment groups and a control grou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roup (cohort) was compared to the overall population on factors such as loan type, loan amount, income, ethnicity, residency, etc., to determine cohort representativeness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38280" y="38088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reatmen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752480"/>
            <a:ext cx="746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ort 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ulatory entrance and exit counseling requirements were follow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ort 2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exit counseling for Federal Stafford Loan borrowers who fall from degree status to non-degree status, are in good academic standing but do not return for the next semester, and who withdraw during a semes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tudents receive a letter with lender, loan consolidation, and forbearance information, and an estimate of their monthly payment amou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447920"/>
            <a:ext cx="7467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ort 3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exit counseling for Federal Perkins Loan borrowers who leave Penn State for any reas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e provided with the federally required information with one exception, copies of promissory notes are not included, and students are called to establish payment arrangem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905120"/>
            <a:ext cx="746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ort 4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Group…no treat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04-05T15:10:45Z</dcterms:modified>
  <cp:revision>36</cp:revision>
  <dc:subject/>
  <dc:title>PowerPoint Presentation</dc:title>
</cp:coreProperties>
</file>