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9.wmf" ContentType="image/x-wmf"/>
  <Override PartName="/ppt/media/image6.wmf" ContentType="image/x-wmf"/>
  <Override PartName="/ppt/media/image7.wmf" ContentType="image/x-wmf"/>
  <Override PartName="/ppt/media/image11.jpeg" ContentType="image/jpeg"/>
  <Override PartName="/ppt/media/image4.jpeg" ContentType="image/jpeg"/>
  <Override PartName="/ppt/media/image10.wmf" ContentType="image/x-wmf"/>
  <Override PartName="/ppt/media/image12.jpeg" ContentType="image/jpeg"/>
  <Override PartName="/ppt/media/image8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73152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072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8360" y="0"/>
            <a:ext cx="306216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05000" y="696960"/>
            <a:ext cx="435744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8720" y="4413240"/>
            <a:ext cx="5126040" cy="41860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31160"/>
            <a:ext cx="306072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8360" y="8831160"/>
            <a:ext cx="306216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4FB6F33-4E32-474F-BCC6-C52F26C775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308240" y="0"/>
            <a:ext cx="4354200" cy="3483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-360" y="3485880"/>
            <a:ext cx="7010280" cy="56545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305000" y="77760"/>
            <a:ext cx="4357440" cy="34862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8720" y="4413240"/>
            <a:ext cx="5126040" cy="41860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05000" y="77760"/>
            <a:ext cx="4357440" cy="34862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8720" y="4413240"/>
            <a:ext cx="5126040" cy="41860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05000" y="77760"/>
            <a:ext cx="4357440" cy="348624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8720" y="4413240"/>
            <a:ext cx="5126040" cy="41860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305000" y="77760"/>
            <a:ext cx="4357440" cy="348624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8720" y="4413240"/>
            <a:ext cx="5126040" cy="41860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305000" y="77760"/>
            <a:ext cx="4357440" cy="348624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8720" y="4413240"/>
            <a:ext cx="5126040" cy="41860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4105440"/>
            <a:ext cx="7010280" cy="26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920880" indent="-5176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lementary and Secondary Education Act of 1965      (Public Law 89-10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uthorized grants for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20880" indent="-5176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mentary and secondary school programs for children of low-income families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20880" indent="-5176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ool library resources, textbooks, and other instructional material for schoolchildren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20880" indent="-5176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lementary educational centers and services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20880" indent="-5176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engthening state education agencies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20880" indent="-5176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educational research and research trainin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20880" indent="-517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305000" y="465120"/>
            <a:ext cx="4357440" cy="348624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157320" y="4105080"/>
            <a:ext cx="6852960" cy="5190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F03C-9B12-4D74-8BEA-FE70FA3AD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7772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405680"/>
            <a:ext cx="7772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3C9B-48CE-48B3-84B4-CCEB70253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1124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4056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4056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6FB7-2040-4014-AF92-F8FF72DEF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2502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112480"/>
            <a:ext cx="2502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112480"/>
            <a:ext cx="2502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405680"/>
            <a:ext cx="2502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405680"/>
            <a:ext cx="2502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405680"/>
            <a:ext cx="2502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E0D7-A592-487D-88BF-19DA5247D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112480"/>
            <a:ext cx="77724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03E7-E919-4E62-A376-64AC1A37A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77724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D014-966F-46B7-A2A7-FD94EF9E0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3792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112480"/>
            <a:ext cx="3792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59BF-ECE9-4E76-B907-FE0BB5927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1C54-0C0A-416F-A23F-39DAFD1D7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5052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7D64-DE2F-4C37-AEDF-D32814639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112480"/>
            <a:ext cx="3792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4056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1EDA-1E34-4673-BCDD-2B6E4FCA5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3792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1124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4056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1073-5D4E-4C80-8E5C-C561EEC48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1124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405680"/>
            <a:ext cx="7772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6885-B93C-41EC-9D74-5CB523869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12480"/>
            <a:ext cx="77724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664320"/>
            <a:ext cx="190512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64320"/>
            <a:ext cx="289584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664320"/>
            <a:ext cx="190512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C4527-2826-4BFE-809E-615DD450C8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orner" descr=""/>
          <p:cNvPicPr/>
          <p:nvPr/>
        </p:nvPicPr>
        <p:blipFill>
          <a:blip r:embed="rId1"/>
          <a:stretch/>
        </p:blipFill>
        <p:spPr>
          <a:xfrm>
            <a:off x="4737240" y="5025960"/>
            <a:ext cx="4406760" cy="22892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1600200"/>
            <a:ext cx="7848720" cy="21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82"/>
                </a:solidFill>
                <a:latin typeface="Arial"/>
              </a:rPr>
              <a:t>No Child Left Behind Act of 2001</a:t>
            </a:r>
            <a:r>
              <a:rPr b="1" lang="en-US" sz="3200" spc="-1" strike="noStrike">
                <a:solidFill>
                  <a:srgbClr val="000082"/>
                </a:solidFill>
                <a:latin typeface="Palatino Linotype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2"/>
                </a:solidFill>
                <a:latin typeface="Palatino Linotype"/>
              </a:rPr>
              <a:t>Improving Our System o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2"/>
                </a:solidFill>
                <a:latin typeface="Palatino Linotype"/>
              </a:rPr>
              <a:t>Public Edu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owerpointpic" descr=""/>
          <p:cNvPicPr/>
          <p:nvPr/>
        </p:nvPicPr>
        <p:blipFill>
          <a:blip r:embed="rId2"/>
          <a:stretch/>
        </p:blipFill>
        <p:spPr>
          <a:xfrm>
            <a:off x="0" y="0"/>
            <a:ext cx="177336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Ave.-Per-pupil-1965-2001" descr=""/>
          <p:cNvPicPr/>
          <p:nvPr/>
        </p:nvPicPr>
        <p:blipFill>
          <a:blip r:embed="rId1"/>
          <a:stretch/>
        </p:blipFill>
        <p:spPr>
          <a:xfrm>
            <a:off x="1371600" y="90360"/>
            <a:ext cx="5900760" cy="713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Federal-Pell-Grants-1980-20" descr=""/>
          <p:cNvPicPr/>
          <p:nvPr/>
        </p:nvPicPr>
        <p:blipFill>
          <a:blip r:embed="rId1"/>
          <a:stretch/>
        </p:blipFill>
        <p:spPr>
          <a:xfrm>
            <a:off x="1258920" y="0"/>
            <a:ext cx="662616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Special-Ed-funding-1977-200" descr=""/>
          <p:cNvPicPr/>
          <p:nvPr/>
        </p:nvPicPr>
        <p:blipFill>
          <a:blip r:embed="rId1"/>
          <a:stretch/>
        </p:blipFill>
        <p:spPr>
          <a:xfrm>
            <a:off x="934920" y="0"/>
            <a:ext cx="727236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Title-I-funding-1980-2005" descr=""/>
          <p:cNvPicPr/>
          <p:nvPr/>
        </p:nvPicPr>
        <p:blipFill>
          <a:blip r:embed="rId1"/>
          <a:stretch/>
        </p:blipFill>
        <p:spPr>
          <a:xfrm>
            <a:off x="1217520" y="0"/>
            <a:ext cx="67057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752480" y="244440"/>
            <a:ext cx="7467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2"/>
                </a:solidFill>
                <a:latin typeface="Arial"/>
              </a:rPr>
              <a:t>The Federal Government’s Role in Public Edu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752480" y="1295280"/>
            <a:ext cx="59436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371600" y="1371600"/>
            <a:ext cx="7772400" cy="43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514440">
              <a:lnSpc>
                <a:spcPct val="140000"/>
              </a:lnSpc>
              <a:spcBef>
                <a:spcPts val="649"/>
              </a:spcBef>
              <a:buClr>
                <a:srgbClr val="ff0000"/>
              </a:buClr>
              <a:buSzPct val="75000"/>
              <a:buFont typeface="ＭＳ 明朝"/>
              <a:buChar char="★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though public education is a state and local responsibility,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t is a national interes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914400" indent="-514440">
              <a:lnSpc>
                <a:spcPct val="140000"/>
              </a:lnSpc>
              <a:spcBef>
                <a:spcPts val="649"/>
              </a:spcBef>
              <a:buClr>
                <a:srgbClr val="ff0000"/>
              </a:buClr>
              <a:buSzPct val="75000"/>
              <a:buFont typeface="ＭＳ 明朝"/>
              <a:buChar char="★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Federal Government’s role –               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o assure equity, and promote excellenc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914400" indent="-514440">
              <a:lnSpc>
                <a:spcPct val="140000"/>
              </a:lnSpc>
              <a:spcBef>
                <a:spcPts val="649"/>
              </a:spcBef>
              <a:buClr>
                <a:srgbClr val="ff0000"/>
              </a:buClr>
              <a:buSzPct val="75000"/>
              <a:buFont typeface="ＭＳ 明朝"/>
              <a:buChar char="★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itial Federal Public School Activity –       The 1787 Ordinanc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914400" indent="-514440">
              <a:lnSpc>
                <a:spcPct val="140000"/>
              </a:lnSpc>
              <a:spcBef>
                <a:spcPts val="649"/>
              </a:spcBef>
              <a:buClr>
                <a:srgbClr val="ff0000"/>
              </a:buClr>
              <a:buSzPct val="75000"/>
              <a:buFont typeface="ＭＳ 明朝"/>
              <a:buChar char="★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imary Federal Public School Initiative – The 1965 Elementary and Secondary Education Act (ESEA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owerpointpic" descr=""/>
          <p:cNvPicPr/>
          <p:nvPr/>
        </p:nvPicPr>
        <p:blipFill>
          <a:blip r:embed="rId1"/>
          <a:stretch/>
        </p:blipFill>
        <p:spPr>
          <a:xfrm>
            <a:off x="0" y="0"/>
            <a:ext cx="177336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no%20line%20drop%20shadow" descr=""/>
          <p:cNvPicPr/>
          <p:nvPr/>
        </p:nvPicPr>
        <p:blipFill>
          <a:blip r:embed="rId1"/>
          <a:stretch/>
        </p:blipFill>
        <p:spPr>
          <a:xfrm>
            <a:off x="0" y="895320"/>
            <a:ext cx="9144000" cy="5524560"/>
          </a:xfrm>
          <a:prstGeom prst="rect">
            <a:avLst/>
          </a:prstGeom>
          <a:ln w="0">
            <a:noFill/>
          </a:ln>
        </p:spPr>
      </p:pic>
      <p:pic>
        <p:nvPicPr>
          <p:cNvPr id="56" name="new89-10" descr=""/>
          <p:cNvPicPr/>
          <p:nvPr/>
        </p:nvPicPr>
        <p:blipFill>
          <a:blip r:embed="rId2"/>
          <a:stretch/>
        </p:blipFill>
        <p:spPr>
          <a:xfrm>
            <a:off x="0" y="1730520"/>
            <a:ext cx="883908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halfwithred" descr=""/>
          <p:cNvPicPr/>
          <p:nvPr/>
        </p:nvPicPr>
        <p:blipFill>
          <a:blip r:embed="rId1"/>
          <a:stretch/>
        </p:blipFill>
        <p:spPr>
          <a:xfrm>
            <a:off x="838080" y="0"/>
            <a:ext cx="7620120" cy="742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152280" y="-103320"/>
          <a:ext cx="8915400" cy="7189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-103320"/>
                    <a:ext cx="8915400" cy="718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2438280" y="6858000"/>
            <a:ext cx="670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ource: National Assessment of Educational Progress 20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152280" y="-152280"/>
          <a:ext cx="8940960" cy="72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-152280"/>
                    <a:ext cx="8940960" cy="72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2666880" y="6858000"/>
            <a:ext cx="647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ource: National Assessment of Educational Progress 20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76320" y="-76320"/>
          <a:ext cx="8931240" cy="7204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-76320"/>
                    <a:ext cx="8931240" cy="720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/>
          <p:nvPr/>
        </p:nvSpPr>
        <p:spPr>
          <a:xfrm>
            <a:off x="2666880" y="6858000"/>
            <a:ext cx="647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ource: National Assessment of Educational Progress 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76320" y="-76320"/>
          <a:ext cx="9013680" cy="7078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-76320"/>
                    <a:ext cx="9013680" cy="707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>
            <a:off x="2666880" y="6858000"/>
            <a:ext cx="647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ource: National Assessment of Educational Progress 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380880" y="-388800"/>
          <a:ext cx="11430000" cy="7551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-388800"/>
                    <a:ext cx="11430000" cy="755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3T16:31:05Z</dcterms:created>
  <dc:creator>Ann.Molinaro</dc:creator>
  <dc:description/>
  <dc:language>en-US</dc:language>
  <cp:lastModifiedBy>jennifer.do</cp:lastModifiedBy>
  <dcterms:modified xsi:type="dcterms:W3CDTF">2004-04-05T17:01:14Z</dcterms:modified>
  <cp:revision>124</cp:revision>
  <dc:subject/>
  <dc:title>PowerPoint Presentation</dc:title>
</cp:coreProperties>
</file>