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0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360" y="0"/>
            <a:ext cx="3062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5000" y="696960"/>
            <a:ext cx="435744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60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360" y="8831160"/>
            <a:ext cx="3062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F538B2-3FB5-4338-9E79-F7A95E6EA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08240" y="0"/>
            <a:ext cx="4354200" cy="3483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-360" y="3485880"/>
            <a:ext cx="7010280" cy="565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05000" y="7776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05000" y="7776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05000" y="7776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05000" y="7776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05000" y="7776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105440"/>
            <a:ext cx="701028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20880" indent="-517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ementary and Secondary Education Act of 1965      (Public Law 89-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uthorized grants f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and secondary school programs for children of low-income famili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library resources, textbooks, and other instructional material for schoolchildre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educational centers and servic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ening state education agenci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ducational research and research 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05000" y="46512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7320" y="4105080"/>
            <a:ext cx="6852960" cy="5190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6BE-B8E3-4C9D-BB0C-47CD31DA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A66-FEBC-4665-9574-D7B2F8F7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B37-1B24-4314-A4B0-F943914F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548-4DD1-4B73-9657-C1EB4B3F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544-7FE6-411E-9EAD-EAF1CDC0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F74-E78E-40A3-8066-363E6E27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0C4-A8BA-4358-92FF-438486B8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9DE-B905-43DA-A90E-6B665176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FDF-2D21-4CC4-B094-B922B631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5EA-F7DF-4E79-B659-BC803AC6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9E8-C350-4315-8644-3335E998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FE8-2593-40CE-ABA0-D5E4FF6F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2AB4-CB42-4155-8F44-E9F4A63DA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rner" descr=""/>
          <p:cNvPicPr/>
          <p:nvPr/>
        </p:nvPicPr>
        <p:blipFill>
          <a:blip r:embed="rId1"/>
          <a:stretch/>
        </p:blipFill>
        <p:spPr>
          <a:xfrm>
            <a:off x="4737240" y="5025960"/>
            <a:ext cx="4406760" cy="228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1600200"/>
            <a:ext cx="78487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2"/>
                </a:solidFill>
                <a:latin typeface="Arial"/>
              </a:rPr>
              <a:t>No Child Left Behind Act of 2001</a:t>
            </a:r>
            <a:r>
              <a:rPr b="1" lang="en-US" sz="3200" spc="-1" strike="noStrike">
                <a:solidFill>
                  <a:srgbClr val="000082"/>
                </a:solidFill>
                <a:latin typeface="Palatino Linotyp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2"/>
                </a:solidFill>
                <a:latin typeface="Palatino Linotype"/>
              </a:rPr>
              <a:t>Improving Our Syste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2"/>
                </a:solidFill>
                <a:latin typeface="Palatino Linotype"/>
              </a:rPr>
              <a:t>Public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owerpointpic" descr=""/>
          <p:cNvPicPr/>
          <p:nvPr/>
        </p:nvPicPr>
        <p:blipFill>
          <a:blip r:embed="rId2"/>
          <a:stretch/>
        </p:blipFill>
        <p:spPr>
          <a:xfrm>
            <a:off x="0" y="0"/>
            <a:ext cx="17733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ve.-Per-pupil-1965-2001" descr=""/>
          <p:cNvPicPr/>
          <p:nvPr/>
        </p:nvPicPr>
        <p:blipFill>
          <a:blip r:embed="rId1"/>
          <a:stretch/>
        </p:blipFill>
        <p:spPr>
          <a:xfrm>
            <a:off x="1371600" y="90360"/>
            <a:ext cx="590076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Federal-Pell-Grants-1980-20" descr=""/>
          <p:cNvPicPr/>
          <p:nvPr/>
        </p:nvPicPr>
        <p:blipFill>
          <a:blip r:embed="rId1"/>
          <a:stretch/>
        </p:blipFill>
        <p:spPr>
          <a:xfrm>
            <a:off x="1258920" y="0"/>
            <a:ext cx="66261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pecial-Ed-funding-1977-200" descr=""/>
          <p:cNvPicPr/>
          <p:nvPr/>
        </p:nvPicPr>
        <p:blipFill>
          <a:blip r:embed="rId1"/>
          <a:stretch/>
        </p:blipFill>
        <p:spPr>
          <a:xfrm>
            <a:off x="934920" y="0"/>
            <a:ext cx="72723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itle-I-funding-1980-2005" descr=""/>
          <p:cNvPicPr/>
          <p:nvPr/>
        </p:nvPicPr>
        <p:blipFill>
          <a:blip r:embed="rId1"/>
          <a:stretch/>
        </p:blipFill>
        <p:spPr>
          <a:xfrm>
            <a:off x="1217520" y="0"/>
            <a:ext cx="67057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24444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2"/>
                </a:solidFill>
                <a:latin typeface="Arial"/>
              </a:rPr>
              <a:t>The Federal Government’s Role in Public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29528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371600"/>
            <a:ext cx="777240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5144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ＭＳ 明朝"/>
              <a:buChar char="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hough public education is a state and local responsibility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is a national inter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5144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ＭＳ 明朝"/>
              <a:buChar char="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ederal Government’s role –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assure equity, and promote excelle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5144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ＭＳ 明朝"/>
              <a:buChar char="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Federal Public School Activity –       The 1787 Ordin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5144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ＭＳ 明朝"/>
              <a:buChar char="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 Federal Public School Initiative – The 1965 Elementary and Secondary Education Act (ESE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owerpointpic" descr=""/>
          <p:cNvPicPr/>
          <p:nvPr/>
        </p:nvPicPr>
        <p:blipFill>
          <a:blip r:embed="rId1"/>
          <a:stretch/>
        </p:blipFill>
        <p:spPr>
          <a:xfrm>
            <a:off x="0" y="0"/>
            <a:ext cx="17733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no%20line%20drop%20shadow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524560"/>
          </a:xfrm>
          <a:prstGeom prst="rect">
            <a:avLst/>
          </a:prstGeom>
          <a:ln w="0">
            <a:noFill/>
          </a:ln>
        </p:spPr>
      </p:pic>
      <p:pic>
        <p:nvPicPr>
          <p:cNvPr id="56" name="new89-10" descr=""/>
          <p:cNvPicPr/>
          <p:nvPr/>
        </p:nvPicPr>
        <p:blipFill>
          <a:blip r:embed="rId2"/>
          <a:stretch/>
        </p:blipFill>
        <p:spPr>
          <a:xfrm>
            <a:off x="0" y="1730520"/>
            <a:ext cx="8839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halfwithred" descr=""/>
          <p:cNvPicPr/>
          <p:nvPr/>
        </p:nvPicPr>
        <p:blipFill>
          <a:blip r:embed="rId1"/>
          <a:stretch/>
        </p:blipFill>
        <p:spPr>
          <a:xfrm>
            <a:off x="838080" y="0"/>
            <a:ext cx="7620120" cy="74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2280" y="-103320"/>
          <a:ext cx="8915400" cy="718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-103320"/>
                    <a:ext cx="8915400" cy="71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38280" y="68580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urce: National Assessment of Educational Progress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280" y="-152280"/>
          <a:ext cx="8940960" cy="72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-152280"/>
                    <a:ext cx="8940960" cy="72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666880" y="68580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urce: National Assessment of Educational Progress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6320" y="-76320"/>
          <a:ext cx="8931240" cy="720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-76320"/>
                    <a:ext cx="8931240" cy="720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666880" y="68580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urce: National Assessment of Educational Progres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6320" y="-76320"/>
          <a:ext cx="9013680" cy="707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-76320"/>
                    <a:ext cx="9013680" cy="70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666880" y="68580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urce: National Assessment of Educational Progres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-388800"/>
          <a:ext cx="11430000" cy="755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-388800"/>
                    <a:ext cx="1143000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6:31:05Z</dcterms:created>
  <dc:creator>Ann.Molinaro</dc:creator>
  <dc:description/>
  <dc:language>en-US</dc:language>
  <cp:lastModifiedBy>jennifer.do</cp:lastModifiedBy>
  <dcterms:modified xsi:type="dcterms:W3CDTF">2004-04-05T17:01:14Z</dcterms:modified>
  <cp:revision>124</cp:revision>
  <dc:subject/>
  <dc:title>PowerPoint Presentation</dc:title>
</cp:coreProperties>
</file>