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2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3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8.jpeg" ContentType="image/jpeg"/>
  <Override PartName="/ppt/media/image1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99A-BC4B-4558-B0C4-824416B4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90B-3850-4538-963C-F1A94FF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EE2-BB9B-4E9C-AEF1-721C1912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A22-B3FC-4E9F-A769-58BA2269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F11-0363-41CF-9BF2-19B660A6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0DFD-E276-4DA0-A552-A4CFA48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3B4-8CBC-49C8-9E96-93F35B3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F44-0765-497E-9E8C-CC388B0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728-62C7-4408-B967-65AC0F71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D202-9AA3-4D47-A290-F400C804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1A0-78FD-42C2-9142-F544AD2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D0C-2386-47C5-A2A6-51543076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573E-24F4-40AC-8DA6-870C50B5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6D08-96F0-46DE-8037-18FDF92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B34B-F695-4B34-99BD-31C273C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98F-99BD-4A8A-8DD1-E70E68A7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8B39-5D8A-4A84-AFA2-B7FC5A39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F68-9C00-4018-A31F-F578F9A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87A-49ED-4EE1-A7D5-FB7EE1D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3CA-D3DB-44E0-BB8D-87A5ACC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178-9AEE-4D49-8F85-2E0D46C1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5A6-BFAC-4957-AF18-4D350FA5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635-0E66-4ACF-AF60-DE82563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8B4-1299-4D23-803E-3AB015A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2DA0-703A-4C0D-B0D9-5457FB241A2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D99-3B37-43D3-BA6A-F81A7F02C18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vickers@vsac.or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8080" y="4876560"/>
            <a:ext cx="73915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Vickers,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mont Student Assistance Corp. (VS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 Black"/>
              </a:rPr>
              <a:t>General Ses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Vermont – One State Network That Has Made Access and Awareness a State-wide Priority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67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153800" y="1989000"/>
            <a:ext cx="3006000" cy="3566160"/>
            <a:chOff x="1153800" y="1989000"/>
            <a:chExt cx="3006000" cy="3566160"/>
          </a:xfrm>
        </p:grpSpPr>
        <p:sp>
          <p:nvSpPr>
            <p:cNvPr id="182" name=""/>
            <p:cNvSpPr/>
            <p:nvPr/>
          </p:nvSpPr>
          <p:spPr>
            <a:xfrm rot="21177000">
              <a:off x="1650240" y="209052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7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069000">
              <a:off x="1332720" y="2835360"/>
              <a:ext cx="2648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Expand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treach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all H.S. level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&amp; adult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41400" y="1418400"/>
            <a:ext cx="2854800" cy="3504600"/>
            <a:chOff x="5441400" y="1418400"/>
            <a:chExt cx="2854800" cy="3504600"/>
          </a:xfrm>
        </p:grpSpPr>
        <p:sp>
          <p:nvSpPr>
            <p:cNvPr id="185" name=""/>
            <p:cNvSpPr/>
            <p:nvPr/>
          </p:nvSpPr>
          <p:spPr>
            <a:xfrm rot="20944200">
              <a:off x="5765400" y="157320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8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1047400">
              <a:off x="5627880" y="2209320"/>
              <a:ext cx="24818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SAC began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hift from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olely a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uaranto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to lender.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4F1-0B57-437A-8160-B5158E13B9B5}" type="slidenum">
              <a:t>10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89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37880" y="1989000"/>
            <a:ext cx="3219480" cy="3948840"/>
            <a:chOff x="1037880" y="1989000"/>
            <a:chExt cx="3219480" cy="3948840"/>
          </a:xfrm>
        </p:grpSpPr>
        <p:sp>
          <p:nvSpPr>
            <p:cNvPr id="204" name=""/>
            <p:cNvSpPr/>
            <p:nvPr/>
          </p:nvSpPr>
          <p:spPr>
            <a:xfrm rot="21177000">
              <a:off x="1650240" y="209052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069000">
              <a:off x="1253160" y="2722680"/>
              <a:ext cx="2788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Network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ith DET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help student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ith career,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Ed &amp; fin ai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60840" y="1495440"/>
            <a:ext cx="2393640" cy="2635920"/>
            <a:chOff x="5460840" y="1495440"/>
            <a:chExt cx="2393640" cy="2635920"/>
          </a:xfrm>
        </p:grpSpPr>
        <p:sp>
          <p:nvSpPr>
            <p:cNvPr id="207" name=""/>
            <p:cNvSpPr/>
            <p:nvPr/>
          </p:nvSpPr>
          <p:spPr>
            <a:xfrm rot="20944200">
              <a:off x="5724720" y="161568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5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047400">
              <a:off x="5571360" y="2411280"/>
              <a:ext cx="2172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ermont’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ole FFELP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lende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884-8121-4F4E-AAF9-7791EB730896}" type="slidenum">
              <a:t>11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211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69240" y="2038320"/>
            <a:ext cx="2111760" cy="2595960"/>
            <a:chOff x="1569240" y="2038320"/>
            <a:chExt cx="2111760" cy="2595960"/>
          </a:xfrm>
        </p:grpSpPr>
        <p:sp>
          <p:nvSpPr>
            <p:cNvPr id="226" name=""/>
            <p:cNvSpPr/>
            <p:nvPr/>
          </p:nvSpPr>
          <p:spPr>
            <a:xfrm rot="21177000">
              <a:off x="1607040" y="21175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99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069000">
              <a:off x="1681560" y="2941560"/>
              <a:ext cx="189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Begin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EAR-UP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rvice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70360" y="1495440"/>
            <a:ext cx="2313720" cy="3069360"/>
            <a:chOff x="5670360" y="1495440"/>
            <a:chExt cx="2313720" cy="3069360"/>
          </a:xfrm>
        </p:grpSpPr>
        <p:sp>
          <p:nvSpPr>
            <p:cNvPr id="229" name=""/>
            <p:cNvSpPr/>
            <p:nvPr/>
          </p:nvSpPr>
          <p:spPr>
            <a:xfrm rot="20944200">
              <a:off x="5724720" y="161568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2001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047400">
              <a:off x="5882760" y="2377800"/>
              <a:ext cx="1950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VSAC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Resource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Center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pen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2B1-855B-4C0B-B173-B518C1F44412}" type="slidenum">
              <a:t>12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276720" y="1676520"/>
            <a:ext cx="2590560" cy="4114800"/>
            <a:chOff x="3276720" y="1676520"/>
            <a:chExt cx="2590560" cy="41148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4248000" y="1676520"/>
              <a:ext cx="1334160" cy="21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3276720" y="2689200"/>
              <a:ext cx="2336760" cy="27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3276720" y="3405240"/>
              <a:ext cx="2590560" cy="238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"/>
            <p:cNvGrpSpPr/>
            <p:nvPr/>
          </p:nvGrpSpPr>
          <p:grpSpPr>
            <a:xfrm>
              <a:off x="4573800" y="3386880"/>
              <a:ext cx="1226520" cy="2019240"/>
              <a:chOff x="4573800" y="3386880"/>
              <a:chExt cx="1226520" cy="2019240"/>
            </a:xfrm>
          </p:grpSpPr>
          <p:sp>
            <p:nvSpPr>
              <p:cNvPr id="236" name=""/>
              <p:cNvSpPr/>
              <p:nvPr/>
            </p:nvSpPr>
            <p:spPr>
              <a:xfrm>
                <a:off x="4573800" y="3386880"/>
                <a:ext cx="1226520" cy="2019240"/>
              </a:xfrm>
              <a:custGeom>
                <a:avLst/>
                <a:gdLst/>
                <a:ahLst/>
                <a:rect l="l" t="t" r="r" b="b"/>
                <a:pathLst>
                  <a:path w="1845" h="3254">
                    <a:moveTo>
                      <a:pt x="1512" y="21"/>
                    </a:moveTo>
                    <a:lnTo>
                      <a:pt x="1521" y="13"/>
                    </a:lnTo>
                    <a:lnTo>
                      <a:pt x="1530" y="8"/>
                    </a:lnTo>
                    <a:lnTo>
                      <a:pt x="1542" y="8"/>
                    </a:lnTo>
                    <a:lnTo>
                      <a:pt x="1552" y="11"/>
                    </a:lnTo>
                    <a:lnTo>
                      <a:pt x="1570" y="29"/>
                    </a:lnTo>
                    <a:lnTo>
                      <a:pt x="1581" y="49"/>
                    </a:lnTo>
                    <a:lnTo>
                      <a:pt x="1586" y="73"/>
                    </a:lnTo>
                    <a:lnTo>
                      <a:pt x="1590" y="98"/>
                    </a:lnTo>
                    <a:lnTo>
                      <a:pt x="1590" y="123"/>
                    </a:lnTo>
                    <a:lnTo>
                      <a:pt x="1593" y="149"/>
                    </a:lnTo>
                    <a:lnTo>
                      <a:pt x="1599" y="172"/>
                    </a:lnTo>
                    <a:lnTo>
                      <a:pt x="1611" y="193"/>
                    </a:lnTo>
                    <a:lnTo>
                      <a:pt x="1611" y="198"/>
                    </a:lnTo>
                    <a:lnTo>
                      <a:pt x="1611" y="201"/>
                    </a:lnTo>
                    <a:lnTo>
                      <a:pt x="1614" y="205"/>
                    </a:lnTo>
                    <a:lnTo>
                      <a:pt x="1616" y="208"/>
                    </a:lnTo>
                    <a:lnTo>
                      <a:pt x="1619" y="191"/>
                    </a:lnTo>
                    <a:lnTo>
                      <a:pt x="1624" y="177"/>
                    </a:lnTo>
                    <a:lnTo>
                      <a:pt x="1631" y="164"/>
                    </a:lnTo>
                    <a:lnTo>
                      <a:pt x="1639" y="149"/>
                    </a:lnTo>
                    <a:lnTo>
                      <a:pt x="1647" y="137"/>
                    </a:lnTo>
                    <a:lnTo>
                      <a:pt x="1657" y="126"/>
                    </a:lnTo>
                    <a:lnTo>
                      <a:pt x="1668" y="114"/>
                    </a:lnTo>
                    <a:lnTo>
                      <a:pt x="1680" y="105"/>
                    </a:lnTo>
                    <a:lnTo>
                      <a:pt x="1691" y="106"/>
                    </a:lnTo>
                    <a:lnTo>
                      <a:pt x="1701" y="111"/>
                    </a:lnTo>
                    <a:lnTo>
                      <a:pt x="1709" y="119"/>
                    </a:lnTo>
                    <a:lnTo>
                      <a:pt x="1716" y="129"/>
                    </a:lnTo>
                    <a:lnTo>
                      <a:pt x="1717" y="159"/>
                    </a:lnTo>
                    <a:lnTo>
                      <a:pt x="1709" y="185"/>
                    </a:lnTo>
                    <a:lnTo>
                      <a:pt x="1698" y="209"/>
                    </a:lnTo>
                    <a:lnTo>
                      <a:pt x="1693" y="237"/>
                    </a:lnTo>
                    <a:lnTo>
                      <a:pt x="1691" y="265"/>
                    </a:lnTo>
                    <a:lnTo>
                      <a:pt x="1685" y="293"/>
                    </a:lnTo>
                    <a:lnTo>
                      <a:pt x="1681" y="319"/>
                    </a:lnTo>
                    <a:lnTo>
                      <a:pt x="1685" y="346"/>
                    </a:lnTo>
                    <a:lnTo>
                      <a:pt x="1683" y="390"/>
                    </a:lnTo>
                    <a:lnTo>
                      <a:pt x="1672" y="431"/>
                    </a:lnTo>
                    <a:lnTo>
                      <a:pt x="1662" y="472"/>
                    </a:lnTo>
                    <a:lnTo>
                      <a:pt x="1662" y="516"/>
                    </a:lnTo>
                    <a:lnTo>
                      <a:pt x="1660" y="532"/>
                    </a:lnTo>
                    <a:lnTo>
                      <a:pt x="1653" y="547"/>
                    </a:lnTo>
                    <a:lnTo>
                      <a:pt x="1647" y="562"/>
                    </a:lnTo>
                    <a:lnTo>
                      <a:pt x="1637" y="575"/>
                    </a:lnTo>
                    <a:lnTo>
                      <a:pt x="1631" y="590"/>
                    </a:lnTo>
                    <a:lnTo>
                      <a:pt x="1626" y="606"/>
                    </a:lnTo>
                    <a:lnTo>
                      <a:pt x="1626" y="623"/>
                    </a:lnTo>
                    <a:lnTo>
                      <a:pt x="1632" y="641"/>
                    </a:lnTo>
                    <a:lnTo>
                      <a:pt x="1645" y="682"/>
                    </a:lnTo>
                    <a:lnTo>
                      <a:pt x="1657" y="683"/>
                    </a:lnTo>
                    <a:lnTo>
                      <a:pt x="1670" y="687"/>
                    </a:lnTo>
                    <a:lnTo>
                      <a:pt x="1680" y="691"/>
                    </a:lnTo>
                    <a:lnTo>
                      <a:pt x="1690" y="698"/>
                    </a:lnTo>
                    <a:lnTo>
                      <a:pt x="1699" y="716"/>
                    </a:lnTo>
                    <a:lnTo>
                      <a:pt x="1706" y="736"/>
                    </a:lnTo>
                    <a:lnTo>
                      <a:pt x="1709" y="755"/>
                    </a:lnTo>
                    <a:lnTo>
                      <a:pt x="1713" y="777"/>
                    </a:lnTo>
                    <a:lnTo>
                      <a:pt x="1716" y="796"/>
                    </a:lnTo>
                    <a:lnTo>
                      <a:pt x="1721" y="816"/>
                    </a:lnTo>
                    <a:lnTo>
                      <a:pt x="1729" y="834"/>
                    </a:lnTo>
                    <a:lnTo>
                      <a:pt x="1742" y="851"/>
                    </a:lnTo>
                    <a:lnTo>
                      <a:pt x="1758" y="911"/>
                    </a:lnTo>
                    <a:lnTo>
                      <a:pt x="1767" y="975"/>
                    </a:lnTo>
                    <a:lnTo>
                      <a:pt x="1772" y="1041"/>
                    </a:lnTo>
                    <a:lnTo>
                      <a:pt x="1773" y="1106"/>
                    </a:lnTo>
                    <a:lnTo>
                      <a:pt x="1775" y="1193"/>
                    </a:lnTo>
                    <a:lnTo>
                      <a:pt x="1776" y="1278"/>
                    </a:lnTo>
                    <a:lnTo>
                      <a:pt x="1781" y="1364"/>
                    </a:lnTo>
                    <a:lnTo>
                      <a:pt x="1793" y="1447"/>
                    </a:lnTo>
                    <a:lnTo>
                      <a:pt x="1788" y="1480"/>
                    </a:lnTo>
                    <a:lnTo>
                      <a:pt x="1778" y="1510"/>
                    </a:lnTo>
                    <a:lnTo>
                      <a:pt x="1765" y="1539"/>
                    </a:lnTo>
                    <a:lnTo>
                      <a:pt x="1750" y="1567"/>
                    </a:lnTo>
                    <a:lnTo>
                      <a:pt x="1608" y="1829"/>
                    </a:lnTo>
                    <a:lnTo>
                      <a:pt x="1489" y="2042"/>
                    </a:lnTo>
                    <a:lnTo>
                      <a:pt x="1475" y="2078"/>
                    </a:lnTo>
                    <a:lnTo>
                      <a:pt x="1468" y="2115"/>
                    </a:lnTo>
                    <a:lnTo>
                      <a:pt x="1465" y="2154"/>
                    </a:lnTo>
                    <a:lnTo>
                      <a:pt x="1465" y="2193"/>
                    </a:lnTo>
                    <a:lnTo>
                      <a:pt x="1534" y="2342"/>
                    </a:lnTo>
                    <a:lnTo>
                      <a:pt x="1547" y="2388"/>
                    </a:lnTo>
                    <a:lnTo>
                      <a:pt x="1562" y="2433"/>
                    </a:lnTo>
                    <a:lnTo>
                      <a:pt x="1573" y="2480"/>
                    </a:lnTo>
                    <a:lnTo>
                      <a:pt x="1576" y="2529"/>
                    </a:lnTo>
                    <a:lnTo>
                      <a:pt x="1588" y="2606"/>
                    </a:lnTo>
                    <a:lnTo>
                      <a:pt x="1593" y="2683"/>
                    </a:lnTo>
                    <a:lnTo>
                      <a:pt x="1596" y="2764"/>
                    </a:lnTo>
                    <a:lnTo>
                      <a:pt x="1599" y="2842"/>
                    </a:lnTo>
                    <a:lnTo>
                      <a:pt x="1627" y="2844"/>
                    </a:lnTo>
                    <a:lnTo>
                      <a:pt x="1655" y="2846"/>
                    </a:lnTo>
                    <a:lnTo>
                      <a:pt x="1683" y="2846"/>
                    </a:lnTo>
                    <a:lnTo>
                      <a:pt x="1711" y="2846"/>
                    </a:lnTo>
                    <a:lnTo>
                      <a:pt x="1740" y="2846"/>
                    </a:lnTo>
                    <a:lnTo>
                      <a:pt x="1768" y="2847"/>
                    </a:lnTo>
                    <a:lnTo>
                      <a:pt x="1796" y="2847"/>
                    </a:lnTo>
                    <a:lnTo>
                      <a:pt x="1822" y="2849"/>
                    </a:lnTo>
                    <a:lnTo>
                      <a:pt x="1834" y="2859"/>
                    </a:lnTo>
                    <a:lnTo>
                      <a:pt x="1842" y="2870"/>
                    </a:lnTo>
                    <a:lnTo>
                      <a:pt x="1845" y="2883"/>
                    </a:lnTo>
                    <a:lnTo>
                      <a:pt x="1845" y="2898"/>
                    </a:lnTo>
                    <a:lnTo>
                      <a:pt x="1840" y="2913"/>
                    </a:lnTo>
                    <a:lnTo>
                      <a:pt x="1829" y="2926"/>
                    </a:lnTo>
                    <a:lnTo>
                      <a:pt x="1817" y="2936"/>
                    </a:lnTo>
                    <a:lnTo>
                      <a:pt x="1813" y="2939"/>
                    </a:lnTo>
                    <a:lnTo>
                      <a:pt x="1806" y="2983"/>
                    </a:lnTo>
                    <a:lnTo>
                      <a:pt x="1795" y="3033"/>
                    </a:lnTo>
                    <a:lnTo>
                      <a:pt x="1783" y="3085"/>
                    </a:lnTo>
                    <a:lnTo>
                      <a:pt x="1770" y="3136"/>
                    </a:lnTo>
                    <a:lnTo>
                      <a:pt x="1757" y="3182"/>
                    </a:lnTo>
                    <a:lnTo>
                      <a:pt x="1747" y="3220"/>
                    </a:lnTo>
                    <a:lnTo>
                      <a:pt x="1740" y="3244"/>
                    </a:lnTo>
                    <a:lnTo>
                      <a:pt x="1737" y="3254"/>
                    </a:lnTo>
                    <a:lnTo>
                      <a:pt x="1732" y="3254"/>
                    </a:lnTo>
                    <a:lnTo>
                      <a:pt x="1719" y="3254"/>
                    </a:lnTo>
                    <a:lnTo>
                      <a:pt x="1698" y="3254"/>
                    </a:lnTo>
                    <a:lnTo>
                      <a:pt x="1668" y="3254"/>
                    </a:lnTo>
                    <a:lnTo>
                      <a:pt x="1632" y="3254"/>
                    </a:lnTo>
                    <a:lnTo>
                      <a:pt x="1590" y="3254"/>
                    </a:lnTo>
                    <a:lnTo>
                      <a:pt x="1540" y="3254"/>
                    </a:lnTo>
                    <a:lnTo>
                      <a:pt x="1486" y="3254"/>
                    </a:lnTo>
                    <a:lnTo>
                      <a:pt x="1429" y="3254"/>
                    </a:lnTo>
                    <a:lnTo>
                      <a:pt x="1366" y="3254"/>
                    </a:lnTo>
                    <a:lnTo>
                      <a:pt x="1299" y="3254"/>
                    </a:lnTo>
                    <a:lnTo>
                      <a:pt x="1230" y="3254"/>
                    </a:lnTo>
                    <a:lnTo>
                      <a:pt x="1160" y="3254"/>
                    </a:lnTo>
                    <a:lnTo>
                      <a:pt x="1086" y="3254"/>
                    </a:lnTo>
                    <a:lnTo>
                      <a:pt x="1012" y="3254"/>
                    </a:lnTo>
                    <a:lnTo>
                      <a:pt x="937" y="3254"/>
                    </a:lnTo>
                    <a:lnTo>
                      <a:pt x="861" y="3254"/>
                    </a:lnTo>
                    <a:lnTo>
                      <a:pt x="788" y="3254"/>
                    </a:lnTo>
                    <a:lnTo>
                      <a:pt x="714" y="3254"/>
                    </a:lnTo>
                    <a:lnTo>
                      <a:pt x="643" y="3254"/>
                    </a:lnTo>
                    <a:lnTo>
                      <a:pt x="573" y="3254"/>
                    </a:lnTo>
                    <a:lnTo>
                      <a:pt x="507" y="3254"/>
                    </a:lnTo>
                    <a:lnTo>
                      <a:pt x="445" y="3254"/>
                    </a:lnTo>
                    <a:lnTo>
                      <a:pt x="386" y="3254"/>
                    </a:lnTo>
                    <a:lnTo>
                      <a:pt x="332" y="3254"/>
                    </a:lnTo>
                    <a:lnTo>
                      <a:pt x="284" y="3254"/>
                    </a:lnTo>
                    <a:lnTo>
                      <a:pt x="240" y="3254"/>
                    </a:lnTo>
                    <a:lnTo>
                      <a:pt x="204" y="3254"/>
                    </a:lnTo>
                    <a:lnTo>
                      <a:pt x="174" y="3254"/>
                    </a:lnTo>
                    <a:lnTo>
                      <a:pt x="153" y="3254"/>
                    </a:lnTo>
                    <a:lnTo>
                      <a:pt x="140" y="3254"/>
                    </a:lnTo>
                    <a:lnTo>
                      <a:pt x="135" y="3254"/>
                    </a:lnTo>
                    <a:lnTo>
                      <a:pt x="120" y="3218"/>
                    </a:lnTo>
                    <a:lnTo>
                      <a:pt x="105" y="3180"/>
                    </a:lnTo>
                    <a:lnTo>
                      <a:pt x="94" y="3143"/>
                    </a:lnTo>
                    <a:lnTo>
                      <a:pt x="82" y="3105"/>
                    </a:lnTo>
                    <a:lnTo>
                      <a:pt x="72" y="3065"/>
                    </a:lnTo>
                    <a:lnTo>
                      <a:pt x="64" y="3028"/>
                    </a:lnTo>
                    <a:lnTo>
                      <a:pt x="56" y="2988"/>
                    </a:lnTo>
                    <a:lnTo>
                      <a:pt x="49" y="2951"/>
                    </a:lnTo>
                    <a:lnTo>
                      <a:pt x="43" y="2944"/>
                    </a:lnTo>
                    <a:lnTo>
                      <a:pt x="35" y="2941"/>
                    </a:lnTo>
                    <a:lnTo>
                      <a:pt x="27" y="2941"/>
                    </a:lnTo>
                    <a:lnTo>
                      <a:pt x="20" y="2938"/>
                    </a:lnTo>
                    <a:lnTo>
                      <a:pt x="10" y="2924"/>
                    </a:lnTo>
                    <a:lnTo>
                      <a:pt x="4" y="2910"/>
                    </a:lnTo>
                    <a:lnTo>
                      <a:pt x="0" y="2895"/>
                    </a:lnTo>
                    <a:lnTo>
                      <a:pt x="2" y="2879"/>
                    </a:lnTo>
                    <a:lnTo>
                      <a:pt x="5" y="2869"/>
                    </a:lnTo>
                    <a:lnTo>
                      <a:pt x="13" y="2862"/>
                    </a:lnTo>
                    <a:lnTo>
                      <a:pt x="20" y="2854"/>
                    </a:lnTo>
                    <a:lnTo>
                      <a:pt x="23" y="2847"/>
                    </a:lnTo>
                    <a:lnTo>
                      <a:pt x="36" y="2849"/>
                    </a:lnTo>
                    <a:lnTo>
                      <a:pt x="51" y="2851"/>
                    </a:lnTo>
                    <a:lnTo>
                      <a:pt x="66" y="2852"/>
                    </a:lnTo>
                    <a:lnTo>
                      <a:pt x="81" y="2851"/>
                    </a:lnTo>
                    <a:lnTo>
                      <a:pt x="97" y="2851"/>
                    </a:lnTo>
                    <a:lnTo>
                      <a:pt x="113" y="2851"/>
                    </a:lnTo>
                    <a:lnTo>
                      <a:pt x="130" y="2851"/>
                    </a:lnTo>
                    <a:lnTo>
                      <a:pt x="146" y="2851"/>
                    </a:lnTo>
                    <a:lnTo>
                      <a:pt x="136" y="2790"/>
                    </a:lnTo>
                    <a:lnTo>
                      <a:pt x="127" y="2729"/>
                    </a:lnTo>
                    <a:lnTo>
                      <a:pt x="120" y="2667"/>
                    </a:lnTo>
                    <a:lnTo>
                      <a:pt x="117" y="2603"/>
                    </a:lnTo>
                    <a:lnTo>
                      <a:pt x="127" y="2379"/>
                    </a:lnTo>
                    <a:lnTo>
                      <a:pt x="133" y="2336"/>
                    </a:lnTo>
                    <a:lnTo>
                      <a:pt x="140" y="2293"/>
                    </a:lnTo>
                    <a:lnTo>
                      <a:pt x="148" y="2251"/>
                    </a:lnTo>
                    <a:lnTo>
                      <a:pt x="158" y="2208"/>
                    </a:lnTo>
                    <a:lnTo>
                      <a:pt x="169" y="2169"/>
                    </a:lnTo>
                    <a:lnTo>
                      <a:pt x="184" y="2128"/>
                    </a:lnTo>
                    <a:lnTo>
                      <a:pt x="204" y="2090"/>
                    </a:lnTo>
                    <a:lnTo>
                      <a:pt x="225" y="2054"/>
                    </a:lnTo>
                    <a:lnTo>
                      <a:pt x="292" y="2000"/>
                    </a:lnTo>
                    <a:lnTo>
                      <a:pt x="435" y="1918"/>
                    </a:lnTo>
                    <a:lnTo>
                      <a:pt x="458" y="1905"/>
                    </a:lnTo>
                    <a:lnTo>
                      <a:pt x="479" y="1890"/>
                    </a:lnTo>
                    <a:lnTo>
                      <a:pt x="496" y="1870"/>
                    </a:lnTo>
                    <a:lnTo>
                      <a:pt x="512" y="1851"/>
                    </a:lnTo>
                    <a:lnTo>
                      <a:pt x="528" y="1829"/>
                    </a:lnTo>
                    <a:lnTo>
                      <a:pt x="545" y="1808"/>
                    </a:lnTo>
                    <a:lnTo>
                      <a:pt x="561" y="1788"/>
                    </a:lnTo>
                    <a:lnTo>
                      <a:pt x="579" y="1770"/>
                    </a:lnTo>
                    <a:lnTo>
                      <a:pt x="568" y="1764"/>
                    </a:lnTo>
                    <a:lnTo>
                      <a:pt x="558" y="1760"/>
                    </a:lnTo>
                    <a:lnTo>
                      <a:pt x="546" y="1756"/>
                    </a:lnTo>
                    <a:lnTo>
                      <a:pt x="535" y="1752"/>
                    </a:lnTo>
                    <a:lnTo>
                      <a:pt x="523" y="1749"/>
                    </a:lnTo>
                    <a:lnTo>
                      <a:pt x="514" y="1742"/>
                    </a:lnTo>
                    <a:lnTo>
                      <a:pt x="505" y="1736"/>
                    </a:lnTo>
                    <a:lnTo>
                      <a:pt x="497" y="1726"/>
                    </a:lnTo>
                    <a:lnTo>
                      <a:pt x="494" y="1683"/>
                    </a:lnTo>
                    <a:lnTo>
                      <a:pt x="491" y="1641"/>
                    </a:lnTo>
                    <a:lnTo>
                      <a:pt x="487" y="1596"/>
                    </a:lnTo>
                    <a:lnTo>
                      <a:pt x="492" y="1552"/>
                    </a:lnTo>
                    <a:lnTo>
                      <a:pt x="474" y="1521"/>
                    </a:lnTo>
                    <a:lnTo>
                      <a:pt x="461" y="1488"/>
                    </a:lnTo>
                    <a:lnTo>
                      <a:pt x="455" y="1454"/>
                    </a:lnTo>
                    <a:lnTo>
                      <a:pt x="453" y="1416"/>
                    </a:lnTo>
                    <a:lnTo>
                      <a:pt x="458" y="1390"/>
                    </a:lnTo>
                    <a:lnTo>
                      <a:pt x="464" y="1365"/>
                    </a:lnTo>
                    <a:lnTo>
                      <a:pt x="474" y="1342"/>
                    </a:lnTo>
                    <a:lnTo>
                      <a:pt x="491" y="1323"/>
                    </a:lnTo>
                    <a:lnTo>
                      <a:pt x="497" y="1264"/>
                    </a:lnTo>
                    <a:lnTo>
                      <a:pt x="510" y="1205"/>
                    </a:lnTo>
                    <a:lnTo>
                      <a:pt x="532" y="1149"/>
                    </a:lnTo>
                    <a:lnTo>
                      <a:pt x="560" y="1096"/>
                    </a:lnTo>
                    <a:lnTo>
                      <a:pt x="594" y="1049"/>
                    </a:lnTo>
                    <a:lnTo>
                      <a:pt x="637" y="1006"/>
                    </a:lnTo>
                    <a:lnTo>
                      <a:pt x="684" y="970"/>
                    </a:lnTo>
                    <a:lnTo>
                      <a:pt x="738" y="941"/>
                    </a:lnTo>
                    <a:lnTo>
                      <a:pt x="768" y="929"/>
                    </a:lnTo>
                    <a:lnTo>
                      <a:pt x="799" y="921"/>
                    </a:lnTo>
                    <a:lnTo>
                      <a:pt x="832" y="916"/>
                    </a:lnTo>
                    <a:lnTo>
                      <a:pt x="865" y="913"/>
                    </a:lnTo>
                    <a:lnTo>
                      <a:pt x="899" y="914"/>
                    </a:lnTo>
                    <a:lnTo>
                      <a:pt x="932" y="919"/>
                    </a:lnTo>
                    <a:lnTo>
                      <a:pt x="965" y="926"/>
                    </a:lnTo>
                    <a:lnTo>
                      <a:pt x="996" y="936"/>
                    </a:lnTo>
                    <a:lnTo>
                      <a:pt x="1019" y="939"/>
                    </a:lnTo>
                    <a:lnTo>
                      <a:pt x="1042" y="942"/>
                    </a:lnTo>
                    <a:lnTo>
                      <a:pt x="1066" y="946"/>
                    </a:lnTo>
                    <a:lnTo>
                      <a:pt x="1089" y="951"/>
                    </a:lnTo>
                    <a:lnTo>
                      <a:pt x="1111" y="955"/>
                    </a:lnTo>
                    <a:lnTo>
                      <a:pt x="1134" y="962"/>
                    </a:lnTo>
                    <a:lnTo>
                      <a:pt x="1155" y="970"/>
                    </a:lnTo>
                    <a:lnTo>
                      <a:pt x="1176" y="978"/>
                    </a:lnTo>
                    <a:lnTo>
                      <a:pt x="1188" y="982"/>
                    </a:lnTo>
                    <a:lnTo>
                      <a:pt x="1199" y="987"/>
                    </a:lnTo>
                    <a:lnTo>
                      <a:pt x="1209" y="993"/>
                    </a:lnTo>
                    <a:lnTo>
                      <a:pt x="1219" y="1001"/>
                    </a:lnTo>
                    <a:lnTo>
                      <a:pt x="1227" y="1011"/>
                    </a:lnTo>
                    <a:lnTo>
                      <a:pt x="1235" y="1019"/>
                    </a:lnTo>
                    <a:lnTo>
                      <a:pt x="1243" y="1029"/>
                    </a:lnTo>
                    <a:lnTo>
                      <a:pt x="1252" y="1037"/>
                    </a:lnTo>
                    <a:lnTo>
                      <a:pt x="1281" y="1085"/>
                    </a:lnTo>
                    <a:lnTo>
                      <a:pt x="1302" y="1136"/>
                    </a:lnTo>
                    <a:lnTo>
                      <a:pt x="1312" y="1193"/>
                    </a:lnTo>
                    <a:lnTo>
                      <a:pt x="1316" y="1251"/>
                    </a:lnTo>
                    <a:lnTo>
                      <a:pt x="1309" y="1308"/>
                    </a:lnTo>
                    <a:lnTo>
                      <a:pt x="1298" y="1364"/>
                    </a:lnTo>
                    <a:lnTo>
                      <a:pt x="1278" y="1418"/>
                    </a:lnTo>
                    <a:lnTo>
                      <a:pt x="1253" y="1465"/>
                    </a:lnTo>
                    <a:lnTo>
                      <a:pt x="1250" y="1490"/>
                    </a:lnTo>
                    <a:lnTo>
                      <a:pt x="1243" y="1513"/>
                    </a:lnTo>
                    <a:lnTo>
                      <a:pt x="1237" y="1536"/>
                    </a:lnTo>
                    <a:lnTo>
                      <a:pt x="1227" y="1559"/>
                    </a:lnTo>
                    <a:lnTo>
                      <a:pt x="1216" y="1578"/>
                    </a:lnTo>
                    <a:lnTo>
                      <a:pt x="1201" y="1596"/>
                    </a:lnTo>
                    <a:lnTo>
                      <a:pt x="1183" y="1613"/>
                    </a:lnTo>
                    <a:lnTo>
                      <a:pt x="1161" y="1624"/>
                    </a:lnTo>
                    <a:lnTo>
                      <a:pt x="1153" y="1639"/>
                    </a:lnTo>
                    <a:lnTo>
                      <a:pt x="1145" y="1654"/>
                    </a:lnTo>
                    <a:lnTo>
                      <a:pt x="1137" y="1669"/>
                    </a:lnTo>
                    <a:lnTo>
                      <a:pt x="1130" y="1683"/>
                    </a:lnTo>
                    <a:lnTo>
                      <a:pt x="1137" y="1683"/>
                    </a:lnTo>
                    <a:lnTo>
                      <a:pt x="1143" y="1683"/>
                    </a:lnTo>
                    <a:lnTo>
                      <a:pt x="1150" y="1682"/>
                    </a:lnTo>
                    <a:lnTo>
                      <a:pt x="1157" y="1682"/>
                    </a:lnTo>
                    <a:lnTo>
                      <a:pt x="1165" y="1680"/>
                    </a:lnTo>
                    <a:lnTo>
                      <a:pt x="1171" y="1680"/>
                    </a:lnTo>
                    <a:lnTo>
                      <a:pt x="1178" y="1680"/>
                    </a:lnTo>
                    <a:lnTo>
                      <a:pt x="1184" y="1682"/>
                    </a:lnTo>
                    <a:lnTo>
                      <a:pt x="1191" y="1667"/>
                    </a:lnTo>
                    <a:lnTo>
                      <a:pt x="1199" y="1652"/>
                    </a:lnTo>
                    <a:lnTo>
                      <a:pt x="1209" y="1637"/>
                    </a:lnTo>
                    <a:lnTo>
                      <a:pt x="1219" y="1624"/>
                    </a:lnTo>
                    <a:lnTo>
                      <a:pt x="1230" y="1611"/>
                    </a:lnTo>
                    <a:lnTo>
                      <a:pt x="1240" y="1598"/>
                    </a:lnTo>
                    <a:lnTo>
                      <a:pt x="1252" y="1583"/>
                    </a:lnTo>
                    <a:lnTo>
                      <a:pt x="1260" y="1570"/>
                    </a:lnTo>
                    <a:lnTo>
                      <a:pt x="1276" y="1537"/>
                    </a:lnTo>
                    <a:lnTo>
                      <a:pt x="1291" y="1505"/>
                    </a:lnTo>
                    <a:lnTo>
                      <a:pt x="1304" y="1470"/>
                    </a:lnTo>
                    <a:lnTo>
                      <a:pt x="1316" y="1436"/>
                    </a:lnTo>
                    <a:lnTo>
                      <a:pt x="1325" y="1401"/>
                    </a:lnTo>
                    <a:lnTo>
                      <a:pt x="1334" y="1365"/>
                    </a:lnTo>
                    <a:lnTo>
                      <a:pt x="1342" y="1329"/>
                    </a:lnTo>
                    <a:lnTo>
                      <a:pt x="1350" y="1293"/>
                    </a:lnTo>
                    <a:lnTo>
                      <a:pt x="1358" y="1278"/>
                    </a:lnTo>
                    <a:lnTo>
                      <a:pt x="1368" y="1264"/>
                    </a:lnTo>
                    <a:lnTo>
                      <a:pt x="1378" y="1251"/>
                    </a:lnTo>
                    <a:lnTo>
                      <a:pt x="1391" y="1237"/>
                    </a:lnTo>
                    <a:lnTo>
                      <a:pt x="1391" y="1077"/>
                    </a:lnTo>
                    <a:lnTo>
                      <a:pt x="1393" y="1047"/>
                    </a:lnTo>
                    <a:lnTo>
                      <a:pt x="1393" y="1016"/>
                    </a:lnTo>
                    <a:lnTo>
                      <a:pt x="1394" y="987"/>
                    </a:lnTo>
                    <a:lnTo>
                      <a:pt x="1398" y="957"/>
                    </a:lnTo>
                    <a:lnTo>
                      <a:pt x="1404" y="929"/>
                    </a:lnTo>
                    <a:lnTo>
                      <a:pt x="1416" y="903"/>
                    </a:lnTo>
                    <a:lnTo>
                      <a:pt x="1430" y="880"/>
                    </a:lnTo>
                    <a:lnTo>
                      <a:pt x="1452" y="859"/>
                    </a:lnTo>
                    <a:lnTo>
                      <a:pt x="1448" y="841"/>
                    </a:lnTo>
                    <a:lnTo>
                      <a:pt x="1445" y="823"/>
                    </a:lnTo>
                    <a:lnTo>
                      <a:pt x="1440" y="801"/>
                    </a:lnTo>
                    <a:lnTo>
                      <a:pt x="1439" y="782"/>
                    </a:lnTo>
                    <a:lnTo>
                      <a:pt x="1439" y="762"/>
                    </a:lnTo>
                    <a:lnTo>
                      <a:pt x="1444" y="744"/>
                    </a:lnTo>
                    <a:lnTo>
                      <a:pt x="1452" y="726"/>
                    </a:lnTo>
                    <a:lnTo>
                      <a:pt x="1468" y="713"/>
                    </a:lnTo>
                    <a:lnTo>
                      <a:pt x="1467" y="695"/>
                    </a:lnTo>
                    <a:lnTo>
                      <a:pt x="1463" y="678"/>
                    </a:lnTo>
                    <a:lnTo>
                      <a:pt x="1457" y="662"/>
                    </a:lnTo>
                    <a:lnTo>
                      <a:pt x="1448" y="646"/>
                    </a:lnTo>
                    <a:lnTo>
                      <a:pt x="1440" y="631"/>
                    </a:lnTo>
                    <a:lnTo>
                      <a:pt x="1429" y="616"/>
                    </a:lnTo>
                    <a:lnTo>
                      <a:pt x="1417" y="603"/>
                    </a:lnTo>
                    <a:lnTo>
                      <a:pt x="1404" y="590"/>
                    </a:lnTo>
                    <a:lnTo>
                      <a:pt x="1388" y="549"/>
                    </a:lnTo>
                    <a:lnTo>
                      <a:pt x="1378" y="505"/>
                    </a:lnTo>
                    <a:lnTo>
                      <a:pt x="1368" y="459"/>
                    </a:lnTo>
                    <a:lnTo>
                      <a:pt x="1357" y="414"/>
                    </a:lnTo>
                    <a:lnTo>
                      <a:pt x="1358" y="383"/>
                    </a:lnTo>
                    <a:lnTo>
                      <a:pt x="1370" y="354"/>
                    </a:lnTo>
                    <a:lnTo>
                      <a:pt x="1381" y="326"/>
                    </a:lnTo>
                    <a:lnTo>
                      <a:pt x="1386" y="295"/>
                    </a:lnTo>
                    <a:lnTo>
                      <a:pt x="1386" y="260"/>
                    </a:lnTo>
                    <a:lnTo>
                      <a:pt x="1385" y="226"/>
                    </a:lnTo>
                    <a:lnTo>
                      <a:pt x="1380" y="191"/>
                    </a:lnTo>
                    <a:lnTo>
                      <a:pt x="1378" y="159"/>
                    </a:lnTo>
                    <a:lnTo>
                      <a:pt x="1380" y="126"/>
                    </a:lnTo>
                    <a:lnTo>
                      <a:pt x="1388" y="96"/>
                    </a:lnTo>
                    <a:lnTo>
                      <a:pt x="1403" y="68"/>
                    </a:lnTo>
                    <a:lnTo>
                      <a:pt x="1427" y="42"/>
                    </a:lnTo>
                    <a:lnTo>
                      <a:pt x="1435" y="41"/>
                    </a:lnTo>
                    <a:lnTo>
                      <a:pt x="1442" y="36"/>
                    </a:lnTo>
                    <a:lnTo>
                      <a:pt x="1447" y="29"/>
                    </a:lnTo>
                    <a:lnTo>
                      <a:pt x="1450" y="21"/>
                    </a:lnTo>
                    <a:lnTo>
                      <a:pt x="1455" y="14"/>
                    </a:lnTo>
                    <a:lnTo>
                      <a:pt x="1460" y="6"/>
                    </a:lnTo>
                    <a:lnTo>
                      <a:pt x="1467" y="1"/>
                    </a:lnTo>
                    <a:lnTo>
                      <a:pt x="1476" y="0"/>
                    </a:lnTo>
                    <a:lnTo>
                      <a:pt x="1488" y="0"/>
                    </a:lnTo>
                    <a:lnTo>
                      <a:pt x="1498" y="5"/>
                    </a:lnTo>
                    <a:lnTo>
                      <a:pt x="1504" y="11"/>
                    </a:lnTo>
                    <a:lnTo>
                      <a:pt x="15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97200" y="3405240"/>
                <a:ext cx="179280" cy="449280"/>
              </a:xfrm>
              <a:custGeom>
                <a:avLst/>
                <a:gdLst/>
                <a:ahLst/>
                <a:rect l="l" t="t" r="r" b="b"/>
                <a:pathLst>
                  <a:path w="269" h="725">
                    <a:moveTo>
                      <a:pt x="102" y="2"/>
                    </a:moveTo>
                    <a:lnTo>
                      <a:pt x="107" y="10"/>
                    </a:lnTo>
                    <a:lnTo>
                      <a:pt x="109" y="17"/>
                    </a:lnTo>
                    <a:lnTo>
                      <a:pt x="110" y="23"/>
                    </a:lnTo>
                    <a:lnTo>
                      <a:pt x="110" y="30"/>
                    </a:lnTo>
                    <a:lnTo>
                      <a:pt x="105" y="56"/>
                    </a:lnTo>
                    <a:lnTo>
                      <a:pt x="107" y="79"/>
                    </a:lnTo>
                    <a:lnTo>
                      <a:pt x="112" y="102"/>
                    </a:lnTo>
                    <a:lnTo>
                      <a:pt x="119" y="123"/>
                    </a:lnTo>
                    <a:lnTo>
                      <a:pt x="125" y="144"/>
                    </a:lnTo>
                    <a:lnTo>
                      <a:pt x="132" y="167"/>
                    </a:lnTo>
                    <a:lnTo>
                      <a:pt x="137" y="189"/>
                    </a:lnTo>
                    <a:lnTo>
                      <a:pt x="137" y="213"/>
                    </a:lnTo>
                    <a:lnTo>
                      <a:pt x="135" y="217"/>
                    </a:lnTo>
                    <a:lnTo>
                      <a:pt x="133" y="218"/>
                    </a:lnTo>
                    <a:lnTo>
                      <a:pt x="132" y="221"/>
                    </a:lnTo>
                    <a:lnTo>
                      <a:pt x="132" y="226"/>
                    </a:lnTo>
                    <a:lnTo>
                      <a:pt x="138" y="233"/>
                    </a:lnTo>
                    <a:lnTo>
                      <a:pt x="145" y="233"/>
                    </a:lnTo>
                    <a:lnTo>
                      <a:pt x="153" y="231"/>
                    </a:lnTo>
                    <a:lnTo>
                      <a:pt x="160" y="230"/>
                    </a:lnTo>
                    <a:lnTo>
                      <a:pt x="171" y="231"/>
                    </a:lnTo>
                    <a:lnTo>
                      <a:pt x="182" y="233"/>
                    </a:lnTo>
                    <a:lnTo>
                      <a:pt x="194" y="231"/>
                    </a:lnTo>
                    <a:lnTo>
                      <a:pt x="202" y="226"/>
                    </a:lnTo>
                    <a:lnTo>
                      <a:pt x="196" y="218"/>
                    </a:lnTo>
                    <a:lnTo>
                      <a:pt x="184" y="215"/>
                    </a:lnTo>
                    <a:lnTo>
                      <a:pt x="173" y="213"/>
                    </a:lnTo>
                    <a:lnTo>
                      <a:pt x="161" y="212"/>
                    </a:lnTo>
                    <a:lnTo>
                      <a:pt x="158" y="180"/>
                    </a:lnTo>
                    <a:lnTo>
                      <a:pt x="155" y="148"/>
                    </a:lnTo>
                    <a:lnTo>
                      <a:pt x="150" y="117"/>
                    </a:lnTo>
                    <a:lnTo>
                      <a:pt x="140" y="87"/>
                    </a:lnTo>
                    <a:lnTo>
                      <a:pt x="137" y="66"/>
                    </a:lnTo>
                    <a:lnTo>
                      <a:pt x="137" y="44"/>
                    </a:lnTo>
                    <a:lnTo>
                      <a:pt x="140" y="25"/>
                    </a:lnTo>
                    <a:lnTo>
                      <a:pt x="145" y="7"/>
                    </a:lnTo>
                    <a:lnTo>
                      <a:pt x="158" y="13"/>
                    </a:lnTo>
                    <a:lnTo>
                      <a:pt x="166" y="25"/>
                    </a:lnTo>
                    <a:lnTo>
                      <a:pt x="169" y="39"/>
                    </a:lnTo>
                    <a:lnTo>
                      <a:pt x="173" y="54"/>
                    </a:lnTo>
                    <a:lnTo>
                      <a:pt x="176" y="97"/>
                    </a:lnTo>
                    <a:lnTo>
                      <a:pt x="187" y="136"/>
                    </a:lnTo>
                    <a:lnTo>
                      <a:pt x="201" y="176"/>
                    </a:lnTo>
                    <a:lnTo>
                      <a:pt x="202" y="218"/>
                    </a:lnTo>
                    <a:lnTo>
                      <a:pt x="207" y="226"/>
                    </a:lnTo>
                    <a:lnTo>
                      <a:pt x="214" y="236"/>
                    </a:lnTo>
                    <a:lnTo>
                      <a:pt x="220" y="244"/>
                    </a:lnTo>
                    <a:lnTo>
                      <a:pt x="230" y="248"/>
                    </a:lnTo>
                    <a:lnTo>
                      <a:pt x="245" y="264"/>
                    </a:lnTo>
                    <a:lnTo>
                      <a:pt x="258" y="282"/>
                    </a:lnTo>
                    <a:lnTo>
                      <a:pt x="266" y="302"/>
                    </a:lnTo>
                    <a:lnTo>
                      <a:pt x="269" y="323"/>
                    </a:lnTo>
                    <a:lnTo>
                      <a:pt x="268" y="344"/>
                    </a:lnTo>
                    <a:lnTo>
                      <a:pt x="263" y="364"/>
                    </a:lnTo>
                    <a:lnTo>
                      <a:pt x="256" y="384"/>
                    </a:lnTo>
                    <a:lnTo>
                      <a:pt x="248" y="402"/>
                    </a:lnTo>
                    <a:lnTo>
                      <a:pt x="248" y="421"/>
                    </a:lnTo>
                    <a:lnTo>
                      <a:pt x="250" y="443"/>
                    </a:lnTo>
                    <a:lnTo>
                      <a:pt x="248" y="464"/>
                    </a:lnTo>
                    <a:lnTo>
                      <a:pt x="245" y="484"/>
                    </a:lnTo>
                    <a:lnTo>
                      <a:pt x="240" y="502"/>
                    </a:lnTo>
                    <a:lnTo>
                      <a:pt x="232" y="520"/>
                    </a:lnTo>
                    <a:lnTo>
                      <a:pt x="219" y="533"/>
                    </a:lnTo>
                    <a:lnTo>
                      <a:pt x="202" y="544"/>
                    </a:lnTo>
                    <a:lnTo>
                      <a:pt x="192" y="546"/>
                    </a:lnTo>
                    <a:lnTo>
                      <a:pt x="184" y="548"/>
                    </a:lnTo>
                    <a:lnTo>
                      <a:pt x="174" y="548"/>
                    </a:lnTo>
                    <a:lnTo>
                      <a:pt x="164" y="549"/>
                    </a:lnTo>
                    <a:lnTo>
                      <a:pt x="156" y="551"/>
                    </a:lnTo>
                    <a:lnTo>
                      <a:pt x="146" y="553"/>
                    </a:lnTo>
                    <a:lnTo>
                      <a:pt x="138" y="556"/>
                    </a:lnTo>
                    <a:lnTo>
                      <a:pt x="130" y="559"/>
                    </a:lnTo>
                    <a:lnTo>
                      <a:pt x="132" y="566"/>
                    </a:lnTo>
                    <a:lnTo>
                      <a:pt x="135" y="571"/>
                    </a:lnTo>
                    <a:lnTo>
                      <a:pt x="141" y="574"/>
                    </a:lnTo>
                    <a:lnTo>
                      <a:pt x="146" y="576"/>
                    </a:lnTo>
                    <a:lnTo>
                      <a:pt x="199" y="579"/>
                    </a:lnTo>
                    <a:lnTo>
                      <a:pt x="202" y="612"/>
                    </a:lnTo>
                    <a:lnTo>
                      <a:pt x="207" y="646"/>
                    </a:lnTo>
                    <a:lnTo>
                      <a:pt x="214" y="679"/>
                    </a:lnTo>
                    <a:lnTo>
                      <a:pt x="223" y="712"/>
                    </a:lnTo>
                    <a:lnTo>
                      <a:pt x="210" y="717"/>
                    </a:lnTo>
                    <a:lnTo>
                      <a:pt x="196" y="720"/>
                    </a:lnTo>
                    <a:lnTo>
                      <a:pt x="181" y="723"/>
                    </a:lnTo>
                    <a:lnTo>
                      <a:pt x="164" y="725"/>
                    </a:lnTo>
                    <a:lnTo>
                      <a:pt x="150" y="725"/>
                    </a:lnTo>
                    <a:lnTo>
                      <a:pt x="135" y="723"/>
                    </a:lnTo>
                    <a:lnTo>
                      <a:pt x="120" y="722"/>
                    </a:lnTo>
                    <a:lnTo>
                      <a:pt x="105" y="718"/>
                    </a:lnTo>
                    <a:lnTo>
                      <a:pt x="105" y="692"/>
                    </a:lnTo>
                    <a:lnTo>
                      <a:pt x="104" y="666"/>
                    </a:lnTo>
                    <a:lnTo>
                      <a:pt x="100" y="641"/>
                    </a:lnTo>
                    <a:lnTo>
                      <a:pt x="94" y="617"/>
                    </a:lnTo>
                    <a:lnTo>
                      <a:pt x="84" y="594"/>
                    </a:lnTo>
                    <a:lnTo>
                      <a:pt x="73" y="571"/>
                    </a:lnTo>
                    <a:lnTo>
                      <a:pt x="56" y="553"/>
                    </a:lnTo>
                    <a:lnTo>
                      <a:pt x="38" y="535"/>
                    </a:lnTo>
                    <a:lnTo>
                      <a:pt x="28" y="497"/>
                    </a:lnTo>
                    <a:lnTo>
                      <a:pt x="22" y="459"/>
                    </a:lnTo>
                    <a:lnTo>
                      <a:pt x="14" y="421"/>
                    </a:lnTo>
                    <a:lnTo>
                      <a:pt x="0" y="385"/>
                    </a:lnTo>
                    <a:lnTo>
                      <a:pt x="5" y="354"/>
                    </a:lnTo>
                    <a:lnTo>
                      <a:pt x="17" y="325"/>
                    </a:lnTo>
                    <a:lnTo>
                      <a:pt x="30" y="297"/>
                    </a:lnTo>
                    <a:lnTo>
                      <a:pt x="41" y="269"/>
                    </a:lnTo>
                    <a:lnTo>
                      <a:pt x="53" y="277"/>
                    </a:lnTo>
                    <a:lnTo>
                      <a:pt x="59" y="289"/>
                    </a:lnTo>
                    <a:lnTo>
                      <a:pt x="63" y="302"/>
                    </a:lnTo>
                    <a:lnTo>
                      <a:pt x="63" y="315"/>
                    </a:lnTo>
                    <a:lnTo>
                      <a:pt x="63" y="335"/>
                    </a:lnTo>
                    <a:lnTo>
                      <a:pt x="56" y="349"/>
                    </a:lnTo>
                    <a:lnTo>
                      <a:pt x="45" y="362"/>
                    </a:lnTo>
                    <a:lnTo>
                      <a:pt x="38" y="377"/>
                    </a:lnTo>
                    <a:lnTo>
                      <a:pt x="46" y="382"/>
                    </a:lnTo>
                    <a:lnTo>
                      <a:pt x="56" y="384"/>
                    </a:lnTo>
                    <a:lnTo>
                      <a:pt x="68" y="384"/>
                    </a:lnTo>
                    <a:lnTo>
                      <a:pt x="78" y="389"/>
                    </a:lnTo>
                    <a:lnTo>
                      <a:pt x="89" y="400"/>
                    </a:lnTo>
                    <a:lnTo>
                      <a:pt x="94" y="415"/>
                    </a:lnTo>
                    <a:lnTo>
                      <a:pt x="100" y="426"/>
                    </a:lnTo>
                    <a:lnTo>
                      <a:pt x="115" y="426"/>
                    </a:lnTo>
                    <a:lnTo>
                      <a:pt x="117" y="415"/>
                    </a:lnTo>
                    <a:lnTo>
                      <a:pt x="114" y="403"/>
                    </a:lnTo>
                    <a:lnTo>
                      <a:pt x="109" y="394"/>
                    </a:lnTo>
                    <a:lnTo>
                      <a:pt x="102" y="384"/>
                    </a:lnTo>
                    <a:lnTo>
                      <a:pt x="96" y="374"/>
                    </a:lnTo>
                    <a:lnTo>
                      <a:pt x="91" y="366"/>
                    </a:lnTo>
                    <a:lnTo>
                      <a:pt x="89" y="358"/>
                    </a:lnTo>
                    <a:lnTo>
                      <a:pt x="92" y="349"/>
                    </a:lnTo>
                    <a:lnTo>
                      <a:pt x="99" y="351"/>
                    </a:lnTo>
                    <a:lnTo>
                      <a:pt x="105" y="354"/>
                    </a:lnTo>
                    <a:lnTo>
                      <a:pt x="112" y="359"/>
                    </a:lnTo>
                    <a:lnTo>
                      <a:pt x="119" y="366"/>
                    </a:lnTo>
                    <a:lnTo>
                      <a:pt x="123" y="371"/>
                    </a:lnTo>
                    <a:lnTo>
                      <a:pt x="132" y="374"/>
                    </a:lnTo>
                    <a:lnTo>
                      <a:pt x="138" y="372"/>
                    </a:lnTo>
                    <a:lnTo>
                      <a:pt x="148" y="367"/>
                    </a:lnTo>
                    <a:lnTo>
                      <a:pt x="158" y="366"/>
                    </a:lnTo>
                    <a:lnTo>
                      <a:pt x="168" y="366"/>
                    </a:lnTo>
                    <a:lnTo>
                      <a:pt x="178" y="369"/>
                    </a:lnTo>
                    <a:lnTo>
                      <a:pt x="186" y="372"/>
                    </a:lnTo>
                    <a:lnTo>
                      <a:pt x="194" y="376"/>
                    </a:lnTo>
                    <a:lnTo>
                      <a:pt x="201" y="382"/>
                    </a:lnTo>
                    <a:lnTo>
                      <a:pt x="209" y="387"/>
                    </a:lnTo>
                    <a:lnTo>
                      <a:pt x="215" y="394"/>
                    </a:lnTo>
                    <a:lnTo>
                      <a:pt x="219" y="394"/>
                    </a:lnTo>
                    <a:lnTo>
                      <a:pt x="223" y="394"/>
                    </a:lnTo>
                    <a:lnTo>
                      <a:pt x="227" y="394"/>
                    </a:lnTo>
                    <a:lnTo>
                      <a:pt x="228" y="390"/>
                    </a:lnTo>
                    <a:lnTo>
                      <a:pt x="219" y="372"/>
                    </a:lnTo>
                    <a:lnTo>
                      <a:pt x="205" y="361"/>
                    </a:lnTo>
                    <a:lnTo>
                      <a:pt x="191" y="353"/>
                    </a:lnTo>
                    <a:lnTo>
                      <a:pt x="173" y="348"/>
                    </a:lnTo>
                    <a:lnTo>
                      <a:pt x="155" y="344"/>
                    </a:lnTo>
                    <a:lnTo>
                      <a:pt x="137" y="340"/>
                    </a:lnTo>
                    <a:lnTo>
                      <a:pt x="120" y="333"/>
                    </a:lnTo>
                    <a:lnTo>
                      <a:pt x="105" y="320"/>
                    </a:lnTo>
                    <a:lnTo>
                      <a:pt x="97" y="317"/>
                    </a:lnTo>
                    <a:lnTo>
                      <a:pt x="96" y="310"/>
                    </a:lnTo>
                    <a:lnTo>
                      <a:pt x="96" y="300"/>
                    </a:lnTo>
                    <a:lnTo>
                      <a:pt x="92" y="292"/>
                    </a:lnTo>
                    <a:lnTo>
                      <a:pt x="89" y="281"/>
                    </a:lnTo>
                    <a:lnTo>
                      <a:pt x="82" y="267"/>
                    </a:lnTo>
                    <a:lnTo>
                      <a:pt x="84" y="258"/>
                    </a:lnTo>
                    <a:lnTo>
                      <a:pt x="97" y="249"/>
                    </a:lnTo>
                    <a:lnTo>
                      <a:pt x="102" y="248"/>
                    </a:lnTo>
                    <a:lnTo>
                      <a:pt x="107" y="246"/>
                    </a:lnTo>
                    <a:lnTo>
                      <a:pt x="112" y="244"/>
                    </a:lnTo>
                    <a:lnTo>
                      <a:pt x="115" y="241"/>
                    </a:lnTo>
                    <a:lnTo>
                      <a:pt x="117" y="236"/>
                    </a:lnTo>
                    <a:lnTo>
                      <a:pt x="115" y="233"/>
                    </a:lnTo>
                    <a:lnTo>
                      <a:pt x="112" y="231"/>
                    </a:lnTo>
                    <a:lnTo>
                      <a:pt x="109" y="228"/>
                    </a:lnTo>
                    <a:lnTo>
                      <a:pt x="102" y="202"/>
                    </a:lnTo>
                    <a:lnTo>
                      <a:pt x="92" y="176"/>
                    </a:lnTo>
                    <a:lnTo>
                      <a:pt x="82" y="148"/>
                    </a:lnTo>
                    <a:lnTo>
                      <a:pt x="79" y="120"/>
                    </a:lnTo>
                    <a:lnTo>
                      <a:pt x="76" y="102"/>
                    </a:lnTo>
                    <a:lnTo>
                      <a:pt x="81" y="85"/>
                    </a:lnTo>
                    <a:lnTo>
                      <a:pt x="87" y="69"/>
                    </a:lnTo>
                    <a:lnTo>
                      <a:pt x="84" y="49"/>
                    </a:lnTo>
                    <a:lnTo>
                      <a:pt x="76" y="38"/>
                    </a:lnTo>
                    <a:lnTo>
                      <a:pt x="78" y="25"/>
                    </a:lnTo>
                    <a:lnTo>
                      <a:pt x="84" y="13"/>
                    </a:lnTo>
                    <a:lnTo>
                      <a:pt x="91" y="2"/>
                    </a:lnTo>
                    <a:lnTo>
                      <a:pt x="94" y="0"/>
                    </a:lnTo>
                    <a:lnTo>
                      <a:pt x="97" y="0"/>
                    </a:lnTo>
                    <a:lnTo>
                      <a:pt x="99" y="0"/>
                    </a:lnTo>
                    <a:lnTo>
                      <a:pt x="102" y="2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10520" y="3429000"/>
                <a:ext cx="41040" cy="122760"/>
              </a:xfrm>
              <a:custGeom>
                <a:avLst/>
                <a:gdLst/>
                <a:ahLst/>
                <a:rect l="l" t="t" r="r" b="b"/>
                <a:pathLst>
                  <a:path w="62" h="199">
                    <a:moveTo>
                      <a:pt x="38" y="5"/>
                    </a:moveTo>
                    <a:lnTo>
                      <a:pt x="41" y="28"/>
                    </a:lnTo>
                    <a:lnTo>
                      <a:pt x="33" y="46"/>
                    </a:lnTo>
                    <a:lnTo>
                      <a:pt x="26" y="66"/>
                    </a:lnTo>
                    <a:lnTo>
                      <a:pt x="31" y="87"/>
                    </a:lnTo>
                    <a:lnTo>
                      <a:pt x="39" y="110"/>
                    </a:lnTo>
                    <a:lnTo>
                      <a:pt x="46" y="135"/>
                    </a:lnTo>
                    <a:lnTo>
                      <a:pt x="54" y="160"/>
                    </a:lnTo>
                    <a:lnTo>
                      <a:pt x="62" y="182"/>
                    </a:lnTo>
                    <a:lnTo>
                      <a:pt x="49" y="189"/>
                    </a:lnTo>
                    <a:lnTo>
                      <a:pt x="39" y="196"/>
                    </a:lnTo>
                    <a:lnTo>
                      <a:pt x="28" y="199"/>
                    </a:lnTo>
                    <a:lnTo>
                      <a:pt x="15" y="192"/>
                    </a:lnTo>
                    <a:lnTo>
                      <a:pt x="7" y="145"/>
                    </a:lnTo>
                    <a:lnTo>
                      <a:pt x="0" y="97"/>
                    </a:lnTo>
                    <a:lnTo>
                      <a:pt x="3" y="50"/>
                    </a:lnTo>
                    <a:lnTo>
                      <a:pt x="21" y="5"/>
                    </a:lnTo>
                    <a:lnTo>
                      <a:pt x="25" y="2"/>
                    </a:lnTo>
                    <a:lnTo>
                      <a:pt x="30" y="0"/>
                    </a:lnTo>
                    <a:lnTo>
                      <a:pt x="35" y="2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59560" y="3468600"/>
                <a:ext cx="39600" cy="96480"/>
              </a:xfrm>
              <a:custGeom>
                <a:avLst/>
                <a:gdLst/>
                <a:ahLst/>
                <a:rect l="l" t="t" r="r" b="b"/>
                <a:pathLst>
                  <a:path w="61" h="156">
                    <a:moveTo>
                      <a:pt x="58" y="0"/>
                    </a:moveTo>
                    <a:lnTo>
                      <a:pt x="61" y="28"/>
                    </a:lnTo>
                    <a:lnTo>
                      <a:pt x="51" y="55"/>
                    </a:lnTo>
                    <a:lnTo>
                      <a:pt x="38" y="81"/>
                    </a:lnTo>
                    <a:lnTo>
                      <a:pt x="33" y="109"/>
                    </a:lnTo>
                    <a:lnTo>
                      <a:pt x="35" y="118"/>
                    </a:lnTo>
                    <a:lnTo>
                      <a:pt x="35" y="132"/>
                    </a:lnTo>
                    <a:lnTo>
                      <a:pt x="33" y="145"/>
                    </a:lnTo>
                    <a:lnTo>
                      <a:pt x="31" y="156"/>
                    </a:lnTo>
                    <a:lnTo>
                      <a:pt x="20" y="150"/>
                    </a:lnTo>
                    <a:lnTo>
                      <a:pt x="7" y="141"/>
                    </a:lnTo>
                    <a:lnTo>
                      <a:pt x="0" y="128"/>
                    </a:lnTo>
                    <a:lnTo>
                      <a:pt x="5" y="112"/>
                    </a:lnTo>
                    <a:lnTo>
                      <a:pt x="10" y="97"/>
                    </a:lnTo>
                    <a:lnTo>
                      <a:pt x="13" y="81"/>
                    </a:lnTo>
                    <a:lnTo>
                      <a:pt x="17" y="64"/>
                    </a:lnTo>
                    <a:lnTo>
                      <a:pt x="21" y="50"/>
                    </a:lnTo>
                    <a:lnTo>
                      <a:pt x="26" y="35"/>
                    </a:lnTo>
                    <a:lnTo>
                      <a:pt x="35" y="22"/>
                    </a:lnTo>
                    <a:lnTo>
                      <a:pt x="44" y="1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82520" y="3662280"/>
                <a:ext cx="50400" cy="5076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76" y="56"/>
                    </a:moveTo>
                    <a:lnTo>
                      <a:pt x="74" y="62"/>
                    </a:lnTo>
                    <a:lnTo>
                      <a:pt x="74" y="70"/>
                    </a:lnTo>
                    <a:lnTo>
                      <a:pt x="73" y="77"/>
                    </a:lnTo>
                    <a:lnTo>
                      <a:pt x="69" y="82"/>
                    </a:lnTo>
                    <a:lnTo>
                      <a:pt x="54" y="72"/>
                    </a:lnTo>
                    <a:lnTo>
                      <a:pt x="46" y="56"/>
                    </a:lnTo>
                    <a:lnTo>
                      <a:pt x="40" y="39"/>
                    </a:lnTo>
                    <a:lnTo>
                      <a:pt x="23" y="26"/>
                    </a:lnTo>
                    <a:lnTo>
                      <a:pt x="15" y="25"/>
                    </a:lnTo>
                    <a:lnTo>
                      <a:pt x="10" y="18"/>
                    </a:lnTo>
                    <a:lnTo>
                      <a:pt x="5" y="13"/>
                    </a:lnTo>
                    <a:lnTo>
                      <a:pt x="0" y="8"/>
                    </a:lnTo>
                    <a:lnTo>
                      <a:pt x="7" y="2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30" y="3"/>
                    </a:lnTo>
                    <a:lnTo>
                      <a:pt x="45" y="13"/>
                    </a:lnTo>
                    <a:lnTo>
                      <a:pt x="56" y="26"/>
                    </a:lnTo>
                    <a:lnTo>
                      <a:pt x="68" y="41"/>
                    </a:lnTo>
                    <a:lnTo>
                      <a:pt x="7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9040" y="3840840"/>
                <a:ext cx="146160" cy="100440"/>
              </a:xfrm>
              <a:custGeom>
                <a:avLst/>
                <a:gdLst/>
                <a:ahLst/>
                <a:rect l="l" t="t" r="r" b="b"/>
                <a:pathLst>
                  <a:path w="219" h="161">
                    <a:moveTo>
                      <a:pt x="203" y="127"/>
                    </a:moveTo>
                    <a:lnTo>
                      <a:pt x="186" y="140"/>
                    </a:lnTo>
                    <a:lnTo>
                      <a:pt x="170" y="148"/>
                    </a:lnTo>
                    <a:lnTo>
                      <a:pt x="150" y="155"/>
                    </a:lnTo>
                    <a:lnTo>
                      <a:pt x="131" y="160"/>
                    </a:lnTo>
                    <a:lnTo>
                      <a:pt x="111" y="161"/>
                    </a:lnTo>
                    <a:lnTo>
                      <a:pt x="91" y="160"/>
                    </a:lnTo>
                    <a:lnTo>
                      <a:pt x="72" y="156"/>
                    </a:lnTo>
                    <a:lnTo>
                      <a:pt x="54" y="151"/>
                    </a:lnTo>
                    <a:lnTo>
                      <a:pt x="42" y="146"/>
                    </a:lnTo>
                    <a:lnTo>
                      <a:pt x="31" y="141"/>
                    </a:lnTo>
                    <a:lnTo>
                      <a:pt x="19" y="135"/>
                    </a:lnTo>
                    <a:lnTo>
                      <a:pt x="13" y="125"/>
                    </a:lnTo>
                    <a:lnTo>
                      <a:pt x="13" y="102"/>
                    </a:lnTo>
                    <a:lnTo>
                      <a:pt x="11" y="81"/>
                    </a:lnTo>
                    <a:lnTo>
                      <a:pt x="6" y="58"/>
                    </a:lnTo>
                    <a:lnTo>
                      <a:pt x="0" y="37"/>
                    </a:lnTo>
                    <a:lnTo>
                      <a:pt x="21" y="41"/>
                    </a:lnTo>
                    <a:lnTo>
                      <a:pt x="42" y="45"/>
                    </a:lnTo>
                    <a:lnTo>
                      <a:pt x="63" y="46"/>
                    </a:lnTo>
                    <a:lnTo>
                      <a:pt x="85" y="45"/>
                    </a:lnTo>
                    <a:lnTo>
                      <a:pt x="106" y="43"/>
                    </a:lnTo>
                    <a:lnTo>
                      <a:pt x="127" y="40"/>
                    </a:lnTo>
                    <a:lnTo>
                      <a:pt x="149" y="35"/>
                    </a:lnTo>
                    <a:lnTo>
                      <a:pt x="168" y="30"/>
                    </a:lnTo>
                    <a:lnTo>
                      <a:pt x="178" y="23"/>
                    </a:lnTo>
                    <a:lnTo>
                      <a:pt x="188" y="17"/>
                    </a:lnTo>
                    <a:lnTo>
                      <a:pt x="198" y="10"/>
                    </a:lnTo>
                    <a:lnTo>
                      <a:pt x="206" y="0"/>
                    </a:lnTo>
                    <a:lnTo>
                      <a:pt x="214" y="30"/>
                    </a:lnTo>
                    <a:lnTo>
                      <a:pt x="219" y="64"/>
                    </a:lnTo>
                    <a:lnTo>
                      <a:pt x="218" y="99"/>
                    </a:lnTo>
                    <a:lnTo>
                      <a:pt x="203" y="127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78280" y="3864600"/>
                <a:ext cx="9000" cy="219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13" y="35"/>
                    </a:moveTo>
                    <a:lnTo>
                      <a:pt x="11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1" y="0"/>
                    </a:lnTo>
                    <a:lnTo>
                      <a:pt x="8" y="7"/>
                    </a:lnTo>
                    <a:lnTo>
                      <a:pt x="11" y="15"/>
                    </a:lnTo>
                    <a:lnTo>
                      <a:pt x="11" y="25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62440" y="3867120"/>
                <a:ext cx="9000" cy="54360"/>
              </a:xfrm>
              <a:custGeom>
                <a:avLst/>
                <a:gdLst/>
                <a:ahLst/>
                <a:rect l="l" t="t" r="r" b="b"/>
                <a:pathLst>
                  <a:path w="13" h="89">
                    <a:moveTo>
                      <a:pt x="12" y="5"/>
                    </a:moveTo>
                    <a:lnTo>
                      <a:pt x="12" y="27"/>
                    </a:lnTo>
                    <a:lnTo>
                      <a:pt x="13" y="48"/>
                    </a:lnTo>
                    <a:lnTo>
                      <a:pt x="13" y="69"/>
                    </a:lnTo>
                    <a:lnTo>
                      <a:pt x="8" y="89"/>
                    </a:lnTo>
                    <a:lnTo>
                      <a:pt x="0" y="79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67760" y="3874320"/>
                <a:ext cx="14400" cy="49320"/>
              </a:xfrm>
              <a:custGeom>
                <a:avLst/>
                <a:gdLst/>
                <a:ahLst/>
                <a:rect l="l" t="t" r="r" b="b"/>
                <a:pathLst>
                  <a:path w="23" h="78">
                    <a:moveTo>
                      <a:pt x="5" y="0"/>
                    </a:moveTo>
                    <a:lnTo>
                      <a:pt x="10" y="18"/>
                    </a:lnTo>
                    <a:lnTo>
                      <a:pt x="15" y="36"/>
                    </a:lnTo>
                    <a:lnTo>
                      <a:pt x="18" y="55"/>
                    </a:lnTo>
                    <a:lnTo>
                      <a:pt x="23" y="73"/>
                    </a:lnTo>
                    <a:lnTo>
                      <a:pt x="20" y="77"/>
                    </a:lnTo>
                    <a:lnTo>
                      <a:pt x="18" y="78"/>
                    </a:lnTo>
                    <a:lnTo>
                      <a:pt x="15" y="78"/>
                    </a:lnTo>
                    <a:lnTo>
                      <a:pt x="12" y="77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86120" y="388440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46"/>
                    </a:moveTo>
                    <a:lnTo>
                      <a:pt x="5" y="44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21"/>
                    </a:lnTo>
                    <a:lnTo>
                      <a:pt x="4" y="0"/>
                    </a:lnTo>
                    <a:lnTo>
                      <a:pt x="10" y="8"/>
                    </a:lnTo>
                    <a:lnTo>
                      <a:pt x="13" y="20"/>
                    </a:lnTo>
                    <a:lnTo>
                      <a:pt x="13" y="33"/>
                    </a:lnTo>
                    <a:lnTo>
                      <a:pt x="1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5760" y="3929040"/>
                <a:ext cx="1051920" cy="1224720"/>
              </a:xfrm>
              <a:custGeom>
                <a:avLst/>
                <a:gdLst/>
                <a:ahLst/>
                <a:rect l="l" t="t" r="r" b="b"/>
                <a:pathLst>
                  <a:path w="1583" h="1974">
                    <a:moveTo>
                      <a:pt x="1553" y="114"/>
                    </a:moveTo>
                    <a:lnTo>
                      <a:pt x="1563" y="412"/>
                    </a:lnTo>
                    <a:lnTo>
                      <a:pt x="1566" y="460"/>
                    </a:lnTo>
                    <a:lnTo>
                      <a:pt x="1573" y="507"/>
                    </a:lnTo>
                    <a:lnTo>
                      <a:pt x="1578" y="555"/>
                    </a:lnTo>
                    <a:lnTo>
                      <a:pt x="1583" y="604"/>
                    </a:lnTo>
                    <a:lnTo>
                      <a:pt x="1570" y="642"/>
                    </a:lnTo>
                    <a:lnTo>
                      <a:pt x="1552" y="676"/>
                    </a:lnTo>
                    <a:lnTo>
                      <a:pt x="1532" y="712"/>
                    </a:lnTo>
                    <a:lnTo>
                      <a:pt x="1512" y="745"/>
                    </a:lnTo>
                    <a:lnTo>
                      <a:pt x="1491" y="779"/>
                    </a:lnTo>
                    <a:lnTo>
                      <a:pt x="1470" y="814"/>
                    </a:lnTo>
                    <a:lnTo>
                      <a:pt x="1452" y="848"/>
                    </a:lnTo>
                    <a:lnTo>
                      <a:pt x="1435" y="884"/>
                    </a:lnTo>
                    <a:lnTo>
                      <a:pt x="1302" y="1122"/>
                    </a:lnTo>
                    <a:lnTo>
                      <a:pt x="1289" y="1150"/>
                    </a:lnTo>
                    <a:lnTo>
                      <a:pt x="1278" y="1179"/>
                    </a:lnTo>
                    <a:lnTo>
                      <a:pt x="1266" y="1209"/>
                    </a:lnTo>
                    <a:lnTo>
                      <a:pt x="1258" y="1238"/>
                    </a:lnTo>
                    <a:lnTo>
                      <a:pt x="1243" y="1189"/>
                    </a:lnTo>
                    <a:lnTo>
                      <a:pt x="1234" y="1133"/>
                    </a:lnTo>
                    <a:lnTo>
                      <a:pt x="1229" y="1086"/>
                    </a:lnTo>
                    <a:lnTo>
                      <a:pt x="1224" y="1068"/>
                    </a:lnTo>
                    <a:lnTo>
                      <a:pt x="1209" y="1092"/>
                    </a:lnTo>
                    <a:lnTo>
                      <a:pt x="1204" y="1120"/>
                    </a:lnTo>
                    <a:lnTo>
                      <a:pt x="1206" y="1151"/>
                    </a:lnTo>
                    <a:lnTo>
                      <a:pt x="1207" y="1181"/>
                    </a:lnTo>
                    <a:lnTo>
                      <a:pt x="1216" y="1222"/>
                    </a:lnTo>
                    <a:lnTo>
                      <a:pt x="1227" y="1261"/>
                    </a:lnTo>
                    <a:lnTo>
                      <a:pt x="1240" y="1301"/>
                    </a:lnTo>
                    <a:lnTo>
                      <a:pt x="1253" y="1338"/>
                    </a:lnTo>
                    <a:lnTo>
                      <a:pt x="1268" y="1376"/>
                    </a:lnTo>
                    <a:lnTo>
                      <a:pt x="1284" y="1412"/>
                    </a:lnTo>
                    <a:lnTo>
                      <a:pt x="1299" y="1450"/>
                    </a:lnTo>
                    <a:lnTo>
                      <a:pt x="1316" y="1487"/>
                    </a:lnTo>
                    <a:lnTo>
                      <a:pt x="1355" y="1650"/>
                    </a:lnTo>
                    <a:lnTo>
                      <a:pt x="1383" y="1835"/>
                    </a:lnTo>
                    <a:lnTo>
                      <a:pt x="1375" y="1973"/>
                    </a:lnTo>
                    <a:lnTo>
                      <a:pt x="1352" y="1971"/>
                    </a:lnTo>
                    <a:lnTo>
                      <a:pt x="1355" y="1961"/>
                    </a:lnTo>
                    <a:lnTo>
                      <a:pt x="1357" y="1951"/>
                    </a:lnTo>
                    <a:lnTo>
                      <a:pt x="1357" y="1942"/>
                    </a:lnTo>
                    <a:lnTo>
                      <a:pt x="1353" y="1932"/>
                    </a:lnTo>
                    <a:lnTo>
                      <a:pt x="1360" y="1910"/>
                    </a:lnTo>
                    <a:lnTo>
                      <a:pt x="1360" y="1888"/>
                    </a:lnTo>
                    <a:lnTo>
                      <a:pt x="1357" y="1866"/>
                    </a:lnTo>
                    <a:lnTo>
                      <a:pt x="1357" y="1845"/>
                    </a:lnTo>
                    <a:lnTo>
                      <a:pt x="1363" y="1835"/>
                    </a:lnTo>
                    <a:lnTo>
                      <a:pt x="1365" y="1824"/>
                    </a:lnTo>
                    <a:lnTo>
                      <a:pt x="1365" y="1812"/>
                    </a:lnTo>
                    <a:lnTo>
                      <a:pt x="1365" y="1802"/>
                    </a:lnTo>
                    <a:lnTo>
                      <a:pt x="1353" y="1791"/>
                    </a:lnTo>
                    <a:lnTo>
                      <a:pt x="1340" y="1784"/>
                    </a:lnTo>
                    <a:lnTo>
                      <a:pt x="1325" y="1781"/>
                    </a:lnTo>
                    <a:lnTo>
                      <a:pt x="1309" y="1781"/>
                    </a:lnTo>
                    <a:lnTo>
                      <a:pt x="1293" y="1779"/>
                    </a:lnTo>
                    <a:lnTo>
                      <a:pt x="1276" y="1778"/>
                    </a:lnTo>
                    <a:lnTo>
                      <a:pt x="1261" y="1773"/>
                    </a:lnTo>
                    <a:lnTo>
                      <a:pt x="1250" y="1763"/>
                    </a:lnTo>
                    <a:lnTo>
                      <a:pt x="1234" y="1753"/>
                    </a:lnTo>
                    <a:lnTo>
                      <a:pt x="1217" y="1745"/>
                    </a:lnTo>
                    <a:lnTo>
                      <a:pt x="1199" y="1742"/>
                    </a:lnTo>
                    <a:lnTo>
                      <a:pt x="1183" y="1740"/>
                    </a:lnTo>
                    <a:lnTo>
                      <a:pt x="1166" y="1740"/>
                    </a:lnTo>
                    <a:lnTo>
                      <a:pt x="1150" y="1743"/>
                    </a:lnTo>
                    <a:lnTo>
                      <a:pt x="1133" y="1747"/>
                    </a:lnTo>
                    <a:lnTo>
                      <a:pt x="1117" y="1751"/>
                    </a:lnTo>
                    <a:lnTo>
                      <a:pt x="1101" y="1756"/>
                    </a:lnTo>
                    <a:lnTo>
                      <a:pt x="1084" y="1761"/>
                    </a:lnTo>
                    <a:lnTo>
                      <a:pt x="1068" y="1766"/>
                    </a:lnTo>
                    <a:lnTo>
                      <a:pt x="1050" y="1771"/>
                    </a:lnTo>
                    <a:lnTo>
                      <a:pt x="1033" y="1776"/>
                    </a:lnTo>
                    <a:lnTo>
                      <a:pt x="1015" y="1779"/>
                    </a:lnTo>
                    <a:lnTo>
                      <a:pt x="999" y="1779"/>
                    </a:lnTo>
                    <a:lnTo>
                      <a:pt x="981" y="1779"/>
                    </a:lnTo>
                    <a:lnTo>
                      <a:pt x="963" y="1781"/>
                    </a:lnTo>
                    <a:lnTo>
                      <a:pt x="947" y="1779"/>
                    </a:lnTo>
                    <a:lnTo>
                      <a:pt x="930" y="1778"/>
                    </a:lnTo>
                    <a:lnTo>
                      <a:pt x="914" y="1776"/>
                    </a:lnTo>
                    <a:lnTo>
                      <a:pt x="897" y="1774"/>
                    </a:lnTo>
                    <a:lnTo>
                      <a:pt x="881" y="1774"/>
                    </a:lnTo>
                    <a:lnTo>
                      <a:pt x="865" y="1774"/>
                    </a:lnTo>
                    <a:lnTo>
                      <a:pt x="848" y="1778"/>
                    </a:lnTo>
                    <a:lnTo>
                      <a:pt x="840" y="1774"/>
                    </a:lnTo>
                    <a:lnTo>
                      <a:pt x="833" y="1773"/>
                    </a:lnTo>
                    <a:lnTo>
                      <a:pt x="825" y="1773"/>
                    </a:lnTo>
                    <a:lnTo>
                      <a:pt x="819" y="1774"/>
                    </a:lnTo>
                    <a:lnTo>
                      <a:pt x="810" y="1776"/>
                    </a:lnTo>
                    <a:lnTo>
                      <a:pt x="804" y="1778"/>
                    </a:lnTo>
                    <a:lnTo>
                      <a:pt x="796" y="1778"/>
                    </a:lnTo>
                    <a:lnTo>
                      <a:pt x="787" y="1778"/>
                    </a:lnTo>
                    <a:lnTo>
                      <a:pt x="769" y="1773"/>
                    </a:lnTo>
                    <a:lnTo>
                      <a:pt x="763" y="1758"/>
                    </a:lnTo>
                    <a:lnTo>
                      <a:pt x="756" y="1743"/>
                    </a:lnTo>
                    <a:lnTo>
                      <a:pt x="743" y="1733"/>
                    </a:lnTo>
                    <a:lnTo>
                      <a:pt x="722" y="1725"/>
                    </a:lnTo>
                    <a:lnTo>
                      <a:pt x="699" y="1720"/>
                    </a:lnTo>
                    <a:lnTo>
                      <a:pt x="674" y="1717"/>
                    </a:lnTo>
                    <a:lnTo>
                      <a:pt x="650" y="1715"/>
                    </a:lnTo>
                    <a:lnTo>
                      <a:pt x="625" y="1714"/>
                    </a:lnTo>
                    <a:lnTo>
                      <a:pt x="600" y="1714"/>
                    </a:lnTo>
                    <a:lnTo>
                      <a:pt x="576" y="1714"/>
                    </a:lnTo>
                    <a:lnTo>
                      <a:pt x="551" y="1714"/>
                    </a:lnTo>
                    <a:lnTo>
                      <a:pt x="538" y="1714"/>
                    </a:lnTo>
                    <a:lnTo>
                      <a:pt x="523" y="1715"/>
                    </a:lnTo>
                    <a:lnTo>
                      <a:pt x="510" y="1715"/>
                    </a:lnTo>
                    <a:lnTo>
                      <a:pt x="496" y="1715"/>
                    </a:lnTo>
                    <a:lnTo>
                      <a:pt x="482" y="1714"/>
                    </a:lnTo>
                    <a:lnTo>
                      <a:pt x="468" y="1712"/>
                    </a:lnTo>
                    <a:lnTo>
                      <a:pt x="456" y="1707"/>
                    </a:lnTo>
                    <a:lnTo>
                      <a:pt x="445" y="1701"/>
                    </a:lnTo>
                    <a:lnTo>
                      <a:pt x="438" y="1663"/>
                    </a:lnTo>
                    <a:lnTo>
                      <a:pt x="433" y="1624"/>
                    </a:lnTo>
                    <a:lnTo>
                      <a:pt x="430" y="1584"/>
                    </a:lnTo>
                    <a:lnTo>
                      <a:pt x="423" y="1545"/>
                    </a:lnTo>
                    <a:lnTo>
                      <a:pt x="415" y="1507"/>
                    </a:lnTo>
                    <a:lnTo>
                      <a:pt x="404" y="1471"/>
                    </a:lnTo>
                    <a:lnTo>
                      <a:pt x="386" y="1437"/>
                    </a:lnTo>
                    <a:lnTo>
                      <a:pt x="361" y="1406"/>
                    </a:lnTo>
                    <a:lnTo>
                      <a:pt x="336" y="1386"/>
                    </a:lnTo>
                    <a:lnTo>
                      <a:pt x="313" y="1365"/>
                    </a:lnTo>
                    <a:lnTo>
                      <a:pt x="291" y="1343"/>
                    </a:lnTo>
                    <a:lnTo>
                      <a:pt x="269" y="1320"/>
                    </a:lnTo>
                    <a:lnTo>
                      <a:pt x="246" y="1297"/>
                    </a:lnTo>
                    <a:lnTo>
                      <a:pt x="225" y="1274"/>
                    </a:lnTo>
                    <a:lnTo>
                      <a:pt x="204" y="1253"/>
                    </a:lnTo>
                    <a:lnTo>
                      <a:pt x="182" y="1230"/>
                    </a:lnTo>
                    <a:lnTo>
                      <a:pt x="179" y="1230"/>
                    </a:lnTo>
                    <a:lnTo>
                      <a:pt x="176" y="1232"/>
                    </a:lnTo>
                    <a:lnTo>
                      <a:pt x="174" y="1233"/>
                    </a:lnTo>
                    <a:lnTo>
                      <a:pt x="171" y="1235"/>
                    </a:lnTo>
                    <a:lnTo>
                      <a:pt x="184" y="1269"/>
                    </a:lnTo>
                    <a:lnTo>
                      <a:pt x="204" y="1299"/>
                    </a:lnTo>
                    <a:lnTo>
                      <a:pt x="228" y="1328"/>
                    </a:lnTo>
                    <a:lnTo>
                      <a:pt x="256" y="1355"/>
                    </a:lnTo>
                    <a:lnTo>
                      <a:pt x="284" y="1383"/>
                    </a:lnTo>
                    <a:lnTo>
                      <a:pt x="312" y="1410"/>
                    </a:lnTo>
                    <a:lnTo>
                      <a:pt x="335" y="1440"/>
                    </a:lnTo>
                    <a:lnTo>
                      <a:pt x="354" y="1473"/>
                    </a:lnTo>
                    <a:lnTo>
                      <a:pt x="379" y="1524"/>
                    </a:lnTo>
                    <a:lnTo>
                      <a:pt x="389" y="1579"/>
                    </a:lnTo>
                    <a:lnTo>
                      <a:pt x="392" y="1637"/>
                    </a:lnTo>
                    <a:lnTo>
                      <a:pt x="395" y="1696"/>
                    </a:lnTo>
                    <a:lnTo>
                      <a:pt x="364" y="1709"/>
                    </a:lnTo>
                    <a:lnTo>
                      <a:pt x="332" y="1722"/>
                    </a:lnTo>
                    <a:lnTo>
                      <a:pt x="300" y="1738"/>
                    </a:lnTo>
                    <a:lnTo>
                      <a:pt x="271" y="1756"/>
                    </a:lnTo>
                    <a:lnTo>
                      <a:pt x="243" y="1778"/>
                    </a:lnTo>
                    <a:lnTo>
                      <a:pt x="218" y="1801"/>
                    </a:lnTo>
                    <a:lnTo>
                      <a:pt x="195" y="1828"/>
                    </a:lnTo>
                    <a:lnTo>
                      <a:pt x="177" y="1860"/>
                    </a:lnTo>
                    <a:lnTo>
                      <a:pt x="176" y="1866"/>
                    </a:lnTo>
                    <a:lnTo>
                      <a:pt x="174" y="1874"/>
                    </a:lnTo>
                    <a:lnTo>
                      <a:pt x="176" y="1883"/>
                    </a:lnTo>
                    <a:lnTo>
                      <a:pt x="181" y="1889"/>
                    </a:lnTo>
                    <a:lnTo>
                      <a:pt x="192" y="1886"/>
                    </a:lnTo>
                    <a:lnTo>
                      <a:pt x="197" y="1876"/>
                    </a:lnTo>
                    <a:lnTo>
                      <a:pt x="200" y="1865"/>
                    </a:lnTo>
                    <a:lnTo>
                      <a:pt x="208" y="1856"/>
                    </a:lnTo>
                    <a:lnTo>
                      <a:pt x="230" y="1837"/>
                    </a:lnTo>
                    <a:lnTo>
                      <a:pt x="251" y="1817"/>
                    </a:lnTo>
                    <a:lnTo>
                      <a:pt x="274" y="1799"/>
                    </a:lnTo>
                    <a:lnTo>
                      <a:pt x="299" y="1781"/>
                    </a:lnTo>
                    <a:lnTo>
                      <a:pt x="322" y="1766"/>
                    </a:lnTo>
                    <a:lnTo>
                      <a:pt x="348" y="1753"/>
                    </a:lnTo>
                    <a:lnTo>
                      <a:pt x="373" y="1740"/>
                    </a:lnTo>
                    <a:lnTo>
                      <a:pt x="399" y="1730"/>
                    </a:lnTo>
                    <a:lnTo>
                      <a:pt x="404" y="1730"/>
                    </a:lnTo>
                    <a:lnTo>
                      <a:pt x="407" y="1732"/>
                    </a:lnTo>
                    <a:lnTo>
                      <a:pt x="410" y="1733"/>
                    </a:lnTo>
                    <a:lnTo>
                      <a:pt x="415" y="1733"/>
                    </a:lnTo>
                    <a:lnTo>
                      <a:pt x="377" y="1761"/>
                    </a:lnTo>
                    <a:lnTo>
                      <a:pt x="350" y="1791"/>
                    </a:lnTo>
                    <a:lnTo>
                      <a:pt x="328" y="1822"/>
                    </a:lnTo>
                    <a:lnTo>
                      <a:pt x="315" y="1851"/>
                    </a:lnTo>
                    <a:lnTo>
                      <a:pt x="307" y="1878"/>
                    </a:lnTo>
                    <a:lnTo>
                      <a:pt x="304" y="1899"/>
                    </a:lnTo>
                    <a:lnTo>
                      <a:pt x="302" y="1914"/>
                    </a:lnTo>
                    <a:lnTo>
                      <a:pt x="304" y="1920"/>
                    </a:lnTo>
                    <a:lnTo>
                      <a:pt x="312" y="1910"/>
                    </a:lnTo>
                    <a:lnTo>
                      <a:pt x="325" y="1888"/>
                    </a:lnTo>
                    <a:lnTo>
                      <a:pt x="338" y="1860"/>
                    </a:lnTo>
                    <a:lnTo>
                      <a:pt x="350" y="1835"/>
                    </a:lnTo>
                    <a:lnTo>
                      <a:pt x="361" y="1820"/>
                    </a:lnTo>
                    <a:lnTo>
                      <a:pt x="374" y="1806"/>
                    </a:lnTo>
                    <a:lnTo>
                      <a:pt x="387" y="1791"/>
                    </a:lnTo>
                    <a:lnTo>
                      <a:pt x="402" y="1778"/>
                    </a:lnTo>
                    <a:lnTo>
                      <a:pt x="418" y="1768"/>
                    </a:lnTo>
                    <a:lnTo>
                      <a:pt x="435" y="1760"/>
                    </a:lnTo>
                    <a:lnTo>
                      <a:pt x="455" y="1758"/>
                    </a:lnTo>
                    <a:lnTo>
                      <a:pt x="474" y="1761"/>
                    </a:lnTo>
                    <a:lnTo>
                      <a:pt x="491" y="1766"/>
                    </a:lnTo>
                    <a:lnTo>
                      <a:pt x="507" y="1769"/>
                    </a:lnTo>
                    <a:lnTo>
                      <a:pt x="523" y="1771"/>
                    </a:lnTo>
                    <a:lnTo>
                      <a:pt x="540" y="1773"/>
                    </a:lnTo>
                    <a:lnTo>
                      <a:pt x="556" y="1771"/>
                    </a:lnTo>
                    <a:lnTo>
                      <a:pt x="573" y="1769"/>
                    </a:lnTo>
                    <a:lnTo>
                      <a:pt x="591" y="1768"/>
                    </a:lnTo>
                    <a:lnTo>
                      <a:pt x="607" y="1766"/>
                    </a:lnTo>
                    <a:lnTo>
                      <a:pt x="623" y="1765"/>
                    </a:lnTo>
                    <a:lnTo>
                      <a:pt x="641" y="1765"/>
                    </a:lnTo>
                    <a:lnTo>
                      <a:pt x="658" y="1763"/>
                    </a:lnTo>
                    <a:lnTo>
                      <a:pt x="674" y="1765"/>
                    </a:lnTo>
                    <a:lnTo>
                      <a:pt x="691" y="1768"/>
                    </a:lnTo>
                    <a:lnTo>
                      <a:pt x="705" y="1771"/>
                    </a:lnTo>
                    <a:lnTo>
                      <a:pt x="722" y="1778"/>
                    </a:lnTo>
                    <a:lnTo>
                      <a:pt x="737" y="1788"/>
                    </a:lnTo>
                    <a:lnTo>
                      <a:pt x="728" y="1797"/>
                    </a:lnTo>
                    <a:lnTo>
                      <a:pt x="720" y="1807"/>
                    </a:lnTo>
                    <a:lnTo>
                      <a:pt x="710" y="1819"/>
                    </a:lnTo>
                    <a:lnTo>
                      <a:pt x="701" y="1828"/>
                    </a:lnTo>
                    <a:lnTo>
                      <a:pt x="681" y="1861"/>
                    </a:lnTo>
                    <a:lnTo>
                      <a:pt x="669" y="1897"/>
                    </a:lnTo>
                    <a:lnTo>
                      <a:pt x="664" y="1935"/>
                    </a:lnTo>
                    <a:lnTo>
                      <a:pt x="668" y="1973"/>
                    </a:lnTo>
                    <a:lnTo>
                      <a:pt x="46" y="1974"/>
                    </a:lnTo>
                    <a:lnTo>
                      <a:pt x="26" y="1904"/>
                    </a:lnTo>
                    <a:lnTo>
                      <a:pt x="13" y="1830"/>
                    </a:lnTo>
                    <a:lnTo>
                      <a:pt x="5" y="1755"/>
                    </a:lnTo>
                    <a:lnTo>
                      <a:pt x="0" y="1679"/>
                    </a:lnTo>
                    <a:lnTo>
                      <a:pt x="2" y="1519"/>
                    </a:lnTo>
                    <a:lnTo>
                      <a:pt x="7" y="1481"/>
                    </a:lnTo>
                    <a:lnTo>
                      <a:pt x="13" y="1443"/>
                    </a:lnTo>
                    <a:lnTo>
                      <a:pt x="20" y="1406"/>
                    </a:lnTo>
                    <a:lnTo>
                      <a:pt x="28" y="1368"/>
                    </a:lnTo>
                    <a:lnTo>
                      <a:pt x="36" y="1332"/>
                    </a:lnTo>
                    <a:lnTo>
                      <a:pt x="46" y="1296"/>
                    </a:lnTo>
                    <a:lnTo>
                      <a:pt x="56" y="1260"/>
                    </a:lnTo>
                    <a:lnTo>
                      <a:pt x="67" y="1224"/>
                    </a:lnTo>
                    <a:lnTo>
                      <a:pt x="85" y="1204"/>
                    </a:lnTo>
                    <a:lnTo>
                      <a:pt x="107" y="1186"/>
                    </a:lnTo>
                    <a:lnTo>
                      <a:pt x="128" y="1171"/>
                    </a:lnTo>
                    <a:lnTo>
                      <a:pt x="151" y="1158"/>
                    </a:lnTo>
                    <a:lnTo>
                      <a:pt x="176" y="1146"/>
                    </a:lnTo>
                    <a:lnTo>
                      <a:pt x="200" y="1135"/>
                    </a:lnTo>
                    <a:lnTo>
                      <a:pt x="225" y="1125"/>
                    </a:lnTo>
                    <a:lnTo>
                      <a:pt x="249" y="1114"/>
                    </a:lnTo>
                    <a:lnTo>
                      <a:pt x="272" y="1104"/>
                    </a:lnTo>
                    <a:lnTo>
                      <a:pt x="295" y="1091"/>
                    </a:lnTo>
                    <a:lnTo>
                      <a:pt x="317" y="1078"/>
                    </a:lnTo>
                    <a:lnTo>
                      <a:pt x="338" y="1063"/>
                    </a:lnTo>
                    <a:lnTo>
                      <a:pt x="354" y="1045"/>
                    </a:lnTo>
                    <a:lnTo>
                      <a:pt x="371" y="1024"/>
                    </a:lnTo>
                    <a:lnTo>
                      <a:pt x="382" y="999"/>
                    </a:lnTo>
                    <a:lnTo>
                      <a:pt x="392" y="971"/>
                    </a:lnTo>
                    <a:lnTo>
                      <a:pt x="402" y="960"/>
                    </a:lnTo>
                    <a:lnTo>
                      <a:pt x="407" y="951"/>
                    </a:lnTo>
                    <a:lnTo>
                      <a:pt x="410" y="943"/>
                    </a:lnTo>
                    <a:lnTo>
                      <a:pt x="415" y="938"/>
                    </a:lnTo>
                    <a:lnTo>
                      <a:pt x="420" y="963"/>
                    </a:lnTo>
                    <a:lnTo>
                      <a:pt x="430" y="984"/>
                    </a:lnTo>
                    <a:lnTo>
                      <a:pt x="446" y="1002"/>
                    </a:lnTo>
                    <a:lnTo>
                      <a:pt x="464" y="1015"/>
                    </a:lnTo>
                    <a:lnTo>
                      <a:pt x="486" y="1027"/>
                    </a:lnTo>
                    <a:lnTo>
                      <a:pt x="509" y="1038"/>
                    </a:lnTo>
                    <a:lnTo>
                      <a:pt x="530" y="1046"/>
                    </a:lnTo>
                    <a:lnTo>
                      <a:pt x="551" y="1056"/>
                    </a:lnTo>
                    <a:lnTo>
                      <a:pt x="582" y="1065"/>
                    </a:lnTo>
                    <a:lnTo>
                      <a:pt x="614" y="1068"/>
                    </a:lnTo>
                    <a:lnTo>
                      <a:pt x="643" y="1069"/>
                    </a:lnTo>
                    <a:lnTo>
                      <a:pt x="669" y="1069"/>
                    </a:lnTo>
                    <a:lnTo>
                      <a:pt x="696" y="1066"/>
                    </a:lnTo>
                    <a:lnTo>
                      <a:pt x="719" y="1061"/>
                    </a:lnTo>
                    <a:lnTo>
                      <a:pt x="742" y="1055"/>
                    </a:lnTo>
                    <a:lnTo>
                      <a:pt x="761" y="1048"/>
                    </a:lnTo>
                    <a:lnTo>
                      <a:pt x="779" y="1042"/>
                    </a:lnTo>
                    <a:lnTo>
                      <a:pt x="794" y="1033"/>
                    </a:lnTo>
                    <a:lnTo>
                      <a:pt x="809" y="1025"/>
                    </a:lnTo>
                    <a:lnTo>
                      <a:pt x="819" y="1019"/>
                    </a:lnTo>
                    <a:lnTo>
                      <a:pt x="828" y="1014"/>
                    </a:lnTo>
                    <a:lnTo>
                      <a:pt x="835" y="1009"/>
                    </a:lnTo>
                    <a:lnTo>
                      <a:pt x="838" y="1005"/>
                    </a:lnTo>
                    <a:lnTo>
                      <a:pt x="840" y="1004"/>
                    </a:lnTo>
                    <a:lnTo>
                      <a:pt x="846" y="1014"/>
                    </a:lnTo>
                    <a:lnTo>
                      <a:pt x="850" y="1025"/>
                    </a:lnTo>
                    <a:lnTo>
                      <a:pt x="851" y="1037"/>
                    </a:lnTo>
                    <a:lnTo>
                      <a:pt x="855" y="1048"/>
                    </a:lnTo>
                    <a:lnTo>
                      <a:pt x="848" y="1061"/>
                    </a:lnTo>
                    <a:lnTo>
                      <a:pt x="838" y="1074"/>
                    </a:lnTo>
                    <a:lnTo>
                      <a:pt x="827" y="1084"/>
                    </a:lnTo>
                    <a:lnTo>
                      <a:pt x="815" y="1092"/>
                    </a:lnTo>
                    <a:lnTo>
                      <a:pt x="801" y="1101"/>
                    </a:lnTo>
                    <a:lnTo>
                      <a:pt x="787" y="1107"/>
                    </a:lnTo>
                    <a:lnTo>
                      <a:pt x="773" y="1112"/>
                    </a:lnTo>
                    <a:lnTo>
                      <a:pt x="760" y="1117"/>
                    </a:lnTo>
                    <a:lnTo>
                      <a:pt x="737" y="1122"/>
                    </a:lnTo>
                    <a:lnTo>
                      <a:pt x="714" y="1127"/>
                    </a:lnTo>
                    <a:lnTo>
                      <a:pt x="689" y="1130"/>
                    </a:lnTo>
                    <a:lnTo>
                      <a:pt x="664" y="1132"/>
                    </a:lnTo>
                    <a:lnTo>
                      <a:pt x="641" y="1132"/>
                    </a:lnTo>
                    <a:lnTo>
                      <a:pt x="617" y="1130"/>
                    </a:lnTo>
                    <a:lnTo>
                      <a:pt x="592" y="1128"/>
                    </a:lnTo>
                    <a:lnTo>
                      <a:pt x="569" y="1125"/>
                    </a:lnTo>
                    <a:lnTo>
                      <a:pt x="545" y="1120"/>
                    </a:lnTo>
                    <a:lnTo>
                      <a:pt x="522" y="1114"/>
                    </a:lnTo>
                    <a:lnTo>
                      <a:pt x="500" y="1105"/>
                    </a:lnTo>
                    <a:lnTo>
                      <a:pt x="477" y="1096"/>
                    </a:lnTo>
                    <a:lnTo>
                      <a:pt x="458" y="1084"/>
                    </a:lnTo>
                    <a:lnTo>
                      <a:pt x="436" y="1073"/>
                    </a:lnTo>
                    <a:lnTo>
                      <a:pt x="418" y="1058"/>
                    </a:lnTo>
                    <a:lnTo>
                      <a:pt x="400" y="1042"/>
                    </a:lnTo>
                    <a:lnTo>
                      <a:pt x="395" y="1035"/>
                    </a:lnTo>
                    <a:lnTo>
                      <a:pt x="392" y="1025"/>
                    </a:lnTo>
                    <a:lnTo>
                      <a:pt x="387" y="1019"/>
                    </a:lnTo>
                    <a:lnTo>
                      <a:pt x="377" y="1019"/>
                    </a:lnTo>
                    <a:lnTo>
                      <a:pt x="377" y="1032"/>
                    </a:lnTo>
                    <a:lnTo>
                      <a:pt x="381" y="1045"/>
                    </a:lnTo>
                    <a:lnTo>
                      <a:pt x="387" y="1055"/>
                    </a:lnTo>
                    <a:lnTo>
                      <a:pt x="397" y="1065"/>
                    </a:lnTo>
                    <a:lnTo>
                      <a:pt x="407" y="1074"/>
                    </a:lnTo>
                    <a:lnTo>
                      <a:pt x="418" y="1083"/>
                    </a:lnTo>
                    <a:lnTo>
                      <a:pt x="430" y="1091"/>
                    </a:lnTo>
                    <a:lnTo>
                      <a:pt x="440" y="1099"/>
                    </a:lnTo>
                    <a:lnTo>
                      <a:pt x="461" y="1112"/>
                    </a:lnTo>
                    <a:lnTo>
                      <a:pt x="482" y="1124"/>
                    </a:lnTo>
                    <a:lnTo>
                      <a:pt x="507" y="1133"/>
                    </a:lnTo>
                    <a:lnTo>
                      <a:pt x="532" y="1142"/>
                    </a:lnTo>
                    <a:lnTo>
                      <a:pt x="556" y="1148"/>
                    </a:lnTo>
                    <a:lnTo>
                      <a:pt x="582" y="1153"/>
                    </a:lnTo>
                    <a:lnTo>
                      <a:pt x="609" y="1156"/>
                    </a:lnTo>
                    <a:lnTo>
                      <a:pt x="637" y="1158"/>
                    </a:lnTo>
                    <a:lnTo>
                      <a:pt x="663" y="1158"/>
                    </a:lnTo>
                    <a:lnTo>
                      <a:pt x="689" y="1156"/>
                    </a:lnTo>
                    <a:lnTo>
                      <a:pt x="715" y="1153"/>
                    </a:lnTo>
                    <a:lnTo>
                      <a:pt x="742" y="1148"/>
                    </a:lnTo>
                    <a:lnTo>
                      <a:pt x="768" y="1142"/>
                    </a:lnTo>
                    <a:lnTo>
                      <a:pt x="791" y="1133"/>
                    </a:lnTo>
                    <a:lnTo>
                      <a:pt x="815" y="1124"/>
                    </a:lnTo>
                    <a:lnTo>
                      <a:pt x="837" y="1112"/>
                    </a:lnTo>
                    <a:lnTo>
                      <a:pt x="850" y="1102"/>
                    </a:lnTo>
                    <a:lnTo>
                      <a:pt x="861" y="1087"/>
                    </a:lnTo>
                    <a:lnTo>
                      <a:pt x="873" y="1073"/>
                    </a:lnTo>
                    <a:lnTo>
                      <a:pt x="881" y="1058"/>
                    </a:lnTo>
                    <a:lnTo>
                      <a:pt x="881" y="1025"/>
                    </a:lnTo>
                    <a:lnTo>
                      <a:pt x="874" y="994"/>
                    </a:lnTo>
                    <a:lnTo>
                      <a:pt x="863" y="966"/>
                    </a:lnTo>
                    <a:lnTo>
                      <a:pt x="848" y="940"/>
                    </a:lnTo>
                    <a:lnTo>
                      <a:pt x="845" y="925"/>
                    </a:lnTo>
                    <a:lnTo>
                      <a:pt x="846" y="915"/>
                    </a:lnTo>
                    <a:lnTo>
                      <a:pt x="853" y="905"/>
                    </a:lnTo>
                    <a:lnTo>
                      <a:pt x="861" y="899"/>
                    </a:lnTo>
                    <a:lnTo>
                      <a:pt x="873" y="894"/>
                    </a:lnTo>
                    <a:lnTo>
                      <a:pt x="883" y="887"/>
                    </a:lnTo>
                    <a:lnTo>
                      <a:pt x="894" y="883"/>
                    </a:lnTo>
                    <a:lnTo>
                      <a:pt x="902" y="876"/>
                    </a:lnTo>
                    <a:lnTo>
                      <a:pt x="915" y="873"/>
                    </a:lnTo>
                    <a:lnTo>
                      <a:pt x="930" y="869"/>
                    </a:lnTo>
                    <a:lnTo>
                      <a:pt x="943" y="866"/>
                    </a:lnTo>
                    <a:lnTo>
                      <a:pt x="958" y="863"/>
                    </a:lnTo>
                    <a:lnTo>
                      <a:pt x="971" y="860"/>
                    </a:lnTo>
                    <a:lnTo>
                      <a:pt x="986" y="858"/>
                    </a:lnTo>
                    <a:lnTo>
                      <a:pt x="1001" y="858"/>
                    </a:lnTo>
                    <a:lnTo>
                      <a:pt x="1015" y="858"/>
                    </a:lnTo>
                    <a:lnTo>
                      <a:pt x="1025" y="891"/>
                    </a:lnTo>
                    <a:lnTo>
                      <a:pt x="1083" y="1040"/>
                    </a:lnTo>
                    <a:lnTo>
                      <a:pt x="1092" y="1061"/>
                    </a:lnTo>
                    <a:lnTo>
                      <a:pt x="1101" y="1087"/>
                    </a:lnTo>
                    <a:lnTo>
                      <a:pt x="1109" y="1114"/>
                    </a:lnTo>
                    <a:lnTo>
                      <a:pt x="1117" y="1142"/>
                    </a:lnTo>
                    <a:lnTo>
                      <a:pt x="1124" y="1166"/>
                    </a:lnTo>
                    <a:lnTo>
                      <a:pt x="1129" y="1186"/>
                    </a:lnTo>
                    <a:lnTo>
                      <a:pt x="1132" y="1201"/>
                    </a:lnTo>
                    <a:lnTo>
                      <a:pt x="1135" y="1205"/>
                    </a:lnTo>
                    <a:lnTo>
                      <a:pt x="1138" y="1201"/>
                    </a:lnTo>
                    <a:lnTo>
                      <a:pt x="1142" y="1165"/>
                    </a:lnTo>
                    <a:lnTo>
                      <a:pt x="1142" y="1130"/>
                    </a:lnTo>
                    <a:lnTo>
                      <a:pt x="1137" y="1096"/>
                    </a:lnTo>
                    <a:lnTo>
                      <a:pt x="1129" y="1063"/>
                    </a:lnTo>
                    <a:lnTo>
                      <a:pt x="1119" y="1032"/>
                    </a:lnTo>
                    <a:lnTo>
                      <a:pt x="1107" y="999"/>
                    </a:lnTo>
                    <a:lnTo>
                      <a:pt x="1094" y="969"/>
                    </a:lnTo>
                    <a:lnTo>
                      <a:pt x="1079" y="938"/>
                    </a:lnTo>
                    <a:lnTo>
                      <a:pt x="1073" y="907"/>
                    </a:lnTo>
                    <a:lnTo>
                      <a:pt x="1073" y="878"/>
                    </a:lnTo>
                    <a:lnTo>
                      <a:pt x="1079" y="850"/>
                    </a:lnTo>
                    <a:lnTo>
                      <a:pt x="1089" y="825"/>
                    </a:lnTo>
                    <a:lnTo>
                      <a:pt x="1104" y="801"/>
                    </a:lnTo>
                    <a:lnTo>
                      <a:pt x="1119" y="776"/>
                    </a:lnTo>
                    <a:lnTo>
                      <a:pt x="1135" y="753"/>
                    </a:lnTo>
                    <a:lnTo>
                      <a:pt x="1150" y="728"/>
                    </a:lnTo>
                    <a:lnTo>
                      <a:pt x="1165" y="694"/>
                    </a:lnTo>
                    <a:lnTo>
                      <a:pt x="1179" y="660"/>
                    </a:lnTo>
                    <a:lnTo>
                      <a:pt x="1191" y="623"/>
                    </a:lnTo>
                    <a:lnTo>
                      <a:pt x="1201" y="586"/>
                    </a:lnTo>
                    <a:lnTo>
                      <a:pt x="1207" y="548"/>
                    </a:lnTo>
                    <a:lnTo>
                      <a:pt x="1216" y="510"/>
                    </a:lnTo>
                    <a:lnTo>
                      <a:pt x="1220" y="471"/>
                    </a:lnTo>
                    <a:lnTo>
                      <a:pt x="1225" y="432"/>
                    </a:lnTo>
                    <a:lnTo>
                      <a:pt x="1243" y="394"/>
                    </a:lnTo>
                    <a:lnTo>
                      <a:pt x="1252" y="423"/>
                    </a:lnTo>
                    <a:lnTo>
                      <a:pt x="1266" y="446"/>
                    </a:lnTo>
                    <a:lnTo>
                      <a:pt x="1286" y="468"/>
                    </a:lnTo>
                    <a:lnTo>
                      <a:pt x="1307" y="486"/>
                    </a:lnTo>
                    <a:lnTo>
                      <a:pt x="1330" y="505"/>
                    </a:lnTo>
                    <a:lnTo>
                      <a:pt x="1352" y="525"/>
                    </a:lnTo>
                    <a:lnTo>
                      <a:pt x="1370" y="548"/>
                    </a:lnTo>
                    <a:lnTo>
                      <a:pt x="1381" y="576"/>
                    </a:lnTo>
                    <a:lnTo>
                      <a:pt x="1394" y="609"/>
                    </a:lnTo>
                    <a:lnTo>
                      <a:pt x="1407" y="646"/>
                    </a:lnTo>
                    <a:lnTo>
                      <a:pt x="1417" y="681"/>
                    </a:lnTo>
                    <a:lnTo>
                      <a:pt x="1421" y="694"/>
                    </a:lnTo>
                    <a:lnTo>
                      <a:pt x="1430" y="676"/>
                    </a:lnTo>
                    <a:lnTo>
                      <a:pt x="1434" y="653"/>
                    </a:lnTo>
                    <a:lnTo>
                      <a:pt x="1434" y="630"/>
                    </a:lnTo>
                    <a:lnTo>
                      <a:pt x="1434" y="609"/>
                    </a:lnTo>
                    <a:lnTo>
                      <a:pt x="1427" y="576"/>
                    </a:lnTo>
                    <a:lnTo>
                      <a:pt x="1414" y="545"/>
                    </a:lnTo>
                    <a:lnTo>
                      <a:pt x="1393" y="519"/>
                    </a:lnTo>
                    <a:lnTo>
                      <a:pt x="1368" y="492"/>
                    </a:lnTo>
                    <a:lnTo>
                      <a:pt x="1342" y="469"/>
                    </a:lnTo>
                    <a:lnTo>
                      <a:pt x="1316" y="445"/>
                    </a:lnTo>
                    <a:lnTo>
                      <a:pt x="1289" y="422"/>
                    </a:lnTo>
                    <a:lnTo>
                      <a:pt x="1268" y="396"/>
                    </a:lnTo>
                    <a:lnTo>
                      <a:pt x="1266" y="153"/>
                    </a:lnTo>
                    <a:lnTo>
                      <a:pt x="1270" y="117"/>
                    </a:lnTo>
                    <a:lnTo>
                      <a:pt x="1275" y="81"/>
                    </a:lnTo>
                    <a:lnTo>
                      <a:pt x="1283" y="48"/>
                    </a:lnTo>
                    <a:lnTo>
                      <a:pt x="1301" y="20"/>
                    </a:lnTo>
                    <a:lnTo>
                      <a:pt x="1320" y="28"/>
                    </a:lnTo>
                    <a:lnTo>
                      <a:pt x="1343" y="37"/>
                    </a:lnTo>
                    <a:lnTo>
                      <a:pt x="1366" y="43"/>
                    </a:lnTo>
                    <a:lnTo>
                      <a:pt x="1391" y="46"/>
                    </a:lnTo>
                    <a:lnTo>
                      <a:pt x="1414" y="48"/>
                    </a:lnTo>
                    <a:lnTo>
                      <a:pt x="1439" y="46"/>
                    </a:lnTo>
                    <a:lnTo>
                      <a:pt x="1460" y="40"/>
                    </a:lnTo>
                    <a:lnTo>
                      <a:pt x="1481" y="30"/>
                    </a:lnTo>
                    <a:lnTo>
                      <a:pt x="1488" y="27"/>
                    </a:lnTo>
                    <a:lnTo>
                      <a:pt x="1494" y="22"/>
                    </a:lnTo>
                    <a:lnTo>
                      <a:pt x="1501" y="17"/>
                    </a:lnTo>
                    <a:lnTo>
                      <a:pt x="1507" y="12"/>
                    </a:lnTo>
                    <a:lnTo>
                      <a:pt x="1512" y="7"/>
                    </a:lnTo>
                    <a:lnTo>
                      <a:pt x="1519" y="4"/>
                    </a:lnTo>
                    <a:lnTo>
                      <a:pt x="1525" y="0"/>
                    </a:lnTo>
                    <a:lnTo>
                      <a:pt x="1532" y="0"/>
                    </a:lnTo>
                    <a:lnTo>
                      <a:pt x="1553" y="1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32000" y="3981240"/>
                <a:ext cx="490680" cy="279360"/>
              </a:xfrm>
              <a:custGeom>
                <a:avLst/>
                <a:gdLst/>
                <a:ahLst/>
                <a:rect l="l" t="t" r="r" b="b"/>
                <a:pathLst>
                  <a:path w="740" h="451">
                    <a:moveTo>
                      <a:pt x="509" y="30"/>
                    </a:moveTo>
                    <a:lnTo>
                      <a:pt x="532" y="31"/>
                    </a:lnTo>
                    <a:lnTo>
                      <a:pt x="553" y="36"/>
                    </a:lnTo>
                    <a:lnTo>
                      <a:pt x="574" y="41"/>
                    </a:lnTo>
                    <a:lnTo>
                      <a:pt x="596" y="48"/>
                    </a:lnTo>
                    <a:lnTo>
                      <a:pt x="614" y="57"/>
                    </a:lnTo>
                    <a:lnTo>
                      <a:pt x="632" y="69"/>
                    </a:lnTo>
                    <a:lnTo>
                      <a:pt x="646" y="84"/>
                    </a:lnTo>
                    <a:lnTo>
                      <a:pt x="661" y="102"/>
                    </a:lnTo>
                    <a:lnTo>
                      <a:pt x="681" y="131"/>
                    </a:lnTo>
                    <a:lnTo>
                      <a:pt x="699" y="162"/>
                    </a:lnTo>
                    <a:lnTo>
                      <a:pt x="715" y="195"/>
                    </a:lnTo>
                    <a:lnTo>
                      <a:pt x="728" y="228"/>
                    </a:lnTo>
                    <a:lnTo>
                      <a:pt x="737" y="262"/>
                    </a:lnTo>
                    <a:lnTo>
                      <a:pt x="740" y="297"/>
                    </a:lnTo>
                    <a:lnTo>
                      <a:pt x="738" y="333"/>
                    </a:lnTo>
                    <a:lnTo>
                      <a:pt x="728" y="371"/>
                    </a:lnTo>
                    <a:lnTo>
                      <a:pt x="722" y="392"/>
                    </a:lnTo>
                    <a:lnTo>
                      <a:pt x="715" y="413"/>
                    </a:lnTo>
                    <a:lnTo>
                      <a:pt x="707" y="433"/>
                    </a:lnTo>
                    <a:lnTo>
                      <a:pt x="696" y="451"/>
                    </a:lnTo>
                    <a:lnTo>
                      <a:pt x="686" y="448"/>
                    </a:lnTo>
                    <a:lnTo>
                      <a:pt x="673" y="448"/>
                    </a:lnTo>
                    <a:lnTo>
                      <a:pt x="660" y="448"/>
                    </a:lnTo>
                    <a:lnTo>
                      <a:pt x="655" y="449"/>
                    </a:lnTo>
                    <a:lnTo>
                      <a:pt x="655" y="425"/>
                    </a:lnTo>
                    <a:lnTo>
                      <a:pt x="660" y="402"/>
                    </a:lnTo>
                    <a:lnTo>
                      <a:pt x="664" y="377"/>
                    </a:lnTo>
                    <a:lnTo>
                      <a:pt x="661" y="353"/>
                    </a:lnTo>
                    <a:lnTo>
                      <a:pt x="651" y="357"/>
                    </a:lnTo>
                    <a:lnTo>
                      <a:pt x="640" y="361"/>
                    </a:lnTo>
                    <a:lnTo>
                      <a:pt x="630" y="364"/>
                    </a:lnTo>
                    <a:lnTo>
                      <a:pt x="619" y="367"/>
                    </a:lnTo>
                    <a:lnTo>
                      <a:pt x="607" y="371"/>
                    </a:lnTo>
                    <a:lnTo>
                      <a:pt x="596" y="372"/>
                    </a:lnTo>
                    <a:lnTo>
                      <a:pt x="584" y="372"/>
                    </a:lnTo>
                    <a:lnTo>
                      <a:pt x="573" y="372"/>
                    </a:lnTo>
                    <a:lnTo>
                      <a:pt x="582" y="357"/>
                    </a:lnTo>
                    <a:lnTo>
                      <a:pt x="592" y="336"/>
                    </a:lnTo>
                    <a:lnTo>
                      <a:pt x="602" y="313"/>
                    </a:lnTo>
                    <a:lnTo>
                      <a:pt x="609" y="289"/>
                    </a:lnTo>
                    <a:lnTo>
                      <a:pt x="615" y="267"/>
                    </a:lnTo>
                    <a:lnTo>
                      <a:pt x="620" y="249"/>
                    </a:lnTo>
                    <a:lnTo>
                      <a:pt x="623" y="236"/>
                    </a:lnTo>
                    <a:lnTo>
                      <a:pt x="625" y="231"/>
                    </a:lnTo>
                    <a:lnTo>
                      <a:pt x="604" y="254"/>
                    </a:lnTo>
                    <a:lnTo>
                      <a:pt x="579" y="272"/>
                    </a:lnTo>
                    <a:lnTo>
                      <a:pt x="555" y="289"/>
                    </a:lnTo>
                    <a:lnTo>
                      <a:pt x="528" y="302"/>
                    </a:lnTo>
                    <a:lnTo>
                      <a:pt x="500" y="313"/>
                    </a:lnTo>
                    <a:lnTo>
                      <a:pt x="471" y="321"/>
                    </a:lnTo>
                    <a:lnTo>
                      <a:pt x="441" y="326"/>
                    </a:lnTo>
                    <a:lnTo>
                      <a:pt x="410" y="330"/>
                    </a:lnTo>
                    <a:lnTo>
                      <a:pt x="379" y="331"/>
                    </a:lnTo>
                    <a:lnTo>
                      <a:pt x="350" y="330"/>
                    </a:lnTo>
                    <a:lnTo>
                      <a:pt x="318" y="328"/>
                    </a:lnTo>
                    <a:lnTo>
                      <a:pt x="287" y="325"/>
                    </a:lnTo>
                    <a:lnTo>
                      <a:pt x="256" y="318"/>
                    </a:lnTo>
                    <a:lnTo>
                      <a:pt x="227" y="312"/>
                    </a:lnTo>
                    <a:lnTo>
                      <a:pt x="197" y="303"/>
                    </a:lnTo>
                    <a:lnTo>
                      <a:pt x="169" y="295"/>
                    </a:lnTo>
                    <a:lnTo>
                      <a:pt x="172" y="272"/>
                    </a:lnTo>
                    <a:lnTo>
                      <a:pt x="179" y="246"/>
                    </a:lnTo>
                    <a:lnTo>
                      <a:pt x="181" y="221"/>
                    </a:lnTo>
                    <a:lnTo>
                      <a:pt x="169" y="198"/>
                    </a:lnTo>
                    <a:lnTo>
                      <a:pt x="141" y="220"/>
                    </a:lnTo>
                    <a:lnTo>
                      <a:pt x="117" y="246"/>
                    </a:lnTo>
                    <a:lnTo>
                      <a:pt x="94" y="276"/>
                    </a:lnTo>
                    <a:lnTo>
                      <a:pt x="76" y="303"/>
                    </a:lnTo>
                    <a:lnTo>
                      <a:pt x="59" y="330"/>
                    </a:lnTo>
                    <a:lnTo>
                      <a:pt x="48" y="351"/>
                    </a:lnTo>
                    <a:lnTo>
                      <a:pt x="40" y="366"/>
                    </a:lnTo>
                    <a:lnTo>
                      <a:pt x="36" y="372"/>
                    </a:lnTo>
                    <a:lnTo>
                      <a:pt x="28" y="366"/>
                    </a:lnTo>
                    <a:lnTo>
                      <a:pt x="18" y="357"/>
                    </a:lnTo>
                    <a:lnTo>
                      <a:pt x="10" y="353"/>
                    </a:lnTo>
                    <a:lnTo>
                      <a:pt x="0" y="349"/>
                    </a:lnTo>
                    <a:lnTo>
                      <a:pt x="2" y="323"/>
                    </a:lnTo>
                    <a:lnTo>
                      <a:pt x="7" y="298"/>
                    </a:lnTo>
                    <a:lnTo>
                      <a:pt x="15" y="274"/>
                    </a:lnTo>
                    <a:lnTo>
                      <a:pt x="25" y="249"/>
                    </a:lnTo>
                    <a:lnTo>
                      <a:pt x="36" y="226"/>
                    </a:lnTo>
                    <a:lnTo>
                      <a:pt x="49" y="205"/>
                    </a:lnTo>
                    <a:lnTo>
                      <a:pt x="63" y="182"/>
                    </a:lnTo>
                    <a:lnTo>
                      <a:pt x="74" y="159"/>
                    </a:lnTo>
                    <a:lnTo>
                      <a:pt x="89" y="141"/>
                    </a:lnTo>
                    <a:lnTo>
                      <a:pt x="104" y="123"/>
                    </a:lnTo>
                    <a:lnTo>
                      <a:pt x="120" y="105"/>
                    </a:lnTo>
                    <a:lnTo>
                      <a:pt x="136" y="89"/>
                    </a:lnTo>
                    <a:lnTo>
                      <a:pt x="154" y="74"/>
                    </a:lnTo>
                    <a:lnTo>
                      <a:pt x="172" y="59"/>
                    </a:lnTo>
                    <a:lnTo>
                      <a:pt x="192" y="46"/>
                    </a:lnTo>
                    <a:lnTo>
                      <a:pt x="212" y="33"/>
                    </a:lnTo>
                    <a:lnTo>
                      <a:pt x="231" y="23"/>
                    </a:lnTo>
                    <a:lnTo>
                      <a:pt x="253" y="15"/>
                    </a:lnTo>
                    <a:lnTo>
                      <a:pt x="274" y="8"/>
                    </a:lnTo>
                    <a:lnTo>
                      <a:pt x="297" y="3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6" y="3"/>
                    </a:lnTo>
                    <a:lnTo>
                      <a:pt x="391" y="8"/>
                    </a:lnTo>
                    <a:lnTo>
                      <a:pt x="405" y="13"/>
                    </a:lnTo>
                    <a:lnTo>
                      <a:pt x="418" y="18"/>
                    </a:lnTo>
                    <a:lnTo>
                      <a:pt x="433" y="21"/>
                    </a:lnTo>
                    <a:lnTo>
                      <a:pt x="448" y="25"/>
                    </a:lnTo>
                    <a:lnTo>
                      <a:pt x="463" y="26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09" y="3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98520" y="4137480"/>
                <a:ext cx="481680" cy="383400"/>
              </a:xfrm>
              <a:custGeom>
                <a:avLst/>
                <a:gdLst/>
                <a:ahLst/>
                <a:rect l="l" t="t" r="r" b="b"/>
                <a:pathLst>
                  <a:path w="725" h="618">
                    <a:moveTo>
                      <a:pt x="172" y="54"/>
                    </a:moveTo>
                    <a:lnTo>
                      <a:pt x="187" y="60"/>
                    </a:lnTo>
                    <a:lnTo>
                      <a:pt x="203" y="67"/>
                    </a:lnTo>
                    <a:lnTo>
                      <a:pt x="218" y="72"/>
                    </a:lnTo>
                    <a:lnTo>
                      <a:pt x="235" y="77"/>
                    </a:lnTo>
                    <a:lnTo>
                      <a:pt x="251" y="82"/>
                    </a:lnTo>
                    <a:lnTo>
                      <a:pt x="266" y="85"/>
                    </a:lnTo>
                    <a:lnTo>
                      <a:pt x="282" y="88"/>
                    </a:lnTo>
                    <a:lnTo>
                      <a:pt x="299" y="91"/>
                    </a:lnTo>
                    <a:lnTo>
                      <a:pt x="315" y="95"/>
                    </a:lnTo>
                    <a:lnTo>
                      <a:pt x="333" y="98"/>
                    </a:lnTo>
                    <a:lnTo>
                      <a:pt x="349" y="100"/>
                    </a:lnTo>
                    <a:lnTo>
                      <a:pt x="366" y="103"/>
                    </a:lnTo>
                    <a:lnTo>
                      <a:pt x="384" y="104"/>
                    </a:lnTo>
                    <a:lnTo>
                      <a:pt x="400" y="106"/>
                    </a:lnTo>
                    <a:lnTo>
                      <a:pt x="418" y="108"/>
                    </a:lnTo>
                    <a:lnTo>
                      <a:pt x="435" y="109"/>
                    </a:lnTo>
                    <a:lnTo>
                      <a:pt x="459" y="109"/>
                    </a:lnTo>
                    <a:lnTo>
                      <a:pt x="482" y="108"/>
                    </a:lnTo>
                    <a:lnTo>
                      <a:pt x="505" y="104"/>
                    </a:lnTo>
                    <a:lnTo>
                      <a:pt x="528" y="100"/>
                    </a:lnTo>
                    <a:lnTo>
                      <a:pt x="551" y="95"/>
                    </a:lnTo>
                    <a:lnTo>
                      <a:pt x="572" y="86"/>
                    </a:lnTo>
                    <a:lnTo>
                      <a:pt x="594" y="78"/>
                    </a:lnTo>
                    <a:lnTo>
                      <a:pt x="613" y="67"/>
                    </a:lnTo>
                    <a:lnTo>
                      <a:pt x="608" y="86"/>
                    </a:lnTo>
                    <a:lnTo>
                      <a:pt x="600" y="104"/>
                    </a:lnTo>
                    <a:lnTo>
                      <a:pt x="592" y="121"/>
                    </a:lnTo>
                    <a:lnTo>
                      <a:pt x="582" y="139"/>
                    </a:lnTo>
                    <a:lnTo>
                      <a:pt x="592" y="145"/>
                    </a:lnTo>
                    <a:lnTo>
                      <a:pt x="604" y="149"/>
                    </a:lnTo>
                    <a:lnTo>
                      <a:pt x="617" y="150"/>
                    </a:lnTo>
                    <a:lnTo>
                      <a:pt x="630" y="150"/>
                    </a:lnTo>
                    <a:lnTo>
                      <a:pt x="643" y="147"/>
                    </a:lnTo>
                    <a:lnTo>
                      <a:pt x="654" y="145"/>
                    </a:lnTo>
                    <a:lnTo>
                      <a:pt x="668" y="142"/>
                    </a:lnTo>
                    <a:lnTo>
                      <a:pt x="679" y="139"/>
                    </a:lnTo>
                    <a:lnTo>
                      <a:pt x="674" y="167"/>
                    </a:lnTo>
                    <a:lnTo>
                      <a:pt x="674" y="195"/>
                    </a:lnTo>
                    <a:lnTo>
                      <a:pt x="682" y="221"/>
                    </a:lnTo>
                    <a:lnTo>
                      <a:pt x="694" y="244"/>
                    </a:lnTo>
                    <a:lnTo>
                      <a:pt x="694" y="250"/>
                    </a:lnTo>
                    <a:lnTo>
                      <a:pt x="692" y="259"/>
                    </a:lnTo>
                    <a:lnTo>
                      <a:pt x="694" y="265"/>
                    </a:lnTo>
                    <a:lnTo>
                      <a:pt x="700" y="268"/>
                    </a:lnTo>
                    <a:lnTo>
                      <a:pt x="707" y="262"/>
                    </a:lnTo>
                    <a:lnTo>
                      <a:pt x="712" y="252"/>
                    </a:lnTo>
                    <a:lnTo>
                      <a:pt x="717" y="244"/>
                    </a:lnTo>
                    <a:lnTo>
                      <a:pt x="723" y="236"/>
                    </a:lnTo>
                    <a:lnTo>
                      <a:pt x="725" y="267"/>
                    </a:lnTo>
                    <a:lnTo>
                      <a:pt x="718" y="298"/>
                    </a:lnTo>
                    <a:lnTo>
                      <a:pt x="707" y="327"/>
                    </a:lnTo>
                    <a:lnTo>
                      <a:pt x="690" y="354"/>
                    </a:lnTo>
                    <a:lnTo>
                      <a:pt x="694" y="344"/>
                    </a:lnTo>
                    <a:lnTo>
                      <a:pt x="692" y="332"/>
                    </a:lnTo>
                    <a:lnTo>
                      <a:pt x="692" y="319"/>
                    </a:lnTo>
                    <a:lnTo>
                      <a:pt x="699" y="308"/>
                    </a:lnTo>
                    <a:lnTo>
                      <a:pt x="695" y="305"/>
                    </a:lnTo>
                    <a:lnTo>
                      <a:pt x="694" y="301"/>
                    </a:lnTo>
                    <a:lnTo>
                      <a:pt x="690" y="300"/>
                    </a:lnTo>
                    <a:lnTo>
                      <a:pt x="686" y="300"/>
                    </a:lnTo>
                    <a:lnTo>
                      <a:pt x="669" y="337"/>
                    </a:lnTo>
                    <a:lnTo>
                      <a:pt x="653" y="375"/>
                    </a:lnTo>
                    <a:lnTo>
                      <a:pt x="635" y="413"/>
                    </a:lnTo>
                    <a:lnTo>
                      <a:pt x="613" y="447"/>
                    </a:lnTo>
                    <a:lnTo>
                      <a:pt x="590" y="482"/>
                    </a:lnTo>
                    <a:lnTo>
                      <a:pt x="563" y="513"/>
                    </a:lnTo>
                    <a:lnTo>
                      <a:pt x="531" y="539"/>
                    </a:lnTo>
                    <a:lnTo>
                      <a:pt x="495" y="560"/>
                    </a:lnTo>
                    <a:lnTo>
                      <a:pt x="472" y="573"/>
                    </a:lnTo>
                    <a:lnTo>
                      <a:pt x="448" y="585"/>
                    </a:lnTo>
                    <a:lnTo>
                      <a:pt x="423" y="598"/>
                    </a:lnTo>
                    <a:lnTo>
                      <a:pt x="399" y="608"/>
                    </a:lnTo>
                    <a:lnTo>
                      <a:pt x="372" y="614"/>
                    </a:lnTo>
                    <a:lnTo>
                      <a:pt x="346" y="618"/>
                    </a:lnTo>
                    <a:lnTo>
                      <a:pt x="318" y="616"/>
                    </a:lnTo>
                    <a:lnTo>
                      <a:pt x="290" y="608"/>
                    </a:lnTo>
                    <a:lnTo>
                      <a:pt x="244" y="585"/>
                    </a:lnTo>
                    <a:lnTo>
                      <a:pt x="205" y="555"/>
                    </a:lnTo>
                    <a:lnTo>
                      <a:pt x="171" y="519"/>
                    </a:lnTo>
                    <a:lnTo>
                      <a:pt x="141" y="478"/>
                    </a:lnTo>
                    <a:lnTo>
                      <a:pt x="115" y="436"/>
                    </a:lnTo>
                    <a:lnTo>
                      <a:pt x="90" y="391"/>
                    </a:lnTo>
                    <a:lnTo>
                      <a:pt x="67" y="347"/>
                    </a:lnTo>
                    <a:lnTo>
                      <a:pt x="46" y="305"/>
                    </a:lnTo>
                    <a:lnTo>
                      <a:pt x="33" y="305"/>
                    </a:lnTo>
                    <a:lnTo>
                      <a:pt x="21" y="300"/>
                    </a:lnTo>
                    <a:lnTo>
                      <a:pt x="12" y="293"/>
                    </a:lnTo>
                    <a:lnTo>
                      <a:pt x="7" y="282"/>
                    </a:lnTo>
                    <a:lnTo>
                      <a:pt x="0" y="242"/>
                    </a:lnTo>
                    <a:lnTo>
                      <a:pt x="0" y="198"/>
                    </a:lnTo>
                    <a:lnTo>
                      <a:pt x="10" y="157"/>
                    </a:lnTo>
                    <a:lnTo>
                      <a:pt x="33" y="124"/>
                    </a:lnTo>
                    <a:lnTo>
                      <a:pt x="38" y="123"/>
                    </a:lnTo>
                    <a:lnTo>
                      <a:pt x="44" y="123"/>
                    </a:lnTo>
                    <a:lnTo>
                      <a:pt x="51" y="124"/>
                    </a:lnTo>
                    <a:lnTo>
                      <a:pt x="56" y="129"/>
                    </a:lnTo>
                    <a:lnTo>
                      <a:pt x="64" y="141"/>
                    </a:lnTo>
                    <a:lnTo>
                      <a:pt x="71" y="155"/>
                    </a:lnTo>
                    <a:lnTo>
                      <a:pt x="77" y="168"/>
                    </a:lnTo>
                    <a:lnTo>
                      <a:pt x="84" y="182"/>
                    </a:lnTo>
                    <a:lnTo>
                      <a:pt x="95" y="170"/>
                    </a:lnTo>
                    <a:lnTo>
                      <a:pt x="105" y="155"/>
                    </a:lnTo>
                    <a:lnTo>
                      <a:pt x="113" y="141"/>
                    </a:lnTo>
                    <a:lnTo>
                      <a:pt x="123" y="126"/>
                    </a:lnTo>
                    <a:lnTo>
                      <a:pt x="126" y="108"/>
                    </a:lnTo>
                    <a:lnTo>
                      <a:pt x="133" y="91"/>
                    </a:lnTo>
                    <a:lnTo>
                      <a:pt x="141" y="73"/>
                    </a:lnTo>
                    <a:lnTo>
                      <a:pt x="151" y="57"/>
                    </a:lnTo>
                    <a:lnTo>
                      <a:pt x="162" y="42"/>
                    </a:lnTo>
                    <a:lnTo>
                      <a:pt x="174" y="27"/>
                    </a:lnTo>
                    <a:lnTo>
                      <a:pt x="187" y="13"/>
                    </a:lnTo>
                    <a:lnTo>
                      <a:pt x="200" y="0"/>
                    </a:lnTo>
                    <a:lnTo>
                      <a:pt x="197" y="14"/>
                    </a:lnTo>
                    <a:lnTo>
                      <a:pt x="189" y="27"/>
                    </a:lnTo>
                    <a:lnTo>
                      <a:pt x="179" y="42"/>
                    </a:lnTo>
                    <a:lnTo>
                      <a:pt x="172" y="54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62320" y="4210920"/>
                <a:ext cx="90360" cy="4212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31" y="46"/>
                    </a:moveTo>
                    <a:lnTo>
                      <a:pt x="133" y="50"/>
                    </a:lnTo>
                    <a:lnTo>
                      <a:pt x="135" y="57"/>
                    </a:lnTo>
                    <a:lnTo>
                      <a:pt x="136" y="62"/>
                    </a:lnTo>
                    <a:lnTo>
                      <a:pt x="131" y="65"/>
                    </a:lnTo>
                    <a:lnTo>
                      <a:pt x="123" y="67"/>
                    </a:lnTo>
                    <a:lnTo>
                      <a:pt x="115" y="68"/>
                    </a:lnTo>
                    <a:lnTo>
                      <a:pt x="107" y="68"/>
                    </a:lnTo>
                    <a:lnTo>
                      <a:pt x="102" y="62"/>
                    </a:lnTo>
                    <a:lnTo>
                      <a:pt x="102" y="57"/>
                    </a:lnTo>
                    <a:lnTo>
                      <a:pt x="105" y="54"/>
                    </a:lnTo>
                    <a:lnTo>
                      <a:pt x="110" y="54"/>
                    </a:lnTo>
                    <a:lnTo>
                      <a:pt x="113" y="50"/>
                    </a:lnTo>
                    <a:lnTo>
                      <a:pt x="108" y="42"/>
                    </a:lnTo>
                    <a:lnTo>
                      <a:pt x="103" y="47"/>
                    </a:lnTo>
                    <a:lnTo>
                      <a:pt x="97" y="50"/>
                    </a:lnTo>
                    <a:lnTo>
                      <a:pt x="92" y="54"/>
                    </a:lnTo>
                    <a:lnTo>
                      <a:pt x="85" y="55"/>
                    </a:lnTo>
                    <a:lnTo>
                      <a:pt x="79" y="57"/>
                    </a:lnTo>
                    <a:lnTo>
                      <a:pt x="72" y="57"/>
                    </a:lnTo>
                    <a:lnTo>
                      <a:pt x="66" y="55"/>
                    </a:lnTo>
                    <a:lnTo>
                      <a:pt x="59" y="54"/>
                    </a:lnTo>
                    <a:lnTo>
                      <a:pt x="53" y="47"/>
                    </a:lnTo>
                    <a:lnTo>
                      <a:pt x="49" y="41"/>
                    </a:lnTo>
                    <a:lnTo>
                      <a:pt x="49" y="31"/>
                    </a:lnTo>
                    <a:lnTo>
                      <a:pt x="49" y="23"/>
                    </a:lnTo>
                    <a:lnTo>
                      <a:pt x="41" y="21"/>
                    </a:lnTo>
                    <a:lnTo>
                      <a:pt x="33" y="21"/>
                    </a:lnTo>
                    <a:lnTo>
                      <a:pt x="25" y="26"/>
                    </a:lnTo>
                    <a:lnTo>
                      <a:pt x="16" y="29"/>
                    </a:lnTo>
                    <a:lnTo>
                      <a:pt x="10" y="32"/>
                    </a:lnTo>
                    <a:lnTo>
                      <a:pt x="3" y="32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10" y="11"/>
                    </a:lnTo>
                    <a:lnTo>
                      <a:pt x="18" y="8"/>
                    </a:lnTo>
                    <a:lnTo>
                      <a:pt x="28" y="5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1"/>
                    </a:lnTo>
                    <a:lnTo>
                      <a:pt x="80" y="3"/>
                    </a:lnTo>
                    <a:lnTo>
                      <a:pt x="89" y="6"/>
                    </a:lnTo>
                    <a:lnTo>
                      <a:pt x="95" y="9"/>
                    </a:lnTo>
                    <a:lnTo>
                      <a:pt x="102" y="14"/>
                    </a:lnTo>
                    <a:lnTo>
                      <a:pt x="108" y="21"/>
                    </a:lnTo>
                    <a:lnTo>
                      <a:pt x="115" y="27"/>
                    </a:lnTo>
                    <a:lnTo>
                      <a:pt x="121" y="34"/>
                    </a:lnTo>
                    <a:lnTo>
                      <a:pt x="126" y="39"/>
                    </a:lnTo>
                    <a:lnTo>
                      <a:pt x="13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07680" y="422460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4"/>
                    </a:moveTo>
                    <a:lnTo>
                      <a:pt x="17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2" y="14"/>
                    </a:lnTo>
                    <a:lnTo>
                      <a:pt x="8" y="14"/>
                    </a:lnTo>
                    <a:lnTo>
                      <a:pt x="5" y="13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4245840"/>
                <a:ext cx="33120" cy="7056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21" y="113"/>
                    </a:moveTo>
                    <a:lnTo>
                      <a:pt x="16" y="115"/>
                    </a:lnTo>
                    <a:lnTo>
                      <a:pt x="13" y="115"/>
                    </a:lnTo>
                    <a:lnTo>
                      <a:pt x="8" y="115"/>
                    </a:lnTo>
                    <a:lnTo>
                      <a:pt x="3" y="113"/>
                    </a:lnTo>
                    <a:lnTo>
                      <a:pt x="0" y="107"/>
                    </a:lnTo>
                    <a:lnTo>
                      <a:pt x="0" y="97"/>
                    </a:lnTo>
                    <a:lnTo>
                      <a:pt x="1" y="89"/>
                    </a:lnTo>
                    <a:lnTo>
                      <a:pt x="3" y="79"/>
                    </a:lnTo>
                    <a:lnTo>
                      <a:pt x="11" y="58"/>
                    </a:lnTo>
                    <a:lnTo>
                      <a:pt x="24" y="38"/>
                    </a:lnTo>
                    <a:lnTo>
                      <a:pt x="37" y="20"/>
                    </a:lnTo>
                    <a:lnTo>
                      <a:pt x="49" y="0"/>
                    </a:lnTo>
                    <a:lnTo>
                      <a:pt x="47" y="13"/>
                    </a:lnTo>
                    <a:lnTo>
                      <a:pt x="37" y="43"/>
                    </a:lnTo>
                    <a:lnTo>
                      <a:pt x="28" y="81"/>
                    </a:lnTo>
                    <a:lnTo>
                      <a:pt x="21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5560" y="4248000"/>
                <a:ext cx="86400" cy="3708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131" y="41"/>
                    </a:moveTo>
                    <a:lnTo>
                      <a:pt x="131" y="46"/>
                    </a:lnTo>
                    <a:lnTo>
                      <a:pt x="131" y="49"/>
                    </a:lnTo>
                    <a:lnTo>
                      <a:pt x="127" y="51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4" y="49"/>
                    </a:lnTo>
                    <a:lnTo>
                      <a:pt x="111" y="45"/>
                    </a:lnTo>
                    <a:lnTo>
                      <a:pt x="106" y="41"/>
                    </a:lnTo>
                    <a:lnTo>
                      <a:pt x="103" y="46"/>
                    </a:lnTo>
                    <a:lnTo>
                      <a:pt x="100" y="51"/>
                    </a:lnTo>
                    <a:lnTo>
                      <a:pt x="95" y="56"/>
                    </a:lnTo>
                    <a:lnTo>
                      <a:pt x="90" y="59"/>
                    </a:lnTo>
                    <a:lnTo>
                      <a:pt x="80" y="59"/>
                    </a:lnTo>
                    <a:lnTo>
                      <a:pt x="68" y="59"/>
                    </a:lnTo>
                    <a:lnTo>
                      <a:pt x="60" y="54"/>
                    </a:lnTo>
                    <a:lnTo>
                      <a:pt x="55" y="46"/>
                    </a:lnTo>
                    <a:lnTo>
                      <a:pt x="57" y="23"/>
                    </a:lnTo>
                    <a:lnTo>
                      <a:pt x="49" y="23"/>
                    </a:lnTo>
                    <a:lnTo>
                      <a:pt x="42" y="23"/>
                    </a:lnTo>
                    <a:lnTo>
                      <a:pt x="34" y="25"/>
                    </a:lnTo>
                    <a:lnTo>
                      <a:pt x="27" y="28"/>
                    </a:lnTo>
                    <a:lnTo>
                      <a:pt x="19" y="30"/>
                    </a:lnTo>
                    <a:lnTo>
                      <a:pt x="13" y="31"/>
                    </a:lnTo>
                    <a:lnTo>
                      <a:pt x="6" y="31"/>
                    </a:lnTo>
                    <a:lnTo>
                      <a:pt x="0" y="30"/>
                    </a:lnTo>
                    <a:lnTo>
                      <a:pt x="3" y="22"/>
                    </a:lnTo>
                    <a:lnTo>
                      <a:pt x="9" y="17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7" y="4"/>
                    </a:lnTo>
                    <a:lnTo>
                      <a:pt x="52" y="0"/>
                    </a:lnTo>
                    <a:lnTo>
                      <a:pt x="67" y="2"/>
                    </a:lnTo>
                    <a:lnTo>
                      <a:pt x="82" y="5"/>
                    </a:lnTo>
                    <a:lnTo>
                      <a:pt x="96" y="10"/>
                    </a:lnTo>
                    <a:lnTo>
                      <a:pt x="109" y="18"/>
                    </a:lnTo>
                    <a:lnTo>
                      <a:pt x="121" y="30"/>
                    </a:lnTo>
                    <a:lnTo>
                      <a:pt x="13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19760" y="4243320"/>
                <a:ext cx="18360" cy="57960"/>
              </a:xfrm>
              <a:custGeom>
                <a:avLst/>
                <a:gdLst/>
                <a:ahLst/>
                <a:rect l="l" t="t" r="r" b="b"/>
                <a:pathLst>
                  <a:path w="26" h="94">
                    <a:moveTo>
                      <a:pt x="21" y="33"/>
                    </a:moveTo>
                    <a:lnTo>
                      <a:pt x="24" y="48"/>
                    </a:lnTo>
                    <a:lnTo>
                      <a:pt x="26" y="64"/>
                    </a:lnTo>
                    <a:lnTo>
                      <a:pt x="24" y="80"/>
                    </a:lnTo>
                    <a:lnTo>
                      <a:pt x="16" y="94"/>
                    </a:lnTo>
                    <a:lnTo>
                      <a:pt x="1" y="85"/>
                    </a:lnTo>
                    <a:lnTo>
                      <a:pt x="3" y="72"/>
                    </a:lnTo>
                    <a:lnTo>
                      <a:pt x="8" y="54"/>
                    </a:lnTo>
                    <a:lnTo>
                      <a:pt x="8" y="36"/>
                    </a:lnTo>
                    <a:lnTo>
                      <a:pt x="6" y="26"/>
                    </a:lnTo>
                    <a:lnTo>
                      <a:pt x="5" y="18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3" y="13"/>
                    </a:lnTo>
                    <a:lnTo>
                      <a:pt x="18" y="2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96320" y="42652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1" y="2"/>
                    </a:moveTo>
                    <a:lnTo>
                      <a:pt x="13" y="3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98320" y="433620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71" h="31">
                    <a:moveTo>
                      <a:pt x="71" y="20"/>
                    </a:moveTo>
                    <a:lnTo>
                      <a:pt x="64" y="23"/>
                    </a:lnTo>
                    <a:lnTo>
                      <a:pt x="58" y="25"/>
                    </a:lnTo>
                    <a:lnTo>
                      <a:pt x="51" y="28"/>
                    </a:lnTo>
                    <a:lnTo>
                      <a:pt x="43" y="29"/>
                    </a:lnTo>
                    <a:lnTo>
                      <a:pt x="36" y="31"/>
                    </a:lnTo>
                    <a:lnTo>
                      <a:pt x="30" y="31"/>
                    </a:lnTo>
                    <a:lnTo>
                      <a:pt x="21" y="29"/>
                    </a:lnTo>
                    <a:lnTo>
                      <a:pt x="15" y="28"/>
                    </a:lnTo>
                    <a:lnTo>
                      <a:pt x="10" y="21"/>
                    </a:lnTo>
                    <a:lnTo>
                      <a:pt x="3" y="15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10" y="8"/>
                    </a:lnTo>
                    <a:lnTo>
                      <a:pt x="20" y="11"/>
                    </a:lnTo>
                    <a:lnTo>
                      <a:pt x="30" y="10"/>
                    </a:lnTo>
                    <a:lnTo>
                      <a:pt x="41" y="6"/>
                    </a:lnTo>
                    <a:lnTo>
                      <a:pt x="51" y="5"/>
                    </a:lnTo>
                    <a:lnTo>
                      <a:pt x="59" y="5"/>
                    </a:lnTo>
                    <a:lnTo>
                      <a:pt x="66" y="8"/>
                    </a:lnTo>
                    <a:lnTo>
                      <a:pt x="7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56640" y="434376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82" h="40">
                    <a:moveTo>
                      <a:pt x="82" y="5"/>
                    </a:moveTo>
                    <a:lnTo>
                      <a:pt x="80" y="18"/>
                    </a:lnTo>
                    <a:lnTo>
                      <a:pt x="72" y="27"/>
                    </a:lnTo>
                    <a:lnTo>
                      <a:pt x="60" y="35"/>
                    </a:lnTo>
                    <a:lnTo>
                      <a:pt x="49" y="40"/>
                    </a:lnTo>
                    <a:lnTo>
                      <a:pt x="41" y="40"/>
                    </a:lnTo>
                    <a:lnTo>
                      <a:pt x="34" y="40"/>
                    </a:lnTo>
                    <a:lnTo>
                      <a:pt x="26" y="38"/>
                    </a:lnTo>
                    <a:lnTo>
                      <a:pt x="19" y="36"/>
                    </a:lnTo>
                    <a:lnTo>
                      <a:pt x="13" y="35"/>
                    </a:lnTo>
                    <a:lnTo>
                      <a:pt x="8" y="32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6" y="17"/>
                    </a:lnTo>
                    <a:lnTo>
                      <a:pt x="13" y="15"/>
                    </a:lnTo>
                    <a:lnTo>
                      <a:pt x="21" y="15"/>
                    </a:lnTo>
                    <a:lnTo>
                      <a:pt x="28" y="17"/>
                    </a:lnTo>
                    <a:lnTo>
                      <a:pt x="34" y="18"/>
                    </a:lnTo>
                    <a:lnTo>
                      <a:pt x="42" y="18"/>
                    </a:lnTo>
                    <a:lnTo>
                      <a:pt x="49" y="18"/>
                    </a:lnTo>
                    <a:lnTo>
                      <a:pt x="55" y="15"/>
                    </a:lnTo>
                    <a:lnTo>
                      <a:pt x="64" y="12"/>
                    </a:lnTo>
                    <a:lnTo>
                      <a:pt x="69" y="4"/>
                    </a:lnTo>
                    <a:lnTo>
                      <a:pt x="74" y="0"/>
                    </a:lnTo>
                    <a:lnTo>
                      <a:pt x="8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21200" y="4361040"/>
                <a:ext cx="50400" cy="96480"/>
              </a:xfrm>
              <a:custGeom>
                <a:avLst/>
                <a:gdLst/>
                <a:ahLst/>
                <a:rect l="l" t="t" r="r" b="b"/>
                <a:pathLst>
                  <a:path w="76" h="156">
                    <a:moveTo>
                      <a:pt x="23" y="40"/>
                    </a:moveTo>
                    <a:lnTo>
                      <a:pt x="28" y="53"/>
                    </a:lnTo>
                    <a:lnTo>
                      <a:pt x="35" y="66"/>
                    </a:lnTo>
                    <a:lnTo>
                      <a:pt x="40" y="77"/>
                    </a:lnTo>
                    <a:lnTo>
                      <a:pt x="48" y="90"/>
                    </a:lnTo>
                    <a:lnTo>
                      <a:pt x="55" y="102"/>
                    </a:lnTo>
                    <a:lnTo>
                      <a:pt x="61" y="115"/>
                    </a:lnTo>
                    <a:lnTo>
                      <a:pt x="69" y="126"/>
                    </a:lnTo>
                    <a:lnTo>
                      <a:pt x="76" y="140"/>
                    </a:lnTo>
                    <a:lnTo>
                      <a:pt x="76" y="156"/>
                    </a:lnTo>
                    <a:lnTo>
                      <a:pt x="66" y="153"/>
                    </a:lnTo>
                    <a:lnTo>
                      <a:pt x="56" y="149"/>
                    </a:lnTo>
                    <a:lnTo>
                      <a:pt x="46" y="143"/>
                    </a:lnTo>
                    <a:lnTo>
                      <a:pt x="37" y="136"/>
                    </a:lnTo>
                    <a:lnTo>
                      <a:pt x="28" y="130"/>
                    </a:lnTo>
                    <a:lnTo>
                      <a:pt x="22" y="120"/>
                    </a:lnTo>
                    <a:lnTo>
                      <a:pt x="15" y="112"/>
                    </a:lnTo>
                    <a:lnTo>
                      <a:pt x="10" y="102"/>
                    </a:lnTo>
                    <a:lnTo>
                      <a:pt x="5" y="77"/>
                    </a:lnTo>
                    <a:lnTo>
                      <a:pt x="4" y="51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17" y="15"/>
                    </a:lnTo>
                    <a:lnTo>
                      <a:pt x="19" y="28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060880" y="4383360"/>
                <a:ext cx="159840" cy="60480"/>
              </a:xfrm>
              <a:custGeom>
                <a:avLst/>
                <a:gdLst/>
                <a:ahLst/>
                <a:rect l="l" t="t" r="r" b="b"/>
                <a:pathLst>
                  <a:path w="240" h="97">
                    <a:moveTo>
                      <a:pt x="223" y="48"/>
                    </a:moveTo>
                    <a:lnTo>
                      <a:pt x="228" y="48"/>
                    </a:lnTo>
                    <a:lnTo>
                      <a:pt x="233" y="48"/>
                    </a:lnTo>
                    <a:lnTo>
                      <a:pt x="238" y="50"/>
                    </a:lnTo>
                    <a:lnTo>
                      <a:pt x="240" y="54"/>
                    </a:lnTo>
                    <a:lnTo>
                      <a:pt x="235" y="63"/>
                    </a:lnTo>
                    <a:lnTo>
                      <a:pt x="228" y="68"/>
                    </a:lnTo>
                    <a:lnTo>
                      <a:pt x="220" y="74"/>
                    </a:lnTo>
                    <a:lnTo>
                      <a:pt x="212" y="77"/>
                    </a:lnTo>
                    <a:lnTo>
                      <a:pt x="194" y="87"/>
                    </a:lnTo>
                    <a:lnTo>
                      <a:pt x="176" y="94"/>
                    </a:lnTo>
                    <a:lnTo>
                      <a:pt x="156" y="97"/>
                    </a:lnTo>
                    <a:lnTo>
                      <a:pt x="135" y="97"/>
                    </a:lnTo>
                    <a:lnTo>
                      <a:pt x="115" y="95"/>
                    </a:lnTo>
                    <a:lnTo>
                      <a:pt x="96" y="92"/>
                    </a:lnTo>
                    <a:lnTo>
                      <a:pt x="76" y="86"/>
                    </a:lnTo>
                    <a:lnTo>
                      <a:pt x="58" y="77"/>
                    </a:lnTo>
                    <a:lnTo>
                      <a:pt x="48" y="69"/>
                    </a:lnTo>
                    <a:lnTo>
                      <a:pt x="40" y="61"/>
                    </a:lnTo>
                    <a:lnTo>
                      <a:pt x="30" y="53"/>
                    </a:lnTo>
                    <a:lnTo>
                      <a:pt x="22" y="45"/>
                    </a:lnTo>
                    <a:lnTo>
                      <a:pt x="15" y="36"/>
                    </a:lnTo>
                    <a:lnTo>
                      <a:pt x="9" y="27"/>
                    </a:lnTo>
                    <a:lnTo>
                      <a:pt x="4" y="15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23" y="4"/>
                    </a:lnTo>
                    <a:lnTo>
                      <a:pt x="36" y="9"/>
                    </a:lnTo>
                    <a:lnTo>
                      <a:pt x="48" y="12"/>
                    </a:lnTo>
                    <a:lnTo>
                      <a:pt x="71" y="12"/>
                    </a:lnTo>
                    <a:lnTo>
                      <a:pt x="94" y="15"/>
                    </a:lnTo>
                    <a:lnTo>
                      <a:pt x="117" y="18"/>
                    </a:lnTo>
                    <a:lnTo>
                      <a:pt x="138" y="23"/>
                    </a:lnTo>
                    <a:lnTo>
                      <a:pt x="161" y="28"/>
                    </a:lnTo>
                    <a:lnTo>
                      <a:pt x="182" y="35"/>
                    </a:lnTo>
                    <a:lnTo>
                      <a:pt x="202" y="41"/>
                    </a:lnTo>
                    <a:lnTo>
                      <a:pt x="22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87520" y="4400640"/>
                <a:ext cx="102240" cy="30600"/>
              </a:xfrm>
              <a:custGeom>
                <a:avLst/>
                <a:gdLst/>
                <a:ahLst/>
                <a:rect l="l" t="t" r="r" b="b"/>
                <a:pathLst>
                  <a:path w="154" h="49">
                    <a:moveTo>
                      <a:pt x="141" y="30"/>
                    </a:moveTo>
                    <a:lnTo>
                      <a:pt x="154" y="33"/>
                    </a:lnTo>
                    <a:lnTo>
                      <a:pt x="141" y="41"/>
                    </a:lnTo>
                    <a:lnTo>
                      <a:pt x="128" y="46"/>
                    </a:lnTo>
                    <a:lnTo>
                      <a:pt x="113" y="49"/>
                    </a:lnTo>
                    <a:lnTo>
                      <a:pt x="98" y="49"/>
                    </a:lnTo>
                    <a:lnTo>
                      <a:pt x="83" y="48"/>
                    </a:lnTo>
                    <a:lnTo>
                      <a:pt x="69" y="44"/>
                    </a:lnTo>
                    <a:lnTo>
                      <a:pt x="54" y="41"/>
                    </a:lnTo>
                    <a:lnTo>
                      <a:pt x="39" y="36"/>
                    </a:lnTo>
                    <a:lnTo>
                      <a:pt x="28" y="28"/>
                    </a:lnTo>
                    <a:lnTo>
                      <a:pt x="18" y="2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18" y="3"/>
                    </a:lnTo>
                    <a:lnTo>
                      <a:pt x="36" y="5"/>
                    </a:lnTo>
                    <a:lnTo>
                      <a:pt x="56" y="7"/>
                    </a:lnTo>
                    <a:lnTo>
                      <a:pt x="74" y="8"/>
                    </a:lnTo>
                    <a:lnTo>
                      <a:pt x="92" y="12"/>
                    </a:lnTo>
                    <a:lnTo>
                      <a:pt x="110" y="15"/>
                    </a:lnTo>
                    <a:lnTo>
                      <a:pt x="126" y="22"/>
                    </a:lnTo>
                    <a:lnTo>
                      <a:pt x="141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86080" y="4439160"/>
                <a:ext cx="57240" cy="25560"/>
              </a:xfrm>
              <a:custGeom>
                <a:avLst/>
                <a:gdLst/>
                <a:ahLst/>
                <a:rect l="l" t="t" r="r" b="b"/>
                <a:pathLst>
                  <a:path w="85" h="41">
                    <a:moveTo>
                      <a:pt x="85" y="28"/>
                    </a:moveTo>
                    <a:lnTo>
                      <a:pt x="85" y="33"/>
                    </a:lnTo>
                    <a:lnTo>
                      <a:pt x="82" y="38"/>
                    </a:lnTo>
                    <a:lnTo>
                      <a:pt x="76" y="40"/>
                    </a:lnTo>
                    <a:lnTo>
                      <a:pt x="71" y="41"/>
                    </a:lnTo>
                    <a:lnTo>
                      <a:pt x="62" y="41"/>
                    </a:lnTo>
                    <a:lnTo>
                      <a:pt x="54" y="41"/>
                    </a:lnTo>
                    <a:lnTo>
                      <a:pt x="46" y="40"/>
                    </a:lnTo>
                    <a:lnTo>
                      <a:pt x="38" y="40"/>
                    </a:lnTo>
                    <a:lnTo>
                      <a:pt x="31" y="38"/>
                    </a:lnTo>
                    <a:lnTo>
                      <a:pt x="23" y="37"/>
                    </a:lnTo>
                    <a:lnTo>
                      <a:pt x="17" y="33"/>
                    </a:lnTo>
                    <a:lnTo>
                      <a:pt x="10" y="30"/>
                    </a:lnTo>
                    <a:lnTo>
                      <a:pt x="5" y="23"/>
                    </a:lnTo>
                    <a:lnTo>
                      <a:pt x="2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7"/>
                    </a:lnTo>
                    <a:lnTo>
                      <a:pt x="23" y="12"/>
                    </a:lnTo>
                    <a:lnTo>
                      <a:pt x="33" y="15"/>
                    </a:lnTo>
                    <a:lnTo>
                      <a:pt x="39" y="17"/>
                    </a:lnTo>
                    <a:lnTo>
                      <a:pt x="46" y="20"/>
                    </a:lnTo>
                    <a:lnTo>
                      <a:pt x="53" y="22"/>
                    </a:lnTo>
                    <a:lnTo>
                      <a:pt x="59" y="23"/>
                    </a:lnTo>
                    <a:lnTo>
                      <a:pt x="66" y="25"/>
                    </a:lnTo>
                    <a:lnTo>
                      <a:pt x="72" y="27"/>
                    </a:lnTo>
                    <a:lnTo>
                      <a:pt x="79" y="28"/>
                    </a:lnTo>
                    <a:lnTo>
                      <a:pt x="8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88880" y="4471560"/>
                <a:ext cx="231480" cy="104400"/>
              </a:xfrm>
              <a:custGeom>
                <a:avLst/>
                <a:gdLst/>
                <a:ahLst/>
                <a:rect l="l" t="t" r="r" b="b"/>
                <a:pathLst>
                  <a:path w="348" h="167">
                    <a:moveTo>
                      <a:pt x="236" y="111"/>
                    </a:moveTo>
                    <a:lnTo>
                      <a:pt x="243" y="108"/>
                    </a:lnTo>
                    <a:lnTo>
                      <a:pt x="251" y="108"/>
                    </a:lnTo>
                    <a:lnTo>
                      <a:pt x="259" y="108"/>
                    </a:lnTo>
                    <a:lnTo>
                      <a:pt x="267" y="107"/>
                    </a:lnTo>
                    <a:lnTo>
                      <a:pt x="279" y="103"/>
                    </a:lnTo>
                    <a:lnTo>
                      <a:pt x="289" y="100"/>
                    </a:lnTo>
                    <a:lnTo>
                      <a:pt x="299" y="93"/>
                    </a:lnTo>
                    <a:lnTo>
                      <a:pt x="308" y="88"/>
                    </a:lnTo>
                    <a:lnTo>
                      <a:pt x="318" y="82"/>
                    </a:lnTo>
                    <a:lnTo>
                      <a:pt x="328" y="75"/>
                    </a:lnTo>
                    <a:lnTo>
                      <a:pt x="338" y="70"/>
                    </a:lnTo>
                    <a:lnTo>
                      <a:pt x="348" y="64"/>
                    </a:lnTo>
                    <a:lnTo>
                      <a:pt x="346" y="85"/>
                    </a:lnTo>
                    <a:lnTo>
                      <a:pt x="341" y="108"/>
                    </a:lnTo>
                    <a:lnTo>
                      <a:pt x="335" y="133"/>
                    </a:lnTo>
                    <a:lnTo>
                      <a:pt x="327" y="154"/>
                    </a:lnTo>
                    <a:lnTo>
                      <a:pt x="307" y="159"/>
                    </a:lnTo>
                    <a:lnTo>
                      <a:pt x="287" y="162"/>
                    </a:lnTo>
                    <a:lnTo>
                      <a:pt x="266" y="166"/>
                    </a:lnTo>
                    <a:lnTo>
                      <a:pt x="246" y="167"/>
                    </a:lnTo>
                    <a:lnTo>
                      <a:pt x="225" y="167"/>
                    </a:lnTo>
                    <a:lnTo>
                      <a:pt x="204" y="167"/>
                    </a:lnTo>
                    <a:lnTo>
                      <a:pt x="181" y="166"/>
                    </a:lnTo>
                    <a:lnTo>
                      <a:pt x="159" y="162"/>
                    </a:lnTo>
                    <a:lnTo>
                      <a:pt x="138" y="159"/>
                    </a:lnTo>
                    <a:lnTo>
                      <a:pt x="118" y="154"/>
                    </a:lnTo>
                    <a:lnTo>
                      <a:pt x="97" y="149"/>
                    </a:lnTo>
                    <a:lnTo>
                      <a:pt x="77" y="143"/>
                    </a:lnTo>
                    <a:lnTo>
                      <a:pt x="59" y="134"/>
                    </a:lnTo>
                    <a:lnTo>
                      <a:pt x="40" y="125"/>
                    </a:lnTo>
                    <a:lnTo>
                      <a:pt x="23" y="113"/>
                    </a:lnTo>
                    <a:lnTo>
                      <a:pt x="7" y="102"/>
                    </a:lnTo>
                    <a:lnTo>
                      <a:pt x="2" y="77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2" y="0"/>
                    </a:lnTo>
                    <a:lnTo>
                      <a:pt x="26" y="25"/>
                    </a:lnTo>
                    <a:lnTo>
                      <a:pt x="53" y="46"/>
                    </a:lnTo>
                    <a:lnTo>
                      <a:pt x="81" y="66"/>
                    </a:lnTo>
                    <a:lnTo>
                      <a:pt x="108" y="82"/>
                    </a:lnTo>
                    <a:lnTo>
                      <a:pt x="138" y="95"/>
                    </a:lnTo>
                    <a:lnTo>
                      <a:pt x="169" y="105"/>
                    </a:lnTo>
                    <a:lnTo>
                      <a:pt x="202" y="111"/>
                    </a:lnTo>
                    <a:lnTo>
                      <a:pt x="236" y="111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69080" y="455220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8" y="43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3" y="14"/>
                    </a:lnTo>
                    <a:lnTo>
                      <a:pt x="1" y="0"/>
                    </a:lnTo>
                    <a:lnTo>
                      <a:pt x="6" y="9"/>
                    </a:lnTo>
                    <a:lnTo>
                      <a:pt x="8" y="20"/>
                    </a:lnTo>
                    <a:lnTo>
                      <a:pt x="9" y="32"/>
                    </a:lnTo>
                    <a:lnTo>
                      <a:pt x="8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87800" y="456552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8" y="1"/>
                    </a:moveTo>
                    <a:lnTo>
                      <a:pt x="9" y="8"/>
                    </a:lnTo>
                    <a:lnTo>
                      <a:pt x="9" y="15"/>
                    </a:lnTo>
                    <a:lnTo>
                      <a:pt x="9" y="21"/>
                    </a:lnTo>
                    <a:lnTo>
                      <a:pt x="6" y="28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1" y="8"/>
                    </a:lnTo>
                    <a:lnTo>
                      <a:pt x="1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02000" y="45907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6"/>
                    </a:moveTo>
                    <a:lnTo>
                      <a:pt x="11" y="11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7" y="23"/>
                    </a:lnTo>
                    <a:lnTo>
                      <a:pt x="3" y="21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0" y="5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3280" y="45928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3" y="5"/>
                    </a:moveTo>
                    <a:lnTo>
                      <a:pt x="13" y="13"/>
                    </a:lnTo>
                    <a:lnTo>
                      <a:pt x="13" y="20"/>
                    </a:lnTo>
                    <a:lnTo>
                      <a:pt x="12" y="28"/>
                    </a:lnTo>
                    <a:lnTo>
                      <a:pt x="8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21800" y="5024880"/>
                <a:ext cx="351000" cy="129960"/>
              </a:xfrm>
              <a:custGeom>
                <a:avLst/>
                <a:gdLst/>
                <a:ahLst/>
                <a:rect l="l" t="t" r="r" b="b"/>
                <a:pathLst>
                  <a:path w="529" h="210">
                    <a:moveTo>
                      <a:pt x="519" y="76"/>
                    </a:moveTo>
                    <a:lnTo>
                      <a:pt x="529" y="97"/>
                    </a:lnTo>
                    <a:lnTo>
                      <a:pt x="519" y="89"/>
                    </a:lnTo>
                    <a:lnTo>
                      <a:pt x="507" y="82"/>
                    </a:lnTo>
                    <a:lnTo>
                      <a:pt x="496" y="77"/>
                    </a:lnTo>
                    <a:lnTo>
                      <a:pt x="483" y="74"/>
                    </a:lnTo>
                    <a:lnTo>
                      <a:pt x="471" y="69"/>
                    </a:lnTo>
                    <a:lnTo>
                      <a:pt x="460" y="62"/>
                    </a:lnTo>
                    <a:lnTo>
                      <a:pt x="448" y="56"/>
                    </a:lnTo>
                    <a:lnTo>
                      <a:pt x="438" y="46"/>
                    </a:lnTo>
                    <a:lnTo>
                      <a:pt x="429" y="54"/>
                    </a:lnTo>
                    <a:lnTo>
                      <a:pt x="438" y="66"/>
                    </a:lnTo>
                    <a:lnTo>
                      <a:pt x="448" y="74"/>
                    </a:lnTo>
                    <a:lnTo>
                      <a:pt x="460" y="82"/>
                    </a:lnTo>
                    <a:lnTo>
                      <a:pt x="473" y="87"/>
                    </a:lnTo>
                    <a:lnTo>
                      <a:pt x="484" y="94"/>
                    </a:lnTo>
                    <a:lnTo>
                      <a:pt x="497" y="100"/>
                    </a:lnTo>
                    <a:lnTo>
                      <a:pt x="509" y="105"/>
                    </a:lnTo>
                    <a:lnTo>
                      <a:pt x="520" y="112"/>
                    </a:lnTo>
                    <a:lnTo>
                      <a:pt x="522" y="118"/>
                    </a:lnTo>
                    <a:lnTo>
                      <a:pt x="524" y="125"/>
                    </a:lnTo>
                    <a:lnTo>
                      <a:pt x="525" y="133"/>
                    </a:lnTo>
                    <a:lnTo>
                      <a:pt x="524" y="140"/>
                    </a:lnTo>
                    <a:lnTo>
                      <a:pt x="511" y="131"/>
                    </a:lnTo>
                    <a:lnTo>
                      <a:pt x="497" y="125"/>
                    </a:lnTo>
                    <a:lnTo>
                      <a:pt x="484" y="118"/>
                    </a:lnTo>
                    <a:lnTo>
                      <a:pt x="471" y="110"/>
                    </a:lnTo>
                    <a:lnTo>
                      <a:pt x="458" y="103"/>
                    </a:lnTo>
                    <a:lnTo>
                      <a:pt x="445" y="95"/>
                    </a:lnTo>
                    <a:lnTo>
                      <a:pt x="432" y="87"/>
                    </a:lnTo>
                    <a:lnTo>
                      <a:pt x="419" y="79"/>
                    </a:lnTo>
                    <a:lnTo>
                      <a:pt x="414" y="84"/>
                    </a:lnTo>
                    <a:lnTo>
                      <a:pt x="415" y="90"/>
                    </a:lnTo>
                    <a:lnTo>
                      <a:pt x="419" y="97"/>
                    </a:lnTo>
                    <a:lnTo>
                      <a:pt x="420" y="103"/>
                    </a:lnTo>
                    <a:lnTo>
                      <a:pt x="432" y="110"/>
                    </a:lnTo>
                    <a:lnTo>
                      <a:pt x="443" y="118"/>
                    </a:lnTo>
                    <a:lnTo>
                      <a:pt x="455" y="125"/>
                    </a:lnTo>
                    <a:lnTo>
                      <a:pt x="468" y="131"/>
                    </a:lnTo>
                    <a:lnTo>
                      <a:pt x="479" y="138"/>
                    </a:lnTo>
                    <a:lnTo>
                      <a:pt x="491" y="144"/>
                    </a:lnTo>
                    <a:lnTo>
                      <a:pt x="504" y="151"/>
                    </a:lnTo>
                    <a:lnTo>
                      <a:pt x="515" y="158"/>
                    </a:lnTo>
                    <a:lnTo>
                      <a:pt x="520" y="164"/>
                    </a:lnTo>
                    <a:lnTo>
                      <a:pt x="520" y="171"/>
                    </a:lnTo>
                    <a:lnTo>
                      <a:pt x="520" y="179"/>
                    </a:lnTo>
                    <a:lnTo>
                      <a:pt x="520" y="187"/>
                    </a:lnTo>
                    <a:lnTo>
                      <a:pt x="506" y="176"/>
                    </a:lnTo>
                    <a:lnTo>
                      <a:pt x="491" y="167"/>
                    </a:lnTo>
                    <a:lnTo>
                      <a:pt x="474" y="161"/>
                    </a:lnTo>
                    <a:lnTo>
                      <a:pt x="456" y="154"/>
                    </a:lnTo>
                    <a:lnTo>
                      <a:pt x="440" y="149"/>
                    </a:lnTo>
                    <a:lnTo>
                      <a:pt x="424" y="143"/>
                    </a:lnTo>
                    <a:lnTo>
                      <a:pt x="407" y="135"/>
                    </a:lnTo>
                    <a:lnTo>
                      <a:pt x="392" y="123"/>
                    </a:lnTo>
                    <a:lnTo>
                      <a:pt x="384" y="130"/>
                    </a:lnTo>
                    <a:lnTo>
                      <a:pt x="396" y="143"/>
                    </a:lnTo>
                    <a:lnTo>
                      <a:pt x="409" y="153"/>
                    </a:lnTo>
                    <a:lnTo>
                      <a:pt x="422" y="163"/>
                    </a:lnTo>
                    <a:lnTo>
                      <a:pt x="435" y="171"/>
                    </a:lnTo>
                    <a:lnTo>
                      <a:pt x="450" y="179"/>
                    </a:lnTo>
                    <a:lnTo>
                      <a:pt x="465" y="185"/>
                    </a:lnTo>
                    <a:lnTo>
                      <a:pt x="478" y="195"/>
                    </a:lnTo>
                    <a:lnTo>
                      <a:pt x="491" y="205"/>
                    </a:lnTo>
                    <a:lnTo>
                      <a:pt x="468" y="210"/>
                    </a:lnTo>
                    <a:lnTo>
                      <a:pt x="447" y="208"/>
                    </a:lnTo>
                    <a:lnTo>
                      <a:pt x="424" y="207"/>
                    </a:lnTo>
                    <a:lnTo>
                      <a:pt x="402" y="202"/>
                    </a:lnTo>
                    <a:lnTo>
                      <a:pt x="381" y="199"/>
                    </a:lnTo>
                    <a:lnTo>
                      <a:pt x="361" y="197"/>
                    </a:lnTo>
                    <a:lnTo>
                      <a:pt x="340" y="200"/>
                    </a:lnTo>
                    <a:lnTo>
                      <a:pt x="319" y="207"/>
                    </a:lnTo>
                    <a:lnTo>
                      <a:pt x="297" y="205"/>
                    </a:lnTo>
                    <a:lnTo>
                      <a:pt x="274" y="207"/>
                    </a:lnTo>
                    <a:lnTo>
                      <a:pt x="250" y="208"/>
                    </a:lnTo>
                    <a:lnTo>
                      <a:pt x="227" y="208"/>
                    </a:lnTo>
                    <a:lnTo>
                      <a:pt x="204" y="208"/>
                    </a:lnTo>
                    <a:lnTo>
                      <a:pt x="183" y="205"/>
                    </a:lnTo>
                    <a:lnTo>
                      <a:pt x="161" y="199"/>
                    </a:lnTo>
                    <a:lnTo>
                      <a:pt x="143" y="187"/>
                    </a:lnTo>
                    <a:lnTo>
                      <a:pt x="135" y="184"/>
                    </a:lnTo>
                    <a:lnTo>
                      <a:pt x="125" y="179"/>
                    </a:lnTo>
                    <a:lnTo>
                      <a:pt x="117" y="174"/>
                    </a:lnTo>
                    <a:lnTo>
                      <a:pt x="109" y="171"/>
                    </a:lnTo>
                    <a:lnTo>
                      <a:pt x="99" y="167"/>
                    </a:lnTo>
                    <a:lnTo>
                      <a:pt x="91" y="166"/>
                    </a:lnTo>
                    <a:lnTo>
                      <a:pt x="81" y="167"/>
                    </a:lnTo>
                    <a:lnTo>
                      <a:pt x="71" y="171"/>
                    </a:lnTo>
                    <a:lnTo>
                      <a:pt x="71" y="179"/>
                    </a:lnTo>
                    <a:lnTo>
                      <a:pt x="78" y="182"/>
                    </a:lnTo>
                    <a:lnTo>
                      <a:pt x="84" y="185"/>
                    </a:lnTo>
                    <a:lnTo>
                      <a:pt x="89" y="190"/>
                    </a:lnTo>
                    <a:lnTo>
                      <a:pt x="81" y="192"/>
                    </a:lnTo>
                    <a:lnTo>
                      <a:pt x="71" y="192"/>
                    </a:lnTo>
                    <a:lnTo>
                      <a:pt x="61" y="194"/>
                    </a:lnTo>
                    <a:lnTo>
                      <a:pt x="50" y="194"/>
                    </a:lnTo>
                    <a:lnTo>
                      <a:pt x="38" y="194"/>
                    </a:lnTo>
                    <a:lnTo>
                      <a:pt x="27" y="194"/>
                    </a:lnTo>
                    <a:lnTo>
                      <a:pt x="15" y="190"/>
                    </a:lnTo>
                    <a:lnTo>
                      <a:pt x="7" y="187"/>
                    </a:lnTo>
                    <a:lnTo>
                      <a:pt x="2" y="158"/>
                    </a:lnTo>
                    <a:lnTo>
                      <a:pt x="0" y="126"/>
                    </a:lnTo>
                    <a:lnTo>
                      <a:pt x="4" y="97"/>
                    </a:lnTo>
                    <a:lnTo>
                      <a:pt x="14" y="69"/>
                    </a:lnTo>
                    <a:lnTo>
                      <a:pt x="30" y="67"/>
                    </a:lnTo>
                    <a:lnTo>
                      <a:pt x="46" y="62"/>
                    </a:lnTo>
                    <a:lnTo>
                      <a:pt x="61" y="56"/>
                    </a:lnTo>
                    <a:lnTo>
                      <a:pt x="76" y="49"/>
                    </a:lnTo>
                    <a:lnTo>
                      <a:pt x="91" y="43"/>
                    </a:lnTo>
                    <a:lnTo>
                      <a:pt x="105" y="40"/>
                    </a:lnTo>
                    <a:lnTo>
                      <a:pt x="122" y="38"/>
                    </a:lnTo>
                    <a:lnTo>
                      <a:pt x="140" y="43"/>
                    </a:lnTo>
                    <a:lnTo>
                      <a:pt x="171" y="44"/>
                    </a:lnTo>
                    <a:lnTo>
                      <a:pt x="201" y="41"/>
                    </a:lnTo>
                    <a:lnTo>
                      <a:pt x="230" y="38"/>
                    </a:lnTo>
                    <a:lnTo>
                      <a:pt x="260" y="31"/>
                    </a:lnTo>
                    <a:lnTo>
                      <a:pt x="287" y="25"/>
                    </a:lnTo>
                    <a:lnTo>
                      <a:pt x="317" y="17"/>
                    </a:lnTo>
                    <a:lnTo>
                      <a:pt x="345" y="8"/>
                    </a:lnTo>
                    <a:lnTo>
                      <a:pt x="373" y="0"/>
                    </a:lnTo>
                    <a:lnTo>
                      <a:pt x="394" y="3"/>
                    </a:lnTo>
                    <a:lnTo>
                      <a:pt x="414" y="8"/>
                    </a:lnTo>
                    <a:lnTo>
                      <a:pt x="433" y="17"/>
                    </a:lnTo>
                    <a:lnTo>
                      <a:pt x="452" y="26"/>
                    </a:lnTo>
                    <a:lnTo>
                      <a:pt x="468" y="38"/>
                    </a:lnTo>
                    <a:lnTo>
                      <a:pt x="486" y="49"/>
                    </a:lnTo>
                    <a:lnTo>
                      <a:pt x="502" y="62"/>
                    </a:lnTo>
                    <a:lnTo>
                      <a:pt x="519" y="76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56960" y="5048640"/>
                <a:ext cx="24120" cy="1332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2" y="21"/>
                    </a:moveTo>
                    <a:lnTo>
                      <a:pt x="24" y="16"/>
                    </a:lnTo>
                    <a:lnTo>
                      <a:pt x="14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6" y="3"/>
                    </a:lnTo>
                    <a:lnTo>
                      <a:pt x="34" y="8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50160" y="5046120"/>
                <a:ext cx="74160" cy="109080"/>
              </a:xfrm>
              <a:custGeom>
                <a:avLst/>
                <a:gdLst/>
                <a:ahLst/>
                <a:rect l="l" t="t" r="r" b="b"/>
                <a:pathLst>
                  <a:path w="111" h="175">
                    <a:moveTo>
                      <a:pt x="82" y="173"/>
                    </a:moveTo>
                    <a:lnTo>
                      <a:pt x="70" y="172"/>
                    </a:lnTo>
                    <a:lnTo>
                      <a:pt x="57" y="173"/>
                    </a:lnTo>
                    <a:lnTo>
                      <a:pt x="43" y="173"/>
                    </a:lnTo>
                    <a:lnTo>
                      <a:pt x="29" y="175"/>
                    </a:lnTo>
                    <a:lnTo>
                      <a:pt x="16" y="173"/>
                    </a:lnTo>
                    <a:lnTo>
                      <a:pt x="6" y="168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26"/>
                    </a:lnTo>
                    <a:lnTo>
                      <a:pt x="2" y="106"/>
                    </a:lnTo>
                    <a:lnTo>
                      <a:pt x="5" y="87"/>
                    </a:lnTo>
                    <a:lnTo>
                      <a:pt x="10" y="68"/>
                    </a:lnTo>
                    <a:lnTo>
                      <a:pt x="16" y="50"/>
                    </a:lnTo>
                    <a:lnTo>
                      <a:pt x="26" y="34"/>
                    </a:lnTo>
                    <a:lnTo>
                      <a:pt x="36" y="18"/>
                    </a:lnTo>
                    <a:lnTo>
                      <a:pt x="51" y="5"/>
                    </a:lnTo>
                    <a:lnTo>
                      <a:pt x="111" y="0"/>
                    </a:lnTo>
                    <a:lnTo>
                      <a:pt x="93" y="39"/>
                    </a:lnTo>
                    <a:lnTo>
                      <a:pt x="82" y="83"/>
                    </a:lnTo>
                    <a:lnTo>
                      <a:pt x="77" y="128"/>
                    </a:lnTo>
                    <a:lnTo>
                      <a:pt x="82" y="173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76800" y="506196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49" y="0"/>
                    </a:moveTo>
                    <a:lnTo>
                      <a:pt x="49" y="6"/>
                    </a:lnTo>
                    <a:lnTo>
                      <a:pt x="45" y="8"/>
                    </a:lnTo>
                    <a:lnTo>
                      <a:pt x="40" y="10"/>
                    </a:lnTo>
                    <a:lnTo>
                      <a:pt x="35" y="11"/>
                    </a:lnTo>
                    <a:lnTo>
                      <a:pt x="26" y="10"/>
                    </a:lnTo>
                    <a:lnTo>
                      <a:pt x="15" y="10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69960" y="5076000"/>
                <a:ext cx="26280" cy="720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40" y="0"/>
                    </a:moveTo>
                    <a:lnTo>
                      <a:pt x="40" y="8"/>
                    </a:lnTo>
                    <a:lnTo>
                      <a:pt x="33" y="11"/>
                    </a:lnTo>
                    <a:lnTo>
                      <a:pt x="25" y="11"/>
                    </a:lnTo>
                    <a:lnTo>
                      <a:pt x="17" y="11"/>
                    </a:lnTo>
                    <a:lnTo>
                      <a:pt x="0" y="11"/>
                    </a:lnTo>
                    <a:lnTo>
                      <a:pt x="5" y="1"/>
                    </a:lnTo>
                    <a:lnTo>
                      <a:pt x="17" y="0"/>
                    </a:lnTo>
                    <a:lnTo>
                      <a:pt x="28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64560" y="509184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48" y="2"/>
                    </a:moveTo>
                    <a:lnTo>
                      <a:pt x="41" y="12"/>
                    </a:lnTo>
                    <a:lnTo>
                      <a:pt x="30" y="14"/>
                    </a:lnTo>
                    <a:lnTo>
                      <a:pt x="15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36" y="2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95400" y="5168880"/>
                <a:ext cx="1185120" cy="27000"/>
              </a:xfrm>
              <a:custGeom>
                <a:avLst/>
                <a:gdLst/>
                <a:ahLst/>
                <a:rect l="l" t="t" r="r" b="b"/>
                <a:pathLst>
                  <a:path w="1781" h="44">
                    <a:moveTo>
                      <a:pt x="1780" y="7"/>
                    </a:moveTo>
                    <a:lnTo>
                      <a:pt x="1781" y="16"/>
                    </a:lnTo>
                    <a:lnTo>
                      <a:pt x="1781" y="26"/>
                    </a:lnTo>
                    <a:lnTo>
                      <a:pt x="1778" y="36"/>
                    </a:lnTo>
                    <a:lnTo>
                      <a:pt x="1771" y="43"/>
                    </a:lnTo>
                    <a:lnTo>
                      <a:pt x="1766" y="43"/>
                    </a:lnTo>
                    <a:lnTo>
                      <a:pt x="1752" y="43"/>
                    </a:lnTo>
                    <a:lnTo>
                      <a:pt x="1727" y="43"/>
                    </a:lnTo>
                    <a:lnTo>
                      <a:pt x="1696" y="43"/>
                    </a:lnTo>
                    <a:lnTo>
                      <a:pt x="1655" y="43"/>
                    </a:lnTo>
                    <a:lnTo>
                      <a:pt x="1609" y="43"/>
                    </a:lnTo>
                    <a:lnTo>
                      <a:pt x="1555" y="43"/>
                    </a:lnTo>
                    <a:lnTo>
                      <a:pt x="1496" y="43"/>
                    </a:lnTo>
                    <a:lnTo>
                      <a:pt x="1430" y="43"/>
                    </a:lnTo>
                    <a:lnTo>
                      <a:pt x="1361" y="43"/>
                    </a:lnTo>
                    <a:lnTo>
                      <a:pt x="1288" y="43"/>
                    </a:lnTo>
                    <a:lnTo>
                      <a:pt x="1212" y="43"/>
                    </a:lnTo>
                    <a:lnTo>
                      <a:pt x="1133" y="43"/>
                    </a:lnTo>
                    <a:lnTo>
                      <a:pt x="1051" y="43"/>
                    </a:lnTo>
                    <a:lnTo>
                      <a:pt x="969" y="43"/>
                    </a:lnTo>
                    <a:lnTo>
                      <a:pt x="887" y="43"/>
                    </a:lnTo>
                    <a:lnTo>
                      <a:pt x="804" y="44"/>
                    </a:lnTo>
                    <a:lnTo>
                      <a:pt x="722" y="44"/>
                    </a:lnTo>
                    <a:lnTo>
                      <a:pt x="641" y="44"/>
                    </a:lnTo>
                    <a:lnTo>
                      <a:pt x="563" y="44"/>
                    </a:lnTo>
                    <a:lnTo>
                      <a:pt x="486" y="44"/>
                    </a:lnTo>
                    <a:lnTo>
                      <a:pt x="413" y="44"/>
                    </a:lnTo>
                    <a:lnTo>
                      <a:pt x="343" y="44"/>
                    </a:lnTo>
                    <a:lnTo>
                      <a:pt x="279" y="44"/>
                    </a:lnTo>
                    <a:lnTo>
                      <a:pt x="220" y="44"/>
                    </a:lnTo>
                    <a:lnTo>
                      <a:pt x="166" y="44"/>
                    </a:lnTo>
                    <a:lnTo>
                      <a:pt x="118" y="44"/>
                    </a:lnTo>
                    <a:lnTo>
                      <a:pt x="79" y="44"/>
                    </a:lnTo>
                    <a:lnTo>
                      <a:pt x="46" y="44"/>
                    </a:lnTo>
                    <a:lnTo>
                      <a:pt x="21" y="44"/>
                    </a:lnTo>
                    <a:lnTo>
                      <a:pt x="7" y="44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7" y="3"/>
                    </a:lnTo>
                    <a:lnTo>
                      <a:pt x="12" y="3"/>
                    </a:lnTo>
                    <a:lnTo>
                      <a:pt x="26" y="3"/>
                    </a:lnTo>
                    <a:lnTo>
                      <a:pt x="51" y="3"/>
                    </a:lnTo>
                    <a:lnTo>
                      <a:pt x="82" y="3"/>
                    </a:lnTo>
                    <a:lnTo>
                      <a:pt x="121" y="3"/>
                    </a:lnTo>
                    <a:lnTo>
                      <a:pt x="169" y="2"/>
                    </a:lnTo>
                    <a:lnTo>
                      <a:pt x="223" y="2"/>
                    </a:lnTo>
                    <a:lnTo>
                      <a:pt x="282" y="2"/>
                    </a:lnTo>
                    <a:lnTo>
                      <a:pt x="346" y="2"/>
                    </a:lnTo>
                    <a:lnTo>
                      <a:pt x="415" y="2"/>
                    </a:lnTo>
                    <a:lnTo>
                      <a:pt x="489" y="2"/>
                    </a:lnTo>
                    <a:lnTo>
                      <a:pt x="564" y="2"/>
                    </a:lnTo>
                    <a:lnTo>
                      <a:pt x="643" y="0"/>
                    </a:lnTo>
                    <a:lnTo>
                      <a:pt x="723" y="0"/>
                    </a:lnTo>
                    <a:lnTo>
                      <a:pt x="805" y="0"/>
                    </a:lnTo>
                    <a:lnTo>
                      <a:pt x="889" y="0"/>
                    </a:lnTo>
                    <a:lnTo>
                      <a:pt x="971" y="0"/>
                    </a:lnTo>
                    <a:lnTo>
                      <a:pt x="1053" y="0"/>
                    </a:lnTo>
                    <a:lnTo>
                      <a:pt x="1133" y="0"/>
                    </a:lnTo>
                    <a:lnTo>
                      <a:pt x="1212" y="0"/>
                    </a:lnTo>
                    <a:lnTo>
                      <a:pt x="1289" y="0"/>
                    </a:lnTo>
                    <a:lnTo>
                      <a:pt x="1363" y="0"/>
                    </a:lnTo>
                    <a:lnTo>
                      <a:pt x="1432" y="0"/>
                    </a:lnTo>
                    <a:lnTo>
                      <a:pt x="1497" y="0"/>
                    </a:lnTo>
                    <a:lnTo>
                      <a:pt x="1557" y="2"/>
                    </a:lnTo>
                    <a:lnTo>
                      <a:pt x="1611" y="2"/>
                    </a:lnTo>
                    <a:lnTo>
                      <a:pt x="1658" y="2"/>
                    </a:lnTo>
                    <a:lnTo>
                      <a:pt x="1699" y="3"/>
                    </a:lnTo>
                    <a:lnTo>
                      <a:pt x="1732" y="3"/>
                    </a:lnTo>
                    <a:lnTo>
                      <a:pt x="1758" y="5"/>
                    </a:lnTo>
                    <a:lnTo>
                      <a:pt x="1773" y="5"/>
                    </a:lnTo>
                    <a:lnTo>
                      <a:pt x="1780" y="7"/>
                    </a:lnTo>
                    <a:close/>
                  </a:path>
                </a:pathLst>
              </a:custGeom>
              <a:solidFill>
                <a:srgbClr val="c6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35000" y="5216040"/>
                <a:ext cx="1114920" cy="169920"/>
              </a:xfrm>
              <a:custGeom>
                <a:avLst/>
                <a:gdLst/>
                <a:ahLst/>
                <a:rect l="l" t="t" r="r" b="b"/>
                <a:pathLst>
                  <a:path w="1676" h="276">
                    <a:moveTo>
                      <a:pt x="1676" y="0"/>
                    </a:moveTo>
                    <a:lnTo>
                      <a:pt x="1673" y="35"/>
                    </a:lnTo>
                    <a:lnTo>
                      <a:pt x="1670" y="71"/>
                    </a:lnTo>
                    <a:lnTo>
                      <a:pt x="1665" y="105"/>
                    </a:lnTo>
                    <a:lnTo>
                      <a:pt x="1658" y="141"/>
                    </a:lnTo>
                    <a:lnTo>
                      <a:pt x="1652" y="176"/>
                    </a:lnTo>
                    <a:lnTo>
                      <a:pt x="1645" y="210"/>
                    </a:lnTo>
                    <a:lnTo>
                      <a:pt x="1635" y="243"/>
                    </a:lnTo>
                    <a:lnTo>
                      <a:pt x="1625" y="276"/>
                    </a:lnTo>
                    <a:lnTo>
                      <a:pt x="1621" y="276"/>
                    </a:lnTo>
                    <a:lnTo>
                      <a:pt x="1607" y="276"/>
                    </a:lnTo>
                    <a:lnTo>
                      <a:pt x="1588" y="276"/>
                    </a:lnTo>
                    <a:lnTo>
                      <a:pt x="1558" y="276"/>
                    </a:lnTo>
                    <a:lnTo>
                      <a:pt x="1524" y="276"/>
                    </a:lnTo>
                    <a:lnTo>
                      <a:pt x="1483" y="276"/>
                    </a:lnTo>
                    <a:lnTo>
                      <a:pt x="1435" y="276"/>
                    </a:lnTo>
                    <a:lnTo>
                      <a:pt x="1383" y="276"/>
                    </a:lnTo>
                    <a:lnTo>
                      <a:pt x="1327" y="276"/>
                    </a:lnTo>
                    <a:lnTo>
                      <a:pt x="1266" y="276"/>
                    </a:lnTo>
                    <a:lnTo>
                      <a:pt x="1202" y="276"/>
                    </a:lnTo>
                    <a:lnTo>
                      <a:pt x="1135" y="276"/>
                    </a:lnTo>
                    <a:lnTo>
                      <a:pt x="1066" y="276"/>
                    </a:lnTo>
                    <a:lnTo>
                      <a:pt x="994" y="276"/>
                    </a:lnTo>
                    <a:lnTo>
                      <a:pt x="922" y="276"/>
                    </a:lnTo>
                    <a:lnTo>
                      <a:pt x="850" y="276"/>
                    </a:lnTo>
                    <a:lnTo>
                      <a:pt x="778" y="276"/>
                    </a:lnTo>
                    <a:lnTo>
                      <a:pt x="705" y="276"/>
                    </a:lnTo>
                    <a:lnTo>
                      <a:pt x="633" y="276"/>
                    </a:lnTo>
                    <a:lnTo>
                      <a:pt x="564" y="276"/>
                    </a:lnTo>
                    <a:lnTo>
                      <a:pt x="497" y="276"/>
                    </a:lnTo>
                    <a:lnTo>
                      <a:pt x="433" y="276"/>
                    </a:lnTo>
                    <a:lnTo>
                      <a:pt x="371" y="276"/>
                    </a:lnTo>
                    <a:lnTo>
                      <a:pt x="315" y="276"/>
                    </a:lnTo>
                    <a:lnTo>
                      <a:pt x="261" y="276"/>
                    </a:lnTo>
                    <a:lnTo>
                      <a:pt x="213" y="274"/>
                    </a:lnTo>
                    <a:lnTo>
                      <a:pt x="172" y="274"/>
                    </a:lnTo>
                    <a:lnTo>
                      <a:pt x="136" y="274"/>
                    </a:lnTo>
                    <a:lnTo>
                      <a:pt x="107" y="274"/>
                    </a:lnTo>
                    <a:lnTo>
                      <a:pt x="85" y="274"/>
                    </a:lnTo>
                    <a:lnTo>
                      <a:pt x="71" y="274"/>
                    </a:lnTo>
                    <a:lnTo>
                      <a:pt x="66" y="274"/>
                    </a:lnTo>
                    <a:lnTo>
                      <a:pt x="0" y="5"/>
                    </a:lnTo>
                    <a:lnTo>
                      <a:pt x="1676" y="0"/>
                    </a:lnTo>
                    <a:close/>
                  </a:path>
                </a:pathLst>
              </a:custGeom>
              <a:solidFill>
                <a:srgbClr val="c6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3794400" y="4580640"/>
              <a:ext cx="152712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Resource Center Symbolic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43600" y="1523880"/>
            <a:ext cx="2692440" cy="2449080"/>
            <a:chOff x="5943600" y="1523880"/>
            <a:chExt cx="2692440" cy="2449080"/>
          </a:xfrm>
        </p:grpSpPr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5943600" y="1523880"/>
              <a:ext cx="2692440" cy="201960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78" name=""/>
            <p:cNvSpPr/>
            <p:nvPr/>
          </p:nvSpPr>
          <p:spPr>
            <a:xfrm>
              <a:off x="6667200" y="3513240"/>
              <a:ext cx="12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Library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33520" y="1523880"/>
            <a:ext cx="2692440" cy="2441160"/>
            <a:chOff x="533520" y="1523880"/>
            <a:chExt cx="2692440" cy="24411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533520" y="1523880"/>
              <a:ext cx="2692440" cy="2019600"/>
            </a:xfrm>
            <a:prstGeom prst="rect">
              <a:avLst/>
            </a:prstGeom>
            <a:ln w="0">
              <a:noFill/>
            </a:ln>
            <a:effectLst>
              <a:outerShdw dist="107932" dir="135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1" name=""/>
            <p:cNvSpPr/>
            <p:nvPr/>
          </p:nvSpPr>
          <p:spPr>
            <a:xfrm>
              <a:off x="1079280" y="350532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Self-hel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07960" y="4152960"/>
            <a:ext cx="2692440" cy="2539440"/>
            <a:chOff x="507960" y="4152960"/>
            <a:chExt cx="2692440" cy="2539440"/>
          </a:xfrm>
        </p:grpSpPr>
        <p:pic>
          <p:nvPicPr>
            <p:cNvPr id="283" name="" descr=""/>
            <p:cNvPicPr/>
            <p:nvPr/>
          </p:nvPicPr>
          <p:blipFill>
            <a:blip r:embed="rId7"/>
            <a:stretch/>
          </p:blipFill>
          <p:spPr>
            <a:xfrm>
              <a:off x="507960" y="4152960"/>
              <a:ext cx="2692440" cy="201924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4" name=""/>
            <p:cNvSpPr/>
            <p:nvPr/>
          </p:nvSpPr>
          <p:spPr>
            <a:xfrm>
              <a:off x="1308240" y="6232680"/>
              <a:ext cx="128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On-lin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43600" y="4076640"/>
            <a:ext cx="2692440" cy="2478960"/>
            <a:chOff x="5943600" y="4076640"/>
            <a:chExt cx="2692440" cy="2478960"/>
          </a:xfrm>
        </p:grpSpPr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5943600" y="4076640"/>
              <a:ext cx="2692440" cy="2019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cc3300">
                  <a:alpha val="50000"/>
                </a:srgbClr>
              </a:outerShdw>
            </a:effectLst>
          </p:spPr>
        </p:pic>
        <p:sp>
          <p:nvSpPr>
            <p:cNvPr id="287" name=""/>
            <p:cNvSpPr/>
            <p:nvPr/>
          </p:nvSpPr>
          <p:spPr>
            <a:xfrm>
              <a:off x="6469920" y="6095880"/>
              <a:ext cx="186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 Black"/>
                </a:rPr>
                <a:t>Counselor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2A-DE36-4F9A-8D7B-95FD03E219BC}" type="slidenum">
              <a:t>13</a:t>
            </a:fld>
          </a:p>
        </p:txBody>
      </p:sp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People Appropriately at Different Stages of Their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291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657600" cy="2425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3399">
                <a:alpha val="50000"/>
              </a:srgbClr>
            </a:outerShdw>
          </a:effectLst>
        </p:spPr>
      </p:pic>
      <p:grpSp>
        <p:nvGrpSpPr>
          <p:cNvPr id="299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00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04920" y="5400720"/>
            <a:ext cx="1796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762120" y="1371600"/>
            <a:ext cx="4343400" cy="3200400"/>
            <a:chOff x="762120" y="1371600"/>
            <a:chExt cx="4343400" cy="3200400"/>
          </a:xfrm>
        </p:grpSpPr>
        <p:sp>
          <p:nvSpPr>
            <p:cNvPr id="308" name=""/>
            <p:cNvSpPr/>
            <p:nvPr/>
          </p:nvSpPr>
          <p:spPr>
            <a:xfrm>
              <a:off x="762120" y="1371600"/>
              <a:ext cx="4343400" cy="3200400"/>
            </a:xfrm>
            <a:prstGeom prst="wedgeEllipseCallout">
              <a:avLst>
                <a:gd name="adj1" fmla="val 63814"/>
                <a:gd name="adj2" fmla="val 41814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23560" y="1676520"/>
              <a:ext cx="3600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You haven’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opened up my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account in the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Vt. Higher Education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Investment Plan!”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739-2141-4E2C-9AFF-F6450D293F6E}" type="slidenum">
              <a:t>15</a:t>
            </a:fld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57040" y="23623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parent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;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lanning for H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xposure to career exploration, college environment, self-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13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7800" y="4122720"/>
            <a:ext cx="1518840" cy="2658600"/>
            <a:chOff x="307800" y="4122720"/>
            <a:chExt cx="1518840" cy="2658600"/>
          </a:xfrm>
        </p:grpSpPr>
        <p:sp>
          <p:nvSpPr>
            <p:cNvPr id="320" name=""/>
            <p:cNvSpPr/>
            <p:nvPr/>
          </p:nvSpPr>
          <p:spPr>
            <a:xfrm>
              <a:off x="307800" y="4122720"/>
              <a:ext cx="1518840" cy="2658600"/>
            </a:xfrm>
            <a:custGeom>
              <a:avLst/>
              <a:gdLst/>
              <a:ahLst/>
              <a:rect l="l" t="t" r="r" b="b"/>
              <a:pathLst>
                <a:path w="1845" h="3254">
                  <a:moveTo>
                    <a:pt x="1512" y="21"/>
                  </a:moveTo>
                  <a:lnTo>
                    <a:pt x="1521" y="13"/>
                  </a:lnTo>
                  <a:lnTo>
                    <a:pt x="1530" y="8"/>
                  </a:lnTo>
                  <a:lnTo>
                    <a:pt x="1542" y="8"/>
                  </a:lnTo>
                  <a:lnTo>
                    <a:pt x="1552" y="11"/>
                  </a:lnTo>
                  <a:lnTo>
                    <a:pt x="1570" y="29"/>
                  </a:lnTo>
                  <a:lnTo>
                    <a:pt x="1581" y="49"/>
                  </a:lnTo>
                  <a:lnTo>
                    <a:pt x="1586" y="73"/>
                  </a:lnTo>
                  <a:lnTo>
                    <a:pt x="1590" y="98"/>
                  </a:lnTo>
                  <a:lnTo>
                    <a:pt x="1590" y="123"/>
                  </a:lnTo>
                  <a:lnTo>
                    <a:pt x="1593" y="149"/>
                  </a:lnTo>
                  <a:lnTo>
                    <a:pt x="1599" y="172"/>
                  </a:lnTo>
                  <a:lnTo>
                    <a:pt x="1611" y="193"/>
                  </a:lnTo>
                  <a:lnTo>
                    <a:pt x="1611" y="198"/>
                  </a:lnTo>
                  <a:lnTo>
                    <a:pt x="1611" y="201"/>
                  </a:lnTo>
                  <a:lnTo>
                    <a:pt x="1614" y="205"/>
                  </a:lnTo>
                  <a:lnTo>
                    <a:pt x="1616" y="208"/>
                  </a:lnTo>
                  <a:lnTo>
                    <a:pt x="1619" y="191"/>
                  </a:lnTo>
                  <a:lnTo>
                    <a:pt x="1624" y="177"/>
                  </a:lnTo>
                  <a:lnTo>
                    <a:pt x="1631" y="164"/>
                  </a:lnTo>
                  <a:lnTo>
                    <a:pt x="1639" y="149"/>
                  </a:lnTo>
                  <a:lnTo>
                    <a:pt x="1647" y="137"/>
                  </a:lnTo>
                  <a:lnTo>
                    <a:pt x="1657" y="126"/>
                  </a:lnTo>
                  <a:lnTo>
                    <a:pt x="1668" y="114"/>
                  </a:lnTo>
                  <a:lnTo>
                    <a:pt x="1680" y="105"/>
                  </a:lnTo>
                  <a:lnTo>
                    <a:pt x="1691" y="106"/>
                  </a:lnTo>
                  <a:lnTo>
                    <a:pt x="1701" y="111"/>
                  </a:lnTo>
                  <a:lnTo>
                    <a:pt x="1709" y="119"/>
                  </a:lnTo>
                  <a:lnTo>
                    <a:pt x="1716" y="129"/>
                  </a:lnTo>
                  <a:lnTo>
                    <a:pt x="1717" y="159"/>
                  </a:lnTo>
                  <a:lnTo>
                    <a:pt x="1709" y="185"/>
                  </a:lnTo>
                  <a:lnTo>
                    <a:pt x="1698" y="209"/>
                  </a:lnTo>
                  <a:lnTo>
                    <a:pt x="1693" y="237"/>
                  </a:lnTo>
                  <a:lnTo>
                    <a:pt x="1691" y="265"/>
                  </a:lnTo>
                  <a:lnTo>
                    <a:pt x="1685" y="293"/>
                  </a:lnTo>
                  <a:lnTo>
                    <a:pt x="1681" y="319"/>
                  </a:lnTo>
                  <a:lnTo>
                    <a:pt x="1685" y="346"/>
                  </a:lnTo>
                  <a:lnTo>
                    <a:pt x="1683" y="390"/>
                  </a:lnTo>
                  <a:lnTo>
                    <a:pt x="1672" y="431"/>
                  </a:lnTo>
                  <a:lnTo>
                    <a:pt x="1662" y="472"/>
                  </a:lnTo>
                  <a:lnTo>
                    <a:pt x="1662" y="516"/>
                  </a:lnTo>
                  <a:lnTo>
                    <a:pt x="1660" y="532"/>
                  </a:lnTo>
                  <a:lnTo>
                    <a:pt x="1653" y="547"/>
                  </a:lnTo>
                  <a:lnTo>
                    <a:pt x="1647" y="562"/>
                  </a:lnTo>
                  <a:lnTo>
                    <a:pt x="1637" y="575"/>
                  </a:lnTo>
                  <a:lnTo>
                    <a:pt x="1631" y="590"/>
                  </a:lnTo>
                  <a:lnTo>
                    <a:pt x="1626" y="606"/>
                  </a:lnTo>
                  <a:lnTo>
                    <a:pt x="1626" y="623"/>
                  </a:lnTo>
                  <a:lnTo>
                    <a:pt x="1632" y="641"/>
                  </a:lnTo>
                  <a:lnTo>
                    <a:pt x="1645" y="682"/>
                  </a:lnTo>
                  <a:lnTo>
                    <a:pt x="1657" y="683"/>
                  </a:lnTo>
                  <a:lnTo>
                    <a:pt x="1670" y="687"/>
                  </a:lnTo>
                  <a:lnTo>
                    <a:pt x="1680" y="691"/>
                  </a:lnTo>
                  <a:lnTo>
                    <a:pt x="1690" y="698"/>
                  </a:lnTo>
                  <a:lnTo>
                    <a:pt x="1699" y="716"/>
                  </a:lnTo>
                  <a:lnTo>
                    <a:pt x="1706" y="736"/>
                  </a:lnTo>
                  <a:lnTo>
                    <a:pt x="1709" y="755"/>
                  </a:lnTo>
                  <a:lnTo>
                    <a:pt x="1713" y="777"/>
                  </a:lnTo>
                  <a:lnTo>
                    <a:pt x="1716" y="796"/>
                  </a:lnTo>
                  <a:lnTo>
                    <a:pt x="1721" y="816"/>
                  </a:lnTo>
                  <a:lnTo>
                    <a:pt x="1729" y="834"/>
                  </a:lnTo>
                  <a:lnTo>
                    <a:pt x="1742" y="851"/>
                  </a:lnTo>
                  <a:lnTo>
                    <a:pt x="1758" y="911"/>
                  </a:lnTo>
                  <a:lnTo>
                    <a:pt x="1767" y="975"/>
                  </a:lnTo>
                  <a:lnTo>
                    <a:pt x="1772" y="1041"/>
                  </a:lnTo>
                  <a:lnTo>
                    <a:pt x="1773" y="1106"/>
                  </a:lnTo>
                  <a:lnTo>
                    <a:pt x="1775" y="1193"/>
                  </a:lnTo>
                  <a:lnTo>
                    <a:pt x="1776" y="1278"/>
                  </a:lnTo>
                  <a:lnTo>
                    <a:pt x="1781" y="1364"/>
                  </a:lnTo>
                  <a:lnTo>
                    <a:pt x="1793" y="1447"/>
                  </a:lnTo>
                  <a:lnTo>
                    <a:pt x="1788" y="1480"/>
                  </a:lnTo>
                  <a:lnTo>
                    <a:pt x="1778" y="1510"/>
                  </a:lnTo>
                  <a:lnTo>
                    <a:pt x="1765" y="1539"/>
                  </a:lnTo>
                  <a:lnTo>
                    <a:pt x="1750" y="1567"/>
                  </a:lnTo>
                  <a:lnTo>
                    <a:pt x="1608" y="1829"/>
                  </a:lnTo>
                  <a:lnTo>
                    <a:pt x="1489" y="2042"/>
                  </a:lnTo>
                  <a:lnTo>
                    <a:pt x="1475" y="2078"/>
                  </a:lnTo>
                  <a:lnTo>
                    <a:pt x="1468" y="2115"/>
                  </a:lnTo>
                  <a:lnTo>
                    <a:pt x="1465" y="2154"/>
                  </a:lnTo>
                  <a:lnTo>
                    <a:pt x="1465" y="2193"/>
                  </a:lnTo>
                  <a:lnTo>
                    <a:pt x="1534" y="2342"/>
                  </a:lnTo>
                  <a:lnTo>
                    <a:pt x="1547" y="2388"/>
                  </a:lnTo>
                  <a:lnTo>
                    <a:pt x="1562" y="2433"/>
                  </a:lnTo>
                  <a:lnTo>
                    <a:pt x="1573" y="2480"/>
                  </a:lnTo>
                  <a:lnTo>
                    <a:pt x="1576" y="2529"/>
                  </a:lnTo>
                  <a:lnTo>
                    <a:pt x="1588" y="2606"/>
                  </a:lnTo>
                  <a:lnTo>
                    <a:pt x="1593" y="2683"/>
                  </a:lnTo>
                  <a:lnTo>
                    <a:pt x="1596" y="2764"/>
                  </a:lnTo>
                  <a:lnTo>
                    <a:pt x="1599" y="2842"/>
                  </a:lnTo>
                  <a:lnTo>
                    <a:pt x="1627" y="2844"/>
                  </a:lnTo>
                  <a:lnTo>
                    <a:pt x="1655" y="2846"/>
                  </a:lnTo>
                  <a:lnTo>
                    <a:pt x="1683" y="2846"/>
                  </a:lnTo>
                  <a:lnTo>
                    <a:pt x="1711" y="2846"/>
                  </a:lnTo>
                  <a:lnTo>
                    <a:pt x="1740" y="2846"/>
                  </a:lnTo>
                  <a:lnTo>
                    <a:pt x="1768" y="2847"/>
                  </a:lnTo>
                  <a:lnTo>
                    <a:pt x="1796" y="2847"/>
                  </a:lnTo>
                  <a:lnTo>
                    <a:pt x="1822" y="2849"/>
                  </a:lnTo>
                  <a:lnTo>
                    <a:pt x="1834" y="2859"/>
                  </a:lnTo>
                  <a:lnTo>
                    <a:pt x="1842" y="2870"/>
                  </a:lnTo>
                  <a:lnTo>
                    <a:pt x="1845" y="2883"/>
                  </a:lnTo>
                  <a:lnTo>
                    <a:pt x="1845" y="2898"/>
                  </a:lnTo>
                  <a:lnTo>
                    <a:pt x="1840" y="2913"/>
                  </a:lnTo>
                  <a:lnTo>
                    <a:pt x="1829" y="2926"/>
                  </a:lnTo>
                  <a:lnTo>
                    <a:pt x="1817" y="2936"/>
                  </a:lnTo>
                  <a:lnTo>
                    <a:pt x="1813" y="2939"/>
                  </a:lnTo>
                  <a:lnTo>
                    <a:pt x="1806" y="2983"/>
                  </a:lnTo>
                  <a:lnTo>
                    <a:pt x="1795" y="3033"/>
                  </a:lnTo>
                  <a:lnTo>
                    <a:pt x="1783" y="3085"/>
                  </a:lnTo>
                  <a:lnTo>
                    <a:pt x="1770" y="3136"/>
                  </a:lnTo>
                  <a:lnTo>
                    <a:pt x="1757" y="3182"/>
                  </a:lnTo>
                  <a:lnTo>
                    <a:pt x="1747" y="3220"/>
                  </a:lnTo>
                  <a:lnTo>
                    <a:pt x="1740" y="3244"/>
                  </a:lnTo>
                  <a:lnTo>
                    <a:pt x="1737" y="3254"/>
                  </a:lnTo>
                  <a:lnTo>
                    <a:pt x="1732" y="3254"/>
                  </a:lnTo>
                  <a:lnTo>
                    <a:pt x="1719" y="3254"/>
                  </a:lnTo>
                  <a:lnTo>
                    <a:pt x="1698" y="3254"/>
                  </a:lnTo>
                  <a:lnTo>
                    <a:pt x="1668" y="3254"/>
                  </a:lnTo>
                  <a:lnTo>
                    <a:pt x="1632" y="3254"/>
                  </a:lnTo>
                  <a:lnTo>
                    <a:pt x="1590" y="3254"/>
                  </a:lnTo>
                  <a:lnTo>
                    <a:pt x="1540" y="3254"/>
                  </a:lnTo>
                  <a:lnTo>
                    <a:pt x="1486" y="3254"/>
                  </a:lnTo>
                  <a:lnTo>
                    <a:pt x="1429" y="3254"/>
                  </a:lnTo>
                  <a:lnTo>
                    <a:pt x="1366" y="3254"/>
                  </a:lnTo>
                  <a:lnTo>
                    <a:pt x="1299" y="3254"/>
                  </a:lnTo>
                  <a:lnTo>
                    <a:pt x="1230" y="3254"/>
                  </a:lnTo>
                  <a:lnTo>
                    <a:pt x="1160" y="3254"/>
                  </a:lnTo>
                  <a:lnTo>
                    <a:pt x="1086" y="3254"/>
                  </a:lnTo>
                  <a:lnTo>
                    <a:pt x="1012" y="3254"/>
                  </a:lnTo>
                  <a:lnTo>
                    <a:pt x="937" y="3254"/>
                  </a:lnTo>
                  <a:lnTo>
                    <a:pt x="861" y="3254"/>
                  </a:lnTo>
                  <a:lnTo>
                    <a:pt x="788" y="3254"/>
                  </a:lnTo>
                  <a:lnTo>
                    <a:pt x="714" y="3254"/>
                  </a:lnTo>
                  <a:lnTo>
                    <a:pt x="643" y="3254"/>
                  </a:lnTo>
                  <a:lnTo>
                    <a:pt x="573" y="3254"/>
                  </a:lnTo>
                  <a:lnTo>
                    <a:pt x="507" y="3254"/>
                  </a:lnTo>
                  <a:lnTo>
                    <a:pt x="445" y="3254"/>
                  </a:lnTo>
                  <a:lnTo>
                    <a:pt x="386" y="3254"/>
                  </a:lnTo>
                  <a:lnTo>
                    <a:pt x="332" y="3254"/>
                  </a:lnTo>
                  <a:lnTo>
                    <a:pt x="284" y="3254"/>
                  </a:lnTo>
                  <a:lnTo>
                    <a:pt x="240" y="3254"/>
                  </a:lnTo>
                  <a:lnTo>
                    <a:pt x="204" y="3254"/>
                  </a:lnTo>
                  <a:lnTo>
                    <a:pt x="174" y="3254"/>
                  </a:lnTo>
                  <a:lnTo>
                    <a:pt x="153" y="3254"/>
                  </a:lnTo>
                  <a:lnTo>
                    <a:pt x="140" y="3254"/>
                  </a:lnTo>
                  <a:lnTo>
                    <a:pt x="135" y="3254"/>
                  </a:lnTo>
                  <a:lnTo>
                    <a:pt x="120" y="3218"/>
                  </a:lnTo>
                  <a:lnTo>
                    <a:pt x="105" y="3180"/>
                  </a:lnTo>
                  <a:lnTo>
                    <a:pt x="94" y="3143"/>
                  </a:lnTo>
                  <a:lnTo>
                    <a:pt x="82" y="3105"/>
                  </a:lnTo>
                  <a:lnTo>
                    <a:pt x="72" y="3065"/>
                  </a:lnTo>
                  <a:lnTo>
                    <a:pt x="64" y="3028"/>
                  </a:lnTo>
                  <a:lnTo>
                    <a:pt x="56" y="2988"/>
                  </a:lnTo>
                  <a:lnTo>
                    <a:pt x="49" y="2951"/>
                  </a:lnTo>
                  <a:lnTo>
                    <a:pt x="43" y="2944"/>
                  </a:lnTo>
                  <a:lnTo>
                    <a:pt x="35" y="2941"/>
                  </a:lnTo>
                  <a:lnTo>
                    <a:pt x="27" y="2941"/>
                  </a:lnTo>
                  <a:lnTo>
                    <a:pt x="20" y="2938"/>
                  </a:lnTo>
                  <a:lnTo>
                    <a:pt x="10" y="2924"/>
                  </a:lnTo>
                  <a:lnTo>
                    <a:pt x="4" y="2910"/>
                  </a:lnTo>
                  <a:lnTo>
                    <a:pt x="0" y="2895"/>
                  </a:lnTo>
                  <a:lnTo>
                    <a:pt x="2" y="2879"/>
                  </a:lnTo>
                  <a:lnTo>
                    <a:pt x="5" y="2869"/>
                  </a:lnTo>
                  <a:lnTo>
                    <a:pt x="13" y="2862"/>
                  </a:lnTo>
                  <a:lnTo>
                    <a:pt x="20" y="2854"/>
                  </a:lnTo>
                  <a:lnTo>
                    <a:pt x="23" y="2847"/>
                  </a:lnTo>
                  <a:lnTo>
                    <a:pt x="36" y="2849"/>
                  </a:lnTo>
                  <a:lnTo>
                    <a:pt x="51" y="2851"/>
                  </a:lnTo>
                  <a:lnTo>
                    <a:pt x="66" y="2852"/>
                  </a:lnTo>
                  <a:lnTo>
                    <a:pt x="81" y="2851"/>
                  </a:lnTo>
                  <a:lnTo>
                    <a:pt x="97" y="2851"/>
                  </a:lnTo>
                  <a:lnTo>
                    <a:pt x="113" y="2851"/>
                  </a:lnTo>
                  <a:lnTo>
                    <a:pt x="130" y="2851"/>
                  </a:lnTo>
                  <a:lnTo>
                    <a:pt x="146" y="2851"/>
                  </a:lnTo>
                  <a:lnTo>
                    <a:pt x="136" y="2790"/>
                  </a:lnTo>
                  <a:lnTo>
                    <a:pt x="127" y="2729"/>
                  </a:lnTo>
                  <a:lnTo>
                    <a:pt x="120" y="2667"/>
                  </a:lnTo>
                  <a:lnTo>
                    <a:pt x="117" y="2603"/>
                  </a:lnTo>
                  <a:lnTo>
                    <a:pt x="127" y="2379"/>
                  </a:lnTo>
                  <a:lnTo>
                    <a:pt x="133" y="2336"/>
                  </a:lnTo>
                  <a:lnTo>
                    <a:pt x="140" y="2293"/>
                  </a:lnTo>
                  <a:lnTo>
                    <a:pt x="148" y="2251"/>
                  </a:lnTo>
                  <a:lnTo>
                    <a:pt x="158" y="2208"/>
                  </a:lnTo>
                  <a:lnTo>
                    <a:pt x="169" y="2169"/>
                  </a:lnTo>
                  <a:lnTo>
                    <a:pt x="184" y="2128"/>
                  </a:lnTo>
                  <a:lnTo>
                    <a:pt x="204" y="2090"/>
                  </a:lnTo>
                  <a:lnTo>
                    <a:pt x="225" y="2054"/>
                  </a:lnTo>
                  <a:lnTo>
                    <a:pt x="292" y="2000"/>
                  </a:lnTo>
                  <a:lnTo>
                    <a:pt x="435" y="1918"/>
                  </a:lnTo>
                  <a:lnTo>
                    <a:pt x="458" y="1905"/>
                  </a:lnTo>
                  <a:lnTo>
                    <a:pt x="479" y="1890"/>
                  </a:lnTo>
                  <a:lnTo>
                    <a:pt x="496" y="1870"/>
                  </a:lnTo>
                  <a:lnTo>
                    <a:pt x="512" y="1851"/>
                  </a:lnTo>
                  <a:lnTo>
                    <a:pt x="528" y="1829"/>
                  </a:lnTo>
                  <a:lnTo>
                    <a:pt x="545" y="1808"/>
                  </a:lnTo>
                  <a:lnTo>
                    <a:pt x="561" y="1788"/>
                  </a:lnTo>
                  <a:lnTo>
                    <a:pt x="579" y="1770"/>
                  </a:lnTo>
                  <a:lnTo>
                    <a:pt x="568" y="1764"/>
                  </a:lnTo>
                  <a:lnTo>
                    <a:pt x="558" y="1760"/>
                  </a:lnTo>
                  <a:lnTo>
                    <a:pt x="546" y="1756"/>
                  </a:lnTo>
                  <a:lnTo>
                    <a:pt x="535" y="1752"/>
                  </a:lnTo>
                  <a:lnTo>
                    <a:pt x="523" y="1749"/>
                  </a:lnTo>
                  <a:lnTo>
                    <a:pt x="514" y="1742"/>
                  </a:lnTo>
                  <a:lnTo>
                    <a:pt x="505" y="1736"/>
                  </a:lnTo>
                  <a:lnTo>
                    <a:pt x="497" y="1726"/>
                  </a:lnTo>
                  <a:lnTo>
                    <a:pt x="494" y="1683"/>
                  </a:lnTo>
                  <a:lnTo>
                    <a:pt x="491" y="1641"/>
                  </a:lnTo>
                  <a:lnTo>
                    <a:pt x="487" y="1596"/>
                  </a:lnTo>
                  <a:lnTo>
                    <a:pt x="492" y="1552"/>
                  </a:lnTo>
                  <a:lnTo>
                    <a:pt x="474" y="1521"/>
                  </a:lnTo>
                  <a:lnTo>
                    <a:pt x="461" y="1488"/>
                  </a:lnTo>
                  <a:lnTo>
                    <a:pt x="455" y="1454"/>
                  </a:lnTo>
                  <a:lnTo>
                    <a:pt x="453" y="1416"/>
                  </a:lnTo>
                  <a:lnTo>
                    <a:pt x="458" y="1390"/>
                  </a:lnTo>
                  <a:lnTo>
                    <a:pt x="464" y="1365"/>
                  </a:lnTo>
                  <a:lnTo>
                    <a:pt x="474" y="1342"/>
                  </a:lnTo>
                  <a:lnTo>
                    <a:pt x="491" y="1323"/>
                  </a:lnTo>
                  <a:lnTo>
                    <a:pt x="497" y="1264"/>
                  </a:lnTo>
                  <a:lnTo>
                    <a:pt x="510" y="1205"/>
                  </a:lnTo>
                  <a:lnTo>
                    <a:pt x="532" y="1149"/>
                  </a:lnTo>
                  <a:lnTo>
                    <a:pt x="560" y="1096"/>
                  </a:lnTo>
                  <a:lnTo>
                    <a:pt x="594" y="1049"/>
                  </a:lnTo>
                  <a:lnTo>
                    <a:pt x="637" y="1006"/>
                  </a:lnTo>
                  <a:lnTo>
                    <a:pt x="684" y="970"/>
                  </a:lnTo>
                  <a:lnTo>
                    <a:pt x="738" y="941"/>
                  </a:lnTo>
                  <a:lnTo>
                    <a:pt x="768" y="929"/>
                  </a:lnTo>
                  <a:lnTo>
                    <a:pt x="799" y="921"/>
                  </a:lnTo>
                  <a:lnTo>
                    <a:pt x="832" y="916"/>
                  </a:lnTo>
                  <a:lnTo>
                    <a:pt x="865" y="913"/>
                  </a:lnTo>
                  <a:lnTo>
                    <a:pt x="899" y="914"/>
                  </a:lnTo>
                  <a:lnTo>
                    <a:pt x="932" y="919"/>
                  </a:lnTo>
                  <a:lnTo>
                    <a:pt x="965" y="926"/>
                  </a:lnTo>
                  <a:lnTo>
                    <a:pt x="996" y="936"/>
                  </a:lnTo>
                  <a:lnTo>
                    <a:pt x="1019" y="939"/>
                  </a:lnTo>
                  <a:lnTo>
                    <a:pt x="1042" y="942"/>
                  </a:lnTo>
                  <a:lnTo>
                    <a:pt x="1066" y="946"/>
                  </a:lnTo>
                  <a:lnTo>
                    <a:pt x="1089" y="951"/>
                  </a:lnTo>
                  <a:lnTo>
                    <a:pt x="1111" y="955"/>
                  </a:lnTo>
                  <a:lnTo>
                    <a:pt x="1134" y="962"/>
                  </a:lnTo>
                  <a:lnTo>
                    <a:pt x="1155" y="970"/>
                  </a:lnTo>
                  <a:lnTo>
                    <a:pt x="1176" y="978"/>
                  </a:lnTo>
                  <a:lnTo>
                    <a:pt x="1188" y="982"/>
                  </a:lnTo>
                  <a:lnTo>
                    <a:pt x="1199" y="987"/>
                  </a:lnTo>
                  <a:lnTo>
                    <a:pt x="1209" y="993"/>
                  </a:lnTo>
                  <a:lnTo>
                    <a:pt x="1219" y="1001"/>
                  </a:lnTo>
                  <a:lnTo>
                    <a:pt x="1227" y="1011"/>
                  </a:lnTo>
                  <a:lnTo>
                    <a:pt x="1235" y="1019"/>
                  </a:lnTo>
                  <a:lnTo>
                    <a:pt x="1243" y="1029"/>
                  </a:lnTo>
                  <a:lnTo>
                    <a:pt x="1252" y="1037"/>
                  </a:lnTo>
                  <a:lnTo>
                    <a:pt x="1281" y="1085"/>
                  </a:lnTo>
                  <a:lnTo>
                    <a:pt x="1302" y="1136"/>
                  </a:lnTo>
                  <a:lnTo>
                    <a:pt x="1312" y="1193"/>
                  </a:lnTo>
                  <a:lnTo>
                    <a:pt x="1316" y="1251"/>
                  </a:lnTo>
                  <a:lnTo>
                    <a:pt x="1309" y="1308"/>
                  </a:lnTo>
                  <a:lnTo>
                    <a:pt x="1298" y="1364"/>
                  </a:lnTo>
                  <a:lnTo>
                    <a:pt x="1278" y="1418"/>
                  </a:lnTo>
                  <a:lnTo>
                    <a:pt x="1253" y="1465"/>
                  </a:lnTo>
                  <a:lnTo>
                    <a:pt x="1250" y="1490"/>
                  </a:lnTo>
                  <a:lnTo>
                    <a:pt x="1243" y="1513"/>
                  </a:lnTo>
                  <a:lnTo>
                    <a:pt x="1237" y="1536"/>
                  </a:lnTo>
                  <a:lnTo>
                    <a:pt x="1227" y="1559"/>
                  </a:lnTo>
                  <a:lnTo>
                    <a:pt x="1216" y="1578"/>
                  </a:lnTo>
                  <a:lnTo>
                    <a:pt x="1201" y="1596"/>
                  </a:lnTo>
                  <a:lnTo>
                    <a:pt x="1183" y="1613"/>
                  </a:lnTo>
                  <a:lnTo>
                    <a:pt x="1161" y="1624"/>
                  </a:lnTo>
                  <a:lnTo>
                    <a:pt x="1153" y="1639"/>
                  </a:lnTo>
                  <a:lnTo>
                    <a:pt x="1145" y="1654"/>
                  </a:lnTo>
                  <a:lnTo>
                    <a:pt x="1137" y="1669"/>
                  </a:lnTo>
                  <a:lnTo>
                    <a:pt x="1130" y="1683"/>
                  </a:lnTo>
                  <a:lnTo>
                    <a:pt x="1137" y="1683"/>
                  </a:lnTo>
                  <a:lnTo>
                    <a:pt x="1143" y="1683"/>
                  </a:lnTo>
                  <a:lnTo>
                    <a:pt x="1150" y="1682"/>
                  </a:lnTo>
                  <a:lnTo>
                    <a:pt x="1157" y="1682"/>
                  </a:lnTo>
                  <a:lnTo>
                    <a:pt x="1165" y="1680"/>
                  </a:lnTo>
                  <a:lnTo>
                    <a:pt x="1171" y="1680"/>
                  </a:lnTo>
                  <a:lnTo>
                    <a:pt x="1178" y="1680"/>
                  </a:lnTo>
                  <a:lnTo>
                    <a:pt x="1184" y="1682"/>
                  </a:lnTo>
                  <a:lnTo>
                    <a:pt x="1191" y="1667"/>
                  </a:lnTo>
                  <a:lnTo>
                    <a:pt x="1199" y="1652"/>
                  </a:lnTo>
                  <a:lnTo>
                    <a:pt x="1209" y="1637"/>
                  </a:lnTo>
                  <a:lnTo>
                    <a:pt x="1219" y="1624"/>
                  </a:lnTo>
                  <a:lnTo>
                    <a:pt x="1230" y="1611"/>
                  </a:lnTo>
                  <a:lnTo>
                    <a:pt x="1240" y="1598"/>
                  </a:lnTo>
                  <a:lnTo>
                    <a:pt x="1252" y="1583"/>
                  </a:lnTo>
                  <a:lnTo>
                    <a:pt x="1260" y="1570"/>
                  </a:lnTo>
                  <a:lnTo>
                    <a:pt x="1276" y="1537"/>
                  </a:lnTo>
                  <a:lnTo>
                    <a:pt x="1291" y="1505"/>
                  </a:lnTo>
                  <a:lnTo>
                    <a:pt x="1304" y="1470"/>
                  </a:lnTo>
                  <a:lnTo>
                    <a:pt x="1316" y="1436"/>
                  </a:lnTo>
                  <a:lnTo>
                    <a:pt x="1325" y="1401"/>
                  </a:lnTo>
                  <a:lnTo>
                    <a:pt x="1334" y="1365"/>
                  </a:lnTo>
                  <a:lnTo>
                    <a:pt x="1342" y="1329"/>
                  </a:lnTo>
                  <a:lnTo>
                    <a:pt x="1350" y="1293"/>
                  </a:lnTo>
                  <a:lnTo>
                    <a:pt x="1358" y="1278"/>
                  </a:lnTo>
                  <a:lnTo>
                    <a:pt x="1368" y="1264"/>
                  </a:lnTo>
                  <a:lnTo>
                    <a:pt x="1378" y="1251"/>
                  </a:lnTo>
                  <a:lnTo>
                    <a:pt x="1391" y="1237"/>
                  </a:lnTo>
                  <a:lnTo>
                    <a:pt x="1391" y="1077"/>
                  </a:lnTo>
                  <a:lnTo>
                    <a:pt x="1393" y="1047"/>
                  </a:lnTo>
                  <a:lnTo>
                    <a:pt x="1393" y="1016"/>
                  </a:lnTo>
                  <a:lnTo>
                    <a:pt x="1394" y="987"/>
                  </a:lnTo>
                  <a:lnTo>
                    <a:pt x="1398" y="957"/>
                  </a:lnTo>
                  <a:lnTo>
                    <a:pt x="1404" y="929"/>
                  </a:lnTo>
                  <a:lnTo>
                    <a:pt x="1416" y="903"/>
                  </a:lnTo>
                  <a:lnTo>
                    <a:pt x="1430" y="880"/>
                  </a:lnTo>
                  <a:lnTo>
                    <a:pt x="1452" y="859"/>
                  </a:lnTo>
                  <a:lnTo>
                    <a:pt x="1448" y="841"/>
                  </a:lnTo>
                  <a:lnTo>
                    <a:pt x="1445" y="823"/>
                  </a:lnTo>
                  <a:lnTo>
                    <a:pt x="1440" y="801"/>
                  </a:lnTo>
                  <a:lnTo>
                    <a:pt x="1439" y="782"/>
                  </a:lnTo>
                  <a:lnTo>
                    <a:pt x="1439" y="762"/>
                  </a:lnTo>
                  <a:lnTo>
                    <a:pt x="1444" y="744"/>
                  </a:lnTo>
                  <a:lnTo>
                    <a:pt x="1452" y="726"/>
                  </a:lnTo>
                  <a:lnTo>
                    <a:pt x="1468" y="713"/>
                  </a:lnTo>
                  <a:lnTo>
                    <a:pt x="1467" y="695"/>
                  </a:lnTo>
                  <a:lnTo>
                    <a:pt x="1463" y="678"/>
                  </a:lnTo>
                  <a:lnTo>
                    <a:pt x="1457" y="662"/>
                  </a:lnTo>
                  <a:lnTo>
                    <a:pt x="1448" y="646"/>
                  </a:lnTo>
                  <a:lnTo>
                    <a:pt x="1440" y="631"/>
                  </a:lnTo>
                  <a:lnTo>
                    <a:pt x="1429" y="616"/>
                  </a:lnTo>
                  <a:lnTo>
                    <a:pt x="1417" y="603"/>
                  </a:lnTo>
                  <a:lnTo>
                    <a:pt x="1404" y="590"/>
                  </a:lnTo>
                  <a:lnTo>
                    <a:pt x="1388" y="549"/>
                  </a:lnTo>
                  <a:lnTo>
                    <a:pt x="1378" y="505"/>
                  </a:lnTo>
                  <a:lnTo>
                    <a:pt x="1368" y="459"/>
                  </a:lnTo>
                  <a:lnTo>
                    <a:pt x="1357" y="414"/>
                  </a:lnTo>
                  <a:lnTo>
                    <a:pt x="1358" y="383"/>
                  </a:lnTo>
                  <a:lnTo>
                    <a:pt x="1370" y="354"/>
                  </a:lnTo>
                  <a:lnTo>
                    <a:pt x="1381" y="326"/>
                  </a:lnTo>
                  <a:lnTo>
                    <a:pt x="1386" y="295"/>
                  </a:lnTo>
                  <a:lnTo>
                    <a:pt x="1386" y="260"/>
                  </a:lnTo>
                  <a:lnTo>
                    <a:pt x="1385" y="226"/>
                  </a:lnTo>
                  <a:lnTo>
                    <a:pt x="1380" y="191"/>
                  </a:lnTo>
                  <a:lnTo>
                    <a:pt x="1378" y="159"/>
                  </a:lnTo>
                  <a:lnTo>
                    <a:pt x="1380" y="126"/>
                  </a:lnTo>
                  <a:lnTo>
                    <a:pt x="1388" y="96"/>
                  </a:lnTo>
                  <a:lnTo>
                    <a:pt x="1403" y="68"/>
                  </a:lnTo>
                  <a:lnTo>
                    <a:pt x="1427" y="42"/>
                  </a:lnTo>
                  <a:lnTo>
                    <a:pt x="1435" y="41"/>
                  </a:lnTo>
                  <a:lnTo>
                    <a:pt x="1442" y="36"/>
                  </a:lnTo>
                  <a:lnTo>
                    <a:pt x="1447" y="29"/>
                  </a:lnTo>
                  <a:lnTo>
                    <a:pt x="1450" y="21"/>
                  </a:lnTo>
                  <a:lnTo>
                    <a:pt x="1455" y="14"/>
                  </a:lnTo>
                  <a:lnTo>
                    <a:pt x="1460" y="6"/>
                  </a:lnTo>
                  <a:lnTo>
                    <a:pt x="1467" y="1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8" y="5"/>
                  </a:lnTo>
                  <a:lnTo>
                    <a:pt x="1504" y="11"/>
                  </a:lnTo>
                  <a:lnTo>
                    <a:pt x="15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51160" y="4147200"/>
              <a:ext cx="222120" cy="591480"/>
            </a:xfrm>
            <a:custGeom>
              <a:avLst/>
              <a:gdLst/>
              <a:ahLst/>
              <a:rect l="l" t="t" r="r" b="b"/>
              <a:pathLst>
                <a:path w="269" h="725">
                  <a:moveTo>
                    <a:pt x="102" y="2"/>
                  </a:moveTo>
                  <a:lnTo>
                    <a:pt x="107" y="10"/>
                  </a:lnTo>
                  <a:lnTo>
                    <a:pt x="109" y="17"/>
                  </a:lnTo>
                  <a:lnTo>
                    <a:pt x="110" y="23"/>
                  </a:lnTo>
                  <a:lnTo>
                    <a:pt x="110" y="30"/>
                  </a:lnTo>
                  <a:lnTo>
                    <a:pt x="105" y="56"/>
                  </a:lnTo>
                  <a:lnTo>
                    <a:pt x="107" y="79"/>
                  </a:lnTo>
                  <a:lnTo>
                    <a:pt x="112" y="102"/>
                  </a:lnTo>
                  <a:lnTo>
                    <a:pt x="119" y="123"/>
                  </a:lnTo>
                  <a:lnTo>
                    <a:pt x="125" y="144"/>
                  </a:lnTo>
                  <a:lnTo>
                    <a:pt x="132" y="167"/>
                  </a:lnTo>
                  <a:lnTo>
                    <a:pt x="137" y="189"/>
                  </a:lnTo>
                  <a:lnTo>
                    <a:pt x="137" y="213"/>
                  </a:lnTo>
                  <a:lnTo>
                    <a:pt x="135" y="217"/>
                  </a:lnTo>
                  <a:lnTo>
                    <a:pt x="133" y="218"/>
                  </a:lnTo>
                  <a:lnTo>
                    <a:pt x="132" y="221"/>
                  </a:lnTo>
                  <a:lnTo>
                    <a:pt x="132" y="226"/>
                  </a:lnTo>
                  <a:lnTo>
                    <a:pt x="138" y="233"/>
                  </a:lnTo>
                  <a:lnTo>
                    <a:pt x="145" y="233"/>
                  </a:lnTo>
                  <a:lnTo>
                    <a:pt x="153" y="231"/>
                  </a:lnTo>
                  <a:lnTo>
                    <a:pt x="160" y="230"/>
                  </a:lnTo>
                  <a:lnTo>
                    <a:pt x="171" y="231"/>
                  </a:lnTo>
                  <a:lnTo>
                    <a:pt x="182" y="233"/>
                  </a:lnTo>
                  <a:lnTo>
                    <a:pt x="194" y="231"/>
                  </a:lnTo>
                  <a:lnTo>
                    <a:pt x="202" y="226"/>
                  </a:lnTo>
                  <a:lnTo>
                    <a:pt x="196" y="218"/>
                  </a:lnTo>
                  <a:lnTo>
                    <a:pt x="184" y="215"/>
                  </a:lnTo>
                  <a:lnTo>
                    <a:pt x="173" y="213"/>
                  </a:lnTo>
                  <a:lnTo>
                    <a:pt x="161" y="212"/>
                  </a:lnTo>
                  <a:lnTo>
                    <a:pt x="158" y="180"/>
                  </a:lnTo>
                  <a:lnTo>
                    <a:pt x="155" y="148"/>
                  </a:lnTo>
                  <a:lnTo>
                    <a:pt x="150" y="117"/>
                  </a:lnTo>
                  <a:lnTo>
                    <a:pt x="140" y="87"/>
                  </a:lnTo>
                  <a:lnTo>
                    <a:pt x="137" y="66"/>
                  </a:lnTo>
                  <a:lnTo>
                    <a:pt x="137" y="44"/>
                  </a:lnTo>
                  <a:lnTo>
                    <a:pt x="140" y="25"/>
                  </a:lnTo>
                  <a:lnTo>
                    <a:pt x="145" y="7"/>
                  </a:lnTo>
                  <a:lnTo>
                    <a:pt x="158" y="13"/>
                  </a:lnTo>
                  <a:lnTo>
                    <a:pt x="166" y="25"/>
                  </a:lnTo>
                  <a:lnTo>
                    <a:pt x="169" y="39"/>
                  </a:lnTo>
                  <a:lnTo>
                    <a:pt x="173" y="54"/>
                  </a:lnTo>
                  <a:lnTo>
                    <a:pt x="176" y="97"/>
                  </a:lnTo>
                  <a:lnTo>
                    <a:pt x="187" y="136"/>
                  </a:lnTo>
                  <a:lnTo>
                    <a:pt x="201" y="176"/>
                  </a:lnTo>
                  <a:lnTo>
                    <a:pt x="202" y="218"/>
                  </a:lnTo>
                  <a:lnTo>
                    <a:pt x="207" y="226"/>
                  </a:lnTo>
                  <a:lnTo>
                    <a:pt x="214" y="236"/>
                  </a:lnTo>
                  <a:lnTo>
                    <a:pt x="220" y="244"/>
                  </a:lnTo>
                  <a:lnTo>
                    <a:pt x="230" y="248"/>
                  </a:lnTo>
                  <a:lnTo>
                    <a:pt x="245" y="264"/>
                  </a:lnTo>
                  <a:lnTo>
                    <a:pt x="258" y="282"/>
                  </a:lnTo>
                  <a:lnTo>
                    <a:pt x="266" y="302"/>
                  </a:lnTo>
                  <a:lnTo>
                    <a:pt x="269" y="323"/>
                  </a:lnTo>
                  <a:lnTo>
                    <a:pt x="268" y="344"/>
                  </a:lnTo>
                  <a:lnTo>
                    <a:pt x="263" y="364"/>
                  </a:lnTo>
                  <a:lnTo>
                    <a:pt x="256" y="384"/>
                  </a:lnTo>
                  <a:lnTo>
                    <a:pt x="248" y="402"/>
                  </a:lnTo>
                  <a:lnTo>
                    <a:pt x="248" y="421"/>
                  </a:lnTo>
                  <a:lnTo>
                    <a:pt x="250" y="443"/>
                  </a:lnTo>
                  <a:lnTo>
                    <a:pt x="248" y="464"/>
                  </a:lnTo>
                  <a:lnTo>
                    <a:pt x="245" y="484"/>
                  </a:lnTo>
                  <a:lnTo>
                    <a:pt x="240" y="502"/>
                  </a:lnTo>
                  <a:lnTo>
                    <a:pt x="232" y="520"/>
                  </a:lnTo>
                  <a:lnTo>
                    <a:pt x="219" y="533"/>
                  </a:lnTo>
                  <a:lnTo>
                    <a:pt x="202" y="544"/>
                  </a:lnTo>
                  <a:lnTo>
                    <a:pt x="192" y="546"/>
                  </a:lnTo>
                  <a:lnTo>
                    <a:pt x="184" y="548"/>
                  </a:lnTo>
                  <a:lnTo>
                    <a:pt x="174" y="548"/>
                  </a:lnTo>
                  <a:lnTo>
                    <a:pt x="164" y="549"/>
                  </a:lnTo>
                  <a:lnTo>
                    <a:pt x="156" y="551"/>
                  </a:lnTo>
                  <a:lnTo>
                    <a:pt x="146" y="553"/>
                  </a:lnTo>
                  <a:lnTo>
                    <a:pt x="138" y="556"/>
                  </a:lnTo>
                  <a:lnTo>
                    <a:pt x="130" y="559"/>
                  </a:lnTo>
                  <a:lnTo>
                    <a:pt x="132" y="566"/>
                  </a:lnTo>
                  <a:lnTo>
                    <a:pt x="135" y="571"/>
                  </a:lnTo>
                  <a:lnTo>
                    <a:pt x="141" y="574"/>
                  </a:lnTo>
                  <a:lnTo>
                    <a:pt x="146" y="576"/>
                  </a:lnTo>
                  <a:lnTo>
                    <a:pt x="199" y="579"/>
                  </a:lnTo>
                  <a:lnTo>
                    <a:pt x="202" y="612"/>
                  </a:lnTo>
                  <a:lnTo>
                    <a:pt x="207" y="646"/>
                  </a:lnTo>
                  <a:lnTo>
                    <a:pt x="214" y="679"/>
                  </a:lnTo>
                  <a:lnTo>
                    <a:pt x="223" y="712"/>
                  </a:lnTo>
                  <a:lnTo>
                    <a:pt x="210" y="717"/>
                  </a:lnTo>
                  <a:lnTo>
                    <a:pt x="196" y="720"/>
                  </a:lnTo>
                  <a:lnTo>
                    <a:pt x="181" y="723"/>
                  </a:lnTo>
                  <a:lnTo>
                    <a:pt x="164" y="725"/>
                  </a:lnTo>
                  <a:lnTo>
                    <a:pt x="150" y="725"/>
                  </a:lnTo>
                  <a:lnTo>
                    <a:pt x="135" y="723"/>
                  </a:lnTo>
                  <a:lnTo>
                    <a:pt x="120" y="722"/>
                  </a:lnTo>
                  <a:lnTo>
                    <a:pt x="105" y="718"/>
                  </a:lnTo>
                  <a:lnTo>
                    <a:pt x="105" y="692"/>
                  </a:lnTo>
                  <a:lnTo>
                    <a:pt x="104" y="666"/>
                  </a:lnTo>
                  <a:lnTo>
                    <a:pt x="100" y="641"/>
                  </a:lnTo>
                  <a:lnTo>
                    <a:pt x="94" y="617"/>
                  </a:lnTo>
                  <a:lnTo>
                    <a:pt x="84" y="594"/>
                  </a:lnTo>
                  <a:lnTo>
                    <a:pt x="73" y="571"/>
                  </a:lnTo>
                  <a:lnTo>
                    <a:pt x="56" y="553"/>
                  </a:lnTo>
                  <a:lnTo>
                    <a:pt x="38" y="535"/>
                  </a:lnTo>
                  <a:lnTo>
                    <a:pt x="28" y="497"/>
                  </a:lnTo>
                  <a:lnTo>
                    <a:pt x="22" y="459"/>
                  </a:lnTo>
                  <a:lnTo>
                    <a:pt x="14" y="421"/>
                  </a:lnTo>
                  <a:lnTo>
                    <a:pt x="0" y="385"/>
                  </a:lnTo>
                  <a:lnTo>
                    <a:pt x="5" y="354"/>
                  </a:lnTo>
                  <a:lnTo>
                    <a:pt x="17" y="325"/>
                  </a:lnTo>
                  <a:lnTo>
                    <a:pt x="30" y="297"/>
                  </a:lnTo>
                  <a:lnTo>
                    <a:pt x="41" y="269"/>
                  </a:lnTo>
                  <a:lnTo>
                    <a:pt x="53" y="277"/>
                  </a:lnTo>
                  <a:lnTo>
                    <a:pt x="59" y="289"/>
                  </a:lnTo>
                  <a:lnTo>
                    <a:pt x="63" y="302"/>
                  </a:lnTo>
                  <a:lnTo>
                    <a:pt x="63" y="315"/>
                  </a:lnTo>
                  <a:lnTo>
                    <a:pt x="63" y="335"/>
                  </a:lnTo>
                  <a:lnTo>
                    <a:pt x="56" y="349"/>
                  </a:lnTo>
                  <a:lnTo>
                    <a:pt x="45" y="362"/>
                  </a:lnTo>
                  <a:lnTo>
                    <a:pt x="38" y="377"/>
                  </a:lnTo>
                  <a:lnTo>
                    <a:pt x="46" y="382"/>
                  </a:lnTo>
                  <a:lnTo>
                    <a:pt x="56" y="384"/>
                  </a:lnTo>
                  <a:lnTo>
                    <a:pt x="68" y="384"/>
                  </a:lnTo>
                  <a:lnTo>
                    <a:pt x="78" y="389"/>
                  </a:lnTo>
                  <a:lnTo>
                    <a:pt x="89" y="400"/>
                  </a:lnTo>
                  <a:lnTo>
                    <a:pt x="94" y="415"/>
                  </a:lnTo>
                  <a:lnTo>
                    <a:pt x="100" y="426"/>
                  </a:lnTo>
                  <a:lnTo>
                    <a:pt x="115" y="426"/>
                  </a:lnTo>
                  <a:lnTo>
                    <a:pt x="117" y="415"/>
                  </a:lnTo>
                  <a:lnTo>
                    <a:pt x="114" y="403"/>
                  </a:lnTo>
                  <a:lnTo>
                    <a:pt x="109" y="394"/>
                  </a:lnTo>
                  <a:lnTo>
                    <a:pt x="102" y="384"/>
                  </a:lnTo>
                  <a:lnTo>
                    <a:pt x="96" y="374"/>
                  </a:lnTo>
                  <a:lnTo>
                    <a:pt x="91" y="366"/>
                  </a:lnTo>
                  <a:lnTo>
                    <a:pt x="89" y="358"/>
                  </a:lnTo>
                  <a:lnTo>
                    <a:pt x="92" y="349"/>
                  </a:lnTo>
                  <a:lnTo>
                    <a:pt x="99" y="351"/>
                  </a:lnTo>
                  <a:lnTo>
                    <a:pt x="105" y="354"/>
                  </a:lnTo>
                  <a:lnTo>
                    <a:pt x="112" y="359"/>
                  </a:lnTo>
                  <a:lnTo>
                    <a:pt x="119" y="366"/>
                  </a:lnTo>
                  <a:lnTo>
                    <a:pt x="123" y="371"/>
                  </a:lnTo>
                  <a:lnTo>
                    <a:pt x="132" y="374"/>
                  </a:lnTo>
                  <a:lnTo>
                    <a:pt x="138" y="372"/>
                  </a:lnTo>
                  <a:lnTo>
                    <a:pt x="148" y="367"/>
                  </a:lnTo>
                  <a:lnTo>
                    <a:pt x="158" y="366"/>
                  </a:lnTo>
                  <a:lnTo>
                    <a:pt x="168" y="366"/>
                  </a:lnTo>
                  <a:lnTo>
                    <a:pt x="178" y="369"/>
                  </a:lnTo>
                  <a:lnTo>
                    <a:pt x="186" y="372"/>
                  </a:lnTo>
                  <a:lnTo>
                    <a:pt x="194" y="376"/>
                  </a:lnTo>
                  <a:lnTo>
                    <a:pt x="201" y="382"/>
                  </a:lnTo>
                  <a:lnTo>
                    <a:pt x="209" y="387"/>
                  </a:lnTo>
                  <a:lnTo>
                    <a:pt x="215" y="394"/>
                  </a:lnTo>
                  <a:lnTo>
                    <a:pt x="219" y="394"/>
                  </a:lnTo>
                  <a:lnTo>
                    <a:pt x="223" y="394"/>
                  </a:lnTo>
                  <a:lnTo>
                    <a:pt x="227" y="394"/>
                  </a:lnTo>
                  <a:lnTo>
                    <a:pt x="228" y="390"/>
                  </a:lnTo>
                  <a:lnTo>
                    <a:pt x="219" y="372"/>
                  </a:lnTo>
                  <a:lnTo>
                    <a:pt x="205" y="361"/>
                  </a:lnTo>
                  <a:lnTo>
                    <a:pt x="191" y="353"/>
                  </a:lnTo>
                  <a:lnTo>
                    <a:pt x="173" y="348"/>
                  </a:lnTo>
                  <a:lnTo>
                    <a:pt x="155" y="344"/>
                  </a:lnTo>
                  <a:lnTo>
                    <a:pt x="137" y="340"/>
                  </a:lnTo>
                  <a:lnTo>
                    <a:pt x="120" y="333"/>
                  </a:lnTo>
                  <a:lnTo>
                    <a:pt x="105" y="320"/>
                  </a:lnTo>
                  <a:lnTo>
                    <a:pt x="97" y="317"/>
                  </a:lnTo>
                  <a:lnTo>
                    <a:pt x="96" y="310"/>
                  </a:lnTo>
                  <a:lnTo>
                    <a:pt x="96" y="300"/>
                  </a:lnTo>
                  <a:lnTo>
                    <a:pt x="92" y="292"/>
                  </a:lnTo>
                  <a:lnTo>
                    <a:pt x="89" y="281"/>
                  </a:lnTo>
                  <a:lnTo>
                    <a:pt x="82" y="267"/>
                  </a:lnTo>
                  <a:lnTo>
                    <a:pt x="84" y="258"/>
                  </a:lnTo>
                  <a:lnTo>
                    <a:pt x="97" y="249"/>
                  </a:lnTo>
                  <a:lnTo>
                    <a:pt x="102" y="248"/>
                  </a:lnTo>
                  <a:lnTo>
                    <a:pt x="107" y="246"/>
                  </a:lnTo>
                  <a:lnTo>
                    <a:pt x="112" y="244"/>
                  </a:lnTo>
                  <a:lnTo>
                    <a:pt x="115" y="241"/>
                  </a:lnTo>
                  <a:lnTo>
                    <a:pt x="117" y="236"/>
                  </a:lnTo>
                  <a:lnTo>
                    <a:pt x="115" y="233"/>
                  </a:lnTo>
                  <a:lnTo>
                    <a:pt x="112" y="231"/>
                  </a:lnTo>
                  <a:lnTo>
                    <a:pt x="109" y="228"/>
                  </a:lnTo>
                  <a:lnTo>
                    <a:pt x="102" y="202"/>
                  </a:lnTo>
                  <a:lnTo>
                    <a:pt x="92" y="176"/>
                  </a:lnTo>
                  <a:lnTo>
                    <a:pt x="82" y="148"/>
                  </a:lnTo>
                  <a:lnTo>
                    <a:pt x="79" y="120"/>
                  </a:lnTo>
                  <a:lnTo>
                    <a:pt x="76" y="102"/>
                  </a:lnTo>
                  <a:lnTo>
                    <a:pt x="81" y="85"/>
                  </a:lnTo>
                  <a:lnTo>
                    <a:pt x="87" y="69"/>
                  </a:lnTo>
                  <a:lnTo>
                    <a:pt x="84" y="49"/>
                  </a:lnTo>
                  <a:lnTo>
                    <a:pt x="76" y="38"/>
                  </a:lnTo>
                  <a:lnTo>
                    <a:pt x="78" y="25"/>
                  </a:lnTo>
                  <a:lnTo>
                    <a:pt x="84" y="13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67720" y="4178160"/>
              <a:ext cx="51120" cy="161640"/>
            </a:xfrm>
            <a:custGeom>
              <a:avLst/>
              <a:gdLst/>
              <a:ahLst/>
              <a:rect l="l" t="t" r="r" b="b"/>
              <a:pathLst>
                <a:path w="62" h="199">
                  <a:moveTo>
                    <a:pt x="38" y="5"/>
                  </a:moveTo>
                  <a:lnTo>
                    <a:pt x="41" y="28"/>
                  </a:lnTo>
                  <a:lnTo>
                    <a:pt x="33" y="46"/>
                  </a:lnTo>
                  <a:lnTo>
                    <a:pt x="26" y="66"/>
                  </a:lnTo>
                  <a:lnTo>
                    <a:pt x="31" y="87"/>
                  </a:lnTo>
                  <a:lnTo>
                    <a:pt x="39" y="110"/>
                  </a:lnTo>
                  <a:lnTo>
                    <a:pt x="46" y="135"/>
                  </a:lnTo>
                  <a:lnTo>
                    <a:pt x="54" y="160"/>
                  </a:lnTo>
                  <a:lnTo>
                    <a:pt x="62" y="182"/>
                  </a:lnTo>
                  <a:lnTo>
                    <a:pt x="49" y="189"/>
                  </a:lnTo>
                  <a:lnTo>
                    <a:pt x="39" y="196"/>
                  </a:lnTo>
                  <a:lnTo>
                    <a:pt x="28" y="199"/>
                  </a:lnTo>
                  <a:lnTo>
                    <a:pt x="15" y="192"/>
                  </a:lnTo>
                  <a:lnTo>
                    <a:pt x="7" y="145"/>
                  </a:lnTo>
                  <a:lnTo>
                    <a:pt x="0" y="97"/>
                  </a:lnTo>
                  <a:lnTo>
                    <a:pt x="3" y="50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2400" y="4230360"/>
              <a:ext cx="48960" cy="12744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58" y="0"/>
                  </a:moveTo>
                  <a:lnTo>
                    <a:pt x="61" y="28"/>
                  </a:lnTo>
                  <a:lnTo>
                    <a:pt x="51" y="55"/>
                  </a:lnTo>
                  <a:lnTo>
                    <a:pt x="38" y="81"/>
                  </a:lnTo>
                  <a:lnTo>
                    <a:pt x="33" y="109"/>
                  </a:lnTo>
                  <a:lnTo>
                    <a:pt x="35" y="118"/>
                  </a:lnTo>
                  <a:lnTo>
                    <a:pt x="35" y="132"/>
                  </a:lnTo>
                  <a:lnTo>
                    <a:pt x="33" y="145"/>
                  </a:lnTo>
                  <a:lnTo>
                    <a:pt x="31" y="156"/>
                  </a:lnTo>
                  <a:lnTo>
                    <a:pt x="20" y="150"/>
                  </a:lnTo>
                  <a:lnTo>
                    <a:pt x="7" y="141"/>
                  </a:lnTo>
                  <a:lnTo>
                    <a:pt x="0" y="128"/>
                  </a:lnTo>
                  <a:lnTo>
                    <a:pt x="5" y="112"/>
                  </a:lnTo>
                  <a:lnTo>
                    <a:pt x="10" y="97"/>
                  </a:lnTo>
                  <a:lnTo>
                    <a:pt x="13" y="81"/>
                  </a:lnTo>
                  <a:lnTo>
                    <a:pt x="17" y="64"/>
                  </a:lnTo>
                  <a:lnTo>
                    <a:pt x="21" y="50"/>
                  </a:lnTo>
                  <a:lnTo>
                    <a:pt x="26" y="35"/>
                  </a:lnTo>
                  <a:lnTo>
                    <a:pt x="35" y="22"/>
                  </a:lnTo>
                  <a:lnTo>
                    <a:pt x="44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6640" y="4485240"/>
              <a:ext cx="62640" cy="669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76" y="56"/>
                  </a:moveTo>
                  <a:lnTo>
                    <a:pt x="74" y="62"/>
                  </a:lnTo>
                  <a:lnTo>
                    <a:pt x="74" y="70"/>
                  </a:lnTo>
                  <a:lnTo>
                    <a:pt x="73" y="77"/>
                  </a:lnTo>
                  <a:lnTo>
                    <a:pt x="69" y="82"/>
                  </a:lnTo>
                  <a:lnTo>
                    <a:pt x="54" y="72"/>
                  </a:lnTo>
                  <a:lnTo>
                    <a:pt x="46" y="56"/>
                  </a:lnTo>
                  <a:lnTo>
                    <a:pt x="40" y="39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8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30" y="3"/>
                  </a:lnTo>
                  <a:lnTo>
                    <a:pt x="45" y="13"/>
                  </a:lnTo>
                  <a:lnTo>
                    <a:pt x="56" y="26"/>
                  </a:lnTo>
                  <a:lnTo>
                    <a:pt x="68" y="41"/>
                  </a:lnTo>
                  <a:lnTo>
                    <a:pt x="7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15600" y="4720680"/>
              <a:ext cx="181080" cy="132120"/>
            </a:xfrm>
            <a:custGeom>
              <a:avLst/>
              <a:gdLst/>
              <a:ahLst/>
              <a:rect l="l" t="t" r="r" b="b"/>
              <a:pathLst>
                <a:path w="219" h="161">
                  <a:moveTo>
                    <a:pt x="203" y="127"/>
                  </a:moveTo>
                  <a:lnTo>
                    <a:pt x="186" y="140"/>
                  </a:lnTo>
                  <a:lnTo>
                    <a:pt x="170" y="148"/>
                  </a:lnTo>
                  <a:lnTo>
                    <a:pt x="150" y="155"/>
                  </a:lnTo>
                  <a:lnTo>
                    <a:pt x="131" y="160"/>
                  </a:lnTo>
                  <a:lnTo>
                    <a:pt x="111" y="161"/>
                  </a:lnTo>
                  <a:lnTo>
                    <a:pt x="91" y="160"/>
                  </a:lnTo>
                  <a:lnTo>
                    <a:pt x="72" y="156"/>
                  </a:lnTo>
                  <a:lnTo>
                    <a:pt x="54" y="151"/>
                  </a:lnTo>
                  <a:lnTo>
                    <a:pt x="42" y="146"/>
                  </a:lnTo>
                  <a:lnTo>
                    <a:pt x="31" y="141"/>
                  </a:lnTo>
                  <a:lnTo>
                    <a:pt x="19" y="135"/>
                  </a:lnTo>
                  <a:lnTo>
                    <a:pt x="13" y="125"/>
                  </a:lnTo>
                  <a:lnTo>
                    <a:pt x="13" y="102"/>
                  </a:lnTo>
                  <a:lnTo>
                    <a:pt x="11" y="81"/>
                  </a:lnTo>
                  <a:lnTo>
                    <a:pt x="6" y="58"/>
                  </a:lnTo>
                  <a:lnTo>
                    <a:pt x="0" y="37"/>
                  </a:lnTo>
                  <a:lnTo>
                    <a:pt x="21" y="41"/>
                  </a:lnTo>
                  <a:lnTo>
                    <a:pt x="42" y="45"/>
                  </a:lnTo>
                  <a:lnTo>
                    <a:pt x="63" y="46"/>
                  </a:lnTo>
                  <a:lnTo>
                    <a:pt x="85" y="45"/>
                  </a:lnTo>
                  <a:lnTo>
                    <a:pt x="106" y="43"/>
                  </a:lnTo>
                  <a:lnTo>
                    <a:pt x="127" y="40"/>
                  </a:lnTo>
                  <a:lnTo>
                    <a:pt x="149" y="35"/>
                  </a:lnTo>
                  <a:lnTo>
                    <a:pt x="168" y="30"/>
                  </a:lnTo>
                  <a:lnTo>
                    <a:pt x="178" y="23"/>
                  </a:lnTo>
                  <a:lnTo>
                    <a:pt x="188" y="17"/>
                  </a:lnTo>
                  <a:lnTo>
                    <a:pt x="198" y="10"/>
                  </a:lnTo>
                  <a:lnTo>
                    <a:pt x="206" y="0"/>
                  </a:lnTo>
                  <a:lnTo>
                    <a:pt x="214" y="30"/>
                  </a:lnTo>
                  <a:lnTo>
                    <a:pt x="219" y="64"/>
                  </a:lnTo>
                  <a:lnTo>
                    <a:pt x="218" y="99"/>
                  </a:lnTo>
                  <a:lnTo>
                    <a:pt x="203" y="127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5440" y="4752000"/>
              <a:ext cx="11160" cy="2916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13" y="35"/>
                  </a:moveTo>
                  <a:lnTo>
                    <a:pt x="11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" y="0"/>
                  </a:lnTo>
                  <a:lnTo>
                    <a:pt x="8" y="7"/>
                  </a:lnTo>
                  <a:lnTo>
                    <a:pt x="11" y="15"/>
                  </a:lnTo>
                  <a:lnTo>
                    <a:pt x="11" y="2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55640" y="4755240"/>
              <a:ext cx="11520" cy="71640"/>
            </a:xfrm>
            <a:custGeom>
              <a:avLst/>
              <a:gdLst/>
              <a:ahLst/>
              <a:rect l="l" t="t" r="r" b="b"/>
              <a:pathLst>
                <a:path w="13" h="89">
                  <a:moveTo>
                    <a:pt x="12" y="5"/>
                  </a:moveTo>
                  <a:lnTo>
                    <a:pt x="12" y="27"/>
                  </a:lnTo>
                  <a:lnTo>
                    <a:pt x="13" y="48"/>
                  </a:lnTo>
                  <a:lnTo>
                    <a:pt x="13" y="69"/>
                  </a:lnTo>
                  <a:lnTo>
                    <a:pt x="8" y="89"/>
                  </a:lnTo>
                  <a:lnTo>
                    <a:pt x="0" y="79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38640" y="4764960"/>
              <a:ext cx="17640" cy="65160"/>
            </a:xfrm>
            <a:custGeom>
              <a:avLst/>
              <a:gdLst/>
              <a:ahLst/>
              <a:rect l="l" t="t" r="r" b="b"/>
              <a:pathLst>
                <a:path w="23" h="78">
                  <a:moveTo>
                    <a:pt x="5" y="0"/>
                  </a:moveTo>
                  <a:lnTo>
                    <a:pt x="10" y="18"/>
                  </a:lnTo>
                  <a:lnTo>
                    <a:pt x="15" y="36"/>
                  </a:lnTo>
                  <a:lnTo>
                    <a:pt x="18" y="55"/>
                  </a:lnTo>
                  <a:lnTo>
                    <a:pt x="23" y="73"/>
                  </a:lnTo>
                  <a:lnTo>
                    <a:pt x="20" y="77"/>
                  </a:lnTo>
                  <a:lnTo>
                    <a:pt x="18" y="78"/>
                  </a:lnTo>
                  <a:lnTo>
                    <a:pt x="15" y="78"/>
                  </a:lnTo>
                  <a:lnTo>
                    <a:pt x="12" y="7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1320" y="4777920"/>
              <a:ext cx="10080" cy="3744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13" y="46"/>
                  </a:moveTo>
                  <a:lnTo>
                    <a:pt x="5" y="44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21"/>
                  </a:lnTo>
                  <a:lnTo>
                    <a:pt x="4" y="0"/>
                  </a:lnTo>
                  <a:lnTo>
                    <a:pt x="10" y="8"/>
                  </a:lnTo>
                  <a:lnTo>
                    <a:pt x="13" y="20"/>
                  </a:lnTo>
                  <a:lnTo>
                    <a:pt x="13" y="33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6400" y="4836600"/>
              <a:ext cx="1302840" cy="1612800"/>
            </a:xfrm>
            <a:custGeom>
              <a:avLst/>
              <a:gdLst/>
              <a:ahLst/>
              <a:rect l="l" t="t" r="r" b="b"/>
              <a:pathLst>
                <a:path w="1583" h="1974">
                  <a:moveTo>
                    <a:pt x="1553" y="114"/>
                  </a:moveTo>
                  <a:lnTo>
                    <a:pt x="1563" y="412"/>
                  </a:lnTo>
                  <a:lnTo>
                    <a:pt x="1566" y="460"/>
                  </a:lnTo>
                  <a:lnTo>
                    <a:pt x="1573" y="507"/>
                  </a:lnTo>
                  <a:lnTo>
                    <a:pt x="1578" y="555"/>
                  </a:lnTo>
                  <a:lnTo>
                    <a:pt x="1583" y="604"/>
                  </a:lnTo>
                  <a:lnTo>
                    <a:pt x="1570" y="642"/>
                  </a:lnTo>
                  <a:lnTo>
                    <a:pt x="1552" y="676"/>
                  </a:lnTo>
                  <a:lnTo>
                    <a:pt x="1532" y="712"/>
                  </a:lnTo>
                  <a:lnTo>
                    <a:pt x="1512" y="745"/>
                  </a:lnTo>
                  <a:lnTo>
                    <a:pt x="1491" y="779"/>
                  </a:lnTo>
                  <a:lnTo>
                    <a:pt x="1470" y="814"/>
                  </a:lnTo>
                  <a:lnTo>
                    <a:pt x="1452" y="848"/>
                  </a:lnTo>
                  <a:lnTo>
                    <a:pt x="1435" y="884"/>
                  </a:lnTo>
                  <a:lnTo>
                    <a:pt x="1302" y="1122"/>
                  </a:lnTo>
                  <a:lnTo>
                    <a:pt x="1289" y="1150"/>
                  </a:lnTo>
                  <a:lnTo>
                    <a:pt x="1278" y="1179"/>
                  </a:lnTo>
                  <a:lnTo>
                    <a:pt x="1266" y="1209"/>
                  </a:lnTo>
                  <a:lnTo>
                    <a:pt x="1258" y="1238"/>
                  </a:lnTo>
                  <a:lnTo>
                    <a:pt x="1243" y="1189"/>
                  </a:lnTo>
                  <a:lnTo>
                    <a:pt x="1234" y="1133"/>
                  </a:lnTo>
                  <a:lnTo>
                    <a:pt x="1229" y="1086"/>
                  </a:lnTo>
                  <a:lnTo>
                    <a:pt x="1224" y="1068"/>
                  </a:lnTo>
                  <a:lnTo>
                    <a:pt x="1209" y="1092"/>
                  </a:lnTo>
                  <a:lnTo>
                    <a:pt x="1204" y="1120"/>
                  </a:lnTo>
                  <a:lnTo>
                    <a:pt x="1206" y="1151"/>
                  </a:lnTo>
                  <a:lnTo>
                    <a:pt x="1207" y="1181"/>
                  </a:lnTo>
                  <a:lnTo>
                    <a:pt x="1216" y="1222"/>
                  </a:lnTo>
                  <a:lnTo>
                    <a:pt x="1227" y="1261"/>
                  </a:lnTo>
                  <a:lnTo>
                    <a:pt x="1240" y="1301"/>
                  </a:lnTo>
                  <a:lnTo>
                    <a:pt x="1253" y="1338"/>
                  </a:lnTo>
                  <a:lnTo>
                    <a:pt x="1268" y="1376"/>
                  </a:lnTo>
                  <a:lnTo>
                    <a:pt x="1284" y="1412"/>
                  </a:lnTo>
                  <a:lnTo>
                    <a:pt x="1299" y="1450"/>
                  </a:lnTo>
                  <a:lnTo>
                    <a:pt x="1316" y="1487"/>
                  </a:lnTo>
                  <a:lnTo>
                    <a:pt x="1355" y="1650"/>
                  </a:lnTo>
                  <a:lnTo>
                    <a:pt x="1383" y="1835"/>
                  </a:lnTo>
                  <a:lnTo>
                    <a:pt x="1375" y="1973"/>
                  </a:lnTo>
                  <a:lnTo>
                    <a:pt x="1352" y="1971"/>
                  </a:lnTo>
                  <a:lnTo>
                    <a:pt x="1355" y="1961"/>
                  </a:lnTo>
                  <a:lnTo>
                    <a:pt x="1357" y="1951"/>
                  </a:lnTo>
                  <a:lnTo>
                    <a:pt x="1357" y="1942"/>
                  </a:lnTo>
                  <a:lnTo>
                    <a:pt x="1353" y="1932"/>
                  </a:lnTo>
                  <a:lnTo>
                    <a:pt x="1360" y="1910"/>
                  </a:lnTo>
                  <a:lnTo>
                    <a:pt x="1360" y="1888"/>
                  </a:lnTo>
                  <a:lnTo>
                    <a:pt x="1357" y="1866"/>
                  </a:lnTo>
                  <a:lnTo>
                    <a:pt x="1357" y="1845"/>
                  </a:lnTo>
                  <a:lnTo>
                    <a:pt x="1363" y="1835"/>
                  </a:lnTo>
                  <a:lnTo>
                    <a:pt x="1365" y="1824"/>
                  </a:lnTo>
                  <a:lnTo>
                    <a:pt x="1365" y="1812"/>
                  </a:lnTo>
                  <a:lnTo>
                    <a:pt x="1365" y="1802"/>
                  </a:lnTo>
                  <a:lnTo>
                    <a:pt x="1353" y="1791"/>
                  </a:lnTo>
                  <a:lnTo>
                    <a:pt x="1340" y="1784"/>
                  </a:lnTo>
                  <a:lnTo>
                    <a:pt x="1325" y="1781"/>
                  </a:lnTo>
                  <a:lnTo>
                    <a:pt x="1309" y="1781"/>
                  </a:lnTo>
                  <a:lnTo>
                    <a:pt x="1293" y="1779"/>
                  </a:lnTo>
                  <a:lnTo>
                    <a:pt x="1276" y="1778"/>
                  </a:lnTo>
                  <a:lnTo>
                    <a:pt x="1261" y="1773"/>
                  </a:lnTo>
                  <a:lnTo>
                    <a:pt x="1250" y="1763"/>
                  </a:lnTo>
                  <a:lnTo>
                    <a:pt x="1234" y="1753"/>
                  </a:lnTo>
                  <a:lnTo>
                    <a:pt x="1217" y="1745"/>
                  </a:lnTo>
                  <a:lnTo>
                    <a:pt x="1199" y="1742"/>
                  </a:lnTo>
                  <a:lnTo>
                    <a:pt x="1183" y="1740"/>
                  </a:lnTo>
                  <a:lnTo>
                    <a:pt x="1166" y="1740"/>
                  </a:lnTo>
                  <a:lnTo>
                    <a:pt x="1150" y="1743"/>
                  </a:lnTo>
                  <a:lnTo>
                    <a:pt x="1133" y="1747"/>
                  </a:lnTo>
                  <a:lnTo>
                    <a:pt x="1117" y="1751"/>
                  </a:lnTo>
                  <a:lnTo>
                    <a:pt x="1101" y="1756"/>
                  </a:lnTo>
                  <a:lnTo>
                    <a:pt x="1084" y="1761"/>
                  </a:lnTo>
                  <a:lnTo>
                    <a:pt x="1068" y="1766"/>
                  </a:lnTo>
                  <a:lnTo>
                    <a:pt x="1050" y="1771"/>
                  </a:lnTo>
                  <a:lnTo>
                    <a:pt x="1033" y="1776"/>
                  </a:lnTo>
                  <a:lnTo>
                    <a:pt x="1015" y="1779"/>
                  </a:lnTo>
                  <a:lnTo>
                    <a:pt x="999" y="1779"/>
                  </a:lnTo>
                  <a:lnTo>
                    <a:pt x="981" y="1779"/>
                  </a:lnTo>
                  <a:lnTo>
                    <a:pt x="963" y="1781"/>
                  </a:lnTo>
                  <a:lnTo>
                    <a:pt x="947" y="1779"/>
                  </a:lnTo>
                  <a:lnTo>
                    <a:pt x="930" y="1778"/>
                  </a:lnTo>
                  <a:lnTo>
                    <a:pt x="914" y="1776"/>
                  </a:lnTo>
                  <a:lnTo>
                    <a:pt x="897" y="1774"/>
                  </a:lnTo>
                  <a:lnTo>
                    <a:pt x="881" y="1774"/>
                  </a:lnTo>
                  <a:lnTo>
                    <a:pt x="865" y="1774"/>
                  </a:lnTo>
                  <a:lnTo>
                    <a:pt x="848" y="1778"/>
                  </a:lnTo>
                  <a:lnTo>
                    <a:pt x="840" y="1774"/>
                  </a:lnTo>
                  <a:lnTo>
                    <a:pt x="833" y="1773"/>
                  </a:lnTo>
                  <a:lnTo>
                    <a:pt x="825" y="1773"/>
                  </a:lnTo>
                  <a:lnTo>
                    <a:pt x="819" y="1774"/>
                  </a:lnTo>
                  <a:lnTo>
                    <a:pt x="810" y="1776"/>
                  </a:lnTo>
                  <a:lnTo>
                    <a:pt x="804" y="1778"/>
                  </a:lnTo>
                  <a:lnTo>
                    <a:pt x="796" y="1778"/>
                  </a:lnTo>
                  <a:lnTo>
                    <a:pt x="787" y="1778"/>
                  </a:lnTo>
                  <a:lnTo>
                    <a:pt x="769" y="1773"/>
                  </a:lnTo>
                  <a:lnTo>
                    <a:pt x="763" y="1758"/>
                  </a:lnTo>
                  <a:lnTo>
                    <a:pt x="756" y="1743"/>
                  </a:lnTo>
                  <a:lnTo>
                    <a:pt x="743" y="1733"/>
                  </a:lnTo>
                  <a:lnTo>
                    <a:pt x="722" y="1725"/>
                  </a:lnTo>
                  <a:lnTo>
                    <a:pt x="699" y="1720"/>
                  </a:lnTo>
                  <a:lnTo>
                    <a:pt x="674" y="1717"/>
                  </a:lnTo>
                  <a:lnTo>
                    <a:pt x="650" y="1715"/>
                  </a:lnTo>
                  <a:lnTo>
                    <a:pt x="625" y="1714"/>
                  </a:lnTo>
                  <a:lnTo>
                    <a:pt x="600" y="1714"/>
                  </a:lnTo>
                  <a:lnTo>
                    <a:pt x="576" y="1714"/>
                  </a:lnTo>
                  <a:lnTo>
                    <a:pt x="551" y="1714"/>
                  </a:lnTo>
                  <a:lnTo>
                    <a:pt x="538" y="1714"/>
                  </a:lnTo>
                  <a:lnTo>
                    <a:pt x="523" y="1715"/>
                  </a:lnTo>
                  <a:lnTo>
                    <a:pt x="510" y="1715"/>
                  </a:lnTo>
                  <a:lnTo>
                    <a:pt x="496" y="1715"/>
                  </a:lnTo>
                  <a:lnTo>
                    <a:pt x="482" y="1714"/>
                  </a:lnTo>
                  <a:lnTo>
                    <a:pt x="468" y="1712"/>
                  </a:lnTo>
                  <a:lnTo>
                    <a:pt x="456" y="1707"/>
                  </a:lnTo>
                  <a:lnTo>
                    <a:pt x="445" y="1701"/>
                  </a:lnTo>
                  <a:lnTo>
                    <a:pt x="438" y="1663"/>
                  </a:lnTo>
                  <a:lnTo>
                    <a:pt x="433" y="1624"/>
                  </a:lnTo>
                  <a:lnTo>
                    <a:pt x="430" y="1584"/>
                  </a:lnTo>
                  <a:lnTo>
                    <a:pt x="423" y="1545"/>
                  </a:lnTo>
                  <a:lnTo>
                    <a:pt x="415" y="1507"/>
                  </a:lnTo>
                  <a:lnTo>
                    <a:pt x="404" y="1471"/>
                  </a:lnTo>
                  <a:lnTo>
                    <a:pt x="386" y="1437"/>
                  </a:lnTo>
                  <a:lnTo>
                    <a:pt x="361" y="1406"/>
                  </a:lnTo>
                  <a:lnTo>
                    <a:pt x="336" y="1386"/>
                  </a:lnTo>
                  <a:lnTo>
                    <a:pt x="313" y="1365"/>
                  </a:lnTo>
                  <a:lnTo>
                    <a:pt x="291" y="1343"/>
                  </a:lnTo>
                  <a:lnTo>
                    <a:pt x="269" y="1320"/>
                  </a:lnTo>
                  <a:lnTo>
                    <a:pt x="246" y="1297"/>
                  </a:lnTo>
                  <a:lnTo>
                    <a:pt x="225" y="1274"/>
                  </a:lnTo>
                  <a:lnTo>
                    <a:pt x="204" y="1253"/>
                  </a:lnTo>
                  <a:lnTo>
                    <a:pt x="182" y="1230"/>
                  </a:lnTo>
                  <a:lnTo>
                    <a:pt x="179" y="1230"/>
                  </a:lnTo>
                  <a:lnTo>
                    <a:pt x="176" y="1232"/>
                  </a:lnTo>
                  <a:lnTo>
                    <a:pt x="174" y="1233"/>
                  </a:lnTo>
                  <a:lnTo>
                    <a:pt x="171" y="1235"/>
                  </a:lnTo>
                  <a:lnTo>
                    <a:pt x="184" y="1269"/>
                  </a:lnTo>
                  <a:lnTo>
                    <a:pt x="204" y="1299"/>
                  </a:lnTo>
                  <a:lnTo>
                    <a:pt x="228" y="1328"/>
                  </a:lnTo>
                  <a:lnTo>
                    <a:pt x="256" y="1355"/>
                  </a:lnTo>
                  <a:lnTo>
                    <a:pt x="284" y="1383"/>
                  </a:lnTo>
                  <a:lnTo>
                    <a:pt x="312" y="1410"/>
                  </a:lnTo>
                  <a:lnTo>
                    <a:pt x="335" y="1440"/>
                  </a:lnTo>
                  <a:lnTo>
                    <a:pt x="354" y="1473"/>
                  </a:lnTo>
                  <a:lnTo>
                    <a:pt x="379" y="1524"/>
                  </a:lnTo>
                  <a:lnTo>
                    <a:pt x="389" y="1579"/>
                  </a:lnTo>
                  <a:lnTo>
                    <a:pt x="392" y="1637"/>
                  </a:lnTo>
                  <a:lnTo>
                    <a:pt x="395" y="1696"/>
                  </a:lnTo>
                  <a:lnTo>
                    <a:pt x="364" y="1709"/>
                  </a:lnTo>
                  <a:lnTo>
                    <a:pt x="332" y="1722"/>
                  </a:lnTo>
                  <a:lnTo>
                    <a:pt x="300" y="1738"/>
                  </a:lnTo>
                  <a:lnTo>
                    <a:pt x="271" y="1756"/>
                  </a:lnTo>
                  <a:lnTo>
                    <a:pt x="243" y="1778"/>
                  </a:lnTo>
                  <a:lnTo>
                    <a:pt x="218" y="1801"/>
                  </a:lnTo>
                  <a:lnTo>
                    <a:pt x="195" y="1828"/>
                  </a:lnTo>
                  <a:lnTo>
                    <a:pt x="177" y="1860"/>
                  </a:lnTo>
                  <a:lnTo>
                    <a:pt x="176" y="1866"/>
                  </a:lnTo>
                  <a:lnTo>
                    <a:pt x="174" y="1874"/>
                  </a:lnTo>
                  <a:lnTo>
                    <a:pt x="176" y="1883"/>
                  </a:lnTo>
                  <a:lnTo>
                    <a:pt x="181" y="1889"/>
                  </a:lnTo>
                  <a:lnTo>
                    <a:pt x="192" y="1886"/>
                  </a:lnTo>
                  <a:lnTo>
                    <a:pt x="197" y="1876"/>
                  </a:lnTo>
                  <a:lnTo>
                    <a:pt x="200" y="1865"/>
                  </a:lnTo>
                  <a:lnTo>
                    <a:pt x="208" y="1856"/>
                  </a:lnTo>
                  <a:lnTo>
                    <a:pt x="230" y="1837"/>
                  </a:lnTo>
                  <a:lnTo>
                    <a:pt x="251" y="1817"/>
                  </a:lnTo>
                  <a:lnTo>
                    <a:pt x="274" y="1799"/>
                  </a:lnTo>
                  <a:lnTo>
                    <a:pt x="299" y="1781"/>
                  </a:lnTo>
                  <a:lnTo>
                    <a:pt x="322" y="1766"/>
                  </a:lnTo>
                  <a:lnTo>
                    <a:pt x="348" y="1753"/>
                  </a:lnTo>
                  <a:lnTo>
                    <a:pt x="373" y="1740"/>
                  </a:lnTo>
                  <a:lnTo>
                    <a:pt x="399" y="1730"/>
                  </a:lnTo>
                  <a:lnTo>
                    <a:pt x="404" y="1730"/>
                  </a:lnTo>
                  <a:lnTo>
                    <a:pt x="407" y="1732"/>
                  </a:lnTo>
                  <a:lnTo>
                    <a:pt x="410" y="1733"/>
                  </a:lnTo>
                  <a:lnTo>
                    <a:pt x="415" y="1733"/>
                  </a:lnTo>
                  <a:lnTo>
                    <a:pt x="377" y="1761"/>
                  </a:lnTo>
                  <a:lnTo>
                    <a:pt x="350" y="1791"/>
                  </a:lnTo>
                  <a:lnTo>
                    <a:pt x="328" y="1822"/>
                  </a:lnTo>
                  <a:lnTo>
                    <a:pt x="315" y="1851"/>
                  </a:lnTo>
                  <a:lnTo>
                    <a:pt x="307" y="1878"/>
                  </a:lnTo>
                  <a:lnTo>
                    <a:pt x="304" y="1899"/>
                  </a:lnTo>
                  <a:lnTo>
                    <a:pt x="302" y="1914"/>
                  </a:lnTo>
                  <a:lnTo>
                    <a:pt x="304" y="1920"/>
                  </a:lnTo>
                  <a:lnTo>
                    <a:pt x="312" y="1910"/>
                  </a:lnTo>
                  <a:lnTo>
                    <a:pt x="325" y="1888"/>
                  </a:lnTo>
                  <a:lnTo>
                    <a:pt x="338" y="1860"/>
                  </a:lnTo>
                  <a:lnTo>
                    <a:pt x="350" y="1835"/>
                  </a:lnTo>
                  <a:lnTo>
                    <a:pt x="361" y="1820"/>
                  </a:lnTo>
                  <a:lnTo>
                    <a:pt x="374" y="1806"/>
                  </a:lnTo>
                  <a:lnTo>
                    <a:pt x="387" y="1791"/>
                  </a:lnTo>
                  <a:lnTo>
                    <a:pt x="402" y="1778"/>
                  </a:lnTo>
                  <a:lnTo>
                    <a:pt x="418" y="1768"/>
                  </a:lnTo>
                  <a:lnTo>
                    <a:pt x="435" y="1760"/>
                  </a:lnTo>
                  <a:lnTo>
                    <a:pt x="455" y="1758"/>
                  </a:lnTo>
                  <a:lnTo>
                    <a:pt x="474" y="1761"/>
                  </a:lnTo>
                  <a:lnTo>
                    <a:pt x="491" y="1766"/>
                  </a:lnTo>
                  <a:lnTo>
                    <a:pt x="507" y="1769"/>
                  </a:lnTo>
                  <a:lnTo>
                    <a:pt x="523" y="1771"/>
                  </a:lnTo>
                  <a:lnTo>
                    <a:pt x="540" y="1773"/>
                  </a:lnTo>
                  <a:lnTo>
                    <a:pt x="556" y="1771"/>
                  </a:lnTo>
                  <a:lnTo>
                    <a:pt x="573" y="1769"/>
                  </a:lnTo>
                  <a:lnTo>
                    <a:pt x="591" y="1768"/>
                  </a:lnTo>
                  <a:lnTo>
                    <a:pt x="607" y="1766"/>
                  </a:lnTo>
                  <a:lnTo>
                    <a:pt x="623" y="1765"/>
                  </a:lnTo>
                  <a:lnTo>
                    <a:pt x="641" y="1765"/>
                  </a:lnTo>
                  <a:lnTo>
                    <a:pt x="658" y="1763"/>
                  </a:lnTo>
                  <a:lnTo>
                    <a:pt x="674" y="1765"/>
                  </a:lnTo>
                  <a:lnTo>
                    <a:pt x="691" y="1768"/>
                  </a:lnTo>
                  <a:lnTo>
                    <a:pt x="705" y="1771"/>
                  </a:lnTo>
                  <a:lnTo>
                    <a:pt x="722" y="1778"/>
                  </a:lnTo>
                  <a:lnTo>
                    <a:pt x="737" y="1788"/>
                  </a:lnTo>
                  <a:lnTo>
                    <a:pt x="728" y="1797"/>
                  </a:lnTo>
                  <a:lnTo>
                    <a:pt x="720" y="1807"/>
                  </a:lnTo>
                  <a:lnTo>
                    <a:pt x="710" y="1819"/>
                  </a:lnTo>
                  <a:lnTo>
                    <a:pt x="701" y="1828"/>
                  </a:lnTo>
                  <a:lnTo>
                    <a:pt x="681" y="1861"/>
                  </a:lnTo>
                  <a:lnTo>
                    <a:pt x="669" y="1897"/>
                  </a:lnTo>
                  <a:lnTo>
                    <a:pt x="664" y="1935"/>
                  </a:lnTo>
                  <a:lnTo>
                    <a:pt x="668" y="1973"/>
                  </a:lnTo>
                  <a:lnTo>
                    <a:pt x="46" y="1974"/>
                  </a:lnTo>
                  <a:lnTo>
                    <a:pt x="26" y="1904"/>
                  </a:lnTo>
                  <a:lnTo>
                    <a:pt x="13" y="1830"/>
                  </a:lnTo>
                  <a:lnTo>
                    <a:pt x="5" y="1755"/>
                  </a:lnTo>
                  <a:lnTo>
                    <a:pt x="0" y="1679"/>
                  </a:lnTo>
                  <a:lnTo>
                    <a:pt x="2" y="1519"/>
                  </a:lnTo>
                  <a:lnTo>
                    <a:pt x="7" y="1481"/>
                  </a:lnTo>
                  <a:lnTo>
                    <a:pt x="13" y="1443"/>
                  </a:lnTo>
                  <a:lnTo>
                    <a:pt x="20" y="1406"/>
                  </a:lnTo>
                  <a:lnTo>
                    <a:pt x="28" y="1368"/>
                  </a:lnTo>
                  <a:lnTo>
                    <a:pt x="36" y="1332"/>
                  </a:lnTo>
                  <a:lnTo>
                    <a:pt x="46" y="1296"/>
                  </a:lnTo>
                  <a:lnTo>
                    <a:pt x="56" y="1260"/>
                  </a:lnTo>
                  <a:lnTo>
                    <a:pt x="67" y="1224"/>
                  </a:lnTo>
                  <a:lnTo>
                    <a:pt x="85" y="1204"/>
                  </a:lnTo>
                  <a:lnTo>
                    <a:pt x="107" y="1186"/>
                  </a:lnTo>
                  <a:lnTo>
                    <a:pt x="128" y="1171"/>
                  </a:lnTo>
                  <a:lnTo>
                    <a:pt x="151" y="1158"/>
                  </a:lnTo>
                  <a:lnTo>
                    <a:pt x="176" y="1146"/>
                  </a:lnTo>
                  <a:lnTo>
                    <a:pt x="200" y="1135"/>
                  </a:lnTo>
                  <a:lnTo>
                    <a:pt x="225" y="1125"/>
                  </a:lnTo>
                  <a:lnTo>
                    <a:pt x="249" y="1114"/>
                  </a:lnTo>
                  <a:lnTo>
                    <a:pt x="272" y="1104"/>
                  </a:lnTo>
                  <a:lnTo>
                    <a:pt x="295" y="1091"/>
                  </a:lnTo>
                  <a:lnTo>
                    <a:pt x="317" y="1078"/>
                  </a:lnTo>
                  <a:lnTo>
                    <a:pt x="338" y="1063"/>
                  </a:lnTo>
                  <a:lnTo>
                    <a:pt x="354" y="1045"/>
                  </a:lnTo>
                  <a:lnTo>
                    <a:pt x="371" y="1024"/>
                  </a:lnTo>
                  <a:lnTo>
                    <a:pt x="382" y="999"/>
                  </a:lnTo>
                  <a:lnTo>
                    <a:pt x="392" y="971"/>
                  </a:lnTo>
                  <a:lnTo>
                    <a:pt x="402" y="960"/>
                  </a:lnTo>
                  <a:lnTo>
                    <a:pt x="407" y="951"/>
                  </a:lnTo>
                  <a:lnTo>
                    <a:pt x="410" y="943"/>
                  </a:lnTo>
                  <a:lnTo>
                    <a:pt x="415" y="938"/>
                  </a:lnTo>
                  <a:lnTo>
                    <a:pt x="420" y="963"/>
                  </a:lnTo>
                  <a:lnTo>
                    <a:pt x="430" y="984"/>
                  </a:lnTo>
                  <a:lnTo>
                    <a:pt x="446" y="1002"/>
                  </a:lnTo>
                  <a:lnTo>
                    <a:pt x="464" y="1015"/>
                  </a:lnTo>
                  <a:lnTo>
                    <a:pt x="486" y="1027"/>
                  </a:lnTo>
                  <a:lnTo>
                    <a:pt x="509" y="1038"/>
                  </a:lnTo>
                  <a:lnTo>
                    <a:pt x="530" y="1046"/>
                  </a:lnTo>
                  <a:lnTo>
                    <a:pt x="551" y="1056"/>
                  </a:lnTo>
                  <a:lnTo>
                    <a:pt x="582" y="1065"/>
                  </a:lnTo>
                  <a:lnTo>
                    <a:pt x="614" y="1068"/>
                  </a:lnTo>
                  <a:lnTo>
                    <a:pt x="643" y="1069"/>
                  </a:lnTo>
                  <a:lnTo>
                    <a:pt x="669" y="1069"/>
                  </a:lnTo>
                  <a:lnTo>
                    <a:pt x="696" y="1066"/>
                  </a:lnTo>
                  <a:lnTo>
                    <a:pt x="719" y="1061"/>
                  </a:lnTo>
                  <a:lnTo>
                    <a:pt x="742" y="1055"/>
                  </a:lnTo>
                  <a:lnTo>
                    <a:pt x="761" y="1048"/>
                  </a:lnTo>
                  <a:lnTo>
                    <a:pt x="779" y="1042"/>
                  </a:lnTo>
                  <a:lnTo>
                    <a:pt x="794" y="1033"/>
                  </a:lnTo>
                  <a:lnTo>
                    <a:pt x="809" y="1025"/>
                  </a:lnTo>
                  <a:lnTo>
                    <a:pt x="819" y="1019"/>
                  </a:lnTo>
                  <a:lnTo>
                    <a:pt x="828" y="1014"/>
                  </a:lnTo>
                  <a:lnTo>
                    <a:pt x="835" y="1009"/>
                  </a:lnTo>
                  <a:lnTo>
                    <a:pt x="838" y="1005"/>
                  </a:lnTo>
                  <a:lnTo>
                    <a:pt x="840" y="1004"/>
                  </a:lnTo>
                  <a:lnTo>
                    <a:pt x="846" y="1014"/>
                  </a:lnTo>
                  <a:lnTo>
                    <a:pt x="850" y="1025"/>
                  </a:lnTo>
                  <a:lnTo>
                    <a:pt x="851" y="1037"/>
                  </a:lnTo>
                  <a:lnTo>
                    <a:pt x="855" y="1048"/>
                  </a:lnTo>
                  <a:lnTo>
                    <a:pt x="848" y="1061"/>
                  </a:lnTo>
                  <a:lnTo>
                    <a:pt x="838" y="1074"/>
                  </a:lnTo>
                  <a:lnTo>
                    <a:pt x="827" y="1084"/>
                  </a:lnTo>
                  <a:lnTo>
                    <a:pt x="815" y="1092"/>
                  </a:lnTo>
                  <a:lnTo>
                    <a:pt x="801" y="1101"/>
                  </a:lnTo>
                  <a:lnTo>
                    <a:pt x="787" y="1107"/>
                  </a:lnTo>
                  <a:lnTo>
                    <a:pt x="773" y="1112"/>
                  </a:lnTo>
                  <a:lnTo>
                    <a:pt x="760" y="1117"/>
                  </a:lnTo>
                  <a:lnTo>
                    <a:pt x="737" y="1122"/>
                  </a:lnTo>
                  <a:lnTo>
                    <a:pt x="714" y="1127"/>
                  </a:lnTo>
                  <a:lnTo>
                    <a:pt x="689" y="1130"/>
                  </a:lnTo>
                  <a:lnTo>
                    <a:pt x="664" y="1132"/>
                  </a:lnTo>
                  <a:lnTo>
                    <a:pt x="641" y="1132"/>
                  </a:lnTo>
                  <a:lnTo>
                    <a:pt x="617" y="1130"/>
                  </a:lnTo>
                  <a:lnTo>
                    <a:pt x="592" y="1128"/>
                  </a:lnTo>
                  <a:lnTo>
                    <a:pt x="569" y="1125"/>
                  </a:lnTo>
                  <a:lnTo>
                    <a:pt x="545" y="1120"/>
                  </a:lnTo>
                  <a:lnTo>
                    <a:pt x="522" y="1114"/>
                  </a:lnTo>
                  <a:lnTo>
                    <a:pt x="500" y="1105"/>
                  </a:lnTo>
                  <a:lnTo>
                    <a:pt x="477" y="1096"/>
                  </a:lnTo>
                  <a:lnTo>
                    <a:pt x="458" y="1084"/>
                  </a:lnTo>
                  <a:lnTo>
                    <a:pt x="436" y="1073"/>
                  </a:lnTo>
                  <a:lnTo>
                    <a:pt x="418" y="1058"/>
                  </a:lnTo>
                  <a:lnTo>
                    <a:pt x="400" y="1042"/>
                  </a:lnTo>
                  <a:lnTo>
                    <a:pt x="395" y="1035"/>
                  </a:lnTo>
                  <a:lnTo>
                    <a:pt x="392" y="1025"/>
                  </a:lnTo>
                  <a:lnTo>
                    <a:pt x="387" y="1019"/>
                  </a:lnTo>
                  <a:lnTo>
                    <a:pt x="377" y="1019"/>
                  </a:lnTo>
                  <a:lnTo>
                    <a:pt x="377" y="1032"/>
                  </a:lnTo>
                  <a:lnTo>
                    <a:pt x="381" y="1045"/>
                  </a:lnTo>
                  <a:lnTo>
                    <a:pt x="387" y="1055"/>
                  </a:lnTo>
                  <a:lnTo>
                    <a:pt x="397" y="1065"/>
                  </a:lnTo>
                  <a:lnTo>
                    <a:pt x="407" y="1074"/>
                  </a:lnTo>
                  <a:lnTo>
                    <a:pt x="418" y="1083"/>
                  </a:lnTo>
                  <a:lnTo>
                    <a:pt x="430" y="1091"/>
                  </a:lnTo>
                  <a:lnTo>
                    <a:pt x="440" y="1099"/>
                  </a:lnTo>
                  <a:lnTo>
                    <a:pt x="461" y="1112"/>
                  </a:lnTo>
                  <a:lnTo>
                    <a:pt x="482" y="1124"/>
                  </a:lnTo>
                  <a:lnTo>
                    <a:pt x="507" y="1133"/>
                  </a:lnTo>
                  <a:lnTo>
                    <a:pt x="532" y="1142"/>
                  </a:lnTo>
                  <a:lnTo>
                    <a:pt x="556" y="1148"/>
                  </a:lnTo>
                  <a:lnTo>
                    <a:pt x="582" y="1153"/>
                  </a:lnTo>
                  <a:lnTo>
                    <a:pt x="609" y="1156"/>
                  </a:lnTo>
                  <a:lnTo>
                    <a:pt x="637" y="1158"/>
                  </a:lnTo>
                  <a:lnTo>
                    <a:pt x="663" y="1158"/>
                  </a:lnTo>
                  <a:lnTo>
                    <a:pt x="689" y="1156"/>
                  </a:lnTo>
                  <a:lnTo>
                    <a:pt x="715" y="1153"/>
                  </a:lnTo>
                  <a:lnTo>
                    <a:pt x="742" y="1148"/>
                  </a:lnTo>
                  <a:lnTo>
                    <a:pt x="768" y="1142"/>
                  </a:lnTo>
                  <a:lnTo>
                    <a:pt x="791" y="1133"/>
                  </a:lnTo>
                  <a:lnTo>
                    <a:pt x="815" y="1124"/>
                  </a:lnTo>
                  <a:lnTo>
                    <a:pt x="837" y="1112"/>
                  </a:lnTo>
                  <a:lnTo>
                    <a:pt x="850" y="1102"/>
                  </a:lnTo>
                  <a:lnTo>
                    <a:pt x="861" y="1087"/>
                  </a:lnTo>
                  <a:lnTo>
                    <a:pt x="873" y="1073"/>
                  </a:lnTo>
                  <a:lnTo>
                    <a:pt x="881" y="1058"/>
                  </a:lnTo>
                  <a:lnTo>
                    <a:pt x="881" y="1025"/>
                  </a:lnTo>
                  <a:lnTo>
                    <a:pt x="874" y="994"/>
                  </a:lnTo>
                  <a:lnTo>
                    <a:pt x="863" y="966"/>
                  </a:lnTo>
                  <a:lnTo>
                    <a:pt x="848" y="940"/>
                  </a:lnTo>
                  <a:lnTo>
                    <a:pt x="845" y="925"/>
                  </a:lnTo>
                  <a:lnTo>
                    <a:pt x="846" y="915"/>
                  </a:lnTo>
                  <a:lnTo>
                    <a:pt x="853" y="905"/>
                  </a:lnTo>
                  <a:lnTo>
                    <a:pt x="861" y="899"/>
                  </a:lnTo>
                  <a:lnTo>
                    <a:pt x="873" y="894"/>
                  </a:lnTo>
                  <a:lnTo>
                    <a:pt x="883" y="887"/>
                  </a:lnTo>
                  <a:lnTo>
                    <a:pt x="894" y="883"/>
                  </a:lnTo>
                  <a:lnTo>
                    <a:pt x="902" y="876"/>
                  </a:lnTo>
                  <a:lnTo>
                    <a:pt x="915" y="873"/>
                  </a:lnTo>
                  <a:lnTo>
                    <a:pt x="930" y="869"/>
                  </a:lnTo>
                  <a:lnTo>
                    <a:pt x="943" y="866"/>
                  </a:lnTo>
                  <a:lnTo>
                    <a:pt x="958" y="863"/>
                  </a:lnTo>
                  <a:lnTo>
                    <a:pt x="971" y="860"/>
                  </a:lnTo>
                  <a:lnTo>
                    <a:pt x="986" y="858"/>
                  </a:lnTo>
                  <a:lnTo>
                    <a:pt x="1001" y="858"/>
                  </a:lnTo>
                  <a:lnTo>
                    <a:pt x="1015" y="858"/>
                  </a:lnTo>
                  <a:lnTo>
                    <a:pt x="1025" y="891"/>
                  </a:lnTo>
                  <a:lnTo>
                    <a:pt x="1083" y="1040"/>
                  </a:lnTo>
                  <a:lnTo>
                    <a:pt x="1092" y="1061"/>
                  </a:lnTo>
                  <a:lnTo>
                    <a:pt x="1101" y="1087"/>
                  </a:lnTo>
                  <a:lnTo>
                    <a:pt x="1109" y="1114"/>
                  </a:lnTo>
                  <a:lnTo>
                    <a:pt x="1117" y="1142"/>
                  </a:lnTo>
                  <a:lnTo>
                    <a:pt x="1124" y="1166"/>
                  </a:lnTo>
                  <a:lnTo>
                    <a:pt x="1129" y="1186"/>
                  </a:lnTo>
                  <a:lnTo>
                    <a:pt x="1132" y="1201"/>
                  </a:lnTo>
                  <a:lnTo>
                    <a:pt x="1135" y="1205"/>
                  </a:lnTo>
                  <a:lnTo>
                    <a:pt x="1138" y="1201"/>
                  </a:lnTo>
                  <a:lnTo>
                    <a:pt x="1142" y="1165"/>
                  </a:lnTo>
                  <a:lnTo>
                    <a:pt x="1142" y="1130"/>
                  </a:lnTo>
                  <a:lnTo>
                    <a:pt x="1137" y="1096"/>
                  </a:lnTo>
                  <a:lnTo>
                    <a:pt x="1129" y="1063"/>
                  </a:lnTo>
                  <a:lnTo>
                    <a:pt x="1119" y="1032"/>
                  </a:lnTo>
                  <a:lnTo>
                    <a:pt x="1107" y="999"/>
                  </a:lnTo>
                  <a:lnTo>
                    <a:pt x="1094" y="969"/>
                  </a:lnTo>
                  <a:lnTo>
                    <a:pt x="1079" y="938"/>
                  </a:lnTo>
                  <a:lnTo>
                    <a:pt x="1073" y="907"/>
                  </a:lnTo>
                  <a:lnTo>
                    <a:pt x="1073" y="878"/>
                  </a:lnTo>
                  <a:lnTo>
                    <a:pt x="1079" y="850"/>
                  </a:lnTo>
                  <a:lnTo>
                    <a:pt x="1089" y="825"/>
                  </a:lnTo>
                  <a:lnTo>
                    <a:pt x="1104" y="801"/>
                  </a:lnTo>
                  <a:lnTo>
                    <a:pt x="1119" y="776"/>
                  </a:lnTo>
                  <a:lnTo>
                    <a:pt x="1135" y="753"/>
                  </a:lnTo>
                  <a:lnTo>
                    <a:pt x="1150" y="728"/>
                  </a:lnTo>
                  <a:lnTo>
                    <a:pt x="1165" y="694"/>
                  </a:lnTo>
                  <a:lnTo>
                    <a:pt x="1179" y="660"/>
                  </a:lnTo>
                  <a:lnTo>
                    <a:pt x="1191" y="623"/>
                  </a:lnTo>
                  <a:lnTo>
                    <a:pt x="1201" y="586"/>
                  </a:lnTo>
                  <a:lnTo>
                    <a:pt x="1207" y="548"/>
                  </a:lnTo>
                  <a:lnTo>
                    <a:pt x="1216" y="510"/>
                  </a:lnTo>
                  <a:lnTo>
                    <a:pt x="1220" y="471"/>
                  </a:lnTo>
                  <a:lnTo>
                    <a:pt x="1225" y="432"/>
                  </a:lnTo>
                  <a:lnTo>
                    <a:pt x="1243" y="394"/>
                  </a:lnTo>
                  <a:lnTo>
                    <a:pt x="1252" y="423"/>
                  </a:lnTo>
                  <a:lnTo>
                    <a:pt x="1266" y="446"/>
                  </a:lnTo>
                  <a:lnTo>
                    <a:pt x="1286" y="468"/>
                  </a:lnTo>
                  <a:lnTo>
                    <a:pt x="1307" y="486"/>
                  </a:lnTo>
                  <a:lnTo>
                    <a:pt x="1330" y="505"/>
                  </a:lnTo>
                  <a:lnTo>
                    <a:pt x="1352" y="525"/>
                  </a:lnTo>
                  <a:lnTo>
                    <a:pt x="1370" y="548"/>
                  </a:lnTo>
                  <a:lnTo>
                    <a:pt x="1381" y="576"/>
                  </a:lnTo>
                  <a:lnTo>
                    <a:pt x="1394" y="609"/>
                  </a:lnTo>
                  <a:lnTo>
                    <a:pt x="1407" y="646"/>
                  </a:lnTo>
                  <a:lnTo>
                    <a:pt x="1417" y="681"/>
                  </a:lnTo>
                  <a:lnTo>
                    <a:pt x="1421" y="694"/>
                  </a:lnTo>
                  <a:lnTo>
                    <a:pt x="1430" y="676"/>
                  </a:lnTo>
                  <a:lnTo>
                    <a:pt x="1434" y="653"/>
                  </a:lnTo>
                  <a:lnTo>
                    <a:pt x="1434" y="630"/>
                  </a:lnTo>
                  <a:lnTo>
                    <a:pt x="1434" y="609"/>
                  </a:lnTo>
                  <a:lnTo>
                    <a:pt x="1427" y="576"/>
                  </a:lnTo>
                  <a:lnTo>
                    <a:pt x="1414" y="545"/>
                  </a:lnTo>
                  <a:lnTo>
                    <a:pt x="1393" y="519"/>
                  </a:lnTo>
                  <a:lnTo>
                    <a:pt x="1368" y="492"/>
                  </a:lnTo>
                  <a:lnTo>
                    <a:pt x="1342" y="469"/>
                  </a:lnTo>
                  <a:lnTo>
                    <a:pt x="1316" y="445"/>
                  </a:lnTo>
                  <a:lnTo>
                    <a:pt x="1289" y="422"/>
                  </a:lnTo>
                  <a:lnTo>
                    <a:pt x="1268" y="396"/>
                  </a:lnTo>
                  <a:lnTo>
                    <a:pt x="1266" y="153"/>
                  </a:lnTo>
                  <a:lnTo>
                    <a:pt x="1270" y="117"/>
                  </a:lnTo>
                  <a:lnTo>
                    <a:pt x="1275" y="81"/>
                  </a:lnTo>
                  <a:lnTo>
                    <a:pt x="1283" y="48"/>
                  </a:lnTo>
                  <a:lnTo>
                    <a:pt x="1301" y="20"/>
                  </a:lnTo>
                  <a:lnTo>
                    <a:pt x="1320" y="28"/>
                  </a:lnTo>
                  <a:lnTo>
                    <a:pt x="1343" y="37"/>
                  </a:lnTo>
                  <a:lnTo>
                    <a:pt x="1366" y="43"/>
                  </a:lnTo>
                  <a:lnTo>
                    <a:pt x="1391" y="46"/>
                  </a:lnTo>
                  <a:lnTo>
                    <a:pt x="1414" y="48"/>
                  </a:lnTo>
                  <a:lnTo>
                    <a:pt x="1439" y="46"/>
                  </a:lnTo>
                  <a:lnTo>
                    <a:pt x="1460" y="40"/>
                  </a:lnTo>
                  <a:lnTo>
                    <a:pt x="1481" y="30"/>
                  </a:lnTo>
                  <a:lnTo>
                    <a:pt x="1488" y="27"/>
                  </a:lnTo>
                  <a:lnTo>
                    <a:pt x="1494" y="22"/>
                  </a:lnTo>
                  <a:lnTo>
                    <a:pt x="1501" y="17"/>
                  </a:lnTo>
                  <a:lnTo>
                    <a:pt x="1507" y="12"/>
                  </a:lnTo>
                  <a:lnTo>
                    <a:pt x="1512" y="7"/>
                  </a:lnTo>
                  <a:lnTo>
                    <a:pt x="1519" y="4"/>
                  </a:lnTo>
                  <a:lnTo>
                    <a:pt x="1525" y="0"/>
                  </a:lnTo>
                  <a:lnTo>
                    <a:pt x="1532" y="0"/>
                  </a:lnTo>
                  <a:lnTo>
                    <a:pt x="1553" y="114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1320" y="4905360"/>
              <a:ext cx="607680" cy="367920"/>
            </a:xfrm>
            <a:custGeom>
              <a:avLst/>
              <a:gdLst/>
              <a:ahLst/>
              <a:rect l="l" t="t" r="r" b="b"/>
              <a:pathLst>
                <a:path w="740" h="451">
                  <a:moveTo>
                    <a:pt x="509" y="30"/>
                  </a:moveTo>
                  <a:lnTo>
                    <a:pt x="532" y="31"/>
                  </a:lnTo>
                  <a:lnTo>
                    <a:pt x="553" y="36"/>
                  </a:lnTo>
                  <a:lnTo>
                    <a:pt x="574" y="41"/>
                  </a:lnTo>
                  <a:lnTo>
                    <a:pt x="596" y="48"/>
                  </a:lnTo>
                  <a:lnTo>
                    <a:pt x="614" y="57"/>
                  </a:lnTo>
                  <a:lnTo>
                    <a:pt x="632" y="69"/>
                  </a:lnTo>
                  <a:lnTo>
                    <a:pt x="646" y="84"/>
                  </a:lnTo>
                  <a:lnTo>
                    <a:pt x="661" y="102"/>
                  </a:lnTo>
                  <a:lnTo>
                    <a:pt x="681" y="131"/>
                  </a:lnTo>
                  <a:lnTo>
                    <a:pt x="699" y="162"/>
                  </a:lnTo>
                  <a:lnTo>
                    <a:pt x="715" y="195"/>
                  </a:lnTo>
                  <a:lnTo>
                    <a:pt x="728" y="228"/>
                  </a:lnTo>
                  <a:lnTo>
                    <a:pt x="737" y="262"/>
                  </a:lnTo>
                  <a:lnTo>
                    <a:pt x="740" y="297"/>
                  </a:lnTo>
                  <a:lnTo>
                    <a:pt x="738" y="333"/>
                  </a:lnTo>
                  <a:lnTo>
                    <a:pt x="728" y="371"/>
                  </a:lnTo>
                  <a:lnTo>
                    <a:pt x="722" y="392"/>
                  </a:lnTo>
                  <a:lnTo>
                    <a:pt x="715" y="413"/>
                  </a:lnTo>
                  <a:lnTo>
                    <a:pt x="707" y="433"/>
                  </a:lnTo>
                  <a:lnTo>
                    <a:pt x="696" y="451"/>
                  </a:lnTo>
                  <a:lnTo>
                    <a:pt x="686" y="448"/>
                  </a:lnTo>
                  <a:lnTo>
                    <a:pt x="673" y="448"/>
                  </a:lnTo>
                  <a:lnTo>
                    <a:pt x="660" y="448"/>
                  </a:lnTo>
                  <a:lnTo>
                    <a:pt x="655" y="449"/>
                  </a:lnTo>
                  <a:lnTo>
                    <a:pt x="655" y="425"/>
                  </a:lnTo>
                  <a:lnTo>
                    <a:pt x="660" y="402"/>
                  </a:lnTo>
                  <a:lnTo>
                    <a:pt x="664" y="377"/>
                  </a:lnTo>
                  <a:lnTo>
                    <a:pt x="661" y="353"/>
                  </a:lnTo>
                  <a:lnTo>
                    <a:pt x="651" y="357"/>
                  </a:lnTo>
                  <a:lnTo>
                    <a:pt x="640" y="361"/>
                  </a:lnTo>
                  <a:lnTo>
                    <a:pt x="630" y="364"/>
                  </a:lnTo>
                  <a:lnTo>
                    <a:pt x="619" y="367"/>
                  </a:lnTo>
                  <a:lnTo>
                    <a:pt x="607" y="371"/>
                  </a:lnTo>
                  <a:lnTo>
                    <a:pt x="596" y="372"/>
                  </a:lnTo>
                  <a:lnTo>
                    <a:pt x="584" y="372"/>
                  </a:lnTo>
                  <a:lnTo>
                    <a:pt x="573" y="372"/>
                  </a:lnTo>
                  <a:lnTo>
                    <a:pt x="582" y="357"/>
                  </a:lnTo>
                  <a:lnTo>
                    <a:pt x="592" y="336"/>
                  </a:lnTo>
                  <a:lnTo>
                    <a:pt x="602" y="313"/>
                  </a:lnTo>
                  <a:lnTo>
                    <a:pt x="609" y="289"/>
                  </a:lnTo>
                  <a:lnTo>
                    <a:pt x="615" y="267"/>
                  </a:lnTo>
                  <a:lnTo>
                    <a:pt x="620" y="249"/>
                  </a:lnTo>
                  <a:lnTo>
                    <a:pt x="623" y="236"/>
                  </a:lnTo>
                  <a:lnTo>
                    <a:pt x="625" y="231"/>
                  </a:lnTo>
                  <a:lnTo>
                    <a:pt x="604" y="254"/>
                  </a:lnTo>
                  <a:lnTo>
                    <a:pt x="579" y="272"/>
                  </a:lnTo>
                  <a:lnTo>
                    <a:pt x="555" y="289"/>
                  </a:lnTo>
                  <a:lnTo>
                    <a:pt x="528" y="302"/>
                  </a:lnTo>
                  <a:lnTo>
                    <a:pt x="500" y="313"/>
                  </a:lnTo>
                  <a:lnTo>
                    <a:pt x="471" y="321"/>
                  </a:lnTo>
                  <a:lnTo>
                    <a:pt x="441" y="326"/>
                  </a:lnTo>
                  <a:lnTo>
                    <a:pt x="410" y="330"/>
                  </a:lnTo>
                  <a:lnTo>
                    <a:pt x="379" y="331"/>
                  </a:lnTo>
                  <a:lnTo>
                    <a:pt x="350" y="330"/>
                  </a:lnTo>
                  <a:lnTo>
                    <a:pt x="318" y="328"/>
                  </a:lnTo>
                  <a:lnTo>
                    <a:pt x="287" y="325"/>
                  </a:lnTo>
                  <a:lnTo>
                    <a:pt x="256" y="318"/>
                  </a:lnTo>
                  <a:lnTo>
                    <a:pt x="227" y="312"/>
                  </a:lnTo>
                  <a:lnTo>
                    <a:pt x="197" y="303"/>
                  </a:lnTo>
                  <a:lnTo>
                    <a:pt x="169" y="295"/>
                  </a:lnTo>
                  <a:lnTo>
                    <a:pt x="172" y="272"/>
                  </a:lnTo>
                  <a:lnTo>
                    <a:pt x="179" y="246"/>
                  </a:lnTo>
                  <a:lnTo>
                    <a:pt x="181" y="221"/>
                  </a:lnTo>
                  <a:lnTo>
                    <a:pt x="169" y="198"/>
                  </a:lnTo>
                  <a:lnTo>
                    <a:pt x="141" y="220"/>
                  </a:lnTo>
                  <a:lnTo>
                    <a:pt x="117" y="246"/>
                  </a:lnTo>
                  <a:lnTo>
                    <a:pt x="94" y="276"/>
                  </a:lnTo>
                  <a:lnTo>
                    <a:pt x="76" y="303"/>
                  </a:lnTo>
                  <a:lnTo>
                    <a:pt x="59" y="330"/>
                  </a:lnTo>
                  <a:lnTo>
                    <a:pt x="48" y="351"/>
                  </a:lnTo>
                  <a:lnTo>
                    <a:pt x="40" y="366"/>
                  </a:lnTo>
                  <a:lnTo>
                    <a:pt x="36" y="372"/>
                  </a:lnTo>
                  <a:lnTo>
                    <a:pt x="28" y="366"/>
                  </a:lnTo>
                  <a:lnTo>
                    <a:pt x="18" y="357"/>
                  </a:lnTo>
                  <a:lnTo>
                    <a:pt x="10" y="353"/>
                  </a:lnTo>
                  <a:lnTo>
                    <a:pt x="0" y="349"/>
                  </a:lnTo>
                  <a:lnTo>
                    <a:pt x="2" y="323"/>
                  </a:lnTo>
                  <a:lnTo>
                    <a:pt x="7" y="298"/>
                  </a:lnTo>
                  <a:lnTo>
                    <a:pt x="15" y="274"/>
                  </a:lnTo>
                  <a:lnTo>
                    <a:pt x="25" y="249"/>
                  </a:lnTo>
                  <a:lnTo>
                    <a:pt x="36" y="226"/>
                  </a:lnTo>
                  <a:lnTo>
                    <a:pt x="49" y="205"/>
                  </a:lnTo>
                  <a:lnTo>
                    <a:pt x="63" y="182"/>
                  </a:lnTo>
                  <a:lnTo>
                    <a:pt x="74" y="159"/>
                  </a:lnTo>
                  <a:lnTo>
                    <a:pt x="89" y="141"/>
                  </a:lnTo>
                  <a:lnTo>
                    <a:pt x="104" y="123"/>
                  </a:lnTo>
                  <a:lnTo>
                    <a:pt x="120" y="105"/>
                  </a:lnTo>
                  <a:lnTo>
                    <a:pt x="136" y="89"/>
                  </a:lnTo>
                  <a:lnTo>
                    <a:pt x="154" y="74"/>
                  </a:lnTo>
                  <a:lnTo>
                    <a:pt x="172" y="59"/>
                  </a:lnTo>
                  <a:lnTo>
                    <a:pt x="192" y="46"/>
                  </a:lnTo>
                  <a:lnTo>
                    <a:pt x="212" y="33"/>
                  </a:lnTo>
                  <a:lnTo>
                    <a:pt x="231" y="23"/>
                  </a:lnTo>
                  <a:lnTo>
                    <a:pt x="253" y="15"/>
                  </a:lnTo>
                  <a:lnTo>
                    <a:pt x="274" y="8"/>
                  </a:lnTo>
                  <a:lnTo>
                    <a:pt x="297" y="3"/>
                  </a:lnTo>
                  <a:lnTo>
                    <a:pt x="320" y="0"/>
                  </a:lnTo>
                  <a:lnTo>
                    <a:pt x="343" y="0"/>
                  </a:lnTo>
                  <a:lnTo>
                    <a:pt x="366" y="3"/>
                  </a:lnTo>
                  <a:lnTo>
                    <a:pt x="391" y="8"/>
                  </a:lnTo>
                  <a:lnTo>
                    <a:pt x="405" y="13"/>
                  </a:lnTo>
                  <a:lnTo>
                    <a:pt x="418" y="18"/>
                  </a:lnTo>
                  <a:lnTo>
                    <a:pt x="433" y="21"/>
                  </a:lnTo>
                  <a:lnTo>
                    <a:pt x="448" y="25"/>
                  </a:lnTo>
                  <a:lnTo>
                    <a:pt x="463" y="26"/>
                  </a:lnTo>
                  <a:lnTo>
                    <a:pt x="477" y="30"/>
                  </a:lnTo>
                  <a:lnTo>
                    <a:pt x="494" y="30"/>
                  </a:lnTo>
                  <a:lnTo>
                    <a:pt x="509" y="3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9560" y="5111280"/>
              <a:ext cx="596520" cy="505080"/>
            </a:xfrm>
            <a:custGeom>
              <a:avLst/>
              <a:gdLst/>
              <a:ahLst/>
              <a:rect l="l" t="t" r="r" b="b"/>
              <a:pathLst>
                <a:path w="725" h="618">
                  <a:moveTo>
                    <a:pt x="172" y="54"/>
                  </a:moveTo>
                  <a:lnTo>
                    <a:pt x="187" y="60"/>
                  </a:lnTo>
                  <a:lnTo>
                    <a:pt x="203" y="67"/>
                  </a:lnTo>
                  <a:lnTo>
                    <a:pt x="218" y="72"/>
                  </a:lnTo>
                  <a:lnTo>
                    <a:pt x="235" y="77"/>
                  </a:lnTo>
                  <a:lnTo>
                    <a:pt x="251" y="82"/>
                  </a:lnTo>
                  <a:lnTo>
                    <a:pt x="266" y="85"/>
                  </a:lnTo>
                  <a:lnTo>
                    <a:pt x="282" y="88"/>
                  </a:lnTo>
                  <a:lnTo>
                    <a:pt x="299" y="91"/>
                  </a:lnTo>
                  <a:lnTo>
                    <a:pt x="315" y="95"/>
                  </a:lnTo>
                  <a:lnTo>
                    <a:pt x="333" y="98"/>
                  </a:lnTo>
                  <a:lnTo>
                    <a:pt x="349" y="100"/>
                  </a:lnTo>
                  <a:lnTo>
                    <a:pt x="366" y="103"/>
                  </a:lnTo>
                  <a:lnTo>
                    <a:pt x="384" y="104"/>
                  </a:lnTo>
                  <a:lnTo>
                    <a:pt x="400" y="106"/>
                  </a:lnTo>
                  <a:lnTo>
                    <a:pt x="418" y="108"/>
                  </a:lnTo>
                  <a:lnTo>
                    <a:pt x="435" y="109"/>
                  </a:lnTo>
                  <a:lnTo>
                    <a:pt x="459" y="109"/>
                  </a:lnTo>
                  <a:lnTo>
                    <a:pt x="482" y="108"/>
                  </a:lnTo>
                  <a:lnTo>
                    <a:pt x="505" y="104"/>
                  </a:lnTo>
                  <a:lnTo>
                    <a:pt x="528" y="100"/>
                  </a:lnTo>
                  <a:lnTo>
                    <a:pt x="551" y="95"/>
                  </a:lnTo>
                  <a:lnTo>
                    <a:pt x="572" y="86"/>
                  </a:lnTo>
                  <a:lnTo>
                    <a:pt x="594" y="78"/>
                  </a:lnTo>
                  <a:lnTo>
                    <a:pt x="613" y="67"/>
                  </a:lnTo>
                  <a:lnTo>
                    <a:pt x="608" y="86"/>
                  </a:lnTo>
                  <a:lnTo>
                    <a:pt x="600" y="104"/>
                  </a:lnTo>
                  <a:lnTo>
                    <a:pt x="592" y="121"/>
                  </a:lnTo>
                  <a:lnTo>
                    <a:pt x="582" y="139"/>
                  </a:lnTo>
                  <a:lnTo>
                    <a:pt x="592" y="145"/>
                  </a:lnTo>
                  <a:lnTo>
                    <a:pt x="604" y="149"/>
                  </a:lnTo>
                  <a:lnTo>
                    <a:pt x="617" y="150"/>
                  </a:lnTo>
                  <a:lnTo>
                    <a:pt x="630" y="150"/>
                  </a:lnTo>
                  <a:lnTo>
                    <a:pt x="643" y="147"/>
                  </a:lnTo>
                  <a:lnTo>
                    <a:pt x="654" y="145"/>
                  </a:lnTo>
                  <a:lnTo>
                    <a:pt x="668" y="142"/>
                  </a:lnTo>
                  <a:lnTo>
                    <a:pt x="679" y="139"/>
                  </a:lnTo>
                  <a:lnTo>
                    <a:pt x="674" y="167"/>
                  </a:lnTo>
                  <a:lnTo>
                    <a:pt x="674" y="195"/>
                  </a:lnTo>
                  <a:lnTo>
                    <a:pt x="682" y="221"/>
                  </a:lnTo>
                  <a:lnTo>
                    <a:pt x="694" y="244"/>
                  </a:lnTo>
                  <a:lnTo>
                    <a:pt x="694" y="250"/>
                  </a:lnTo>
                  <a:lnTo>
                    <a:pt x="692" y="259"/>
                  </a:lnTo>
                  <a:lnTo>
                    <a:pt x="694" y="265"/>
                  </a:lnTo>
                  <a:lnTo>
                    <a:pt x="700" y="268"/>
                  </a:lnTo>
                  <a:lnTo>
                    <a:pt x="707" y="262"/>
                  </a:lnTo>
                  <a:lnTo>
                    <a:pt x="712" y="252"/>
                  </a:lnTo>
                  <a:lnTo>
                    <a:pt x="717" y="244"/>
                  </a:lnTo>
                  <a:lnTo>
                    <a:pt x="723" y="236"/>
                  </a:lnTo>
                  <a:lnTo>
                    <a:pt x="725" y="267"/>
                  </a:lnTo>
                  <a:lnTo>
                    <a:pt x="718" y="298"/>
                  </a:lnTo>
                  <a:lnTo>
                    <a:pt x="707" y="327"/>
                  </a:lnTo>
                  <a:lnTo>
                    <a:pt x="690" y="354"/>
                  </a:lnTo>
                  <a:lnTo>
                    <a:pt x="694" y="344"/>
                  </a:lnTo>
                  <a:lnTo>
                    <a:pt x="692" y="332"/>
                  </a:lnTo>
                  <a:lnTo>
                    <a:pt x="692" y="319"/>
                  </a:lnTo>
                  <a:lnTo>
                    <a:pt x="699" y="308"/>
                  </a:lnTo>
                  <a:lnTo>
                    <a:pt x="695" y="305"/>
                  </a:lnTo>
                  <a:lnTo>
                    <a:pt x="694" y="301"/>
                  </a:lnTo>
                  <a:lnTo>
                    <a:pt x="690" y="300"/>
                  </a:lnTo>
                  <a:lnTo>
                    <a:pt x="686" y="300"/>
                  </a:lnTo>
                  <a:lnTo>
                    <a:pt x="669" y="337"/>
                  </a:lnTo>
                  <a:lnTo>
                    <a:pt x="653" y="375"/>
                  </a:lnTo>
                  <a:lnTo>
                    <a:pt x="635" y="413"/>
                  </a:lnTo>
                  <a:lnTo>
                    <a:pt x="613" y="447"/>
                  </a:lnTo>
                  <a:lnTo>
                    <a:pt x="590" y="482"/>
                  </a:lnTo>
                  <a:lnTo>
                    <a:pt x="563" y="513"/>
                  </a:lnTo>
                  <a:lnTo>
                    <a:pt x="531" y="539"/>
                  </a:lnTo>
                  <a:lnTo>
                    <a:pt x="495" y="560"/>
                  </a:lnTo>
                  <a:lnTo>
                    <a:pt x="472" y="573"/>
                  </a:lnTo>
                  <a:lnTo>
                    <a:pt x="448" y="585"/>
                  </a:lnTo>
                  <a:lnTo>
                    <a:pt x="423" y="598"/>
                  </a:lnTo>
                  <a:lnTo>
                    <a:pt x="399" y="608"/>
                  </a:lnTo>
                  <a:lnTo>
                    <a:pt x="372" y="614"/>
                  </a:lnTo>
                  <a:lnTo>
                    <a:pt x="346" y="618"/>
                  </a:lnTo>
                  <a:lnTo>
                    <a:pt x="318" y="616"/>
                  </a:lnTo>
                  <a:lnTo>
                    <a:pt x="290" y="608"/>
                  </a:lnTo>
                  <a:lnTo>
                    <a:pt x="244" y="585"/>
                  </a:lnTo>
                  <a:lnTo>
                    <a:pt x="205" y="555"/>
                  </a:lnTo>
                  <a:lnTo>
                    <a:pt x="171" y="519"/>
                  </a:lnTo>
                  <a:lnTo>
                    <a:pt x="141" y="478"/>
                  </a:lnTo>
                  <a:lnTo>
                    <a:pt x="115" y="436"/>
                  </a:lnTo>
                  <a:lnTo>
                    <a:pt x="90" y="391"/>
                  </a:lnTo>
                  <a:lnTo>
                    <a:pt x="67" y="347"/>
                  </a:lnTo>
                  <a:lnTo>
                    <a:pt x="46" y="305"/>
                  </a:lnTo>
                  <a:lnTo>
                    <a:pt x="33" y="305"/>
                  </a:lnTo>
                  <a:lnTo>
                    <a:pt x="21" y="300"/>
                  </a:lnTo>
                  <a:lnTo>
                    <a:pt x="12" y="293"/>
                  </a:lnTo>
                  <a:lnTo>
                    <a:pt x="7" y="282"/>
                  </a:lnTo>
                  <a:lnTo>
                    <a:pt x="0" y="242"/>
                  </a:lnTo>
                  <a:lnTo>
                    <a:pt x="0" y="198"/>
                  </a:lnTo>
                  <a:lnTo>
                    <a:pt x="10" y="157"/>
                  </a:lnTo>
                  <a:lnTo>
                    <a:pt x="33" y="124"/>
                  </a:lnTo>
                  <a:lnTo>
                    <a:pt x="38" y="123"/>
                  </a:lnTo>
                  <a:lnTo>
                    <a:pt x="44" y="123"/>
                  </a:lnTo>
                  <a:lnTo>
                    <a:pt x="51" y="124"/>
                  </a:lnTo>
                  <a:lnTo>
                    <a:pt x="56" y="129"/>
                  </a:lnTo>
                  <a:lnTo>
                    <a:pt x="64" y="141"/>
                  </a:lnTo>
                  <a:lnTo>
                    <a:pt x="71" y="155"/>
                  </a:lnTo>
                  <a:lnTo>
                    <a:pt x="77" y="168"/>
                  </a:lnTo>
                  <a:lnTo>
                    <a:pt x="84" y="182"/>
                  </a:lnTo>
                  <a:lnTo>
                    <a:pt x="95" y="170"/>
                  </a:lnTo>
                  <a:lnTo>
                    <a:pt x="105" y="155"/>
                  </a:lnTo>
                  <a:lnTo>
                    <a:pt x="113" y="141"/>
                  </a:lnTo>
                  <a:lnTo>
                    <a:pt x="123" y="126"/>
                  </a:lnTo>
                  <a:lnTo>
                    <a:pt x="126" y="108"/>
                  </a:lnTo>
                  <a:lnTo>
                    <a:pt x="133" y="91"/>
                  </a:lnTo>
                  <a:lnTo>
                    <a:pt x="141" y="73"/>
                  </a:lnTo>
                  <a:lnTo>
                    <a:pt x="151" y="57"/>
                  </a:lnTo>
                  <a:lnTo>
                    <a:pt x="162" y="42"/>
                  </a:lnTo>
                  <a:lnTo>
                    <a:pt x="174" y="27"/>
                  </a:lnTo>
                  <a:lnTo>
                    <a:pt x="187" y="13"/>
                  </a:lnTo>
                  <a:lnTo>
                    <a:pt x="200" y="0"/>
                  </a:lnTo>
                  <a:lnTo>
                    <a:pt x="197" y="14"/>
                  </a:lnTo>
                  <a:lnTo>
                    <a:pt x="189" y="27"/>
                  </a:lnTo>
                  <a:lnTo>
                    <a:pt x="179" y="42"/>
                  </a:lnTo>
                  <a:lnTo>
                    <a:pt x="172" y="54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2600" y="5207760"/>
              <a:ext cx="111960" cy="5544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31" y="46"/>
                  </a:moveTo>
                  <a:lnTo>
                    <a:pt x="133" y="50"/>
                  </a:lnTo>
                  <a:lnTo>
                    <a:pt x="135" y="57"/>
                  </a:lnTo>
                  <a:lnTo>
                    <a:pt x="136" y="62"/>
                  </a:lnTo>
                  <a:lnTo>
                    <a:pt x="131" y="65"/>
                  </a:lnTo>
                  <a:lnTo>
                    <a:pt x="123" y="67"/>
                  </a:lnTo>
                  <a:lnTo>
                    <a:pt x="115" y="68"/>
                  </a:lnTo>
                  <a:lnTo>
                    <a:pt x="107" y="68"/>
                  </a:lnTo>
                  <a:lnTo>
                    <a:pt x="102" y="62"/>
                  </a:lnTo>
                  <a:lnTo>
                    <a:pt x="102" y="57"/>
                  </a:lnTo>
                  <a:lnTo>
                    <a:pt x="105" y="54"/>
                  </a:lnTo>
                  <a:lnTo>
                    <a:pt x="110" y="54"/>
                  </a:lnTo>
                  <a:lnTo>
                    <a:pt x="113" y="50"/>
                  </a:lnTo>
                  <a:lnTo>
                    <a:pt x="108" y="42"/>
                  </a:lnTo>
                  <a:lnTo>
                    <a:pt x="103" y="47"/>
                  </a:lnTo>
                  <a:lnTo>
                    <a:pt x="97" y="50"/>
                  </a:lnTo>
                  <a:lnTo>
                    <a:pt x="92" y="54"/>
                  </a:lnTo>
                  <a:lnTo>
                    <a:pt x="85" y="55"/>
                  </a:lnTo>
                  <a:lnTo>
                    <a:pt x="79" y="57"/>
                  </a:lnTo>
                  <a:lnTo>
                    <a:pt x="72" y="57"/>
                  </a:lnTo>
                  <a:lnTo>
                    <a:pt x="66" y="55"/>
                  </a:lnTo>
                  <a:lnTo>
                    <a:pt x="59" y="54"/>
                  </a:lnTo>
                  <a:lnTo>
                    <a:pt x="53" y="47"/>
                  </a:lnTo>
                  <a:lnTo>
                    <a:pt x="49" y="41"/>
                  </a:lnTo>
                  <a:lnTo>
                    <a:pt x="49" y="31"/>
                  </a:lnTo>
                  <a:lnTo>
                    <a:pt x="49" y="23"/>
                  </a:lnTo>
                  <a:lnTo>
                    <a:pt x="41" y="21"/>
                  </a:lnTo>
                  <a:lnTo>
                    <a:pt x="33" y="21"/>
                  </a:lnTo>
                  <a:lnTo>
                    <a:pt x="25" y="26"/>
                  </a:lnTo>
                  <a:lnTo>
                    <a:pt x="16" y="29"/>
                  </a:lnTo>
                  <a:lnTo>
                    <a:pt x="10" y="32"/>
                  </a:lnTo>
                  <a:lnTo>
                    <a:pt x="3" y="32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8" y="5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80" y="3"/>
                  </a:lnTo>
                  <a:lnTo>
                    <a:pt x="89" y="6"/>
                  </a:lnTo>
                  <a:lnTo>
                    <a:pt x="95" y="9"/>
                  </a:lnTo>
                  <a:lnTo>
                    <a:pt x="102" y="14"/>
                  </a:lnTo>
                  <a:lnTo>
                    <a:pt x="108" y="21"/>
                  </a:lnTo>
                  <a:lnTo>
                    <a:pt x="115" y="27"/>
                  </a:lnTo>
                  <a:lnTo>
                    <a:pt x="121" y="34"/>
                  </a:lnTo>
                  <a:lnTo>
                    <a:pt x="126" y="39"/>
                  </a:lnTo>
                  <a:lnTo>
                    <a:pt x="1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68760" y="5225760"/>
              <a:ext cx="14400" cy="12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4"/>
                  </a:moveTo>
                  <a:lnTo>
                    <a:pt x="17" y="8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82160" y="5253480"/>
              <a:ext cx="41040" cy="9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21" y="113"/>
                  </a:moveTo>
                  <a:lnTo>
                    <a:pt x="16" y="115"/>
                  </a:lnTo>
                  <a:lnTo>
                    <a:pt x="13" y="115"/>
                  </a:lnTo>
                  <a:lnTo>
                    <a:pt x="8" y="115"/>
                  </a:lnTo>
                  <a:lnTo>
                    <a:pt x="3" y="113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1" y="89"/>
                  </a:lnTo>
                  <a:lnTo>
                    <a:pt x="3" y="79"/>
                  </a:lnTo>
                  <a:lnTo>
                    <a:pt x="11" y="58"/>
                  </a:lnTo>
                  <a:lnTo>
                    <a:pt x="24" y="38"/>
                  </a:lnTo>
                  <a:lnTo>
                    <a:pt x="37" y="20"/>
                  </a:lnTo>
                  <a:lnTo>
                    <a:pt x="49" y="0"/>
                  </a:lnTo>
                  <a:lnTo>
                    <a:pt x="47" y="13"/>
                  </a:lnTo>
                  <a:lnTo>
                    <a:pt x="37" y="43"/>
                  </a:lnTo>
                  <a:lnTo>
                    <a:pt x="28" y="81"/>
                  </a:lnTo>
                  <a:lnTo>
                    <a:pt x="2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39760" y="5256720"/>
              <a:ext cx="106920" cy="4896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131" y="41"/>
                  </a:moveTo>
                  <a:lnTo>
                    <a:pt x="131" y="46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4" y="53"/>
                  </a:lnTo>
                  <a:lnTo>
                    <a:pt x="118" y="53"/>
                  </a:lnTo>
                  <a:lnTo>
                    <a:pt x="114" y="49"/>
                  </a:lnTo>
                  <a:lnTo>
                    <a:pt x="111" y="45"/>
                  </a:lnTo>
                  <a:lnTo>
                    <a:pt x="106" y="41"/>
                  </a:lnTo>
                  <a:lnTo>
                    <a:pt x="103" y="46"/>
                  </a:lnTo>
                  <a:lnTo>
                    <a:pt x="100" y="51"/>
                  </a:lnTo>
                  <a:lnTo>
                    <a:pt x="95" y="56"/>
                  </a:lnTo>
                  <a:lnTo>
                    <a:pt x="90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60" y="54"/>
                  </a:lnTo>
                  <a:lnTo>
                    <a:pt x="55" y="46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7" y="28"/>
                  </a:lnTo>
                  <a:lnTo>
                    <a:pt x="19" y="30"/>
                  </a:lnTo>
                  <a:lnTo>
                    <a:pt x="13" y="31"/>
                  </a:lnTo>
                  <a:lnTo>
                    <a:pt x="6" y="31"/>
                  </a:lnTo>
                  <a:lnTo>
                    <a:pt x="0" y="30"/>
                  </a:lnTo>
                  <a:lnTo>
                    <a:pt x="3" y="22"/>
                  </a:lnTo>
                  <a:lnTo>
                    <a:pt x="9" y="17"/>
                  </a:lnTo>
                  <a:lnTo>
                    <a:pt x="16" y="12"/>
                  </a:lnTo>
                  <a:lnTo>
                    <a:pt x="23" y="8"/>
                  </a:lnTo>
                  <a:lnTo>
                    <a:pt x="37" y="4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2" y="5"/>
                  </a:lnTo>
                  <a:lnTo>
                    <a:pt x="96" y="10"/>
                  </a:lnTo>
                  <a:lnTo>
                    <a:pt x="109" y="18"/>
                  </a:lnTo>
                  <a:lnTo>
                    <a:pt x="121" y="30"/>
                  </a:lnTo>
                  <a:lnTo>
                    <a:pt x="13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6200" y="5250240"/>
              <a:ext cx="23040" cy="76680"/>
            </a:xfrm>
            <a:custGeom>
              <a:avLst/>
              <a:gdLst/>
              <a:ahLst/>
              <a:rect l="l" t="t" r="r" b="b"/>
              <a:pathLst>
                <a:path w="26" h="94">
                  <a:moveTo>
                    <a:pt x="21" y="33"/>
                  </a:moveTo>
                  <a:lnTo>
                    <a:pt x="24" y="48"/>
                  </a:lnTo>
                  <a:lnTo>
                    <a:pt x="26" y="64"/>
                  </a:lnTo>
                  <a:lnTo>
                    <a:pt x="24" y="80"/>
                  </a:lnTo>
                  <a:lnTo>
                    <a:pt x="16" y="94"/>
                  </a:lnTo>
                  <a:lnTo>
                    <a:pt x="1" y="85"/>
                  </a:lnTo>
                  <a:lnTo>
                    <a:pt x="3" y="72"/>
                  </a:lnTo>
                  <a:lnTo>
                    <a:pt x="8" y="54"/>
                  </a:lnTo>
                  <a:lnTo>
                    <a:pt x="8" y="36"/>
                  </a:lnTo>
                  <a:lnTo>
                    <a:pt x="6" y="26"/>
                  </a:lnTo>
                  <a:lnTo>
                    <a:pt x="5" y="18"/>
                  </a:lnTo>
                  <a:lnTo>
                    <a:pt x="1" y="1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3" y="13"/>
                  </a:lnTo>
                  <a:lnTo>
                    <a:pt x="18" y="23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02400" y="5279400"/>
              <a:ext cx="9360" cy="7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2"/>
                  </a:moveTo>
                  <a:lnTo>
                    <a:pt x="13" y="3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56880" y="5373000"/>
              <a:ext cx="57240" cy="259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20"/>
                  </a:moveTo>
                  <a:lnTo>
                    <a:pt x="64" y="23"/>
                  </a:lnTo>
                  <a:lnTo>
                    <a:pt x="58" y="25"/>
                  </a:lnTo>
                  <a:lnTo>
                    <a:pt x="51" y="28"/>
                  </a:lnTo>
                  <a:lnTo>
                    <a:pt x="43" y="29"/>
                  </a:lnTo>
                  <a:lnTo>
                    <a:pt x="36" y="31"/>
                  </a:lnTo>
                  <a:lnTo>
                    <a:pt x="30" y="31"/>
                  </a:lnTo>
                  <a:lnTo>
                    <a:pt x="21" y="29"/>
                  </a:lnTo>
                  <a:lnTo>
                    <a:pt x="15" y="28"/>
                  </a:lnTo>
                  <a:lnTo>
                    <a:pt x="10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8"/>
                  </a:lnTo>
                  <a:lnTo>
                    <a:pt x="20" y="11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51" y="5"/>
                  </a:lnTo>
                  <a:lnTo>
                    <a:pt x="59" y="5"/>
                  </a:lnTo>
                  <a:lnTo>
                    <a:pt x="66" y="8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9600" y="5382720"/>
              <a:ext cx="67320" cy="32400"/>
            </a:xfrm>
            <a:custGeom>
              <a:avLst/>
              <a:gdLst/>
              <a:ahLst/>
              <a:rect l="l" t="t" r="r" b="b"/>
              <a:pathLst>
                <a:path w="82" h="40">
                  <a:moveTo>
                    <a:pt x="82" y="5"/>
                  </a:moveTo>
                  <a:lnTo>
                    <a:pt x="80" y="18"/>
                  </a:lnTo>
                  <a:lnTo>
                    <a:pt x="72" y="27"/>
                  </a:lnTo>
                  <a:lnTo>
                    <a:pt x="60" y="35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34" y="40"/>
                  </a:lnTo>
                  <a:lnTo>
                    <a:pt x="26" y="38"/>
                  </a:lnTo>
                  <a:lnTo>
                    <a:pt x="19" y="36"/>
                  </a:lnTo>
                  <a:lnTo>
                    <a:pt x="13" y="35"/>
                  </a:lnTo>
                  <a:lnTo>
                    <a:pt x="8" y="32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3" y="15"/>
                  </a:lnTo>
                  <a:lnTo>
                    <a:pt x="21" y="15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42" y="18"/>
                  </a:lnTo>
                  <a:lnTo>
                    <a:pt x="49" y="18"/>
                  </a:lnTo>
                  <a:lnTo>
                    <a:pt x="55" y="15"/>
                  </a:lnTo>
                  <a:lnTo>
                    <a:pt x="64" y="12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7640" y="5405400"/>
              <a:ext cx="62640" cy="12744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23" y="40"/>
                  </a:moveTo>
                  <a:lnTo>
                    <a:pt x="28" y="53"/>
                  </a:lnTo>
                  <a:lnTo>
                    <a:pt x="35" y="66"/>
                  </a:lnTo>
                  <a:lnTo>
                    <a:pt x="40" y="77"/>
                  </a:lnTo>
                  <a:lnTo>
                    <a:pt x="48" y="90"/>
                  </a:lnTo>
                  <a:lnTo>
                    <a:pt x="55" y="102"/>
                  </a:lnTo>
                  <a:lnTo>
                    <a:pt x="61" y="115"/>
                  </a:lnTo>
                  <a:lnTo>
                    <a:pt x="69" y="126"/>
                  </a:lnTo>
                  <a:lnTo>
                    <a:pt x="76" y="140"/>
                  </a:lnTo>
                  <a:lnTo>
                    <a:pt x="76" y="156"/>
                  </a:lnTo>
                  <a:lnTo>
                    <a:pt x="66" y="153"/>
                  </a:lnTo>
                  <a:lnTo>
                    <a:pt x="56" y="149"/>
                  </a:lnTo>
                  <a:lnTo>
                    <a:pt x="46" y="143"/>
                  </a:lnTo>
                  <a:lnTo>
                    <a:pt x="37" y="136"/>
                  </a:lnTo>
                  <a:lnTo>
                    <a:pt x="28" y="130"/>
                  </a:lnTo>
                  <a:lnTo>
                    <a:pt x="22" y="120"/>
                  </a:lnTo>
                  <a:lnTo>
                    <a:pt x="15" y="112"/>
                  </a:lnTo>
                  <a:lnTo>
                    <a:pt x="10" y="102"/>
                  </a:lnTo>
                  <a:lnTo>
                    <a:pt x="5" y="77"/>
                  </a:lnTo>
                  <a:lnTo>
                    <a:pt x="4" y="51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" y="4"/>
                  </a:lnTo>
                  <a:lnTo>
                    <a:pt x="17" y="15"/>
                  </a:lnTo>
                  <a:lnTo>
                    <a:pt x="19" y="28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10800" y="5434920"/>
              <a:ext cx="198000" cy="79920"/>
            </a:xfrm>
            <a:custGeom>
              <a:avLst/>
              <a:gdLst/>
              <a:ahLst/>
              <a:rect l="l" t="t" r="r" b="b"/>
              <a:pathLst>
                <a:path w="240" h="97">
                  <a:moveTo>
                    <a:pt x="223" y="48"/>
                  </a:moveTo>
                  <a:lnTo>
                    <a:pt x="228" y="48"/>
                  </a:lnTo>
                  <a:lnTo>
                    <a:pt x="233" y="48"/>
                  </a:lnTo>
                  <a:lnTo>
                    <a:pt x="238" y="50"/>
                  </a:lnTo>
                  <a:lnTo>
                    <a:pt x="240" y="54"/>
                  </a:lnTo>
                  <a:lnTo>
                    <a:pt x="235" y="63"/>
                  </a:lnTo>
                  <a:lnTo>
                    <a:pt x="228" y="68"/>
                  </a:lnTo>
                  <a:lnTo>
                    <a:pt x="220" y="74"/>
                  </a:lnTo>
                  <a:lnTo>
                    <a:pt x="212" y="77"/>
                  </a:lnTo>
                  <a:lnTo>
                    <a:pt x="194" y="87"/>
                  </a:lnTo>
                  <a:lnTo>
                    <a:pt x="176" y="94"/>
                  </a:lnTo>
                  <a:lnTo>
                    <a:pt x="156" y="97"/>
                  </a:lnTo>
                  <a:lnTo>
                    <a:pt x="135" y="97"/>
                  </a:lnTo>
                  <a:lnTo>
                    <a:pt x="115" y="95"/>
                  </a:lnTo>
                  <a:lnTo>
                    <a:pt x="96" y="92"/>
                  </a:lnTo>
                  <a:lnTo>
                    <a:pt x="76" y="86"/>
                  </a:lnTo>
                  <a:lnTo>
                    <a:pt x="58" y="77"/>
                  </a:lnTo>
                  <a:lnTo>
                    <a:pt x="48" y="69"/>
                  </a:lnTo>
                  <a:lnTo>
                    <a:pt x="40" y="61"/>
                  </a:lnTo>
                  <a:lnTo>
                    <a:pt x="30" y="53"/>
                  </a:lnTo>
                  <a:lnTo>
                    <a:pt x="22" y="45"/>
                  </a:lnTo>
                  <a:lnTo>
                    <a:pt x="15" y="36"/>
                  </a:lnTo>
                  <a:lnTo>
                    <a:pt x="9" y="27"/>
                  </a:lnTo>
                  <a:lnTo>
                    <a:pt x="4" y="15"/>
                  </a:lnTo>
                  <a:lnTo>
                    <a:pt x="0" y="4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36" y="9"/>
                  </a:lnTo>
                  <a:lnTo>
                    <a:pt x="48" y="12"/>
                  </a:lnTo>
                  <a:lnTo>
                    <a:pt x="71" y="12"/>
                  </a:lnTo>
                  <a:lnTo>
                    <a:pt x="94" y="15"/>
                  </a:lnTo>
                  <a:lnTo>
                    <a:pt x="117" y="18"/>
                  </a:lnTo>
                  <a:lnTo>
                    <a:pt x="138" y="23"/>
                  </a:lnTo>
                  <a:lnTo>
                    <a:pt x="161" y="28"/>
                  </a:lnTo>
                  <a:lnTo>
                    <a:pt x="182" y="35"/>
                  </a:lnTo>
                  <a:lnTo>
                    <a:pt x="202" y="41"/>
                  </a:lnTo>
                  <a:lnTo>
                    <a:pt x="22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43920" y="5457600"/>
              <a:ext cx="126360" cy="4068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141" y="30"/>
                  </a:moveTo>
                  <a:lnTo>
                    <a:pt x="154" y="33"/>
                  </a:lnTo>
                  <a:lnTo>
                    <a:pt x="141" y="41"/>
                  </a:lnTo>
                  <a:lnTo>
                    <a:pt x="128" y="46"/>
                  </a:lnTo>
                  <a:lnTo>
                    <a:pt x="113" y="49"/>
                  </a:lnTo>
                  <a:lnTo>
                    <a:pt x="98" y="49"/>
                  </a:lnTo>
                  <a:lnTo>
                    <a:pt x="83" y="48"/>
                  </a:lnTo>
                  <a:lnTo>
                    <a:pt x="69" y="44"/>
                  </a:lnTo>
                  <a:lnTo>
                    <a:pt x="54" y="41"/>
                  </a:lnTo>
                  <a:lnTo>
                    <a:pt x="39" y="36"/>
                  </a:lnTo>
                  <a:lnTo>
                    <a:pt x="28" y="28"/>
                  </a:lnTo>
                  <a:lnTo>
                    <a:pt x="18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6" y="5"/>
                  </a:lnTo>
                  <a:lnTo>
                    <a:pt x="56" y="7"/>
                  </a:lnTo>
                  <a:lnTo>
                    <a:pt x="74" y="8"/>
                  </a:lnTo>
                  <a:lnTo>
                    <a:pt x="92" y="12"/>
                  </a:lnTo>
                  <a:lnTo>
                    <a:pt x="110" y="15"/>
                  </a:lnTo>
                  <a:lnTo>
                    <a:pt x="126" y="22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42120" y="5508720"/>
              <a:ext cx="70920" cy="33840"/>
            </a:xfrm>
            <a:custGeom>
              <a:avLst/>
              <a:gdLst/>
              <a:ahLst/>
              <a:rect l="l" t="t" r="r" b="b"/>
              <a:pathLst>
                <a:path w="85" h="41">
                  <a:moveTo>
                    <a:pt x="85" y="28"/>
                  </a:moveTo>
                  <a:lnTo>
                    <a:pt x="85" y="33"/>
                  </a:lnTo>
                  <a:lnTo>
                    <a:pt x="82" y="38"/>
                  </a:lnTo>
                  <a:lnTo>
                    <a:pt x="76" y="40"/>
                  </a:lnTo>
                  <a:lnTo>
                    <a:pt x="71" y="41"/>
                  </a:lnTo>
                  <a:lnTo>
                    <a:pt x="62" y="41"/>
                  </a:lnTo>
                  <a:lnTo>
                    <a:pt x="54" y="41"/>
                  </a:lnTo>
                  <a:lnTo>
                    <a:pt x="46" y="40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3" y="37"/>
                  </a:lnTo>
                  <a:lnTo>
                    <a:pt x="17" y="33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3" y="12"/>
                  </a:lnTo>
                  <a:lnTo>
                    <a:pt x="33" y="15"/>
                  </a:lnTo>
                  <a:lnTo>
                    <a:pt x="39" y="17"/>
                  </a:lnTo>
                  <a:lnTo>
                    <a:pt x="46" y="20"/>
                  </a:lnTo>
                  <a:lnTo>
                    <a:pt x="53" y="22"/>
                  </a:lnTo>
                  <a:lnTo>
                    <a:pt x="59" y="23"/>
                  </a:lnTo>
                  <a:lnTo>
                    <a:pt x="66" y="25"/>
                  </a:lnTo>
                  <a:lnTo>
                    <a:pt x="72" y="27"/>
                  </a:lnTo>
                  <a:lnTo>
                    <a:pt x="79" y="28"/>
                  </a:lnTo>
                  <a:lnTo>
                    <a:pt x="8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1880" y="5550840"/>
              <a:ext cx="286560" cy="137160"/>
            </a:xfrm>
            <a:custGeom>
              <a:avLst/>
              <a:gdLst/>
              <a:ahLst/>
              <a:rect l="l" t="t" r="r" b="b"/>
              <a:pathLst>
                <a:path w="348" h="167">
                  <a:moveTo>
                    <a:pt x="236" y="111"/>
                  </a:moveTo>
                  <a:lnTo>
                    <a:pt x="243" y="108"/>
                  </a:lnTo>
                  <a:lnTo>
                    <a:pt x="251" y="108"/>
                  </a:lnTo>
                  <a:lnTo>
                    <a:pt x="259" y="108"/>
                  </a:lnTo>
                  <a:lnTo>
                    <a:pt x="267" y="107"/>
                  </a:lnTo>
                  <a:lnTo>
                    <a:pt x="279" y="103"/>
                  </a:lnTo>
                  <a:lnTo>
                    <a:pt x="289" y="100"/>
                  </a:lnTo>
                  <a:lnTo>
                    <a:pt x="299" y="93"/>
                  </a:lnTo>
                  <a:lnTo>
                    <a:pt x="308" y="88"/>
                  </a:lnTo>
                  <a:lnTo>
                    <a:pt x="318" y="82"/>
                  </a:lnTo>
                  <a:lnTo>
                    <a:pt x="328" y="75"/>
                  </a:lnTo>
                  <a:lnTo>
                    <a:pt x="338" y="70"/>
                  </a:lnTo>
                  <a:lnTo>
                    <a:pt x="348" y="64"/>
                  </a:lnTo>
                  <a:lnTo>
                    <a:pt x="346" y="85"/>
                  </a:lnTo>
                  <a:lnTo>
                    <a:pt x="341" y="108"/>
                  </a:lnTo>
                  <a:lnTo>
                    <a:pt x="335" y="133"/>
                  </a:lnTo>
                  <a:lnTo>
                    <a:pt x="327" y="154"/>
                  </a:lnTo>
                  <a:lnTo>
                    <a:pt x="307" y="159"/>
                  </a:lnTo>
                  <a:lnTo>
                    <a:pt x="287" y="162"/>
                  </a:lnTo>
                  <a:lnTo>
                    <a:pt x="266" y="166"/>
                  </a:lnTo>
                  <a:lnTo>
                    <a:pt x="246" y="167"/>
                  </a:lnTo>
                  <a:lnTo>
                    <a:pt x="225" y="167"/>
                  </a:lnTo>
                  <a:lnTo>
                    <a:pt x="204" y="167"/>
                  </a:lnTo>
                  <a:lnTo>
                    <a:pt x="181" y="166"/>
                  </a:lnTo>
                  <a:lnTo>
                    <a:pt x="159" y="162"/>
                  </a:lnTo>
                  <a:lnTo>
                    <a:pt x="138" y="159"/>
                  </a:lnTo>
                  <a:lnTo>
                    <a:pt x="118" y="154"/>
                  </a:lnTo>
                  <a:lnTo>
                    <a:pt x="97" y="149"/>
                  </a:lnTo>
                  <a:lnTo>
                    <a:pt x="77" y="143"/>
                  </a:lnTo>
                  <a:lnTo>
                    <a:pt x="59" y="134"/>
                  </a:lnTo>
                  <a:lnTo>
                    <a:pt x="40" y="125"/>
                  </a:lnTo>
                  <a:lnTo>
                    <a:pt x="23" y="113"/>
                  </a:lnTo>
                  <a:lnTo>
                    <a:pt x="7" y="102"/>
                  </a:lnTo>
                  <a:lnTo>
                    <a:pt x="2" y="77"/>
                  </a:lnTo>
                  <a:lnTo>
                    <a:pt x="0" y="52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6" y="25"/>
                  </a:lnTo>
                  <a:lnTo>
                    <a:pt x="53" y="46"/>
                  </a:lnTo>
                  <a:lnTo>
                    <a:pt x="81" y="66"/>
                  </a:lnTo>
                  <a:lnTo>
                    <a:pt x="108" y="82"/>
                  </a:lnTo>
                  <a:lnTo>
                    <a:pt x="138" y="95"/>
                  </a:lnTo>
                  <a:lnTo>
                    <a:pt x="169" y="105"/>
                  </a:lnTo>
                  <a:lnTo>
                    <a:pt x="202" y="111"/>
                  </a:lnTo>
                  <a:lnTo>
                    <a:pt x="236" y="1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5657040"/>
              <a:ext cx="7920" cy="3564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8" y="43"/>
                  </a:moveTo>
                  <a:lnTo>
                    <a:pt x="0" y="35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1" y="0"/>
                  </a:lnTo>
                  <a:lnTo>
                    <a:pt x="6" y="9"/>
                  </a:lnTo>
                  <a:lnTo>
                    <a:pt x="8" y="20"/>
                  </a:lnTo>
                  <a:lnTo>
                    <a:pt x="9" y="32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0440" y="5675040"/>
              <a:ext cx="7920" cy="226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1"/>
                  </a:moveTo>
                  <a:lnTo>
                    <a:pt x="9" y="8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6" y="28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8"/>
                  </a:lnTo>
                  <a:lnTo>
                    <a:pt x="1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85400" y="5707800"/>
              <a:ext cx="9360" cy="190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6"/>
                  </a:moveTo>
                  <a:lnTo>
                    <a:pt x="11" y="11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0" y="5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2360" y="5711040"/>
              <a:ext cx="11520" cy="2772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3" y="5"/>
                  </a:moveTo>
                  <a:lnTo>
                    <a:pt x="13" y="13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0240" y="6279840"/>
              <a:ext cx="434520" cy="171360"/>
            </a:xfrm>
            <a:custGeom>
              <a:avLst/>
              <a:gdLst/>
              <a:ahLst/>
              <a:rect l="l" t="t" r="r" b="b"/>
              <a:pathLst>
                <a:path w="529" h="210">
                  <a:moveTo>
                    <a:pt x="519" y="76"/>
                  </a:moveTo>
                  <a:lnTo>
                    <a:pt x="529" y="97"/>
                  </a:lnTo>
                  <a:lnTo>
                    <a:pt x="519" y="89"/>
                  </a:lnTo>
                  <a:lnTo>
                    <a:pt x="507" y="82"/>
                  </a:lnTo>
                  <a:lnTo>
                    <a:pt x="496" y="77"/>
                  </a:lnTo>
                  <a:lnTo>
                    <a:pt x="483" y="74"/>
                  </a:lnTo>
                  <a:lnTo>
                    <a:pt x="471" y="69"/>
                  </a:lnTo>
                  <a:lnTo>
                    <a:pt x="460" y="62"/>
                  </a:lnTo>
                  <a:lnTo>
                    <a:pt x="448" y="56"/>
                  </a:lnTo>
                  <a:lnTo>
                    <a:pt x="438" y="46"/>
                  </a:lnTo>
                  <a:lnTo>
                    <a:pt x="429" y="54"/>
                  </a:lnTo>
                  <a:lnTo>
                    <a:pt x="438" y="66"/>
                  </a:lnTo>
                  <a:lnTo>
                    <a:pt x="448" y="74"/>
                  </a:lnTo>
                  <a:lnTo>
                    <a:pt x="460" y="82"/>
                  </a:lnTo>
                  <a:lnTo>
                    <a:pt x="473" y="87"/>
                  </a:lnTo>
                  <a:lnTo>
                    <a:pt x="484" y="94"/>
                  </a:lnTo>
                  <a:lnTo>
                    <a:pt x="497" y="100"/>
                  </a:lnTo>
                  <a:lnTo>
                    <a:pt x="509" y="105"/>
                  </a:lnTo>
                  <a:lnTo>
                    <a:pt x="520" y="112"/>
                  </a:lnTo>
                  <a:lnTo>
                    <a:pt x="522" y="118"/>
                  </a:lnTo>
                  <a:lnTo>
                    <a:pt x="524" y="125"/>
                  </a:lnTo>
                  <a:lnTo>
                    <a:pt x="525" y="133"/>
                  </a:lnTo>
                  <a:lnTo>
                    <a:pt x="524" y="140"/>
                  </a:lnTo>
                  <a:lnTo>
                    <a:pt x="511" y="131"/>
                  </a:lnTo>
                  <a:lnTo>
                    <a:pt x="497" y="125"/>
                  </a:lnTo>
                  <a:lnTo>
                    <a:pt x="484" y="118"/>
                  </a:lnTo>
                  <a:lnTo>
                    <a:pt x="471" y="110"/>
                  </a:lnTo>
                  <a:lnTo>
                    <a:pt x="458" y="103"/>
                  </a:lnTo>
                  <a:lnTo>
                    <a:pt x="445" y="95"/>
                  </a:lnTo>
                  <a:lnTo>
                    <a:pt x="432" y="87"/>
                  </a:lnTo>
                  <a:lnTo>
                    <a:pt x="419" y="79"/>
                  </a:lnTo>
                  <a:lnTo>
                    <a:pt x="414" y="84"/>
                  </a:lnTo>
                  <a:lnTo>
                    <a:pt x="415" y="90"/>
                  </a:lnTo>
                  <a:lnTo>
                    <a:pt x="419" y="97"/>
                  </a:lnTo>
                  <a:lnTo>
                    <a:pt x="420" y="103"/>
                  </a:lnTo>
                  <a:lnTo>
                    <a:pt x="432" y="110"/>
                  </a:lnTo>
                  <a:lnTo>
                    <a:pt x="443" y="118"/>
                  </a:lnTo>
                  <a:lnTo>
                    <a:pt x="455" y="125"/>
                  </a:lnTo>
                  <a:lnTo>
                    <a:pt x="468" y="131"/>
                  </a:lnTo>
                  <a:lnTo>
                    <a:pt x="479" y="138"/>
                  </a:lnTo>
                  <a:lnTo>
                    <a:pt x="491" y="144"/>
                  </a:lnTo>
                  <a:lnTo>
                    <a:pt x="504" y="151"/>
                  </a:lnTo>
                  <a:lnTo>
                    <a:pt x="515" y="158"/>
                  </a:lnTo>
                  <a:lnTo>
                    <a:pt x="520" y="164"/>
                  </a:lnTo>
                  <a:lnTo>
                    <a:pt x="520" y="171"/>
                  </a:lnTo>
                  <a:lnTo>
                    <a:pt x="520" y="179"/>
                  </a:lnTo>
                  <a:lnTo>
                    <a:pt x="520" y="187"/>
                  </a:lnTo>
                  <a:lnTo>
                    <a:pt x="506" y="176"/>
                  </a:lnTo>
                  <a:lnTo>
                    <a:pt x="491" y="167"/>
                  </a:lnTo>
                  <a:lnTo>
                    <a:pt x="474" y="161"/>
                  </a:lnTo>
                  <a:lnTo>
                    <a:pt x="456" y="154"/>
                  </a:lnTo>
                  <a:lnTo>
                    <a:pt x="440" y="149"/>
                  </a:lnTo>
                  <a:lnTo>
                    <a:pt x="424" y="143"/>
                  </a:lnTo>
                  <a:lnTo>
                    <a:pt x="407" y="135"/>
                  </a:lnTo>
                  <a:lnTo>
                    <a:pt x="392" y="123"/>
                  </a:lnTo>
                  <a:lnTo>
                    <a:pt x="384" y="130"/>
                  </a:lnTo>
                  <a:lnTo>
                    <a:pt x="396" y="143"/>
                  </a:lnTo>
                  <a:lnTo>
                    <a:pt x="409" y="153"/>
                  </a:lnTo>
                  <a:lnTo>
                    <a:pt x="422" y="163"/>
                  </a:lnTo>
                  <a:lnTo>
                    <a:pt x="435" y="171"/>
                  </a:lnTo>
                  <a:lnTo>
                    <a:pt x="450" y="179"/>
                  </a:lnTo>
                  <a:lnTo>
                    <a:pt x="465" y="185"/>
                  </a:lnTo>
                  <a:lnTo>
                    <a:pt x="478" y="195"/>
                  </a:lnTo>
                  <a:lnTo>
                    <a:pt x="491" y="205"/>
                  </a:lnTo>
                  <a:lnTo>
                    <a:pt x="468" y="210"/>
                  </a:lnTo>
                  <a:lnTo>
                    <a:pt x="447" y="208"/>
                  </a:lnTo>
                  <a:lnTo>
                    <a:pt x="424" y="207"/>
                  </a:lnTo>
                  <a:lnTo>
                    <a:pt x="402" y="202"/>
                  </a:lnTo>
                  <a:lnTo>
                    <a:pt x="381" y="199"/>
                  </a:lnTo>
                  <a:lnTo>
                    <a:pt x="361" y="197"/>
                  </a:lnTo>
                  <a:lnTo>
                    <a:pt x="340" y="200"/>
                  </a:lnTo>
                  <a:lnTo>
                    <a:pt x="319" y="207"/>
                  </a:lnTo>
                  <a:lnTo>
                    <a:pt x="297" y="205"/>
                  </a:lnTo>
                  <a:lnTo>
                    <a:pt x="274" y="207"/>
                  </a:lnTo>
                  <a:lnTo>
                    <a:pt x="250" y="208"/>
                  </a:lnTo>
                  <a:lnTo>
                    <a:pt x="227" y="208"/>
                  </a:lnTo>
                  <a:lnTo>
                    <a:pt x="204" y="208"/>
                  </a:lnTo>
                  <a:lnTo>
                    <a:pt x="183" y="205"/>
                  </a:lnTo>
                  <a:lnTo>
                    <a:pt x="161" y="199"/>
                  </a:lnTo>
                  <a:lnTo>
                    <a:pt x="143" y="187"/>
                  </a:lnTo>
                  <a:lnTo>
                    <a:pt x="135" y="184"/>
                  </a:lnTo>
                  <a:lnTo>
                    <a:pt x="125" y="179"/>
                  </a:lnTo>
                  <a:lnTo>
                    <a:pt x="117" y="174"/>
                  </a:lnTo>
                  <a:lnTo>
                    <a:pt x="109" y="171"/>
                  </a:lnTo>
                  <a:lnTo>
                    <a:pt x="99" y="167"/>
                  </a:lnTo>
                  <a:lnTo>
                    <a:pt x="91" y="166"/>
                  </a:lnTo>
                  <a:lnTo>
                    <a:pt x="81" y="167"/>
                  </a:lnTo>
                  <a:lnTo>
                    <a:pt x="71" y="171"/>
                  </a:lnTo>
                  <a:lnTo>
                    <a:pt x="71" y="179"/>
                  </a:lnTo>
                  <a:lnTo>
                    <a:pt x="78" y="182"/>
                  </a:lnTo>
                  <a:lnTo>
                    <a:pt x="84" y="185"/>
                  </a:lnTo>
                  <a:lnTo>
                    <a:pt x="89" y="190"/>
                  </a:lnTo>
                  <a:lnTo>
                    <a:pt x="81" y="192"/>
                  </a:lnTo>
                  <a:lnTo>
                    <a:pt x="71" y="192"/>
                  </a:lnTo>
                  <a:lnTo>
                    <a:pt x="61" y="194"/>
                  </a:lnTo>
                  <a:lnTo>
                    <a:pt x="50" y="194"/>
                  </a:lnTo>
                  <a:lnTo>
                    <a:pt x="38" y="194"/>
                  </a:lnTo>
                  <a:lnTo>
                    <a:pt x="27" y="194"/>
                  </a:lnTo>
                  <a:lnTo>
                    <a:pt x="15" y="190"/>
                  </a:lnTo>
                  <a:lnTo>
                    <a:pt x="7" y="187"/>
                  </a:lnTo>
                  <a:lnTo>
                    <a:pt x="2" y="158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14" y="69"/>
                  </a:lnTo>
                  <a:lnTo>
                    <a:pt x="30" y="67"/>
                  </a:lnTo>
                  <a:lnTo>
                    <a:pt x="46" y="62"/>
                  </a:lnTo>
                  <a:lnTo>
                    <a:pt x="61" y="56"/>
                  </a:lnTo>
                  <a:lnTo>
                    <a:pt x="76" y="49"/>
                  </a:lnTo>
                  <a:lnTo>
                    <a:pt x="91" y="43"/>
                  </a:lnTo>
                  <a:lnTo>
                    <a:pt x="105" y="40"/>
                  </a:lnTo>
                  <a:lnTo>
                    <a:pt x="122" y="38"/>
                  </a:lnTo>
                  <a:lnTo>
                    <a:pt x="140" y="43"/>
                  </a:lnTo>
                  <a:lnTo>
                    <a:pt x="171" y="44"/>
                  </a:lnTo>
                  <a:lnTo>
                    <a:pt x="201" y="41"/>
                  </a:lnTo>
                  <a:lnTo>
                    <a:pt x="230" y="38"/>
                  </a:lnTo>
                  <a:lnTo>
                    <a:pt x="260" y="31"/>
                  </a:lnTo>
                  <a:lnTo>
                    <a:pt x="287" y="25"/>
                  </a:lnTo>
                  <a:lnTo>
                    <a:pt x="317" y="17"/>
                  </a:lnTo>
                  <a:lnTo>
                    <a:pt x="345" y="8"/>
                  </a:lnTo>
                  <a:lnTo>
                    <a:pt x="373" y="0"/>
                  </a:lnTo>
                  <a:lnTo>
                    <a:pt x="394" y="3"/>
                  </a:lnTo>
                  <a:lnTo>
                    <a:pt x="414" y="8"/>
                  </a:lnTo>
                  <a:lnTo>
                    <a:pt x="433" y="17"/>
                  </a:lnTo>
                  <a:lnTo>
                    <a:pt x="452" y="26"/>
                  </a:lnTo>
                  <a:lnTo>
                    <a:pt x="468" y="38"/>
                  </a:lnTo>
                  <a:lnTo>
                    <a:pt x="486" y="49"/>
                  </a:lnTo>
                  <a:lnTo>
                    <a:pt x="502" y="62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25320" y="6310800"/>
              <a:ext cx="29880" cy="1764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2" y="21"/>
                  </a:moveTo>
                  <a:lnTo>
                    <a:pt x="24" y="16"/>
                  </a:lnTo>
                  <a:lnTo>
                    <a:pt x="14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6" y="3"/>
                  </a:lnTo>
                  <a:lnTo>
                    <a:pt x="34" y="8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21320" y="6307560"/>
              <a:ext cx="92160" cy="14364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82" y="173"/>
                  </a:moveTo>
                  <a:lnTo>
                    <a:pt x="70" y="172"/>
                  </a:lnTo>
                  <a:lnTo>
                    <a:pt x="57" y="173"/>
                  </a:lnTo>
                  <a:lnTo>
                    <a:pt x="43" y="173"/>
                  </a:lnTo>
                  <a:lnTo>
                    <a:pt x="29" y="175"/>
                  </a:lnTo>
                  <a:lnTo>
                    <a:pt x="16" y="173"/>
                  </a:lnTo>
                  <a:lnTo>
                    <a:pt x="6" y="168"/>
                  </a:lnTo>
                  <a:lnTo>
                    <a:pt x="0" y="160"/>
                  </a:lnTo>
                  <a:lnTo>
                    <a:pt x="0" y="147"/>
                  </a:lnTo>
                  <a:lnTo>
                    <a:pt x="0" y="126"/>
                  </a:lnTo>
                  <a:lnTo>
                    <a:pt x="2" y="106"/>
                  </a:lnTo>
                  <a:lnTo>
                    <a:pt x="5" y="87"/>
                  </a:lnTo>
                  <a:lnTo>
                    <a:pt x="10" y="68"/>
                  </a:lnTo>
                  <a:lnTo>
                    <a:pt x="16" y="50"/>
                  </a:lnTo>
                  <a:lnTo>
                    <a:pt x="26" y="34"/>
                  </a:lnTo>
                  <a:lnTo>
                    <a:pt x="36" y="18"/>
                  </a:lnTo>
                  <a:lnTo>
                    <a:pt x="51" y="5"/>
                  </a:lnTo>
                  <a:lnTo>
                    <a:pt x="111" y="0"/>
                  </a:lnTo>
                  <a:lnTo>
                    <a:pt x="93" y="39"/>
                  </a:lnTo>
                  <a:lnTo>
                    <a:pt x="82" y="83"/>
                  </a:lnTo>
                  <a:lnTo>
                    <a:pt x="77" y="128"/>
                  </a:lnTo>
                  <a:lnTo>
                    <a:pt x="82" y="173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4080" y="6328800"/>
              <a:ext cx="41040" cy="97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0"/>
                  </a:moveTo>
                  <a:lnTo>
                    <a:pt x="49" y="6"/>
                  </a:lnTo>
                  <a:lnTo>
                    <a:pt x="45" y="8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6" y="10"/>
                  </a:lnTo>
                  <a:lnTo>
                    <a:pt x="15" y="10"/>
                  </a:lnTo>
                  <a:lnTo>
                    <a:pt x="5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5800" y="6346800"/>
              <a:ext cx="32760" cy="936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0"/>
                  </a:moveTo>
                  <a:lnTo>
                    <a:pt x="40" y="8"/>
                  </a:lnTo>
                  <a:lnTo>
                    <a:pt x="33" y="11"/>
                  </a:lnTo>
                  <a:lnTo>
                    <a:pt x="25" y="11"/>
                  </a:lnTo>
                  <a:lnTo>
                    <a:pt x="17" y="11"/>
                  </a:lnTo>
                  <a:lnTo>
                    <a:pt x="0" y="11"/>
                  </a:lnTo>
                  <a:lnTo>
                    <a:pt x="5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9320" y="6368040"/>
              <a:ext cx="39600" cy="936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48" y="2"/>
                  </a:moveTo>
                  <a:lnTo>
                    <a:pt x="41" y="12"/>
                  </a:lnTo>
                  <a:lnTo>
                    <a:pt x="30" y="14"/>
                  </a:lnTo>
                  <a:lnTo>
                    <a:pt x="15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4080" y="6469200"/>
              <a:ext cx="1467720" cy="35640"/>
            </a:xfrm>
            <a:custGeom>
              <a:avLst/>
              <a:gdLst/>
              <a:ahLst/>
              <a:rect l="l" t="t" r="r" b="b"/>
              <a:pathLst>
                <a:path w="1781" h="44">
                  <a:moveTo>
                    <a:pt x="1780" y="7"/>
                  </a:moveTo>
                  <a:lnTo>
                    <a:pt x="1781" y="16"/>
                  </a:lnTo>
                  <a:lnTo>
                    <a:pt x="1781" y="26"/>
                  </a:lnTo>
                  <a:lnTo>
                    <a:pt x="1778" y="36"/>
                  </a:lnTo>
                  <a:lnTo>
                    <a:pt x="1771" y="43"/>
                  </a:lnTo>
                  <a:lnTo>
                    <a:pt x="1766" y="43"/>
                  </a:lnTo>
                  <a:lnTo>
                    <a:pt x="1752" y="43"/>
                  </a:lnTo>
                  <a:lnTo>
                    <a:pt x="1727" y="43"/>
                  </a:lnTo>
                  <a:lnTo>
                    <a:pt x="1696" y="43"/>
                  </a:lnTo>
                  <a:lnTo>
                    <a:pt x="1655" y="43"/>
                  </a:lnTo>
                  <a:lnTo>
                    <a:pt x="1609" y="43"/>
                  </a:lnTo>
                  <a:lnTo>
                    <a:pt x="1555" y="43"/>
                  </a:lnTo>
                  <a:lnTo>
                    <a:pt x="1496" y="43"/>
                  </a:lnTo>
                  <a:lnTo>
                    <a:pt x="1430" y="43"/>
                  </a:lnTo>
                  <a:lnTo>
                    <a:pt x="1361" y="43"/>
                  </a:lnTo>
                  <a:lnTo>
                    <a:pt x="1288" y="43"/>
                  </a:lnTo>
                  <a:lnTo>
                    <a:pt x="1212" y="43"/>
                  </a:lnTo>
                  <a:lnTo>
                    <a:pt x="1133" y="43"/>
                  </a:lnTo>
                  <a:lnTo>
                    <a:pt x="1051" y="43"/>
                  </a:lnTo>
                  <a:lnTo>
                    <a:pt x="969" y="43"/>
                  </a:lnTo>
                  <a:lnTo>
                    <a:pt x="887" y="43"/>
                  </a:lnTo>
                  <a:lnTo>
                    <a:pt x="804" y="44"/>
                  </a:lnTo>
                  <a:lnTo>
                    <a:pt x="722" y="44"/>
                  </a:lnTo>
                  <a:lnTo>
                    <a:pt x="641" y="44"/>
                  </a:lnTo>
                  <a:lnTo>
                    <a:pt x="563" y="44"/>
                  </a:lnTo>
                  <a:lnTo>
                    <a:pt x="486" y="44"/>
                  </a:lnTo>
                  <a:lnTo>
                    <a:pt x="413" y="44"/>
                  </a:lnTo>
                  <a:lnTo>
                    <a:pt x="343" y="44"/>
                  </a:lnTo>
                  <a:lnTo>
                    <a:pt x="279" y="44"/>
                  </a:lnTo>
                  <a:lnTo>
                    <a:pt x="220" y="44"/>
                  </a:lnTo>
                  <a:lnTo>
                    <a:pt x="166" y="44"/>
                  </a:lnTo>
                  <a:lnTo>
                    <a:pt x="118" y="44"/>
                  </a:lnTo>
                  <a:lnTo>
                    <a:pt x="79" y="44"/>
                  </a:lnTo>
                  <a:lnTo>
                    <a:pt x="46" y="44"/>
                  </a:lnTo>
                  <a:lnTo>
                    <a:pt x="21" y="44"/>
                  </a:lnTo>
                  <a:lnTo>
                    <a:pt x="7" y="44"/>
                  </a:lnTo>
                  <a:lnTo>
                    <a:pt x="2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7" y="3"/>
                  </a:lnTo>
                  <a:lnTo>
                    <a:pt x="12" y="3"/>
                  </a:lnTo>
                  <a:lnTo>
                    <a:pt x="26" y="3"/>
                  </a:lnTo>
                  <a:lnTo>
                    <a:pt x="51" y="3"/>
                  </a:lnTo>
                  <a:lnTo>
                    <a:pt x="82" y="3"/>
                  </a:lnTo>
                  <a:lnTo>
                    <a:pt x="121" y="3"/>
                  </a:lnTo>
                  <a:lnTo>
                    <a:pt x="169" y="2"/>
                  </a:lnTo>
                  <a:lnTo>
                    <a:pt x="223" y="2"/>
                  </a:lnTo>
                  <a:lnTo>
                    <a:pt x="282" y="2"/>
                  </a:lnTo>
                  <a:lnTo>
                    <a:pt x="346" y="2"/>
                  </a:lnTo>
                  <a:lnTo>
                    <a:pt x="415" y="2"/>
                  </a:lnTo>
                  <a:lnTo>
                    <a:pt x="489" y="2"/>
                  </a:lnTo>
                  <a:lnTo>
                    <a:pt x="564" y="2"/>
                  </a:lnTo>
                  <a:lnTo>
                    <a:pt x="643" y="0"/>
                  </a:lnTo>
                  <a:lnTo>
                    <a:pt x="723" y="0"/>
                  </a:lnTo>
                  <a:lnTo>
                    <a:pt x="805" y="0"/>
                  </a:lnTo>
                  <a:lnTo>
                    <a:pt x="889" y="0"/>
                  </a:lnTo>
                  <a:lnTo>
                    <a:pt x="971" y="0"/>
                  </a:lnTo>
                  <a:lnTo>
                    <a:pt x="1053" y="0"/>
                  </a:lnTo>
                  <a:lnTo>
                    <a:pt x="1133" y="0"/>
                  </a:lnTo>
                  <a:lnTo>
                    <a:pt x="1212" y="0"/>
                  </a:lnTo>
                  <a:lnTo>
                    <a:pt x="1289" y="0"/>
                  </a:lnTo>
                  <a:lnTo>
                    <a:pt x="1363" y="0"/>
                  </a:lnTo>
                  <a:lnTo>
                    <a:pt x="1432" y="0"/>
                  </a:lnTo>
                  <a:lnTo>
                    <a:pt x="1497" y="0"/>
                  </a:lnTo>
                  <a:lnTo>
                    <a:pt x="1557" y="2"/>
                  </a:lnTo>
                  <a:lnTo>
                    <a:pt x="1611" y="2"/>
                  </a:lnTo>
                  <a:lnTo>
                    <a:pt x="1658" y="2"/>
                  </a:lnTo>
                  <a:lnTo>
                    <a:pt x="1699" y="3"/>
                  </a:lnTo>
                  <a:lnTo>
                    <a:pt x="1732" y="3"/>
                  </a:lnTo>
                  <a:lnTo>
                    <a:pt x="1758" y="5"/>
                  </a:lnTo>
                  <a:lnTo>
                    <a:pt x="1773" y="5"/>
                  </a:lnTo>
                  <a:lnTo>
                    <a:pt x="1780" y="7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3400" y="6531480"/>
              <a:ext cx="1380600" cy="223560"/>
            </a:xfrm>
            <a:custGeom>
              <a:avLst/>
              <a:gdLst/>
              <a:ahLst/>
              <a:rect l="l" t="t" r="r" b="b"/>
              <a:pathLst>
                <a:path w="1676" h="276">
                  <a:moveTo>
                    <a:pt x="1676" y="0"/>
                  </a:moveTo>
                  <a:lnTo>
                    <a:pt x="1673" y="35"/>
                  </a:lnTo>
                  <a:lnTo>
                    <a:pt x="1670" y="71"/>
                  </a:lnTo>
                  <a:lnTo>
                    <a:pt x="1665" y="105"/>
                  </a:lnTo>
                  <a:lnTo>
                    <a:pt x="1658" y="141"/>
                  </a:lnTo>
                  <a:lnTo>
                    <a:pt x="1652" y="176"/>
                  </a:lnTo>
                  <a:lnTo>
                    <a:pt x="1645" y="210"/>
                  </a:lnTo>
                  <a:lnTo>
                    <a:pt x="1635" y="243"/>
                  </a:lnTo>
                  <a:lnTo>
                    <a:pt x="1625" y="276"/>
                  </a:lnTo>
                  <a:lnTo>
                    <a:pt x="1621" y="276"/>
                  </a:lnTo>
                  <a:lnTo>
                    <a:pt x="1607" y="276"/>
                  </a:lnTo>
                  <a:lnTo>
                    <a:pt x="1588" y="276"/>
                  </a:lnTo>
                  <a:lnTo>
                    <a:pt x="1558" y="276"/>
                  </a:lnTo>
                  <a:lnTo>
                    <a:pt x="1524" y="276"/>
                  </a:lnTo>
                  <a:lnTo>
                    <a:pt x="1483" y="276"/>
                  </a:lnTo>
                  <a:lnTo>
                    <a:pt x="1435" y="276"/>
                  </a:lnTo>
                  <a:lnTo>
                    <a:pt x="1383" y="276"/>
                  </a:lnTo>
                  <a:lnTo>
                    <a:pt x="1327" y="276"/>
                  </a:lnTo>
                  <a:lnTo>
                    <a:pt x="1266" y="276"/>
                  </a:lnTo>
                  <a:lnTo>
                    <a:pt x="1202" y="276"/>
                  </a:lnTo>
                  <a:lnTo>
                    <a:pt x="1135" y="276"/>
                  </a:lnTo>
                  <a:lnTo>
                    <a:pt x="1066" y="276"/>
                  </a:lnTo>
                  <a:lnTo>
                    <a:pt x="994" y="276"/>
                  </a:lnTo>
                  <a:lnTo>
                    <a:pt x="922" y="276"/>
                  </a:lnTo>
                  <a:lnTo>
                    <a:pt x="850" y="276"/>
                  </a:lnTo>
                  <a:lnTo>
                    <a:pt x="778" y="276"/>
                  </a:lnTo>
                  <a:lnTo>
                    <a:pt x="705" y="276"/>
                  </a:lnTo>
                  <a:lnTo>
                    <a:pt x="633" y="276"/>
                  </a:lnTo>
                  <a:lnTo>
                    <a:pt x="564" y="276"/>
                  </a:lnTo>
                  <a:lnTo>
                    <a:pt x="497" y="276"/>
                  </a:lnTo>
                  <a:lnTo>
                    <a:pt x="433" y="276"/>
                  </a:lnTo>
                  <a:lnTo>
                    <a:pt x="371" y="276"/>
                  </a:lnTo>
                  <a:lnTo>
                    <a:pt x="315" y="276"/>
                  </a:lnTo>
                  <a:lnTo>
                    <a:pt x="261" y="276"/>
                  </a:lnTo>
                  <a:lnTo>
                    <a:pt x="213" y="274"/>
                  </a:lnTo>
                  <a:lnTo>
                    <a:pt x="172" y="274"/>
                  </a:lnTo>
                  <a:lnTo>
                    <a:pt x="136" y="274"/>
                  </a:lnTo>
                  <a:lnTo>
                    <a:pt x="107" y="274"/>
                  </a:lnTo>
                  <a:lnTo>
                    <a:pt x="85" y="274"/>
                  </a:lnTo>
                  <a:lnTo>
                    <a:pt x="71" y="274"/>
                  </a:lnTo>
                  <a:lnTo>
                    <a:pt x="66" y="274"/>
                  </a:lnTo>
                  <a:lnTo>
                    <a:pt x="0" y="5"/>
                  </a:lnTo>
                  <a:lnTo>
                    <a:pt x="1676" y="0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074840" y="152388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Middle Sch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C91-C538-454B-BFAF-8656FF44A37F}" type="slidenum">
              <a:t>16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61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228600" y="3411360"/>
            <a:ext cx="3657600" cy="34466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234680" y="15238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High Scho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23623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ing college aspir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planning &amp; inf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&amp; professional develop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921-A7BB-4326-B33D-7DD7AE4318FE}" type="slidenum">
              <a:t>17</a:t>
            </a:fld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72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76320" y="2743200"/>
            <a:ext cx="3498840" cy="426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0560" y="1523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Colle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36232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-based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larshi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LEP &amp; alternative loa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4AD-5FF6-4FA0-A7A5-C0E996D31E10}" type="slidenum">
              <a:t>18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 Continuum of Servi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04920" y="1192320"/>
            <a:ext cx="1363680" cy="5654520"/>
            <a:chOff x="304920" y="1192320"/>
            <a:chExt cx="1363680" cy="5654520"/>
          </a:xfrm>
        </p:grpSpPr>
        <p:sp>
          <p:nvSpPr>
            <p:cNvPr id="383" name=""/>
            <p:cNvSpPr/>
            <p:nvPr/>
          </p:nvSpPr>
          <p:spPr>
            <a:xfrm>
              <a:off x="304920" y="1192320"/>
              <a:ext cx="1342440" cy="5654520"/>
            </a:xfrm>
            <a:custGeom>
              <a:avLst/>
              <a:gdLst/>
              <a:ahLst/>
              <a:rect l="l" t="t" r="r" b="b"/>
              <a:pathLst>
                <a:path w="564" h="3562">
                  <a:moveTo>
                    <a:pt x="15" y="3562"/>
                  </a:moveTo>
                  <a:lnTo>
                    <a:pt x="82" y="3550"/>
                  </a:lnTo>
                  <a:lnTo>
                    <a:pt x="150" y="3543"/>
                  </a:lnTo>
                  <a:lnTo>
                    <a:pt x="217" y="3536"/>
                  </a:lnTo>
                  <a:lnTo>
                    <a:pt x="284" y="3532"/>
                  </a:lnTo>
                  <a:lnTo>
                    <a:pt x="351" y="3532"/>
                  </a:lnTo>
                  <a:lnTo>
                    <a:pt x="418" y="3528"/>
                  </a:lnTo>
                  <a:lnTo>
                    <a:pt x="485" y="3528"/>
                  </a:lnTo>
                  <a:lnTo>
                    <a:pt x="552" y="3524"/>
                  </a:lnTo>
                  <a:lnTo>
                    <a:pt x="556" y="3465"/>
                  </a:lnTo>
                  <a:lnTo>
                    <a:pt x="560" y="3402"/>
                  </a:lnTo>
                  <a:lnTo>
                    <a:pt x="562" y="3342"/>
                  </a:lnTo>
                  <a:lnTo>
                    <a:pt x="564" y="3279"/>
                  </a:lnTo>
                  <a:lnTo>
                    <a:pt x="564" y="3153"/>
                  </a:lnTo>
                  <a:lnTo>
                    <a:pt x="560" y="3023"/>
                  </a:lnTo>
                  <a:lnTo>
                    <a:pt x="554" y="2893"/>
                  </a:lnTo>
                  <a:lnTo>
                    <a:pt x="547" y="2759"/>
                  </a:lnTo>
                  <a:lnTo>
                    <a:pt x="537" y="2626"/>
                  </a:lnTo>
                  <a:lnTo>
                    <a:pt x="527" y="2492"/>
                  </a:lnTo>
                  <a:lnTo>
                    <a:pt x="506" y="2221"/>
                  </a:lnTo>
                  <a:lnTo>
                    <a:pt x="491" y="1950"/>
                  </a:lnTo>
                  <a:lnTo>
                    <a:pt x="485" y="1816"/>
                  </a:lnTo>
                  <a:lnTo>
                    <a:pt x="481" y="1682"/>
                  </a:lnTo>
                  <a:lnTo>
                    <a:pt x="481" y="1619"/>
                  </a:lnTo>
                  <a:lnTo>
                    <a:pt x="481" y="1552"/>
                  </a:lnTo>
                  <a:lnTo>
                    <a:pt x="483" y="1485"/>
                  </a:lnTo>
                  <a:lnTo>
                    <a:pt x="485" y="1422"/>
                  </a:lnTo>
                  <a:lnTo>
                    <a:pt x="487" y="1244"/>
                  </a:lnTo>
                  <a:lnTo>
                    <a:pt x="489" y="1066"/>
                  </a:lnTo>
                  <a:lnTo>
                    <a:pt x="493" y="891"/>
                  </a:lnTo>
                  <a:lnTo>
                    <a:pt x="499" y="713"/>
                  </a:lnTo>
                  <a:lnTo>
                    <a:pt x="506" y="538"/>
                  </a:lnTo>
                  <a:lnTo>
                    <a:pt x="516" y="360"/>
                  </a:lnTo>
                  <a:lnTo>
                    <a:pt x="529" y="182"/>
                  </a:lnTo>
                  <a:lnTo>
                    <a:pt x="547" y="3"/>
                  </a:lnTo>
                  <a:lnTo>
                    <a:pt x="487" y="0"/>
                  </a:lnTo>
                  <a:lnTo>
                    <a:pt x="430" y="0"/>
                  </a:lnTo>
                  <a:lnTo>
                    <a:pt x="370" y="3"/>
                  </a:lnTo>
                  <a:lnTo>
                    <a:pt x="311" y="7"/>
                  </a:lnTo>
                  <a:lnTo>
                    <a:pt x="249" y="15"/>
                  </a:lnTo>
                  <a:lnTo>
                    <a:pt x="190" y="22"/>
                  </a:lnTo>
                  <a:lnTo>
                    <a:pt x="129" y="33"/>
                  </a:lnTo>
                  <a:lnTo>
                    <a:pt x="69" y="44"/>
                  </a:lnTo>
                  <a:lnTo>
                    <a:pt x="61" y="67"/>
                  </a:lnTo>
                  <a:lnTo>
                    <a:pt x="50" y="89"/>
                  </a:lnTo>
                  <a:lnTo>
                    <a:pt x="40" y="115"/>
                  </a:lnTo>
                  <a:lnTo>
                    <a:pt x="29" y="137"/>
                  </a:lnTo>
                  <a:lnTo>
                    <a:pt x="19" y="159"/>
                  </a:lnTo>
                  <a:lnTo>
                    <a:pt x="12" y="178"/>
                  </a:lnTo>
                  <a:lnTo>
                    <a:pt x="4" y="200"/>
                  </a:lnTo>
                  <a:lnTo>
                    <a:pt x="0" y="223"/>
                  </a:lnTo>
                  <a:lnTo>
                    <a:pt x="8" y="271"/>
                  </a:lnTo>
                  <a:lnTo>
                    <a:pt x="13" y="315"/>
                  </a:lnTo>
                  <a:lnTo>
                    <a:pt x="19" y="360"/>
                  </a:lnTo>
                  <a:lnTo>
                    <a:pt x="23" y="405"/>
                  </a:lnTo>
                  <a:lnTo>
                    <a:pt x="29" y="445"/>
                  </a:lnTo>
                  <a:lnTo>
                    <a:pt x="33" y="494"/>
                  </a:lnTo>
                  <a:lnTo>
                    <a:pt x="38" y="538"/>
                  </a:lnTo>
                  <a:lnTo>
                    <a:pt x="42" y="583"/>
                  </a:lnTo>
                  <a:lnTo>
                    <a:pt x="54" y="720"/>
                  </a:lnTo>
                  <a:lnTo>
                    <a:pt x="65" y="858"/>
                  </a:lnTo>
                  <a:lnTo>
                    <a:pt x="75" y="995"/>
                  </a:lnTo>
                  <a:lnTo>
                    <a:pt x="82" y="1133"/>
                  </a:lnTo>
                  <a:lnTo>
                    <a:pt x="88" y="1270"/>
                  </a:lnTo>
                  <a:lnTo>
                    <a:pt x="94" y="1407"/>
                  </a:lnTo>
                  <a:lnTo>
                    <a:pt x="96" y="1545"/>
                  </a:lnTo>
                  <a:lnTo>
                    <a:pt x="98" y="1682"/>
                  </a:lnTo>
                  <a:lnTo>
                    <a:pt x="100" y="1816"/>
                  </a:lnTo>
                  <a:lnTo>
                    <a:pt x="100" y="1953"/>
                  </a:lnTo>
                  <a:lnTo>
                    <a:pt x="98" y="2091"/>
                  </a:lnTo>
                  <a:lnTo>
                    <a:pt x="94" y="2228"/>
                  </a:lnTo>
                  <a:lnTo>
                    <a:pt x="90" y="2366"/>
                  </a:lnTo>
                  <a:lnTo>
                    <a:pt x="84" y="2499"/>
                  </a:lnTo>
                  <a:lnTo>
                    <a:pt x="77" y="2637"/>
                  </a:lnTo>
                  <a:lnTo>
                    <a:pt x="69" y="2774"/>
                  </a:lnTo>
                  <a:lnTo>
                    <a:pt x="65" y="2874"/>
                  </a:lnTo>
                  <a:lnTo>
                    <a:pt x="58" y="2975"/>
                  </a:lnTo>
                  <a:lnTo>
                    <a:pt x="48" y="3075"/>
                  </a:lnTo>
                  <a:lnTo>
                    <a:pt x="38" y="3175"/>
                  </a:lnTo>
                  <a:lnTo>
                    <a:pt x="29" y="3272"/>
                  </a:lnTo>
                  <a:lnTo>
                    <a:pt x="21" y="3368"/>
                  </a:lnTo>
                  <a:lnTo>
                    <a:pt x="17" y="3465"/>
                  </a:lnTo>
                  <a:lnTo>
                    <a:pt x="15" y="3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3360" y="6621480"/>
              <a:ext cx="1238400" cy="147600"/>
            </a:xfrm>
            <a:custGeom>
              <a:avLst/>
              <a:gdLst/>
              <a:ahLst/>
              <a:rect l="l" t="t" r="r" b="b"/>
              <a:pathLst>
                <a:path w="520" h="93">
                  <a:moveTo>
                    <a:pt x="0" y="93"/>
                  </a:moveTo>
                  <a:lnTo>
                    <a:pt x="32" y="82"/>
                  </a:lnTo>
                  <a:lnTo>
                    <a:pt x="65" y="78"/>
                  </a:lnTo>
                  <a:lnTo>
                    <a:pt x="98" y="75"/>
                  </a:lnTo>
                  <a:lnTo>
                    <a:pt x="132" y="75"/>
                  </a:lnTo>
                  <a:lnTo>
                    <a:pt x="201" y="75"/>
                  </a:lnTo>
                  <a:lnTo>
                    <a:pt x="270" y="78"/>
                  </a:lnTo>
                  <a:lnTo>
                    <a:pt x="305" y="82"/>
                  </a:lnTo>
                  <a:lnTo>
                    <a:pt x="337" y="78"/>
                  </a:lnTo>
                  <a:lnTo>
                    <a:pt x="370" y="75"/>
                  </a:lnTo>
                  <a:lnTo>
                    <a:pt x="403" y="67"/>
                  </a:lnTo>
                  <a:lnTo>
                    <a:pt x="433" y="60"/>
                  </a:lnTo>
                  <a:lnTo>
                    <a:pt x="464" y="45"/>
                  </a:lnTo>
                  <a:lnTo>
                    <a:pt x="493" y="26"/>
                  </a:lnTo>
                  <a:lnTo>
                    <a:pt x="520" y="0"/>
                  </a:lnTo>
                  <a:lnTo>
                    <a:pt x="454" y="4"/>
                  </a:lnTo>
                  <a:lnTo>
                    <a:pt x="387" y="4"/>
                  </a:lnTo>
                  <a:lnTo>
                    <a:pt x="318" y="0"/>
                  </a:lnTo>
                  <a:lnTo>
                    <a:pt x="251" y="0"/>
                  </a:lnTo>
                  <a:lnTo>
                    <a:pt x="217" y="4"/>
                  </a:lnTo>
                  <a:lnTo>
                    <a:pt x="184" y="8"/>
                  </a:lnTo>
                  <a:lnTo>
                    <a:pt x="149" y="12"/>
                  </a:lnTo>
                  <a:lnTo>
                    <a:pt x="119" y="23"/>
                  </a:lnTo>
                  <a:lnTo>
                    <a:pt x="86" y="34"/>
                  </a:lnTo>
                  <a:lnTo>
                    <a:pt x="57" y="49"/>
                  </a:lnTo>
                  <a:lnTo>
                    <a:pt x="29" y="67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4960" y="1380960"/>
              <a:ext cx="287640" cy="5322960"/>
            </a:xfrm>
            <a:custGeom>
              <a:avLst/>
              <a:gdLst/>
              <a:ahLst/>
              <a:rect l="l" t="t" r="r" b="b"/>
              <a:pathLst>
                <a:path w="121" h="3353">
                  <a:moveTo>
                    <a:pt x="12" y="3353"/>
                  </a:moveTo>
                  <a:lnTo>
                    <a:pt x="33" y="3235"/>
                  </a:lnTo>
                  <a:lnTo>
                    <a:pt x="52" y="3116"/>
                  </a:lnTo>
                  <a:lnTo>
                    <a:pt x="67" y="2993"/>
                  </a:lnTo>
                  <a:lnTo>
                    <a:pt x="81" y="2871"/>
                  </a:lnTo>
                  <a:lnTo>
                    <a:pt x="90" y="2744"/>
                  </a:lnTo>
                  <a:lnTo>
                    <a:pt x="100" y="2618"/>
                  </a:lnTo>
                  <a:lnTo>
                    <a:pt x="108" y="2492"/>
                  </a:lnTo>
                  <a:lnTo>
                    <a:pt x="111" y="2362"/>
                  </a:lnTo>
                  <a:lnTo>
                    <a:pt x="117" y="2232"/>
                  </a:lnTo>
                  <a:lnTo>
                    <a:pt x="119" y="2102"/>
                  </a:lnTo>
                  <a:lnTo>
                    <a:pt x="121" y="1972"/>
                  </a:lnTo>
                  <a:lnTo>
                    <a:pt x="121" y="1842"/>
                  </a:lnTo>
                  <a:lnTo>
                    <a:pt x="121" y="1586"/>
                  </a:lnTo>
                  <a:lnTo>
                    <a:pt x="117" y="1333"/>
                  </a:lnTo>
                  <a:lnTo>
                    <a:pt x="115" y="1166"/>
                  </a:lnTo>
                  <a:lnTo>
                    <a:pt x="109" y="999"/>
                  </a:lnTo>
                  <a:lnTo>
                    <a:pt x="102" y="832"/>
                  </a:lnTo>
                  <a:lnTo>
                    <a:pt x="94" y="664"/>
                  </a:lnTo>
                  <a:lnTo>
                    <a:pt x="83" y="497"/>
                  </a:lnTo>
                  <a:lnTo>
                    <a:pt x="71" y="334"/>
                  </a:lnTo>
                  <a:lnTo>
                    <a:pt x="60" y="167"/>
                  </a:lnTo>
                  <a:lnTo>
                    <a:pt x="44" y="0"/>
                  </a:lnTo>
                  <a:lnTo>
                    <a:pt x="38" y="11"/>
                  </a:lnTo>
                  <a:lnTo>
                    <a:pt x="33" y="18"/>
                  </a:lnTo>
                  <a:lnTo>
                    <a:pt x="25" y="33"/>
                  </a:lnTo>
                  <a:lnTo>
                    <a:pt x="19" y="44"/>
                  </a:lnTo>
                  <a:lnTo>
                    <a:pt x="14" y="59"/>
                  </a:lnTo>
                  <a:lnTo>
                    <a:pt x="8" y="74"/>
                  </a:lnTo>
                  <a:lnTo>
                    <a:pt x="4" y="89"/>
                  </a:lnTo>
                  <a:lnTo>
                    <a:pt x="0" y="104"/>
                  </a:lnTo>
                  <a:lnTo>
                    <a:pt x="15" y="230"/>
                  </a:lnTo>
                  <a:lnTo>
                    <a:pt x="29" y="360"/>
                  </a:lnTo>
                  <a:lnTo>
                    <a:pt x="40" y="490"/>
                  </a:lnTo>
                  <a:lnTo>
                    <a:pt x="52" y="620"/>
                  </a:lnTo>
                  <a:lnTo>
                    <a:pt x="63" y="750"/>
                  </a:lnTo>
                  <a:lnTo>
                    <a:pt x="71" y="876"/>
                  </a:lnTo>
                  <a:lnTo>
                    <a:pt x="81" y="1006"/>
                  </a:lnTo>
                  <a:lnTo>
                    <a:pt x="88" y="1129"/>
                  </a:lnTo>
                  <a:lnTo>
                    <a:pt x="94" y="1262"/>
                  </a:lnTo>
                  <a:lnTo>
                    <a:pt x="98" y="1396"/>
                  </a:lnTo>
                  <a:lnTo>
                    <a:pt x="100" y="1530"/>
                  </a:lnTo>
                  <a:lnTo>
                    <a:pt x="100" y="1664"/>
                  </a:lnTo>
                  <a:lnTo>
                    <a:pt x="100" y="1793"/>
                  </a:lnTo>
                  <a:lnTo>
                    <a:pt x="98" y="1927"/>
                  </a:lnTo>
                  <a:lnTo>
                    <a:pt x="96" y="2057"/>
                  </a:lnTo>
                  <a:lnTo>
                    <a:pt x="92" y="2191"/>
                  </a:lnTo>
                  <a:lnTo>
                    <a:pt x="86" y="2321"/>
                  </a:lnTo>
                  <a:lnTo>
                    <a:pt x="79" y="2455"/>
                  </a:lnTo>
                  <a:lnTo>
                    <a:pt x="71" y="2585"/>
                  </a:lnTo>
                  <a:lnTo>
                    <a:pt x="63" y="2718"/>
                  </a:lnTo>
                  <a:lnTo>
                    <a:pt x="44" y="2982"/>
                  </a:lnTo>
                  <a:lnTo>
                    <a:pt x="21" y="3249"/>
                  </a:lnTo>
                  <a:lnTo>
                    <a:pt x="21" y="3264"/>
                  </a:lnTo>
                  <a:lnTo>
                    <a:pt x="21" y="3275"/>
                  </a:lnTo>
                  <a:lnTo>
                    <a:pt x="19" y="3290"/>
                  </a:lnTo>
                  <a:lnTo>
                    <a:pt x="19" y="3305"/>
                  </a:lnTo>
                  <a:lnTo>
                    <a:pt x="17" y="3316"/>
                  </a:lnTo>
                  <a:lnTo>
                    <a:pt x="15" y="3331"/>
                  </a:lnTo>
                  <a:lnTo>
                    <a:pt x="14" y="3342"/>
                  </a:lnTo>
                  <a:lnTo>
                    <a:pt x="12" y="3353"/>
                  </a:lnTo>
                  <a:close/>
                </a:path>
              </a:pathLst>
            </a:custGeom>
            <a:solidFill>
              <a:srgbClr val="b8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4360" y="1251000"/>
              <a:ext cx="1164240" cy="5359320"/>
            </a:xfrm>
            <a:custGeom>
              <a:avLst/>
              <a:gdLst/>
              <a:ahLst/>
              <a:rect l="l" t="t" r="r" b="b"/>
              <a:pathLst>
                <a:path w="489" h="3376">
                  <a:moveTo>
                    <a:pt x="0" y="3376"/>
                  </a:moveTo>
                  <a:lnTo>
                    <a:pt x="62" y="3365"/>
                  </a:lnTo>
                  <a:lnTo>
                    <a:pt x="123" y="3357"/>
                  </a:lnTo>
                  <a:lnTo>
                    <a:pt x="183" y="3354"/>
                  </a:lnTo>
                  <a:lnTo>
                    <a:pt x="244" y="3346"/>
                  </a:lnTo>
                  <a:lnTo>
                    <a:pt x="305" y="3343"/>
                  </a:lnTo>
                  <a:lnTo>
                    <a:pt x="367" y="3343"/>
                  </a:lnTo>
                  <a:lnTo>
                    <a:pt x="428" y="3339"/>
                  </a:lnTo>
                  <a:lnTo>
                    <a:pt x="489" y="3335"/>
                  </a:lnTo>
                  <a:lnTo>
                    <a:pt x="488" y="3298"/>
                  </a:lnTo>
                  <a:lnTo>
                    <a:pt x="486" y="3261"/>
                  </a:lnTo>
                  <a:lnTo>
                    <a:pt x="482" y="3220"/>
                  </a:lnTo>
                  <a:lnTo>
                    <a:pt x="478" y="3183"/>
                  </a:lnTo>
                  <a:lnTo>
                    <a:pt x="474" y="3142"/>
                  </a:lnTo>
                  <a:lnTo>
                    <a:pt x="470" y="3101"/>
                  </a:lnTo>
                  <a:lnTo>
                    <a:pt x="466" y="3060"/>
                  </a:lnTo>
                  <a:lnTo>
                    <a:pt x="463" y="3023"/>
                  </a:lnTo>
                  <a:lnTo>
                    <a:pt x="440" y="2759"/>
                  </a:lnTo>
                  <a:lnTo>
                    <a:pt x="420" y="2496"/>
                  </a:lnTo>
                  <a:lnTo>
                    <a:pt x="405" y="2232"/>
                  </a:lnTo>
                  <a:lnTo>
                    <a:pt x="394" y="1972"/>
                  </a:lnTo>
                  <a:lnTo>
                    <a:pt x="390" y="1842"/>
                  </a:lnTo>
                  <a:lnTo>
                    <a:pt x="386" y="1708"/>
                  </a:lnTo>
                  <a:lnTo>
                    <a:pt x="384" y="1578"/>
                  </a:lnTo>
                  <a:lnTo>
                    <a:pt x="384" y="1448"/>
                  </a:lnTo>
                  <a:lnTo>
                    <a:pt x="382" y="1318"/>
                  </a:lnTo>
                  <a:lnTo>
                    <a:pt x="384" y="1185"/>
                  </a:lnTo>
                  <a:lnTo>
                    <a:pt x="386" y="1055"/>
                  </a:lnTo>
                  <a:lnTo>
                    <a:pt x="388" y="925"/>
                  </a:lnTo>
                  <a:lnTo>
                    <a:pt x="390" y="828"/>
                  </a:lnTo>
                  <a:lnTo>
                    <a:pt x="394" y="728"/>
                  </a:lnTo>
                  <a:lnTo>
                    <a:pt x="397" y="631"/>
                  </a:lnTo>
                  <a:lnTo>
                    <a:pt x="401" y="535"/>
                  </a:lnTo>
                  <a:lnTo>
                    <a:pt x="407" y="442"/>
                  </a:lnTo>
                  <a:lnTo>
                    <a:pt x="413" y="345"/>
                  </a:lnTo>
                  <a:lnTo>
                    <a:pt x="417" y="252"/>
                  </a:lnTo>
                  <a:lnTo>
                    <a:pt x="422" y="163"/>
                  </a:lnTo>
                  <a:lnTo>
                    <a:pt x="424" y="141"/>
                  </a:lnTo>
                  <a:lnTo>
                    <a:pt x="426" y="119"/>
                  </a:lnTo>
                  <a:lnTo>
                    <a:pt x="428" y="96"/>
                  </a:lnTo>
                  <a:lnTo>
                    <a:pt x="430" y="78"/>
                  </a:lnTo>
                  <a:lnTo>
                    <a:pt x="434" y="59"/>
                  </a:lnTo>
                  <a:lnTo>
                    <a:pt x="436" y="37"/>
                  </a:lnTo>
                  <a:lnTo>
                    <a:pt x="438" y="18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30" y="0"/>
                  </a:lnTo>
                  <a:lnTo>
                    <a:pt x="275" y="4"/>
                  </a:lnTo>
                  <a:lnTo>
                    <a:pt x="221" y="7"/>
                  </a:lnTo>
                  <a:lnTo>
                    <a:pt x="165" y="15"/>
                  </a:lnTo>
                  <a:lnTo>
                    <a:pt x="112" y="18"/>
                  </a:lnTo>
                  <a:lnTo>
                    <a:pt x="56" y="30"/>
                  </a:lnTo>
                  <a:lnTo>
                    <a:pt x="0" y="41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2" y="111"/>
                  </a:lnTo>
                  <a:lnTo>
                    <a:pt x="4" y="126"/>
                  </a:lnTo>
                  <a:lnTo>
                    <a:pt x="6" y="141"/>
                  </a:lnTo>
                  <a:lnTo>
                    <a:pt x="8" y="160"/>
                  </a:lnTo>
                  <a:lnTo>
                    <a:pt x="8" y="174"/>
                  </a:lnTo>
                  <a:lnTo>
                    <a:pt x="58" y="167"/>
                  </a:lnTo>
                  <a:lnTo>
                    <a:pt x="60" y="171"/>
                  </a:lnTo>
                  <a:lnTo>
                    <a:pt x="60" y="174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58" y="193"/>
                  </a:lnTo>
                  <a:lnTo>
                    <a:pt x="56" y="197"/>
                  </a:lnTo>
                  <a:lnTo>
                    <a:pt x="54" y="197"/>
                  </a:lnTo>
                  <a:lnTo>
                    <a:pt x="50" y="200"/>
                  </a:lnTo>
                  <a:lnTo>
                    <a:pt x="45" y="200"/>
                  </a:lnTo>
                  <a:lnTo>
                    <a:pt x="41" y="200"/>
                  </a:lnTo>
                  <a:lnTo>
                    <a:pt x="35" y="204"/>
                  </a:lnTo>
                  <a:lnTo>
                    <a:pt x="29" y="204"/>
                  </a:lnTo>
                  <a:lnTo>
                    <a:pt x="23" y="204"/>
                  </a:lnTo>
                  <a:lnTo>
                    <a:pt x="20" y="208"/>
                  </a:lnTo>
                  <a:lnTo>
                    <a:pt x="16" y="208"/>
                  </a:lnTo>
                  <a:lnTo>
                    <a:pt x="12" y="208"/>
                  </a:lnTo>
                  <a:lnTo>
                    <a:pt x="12" y="212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4" y="230"/>
                  </a:lnTo>
                  <a:lnTo>
                    <a:pt x="14" y="238"/>
                  </a:lnTo>
                  <a:lnTo>
                    <a:pt x="14" y="245"/>
                  </a:lnTo>
                  <a:lnTo>
                    <a:pt x="16" y="252"/>
                  </a:lnTo>
                  <a:lnTo>
                    <a:pt x="16" y="260"/>
                  </a:lnTo>
                  <a:lnTo>
                    <a:pt x="75" y="245"/>
                  </a:lnTo>
                  <a:lnTo>
                    <a:pt x="75" y="249"/>
                  </a:lnTo>
                  <a:lnTo>
                    <a:pt x="75" y="256"/>
                  </a:lnTo>
                  <a:lnTo>
                    <a:pt x="73" y="260"/>
                  </a:lnTo>
                  <a:lnTo>
                    <a:pt x="69" y="264"/>
                  </a:lnTo>
                  <a:lnTo>
                    <a:pt x="68" y="267"/>
                  </a:lnTo>
                  <a:lnTo>
                    <a:pt x="64" y="271"/>
                  </a:lnTo>
                  <a:lnTo>
                    <a:pt x="62" y="275"/>
                  </a:lnTo>
                  <a:lnTo>
                    <a:pt x="58" y="278"/>
                  </a:lnTo>
                  <a:lnTo>
                    <a:pt x="52" y="278"/>
                  </a:lnTo>
                  <a:lnTo>
                    <a:pt x="46" y="282"/>
                  </a:lnTo>
                  <a:lnTo>
                    <a:pt x="41" y="282"/>
                  </a:lnTo>
                  <a:lnTo>
                    <a:pt x="35" y="286"/>
                  </a:lnTo>
                  <a:lnTo>
                    <a:pt x="29" y="290"/>
                  </a:lnTo>
                  <a:lnTo>
                    <a:pt x="25" y="293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20" y="301"/>
                  </a:lnTo>
                  <a:lnTo>
                    <a:pt x="20" y="308"/>
                  </a:lnTo>
                  <a:lnTo>
                    <a:pt x="20" y="316"/>
                  </a:lnTo>
                  <a:lnTo>
                    <a:pt x="20" y="323"/>
                  </a:lnTo>
                  <a:lnTo>
                    <a:pt x="20" y="327"/>
                  </a:lnTo>
                  <a:lnTo>
                    <a:pt x="20" y="334"/>
                  </a:lnTo>
                  <a:lnTo>
                    <a:pt x="21" y="342"/>
                  </a:lnTo>
                  <a:lnTo>
                    <a:pt x="21" y="349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9" y="338"/>
                  </a:lnTo>
                  <a:lnTo>
                    <a:pt x="79" y="342"/>
                  </a:lnTo>
                  <a:lnTo>
                    <a:pt x="81" y="345"/>
                  </a:lnTo>
                  <a:lnTo>
                    <a:pt x="81" y="349"/>
                  </a:lnTo>
                  <a:lnTo>
                    <a:pt x="83" y="349"/>
                  </a:lnTo>
                  <a:lnTo>
                    <a:pt x="83" y="353"/>
                  </a:lnTo>
                  <a:lnTo>
                    <a:pt x="85" y="356"/>
                  </a:lnTo>
                  <a:lnTo>
                    <a:pt x="25" y="386"/>
                  </a:lnTo>
                  <a:lnTo>
                    <a:pt x="35" y="501"/>
                  </a:lnTo>
                  <a:lnTo>
                    <a:pt x="48" y="501"/>
                  </a:lnTo>
                  <a:lnTo>
                    <a:pt x="64" y="501"/>
                  </a:lnTo>
                  <a:lnTo>
                    <a:pt x="79" y="494"/>
                  </a:lnTo>
                  <a:lnTo>
                    <a:pt x="94" y="490"/>
                  </a:lnTo>
                  <a:lnTo>
                    <a:pt x="108" y="486"/>
                  </a:lnTo>
                  <a:lnTo>
                    <a:pt x="123" y="483"/>
                  </a:lnTo>
                  <a:lnTo>
                    <a:pt x="138" y="479"/>
                  </a:lnTo>
                  <a:lnTo>
                    <a:pt x="152" y="483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86"/>
                  </a:lnTo>
                  <a:lnTo>
                    <a:pt x="152" y="490"/>
                  </a:lnTo>
                  <a:lnTo>
                    <a:pt x="152" y="494"/>
                  </a:lnTo>
                  <a:lnTo>
                    <a:pt x="152" y="494"/>
                  </a:lnTo>
                  <a:lnTo>
                    <a:pt x="152" y="498"/>
                  </a:lnTo>
                  <a:lnTo>
                    <a:pt x="152" y="501"/>
                  </a:lnTo>
                  <a:lnTo>
                    <a:pt x="39" y="546"/>
                  </a:lnTo>
                  <a:lnTo>
                    <a:pt x="48" y="665"/>
                  </a:lnTo>
                  <a:lnTo>
                    <a:pt x="54" y="665"/>
                  </a:lnTo>
                  <a:lnTo>
                    <a:pt x="60" y="668"/>
                  </a:lnTo>
                  <a:lnTo>
                    <a:pt x="66" y="665"/>
                  </a:lnTo>
                  <a:lnTo>
                    <a:pt x="73" y="665"/>
                  </a:lnTo>
                  <a:lnTo>
                    <a:pt x="79" y="665"/>
                  </a:lnTo>
                  <a:lnTo>
                    <a:pt x="85" y="668"/>
                  </a:lnTo>
                  <a:lnTo>
                    <a:pt x="89" y="676"/>
                  </a:lnTo>
                  <a:lnTo>
                    <a:pt x="92" y="687"/>
                  </a:lnTo>
                  <a:lnTo>
                    <a:pt x="87" y="691"/>
                  </a:lnTo>
                  <a:lnTo>
                    <a:pt x="81" y="694"/>
                  </a:lnTo>
                  <a:lnTo>
                    <a:pt x="75" y="694"/>
                  </a:lnTo>
                  <a:lnTo>
                    <a:pt x="69" y="694"/>
                  </a:lnTo>
                  <a:lnTo>
                    <a:pt x="66" y="694"/>
                  </a:lnTo>
                  <a:lnTo>
                    <a:pt x="60" y="698"/>
                  </a:lnTo>
                  <a:lnTo>
                    <a:pt x="54" y="698"/>
                  </a:lnTo>
                  <a:lnTo>
                    <a:pt x="48" y="702"/>
                  </a:lnTo>
                  <a:lnTo>
                    <a:pt x="48" y="709"/>
                  </a:lnTo>
                  <a:lnTo>
                    <a:pt x="48" y="713"/>
                  </a:lnTo>
                  <a:lnTo>
                    <a:pt x="48" y="720"/>
                  </a:lnTo>
                  <a:lnTo>
                    <a:pt x="48" y="728"/>
                  </a:lnTo>
                  <a:lnTo>
                    <a:pt x="48" y="732"/>
                  </a:lnTo>
                  <a:lnTo>
                    <a:pt x="48" y="739"/>
                  </a:lnTo>
                  <a:lnTo>
                    <a:pt x="50" y="746"/>
                  </a:lnTo>
                  <a:lnTo>
                    <a:pt x="50" y="754"/>
                  </a:lnTo>
                  <a:lnTo>
                    <a:pt x="54" y="758"/>
                  </a:lnTo>
                  <a:lnTo>
                    <a:pt x="58" y="758"/>
                  </a:lnTo>
                  <a:lnTo>
                    <a:pt x="64" y="758"/>
                  </a:lnTo>
                  <a:lnTo>
                    <a:pt x="68" y="758"/>
                  </a:lnTo>
                  <a:lnTo>
                    <a:pt x="71" y="761"/>
                  </a:lnTo>
                  <a:lnTo>
                    <a:pt x="75" y="765"/>
                  </a:lnTo>
                  <a:lnTo>
                    <a:pt x="79" y="769"/>
                  </a:lnTo>
                  <a:lnTo>
                    <a:pt x="83" y="776"/>
                  </a:lnTo>
                  <a:lnTo>
                    <a:pt x="79" y="780"/>
                  </a:lnTo>
                  <a:lnTo>
                    <a:pt x="77" y="784"/>
                  </a:lnTo>
                  <a:lnTo>
                    <a:pt x="73" y="787"/>
                  </a:lnTo>
                  <a:lnTo>
                    <a:pt x="69" y="787"/>
                  </a:lnTo>
                  <a:lnTo>
                    <a:pt x="66" y="787"/>
                  </a:lnTo>
                  <a:lnTo>
                    <a:pt x="60" y="787"/>
                  </a:lnTo>
                  <a:lnTo>
                    <a:pt x="56" y="791"/>
                  </a:lnTo>
                  <a:lnTo>
                    <a:pt x="50" y="791"/>
                  </a:lnTo>
                  <a:lnTo>
                    <a:pt x="52" y="798"/>
                  </a:lnTo>
                  <a:lnTo>
                    <a:pt x="54" y="806"/>
                  </a:lnTo>
                  <a:lnTo>
                    <a:pt x="54" y="810"/>
                  </a:lnTo>
                  <a:lnTo>
                    <a:pt x="54" y="817"/>
                  </a:lnTo>
                  <a:lnTo>
                    <a:pt x="54" y="824"/>
                  </a:lnTo>
                  <a:lnTo>
                    <a:pt x="54" y="832"/>
                  </a:lnTo>
                  <a:lnTo>
                    <a:pt x="56" y="836"/>
                  </a:lnTo>
                  <a:lnTo>
                    <a:pt x="60" y="839"/>
                  </a:lnTo>
                  <a:lnTo>
                    <a:pt x="100" y="821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4" y="832"/>
                  </a:lnTo>
                  <a:lnTo>
                    <a:pt x="104" y="836"/>
                  </a:lnTo>
                  <a:lnTo>
                    <a:pt x="104" y="839"/>
                  </a:lnTo>
                  <a:lnTo>
                    <a:pt x="102" y="847"/>
                  </a:lnTo>
                  <a:lnTo>
                    <a:pt x="102" y="850"/>
                  </a:lnTo>
                  <a:lnTo>
                    <a:pt x="100" y="854"/>
                  </a:lnTo>
                  <a:lnTo>
                    <a:pt x="92" y="858"/>
                  </a:lnTo>
                  <a:lnTo>
                    <a:pt x="87" y="862"/>
                  </a:lnTo>
                  <a:lnTo>
                    <a:pt x="81" y="862"/>
                  </a:lnTo>
                  <a:lnTo>
                    <a:pt x="75" y="865"/>
                  </a:lnTo>
                  <a:lnTo>
                    <a:pt x="69" y="865"/>
                  </a:lnTo>
                  <a:lnTo>
                    <a:pt x="66" y="869"/>
                  </a:lnTo>
                  <a:lnTo>
                    <a:pt x="62" y="876"/>
                  </a:lnTo>
                  <a:lnTo>
                    <a:pt x="58" y="884"/>
                  </a:lnTo>
                  <a:lnTo>
                    <a:pt x="58" y="895"/>
                  </a:lnTo>
                  <a:lnTo>
                    <a:pt x="58" y="910"/>
                  </a:lnTo>
                  <a:lnTo>
                    <a:pt x="58" y="921"/>
                  </a:lnTo>
                  <a:lnTo>
                    <a:pt x="58" y="932"/>
                  </a:lnTo>
                  <a:lnTo>
                    <a:pt x="60" y="943"/>
                  </a:lnTo>
                  <a:lnTo>
                    <a:pt x="60" y="954"/>
                  </a:lnTo>
                  <a:lnTo>
                    <a:pt x="62" y="966"/>
                  </a:lnTo>
                  <a:lnTo>
                    <a:pt x="64" y="980"/>
                  </a:lnTo>
                  <a:lnTo>
                    <a:pt x="75" y="977"/>
                  </a:lnTo>
                  <a:lnTo>
                    <a:pt x="87" y="977"/>
                  </a:lnTo>
                  <a:lnTo>
                    <a:pt x="98" y="969"/>
                  </a:lnTo>
                  <a:lnTo>
                    <a:pt x="110" y="966"/>
                  </a:lnTo>
                  <a:lnTo>
                    <a:pt x="121" y="962"/>
                  </a:lnTo>
                  <a:lnTo>
                    <a:pt x="135" y="954"/>
                  </a:lnTo>
                  <a:lnTo>
                    <a:pt x="146" y="954"/>
                  </a:lnTo>
                  <a:lnTo>
                    <a:pt x="158" y="954"/>
                  </a:lnTo>
                  <a:lnTo>
                    <a:pt x="160" y="958"/>
                  </a:lnTo>
                  <a:lnTo>
                    <a:pt x="160" y="962"/>
                  </a:lnTo>
                  <a:lnTo>
                    <a:pt x="162" y="962"/>
                  </a:lnTo>
                  <a:lnTo>
                    <a:pt x="162" y="966"/>
                  </a:lnTo>
                  <a:lnTo>
                    <a:pt x="163" y="966"/>
                  </a:lnTo>
                  <a:lnTo>
                    <a:pt x="163" y="966"/>
                  </a:lnTo>
                  <a:lnTo>
                    <a:pt x="163" y="969"/>
                  </a:lnTo>
                  <a:lnTo>
                    <a:pt x="163" y="977"/>
                  </a:lnTo>
                  <a:lnTo>
                    <a:pt x="152" y="984"/>
                  </a:lnTo>
                  <a:lnTo>
                    <a:pt x="140" y="988"/>
                  </a:lnTo>
                  <a:lnTo>
                    <a:pt x="127" y="992"/>
                  </a:lnTo>
                  <a:lnTo>
                    <a:pt x="112" y="995"/>
                  </a:lnTo>
                  <a:lnTo>
                    <a:pt x="98" y="1003"/>
                  </a:lnTo>
                  <a:lnTo>
                    <a:pt x="85" y="1010"/>
                  </a:lnTo>
                  <a:lnTo>
                    <a:pt x="73" y="1021"/>
                  </a:lnTo>
                  <a:lnTo>
                    <a:pt x="64" y="1040"/>
                  </a:lnTo>
                  <a:lnTo>
                    <a:pt x="66" y="1055"/>
                  </a:lnTo>
                  <a:lnTo>
                    <a:pt x="66" y="1066"/>
                  </a:lnTo>
                  <a:lnTo>
                    <a:pt x="66" y="1081"/>
                  </a:lnTo>
                  <a:lnTo>
                    <a:pt x="66" y="1092"/>
                  </a:lnTo>
                  <a:lnTo>
                    <a:pt x="66" y="1107"/>
                  </a:lnTo>
                  <a:lnTo>
                    <a:pt x="68" y="1118"/>
                  </a:lnTo>
                  <a:lnTo>
                    <a:pt x="68" y="1129"/>
                  </a:lnTo>
                  <a:lnTo>
                    <a:pt x="69" y="1140"/>
                  </a:lnTo>
                  <a:lnTo>
                    <a:pt x="75" y="1140"/>
                  </a:lnTo>
                  <a:lnTo>
                    <a:pt x="81" y="1140"/>
                  </a:lnTo>
                  <a:lnTo>
                    <a:pt x="87" y="1136"/>
                  </a:lnTo>
                  <a:lnTo>
                    <a:pt x="92" y="1136"/>
                  </a:lnTo>
                  <a:lnTo>
                    <a:pt x="98" y="1136"/>
                  </a:lnTo>
                  <a:lnTo>
                    <a:pt x="104" y="1136"/>
                  </a:lnTo>
                  <a:lnTo>
                    <a:pt x="112" y="1136"/>
                  </a:lnTo>
                  <a:lnTo>
                    <a:pt x="117" y="1140"/>
                  </a:lnTo>
                  <a:lnTo>
                    <a:pt x="117" y="1144"/>
                  </a:lnTo>
                  <a:lnTo>
                    <a:pt x="119" y="1148"/>
                  </a:lnTo>
                  <a:lnTo>
                    <a:pt x="119" y="1148"/>
                  </a:lnTo>
                  <a:lnTo>
                    <a:pt x="121" y="1148"/>
                  </a:lnTo>
                  <a:lnTo>
                    <a:pt x="121" y="1148"/>
                  </a:lnTo>
                  <a:lnTo>
                    <a:pt x="121" y="1151"/>
                  </a:lnTo>
                  <a:lnTo>
                    <a:pt x="121" y="1155"/>
                  </a:lnTo>
                  <a:lnTo>
                    <a:pt x="119" y="1159"/>
                  </a:lnTo>
                  <a:lnTo>
                    <a:pt x="69" y="1177"/>
                  </a:lnTo>
                  <a:lnTo>
                    <a:pt x="75" y="1244"/>
                  </a:lnTo>
                  <a:lnTo>
                    <a:pt x="81" y="1244"/>
                  </a:lnTo>
                  <a:lnTo>
                    <a:pt x="85" y="1240"/>
                  </a:lnTo>
                  <a:lnTo>
                    <a:pt x="91" y="1240"/>
                  </a:lnTo>
                  <a:lnTo>
                    <a:pt x="96" y="1240"/>
                  </a:lnTo>
                  <a:lnTo>
                    <a:pt x="102" y="1240"/>
                  </a:lnTo>
                  <a:lnTo>
                    <a:pt x="108" y="1240"/>
                  </a:lnTo>
                  <a:lnTo>
                    <a:pt x="114" y="1244"/>
                  </a:lnTo>
                  <a:lnTo>
                    <a:pt x="117" y="1252"/>
                  </a:lnTo>
                  <a:lnTo>
                    <a:pt x="114" y="1259"/>
                  </a:lnTo>
                  <a:lnTo>
                    <a:pt x="110" y="1266"/>
                  </a:lnTo>
                  <a:lnTo>
                    <a:pt x="106" y="1270"/>
                  </a:lnTo>
                  <a:lnTo>
                    <a:pt x="98" y="1270"/>
                  </a:lnTo>
                  <a:lnTo>
                    <a:pt x="92" y="1270"/>
                  </a:lnTo>
                  <a:lnTo>
                    <a:pt x="85" y="1270"/>
                  </a:lnTo>
                  <a:lnTo>
                    <a:pt x="79" y="1274"/>
                  </a:lnTo>
                  <a:lnTo>
                    <a:pt x="73" y="1278"/>
                  </a:lnTo>
                  <a:lnTo>
                    <a:pt x="77" y="1356"/>
                  </a:lnTo>
                  <a:lnTo>
                    <a:pt x="83" y="1356"/>
                  </a:lnTo>
                  <a:lnTo>
                    <a:pt x="89" y="1356"/>
                  </a:lnTo>
                  <a:lnTo>
                    <a:pt x="96" y="1356"/>
                  </a:lnTo>
                  <a:lnTo>
                    <a:pt x="102" y="1356"/>
                  </a:lnTo>
                  <a:lnTo>
                    <a:pt x="110" y="1356"/>
                  </a:lnTo>
                  <a:lnTo>
                    <a:pt x="115" y="1359"/>
                  </a:lnTo>
                  <a:lnTo>
                    <a:pt x="121" y="1367"/>
                  </a:lnTo>
                  <a:lnTo>
                    <a:pt x="125" y="1378"/>
                  </a:lnTo>
                  <a:lnTo>
                    <a:pt x="79" y="1389"/>
                  </a:lnTo>
                  <a:lnTo>
                    <a:pt x="87" y="1512"/>
                  </a:lnTo>
                  <a:lnTo>
                    <a:pt x="100" y="1512"/>
                  </a:lnTo>
                  <a:lnTo>
                    <a:pt x="114" y="1508"/>
                  </a:lnTo>
                  <a:lnTo>
                    <a:pt x="129" y="1500"/>
                  </a:lnTo>
                  <a:lnTo>
                    <a:pt x="142" y="1497"/>
                  </a:lnTo>
                  <a:lnTo>
                    <a:pt x="158" y="1497"/>
                  </a:lnTo>
                  <a:lnTo>
                    <a:pt x="171" y="1497"/>
                  </a:lnTo>
                  <a:lnTo>
                    <a:pt x="183" y="1500"/>
                  </a:lnTo>
                  <a:lnTo>
                    <a:pt x="194" y="1508"/>
                  </a:lnTo>
                  <a:lnTo>
                    <a:pt x="194" y="1515"/>
                  </a:lnTo>
                  <a:lnTo>
                    <a:pt x="192" y="1523"/>
                  </a:lnTo>
                  <a:lnTo>
                    <a:pt x="190" y="1526"/>
                  </a:lnTo>
                  <a:lnTo>
                    <a:pt x="186" y="1526"/>
                  </a:lnTo>
                  <a:lnTo>
                    <a:pt x="183" y="1530"/>
                  </a:lnTo>
                  <a:lnTo>
                    <a:pt x="179" y="1530"/>
                  </a:lnTo>
                  <a:lnTo>
                    <a:pt x="175" y="1530"/>
                  </a:lnTo>
                  <a:lnTo>
                    <a:pt x="171" y="1526"/>
                  </a:lnTo>
                  <a:lnTo>
                    <a:pt x="85" y="1556"/>
                  </a:lnTo>
                  <a:lnTo>
                    <a:pt x="85" y="1686"/>
                  </a:lnTo>
                  <a:lnTo>
                    <a:pt x="135" y="1705"/>
                  </a:lnTo>
                  <a:lnTo>
                    <a:pt x="131" y="1712"/>
                  </a:lnTo>
                  <a:lnTo>
                    <a:pt x="125" y="1716"/>
                  </a:lnTo>
                  <a:lnTo>
                    <a:pt x="119" y="1720"/>
                  </a:lnTo>
                  <a:lnTo>
                    <a:pt x="114" y="1720"/>
                  </a:lnTo>
                  <a:lnTo>
                    <a:pt x="106" y="1720"/>
                  </a:lnTo>
                  <a:lnTo>
                    <a:pt x="98" y="1716"/>
                  </a:lnTo>
                  <a:lnTo>
                    <a:pt x="91" y="1716"/>
                  </a:lnTo>
                  <a:lnTo>
                    <a:pt x="85" y="1716"/>
                  </a:lnTo>
                  <a:lnTo>
                    <a:pt x="85" y="1786"/>
                  </a:lnTo>
                  <a:lnTo>
                    <a:pt x="89" y="1786"/>
                  </a:lnTo>
                  <a:lnTo>
                    <a:pt x="94" y="1786"/>
                  </a:lnTo>
                  <a:lnTo>
                    <a:pt x="100" y="1786"/>
                  </a:lnTo>
                  <a:lnTo>
                    <a:pt x="106" y="1786"/>
                  </a:lnTo>
                  <a:lnTo>
                    <a:pt x="112" y="1786"/>
                  </a:lnTo>
                  <a:lnTo>
                    <a:pt x="117" y="1790"/>
                  </a:lnTo>
                  <a:lnTo>
                    <a:pt x="121" y="1794"/>
                  </a:lnTo>
                  <a:lnTo>
                    <a:pt x="123" y="1805"/>
                  </a:lnTo>
                  <a:lnTo>
                    <a:pt x="119" y="1812"/>
                  </a:lnTo>
                  <a:lnTo>
                    <a:pt x="115" y="1816"/>
                  </a:lnTo>
                  <a:lnTo>
                    <a:pt x="112" y="1816"/>
                  </a:lnTo>
                  <a:lnTo>
                    <a:pt x="106" y="1816"/>
                  </a:lnTo>
                  <a:lnTo>
                    <a:pt x="102" y="1816"/>
                  </a:lnTo>
                  <a:lnTo>
                    <a:pt x="96" y="1816"/>
                  </a:lnTo>
                  <a:lnTo>
                    <a:pt x="91" y="1820"/>
                  </a:lnTo>
                  <a:lnTo>
                    <a:pt x="87" y="1820"/>
                  </a:lnTo>
                  <a:lnTo>
                    <a:pt x="85" y="1827"/>
                  </a:lnTo>
                  <a:lnTo>
                    <a:pt x="85" y="1831"/>
                  </a:lnTo>
                  <a:lnTo>
                    <a:pt x="83" y="1838"/>
                  </a:lnTo>
                  <a:lnTo>
                    <a:pt x="83" y="1842"/>
                  </a:lnTo>
                  <a:lnTo>
                    <a:pt x="83" y="1849"/>
                  </a:lnTo>
                  <a:lnTo>
                    <a:pt x="83" y="1857"/>
                  </a:lnTo>
                  <a:lnTo>
                    <a:pt x="83" y="1864"/>
                  </a:lnTo>
                  <a:lnTo>
                    <a:pt x="85" y="1872"/>
                  </a:lnTo>
                  <a:lnTo>
                    <a:pt x="92" y="1868"/>
                  </a:lnTo>
                  <a:lnTo>
                    <a:pt x="98" y="1864"/>
                  </a:lnTo>
                  <a:lnTo>
                    <a:pt x="106" y="1861"/>
                  </a:lnTo>
                  <a:lnTo>
                    <a:pt x="115" y="1857"/>
                  </a:lnTo>
                  <a:lnTo>
                    <a:pt x="121" y="1857"/>
                  </a:lnTo>
                  <a:lnTo>
                    <a:pt x="129" y="1857"/>
                  </a:lnTo>
                  <a:lnTo>
                    <a:pt x="135" y="1864"/>
                  </a:lnTo>
                  <a:lnTo>
                    <a:pt x="140" y="1875"/>
                  </a:lnTo>
                  <a:lnTo>
                    <a:pt x="85" y="1901"/>
                  </a:lnTo>
                  <a:lnTo>
                    <a:pt x="81" y="1991"/>
                  </a:lnTo>
                  <a:lnTo>
                    <a:pt x="91" y="1994"/>
                  </a:lnTo>
                  <a:lnTo>
                    <a:pt x="102" y="1994"/>
                  </a:lnTo>
                  <a:lnTo>
                    <a:pt x="115" y="1991"/>
                  </a:lnTo>
                  <a:lnTo>
                    <a:pt x="127" y="1987"/>
                  </a:lnTo>
                  <a:lnTo>
                    <a:pt x="138" y="1987"/>
                  </a:lnTo>
                  <a:lnTo>
                    <a:pt x="150" y="1987"/>
                  </a:lnTo>
                  <a:lnTo>
                    <a:pt x="160" y="1991"/>
                  </a:lnTo>
                  <a:lnTo>
                    <a:pt x="167" y="2002"/>
                  </a:lnTo>
                  <a:lnTo>
                    <a:pt x="167" y="2005"/>
                  </a:lnTo>
                  <a:lnTo>
                    <a:pt x="167" y="2009"/>
                  </a:lnTo>
                  <a:lnTo>
                    <a:pt x="167" y="2013"/>
                  </a:lnTo>
                  <a:lnTo>
                    <a:pt x="167" y="2013"/>
                  </a:lnTo>
                  <a:lnTo>
                    <a:pt x="165" y="2013"/>
                  </a:lnTo>
                  <a:lnTo>
                    <a:pt x="165" y="2017"/>
                  </a:lnTo>
                  <a:lnTo>
                    <a:pt x="165" y="2020"/>
                  </a:lnTo>
                  <a:lnTo>
                    <a:pt x="163" y="2024"/>
                  </a:lnTo>
                  <a:lnTo>
                    <a:pt x="81" y="2031"/>
                  </a:lnTo>
                  <a:lnTo>
                    <a:pt x="77" y="2154"/>
                  </a:lnTo>
                  <a:lnTo>
                    <a:pt x="123" y="2150"/>
                  </a:lnTo>
                  <a:lnTo>
                    <a:pt x="123" y="2150"/>
                  </a:lnTo>
                  <a:lnTo>
                    <a:pt x="125" y="2150"/>
                  </a:lnTo>
                  <a:lnTo>
                    <a:pt x="125" y="2154"/>
                  </a:lnTo>
                  <a:lnTo>
                    <a:pt x="125" y="2154"/>
                  </a:lnTo>
                  <a:lnTo>
                    <a:pt x="127" y="2158"/>
                  </a:lnTo>
                  <a:lnTo>
                    <a:pt x="127" y="2161"/>
                  </a:lnTo>
                  <a:lnTo>
                    <a:pt x="127" y="2165"/>
                  </a:lnTo>
                  <a:lnTo>
                    <a:pt x="127" y="2169"/>
                  </a:lnTo>
                  <a:lnTo>
                    <a:pt x="77" y="2187"/>
                  </a:lnTo>
                  <a:lnTo>
                    <a:pt x="77" y="2269"/>
                  </a:lnTo>
                  <a:lnTo>
                    <a:pt x="115" y="2262"/>
                  </a:lnTo>
                  <a:lnTo>
                    <a:pt x="115" y="2265"/>
                  </a:lnTo>
                  <a:lnTo>
                    <a:pt x="117" y="2265"/>
                  </a:lnTo>
                  <a:lnTo>
                    <a:pt x="117" y="2269"/>
                  </a:lnTo>
                  <a:lnTo>
                    <a:pt x="119" y="2269"/>
                  </a:lnTo>
                  <a:lnTo>
                    <a:pt x="121" y="2273"/>
                  </a:lnTo>
                  <a:lnTo>
                    <a:pt x="121" y="2277"/>
                  </a:lnTo>
                  <a:lnTo>
                    <a:pt x="119" y="2284"/>
                  </a:lnTo>
                  <a:lnTo>
                    <a:pt x="117" y="2288"/>
                  </a:lnTo>
                  <a:lnTo>
                    <a:pt x="112" y="2288"/>
                  </a:lnTo>
                  <a:lnTo>
                    <a:pt x="106" y="2291"/>
                  </a:lnTo>
                  <a:lnTo>
                    <a:pt x="100" y="2295"/>
                  </a:lnTo>
                  <a:lnTo>
                    <a:pt x="94" y="2295"/>
                  </a:lnTo>
                  <a:lnTo>
                    <a:pt x="89" y="2299"/>
                  </a:lnTo>
                  <a:lnTo>
                    <a:pt x="83" y="2299"/>
                  </a:lnTo>
                  <a:lnTo>
                    <a:pt x="79" y="2299"/>
                  </a:lnTo>
                  <a:lnTo>
                    <a:pt x="75" y="2299"/>
                  </a:lnTo>
                  <a:lnTo>
                    <a:pt x="75" y="2303"/>
                  </a:lnTo>
                  <a:lnTo>
                    <a:pt x="73" y="2310"/>
                  </a:lnTo>
                  <a:lnTo>
                    <a:pt x="73" y="2317"/>
                  </a:lnTo>
                  <a:lnTo>
                    <a:pt x="73" y="2325"/>
                  </a:lnTo>
                  <a:lnTo>
                    <a:pt x="73" y="2332"/>
                  </a:lnTo>
                  <a:lnTo>
                    <a:pt x="73" y="2340"/>
                  </a:lnTo>
                  <a:lnTo>
                    <a:pt x="71" y="2347"/>
                  </a:lnTo>
                  <a:lnTo>
                    <a:pt x="71" y="2355"/>
                  </a:lnTo>
                  <a:lnTo>
                    <a:pt x="75" y="2355"/>
                  </a:lnTo>
                  <a:lnTo>
                    <a:pt x="79" y="2351"/>
                  </a:lnTo>
                  <a:lnTo>
                    <a:pt x="85" y="2351"/>
                  </a:lnTo>
                  <a:lnTo>
                    <a:pt x="89" y="2351"/>
                  </a:lnTo>
                  <a:lnTo>
                    <a:pt x="94" y="2351"/>
                  </a:lnTo>
                  <a:lnTo>
                    <a:pt x="100" y="2351"/>
                  </a:lnTo>
                  <a:lnTo>
                    <a:pt x="104" y="2355"/>
                  </a:lnTo>
                  <a:lnTo>
                    <a:pt x="108" y="2358"/>
                  </a:lnTo>
                  <a:lnTo>
                    <a:pt x="110" y="2358"/>
                  </a:lnTo>
                  <a:lnTo>
                    <a:pt x="110" y="2362"/>
                  </a:lnTo>
                  <a:lnTo>
                    <a:pt x="112" y="2362"/>
                  </a:lnTo>
                  <a:lnTo>
                    <a:pt x="112" y="2366"/>
                  </a:lnTo>
                  <a:lnTo>
                    <a:pt x="114" y="2366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4" y="2369"/>
                  </a:lnTo>
                  <a:lnTo>
                    <a:pt x="110" y="2373"/>
                  </a:lnTo>
                  <a:lnTo>
                    <a:pt x="104" y="2381"/>
                  </a:lnTo>
                  <a:lnTo>
                    <a:pt x="100" y="2384"/>
                  </a:lnTo>
                  <a:lnTo>
                    <a:pt x="94" y="2384"/>
                  </a:lnTo>
                  <a:lnTo>
                    <a:pt x="89" y="2388"/>
                  </a:lnTo>
                  <a:lnTo>
                    <a:pt x="83" y="2388"/>
                  </a:lnTo>
                  <a:lnTo>
                    <a:pt x="77" y="2388"/>
                  </a:lnTo>
                  <a:lnTo>
                    <a:pt x="73" y="2384"/>
                  </a:lnTo>
                  <a:lnTo>
                    <a:pt x="69" y="2392"/>
                  </a:lnTo>
                  <a:lnTo>
                    <a:pt x="69" y="2403"/>
                  </a:lnTo>
                  <a:lnTo>
                    <a:pt x="69" y="2414"/>
                  </a:lnTo>
                  <a:lnTo>
                    <a:pt x="69" y="2425"/>
                  </a:lnTo>
                  <a:lnTo>
                    <a:pt x="69" y="2436"/>
                  </a:lnTo>
                  <a:lnTo>
                    <a:pt x="69" y="2451"/>
                  </a:lnTo>
                  <a:lnTo>
                    <a:pt x="69" y="2462"/>
                  </a:lnTo>
                  <a:lnTo>
                    <a:pt x="68" y="2473"/>
                  </a:lnTo>
                  <a:lnTo>
                    <a:pt x="150" y="2459"/>
                  </a:lnTo>
                  <a:lnTo>
                    <a:pt x="152" y="2462"/>
                  </a:lnTo>
                  <a:lnTo>
                    <a:pt x="152" y="2466"/>
                  </a:lnTo>
                  <a:lnTo>
                    <a:pt x="152" y="2473"/>
                  </a:lnTo>
                  <a:lnTo>
                    <a:pt x="152" y="2477"/>
                  </a:lnTo>
                  <a:lnTo>
                    <a:pt x="150" y="2481"/>
                  </a:lnTo>
                  <a:lnTo>
                    <a:pt x="148" y="2485"/>
                  </a:lnTo>
                  <a:lnTo>
                    <a:pt x="148" y="2488"/>
                  </a:lnTo>
                  <a:lnTo>
                    <a:pt x="146" y="2492"/>
                  </a:lnTo>
                  <a:lnTo>
                    <a:pt x="68" y="2511"/>
                  </a:lnTo>
                  <a:lnTo>
                    <a:pt x="62" y="2626"/>
                  </a:lnTo>
                  <a:lnTo>
                    <a:pt x="96" y="2618"/>
                  </a:lnTo>
                  <a:lnTo>
                    <a:pt x="98" y="2618"/>
                  </a:lnTo>
                  <a:lnTo>
                    <a:pt x="100" y="2618"/>
                  </a:lnTo>
                  <a:lnTo>
                    <a:pt x="102" y="2622"/>
                  </a:lnTo>
                  <a:lnTo>
                    <a:pt x="104" y="2626"/>
                  </a:lnTo>
                  <a:lnTo>
                    <a:pt x="104" y="2629"/>
                  </a:lnTo>
                  <a:lnTo>
                    <a:pt x="106" y="2633"/>
                  </a:lnTo>
                  <a:lnTo>
                    <a:pt x="106" y="2637"/>
                  </a:lnTo>
                  <a:lnTo>
                    <a:pt x="104" y="2644"/>
                  </a:lnTo>
                  <a:lnTo>
                    <a:pt x="58" y="2670"/>
                  </a:lnTo>
                  <a:lnTo>
                    <a:pt x="54" y="2733"/>
                  </a:lnTo>
                  <a:lnTo>
                    <a:pt x="89" y="2733"/>
                  </a:lnTo>
                  <a:lnTo>
                    <a:pt x="91" y="2733"/>
                  </a:lnTo>
                  <a:lnTo>
                    <a:pt x="91" y="2737"/>
                  </a:lnTo>
                  <a:lnTo>
                    <a:pt x="91" y="2741"/>
                  </a:lnTo>
                  <a:lnTo>
                    <a:pt x="92" y="2745"/>
                  </a:lnTo>
                  <a:lnTo>
                    <a:pt x="91" y="2748"/>
                  </a:lnTo>
                  <a:lnTo>
                    <a:pt x="91" y="2752"/>
                  </a:lnTo>
                  <a:lnTo>
                    <a:pt x="89" y="2756"/>
                  </a:lnTo>
                  <a:lnTo>
                    <a:pt x="87" y="2759"/>
                  </a:lnTo>
                  <a:lnTo>
                    <a:pt x="81" y="2759"/>
                  </a:lnTo>
                  <a:lnTo>
                    <a:pt x="77" y="2763"/>
                  </a:lnTo>
                  <a:lnTo>
                    <a:pt x="71" y="2763"/>
                  </a:lnTo>
                  <a:lnTo>
                    <a:pt x="68" y="2763"/>
                  </a:lnTo>
                  <a:lnTo>
                    <a:pt x="64" y="2767"/>
                  </a:lnTo>
                  <a:lnTo>
                    <a:pt x="60" y="2767"/>
                  </a:lnTo>
                  <a:lnTo>
                    <a:pt x="56" y="2767"/>
                  </a:lnTo>
                  <a:lnTo>
                    <a:pt x="50" y="2771"/>
                  </a:lnTo>
                  <a:lnTo>
                    <a:pt x="50" y="2774"/>
                  </a:lnTo>
                  <a:lnTo>
                    <a:pt x="50" y="2778"/>
                  </a:lnTo>
                  <a:lnTo>
                    <a:pt x="50" y="2785"/>
                  </a:lnTo>
                  <a:lnTo>
                    <a:pt x="50" y="2789"/>
                  </a:lnTo>
                  <a:lnTo>
                    <a:pt x="50" y="2797"/>
                  </a:lnTo>
                  <a:lnTo>
                    <a:pt x="50" y="2800"/>
                  </a:lnTo>
                  <a:lnTo>
                    <a:pt x="48" y="2808"/>
                  </a:lnTo>
                  <a:lnTo>
                    <a:pt x="48" y="2811"/>
                  </a:lnTo>
                  <a:lnTo>
                    <a:pt x="96" y="2815"/>
                  </a:lnTo>
                  <a:lnTo>
                    <a:pt x="96" y="2819"/>
                  </a:lnTo>
                  <a:lnTo>
                    <a:pt x="96" y="2826"/>
                  </a:lnTo>
                  <a:lnTo>
                    <a:pt x="96" y="2830"/>
                  </a:lnTo>
                  <a:lnTo>
                    <a:pt x="94" y="2834"/>
                  </a:lnTo>
                  <a:lnTo>
                    <a:pt x="92" y="2837"/>
                  </a:lnTo>
                  <a:lnTo>
                    <a:pt x="89" y="2841"/>
                  </a:lnTo>
                  <a:lnTo>
                    <a:pt x="85" y="2841"/>
                  </a:lnTo>
                  <a:lnTo>
                    <a:pt x="83" y="2845"/>
                  </a:lnTo>
                  <a:lnTo>
                    <a:pt x="77" y="2849"/>
                  </a:lnTo>
                  <a:lnTo>
                    <a:pt x="73" y="2849"/>
                  </a:lnTo>
                  <a:lnTo>
                    <a:pt x="68" y="2849"/>
                  </a:lnTo>
                  <a:lnTo>
                    <a:pt x="64" y="2849"/>
                  </a:lnTo>
                  <a:lnTo>
                    <a:pt x="58" y="2845"/>
                  </a:lnTo>
                  <a:lnTo>
                    <a:pt x="54" y="2845"/>
                  </a:lnTo>
                  <a:lnTo>
                    <a:pt x="50" y="2845"/>
                  </a:lnTo>
                  <a:lnTo>
                    <a:pt x="45" y="2845"/>
                  </a:lnTo>
                  <a:lnTo>
                    <a:pt x="45" y="2856"/>
                  </a:lnTo>
                  <a:lnTo>
                    <a:pt x="45" y="2863"/>
                  </a:lnTo>
                  <a:lnTo>
                    <a:pt x="45" y="2875"/>
                  </a:lnTo>
                  <a:lnTo>
                    <a:pt x="43" y="2882"/>
                  </a:lnTo>
                  <a:lnTo>
                    <a:pt x="43" y="2893"/>
                  </a:lnTo>
                  <a:lnTo>
                    <a:pt x="43" y="2904"/>
                  </a:lnTo>
                  <a:lnTo>
                    <a:pt x="41" y="2915"/>
                  </a:lnTo>
                  <a:lnTo>
                    <a:pt x="41" y="2927"/>
                  </a:lnTo>
                  <a:lnTo>
                    <a:pt x="56" y="2923"/>
                  </a:lnTo>
                  <a:lnTo>
                    <a:pt x="69" y="2919"/>
                  </a:lnTo>
                  <a:lnTo>
                    <a:pt x="85" y="2915"/>
                  </a:lnTo>
                  <a:lnTo>
                    <a:pt x="100" y="2912"/>
                  </a:lnTo>
                  <a:lnTo>
                    <a:pt x="114" y="2908"/>
                  </a:lnTo>
                  <a:lnTo>
                    <a:pt x="129" y="2912"/>
                  </a:lnTo>
                  <a:lnTo>
                    <a:pt x="142" y="2919"/>
                  </a:lnTo>
                  <a:lnTo>
                    <a:pt x="154" y="2934"/>
                  </a:lnTo>
                  <a:lnTo>
                    <a:pt x="148" y="2945"/>
                  </a:lnTo>
                  <a:lnTo>
                    <a:pt x="140" y="2949"/>
                  </a:lnTo>
                  <a:lnTo>
                    <a:pt x="131" y="2949"/>
                  </a:lnTo>
                  <a:lnTo>
                    <a:pt x="123" y="2949"/>
                  </a:lnTo>
                  <a:lnTo>
                    <a:pt x="114" y="2949"/>
                  </a:lnTo>
                  <a:lnTo>
                    <a:pt x="104" y="2949"/>
                  </a:lnTo>
                  <a:lnTo>
                    <a:pt x="96" y="2953"/>
                  </a:lnTo>
                  <a:lnTo>
                    <a:pt x="89" y="2964"/>
                  </a:lnTo>
                  <a:lnTo>
                    <a:pt x="81" y="2964"/>
                  </a:lnTo>
                  <a:lnTo>
                    <a:pt x="73" y="2964"/>
                  </a:lnTo>
                  <a:lnTo>
                    <a:pt x="68" y="2960"/>
                  </a:lnTo>
                  <a:lnTo>
                    <a:pt x="60" y="2960"/>
                  </a:lnTo>
                  <a:lnTo>
                    <a:pt x="54" y="2960"/>
                  </a:lnTo>
                  <a:lnTo>
                    <a:pt x="48" y="2964"/>
                  </a:lnTo>
                  <a:lnTo>
                    <a:pt x="43" y="2967"/>
                  </a:lnTo>
                  <a:lnTo>
                    <a:pt x="39" y="2971"/>
                  </a:lnTo>
                  <a:lnTo>
                    <a:pt x="37" y="2990"/>
                  </a:lnTo>
                  <a:lnTo>
                    <a:pt x="35" y="3005"/>
                  </a:lnTo>
                  <a:lnTo>
                    <a:pt x="35" y="3019"/>
                  </a:lnTo>
                  <a:lnTo>
                    <a:pt x="33" y="3034"/>
                  </a:lnTo>
                  <a:lnTo>
                    <a:pt x="33" y="3049"/>
                  </a:lnTo>
                  <a:lnTo>
                    <a:pt x="31" y="3060"/>
                  </a:lnTo>
                  <a:lnTo>
                    <a:pt x="29" y="3071"/>
                  </a:lnTo>
                  <a:lnTo>
                    <a:pt x="27" y="3083"/>
                  </a:lnTo>
                  <a:lnTo>
                    <a:pt x="89" y="3086"/>
                  </a:lnTo>
                  <a:lnTo>
                    <a:pt x="85" y="3097"/>
                  </a:lnTo>
                  <a:lnTo>
                    <a:pt x="79" y="3105"/>
                  </a:lnTo>
                  <a:lnTo>
                    <a:pt x="71" y="3109"/>
                  </a:lnTo>
                  <a:lnTo>
                    <a:pt x="62" y="3112"/>
                  </a:lnTo>
                  <a:lnTo>
                    <a:pt x="52" y="3116"/>
                  </a:lnTo>
                  <a:lnTo>
                    <a:pt x="43" y="3116"/>
                  </a:lnTo>
                  <a:lnTo>
                    <a:pt x="35" y="3116"/>
                  </a:lnTo>
                  <a:lnTo>
                    <a:pt x="25" y="3120"/>
                  </a:lnTo>
                  <a:lnTo>
                    <a:pt x="18" y="3198"/>
                  </a:lnTo>
                  <a:lnTo>
                    <a:pt x="79" y="3175"/>
                  </a:lnTo>
                  <a:lnTo>
                    <a:pt x="79" y="3183"/>
                  </a:lnTo>
                  <a:lnTo>
                    <a:pt x="79" y="3190"/>
                  </a:lnTo>
                  <a:lnTo>
                    <a:pt x="79" y="3194"/>
                  </a:lnTo>
                  <a:lnTo>
                    <a:pt x="77" y="3198"/>
                  </a:lnTo>
                  <a:lnTo>
                    <a:pt x="73" y="3201"/>
                  </a:lnTo>
                  <a:lnTo>
                    <a:pt x="69" y="3205"/>
                  </a:lnTo>
                  <a:lnTo>
                    <a:pt x="66" y="3209"/>
                  </a:lnTo>
                  <a:lnTo>
                    <a:pt x="62" y="3216"/>
                  </a:lnTo>
                  <a:lnTo>
                    <a:pt x="54" y="3220"/>
                  </a:lnTo>
                  <a:lnTo>
                    <a:pt x="48" y="3224"/>
                  </a:lnTo>
                  <a:lnTo>
                    <a:pt x="41" y="3227"/>
                  </a:lnTo>
                  <a:lnTo>
                    <a:pt x="33" y="3231"/>
                  </a:lnTo>
                  <a:lnTo>
                    <a:pt x="27" y="3235"/>
                  </a:lnTo>
                  <a:lnTo>
                    <a:pt x="21" y="3239"/>
                  </a:lnTo>
                  <a:lnTo>
                    <a:pt x="16" y="3242"/>
                  </a:lnTo>
                  <a:lnTo>
                    <a:pt x="12" y="3253"/>
                  </a:lnTo>
                  <a:lnTo>
                    <a:pt x="12" y="3257"/>
                  </a:lnTo>
                  <a:lnTo>
                    <a:pt x="14" y="3261"/>
                  </a:lnTo>
                  <a:lnTo>
                    <a:pt x="14" y="3261"/>
                  </a:lnTo>
                  <a:lnTo>
                    <a:pt x="14" y="3265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68"/>
                  </a:lnTo>
                  <a:lnTo>
                    <a:pt x="14" y="3272"/>
                  </a:lnTo>
                  <a:lnTo>
                    <a:pt x="18" y="3272"/>
                  </a:lnTo>
                  <a:lnTo>
                    <a:pt x="21" y="3272"/>
                  </a:lnTo>
                  <a:lnTo>
                    <a:pt x="25" y="3268"/>
                  </a:lnTo>
                  <a:lnTo>
                    <a:pt x="29" y="3268"/>
                  </a:lnTo>
                  <a:lnTo>
                    <a:pt x="35" y="3268"/>
                  </a:lnTo>
                  <a:lnTo>
                    <a:pt x="39" y="3272"/>
                  </a:lnTo>
                  <a:lnTo>
                    <a:pt x="41" y="3276"/>
                  </a:lnTo>
                  <a:lnTo>
                    <a:pt x="45" y="3279"/>
                  </a:lnTo>
                  <a:lnTo>
                    <a:pt x="41" y="3287"/>
                  </a:lnTo>
                  <a:lnTo>
                    <a:pt x="39" y="3294"/>
                  </a:lnTo>
                  <a:lnTo>
                    <a:pt x="33" y="3298"/>
                  </a:lnTo>
                  <a:lnTo>
                    <a:pt x="29" y="3298"/>
                  </a:lnTo>
                  <a:lnTo>
                    <a:pt x="23" y="3302"/>
                  </a:lnTo>
                  <a:lnTo>
                    <a:pt x="20" y="3302"/>
                  </a:lnTo>
                  <a:lnTo>
                    <a:pt x="14" y="3305"/>
                  </a:lnTo>
                  <a:lnTo>
                    <a:pt x="8" y="3305"/>
                  </a:lnTo>
                  <a:lnTo>
                    <a:pt x="0" y="3376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35720" y="5967360"/>
              <a:ext cx="900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lnTo>
                    <a:pt x="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21320" y="4340160"/>
              <a:ext cx="35280" cy="5868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37"/>
                  </a:moveTo>
                  <a:lnTo>
                    <a:pt x="0" y="37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5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7"/>
                  </a:lnTo>
                  <a:lnTo>
                    <a:pt x="6" y="11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d9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3208320" cy="5410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643280" y="15238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Adul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057400"/>
            <a:ext cx="5410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loa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raditional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election &amp;tran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aid plan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2B0-B816-41F3-9746-4A0C8D32190D}" type="slidenum">
              <a:t>19</a:t>
            </a:fld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324840" cy="4029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 Spectrum of Services ...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... for a Spectrum of Stud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n’t operate in a vac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rvices are designed to complement other program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intent is catalytic: To make others more successful at what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DE6-C56C-4825-87AD-8C16089210E9}" type="slidenum">
              <a:t>20</a:t>
            </a:fld>
          </a:p>
        </p:txBody>
      </p:sp>
    </p:spTree>
  </p:cSld>
  <p:transition>
    <p:cover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488960" y="2133720"/>
            <a:ext cx="6720840" cy="2361960"/>
            <a:chOff x="1488960" y="2133720"/>
            <a:chExt cx="6720840" cy="236196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1488960" y="2133720"/>
              <a:ext cx="178920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167640" y="2286000"/>
              <a:ext cx="504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Middle schools, high schools,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tech school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E90-8B1E-4814-B16E-33DC37DA3BC5}" type="slidenum">
              <a:t>21</a:t>
            </a:fld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219320" y="2514600"/>
            <a:ext cx="3387600" cy="3681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960360" y="3125880"/>
            <a:ext cx="449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st-secondary Edu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&amp; Trai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D8D-C1A9-4453-B65B-3773CB92C8D7}" type="slidenum">
              <a:t>22</a:t>
            </a:fld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125800" y="838080"/>
            <a:ext cx="1684080" cy="18288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267080" y="2590920"/>
            <a:ext cx="4343400" cy="31114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247760" y="3963960"/>
            <a:ext cx="265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e &amp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ther agenc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241-0114-46E7-9F0B-83663C7815E6}" type="slidenum">
              <a:t>23</a:t>
            </a:fld>
          </a:p>
        </p:txBody>
      </p:sp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781680" y="231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artnerships; 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979560" cy="1295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2125800" y="838080"/>
            <a:ext cx="1684080" cy="1828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4102200" y="1266840"/>
            <a:ext cx="2073240" cy="1485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990720" y="320040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212000" y="3659040"/>
            <a:ext cx="33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es, state &amp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gional boa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722-7E0B-4027-A7F8-5AD8EDCCB6B3}" type="slidenum">
              <a:t>24</a:t>
            </a:fld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aking our Tempera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5640" y="17524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 pays: 38% increase in HE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S. class of 20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of all graduate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of Outreach student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7% of Vermont respondents aware of V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 rot="2409000">
            <a:off x="0" y="2243160"/>
            <a:ext cx="304812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C64-79BA-41D0-BB61-38D9D03C5895}" type="slidenum">
              <a:t>25</a:t>
            </a:fld>
          </a:p>
        </p:txBody>
      </p:sp>
    </p:spTree>
  </p:cSld>
  <p:transition>
    <p:cover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422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433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Vermont experience may be atypical; not all states have “bundled”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 have learned some les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56F-AA7F-4523-A08F-51D4151C0FAB}" type="slidenum">
              <a:t>26</a:t>
            </a:fld>
          </a:p>
        </p:txBody>
      </p:sp>
    </p:spTree>
  </p:cSld>
  <p:transition>
    <p:cover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490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501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eople are looking for ways to pull information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cooperative venture among schools, agencies and guarantors hold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83A-0B81-456D-82FC-F408641197BC}" type="slidenum">
              <a:t>27</a:t>
            </a:fld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-1371600" y="1143000"/>
            <a:ext cx="10515600" cy="10591920"/>
            <a:chOff x="-1371600" y="1143000"/>
            <a:chExt cx="10515600" cy="10591920"/>
          </a:xfrm>
        </p:grpSpPr>
        <p:sp>
          <p:nvSpPr>
            <p:cNvPr id="558" name=""/>
            <p:cNvSpPr/>
            <p:nvPr/>
          </p:nvSpPr>
          <p:spPr>
            <a:xfrm>
              <a:off x="1401840" y="1200240"/>
              <a:ext cx="7677000" cy="5624280"/>
            </a:xfrm>
            <a:custGeom>
              <a:avLst/>
              <a:gdLst/>
              <a:ahLst/>
              <a:rect l="l" t="t" r="r" b="b"/>
              <a:pathLst>
                <a:path w="3515" h="2781">
                  <a:moveTo>
                    <a:pt x="16" y="549"/>
                  </a:moveTo>
                  <a:lnTo>
                    <a:pt x="14" y="480"/>
                  </a:lnTo>
                  <a:lnTo>
                    <a:pt x="5" y="383"/>
                  </a:lnTo>
                  <a:lnTo>
                    <a:pt x="0" y="283"/>
                  </a:lnTo>
                  <a:lnTo>
                    <a:pt x="0" y="208"/>
                  </a:lnTo>
                  <a:lnTo>
                    <a:pt x="5" y="152"/>
                  </a:lnTo>
                  <a:lnTo>
                    <a:pt x="8" y="100"/>
                  </a:lnTo>
                  <a:lnTo>
                    <a:pt x="8" y="61"/>
                  </a:lnTo>
                  <a:lnTo>
                    <a:pt x="8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7" y="33"/>
                  </a:lnTo>
                  <a:lnTo>
                    <a:pt x="75" y="22"/>
                  </a:lnTo>
                  <a:lnTo>
                    <a:pt x="105" y="14"/>
                  </a:lnTo>
                  <a:lnTo>
                    <a:pt x="136" y="8"/>
                  </a:lnTo>
                  <a:lnTo>
                    <a:pt x="169" y="3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77" y="0"/>
                  </a:lnTo>
                  <a:lnTo>
                    <a:pt x="429" y="3"/>
                  </a:lnTo>
                  <a:lnTo>
                    <a:pt x="485" y="3"/>
                  </a:lnTo>
                  <a:lnTo>
                    <a:pt x="540" y="3"/>
                  </a:lnTo>
                  <a:lnTo>
                    <a:pt x="599" y="3"/>
                  </a:lnTo>
                  <a:lnTo>
                    <a:pt x="654" y="3"/>
                  </a:lnTo>
                  <a:lnTo>
                    <a:pt x="707" y="5"/>
                  </a:lnTo>
                  <a:lnTo>
                    <a:pt x="759" y="5"/>
                  </a:lnTo>
                  <a:lnTo>
                    <a:pt x="804" y="5"/>
                  </a:lnTo>
                  <a:lnTo>
                    <a:pt x="845" y="5"/>
                  </a:lnTo>
                  <a:lnTo>
                    <a:pt x="879" y="5"/>
                  </a:lnTo>
                  <a:lnTo>
                    <a:pt x="904" y="5"/>
                  </a:lnTo>
                  <a:lnTo>
                    <a:pt x="945" y="5"/>
                  </a:lnTo>
                  <a:lnTo>
                    <a:pt x="987" y="5"/>
                  </a:lnTo>
                  <a:lnTo>
                    <a:pt x="1023" y="3"/>
                  </a:lnTo>
                  <a:lnTo>
                    <a:pt x="1062" y="3"/>
                  </a:lnTo>
                  <a:lnTo>
                    <a:pt x="1095" y="3"/>
                  </a:lnTo>
                  <a:lnTo>
                    <a:pt x="1128" y="3"/>
                  </a:lnTo>
                  <a:lnTo>
                    <a:pt x="1159" y="3"/>
                  </a:lnTo>
                  <a:lnTo>
                    <a:pt x="1186" y="5"/>
                  </a:lnTo>
                  <a:lnTo>
                    <a:pt x="1203" y="8"/>
                  </a:lnTo>
                  <a:lnTo>
                    <a:pt x="1228" y="8"/>
                  </a:lnTo>
                  <a:lnTo>
                    <a:pt x="1256" y="11"/>
                  </a:lnTo>
                  <a:lnTo>
                    <a:pt x="1289" y="11"/>
                  </a:lnTo>
                  <a:lnTo>
                    <a:pt x="1328" y="14"/>
                  </a:lnTo>
                  <a:lnTo>
                    <a:pt x="1366" y="14"/>
                  </a:lnTo>
                  <a:lnTo>
                    <a:pt x="1408" y="16"/>
                  </a:lnTo>
                  <a:lnTo>
                    <a:pt x="1452" y="16"/>
                  </a:lnTo>
                  <a:lnTo>
                    <a:pt x="1497" y="19"/>
                  </a:lnTo>
                  <a:lnTo>
                    <a:pt x="1541" y="19"/>
                  </a:lnTo>
                  <a:lnTo>
                    <a:pt x="1585" y="19"/>
                  </a:lnTo>
                  <a:lnTo>
                    <a:pt x="1627" y="19"/>
                  </a:lnTo>
                  <a:lnTo>
                    <a:pt x="1669" y="22"/>
                  </a:lnTo>
                  <a:lnTo>
                    <a:pt x="1705" y="22"/>
                  </a:lnTo>
                  <a:lnTo>
                    <a:pt x="1738" y="22"/>
                  </a:lnTo>
                  <a:lnTo>
                    <a:pt x="1766" y="22"/>
                  </a:lnTo>
                  <a:lnTo>
                    <a:pt x="1793" y="22"/>
                  </a:lnTo>
                  <a:lnTo>
                    <a:pt x="1827" y="22"/>
                  </a:lnTo>
                  <a:lnTo>
                    <a:pt x="1863" y="22"/>
                  </a:lnTo>
                  <a:lnTo>
                    <a:pt x="1902" y="22"/>
                  </a:lnTo>
                  <a:lnTo>
                    <a:pt x="1943" y="19"/>
                  </a:lnTo>
                  <a:lnTo>
                    <a:pt x="1987" y="19"/>
                  </a:lnTo>
                  <a:lnTo>
                    <a:pt x="2032" y="19"/>
                  </a:lnTo>
                  <a:lnTo>
                    <a:pt x="2079" y="16"/>
                  </a:lnTo>
                  <a:lnTo>
                    <a:pt x="2126" y="16"/>
                  </a:lnTo>
                  <a:lnTo>
                    <a:pt x="2176" y="16"/>
                  </a:lnTo>
                  <a:lnTo>
                    <a:pt x="2223" y="16"/>
                  </a:lnTo>
                  <a:lnTo>
                    <a:pt x="2270" y="14"/>
                  </a:lnTo>
                  <a:lnTo>
                    <a:pt x="2317" y="14"/>
                  </a:lnTo>
                  <a:lnTo>
                    <a:pt x="2362" y="14"/>
                  </a:lnTo>
                  <a:lnTo>
                    <a:pt x="2403" y="14"/>
                  </a:lnTo>
                  <a:lnTo>
                    <a:pt x="2445" y="14"/>
                  </a:lnTo>
                  <a:lnTo>
                    <a:pt x="2489" y="14"/>
                  </a:lnTo>
                  <a:lnTo>
                    <a:pt x="2542" y="14"/>
                  </a:lnTo>
                  <a:lnTo>
                    <a:pt x="2600" y="16"/>
                  </a:lnTo>
                  <a:lnTo>
                    <a:pt x="2661" y="16"/>
                  </a:lnTo>
                  <a:lnTo>
                    <a:pt x="2730" y="16"/>
                  </a:lnTo>
                  <a:lnTo>
                    <a:pt x="2800" y="19"/>
                  </a:lnTo>
                  <a:lnTo>
                    <a:pt x="2869" y="19"/>
                  </a:lnTo>
                  <a:lnTo>
                    <a:pt x="2938" y="22"/>
                  </a:lnTo>
                  <a:lnTo>
                    <a:pt x="3005" y="25"/>
                  </a:lnTo>
                  <a:lnTo>
                    <a:pt x="3069" y="25"/>
                  </a:lnTo>
                  <a:lnTo>
                    <a:pt x="3130" y="28"/>
                  </a:lnTo>
                  <a:lnTo>
                    <a:pt x="3182" y="28"/>
                  </a:lnTo>
                  <a:lnTo>
                    <a:pt x="3227" y="28"/>
                  </a:lnTo>
                  <a:lnTo>
                    <a:pt x="3263" y="30"/>
                  </a:lnTo>
                  <a:lnTo>
                    <a:pt x="3290" y="30"/>
                  </a:lnTo>
                  <a:lnTo>
                    <a:pt x="3304" y="30"/>
                  </a:lnTo>
                  <a:lnTo>
                    <a:pt x="3321" y="30"/>
                  </a:lnTo>
                  <a:lnTo>
                    <a:pt x="3346" y="28"/>
                  </a:lnTo>
                  <a:lnTo>
                    <a:pt x="3371" y="25"/>
                  </a:lnTo>
                  <a:lnTo>
                    <a:pt x="3399" y="22"/>
                  </a:lnTo>
                  <a:lnTo>
                    <a:pt x="3423" y="25"/>
                  </a:lnTo>
                  <a:lnTo>
                    <a:pt x="3448" y="28"/>
                  </a:lnTo>
                  <a:lnTo>
                    <a:pt x="3468" y="33"/>
                  </a:lnTo>
                  <a:lnTo>
                    <a:pt x="3482" y="47"/>
                  </a:lnTo>
                  <a:lnTo>
                    <a:pt x="3496" y="114"/>
                  </a:lnTo>
                  <a:lnTo>
                    <a:pt x="3504" y="227"/>
                  </a:lnTo>
                  <a:lnTo>
                    <a:pt x="3504" y="355"/>
                  </a:lnTo>
                  <a:lnTo>
                    <a:pt x="3498" y="460"/>
                  </a:lnTo>
                  <a:lnTo>
                    <a:pt x="3493" y="607"/>
                  </a:lnTo>
                  <a:lnTo>
                    <a:pt x="3498" y="832"/>
                  </a:lnTo>
                  <a:lnTo>
                    <a:pt x="3507" y="1056"/>
                  </a:lnTo>
                  <a:lnTo>
                    <a:pt x="3512" y="1203"/>
                  </a:lnTo>
                  <a:lnTo>
                    <a:pt x="3515" y="1353"/>
                  </a:lnTo>
                  <a:lnTo>
                    <a:pt x="3515" y="1583"/>
                  </a:lnTo>
                  <a:lnTo>
                    <a:pt x="3512" y="1808"/>
                  </a:lnTo>
                  <a:lnTo>
                    <a:pt x="3512" y="1955"/>
                  </a:lnTo>
                  <a:lnTo>
                    <a:pt x="3512" y="2096"/>
                  </a:lnTo>
                  <a:lnTo>
                    <a:pt x="3512" y="2313"/>
                  </a:lnTo>
                  <a:lnTo>
                    <a:pt x="3512" y="2523"/>
                  </a:lnTo>
                  <a:lnTo>
                    <a:pt x="3512" y="2651"/>
                  </a:lnTo>
                  <a:lnTo>
                    <a:pt x="3512" y="2701"/>
                  </a:lnTo>
                  <a:lnTo>
                    <a:pt x="3512" y="2731"/>
                  </a:lnTo>
                  <a:lnTo>
                    <a:pt x="3504" y="2751"/>
                  </a:lnTo>
                  <a:lnTo>
                    <a:pt x="3482" y="2765"/>
                  </a:lnTo>
                  <a:lnTo>
                    <a:pt x="3457" y="2770"/>
                  </a:lnTo>
                  <a:lnTo>
                    <a:pt x="3421" y="2773"/>
                  </a:lnTo>
                  <a:lnTo>
                    <a:pt x="3374" y="2778"/>
                  </a:lnTo>
                  <a:lnTo>
                    <a:pt x="3324" y="2778"/>
                  </a:lnTo>
                  <a:lnTo>
                    <a:pt x="3271" y="2781"/>
                  </a:lnTo>
                  <a:lnTo>
                    <a:pt x="3224" y="2781"/>
                  </a:lnTo>
                  <a:lnTo>
                    <a:pt x="3185" y="2781"/>
                  </a:lnTo>
                  <a:lnTo>
                    <a:pt x="3157" y="2781"/>
                  </a:lnTo>
                  <a:lnTo>
                    <a:pt x="3141" y="2781"/>
                  </a:lnTo>
                  <a:lnTo>
                    <a:pt x="3107" y="2778"/>
                  </a:lnTo>
                  <a:lnTo>
                    <a:pt x="3058" y="2778"/>
                  </a:lnTo>
                  <a:lnTo>
                    <a:pt x="2999" y="2776"/>
                  </a:lnTo>
                  <a:lnTo>
                    <a:pt x="2930" y="2773"/>
                  </a:lnTo>
                  <a:lnTo>
                    <a:pt x="2852" y="2770"/>
                  </a:lnTo>
                  <a:lnTo>
                    <a:pt x="2766" y="2767"/>
                  </a:lnTo>
                  <a:lnTo>
                    <a:pt x="2681" y="2765"/>
                  </a:lnTo>
                  <a:lnTo>
                    <a:pt x="2589" y="2759"/>
                  </a:lnTo>
                  <a:lnTo>
                    <a:pt x="2500" y="2756"/>
                  </a:lnTo>
                  <a:lnTo>
                    <a:pt x="2412" y="2754"/>
                  </a:lnTo>
                  <a:lnTo>
                    <a:pt x="2328" y="2751"/>
                  </a:lnTo>
                  <a:lnTo>
                    <a:pt x="2251" y="2745"/>
                  </a:lnTo>
                  <a:lnTo>
                    <a:pt x="2182" y="2745"/>
                  </a:lnTo>
                  <a:lnTo>
                    <a:pt x="2121" y="2742"/>
                  </a:lnTo>
                  <a:lnTo>
                    <a:pt x="2073" y="2740"/>
                  </a:lnTo>
                  <a:lnTo>
                    <a:pt x="2029" y="2740"/>
                  </a:lnTo>
                  <a:lnTo>
                    <a:pt x="1979" y="2737"/>
                  </a:lnTo>
                  <a:lnTo>
                    <a:pt x="1926" y="2737"/>
                  </a:lnTo>
                  <a:lnTo>
                    <a:pt x="1868" y="2737"/>
                  </a:lnTo>
                  <a:lnTo>
                    <a:pt x="1807" y="2737"/>
                  </a:lnTo>
                  <a:lnTo>
                    <a:pt x="1744" y="2737"/>
                  </a:lnTo>
                  <a:lnTo>
                    <a:pt x="1683" y="2740"/>
                  </a:lnTo>
                  <a:lnTo>
                    <a:pt x="1622" y="2740"/>
                  </a:lnTo>
                  <a:lnTo>
                    <a:pt x="1561" y="2740"/>
                  </a:lnTo>
                  <a:lnTo>
                    <a:pt x="1502" y="2742"/>
                  </a:lnTo>
                  <a:lnTo>
                    <a:pt x="1450" y="2742"/>
                  </a:lnTo>
                  <a:lnTo>
                    <a:pt x="1400" y="2742"/>
                  </a:lnTo>
                  <a:lnTo>
                    <a:pt x="1358" y="2742"/>
                  </a:lnTo>
                  <a:lnTo>
                    <a:pt x="1322" y="2742"/>
                  </a:lnTo>
                  <a:lnTo>
                    <a:pt x="1294" y="2740"/>
                  </a:lnTo>
                  <a:lnTo>
                    <a:pt x="1275" y="2740"/>
                  </a:lnTo>
                  <a:lnTo>
                    <a:pt x="1256" y="2740"/>
                  </a:lnTo>
                  <a:lnTo>
                    <a:pt x="1228" y="2740"/>
                  </a:lnTo>
                  <a:lnTo>
                    <a:pt x="1189" y="2740"/>
                  </a:lnTo>
                  <a:lnTo>
                    <a:pt x="1145" y="2740"/>
                  </a:lnTo>
                  <a:lnTo>
                    <a:pt x="1092" y="2742"/>
                  </a:lnTo>
                  <a:lnTo>
                    <a:pt x="1037" y="2745"/>
                  </a:lnTo>
                  <a:lnTo>
                    <a:pt x="978" y="2745"/>
                  </a:lnTo>
                  <a:lnTo>
                    <a:pt x="917" y="2748"/>
                  </a:lnTo>
                  <a:lnTo>
                    <a:pt x="856" y="2751"/>
                  </a:lnTo>
                  <a:lnTo>
                    <a:pt x="798" y="2754"/>
                  </a:lnTo>
                  <a:lnTo>
                    <a:pt x="743" y="2756"/>
                  </a:lnTo>
                  <a:lnTo>
                    <a:pt x="690" y="2759"/>
                  </a:lnTo>
                  <a:lnTo>
                    <a:pt x="643" y="2762"/>
                  </a:lnTo>
                  <a:lnTo>
                    <a:pt x="601" y="2762"/>
                  </a:lnTo>
                  <a:lnTo>
                    <a:pt x="571" y="2765"/>
                  </a:lnTo>
                  <a:lnTo>
                    <a:pt x="549" y="2765"/>
                  </a:lnTo>
                  <a:lnTo>
                    <a:pt x="507" y="2765"/>
                  </a:lnTo>
                  <a:lnTo>
                    <a:pt x="454" y="2765"/>
                  </a:lnTo>
                  <a:lnTo>
                    <a:pt x="393" y="2762"/>
                  </a:lnTo>
                  <a:lnTo>
                    <a:pt x="330" y="2759"/>
                  </a:lnTo>
                  <a:lnTo>
                    <a:pt x="271" y="2759"/>
                  </a:lnTo>
                  <a:lnTo>
                    <a:pt x="222" y="2756"/>
                  </a:lnTo>
                  <a:lnTo>
                    <a:pt x="188" y="2756"/>
                  </a:lnTo>
                  <a:lnTo>
                    <a:pt x="177" y="2756"/>
                  </a:lnTo>
                  <a:lnTo>
                    <a:pt x="72" y="1486"/>
                  </a:lnTo>
                  <a:lnTo>
                    <a:pt x="16" y="54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31880" y="1490760"/>
              <a:ext cx="7167600" cy="5025960"/>
            </a:xfrm>
            <a:custGeom>
              <a:avLst/>
              <a:gdLst/>
              <a:ahLst/>
              <a:rect l="l" t="t" r="r" b="b"/>
              <a:pathLst>
                <a:path w="3282" h="2485">
                  <a:moveTo>
                    <a:pt x="31" y="574"/>
                  </a:moveTo>
                  <a:lnTo>
                    <a:pt x="28" y="469"/>
                  </a:lnTo>
                  <a:lnTo>
                    <a:pt x="20" y="347"/>
                  </a:lnTo>
                  <a:lnTo>
                    <a:pt x="11" y="233"/>
                  </a:lnTo>
                  <a:lnTo>
                    <a:pt x="8" y="161"/>
                  </a:lnTo>
                  <a:lnTo>
                    <a:pt x="6" y="119"/>
                  </a:lnTo>
                  <a:lnTo>
                    <a:pt x="0" y="83"/>
                  </a:lnTo>
                  <a:lnTo>
                    <a:pt x="3" y="55"/>
                  </a:lnTo>
                  <a:lnTo>
                    <a:pt x="22" y="33"/>
                  </a:lnTo>
                  <a:lnTo>
                    <a:pt x="39" y="25"/>
                  </a:lnTo>
                  <a:lnTo>
                    <a:pt x="53" y="19"/>
                  </a:lnTo>
                  <a:lnTo>
                    <a:pt x="69" y="17"/>
                  </a:lnTo>
                  <a:lnTo>
                    <a:pt x="86" y="17"/>
                  </a:lnTo>
                  <a:lnTo>
                    <a:pt x="105" y="17"/>
                  </a:lnTo>
                  <a:lnTo>
                    <a:pt x="128" y="17"/>
                  </a:lnTo>
                  <a:lnTo>
                    <a:pt x="155" y="17"/>
                  </a:lnTo>
                  <a:lnTo>
                    <a:pt x="186" y="17"/>
                  </a:lnTo>
                  <a:lnTo>
                    <a:pt x="205" y="17"/>
                  </a:lnTo>
                  <a:lnTo>
                    <a:pt x="225" y="17"/>
                  </a:lnTo>
                  <a:lnTo>
                    <a:pt x="247" y="17"/>
                  </a:lnTo>
                  <a:lnTo>
                    <a:pt x="275" y="17"/>
                  </a:lnTo>
                  <a:lnTo>
                    <a:pt x="302" y="14"/>
                  </a:lnTo>
                  <a:lnTo>
                    <a:pt x="333" y="14"/>
                  </a:lnTo>
                  <a:lnTo>
                    <a:pt x="366" y="14"/>
                  </a:lnTo>
                  <a:lnTo>
                    <a:pt x="402" y="14"/>
                  </a:lnTo>
                  <a:lnTo>
                    <a:pt x="438" y="14"/>
                  </a:lnTo>
                  <a:lnTo>
                    <a:pt x="477" y="14"/>
                  </a:lnTo>
                  <a:lnTo>
                    <a:pt x="519" y="14"/>
                  </a:lnTo>
                  <a:lnTo>
                    <a:pt x="560" y="14"/>
                  </a:lnTo>
                  <a:lnTo>
                    <a:pt x="604" y="14"/>
                  </a:lnTo>
                  <a:lnTo>
                    <a:pt x="649" y="14"/>
                  </a:lnTo>
                  <a:lnTo>
                    <a:pt x="696" y="17"/>
                  </a:lnTo>
                  <a:lnTo>
                    <a:pt x="743" y="17"/>
                  </a:lnTo>
                  <a:lnTo>
                    <a:pt x="796" y="17"/>
                  </a:lnTo>
                  <a:lnTo>
                    <a:pt x="851" y="19"/>
                  </a:lnTo>
                  <a:lnTo>
                    <a:pt x="912" y="19"/>
                  </a:lnTo>
                  <a:lnTo>
                    <a:pt x="976" y="19"/>
                  </a:lnTo>
                  <a:lnTo>
                    <a:pt x="1045" y="19"/>
                  </a:lnTo>
                  <a:lnTo>
                    <a:pt x="1112" y="19"/>
                  </a:lnTo>
                  <a:lnTo>
                    <a:pt x="1181" y="17"/>
                  </a:lnTo>
                  <a:lnTo>
                    <a:pt x="1250" y="17"/>
                  </a:lnTo>
                  <a:lnTo>
                    <a:pt x="1317" y="17"/>
                  </a:lnTo>
                  <a:lnTo>
                    <a:pt x="1383" y="14"/>
                  </a:lnTo>
                  <a:lnTo>
                    <a:pt x="1444" y="14"/>
                  </a:lnTo>
                  <a:lnTo>
                    <a:pt x="1500" y="14"/>
                  </a:lnTo>
                  <a:lnTo>
                    <a:pt x="1550" y="14"/>
                  </a:lnTo>
                  <a:lnTo>
                    <a:pt x="1594" y="14"/>
                  </a:lnTo>
                  <a:lnTo>
                    <a:pt x="1633" y="17"/>
                  </a:lnTo>
                  <a:lnTo>
                    <a:pt x="1661" y="17"/>
                  </a:lnTo>
                  <a:lnTo>
                    <a:pt x="1688" y="17"/>
                  </a:lnTo>
                  <a:lnTo>
                    <a:pt x="1722" y="19"/>
                  </a:lnTo>
                  <a:lnTo>
                    <a:pt x="1760" y="19"/>
                  </a:lnTo>
                  <a:lnTo>
                    <a:pt x="1805" y="17"/>
                  </a:lnTo>
                  <a:lnTo>
                    <a:pt x="1852" y="17"/>
                  </a:lnTo>
                  <a:lnTo>
                    <a:pt x="1899" y="14"/>
                  </a:lnTo>
                  <a:lnTo>
                    <a:pt x="1949" y="14"/>
                  </a:lnTo>
                  <a:lnTo>
                    <a:pt x="2002" y="11"/>
                  </a:lnTo>
                  <a:lnTo>
                    <a:pt x="2052" y="8"/>
                  </a:lnTo>
                  <a:lnTo>
                    <a:pt x="2099" y="8"/>
                  </a:lnTo>
                  <a:lnTo>
                    <a:pt x="2146" y="6"/>
                  </a:lnTo>
                  <a:lnTo>
                    <a:pt x="2190" y="3"/>
                  </a:lnTo>
                  <a:lnTo>
                    <a:pt x="2229" y="3"/>
                  </a:lnTo>
                  <a:lnTo>
                    <a:pt x="2262" y="0"/>
                  </a:lnTo>
                  <a:lnTo>
                    <a:pt x="2290" y="0"/>
                  </a:lnTo>
                  <a:lnTo>
                    <a:pt x="2309" y="0"/>
                  </a:lnTo>
                  <a:lnTo>
                    <a:pt x="2329" y="0"/>
                  </a:lnTo>
                  <a:lnTo>
                    <a:pt x="2351" y="0"/>
                  </a:lnTo>
                  <a:lnTo>
                    <a:pt x="2376" y="0"/>
                  </a:lnTo>
                  <a:lnTo>
                    <a:pt x="2406" y="3"/>
                  </a:lnTo>
                  <a:lnTo>
                    <a:pt x="2437" y="3"/>
                  </a:lnTo>
                  <a:lnTo>
                    <a:pt x="2470" y="3"/>
                  </a:lnTo>
                  <a:lnTo>
                    <a:pt x="2503" y="3"/>
                  </a:lnTo>
                  <a:lnTo>
                    <a:pt x="2537" y="6"/>
                  </a:lnTo>
                  <a:lnTo>
                    <a:pt x="2570" y="6"/>
                  </a:lnTo>
                  <a:lnTo>
                    <a:pt x="2603" y="8"/>
                  </a:lnTo>
                  <a:lnTo>
                    <a:pt x="2637" y="8"/>
                  </a:lnTo>
                  <a:lnTo>
                    <a:pt x="2667" y="11"/>
                  </a:lnTo>
                  <a:lnTo>
                    <a:pt x="2692" y="11"/>
                  </a:lnTo>
                  <a:lnTo>
                    <a:pt x="2717" y="14"/>
                  </a:lnTo>
                  <a:lnTo>
                    <a:pt x="2736" y="14"/>
                  </a:lnTo>
                  <a:lnTo>
                    <a:pt x="2753" y="17"/>
                  </a:lnTo>
                  <a:lnTo>
                    <a:pt x="2783" y="19"/>
                  </a:lnTo>
                  <a:lnTo>
                    <a:pt x="2822" y="19"/>
                  </a:lnTo>
                  <a:lnTo>
                    <a:pt x="2867" y="19"/>
                  </a:lnTo>
                  <a:lnTo>
                    <a:pt x="2911" y="19"/>
                  </a:lnTo>
                  <a:lnTo>
                    <a:pt x="2953" y="19"/>
                  </a:lnTo>
                  <a:lnTo>
                    <a:pt x="2991" y="17"/>
                  </a:lnTo>
                  <a:lnTo>
                    <a:pt x="3025" y="17"/>
                  </a:lnTo>
                  <a:lnTo>
                    <a:pt x="3044" y="17"/>
                  </a:lnTo>
                  <a:lnTo>
                    <a:pt x="3063" y="17"/>
                  </a:lnTo>
                  <a:lnTo>
                    <a:pt x="3088" y="11"/>
                  </a:lnTo>
                  <a:lnTo>
                    <a:pt x="3116" y="8"/>
                  </a:lnTo>
                  <a:lnTo>
                    <a:pt x="3144" y="8"/>
                  </a:lnTo>
                  <a:lnTo>
                    <a:pt x="3172" y="8"/>
                  </a:lnTo>
                  <a:lnTo>
                    <a:pt x="3194" y="14"/>
                  </a:lnTo>
                  <a:lnTo>
                    <a:pt x="3210" y="25"/>
                  </a:lnTo>
                  <a:lnTo>
                    <a:pt x="3221" y="42"/>
                  </a:lnTo>
                  <a:lnTo>
                    <a:pt x="3230" y="94"/>
                  </a:lnTo>
                  <a:lnTo>
                    <a:pt x="3235" y="161"/>
                  </a:lnTo>
                  <a:lnTo>
                    <a:pt x="3238" y="236"/>
                  </a:lnTo>
                  <a:lnTo>
                    <a:pt x="3238" y="308"/>
                  </a:lnTo>
                  <a:lnTo>
                    <a:pt x="3238" y="433"/>
                  </a:lnTo>
                  <a:lnTo>
                    <a:pt x="3244" y="630"/>
                  </a:lnTo>
                  <a:lnTo>
                    <a:pt x="3246" y="824"/>
                  </a:lnTo>
                  <a:lnTo>
                    <a:pt x="3246" y="946"/>
                  </a:lnTo>
                  <a:lnTo>
                    <a:pt x="3249" y="1073"/>
                  </a:lnTo>
                  <a:lnTo>
                    <a:pt x="3260" y="1284"/>
                  </a:lnTo>
                  <a:lnTo>
                    <a:pt x="3269" y="1498"/>
                  </a:lnTo>
                  <a:lnTo>
                    <a:pt x="3271" y="1625"/>
                  </a:lnTo>
                  <a:lnTo>
                    <a:pt x="3271" y="1742"/>
                  </a:lnTo>
                  <a:lnTo>
                    <a:pt x="3271" y="1925"/>
                  </a:lnTo>
                  <a:lnTo>
                    <a:pt x="3274" y="2096"/>
                  </a:lnTo>
                  <a:lnTo>
                    <a:pt x="3280" y="2191"/>
                  </a:lnTo>
                  <a:lnTo>
                    <a:pt x="3282" y="2232"/>
                  </a:lnTo>
                  <a:lnTo>
                    <a:pt x="3280" y="2285"/>
                  </a:lnTo>
                  <a:lnTo>
                    <a:pt x="3274" y="2338"/>
                  </a:lnTo>
                  <a:lnTo>
                    <a:pt x="3271" y="2379"/>
                  </a:lnTo>
                  <a:lnTo>
                    <a:pt x="3269" y="2393"/>
                  </a:lnTo>
                  <a:lnTo>
                    <a:pt x="3263" y="2407"/>
                  </a:lnTo>
                  <a:lnTo>
                    <a:pt x="3255" y="2421"/>
                  </a:lnTo>
                  <a:lnTo>
                    <a:pt x="3241" y="2432"/>
                  </a:lnTo>
                  <a:lnTo>
                    <a:pt x="3224" y="2446"/>
                  </a:lnTo>
                  <a:lnTo>
                    <a:pt x="3202" y="2457"/>
                  </a:lnTo>
                  <a:lnTo>
                    <a:pt x="3177" y="2465"/>
                  </a:lnTo>
                  <a:lnTo>
                    <a:pt x="3149" y="2476"/>
                  </a:lnTo>
                  <a:lnTo>
                    <a:pt x="3130" y="2479"/>
                  </a:lnTo>
                  <a:lnTo>
                    <a:pt x="3102" y="2482"/>
                  </a:lnTo>
                  <a:lnTo>
                    <a:pt x="3069" y="2485"/>
                  </a:lnTo>
                  <a:lnTo>
                    <a:pt x="3030" y="2485"/>
                  </a:lnTo>
                  <a:lnTo>
                    <a:pt x="2989" y="2485"/>
                  </a:lnTo>
                  <a:lnTo>
                    <a:pt x="2941" y="2485"/>
                  </a:lnTo>
                  <a:lnTo>
                    <a:pt x="2894" y="2485"/>
                  </a:lnTo>
                  <a:lnTo>
                    <a:pt x="2847" y="2485"/>
                  </a:lnTo>
                  <a:lnTo>
                    <a:pt x="2797" y="2482"/>
                  </a:lnTo>
                  <a:lnTo>
                    <a:pt x="2750" y="2479"/>
                  </a:lnTo>
                  <a:lnTo>
                    <a:pt x="2706" y="2479"/>
                  </a:lnTo>
                  <a:lnTo>
                    <a:pt x="2664" y="2476"/>
                  </a:lnTo>
                  <a:lnTo>
                    <a:pt x="2628" y="2474"/>
                  </a:lnTo>
                  <a:lnTo>
                    <a:pt x="2598" y="2471"/>
                  </a:lnTo>
                  <a:lnTo>
                    <a:pt x="2576" y="2471"/>
                  </a:lnTo>
                  <a:lnTo>
                    <a:pt x="2559" y="2468"/>
                  </a:lnTo>
                  <a:lnTo>
                    <a:pt x="2542" y="2465"/>
                  </a:lnTo>
                  <a:lnTo>
                    <a:pt x="2517" y="2465"/>
                  </a:lnTo>
                  <a:lnTo>
                    <a:pt x="2481" y="2465"/>
                  </a:lnTo>
                  <a:lnTo>
                    <a:pt x="2440" y="2463"/>
                  </a:lnTo>
                  <a:lnTo>
                    <a:pt x="2390" y="2463"/>
                  </a:lnTo>
                  <a:lnTo>
                    <a:pt x="2334" y="2463"/>
                  </a:lnTo>
                  <a:lnTo>
                    <a:pt x="2279" y="2463"/>
                  </a:lnTo>
                  <a:lnTo>
                    <a:pt x="2218" y="2460"/>
                  </a:lnTo>
                  <a:lnTo>
                    <a:pt x="2157" y="2460"/>
                  </a:lnTo>
                  <a:lnTo>
                    <a:pt x="2099" y="2460"/>
                  </a:lnTo>
                  <a:lnTo>
                    <a:pt x="2040" y="2460"/>
                  </a:lnTo>
                  <a:lnTo>
                    <a:pt x="1985" y="2460"/>
                  </a:lnTo>
                  <a:lnTo>
                    <a:pt x="1935" y="2460"/>
                  </a:lnTo>
                  <a:lnTo>
                    <a:pt x="1891" y="2460"/>
                  </a:lnTo>
                  <a:lnTo>
                    <a:pt x="1852" y="2460"/>
                  </a:lnTo>
                  <a:lnTo>
                    <a:pt x="1824" y="2460"/>
                  </a:lnTo>
                  <a:lnTo>
                    <a:pt x="1797" y="2460"/>
                  </a:lnTo>
                  <a:lnTo>
                    <a:pt x="1760" y="2460"/>
                  </a:lnTo>
                  <a:lnTo>
                    <a:pt x="1716" y="2460"/>
                  </a:lnTo>
                  <a:lnTo>
                    <a:pt x="1669" y="2460"/>
                  </a:lnTo>
                  <a:lnTo>
                    <a:pt x="1616" y="2463"/>
                  </a:lnTo>
                  <a:lnTo>
                    <a:pt x="1564" y="2463"/>
                  </a:lnTo>
                  <a:lnTo>
                    <a:pt x="1505" y="2463"/>
                  </a:lnTo>
                  <a:lnTo>
                    <a:pt x="1450" y="2463"/>
                  </a:lnTo>
                  <a:lnTo>
                    <a:pt x="1392" y="2465"/>
                  </a:lnTo>
                  <a:lnTo>
                    <a:pt x="1336" y="2465"/>
                  </a:lnTo>
                  <a:lnTo>
                    <a:pt x="1284" y="2465"/>
                  </a:lnTo>
                  <a:lnTo>
                    <a:pt x="1237" y="2468"/>
                  </a:lnTo>
                  <a:lnTo>
                    <a:pt x="1192" y="2468"/>
                  </a:lnTo>
                  <a:lnTo>
                    <a:pt x="1156" y="2468"/>
                  </a:lnTo>
                  <a:lnTo>
                    <a:pt x="1128" y="2468"/>
                  </a:lnTo>
                  <a:lnTo>
                    <a:pt x="1106" y="2468"/>
                  </a:lnTo>
                  <a:lnTo>
                    <a:pt x="1087" y="2468"/>
                  </a:lnTo>
                  <a:lnTo>
                    <a:pt x="1059" y="2468"/>
                  </a:lnTo>
                  <a:lnTo>
                    <a:pt x="1026" y="2465"/>
                  </a:lnTo>
                  <a:lnTo>
                    <a:pt x="987" y="2465"/>
                  </a:lnTo>
                  <a:lnTo>
                    <a:pt x="943" y="2465"/>
                  </a:lnTo>
                  <a:lnTo>
                    <a:pt x="896" y="2463"/>
                  </a:lnTo>
                  <a:lnTo>
                    <a:pt x="848" y="2463"/>
                  </a:lnTo>
                  <a:lnTo>
                    <a:pt x="796" y="2460"/>
                  </a:lnTo>
                  <a:lnTo>
                    <a:pt x="746" y="2460"/>
                  </a:lnTo>
                  <a:lnTo>
                    <a:pt x="693" y="2460"/>
                  </a:lnTo>
                  <a:lnTo>
                    <a:pt x="643" y="2457"/>
                  </a:lnTo>
                  <a:lnTo>
                    <a:pt x="596" y="2457"/>
                  </a:lnTo>
                  <a:lnTo>
                    <a:pt x="552" y="2457"/>
                  </a:lnTo>
                  <a:lnTo>
                    <a:pt x="510" y="2457"/>
                  </a:lnTo>
                  <a:lnTo>
                    <a:pt x="474" y="2460"/>
                  </a:lnTo>
                  <a:lnTo>
                    <a:pt x="444" y="2460"/>
                  </a:lnTo>
                  <a:lnTo>
                    <a:pt x="391" y="2463"/>
                  </a:lnTo>
                  <a:lnTo>
                    <a:pt x="344" y="2463"/>
                  </a:lnTo>
                  <a:lnTo>
                    <a:pt x="305" y="2460"/>
                  </a:lnTo>
                  <a:lnTo>
                    <a:pt x="269" y="2460"/>
                  </a:lnTo>
                  <a:lnTo>
                    <a:pt x="241" y="2457"/>
                  </a:lnTo>
                  <a:lnTo>
                    <a:pt x="219" y="2454"/>
                  </a:lnTo>
                  <a:lnTo>
                    <a:pt x="208" y="2451"/>
                  </a:lnTo>
                  <a:lnTo>
                    <a:pt x="202" y="2451"/>
                  </a:lnTo>
                  <a:lnTo>
                    <a:pt x="39" y="1215"/>
                  </a:lnTo>
                  <a:lnTo>
                    <a:pt x="39" y="1123"/>
                  </a:lnTo>
                  <a:lnTo>
                    <a:pt x="36" y="918"/>
                  </a:lnTo>
                  <a:lnTo>
                    <a:pt x="31" y="702"/>
                  </a:lnTo>
                  <a:lnTo>
                    <a:pt x="31" y="57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71600" y="1143000"/>
              <a:ext cx="3068640" cy="876240"/>
            </a:xfrm>
            <a:custGeom>
              <a:avLst/>
              <a:gdLst/>
              <a:ahLst/>
              <a:rect l="l" t="t" r="r" b="b"/>
              <a:pathLst>
                <a:path w="1405" h="433">
                  <a:moveTo>
                    <a:pt x="984" y="6"/>
                  </a:moveTo>
                  <a:lnTo>
                    <a:pt x="1023" y="8"/>
                  </a:lnTo>
                  <a:lnTo>
                    <a:pt x="1064" y="11"/>
                  </a:lnTo>
                  <a:lnTo>
                    <a:pt x="1103" y="14"/>
                  </a:lnTo>
                  <a:lnTo>
                    <a:pt x="1142" y="17"/>
                  </a:lnTo>
                  <a:lnTo>
                    <a:pt x="1184" y="20"/>
                  </a:lnTo>
                  <a:lnTo>
                    <a:pt x="1222" y="22"/>
                  </a:lnTo>
                  <a:lnTo>
                    <a:pt x="1261" y="28"/>
                  </a:lnTo>
                  <a:lnTo>
                    <a:pt x="1300" y="33"/>
                  </a:lnTo>
                  <a:lnTo>
                    <a:pt x="1314" y="33"/>
                  </a:lnTo>
                  <a:lnTo>
                    <a:pt x="1325" y="33"/>
                  </a:lnTo>
                  <a:lnTo>
                    <a:pt x="1339" y="33"/>
                  </a:lnTo>
                  <a:lnTo>
                    <a:pt x="1353" y="36"/>
                  </a:lnTo>
                  <a:lnTo>
                    <a:pt x="1367" y="39"/>
                  </a:lnTo>
                  <a:lnTo>
                    <a:pt x="1380" y="42"/>
                  </a:lnTo>
                  <a:lnTo>
                    <a:pt x="1394" y="47"/>
                  </a:lnTo>
                  <a:lnTo>
                    <a:pt x="1405" y="53"/>
                  </a:lnTo>
                  <a:lnTo>
                    <a:pt x="1405" y="56"/>
                  </a:lnTo>
                  <a:lnTo>
                    <a:pt x="1405" y="61"/>
                  </a:lnTo>
                  <a:lnTo>
                    <a:pt x="1405" y="64"/>
                  </a:lnTo>
                  <a:lnTo>
                    <a:pt x="1400" y="67"/>
                  </a:lnTo>
                  <a:lnTo>
                    <a:pt x="1378" y="64"/>
                  </a:lnTo>
                  <a:lnTo>
                    <a:pt x="1355" y="61"/>
                  </a:lnTo>
                  <a:lnTo>
                    <a:pt x="1333" y="64"/>
                  </a:lnTo>
                  <a:lnTo>
                    <a:pt x="1311" y="64"/>
                  </a:lnTo>
                  <a:lnTo>
                    <a:pt x="1289" y="67"/>
                  </a:lnTo>
                  <a:lnTo>
                    <a:pt x="1264" y="67"/>
                  </a:lnTo>
                  <a:lnTo>
                    <a:pt x="1242" y="67"/>
                  </a:lnTo>
                  <a:lnTo>
                    <a:pt x="1217" y="64"/>
                  </a:lnTo>
                  <a:lnTo>
                    <a:pt x="1164" y="64"/>
                  </a:lnTo>
                  <a:lnTo>
                    <a:pt x="1114" y="61"/>
                  </a:lnTo>
                  <a:lnTo>
                    <a:pt x="1062" y="61"/>
                  </a:lnTo>
                  <a:lnTo>
                    <a:pt x="1009" y="58"/>
                  </a:lnTo>
                  <a:lnTo>
                    <a:pt x="956" y="58"/>
                  </a:lnTo>
                  <a:lnTo>
                    <a:pt x="906" y="56"/>
                  </a:lnTo>
                  <a:lnTo>
                    <a:pt x="851" y="56"/>
                  </a:lnTo>
                  <a:lnTo>
                    <a:pt x="798" y="56"/>
                  </a:lnTo>
                  <a:lnTo>
                    <a:pt x="776" y="58"/>
                  </a:lnTo>
                  <a:lnTo>
                    <a:pt x="751" y="58"/>
                  </a:lnTo>
                  <a:lnTo>
                    <a:pt x="729" y="58"/>
                  </a:lnTo>
                  <a:lnTo>
                    <a:pt x="707" y="56"/>
                  </a:lnTo>
                  <a:lnTo>
                    <a:pt x="685" y="56"/>
                  </a:lnTo>
                  <a:lnTo>
                    <a:pt x="660" y="56"/>
                  </a:lnTo>
                  <a:lnTo>
                    <a:pt x="637" y="56"/>
                  </a:lnTo>
                  <a:lnTo>
                    <a:pt x="612" y="58"/>
                  </a:lnTo>
                  <a:lnTo>
                    <a:pt x="565" y="58"/>
                  </a:lnTo>
                  <a:lnTo>
                    <a:pt x="521" y="58"/>
                  </a:lnTo>
                  <a:lnTo>
                    <a:pt x="474" y="61"/>
                  </a:lnTo>
                  <a:lnTo>
                    <a:pt x="430" y="61"/>
                  </a:lnTo>
                  <a:lnTo>
                    <a:pt x="382" y="64"/>
                  </a:lnTo>
                  <a:lnTo>
                    <a:pt x="335" y="67"/>
                  </a:lnTo>
                  <a:lnTo>
                    <a:pt x="291" y="67"/>
                  </a:lnTo>
                  <a:lnTo>
                    <a:pt x="244" y="69"/>
                  </a:lnTo>
                  <a:lnTo>
                    <a:pt x="224" y="69"/>
                  </a:lnTo>
                  <a:lnTo>
                    <a:pt x="205" y="69"/>
                  </a:lnTo>
                  <a:lnTo>
                    <a:pt x="183" y="69"/>
                  </a:lnTo>
                  <a:lnTo>
                    <a:pt x="161" y="69"/>
                  </a:lnTo>
                  <a:lnTo>
                    <a:pt x="141" y="72"/>
                  </a:lnTo>
                  <a:lnTo>
                    <a:pt x="119" y="78"/>
                  </a:lnTo>
                  <a:lnTo>
                    <a:pt x="100" y="83"/>
                  </a:lnTo>
                  <a:lnTo>
                    <a:pt x="83" y="92"/>
                  </a:lnTo>
                  <a:lnTo>
                    <a:pt x="77" y="97"/>
                  </a:lnTo>
                  <a:lnTo>
                    <a:pt x="69" y="100"/>
                  </a:lnTo>
                  <a:lnTo>
                    <a:pt x="64" y="105"/>
                  </a:lnTo>
                  <a:lnTo>
                    <a:pt x="58" y="114"/>
                  </a:lnTo>
                  <a:lnTo>
                    <a:pt x="55" y="191"/>
                  </a:lnTo>
                  <a:lnTo>
                    <a:pt x="53" y="272"/>
                  </a:lnTo>
                  <a:lnTo>
                    <a:pt x="50" y="350"/>
                  </a:lnTo>
                  <a:lnTo>
                    <a:pt x="44" y="424"/>
                  </a:lnTo>
                  <a:lnTo>
                    <a:pt x="41" y="427"/>
                  </a:lnTo>
                  <a:lnTo>
                    <a:pt x="36" y="433"/>
                  </a:lnTo>
                  <a:lnTo>
                    <a:pt x="30" y="433"/>
                  </a:lnTo>
                  <a:lnTo>
                    <a:pt x="25" y="433"/>
                  </a:lnTo>
                  <a:lnTo>
                    <a:pt x="22" y="427"/>
                  </a:lnTo>
                  <a:lnTo>
                    <a:pt x="14" y="341"/>
                  </a:lnTo>
                  <a:lnTo>
                    <a:pt x="8" y="258"/>
                  </a:lnTo>
                  <a:lnTo>
                    <a:pt x="3" y="175"/>
                  </a:lnTo>
                  <a:lnTo>
                    <a:pt x="0" y="92"/>
                  </a:lnTo>
                  <a:lnTo>
                    <a:pt x="8" y="75"/>
                  </a:lnTo>
                  <a:lnTo>
                    <a:pt x="16" y="56"/>
                  </a:lnTo>
                  <a:lnTo>
                    <a:pt x="28" y="39"/>
                  </a:lnTo>
                  <a:lnTo>
                    <a:pt x="47" y="31"/>
                  </a:lnTo>
                  <a:lnTo>
                    <a:pt x="97" y="25"/>
                  </a:lnTo>
                  <a:lnTo>
                    <a:pt x="147" y="20"/>
                  </a:lnTo>
                  <a:lnTo>
                    <a:pt x="197" y="20"/>
                  </a:lnTo>
                  <a:lnTo>
                    <a:pt x="249" y="17"/>
                  </a:lnTo>
                  <a:lnTo>
                    <a:pt x="299" y="17"/>
                  </a:lnTo>
                  <a:lnTo>
                    <a:pt x="352" y="14"/>
                  </a:lnTo>
                  <a:lnTo>
                    <a:pt x="399" y="11"/>
                  </a:lnTo>
                  <a:lnTo>
                    <a:pt x="449" y="8"/>
                  </a:lnTo>
                  <a:lnTo>
                    <a:pt x="482" y="6"/>
                  </a:lnTo>
                  <a:lnTo>
                    <a:pt x="515" y="3"/>
                  </a:lnTo>
                  <a:lnTo>
                    <a:pt x="549" y="3"/>
                  </a:lnTo>
                  <a:lnTo>
                    <a:pt x="582" y="0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3"/>
                  </a:lnTo>
                  <a:lnTo>
                    <a:pt x="718" y="3"/>
                  </a:lnTo>
                  <a:lnTo>
                    <a:pt x="751" y="3"/>
                  </a:lnTo>
                  <a:lnTo>
                    <a:pt x="784" y="6"/>
                  </a:lnTo>
                  <a:lnTo>
                    <a:pt x="818" y="6"/>
                  </a:lnTo>
                  <a:lnTo>
                    <a:pt x="851" y="6"/>
                  </a:lnTo>
                  <a:lnTo>
                    <a:pt x="884" y="8"/>
                  </a:lnTo>
                  <a:lnTo>
                    <a:pt x="917" y="8"/>
                  </a:lnTo>
                  <a:lnTo>
                    <a:pt x="951" y="6"/>
                  </a:lnTo>
                  <a:lnTo>
                    <a:pt x="9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92840" y="1182600"/>
              <a:ext cx="4151160" cy="4335480"/>
            </a:xfrm>
            <a:custGeom>
              <a:avLst/>
              <a:gdLst/>
              <a:ahLst/>
              <a:rect l="l" t="t" r="r" b="b"/>
              <a:pathLst>
                <a:path w="1901" h="2143">
                  <a:moveTo>
                    <a:pt x="845" y="2"/>
                  </a:moveTo>
                  <a:lnTo>
                    <a:pt x="890" y="2"/>
                  </a:lnTo>
                  <a:lnTo>
                    <a:pt x="931" y="2"/>
                  </a:lnTo>
                  <a:lnTo>
                    <a:pt x="973" y="2"/>
                  </a:lnTo>
                  <a:lnTo>
                    <a:pt x="1017" y="5"/>
                  </a:lnTo>
                  <a:lnTo>
                    <a:pt x="1059" y="5"/>
                  </a:lnTo>
                  <a:lnTo>
                    <a:pt x="1100" y="5"/>
                  </a:lnTo>
                  <a:lnTo>
                    <a:pt x="1145" y="5"/>
                  </a:lnTo>
                  <a:lnTo>
                    <a:pt x="1186" y="8"/>
                  </a:lnTo>
                  <a:lnTo>
                    <a:pt x="1228" y="8"/>
                  </a:lnTo>
                  <a:lnTo>
                    <a:pt x="1272" y="8"/>
                  </a:lnTo>
                  <a:lnTo>
                    <a:pt x="1314" y="8"/>
                  </a:lnTo>
                  <a:lnTo>
                    <a:pt x="1355" y="11"/>
                  </a:lnTo>
                  <a:lnTo>
                    <a:pt x="1400" y="11"/>
                  </a:lnTo>
                  <a:lnTo>
                    <a:pt x="1441" y="8"/>
                  </a:lnTo>
                  <a:lnTo>
                    <a:pt x="1483" y="8"/>
                  </a:lnTo>
                  <a:lnTo>
                    <a:pt x="1527" y="8"/>
                  </a:lnTo>
                  <a:lnTo>
                    <a:pt x="1544" y="8"/>
                  </a:lnTo>
                  <a:lnTo>
                    <a:pt x="1558" y="13"/>
                  </a:lnTo>
                  <a:lnTo>
                    <a:pt x="1574" y="16"/>
                  </a:lnTo>
                  <a:lnTo>
                    <a:pt x="1588" y="22"/>
                  </a:lnTo>
                  <a:lnTo>
                    <a:pt x="1619" y="19"/>
                  </a:lnTo>
                  <a:lnTo>
                    <a:pt x="1652" y="16"/>
                  </a:lnTo>
                  <a:lnTo>
                    <a:pt x="1682" y="16"/>
                  </a:lnTo>
                  <a:lnTo>
                    <a:pt x="1716" y="13"/>
                  </a:lnTo>
                  <a:lnTo>
                    <a:pt x="1749" y="13"/>
                  </a:lnTo>
                  <a:lnTo>
                    <a:pt x="1779" y="16"/>
                  </a:lnTo>
                  <a:lnTo>
                    <a:pt x="1813" y="19"/>
                  </a:lnTo>
                  <a:lnTo>
                    <a:pt x="1843" y="22"/>
                  </a:lnTo>
                  <a:lnTo>
                    <a:pt x="1865" y="47"/>
                  </a:lnTo>
                  <a:lnTo>
                    <a:pt x="1877" y="83"/>
                  </a:lnTo>
                  <a:lnTo>
                    <a:pt x="1877" y="122"/>
                  </a:lnTo>
                  <a:lnTo>
                    <a:pt x="1877" y="160"/>
                  </a:lnTo>
                  <a:lnTo>
                    <a:pt x="1874" y="252"/>
                  </a:lnTo>
                  <a:lnTo>
                    <a:pt x="1874" y="346"/>
                  </a:lnTo>
                  <a:lnTo>
                    <a:pt x="1879" y="438"/>
                  </a:lnTo>
                  <a:lnTo>
                    <a:pt x="1888" y="529"/>
                  </a:lnTo>
                  <a:lnTo>
                    <a:pt x="1882" y="593"/>
                  </a:lnTo>
                  <a:lnTo>
                    <a:pt x="1885" y="657"/>
                  </a:lnTo>
                  <a:lnTo>
                    <a:pt x="1890" y="723"/>
                  </a:lnTo>
                  <a:lnTo>
                    <a:pt x="1890" y="790"/>
                  </a:lnTo>
                  <a:lnTo>
                    <a:pt x="1893" y="820"/>
                  </a:lnTo>
                  <a:lnTo>
                    <a:pt x="1896" y="854"/>
                  </a:lnTo>
                  <a:lnTo>
                    <a:pt x="1896" y="887"/>
                  </a:lnTo>
                  <a:lnTo>
                    <a:pt x="1899" y="917"/>
                  </a:lnTo>
                  <a:lnTo>
                    <a:pt x="1899" y="931"/>
                  </a:lnTo>
                  <a:lnTo>
                    <a:pt x="1896" y="948"/>
                  </a:lnTo>
                  <a:lnTo>
                    <a:pt x="1896" y="965"/>
                  </a:lnTo>
                  <a:lnTo>
                    <a:pt x="1896" y="978"/>
                  </a:lnTo>
                  <a:lnTo>
                    <a:pt x="1899" y="1117"/>
                  </a:lnTo>
                  <a:lnTo>
                    <a:pt x="1901" y="1261"/>
                  </a:lnTo>
                  <a:lnTo>
                    <a:pt x="1899" y="1408"/>
                  </a:lnTo>
                  <a:lnTo>
                    <a:pt x="1899" y="1552"/>
                  </a:lnTo>
                  <a:lnTo>
                    <a:pt x="1896" y="1622"/>
                  </a:lnTo>
                  <a:lnTo>
                    <a:pt x="1896" y="1691"/>
                  </a:lnTo>
                  <a:lnTo>
                    <a:pt x="1899" y="1760"/>
                  </a:lnTo>
                  <a:lnTo>
                    <a:pt x="1899" y="1830"/>
                  </a:lnTo>
                  <a:lnTo>
                    <a:pt x="1893" y="1907"/>
                  </a:lnTo>
                  <a:lnTo>
                    <a:pt x="1890" y="1988"/>
                  </a:lnTo>
                  <a:lnTo>
                    <a:pt x="1890" y="2065"/>
                  </a:lnTo>
                  <a:lnTo>
                    <a:pt x="1882" y="2143"/>
                  </a:lnTo>
                  <a:lnTo>
                    <a:pt x="1868" y="2143"/>
                  </a:lnTo>
                  <a:lnTo>
                    <a:pt x="1863" y="2085"/>
                  </a:lnTo>
                  <a:lnTo>
                    <a:pt x="1857" y="2029"/>
                  </a:lnTo>
                  <a:lnTo>
                    <a:pt x="1854" y="1974"/>
                  </a:lnTo>
                  <a:lnTo>
                    <a:pt x="1854" y="1918"/>
                  </a:lnTo>
                  <a:lnTo>
                    <a:pt x="1852" y="1860"/>
                  </a:lnTo>
                  <a:lnTo>
                    <a:pt x="1849" y="1805"/>
                  </a:lnTo>
                  <a:lnTo>
                    <a:pt x="1852" y="1747"/>
                  </a:lnTo>
                  <a:lnTo>
                    <a:pt x="1852" y="1686"/>
                  </a:lnTo>
                  <a:lnTo>
                    <a:pt x="1854" y="1558"/>
                  </a:lnTo>
                  <a:lnTo>
                    <a:pt x="1852" y="1430"/>
                  </a:lnTo>
                  <a:lnTo>
                    <a:pt x="1849" y="1303"/>
                  </a:lnTo>
                  <a:lnTo>
                    <a:pt x="1840" y="1173"/>
                  </a:lnTo>
                  <a:lnTo>
                    <a:pt x="1835" y="984"/>
                  </a:lnTo>
                  <a:lnTo>
                    <a:pt x="1829" y="795"/>
                  </a:lnTo>
                  <a:lnTo>
                    <a:pt x="1827" y="610"/>
                  </a:lnTo>
                  <a:lnTo>
                    <a:pt x="1835" y="424"/>
                  </a:lnTo>
                  <a:lnTo>
                    <a:pt x="1827" y="349"/>
                  </a:lnTo>
                  <a:lnTo>
                    <a:pt x="1824" y="274"/>
                  </a:lnTo>
                  <a:lnTo>
                    <a:pt x="1821" y="202"/>
                  </a:lnTo>
                  <a:lnTo>
                    <a:pt x="1818" y="124"/>
                  </a:lnTo>
                  <a:lnTo>
                    <a:pt x="1813" y="110"/>
                  </a:lnTo>
                  <a:lnTo>
                    <a:pt x="1810" y="97"/>
                  </a:lnTo>
                  <a:lnTo>
                    <a:pt x="1804" y="83"/>
                  </a:lnTo>
                  <a:lnTo>
                    <a:pt x="1788" y="77"/>
                  </a:lnTo>
                  <a:lnTo>
                    <a:pt x="1752" y="74"/>
                  </a:lnTo>
                  <a:lnTo>
                    <a:pt x="1718" y="72"/>
                  </a:lnTo>
                  <a:lnTo>
                    <a:pt x="1682" y="72"/>
                  </a:lnTo>
                  <a:lnTo>
                    <a:pt x="1646" y="69"/>
                  </a:lnTo>
                  <a:lnTo>
                    <a:pt x="1608" y="66"/>
                  </a:lnTo>
                  <a:lnTo>
                    <a:pt x="1572" y="63"/>
                  </a:lnTo>
                  <a:lnTo>
                    <a:pt x="1538" y="63"/>
                  </a:lnTo>
                  <a:lnTo>
                    <a:pt x="1502" y="63"/>
                  </a:lnTo>
                  <a:lnTo>
                    <a:pt x="1486" y="61"/>
                  </a:lnTo>
                  <a:lnTo>
                    <a:pt x="1466" y="58"/>
                  </a:lnTo>
                  <a:lnTo>
                    <a:pt x="1447" y="55"/>
                  </a:lnTo>
                  <a:lnTo>
                    <a:pt x="1427" y="55"/>
                  </a:lnTo>
                  <a:lnTo>
                    <a:pt x="1408" y="55"/>
                  </a:lnTo>
                  <a:lnTo>
                    <a:pt x="1389" y="55"/>
                  </a:lnTo>
                  <a:lnTo>
                    <a:pt x="1369" y="55"/>
                  </a:lnTo>
                  <a:lnTo>
                    <a:pt x="1350" y="58"/>
                  </a:lnTo>
                  <a:lnTo>
                    <a:pt x="1297" y="63"/>
                  </a:lnTo>
                  <a:lnTo>
                    <a:pt x="1244" y="63"/>
                  </a:lnTo>
                  <a:lnTo>
                    <a:pt x="1192" y="63"/>
                  </a:lnTo>
                  <a:lnTo>
                    <a:pt x="1136" y="63"/>
                  </a:lnTo>
                  <a:lnTo>
                    <a:pt x="1084" y="63"/>
                  </a:lnTo>
                  <a:lnTo>
                    <a:pt x="1028" y="61"/>
                  </a:lnTo>
                  <a:lnTo>
                    <a:pt x="976" y="61"/>
                  </a:lnTo>
                  <a:lnTo>
                    <a:pt x="920" y="63"/>
                  </a:lnTo>
                  <a:lnTo>
                    <a:pt x="870" y="61"/>
                  </a:lnTo>
                  <a:lnTo>
                    <a:pt x="823" y="58"/>
                  </a:lnTo>
                  <a:lnTo>
                    <a:pt x="770" y="58"/>
                  </a:lnTo>
                  <a:lnTo>
                    <a:pt x="720" y="55"/>
                  </a:lnTo>
                  <a:lnTo>
                    <a:pt x="668" y="55"/>
                  </a:lnTo>
                  <a:lnTo>
                    <a:pt x="618" y="55"/>
                  </a:lnTo>
                  <a:lnTo>
                    <a:pt x="565" y="55"/>
                  </a:lnTo>
                  <a:lnTo>
                    <a:pt x="515" y="52"/>
                  </a:lnTo>
                  <a:lnTo>
                    <a:pt x="521" y="49"/>
                  </a:lnTo>
                  <a:lnTo>
                    <a:pt x="510" y="47"/>
                  </a:lnTo>
                  <a:lnTo>
                    <a:pt x="499" y="47"/>
                  </a:lnTo>
                  <a:lnTo>
                    <a:pt x="490" y="44"/>
                  </a:lnTo>
                  <a:lnTo>
                    <a:pt x="479" y="44"/>
                  </a:lnTo>
                  <a:lnTo>
                    <a:pt x="468" y="44"/>
                  </a:lnTo>
                  <a:lnTo>
                    <a:pt x="457" y="44"/>
                  </a:lnTo>
                  <a:lnTo>
                    <a:pt x="443" y="44"/>
                  </a:lnTo>
                  <a:lnTo>
                    <a:pt x="432" y="44"/>
                  </a:lnTo>
                  <a:lnTo>
                    <a:pt x="385" y="44"/>
                  </a:lnTo>
                  <a:lnTo>
                    <a:pt x="338" y="44"/>
                  </a:lnTo>
                  <a:lnTo>
                    <a:pt x="294" y="41"/>
                  </a:lnTo>
                  <a:lnTo>
                    <a:pt x="246" y="41"/>
                  </a:lnTo>
                  <a:lnTo>
                    <a:pt x="202" y="41"/>
                  </a:lnTo>
                  <a:lnTo>
                    <a:pt x="155" y="41"/>
                  </a:lnTo>
                  <a:lnTo>
                    <a:pt x="111" y="41"/>
                  </a:lnTo>
                  <a:lnTo>
                    <a:pt x="63" y="44"/>
                  </a:lnTo>
                  <a:lnTo>
                    <a:pt x="47" y="41"/>
                  </a:lnTo>
                  <a:lnTo>
                    <a:pt x="30" y="41"/>
                  </a:lnTo>
                  <a:lnTo>
                    <a:pt x="14" y="41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36" y="19"/>
                  </a:lnTo>
                  <a:lnTo>
                    <a:pt x="69" y="19"/>
                  </a:lnTo>
                  <a:lnTo>
                    <a:pt x="102" y="16"/>
                  </a:lnTo>
                  <a:lnTo>
                    <a:pt x="136" y="13"/>
                  </a:lnTo>
                  <a:lnTo>
                    <a:pt x="169" y="13"/>
                  </a:lnTo>
                  <a:lnTo>
                    <a:pt x="205" y="11"/>
                  </a:lnTo>
                  <a:lnTo>
                    <a:pt x="238" y="11"/>
                  </a:lnTo>
                  <a:lnTo>
                    <a:pt x="271" y="8"/>
                  </a:lnTo>
                  <a:lnTo>
                    <a:pt x="307" y="8"/>
                  </a:lnTo>
                  <a:lnTo>
                    <a:pt x="343" y="5"/>
                  </a:lnTo>
                  <a:lnTo>
                    <a:pt x="380" y="5"/>
                  </a:lnTo>
                  <a:lnTo>
                    <a:pt x="416" y="5"/>
                  </a:lnTo>
                  <a:lnTo>
                    <a:pt x="449" y="5"/>
                  </a:lnTo>
                  <a:lnTo>
                    <a:pt x="485" y="5"/>
                  </a:lnTo>
                  <a:lnTo>
                    <a:pt x="521" y="5"/>
                  </a:lnTo>
                  <a:lnTo>
                    <a:pt x="557" y="5"/>
                  </a:lnTo>
                  <a:lnTo>
                    <a:pt x="593" y="2"/>
                  </a:lnTo>
                  <a:lnTo>
                    <a:pt x="626" y="0"/>
                  </a:lnTo>
                  <a:lnTo>
                    <a:pt x="662" y="0"/>
                  </a:lnTo>
                  <a:lnTo>
                    <a:pt x="701" y="0"/>
                  </a:lnTo>
                  <a:lnTo>
                    <a:pt x="737" y="0"/>
                  </a:lnTo>
                  <a:lnTo>
                    <a:pt x="773" y="0"/>
                  </a:lnTo>
                  <a:lnTo>
                    <a:pt x="809" y="2"/>
                  </a:lnTo>
                  <a:lnTo>
                    <a:pt x="84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30680" y="1468440"/>
              <a:ext cx="5540040" cy="133200"/>
            </a:xfrm>
            <a:custGeom>
              <a:avLst/>
              <a:gdLst/>
              <a:ahLst/>
              <a:rect l="l" t="t" r="r" b="b"/>
              <a:pathLst>
                <a:path w="2537" h="66">
                  <a:moveTo>
                    <a:pt x="1960" y="8"/>
                  </a:moveTo>
                  <a:lnTo>
                    <a:pt x="1996" y="11"/>
                  </a:lnTo>
                  <a:lnTo>
                    <a:pt x="2032" y="11"/>
                  </a:lnTo>
                  <a:lnTo>
                    <a:pt x="2068" y="14"/>
                  </a:lnTo>
                  <a:lnTo>
                    <a:pt x="2104" y="14"/>
                  </a:lnTo>
                  <a:lnTo>
                    <a:pt x="2140" y="14"/>
                  </a:lnTo>
                  <a:lnTo>
                    <a:pt x="2176" y="17"/>
                  </a:lnTo>
                  <a:lnTo>
                    <a:pt x="2215" y="17"/>
                  </a:lnTo>
                  <a:lnTo>
                    <a:pt x="2251" y="19"/>
                  </a:lnTo>
                  <a:lnTo>
                    <a:pt x="2282" y="22"/>
                  </a:lnTo>
                  <a:lnTo>
                    <a:pt x="2315" y="22"/>
                  </a:lnTo>
                  <a:lnTo>
                    <a:pt x="2345" y="22"/>
                  </a:lnTo>
                  <a:lnTo>
                    <a:pt x="2379" y="22"/>
                  </a:lnTo>
                  <a:lnTo>
                    <a:pt x="2409" y="22"/>
                  </a:lnTo>
                  <a:lnTo>
                    <a:pt x="2442" y="19"/>
                  </a:lnTo>
                  <a:lnTo>
                    <a:pt x="2473" y="22"/>
                  </a:lnTo>
                  <a:lnTo>
                    <a:pt x="2503" y="22"/>
                  </a:lnTo>
                  <a:lnTo>
                    <a:pt x="2512" y="25"/>
                  </a:lnTo>
                  <a:lnTo>
                    <a:pt x="2520" y="25"/>
                  </a:lnTo>
                  <a:lnTo>
                    <a:pt x="2526" y="25"/>
                  </a:lnTo>
                  <a:lnTo>
                    <a:pt x="2534" y="28"/>
                  </a:lnTo>
                  <a:lnTo>
                    <a:pt x="2537" y="39"/>
                  </a:lnTo>
                  <a:lnTo>
                    <a:pt x="2531" y="42"/>
                  </a:lnTo>
                  <a:lnTo>
                    <a:pt x="2523" y="44"/>
                  </a:lnTo>
                  <a:lnTo>
                    <a:pt x="2514" y="47"/>
                  </a:lnTo>
                  <a:lnTo>
                    <a:pt x="2484" y="53"/>
                  </a:lnTo>
                  <a:lnTo>
                    <a:pt x="2451" y="55"/>
                  </a:lnTo>
                  <a:lnTo>
                    <a:pt x="2417" y="55"/>
                  </a:lnTo>
                  <a:lnTo>
                    <a:pt x="2384" y="55"/>
                  </a:lnTo>
                  <a:lnTo>
                    <a:pt x="2351" y="53"/>
                  </a:lnTo>
                  <a:lnTo>
                    <a:pt x="2318" y="53"/>
                  </a:lnTo>
                  <a:lnTo>
                    <a:pt x="2284" y="53"/>
                  </a:lnTo>
                  <a:lnTo>
                    <a:pt x="2254" y="55"/>
                  </a:lnTo>
                  <a:lnTo>
                    <a:pt x="2218" y="55"/>
                  </a:lnTo>
                  <a:lnTo>
                    <a:pt x="2182" y="55"/>
                  </a:lnTo>
                  <a:lnTo>
                    <a:pt x="2146" y="55"/>
                  </a:lnTo>
                  <a:lnTo>
                    <a:pt x="2110" y="55"/>
                  </a:lnTo>
                  <a:lnTo>
                    <a:pt x="2071" y="55"/>
                  </a:lnTo>
                  <a:lnTo>
                    <a:pt x="2035" y="53"/>
                  </a:lnTo>
                  <a:lnTo>
                    <a:pt x="1999" y="53"/>
                  </a:lnTo>
                  <a:lnTo>
                    <a:pt x="1960" y="50"/>
                  </a:lnTo>
                  <a:lnTo>
                    <a:pt x="1924" y="50"/>
                  </a:lnTo>
                  <a:lnTo>
                    <a:pt x="1888" y="50"/>
                  </a:lnTo>
                  <a:lnTo>
                    <a:pt x="1849" y="50"/>
                  </a:lnTo>
                  <a:lnTo>
                    <a:pt x="1813" y="50"/>
                  </a:lnTo>
                  <a:lnTo>
                    <a:pt x="1777" y="50"/>
                  </a:lnTo>
                  <a:lnTo>
                    <a:pt x="1741" y="50"/>
                  </a:lnTo>
                  <a:lnTo>
                    <a:pt x="1708" y="53"/>
                  </a:lnTo>
                  <a:lnTo>
                    <a:pt x="1672" y="55"/>
                  </a:lnTo>
                  <a:lnTo>
                    <a:pt x="1450" y="55"/>
                  </a:lnTo>
                  <a:lnTo>
                    <a:pt x="1425" y="61"/>
                  </a:lnTo>
                  <a:lnTo>
                    <a:pt x="1400" y="64"/>
                  </a:lnTo>
                  <a:lnTo>
                    <a:pt x="1372" y="66"/>
                  </a:lnTo>
                  <a:lnTo>
                    <a:pt x="1345" y="66"/>
                  </a:lnTo>
                  <a:lnTo>
                    <a:pt x="1317" y="66"/>
                  </a:lnTo>
                  <a:lnTo>
                    <a:pt x="1292" y="66"/>
                  </a:lnTo>
                  <a:lnTo>
                    <a:pt x="1264" y="66"/>
                  </a:lnTo>
                  <a:lnTo>
                    <a:pt x="1236" y="66"/>
                  </a:lnTo>
                  <a:lnTo>
                    <a:pt x="1184" y="66"/>
                  </a:lnTo>
                  <a:lnTo>
                    <a:pt x="1128" y="66"/>
                  </a:lnTo>
                  <a:lnTo>
                    <a:pt x="1076" y="66"/>
                  </a:lnTo>
                  <a:lnTo>
                    <a:pt x="1023" y="64"/>
                  </a:lnTo>
                  <a:lnTo>
                    <a:pt x="968" y="64"/>
                  </a:lnTo>
                  <a:lnTo>
                    <a:pt x="915" y="64"/>
                  </a:lnTo>
                  <a:lnTo>
                    <a:pt x="859" y="61"/>
                  </a:lnTo>
                  <a:lnTo>
                    <a:pt x="807" y="55"/>
                  </a:lnTo>
                  <a:lnTo>
                    <a:pt x="358" y="58"/>
                  </a:lnTo>
                  <a:lnTo>
                    <a:pt x="313" y="55"/>
                  </a:lnTo>
                  <a:lnTo>
                    <a:pt x="269" y="53"/>
                  </a:lnTo>
                  <a:lnTo>
                    <a:pt x="225" y="53"/>
                  </a:lnTo>
                  <a:lnTo>
                    <a:pt x="180" y="53"/>
                  </a:lnTo>
                  <a:lnTo>
                    <a:pt x="136" y="53"/>
                  </a:lnTo>
                  <a:lnTo>
                    <a:pt x="94" y="53"/>
                  </a:lnTo>
                  <a:lnTo>
                    <a:pt x="47" y="50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3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1" y="33"/>
                  </a:lnTo>
                  <a:lnTo>
                    <a:pt x="25" y="28"/>
                  </a:lnTo>
                  <a:lnTo>
                    <a:pt x="36" y="28"/>
                  </a:lnTo>
                  <a:lnTo>
                    <a:pt x="47" y="25"/>
                  </a:lnTo>
                  <a:lnTo>
                    <a:pt x="69" y="22"/>
                  </a:lnTo>
                  <a:lnTo>
                    <a:pt x="89" y="22"/>
                  </a:lnTo>
                  <a:lnTo>
                    <a:pt x="108" y="22"/>
                  </a:lnTo>
                  <a:lnTo>
                    <a:pt x="125" y="25"/>
                  </a:lnTo>
                  <a:lnTo>
                    <a:pt x="144" y="25"/>
                  </a:lnTo>
                  <a:lnTo>
                    <a:pt x="164" y="28"/>
                  </a:lnTo>
                  <a:lnTo>
                    <a:pt x="183" y="28"/>
                  </a:lnTo>
                  <a:lnTo>
                    <a:pt x="202" y="25"/>
                  </a:lnTo>
                  <a:lnTo>
                    <a:pt x="250" y="19"/>
                  </a:lnTo>
                  <a:lnTo>
                    <a:pt x="297" y="17"/>
                  </a:lnTo>
                  <a:lnTo>
                    <a:pt x="344" y="14"/>
                  </a:lnTo>
                  <a:lnTo>
                    <a:pt x="391" y="11"/>
                  </a:lnTo>
                  <a:lnTo>
                    <a:pt x="438" y="11"/>
                  </a:lnTo>
                  <a:lnTo>
                    <a:pt x="485" y="8"/>
                  </a:lnTo>
                  <a:lnTo>
                    <a:pt x="530" y="5"/>
                  </a:lnTo>
                  <a:lnTo>
                    <a:pt x="577" y="3"/>
                  </a:lnTo>
                  <a:lnTo>
                    <a:pt x="585" y="8"/>
                  </a:lnTo>
                  <a:lnTo>
                    <a:pt x="621" y="3"/>
                  </a:lnTo>
                  <a:lnTo>
                    <a:pt x="660" y="3"/>
                  </a:lnTo>
                  <a:lnTo>
                    <a:pt x="696" y="5"/>
                  </a:lnTo>
                  <a:lnTo>
                    <a:pt x="732" y="8"/>
                  </a:lnTo>
                  <a:lnTo>
                    <a:pt x="765" y="11"/>
                  </a:lnTo>
                  <a:lnTo>
                    <a:pt x="801" y="14"/>
                  </a:lnTo>
                  <a:lnTo>
                    <a:pt x="840" y="17"/>
                  </a:lnTo>
                  <a:lnTo>
                    <a:pt x="876" y="14"/>
                  </a:lnTo>
                  <a:lnTo>
                    <a:pt x="920" y="14"/>
                  </a:lnTo>
                  <a:lnTo>
                    <a:pt x="965" y="14"/>
                  </a:lnTo>
                  <a:lnTo>
                    <a:pt x="1012" y="14"/>
                  </a:lnTo>
                  <a:lnTo>
                    <a:pt x="1056" y="14"/>
                  </a:lnTo>
                  <a:lnTo>
                    <a:pt x="1103" y="11"/>
                  </a:lnTo>
                  <a:lnTo>
                    <a:pt x="1148" y="8"/>
                  </a:lnTo>
                  <a:lnTo>
                    <a:pt x="1195" y="5"/>
                  </a:lnTo>
                  <a:lnTo>
                    <a:pt x="1239" y="3"/>
                  </a:lnTo>
                  <a:lnTo>
                    <a:pt x="1253" y="5"/>
                  </a:lnTo>
                  <a:lnTo>
                    <a:pt x="1267" y="5"/>
                  </a:lnTo>
                  <a:lnTo>
                    <a:pt x="1281" y="5"/>
                  </a:lnTo>
                  <a:lnTo>
                    <a:pt x="1295" y="5"/>
                  </a:lnTo>
                  <a:lnTo>
                    <a:pt x="1309" y="5"/>
                  </a:lnTo>
                  <a:lnTo>
                    <a:pt x="1320" y="3"/>
                  </a:lnTo>
                  <a:lnTo>
                    <a:pt x="1333" y="3"/>
                  </a:lnTo>
                  <a:lnTo>
                    <a:pt x="1347" y="3"/>
                  </a:lnTo>
                  <a:lnTo>
                    <a:pt x="1386" y="3"/>
                  </a:lnTo>
                  <a:lnTo>
                    <a:pt x="1422" y="0"/>
                  </a:lnTo>
                  <a:lnTo>
                    <a:pt x="1461" y="0"/>
                  </a:lnTo>
                  <a:lnTo>
                    <a:pt x="1500" y="0"/>
                  </a:lnTo>
                  <a:lnTo>
                    <a:pt x="1539" y="3"/>
                  </a:lnTo>
                  <a:lnTo>
                    <a:pt x="1575" y="3"/>
                  </a:lnTo>
                  <a:lnTo>
                    <a:pt x="1613" y="5"/>
                  </a:lnTo>
                  <a:lnTo>
                    <a:pt x="1652" y="5"/>
                  </a:lnTo>
                  <a:lnTo>
                    <a:pt x="1691" y="5"/>
                  </a:lnTo>
                  <a:lnTo>
                    <a:pt x="1730" y="8"/>
                  </a:lnTo>
                  <a:lnTo>
                    <a:pt x="1769" y="8"/>
                  </a:lnTo>
                  <a:lnTo>
                    <a:pt x="1808" y="11"/>
                  </a:lnTo>
                  <a:lnTo>
                    <a:pt x="1844" y="11"/>
                  </a:lnTo>
                  <a:lnTo>
                    <a:pt x="1882" y="11"/>
                  </a:lnTo>
                  <a:lnTo>
                    <a:pt x="1921" y="8"/>
                  </a:lnTo>
                  <a:lnTo>
                    <a:pt x="196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6080" y="1506600"/>
              <a:ext cx="228600" cy="838080"/>
            </a:xfrm>
            <a:custGeom>
              <a:avLst/>
              <a:gdLst/>
              <a:ahLst/>
              <a:rect l="l" t="t" r="r" b="b"/>
              <a:pathLst>
                <a:path w="105" h="414">
                  <a:moveTo>
                    <a:pt x="105" y="17"/>
                  </a:moveTo>
                  <a:lnTo>
                    <a:pt x="97" y="25"/>
                  </a:lnTo>
                  <a:lnTo>
                    <a:pt x="83" y="28"/>
                  </a:lnTo>
                  <a:lnTo>
                    <a:pt x="69" y="34"/>
                  </a:lnTo>
                  <a:lnTo>
                    <a:pt x="61" y="47"/>
                  </a:lnTo>
                  <a:lnTo>
                    <a:pt x="55" y="72"/>
                  </a:lnTo>
                  <a:lnTo>
                    <a:pt x="61" y="97"/>
                  </a:lnTo>
                  <a:lnTo>
                    <a:pt x="63" y="122"/>
                  </a:lnTo>
                  <a:lnTo>
                    <a:pt x="58" y="150"/>
                  </a:lnTo>
                  <a:lnTo>
                    <a:pt x="58" y="189"/>
                  </a:lnTo>
                  <a:lnTo>
                    <a:pt x="58" y="228"/>
                  </a:lnTo>
                  <a:lnTo>
                    <a:pt x="61" y="264"/>
                  </a:lnTo>
                  <a:lnTo>
                    <a:pt x="58" y="300"/>
                  </a:lnTo>
                  <a:lnTo>
                    <a:pt x="55" y="408"/>
                  </a:lnTo>
                  <a:lnTo>
                    <a:pt x="52" y="411"/>
                  </a:lnTo>
                  <a:lnTo>
                    <a:pt x="50" y="414"/>
                  </a:lnTo>
                  <a:lnTo>
                    <a:pt x="44" y="414"/>
                  </a:lnTo>
                  <a:lnTo>
                    <a:pt x="39" y="414"/>
                  </a:lnTo>
                  <a:lnTo>
                    <a:pt x="33" y="402"/>
                  </a:lnTo>
                  <a:lnTo>
                    <a:pt x="33" y="389"/>
                  </a:lnTo>
                  <a:lnTo>
                    <a:pt x="33" y="375"/>
                  </a:lnTo>
                  <a:lnTo>
                    <a:pt x="33" y="364"/>
                  </a:lnTo>
                  <a:lnTo>
                    <a:pt x="25" y="328"/>
                  </a:lnTo>
                  <a:lnTo>
                    <a:pt x="25" y="289"/>
                  </a:lnTo>
                  <a:lnTo>
                    <a:pt x="22" y="250"/>
                  </a:lnTo>
                  <a:lnTo>
                    <a:pt x="14" y="214"/>
                  </a:lnTo>
                  <a:lnTo>
                    <a:pt x="8" y="183"/>
                  </a:lnTo>
                  <a:lnTo>
                    <a:pt x="5" y="153"/>
                  </a:lnTo>
                  <a:lnTo>
                    <a:pt x="2" y="125"/>
                  </a:lnTo>
                  <a:lnTo>
                    <a:pt x="0" y="95"/>
                  </a:lnTo>
                  <a:lnTo>
                    <a:pt x="2" y="72"/>
                  </a:lnTo>
                  <a:lnTo>
                    <a:pt x="8" y="53"/>
                  </a:lnTo>
                  <a:lnTo>
                    <a:pt x="14" y="31"/>
                  </a:lnTo>
                  <a:lnTo>
                    <a:pt x="22" y="14"/>
                  </a:lnTo>
                  <a:lnTo>
                    <a:pt x="41" y="3"/>
                  </a:lnTo>
                  <a:lnTo>
                    <a:pt x="61" y="0"/>
                  </a:lnTo>
                  <a:lnTo>
                    <a:pt x="83" y="3"/>
                  </a:lnTo>
                  <a:lnTo>
                    <a:pt x="102" y="9"/>
                  </a:lnTo>
                  <a:lnTo>
                    <a:pt x="10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37480" y="1765440"/>
              <a:ext cx="216000" cy="4432320"/>
            </a:xfrm>
            <a:custGeom>
              <a:avLst/>
              <a:gdLst/>
              <a:ahLst/>
              <a:rect l="l" t="t" r="r" b="b"/>
              <a:pathLst>
                <a:path w="99" h="2191">
                  <a:moveTo>
                    <a:pt x="49" y="25"/>
                  </a:moveTo>
                  <a:lnTo>
                    <a:pt x="52" y="116"/>
                  </a:lnTo>
                  <a:lnTo>
                    <a:pt x="49" y="208"/>
                  </a:lnTo>
                  <a:lnTo>
                    <a:pt x="44" y="302"/>
                  </a:lnTo>
                  <a:lnTo>
                    <a:pt x="47" y="396"/>
                  </a:lnTo>
                  <a:lnTo>
                    <a:pt x="52" y="502"/>
                  </a:lnTo>
                  <a:lnTo>
                    <a:pt x="55" y="610"/>
                  </a:lnTo>
                  <a:lnTo>
                    <a:pt x="61" y="715"/>
                  </a:lnTo>
                  <a:lnTo>
                    <a:pt x="66" y="824"/>
                  </a:lnTo>
                  <a:lnTo>
                    <a:pt x="72" y="957"/>
                  </a:lnTo>
                  <a:lnTo>
                    <a:pt x="74" y="1093"/>
                  </a:lnTo>
                  <a:lnTo>
                    <a:pt x="77" y="1228"/>
                  </a:lnTo>
                  <a:lnTo>
                    <a:pt x="83" y="1362"/>
                  </a:lnTo>
                  <a:lnTo>
                    <a:pt x="86" y="1475"/>
                  </a:lnTo>
                  <a:lnTo>
                    <a:pt x="88" y="1586"/>
                  </a:lnTo>
                  <a:lnTo>
                    <a:pt x="94" y="1700"/>
                  </a:lnTo>
                  <a:lnTo>
                    <a:pt x="99" y="1811"/>
                  </a:lnTo>
                  <a:lnTo>
                    <a:pt x="99" y="1863"/>
                  </a:lnTo>
                  <a:lnTo>
                    <a:pt x="97" y="1916"/>
                  </a:lnTo>
                  <a:lnTo>
                    <a:pt x="94" y="1972"/>
                  </a:lnTo>
                  <a:lnTo>
                    <a:pt x="97" y="2024"/>
                  </a:lnTo>
                  <a:lnTo>
                    <a:pt x="94" y="2066"/>
                  </a:lnTo>
                  <a:lnTo>
                    <a:pt x="94" y="2105"/>
                  </a:lnTo>
                  <a:lnTo>
                    <a:pt x="91" y="2144"/>
                  </a:lnTo>
                  <a:lnTo>
                    <a:pt x="88" y="2185"/>
                  </a:lnTo>
                  <a:lnTo>
                    <a:pt x="86" y="2188"/>
                  </a:lnTo>
                  <a:lnTo>
                    <a:pt x="83" y="2191"/>
                  </a:lnTo>
                  <a:lnTo>
                    <a:pt x="77" y="2191"/>
                  </a:lnTo>
                  <a:lnTo>
                    <a:pt x="74" y="2191"/>
                  </a:lnTo>
                  <a:lnTo>
                    <a:pt x="69" y="2171"/>
                  </a:lnTo>
                  <a:lnTo>
                    <a:pt x="66" y="2155"/>
                  </a:lnTo>
                  <a:lnTo>
                    <a:pt x="66" y="2141"/>
                  </a:lnTo>
                  <a:lnTo>
                    <a:pt x="63" y="2121"/>
                  </a:lnTo>
                  <a:lnTo>
                    <a:pt x="55" y="1969"/>
                  </a:lnTo>
                  <a:lnTo>
                    <a:pt x="49" y="1814"/>
                  </a:lnTo>
                  <a:lnTo>
                    <a:pt x="44" y="1658"/>
                  </a:lnTo>
                  <a:lnTo>
                    <a:pt x="38" y="1508"/>
                  </a:lnTo>
                  <a:lnTo>
                    <a:pt x="33" y="1328"/>
                  </a:lnTo>
                  <a:lnTo>
                    <a:pt x="27" y="1151"/>
                  </a:lnTo>
                  <a:lnTo>
                    <a:pt x="22" y="973"/>
                  </a:lnTo>
                  <a:lnTo>
                    <a:pt x="16" y="793"/>
                  </a:lnTo>
                  <a:lnTo>
                    <a:pt x="19" y="790"/>
                  </a:lnTo>
                  <a:lnTo>
                    <a:pt x="19" y="785"/>
                  </a:lnTo>
                  <a:lnTo>
                    <a:pt x="16" y="782"/>
                  </a:lnTo>
                  <a:lnTo>
                    <a:pt x="13" y="779"/>
                  </a:lnTo>
                  <a:lnTo>
                    <a:pt x="13" y="732"/>
                  </a:lnTo>
                  <a:lnTo>
                    <a:pt x="11" y="685"/>
                  </a:lnTo>
                  <a:lnTo>
                    <a:pt x="5" y="640"/>
                  </a:lnTo>
                  <a:lnTo>
                    <a:pt x="2" y="599"/>
                  </a:lnTo>
                  <a:lnTo>
                    <a:pt x="5" y="596"/>
                  </a:lnTo>
                  <a:lnTo>
                    <a:pt x="5" y="593"/>
                  </a:lnTo>
                  <a:lnTo>
                    <a:pt x="5" y="591"/>
                  </a:lnTo>
                  <a:lnTo>
                    <a:pt x="0" y="588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83"/>
                  </a:lnTo>
                  <a:lnTo>
                    <a:pt x="0" y="316"/>
                  </a:lnTo>
                  <a:lnTo>
                    <a:pt x="5" y="269"/>
                  </a:lnTo>
                  <a:lnTo>
                    <a:pt x="13" y="225"/>
                  </a:lnTo>
                  <a:lnTo>
                    <a:pt x="19" y="177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25" y="127"/>
                  </a:lnTo>
                  <a:lnTo>
                    <a:pt x="19" y="97"/>
                  </a:lnTo>
                  <a:lnTo>
                    <a:pt x="19" y="66"/>
                  </a:lnTo>
                  <a:lnTo>
                    <a:pt x="25" y="39"/>
                  </a:lnTo>
                  <a:lnTo>
                    <a:pt x="30" y="8"/>
                  </a:lnTo>
                  <a:lnTo>
                    <a:pt x="38" y="0"/>
                  </a:lnTo>
                  <a:lnTo>
                    <a:pt x="44" y="5"/>
                  </a:lnTo>
                  <a:lnTo>
                    <a:pt x="47" y="17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88240" y="6292800"/>
              <a:ext cx="1344600" cy="600120"/>
            </a:xfrm>
            <a:custGeom>
              <a:avLst/>
              <a:gdLst/>
              <a:ahLst/>
              <a:rect l="l" t="t" r="r" b="b"/>
              <a:pathLst>
                <a:path w="616" h="297">
                  <a:moveTo>
                    <a:pt x="602" y="36"/>
                  </a:moveTo>
                  <a:lnTo>
                    <a:pt x="602" y="77"/>
                  </a:lnTo>
                  <a:lnTo>
                    <a:pt x="610" y="119"/>
                  </a:lnTo>
                  <a:lnTo>
                    <a:pt x="616" y="161"/>
                  </a:lnTo>
                  <a:lnTo>
                    <a:pt x="610" y="202"/>
                  </a:lnTo>
                  <a:lnTo>
                    <a:pt x="610" y="222"/>
                  </a:lnTo>
                  <a:lnTo>
                    <a:pt x="610" y="238"/>
                  </a:lnTo>
                  <a:lnTo>
                    <a:pt x="608" y="255"/>
                  </a:lnTo>
                  <a:lnTo>
                    <a:pt x="602" y="269"/>
                  </a:lnTo>
                  <a:lnTo>
                    <a:pt x="591" y="277"/>
                  </a:lnTo>
                  <a:lnTo>
                    <a:pt x="577" y="283"/>
                  </a:lnTo>
                  <a:lnTo>
                    <a:pt x="563" y="285"/>
                  </a:lnTo>
                  <a:lnTo>
                    <a:pt x="549" y="285"/>
                  </a:lnTo>
                  <a:lnTo>
                    <a:pt x="536" y="285"/>
                  </a:lnTo>
                  <a:lnTo>
                    <a:pt x="522" y="285"/>
                  </a:lnTo>
                  <a:lnTo>
                    <a:pt x="505" y="285"/>
                  </a:lnTo>
                  <a:lnTo>
                    <a:pt x="491" y="288"/>
                  </a:lnTo>
                  <a:lnTo>
                    <a:pt x="452" y="291"/>
                  </a:lnTo>
                  <a:lnTo>
                    <a:pt x="414" y="294"/>
                  </a:lnTo>
                  <a:lnTo>
                    <a:pt x="372" y="297"/>
                  </a:lnTo>
                  <a:lnTo>
                    <a:pt x="330" y="297"/>
                  </a:lnTo>
                  <a:lnTo>
                    <a:pt x="289" y="297"/>
                  </a:lnTo>
                  <a:lnTo>
                    <a:pt x="247" y="297"/>
                  </a:lnTo>
                  <a:lnTo>
                    <a:pt x="206" y="297"/>
                  </a:lnTo>
                  <a:lnTo>
                    <a:pt x="164" y="294"/>
                  </a:lnTo>
                  <a:lnTo>
                    <a:pt x="147" y="291"/>
                  </a:lnTo>
                  <a:lnTo>
                    <a:pt x="131" y="291"/>
                  </a:lnTo>
                  <a:lnTo>
                    <a:pt x="114" y="291"/>
                  </a:lnTo>
                  <a:lnTo>
                    <a:pt x="98" y="291"/>
                  </a:lnTo>
                  <a:lnTo>
                    <a:pt x="81" y="291"/>
                  </a:lnTo>
                  <a:lnTo>
                    <a:pt x="64" y="291"/>
                  </a:lnTo>
                  <a:lnTo>
                    <a:pt x="48" y="288"/>
                  </a:lnTo>
                  <a:lnTo>
                    <a:pt x="31" y="285"/>
                  </a:lnTo>
                  <a:lnTo>
                    <a:pt x="23" y="283"/>
                  </a:lnTo>
                  <a:lnTo>
                    <a:pt x="12" y="283"/>
                  </a:lnTo>
                  <a:lnTo>
                    <a:pt x="3" y="280"/>
                  </a:lnTo>
                  <a:lnTo>
                    <a:pt x="0" y="272"/>
                  </a:lnTo>
                  <a:lnTo>
                    <a:pt x="14" y="266"/>
                  </a:lnTo>
                  <a:lnTo>
                    <a:pt x="31" y="263"/>
                  </a:lnTo>
                  <a:lnTo>
                    <a:pt x="48" y="260"/>
                  </a:lnTo>
                  <a:lnTo>
                    <a:pt x="64" y="260"/>
                  </a:lnTo>
                  <a:lnTo>
                    <a:pt x="81" y="260"/>
                  </a:lnTo>
                  <a:lnTo>
                    <a:pt x="100" y="260"/>
                  </a:lnTo>
                  <a:lnTo>
                    <a:pt x="117" y="260"/>
                  </a:lnTo>
                  <a:lnTo>
                    <a:pt x="134" y="258"/>
                  </a:lnTo>
                  <a:lnTo>
                    <a:pt x="181" y="260"/>
                  </a:lnTo>
                  <a:lnTo>
                    <a:pt x="228" y="260"/>
                  </a:lnTo>
                  <a:lnTo>
                    <a:pt x="275" y="258"/>
                  </a:lnTo>
                  <a:lnTo>
                    <a:pt x="319" y="255"/>
                  </a:lnTo>
                  <a:lnTo>
                    <a:pt x="366" y="249"/>
                  </a:lnTo>
                  <a:lnTo>
                    <a:pt x="411" y="247"/>
                  </a:lnTo>
                  <a:lnTo>
                    <a:pt x="458" y="241"/>
                  </a:lnTo>
                  <a:lnTo>
                    <a:pt x="502" y="238"/>
                  </a:lnTo>
                  <a:lnTo>
                    <a:pt x="513" y="236"/>
                  </a:lnTo>
                  <a:lnTo>
                    <a:pt x="527" y="233"/>
                  </a:lnTo>
                  <a:lnTo>
                    <a:pt x="538" y="227"/>
                  </a:lnTo>
                  <a:lnTo>
                    <a:pt x="547" y="219"/>
                  </a:lnTo>
                  <a:lnTo>
                    <a:pt x="555" y="177"/>
                  </a:lnTo>
                  <a:lnTo>
                    <a:pt x="560" y="136"/>
                  </a:lnTo>
                  <a:lnTo>
                    <a:pt x="563" y="91"/>
                  </a:lnTo>
                  <a:lnTo>
                    <a:pt x="569" y="50"/>
                  </a:lnTo>
                  <a:lnTo>
                    <a:pt x="569" y="36"/>
                  </a:lnTo>
                  <a:lnTo>
                    <a:pt x="569" y="22"/>
                  </a:lnTo>
                  <a:lnTo>
                    <a:pt x="572" y="11"/>
                  </a:lnTo>
                  <a:lnTo>
                    <a:pt x="580" y="0"/>
                  </a:lnTo>
                  <a:lnTo>
                    <a:pt x="591" y="3"/>
                  </a:lnTo>
                  <a:lnTo>
                    <a:pt x="597" y="11"/>
                  </a:lnTo>
                  <a:lnTo>
                    <a:pt x="599" y="25"/>
                  </a:lnTo>
                  <a:lnTo>
                    <a:pt x="6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12920" y="6432480"/>
              <a:ext cx="5618160" cy="144360"/>
            </a:xfrm>
            <a:custGeom>
              <a:avLst/>
              <a:gdLst/>
              <a:ahLst/>
              <a:rect l="l" t="t" r="r" b="b"/>
              <a:pathLst>
                <a:path w="2573" h="72">
                  <a:moveTo>
                    <a:pt x="64" y="6"/>
                  </a:moveTo>
                  <a:lnTo>
                    <a:pt x="108" y="3"/>
                  </a:lnTo>
                  <a:lnTo>
                    <a:pt x="153" y="3"/>
                  </a:lnTo>
                  <a:lnTo>
                    <a:pt x="197" y="0"/>
                  </a:lnTo>
                  <a:lnTo>
                    <a:pt x="239" y="0"/>
                  </a:lnTo>
                  <a:lnTo>
                    <a:pt x="283" y="3"/>
                  </a:lnTo>
                  <a:lnTo>
                    <a:pt x="327" y="3"/>
                  </a:lnTo>
                  <a:lnTo>
                    <a:pt x="369" y="3"/>
                  </a:lnTo>
                  <a:lnTo>
                    <a:pt x="413" y="6"/>
                  </a:lnTo>
                  <a:lnTo>
                    <a:pt x="458" y="6"/>
                  </a:lnTo>
                  <a:lnTo>
                    <a:pt x="499" y="8"/>
                  </a:lnTo>
                  <a:lnTo>
                    <a:pt x="544" y="8"/>
                  </a:lnTo>
                  <a:lnTo>
                    <a:pt x="585" y="8"/>
                  </a:lnTo>
                  <a:lnTo>
                    <a:pt x="630" y="11"/>
                  </a:lnTo>
                  <a:lnTo>
                    <a:pt x="671" y="11"/>
                  </a:lnTo>
                  <a:lnTo>
                    <a:pt x="715" y="8"/>
                  </a:lnTo>
                  <a:lnTo>
                    <a:pt x="757" y="8"/>
                  </a:lnTo>
                  <a:lnTo>
                    <a:pt x="1400" y="0"/>
                  </a:lnTo>
                  <a:lnTo>
                    <a:pt x="1433" y="0"/>
                  </a:lnTo>
                  <a:lnTo>
                    <a:pt x="1470" y="0"/>
                  </a:lnTo>
                  <a:lnTo>
                    <a:pt x="1503" y="0"/>
                  </a:lnTo>
                  <a:lnTo>
                    <a:pt x="1539" y="0"/>
                  </a:lnTo>
                  <a:lnTo>
                    <a:pt x="1575" y="3"/>
                  </a:lnTo>
                  <a:lnTo>
                    <a:pt x="1608" y="3"/>
                  </a:lnTo>
                  <a:lnTo>
                    <a:pt x="1644" y="3"/>
                  </a:lnTo>
                  <a:lnTo>
                    <a:pt x="1680" y="3"/>
                  </a:lnTo>
                  <a:lnTo>
                    <a:pt x="1716" y="6"/>
                  </a:lnTo>
                  <a:lnTo>
                    <a:pt x="1752" y="6"/>
                  </a:lnTo>
                  <a:lnTo>
                    <a:pt x="1788" y="6"/>
                  </a:lnTo>
                  <a:lnTo>
                    <a:pt x="1824" y="8"/>
                  </a:lnTo>
                  <a:lnTo>
                    <a:pt x="1858" y="8"/>
                  </a:lnTo>
                  <a:lnTo>
                    <a:pt x="1894" y="8"/>
                  </a:lnTo>
                  <a:lnTo>
                    <a:pt x="1930" y="11"/>
                  </a:lnTo>
                  <a:lnTo>
                    <a:pt x="1963" y="11"/>
                  </a:lnTo>
                  <a:lnTo>
                    <a:pt x="1977" y="8"/>
                  </a:lnTo>
                  <a:lnTo>
                    <a:pt x="1993" y="8"/>
                  </a:lnTo>
                  <a:lnTo>
                    <a:pt x="2010" y="6"/>
                  </a:lnTo>
                  <a:lnTo>
                    <a:pt x="2030" y="6"/>
                  </a:lnTo>
                  <a:lnTo>
                    <a:pt x="2046" y="6"/>
                  </a:lnTo>
                  <a:lnTo>
                    <a:pt x="2063" y="3"/>
                  </a:lnTo>
                  <a:lnTo>
                    <a:pt x="2079" y="3"/>
                  </a:lnTo>
                  <a:lnTo>
                    <a:pt x="2096" y="0"/>
                  </a:lnTo>
                  <a:lnTo>
                    <a:pt x="2104" y="3"/>
                  </a:lnTo>
                  <a:lnTo>
                    <a:pt x="2132" y="3"/>
                  </a:lnTo>
                  <a:lnTo>
                    <a:pt x="2163" y="3"/>
                  </a:lnTo>
                  <a:lnTo>
                    <a:pt x="2190" y="3"/>
                  </a:lnTo>
                  <a:lnTo>
                    <a:pt x="2218" y="3"/>
                  </a:lnTo>
                  <a:lnTo>
                    <a:pt x="2246" y="6"/>
                  </a:lnTo>
                  <a:lnTo>
                    <a:pt x="2273" y="6"/>
                  </a:lnTo>
                  <a:lnTo>
                    <a:pt x="2301" y="6"/>
                  </a:lnTo>
                  <a:lnTo>
                    <a:pt x="2332" y="8"/>
                  </a:lnTo>
                  <a:lnTo>
                    <a:pt x="2359" y="8"/>
                  </a:lnTo>
                  <a:lnTo>
                    <a:pt x="2387" y="11"/>
                  </a:lnTo>
                  <a:lnTo>
                    <a:pt x="2415" y="14"/>
                  </a:lnTo>
                  <a:lnTo>
                    <a:pt x="2443" y="14"/>
                  </a:lnTo>
                  <a:lnTo>
                    <a:pt x="2473" y="17"/>
                  </a:lnTo>
                  <a:lnTo>
                    <a:pt x="2501" y="17"/>
                  </a:lnTo>
                  <a:lnTo>
                    <a:pt x="2531" y="20"/>
                  </a:lnTo>
                  <a:lnTo>
                    <a:pt x="2559" y="20"/>
                  </a:lnTo>
                  <a:lnTo>
                    <a:pt x="2562" y="22"/>
                  </a:lnTo>
                  <a:lnTo>
                    <a:pt x="2567" y="22"/>
                  </a:lnTo>
                  <a:lnTo>
                    <a:pt x="2570" y="25"/>
                  </a:lnTo>
                  <a:lnTo>
                    <a:pt x="2573" y="28"/>
                  </a:lnTo>
                  <a:lnTo>
                    <a:pt x="2573" y="33"/>
                  </a:lnTo>
                  <a:lnTo>
                    <a:pt x="2573" y="36"/>
                  </a:lnTo>
                  <a:lnTo>
                    <a:pt x="2567" y="39"/>
                  </a:lnTo>
                  <a:lnTo>
                    <a:pt x="2565" y="39"/>
                  </a:lnTo>
                  <a:lnTo>
                    <a:pt x="2542" y="42"/>
                  </a:lnTo>
                  <a:lnTo>
                    <a:pt x="2517" y="45"/>
                  </a:lnTo>
                  <a:lnTo>
                    <a:pt x="2492" y="45"/>
                  </a:lnTo>
                  <a:lnTo>
                    <a:pt x="2470" y="45"/>
                  </a:lnTo>
                  <a:lnTo>
                    <a:pt x="2445" y="45"/>
                  </a:lnTo>
                  <a:lnTo>
                    <a:pt x="2420" y="45"/>
                  </a:lnTo>
                  <a:lnTo>
                    <a:pt x="2398" y="45"/>
                  </a:lnTo>
                  <a:lnTo>
                    <a:pt x="2376" y="45"/>
                  </a:lnTo>
                  <a:lnTo>
                    <a:pt x="2359" y="45"/>
                  </a:lnTo>
                  <a:lnTo>
                    <a:pt x="2343" y="45"/>
                  </a:lnTo>
                  <a:lnTo>
                    <a:pt x="2326" y="45"/>
                  </a:lnTo>
                  <a:lnTo>
                    <a:pt x="2312" y="45"/>
                  </a:lnTo>
                  <a:lnTo>
                    <a:pt x="2296" y="45"/>
                  </a:lnTo>
                  <a:lnTo>
                    <a:pt x="2279" y="45"/>
                  </a:lnTo>
                  <a:lnTo>
                    <a:pt x="2265" y="47"/>
                  </a:lnTo>
                  <a:lnTo>
                    <a:pt x="2249" y="47"/>
                  </a:lnTo>
                  <a:lnTo>
                    <a:pt x="2232" y="47"/>
                  </a:lnTo>
                  <a:lnTo>
                    <a:pt x="2215" y="50"/>
                  </a:lnTo>
                  <a:lnTo>
                    <a:pt x="2201" y="50"/>
                  </a:lnTo>
                  <a:lnTo>
                    <a:pt x="2185" y="50"/>
                  </a:lnTo>
                  <a:lnTo>
                    <a:pt x="2171" y="50"/>
                  </a:lnTo>
                  <a:lnTo>
                    <a:pt x="2154" y="50"/>
                  </a:lnTo>
                  <a:lnTo>
                    <a:pt x="2140" y="47"/>
                  </a:lnTo>
                  <a:lnTo>
                    <a:pt x="2124" y="47"/>
                  </a:lnTo>
                  <a:lnTo>
                    <a:pt x="2082" y="50"/>
                  </a:lnTo>
                  <a:lnTo>
                    <a:pt x="2043" y="53"/>
                  </a:lnTo>
                  <a:lnTo>
                    <a:pt x="2002" y="53"/>
                  </a:lnTo>
                  <a:lnTo>
                    <a:pt x="1963" y="56"/>
                  </a:lnTo>
                  <a:lnTo>
                    <a:pt x="1921" y="56"/>
                  </a:lnTo>
                  <a:lnTo>
                    <a:pt x="1883" y="56"/>
                  </a:lnTo>
                  <a:lnTo>
                    <a:pt x="1844" y="53"/>
                  </a:lnTo>
                  <a:lnTo>
                    <a:pt x="1802" y="53"/>
                  </a:lnTo>
                  <a:lnTo>
                    <a:pt x="1763" y="53"/>
                  </a:lnTo>
                  <a:lnTo>
                    <a:pt x="1722" y="50"/>
                  </a:lnTo>
                  <a:lnTo>
                    <a:pt x="1683" y="50"/>
                  </a:lnTo>
                  <a:lnTo>
                    <a:pt x="1644" y="50"/>
                  </a:lnTo>
                  <a:lnTo>
                    <a:pt x="1603" y="47"/>
                  </a:lnTo>
                  <a:lnTo>
                    <a:pt x="1564" y="47"/>
                  </a:lnTo>
                  <a:lnTo>
                    <a:pt x="1522" y="50"/>
                  </a:lnTo>
                  <a:lnTo>
                    <a:pt x="1483" y="50"/>
                  </a:lnTo>
                  <a:lnTo>
                    <a:pt x="1450" y="47"/>
                  </a:lnTo>
                  <a:lnTo>
                    <a:pt x="1420" y="47"/>
                  </a:lnTo>
                  <a:lnTo>
                    <a:pt x="1386" y="45"/>
                  </a:lnTo>
                  <a:lnTo>
                    <a:pt x="1356" y="45"/>
                  </a:lnTo>
                  <a:lnTo>
                    <a:pt x="1325" y="45"/>
                  </a:lnTo>
                  <a:lnTo>
                    <a:pt x="1292" y="45"/>
                  </a:lnTo>
                  <a:lnTo>
                    <a:pt x="1262" y="45"/>
                  </a:lnTo>
                  <a:lnTo>
                    <a:pt x="1231" y="45"/>
                  </a:lnTo>
                  <a:lnTo>
                    <a:pt x="1198" y="45"/>
                  </a:lnTo>
                  <a:lnTo>
                    <a:pt x="1167" y="47"/>
                  </a:lnTo>
                  <a:lnTo>
                    <a:pt x="1134" y="47"/>
                  </a:lnTo>
                  <a:lnTo>
                    <a:pt x="1104" y="47"/>
                  </a:lnTo>
                  <a:lnTo>
                    <a:pt x="1073" y="50"/>
                  </a:lnTo>
                  <a:lnTo>
                    <a:pt x="1040" y="50"/>
                  </a:lnTo>
                  <a:lnTo>
                    <a:pt x="1009" y="53"/>
                  </a:lnTo>
                  <a:lnTo>
                    <a:pt x="976" y="53"/>
                  </a:lnTo>
                  <a:lnTo>
                    <a:pt x="929" y="53"/>
                  </a:lnTo>
                  <a:lnTo>
                    <a:pt x="879" y="56"/>
                  </a:lnTo>
                  <a:lnTo>
                    <a:pt x="829" y="56"/>
                  </a:lnTo>
                  <a:lnTo>
                    <a:pt x="779" y="56"/>
                  </a:lnTo>
                  <a:lnTo>
                    <a:pt x="729" y="56"/>
                  </a:lnTo>
                  <a:lnTo>
                    <a:pt x="677" y="56"/>
                  </a:lnTo>
                  <a:lnTo>
                    <a:pt x="627" y="58"/>
                  </a:lnTo>
                  <a:lnTo>
                    <a:pt x="574" y="58"/>
                  </a:lnTo>
                  <a:lnTo>
                    <a:pt x="530" y="61"/>
                  </a:lnTo>
                  <a:lnTo>
                    <a:pt x="485" y="61"/>
                  </a:lnTo>
                  <a:lnTo>
                    <a:pt x="438" y="61"/>
                  </a:lnTo>
                  <a:lnTo>
                    <a:pt x="394" y="61"/>
                  </a:lnTo>
                  <a:lnTo>
                    <a:pt x="350" y="58"/>
                  </a:lnTo>
                  <a:lnTo>
                    <a:pt x="302" y="61"/>
                  </a:lnTo>
                  <a:lnTo>
                    <a:pt x="258" y="61"/>
                  </a:lnTo>
                  <a:lnTo>
                    <a:pt x="214" y="67"/>
                  </a:lnTo>
                  <a:lnTo>
                    <a:pt x="183" y="64"/>
                  </a:lnTo>
                  <a:lnTo>
                    <a:pt x="153" y="67"/>
                  </a:lnTo>
                  <a:lnTo>
                    <a:pt x="122" y="69"/>
                  </a:lnTo>
                  <a:lnTo>
                    <a:pt x="92" y="72"/>
                  </a:lnTo>
                  <a:lnTo>
                    <a:pt x="64" y="69"/>
                  </a:lnTo>
                  <a:lnTo>
                    <a:pt x="39" y="64"/>
                  </a:lnTo>
                  <a:lnTo>
                    <a:pt x="17" y="5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6"/>
                  </a:lnTo>
                  <a:lnTo>
                    <a:pt x="6" y="0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53" y="3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35320" y="6678720"/>
              <a:ext cx="3983040" cy="156960"/>
            </a:xfrm>
            <a:custGeom>
              <a:avLst/>
              <a:gdLst/>
              <a:ahLst/>
              <a:rect l="l" t="t" r="r" b="b"/>
              <a:pathLst>
                <a:path w="1824" h="78">
                  <a:moveTo>
                    <a:pt x="1779" y="6"/>
                  </a:moveTo>
                  <a:lnTo>
                    <a:pt x="1791" y="8"/>
                  </a:lnTo>
                  <a:lnTo>
                    <a:pt x="1804" y="6"/>
                  </a:lnTo>
                  <a:lnTo>
                    <a:pt x="1818" y="8"/>
                  </a:lnTo>
                  <a:lnTo>
                    <a:pt x="1824" y="22"/>
                  </a:lnTo>
                  <a:lnTo>
                    <a:pt x="1799" y="31"/>
                  </a:lnTo>
                  <a:lnTo>
                    <a:pt x="1774" y="33"/>
                  </a:lnTo>
                  <a:lnTo>
                    <a:pt x="1746" y="33"/>
                  </a:lnTo>
                  <a:lnTo>
                    <a:pt x="1718" y="33"/>
                  </a:lnTo>
                  <a:lnTo>
                    <a:pt x="1694" y="33"/>
                  </a:lnTo>
                  <a:lnTo>
                    <a:pt x="1666" y="33"/>
                  </a:lnTo>
                  <a:lnTo>
                    <a:pt x="1638" y="36"/>
                  </a:lnTo>
                  <a:lnTo>
                    <a:pt x="1613" y="42"/>
                  </a:lnTo>
                  <a:lnTo>
                    <a:pt x="1585" y="42"/>
                  </a:lnTo>
                  <a:lnTo>
                    <a:pt x="1558" y="45"/>
                  </a:lnTo>
                  <a:lnTo>
                    <a:pt x="1530" y="45"/>
                  </a:lnTo>
                  <a:lnTo>
                    <a:pt x="1499" y="45"/>
                  </a:lnTo>
                  <a:lnTo>
                    <a:pt x="1472" y="45"/>
                  </a:lnTo>
                  <a:lnTo>
                    <a:pt x="1441" y="45"/>
                  </a:lnTo>
                  <a:lnTo>
                    <a:pt x="1411" y="45"/>
                  </a:lnTo>
                  <a:lnTo>
                    <a:pt x="1380" y="45"/>
                  </a:lnTo>
                  <a:lnTo>
                    <a:pt x="1350" y="45"/>
                  </a:lnTo>
                  <a:lnTo>
                    <a:pt x="1317" y="45"/>
                  </a:lnTo>
                  <a:lnTo>
                    <a:pt x="1286" y="45"/>
                  </a:lnTo>
                  <a:lnTo>
                    <a:pt x="1256" y="47"/>
                  </a:lnTo>
                  <a:lnTo>
                    <a:pt x="1225" y="47"/>
                  </a:lnTo>
                  <a:lnTo>
                    <a:pt x="1197" y="50"/>
                  </a:lnTo>
                  <a:lnTo>
                    <a:pt x="1167" y="50"/>
                  </a:lnTo>
                  <a:lnTo>
                    <a:pt x="1139" y="53"/>
                  </a:lnTo>
                  <a:lnTo>
                    <a:pt x="1098" y="53"/>
                  </a:lnTo>
                  <a:lnTo>
                    <a:pt x="1053" y="53"/>
                  </a:lnTo>
                  <a:lnTo>
                    <a:pt x="1009" y="53"/>
                  </a:lnTo>
                  <a:lnTo>
                    <a:pt x="967" y="53"/>
                  </a:lnTo>
                  <a:lnTo>
                    <a:pt x="923" y="53"/>
                  </a:lnTo>
                  <a:lnTo>
                    <a:pt x="881" y="56"/>
                  </a:lnTo>
                  <a:lnTo>
                    <a:pt x="840" y="58"/>
                  </a:lnTo>
                  <a:lnTo>
                    <a:pt x="798" y="64"/>
                  </a:lnTo>
                  <a:lnTo>
                    <a:pt x="765" y="67"/>
                  </a:lnTo>
                  <a:lnTo>
                    <a:pt x="734" y="67"/>
                  </a:lnTo>
                  <a:lnTo>
                    <a:pt x="701" y="67"/>
                  </a:lnTo>
                  <a:lnTo>
                    <a:pt x="668" y="69"/>
                  </a:lnTo>
                  <a:lnTo>
                    <a:pt x="637" y="69"/>
                  </a:lnTo>
                  <a:lnTo>
                    <a:pt x="604" y="69"/>
                  </a:lnTo>
                  <a:lnTo>
                    <a:pt x="574" y="69"/>
                  </a:lnTo>
                  <a:lnTo>
                    <a:pt x="540" y="69"/>
                  </a:lnTo>
                  <a:lnTo>
                    <a:pt x="510" y="72"/>
                  </a:lnTo>
                  <a:lnTo>
                    <a:pt x="477" y="72"/>
                  </a:lnTo>
                  <a:lnTo>
                    <a:pt x="446" y="72"/>
                  </a:lnTo>
                  <a:lnTo>
                    <a:pt x="413" y="72"/>
                  </a:lnTo>
                  <a:lnTo>
                    <a:pt x="382" y="75"/>
                  </a:lnTo>
                  <a:lnTo>
                    <a:pt x="349" y="75"/>
                  </a:lnTo>
                  <a:lnTo>
                    <a:pt x="319" y="75"/>
                  </a:lnTo>
                  <a:lnTo>
                    <a:pt x="285" y="78"/>
                  </a:lnTo>
                  <a:lnTo>
                    <a:pt x="252" y="75"/>
                  </a:lnTo>
                  <a:lnTo>
                    <a:pt x="219" y="72"/>
                  </a:lnTo>
                  <a:lnTo>
                    <a:pt x="183" y="72"/>
                  </a:lnTo>
                  <a:lnTo>
                    <a:pt x="149" y="72"/>
                  </a:lnTo>
                  <a:lnTo>
                    <a:pt x="116" y="72"/>
                  </a:lnTo>
                  <a:lnTo>
                    <a:pt x="80" y="72"/>
                  </a:lnTo>
                  <a:lnTo>
                    <a:pt x="47" y="69"/>
                  </a:lnTo>
                  <a:lnTo>
                    <a:pt x="14" y="67"/>
                  </a:lnTo>
                  <a:lnTo>
                    <a:pt x="8" y="64"/>
                  </a:lnTo>
                  <a:lnTo>
                    <a:pt x="2" y="61"/>
                  </a:lnTo>
                  <a:lnTo>
                    <a:pt x="0" y="56"/>
                  </a:lnTo>
                  <a:lnTo>
                    <a:pt x="2" y="47"/>
                  </a:lnTo>
                  <a:lnTo>
                    <a:pt x="22" y="42"/>
                  </a:lnTo>
                  <a:lnTo>
                    <a:pt x="63" y="39"/>
                  </a:lnTo>
                  <a:lnTo>
                    <a:pt x="102" y="36"/>
                  </a:lnTo>
                  <a:lnTo>
                    <a:pt x="147" y="36"/>
                  </a:lnTo>
                  <a:lnTo>
                    <a:pt x="188" y="36"/>
                  </a:lnTo>
                  <a:lnTo>
                    <a:pt x="233" y="36"/>
                  </a:lnTo>
                  <a:lnTo>
                    <a:pt x="274" y="36"/>
                  </a:lnTo>
                  <a:lnTo>
                    <a:pt x="316" y="33"/>
                  </a:lnTo>
                  <a:lnTo>
                    <a:pt x="357" y="28"/>
                  </a:lnTo>
                  <a:lnTo>
                    <a:pt x="410" y="28"/>
                  </a:lnTo>
                  <a:lnTo>
                    <a:pt x="463" y="25"/>
                  </a:lnTo>
                  <a:lnTo>
                    <a:pt x="515" y="25"/>
                  </a:lnTo>
                  <a:lnTo>
                    <a:pt x="568" y="25"/>
                  </a:lnTo>
                  <a:lnTo>
                    <a:pt x="621" y="22"/>
                  </a:lnTo>
                  <a:lnTo>
                    <a:pt x="673" y="22"/>
                  </a:lnTo>
                  <a:lnTo>
                    <a:pt x="726" y="22"/>
                  </a:lnTo>
                  <a:lnTo>
                    <a:pt x="781" y="20"/>
                  </a:lnTo>
                  <a:lnTo>
                    <a:pt x="834" y="20"/>
                  </a:lnTo>
                  <a:lnTo>
                    <a:pt x="887" y="20"/>
                  </a:lnTo>
                  <a:lnTo>
                    <a:pt x="939" y="17"/>
                  </a:lnTo>
                  <a:lnTo>
                    <a:pt x="992" y="14"/>
                  </a:lnTo>
                  <a:lnTo>
                    <a:pt x="1045" y="14"/>
                  </a:lnTo>
                  <a:lnTo>
                    <a:pt x="1098" y="11"/>
                  </a:lnTo>
                  <a:lnTo>
                    <a:pt x="1150" y="8"/>
                  </a:lnTo>
                  <a:lnTo>
                    <a:pt x="1203" y="6"/>
                  </a:lnTo>
                  <a:lnTo>
                    <a:pt x="1231" y="8"/>
                  </a:lnTo>
                  <a:lnTo>
                    <a:pt x="1258" y="8"/>
                  </a:lnTo>
                  <a:lnTo>
                    <a:pt x="1286" y="8"/>
                  </a:lnTo>
                  <a:lnTo>
                    <a:pt x="1314" y="8"/>
                  </a:lnTo>
                  <a:lnTo>
                    <a:pt x="1341" y="8"/>
                  </a:lnTo>
                  <a:lnTo>
                    <a:pt x="1369" y="6"/>
                  </a:lnTo>
                  <a:lnTo>
                    <a:pt x="1397" y="6"/>
                  </a:lnTo>
                  <a:lnTo>
                    <a:pt x="1425" y="3"/>
                  </a:lnTo>
                  <a:lnTo>
                    <a:pt x="1452" y="3"/>
                  </a:lnTo>
                  <a:lnTo>
                    <a:pt x="1480" y="0"/>
                  </a:lnTo>
                  <a:lnTo>
                    <a:pt x="1508" y="0"/>
                  </a:lnTo>
                  <a:lnTo>
                    <a:pt x="1536" y="0"/>
                  </a:lnTo>
                  <a:lnTo>
                    <a:pt x="1563" y="0"/>
                  </a:lnTo>
                  <a:lnTo>
                    <a:pt x="1594" y="0"/>
                  </a:lnTo>
                  <a:lnTo>
                    <a:pt x="1621" y="3"/>
                  </a:lnTo>
                  <a:lnTo>
                    <a:pt x="1649" y="6"/>
                  </a:lnTo>
                  <a:lnTo>
                    <a:pt x="17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-1371600" y="3784680"/>
              <a:ext cx="5641920" cy="7950240"/>
              <a:chOff x="-1371600" y="3784680"/>
              <a:chExt cx="5641920" cy="7950240"/>
            </a:xfrm>
          </p:grpSpPr>
          <p:sp>
            <p:nvSpPr>
              <p:cNvPr id="569" name=""/>
              <p:cNvSpPr/>
              <p:nvPr/>
            </p:nvSpPr>
            <p:spPr>
              <a:xfrm>
                <a:off x="-803160" y="5338800"/>
                <a:ext cx="3718080" cy="2922480"/>
              </a:xfrm>
              <a:custGeom>
                <a:avLst/>
                <a:gdLst/>
                <a:ahLst/>
                <a:rect l="l" t="t" r="r" b="b"/>
                <a:pathLst>
                  <a:path w="2342" h="1841">
                    <a:moveTo>
                      <a:pt x="0" y="685"/>
                    </a:moveTo>
                    <a:lnTo>
                      <a:pt x="8" y="666"/>
                    </a:lnTo>
                    <a:lnTo>
                      <a:pt x="27" y="621"/>
                    </a:lnTo>
                    <a:lnTo>
                      <a:pt x="52" y="580"/>
                    </a:lnTo>
                    <a:lnTo>
                      <a:pt x="80" y="563"/>
                    </a:lnTo>
                    <a:lnTo>
                      <a:pt x="91" y="569"/>
                    </a:lnTo>
                    <a:lnTo>
                      <a:pt x="105" y="574"/>
                    </a:lnTo>
                    <a:lnTo>
                      <a:pt x="119" y="582"/>
                    </a:lnTo>
                    <a:lnTo>
                      <a:pt x="136" y="591"/>
                    </a:lnTo>
                    <a:lnTo>
                      <a:pt x="152" y="602"/>
                    </a:lnTo>
                    <a:lnTo>
                      <a:pt x="174" y="616"/>
                    </a:lnTo>
                    <a:lnTo>
                      <a:pt x="202" y="630"/>
                    </a:lnTo>
                    <a:lnTo>
                      <a:pt x="233" y="643"/>
                    </a:lnTo>
                    <a:lnTo>
                      <a:pt x="266" y="660"/>
                    </a:lnTo>
                    <a:lnTo>
                      <a:pt x="299" y="677"/>
                    </a:lnTo>
                    <a:lnTo>
                      <a:pt x="330" y="693"/>
                    </a:lnTo>
                    <a:lnTo>
                      <a:pt x="360" y="707"/>
                    </a:lnTo>
                    <a:lnTo>
                      <a:pt x="382" y="721"/>
                    </a:lnTo>
                    <a:lnTo>
                      <a:pt x="402" y="732"/>
                    </a:lnTo>
                    <a:lnTo>
                      <a:pt x="413" y="738"/>
                    </a:lnTo>
                    <a:lnTo>
                      <a:pt x="418" y="741"/>
                    </a:lnTo>
                    <a:lnTo>
                      <a:pt x="468" y="685"/>
                    </a:lnTo>
                    <a:lnTo>
                      <a:pt x="471" y="677"/>
                    </a:lnTo>
                    <a:lnTo>
                      <a:pt x="482" y="652"/>
                    </a:lnTo>
                    <a:lnTo>
                      <a:pt x="499" y="616"/>
                    </a:lnTo>
                    <a:lnTo>
                      <a:pt x="515" y="574"/>
                    </a:lnTo>
                    <a:lnTo>
                      <a:pt x="535" y="527"/>
                    </a:lnTo>
                    <a:lnTo>
                      <a:pt x="554" y="480"/>
                    </a:lnTo>
                    <a:lnTo>
                      <a:pt x="571" y="438"/>
                    </a:lnTo>
                    <a:lnTo>
                      <a:pt x="582" y="402"/>
                    </a:lnTo>
                    <a:lnTo>
                      <a:pt x="596" y="369"/>
                    </a:lnTo>
                    <a:lnTo>
                      <a:pt x="623" y="327"/>
                    </a:lnTo>
                    <a:lnTo>
                      <a:pt x="657" y="280"/>
                    </a:lnTo>
                    <a:lnTo>
                      <a:pt x="696" y="233"/>
                    </a:lnTo>
                    <a:lnTo>
                      <a:pt x="734" y="189"/>
                    </a:lnTo>
                    <a:lnTo>
                      <a:pt x="773" y="150"/>
                    </a:lnTo>
                    <a:lnTo>
                      <a:pt x="804" y="117"/>
                    </a:lnTo>
                    <a:lnTo>
                      <a:pt x="823" y="94"/>
                    </a:lnTo>
                    <a:lnTo>
                      <a:pt x="840" y="81"/>
                    </a:lnTo>
                    <a:lnTo>
                      <a:pt x="856" y="67"/>
                    </a:lnTo>
                    <a:lnTo>
                      <a:pt x="876" y="53"/>
                    </a:lnTo>
                    <a:lnTo>
                      <a:pt x="898" y="39"/>
                    </a:lnTo>
                    <a:lnTo>
                      <a:pt x="923" y="28"/>
                    </a:lnTo>
                    <a:lnTo>
                      <a:pt x="948" y="17"/>
                    </a:lnTo>
                    <a:lnTo>
                      <a:pt x="978" y="11"/>
                    </a:lnTo>
                    <a:lnTo>
                      <a:pt x="1009" y="6"/>
                    </a:lnTo>
                    <a:lnTo>
                      <a:pt x="1045" y="3"/>
                    </a:lnTo>
                    <a:lnTo>
                      <a:pt x="1086" y="0"/>
                    </a:lnTo>
                    <a:lnTo>
                      <a:pt x="1128" y="0"/>
                    </a:lnTo>
                    <a:lnTo>
                      <a:pt x="1175" y="3"/>
                    </a:lnTo>
                    <a:lnTo>
                      <a:pt x="1219" y="8"/>
                    </a:lnTo>
                    <a:lnTo>
                      <a:pt x="1261" y="20"/>
                    </a:lnTo>
                    <a:lnTo>
                      <a:pt x="1300" y="33"/>
                    </a:lnTo>
                    <a:lnTo>
                      <a:pt x="1333" y="56"/>
                    </a:lnTo>
                    <a:lnTo>
                      <a:pt x="1366" y="83"/>
                    </a:lnTo>
                    <a:lnTo>
                      <a:pt x="1408" y="119"/>
                    </a:lnTo>
                    <a:lnTo>
                      <a:pt x="1452" y="158"/>
                    </a:lnTo>
                    <a:lnTo>
                      <a:pt x="1497" y="197"/>
                    </a:lnTo>
                    <a:lnTo>
                      <a:pt x="1541" y="236"/>
                    </a:lnTo>
                    <a:lnTo>
                      <a:pt x="1580" y="272"/>
                    </a:lnTo>
                    <a:lnTo>
                      <a:pt x="1610" y="302"/>
                    </a:lnTo>
                    <a:lnTo>
                      <a:pt x="1633" y="322"/>
                    </a:lnTo>
                    <a:lnTo>
                      <a:pt x="1652" y="338"/>
                    </a:lnTo>
                    <a:lnTo>
                      <a:pt x="1682" y="363"/>
                    </a:lnTo>
                    <a:lnTo>
                      <a:pt x="1716" y="388"/>
                    </a:lnTo>
                    <a:lnTo>
                      <a:pt x="1755" y="413"/>
                    </a:lnTo>
                    <a:lnTo>
                      <a:pt x="1793" y="438"/>
                    </a:lnTo>
                    <a:lnTo>
                      <a:pt x="1832" y="460"/>
                    </a:lnTo>
                    <a:lnTo>
                      <a:pt x="1865" y="474"/>
                    </a:lnTo>
                    <a:lnTo>
                      <a:pt x="1890" y="483"/>
                    </a:lnTo>
                    <a:lnTo>
                      <a:pt x="1924" y="483"/>
                    </a:lnTo>
                    <a:lnTo>
                      <a:pt x="1979" y="480"/>
                    </a:lnTo>
                    <a:lnTo>
                      <a:pt x="2043" y="472"/>
                    </a:lnTo>
                    <a:lnTo>
                      <a:pt x="2115" y="463"/>
                    </a:lnTo>
                    <a:lnTo>
                      <a:pt x="2181" y="452"/>
                    </a:lnTo>
                    <a:lnTo>
                      <a:pt x="2240" y="444"/>
                    </a:lnTo>
                    <a:lnTo>
                      <a:pt x="2281" y="438"/>
                    </a:lnTo>
                    <a:lnTo>
                      <a:pt x="2295" y="436"/>
                    </a:lnTo>
                    <a:lnTo>
                      <a:pt x="2342" y="508"/>
                    </a:lnTo>
                    <a:lnTo>
                      <a:pt x="2337" y="621"/>
                    </a:lnTo>
                    <a:lnTo>
                      <a:pt x="2331" y="624"/>
                    </a:lnTo>
                    <a:lnTo>
                      <a:pt x="2320" y="630"/>
                    </a:lnTo>
                    <a:lnTo>
                      <a:pt x="2303" y="638"/>
                    </a:lnTo>
                    <a:lnTo>
                      <a:pt x="2281" y="649"/>
                    </a:lnTo>
                    <a:lnTo>
                      <a:pt x="2259" y="663"/>
                    </a:lnTo>
                    <a:lnTo>
                      <a:pt x="2234" y="680"/>
                    </a:lnTo>
                    <a:lnTo>
                      <a:pt x="2209" y="693"/>
                    </a:lnTo>
                    <a:lnTo>
                      <a:pt x="2190" y="710"/>
                    </a:lnTo>
                    <a:lnTo>
                      <a:pt x="2170" y="724"/>
                    </a:lnTo>
                    <a:lnTo>
                      <a:pt x="2145" y="741"/>
                    </a:lnTo>
                    <a:lnTo>
                      <a:pt x="2120" y="754"/>
                    </a:lnTo>
                    <a:lnTo>
                      <a:pt x="2093" y="768"/>
                    </a:lnTo>
                    <a:lnTo>
                      <a:pt x="2065" y="782"/>
                    </a:lnTo>
                    <a:lnTo>
                      <a:pt x="2037" y="790"/>
                    </a:lnTo>
                    <a:lnTo>
                      <a:pt x="2010" y="796"/>
                    </a:lnTo>
                    <a:lnTo>
                      <a:pt x="1987" y="799"/>
                    </a:lnTo>
                    <a:lnTo>
                      <a:pt x="1965" y="799"/>
                    </a:lnTo>
                    <a:lnTo>
                      <a:pt x="1946" y="799"/>
                    </a:lnTo>
                    <a:lnTo>
                      <a:pt x="1921" y="799"/>
                    </a:lnTo>
                    <a:lnTo>
                      <a:pt x="1896" y="799"/>
                    </a:lnTo>
                    <a:lnTo>
                      <a:pt x="1868" y="796"/>
                    </a:lnTo>
                    <a:lnTo>
                      <a:pt x="1835" y="790"/>
                    </a:lnTo>
                    <a:lnTo>
                      <a:pt x="1799" y="785"/>
                    </a:lnTo>
                    <a:lnTo>
                      <a:pt x="1760" y="774"/>
                    </a:lnTo>
                    <a:lnTo>
                      <a:pt x="1721" y="763"/>
                    </a:lnTo>
                    <a:lnTo>
                      <a:pt x="1685" y="754"/>
                    </a:lnTo>
                    <a:lnTo>
                      <a:pt x="1655" y="746"/>
                    </a:lnTo>
                    <a:lnTo>
                      <a:pt x="1630" y="741"/>
                    </a:lnTo>
                    <a:lnTo>
                      <a:pt x="1610" y="738"/>
                    </a:lnTo>
                    <a:lnTo>
                      <a:pt x="1594" y="735"/>
                    </a:lnTo>
                    <a:lnTo>
                      <a:pt x="1585" y="735"/>
                    </a:lnTo>
                    <a:lnTo>
                      <a:pt x="1583" y="735"/>
                    </a:lnTo>
                    <a:lnTo>
                      <a:pt x="1588" y="779"/>
                    </a:lnTo>
                    <a:lnTo>
                      <a:pt x="1602" y="888"/>
                    </a:lnTo>
                    <a:lnTo>
                      <a:pt x="1621" y="1007"/>
                    </a:lnTo>
                    <a:lnTo>
                      <a:pt x="1641" y="1098"/>
                    </a:lnTo>
                    <a:lnTo>
                      <a:pt x="1655" y="1206"/>
                    </a:lnTo>
                    <a:lnTo>
                      <a:pt x="1666" y="1370"/>
                    </a:lnTo>
                    <a:lnTo>
                      <a:pt x="1669" y="1528"/>
                    </a:lnTo>
                    <a:lnTo>
                      <a:pt x="1671" y="1620"/>
                    </a:lnTo>
                    <a:lnTo>
                      <a:pt x="1671" y="1658"/>
                    </a:lnTo>
                    <a:lnTo>
                      <a:pt x="1666" y="1692"/>
                    </a:lnTo>
                    <a:lnTo>
                      <a:pt x="1652" y="1719"/>
                    </a:lnTo>
                    <a:lnTo>
                      <a:pt x="1624" y="1750"/>
                    </a:lnTo>
                    <a:lnTo>
                      <a:pt x="1605" y="1764"/>
                    </a:lnTo>
                    <a:lnTo>
                      <a:pt x="1588" y="1775"/>
                    </a:lnTo>
                    <a:lnTo>
                      <a:pt x="1572" y="1783"/>
                    </a:lnTo>
                    <a:lnTo>
                      <a:pt x="1555" y="1792"/>
                    </a:lnTo>
                    <a:lnTo>
                      <a:pt x="1538" y="1797"/>
                    </a:lnTo>
                    <a:lnTo>
                      <a:pt x="1524" y="1800"/>
                    </a:lnTo>
                    <a:lnTo>
                      <a:pt x="1513" y="1803"/>
                    </a:lnTo>
                    <a:lnTo>
                      <a:pt x="1502" y="1805"/>
                    </a:lnTo>
                    <a:lnTo>
                      <a:pt x="1491" y="1805"/>
                    </a:lnTo>
                    <a:lnTo>
                      <a:pt x="1466" y="1808"/>
                    </a:lnTo>
                    <a:lnTo>
                      <a:pt x="1430" y="1808"/>
                    </a:lnTo>
                    <a:lnTo>
                      <a:pt x="1386" y="1808"/>
                    </a:lnTo>
                    <a:lnTo>
                      <a:pt x="1336" y="1808"/>
                    </a:lnTo>
                    <a:lnTo>
                      <a:pt x="1278" y="1808"/>
                    </a:lnTo>
                    <a:lnTo>
                      <a:pt x="1217" y="1808"/>
                    </a:lnTo>
                    <a:lnTo>
                      <a:pt x="1153" y="1808"/>
                    </a:lnTo>
                    <a:lnTo>
                      <a:pt x="1089" y="1808"/>
                    </a:lnTo>
                    <a:lnTo>
                      <a:pt x="1025" y="1808"/>
                    </a:lnTo>
                    <a:lnTo>
                      <a:pt x="964" y="1808"/>
                    </a:lnTo>
                    <a:lnTo>
                      <a:pt x="909" y="1808"/>
                    </a:lnTo>
                    <a:lnTo>
                      <a:pt x="859" y="1808"/>
                    </a:lnTo>
                    <a:lnTo>
                      <a:pt x="818" y="1811"/>
                    </a:lnTo>
                    <a:lnTo>
                      <a:pt x="787" y="1811"/>
                    </a:lnTo>
                    <a:lnTo>
                      <a:pt x="768" y="1814"/>
                    </a:lnTo>
                    <a:lnTo>
                      <a:pt x="740" y="1819"/>
                    </a:lnTo>
                    <a:lnTo>
                      <a:pt x="709" y="1825"/>
                    </a:lnTo>
                    <a:lnTo>
                      <a:pt x="682" y="1830"/>
                    </a:lnTo>
                    <a:lnTo>
                      <a:pt x="654" y="1836"/>
                    </a:lnTo>
                    <a:lnTo>
                      <a:pt x="629" y="1839"/>
                    </a:lnTo>
                    <a:lnTo>
                      <a:pt x="607" y="1841"/>
                    </a:lnTo>
                    <a:lnTo>
                      <a:pt x="587" y="1841"/>
                    </a:lnTo>
                    <a:lnTo>
                      <a:pt x="574" y="1839"/>
                    </a:lnTo>
                    <a:lnTo>
                      <a:pt x="549" y="1808"/>
                    </a:lnTo>
                    <a:lnTo>
                      <a:pt x="526" y="1742"/>
                    </a:lnTo>
                    <a:lnTo>
                      <a:pt x="513" y="1667"/>
                    </a:lnTo>
                    <a:lnTo>
                      <a:pt x="515" y="1606"/>
                    </a:lnTo>
                    <a:lnTo>
                      <a:pt x="526" y="1523"/>
                    </a:lnTo>
                    <a:lnTo>
                      <a:pt x="538" y="1403"/>
                    </a:lnTo>
                    <a:lnTo>
                      <a:pt x="546" y="1298"/>
                    </a:lnTo>
                    <a:lnTo>
                      <a:pt x="549" y="1251"/>
                    </a:lnTo>
                    <a:lnTo>
                      <a:pt x="604" y="1082"/>
                    </a:lnTo>
                    <a:lnTo>
                      <a:pt x="646" y="943"/>
                    </a:lnTo>
                    <a:lnTo>
                      <a:pt x="637" y="946"/>
                    </a:lnTo>
                    <a:lnTo>
                      <a:pt x="615" y="954"/>
                    </a:lnTo>
                    <a:lnTo>
                      <a:pt x="585" y="965"/>
                    </a:lnTo>
                    <a:lnTo>
                      <a:pt x="549" y="976"/>
                    </a:lnTo>
                    <a:lnTo>
                      <a:pt x="510" y="987"/>
                    </a:lnTo>
                    <a:lnTo>
                      <a:pt x="471" y="996"/>
                    </a:lnTo>
                    <a:lnTo>
                      <a:pt x="440" y="998"/>
                    </a:lnTo>
                    <a:lnTo>
                      <a:pt x="418" y="993"/>
                    </a:lnTo>
                    <a:lnTo>
                      <a:pt x="388" y="973"/>
                    </a:lnTo>
                    <a:lnTo>
                      <a:pt x="338" y="940"/>
                    </a:lnTo>
                    <a:lnTo>
                      <a:pt x="269" y="896"/>
                    </a:lnTo>
                    <a:lnTo>
                      <a:pt x="194" y="846"/>
                    </a:lnTo>
                    <a:lnTo>
                      <a:pt x="122" y="799"/>
                    </a:lnTo>
                    <a:lnTo>
                      <a:pt x="61" y="757"/>
                    </a:lnTo>
                    <a:lnTo>
                      <a:pt x="16" y="729"/>
                    </a:lnTo>
                    <a:lnTo>
                      <a:pt x="0" y="718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ff3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2160" y="6703920"/>
                <a:ext cx="1347840" cy="2649600"/>
              </a:xfrm>
              <a:custGeom>
                <a:avLst/>
                <a:gdLst/>
                <a:ahLst/>
                <a:rect l="l" t="t" r="r" b="b"/>
                <a:pathLst>
                  <a:path w="849" h="1669">
                    <a:moveTo>
                      <a:pt x="0" y="954"/>
                    </a:moveTo>
                    <a:lnTo>
                      <a:pt x="6" y="1034"/>
                    </a:lnTo>
                    <a:lnTo>
                      <a:pt x="20" y="1128"/>
                    </a:lnTo>
                    <a:lnTo>
                      <a:pt x="34" y="1231"/>
                    </a:lnTo>
                    <a:lnTo>
                      <a:pt x="53" y="1331"/>
                    </a:lnTo>
                    <a:lnTo>
                      <a:pt x="72" y="1428"/>
                    </a:lnTo>
                    <a:lnTo>
                      <a:pt x="95" y="1511"/>
                    </a:lnTo>
                    <a:lnTo>
                      <a:pt x="114" y="1569"/>
                    </a:lnTo>
                    <a:lnTo>
                      <a:pt x="131" y="1603"/>
                    </a:lnTo>
                    <a:lnTo>
                      <a:pt x="145" y="1617"/>
                    </a:lnTo>
                    <a:lnTo>
                      <a:pt x="153" y="1628"/>
                    </a:lnTo>
                    <a:lnTo>
                      <a:pt x="164" y="1639"/>
                    </a:lnTo>
                    <a:lnTo>
                      <a:pt x="172" y="1647"/>
                    </a:lnTo>
                    <a:lnTo>
                      <a:pt x="183" y="1653"/>
                    </a:lnTo>
                    <a:lnTo>
                      <a:pt x="197" y="1658"/>
                    </a:lnTo>
                    <a:lnTo>
                      <a:pt x="214" y="1664"/>
                    </a:lnTo>
                    <a:lnTo>
                      <a:pt x="236" y="1666"/>
                    </a:lnTo>
                    <a:lnTo>
                      <a:pt x="264" y="1669"/>
                    </a:lnTo>
                    <a:lnTo>
                      <a:pt x="291" y="1669"/>
                    </a:lnTo>
                    <a:lnTo>
                      <a:pt x="325" y="1669"/>
                    </a:lnTo>
                    <a:lnTo>
                      <a:pt x="358" y="1669"/>
                    </a:lnTo>
                    <a:lnTo>
                      <a:pt x="388" y="1669"/>
                    </a:lnTo>
                    <a:lnTo>
                      <a:pt x="419" y="1666"/>
                    </a:lnTo>
                    <a:lnTo>
                      <a:pt x="441" y="1666"/>
                    </a:lnTo>
                    <a:lnTo>
                      <a:pt x="461" y="1666"/>
                    </a:lnTo>
                    <a:lnTo>
                      <a:pt x="485" y="1664"/>
                    </a:lnTo>
                    <a:lnTo>
                      <a:pt x="527" y="1661"/>
                    </a:lnTo>
                    <a:lnTo>
                      <a:pt x="580" y="1655"/>
                    </a:lnTo>
                    <a:lnTo>
                      <a:pt x="635" y="1650"/>
                    </a:lnTo>
                    <a:lnTo>
                      <a:pt x="688" y="1644"/>
                    </a:lnTo>
                    <a:lnTo>
                      <a:pt x="732" y="1639"/>
                    </a:lnTo>
                    <a:lnTo>
                      <a:pt x="765" y="1636"/>
                    </a:lnTo>
                    <a:lnTo>
                      <a:pt x="777" y="1633"/>
                    </a:lnTo>
                    <a:lnTo>
                      <a:pt x="849" y="1611"/>
                    </a:lnTo>
                    <a:lnTo>
                      <a:pt x="846" y="1592"/>
                    </a:lnTo>
                    <a:lnTo>
                      <a:pt x="843" y="1539"/>
                    </a:lnTo>
                    <a:lnTo>
                      <a:pt x="838" y="1467"/>
                    </a:lnTo>
                    <a:lnTo>
                      <a:pt x="832" y="1392"/>
                    </a:lnTo>
                    <a:lnTo>
                      <a:pt x="832" y="1278"/>
                    </a:lnTo>
                    <a:lnTo>
                      <a:pt x="835" y="1126"/>
                    </a:lnTo>
                    <a:lnTo>
                      <a:pt x="838" y="990"/>
                    </a:lnTo>
                    <a:lnTo>
                      <a:pt x="840" y="932"/>
                    </a:lnTo>
                    <a:lnTo>
                      <a:pt x="768" y="898"/>
                    </a:lnTo>
                    <a:lnTo>
                      <a:pt x="735" y="627"/>
                    </a:lnTo>
                    <a:lnTo>
                      <a:pt x="671" y="0"/>
                    </a:lnTo>
                    <a:lnTo>
                      <a:pt x="438" y="75"/>
                    </a:lnTo>
                    <a:lnTo>
                      <a:pt x="236" y="61"/>
                    </a:lnTo>
                    <a:lnTo>
                      <a:pt x="236" y="125"/>
                    </a:lnTo>
                    <a:lnTo>
                      <a:pt x="233" y="274"/>
                    </a:lnTo>
                    <a:lnTo>
                      <a:pt x="233" y="438"/>
                    </a:lnTo>
                    <a:lnTo>
                      <a:pt x="236" y="554"/>
                    </a:lnTo>
                    <a:lnTo>
                      <a:pt x="233" y="593"/>
                    </a:lnTo>
                    <a:lnTo>
                      <a:pt x="225" y="643"/>
                    </a:lnTo>
                    <a:lnTo>
                      <a:pt x="211" y="696"/>
                    </a:lnTo>
                    <a:lnTo>
                      <a:pt x="194" y="751"/>
                    </a:lnTo>
                    <a:lnTo>
                      <a:pt x="178" y="801"/>
                    </a:lnTo>
                    <a:lnTo>
                      <a:pt x="161" y="843"/>
                    </a:lnTo>
                    <a:lnTo>
                      <a:pt x="150" y="871"/>
                    </a:lnTo>
                    <a:lnTo>
                      <a:pt x="147" y="882"/>
                    </a:lnTo>
                    <a:lnTo>
                      <a:pt x="142" y="890"/>
                    </a:lnTo>
                    <a:lnTo>
                      <a:pt x="128" y="909"/>
                    </a:lnTo>
                    <a:lnTo>
                      <a:pt x="108" y="932"/>
                    </a:lnTo>
                    <a:lnTo>
                      <a:pt x="89" y="940"/>
                    </a:lnTo>
                    <a:lnTo>
                      <a:pt x="78" y="940"/>
                    </a:lnTo>
                    <a:lnTo>
                      <a:pt x="64" y="943"/>
                    </a:lnTo>
                    <a:lnTo>
                      <a:pt x="50" y="945"/>
                    </a:lnTo>
                    <a:lnTo>
                      <a:pt x="36" y="945"/>
                    </a:lnTo>
                    <a:lnTo>
                      <a:pt x="23" y="948"/>
                    </a:lnTo>
                    <a:lnTo>
                      <a:pt x="11" y="951"/>
                    </a:lnTo>
                    <a:lnTo>
                      <a:pt x="3" y="954"/>
                    </a:lnTo>
                    <a:lnTo>
                      <a:pt x="0" y="954"/>
                    </a:lnTo>
                    <a:close/>
                  </a:path>
                </a:pathLst>
              </a:custGeom>
              <a:solidFill>
                <a:srgbClr val="00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17760" y="5308560"/>
                <a:ext cx="831600" cy="1685880"/>
              </a:xfrm>
              <a:custGeom>
                <a:avLst/>
                <a:gdLst/>
                <a:ahLst/>
                <a:rect l="l" t="t" r="r" b="b"/>
                <a:pathLst>
                  <a:path w="524" h="1062">
                    <a:moveTo>
                      <a:pt x="67" y="22"/>
                    </a:moveTo>
                    <a:lnTo>
                      <a:pt x="44" y="22"/>
                    </a:lnTo>
                    <a:lnTo>
                      <a:pt x="25" y="30"/>
                    </a:lnTo>
                    <a:lnTo>
                      <a:pt x="8" y="47"/>
                    </a:lnTo>
                    <a:lnTo>
                      <a:pt x="0" y="66"/>
                    </a:lnTo>
                    <a:lnTo>
                      <a:pt x="3" y="83"/>
                    </a:lnTo>
                    <a:lnTo>
                      <a:pt x="8" y="100"/>
                    </a:lnTo>
                    <a:lnTo>
                      <a:pt x="17" y="116"/>
                    </a:lnTo>
                    <a:lnTo>
                      <a:pt x="22" y="133"/>
                    </a:lnTo>
                    <a:lnTo>
                      <a:pt x="28" y="155"/>
                    </a:lnTo>
                    <a:lnTo>
                      <a:pt x="31" y="174"/>
                    </a:lnTo>
                    <a:lnTo>
                      <a:pt x="31" y="194"/>
                    </a:lnTo>
                    <a:lnTo>
                      <a:pt x="33" y="216"/>
                    </a:lnTo>
                    <a:lnTo>
                      <a:pt x="47" y="338"/>
                    </a:lnTo>
                    <a:lnTo>
                      <a:pt x="56" y="460"/>
                    </a:lnTo>
                    <a:lnTo>
                      <a:pt x="64" y="579"/>
                    </a:lnTo>
                    <a:lnTo>
                      <a:pt x="78" y="704"/>
                    </a:lnTo>
                    <a:lnTo>
                      <a:pt x="81" y="771"/>
                    </a:lnTo>
                    <a:lnTo>
                      <a:pt x="75" y="837"/>
                    </a:lnTo>
                    <a:lnTo>
                      <a:pt x="69" y="904"/>
                    </a:lnTo>
                    <a:lnTo>
                      <a:pt x="78" y="970"/>
                    </a:lnTo>
                    <a:lnTo>
                      <a:pt x="86" y="990"/>
                    </a:lnTo>
                    <a:lnTo>
                      <a:pt x="97" y="1006"/>
                    </a:lnTo>
                    <a:lnTo>
                      <a:pt x="114" y="1017"/>
                    </a:lnTo>
                    <a:lnTo>
                      <a:pt x="130" y="1029"/>
                    </a:lnTo>
                    <a:lnTo>
                      <a:pt x="142" y="1034"/>
                    </a:lnTo>
                    <a:lnTo>
                      <a:pt x="153" y="1042"/>
                    </a:lnTo>
                    <a:lnTo>
                      <a:pt x="164" y="1048"/>
                    </a:lnTo>
                    <a:lnTo>
                      <a:pt x="175" y="1051"/>
                    </a:lnTo>
                    <a:lnTo>
                      <a:pt x="191" y="1053"/>
                    </a:lnTo>
                    <a:lnTo>
                      <a:pt x="205" y="1056"/>
                    </a:lnTo>
                    <a:lnTo>
                      <a:pt x="222" y="1059"/>
                    </a:lnTo>
                    <a:lnTo>
                      <a:pt x="236" y="1059"/>
                    </a:lnTo>
                    <a:lnTo>
                      <a:pt x="250" y="1062"/>
                    </a:lnTo>
                    <a:lnTo>
                      <a:pt x="266" y="1062"/>
                    </a:lnTo>
                    <a:lnTo>
                      <a:pt x="280" y="1062"/>
                    </a:lnTo>
                    <a:lnTo>
                      <a:pt x="297" y="1059"/>
                    </a:lnTo>
                    <a:lnTo>
                      <a:pt x="311" y="1056"/>
                    </a:lnTo>
                    <a:lnTo>
                      <a:pt x="324" y="1053"/>
                    </a:lnTo>
                    <a:lnTo>
                      <a:pt x="338" y="1051"/>
                    </a:lnTo>
                    <a:lnTo>
                      <a:pt x="352" y="1048"/>
                    </a:lnTo>
                    <a:lnTo>
                      <a:pt x="369" y="1042"/>
                    </a:lnTo>
                    <a:lnTo>
                      <a:pt x="385" y="1037"/>
                    </a:lnTo>
                    <a:lnTo>
                      <a:pt x="399" y="1029"/>
                    </a:lnTo>
                    <a:lnTo>
                      <a:pt x="416" y="1020"/>
                    </a:lnTo>
                    <a:lnTo>
                      <a:pt x="430" y="1012"/>
                    </a:lnTo>
                    <a:lnTo>
                      <a:pt x="444" y="1001"/>
                    </a:lnTo>
                    <a:lnTo>
                      <a:pt x="460" y="992"/>
                    </a:lnTo>
                    <a:lnTo>
                      <a:pt x="477" y="984"/>
                    </a:lnTo>
                    <a:lnTo>
                      <a:pt x="494" y="970"/>
                    </a:lnTo>
                    <a:lnTo>
                      <a:pt x="502" y="951"/>
                    </a:lnTo>
                    <a:lnTo>
                      <a:pt x="505" y="926"/>
                    </a:lnTo>
                    <a:lnTo>
                      <a:pt x="507" y="904"/>
                    </a:lnTo>
                    <a:lnTo>
                      <a:pt x="510" y="898"/>
                    </a:lnTo>
                    <a:lnTo>
                      <a:pt x="510" y="890"/>
                    </a:lnTo>
                    <a:lnTo>
                      <a:pt x="510" y="884"/>
                    </a:lnTo>
                    <a:lnTo>
                      <a:pt x="510" y="879"/>
                    </a:lnTo>
                    <a:lnTo>
                      <a:pt x="521" y="787"/>
                    </a:lnTo>
                    <a:lnTo>
                      <a:pt x="524" y="699"/>
                    </a:lnTo>
                    <a:lnTo>
                      <a:pt x="519" y="610"/>
                    </a:lnTo>
                    <a:lnTo>
                      <a:pt x="507" y="518"/>
                    </a:lnTo>
                    <a:lnTo>
                      <a:pt x="496" y="479"/>
                    </a:lnTo>
                    <a:lnTo>
                      <a:pt x="483" y="441"/>
                    </a:lnTo>
                    <a:lnTo>
                      <a:pt x="469" y="405"/>
                    </a:lnTo>
                    <a:lnTo>
                      <a:pt x="455" y="366"/>
                    </a:lnTo>
                    <a:lnTo>
                      <a:pt x="449" y="330"/>
                    </a:lnTo>
                    <a:lnTo>
                      <a:pt x="441" y="294"/>
                    </a:lnTo>
                    <a:lnTo>
                      <a:pt x="433" y="260"/>
                    </a:lnTo>
                    <a:lnTo>
                      <a:pt x="424" y="224"/>
                    </a:lnTo>
                    <a:lnTo>
                      <a:pt x="422" y="213"/>
                    </a:lnTo>
                    <a:lnTo>
                      <a:pt x="419" y="205"/>
                    </a:lnTo>
                    <a:lnTo>
                      <a:pt x="413" y="197"/>
                    </a:lnTo>
                    <a:lnTo>
                      <a:pt x="410" y="186"/>
                    </a:lnTo>
                    <a:lnTo>
                      <a:pt x="402" y="152"/>
                    </a:lnTo>
                    <a:lnTo>
                      <a:pt x="391" y="119"/>
                    </a:lnTo>
                    <a:lnTo>
                      <a:pt x="377" y="88"/>
                    </a:lnTo>
                    <a:lnTo>
                      <a:pt x="366" y="58"/>
                    </a:lnTo>
                    <a:lnTo>
                      <a:pt x="361" y="47"/>
                    </a:lnTo>
                    <a:lnTo>
                      <a:pt x="355" y="36"/>
                    </a:lnTo>
                    <a:lnTo>
                      <a:pt x="349" y="25"/>
                    </a:lnTo>
                    <a:lnTo>
                      <a:pt x="349" y="14"/>
                    </a:lnTo>
                    <a:lnTo>
                      <a:pt x="333" y="14"/>
                    </a:lnTo>
                    <a:lnTo>
                      <a:pt x="319" y="14"/>
                    </a:lnTo>
                    <a:lnTo>
                      <a:pt x="302" y="14"/>
                    </a:lnTo>
                    <a:lnTo>
                      <a:pt x="288" y="14"/>
                    </a:lnTo>
                    <a:lnTo>
                      <a:pt x="275" y="14"/>
                    </a:lnTo>
                    <a:lnTo>
                      <a:pt x="258" y="14"/>
                    </a:lnTo>
                    <a:lnTo>
                      <a:pt x="244" y="11"/>
                    </a:lnTo>
                    <a:lnTo>
                      <a:pt x="227" y="8"/>
                    </a:lnTo>
                    <a:lnTo>
                      <a:pt x="211" y="5"/>
                    </a:lnTo>
                    <a:lnTo>
                      <a:pt x="191" y="5"/>
                    </a:lnTo>
                    <a:lnTo>
                      <a:pt x="175" y="5"/>
                    </a:lnTo>
                    <a:lnTo>
                      <a:pt x="155" y="2"/>
                    </a:lnTo>
                    <a:lnTo>
                      <a:pt x="136" y="2"/>
                    </a:lnTo>
                    <a:lnTo>
                      <a:pt x="119" y="2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7" y="8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7" y="22"/>
                    </a:lnTo>
                    <a:close/>
                  </a:path>
                </a:pathLst>
              </a:custGeom>
              <a:solidFill>
                <a:srgbClr val="5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-20520" y="3816360"/>
                <a:ext cx="1658880" cy="1535040"/>
              </a:xfrm>
              <a:custGeom>
                <a:avLst/>
                <a:gdLst/>
                <a:ahLst/>
                <a:rect l="l" t="t" r="r" b="b"/>
                <a:pathLst>
                  <a:path w="1045" h="967">
                    <a:moveTo>
                      <a:pt x="0" y="887"/>
                    </a:moveTo>
                    <a:lnTo>
                      <a:pt x="3" y="898"/>
                    </a:lnTo>
                    <a:lnTo>
                      <a:pt x="8" y="906"/>
                    </a:lnTo>
                    <a:lnTo>
                      <a:pt x="17" y="909"/>
                    </a:lnTo>
                    <a:lnTo>
                      <a:pt x="28" y="912"/>
                    </a:lnTo>
                    <a:lnTo>
                      <a:pt x="72" y="923"/>
                    </a:lnTo>
                    <a:lnTo>
                      <a:pt x="117" y="929"/>
                    </a:lnTo>
                    <a:lnTo>
                      <a:pt x="161" y="931"/>
                    </a:lnTo>
                    <a:lnTo>
                      <a:pt x="208" y="929"/>
                    </a:lnTo>
                    <a:lnTo>
                      <a:pt x="252" y="929"/>
                    </a:lnTo>
                    <a:lnTo>
                      <a:pt x="297" y="926"/>
                    </a:lnTo>
                    <a:lnTo>
                      <a:pt x="344" y="926"/>
                    </a:lnTo>
                    <a:lnTo>
                      <a:pt x="388" y="929"/>
                    </a:lnTo>
                    <a:lnTo>
                      <a:pt x="399" y="931"/>
                    </a:lnTo>
                    <a:lnTo>
                      <a:pt x="410" y="934"/>
                    </a:lnTo>
                    <a:lnTo>
                      <a:pt x="422" y="937"/>
                    </a:lnTo>
                    <a:lnTo>
                      <a:pt x="433" y="940"/>
                    </a:lnTo>
                    <a:lnTo>
                      <a:pt x="444" y="940"/>
                    </a:lnTo>
                    <a:lnTo>
                      <a:pt x="458" y="940"/>
                    </a:lnTo>
                    <a:lnTo>
                      <a:pt x="471" y="940"/>
                    </a:lnTo>
                    <a:lnTo>
                      <a:pt x="485" y="940"/>
                    </a:lnTo>
                    <a:lnTo>
                      <a:pt x="535" y="951"/>
                    </a:lnTo>
                    <a:lnTo>
                      <a:pt x="585" y="959"/>
                    </a:lnTo>
                    <a:lnTo>
                      <a:pt x="635" y="965"/>
                    </a:lnTo>
                    <a:lnTo>
                      <a:pt x="685" y="967"/>
                    </a:lnTo>
                    <a:lnTo>
                      <a:pt x="735" y="967"/>
                    </a:lnTo>
                    <a:lnTo>
                      <a:pt x="785" y="965"/>
                    </a:lnTo>
                    <a:lnTo>
                      <a:pt x="835" y="962"/>
                    </a:lnTo>
                    <a:lnTo>
                      <a:pt x="885" y="956"/>
                    </a:lnTo>
                    <a:lnTo>
                      <a:pt x="893" y="956"/>
                    </a:lnTo>
                    <a:lnTo>
                      <a:pt x="904" y="951"/>
                    </a:lnTo>
                    <a:lnTo>
                      <a:pt x="915" y="948"/>
                    </a:lnTo>
                    <a:lnTo>
                      <a:pt x="923" y="945"/>
                    </a:lnTo>
                    <a:lnTo>
                      <a:pt x="940" y="937"/>
                    </a:lnTo>
                    <a:lnTo>
                      <a:pt x="954" y="926"/>
                    </a:lnTo>
                    <a:lnTo>
                      <a:pt x="970" y="915"/>
                    </a:lnTo>
                    <a:lnTo>
                      <a:pt x="984" y="904"/>
                    </a:lnTo>
                    <a:lnTo>
                      <a:pt x="998" y="893"/>
                    </a:lnTo>
                    <a:lnTo>
                      <a:pt x="1009" y="879"/>
                    </a:lnTo>
                    <a:lnTo>
                      <a:pt x="1020" y="865"/>
                    </a:lnTo>
                    <a:lnTo>
                      <a:pt x="1029" y="851"/>
                    </a:lnTo>
                    <a:lnTo>
                      <a:pt x="1045" y="793"/>
                    </a:lnTo>
                    <a:lnTo>
                      <a:pt x="1045" y="726"/>
                    </a:lnTo>
                    <a:lnTo>
                      <a:pt x="1043" y="662"/>
                    </a:lnTo>
                    <a:lnTo>
                      <a:pt x="1043" y="596"/>
                    </a:lnTo>
                    <a:lnTo>
                      <a:pt x="1040" y="582"/>
                    </a:lnTo>
                    <a:lnTo>
                      <a:pt x="1034" y="565"/>
                    </a:lnTo>
                    <a:lnTo>
                      <a:pt x="1026" y="551"/>
                    </a:lnTo>
                    <a:lnTo>
                      <a:pt x="1018" y="535"/>
                    </a:lnTo>
                    <a:lnTo>
                      <a:pt x="1006" y="513"/>
                    </a:lnTo>
                    <a:lnTo>
                      <a:pt x="995" y="493"/>
                    </a:lnTo>
                    <a:lnTo>
                      <a:pt x="984" y="471"/>
                    </a:lnTo>
                    <a:lnTo>
                      <a:pt x="973" y="452"/>
                    </a:lnTo>
                    <a:lnTo>
                      <a:pt x="959" y="429"/>
                    </a:lnTo>
                    <a:lnTo>
                      <a:pt x="945" y="410"/>
                    </a:lnTo>
                    <a:lnTo>
                      <a:pt x="932" y="388"/>
                    </a:lnTo>
                    <a:lnTo>
                      <a:pt x="918" y="366"/>
                    </a:lnTo>
                    <a:lnTo>
                      <a:pt x="896" y="338"/>
                    </a:lnTo>
                    <a:lnTo>
                      <a:pt x="876" y="307"/>
                    </a:lnTo>
                    <a:lnTo>
                      <a:pt x="857" y="277"/>
                    </a:lnTo>
                    <a:lnTo>
                      <a:pt x="840" y="244"/>
                    </a:lnTo>
                    <a:lnTo>
                      <a:pt x="824" y="221"/>
                    </a:lnTo>
                    <a:lnTo>
                      <a:pt x="807" y="199"/>
                    </a:lnTo>
                    <a:lnTo>
                      <a:pt x="790" y="180"/>
                    </a:lnTo>
                    <a:lnTo>
                      <a:pt x="774" y="158"/>
                    </a:lnTo>
                    <a:lnTo>
                      <a:pt x="757" y="138"/>
                    </a:lnTo>
                    <a:lnTo>
                      <a:pt x="738" y="116"/>
                    </a:lnTo>
                    <a:lnTo>
                      <a:pt x="718" y="99"/>
                    </a:lnTo>
                    <a:lnTo>
                      <a:pt x="699" y="80"/>
                    </a:lnTo>
                    <a:lnTo>
                      <a:pt x="696" y="75"/>
                    </a:lnTo>
                    <a:lnTo>
                      <a:pt x="693" y="66"/>
                    </a:lnTo>
                    <a:lnTo>
                      <a:pt x="688" y="61"/>
                    </a:lnTo>
                    <a:lnTo>
                      <a:pt x="685" y="55"/>
                    </a:lnTo>
                    <a:lnTo>
                      <a:pt x="652" y="30"/>
                    </a:lnTo>
                    <a:lnTo>
                      <a:pt x="616" y="13"/>
                    </a:lnTo>
                    <a:lnTo>
                      <a:pt x="577" y="5"/>
                    </a:lnTo>
                    <a:lnTo>
                      <a:pt x="538" y="0"/>
                    </a:lnTo>
                    <a:lnTo>
                      <a:pt x="496" y="0"/>
                    </a:lnTo>
                    <a:lnTo>
                      <a:pt x="455" y="0"/>
                    </a:lnTo>
                    <a:lnTo>
                      <a:pt x="413" y="2"/>
                    </a:lnTo>
                    <a:lnTo>
                      <a:pt x="374" y="5"/>
                    </a:lnTo>
                    <a:lnTo>
                      <a:pt x="352" y="19"/>
                    </a:lnTo>
                    <a:lnTo>
                      <a:pt x="327" y="36"/>
                    </a:lnTo>
                    <a:lnTo>
                      <a:pt x="305" y="50"/>
                    </a:lnTo>
                    <a:lnTo>
                      <a:pt x="283" y="63"/>
                    </a:lnTo>
                    <a:lnTo>
                      <a:pt x="261" y="77"/>
                    </a:lnTo>
                    <a:lnTo>
                      <a:pt x="239" y="94"/>
                    </a:lnTo>
                    <a:lnTo>
                      <a:pt x="219" y="113"/>
                    </a:lnTo>
                    <a:lnTo>
                      <a:pt x="200" y="133"/>
                    </a:lnTo>
                    <a:lnTo>
                      <a:pt x="186" y="152"/>
                    </a:lnTo>
                    <a:lnTo>
                      <a:pt x="175" y="174"/>
                    </a:lnTo>
                    <a:lnTo>
                      <a:pt x="169" y="199"/>
                    </a:lnTo>
                    <a:lnTo>
                      <a:pt x="164" y="224"/>
                    </a:lnTo>
                    <a:lnTo>
                      <a:pt x="158" y="258"/>
                    </a:lnTo>
                    <a:lnTo>
                      <a:pt x="155" y="294"/>
                    </a:lnTo>
                    <a:lnTo>
                      <a:pt x="150" y="330"/>
                    </a:lnTo>
                    <a:lnTo>
                      <a:pt x="147" y="363"/>
                    </a:lnTo>
                    <a:lnTo>
                      <a:pt x="142" y="446"/>
                    </a:lnTo>
                    <a:lnTo>
                      <a:pt x="142" y="529"/>
                    </a:lnTo>
                    <a:lnTo>
                      <a:pt x="142" y="615"/>
                    </a:lnTo>
                    <a:lnTo>
                      <a:pt x="133" y="698"/>
                    </a:lnTo>
                    <a:lnTo>
                      <a:pt x="122" y="732"/>
                    </a:lnTo>
                    <a:lnTo>
                      <a:pt x="111" y="765"/>
                    </a:lnTo>
                    <a:lnTo>
                      <a:pt x="97" y="801"/>
                    </a:lnTo>
                    <a:lnTo>
                      <a:pt x="89" y="834"/>
                    </a:lnTo>
                    <a:lnTo>
                      <a:pt x="78" y="854"/>
                    </a:lnTo>
                    <a:lnTo>
                      <a:pt x="58" y="865"/>
                    </a:lnTo>
                    <a:lnTo>
                      <a:pt x="33" y="870"/>
                    </a:lnTo>
                    <a:lnTo>
                      <a:pt x="11" y="876"/>
                    </a:lnTo>
                    <a:lnTo>
                      <a:pt x="8" y="876"/>
                    </a:lnTo>
                    <a:lnTo>
                      <a:pt x="3" y="879"/>
                    </a:lnTo>
                    <a:lnTo>
                      <a:pt x="0" y="8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b2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-1304640" y="5951520"/>
                <a:ext cx="660240" cy="492120"/>
              </a:xfrm>
              <a:custGeom>
                <a:avLst/>
                <a:gdLst/>
                <a:ahLst/>
                <a:rect l="l" t="t" r="r" b="b"/>
                <a:pathLst>
                  <a:path w="416" h="310">
                    <a:moveTo>
                      <a:pt x="0" y="124"/>
                    </a:moveTo>
                    <a:lnTo>
                      <a:pt x="16" y="122"/>
                    </a:lnTo>
                    <a:lnTo>
                      <a:pt x="33" y="122"/>
                    </a:lnTo>
                    <a:lnTo>
                      <a:pt x="50" y="119"/>
                    </a:lnTo>
                    <a:lnTo>
                      <a:pt x="66" y="113"/>
                    </a:lnTo>
                    <a:lnTo>
                      <a:pt x="83" y="111"/>
                    </a:lnTo>
                    <a:lnTo>
                      <a:pt x="99" y="105"/>
                    </a:lnTo>
                    <a:lnTo>
                      <a:pt x="116" y="99"/>
                    </a:lnTo>
                    <a:lnTo>
                      <a:pt x="133" y="94"/>
                    </a:lnTo>
                    <a:lnTo>
                      <a:pt x="152" y="91"/>
                    </a:lnTo>
                    <a:lnTo>
                      <a:pt x="172" y="94"/>
                    </a:lnTo>
                    <a:lnTo>
                      <a:pt x="188" y="91"/>
                    </a:lnTo>
                    <a:lnTo>
                      <a:pt x="202" y="80"/>
                    </a:lnTo>
                    <a:lnTo>
                      <a:pt x="208" y="61"/>
                    </a:lnTo>
                    <a:lnTo>
                      <a:pt x="208" y="38"/>
                    </a:lnTo>
                    <a:lnTo>
                      <a:pt x="205" y="19"/>
                    </a:lnTo>
                    <a:lnTo>
                      <a:pt x="213" y="5"/>
                    </a:lnTo>
                    <a:lnTo>
                      <a:pt x="227" y="0"/>
                    </a:lnTo>
                    <a:lnTo>
                      <a:pt x="244" y="0"/>
                    </a:lnTo>
                    <a:lnTo>
                      <a:pt x="257" y="0"/>
                    </a:lnTo>
                    <a:lnTo>
                      <a:pt x="274" y="5"/>
                    </a:lnTo>
                    <a:lnTo>
                      <a:pt x="285" y="8"/>
                    </a:lnTo>
                    <a:lnTo>
                      <a:pt x="296" y="11"/>
                    </a:lnTo>
                    <a:lnTo>
                      <a:pt x="305" y="16"/>
                    </a:lnTo>
                    <a:lnTo>
                      <a:pt x="310" y="19"/>
                    </a:lnTo>
                    <a:lnTo>
                      <a:pt x="330" y="41"/>
                    </a:lnTo>
                    <a:lnTo>
                      <a:pt x="349" y="61"/>
                    </a:lnTo>
                    <a:lnTo>
                      <a:pt x="366" y="80"/>
                    </a:lnTo>
                    <a:lnTo>
                      <a:pt x="382" y="102"/>
                    </a:lnTo>
                    <a:lnTo>
                      <a:pt x="388" y="113"/>
                    </a:lnTo>
                    <a:lnTo>
                      <a:pt x="393" y="122"/>
                    </a:lnTo>
                    <a:lnTo>
                      <a:pt x="399" y="133"/>
                    </a:lnTo>
                    <a:lnTo>
                      <a:pt x="404" y="141"/>
                    </a:lnTo>
                    <a:lnTo>
                      <a:pt x="413" y="169"/>
                    </a:lnTo>
                    <a:lnTo>
                      <a:pt x="416" y="196"/>
                    </a:lnTo>
                    <a:lnTo>
                      <a:pt x="413" y="227"/>
                    </a:lnTo>
                    <a:lnTo>
                      <a:pt x="407" y="255"/>
                    </a:lnTo>
                    <a:lnTo>
                      <a:pt x="404" y="260"/>
                    </a:lnTo>
                    <a:lnTo>
                      <a:pt x="402" y="269"/>
                    </a:lnTo>
                    <a:lnTo>
                      <a:pt x="393" y="274"/>
                    </a:lnTo>
                    <a:lnTo>
                      <a:pt x="388" y="280"/>
                    </a:lnTo>
                    <a:lnTo>
                      <a:pt x="368" y="288"/>
                    </a:lnTo>
                    <a:lnTo>
                      <a:pt x="352" y="294"/>
                    </a:lnTo>
                    <a:lnTo>
                      <a:pt x="332" y="296"/>
                    </a:lnTo>
                    <a:lnTo>
                      <a:pt x="316" y="299"/>
                    </a:lnTo>
                    <a:lnTo>
                      <a:pt x="280" y="305"/>
                    </a:lnTo>
                    <a:lnTo>
                      <a:pt x="246" y="307"/>
                    </a:lnTo>
                    <a:lnTo>
                      <a:pt x="210" y="310"/>
                    </a:lnTo>
                    <a:lnTo>
                      <a:pt x="177" y="310"/>
                    </a:lnTo>
                    <a:lnTo>
                      <a:pt x="144" y="310"/>
                    </a:lnTo>
                    <a:lnTo>
                      <a:pt x="111" y="307"/>
                    </a:lnTo>
                    <a:lnTo>
                      <a:pt x="77" y="307"/>
                    </a:lnTo>
                    <a:lnTo>
                      <a:pt x="44" y="305"/>
                    </a:lnTo>
                    <a:lnTo>
                      <a:pt x="22" y="263"/>
                    </a:lnTo>
                    <a:lnTo>
                      <a:pt x="5" y="219"/>
                    </a:lnTo>
                    <a:lnTo>
                      <a:pt x="0" y="172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920" y="4137120"/>
                <a:ext cx="981000" cy="1373040"/>
              </a:xfrm>
              <a:custGeom>
                <a:avLst/>
                <a:gdLst/>
                <a:ahLst/>
                <a:rect l="l" t="t" r="r" b="b"/>
                <a:pathLst>
                  <a:path w="618" h="865">
                    <a:moveTo>
                      <a:pt x="0" y="103"/>
                    </a:moveTo>
                    <a:lnTo>
                      <a:pt x="3" y="97"/>
                    </a:lnTo>
                    <a:lnTo>
                      <a:pt x="5" y="92"/>
                    </a:lnTo>
                    <a:lnTo>
                      <a:pt x="14" y="89"/>
                    </a:lnTo>
                    <a:lnTo>
                      <a:pt x="19" y="83"/>
                    </a:lnTo>
                    <a:lnTo>
                      <a:pt x="36" y="61"/>
                    </a:lnTo>
                    <a:lnTo>
                      <a:pt x="53" y="39"/>
                    </a:lnTo>
                    <a:lnTo>
                      <a:pt x="72" y="22"/>
                    </a:lnTo>
                    <a:lnTo>
                      <a:pt x="97" y="22"/>
                    </a:lnTo>
                    <a:lnTo>
                      <a:pt x="103" y="28"/>
                    </a:lnTo>
                    <a:lnTo>
                      <a:pt x="105" y="39"/>
                    </a:lnTo>
                    <a:lnTo>
                      <a:pt x="108" y="47"/>
                    </a:lnTo>
                    <a:lnTo>
                      <a:pt x="114" y="56"/>
                    </a:lnTo>
                    <a:lnTo>
                      <a:pt x="119" y="61"/>
                    </a:lnTo>
                    <a:lnTo>
                      <a:pt x="125" y="61"/>
                    </a:lnTo>
                    <a:lnTo>
                      <a:pt x="136" y="61"/>
                    </a:lnTo>
                    <a:lnTo>
                      <a:pt x="144" y="58"/>
                    </a:lnTo>
                    <a:lnTo>
                      <a:pt x="180" y="42"/>
                    </a:lnTo>
                    <a:lnTo>
                      <a:pt x="216" y="25"/>
                    </a:lnTo>
                    <a:lnTo>
                      <a:pt x="255" y="14"/>
                    </a:lnTo>
                    <a:lnTo>
                      <a:pt x="291" y="6"/>
                    </a:lnTo>
                    <a:lnTo>
                      <a:pt x="330" y="0"/>
                    </a:lnTo>
                    <a:lnTo>
                      <a:pt x="369" y="0"/>
                    </a:lnTo>
                    <a:lnTo>
                      <a:pt x="405" y="6"/>
                    </a:lnTo>
                    <a:lnTo>
                      <a:pt x="443" y="19"/>
                    </a:lnTo>
                    <a:lnTo>
                      <a:pt x="452" y="25"/>
                    </a:lnTo>
                    <a:lnTo>
                      <a:pt x="460" y="33"/>
                    </a:lnTo>
                    <a:lnTo>
                      <a:pt x="463" y="44"/>
                    </a:lnTo>
                    <a:lnTo>
                      <a:pt x="468" y="58"/>
                    </a:lnTo>
                    <a:lnTo>
                      <a:pt x="474" y="83"/>
                    </a:lnTo>
                    <a:lnTo>
                      <a:pt x="482" y="105"/>
                    </a:lnTo>
                    <a:lnTo>
                      <a:pt x="493" y="125"/>
                    </a:lnTo>
                    <a:lnTo>
                      <a:pt x="504" y="147"/>
                    </a:lnTo>
                    <a:lnTo>
                      <a:pt x="516" y="166"/>
                    </a:lnTo>
                    <a:lnTo>
                      <a:pt x="527" y="183"/>
                    </a:lnTo>
                    <a:lnTo>
                      <a:pt x="538" y="200"/>
                    </a:lnTo>
                    <a:lnTo>
                      <a:pt x="552" y="216"/>
                    </a:lnTo>
                    <a:lnTo>
                      <a:pt x="563" y="233"/>
                    </a:lnTo>
                    <a:lnTo>
                      <a:pt x="574" y="250"/>
                    </a:lnTo>
                    <a:lnTo>
                      <a:pt x="585" y="266"/>
                    </a:lnTo>
                    <a:lnTo>
                      <a:pt x="593" y="286"/>
                    </a:lnTo>
                    <a:lnTo>
                      <a:pt x="610" y="341"/>
                    </a:lnTo>
                    <a:lnTo>
                      <a:pt x="618" y="399"/>
                    </a:lnTo>
                    <a:lnTo>
                      <a:pt x="618" y="460"/>
                    </a:lnTo>
                    <a:lnTo>
                      <a:pt x="613" y="521"/>
                    </a:lnTo>
                    <a:lnTo>
                      <a:pt x="610" y="538"/>
                    </a:lnTo>
                    <a:lnTo>
                      <a:pt x="607" y="552"/>
                    </a:lnTo>
                    <a:lnTo>
                      <a:pt x="599" y="569"/>
                    </a:lnTo>
                    <a:lnTo>
                      <a:pt x="590" y="580"/>
                    </a:lnTo>
                    <a:lnTo>
                      <a:pt x="560" y="624"/>
                    </a:lnTo>
                    <a:lnTo>
                      <a:pt x="549" y="674"/>
                    </a:lnTo>
                    <a:lnTo>
                      <a:pt x="549" y="729"/>
                    </a:lnTo>
                    <a:lnTo>
                      <a:pt x="541" y="779"/>
                    </a:lnTo>
                    <a:lnTo>
                      <a:pt x="529" y="796"/>
                    </a:lnTo>
                    <a:lnTo>
                      <a:pt x="516" y="810"/>
                    </a:lnTo>
                    <a:lnTo>
                      <a:pt x="496" y="824"/>
                    </a:lnTo>
                    <a:lnTo>
                      <a:pt x="477" y="835"/>
                    </a:lnTo>
                    <a:lnTo>
                      <a:pt x="463" y="843"/>
                    </a:lnTo>
                    <a:lnTo>
                      <a:pt x="446" y="849"/>
                    </a:lnTo>
                    <a:lnTo>
                      <a:pt x="430" y="854"/>
                    </a:lnTo>
                    <a:lnTo>
                      <a:pt x="416" y="860"/>
                    </a:lnTo>
                    <a:lnTo>
                      <a:pt x="402" y="863"/>
                    </a:lnTo>
                    <a:lnTo>
                      <a:pt x="388" y="865"/>
                    </a:lnTo>
                    <a:lnTo>
                      <a:pt x="374" y="865"/>
                    </a:lnTo>
                    <a:lnTo>
                      <a:pt x="363" y="865"/>
                    </a:lnTo>
                    <a:lnTo>
                      <a:pt x="349" y="865"/>
                    </a:lnTo>
                    <a:lnTo>
                      <a:pt x="335" y="863"/>
                    </a:lnTo>
                    <a:lnTo>
                      <a:pt x="324" y="857"/>
                    </a:lnTo>
                    <a:lnTo>
                      <a:pt x="310" y="851"/>
                    </a:lnTo>
                    <a:lnTo>
                      <a:pt x="299" y="843"/>
                    </a:lnTo>
                    <a:lnTo>
                      <a:pt x="288" y="832"/>
                    </a:lnTo>
                    <a:lnTo>
                      <a:pt x="280" y="818"/>
                    </a:lnTo>
                    <a:lnTo>
                      <a:pt x="274" y="807"/>
                    </a:lnTo>
                    <a:lnTo>
                      <a:pt x="263" y="785"/>
                    </a:lnTo>
                    <a:lnTo>
                      <a:pt x="263" y="763"/>
                    </a:lnTo>
                    <a:lnTo>
                      <a:pt x="263" y="740"/>
                    </a:lnTo>
                    <a:lnTo>
                      <a:pt x="269" y="718"/>
                    </a:lnTo>
                    <a:lnTo>
                      <a:pt x="274" y="704"/>
                    </a:lnTo>
                    <a:lnTo>
                      <a:pt x="277" y="693"/>
                    </a:lnTo>
                    <a:lnTo>
                      <a:pt x="277" y="682"/>
                    </a:lnTo>
                    <a:lnTo>
                      <a:pt x="274" y="674"/>
                    </a:lnTo>
                    <a:lnTo>
                      <a:pt x="252" y="646"/>
                    </a:lnTo>
                    <a:lnTo>
                      <a:pt x="233" y="618"/>
                    </a:lnTo>
                    <a:lnTo>
                      <a:pt x="213" y="591"/>
                    </a:lnTo>
                    <a:lnTo>
                      <a:pt x="194" y="563"/>
                    </a:lnTo>
                    <a:lnTo>
                      <a:pt x="175" y="538"/>
                    </a:lnTo>
                    <a:lnTo>
                      <a:pt x="158" y="510"/>
                    </a:lnTo>
                    <a:lnTo>
                      <a:pt x="141" y="483"/>
                    </a:lnTo>
                    <a:lnTo>
                      <a:pt x="125" y="452"/>
                    </a:lnTo>
                    <a:lnTo>
                      <a:pt x="108" y="424"/>
                    </a:lnTo>
                    <a:lnTo>
                      <a:pt x="91" y="397"/>
                    </a:lnTo>
                    <a:lnTo>
                      <a:pt x="78" y="366"/>
                    </a:lnTo>
                    <a:lnTo>
                      <a:pt x="69" y="333"/>
                    </a:lnTo>
                    <a:lnTo>
                      <a:pt x="64" y="319"/>
                    </a:lnTo>
                    <a:lnTo>
                      <a:pt x="58" y="305"/>
                    </a:lnTo>
                    <a:lnTo>
                      <a:pt x="53" y="291"/>
                    </a:lnTo>
                    <a:lnTo>
                      <a:pt x="47" y="277"/>
                    </a:lnTo>
                    <a:lnTo>
                      <a:pt x="36" y="244"/>
                    </a:lnTo>
                    <a:lnTo>
                      <a:pt x="25" y="211"/>
                    </a:lnTo>
                    <a:lnTo>
                      <a:pt x="17" y="178"/>
                    </a:lnTo>
                    <a:lnTo>
                      <a:pt x="8" y="144"/>
                    </a:lnTo>
                    <a:lnTo>
                      <a:pt x="5" y="136"/>
                    </a:lnTo>
                    <a:lnTo>
                      <a:pt x="5" y="128"/>
                    </a:lnTo>
                    <a:lnTo>
                      <a:pt x="8" y="119"/>
                    </a:lnTo>
                    <a:lnTo>
                      <a:pt x="8" y="111"/>
                    </a:lnTo>
                    <a:lnTo>
                      <a:pt x="8" y="108"/>
                    </a:lnTo>
                    <a:lnTo>
                      <a:pt x="5" y="108"/>
                    </a:lnTo>
                    <a:lnTo>
                      <a:pt x="0" y="105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80000" y="5726160"/>
                <a:ext cx="536400" cy="555480"/>
              </a:xfrm>
              <a:custGeom>
                <a:avLst/>
                <a:gdLst/>
                <a:ahLst/>
                <a:rect l="l" t="t" r="r" b="b"/>
                <a:pathLst>
                  <a:path w="338" h="350">
                    <a:moveTo>
                      <a:pt x="3" y="211"/>
                    </a:moveTo>
                    <a:lnTo>
                      <a:pt x="14" y="197"/>
                    </a:lnTo>
                    <a:lnTo>
                      <a:pt x="22" y="183"/>
                    </a:lnTo>
                    <a:lnTo>
                      <a:pt x="36" y="172"/>
                    </a:lnTo>
                    <a:lnTo>
                      <a:pt x="47" y="161"/>
                    </a:lnTo>
                    <a:lnTo>
                      <a:pt x="58" y="150"/>
                    </a:lnTo>
                    <a:lnTo>
                      <a:pt x="72" y="139"/>
                    </a:lnTo>
                    <a:lnTo>
                      <a:pt x="83" y="128"/>
                    </a:lnTo>
                    <a:lnTo>
                      <a:pt x="97" y="117"/>
                    </a:lnTo>
                    <a:lnTo>
                      <a:pt x="108" y="108"/>
                    </a:lnTo>
                    <a:lnTo>
                      <a:pt x="122" y="100"/>
                    </a:lnTo>
                    <a:lnTo>
                      <a:pt x="133" y="92"/>
                    </a:lnTo>
                    <a:lnTo>
                      <a:pt x="147" y="83"/>
                    </a:lnTo>
                    <a:lnTo>
                      <a:pt x="161" y="75"/>
                    </a:lnTo>
                    <a:lnTo>
                      <a:pt x="175" y="67"/>
                    </a:lnTo>
                    <a:lnTo>
                      <a:pt x="189" y="61"/>
                    </a:lnTo>
                    <a:lnTo>
                      <a:pt x="202" y="53"/>
                    </a:lnTo>
                    <a:lnTo>
                      <a:pt x="216" y="45"/>
                    </a:lnTo>
                    <a:lnTo>
                      <a:pt x="233" y="36"/>
                    </a:lnTo>
                    <a:lnTo>
                      <a:pt x="247" y="31"/>
                    </a:lnTo>
                    <a:lnTo>
                      <a:pt x="261" y="22"/>
                    </a:lnTo>
                    <a:lnTo>
                      <a:pt x="277" y="17"/>
                    </a:lnTo>
                    <a:lnTo>
                      <a:pt x="291" y="11"/>
                    </a:lnTo>
                    <a:lnTo>
                      <a:pt x="305" y="6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33" y="0"/>
                    </a:lnTo>
                    <a:lnTo>
                      <a:pt x="335" y="6"/>
                    </a:lnTo>
                    <a:lnTo>
                      <a:pt x="335" y="14"/>
                    </a:lnTo>
                    <a:lnTo>
                      <a:pt x="338" y="25"/>
                    </a:lnTo>
                    <a:lnTo>
                      <a:pt x="335" y="36"/>
                    </a:lnTo>
                    <a:lnTo>
                      <a:pt x="333" y="42"/>
                    </a:lnTo>
                    <a:lnTo>
                      <a:pt x="322" y="53"/>
                    </a:lnTo>
                    <a:lnTo>
                      <a:pt x="311" y="64"/>
                    </a:lnTo>
                    <a:lnTo>
                      <a:pt x="299" y="75"/>
                    </a:lnTo>
                    <a:lnTo>
                      <a:pt x="291" y="89"/>
                    </a:lnTo>
                    <a:lnTo>
                      <a:pt x="291" y="94"/>
                    </a:lnTo>
                    <a:lnTo>
                      <a:pt x="291" y="97"/>
                    </a:lnTo>
                    <a:lnTo>
                      <a:pt x="291" y="100"/>
                    </a:lnTo>
                    <a:lnTo>
                      <a:pt x="291" y="103"/>
                    </a:lnTo>
                    <a:lnTo>
                      <a:pt x="302" y="108"/>
                    </a:lnTo>
                    <a:lnTo>
                      <a:pt x="311" y="111"/>
                    </a:lnTo>
                    <a:lnTo>
                      <a:pt x="319" y="117"/>
                    </a:lnTo>
                    <a:lnTo>
                      <a:pt x="327" y="125"/>
                    </a:lnTo>
                    <a:lnTo>
                      <a:pt x="333" y="139"/>
                    </a:lnTo>
                    <a:lnTo>
                      <a:pt x="327" y="147"/>
                    </a:lnTo>
                    <a:lnTo>
                      <a:pt x="319" y="153"/>
                    </a:lnTo>
                    <a:lnTo>
                      <a:pt x="311" y="161"/>
                    </a:lnTo>
                    <a:lnTo>
                      <a:pt x="302" y="180"/>
                    </a:lnTo>
                    <a:lnTo>
                      <a:pt x="299" y="203"/>
                    </a:lnTo>
                    <a:lnTo>
                      <a:pt x="294" y="222"/>
                    </a:lnTo>
                    <a:lnTo>
                      <a:pt x="283" y="239"/>
                    </a:lnTo>
                    <a:lnTo>
                      <a:pt x="263" y="250"/>
                    </a:lnTo>
                    <a:lnTo>
                      <a:pt x="244" y="255"/>
                    </a:lnTo>
                    <a:lnTo>
                      <a:pt x="225" y="261"/>
                    </a:lnTo>
                    <a:lnTo>
                      <a:pt x="205" y="266"/>
                    </a:lnTo>
                    <a:lnTo>
                      <a:pt x="189" y="275"/>
                    </a:lnTo>
                    <a:lnTo>
                      <a:pt x="172" y="280"/>
                    </a:lnTo>
                    <a:lnTo>
                      <a:pt x="155" y="286"/>
                    </a:lnTo>
                    <a:lnTo>
                      <a:pt x="139" y="291"/>
                    </a:lnTo>
                    <a:lnTo>
                      <a:pt x="122" y="300"/>
                    </a:lnTo>
                    <a:lnTo>
                      <a:pt x="105" y="305"/>
                    </a:lnTo>
                    <a:lnTo>
                      <a:pt x="89" y="311"/>
                    </a:lnTo>
                    <a:lnTo>
                      <a:pt x="72" y="319"/>
                    </a:lnTo>
                    <a:lnTo>
                      <a:pt x="64" y="325"/>
                    </a:lnTo>
                    <a:lnTo>
                      <a:pt x="53" y="333"/>
                    </a:lnTo>
                    <a:lnTo>
                      <a:pt x="44" y="341"/>
                    </a:lnTo>
                    <a:lnTo>
                      <a:pt x="36" y="350"/>
                    </a:lnTo>
                    <a:lnTo>
                      <a:pt x="31" y="333"/>
                    </a:lnTo>
                    <a:lnTo>
                      <a:pt x="31" y="319"/>
                    </a:lnTo>
                    <a:lnTo>
                      <a:pt x="31" y="302"/>
                    </a:lnTo>
                    <a:lnTo>
                      <a:pt x="31" y="289"/>
                    </a:lnTo>
                    <a:lnTo>
                      <a:pt x="22" y="266"/>
                    </a:lnTo>
                    <a:lnTo>
                      <a:pt x="8" y="244"/>
                    </a:lnTo>
                    <a:lnTo>
                      <a:pt x="0" y="228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4840" y="9348840"/>
                <a:ext cx="817560" cy="2214360"/>
              </a:xfrm>
              <a:custGeom>
                <a:avLst/>
                <a:gdLst/>
                <a:ahLst/>
                <a:rect l="l" t="t" r="r" b="b"/>
                <a:pathLst>
                  <a:path w="515" h="1395">
                    <a:moveTo>
                      <a:pt x="19" y="1126"/>
                    </a:moveTo>
                    <a:lnTo>
                      <a:pt x="19" y="1099"/>
                    </a:lnTo>
                    <a:lnTo>
                      <a:pt x="24" y="1076"/>
                    </a:lnTo>
                    <a:lnTo>
                      <a:pt x="36" y="1057"/>
                    </a:lnTo>
                    <a:lnTo>
                      <a:pt x="44" y="1035"/>
                    </a:lnTo>
                    <a:lnTo>
                      <a:pt x="69" y="918"/>
                    </a:lnTo>
                    <a:lnTo>
                      <a:pt x="72" y="796"/>
                    </a:lnTo>
                    <a:lnTo>
                      <a:pt x="72" y="677"/>
                    </a:lnTo>
                    <a:lnTo>
                      <a:pt x="91" y="558"/>
                    </a:lnTo>
                    <a:lnTo>
                      <a:pt x="102" y="516"/>
                    </a:lnTo>
                    <a:lnTo>
                      <a:pt x="110" y="472"/>
                    </a:lnTo>
                    <a:lnTo>
                      <a:pt x="119" y="430"/>
                    </a:lnTo>
                    <a:lnTo>
                      <a:pt x="127" y="386"/>
                    </a:lnTo>
                    <a:lnTo>
                      <a:pt x="138" y="344"/>
                    </a:lnTo>
                    <a:lnTo>
                      <a:pt x="152" y="300"/>
                    </a:lnTo>
                    <a:lnTo>
                      <a:pt x="166" y="261"/>
                    </a:lnTo>
                    <a:lnTo>
                      <a:pt x="188" y="220"/>
                    </a:lnTo>
                    <a:lnTo>
                      <a:pt x="194" y="206"/>
                    </a:lnTo>
                    <a:lnTo>
                      <a:pt x="196" y="189"/>
                    </a:lnTo>
                    <a:lnTo>
                      <a:pt x="199" y="175"/>
                    </a:lnTo>
                    <a:lnTo>
                      <a:pt x="205" y="161"/>
                    </a:lnTo>
                    <a:lnTo>
                      <a:pt x="230" y="122"/>
                    </a:lnTo>
                    <a:lnTo>
                      <a:pt x="246" y="81"/>
                    </a:lnTo>
                    <a:lnTo>
                      <a:pt x="263" y="45"/>
                    </a:lnTo>
                    <a:lnTo>
                      <a:pt x="285" y="17"/>
                    </a:lnTo>
                    <a:lnTo>
                      <a:pt x="307" y="6"/>
                    </a:lnTo>
                    <a:lnTo>
                      <a:pt x="335" y="0"/>
                    </a:lnTo>
                    <a:lnTo>
                      <a:pt x="363" y="0"/>
                    </a:lnTo>
                    <a:lnTo>
                      <a:pt x="390" y="0"/>
                    </a:lnTo>
                    <a:lnTo>
                      <a:pt x="421" y="3"/>
                    </a:lnTo>
                    <a:lnTo>
                      <a:pt x="451" y="6"/>
                    </a:lnTo>
                    <a:lnTo>
                      <a:pt x="482" y="9"/>
                    </a:lnTo>
                    <a:lnTo>
                      <a:pt x="512" y="9"/>
                    </a:lnTo>
                    <a:lnTo>
                      <a:pt x="512" y="28"/>
                    </a:lnTo>
                    <a:lnTo>
                      <a:pt x="515" y="48"/>
                    </a:lnTo>
                    <a:lnTo>
                      <a:pt x="512" y="70"/>
                    </a:lnTo>
                    <a:lnTo>
                      <a:pt x="504" y="89"/>
                    </a:lnTo>
                    <a:lnTo>
                      <a:pt x="487" y="117"/>
                    </a:lnTo>
                    <a:lnTo>
                      <a:pt x="471" y="145"/>
                    </a:lnTo>
                    <a:lnTo>
                      <a:pt x="457" y="175"/>
                    </a:lnTo>
                    <a:lnTo>
                      <a:pt x="446" y="203"/>
                    </a:lnTo>
                    <a:lnTo>
                      <a:pt x="435" y="231"/>
                    </a:lnTo>
                    <a:lnTo>
                      <a:pt x="421" y="261"/>
                    </a:lnTo>
                    <a:lnTo>
                      <a:pt x="410" y="289"/>
                    </a:lnTo>
                    <a:lnTo>
                      <a:pt x="399" y="317"/>
                    </a:lnTo>
                    <a:lnTo>
                      <a:pt x="379" y="372"/>
                    </a:lnTo>
                    <a:lnTo>
                      <a:pt x="363" y="425"/>
                    </a:lnTo>
                    <a:lnTo>
                      <a:pt x="346" y="480"/>
                    </a:lnTo>
                    <a:lnTo>
                      <a:pt x="332" y="533"/>
                    </a:lnTo>
                    <a:lnTo>
                      <a:pt x="318" y="588"/>
                    </a:lnTo>
                    <a:lnTo>
                      <a:pt x="304" y="644"/>
                    </a:lnTo>
                    <a:lnTo>
                      <a:pt x="291" y="696"/>
                    </a:lnTo>
                    <a:lnTo>
                      <a:pt x="277" y="752"/>
                    </a:lnTo>
                    <a:lnTo>
                      <a:pt x="268" y="788"/>
                    </a:lnTo>
                    <a:lnTo>
                      <a:pt x="260" y="821"/>
                    </a:lnTo>
                    <a:lnTo>
                      <a:pt x="252" y="855"/>
                    </a:lnTo>
                    <a:lnTo>
                      <a:pt x="246" y="891"/>
                    </a:lnTo>
                    <a:lnTo>
                      <a:pt x="224" y="1015"/>
                    </a:lnTo>
                    <a:lnTo>
                      <a:pt x="205" y="1140"/>
                    </a:lnTo>
                    <a:lnTo>
                      <a:pt x="188" y="1265"/>
                    </a:lnTo>
                    <a:lnTo>
                      <a:pt x="171" y="1387"/>
                    </a:lnTo>
                    <a:lnTo>
                      <a:pt x="152" y="1387"/>
                    </a:lnTo>
                    <a:lnTo>
                      <a:pt x="133" y="1390"/>
                    </a:lnTo>
                    <a:lnTo>
                      <a:pt x="113" y="1393"/>
                    </a:lnTo>
                    <a:lnTo>
                      <a:pt x="91" y="1395"/>
                    </a:lnTo>
                    <a:lnTo>
                      <a:pt x="74" y="1395"/>
                    </a:lnTo>
                    <a:lnTo>
                      <a:pt x="58" y="1393"/>
                    </a:lnTo>
                    <a:lnTo>
                      <a:pt x="44" y="1381"/>
                    </a:lnTo>
                    <a:lnTo>
                      <a:pt x="36" y="1368"/>
                    </a:lnTo>
                    <a:lnTo>
                      <a:pt x="16" y="1312"/>
                    </a:lnTo>
                    <a:lnTo>
                      <a:pt x="2" y="1251"/>
                    </a:lnTo>
                    <a:lnTo>
                      <a:pt x="0" y="1187"/>
                    </a:lnTo>
                    <a:lnTo>
                      <a:pt x="2" y="1126"/>
                    </a:lnTo>
                    <a:lnTo>
                      <a:pt x="5" y="1126"/>
                    </a:lnTo>
                    <a:lnTo>
                      <a:pt x="8" y="1126"/>
                    </a:lnTo>
                    <a:lnTo>
                      <a:pt x="13" y="1126"/>
                    </a:lnTo>
                    <a:lnTo>
                      <a:pt x="19" y="1126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98800" y="9261360"/>
                <a:ext cx="628560" cy="2381400"/>
              </a:xfrm>
              <a:custGeom>
                <a:avLst/>
                <a:gdLst/>
                <a:ahLst/>
                <a:rect l="l" t="t" r="r" b="b"/>
                <a:pathLst>
                  <a:path w="396" h="1500">
                    <a:moveTo>
                      <a:pt x="8" y="1273"/>
                    </a:moveTo>
                    <a:lnTo>
                      <a:pt x="0" y="1253"/>
                    </a:lnTo>
                    <a:lnTo>
                      <a:pt x="14" y="1231"/>
                    </a:lnTo>
                    <a:lnTo>
                      <a:pt x="33" y="1209"/>
                    </a:lnTo>
                    <a:lnTo>
                      <a:pt x="47" y="1187"/>
                    </a:lnTo>
                    <a:lnTo>
                      <a:pt x="47" y="1123"/>
                    </a:lnTo>
                    <a:lnTo>
                      <a:pt x="42" y="1059"/>
                    </a:lnTo>
                    <a:lnTo>
                      <a:pt x="33" y="998"/>
                    </a:lnTo>
                    <a:lnTo>
                      <a:pt x="31" y="937"/>
                    </a:lnTo>
                    <a:lnTo>
                      <a:pt x="19" y="768"/>
                    </a:lnTo>
                    <a:lnTo>
                      <a:pt x="14" y="599"/>
                    </a:lnTo>
                    <a:lnTo>
                      <a:pt x="19" y="433"/>
                    </a:lnTo>
                    <a:lnTo>
                      <a:pt x="56" y="266"/>
                    </a:lnTo>
                    <a:lnTo>
                      <a:pt x="69" y="213"/>
                    </a:lnTo>
                    <a:lnTo>
                      <a:pt x="80" y="155"/>
                    </a:lnTo>
                    <a:lnTo>
                      <a:pt x="94" y="100"/>
                    </a:lnTo>
                    <a:lnTo>
                      <a:pt x="119" y="55"/>
                    </a:lnTo>
                    <a:lnTo>
                      <a:pt x="139" y="42"/>
                    </a:lnTo>
                    <a:lnTo>
                      <a:pt x="164" y="30"/>
                    </a:lnTo>
                    <a:lnTo>
                      <a:pt x="189" y="22"/>
                    </a:lnTo>
                    <a:lnTo>
                      <a:pt x="216" y="19"/>
                    </a:lnTo>
                    <a:lnTo>
                      <a:pt x="244" y="14"/>
                    </a:lnTo>
                    <a:lnTo>
                      <a:pt x="269" y="11"/>
                    </a:lnTo>
                    <a:lnTo>
                      <a:pt x="297" y="6"/>
                    </a:lnTo>
                    <a:lnTo>
                      <a:pt x="322" y="0"/>
                    </a:lnTo>
                    <a:lnTo>
                      <a:pt x="324" y="47"/>
                    </a:lnTo>
                    <a:lnTo>
                      <a:pt x="327" y="97"/>
                    </a:lnTo>
                    <a:lnTo>
                      <a:pt x="322" y="144"/>
                    </a:lnTo>
                    <a:lnTo>
                      <a:pt x="305" y="194"/>
                    </a:lnTo>
                    <a:lnTo>
                      <a:pt x="277" y="255"/>
                    </a:lnTo>
                    <a:lnTo>
                      <a:pt x="261" y="319"/>
                    </a:lnTo>
                    <a:lnTo>
                      <a:pt x="247" y="383"/>
                    </a:lnTo>
                    <a:lnTo>
                      <a:pt x="233" y="444"/>
                    </a:lnTo>
                    <a:lnTo>
                      <a:pt x="202" y="627"/>
                    </a:lnTo>
                    <a:lnTo>
                      <a:pt x="194" y="807"/>
                    </a:lnTo>
                    <a:lnTo>
                      <a:pt x="197" y="990"/>
                    </a:lnTo>
                    <a:lnTo>
                      <a:pt x="202" y="1173"/>
                    </a:lnTo>
                    <a:lnTo>
                      <a:pt x="202" y="1181"/>
                    </a:lnTo>
                    <a:lnTo>
                      <a:pt x="205" y="1187"/>
                    </a:lnTo>
                    <a:lnTo>
                      <a:pt x="211" y="1195"/>
                    </a:lnTo>
                    <a:lnTo>
                      <a:pt x="216" y="1203"/>
                    </a:lnTo>
                    <a:lnTo>
                      <a:pt x="238" y="1220"/>
                    </a:lnTo>
                    <a:lnTo>
                      <a:pt x="258" y="1237"/>
                    </a:lnTo>
                    <a:lnTo>
                      <a:pt x="275" y="1253"/>
                    </a:lnTo>
                    <a:lnTo>
                      <a:pt x="291" y="1270"/>
                    </a:lnTo>
                    <a:lnTo>
                      <a:pt x="305" y="1287"/>
                    </a:lnTo>
                    <a:lnTo>
                      <a:pt x="322" y="1306"/>
                    </a:lnTo>
                    <a:lnTo>
                      <a:pt x="333" y="1328"/>
                    </a:lnTo>
                    <a:lnTo>
                      <a:pt x="347" y="1350"/>
                    </a:lnTo>
                    <a:lnTo>
                      <a:pt x="355" y="1359"/>
                    </a:lnTo>
                    <a:lnTo>
                      <a:pt x="366" y="1367"/>
                    </a:lnTo>
                    <a:lnTo>
                      <a:pt x="377" y="1375"/>
                    </a:lnTo>
                    <a:lnTo>
                      <a:pt x="383" y="1381"/>
                    </a:lnTo>
                    <a:lnTo>
                      <a:pt x="385" y="1406"/>
                    </a:lnTo>
                    <a:lnTo>
                      <a:pt x="388" y="1434"/>
                    </a:lnTo>
                    <a:lnTo>
                      <a:pt x="391" y="1461"/>
                    </a:lnTo>
                    <a:lnTo>
                      <a:pt x="396" y="1486"/>
                    </a:lnTo>
                    <a:lnTo>
                      <a:pt x="385" y="1486"/>
                    </a:lnTo>
                    <a:lnTo>
                      <a:pt x="372" y="1486"/>
                    </a:lnTo>
                    <a:lnTo>
                      <a:pt x="360" y="1486"/>
                    </a:lnTo>
                    <a:lnTo>
                      <a:pt x="347" y="1489"/>
                    </a:lnTo>
                    <a:lnTo>
                      <a:pt x="336" y="1489"/>
                    </a:lnTo>
                    <a:lnTo>
                      <a:pt x="322" y="1492"/>
                    </a:lnTo>
                    <a:lnTo>
                      <a:pt x="311" y="1495"/>
                    </a:lnTo>
                    <a:lnTo>
                      <a:pt x="299" y="1500"/>
                    </a:lnTo>
                    <a:lnTo>
                      <a:pt x="283" y="1495"/>
                    </a:lnTo>
                    <a:lnTo>
                      <a:pt x="272" y="1481"/>
                    </a:lnTo>
                    <a:lnTo>
                      <a:pt x="258" y="1467"/>
                    </a:lnTo>
                    <a:lnTo>
                      <a:pt x="241" y="1456"/>
                    </a:lnTo>
                    <a:lnTo>
                      <a:pt x="227" y="1445"/>
                    </a:lnTo>
                    <a:lnTo>
                      <a:pt x="216" y="1434"/>
                    </a:lnTo>
                    <a:lnTo>
                      <a:pt x="208" y="1425"/>
                    </a:lnTo>
                    <a:lnTo>
                      <a:pt x="197" y="1417"/>
                    </a:lnTo>
                    <a:lnTo>
                      <a:pt x="189" y="1409"/>
                    </a:lnTo>
                    <a:lnTo>
                      <a:pt x="177" y="1400"/>
                    </a:lnTo>
                    <a:lnTo>
                      <a:pt x="164" y="1389"/>
                    </a:lnTo>
                    <a:lnTo>
                      <a:pt x="147" y="1378"/>
                    </a:lnTo>
                    <a:lnTo>
                      <a:pt x="136" y="1370"/>
                    </a:lnTo>
                    <a:lnTo>
                      <a:pt x="125" y="1362"/>
                    </a:lnTo>
                    <a:lnTo>
                      <a:pt x="114" y="1350"/>
                    </a:lnTo>
                    <a:lnTo>
                      <a:pt x="103" y="1339"/>
                    </a:lnTo>
                    <a:lnTo>
                      <a:pt x="92" y="1328"/>
                    </a:lnTo>
                    <a:lnTo>
                      <a:pt x="83" y="1317"/>
                    </a:lnTo>
                    <a:lnTo>
                      <a:pt x="72" y="1309"/>
                    </a:lnTo>
                    <a:lnTo>
                      <a:pt x="64" y="1301"/>
                    </a:lnTo>
                    <a:lnTo>
                      <a:pt x="56" y="1289"/>
                    </a:lnTo>
                    <a:lnTo>
                      <a:pt x="42" y="1284"/>
                    </a:lnTo>
                    <a:lnTo>
                      <a:pt x="25" y="1278"/>
                    </a:lnTo>
                    <a:lnTo>
                      <a:pt x="8" y="1273"/>
                    </a:lnTo>
                    <a:close/>
                  </a:path>
                </a:pathLst>
              </a:custGeom>
              <a:solidFill>
                <a:srgbClr val="cc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3560" y="11339640"/>
                <a:ext cx="342720" cy="338040"/>
              </a:xfrm>
              <a:custGeom>
                <a:avLst/>
                <a:gdLst/>
                <a:ahLst/>
                <a:rect l="l" t="t" r="r" b="b"/>
                <a:pathLst>
                  <a:path w="216" h="213">
                    <a:moveTo>
                      <a:pt x="28" y="0"/>
                    </a:moveTo>
                    <a:lnTo>
                      <a:pt x="20" y="11"/>
                    </a:lnTo>
                    <a:lnTo>
                      <a:pt x="11" y="25"/>
                    </a:lnTo>
                    <a:lnTo>
                      <a:pt x="3" y="36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0" y="105"/>
                    </a:lnTo>
                    <a:lnTo>
                      <a:pt x="3" y="114"/>
                    </a:lnTo>
                    <a:lnTo>
                      <a:pt x="6" y="122"/>
                    </a:lnTo>
                    <a:lnTo>
                      <a:pt x="9" y="130"/>
                    </a:lnTo>
                    <a:lnTo>
                      <a:pt x="14" y="139"/>
                    </a:lnTo>
                    <a:lnTo>
                      <a:pt x="20" y="152"/>
                    </a:lnTo>
                    <a:lnTo>
                      <a:pt x="28" y="163"/>
                    </a:lnTo>
                    <a:lnTo>
                      <a:pt x="39" y="175"/>
                    </a:lnTo>
                    <a:lnTo>
                      <a:pt x="50" y="183"/>
                    </a:lnTo>
                    <a:lnTo>
                      <a:pt x="64" y="194"/>
                    </a:lnTo>
                    <a:lnTo>
                      <a:pt x="75" y="200"/>
                    </a:lnTo>
                    <a:lnTo>
                      <a:pt x="89" y="208"/>
                    </a:lnTo>
                    <a:lnTo>
                      <a:pt x="100" y="211"/>
                    </a:lnTo>
                    <a:lnTo>
                      <a:pt x="119" y="213"/>
                    </a:lnTo>
                    <a:lnTo>
                      <a:pt x="139" y="213"/>
                    </a:lnTo>
                    <a:lnTo>
                      <a:pt x="155" y="213"/>
                    </a:lnTo>
                    <a:lnTo>
                      <a:pt x="175" y="211"/>
                    </a:lnTo>
                    <a:lnTo>
                      <a:pt x="189" y="208"/>
                    </a:lnTo>
                    <a:lnTo>
                      <a:pt x="203" y="197"/>
                    </a:lnTo>
                    <a:lnTo>
                      <a:pt x="211" y="183"/>
                    </a:lnTo>
                    <a:lnTo>
                      <a:pt x="216" y="169"/>
                    </a:lnTo>
                    <a:lnTo>
                      <a:pt x="216" y="161"/>
                    </a:lnTo>
                    <a:lnTo>
                      <a:pt x="216" y="152"/>
                    </a:lnTo>
                    <a:lnTo>
                      <a:pt x="216" y="144"/>
                    </a:lnTo>
                    <a:lnTo>
                      <a:pt x="216" y="133"/>
                    </a:lnTo>
                    <a:lnTo>
                      <a:pt x="205" y="122"/>
                    </a:lnTo>
                    <a:lnTo>
                      <a:pt x="194" y="114"/>
                    </a:lnTo>
                    <a:lnTo>
                      <a:pt x="180" y="105"/>
                    </a:lnTo>
                    <a:lnTo>
                      <a:pt x="167" y="97"/>
                    </a:lnTo>
                    <a:lnTo>
                      <a:pt x="153" y="91"/>
                    </a:lnTo>
                    <a:lnTo>
                      <a:pt x="136" y="86"/>
                    </a:lnTo>
                    <a:lnTo>
                      <a:pt x="122" y="80"/>
                    </a:lnTo>
                    <a:lnTo>
                      <a:pt x="106" y="75"/>
                    </a:lnTo>
                    <a:lnTo>
                      <a:pt x="89" y="66"/>
                    </a:lnTo>
                    <a:lnTo>
                      <a:pt x="75" y="50"/>
                    </a:lnTo>
                    <a:lnTo>
                      <a:pt x="64" y="33"/>
                    </a:lnTo>
                    <a:lnTo>
                      <a:pt x="56" y="14"/>
                    </a:lnTo>
                    <a:lnTo>
                      <a:pt x="50" y="8"/>
                    </a:lnTo>
                    <a:lnTo>
                      <a:pt x="45" y="3"/>
                    </a:lnTo>
                    <a:lnTo>
                      <a:pt x="3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11400" y="11198160"/>
                <a:ext cx="779400" cy="476280"/>
              </a:xfrm>
              <a:custGeom>
                <a:avLst/>
                <a:gdLst/>
                <a:ahLst/>
                <a:rect l="l" t="t" r="r" b="b"/>
                <a:pathLst>
                  <a:path w="491" h="300">
                    <a:moveTo>
                      <a:pt x="0" y="53"/>
                    </a:moveTo>
                    <a:lnTo>
                      <a:pt x="3" y="42"/>
                    </a:lnTo>
                    <a:lnTo>
                      <a:pt x="9" y="31"/>
                    </a:lnTo>
                    <a:lnTo>
                      <a:pt x="14" y="20"/>
                    </a:lnTo>
                    <a:lnTo>
                      <a:pt x="20" y="8"/>
                    </a:lnTo>
                    <a:lnTo>
                      <a:pt x="23" y="6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3"/>
                    </a:lnTo>
                    <a:lnTo>
                      <a:pt x="53" y="22"/>
                    </a:lnTo>
                    <a:lnTo>
                      <a:pt x="72" y="42"/>
                    </a:lnTo>
                    <a:lnTo>
                      <a:pt x="89" y="61"/>
                    </a:lnTo>
                    <a:lnTo>
                      <a:pt x="109" y="81"/>
                    </a:lnTo>
                    <a:lnTo>
                      <a:pt x="122" y="92"/>
                    </a:lnTo>
                    <a:lnTo>
                      <a:pt x="136" y="103"/>
                    </a:lnTo>
                    <a:lnTo>
                      <a:pt x="150" y="114"/>
                    </a:lnTo>
                    <a:lnTo>
                      <a:pt x="164" y="122"/>
                    </a:lnTo>
                    <a:lnTo>
                      <a:pt x="178" y="133"/>
                    </a:lnTo>
                    <a:lnTo>
                      <a:pt x="194" y="142"/>
                    </a:lnTo>
                    <a:lnTo>
                      <a:pt x="208" y="150"/>
                    </a:lnTo>
                    <a:lnTo>
                      <a:pt x="225" y="158"/>
                    </a:lnTo>
                    <a:lnTo>
                      <a:pt x="239" y="164"/>
                    </a:lnTo>
                    <a:lnTo>
                      <a:pt x="253" y="169"/>
                    </a:lnTo>
                    <a:lnTo>
                      <a:pt x="267" y="175"/>
                    </a:lnTo>
                    <a:lnTo>
                      <a:pt x="280" y="180"/>
                    </a:lnTo>
                    <a:lnTo>
                      <a:pt x="294" y="186"/>
                    </a:lnTo>
                    <a:lnTo>
                      <a:pt x="308" y="189"/>
                    </a:lnTo>
                    <a:lnTo>
                      <a:pt x="322" y="194"/>
                    </a:lnTo>
                    <a:lnTo>
                      <a:pt x="339" y="197"/>
                    </a:lnTo>
                    <a:lnTo>
                      <a:pt x="344" y="200"/>
                    </a:lnTo>
                    <a:lnTo>
                      <a:pt x="350" y="200"/>
                    </a:lnTo>
                    <a:lnTo>
                      <a:pt x="355" y="200"/>
                    </a:lnTo>
                    <a:lnTo>
                      <a:pt x="361" y="197"/>
                    </a:lnTo>
                    <a:lnTo>
                      <a:pt x="369" y="191"/>
                    </a:lnTo>
                    <a:lnTo>
                      <a:pt x="372" y="180"/>
                    </a:lnTo>
                    <a:lnTo>
                      <a:pt x="375" y="169"/>
                    </a:lnTo>
                    <a:lnTo>
                      <a:pt x="375" y="161"/>
                    </a:lnTo>
                    <a:lnTo>
                      <a:pt x="377" y="158"/>
                    </a:lnTo>
                    <a:lnTo>
                      <a:pt x="383" y="155"/>
                    </a:lnTo>
                    <a:lnTo>
                      <a:pt x="391" y="155"/>
                    </a:lnTo>
                    <a:lnTo>
                      <a:pt x="397" y="158"/>
                    </a:lnTo>
                    <a:lnTo>
                      <a:pt x="408" y="164"/>
                    </a:lnTo>
                    <a:lnTo>
                      <a:pt x="416" y="169"/>
                    </a:lnTo>
                    <a:lnTo>
                      <a:pt x="425" y="178"/>
                    </a:lnTo>
                    <a:lnTo>
                      <a:pt x="436" y="183"/>
                    </a:lnTo>
                    <a:lnTo>
                      <a:pt x="444" y="186"/>
                    </a:lnTo>
                    <a:lnTo>
                      <a:pt x="455" y="191"/>
                    </a:lnTo>
                    <a:lnTo>
                      <a:pt x="463" y="194"/>
                    </a:lnTo>
                    <a:lnTo>
                      <a:pt x="474" y="200"/>
                    </a:lnTo>
                    <a:lnTo>
                      <a:pt x="477" y="203"/>
                    </a:lnTo>
                    <a:lnTo>
                      <a:pt x="483" y="203"/>
                    </a:lnTo>
                    <a:lnTo>
                      <a:pt x="486" y="205"/>
                    </a:lnTo>
                    <a:lnTo>
                      <a:pt x="486" y="208"/>
                    </a:lnTo>
                    <a:lnTo>
                      <a:pt x="488" y="222"/>
                    </a:lnTo>
                    <a:lnTo>
                      <a:pt x="491" y="233"/>
                    </a:lnTo>
                    <a:lnTo>
                      <a:pt x="488" y="247"/>
                    </a:lnTo>
                    <a:lnTo>
                      <a:pt x="488" y="261"/>
                    </a:lnTo>
                    <a:lnTo>
                      <a:pt x="488" y="266"/>
                    </a:lnTo>
                    <a:lnTo>
                      <a:pt x="483" y="272"/>
                    </a:lnTo>
                    <a:lnTo>
                      <a:pt x="480" y="275"/>
                    </a:lnTo>
                    <a:lnTo>
                      <a:pt x="474" y="277"/>
                    </a:lnTo>
                    <a:lnTo>
                      <a:pt x="458" y="283"/>
                    </a:lnTo>
                    <a:lnTo>
                      <a:pt x="441" y="289"/>
                    </a:lnTo>
                    <a:lnTo>
                      <a:pt x="425" y="291"/>
                    </a:lnTo>
                    <a:lnTo>
                      <a:pt x="405" y="294"/>
                    </a:lnTo>
                    <a:lnTo>
                      <a:pt x="394" y="297"/>
                    </a:lnTo>
                    <a:lnTo>
                      <a:pt x="386" y="297"/>
                    </a:lnTo>
                    <a:lnTo>
                      <a:pt x="375" y="297"/>
                    </a:lnTo>
                    <a:lnTo>
                      <a:pt x="364" y="300"/>
                    </a:lnTo>
                    <a:lnTo>
                      <a:pt x="352" y="300"/>
                    </a:lnTo>
                    <a:lnTo>
                      <a:pt x="344" y="300"/>
                    </a:lnTo>
                    <a:lnTo>
                      <a:pt x="333" y="297"/>
                    </a:lnTo>
                    <a:lnTo>
                      <a:pt x="322" y="297"/>
                    </a:lnTo>
                    <a:lnTo>
                      <a:pt x="314" y="294"/>
                    </a:lnTo>
                    <a:lnTo>
                      <a:pt x="305" y="291"/>
                    </a:lnTo>
                    <a:lnTo>
                      <a:pt x="297" y="286"/>
                    </a:lnTo>
                    <a:lnTo>
                      <a:pt x="291" y="280"/>
                    </a:lnTo>
                    <a:lnTo>
                      <a:pt x="278" y="266"/>
                    </a:lnTo>
                    <a:lnTo>
                      <a:pt x="264" y="258"/>
                    </a:lnTo>
                    <a:lnTo>
                      <a:pt x="247" y="247"/>
                    </a:lnTo>
                    <a:lnTo>
                      <a:pt x="233" y="236"/>
                    </a:lnTo>
                    <a:lnTo>
                      <a:pt x="217" y="225"/>
                    </a:lnTo>
                    <a:lnTo>
                      <a:pt x="203" y="216"/>
                    </a:lnTo>
                    <a:lnTo>
                      <a:pt x="186" y="205"/>
                    </a:lnTo>
                    <a:lnTo>
                      <a:pt x="169" y="197"/>
                    </a:lnTo>
                    <a:lnTo>
                      <a:pt x="161" y="189"/>
                    </a:lnTo>
                    <a:lnTo>
                      <a:pt x="153" y="178"/>
                    </a:lnTo>
                    <a:lnTo>
                      <a:pt x="147" y="167"/>
                    </a:lnTo>
                    <a:lnTo>
                      <a:pt x="139" y="158"/>
                    </a:lnTo>
                    <a:lnTo>
                      <a:pt x="133" y="153"/>
                    </a:lnTo>
                    <a:lnTo>
                      <a:pt x="125" y="147"/>
                    </a:lnTo>
                    <a:lnTo>
                      <a:pt x="120" y="144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50"/>
                    </a:lnTo>
                    <a:lnTo>
                      <a:pt x="103" y="155"/>
                    </a:lnTo>
                    <a:lnTo>
                      <a:pt x="103" y="158"/>
                    </a:lnTo>
                    <a:lnTo>
                      <a:pt x="100" y="178"/>
                    </a:lnTo>
                    <a:lnTo>
                      <a:pt x="100" y="194"/>
                    </a:lnTo>
                    <a:lnTo>
                      <a:pt x="100" y="211"/>
                    </a:lnTo>
                    <a:lnTo>
                      <a:pt x="103" y="230"/>
                    </a:lnTo>
                    <a:lnTo>
                      <a:pt x="106" y="239"/>
                    </a:lnTo>
                    <a:lnTo>
                      <a:pt x="109" y="247"/>
                    </a:lnTo>
                    <a:lnTo>
                      <a:pt x="109" y="252"/>
                    </a:lnTo>
                    <a:lnTo>
                      <a:pt x="106" y="258"/>
                    </a:lnTo>
                    <a:lnTo>
                      <a:pt x="97" y="261"/>
                    </a:lnTo>
                    <a:lnTo>
                      <a:pt x="89" y="261"/>
                    </a:lnTo>
                    <a:lnTo>
                      <a:pt x="81" y="258"/>
                    </a:lnTo>
                    <a:lnTo>
                      <a:pt x="75" y="250"/>
                    </a:lnTo>
                    <a:lnTo>
                      <a:pt x="59" y="216"/>
                    </a:lnTo>
                    <a:lnTo>
                      <a:pt x="42" y="183"/>
                    </a:lnTo>
                    <a:lnTo>
                      <a:pt x="28" y="150"/>
                    </a:lnTo>
                    <a:lnTo>
                      <a:pt x="14" y="117"/>
                    </a:lnTo>
                    <a:lnTo>
                      <a:pt x="11" y="106"/>
                    </a:lnTo>
                    <a:lnTo>
                      <a:pt x="9" y="94"/>
                    </a:lnTo>
                    <a:lnTo>
                      <a:pt x="6" y="83"/>
                    </a:lnTo>
                    <a:lnTo>
                      <a:pt x="3" y="72"/>
                    </a:lnTo>
                    <a:lnTo>
                      <a:pt x="3" y="67"/>
                    </a:lnTo>
                    <a:lnTo>
                      <a:pt x="3" y="64"/>
                    </a:lnTo>
                    <a:lnTo>
                      <a:pt x="3" y="58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8080" y="3784680"/>
                <a:ext cx="853920" cy="449280"/>
              </a:xfrm>
              <a:custGeom>
                <a:avLst/>
                <a:gdLst/>
                <a:ahLst/>
                <a:rect l="l" t="t" r="r" b="b"/>
                <a:pathLst>
                  <a:path w="538" h="283">
                    <a:moveTo>
                      <a:pt x="416" y="9"/>
                    </a:moveTo>
                    <a:lnTo>
                      <a:pt x="433" y="11"/>
                    </a:lnTo>
                    <a:lnTo>
                      <a:pt x="447" y="17"/>
                    </a:lnTo>
                    <a:lnTo>
                      <a:pt x="463" y="20"/>
                    </a:lnTo>
                    <a:lnTo>
                      <a:pt x="480" y="25"/>
                    </a:lnTo>
                    <a:lnTo>
                      <a:pt x="494" y="31"/>
                    </a:lnTo>
                    <a:lnTo>
                      <a:pt x="508" y="36"/>
                    </a:lnTo>
                    <a:lnTo>
                      <a:pt x="521" y="45"/>
                    </a:lnTo>
                    <a:lnTo>
                      <a:pt x="535" y="53"/>
                    </a:lnTo>
                    <a:lnTo>
                      <a:pt x="535" y="58"/>
                    </a:lnTo>
                    <a:lnTo>
                      <a:pt x="538" y="61"/>
                    </a:lnTo>
                    <a:lnTo>
                      <a:pt x="538" y="67"/>
                    </a:lnTo>
                    <a:lnTo>
                      <a:pt x="535" y="72"/>
                    </a:lnTo>
                    <a:lnTo>
                      <a:pt x="527" y="75"/>
                    </a:lnTo>
                    <a:lnTo>
                      <a:pt x="521" y="78"/>
                    </a:lnTo>
                    <a:lnTo>
                      <a:pt x="513" y="78"/>
                    </a:lnTo>
                    <a:lnTo>
                      <a:pt x="505" y="78"/>
                    </a:lnTo>
                    <a:lnTo>
                      <a:pt x="485" y="70"/>
                    </a:lnTo>
                    <a:lnTo>
                      <a:pt x="466" y="64"/>
                    </a:lnTo>
                    <a:lnTo>
                      <a:pt x="444" y="61"/>
                    </a:lnTo>
                    <a:lnTo>
                      <a:pt x="422" y="58"/>
                    </a:lnTo>
                    <a:lnTo>
                      <a:pt x="400" y="56"/>
                    </a:lnTo>
                    <a:lnTo>
                      <a:pt x="377" y="56"/>
                    </a:lnTo>
                    <a:lnTo>
                      <a:pt x="355" y="56"/>
                    </a:lnTo>
                    <a:lnTo>
                      <a:pt x="333" y="53"/>
                    </a:lnTo>
                    <a:lnTo>
                      <a:pt x="294" y="58"/>
                    </a:lnTo>
                    <a:lnTo>
                      <a:pt x="255" y="67"/>
                    </a:lnTo>
                    <a:lnTo>
                      <a:pt x="217" y="78"/>
                    </a:lnTo>
                    <a:lnTo>
                      <a:pt x="181" y="92"/>
                    </a:lnTo>
                    <a:lnTo>
                      <a:pt x="144" y="111"/>
                    </a:lnTo>
                    <a:lnTo>
                      <a:pt x="111" y="133"/>
                    </a:lnTo>
                    <a:lnTo>
                      <a:pt x="83" y="158"/>
                    </a:lnTo>
                    <a:lnTo>
                      <a:pt x="59" y="189"/>
                    </a:lnTo>
                    <a:lnTo>
                      <a:pt x="47" y="211"/>
                    </a:lnTo>
                    <a:lnTo>
                      <a:pt x="36" y="233"/>
                    </a:lnTo>
                    <a:lnTo>
                      <a:pt x="25" y="255"/>
                    </a:lnTo>
                    <a:lnTo>
                      <a:pt x="20" y="280"/>
                    </a:lnTo>
                    <a:lnTo>
                      <a:pt x="17" y="283"/>
                    </a:lnTo>
                    <a:lnTo>
                      <a:pt x="14" y="283"/>
                    </a:lnTo>
                    <a:lnTo>
                      <a:pt x="11" y="283"/>
                    </a:lnTo>
                    <a:lnTo>
                      <a:pt x="9" y="280"/>
                    </a:lnTo>
                    <a:lnTo>
                      <a:pt x="0" y="269"/>
                    </a:lnTo>
                    <a:lnTo>
                      <a:pt x="0" y="255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9" y="200"/>
                    </a:lnTo>
                    <a:lnTo>
                      <a:pt x="20" y="172"/>
                    </a:lnTo>
                    <a:lnTo>
                      <a:pt x="31" y="147"/>
                    </a:lnTo>
                    <a:lnTo>
                      <a:pt x="47" y="125"/>
                    </a:lnTo>
                    <a:lnTo>
                      <a:pt x="64" y="106"/>
                    </a:lnTo>
                    <a:lnTo>
                      <a:pt x="86" y="86"/>
                    </a:lnTo>
                    <a:lnTo>
                      <a:pt x="108" y="72"/>
                    </a:lnTo>
                    <a:lnTo>
                      <a:pt x="133" y="58"/>
                    </a:lnTo>
                    <a:lnTo>
                      <a:pt x="153" y="47"/>
                    </a:lnTo>
                    <a:lnTo>
                      <a:pt x="169" y="39"/>
                    </a:lnTo>
                    <a:lnTo>
                      <a:pt x="186" y="28"/>
                    </a:lnTo>
                    <a:lnTo>
                      <a:pt x="205" y="20"/>
                    </a:lnTo>
                    <a:lnTo>
                      <a:pt x="222" y="17"/>
                    </a:lnTo>
                    <a:lnTo>
                      <a:pt x="239" y="11"/>
                    </a:lnTo>
                    <a:lnTo>
                      <a:pt x="255" y="9"/>
                    </a:lnTo>
                    <a:lnTo>
                      <a:pt x="272" y="6"/>
                    </a:lnTo>
                    <a:lnTo>
                      <a:pt x="289" y="3"/>
                    </a:lnTo>
                    <a:lnTo>
                      <a:pt x="305" y="3"/>
                    </a:lnTo>
                    <a:lnTo>
                      <a:pt x="322" y="3"/>
                    </a:lnTo>
                    <a:lnTo>
                      <a:pt x="339" y="3"/>
                    </a:lnTo>
                    <a:lnTo>
                      <a:pt x="358" y="0"/>
                    </a:lnTo>
                    <a:lnTo>
                      <a:pt x="377" y="0"/>
                    </a:lnTo>
                    <a:lnTo>
                      <a:pt x="397" y="3"/>
                    </a:lnTo>
                    <a:lnTo>
                      <a:pt x="4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4920" y="4114800"/>
                <a:ext cx="581040" cy="243000"/>
              </a:xfrm>
              <a:custGeom>
                <a:avLst/>
                <a:gdLst/>
                <a:ahLst/>
                <a:rect l="l" t="t" r="r" b="b"/>
                <a:pathLst>
                  <a:path w="366" h="153">
                    <a:moveTo>
                      <a:pt x="366" y="25"/>
                    </a:moveTo>
                    <a:lnTo>
                      <a:pt x="366" y="31"/>
                    </a:lnTo>
                    <a:lnTo>
                      <a:pt x="363" y="33"/>
                    </a:lnTo>
                    <a:lnTo>
                      <a:pt x="361" y="36"/>
                    </a:lnTo>
                    <a:lnTo>
                      <a:pt x="355" y="39"/>
                    </a:lnTo>
                    <a:lnTo>
                      <a:pt x="325" y="39"/>
                    </a:lnTo>
                    <a:lnTo>
                      <a:pt x="294" y="42"/>
                    </a:lnTo>
                    <a:lnTo>
                      <a:pt x="266" y="50"/>
                    </a:lnTo>
                    <a:lnTo>
                      <a:pt x="239" y="58"/>
                    </a:lnTo>
                    <a:lnTo>
                      <a:pt x="211" y="72"/>
                    </a:lnTo>
                    <a:lnTo>
                      <a:pt x="186" y="89"/>
                    </a:lnTo>
                    <a:lnTo>
                      <a:pt x="161" y="106"/>
                    </a:lnTo>
                    <a:lnTo>
                      <a:pt x="136" y="122"/>
                    </a:lnTo>
                    <a:lnTo>
                      <a:pt x="128" y="125"/>
                    </a:lnTo>
                    <a:lnTo>
                      <a:pt x="120" y="128"/>
                    </a:lnTo>
                    <a:lnTo>
                      <a:pt x="111" y="128"/>
                    </a:lnTo>
                    <a:lnTo>
                      <a:pt x="103" y="125"/>
                    </a:lnTo>
                    <a:lnTo>
                      <a:pt x="97" y="117"/>
                    </a:lnTo>
                    <a:lnTo>
                      <a:pt x="95" y="106"/>
                    </a:lnTo>
                    <a:lnTo>
                      <a:pt x="92" y="92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7" y="72"/>
                    </a:lnTo>
                    <a:lnTo>
                      <a:pt x="97" y="70"/>
                    </a:lnTo>
                    <a:lnTo>
                      <a:pt x="97" y="67"/>
                    </a:lnTo>
                    <a:lnTo>
                      <a:pt x="78" y="72"/>
                    </a:lnTo>
                    <a:lnTo>
                      <a:pt x="61" y="83"/>
                    </a:lnTo>
                    <a:lnTo>
                      <a:pt x="47" y="100"/>
                    </a:lnTo>
                    <a:lnTo>
                      <a:pt x="34" y="117"/>
                    </a:lnTo>
                    <a:lnTo>
                      <a:pt x="28" y="125"/>
                    </a:lnTo>
                    <a:lnTo>
                      <a:pt x="22" y="133"/>
                    </a:lnTo>
                    <a:lnTo>
                      <a:pt x="17" y="139"/>
                    </a:lnTo>
                    <a:lnTo>
                      <a:pt x="14" y="147"/>
                    </a:lnTo>
                    <a:lnTo>
                      <a:pt x="11" y="150"/>
                    </a:lnTo>
                    <a:lnTo>
                      <a:pt x="9" y="150"/>
                    </a:lnTo>
                    <a:lnTo>
                      <a:pt x="9" y="153"/>
                    </a:lnTo>
                    <a:lnTo>
                      <a:pt x="6" y="153"/>
                    </a:lnTo>
                    <a:lnTo>
                      <a:pt x="0" y="136"/>
                    </a:lnTo>
                    <a:lnTo>
                      <a:pt x="0" y="119"/>
                    </a:lnTo>
                    <a:lnTo>
                      <a:pt x="6" y="100"/>
                    </a:lnTo>
                    <a:lnTo>
                      <a:pt x="14" y="86"/>
                    </a:lnTo>
                    <a:lnTo>
                      <a:pt x="20" y="75"/>
                    </a:lnTo>
                    <a:lnTo>
                      <a:pt x="28" y="64"/>
                    </a:lnTo>
                    <a:lnTo>
                      <a:pt x="36" y="50"/>
                    </a:lnTo>
                    <a:lnTo>
                      <a:pt x="47" y="39"/>
                    </a:lnTo>
                    <a:lnTo>
                      <a:pt x="59" y="31"/>
                    </a:lnTo>
                    <a:lnTo>
                      <a:pt x="70" y="22"/>
                    </a:lnTo>
                    <a:lnTo>
                      <a:pt x="83" y="17"/>
                    </a:lnTo>
                    <a:lnTo>
                      <a:pt x="97" y="11"/>
                    </a:lnTo>
                    <a:lnTo>
                      <a:pt x="108" y="14"/>
                    </a:lnTo>
                    <a:lnTo>
                      <a:pt x="120" y="17"/>
                    </a:lnTo>
                    <a:lnTo>
                      <a:pt x="131" y="22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7" y="39"/>
                    </a:lnTo>
                    <a:lnTo>
                      <a:pt x="150" y="47"/>
                    </a:lnTo>
                    <a:lnTo>
                      <a:pt x="156" y="53"/>
                    </a:lnTo>
                    <a:lnTo>
                      <a:pt x="172" y="45"/>
                    </a:lnTo>
                    <a:lnTo>
                      <a:pt x="189" y="36"/>
                    </a:lnTo>
                    <a:lnTo>
                      <a:pt x="205" y="28"/>
                    </a:lnTo>
                    <a:lnTo>
                      <a:pt x="222" y="20"/>
                    </a:lnTo>
                    <a:lnTo>
                      <a:pt x="236" y="14"/>
                    </a:lnTo>
                    <a:lnTo>
                      <a:pt x="250" y="9"/>
                    </a:lnTo>
                    <a:lnTo>
                      <a:pt x="264" y="6"/>
                    </a:lnTo>
                    <a:lnTo>
                      <a:pt x="278" y="3"/>
                    </a:lnTo>
                    <a:lnTo>
                      <a:pt x="294" y="0"/>
                    </a:lnTo>
                    <a:lnTo>
                      <a:pt x="308" y="3"/>
                    </a:lnTo>
                    <a:lnTo>
                      <a:pt x="322" y="3"/>
                    </a:lnTo>
                    <a:lnTo>
                      <a:pt x="339" y="6"/>
                    </a:lnTo>
                    <a:lnTo>
                      <a:pt x="347" y="9"/>
                    </a:lnTo>
                    <a:lnTo>
                      <a:pt x="355" y="11"/>
                    </a:lnTo>
                    <a:lnTo>
                      <a:pt x="361" y="17"/>
                    </a:lnTo>
                    <a:lnTo>
                      <a:pt x="3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96920" y="4172040"/>
                <a:ext cx="295560" cy="925200"/>
              </a:xfrm>
              <a:custGeom>
                <a:avLst/>
                <a:gdLst/>
                <a:ahLst/>
                <a:rect l="l" t="t" r="r" b="b"/>
                <a:pathLst>
                  <a:path w="186" h="583">
                    <a:moveTo>
                      <a:pt x="20" y="9"/>
                    </a:moveTo>
                    <a:lnTo>
                      <a:pt x="25" y="45"/>
                    </a:lnTo>
                    <a:lnTo>
                      <a:pt x="36" y="75"/>
                    </a:lnTo>
                    <a:lnTo>
                      <a:pt x="50" y="106"/>
                    </a:lnTo>
                    <a:lnTo>
                      <a:pt x="67" y="133"/>
                    </a:lnTo>
                    <a:lnTo>
                      <a:pt x="83" y="164"/>
                    </a:lnTo>
                    <a:lnTo>
                      <a:pt x="100" y="192"/>
                    </a:lnTo>
                    <a:lnTo>
                      <a:pt x="117" y="222"/>
                    </a:lnTo>
                    <a:lnTo>
                      <a:pt x="131" y="253"/>
                    </a:lnTo>
                    <a:lnTo>
                      <a:pt x="144" y="283"/>
                    </a:lnTo>
                    <a:lnTo>
                      <a:pt x="156" y="314"/>
                    </a:lnTo>
                    <a:lnTo>
                      <a:pt x="169" y="344"/>
                    </a:lnTo>
                    <a:lnTo>
                      <a:pt x="181" y="377"/>
                    </a:lnTo>
                    <a:lnTo>
                      <a:pt x="186" y="422"/>
                    </a:lnTo>
                    <a:lnTo>
                      <a:pt x="181" y="466"/>
                    </a:lnTo>
                    <a:lnTo>
                      <a:pt x="169" y="505"/>
                    </a:lnTo>
                    <a:lnTo>
                      <a:pt x="150" y="541"/>
                    </a:lnTo>
                    <a:lnTo>
                      <a:pt x="136" y="555"/>
                    </a:lnTo>
                    <a:lnTo>
                      <a:pt x="120" y="572"/>
                    </a:lnTo>
                    <a:lnTo>
                      <a:pt x="103" y="583"/>
                    </a:lnTo>
                    <a:lnTo>
                      <a:pt x="81" y="583"/>
                    </a:lnTo>
                    <a:lnTo>
                      <a:pt x="86" y="563"/>
                    </a:lnTo>
                    <a:lnTo>
                      <a:pt x="97" y="547"/>
                    </a:lnTo>
                    <a:lnTo>
                      <a:pt x="111" y="533"/>
                    </a:lnTo>
                    <a:lnTo>
                      <a:pt x="117" y="513"/>
                    </a:lnTo>
                    <a:lnTo>
                      <a:pt x="125" y="474"/>
                    </a:lnTo>
                    <a:lnTo>
                      <a:pt x="128" y="436"/>
                    </a:lnTo>
                    <a:lnTo>
                      <a:pt x="125" y="397"/>
                    </a:lnTo>
                    <a:lnTo>
                      <a:pt x="114" y="358"/>
                    </a:lnTo>
                    <a:lnTo>
                      <a:pt x="103" y="322"/>
                    </a:lnTo>
                    <a:lnTo>
                      <a:pt x="86" y="286"/>
                    </a:lnTo>
                    <a:lnTo>
                      <a:pt x="67" y="253"/>
                    </a:lnTo>
                    <a:lnTo>
                      <a:pt x="45" y="222"/>
                    </a:lnTo>
                    <a:lnTo>
                      <a:pt x="28" y="194"/>
                    </a:lnTo>
                    <a:lnTo>
                      <a:pt x="14" y="164"/>
                    </a:lnTo>
                    <a:lnTo>
                      <a:pt x="3" y="133"/>
                    </a:lnTo>
                    <a:lnTo>
                      <a:pt x="0" y="100"/>
                    </a:lnTo>
                    <a:lnTo>
                      <a:pt x="0" y="78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51040" y="4273560"/>
                <a:ext cx="131760" cy="141120"/>
              </a:xfrm>
              <a:custGeom>
                <a:avLst/>
                <a:gdLst/>
                <a:ahLst/>
                <a:rect l="l" t="t" r="r" b="b"/>
                <a:pathLst>
                  <a:path w="83" h="89">
                    <a:moveTo>
                      <a:pt x="78" y="28"/>
                    </a:moveTo>
                    <a:lnTo>
                      <a:pt x="80" y="36"/>
                    </a:lnTo>
                    <a:lnTo>
                      <a:pt x="83" y="44"/>
                    </a:lnTo>
                    <a:lnTo>
                      <a:pt x="83" y="53"/>
                    </a:lnTo>
                    <a:lnTo>
                      <a:pt x="80" y="61"/>
                    </a:lnTo>
                    <a:lnTo>
                      <a:pt x="72" y="72"/>
                    </a:lnTo>
                    <a:lnTo>
                      <a:pt x="67" y="80"/>
                    </a:lnTo>
                    <a:lnTo>
                      <a:pt x="56" y="89"/>
                    </a:lnTo>
                    <a:lnTo>
                      <a:pt x="44" y="89"/>
                    </a:lnTo>
                    <a:lnTo>
                      <a:pt x="39" y="75"/>
                    </a:lnTo>
                    <a:lnTo>
                      <a:pt x="36" y="58"/>
                    </a:lnTo>
                    <a:lnTo>
                      <a:pt x="31" y="44"/>
                    </a:lnTo>
                    <a:lnTo>
                      <a:pt x="19" y="31"/>
                    </a:lnTo>
                    <a:lnTo>
                      <a:pt x="14" y="31"/>
                    </a:lnTo>
                    <a:lnTo>
                      <a:pt x="6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8" y="11"/>
                    </a:lnTo>
                    <a:lnTo>
                      <a:pt x="22" y="3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57560" y="4268880"/>
                <a:ext cx="330120" cy="1035000"/>
              </a:xfrm>
              <a:custGeom>
                <a:avLst/>
                <a:gdLst/>
                <a:ahLst/>
                <a:rect l="l" t="t" r="r" b="b"/>
                <a:pathLst>
                  <a:path w="208" h="652">
                    <a:moveTo>
                      <a:pt x="44" y="36"/>
                    </a:moveTo>
                    <a:lnTo>
                      <a:pt x="64" y="56"/>
                    </a:lnTo>
                    <a:lnTo>
                      <a:pt x="80" y="78"/>
                    </a:lnTo>
                    <a:lnTo>
                      <a:pt x="97" y="100"/>
                    </a:lnTo>
                    <a:lnTo>
                      <a:pt x="111" y="122"/>
                    </a:lnTo>
                    <a:lnTo>
                      <a:pt x="125" y="147"/>
                    </a:lnTo>
                    <a:lnTo>
                      <a:pt x="138" y="172"/>
                    </a:lnTo>
                    <a:lnTo>
                      <a:pt x="152" y="194"/>
                    </a:lnTo>
                    <a:lnTo>
                      <a:pt x="166" y="219"/>
                    </a:lnTo>
                    <a:lnTo>
                      <a:pt x="177" y="255"/>
                    </a:lnTo>
                    <a:lnTo>
                      <a:pt x="191" y="294"/>
                    </a:lnTo>
                    <a:lnTo>
                      <a:pt x="199" y="330"/>
                    </a:lnTo>
                    <a:lnTo>
                      <a:pt x="205" y="369"/>
                    </a:lnTo>
                    <a:lnTo>
                      <a:pt x="208" y="430"/>
                    </a:lnTo>
                    <a:lnTo>
                      <a:pt x="205" y="491"/>
                    </a:lnTo>
                    <a:lnTo>
                      <a:pt x="194" y="547"/>
                    </a:lnTo>
                    <a:lnTo>
                      <a:pt x="169" y="599"/>
                    </a:lnTo>
                    <a:lnTo>
                      <a:pt x="155" y="610"/>
                    </a:lnTo>
                    <a:lnTo>
                      <a:pt x="141" y="624"/>
                    </a:lnTo>
                    <a:lnTo>
                      <a:pt x="127" y="635"/>
                    </a:lnTo>
                    <a:lnTo>
                      <a:pt x="108" y="641"/>
                    </a:lnTo>
                    <a:lnTo>
                      <a:pt x="94" y="649"/>
                    </a:lnTo>
                    <a:lnTo>
                      <a:pt x="75" y="652"/>
                    </a:lnTo>
                    <a:lnTo>
                      <a:pt x="55" y="652"/>
                    </a:lnTo>
                    <a:lnTo>
                      <a:pt x="39" y="649"/>
                    </a:lnTo>
                    <a:lnTo>
                      <a:pt x="41" y="633"/>
                    </a:lnTo>
                    <a:lnTo>
                      <a:pt x="53" y="619"/>
                    </a:lnTo>
                    <a:lnTo>
                      <a:pt x="69" y="610"/>
                    </a:lnTo>
                    <a:lnTo>
                      <a:pt x="83" y="599"/>
                    </a:lnTo>
                    <a:lnTo>
                      <a:pt x="105" y="572"/>
                    </a:lnTo>
                    <a:lnTo>
                      <a:pt x="125" y="538"/>
                    </a:lnTo>
                    <a:lnTo>
                      <a:pt x="136" y="505"/>
                    </a:lnTo>
                    <a:lnTo>
                      <a:pt x="147" y="469"/>
                    </a:lnTo>
                    <a:lnTo>
                      <a:pt x="150" y="425"/>
                    </a:lnTo>
                    <a:lnTo>
                      <a:pt x="150" y="377"/>
                    </a:lnTo>
                    <a:lnTo>
                      <a:pt x="144" y="333"/>
                    </a:lnTo>
                    <a:lnTo>
                      <a:pt x="138" y="289"/>
                    </a:lnTo>
                    <a:lnTo>
                      <a:pt x="125" y="247"/>
                    </a:lnTo>
                    <a:lnTo>
                      <a:pt x="108" y="208"/>
                    </a:lnTo>
                    <a:lnTo>
                      <a:pt x="89" y="169"/>
                    </a:lnTo>
                    <a:lnTo>
                      <a:pt x="61" y="133"/>
                    </a:lnTo>
                    <a:lnTo>
                      <a:pt x="41" y="106"/>
                    </a:lnTo>
                    <a:lnTo>
                      <a:pt x="28" y="78"/>
                    </a:lnTo>
                    <a:lnTo>
                      <a:pt x="14" y="4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28" y="17"/>
                    </a:lnTo>
                    <a:lnTo>
                      <a:pt x="36" y="28"/>
                    </a:lnTo>
                    <a:lnTo>
                      <a:pt x="4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360" y="4383000"/>
                <a:ext cx="109440" cy="150840"/>
              </a:xfrm>
              <a:custGeom>
                <a:avLst/>
                <a:gdLst/>
                <a:ahLst/>
                <a:rect l="l" t="t" r="r" b="b"/>
                <a:pathLst>
                  <a:path w="69" h="95">
                    <a:moveTo>
                      <a:pt x="66" y="31"/>
                    </a:moveTo>
                    <a:lnTo>
                      <a:pt x="69" y="39"/>
                    </a:lnTo>
                    <a:lnTo>
                      <a:pt x="69" y="48"/>
                    </a:lnTo>
                    <a:lnTo>
                      <a:pt x="69" y="56"/>
                    </a:lnTo>
                    <a:lnTo>
                      <a:pt x="69" y="64"/>
                    </a:lnTo>
                    <a:lnTo>
                      <a:pt x="63" y="72"/>
                    </a:lnTo>
                    <a:lnTo>
                      <a:pt x="61" y="81"/>
                    </a:lnTo>
                    <a:lnTo>
                      <a:pt x="55" y="89"/>
                    </a:lnTo>
                    <a:lnTo>
                      <a:pt x="47" y="95"/>
                    </a:lnTo>
                    <a:lnTo>
                      <a:pt x="36" y="92"/>
                    </a:lnTo>
                    <a:lnTo>
                      <a:pt x="27" y="86"/>
                    </a:lnTo>
                    <a:lnTo>
                      <a:pt x="19" y="81"/>
                    </a:lnTo>
                    <a:lnTo>
                      <a:pt x="13" y="72"/>
                    </a:lnTo>
                    <a:lnTo>
                      <a:pt x="13" y="64"/>
                    </a:lnTo>
                    <a:lnTo>
                      <a:pt x="16" y="59"/>
                    </a:lnTo>
                    <a:lnTo>
                      <a:pt x="19" y="53"/>
                    </a:lnTo>
                    <a:lnTo>
                      <a:pt x="16" y="45"/>
                    </a:lnTo>
                    <a:lnTo>
                      <a:pt x="11" y="36"/>
                    </a:lnTo>
                    <a:lnTo>
                      <a:pt x="5" y="31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33" y="3"/>
                    </a:lnTo>
                    <a:lnTo>
                      <a:pt x="47" y="9"/>
                    </a:lnTo>
                    <a:lnTo>
                      <a:pt x="58" y="20"/>
                    </a:lnTo>
                    <a:lnTo>
                      <a:pt x="6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4760" y="4387680"/>
                <a:ext cx="245880" cy="357480"/>
              </a:xfrm>
              <a:custGeom>
                <a:avLst/>
                <a:gdLst/>
                <a:ahLst/>
                <a:rect l="l" t="t" r="r" b="b"/>
                <a:pathLst>
                  <a:path w="155" h="225">
                    <a:moveTo>
                      <a:pt x="44" y="11"/>
                    </a:moveTo>
                    <a:lnTo>
                      <a:pt x="44" y="47"/>
                    </a:lnTo>
                    <a:lnTo>
                      <a:pt x="44" y="83"/>
                    </a:lnTo>
                    <a:lnTo>
                      <a:pt x="44" y="122"/>
                    </a:lnTo>
                    <a:lnTo>
                      <a:pt x="41" y="158"/>
                    </a:lnTo>
                    <a:lnTo>
                      <a:pt x="41" y="161"/>
                    </a:lnTo>
                    <a:lnTo>
                      <a:pt x="44" y="164"/>
                    </a:lnTo>
                    <a:lnTo>
                      <a:pt x="50" y="167"/>
                    </a:lnTo>
                    <a:lnTo>
                      <a:pt x="52" y="169"/>
                    </a:lnTo>
                    <a:lnTo>
                      <a:pt x="66" y="169"/>
                    </a:lnTo>
                    <a:lnTo>
                      <a:pt x="80" y="167"/>
                    </a:lnTo>
                    <a:lnTo>
                      <a:pt x="91" y="161"/>
                    </a:lnTo>
                    <a:lnTo>
                      <a:pt x="105" y="158"/>
                    </a:lnTo>
                    <a:lnTo>
                      <a:pt x="116" y="155"/>
                    </a:lnTo>
                    <a:lnTo>
                      <a:pt x="130" y="150"/>
                    </a:lnTo>
                    <a:lnTo>
                      <a:pt x="141" y="147"/>
                    </a:lnTo>
                    <a:lnTo>
                      <a:pt x="155" y="147"/>
                    </a:lnTo>
                    <a:lnTo>
                      <a:pt x="155" y="164"/>
                    </a:lnTo>
                    <a:lnTo>
                      <a:pt x="147" y="172"/>
                    </a:lnTo>
                    <a:lnTo>
                      <a:pt x="133" y="183"/>
                    </a:lnTo>
                    <a:lnTo>
                      <a:pt x="119" y="191"/>
                    </a:lnTo>
                    <a:lnTo>
                      <a:pt x="102" y="200"/>
                    </a:lnTo>
                    <a:lnTo>
                      <a:pt x="88" y="208"/>
                    </a:lnTo>
                    <a:lnTo>
                      <a:pt x="72" y="216"/>
                    </a:lnTo>
                    <a:lnTo>
                      <a:pt x="55" y="225"/>
                    </a:lnTo>
                    <a:lnTo>
                      <a:pt x="39" y="225"/>
                    </a:lnTo>
                    <a:lnTo>
                      <a:pt x="27" y="216"/>
                    </a:lnTo>
                    <a:lnTo>
                      <a:pt x="14" y="208"/>
                    </a:lnTo>
                    <a:lnTo>
                      <a:pt x="5" y="194"/>
                    </a:lnTo>
                    <a:lnTo>
                      <a:pt x="0" y="147"/>
                    </a:lnTo>
                    <a:lnTo>
                      <a:pt x="5" y="100"/>
                    </a:lnTo>
                    <a:lnTo>
                      <a:pt x="14" y="56"/>
                    </a:lnTo>
                    <a:lnTo>
                      <a:pt x="19" y="8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8920" y="4400640"/>
                <a:ext cx="861840" cy="868320"/>
              </a:xfrm>
              <a:custGeom>
                <a:avLst/>
                <a:gdLst/>
                <a:ahLst/>
                <a:rect l="l" t="t" r="r" b="b"/>
                <a:pathLst>
                  <a:path w="543" h="547">
                    <a:moveTo>
                      <a:pt x="25" y="6"/>
                    </a:moveTo>
                    <a:lnTo>
                      <a:pt x="36" y="50"/>
                    </a:lnTo>
                    <a:lnTo>
                      <a:pt x="47" y="98"/>
                    </a:lnTo>
                    <a:lnTo>
                      <a:pt x="61" y="142"/>
                    </a:lnTo>
                    <a:lnTo>
                      <a:pt x="77" y="186"/>
                    </a:lnTo>
                    <a:lnTo>
                      <a:pt x="86" y="200"/>
                    </a:lnTo>
                    <a:lnTo>
                      <a:pt x="94" y="217"/>
                    </a:lnTo>
                    <a:lnTo>
                      <a:pt x="102" y="233"/>
                    </a:lnTo>
                    <a:lnTo>
                      <a:pt x="110" y="250"/>
                    </a:lnTo>
                    <a:lnTo>
                      <a:pt x="124" y="272"/>
                    </a:lnTo>
                    <a:lnTo>
                      <a:pt x="138" y="294"/>
                    </a:lnTo>
                    <a:lnTo>
                      <a:pt x="152" y="317"/>
                    </a:lnTo>
                    <a:lnTo>
                      <a:pt x="166" y="336"/>
                    </a:lnTo>
                    <a:lnTo>
                      <a:pt x="180" y="358"/>
                    </a:lnTo>
                    <a:lnTo>
                      <a:pt x="194" y="380"/>
                    </a:lnTo>
                    <a:lnTo>
                      <a:pt x="210" y="400"/>
                    </a:lnTo>
                    <a:lnTo>
                      <a:pt x="224" y="422"/>
                    </a:lnTo>
                    <a:lnTo>
                      <a:pt x="235" y="430"/>
                    </a:lnTo>
                    <a:lnTo>
                      <a:pt x="244" y="441"/>
                    </a:lnTo>
                    <a:lnTo>
                      <a:pt x="255" y="450"/>
                    </a:lnTo>
                    <a:lnTo>
                      <a:pt x="263" y="458"/>
                    </a:lnTo>
                    <a:lnTo>
                      <a:pt x="274" y="466"/>
                    </a:lnTo>
                    <a:lnTo>
                      <a:pt x="285" y="475"/>
                    </a:lnTo>
                    <a:lnTo>
                      <a:pt x="296" y="483"/>
                    </a:lnTo>
                    <a:lnTo>
                      <a:pt x="310" y="491"/>
                    </a:lnTo>
                    <a:lnTo>
                      <a:pt x="338" y="486"/>
                    </a:lnTo>
                    <a:lnTo>
                      <a:pt x="363" y="477"/>
                    </a:lnTo>
                    <a:lnTo>
                      <a:pt x="388" y="466"/>
                    </a:lnTo>
                    <a:lnTo>
                      <a:pt x="413" y="452"/>
                    </a:lnTo>
                    <a:lnTo>
                      <a:pt x="438" y="436"/>
                    </a:lnTo>
                    <a:lnTo>
                      <a:pt x="460" y="416"/>
                    </a:lnTo>
                    <a:lnTo>
                      <a:pt x="479" y="397"/>
                    </a:lnTo>
                    <a:lnTo>
                      <a:pt x="499" y="372"/>
                    </a:lnTo>
                    <a:lnTo>
                      <a:pt x="507" y="367"/>
                    </a:lnTo>
                    <a:lnTo>
                      <a:pt x="518" y="361"/>
                    </a:lnTo>
                    <a:lnTo>
                      <a:pt x="526" y="358"/>
                    </a:lnTo>
                    <a:lnTo>
                      <a:pt x="537" y="355"/>
                    </a:lnTo>
                    <a:lnTo>
                      <a:pt x="540" y="361"/>
                    </a:lnTo>
                    <a:lnTo>
                      <a:pt x="543" y="364"/>
                    </a:lnTo>
                    <a:lnTo>
                      <a:pt x="543" y="369"/>
                    </a:lnTo>
                    <a:lnTo>
                      <a:pt x="543" y="375"/>
                    </a:lnTo>
                    <a:lnTo>
                      <a:pt x="524" y="403"/>
                    </a:lnTo>
                    <a:lnTo>
                      <a:pt x="504" y="430"/>
                    </a:lnTo>
                    <a:lnTo>
                      <a:pt x="482" y="455"/>
                    </a:lnTo>
                    <a:lnTo>
                      <a:pt x="457" y="477"/>
                    </a:lnTo>
                    <a:lnTo>
                      <a:pt x="429" y="497"/>
                    </a:lnTo>
                    <a:lnTo>
                      <a:pt x="402" y="516"/>
                    </a:lnTo>
                    <a:lnTo>
                      <a:pt x="371" y="533"/>
                    </a:lnTo>
                    <a:lnTo>
                      <a:pt x="338" y="544"/>
                    </a:lnTo>
                    <a:lnTo>
                      <a:pt x="321" y="547"/>
                    </a:lnTo>
                    <a:lnTo>
                      <a:pt x="305" y="544"/>
                    </a:lnTo>
                    <a:lnTo>
                      <a:pt x="291" y="541"/>
                    </a:lnTo>
                    <a:lnTo>
                      <a:pt x="277" y="533"/>
                    </a:lnTo>
                    <a:lnTo>
                      <a:pt x="266" y="525"/>
                    </a:lnTo>
                    <a:lnTo>
                      <a:pt x="252" y="513"/>
                    </a:lnTo>
                    <a:lnTo>
                      <a:pt x="238" y="505"/>
                    </a:lnTo>
                    <a:lnTo>
                      <a:pt x="224" y="497"/>
                    </a:lnTo>
                    <a:lnTo>
                      <a:pt x="191" y="475"/>
                    </a:lnTo>
                    <a:lnTo>
                      <a:pt x="163" y="444"/>
                    </a:lnTo>
                    <a:lnTo>
                      <a:pt x="138" y="414"/>
                    </a:lnTo>
                    <a:lnTo>
                      <a:pt x="116" y="380"/>
                    </a:lnTo>
                    <a:lnTo>
                      <a:pt x="97" y="344"/>
                    </a:lnTo>
                    <a:lnTo>
                      <a:pt x="77" y="305"/>
                    </a:lnTo>
                    <a:lnTo>
                      <a:pt x="61" y="269"/>
                    </a:lnTo>
                    <a:lnTo>
                      <a:pt x="44" y="233"/>
                    </a:lnTo>
                    <a:lnTo>
                      <a:pt x="38" y="203"/>
                    </a:lnTo>
                    <a:lnTo>
                      <a:pt x="30" y="172"/>
                    </a:lnTo>
                    <a:lnTo>
                      <a:pt x="19" y="145"/>
                    </a:lnTo>
                    <a:lnTo>
                      <a:pt x="13" y="111"/>
                    </a:lnTo>
                    <a:lnTo>
                      <a:pt x="8" y="89"/>
                    </a:lnTo>
                    <a:lnTo>
                      <a:pt x="2" y="64"/>
                    </a:lnTo>
                    <a:lnTo>
                      <a:pt x="0" y="3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22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-122040" y="4410000"/>
                <a:ext cx="558720" cy="928800"/>
              </a:xfrm>
              <a:custGeom>
                <a:avLst/>
                <a:gdLst/>
                <a:ahLst/>
                <a:rect l="l" t="t" r="r" b="b"/>
                <a:pathLst>
                  <a:path w="352" h="585">
                    <a:moveTo>
                      <a:pt x="222" y="3"/>
                    </a:moveTo>
                    <a:lnTo>
                      <a:pt x="236" y="103"/>
                    </a:lnTo>
                    <a:lnTo>
                      <a:pt x="239" y="202"/>
                    </a:lnTo>
                    <a:lnTo>
                      <a:pt x="230" y="302"/>
                    </a:lnTo>
                    <a:lnTo>
                      <a:pt x="206" y="394"/>
                    </a:lnTo>
                    <a:lnTo>
                      <a:pt x="192" y="427"/>
                    </a:lnTo>
                    <a:lnTo>
                      <a:pt x="172" y="458"/>
                    </a:lnTo>
                    <a:lnTo>
                      <a:pt x="153" y="483"/>
                    </a:lnTo>
                    <a:lnTo>
                      <a:pt x="131" y="510"/>
                    </a:lnTo>
                    <a:lnTo>
                      <a:pt x="133" y="519"/>
                    </a:lnTo>
                    <a:lnTo>
                      <a:pt x="142" y="524"/>
                    </a:lnTo>
                    <a:lnTo>
                      <a:pt x="153" y="530"/>
                    </a:lnTo>
                    <a:lnTo>
                      <a:pt x="161" y="532"/>
                    </a:lnTo>
                    <a:lnTo>
                      <a:pt x="183" y="538"/>
                    </a:lnTo>
                    <a:lnTo>
                      <a:pt x="208" y="541"/>
                    </a:lnTo>
                    <a:lnTo>
                      <a:pt x="233" y="544"/>
                    </a:lnTo>
                    <a:lnTo>
                      <a:pt x="258" y="544"/>
                    </a:lnTo>
                    <a:lnTo>
                      <a:pt x="280" y="544"/>
                    </a:lnTo>
                    <a:lnTo>
                      <a:pt x="305" y="544"/>
                    </a:lnTo>
                    <a:lnTo>
                      <a:pt x="330" y="544"/>
                    </a:lnTo>
                    <a:lnTo>
                      <a:pt x="352" y="544"/>
                    </a:lnTo>
                    <a:lnTo>
                      <a:pt x="352" y="546"/>
                    </a:lnTo>
                    <a:lnTo>
                      <a:pt x="352" y="549"/>
                    </a:lnTo>
                    <a:lnTo>
                      <a:pt x="352" y="555"/>
                    </a:lnTo>
                    <a:lnTo>
                      <a:pt x="352" y="557"/>
                    </a:lnTo>
                    <a:lnTo>
                      <a:pt x="339" y="566"/>
                    </a:lnTo>
                    <a:lnTo>
                      <a:pt x="322" y="571"/>
                    </a:lnTo>
                    <a:lnTo>
                      <a:pt x="305" y="574"/>
                    </a:lnTo>
                    <a:lnTo>
                      <a:pt x="289" y="574"/>
                    </a:lnTo>
                    <a:lnTo>
                      <a:pt x="269" y="577"/>
                    </a:lnTo>
                    <a:lnTo>
                      <a:pt x="253" y="577"/>
                    </a:lnTo>
                    <a:lnTo>
                      <a:pt x="236" y="580"/>
                    </a:lnTo>
                    <a:lnTo>
                      <a:pt x="219" y="582"/>
                    </a:lnTo>
                    <a:lnTo>
                      <a:pt x="194" y="585"/>
                    </a:lnTo>
                    <a:lnTo>
                      <a:pt x="170" y="585"/>
                    </a:lnTo>
                    <a:lnTo>
                      <a:pt x="147" y="582"/>
                    </a:lnTo>
                    <a:lnTo>
                      <a:pt x="125" y="580"/>
                    </a:lnTo>
                    <a:lnTo>
                      <a:pt x="103" y="574"/>
                    </a:lnTo>
                    <a:lnTo>
                      <a:pt x="81" y="568"/>
                    </a:lnTo>
                    <a:lnTo>
                      <a:pt x="61" y="560"/>
                    </a:lnTo>
                    <a:lnTo>
                      <a:pt x="42" y="549"/>
                    </a:lnTo>
                    <a:lnTo>
                      <a:pt x="31" y="538"/>
                    </a:lnTo>
                    <a:lnTo>
                      <a:pt x="23" y="527"/>
                    </a:lnTo>
                    <a:lnTo>
                      <a:pt x="11" y="516"/>
                    </a:lnTo>
                    <a:lnTo>
                      <a:pt x="3" y="505"/>
                    </a:lnTo>
                    <a:lnTo>
                      <a:pt x="0" y="502"/>
                    </a:lnTo>
                    <a:lnTo>
                      <a:pt x="0" y="499"/>
                    </a:lnTo>
                    <a:lnTo>
                      <a:pt x="0" y="496"/>
                    </a:lnTo>
                    <a:lnTo>
                      <a:pt x="3" y="494"/>
                    </a:lnTo>
                    <a:lnTo>
                      <a:pt x="23" y="491"/>
                    </a:lnTo>
                    <a:lnTo>
                      <a:pt x="42" y="485"/>
                    </a:lnTo>
                    <a:lnTo>
                      <a:pt x="61" y="480"/>
                    </a:lnTo>
                    <a:lnTo>
                      <a:pt x="81" y="474"/>
                    </a:lnTo>
                    <a:lnTo>
                      <a:pt x="97" y="466"/>
                    </a:lnTo>
                    <a:lnTo>
                      <a:pt x="114" y="455"/>
                    </a:lnTo>
                    <a:lnTo>
                      <a:pt x="128" y="438"/>
                    </a:lnTo>
                    <a:lnTo>
                      <a:pt x="139" y="422"/>
                    </a:lnTo>
                    <a:lnTo>
                      <a:pt x="175" y="344"/>
                    </a:lnTo>
                    <a:lnTo>
                      <a:pt x="189" y="255"/>
                    </a:lnTo>
                    <a:lnTo>
                      <a:pt x="192" y="166"/>
                    </a:lnTo>
                    <a:lnTo>
                      <a:pt x="197" y="75"/>
                    </a:lnTo>
                    <a:lnTo>
                      <a:pt x="197" y="55"/>
                    </a:lnTo>
                    <a:lnTo>
                      <a:pt x="200" y="36"/>
                    </a:lnTo>
                    <a:lnTo>
                      <a:pt x="203" y="17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1640" y="4788000"/>
                <a:ext cx="295560" cy="207720"/>
              </a:xfrm>
              <a:custGeom>
                <a:avLst/>
                <a:gdLst/>
                <a:ahLst/>
                <a:rect l="l" t="t" r="r" b="b"/>
                <a:pathLst>
                  <a:path w="186" h="131">
                    <a:moveTo>
                      <a:pt x="183" y="14"/>
                    </a:moveTo>
                    <a:lnTo>
                      <a:pt x="169" y="28"/>
                    </a:lnTo>
                    <a:lnTo>
                      <a:pt x="158" y="45"/>
                    </a:lnTo>
                    <a:lnTo>
                      <a:pt x="150" y="61"/>
                    </a:lnTo>
                    <a:lnTo>
                      <a:pt x="141" y="81"/>
                    </a:lnTo>
                    <a:lnTo>
                      <a:pt x="133" y="98"/>
                    </a:lnTo>
                    <a:lnTo>
                      <a:pt x="122" y="111"/>
                    </a:lnTo>
                    <a:lnTo>
                      <a:pt x="108" y="123"/>
                    </a:lnTo>
                    <a:lnTo>
                      <a:pt x="91" y="131"/>
                    </a:lnTo>
                    <a:lnTo>
                      <a:pt x="77" y="125"/>
                    </a:lnTo>
                    <a:lnTo>
                      <a:pt x="64" y="117"/>
                    </a:lnTo>
                    <a:lnTo>
                      <a:pt x="52" y="109"/>
                    </a:lnTo>
                    <a:lnTo>
                      <a:pt x="41" y="98"/>
                    </a:lnTo>
                    <a:lnTo>
                      <a:pt x="30" y="86"/>
                    </a:lnTo>
                    <a:lnTo>
                      <a:pt x="19" y="75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3" y="45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33" y="39"/>
                    </a:lnTo>
                    <a:lnTo>
                      <a:pt x="55" y="37"/>
                    </a:lnTo>
                    <a:lnTo>
                      <a:pt x="75" y="34"/>
                    </a:lnTo>
                    <a:lnTo>
                      <a:pt x="94" y="28"/>
                    </a:lnTo>
                    <a:lnTo>
                      <a:pt x="113" y="23"/>
                    </a:lnTo>
                    <a:lnTo>
                      <a:pt x="133" y="17"/>
                    </a:lnTo>
                    <a:lnTo>
                      <a:pt x="152" y="9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3" y="3"/>
                    </a:lnTo>
                    <a:lnTo>
                      <a:pt x="186" y="9"/>
                    </a:lnTo>
                    <a:lnTo>
                      <a:pt x="18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6680" y="5303880"/>
                <a:ext cx="404640" cy="268200"/>
              </a:xfrm>
              <a:custGeom>
                <a:avLst/>
                <a:gdLst/>
                <a:ahLst/>
                <a:rect l="l" t="t" r="r" b="b"/>
                <a:pathLst>
                  <a:path w="255" h="169">
                    <a:moveTo>
                      <a:pt x="52" y="19"/>
                    </a:moveTo>
                    <a:lnTo>
                      <a:pt x="52" y="39"/>
                    </a:lnTo>
                    <a:lnTo>
                      <a:pt x="55" y="58"/>
                    </a:lnTo>
                    <a:lnTo>
                      <a:pt x="63" y="75"/>
                    </a:lnTo>
                    <a:lnTo>
                      <a:pt x="72" y="91"/>
                    </a:lnTo>
                    <a:lnTo>
                      <a:pt x="83" y="103"/>
                    </a:lnTo>
                    <a:lnTo>
                      <a:pt x="97" y="108"/>
                    </a:lnTo>
                    <a:lnTo>
                      <a:pt x="110" y="114"/>
                    </a:lnTo>
                    <a:lnTo>
                      <a:pt x="124" y="116"/>
                    </a:lnTo>
                    <a:lnTo>
                      <a:pt x="141" y="119"/>
                    </a:lnTo>
                    <a:lnTo>
                      <a:pt x="155" y="119"/>
                    </a:lnTo>
                    <a:lnTo>
                      <a:pt x="171" y="116"/>
                    </a:lnTo>
                    <a:lnTo>
                      <a:pt x="185" y="111"/>
                    </a:lnTo>
                    <a:lnTo>
                      <a:pt x="199" y="103"/>
                    </a:lnTo>
                    <a:lnTo>
                      <a:pt x="213" y="94"/>
                    </a:lnTo>
                    <a:lnTo>
                      <a:pt x="230" y="91"/>
                    </a:lnTo>
                    <a:lnTo>
                      <a:pt x="246" y="89"/>
                    </a:lnTo>
                    <a:lnTo>
                      <a:pt x="255" y="97"/>
                    </a:lnTo>
                    <a:lnTo>
                      <a:pt x="252" y="105"/>
                    </a:lnTo>
                    <a:lnTo>
                      <a:pt x="246" y="114"/>
                    </a:lnTo>
                    <a:lnTo>
                      <a:pt x="244" y="122"/>
                    </a:lnTo>
                    <a:lnTo>
                      <a:pt x="232" y="133"/>
                    </a:lnTo>
                    <a:lnTo>
                      <a:pt x="221" y="144"/>
                    </a:lnTo>
                    <a:lnTo>
                      <a:pt x="207" y="152"/>
                    </a:lnTo>
                    <a:lnTo>
                      <a:pt x="194" y="161"/>
                    </a:lnTo>
                    <a:lnTo>
                      <a:pt x="180" y="166"/>
                    </a:lnTo>
                    <a:lnTo>
                      <a:pt x="166" y="169"/>
                    </a:lnTo>
                    <a:lnTo>
                      <a:pt x="149" y="169"/>
                    </a:lnTo>
                    <a:lnTo>
                      <a:pt x="133" y="166"/>
                    </a:lnTo>
                    <a:lnTo>
                      <a:pt x="113" y="166"/>
                    </a:lnTo>
                    <a:lnTo>
                      <a:pt x="97" y="164"/>
                    </a:lnTo>
                    <a:lnTo>
                      <a:pt x="80" y="158"/>
                    </a:lnTo>
                    <a:lnTo>
                      <a:pt x="66" y="152"/>
                    </a:lnTo>
                    <a:lnTo>
                      <a:pt x="52" y="144"/>
                    </a:lnTo>
                    <a:lnTo>
                      <a:pt x="38" y="133"/>
                    </a:lnTo>
                    <a:lnTo>
                      <a:pt x="25" y="122"/>
                    </a:lnTo>
                    <a:lnTo>
                      <a:pt x="13" y="108"/>
                    </a:lnTo>
                    <a:lnTo>
                      <a:pt x="8" y="83"/>
                    </a:lnTo>
                    <a:lnTo>
                      <a:pt x="2" y="58"/>
                    </a:lnTo>
                    <a:lnTo>
                      <a:pt x="0" y="36"/>
                    </a:lnTo>
                    <a:lnTo>
                      <a:pt x="11" y="14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47" y="5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90880" y="5351400"/>
                <a:ext cx="1768320" cy="1027080"/>
              </a:xfrm>
              <a:custGeom>
                <a:avLst/>
                <a:gdLst/>
                <a:ahLst/>
                <a:rect l="l" t="t" r="r" b="b"/>
                <a:pathLst>
                  <a:path w="1114" h="647">
                    <a:moveTo>
                      <a:pt x="296" y="203"/>
                    </a:moveTo>
                    <a:lnTo>
                      <a:pt x="313" y="217"/>
                    </a:lnTo>
                    <a:lnTo>
                      <a:pt x="329" y="231"/>
                    </a:lnTo>
                    <a:lnTo>
                      <a:pt x="343" y="244"/>
                    </a:lnTo>
                    <a:lnTo>
                      <a:pt x="360" y="261"/>
                    </a:lnTo>
                    <a:lnTo>
                      <a:pt x="374" y="275"/>
                    </a:lnTo>
                    <a:lnTo>
                      <a:pt x="388" y="289"/>
                    </a:lnTo>
                    <a:lnTo>
                      <a:pt x="404" y="305"/>
                    </a:lnTo>
                    <a:lnTo>
                      <a:pt x="421" y="319"/>
                    </a:lnTo>
                    <a:lnTo>
                      <a:pt x="438" y="336"/>
                    </a:lnTo>
                    <a:lnTo>
                      <a:pt x="454" y="353"/>
                    </a:lnTo>
                    <a:lnTo>
                      <a:pt x="471" y="369"/>
                    </a:lnTo>
                    <a:lnTo>
                      <a:pt x="493" y="383"/>
                    </a:lnTo>
                    <a:lnTo>
                      <a:pt x="512" y="397"/>
                    </a:lnTo>
                    <a:lnTo>
                      <a:pt x="535" y="408"/>
                    </a:lnTo>
                    <a:lnTo>
                      <a:pt x="557" y="419"/>
                    </a:lnTo>
                    <a:lnTo>
                      <a:pt x="582" y="428"/>
                    </a:lnTo>
                    <a:lnTo>
                      <a:pt x="609" y="436"/>
                    </a:lnTo>
                    <a:lnTo>
                      <a:pt x="637" y="444"/>
                    </a:lnTo>
                    <a:lnTo>
                      <a:pt x="665" y="450"/>
                    </a:lnTo>
                    <a:lnTo>
                      <a:pt x="695" y="455"/>
                    </a:lnTo>
                    <a:lnTo>
                      <a:pt x="726" y="458"/>
                    </a:lnTo>
                    <a:lnTo>
                      <a:pt x="754" y="461"/>
                    </a:lnTo>
                    <a:lnTo>
                      <a:pt x="784" y="458"/>
                    </a:lnTo>
                    <a:lnTo>
                      <a:pt x="815" y="452"/>
                    </a:lnTo>
                    <a:lnTo>
                      <a:pt x="840" y="447"/>
                    </a:lnTo>
                    <a:lnTo>
                      <a:pt x="867" y="444"/>
                    </a:lnTo>
                    <a:lnTo>
                      <a:pt x="892" y="439"/>
                    </a:lnTo>
                    <a:lnTo>
                      <a:pt x="917" y="433"/>
                    </a:lnTo>
                    <a:lnTo>
                      <a:pt x="942" y="428"/>
                    </a:lnTo>
                    <a:lnTo>
                      <a:pt x="967" y="419"/>
                    </a:lnTo>
                    <a:lnTo>
                      <a:pt x="989" y="411"/>
                    </a:lnTo>
                    <a:lnTo>
                      <a:pt x="1014" y="403"/>
                    </a:lnTo>
                    <a:lnTo>
                      <a:pt x="1034" y="400"/>
                    </a:lnTo>
                    <a:lnTo>
                      <a:pt x="1053" y="400"/>
                    </a:lnTo>
                    <a:lnTo>
                      <a:pt x="1072" y="403"/>
                    </a:lnTo>
                    <a:lnTo>
                      <a:pt x="1086" y="414"/>
                    </a:lnTo>
                    <a:lnTo>
                      <a:pt x="1086" y="428"/>
                    </a:lnTo>
                    <a:lnTo>
                      <a:pt x="1092" y="436"/>
                    </a:lnTo>
                    <a:lnTo>
                      <a:pt x="1100" y="447"/>
                    </a:lnTo>
                    <a:lnTo>
                      <a:pt x="1103" y="458"/>
                    </a:lnTo>
                    <a:lnTo>
                      <a:pt x="1114" y="505"/>
                    </a:lnTo>
                    <a:lnTo>
                      <a:pt x="1114" y="552"/>
                    </a:lnTo>
                    <a:lnTo>
                      <a:pt x="1103" y="599"/>
                    </a:lnTo>
                    <a:lnTo>
                      <a:pt x="1089" y="644"/>
                    </a:lnTo>
                    <a:lnTo>
                      <a:pt x="1086" y="644"/>
                    </a:lnTo>
                    <a:lnTo>
                      <a:pt x="1081" y="647"/>
                    </a:lnTo>
                    <a:lnTo>
                      <a:pt x="1078" y="647"/>
                    </a:lnTo>
                    <a:lnTo>
                      <a:pt x="1072" y="647"/>
                    </a:lnTo>
                    <a:lnTo>
                      <a:pt x="1070" y="633"/>
                    </a:lnTo>
                    <a:lnTo>
                      <a:pt x="1070" y="616"/>
                    </a:lnTo>
                    <a:lnTo>
                      <a:pt x="1072" y="599"/>
                    </a:lnTo>
                    <a:lnTo>
                      <a:pt x="1075" y="586"/>
                    </a:lnTo>
                    <a:lnTo>
                      <a:pt x="1072" y="552"/>
                    </a:lnTo>
                    <a:lnTo>
                      <a:pt x="1064" y="516"/>
                    </a:lnTo>
                    <a:lnTo>
                      <a:pt x="1053" y="486"/>
                    </a:lnTo>
                    <a:lnTo>
                      <a:pt x="1028" y="464"/>
                    </a:lnTo>
                    <a:lnTo>
                      <a:pt x="1014" y="461"/>
                    </a:lnTo>
                    <a:lnTo>
                      <a:pt x="998" y="464"/>
                    </a:lnTo>
                    <a:lnTo>
                      <a:pt x="984" y="466"/>
                    </a:lnTo>
                    <a:lnTo>
                      <a:pt x="970" y="469"/>
                    </a:lnTo>
                    <a:lnTo>
                      <a:pt x="956" y="475"/>
                    </a:lnTo>
                    <a:lnTo>
                      <a:pt x="942" y="477"/>
                    </a:lnTo>
                    <a:lnTo>
                      <a:pt x="928" y="483"/>
                    </a:lnTo>
                    <a:lnTo>
                      <a:pt x="914" y="483"/>
                    </a:lnTo>
                    <a:lnTo>
                      <a:pt x="895" y="486"/>
                    </a:lnTo>
                    <a:lnTo>
                      <a:pt x="878" y="489"/>
                    </a:lnTo>
                    <a:lnTo>
                      <a:pt x="859" y="491"/>
                    </a:lnTo>
                    <a:lnTo>
                      <a:pt x="840" y="494"/>
                    </a:lnTo>
                    <a:lnTo>
                      <a:pt x="820" y="497"/>
                    </a:lnTo>
                    <a:lnTo>
                      <a:pt x="803" y="500"/>
                    </a:lnTo>
                    <a:lnTo>
                      <a:pt x="784" y="502"/>
                    </a:lnTo>
                    <a:lnTo>
                      <a:pt x="767" y="508"/>
                    </a:lnTo>
                    <a:lnTo>
                      <a:pt x="729" y="508"/>
                    </a:lnTo>
                    <a:lnTo>
                      <a:pt x="693" y="508"/>
                    </a:lnTo>
                    <a:lnTo>
                      <a:pt x="654" y="508"/>
                    </a:lnTo>
                    <a:lnTo>
                      <a:pt x="618" y="502"/>
                    </a:lnTo>
                    <a:lnTo>
                      <a:pt x="582" y="494"/>
                    </a:lnTo>
                    <a:lnTo>
                      <a:pt x="548" y="483"/>
                    </a:lnTo>
                    <a:lnTo>
                      <a:pt x="515" y="469"/>
                    </a:lnTo>
                    <a:lnTo>
                      <a:pt x="485" y="450"/>
                    </a:lnTo>
                    <a:lnTo>
                      <a:pt x="449" y="428"/>
                    </a:lnTo>
                    <a:lnTo>
                      <a:pt x="418" y="400"/>
                    </a:lnTo>
                    <a:lnTo>
                      <a:pt x="388" y="369"/>
                    </a:lnTo>
                    <a:lnTo>
                      <a:pt x="360" y="339"/>
                    </a:lnTo>
                    <a:lnTo>
                      <a:pt x="332" y="308"/>
                    </a:lnTo>
                    <a:lnTo>
                      <a:pt x="304" y="275"/>
                    </a:lnTo>
                    <a:lnTo>
                      <a:pt x="280" y="242"/>
                    </a:lnTo>
                    <a:lnTo>
                      <a:pt x="252" y="208"/>
                    </a:lnTo>
                    <a:lnTo>
                      <a:pt x="230" y="181"/>
                    </a:lnTo>
                    <a:lnTo>
                      <a:pt x="205" y="156"/>
                    </a:lnTo>
                    <a:lnTo>
                      <a:pt x="177" y="134"/>
                    </a:lnTo>
                    <a:lnTo>
                      <a:pt x="149" y="111"/>
                    </a:lnTo>
                    <a:lnTo>
                      <a:pt x="122" y="92"/>
                    </a:lnTo>
                    <a:lnTo>
                      <a:pt x="91" y="75"/>
                    </a:lnTo>
                    <a:lnTo>
                      <a:pt x="61" y="59"/>
                    </a:lnTo>
                    <a:lnTo>
                      <a:pt x="27" y="42"/>
                    </a:lnTo>
                    <a:lnTo>
                      <a:pt x="19" y="34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2" y="6"/>
                    </a:lnTo>
                    <a:lnTo>
                      <a:pt x="13" y="3"/>
                    </a:lnTo>
                    <a:lnTo>
                      <a:pt x="30" y="0"/>
                    </a:lnTo>
                    <a:lnTo>
                      <a:pt x="44" y="3"/>
                    </a:lnTo>
                    <a:lnTo>
                      <a:pt x="61" y="6"/>
                    </a:lnTo>
                    <a:lnTo>
                      <a:pt x="97" y="20"/>
                    </a:lnTo>
                    <a:lnTo>
                      <a:pt x="133" y="36"/>
                    </a:lnTo>
                    <a:lnTo>
                      <a:pt x="163" y="59"/>
                    </a:lnTo>
                    <a:lnTo>
                      <a:pt x="194" y="84"/>
                    </a:lnTo>
                    <a:lnTo>
                      <a:pt x="221" y="111"/>
                    </a:lnTo>
                    <a:lnTo>
                      <a:pt x="249" y="142"/>
                    </a:lnTo>
                    <a:lnTo>
                      <a:pt x="274" y="172"/>
                    </a:lnTo>
                    <a:lnTo>
                      <a:pt x="29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-104760" y="5370480"/>
                <a:ext cx="722520" cy="1117440"/>
              </a:xfrm>
              <a:custGeom>
                <a:avLst/>
                <a:gdLst/>
                <a:ahLst/>
                <a:rect l="l" t="t" r="r" b="b"/>
                <a:pathLst>
                  <a:path w="455" h="704">
                    <a:moveTo>
                      <a:pt x="455" y="8"/>
                    </a:moveTo>
                    <a:lnTo>
                      <a:pt x="441" y="33"/>
                    </a:lnTo>
                    <a:lnTo>
                      <a:pt x="422" y="55"/>
                    </a:lnTo>
                    <a:lnTo>
                      <a:pt x="400" y="74"/>
                    </a:lnTo>
                    <a:lnTo>
                      <a:pt x="378" y="94"/>
                    </a:lnTo>
                    <a:lnTo>
                      <a:pt x="369" y="108"/>
                    </a:lnTo>
                    <a:lnTo>
                      <a:pt x="358" y="122"/>
                    </a:lnTo>
                    <a:lnTo>
                      <a:pt x="344" y="133"/>
                    </a:lnTo>
                    <a:lnTo>
                      <a:pt x="330" y="144"/>
                    </a:lnTo>
                    <a:lnTo>
                      <a:pt x="305" y="169"/>
                    </a:lnTo>
                    <a:lnTo>
                      <a:pt x="286" y="196"/>
                    </a:lnTo>
                    <a:lnTo>
                      <a:pt x="267" y="227"/>
                    </a:lnTo>
                    <a:lnTo>
                      <a:pt x="247" y="255"/>
                    </a:lnTo>
                    <a:lnTo>
                      <a:pt x="228" y="285"/>
                    </a:lnTo>
                    <a:lnTo>
                      <a:pt x="211" y="316"/>
                    </a:lnTo>
                    <a:lnTo>
                      <a:pt x="192" y="343"/>
                    </a:lnTo>
                    <a:lnTo>
                      <a:pt x="172" y="371"/>
                    </a:lnTo>
                    <a:lnTo>
                      <a:pt x="153" y="410"/>
                    </a:lnTo>
                    <a:lnTo>
                      <a:pt x="136" y="446"/>
                    </a:lnTo>
                    <a:lnTo>
                      <a:pt x="120" y="485"/>
                    </a:lnTo>
                    <a:lnTo>
                      <a:pt x="103" y="521"/>
                    </a:lnTo>
                    <a:lnTo>
                      <a:pt x="89" y="560"/>
                    </a:lnTo>
                    <a:lnTo>
                      <a:pt x="75" y="599"/>
                    </a:lnTo>
                    <a:lnTo>
                      <a:pt x="61" y="640"/>
                    </a:lnTo>
                    <a:lnTo>
                      <a:pt x="50" y="679"/>
                    </a:lnTo>
                    <a:lnTo>
                      <a:pt x="48" y="684"/>
                    </a:lnTo>
                    <a:lnTo>
                      <a:pt x="45" y="690"/>
                    </a:lnTo>
                    <a:lnTo>
                      <a:pt x="39" y="696"/>
                    </a:lnTo>
                    <a:lnTo>
                      <a:pt x="37" y="701"/>
                    </a:lnTo>
                    <a:lnTo>
                      <a:pt x="6" y="704"/>
                    </a:lnTo>
                    <a:lnTo>
                      <a:pt x="6" y="701"/>
                    </a:lnTo>
                    <a:lnTo>
                      <a:pt x="6" y="698"/>
                    </a:lnTo>
                    <a:lnTo>
                      <a:pt x="3" y="698"/>
                    </a:lnTo>
                    <a:lnTo>
                      <a:pt x="3" y="696"/>
                    </a:lnTo>
                    <a:lnTo>
                      <a:pt x="0" y="696"/>
                    </a:lnTo>
                    <a:lnTo>
                      <a:pt x="9" y="668"/>
                    </a:lnTo>
                    <a:lnTo>
                      <a:pt x="12" y="637"/>
                    </a:lnTo>
                    <a:lnTo>
                      <a:pt x="14" y="607"/>
                    </a:lnTo>
                    <a:lnTo>
                      <a:pt x="23" y="576"/>
                    </a:lnTo>
                    <a:lnTo>
                      <a:pt x="25" y="557"/>
                    </a:lnTo>
                    <a:lnTo>
                      <a:pt x="34" y="538"/>
                    </a:lnTo>
                    <a:lnTo>
                      <a:pt x="42" y="521"/>
                    </a:lnTo>
                    <a:lnTo>
                      <a:pt x="45" y="501"/>
                    </a:lnTo>
                    <a:lnTo>
                      <a:pt x="56" y="471"/>
                    </a:lnTo>
                    <a:lnTo>
                      <a:pt x="73" y="440"/>
                    </a:lnTo>
                    <a:lnTo>
                      <a:pt x="86" y="413"/>
                    </a:lnTo>
                    <a:lnTo>
                      <a:pt x="103" y="382"/>
                    </a:lnTo>
                    <a:lnTo>
                      <a:pt x="114" y="352"/>
                    </a:lnTo>
                    <a:lnTo>
                      <a:pt x="131" y="324"/>
                    </a:lnTo>
                    <a:lnTo>
                      <a:pt x="150" y="296"/>
                    </a:lnTo>
                    <a:lnTo>
                      <a:pt x="170" y="269"/>
                    </a:lnTo>
                    <a:lnTo>
                      <a:pt x="186" y="249"/>
                    </a:lnTo>
                    <a:lnTo>
                      <a:pt x="203" y="230"/>
                    </a:lnTo>
                    <a:lnTo>
                      <a:pt x="219" y="208"/>
                    </a:lnTo>
                    <a:lnTo>
                      <a:pt x="236" y="188"/>
                    </a:lnTo>
                    <a:lnTo>
                      <a:pt x="253" y="169"/>
                    </a:lnTo>
                    <a:lnTo>
                      <a:pt x="269" y="149"/>
                    </a:lnTo>
                    <a:lnTo>
                      <a:pt x="286" y="130"/>
                    </a:lnTo>
                    <a:lnTo>
                      <a:pt x="305" y="110"/>
                    </a:lnTo>
                    <a:lnTo>
                      <a:pt x="322" y="97"/>
                    </a:lnTo>
                    <a:lnTo>
                      <a:pt x="339" y="80"/>
                    </a:lnTo>
                    <a:lnTo>
                      <a:pt x="355" y="63"/>
                    </a:lnTo>
                    <a:lnTo>
                      <a:pt x="372" y="49"/>
                    </a:lnTo>
                    <a:lnTo>
                      <a:pt x="389" y="33"/>
                    </a:lnTo>
                    <a:lnTo>
                      <a:pt x="408" y="22"/>
                    </a:lnTo>
                    <a:lnTo>
                      <a:pt x="427" y="8"/>
                    </a:lnTo>
                    <a:lnTo>
                      <a:pt x="450" y="0"/>
                    </a:lnTo>
                    <a:lnTo>
                      <a:pt x="4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6000" y="5475240"/>
                <a:ext cx="312480" cy="2689200"/>
              </a:xfrm>
              <a:custGeom>
                <a:avLst/>
                <a:gdLst/>
                <a:ahLst/>
                <a:rect l="l" t="t" r="r" b="b"/>
                <a:pathLst>
                  <a:path w="197" h="1694">
                    <a:moveTo>
                      <a:pt x="116" y="14"/>
                    </a:moveTo>
                    <a:lnTo>
                      <a:pt x="130" y="56"/>
                    </a:lnTo>
                    <a:lnTo>
                      <a:pt x="141" y="97"/>
                    </a:lnTo>
                    <a:lnTo>
                      <a:pt x="150" y="142"/>
                    </a:lnTo>
                    <a:lnTo>
                      <a:pt x="161" y="183"/>
                    </a:lnTo>
                    <a:lnTo>
                      <a:pt x="164" y="214"/>
                    </a:lnTo>
                    <a:lnTo>
                      <a:pt x="169" y="241"/>
                    </a:lnTo>
                    <a:lnTo>
                      <a:pt x="175" y="269"/>
                    </a:lnTo>
                    <a:lnTo>
                      <a:pt x="175" y="297"/>
                    </a:lnTo>
                    <a:lnTo>
                      <a:pt x="191" y="397"/>
                    </a:lnTo>
                    <a:lnTo>
                      <a:pt x="197" y="499"/>
                    </a:lnTo>
                    <a:lnTo>
                      <a:pt x="197" y="605"/>
                    </a:lnTo>
                    <a:lnTo>
                      <a:pt x="194" y="710"/>
                    </a:lnTo>
                    <a:lnTo>
                      <a:pt x="197" y="765"/>
                    </a:lnTo>
                    <a:lnTo>
                      <a:pt x="197" y="821"/>
                    </a:lnTo>
                    <a:lnTo>
                      <a:pt x="194" y="876"/>
                    </a:lnTo>
                    <a:lnTo>
                      <a:pt x="197" y="932"/>
                    </a:lnTo>
                    <a:lnTo>
                      <a:pt x="194" y="987"/>
                    </a:lnTo>
                    <a:lnTo>
                      <a:pt x="191" y="1043"/>
                    </a:lnTo>
                    <a:lnTo>
                      <a:pt x="191" y="1098"/>
                    </a:lnTo>
                    <a:lnTo>
                      <a:pt x="188" y="1159"/>
                    </a:lnTo>
                    <a:lnTo>
                      <a:pt x="177" y="1265"/>
                    </a:lnTo>
                    <a:lnTo>
                      <a:pt x="169" y="1367"/>
                    </a:lnTo>
                    <a:lnTo>
                      <a:pt x="152" y="1470"/>
                    </a:lnTo>
                    <a:lnTo>
                      <a:pt x="127" y="1567"/>
                    </a:lnTo>
                    <a:lnTo>
                      <a:pt x="122" y="1595"/>
                    </a:lnTo>
                    <a:lnTo>
                      <a:pt x="114" y="1622"/>
                    </a:lnTo>
                    <a:lnTo>
                      <a:pt x="100" y="1650"/>
                    </a:lnTo>
                    <a:lnTo>
                      <a:pt x="86" y="1675"/>
                    </a:lnTo>
                    <a:lnTo>
                      <a:pt x="75" y="1683"/>
                    </a:lnTo>
                    <a:lnTo>
                      <a:pt x="61" y="1692"/>
                    </a:lnTo>
                    <a:lnTo>
                      <a:pt x="47" y="1694"/>
                    </a:lnTo>
                    <a:lnTo>
                      <a:pt x="30" y="1694"/>
                    </a:lnTo>
                    <a:lnTo>
                      <a:pt x="22" y="1694"/>
                    </a:lnTo>
                    <a:lnTo>
                      <a:pt x="14" y="1692"/>
                    </a:lnTo>
                    <a:lnTo>
                      <a:pt x="6" y="1689"/>
                    </a:lnTo>
                    <a:lnTo>
                      <a:pt x="0" y="1683"/>
                    </a:lnTo>
                    <a:lnTo>
                      <a:pt x="0" y="1672"/>
                    </a:lnTo>
                    <a:lnTo>
                      <a:pt x="6" y="1664"/>
                    </a:lnTo>
                    <a:lnTo>
                      <a:pt x="14" y="1661"/>
                    </a:lnTo>
                    <a:lnTo>
                      <a:pt x="19" y="1656"/>
                    </a:lnTo>
                    <a:lnTo>
                      <a:pt x="64" y="1603"/>
                    </a:lnTo>
                    <a:lnTo>
                      <a:pt x="83" y="1542"/>
                    </a:lnTo>
                    <a:lnTo>
                      <a:pt x="91" y="1473"/>
                    </a:lnTo>
                    <a:lnTo>
                      <a:pt x="100" y="1406"/>
                    </a:lnTo>
                    <a:lnTo>
                      <a:pt x="105" y="1323"/>
                    </a:lnTo>
                    <a:lnTo>
                      <a:pt x="116" y="1240"/>
                    </a:lnTo>
                    <a:lnTo>
                      <a:pt x="125" y="1156"/>
                    </a:lnTo>
                    <a:lnTo>
                      <a:pt x="127" y="1071"/>
                    </a:lnTo>
                    <a:lnTo>
                      <a:pt x="130" y="976"/>
                    </a:lnTo>
                    <a:lnTo>
                      <a:pt x="133" y="885"/>
                    </a:lnTo>
                    <a:lnTo>
                      <a:pt x="136" y="790"/>
                    </a:lnTo>
                    <a:lnTo>
                      <a:pt x="136" y="699"/>
                    </a:lnTo>
                    <a:lnTo>
                      <a:pt x="139" y="693"/>
                    </a:lnTo>
                    <a:lnTo>
                      <a:pt x="133" y="549"/>
                    </a:lnTo>
                    <a:lnTo>
                      <a:pt x="136" y="483"/>
                    </a:lnTo>
                    <a:lnTo>
                      <a:pt x="133" y="416"/>
                    </a:lnTo>
                    <a:lnTo>
                      <a:pt x="127" y="350"/>
                    </a:lnTo>
                    <a:lnTo>
                      <a:pt x="122" y="280"/>
                    </a:lnTo>
                    <a:lnTo>
                      <a:pt x="116" y="241"/>
                    </a:lnTo>
                    <a:lnTo>
                      <a:pt x="114" y="203"/>
                    </a:lnTo>
                    <a:lnTo>
                      <a:pt x="111" y="161"/>
                    </a:lnTo>
                    <a:lnTo>
                      <a:pt x="105" y="122"/>
                    </a:lnTo>
                    <a:lnTo>
                      <a:pt x="103" y="92"/>
                    </a:lnTo>
                    <a:lnTo>
                      <a:pt x="94" y="61"/>
                    </a:lnTo>
                    <a:lnTo>
                      <a:pt x="89" y="33"/>
                    </a:lnTo>
                    <a:lnTo>
                      <a:pt x="94" y="3"/>
                    </a:lnTo>
                    <a:lnTo>
                      <a:pt x="100" y="0"/>
                    </a:lnTo>
                    <a:lnTo>
                      <a:pt x="105" y="3"/>
                    </a:lnTo>
                    <a:lnTo>
                      <a:pt x="111" y="8"/>
                    </a:lnTo>
                    <a:lnTo>
                      <a:pt x="1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98800" y="5497560"/>
                <a:ext cx="668160" cy="2746440"/>
              </a:xfrm>
              <a:custGeom>
                <a:avLst/>
                <a:gdLst/>
                <a:ahLst/>
                <a:rect l="l" t="t" r="r" b="b"/>
                <a:pathLst>
                  <a:path w="421" h="1730">
                    <a:moveTo>
                      <a:pt x="69" y="89"/>
                    </a:moveTo>
                    <a:lnTo>
                      <a:pt x="89" y="155"/>
                    </a:lnTo>
                    <a:lnTo>
                      <a:pt x="108" y="222"/>
                    </a:lnTo>
                    <a:lnTo>
                      <a:pt x="125" y="288"/>
                    </a:lnTo>
                    <a:lnTo>
                      <a:pt x="139" y="358"/>
                    </a:lnTo>
                    <a:lnTo>
                      <a:pt x="150" y="430"/>
                    </a:lnTo>
                    <a:lnTo>
                      <a:pt x="161" y="505"/>
                    </a:lnTo>
                    <a:lnTo>
                      <a:pt x="169" y="577"/>
                    </a:lnTo>
                    <a:lnTo>
                      <a:pt x="177" y="652"/>
                    </a:lnTo>
                    <a:lnTo>
                      <a:pt x="197" y="873"/>
                    </a:lnTo>
                    <a:lnTo>
                      <a:pt x="214" y="1095"/>
                    </a:lnTo>
                    <a:lnTo>
                      <a:pt x="230" y="1317"/>
                    </a:lnTo>
                    <a:lnTo>
                      <a:pt x="238" y="1542"/>
                    </a:lnTo>
                    <a:lnTo>
                      <a:pt x="244" y="1572"/>
                    </a:lnTo>
                    <a:lnTo>
                      <a:pt x="250" y="1603"/>
                    </a:lnTo>
                    <a:lnTo>
                      <a:pt x="261" y="1631"/>
                    </a:lnTo>
                    <a:lnTo>
                      <a:pt x="277" y="1656"/>
                    </a:lnTo>
                    <a:lnTo>
                      <a:pt x="294" y="1656"/>
                    </a:lnTo>
                    <a:lnTo>
                      <a:pt x="308" y="1653"/>
                    </a:lnTo>
                    <a:lnTo>
                      <a:pt x="324" y="1650"/>
                    </a:lnTo>
                    <a:lnTo>
                      <a:pt x="338" y="1644"/>
                    </a:lnTo>
                    <a:lnTo>
                      <a:pt x="349" y="1636"/>
                    </a:lnTo>
                    <a:lnTo>
                      <a:pt x="363" y="1628"/>
                    </a:lnTo>
                    <a:lnTo>
                      <a:pt x="374" y="1619"/>
                    </a:lnTo>
                    <a:lnTo>
                      <a:pt x="383" y="1608"/>
                    </a:lnTo>
                    <a:lnTo>
                      <a:pt x="388" y="1583"/>
                    </a:lnTo>
                    <a:lnTo>
                      <a:pt x="394" y="1558"/>
                    </a:lnTo>
                    <a:lnTo>
                      <a:pt x="399" y="1533"/>
                    </a:lnTo>
                    <a:lnTo>
                      <a:pt x="410" y="1511"/>
                    </a:lnTo>
                    <a:lnTo>
                      <a:pt x="413" y="1511"/>
                    </a:lnTo>
                    <a:lnTo>
                      <a:pt x="419" y="1511"/>
                    </a:lnTo>
                    <a:lnTo>
                      <a:pt x="421" y="1517"/>
                    </a:lnTo>
                    <a:lnTo>
                      <a:pt x="421" y="1520"/>
                    </a:lnTo>
                    <a:lnTo>
                      <a:pt x="421" y="1547"/>
                    </a:lnTo>
                    <a:lnTo>
                      <a:pt x="421" y="1575"/>
                    </a:lnTo>
                    <a:lnTo>
                      <a:pt x="416" y="1603"/>
                    </a:lnTo>
                    <a:lnTo>
                      <a:pt x="408" y="1631"/>
                    </a:lnTo>
                    <a:lnTo>
                      <a:pt x="396" y="1653"/>
                    </a:lnTo>
                    <a:lnTo>
                      <a:pt x="383" y="1675"/>
                    </a:lnTo>
                    <a:lnTo>
                      <a:pt x="363" y="1694"/>
                    </a:lnTo>
                    <a:lnTo>
                      <a:pt x="341" y="1708"/>
                    </a:lnTo>
                    <a:lnTo>
                      <a:pt x="327" y="1717"/>
                    </a:lnTo>
                    <a:lnTo>
                      <a:pt x="313" y="1722"/>
                    </a:lnTo>
                    <a:lnTo>
                      <a:pt x="299" y="1728"/>
                    </a:lnTo>
                    <a:lnTo>
                      <a:pt x="283" y="1730"/>
                    </a:lnTo>
                    <a:lnTo>
                      <a:pt x="269" y="1730"/>
                    </a:lnTo>
                    <a:lnTo>
                      <a:pt x="252" y="1730"/>
                    </a:lnTo>
                    <a:lnTo>
                      <a:pt x="238" y="1725"/>
                    </a:lnTo>
                    <a:lnTo>
                      <a:pt x="227" y="1717"/>
                    </a:lnTo>
                    <a:lnTo>
                      <a:pt x="197" y="1672"/>
                    </a:lnTo>
                    <a:lnTo>
                      <a:pt x="183" y="1622"/>
                    </a:lnTo>
                    <a:lnTo>
                      <a:pt x="177" y="1567"/>
                    </a:lnTo>
                    <a:lnTo>
                      <a:pt x="175" y="1511"/>
                    </a:lnTo>
                    <a:lnTo>
                      <a:pt x="177" y="1420"/>
                    </a:lnTo>
                    <a:lnTo>
                      <a:pt x="177" y="1334"/>
                    </a:lnTo>
                    <a:lnTo>
                      <a:pt x="175" y="1245"/>
                    </a:lnTo>
                    <a:lnTo>
                      <a:pt x="169" y="1156"/>
                    </a:lnTo>
                    <a:lnTo>
                      <a:pt x="161" y="1045"/>
                    </a:lnTo>
                    <a:lnTo>
                      <a:pt x="153" y="934"/>
                    </a:lnTo>
                    <a:lnTo>
                      <a:pt x="141" y="821"/>
                    </a:lnTo>
                    <a:lnTo>
                      <a:pt x="125" y="713"/>
                    </a:lnTo>
                    <a:lnTo>
                      <a:pt x="117" y="674"/>
                    </a:lnTo>
                    <a:lnTo>
                      <a:pt x="114" y="635"/>
                    </a:lnTo>
                    <a:lnTo>
                      <a:pt x="108" y="596"/>
                    </a:lnTo>
                    <a:lnTo>
                      <a:pt x="103" y="557"/>
                    </a:lnTo>
                    <a:lnTo>
                      <a:pt x="97" y="538"/>
                    </a:lnTo>
                    <a:lnTo>
                      <a:pt x="94" y="519"/>
                    </a:lnTo>
                    <a:lnTo>
                      <a:pt x="94" y="499"/>
                    </a:lnTo>
                    <a:lnTo>
                      <a:pt x="92" y="480"/>
                    </a:lnTo>
                    <a:lnTo>
                      <a:pt x="80" y="397"/>
                    </a:lnTo>
                    <a:lnTo>
                      <a:pt x="67" y="316"/>
                    </a:lnTo>
                    <a:lnTo>
                      <a:pt x="50" y="236"/>
                    </a:lnTo>
                    <a:lnTo>
                      <a:pt x="39" y="152"/>
                    </a:lnTo>
                    <a:lnTo>
                      <a:pt x="31" y="119"/>
                    </a:lnTo>
                    <a:lnTo>
                      <a:pt x="19" y="83"/>
                    </a:lnTo>
                    <a:lnTo>
                      <a:pt x="11" y="50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36" y="17"/>
                    </a:lnTo>
                    <a:lnTo>
                      <a:pt x="50" y="39"/>
                    </a:lnTo>
                    <a:lnTo>
                      <a:pt x="61" y="64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76840" y="5664240"/>
                <a:ext cx="523800" cy="404640"/>
              </a:xfrm>
              <a:custGeom>
                <a:avLst/>
                <a:gdLst/>
                <a:ahLst/>
                <a:rect l="l" t="t" r="r" b="b"/>
                <a:pathLst>
                  <a:path w="330" h="255">
                    <a:moveTo>
                      <a:pt x="330" y="23"/>
                    </a:moveTo>
                    <a:lnTo>
                      <a:pt x="319" y="53"/>
                    </a:lnTo>
                    <a:lnTo>
                      <a:pt x="302" y="78"/>
                    </a:lnTo>
                    <a:lnTo>
                      <a:pt x="280" y="103"/>
                    </a:lnTo>
                    <a:lnTo>
                      <a:pt x="258" y="128"/>
                    </a:lnTo>
                    <a:lnTo>
                      <a:pt x="272" y="142"/>
                    </a:lnTo>
                    <a:lnTo>
                      <a:pt x="291" y="156"/>
                    </a:lnTo>
                    <a:lnTo>
                      <a:pt x="305" y="175"/>
                    </a:lnTo>
                    <a:lnTo>
                      <a:pt x="302" y="197"/>
                    </a:lnTo>
                    <a:lnTo>
                      <a:pt x="291" y="206"/>
                    </a:lnTo>
                    <a:lnTo>
                      <a:pt x="277" y="211"/>
                    </a:lnTo>
                    <a:lnTo>
                      <a:pt x="263" y="219"/>
                    </a:lnTo>
                    <a:lnTo>
                      <a:pt x="250" y="228"/>
                    </a:lnTo>
                    <a:lnTo>
                      <a:pt x="250" y="231"/>
                    </a:lnTo>
                    <a:lnTo>
                      <a:pt x="233" y="236"/>
                    </a:lnTo>
                    <a:lnTo>
                      <a:pt x="216" y="239"/>
                    </a:lnTo>
                    <a:lnTo>
                      <a:pt x="200" y="239"/>
                    </a:lnTo>
                    <a:lnTo>
                      <a:pt x="183" y="242"/>
                    </a:lnTo>
                    <a:lnTo>
                      <a:pt x="164" y="242"/>
                    </a:lnTo>
                    <a:lnTo>
                      <a:pt x="147" y="244"/>
                    </a:lnTo>
                    <a:lnTo>
                      <a:pt x="130" y="250"/>
                    </a:lnTo>
                    <a:lnTo>
                      <a:pt x="114" y="255"/>
                    </a:lnTo>
                    <a:lnTo>
                      <a:pt x="105" y="255"/>
                    </a:lnTo>
                    <a:lnTo>
                      <a:pt x="97" y="255"/>
                    </a:lnTo>
                    <a:lnTo>
                      <a:pt x="89" y="253"/>
                    </a:lnTo>
                    <a:lnTo>
                      <a:pt x="83" y="247"/>
                    </a:lnTo>
                    <a:lnTo>
                      <a:pt x="86" y="239"/>
                    </a:lnTo>
                    <a:lnTo>
                      <a:pt x="92" y="236"/>
                    </a:lnTo>
                    <a:lnTo>
                      <a:pt x="100" y="231"/>
                    </a:lnTo>
                    <a:lnTo>
                      <a:pt x="108" y="228"/>
                    </a:lnTo>
                    <a:lnTo>
                      <a:pt x="122" y="222"/>
                    </a:lnTo>
                    <a:lnTo>
                      <a:pt x="139" y="217"/>
                    </a:lnTo>
                    <a:lnTo>
                      <a:pt x="153" y="214"/>
                    </a:lnTo>
                    <a:lnTo>
                      <a:pt x="169" y="211"/>
                    </a:lnTo>
                    <a:lnTo>
                      <a:pt x="183" y="208"/>
                    </a:lnTo>
                    <a:lnTo>
                      <a:pt x="197" y="206"/>
                    </a:lnTo>
                    <a:lnTo>
                      <a:pt x="214" y="203"/>
                    </a:lnTo>
                    <a:lnTo>
                      <a:pt x="227" y="200"/>
                    </a:lnTo>
                    <a:lnTo>
                      <a:pt x="230" y="194"/>
                    </a:lnTo>
                    <a:lnTo>
                      <a:pt x="236" y="189"/>
                    </a:lnTo>
                    <a:lnTo>
                      <a:pt x="238" y="183"/>
                    </a:lnTo>
                    <a:lnTo>
                      <a:pt x="236" y="178"/>
                    </a:lnTo>
                    <a:lnTo>
                      <a:pt x="222" y="169"/>
                    </a:lnTo>
                    <a:lnTo>
                      <a:pt x="205" y="164"/>
                    </a:lnTo>
                    <a:lnTo>
                      <a:pt x="189" y="164"/>
                    </a:lnTo>
                    <a:lnTo>
                      <a:pt x="172" y="167"/>
                    </a:lnTo>
                    <a:lnTo>
                      <a:pt x="166" y="164"/>
                    </a:lnTo>
                    <a:lnTo>
                      <a:pt x="161" y="161"/>
                    </a:lnTo>
                    <a:lnTo>
                      <a:pt x="155" y="158"/>
                    </a:lnTo>
                    <a:lnTo>
                      <a:pt x="150" y="156"/>
                    </a:lnTo>
                    <a:lnTo>
                      <a:pt x="153" y="145"/>
                    </a:lnTo>
                    <a:lnTo>
                      <a:pt x="158" y="139"/>
                    </a:lnTo>
                    <a:lnTo>
                      <a:pt x="166" y="133"/>
                    </a:lnTo>
                    <a:lnTo>
                      <a:pt x="175" y="128"/>
                    </a:lnTo>
                    <a:lnTo>
                      <a:pt x="186" y="120"/>
                    </a:lnTo>
                    <a:lnTo>
                      <a:pt x="197" y="111"/>
                    </a:lnTo>
                    <a:lnTo>
                      <a:pt x="208" y="103"/>
                    </a:lnTo>
                    <a:lnTo>
                      <a:pt x="222" y="97"/>
                    </a:lnTo>
                    <a:lnTo>
                      <a:pt x="233" y="89"/>
                    </a:lnTo>
                    <a:lnTo>
                      <a:pt x="241" y="81"/>
                    </a:lnTo>
                    <a:lnTo>
                      <a:pt x="250" y="70"/>
                    </a:lnTo>
                    <a:lnTo>
                      <a:pt x="258" y="59"/>
                    </a:lnTo>
                    <a:lnTo>
                      <a:pt x="236" y="64"/>
                    </a:lnTo>
                    <a:lnTo>
                      <a:pt x="216" y="72"/>
                    </a:lnTo>
                    <a:lnTo>
                      <a:pt x="197" y="86"/>
                    </a:lnTo>
                    <a:lnTo>
                      <a:pt x="177" y="97"/>
                    </a:lnTo>
                    <a:lnTo>
                      <a:pt x="161" y="111"/>
                    </a:lnTo>
                    <a:lnTo>
                      <a:pt x="141" y="125"/>
                    </a:lnTo>
                    <a:lnTo>
                      <a:pt x="122" y="136"/>
                    </a:lnTo>
                    <a:lnTo>
                      <a:pt x="103" y="147"/>
                    </a:lnTo>
                    <a:lnTo>
                      <a:pt x="94" y="153"/>
                    </a:lnTo>
                    <a:lnTo>
                      <a:pt x="83" y="161"/>
                    </a:lnTo>
                    <a:lnTo>
                      <a:pt x="72" y="167"/>
                    </a:lnTo>
                    <a:lnTo>
                      <a:pt x="64" y="175"/>
                    </a:lnTo>
                    <a:lnTo>
                      <a:pt x="53" y="181"/>
                    </a:lnTo>
                    <a:lnTo>
                      <a:pt x="42" y="189"/>
                    </a:lnTo>
                    <a:lnTo>
                      <a:pt x="31" y="194"/>
                    </a:lnTo>
                    <a:lnTo>
                      <a:pt x="19" y="200"/>
                    </a:lnTo>
                    <a:lnTo>
                      <a:pt x="11" y="197"/>
                    </a:lnTo>
                    <a:lnTo>
                      <a:pt x="6" y="194"/>
                    </a:lnTo>
                    <a:lnTo>
                      <a:pt x="3" y="189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33" y="147"/>
                    </a:lnTo>
                    <a:lnTo>
                      <a:pt x="69" y="122"/>
                    </a:lnTo>
                    <a:lnTo>
                      <a:pt x="105" y="97"/>
                    </a:lnTo>
                    <a:lnTo>
                      <a:pt x="144" y="75"/>
                    </a:lnTo>
                    <a:lnTo>
                      <a:pt x="183" y="53"/>
                    </a:lnTo>
                    <a:lnTo>
                      <a:pt x="222" y="34"/>
                    </a:lnTo>
                    <a:lnTo>
                      <a:pt x="261" y="17"/>
                    </a:lnTo>
                    <a:lnTo>
                      <a:pt x="299" y="0"/>
                    </a:lnTo>
                    <a:lnTo>
                      <a:pt x="311" y="0"/>
                    </a:lnTo>
                    <a:lnTo>
                      <a:pt x="322" y="3"/>
                    </a:lnTo>
                    <a:lnTo>
                      <a:pt x="327" y="9"/>
                    </a:lnTo>
                    <a:lnTo>
                      <a:pt x="33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-1371600" y="5906880"/>
                <a:ext cx="752760" cy="586080"/>
              </a:xfrm>
              <a:custGeom>
                <a:avLst/>
                <a:gdLst/>
                <a:ahLst/>
                <a:rect l="l" t="t" r="r" b="b"/>
                <a:pathLst>
                  <a:path w="474" h="369">
                    <a:moveTo>
                      <a:pt x="355" y="36"/>
                    </a:moveTo>
                    <a:lnTo>
                      <a:pt x="377" y="47"/>
                    </a:lnTo>
                    <a:lnTo>
                      <a:pt x="399" y="61"/>
                    </a:lnTo>
                    <a:lnTo>
                      <a:pt x="419" y="78"/>
                    </a:lnTo>
                    <a:lnTo>
                      <a:pt x="435" y="97"/>
                    </a:lnTo>
                    <a:lnTo>
                      <a:pt x="449" y="116"/>
                    </a:lnTo>
                    <a:lnTo>
                      <a:pt x="463" y="141"/>
                    </a:lnTo>
                    <a:lnTo>
                      <a:pt x="469" y="163"/>
                    </a:lnTo>
                    <a:lnTo>
                      <a:pt x="474" y="191"/>
                    </a:lnTo>
                    <a:lnTo>
                      <a:pt x="471" y="200"/>
                    </a:lnTo>
                    <a:lnTo>
                      <a:pt x="469" y="208"/>
                    </a:lnTo>
                    <a:lnTo>
                      <a:pt x="463" y="216"/>
                    </a:lnTo>
                    <a:lnTo>
                      <a:pt x="455" y="219"/>
                    </a:lnTo>
                    <a:lnTo>
                      <a:pt x="449" y="205"/>
                    </a:lnTo>
                    <a:lnTo>
                      <a:pt x="444" y="191"/>
                    </a:lnTo>
                    <a:lnTo>
                      <a:pt x="441" y="180"/>
                    </a:lnTo>
                    <a:lnTo>
                      <a:pt x="433" y="172"/>
                    </a:lnTo>
                    <a:lnTo>
                      <a:pt x="424" y="158"/>
                    </a:lnTo>
                    <a:lnTo>
                      <a:pt x="416" y="144"/>
                    </a:lnTo>
                    <a:lnTo>
                      <a:pt x="405" y="133"/>
                    </a:lnTo>
                    <a:lnTo>
                      <a:pt x="394" y="122"/>
                    </a:lnTo>
                    <a:lnTo>
                      <a:pt x="383" y="114"/>
                    </a:lnTo>
                    <a:lnTo>
                      <a:pt x="372" y="102"/>
                    </a:lnTo>
                    <a:lnTo>
                      <a:pt x="358" y="94"/>
                    </a:lnTo>
                    <a:lnTo>
                      <a:pt x="347" y="83"/>
                    </a:lnTo>
                    <a:lnTo>
                      <a:pt x="336" y="80"/>
                    </a:lnTo>
                    <a:lnTo>
                      <a:pt x="324" y="75"/>
                    </a:lnTo>
                    <a:lnTo>
                      <a:pt x="313" y="69"/>
                    </a:lnTo>
                    <a:lnTo>
                      <a:pt x="302" y="64"/>
                    </a:lnTo>
                    <a:lnTo>
                      <a:pt x="291" y="55"/>
                    </a:lnTo>
                    <a:lnTo>
                      <a:pt x="280" y="50"/>
                    </a:lnTo>
                    <a:lnTo>
                      <a:pt x="272" y="41"/>
                    </a:lnTo>
                    <a:lnTo>
                      <a:pt x="261" y="36"/>
                    </a:lnTo>
                    <a:lnTo>
                      <a:pt x="252" y="39"/>
                    </a:lnTo>
                    <a:lnTo>
                      <a:pt x="255" y="55"/>
                    </a:lnTo>
                    <a:lnTo>
                      <a:pt x="266" y="72"/>
                    </a:lnTo>
                    <a:lnTo>
                      <a:pt x="280" y="83"/>
                    </a:lnTo>
                    <a:lnTo>
                      <a:pt x="294" y="97"/>
                    </a:lnTo>
                    <a:lnTo>
                      <a:pt x="299" y="102"/>
                    </a:lnTo>
                    <a:lnTo>
                      <a:pt x="305" y="105"/>
                    </a:lnTo>
                    <a:lnTo>
                      <a:pt x="308" y="111"/>
                    </a:lnTo>
                    <a:lnTo>
                      <a:pt x="308" y="119"/>
                    </a:lnTo>
                    <a:lnTo>
                      <a:pt x="299" y="127"/>
                    </a:lnTo>
                    <a:lnTo>
                      <a:pt x="291" y="130"/>
                    </a:lnTo>
                    <a:lnTo>
                      <a:pt x="283" y="133"/>
                    </a:lnTo>
                    <a:lnTo>
                      <a:pt x="272" y="136"/>
                    </a:lnTo>
                    <a:lnTo>
                      <a:pt x="250" y="139"/>
                    </a:lnTo>
                    <a:lnTo>
                      <a:pt x="227" y="144"/>
                    </a:lnTo>
                    <a:lnTo>
                      <a:pt x="205" y="147"/>
                    </a:lnTo>
                    <a:lnTo>
                      <a:pt x="180" y="152"/>
                    </a:lnTo>
                    <a:lnTo>
                      <a:pt x="158" y="155"/>
                    </a:lnTo>
                    <a:lnTo>
                      <a:pt x="133" y="158"/>
                    </a:lnTo>
                    <a:lnTo>
                      <a:pt x="111" y="158"/>
                    </a:lnTo>
                    <a:lnTo>
                      <a:pt x="86" y="161"/>
                    </a:lnTo>
                    <a:lnTo>
                      <a:pt x="94" y="172"/>
                    </a:lnTo>
                    <a:lnTo>
                      <a:pt x="108" y="177"/>
                    </a:lnTo>
                    <a:lnTo>
                      <a:pt x="117" y="186"/>
                    </a:lnTo>
                    <a:lnTo>
                      <a:pt x="105" y="197"/>
                    </a:lnTo>
                    <a:lnTo>
                      <a:pt x="94" y="200"/>
                    </a:lnTo>
                    <a:lnTo>
                      <a:pt x="83" y="200"/>
                    </a:lnTo>
                    <a:lnTo>
                      <a:pt x="72" y="202"/>
                    </a:lnTo>
                    <a:lnTo>
                      <a:pt x="64" y="208"/>
                    </a:lnTo>
                    <a:lnTo>
                      <a:pt x="69" y="216"/>
                    </a:lnTo>
                    <a:lnTo>
                      <a:pt x="78" y="222"/>
                    </a:lnTo>
                    <a:lnTo>
                      <a:pt x="86" y="227"/>
                    </a:lnTo>
                    <a:lnTo>
                      <a:pt x="97" y="230"/>
                    </a:lnTo>
                    <a:lnTo>
                      <a:pt x="97" y="241"/>
                    </a:lnTo>
                    <a:lnTo>
                      <a:pt x="92" y="249"/>
                    </a:lnTo>
                    <a:lnTo>
                      <a:pt x="86" y="255"/>
                    </a:lnTo>
                    <a:lnTo>
                      <a:pt x="78" y="258"/>
                    </a:lnTo>
                    <a:lnTo>
                      <a:pt x="89" y="263"/>
                    </a:lnTo>
                    <a:lnTo>
                      <a:pt x="97" y="269"/>
                    </a:lnTo>
                    <a:lnTo>
                      <a:pt x="108" y="274"/>
                    </a:lnTo>
                    <a:lnTo>
                      <a:pt x="122" y="274"/>
                    </a:lnTo>
                    <a:lnTo>
                      <a:pt x="122" y="288"/>
                    </a:lnTo>
                    <a:lnTo>
                      <a:pt x="108" y="297"/>
                    </a:lnTo>
                    <a:lnTo>
                      <a:pt x="97" y="305"/>
                    </a:lnTo>
                    <a:lnTo>
                      <a:pt x="105" y="319"/>
                    </a:lnTo>
                    <a:lnTo>
                      <a:pt x="128" y="319"/>
                    </a:lnTo>
                    <a:lnTo>
                      <a:pt x="150" y="319"/>
                    </a:lnTo>
                    <a:lnTo>
                      <a:pt x="172" y="319"/>
                    </a:lnTo>
                    <a:lnTo>
                      <a:pt x="197" y="319"/>
                    </a:lnTo>
                    <a:lnTo>
                      <a:pt x="219" y="319"/>
                    </a:lnTo>
                    <a:lnTo>
                      <a:pt x="241" y="319"/>
                    </a:lnTo>
                    <a:lnTo>
                      <a:pt x="266" y="319"/>
                    </a:lnTo>
                    <a:lnTo>
                      <a:pt x="288" y="319"/>
                    </a:lnTo>
                    <a:lnTo>
                      <a:pt x="294" y="324"/>
                    </a:lnTo>
                    <a:lnTo>
                      <a:pt x="299" y="330"/>
                    </a:lnTo>
                    <a:lnTo>
                      <a:pt x="302" y="335"/>
                    </a:lnTo>
                    <a:lnTo>
                      <a:pt x="299" y="344"/>
                    </a:lnTo>
                    <a:lnTo>
                      <a:pt x="286" y="349"/>
                    </a:lnTo>
                    <a:lnTo>
                      <a:pt x="272" y="352"/>
                    </a:lnTo>
                    <a:lnTo>
                      <a:pt x="258" y="352"/>
                    </a:lnTo>
                    <a:lnTo>
                      <a:pt x="244" y="352"/>
                    </a:lnTo>
                    <a:lnTo>
                      <a:pt x="227" y="352"/>
                    </a:lnTo>
                    <a:lnTo>
                      <a:pt x="211" y="352"/>
                    </a:lnTo>
                    <a:lnTo>
                      <a:pt x="197" y="352"/>
                    </a:lnTo>
                    <a:lnTo>
                      <a:pt x="180" y="355"/>
                    </a:lnTo>
                    <a:lnTo>
                      <a:pt x="164" y="360"/>
                    </a:lnTo>
                    <a:lnTo>
                      <a:pt x="144" y="363"/>
                    </a:lnTo>
                    <a:lnTo>
                      <a:pt x="128" y="366"/>
                    </a:lnTo>
                    <a:lnTo>
                      <a:pt x="108" y="369"/>
                    </a:lnTo>
                    <a:lnTo>
                      <a:pt x="92" y="369"/>
                    </a:lnTo>
                    <a:lnTo>
                      <a:pt x="75" y="366"/>
                    </a:lnTo>
                    <a:lnTo>
                      <a:pt x="58" y="358"/>
                    </a:lnTo>
                    <a:lnTo>
                      <a:pt x="44" y="346"/>
                    </a:lnTo>
                    <a:lnTo>
                      <a:pt x="39" y="333"/>
                    </a:lnTo>
                    <a:lnTo>
                      <a:pt x="39" y="319"/>
                    </a:lnTo>
                    <a:lnTo>
                      <a:pt x="36" y="305"/>
                    </a:lnTo>
                    <a:lnTo>
                      <a:pt x="33" y="291"/>
                    </a:lnTo>
                    <a:lnTo>
                      <a:pt x="28" y="272"/>
                    </a:lnTo>
                    <a:lnTo>
                      <a:pt x="19" y="255"/>
                    </a:lnTo>
                    <a:lnTo>
                      <a:pt x="11" y="238"/>
                    </a:lnTo>
                    <a:lnTo>
                      <a:pt x="0" y="222"/>
                    </a:lnTo>
                    <a:lnTo>
                      <a:pt x="0" y="202"/>
                    </a:lnTo>
                    <a:lnTo>
                      <a:pt x="14" y="186"/>
                    </a:lnTo>
                    <a:lnTo>
                      <a:pt x="19" y="172"/>
                    </a:lnTo>
                    <a:lnTo>
                      <a:pt x="11" y="155"/>
                    </a:lnTo>
                    <a:lnTo>
                      <a:pt x="11" y="147"/>
                    </a:lnTo>
                    <a:lnTo>
                      <a:pt x="14" y="139"/>
                    </a:lnTo>
                    <a:lnTo>
                      <a:pt x="19" y="130"/>
                    </a:lnTo>
                    <a:lnTo>
                      <a:pt x="25" y="125"/>
                    </a:lnTo>
                    <a:lnTo>
                      <a:pt x="47" y="122"/>
                    </a:lnTo>
                    <a:lnTo>
                      <a:pt x="72" y="116"/>
                    </a:lnTo>
                    <a:lnTo>
                      <a:pt x="97" y="114"/>
                    </a:lnTo>
                    <a:lnTo>
                      <a:pt x="122" y="111"/>
                    </a:lnTo>
                    <a:lnTo>
                      <a:pt x="147" y="108"/>
                    </a:lnTo>
                    <a:lnTo>
                      <a:pt x="172" y="105"/>
                    </a:lnTo>
                    <a:lnTo>
                      <a:pt x="197" y="100"/>
                    </a:lnTo>
                    <a:lnTo>
                      <a:pt x="222" y="94"/>
                    </a:lnTo>
                    <a:lnTo>
                      <a:pt x="227" y="89"/>
                    </a:lnTo>
                    <a:lnTo>
                      <a:pt x="225" y="83"/>
                    </a:lnTo>
                    <a:lnTo>
                      <a:pt x="222" y="78"/>
                    </a:lnTo>
                    <a:lnTo>
                      <a:pt x="219" y="69"/>
                    </a:lnTo>
                    <a:lnTo>
                      <a:pt x="214" y="58"/>
                    </a:lnTo>
                    <a:lnTo>
                      <a:pt x="211" y="44"/>
                    </a:lnTo>
                    <a:lnTo>
                      <a:pt x="214" y="33"/>
                    </a:lnTo>
                    <a:lnTo>
                      <a:pt x="219" y="19"/>
                    </a:lnTo>
                    <a:lnTo>
                      <a:pt x="222" y="14"/>
                    </a:lnTo>
                    <a:lnTo>
                      <a:pt x="225" y="8"/>
                    </a:lnTo>
                    <a:lnTo>
                      <a:pt x="227" y="5"/>
                    </a:lnTo>
                    <a:lnTo>
                      <a:pt x="236" y="3"/>
                    </a:lnTo>
                    <a:lnTo>
                      <a:pt x="252" y="0"/>
                    </a:lnTo>
                    <a:lnTo>
                      <a:pt x="266" y="3"/>
                    </a:lnTo>
                    <a:lnTo>
                      <a:pt x="283" y="5"/>
                    </a:lnTo>
                    <a:lnTo>
                      <a:pt x="297" y="11"/>
                    </a:lnTo>
                    <a:lnTo>
                      <a:pt x="311" y="16"/>
                    </a:lnTo>
                    <a:lnTo>
                      <a:pt x="324" y="25"/>
                    </a:lnTo>
                    <a:lnTo>
                      <a:pt x="341" y="30"/>
                    </a:lnTo>
                    <a:lnTo>
                      <a:pt x="35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559160" y="5981760"/>
                <a:ext cx="307800" cy="1720800"/>
              </a:xfrm>
              <a:custGeom>
                <a:avLst/>
                <a:gdLst/>
                <a:ahLst/>
                <a:rect l="l" t="t" r="r" b="b"/>
                <a:pathLst>
                  <a:path w="194" h="1084">
                    <a:moveTo>
                      <a:pt x="20" y="8"/>
                    </a:moveTo>
                    <a:lnTo>
                      <a:pt x="34" y="42"/>
                    </a:lnTo>
                    <a:lnTo>
                      <a:pt x="48" y="75"/>
                    </a:lnTo>
                    <a:lnTo>
                      <a:pt x="59" y="108"/>
                    </a:lnTo>
                    <a:lnTo>
                      <a:pt x="70" y="144"/>
                    </a:lnTo>
                    <a:lnTo>
                      <a:pt x="81" y="189"/>
                    </a:lnTo>
                    <a:lnTo>
                      <a:pt x="89" y="233"/>
                    </a:lnTo>
                    <a:lnTo>
                      <a:pt x="100" y="277"/>
                    </a:lnTo>
                    <a:lnTo>
                      <a:pt x="111" y="322"/>
                    </a:lnTo>
                    <a:lnTo>
                      <a:pt x="120" y="374"/>
                    </a:lnTo>
                    <a:lnTo>
                      <a:pt x="131" y="427"/>
                    </a:lnTo>
                    <a:lnTo>
                      <a:pt x="142" y="480"/>
                    </a:lnTo>
                    <a:lnTo>
                      <a:pt x="150" y="532"/>
                    </a:lnTo>
                    <a:lnTo>
                      <a:pt x="156" y="541"/>
                    </a:lnTo>
                    <a:lnTo>
                      <a:pt x="156" y="549"/>
                    </a:lnTo>
                    <a:lnTo>
                      <a:pt x="158" y="560"/>
                    </a:lnTo>
                    <a:lnTo>
                      <a:pt x="158" y="568"/>
                    </a:lnTo>
                    <a:lnTo>
                      <a:pt x="167" y="646"/>
                    </a:lnTo>
                    <a:lnTo>
                      <a:pt x="178" y="724"/>
                    </a:lnTo>
                    <a:lnTo>
                      <a:pt x="186" y="807"/>
                    </a:lnTo>
                    <a:lnTo>
                      <a:pt x="192" y="887"/>
                    </a:lnTo>
                    <a:lnTo>
                      <a:pt x="189" y="904"/>
                    </a:lnTo>
                    <a:lnTo>
                      <a:pt x="189" y="923"/>
                    </a:lnTo>
                    <a:lnTo>
                      <a:pt x="192" y="943"/>
                    </a:lnTo>
                    <a:lnTo>
                      <a:pt x="194" y="962"/>
                    </a:lnTo>
                    <a:lnTo>
                      <a:pt x="194" y="979"/>
                    </a:lnTo>
                    <a:lnTo>
                      <a:pt x="192" y="998"/>
                    </a:lnTo>
                    <a:lnTo>
                      <a:pt x="189" y="1015"/>
                    </a:lnTo>
                    <a:lnTo>
                      <a:pt x="189" y="1034"/>
                    </a:lnTo>
                    <a:lnTo>
                      <a:pt x="189" y="1045"/>
                    </a:lnTo>
                    <a:lnTo>
                      <a:pt x="189" y="1059"/>
                    </a:lnTo>
                    <a:lnTo>
                      <a:pt x="186" y="1070"/>
                    </a:lnTo>
                    <a:lnTo>
                      <a:pt x="181" y="1084"/>
                    </a:lnTo>
                    <a:lnTo>
                      <a:pt x="175" y="1084"/>
                    </a:lnTo>
                    <a:lnTo>
                      <a:pt x="172" y="1084"/>
                    </a:lnTo>
                    <a:lnTo>
                      <a:pt x="167" y="1082"/>
                    </a:lnTo>
                    <a:lnTo>
                      <a:pt x="164" y="1079"/>
                    </a:lnTo>
                    <a:lnTo>
                      <a:pt x="156" y="1032"/>
                    </a:lnTo>
                    <a:lnTo>
                      <a:pt x="150" y="982"/>
                    </a:lnTo>
                    <a:lnTo>
                      <a:pt x="145" y="932"/>
                    </a:lnTo>
                    <a:lnTo>
                      <a:pt x="136" y="882"/>
                    </a:lnTo>
                    <a:lnTo>
                      <a:pt x="120" y="887"/>
                    </a:lnTo>
                    <a:lnTo>
                      <a:pt x="103" y="887"/>
                    </a:lnTo>
                    <a:lnTo>
                      <a:pt x="86" y="885"/>
                    </a:lnTo>
                    <a:lnTo>
                      <a:pt x="70" y="879"/>
                    </a:lnTo>
                    <a:lnTo>
                      <a:pt x="56" y="865"/>
                    </a:lnTo>
                    <a:lnTo>
                      <a:pt x="48" y="846"/>
                    </a:lnTo>
                    <a:lnTo>
                      <a:pt x="48" y="824"/>
                    </a:lnTo>
                    <a:lnTo>
                      <a:pt x="48" y="801"/>
                    </a:lnTo>
                    <a:lnTo>
                      <a:pt x="50" y="801"/>
                    </a:lnTo>
                    <a:lnTo>
                      <a:pt x="53" y="799"/>
                    </a:lnTo>
                    <a:lnTo>
                      <a:pt x="56" y="799"/>
                    </a:lnTo>
                    <a:lnTo>
                      <a:pt x="59" y="799"/>
                    </a:lnTo>
                    <a:lnTo>
                      <a:pt x="70" y="804"/>
                    </a:lnTo>
                    <a:lnTo>
                      <a:pt x="81" y="813"/>
                    </a:lnTo>
                    <a:lnTo>
                      <a:pt x="89" y="824"/>
                    </a:lnTo>
                    <a:lnTo>
                      <a:pt x="103" y="829"/>
                    </a:lnTo>
                    <a:lnTo>
                      <a:pt x="109" y="829"/>
                    </a:lnTo>
                    <a:lnTo>
                      <a:pt x="117" y="826"/>
                    </a:lnTo>
                    <a:lnTo>
                      <a:pt x="125" y="824"/>
                    </a:lnTo>
                    <a:lnTo>
                      <a:pt x="131" y="824"/>
                    </a:lnTo>
                    <a:lnTo>
                      <a:pt x="128" y="793"/>
                    </a:lnTo>
                    <a:lnTo>
                      <a:pt x="125" y="763"/>
                    </a:lnTo>
                    <a:lnTo>
                      <a:pt x="122" y="732"/>
                    </a:lnTo>
                    <a:lnTo>
                      <a:pt x="120" y="699"/>
                    </a:lnTo>
                    <a:lnTo>
                      <a:pt x="114" y="674"/>
                    </a:lnTo>
                    <a:lnTo>
                      <a:pt x="111" y="649"/>
                    </a:lnTo>
                    <a:lnTo>
                      <a:pt x="109" y="624"/>
                    </a:lnTo>
                    <a:lnTo>
                      <a:pt x="100" y="599"/>
                    </a:lnTo>
                    <a:lnTo>
                      <a:pt x="86" y="488"/>
                    </a:lnTo>
                    <a:lnTo>
                      <a:pt x="72" y="377"/>
                    </a:lnTo>
                    <a:lnTo>
                      <a:pt x="56" y="269"/>
                    </a:lnTo>
                    <a:lnTo>
                      <a:pt x="31" y="166"/>
                    </a:lnTo>
                    <a:lnTo>
                      <a:pt x="23" y="128"/>
                    </a:lnTo>
                    <a:lnTo>
                      <a:pt x="11" y="86"/>
                    </a:lnTo>
                    <a:lnTo>
                      <a:pt x="6" y="4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-60120" y="6043680"/>
                <a:ext cx="528480" cy="2293920"/>
              </a:xfrm>
              <a:custGeom>
                <a:avLst/>
                <a:gdLst/>
                <a:ahLst/>
                <a:rect l="l" t="t" r="r" b="b"/>
                <a:pathLst>
                  <a:path w="333" h="1445">
                    <a:moveTo>
                      <a:pt x="297" y="16"/>
                    </a:moveTo>
                    <a:lnTo>
                      <a:pt x="300" y="97"/>
                    </a:lnTo>
                    <a:lnTo>
                      <a:pt x="291" y="180"/>
                    </a:lnTo>
                    <a:lnTo>
                      <a:pt x="277" y="266"/>
                    </a:lnTo>
                    <a:lnTo>
                      <a:pt x="255" y="346"/>
                    </a:lnTo>
                    <a:lnTo>
                      <a:pt x="241" y="410"/>
                    </a:lnTo>
                    <a:lnTo>
                      <a:pt x="222" y="471"/>
                    </a:lnTo>
                    <a:lnTo>
                      <a:pt x="200" y="532"/>
                    </a:lnTo>
                    <a:lnTo>
                      <a:pt x="178" y="593"/>
                    </a:lnTo>
                    <a:lnTo>
                      <a:pt x="153" y="654"/>
                    </a:lnTo>
                    <a:lnTo>
                      <a:pt x="133" y="721"/>
                    </a:lnTo>
                    <a:lnTo>
                      <a:pt x="119" y="787"/>
                    </a:lnTo>
                    <a:lnTo>
                      <a:pt x="106" y="854"/>
                    </a:lnTo>
                    <a:lnTo>
                      <a:pt x="100" y="898"/>
                    </a:lnTo>
                    <a:lnTo>
                      <a:pt x="94" y="940"/>
                    </a:lnTo>
                    <a:lnTo>
                      <a:pt x="89" y="984"/>
                    </a:lnTo>
                    <a:lnTo>
                      <a:pt x="83" y="1026"/>
                    </a:lnTo>
                    <a:lnTo>
                      <a:pt x="81" y="1112"/>
                    </a:lnTo>
                    <a:lnTo>
                      <a:pt x="81" y="1201"/>
                    </a:lnTo>
                    <a:lnTo>
                      <a:pt x="89" y="1287"/>
                    </a:lnTo>
                    <a:lnTo>
                      <a:pt x="108" y="1370"/>
                    </a:lnTo>
                    <a:lnTo>
                      <a:pt x="128" y="1375"/>
                    </a:lnTo>
                    <a:lnTo>
                      <a:pt x="150" y="1375"/>
                    </a:lnTo>
                    <a:lnTo>
                      <a:pt x="175" y="1373"/>
                    </a:lnTo>
                    <a:lnTo>
                      <a:pt x="200" y="1373"/>
                    </a:lnTo>
                    <a:lnTo>
                      <a:pt x="228" y="1370"/>
                    </a:lnTo>
                    <a:lnTo>
                      <a:pt x="252" y="1370"/>
                    </a:lnTo>
                    <a:lnTo>
                      <a:pt x="277" y="1373"/>
                    </a:lnTo>
                    <a:lnTo>
                      <a:pt x="302" y="1373"/>
                    </a:lnTo>
                    <a:lnTo>
                      <a:pt x="325" y="1378"/>
                    </a:lnTo>
                    <a:lnTo>
                      <a:pt x="327" y="1381"/>
                    </a:lnTo>
                    <a:lnTo>
                      <a:pt x="333" y="1386"/>
                    </a:lnTo>
                    <a:lnTo>
                      <a:pt x="333" y="1389"/>
                    </a:lnTo>
                    <a:lnTo>
                      <a:pt x="330" y="1395"/>
                    </a:lnTo>
                    <a:lnTo>
                      <a:pt x="313" y="1400"/>
                    </a:lnTo>
                    <a:lnTo>
                      <a:pt x="297" y="1403"/>
                    </a:lnTo>
                    <a:lnTo>
                      <a:pt x="280" y="1406"/>
                    </a:lnTo>
                    <a:lnTo>
                      <a:pt x="261" y="1409"/>
                    </a:lnTo>
                    <a:lnTo>
                      <a:pt x="244" y="1411"/>
                    </a:lnTo>
                    <a:lnTo>
                      <a:pt x="225" y="1414"/>
                    </a:lnTo>
                    <a:lnTo>
                      <a:pt x="208" y="1417"/>
                    </a:lnTo>
                    <a:lnTo>
                      <a:pt x="191" y="1420"/>
                    </a:lnTo>
                    <a:lnTo>
                      <a:pt x="178" y="1422"/>
                    </a:lnTo>
                    <a:lnTo>
                      <a:pt x="164" y="1428"/>
                    </a:lnTo>
                    <a:lnTo>
                      <a:pt x="150" y="1431"/>
                    </a:lnTo>
                    <a:lnTo>
                      <a:pt x="136" y="1434"/>
                    </a:lnTo>
                    <a:lnTo>
                      <a:pt x="119" y="1439"/>
                    </a:lnTo>
                    <a:lnTo>
                      <a:pt x="106" y="1442"/>
                    </a:lnTo>
                    <a:lnTo>
                      <a:pt x="92" y="1442"/>
                    </a:lnTo>
                    <a:lnTo>
                      <a:pt x="78" y="1445"/>
                    </a:lnTo>
                    <a:lnTo>
                      <a:pt x="33" y="1409"/>
                    </a:lnTo>
                    <a:lnTo>
                      <a:pt x="14" y="1356"/>
                    </a:lnTo>
                    <a:lnTo>
                      <a:pt x="9" y="1298"/>
                    </a:lnTo>
                    <a:lnTo>
                      <a:pt x="0" y="1239"/>
                    </a:lnTo>
                    <a:lnTo>
                      <a:pt x="0" y="1165"/>
                    </a:lnTo>
                    <a:lnTo>
                      <a:pt x="3" y="1090"/>
                    </a:lnTo>
                    <a:lnTo>
                      <a:pt x="6" y="1018"/>
                    </a:lnTo>
                    <a:lnTo>
                      <a:pt x="11" y="943"/>
                    </a:lnTo>
                    <a:lnTo>
                      <a:pt x="20" y="904"/>
                    </a:lnTo>
                    <a:lnTo>
                      <a:pt x="31" y="865"/>
                    </a:lnTo>
                    <a:lnTo>
                      <a:pt x="39" y="829"/>
                    </a:lnTo>
                    <a:lnTo>
                      <a:pt x="53" y="793"/>
                    </a:lnTo>
                    <a:lnTo>
                      <a:pt x="61" y="771"/>
                    </a:lnTo>
                    <a:lnTo>
                      <a:pt x="70" y="749"/>
                    </a:lnTo>
                    <a:lnTo>
                      <a:pt x="75" y="726"/>
                    </a:lnTo>
                    <a:lnTo>
                      <a:pt x="83" y="704"/>
                    </a:lnTo>
                    <a:lnTo>
                      <a:pt x="89" y="696"/>
                    </a:lnTo>
                    <a:lnTo>
                      <a:pt x="92" y="685"/>
                    </a:lnTo>
                    <a:lnTo>
                      <a:pt x="94" y="674"/>
                    </a:lnTo>
                    <a:lnTo>
                      <a:pt x="100" y="665"/>
                    </a:lnTo>
                    <a:lnTo>
                      <a:pt x="100" y="657"/>
                    </a:lnTo>
                    <a:lnTo>
                      <a:pt x="103" y="652"/>
                    </a:lnTo>
                    <a:lnTo>
                      <a:pt x="106" y="646"/>
                    </a:lnTo>
                    <a:lnTo>
                      <a:pt x="108" y="638"/>
                    </a:lnTo>
                    <a:lnTo>
                      <a:pt x="111" y="627"/>
                    </a:lnTo>
                    <a:lnTo>
                      <a:pt x="117" y="615"/>
                    </a:lnTo>
                    <a:lnTo>
                      <a:pt x="119" y="604"/>
                    </a:lnTo>
                    <a:lnTo>
                      <a:pt x="125" y="593"/>
                    </a:lnTo>
                    <a:lnTo>
                      <a:pt x="142" y="546"/>
                    </a:lnTo>
                    <a:lnTo>
                      <a:pt x="155" y="499"/>
                    </a:lnTo>
                    <a:lnTo>
                      <a:pt x="172" y="452"/>
                    </a:lnTo>
                    <a:lnTo>
                      <a:pt x="189" y="405"/>
                    </a:lnTo>
                    <a:lnTo>
                      <a:pt x="203" y="358"/>
                    </a:lnTo>
                    <a:lnTo>
                      <a:pt x="214" y="310"/>
                    </a:lnTo>
                    <a:lnTo>
                      <a:pt x="228" y="260"/>
                    </a:lnTo>
                    <a:lnTo>
                      <a:pt x="236" y="211"/>
                    </a:lnTo>
                    <a:lnTo>
                      <a:pt x="247" y="163"/>
                    </a:lnTo>
                    <a:lnTo>
                      <a:pt x="258" y="114"/>
                    </a:lnTo>
                    <a:lnTo>
                      <a:pt x="266" y="64"/>
                    </a:lnTo>
                    <a:lnTo>
                      <a:pt x="269" y="11"/>
                    </a:lnTo>
                    <a:lnTo>
                      <a:pt x="275" y="3"/>
                    </a:lnTo>
                    <a:lnTo>
                      <a:pt x="283" y="0"/>
                    </a:lnTo>
                    <a:lnTo>
                      <a:pt x="294" y="5"/>
                    </a:lnTo>
                    <a:lnTo>
                      <a:pt x="29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56040" y="6060960"/>
                <a:ext cx="303120" cy="181080"/>
              </a:xfrm>
              <a:custGeom>
                <a:avLst/>
                <a:gdLst/>
                <a:ahLst/>
                <a:rect l="l" t="t" r="r" b="b"/>
                <a:pathLst>
                  <a:path w="191" h="114">
                    <a:moveTo>
                      <a:pt x="191" y="14"/>
                    </a:moveTo>
                    <a:lnTo>
                      <a:pt x="191" y="28"/>
                    </a:lnTo>
                    <a:lnTo>
                      <a:pt x="186" y="39"/>
                    </a:lnTo>
                    <a:lnTo>
                      <a:pt x="180" y="50"/>
                    </a:lnTo>
                    <a:lnTo>
                      <a:pt x="169" y="58"/>
                    </a:lnTo>
                    <a:lnTo>
                      <a:pt x="152" y="66"/>
                    </a:lnTo>
                    <a:lnTo>
                      <a:pt x="136" y="72"/>
                    </a:lnTo>
                    <a:lnTo>
                      <a:pt x="119" y="78"/>
                    </a:lnTo>
                    <a:lnTo>
                      <a:pt x="103" y="78"/>
                    </a:lnTo>
                    <a:lnTo>
                      <a:pt x="83" y="80"/>
                    </a:lnTo>
                    <a:lnTo>
                      <a:pt x="66" y="86"/>
                    </a:lnTo>
                    <a:lnTo>
                      <a:pt x="50" y="91"/>
                    </a:lnTo>
                    <a:lnTo>
                      <a:pt x="33" y="100"/>
                    </a:lnTo>
                    <a:lnTo>
                      <a:pt x="25" y="103"/>
                    </a:lnTo>
                    <a:lnTo>
                      <a:pt x="19" y="108"/>
                    </a:lnTo>
                    <a:lnTo>
                      <a:pt x="11" y="114"/>
                    </a:lnTo>
                    <a:lnTo>
                      <a:pt x="3" y="111"/>
                    </a:lnTo>
                    <a:lnTo>
                      <a:pt x="0" y="94"/>
                    </a:lnTo>
                    <a:lnTo>
                      <a:pt x="5" y="83"/>
                    </a:lnTo>
                    <a:lnTo>
                      <a:pt x="14" y="72"/>
                    </a:lnTo>
                    <a:lnTo>
                      <a:pt x="25" y="64"/>
                    </a:lnTo>
                    <a:lnTo>
                      <a:pt x="42" y="53"/>
                    </a:lnTo>
                    <a:lnTo>
                      <a:pt x="61" y="47"/>
                    </a:lnTo>
                    <a:lnTo>
                      <a:pt x="80" y="42"/>
                    </a:lnTo>
                    <a:lnTo>
                      <a:pt x="100" y="36"/>
                    </a:lnTo>
                    <a:lnTo>
                      <a:pt x="119" y="30"/>
                    </a:lnTo>
                    <a:lnTo>
                      <a:pt x="139" y="22"/>
                    </a:lnTo>
                    <a:lnTo>
                      <a:pt x="158" y="14"/>
                    </a:lnTo>
                    <a:lnTo>
                      <a:pt x="175" y="3"/>
                    </a:lnTo>
                    <a:lnTo>
                      <a:pt x="180" y="0"/>
                    </a:lnTo>
                    <a:lnTo>
                      <a:pt x="183" y="3"/>
                    </a:lnTo>
                    <a:lnTo>
                      <a:pt x="188" y="8"/>
                    </a:lnTo>
                    <a:lnTo>
                      <a:pt x="1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-842760" y="6329160"/>
                <a:ext cx="968400" cy="665280"/>
              </a:xfrm>
              <a:custGeom>
                <a:avLst/>
                <a:gdLst/>
                <a:ahLst/>
                <a:rect l="l" t="t" r="r" b="b"/>
                <a:pathLst>
                  <a:path w="610" h="419">
                    <a:moveTo>
                      <a:pt x="136" y="6"/>
                    </a:moveTo>
                    <a:lnTo>
                      <a:pt x="136" y="36"/>
                    </a:lnTo>
                    <a:lnTo>
                      <a:pt x="122" y="64"/>
                    </a:lnTo>
                    <a:lnTo>
                      <a:pt x="102" y="86"/>
                    </a:lnTo>
                    <a:lnTo>
                      <a:pt x="80" y="105"/>
                    </a:lnTo>
                    <a:lnTo>
                      <a:pt x="83" y="117"/>
                    </a:lnTo>
                    <a:lnTo>
                      <a:pt x="94" y="125"/>
                    </a:lnTo>
                    <a:lnTo>
                      <a:pt x="105" y="136"/>
                    </a:lnTo>
                    <a:lnTo>
                      <a:pt x="116" y="144"/>
                    </a:lnTo>
                    <a:lnTo>
                      <a:pt x="133" y="155"/>
                    </a:lnTo>
                    <a:lnTo>
                      <a:pt x="147" y="164"/>
                    </a:lnTo>
                    <a:lnTo>
                      <a:pt x="161" y="172"/>
                    </a:lnTo>
                    <a:lnTo>
                      <a:pt x="177" y="180"/>
                    </a:lnTo>
                    <a:lnTo>
                      <a:pt x="197" y="194"/>
                    </a:lnTo>
                    <a:lnTo>
                      <a:pt x="216" y="205"/>
                    </a:lnTo>
                    <a:lnTo>
                      <a:pt x="235" y="219"/>
                    </a:lnTo>
                    <a:lnTo>
                      <a:pt x="255" y="230"/>
                    </a:lnTo>
                    <a:lnTo>
                      <a:pt x="271" y="244"/>
                    </a:lnTo>
                    <a:lnTo>
                      <a:pt x="291" y="255"/>
                    </a:lnTo>
                    <a:lnTo>
                      <a:pt x="310" y="269"/>
                    </a:lnTo>
                    <a:lnTo>
                      <a:pt x="330" y="280"/>
                    </a:lnTo>
                    <a:lnTo>
                      <a:pt x="341" y="286"/>
                    </a:lnTo>
                    <a:lnTo>
                      <a:pt x="352" y="291"/>
                    </a:lnTo>
                    <a:lnTo>
                      <a:pt x="360" y="297"/>
                    </a:lnTo>
                    <a:lnTo>
                      <a:pt x="371" y="302"/>
                    </a:lnTo>
                    <a:lnTo>
                      <a:pt x="382" y="308"/>
                    </a:lnTo>
                    <a:lnTo>
                      <a:pt x="393" y="313"/>
                    </a:lnTo>
                    <a:lnTo>
                      <a:pt x="405" y="319"/>
                    </a:lnTo>
                    <a:lnTo>
                      <a:pt x="416" y="322"/>
                    </a:lnTo>
                    <a:lnTo>
                      <a:pt x="424" y="325"/>
                    </a:lnTo>
                    <a:lnTo>
                      <a:pt x="435" y="330"/>
                    </a:lnTo>
                    <a:lnTo>
                      <a:pt x="446" y="333"/>
                    </a:lnTo>
                    <a:lnTo>
                      <a:pt x="457" y="338"/>
                    </a:lnTo>
                    <a:lnTo>
                      <a:pt x="468" y="341"/>
                    </a:lnTo>
                    <a:lnTo>
                      <a:pt x="479" y="344"/>
                    </a:lnTo>
                    <a:lnTo>
                      <a:pt x="493" y="344"/>
                    </a:lnTo>
                    <a:lnTo>
                      <a:pt x="504" y="347"/>
                    </a:lnTo>
                    <a:lnTo>
                      <a:pt x="524" y="349"/>
                    </a:lnTo>
                    <a:lnTo>
                      <a:pt x="546" y="349"/>
                    </a:lnTo>
                    <a:lnTo>
                      <a:pt x="565" y="344"/>
                    </a:lnTo>
                    <a:lnTo>
                      <a:pt x="582" y="333"/>
                    </a:lnTo>
                    <a:lnTo>
                      <a:pt x="590" y="333"/>
                    </a:lnTo>
                    <a:lnTo>
                      <a:pt x="596" y="325"/>
                    </a:lnTo>
                    <a:lnTo>
                      <a:pt x="599" y="322"/>
                    </a:lnTo>
                    <a:lnTo>
                      <a:pt x="607" y="327"/>
                    </a:lnTo>
                    <a:lnTo>
                      <a:pt x="610" y="333"/>
                    </a:lnTo>
                    <a:lnTo>
                      <a:pt x="610" y="338"/>
                    </a:lnTo>
                    <a:lnTo>
                      <a:pt x="610" y="344"/>
                    </a:lnTo>
                    <a:lnTo>
                      <a:pt x="607" y="349"/>
                    </a:lnTo>
                    <a:lnTo>
                      <a:pt x="604" y="355"/>
                    </a:lnTo>
                    <a:lnTo>
                      <a:pt x="601" y="363"/>
                    </a:lnTo>
                    <a:lnTo>
                      <a:pt x="599" y="369"/>
                    </a:lnTo>
                    <a:lnTo>
                      <a:pt x="596" y="377"/>
                    </a:lnTo>
                    <a:lnTo>
                      <a:pt x="585" y="388"/>
                    </a:lnTo>
                    <a:lnTo>
                      <a:pt x="574" y="397"/>
                    </a:lnTo>
                    <a:lnTo>
                      <a:pt x="563" y="405"/>
                    </a:lnTo>
                    <a:lnTo>
                      <a:pt x="549" y="410"/>
                    </a:lnTo>
                    <a:lnTo>
                      <a:pt x="532" y="416"/>
                    </a:lnTo>
                    <a:lnTo>
                      <a:pt x="518" y="419"/>
                    </a:lnTo>
                    <a:lnTo>
                      <a:pt x="502" y="416"/>
                    </a:lnTo>
                    <a:lnTo>
                      <a:pt x="488" y="413"/>
                    </a:lnTo>
                    <a:lnTo>
                      <a:pt x="471" y="410"/>
                    </a:lnTo>
                    <a:lnTo>
                      <a:pt x="457" y="405"/>
                    </a:lnTo>
                    <a:lnTo>
                      <a:pt x="441" y="399"/>
                    </a:lnTo>
                    <a:lnTo>
                      <a:pt x="427" y="394"/>
                    </a:lnTo>
                    <a:lnTo>
                      <a:pt x="416" y="391"/>
                    </a:lnTo>
                    <a:lnTo>
                      <a:pt x="405" y="386"/>
                    </a:lnTo>
                    <a:lnTo>
                      <a:pt x="393" y="383"/>
                    </a:lnTo>
                    <a:lnTo>
                      <a:pt x="382" y="377"/>
                    </a:lnTo>
                    <a:lnTo>
                      <a:pt x="355" y="361"/>
                    </a:lnTo>
                    <a:lnTo>
                      <a:pt x="324" y="341"/>
                    </a:lnTo>
                    <a:lnTo>
                      <a:pt x="296" y="325"/>
                    </a:lnTo>
                    <a:lnTo>
                      <a:pt x="271" y="305"/>
                    </a:lnTo>
                    <a:lnTo>
                      <a:pt x="244" y="286"/>
                    </a:lnTo>
                    <a:lnTo>
                      <a:pt x="216" y="266"/>
                    </a:lnTo>
                    <a:lnTo>
                      <a:pt x="191" y="244"/>
                    </a:lnTo>
                    <a:lnTo>
                      <a:pt x="166" y="225"/>
                    </a:lnTo>
                    <a:lnTo>
                      <a:pt x="152" y="216"/>
                    </a:lnTo>
                    <a:lnTo>
                      <a:pt x="138" y="205"/>
                    </a:lnTo>
                    <a:lnTo>
                      <a:pt x="125" y="197"/>
                    </a:lnTo>
                    <a:lnTo>
                      <a:pt x="111" y="186"/>
                    </a:lnTo>
                    <a:lnTo>
                      <a:pt x="97" y="175"/>
                    </a:lnTo>
                    <a:lnTo>
                      <a:pt x="83" y="164"/>
                    </a:lnTo>
                    <a:lnTo>
                      <a:pt x="72" y="155"/>
                    </a:lnTo>
                    <a:lnTo>
                      <a:pt x="58" y="144"/>
                    </a:lnTo>
                    <a:lnTo>
                      <a:pt x="44" y="139"/>
                    </a:lnTo>
                    <a:lnTo>
                      <a:pt x="33" y="130"/>
                    </a:lnTo>
                    <a:lnTo>
                      <a:pt x="22" y="122"/>
                    </a:lnTo>
                    <a:lnTo>
                      <a:pt x="11" y="114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0" y="94"/>
                    </a:lnTo>
                    <a:lnTo>
                      <a:pt x="3" y="86"/>
                    </a:lnTo>
                    <a:lnTo>
                      <a:pt x="11" y="75"/>
                    </a:lnTo>
                    <a:lnTo>
                      <a:pt x="22" y="69"/>
                    </a:lnTo>
                    <a:lnTo>
                      <a:pt x="33" y="61"/>
                    </a:lnTo>
                    <a:lnTo>
                      <a:pt x="47" y="56"/>
                    </a:lnTo>
                    <a:lnTo>
                      <a:pt x="58" y="53"/>
                    </a:lnTo>
                    <a:lnTo>
                      <a:pt x="69" y="44"/>
                    </a:lnTo>
                    <a:lnTo>
                      <a:pt x="80" y="39"/>
                    </a:lnTo>
                    <a:lnTo>
                      <a:pt x="88" y="28"/>
                    </a:lnTo>
                    <a:lnTo>
                      <a:pt x="97" y="19"/>
                    </a:lnTo>
                    <a:lnTo>
                      <a:pt x="108" y="11"/>
                    </a:lnTo>
                    <a:lnTo>
                      <a:pt x="116" y="3"/>
                    </a:lnTo>
                    <a:lnTo>
                      <a:pt x="130" y="0"/>
                    </a:lnTo>
                    <a:lnTo>
                      <a:pt x="1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-566640" y="6329160"/>
                <a:ext cx="585720" cy="312840"/>
              </a:xfrm>
              <a:custGeom>
                <a:avLst/>
                <a:gdLst/>
                <a:ahLst/>
                <a:rect l="l" t="t" r="r" b="b"/>
                <a:pathLst>
                  <a:path w="369" h="197">
                    <a:moveTo>
                      <a:pt x="275" y="89"/>
                    </a:moveTo>
                    <a:lnTo>
                      <a:pt x="291" y="103"/>
                    </a:lnTo>
                    <a:lnTo>
                      <a:pt x="305" y="117"/>
                    </a:lnTo>
                    <a:lnTo>
                      <a:pt x="319" y="130"/>
                    </a:lnTo>
                    <a:lnTo>
                      <a:pt x="336" y="144"/>
                    </a:lnTo>
                    <a:lnTo>
                      <a:pt x="336" y="150"/>
                    </a:lnTo>
                    <a:lnTo>
                      <a:pt x="339" y="153"/>
                    </a:lnTo>
                    <a:lnTo>
                      <a:pt x="344" y="155"/>
                    </a:lnTo>
                    <a:lnTo>
                      <a:pt x="350" y="158"/>
                    </a:lnTo>
                    <a:lnTo>
                      <a:pt x="355" y="166"/>
                    </a:lnTo>
                    <a:lnTo>
                      <a:pt x="361" y="175"/>
                    </a:lnTo>
                    <a:lnTo>
                      <a:pt x="364" y="183"/>
                    </a:lnTo>
                    <a:lnTo>
                      <a:pt x="369" y="191"/>
                    </a:lnTo>
                    <a:lnTo>
                      <a:pt x="352" y="197"/>
                    </a:lnTo>
                    <a:lnTo>
                      <a:pt x="339" y="194"/>
                    </a:lnTo>
                    <a:lnTo>
                      <a:pt x="325" y="191"/>
                    </a:lnTo>
                    <a:lnTo>
                      <a:pt x="311" y="183"/>
                    </a:lnTo>
                    <a:lnTo>
                      <a:pt x="297" y="175"/>
                    </a:lnTo>
                    <a:lnTo>
                      <a:pt x="286" y="166"/>
                    </a:lnTo>
                    <a:lnTo>
                      <a:pt x="272" y="158"/>
                    </a:lnTo>
                    <a:lnTo>
                      <a:pt x="258" y="150"/>
                    </a:lnTo>
                    <a:lnTo>
                      <a:pt x="242" y="142"/>
                    </a:lnTo>
                    <a:lnTo>
                      <a:pt x="225" y="133"/>
                    </a:lnTo>
                    <a:lnTo>
                      <a:pt x="211" y="125"/>
                    </a:lnTo>
                    <a:lnTo>
                      <a:pt x="194" y="117"/>
                    </a:lnTo>
                    <a:lnTo>
                      <a:pt x="178" y="108"/>
                    </a:lnTo>
                    <a:lnTo>
                      <a:pt x="161" y="100"/>
                    </a:lnTo>
                    <a:lnTo>
                      <a:pt x="145" y="89"/>
                    </a:lnTo>
                    <a:lnTo>
                      <a:pt x="131" y="80"/>
                    </a:lnTo>
                    <a:lnTo>
                      <a:pt x="114" y="75"/>
                    </a:lnTo>
                    <a:lnTo>
                      <a:pt x="100" y="67"/>
                    </a:lnTo>
                    <a:lnTo>
                      <a:pt x="86" y="58"/>
                    </a:lnTo>
                    <a:lnTo>
                      <a:pt x="70" y="50"/>
                    </a:lnTo>
                    <a:lnTo>
                      <a:pt x="56" y="44"/>
                    </a:lnTo>
                    <a:lnTo>
                      <a:pt x="39" y="36"/>
                    </a:lnTo>
                    <a:lnTo>
                      <a:pt x="23" y="31"/>
                    </a:lnTo>
                    <a:lnTo>
                      <a:pt x="6" y="28"/>
                    </a:lnTo>
                    <a:lnTo>
                      <a:pt x="0" y="22"/>
                    </a:lnTo>
                    <a:lnTo>
                      <a:pt x="3" y="14"/>
                    </a:lnTo>
                    <a:lnTo>
                      <a:pt x="3" y="8"/>
                    </a:lnTo>
                    <a:lnTo>
                      <a:pt x="6" y="0"/>
                    </a:lnTo>
                    <a:lnTo>
                      <a:pt x="42" y="3"/>
                    </a:lnTo>
                    <a:lnTo>
                      <a:pt x="78" y="8"/>
                    </a:lnTo>
                    <a:lnTo>
                      <a:pt x="114" y="19"/>
                    </a:lnTo>
                    <a:lnTo>
                      <a:pt x="147" y="31"/>
                    </a:lnTo>
                    <a:lnTo>
                      <a:pt x="181" y="44"/>
                    </a:lnTo>
                    <a:lnTo>
                      <a:pt x="211" y="58"/>
                    </a:lnTo>
                    <a:lnTo>
                      <a:pt x="244" y="72"/>
                    </a:lnTo>
                    <a:lnTo>
                      <a:pt x="27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27080" y="6338880"/>
                <a:ext cx="317520" cy="176040"/>
              </a:xfrm>
              <a:custGeom>
                <a:avLst/>
                <a:gdLst/>
                <a:ahLst/>
                <a:rect l="l" t="t" r="r" b="b"/>
                <a:pathLst>
                  <a:path w="200" h="111">
                    <a:moveTo>
                      <a:pt x="200" y="8"/>
                    </a:moveTo>
                    <a:lnTo>
                      <a:pt x="197" y="25"/>
                    </a:lnTo>
                    <a:lnTo>
                      <a:pt x="194" y="41"/>
                    </a:lnTo>
                    <a:lnTo>
                      <a:pt x="186" y="58"/>
                    </a:lnTo>
                    <a:lnTo>
                      <a:pt x="180" y="74"/>
                    </a:lnTo>
                    <a:lnTo>
                      <a:pt x="172" y="88"/>
                    </a:lnTo>
                    <a:lnTo>
                      <a:pt x="158" y="97"/>
                    </a:lnTo>
                    <a:lnTo>
                      <a:pt x="141" y="102"/>
                    </a:lnTo>
                    <a:lnTo>
                      <a:pt x="127" y="111"/>
                    </a:lnTo>
                    <a:lnTo>
                      <a:pt x="111" y="108"/>
                    </a:lnTo>
                    <a:lnTo>
                      <a:pt x="94" y="108"/>
                    </a:lnTo>
                    <a:lnTo>
                      <a:pt x="78" y="111"/>
                    </a:lnTo>
                    <a:lnTo>
                      <a:pt x="61" y="111"/>
                    </a:lnTo>
                    <a:lnTo>
                      <a:pt x="42" y="108"/>
                    </a:lnTo>
                    <a:lnTo>
                      <a:pt x="28" y="105"/>
                    </a:lnTo>
                    <a:lnTo>
                      <a:pt x="14" y="99"/>
                    </a:lnTo>
                    <a:lnTo>
                      <a:pt x="0" y="88"/>
                    </a:lnTo>
                    <a:lnTo>
                      <a:pt x="5" y="77"/>
                    </a:lnTo>
                    <a:lnTo>
                      <a:pt x="17" y="72"/>
                    </a:lnTo>
                    <a:lnTo>
                      <a:pt x="30" y="72"/>
                    </a:lnTo>
                    <a:lnTo>
                      <a:pt x="42" y="69"/>
                    </a:lnTo>
                    <a:lnTo>
                      <a:pt x="55" y="66"/>
                    </a:lnTo>
                    <a:lnTo>
                      <a:pt x="69" y="66"/>
                    </a:lnTo>
                    <a:lnTo>
                      <a:pt x="83" y="63"/>
                    </a:lnTo>
                    <a:lnTo>
                      <a:pt x="97" y="61"/>
                    </a:lnTo>
                    <a:lnTo>
                      <a:pt x="111" y="55"/>
                    </a:lnTo>
                    <a:lnTo>
                      <a:pt x="122" y="50"/>
                    </a:lnTo>
                    <a:lnTo>
                      <a:pt x="133" y="41"/>
                    </a:lnTo>
                    <a:lnTo>
                      <a:pt x="141" y="30"/>
                    </a:lnTo>
                    <a:lnTo>
                      <a:pt x="144" y="27"/>
                    </a:lnTo>
                    <a:lnTo>
                      <a:pt x="150" y="27"/>
                    </a:lnTo>
                    <a:lnTo>
                      <a:pt x="152" y="25"/>
                    </a:lnTo>
                    <a:lnTo>
                      <a:pt x="155" y="19"/>
                    </a:lnTo>
                    <a:lnTo>
                      <a:pt x="164" y="13"/>
                    </a:lnTo>
                    <a:lnTo>
                      <a:pt x="169" y="5"/>
                    </a:lnTo>
                    <a:lnTo>
                      <a:pt x="175" y="0"/>
                    </a:lnTo>
                    <a:lnTo>
                      <a:pt x="186" y="2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7" y="5"/>
                    </a:lnTo>
                    <a:lnTo>
                      <a:pt x="20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801800" y="6413400"/>
                <a:ext cx="973440" cy="246240"/>
              </a:xfrm>
              <a:custGeom>
                <a:avLst/>
                <a:gdLst/>
                <a:ahLst/>
                <a:rect l="l" t="t" r="r" b="b"/>
                <a:pathLst>
                  <a:path w="613" h="155">
                    <a:moveTo>
                      <a:pt x="613" y="5"/>
                    </a:moveTo>
                    <a:lnTo>
                      <a:pt x="610" y="22"/>
                    </a:lnTo>
                    <a:lnTo>
                      <a:pt x="596" y="33"/>
                    </a:lnTo>
                    <a:lnTo>
                      <a:pt x="579" y="44"/>
                    </a:lnTo>
                    <a:lnTo>
                      <a:pt x="565" y="52"/>
                    </a:lnTo>
                    <a:lnTo>
                      <a:pt x="546" y="64"/>
                    </a:lnTo>
                    <a:lnTo>
                      <a:pt x="527" y="75"/>
                    </a:lnTo>
                    <a:lnTo>
                      <a:pt x="507" y="83"/>
                    </a:lnTo>
                    <a:lnTo>
                      <a:pt x="488" y="94"/>
                    </a:lnTo>
                    <a:lnTo>
                      <a:pt x="449" y="111"/>
                    </a:lnTo>
                    <a:lnTo>
                      <a:pt x="407" y="125"/>
                    </a:lnTo>
                    <a:lnTo>
                      <a:pt x="366" y="136"/>
                    </a:lnTo>
                    <a:lnTo>
                      <a:pt x="321" y="147"/>
                    </a:lnTo>
                    <a:lnTo>
                      <a:pt x="277" y="152"/>
                    </a:lnTo>
                    <a:lnTo>
                      <a:pt x="233" y="155"/>
                    </a:lnTo>
                    <a:lnTo>
                      <a:pt x="191" y="150"/>
                    </a:lnTo>
                    <a:lnTo>
                      <a:pt x="147" y="138"/>
                    </a:lnTo>
                    <a:lnTo>
                      <a:pt x="127" y="136"/>
                    </a:lnTo>
                    <a:lnTo>
                      <a:pt x="111" y="130"/>
                    </a:lnTo>
                    <a:lnTo>
                      <a:pt x="94" y="122"/>
                    </a:lnTo>
                    <a:lnTo>
                      <a:pt x="77" y="113"/>
                    </a:lnTo>
                    <a:lnTo>
                      <a:pt x="61" y="105"/>
                    </a:lnTo>
                    <a:lnTo>
                      <a:pt x="41" y="97"/>
                    </a:lnTo>
                    <a:lnTo>
                      <a:pt x="25" y="86"/>
                    </a:lnTo>
                    <a:lnTo>
                      <a:pt x="8" y="77"/>
                    </a:lnTo>
                    <a:lnTo>
                      <a:pt x="8" y="75"/>
                    </a:lnTo>
                    <a:lnTo>
                      <a:pt x="5" y="75"/>
                    </a:lnTo>
                    <a:lnTo>
                      <a:pt x="3" y="72"/>
                    </a:lnTo>
                    <a:lnTo>
                      <a:pt x="0" y="69"/>
                    </a:lnTo>
                    <a:lnTo>
                      <a:pt x="3" y="64"/>
                    </a:lnTo>
                    <a:lnTo>
                      <a:pt x="5" y="61"/>
                    </a:lnTo>
                    <a:lnTo>
                      <a:pt x="8" y="55"/>
                    </a:lnTo>
                    <a:lnTo>
                      <a:pt x="14" y="52"/>
                    </a:lnTo>
                    <a:lnTo>
                      <a:pt x="53" y="61"/>
                    </a:lnTo>
                    <a:lnTo>
                      <a:pt x="94" y="66"/>
                    </a:lnTo>
                    <a:lnTo>
                      <a:pt x="136" y="72"/>
                    </a:lnTo>
                    <a:lnTo>
                      <a:pt x="175" y="77"/>
                    </a:lnTo>
                    <a:lnTo>
                      <a:pt x="216" y="80"/>
                    </a:lnTo>
                    <a:lnTo>
                      <a:pt x="258" y="83"/>
                    </a:lnTo>
                    <a:lnTo>
                      <a:pt x="302" y="83"/>
                    </a:lnTo>
                    <a:lnTo>
                      <a:pt x="344" y="80"/>
                    </a:lnTo>
                    <a:lnTo>
                      <a:pt x="366" y="75"/>
                    </a:lnTo>
                    <a:lnTo>
                      <a:pt x="388" y="72"/>
                    </a:lnTo>
                    <a:lnTo>
                      <a:pt x="413" y="66"/>
                    </a:lnTo>
                    <a:lnTo>
                      <a:pt x="435" y="61"/>
                    </a:lnTo>
                    <a:lnTo>
                      <a:pt x="457" y="58"/>
                    </a:lnTo>
                    <a:lnTo>
                      <a:pt x="479" y="50"/>
                    </a:lnTo>
                    <a:lnTo>
                      <a:pt x="499" y="44"/>
                    </a:lnTo>
                    <a:lnTo>
                      <a:pt x="521" y="36"/>
                    </a:lnTo>
                    <a:lnTo>
                      <a:pt x="538" y="30"/>
                    </a:lnTo>
                    <a:lnTo>
                      <a:pt x="552" y="22"/>
                    </a:lnTo>
                    <a:lnTo>
                      <a:pt x="565" y="16"/>
                    </a:lnTo>
                    <a:lnTo>
                      <a:pt x="582" y="11"/>
                    </a:lnTo>
                    <a:lnTo>
                      <a:pt x="590" y="8"/>
                    </a:lnTo>
                    <a:lnTo>
                      <a:pt x="599" y="3"/>
                    </a:lnTo>
                    <a:lnTo>
                      <a:pt x="604" y="0"/>
                    </a:lnTo>
                    <a:lnTo>
                      <a:pt x="6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20800" y="6848280"/>
                <a:ext cx="531720" cy="211320"/>
              </a:xfrm>
              <a:custGeom>
                <a:avLst/>
                <a:gdLst/>
                <a:ahLst/>
                <a:rect l="l" t="t" r="r" b="b"/>
                <a:pathLst>
                  <a:path w="335" h="133">
                    <a:moveTo>
                      <a:pt x="335" y="11"/>
                    </a:moveTo>
                    <a:lnTo>
                      <a:pt x="327" y="34"/>
                    </a:lnTo>
                    <a:lnTo>
                      <a:pt x="307" y="47"/>
                    </a:lnTo>
                    <a:lnTo>
                      <a:pt x="285" y="61"/>
                    </a:lnTo>
                    <a:lnTo>
                      <a:pt x="266" y="75"/>
                    </a:lnTo>
                    <a:lnTo>
                      <a:pt x="257" y="78"/>
                    </a:lnTo>
                    <a:lnTo>
                      <a:pt x="252" y="83"/>
                    </a:lnTo>
                    <a:lnTo>
                      <a:pt x="244" y="89"/>
                    </a:lnTo>
                    <a:lnTo>
                      <a:pt x="235" y="92"/>
                    </a:lnTo>
                    <a:lnTo>
                      <a:pt x="213" y="103"/>
                    </a:lnTo>
                    <a:lnTo>
                      <a:pt x="191" y="114"/>
                    </a:lnTo>
                    <a:lnTo>
                      <a:pt x="169" y="122"/>
                    </a:lnTo>
                    <a:lnTo>
                      <a:pt x="144" y="128"/>
                    </a:lnTo>
                    <a:lnTo>
                      <a:pt x="122" y="133"/>
                    </a:lnTo>
                    <a:lnTo>
                      <a:pt x="97" y="133"/>
                    </a:lnTo>
                    <a:lnTo>
                      <a:pt x="72" y="133"/>
                    </a:lnTo>
                    <a:lnTo>
                      <a:pt x="50" y="125"/>
                    </a:lnTo>
                    <a:lnTo>
                      <a:pt x="30" y="114"/>
                    </a:lnTo>
                    <a:lnTo>
                      <a:pt x="14" y="97"/>
                    </a:lnTo>
                    <a:lnTo>
                      <a:pt x="2" y="75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16" y="47"/>
                    </a:lnTo>
                    <a:lnTo>
                      <a:pt x="25" y="56"/>
                    </a:lnTo>
                    <a:lnTo>
                      <a:pt x="33" y="59"/>
                    </a:lnTo>
                    <a:lnTo>
                      <a:pt x="44" y="61"/>
                    </a:lnTo>
                    <a:lnTo>
                      <a:pt x="58" y="64"/>
                    </a:lnTo>
                    <a:lnTo>
                      <a:pt x="69" y="67"/>
                    </a:lnTo>
                    <a:lnTo>
                      <a:pt x="83" y="70"/>
                    </a:lnTo>
                    <a:lnTo>
                      <a:pt x="97" y="70"/>
                    </a:lnTo>
                    <a:lnTo>
                      <a:pt x="111" y="70"/>
                    </a:lnTo>
                    <a:lnTo>
                      <a:pt x="122" y="67"/>
                    </a:lnTo>
                    <a:lnTo>
                      <a:pt x="135" y="64"/>
                    </a:lnTo>
                    <a:lnTo>
                      <a:pt x="155" y="64"/>
                    </a:lnTo>
                    <a:lnTo>
                      <a:pt x="172" y="59"/>
                    </a:lnTo>
                    <a:lnTo>
                      <a:pt x="191" y="53"/>
                    </a:lnTo>
                    <a:lnTo>
                      <a:pt x="208" y="45"/>
                    </a:lnTo>
                    <a:lnTo>
                      <a:pt x="221" y="39"/>
                    </a:lnTo>
                    <a:lnTo>
                      <a:pt x="238" y="36"/>
                    </a:lnTo>
                    <a:lnTo>
                      <a:pt x="252" y="28"/>
                    </a:lnTo>
                    <a:lnTo>
                      <a:pt x="266" y="22"/>
                    </a:lnTo>
                    <a:lnTo>
                      <a:pt x="280" y="17"/>
                    </a:lnTo>
                    <a:lnTo>
                      <a:pt x="294" y="11"/>
                    </a:lnTo>
                    <a:lnTo>
                      <a:pt x="307" y="6"/>
                    </a:lnTo>
                    <a:lnTo>
                      <a:pt x="321" y="0"/>
                    </a:lnTo>
                    <a:lnTo>
                      <a:pt x="327" y="0"/>
                    </a:lnTo>
                    <a:lnTo>
                      <a:pt x="330" y="3"/>
                    </a:lnTo>
                    <a:lnTo>
                      <a:pt x="335" y="9"/>
                    </a:lnTo>
                    <a:lnTo>
                      <a:pt x="3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8240" y="7307280"/>
                <a:ext cx="374760" cy="201600"/>
              </a:xfrm>
              <a:custGeom>
                <a:avLst/>
                <a:gdLst/>
                <a:ahLst/>
                <a:rect l="l" t="t" r="r" b="b"/>
                <a:pathLst>
                  <a:path w="236" h="127">
                    <a:moveTo>
                      <a:pt x="236" y="14"/>
                    </a:moveTo>
                    <a:lnTo>
                      <a:pt x="230" y="22"/>
                    </a:lnTo>
                    <a:lnTo>
                      <a:pt x="222" y="30"/>
                    </a:lnTo>
                    <a:lnTo>
                      <a:pt x="213" y="39"/>
                    </a:lnTo>
                    <a:lnTo>
                      <a:pt x="208" y="47"/>
                    </a:lnTo>
                    <a:lnTo>
                      <a:pt x="191" y="63"/>
                    </a:lnTo>
                    <a:lnTo>
                      <a:pt x="175" y="77"/>
                    </a:lnTo>
                    <a:lnTo>
                      <a:pt x="155" y="94"/>
                    </a:lnTo>
                    <a:lnTo>
                      <a:pt x="136" y="108"/>
                    </a:lnTo>
                    <a:lnTo>
                      <a:pt x="114" y="119"/>
                    </a:lnTo>
                    <a:lnTo>
                      <a:pt x="91" y="124"/>
                    </a:lnTo>
                    <a:lnTo>
                      <a:pt x="66" y="127"/>
                    </a:lnTo>
                    <a:lnTo>
                      <a:pt x="42" y="122"/>
                    </a:lnTo>
                    <a:lnTo>
                      <a:pt x="25" y="108"/>
                    </a:lnTo>
                    <a:lnTo>
                      <a:pt x="11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11" y="50"/>
                    </a:lnTo>
                    <a:lnTo>
                      <a:pt x="19" y="50"/>
                    </a:lnTo>
                    <a:lnTo>
                      <a:pt x="28" y="52"/>
                    </a:lnTo>
                    <a:lnTo>
                      <a:pt x="36" y="55"/>
                    </a:lnTo>
                    <a:lnTo>
                      <a:pt x="42" y="58"/>
                    </a:lnTo>
                    <a:lnTo>
                      <a:pt x="44" y="63"/>
                    </a:lnTo>
                    <a:lnTo>
                      <a:pt x="47" y="66"/>
                    </a:lnTo>
                    <a:lnTo>
                      <a:pt x="53" y="66"/>
                    </a:lnTo>
                    <a:lnTo>
                      <a:pt x="75" y="63"/>
                    </a:lnTo>
                    <a:lnTo>
                      <a:pt x="97" y="58"/>
                    </a:lnTo>
                    <a:lnTo>
                      <a:pt x="116" y="50"/>
                    </a:lnTo>
                    <a:lnTo>
                      <a:pt x="136" y="39"/>
                    </a:lnTo>
                    <a:lnTo>
                      <a:pt x="155" y="30"/>
                    </a:lnTo>
                    <a:lnTo>
                      <a:pt x="175" y="19"/>
                    </a:lnTo>
                    <a:lnTo>
                      <a:pt x="197" y="8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2"/>
                    </a:lnTo>
                    <a:lnTo>
                      <a:pt x="236" y="5"/>
                    </a:lnTo>
                    <a:lnTo>
                      <a:pt x="2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595520" y="8258040"/>
                <a:ext cx="154080" cy="879480"/>
              </a:xfrm>
              <a:custGeom>
                <a:avLst/>
                <a:gdLst/>
                <a:ahLst/>
                <a:rect l="l" t="t" r="r" b="b"/>
                <a:pathLst>
                  <a:path w="97" h="554">
                    <a:moveTo>
                      <a:pt x="80" y="8"/>
                    </a:moveTo>
                    <a:lnTo>
                      <a:pt x="74" y="94"/>
                    </a:lnTo>
                    <a:lnTo>
                      <a:pt x="69" y="180"/>
                    </a:lnTo>
                    <a:lnTo>
                      <a:pt x="69" y="266"/>
                    </a:lnTo>
                    <a:lnTo>
                      <a:pt x="77" y="352"/>
                    </a:lnTo>
                    <a:lnTo>
                      <a:pt x="80" y="399"/>
                    </a:lnTo>
                    <a:lnTo>
                      <a:pt x="83" y="449"/>
                    </a:lnTo>
                    <a:lnTo>
                      <a:pt x="86" y="499"/>
                    </a:lnTo>
                    <a:lnTo>
                      <a:pt x="97" y="546"/>
                    </a:lnTo>
                    <a:lnTo>
                      <a:pt x="91" y="552"/>
                    </a:lnTo>
                    <a:lnTo>
                      <a:pt x="83" y="554"/>
                    </a:lnTo>
                    <a:lnTo>
                      <a:pt x="74" y="554"/>
                    </a:lnTo>
                    <a:lnTo>
                      <a:pt x="69" y="554"/>
                    </a:lnTo>
                    <a:lnTo>
                      <a:pt x="61" y="540"/>
                    </a:lnTo>
                    <a:lnTo>
                      <a:pt x="55" y="524"/>
                    </a:lnTo>
                    <a:lnTo>
                      <a:pt x="52" y="510"/>
                    </a:lnTo>
                    <a:lnTo>
                      <a:pt x="47" y="493"/>
                    </a:lnTo>
                    <a:lnTo>
                      <a:pt x="30" y="396"/>
                    </a:lnTo>
                    <a:lnTo>
                      <a:pt x="13" y="299"/>
                    </a:lnTo>
                    <a:lnTo>
                      <a:pt x="2" y="202"/>
                    </a:lnTo>
                    <a:lnTo>
                      <a:pt x="0" y="102"/>
                    </a:lnTo>
                    <a:lnTo>
                      <a:pt x="5" y="83"/>
                    </a:lnTo>
                    <a:lnTo>
                      <a:pt x="16" y="63"/>
                    </a:lnTo>
                    <a:lnTo>
                      <a:pt x="27" y="47"/>
                    </a:lnTo>
                    <a:lnTo>
                      <a:pt x="41" y="33"/>
                    </a:lnTo>
                    <a:lnTo>
                      <a:pt x="47" y="19"/>
                    </a:lnTo>
                    <a:lnTo>
                      <a:pt x="55" y="5"/>
                    </a:lnTo>
                    <a:lnTo>
                      <a:pt x="66" y="0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4240" y="8385120"/>
                <a:ext cx="1341360" cy="1017720"/>
              </a:xfrm>
              <a:custGeom>
                <a:avLst/>
                <a:gdLst/>
                <a:ahLst/>
                <a:rect l="l" t="t" r="r" b="b"/>
                <a:pathLst>
                  <a:path w="845" h="641">
                    <a:moveTo>
                      <a:pt x="28" y="25"/>
                    </a:moveTo>
                    <a:lnTo>
                      <a:pt x="41" y="108"/>
                    </a:lnTo>
                    <a:lnTo>
                      <a:pt x="58" y="186"/>
                    </a:lnTo>
                    <a:lnTo>
                      <a:pt x="75" y="266"/>
                    </a:lnTo>
                    <a:lnTo>
                      <a:pt x="89" y="347"/>
                    </a:lnTo>
                    <a:lnTo>
                      <a:pt x="100" y="374"/>
                    </a:lnTo>
                    <a:lnTo>
                      <a:pt x="111" y="402"/>
                    </a:lnTo>
                    <a:lnTo>
                      <a:pt x="119" y="430"/>
                    </a:lnTo>
                    <a:lnTo>
                      <a:pt x="130" y="455"/>
                    </a:lnTo>
                    <a:lnTo>
                      <a:pt x="141" y="483"/>
                    </a:lnTo>
                    <a:lnTo>
                      <a:pt x="158" y="508"/>
                    </a:lnTo>
                    <a:lnTo>
                      <a:pt x="174" y="530"/>
                    </a:lnTo>
                    <a:lnTo>
                      <a:pt x="197" y="549"/>
                    </a:lnTo>
                    <a:lnTo>
                      <a:pt x="213" y="558"/>
                    </a:lnTo>
                    <a:lnTo>
                      <a:pt x="230" y="566"/>
                    </a:lnTo>
                    <a:lnTo>
                      <a:pt x="247" y="571"/>
                    </a:lnTo>
                    <a:lnTo>
                      <a:pt x="266" y="574"/>
                    </a:lnTo>
                    <a:lnTo>
                      <a:pt x="285" y="577"/>
                    </a:lnTo>
                    <a:lnTo>
                      <a:pt x="305" y="580"/>
                    </a:lnTo>
                    <a:lnTo>
                      <a:pt x="324" y="582"/>
                    </a:lnTo>
                    <a:lnTo>
                      <a:pt x="344" y="585"/>
                    </a:lnTo>
                    <a:lnTo>
                      <a:pt x="374" y="585"/>
                    </a:lnTo>
                    <a:lnTo>
                      <a:pt x="405" y="588"/>
                    </a:lnTo>
                    <a:lnTo>
                      <a:pt x="435" y="588"/>
                    </a:lnTo>
                    <a:lnTo>
                      <a:pt x="466" y="588"/>
                    </a:lnTo>
                    <a:lnTo>
                      <a:pt x="496" y="585"/>
                    </a:lnTo>
                    <a:lnTo>
                      <a:pt x="527" y="585"/>
                    </a:lnTo>
                    <a:lnTo>
                      <a:pt x="557" y="582"/>
                    </a:lnTo>
                    <a:lnTo>
                      <a:pt x="588" y="580"/>
                    </a:lnTo>
                    <a:lnTo>
                      <a:pt x="618" y="577"/>
                    </a:lnTo>
                    <a:lnTo>
                      <a:pt x="649" y="574"/>
                    </a:lnTo>
                    <a:lnTo>
                      <a:pt x="679" y="571"/>
                    </a:lnTo>
                    <a:lnTo>
                      <a:pt x="709" y="569"/>
                    </a:lnTo>
                    <a:lnTo>
                      <a:pt x="740" y="563"/>
                    </a:lnTo>
                    <a:lnTo>
                      <a:pt x="770" y="560"/>
                    </a:lnTo>
                    <a:lnTo>
                      <a:pt x="798" y="555"/>
                    </a:lnTo>
                    <a:lnTo>
                      <a:pt x="829" y="549"/>
                    </a:lnTo>
                    <a:lnTo>
                      <a:pt x="831" y="544"/>
                    </a:lnTo>
                    <a:lnTo>
                      <a:pt x="834" y="538"/>
                    </a:lnTo>
                    <a:lnTo>
                      <a:pt x="837" y="535"/>
                    </a:lnTo>
                    <a:lnTo>
                      <a:pt x="843" y="538"/>
                    </a:lnTo>
                    <a:lnTo>
                      <a:pt x="845" y="552"/>
                    </a:lnTo>
                    <a:lnTo>
                      <a:pt x="840" y="563"/>
                    </a:lnTo>
                    <a:lnTo>
                      <a:pt x="831" y="571"/>
                    </a:lnTo>
                    <a:lnTo>
                      <a:pt x="823" y="580"/>
                    </a:lnTo>
                    <a:lnTo>
                      <a:pt x="809" y="580"/>
                    </a:lnTo>
                    <a:lnTo>
                      <a:pt x="798" y="582"/>
                    </a:lnTo>
                    <a:lnTo>
                      <a:pt x="787" y="585"/>
                    </a:lnTo>
                    <a:lnTo>
                      <a:pt x="776" y="588"/>
                    </a:lnTo>
                    <a:lnTo>
                      <a:pt x="762" y="591"/>
                    </a:lnTo>
                    <a:lnTo>
                      <a:pt x="751" y="594"/>
                    </a:lnTo>
                    <a:lnTo>
                      <a:pt x="740" y="596"/>
                    </a:lnTo>
                    <a:lnTo>
                      <a:pt x="726" y="596"/>
                    </a:lnTo>
                    <a:lnTo>
                      <a:pt x="693" y="599"/>
                    </a:lnTo>
                    <a:lnTo>
                      <a:pt x="657" y="605"/>
                    </a:lnTo>
                    <a:lnTo>
                      <a:pt x="624" y="607"/>
                    </a:lnTo>
                    <a:lnTo>
                      <a:pt x="588" y="613"/>
                    </a:lnTo>
                    <a:lnTo>
                      <a:pt x="554" y="619"/>
                    </a:lnTo>
                    <a:lnTo>
                      <a:pt x="518" y="624"/>
                    </a:lnTo>
                    <a:lnTo>
                      <a:pt x="482" y="627"/>
                    </a:lnTo>
                    <a:lnTo>
                      <a:pt x="449" y="632"/>
                    </a:lnTo>
                    <a:lnTo>
                      <a:pt x="413" y="635"/>
                    </a:lnTo>
                    <a:lnTo>
                      <a:pt x="377" y="638"/>
                    </a:lnTo>
                    <a:lnTo>
                      <a:pt x="341" y="641"/>
                    </a:lnTo>
                    <a:lnTo>
                      <a:pt x="305" y="641"/>
                    </a:lnTo>
                    <a:lnTo>
                      <a:pt x="269" y="641"/>
                    </a:lnTo>
                    <a:lnTo>
                      <a:pt x="233" y="641"/>
                    </a:lnTo>
                    <a:lnTo>
                      <a:pt x="197" y="638"/>
                    </a:lnTo>
                    <a:lnTo>
                      <a:pt x="161" y="632"/>
                    </a:lnTo>
                    <a:lnTo>
                      <a:pt x="138" y="621"/>
                    </a:lnTo>
                    <a:lnTo>
                      <a:pt x="119" y="613"/>
                    </a:lnTo>
                    <a:lnTo>
                      <a:pt x="100" y="599"/>
                    </a:lnTo>
                    <a:lnTo>
                      <a:pt x="86" y="580"/>
                    </a:lnTo>
                    <a:lnTo>
                      <a:pt x="72" y="530"/>
                    </a:lnTo>
                    <a:lnTo>
                      <a:pt x="58" y="477"/>
                    </a:lnTo>
                    <a:lnTo>
                      <a:pt x="44" y="427"/>
                    </a:lnTo>
                    <a:lnTo>
                      <a:pt x="33" y="374"/>
                    </a:lnTo>
                    <a:lnTo>
                      <a:pt x="25" y="322"/>
                    </a:lnTo>
                    <a:lnTo>
                      <a:pt x="16" y="272"/>
                    </a:lnTo>
                    <a:lnTo>
                      <a:pt x="8" y="219"/>
                    </a:lnTo>
                    <a:lnTo>
                      <a:pt x="3" y="167"/>
                    </a:lnTo>
                    <a:lnTo>
                      <a:pt x="3" y="128"/>
                    </a:lnTo>
                    <a:lnTo>
                      <a:pt x="3" y="89"/>
                    </a:lnTo>
                    <a:lnTo>
                      <a:pt x="0" y="50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5" y="3"/>
                    </a:lnTo>
                    <a:lnTo>
                      <a:pt x="2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49360" y="9432720"/>
                <a:ext cx="282600" cy="1906920"/>
              </a:xfrm>
              <a:custGeom>
                <a:avLst/>
                <a:gdLst/>
                <a:ahLst/>
                <a:rect l="l" t="t" r="r" b="b"/>
                <a:pathLst>
                  <a:path w="178" h="1201">
                    <a:moveTo>
                      <a:pt x="178" y="3"/>
                    </a:moveTo>
                    <a:lnTo>
                      <a:pt x="158" y="100"/>
                    </a:lnTo>
                    <a:lnTo>
                      <a:pt x="136" y="197"/>
                    </a:lnTo>
                    <a:lnTo>
                      <a:pt x="114" y="294"/>
                    </a:lnTo>
                    <a:lnTo>
                      <a:pt x="100" y="394"/>
                    </a:lnTo>
                    <a:lnTo>
                      <a:pt x="86" y="502"/>
                    </a:lnTo>
                    <a:lnTo>
                      <a:pt x="75" y="607"/>
                    </a:lnTo>
                    <a:lnTo>
                      <a:pt x="64" y="716"/>
                    </a:lnTo>
                    <a:lnTo>
                      <a:pt x="53" y="824"/>
                    </a:lnTo>
                    <a:lnTo>
                      <a:pt x="56" y="876"/>
                    </a:lnTo>
                    <a:lnTo>
                      <a:pt x="61" y="929"/>
                    </a:lnTo>
                    <a:lnTo>
                      <a:pt x="72" y="979"/>
                    </a:lnTo>
                    <a:lnTo>
                      <a:pt x="89" y="1026"/>
                    </a:lnTo>
                    <a:lnTo>
                      <a:pt x="92" y="1048"/>
                    </a:lnTo>
                    <a:lnTo>
                      <a:pt x="100" y="1071"/>
                    </a:lnTo>
                    <a:lnTo>
                      <a:pt x="111" y="1090"/>
                    </a:lnTo>
                    <a:lnTo>
                      <a:pt x="119" y="1109"/>
                    </a:lnTo>
                    <a:lnTo>
                      <a:pt x="128" y="1123"/>
                    </a:lnTo>
                    <a:lnTo>
                      <a:pt x="136" y="1134"/>
                    </a:lnTo>
                    <a:lnTo>
                      <a:pt x="144" y="1148"/>
                    </a:lnTo>
                    <a:lnTo>
                      <a:pt x="150" y="1162"/>
                    </a:lnTo>
                    <a:lnTo>
                      <a:pt x="158" y="1168"/>
                    </a:lnTo>
                    <a:lnTo>
                      <a:pt x="164" y="1176"/>
                    </a:lnTo>
                    <a:lnTo>
                      <a:pt x="166" y="1184"/>
                    </a:lnTo>
                    <a:lnTo>
                      <a:pt x="169" y="1195"/>
                    </a:lnTo>
                    <a:lnTo>
                      <a:pt x="164" y="1201"/>
                    </a:lnTo>
                    <a:lnTo>
                      <a:pt x="158" y="1201"/>
                    </a:lnTo>
                    <a:lnTo>
                      <a:pt x="153" y="1198"/>
                    </a:lnTo>
                    <a:lnTo>
                      <a:pt x="147" y="1195"/>
                    </a:lnTo>
                    <a:lnTo>
                      <a:pt x="125" y="1168"/>
                    </a:lnTo>
                    <a:lnTo>
                      <a:pt x="100" y="1137"/>
                    </a:lnTo>
                    <a:lnTo>
                      <a:pt x="78" y="1109"/>
                    </a:lnTo>
                    <a:lnTo>
                      <a:pt x="58" y="1079"/>
                    </a:lnTo>
                    <a:lnTo>
                      <a:pt x="42" y="1046"/>
                    </a:lnTo>
                    <a:lnTo>
                      <a:pt x="28" y="1012"/>
                    </a:lnTo>
                    <a:lnTo>
                      <a:pt x="19" y="976"/>
                    </a:lnTo>
                    <a:lnTo>
                      <a:pt x="17" y="937"/>
                    </a:lnTo>
                    <a:lnTo>
                      <a:pt x="6" y="860"/>
                    </a:lnTo>
                    <a:lnTo>
                      <a:pt x="3" y="779"/>
                    </a:lnTo>
                    <a:lnTo>
                      <a:pt x="3" y="702"/>
                    </a:lnTo>
                    <a:lnTo>
                      <a:pt x="0" y="624"/>
                    </a:lnTo>
                    <a:lnTo>
                      <a:pt x="3" y="610"/>
                    </a:lnTo>
                    <a:lnTo>
                      <a:pt x="6" y="596"/>
                    </a:lnTo>
                    <a:lnTo>
                      <a:pt x="8" y="582"/>
                    </a:lnTo>
                    <a:lnTo>
                      <a:pt x="11" y="569"/>
                    </a:lnTo>
                    <a:lnTo>
                      <a:pt x="25" y="485"/>
                    </a:lnTo>
                    <a:lnTo>
                      <a:pt x="42" y="405"/>
                    </a:lnTo>
                    <a:lnTo>
                      <a:pt x="58" y="322"/>
                    </a:lnTo>
                    <a:lnTo>
                      <a:pt x="80" y="244"/>
                    </a:lnTo>
                    <a:lnTo>
                      <a:pt x="80" y="236"/>
                    </a:lnTo>
                    <a:lnTo>
                      <a:pt x="86" y="225"/>
                    </a:lnTo>
                    <a:lnTo>
                      <a:pt x="89" y="216"/>
                    </a:lnTo>
                    <a:lnTo>
                      <a:pt x="89" y="208"/>
                    </a:lnTo>
                    <a:lnTo>
                      <a:pt x="92" y="203"/>
                    </a:lnTo>
                    <a:lnTo>
                      <a:pt x="92" y="197"/>
                    </a:lnTo>
                    <a:lnTo>
                      <a:pt x="94" y="189"/>
                    </a:lnTo>
                    <a:lnTo>
                      <a:pt x="94" y="183"/>
                    </a:lnTo>
                    <a:lnTo>
                      <a:pt x="103" y="161"/>
                    </a:lnTo>
                    <a:lnTo>
                      <a:pt x="111" y="136"/>
                    </a:lnTo>
                    <a:lnTo>
                      <a:pt x="117" y="114"/>
                    </a:lnTo>
                    <a:lnTo>
                      <a:pt x="128" y="92"/>
                    </a:lnTo>
                    <a:lnTo>
                      <a:pt x="133" y="69"/>
                    </a:lnTo>
                    <a:lnTo>
                      <a:pt x="141" y="44"/>
                    </a:lnTo>
                    <a:lnTo>
                      <a:pt x="150" y="22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5" y="0"/>
                    </a:lnTo>
                    <a:lnTo>
                      <a:pt x="17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7000" y="9477360"/>
                <a:ext cx="369720" cy="1601640"/>
              </a:xfrm>
              <a:custGeom>
                <a:avLst/>
                <a:gdLst/>
                <a:ahLst/>
                <a:rect l="l" t="t" r="r" b="b"/>
                <a:pathLst>
                  <a:path w="233" h="1009">
                    <a:moveTo>
                      <a:pt x="233" y="8"/>
                    </a:moveTo>
                    <a:lnTo>
                      <a:pt x="224" y="28"/>
                    </a:lnTo>
                    <a:lnTo>
                      <a:pt x="210" y="47"/>
                    </a:lnTo>
                    <a:lnTo>
                      <a:pt x="197" y="64"/>
                    </a:lnTo>
                    <a:lnTo>
                      <a:pt x="188" y="86"/>
                    </a:lnTo>
                    <a:lnTo>
                      <a:pt x="183" y="91"/>
                    </a:lnTo>
                    <a:lnTo>
                      <a:pt x="180" y="100"/>
                    </a:lnTo>
                    <a:lnTo>
                      <a:pt x="177" y="108"/>
                    </a:lnTo>
                    <a:lnTo>
                      <a:pt x="174" y="116"/>
                    </a:lnTo>
                    <a:lnTo>
                      <a:pt x="152" y="169"/>
                    </a:lnTo>
                    <a:lnTo>
                      <a:pt x="136" y="224"/>
                    </a:lnTo>
                    <a:lnTo>
                      <a:pt x="119" y="277"/>
                    </a:lnTo>
                    <a:lnTo>
                      <a:pt x="108" y="335"/>
                    </a:lnTo>
                    <a:lnTo>
                      <a:pt x="97" y="391"/>
                    </a:lnTo>
                    <a:lnTo>
                      <a:pt x="88" y="449"/>
                    </a:lnTo>
                    <a:lnTo>
                      <a:pt x="80" y="507"/>
                    </a:lnTo>
                    <a:lnTo>
                      <a:pt x="75" y="566"/>
                    </a:lnTo>
                    <a:lnTo>
                      <a:pt x="58" y="657"/>
                    </a:lnTo>
                    <a:lnTo>
                      <a:pt x="47" y="751"/>
                    </a:lnTo>
                    <a:lnTo>
                      <a:pt x="39" y="848"/>
                    </a:lnTo>
                    <a:lnTo>
                      <a:pt x="36" y="940"/>
                    </a:lnTo>
                    <a:lnTo>
                      <a:pt x="30" y="957"/>
                    </a:lnTo>
                    <a:lnTo>
                      <a:pt x="30" y="973"/>
                    </a:lnTo>
                    <a:lnTo>
                      <a:pt x="27" y="990"/>
                    </a:lnTo>
                    <a:lnTo>
                      <a:pt x="25" y="1006"/>
                    </a:lnTo>
                    <a:lnTo>
                      <a:pt x="19" y="1009"/>
                    </a:lnTo>
                    <a:lnTo>
                      <a:pt x="14" y="1009"/>
                    </a:lnTo>
                    <a:lnTo>
                      <a:pt x="8" y="1009"/>
                    </a:lnTo>
                    <a:lnTo>
                      <a:pt x="3" y="1006"/>
                    </a:lnTo>
                    <a:lnTo>
                      <a:pt x="0" y="993"/>
                    </a:lnTo>
                    <a:lnTo>
                      <a:pt x="0" y="979"/>
                    </a:lnTo>
                    <a:lnTo>
                      <a:pt x="0" y="965"/>
                    </a:lnTo>
                    <a:lnTo>
                      <a:pt x="0" y="954"/>
                    </a:lnTo>
                    <a:lnTo>
                      <a:pt x="3" y="896"/>
                    </a:lnTo>
                    <a:lnTo>
                      <a:pt x="5" y="837"/>
                    </a:lnTo>
                    <a:lnTo>
                      <a:pt x="11" y="782"/>
                    </a:lnTo>
                    <a:lnTo>
                      <a:pt x="11" y="724"/>
                    </a:lnTo>
                    <a:lnTo>
                      <a:pt x="14" y="668"/>
                    </a:lnTo>
                    <a:lnTo>
                      <a:pt x="19" y="613"/>
                    </a:lnTo>
                    <a:lnTo>
                      <a:pt x="25" y="557"/>
                    </a:lnTo>
                    <a:lnTo>
                      <a:pt x="30" y="502"/>
                    </a:lnTo>
                    <a:lnTo>
                      <a:pt x="39" y="424"/>
                    </a:lnTo>
                    <a:lnTo>
                      <a:pt x="52" y="346"/>
                    </a:lnTo>
                    <a:lnTo>
                      <a:pt x="66" y="269"/>
                    </a:lnTo>
                    <a:lnTo>
                      <a:pt x="83" y="194"/>
                    </a:lnTo>
                    <a:lnTo>
                      <a:pt x="91" y="166"/>
                    </a:lnTo>
                    <a:lnTo>
                      <a:pt x="100" y="139"/>
                    </a:lnTo>
                    <a:lnTo>
                      <a:pt x="111" y="111"/>
                    </a:lnTo>
                    <a:lnTo>
                      <a:pt x="122" y="86"/>
                    </a:lnTo>
                    <a:lnTo>
                      <a:pt x="136" y="61"/>
                    </a:lnTo>
                    <a:lnTo>
                      <a:pt x="152" y="39"/>
                    </a:lnTo>
                    <a:lnTo>
                      <a:pt x="174" y="19"/>
                    </a:lnTo>
                    <a:lnTo>
                      <a:pt x="199" y="3"/>
                    </a:lnTo>
                    <a:lnTo>
                      <a:pt x="210" y="3"/>
                    </a:lnTo>
                    <a:lnTo>
                      <a:pt x="219" y="0"/>
                    </a:lnTo>
                    <a:lnTo>
                      <a:pt x="227" y="3"/>
                    </a:lnTo>
                    <a:lnTo>
                      <a:pt x="2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58840" y="9489960"/>
                <a:ext cx="233640" cy="1638360"/>
              </a:xfrm>
              <a:custGeom>
                <a:avLst/>
                <a:gdLst/>
                <a:ahLst/>
                <a:rect l="l" t="t" r="r" b="b"/>
                <a:pathLst>
                  <a:path w="147" h="1032">
                    <a:moveTo>
                      <a:pt x="147" y="14"/>
                    </a:moveTo>
                    <a:lnTo>
                      <a:pt x="128" y="56"/>
                    </a:lnTo>
                    <a:lnTo>
                      <a:pt x="114" y="103"/>
                    </a:lnTo>
                    <a:lnTo>
                      <a:pt x="103" y="150"/>
                    </a:lnTo>
                    <a:lnTo>
                      <a:pt x="86" y="197"/>
                    </a:lnTo>
                    <a:lnTo>
                      <a:pt x="69" y="375"/>
                    </a:lnTo>
                    <a:lnTo>
                      <a:pt x="64" y="563"/>
                    </a:lnTo>
                    <a:lnTo>
                      <a:pt x="69" y="752"/>
                    </a:lnTo>
                    <a:lnTo>
                      <a:pt x="97" y="932"/>
                    </a:lnTo>
                    <a:lnTo>
                      <a:pt x="103" y="954"/>
                    </a:lnTo>
                    <a:lnTo>
                      <a:pt x="108" y="976"/>
                    </a:lnTo>
                    <a:lnTo>
                      <a:pt x="111" y="998"/>
                    </a:lnTo>
                    <a:lnTo>
                      <a:pt x="111" y="1023"/>
                    </a:lnTo>
                    <a:lnTo>
                      <a:pt x="108" y="1026"/>
                    </a:lnTo>
                    <a:lnTo>
                      <a:pt x="105" y="1029"/>
                    </a:lnTo>
                    <a:lnTo>
                      <a:pt x="100" y="1032"/>
                    </a:lnTo>
                    <a:lnTo>
                      <a:pt x="97" y="1029"/>
                    </a:lnTo>
                    <a:lnTo>
                      <a:pt x="81" y="990"/>
                    </a:lnTo>
                    <a:lnTo>
                      <a:pt x="69" y="949"/>
                    </a:lnTo>
                    <a:lnTo>
                      <a:pt x="61" y="910"/>
                    </a:lnTo>
                    <a:lnTo>
                      <a:pt x="50" y="871"/>
                    </a:lnTo>
                    <a:lnTo>
                      <a:pt x="28" y="732"/>
                    </a:lnTo>
                    <a:lnTo>
                      <a:pt x="8" y="591"/>
                    </a:lnTo>
                    <a:lnTo>
                      <a:pt x="0" y="449"/>
                    </a:lnTo>
                    <a:lnTo>
                      <a:pt x="14" y="308"/>
                    </a:lnTo>
                    <a:lnTo>
                      <a:pt x="17" y="275"/>
                    </a:lnTo>
                    <a:lnTo>
                      <a:pt x="22" y="239"/>
                    </a:lnTo>
                    <a:lnTo>
                      <a:pt x="31" y="205"/>
                    </a:lnTo>
                    <a:lnTo>
                      <a:pt x="39" y="172"/>
                    </a:lnTo>
                    <a:lnTo>
                      <a:pt x="42" y="167"/>
                    </a:lnTo>
                    <a:lnTo>
                      <a:pt x="44" y="158"/>
                    </a:lnTo>
                    <a:lnTo>
                      <a:pt x="44" y="153"/>
                    </a:lnTo>
                    <a:lnTo>
                      <a:pt x="50" y="147"/>
                    </a:lnTo>
                    <a:lnTo>
                      <a:pt x="61" y="114"/>
                    </a:lnTo>
                    <a:lnTo>
                      <a:pt x="75" y="81"/>
                    </a:lnTo>
                    <a:lnTo>
                      <a:pt x="92" y="47"/>
                    </a:lnTo>
                    <a:lnTo>
                      <a:pt x="108" y="14"/>
                    </a:lnTo>
                    <a:lnTo>
                      <a:pt x="119" y="6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8360" y="9512280"/>
                <a:ext cx="541440" cy="1932120"/>
              </a:xfrm>
              <a:custGeom>
                <a:avLst/>
                <a:gdLst/>
                <a:ahLst/>
                <a:rect l="l" t="t" r="r" b="b"/>
                <a:pathLst>
                  <a:path w="341" h="1217">
                    <a:moveTo>
                      <a:pt x="341" y="11"/>
                    </a:moveTo>
                    <a:lnTo>
                      <a:pt x="330" y="47"/>
                    </a:lnTo>
                    <a:lnTo>
                      <a:pt x="316" y="80"/>
                    </a:lnTo>
                    <a:lnTo>
                      <a:pt x="302" y="114"/>
                    </a:lnTo>
                    <a:lnTo>
                      <a:pt x="288" y="147"/>
                    </a:lnTo>
                    <a:lnTo>
                      <a:pt x="274" y="180"/>
                    </a:lnTo>
                    <a:lnTo>
                      <a:pt x="260" y="214"/>
                    </a:lnTo>
                    <a:lnTo>
                      <a:pt x="249" y="247"/>
                    </a:lnTo>
                    <a:lnTo>
                      <a:pt x="241" y="283"/>
                    </a:lnTo>
                    <a:lnTo>
                      <a:pt x="227" y="319"/>
                    </a:lnTo>
                    <a:lnTo>
                      <a:pt x="216" y="355"/>
                    </a:lnTo>
                    <a:lnTo>
                      <a:pt x="205" y="394"/>
                    </a:lnTo>
                    <a:lnTo>
                      <a:pt x="194" y="430"/>
                    </a:lnTo>
                    <a:lnTo>
                      <a:pt x="183" y="469"/>
                    </a:lnTo>
                    <a:lnTo>
                      <a:pt x="172" y="505"/>
                    </a:lnTo>
                    <a:lnTo>
                      <a:pt x="163" y="544"/>
                    </a:lnTo>
                    <a:lnTo>
                      <a:pt x="155" y="582"/>
                    </a:lnTo>
                    <a:lnTo>
                      <a:pt x="141" y="621"/>
                    </a:lnTo>
                    <a:lnTo>
                      <a:pt x="130" y="660"/>
                    </a:lnTo>
                    <a:lnTo>
                      <a:pt x="119" y="699"/>
                    </a:lnTo>
                    <a:lnTo>
                      <a:pt x="111" y="740"/>
                    </a:lnTo>
                    <a:lnTo>
                      <a:pt x="102" y="782"/>
                    </a:lnTo>
                    <a:lnTo>
                      <a:pt x="91" y="821"/>
                    </a:lnTo>
                    <a:lnTo>
                      <a:pt x="80" y="862"/>
                    </a:lnTo>
                    <a:lnTo>
                      <a:pt x="69" y="901"/>
                    </a:lnTo>
                    <a:lnTo>
                      <a:pt x="64" y="926"/>
                    </a:lnTo>
                    <a:lnTo>
                      <a:pt x="61" y="948"/>
                    </a:lnTo>
                    <a:lnTo>
                      <a:pt x="55" y="973"/>
                    </a:lnTo>
                    <a:lnTo>
                      <a:pt x="47" y="996"/>
                    </a:lnTo>
                    <a:lnTo>
                      <a:pt x="39" y="1051"/>
                    </a:lnTo>
                    <a:lnTo>
                      <a:pt x="33" y="1107"/>
                    </a:lnTo>
                    <a:lnTo>
                      <a:pt x="28" y="1162"/>
                    </a:lnTo>
                    <a:lnTo>
                      <a:pt x="19" y="1215"/>
                    </a:lnTo>
                    <a:lnTo>
                      <a:pt x="17" y="1217"/>
                    </a:lnTo>
                    <a:lnTo>
                      <a:pt x="14" y="1217"/>
                    </a:lnTo>
                    <a:lnTo>
                      <a:pt x="8" y="1217"/>
                    </a:lnTo>
                    <a:lnTo>
                      <a:pt x="5" y="1217"/>
                    </a:lnTo>
                    <a:lnTo>
                      <a:pt x="0" y="1165"/>
                    </a:lnTo>
                    <a:lnTo>
                      <a:pt x="0" y="1112"/>
                    </a:lnTo>
                    <a:lnTo>
                      <a:pt x="5" y="1059"/>
                    </a:lnTo>
                    <a:lnTo>
                      <a:pt x="11" y="1004"/>
                    </a:lnTo>
                    <a:lnTo>
                      <a:pt x="28" y="899"/>
                    </a:lnTo>
                    <a:lnTo>
                      <a:pt x="47" y="796"/>
                    </a:lnTo>
                    <a:lnTo>
                      <a:pt x="64" y="693"/>
                    </a:lnTo>
                    <a:lnTo>
                      <a:pt x="83" y="588"/>
                    </a:lnTo>
                    <a:lnTo>
                      <a:pt x="91" y="549"/>
                    </a:lnTo>
                    <a:lnTo>
                      <a:pt x="102" y="510"/>
                    </a:lnTo>
                    <a:lnTo>
                      <a:pt x="114" y="471"/>
                    </a:lnTo>
                    <a:lnTo>
                      <a:pt x="127" y="433"/>
                    </a:lnTo>
                    <a:lnTo>
                      <a:pt x="138" y="394"/>
                    </a:lnTo>
                    <a:lnTo>
                      <a:pt x="150" y="358"/>
                    </a:lnTo>
                    <a:lnTo>
                      <a:pt x="161" y="319"/>
                    </a:lnTo>
                    <a:lnTo>
                      <a:pt x="169" y="280"/>
                    </a:lnTo>
                    <a:lnTo>
                      <a:pt x="188" y="239"/>
                    </a:lnTo>
                    <a:lnTo>
                      <a:pt x="208" y="200"/>
                    </a:lnTo>
                    <a:lnTo>
                      <a:pt x="230" y="158"/>
                    </a:lnTo>
                    <a:lnTo>
                      <a:pt x="247" y="117"/>
                    </a:lnTo>
                    <a:lnTo>
                      <a:pt x="266" y="86"/>
                    </a:lnTo>
                    <a:lnTo>
                      <a:pt x="283" y="55"/>
                    </a:lnTo>
                    <a:lnTo>
                      <a:pt x="299" y="25"/>
                    </a:lnTo>
                    <a:lnTo>
                      <a:pt x="324" y="0"/>
                    </a:lnTo>
                    <a:lnTo>
                      <a:pt x="330" y="3"/>
                    </a:lnTo>
                    <a:lnTo>
                      <a:pt x="335" y="3"/>
                    </a:lnTo>
                    <a:lnTo>
                      <a:pt x="338" y="6"/>
                    </a:lnTo>
                    <a:lnTo>
                      <a:pt x="34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08120" y="10550520"/>
                <a:ext cx="2662200" cy="299880"/>
              </a:xfrm>
              <a:custGeom>
                <a:avLst/>
                <a:gdLst/>
                <a:ahLst/>
                <a:rect l="l" t="t" r="r" b="b"/>
                <a:pathLst>
                  <a:path w="1677" h="189">
                    <a:moveTo>
                      <a:pt x="1067" y="28"/>
                    </a:moveTo>
                    <a:lnTo>
                      <a:pt x="1095" y="31"/>
                    </a:lnTo>
                    <a:lnTo>
                      <a:pt x="1125" y="37"/>
                    </a:lnTo>
                    <a:lnTo>
                      <a:pt x="1153" y="39"/>
                    </a:lnTo>
                    <a:lnTo>
                      <a:pt x="1181" y="45"/>
                    </a:lnTo>
                    <a:lnTo>
                      <a:pt x="1209" y="48"/>
                    </a:lnTo>
                    <a:lnTo>
                      <a:pt x="1239" y="53"/>
                    </a:lnTo>
                    <a:lnTo>
                      <a:pt x="1267" y="59"/>
                    </a:lnTo>
                    <a:lnTo>
                      <a:pt x="1295" y="64"/>
                    </a:lnTo>
                    <a:lnTo>
                      <a:pt x="1322" y="70"/>
                    </a:lnTo>
                    <a:lnTo>
                      <a:pt x="1350" y="75"/>
                    </a:lnTo>
                    <a:lnTo>
                      <a:pt x="1378" y="81"/>
                    </a:lnTo>
                    <a:lnTo>
                      <a:pt x="1405" y="86"/>
                    </a:lnTo>
                    <a:lnTo>
                      <a:pt x="1436" y="92"/>
                    </a:lnTo>
                    <a:lnTo>
                      <a:pt x="1464" y="98"/>
                    </a:lnTo>
                    <a:lnTo>
                      <a:pt x="1491" y="106"/>
                    </a:lnTo>
                    <a:lnTo>
                      <a:pt x="1519" y="111"/>
                    </a:lnTo>
                    <a:lnTo>
                      <a:pt x="1525" y="117"/>
                    </a:lnTo>
                    <a:lnTo>
                      <a:pt x="1533" y="120"/>
                    </a:lnTo>
                    <a:lnTo>
                      <a:pt x="1541" y="120"/>
                    </a:lnTo>
                    <a:lnTo>
                      <a:pt x="1550" y="123"/>
                    </a:lnTo>
                    <a:lnTo>
                      <a:pt x="1566" y="128"/>
                    </a:lnTo>
                    <a:lnTo>
                      <a:pt x="1580" y="131"/>
                    </a:lnTo>
                    <a:lnTo>
                      <a:pt x="1597" y="136"/>
                    </a:lnTo>
                    <a:lnTo>
                      <a:pt x="1611" y="142"/>
                    </a:lnTo>
                    <a:lnTo>
                      <a:pt x="1624" y="147"/>
                    </a:lnTo>
                    <a:lnTo>
                      <a:pt x="1638" y="153"/>
                    </a:lnTo>
                    <a:lnTo>
                      <a:pt x="1655" y="159"/>
                    </a:lnTo>
                    <a:lnTo>
                      <a:pt x="1669" y="164"/>
                    </a:lnTo>
                    <a:lnTo>
                      <a:pt x="1674" y="167"/>
                    </a:lnTo>
                    <a:lnTo>
                      <a:pt x="1677" y="172"/>
                    </a:lnTo>
                    <a:lnTo>
                      <a:pt x="1677" y="178"/>
                    </a:lnTo>
                    <a:lnTo>
                      <a:pt x="1674" y="184"/>
                    </a:lnTo>
                    <a:lnTo>
                      <a:pt x="1660" y="189"/>
                    </a:lnTo>
                    <a:lnTo>
                      <a:pt x="1649" y="189"/>
                    </a:lnTo>
                    <a:lnTo>
                      <a:pt x="1635" y="186"/>
                    </a:lnTo>
                    <a:lnTo>
                      <a:pt x="1624" y="184"/>
                    </a:lnTo>
                    <a:lnTo>
                      <a:pt x="1611" y="178"/>
                    </a:lnTo>
                    <a:lnTo>
                      <a:pt x="1599" y="175"/>
                    </a:lnTo>
                    <a:lnTo>
                      <a:pt x="1586" y="170"/>
                    </a:lnTo>
                    <a:lnTo>
                      <a:pt x="1572" y="167"/>
                    </a:lnTo>
                    <a:lnTo>
                      <a:pt x="1538" y="159"/>
                    </a:lnTo>
                    <a:lnTo>
                      <a:pt x="1505" y="153"/>
                    </a:lnTo>
                    <a:lnTo>
                      <a:pt x="1472" y="145"/>
                    </a:lnTo>
                    <a:lnTo>
                      <a:pt x="1439" y="139"/>
                    </a:lnTo>
                    <a:lnTo>
                      <a:pt x="1405" y="134"/>
                    </a:lnTo>
                    <a:lnTo>
                      <a:pt x="1369" y="131"/>
                    </a:lnTo>
                    <a:lnTo>
                      <a:pt x="1336" y="125"/>
                    </a:lnTo>
                    <a:lnTo>
                      <a:pt x="1300" y="120"/>
                    </a:lnTo>
                    <a:lnTo>
                      <a:pt x="1267" y="117"/>
                    </a:lnTo>
                    <a:lnTo>
                      <a:pt x="1236" y="111"/>
                    </a:lnTo>
                    <a:lnTo>
                      <a:pt x="1206" y="106"/>
                    </a:lnTo>
                    <a:lnTo>
                      <a:pt x="1173" y="100"/>
                    </a:lnTo>
                    <a:lnTo>
                      <a:pt x="1142" y="92"/>
                    </a:lnTo>
                    <a:lnTo>
                      <a:pt x="1112" y="86"/>
                    </a:lnTo>
                    <a:lnTo>
                      <a:pt x="1078" y="84"/>
                    </a:lnTo>
                    <a:lnTo>
                      <a:pt x="1045" y="84"/>
                    </a:lnTo>
                    <a:lnTo>
                      <a:pt x="1037" y="81"/>
                    </a:lnTo>
                    <a:lnTo>
                      <a:pt x="1028" y="81"/>
                    </a:lnTo>
                    <a:lnTo>
                      <a:pt x="1020" y="81"/>
                    </a:lnTo>
                    <a:lnTo>
                      <a:pt x="1012" y="75"/>
                    </a:lnTo>
                    <a:lnTo>
                      <a:pt x="998" y="73"/>
                    </a:lnTo>
                    <a:lnTo>
                      <a:pt x="981" y="70"/>
                    </a:lnTo>
                    <a:lnTo>
                      <a:pt x="967" y="70"/>
                    </a:lnTo>
                    <a:lnTo>
                      <a:pt x="951" y="67"/>
                    </a:lnTo>
                    <a:lnTo>
                      <a:pt x="934" y="67"/>
                    </a:lnTo>
                    <a:lnTo>
                      <a:pt x="917" y="67"/>
                    </a:lnTo>
                    <a:lnTo>
                      <a:pt x="904" y="67"/>
                    </a:lnTo>
                    <a:lnTo>
                      <a:pt x="887" y="64"/>
                    </a:lnTo>
                    <a:lnTo>
                      <a:pt x="884" y="67"/>
                    </a:lnTo>
                    <a:lnTo>
                      <a:pt x="840" y="64"/>
                    </a:lnTo>
                    <a:lnTo>
                      <a:pt x="796" y="61"/>
                    </a:lnTo>
                    <a:lnTo>
                      <a:pt x="751" y="59"/>
                    </a:lnTo>
                    <a:lnTo>
                      <a:pt x="704" y="56"/>
                    </a:lnTo>
                    <a:lnTo>
                      <a:pt x="660" y="56"/>
                    </a:lnTo>
                    <a:lnTo>
                      <a:pt x="615" y="56"/>
                    </a:lnTo>
                    <a:lnTo>
                      <a:pt x="571" y="56"/>
                    </a:lnTo>
                    <a:lnTo>
                      <a:pt x="527" y="59"/>
                    </a:lnTo>
                    <a:lnTo>
                      <a:pt x="493" y="61"/>
                    </a:lnTo>
                    <a:lnTo>
                      <a:pt x="463" y="64"/>
                    </a:lnTo>
                    <a:lnTo>
                      <a:pt x="430" y="67"/>
                    </a:lnTo>
                    <a:lnTo>
                      <a:pt x="396" y="67"/>
                    </a:lnTo>
                    <a:lnTo>
                      <a:pt x="363" y="67"/>
                    </a:lnTo>
                    <a:lnTo>
                      <a:pt x="333" y="70"/>
                    </a:lnTo>
                    <a:lnTo>
                      <a:pt x="299" y="73"/>
                    </a:lnTo>
                    <a:lnTo>
                      <a:pt x="269" y="75"/>
                    </a:lnTo>
                    <a:lnTo>
                      <a:pt x="258" y="75"/>
                    </a:lnTo>
                    <a:lnTo>
                      <a:pt x="244" y="75"/>
                    </a:lnTo>
                    <a:lnTo>
                      <a:pt x="233" y="78"/>
                    </a:lnTo>
                    <a:lnTo>
                      <a:pt x="222" y="78"/>
                    </a:lnTo>
                    <a:lnTo>
                      <a:pt x="208" y="81"/>
                    </a:lnTo>
                    <a:lnTo>
                      <a:pt x="197" y="81"/>
                    </a:lnTo>
                    <a:lnTo>
                      <a:pt x="183" y="84"/>
                    </a:lnTo>
                    <a:lnTo>
                      <a:pt x="172" y="84"/>
                    </a:lnTo>
                    <a:lnTo>
                      <a:pt x="152" y="86"/>
                    </a:lnTo>
                    <a:lnTo>
                      <a:pt x="133" y="89"/>
                    </a:lnTo>
                    <a:lnTo>
                      <a:pt x="114" y="92"/>
                    </a:lnTo>
                    <a:lnTo>
                      <a:pt x="94" y="95"/>
                    </a:lnTo>
                    <a:lnTo>
                      <a:pt x="75" y="100"/>
                    </a:lnTo>
                    <a:lnTo>
                      <a:pt x="58" y="103"/>
                    </a:lnTo>
                    <a:lnTo>
                      <a:pt x="39" y="111"/>
                    </a:lnTo>
                    <a:lnTo>
                      <a:pt x="19" y="117"/>
                    </a:lnTo>
                    <a:lnTo>
                      <a:pt x="0" y="117"/>
                    </a:lnTo>
                    <a:lnTo>
                      <a:pt x="0" y="106"/>
                    </a:lnTo>
                    <a:lnTo>
                      <a:pt x="5" y="95"/>
                    </a:lnTo>
                    <a:lnTo>
                      <a:pt x="11" y="86"/>
                    </a:lnTo>
                    <a:lnTo>
                      <a:pt x="17" y="75"/>
                    </a:lnTo>
                    <a:lnTo>
                      <a:pt x="25" y="67"/>
                    </a:lnTo>
                    <a:lnTo>
                      <a:pt x="36" y="59"/>
                    </a:lnTo>
                    <a:lnTo>
                      <a:pt x="44" y="50"/>
                    </a:lnTo>
                    <a:lnTo>
                      <a:pt x="55" y="45"/>
                    </a:lnTo>
                    <a:lnTo>
                      <a:pt x="61" y="39"/>
                    </a:lnTo>
                    <a:lnTo>
                      <a:pt x="69" y="34"/>
                    </a:lnTo>
                    <a:lnTo>
                      <a:pt x="78" y="31"/>
                    </a:lnTo>
                    <a:lnTo>
                      <a:pt x="86" y="28"/>
                    </a:lnTo>
                    <a:lnTo>
                      <a:pt x="111" y="23"/>
                    </a:lnTo>
                    <a:lnTo>
                      <a:pt x="136" y="17"/>
                    </a:lnTo>
                    <a:lnTo>
                      <a:pt x="161" y="14"/>
                    </a:lnTo>
                    <a:lnTo>
                      <a:pt x="188" y="14"/>
                    </a:lnTo>
                    <a:lnTo>
                      <a:pt x="213" y="12"/>
                    </a:lnTo>
                    <a:lnTo>
                      <a:pt x="241" y="12"/>
                    </a:lnTo>
                    <a:lnTo>
                      <a:pt x="269" y="9"/>
                    </a:lnTo>
                    <a:lnTo>
                      <a:pt x="294" y="6"/>
                    </a:lnTo>
                    <a:lnTo>
                      <a:pt x="341" y="3"/>
                    </a:lnTo>
                    <a:lnTo>
                      <a:pt x="388" y="3"/>
                    </a:lnTo>
                    <a:lnTo>
                      <a:pt x="438" y="0"/>
                    </a:lnTo>
                    <a:lnTo>
                      <a:pt x="485" y="0"/>
                    </a:lnTo>
                    <a:lnTo>
                      <a:pt x="535" y="0"/>
                    </a:lnTo>
                    <a:lnTo>
                      <a:pt x="582" y="0"/>
                    </a:lnTo>
                    <a:lnTo>
                      <a:pt x="632" y="0"/>
                    </a:lnTo>
                    <a:lnTo>
                      <a:pt x="682" y="0"/>
                    </a:lnTo>
                    <a:lnTo>
                      <a:pt x="729" y="0"/>
                    </a:lnTo>
                    <a:lnTo>
                      <a:pt x="779" y="3"/>
                    </a:lnTo>
                    <a:lnTo>
                      <a:pt x="826" y="6"/>
                    </a:lnTo>
                    <a:lnTo>
                      <a:pt x="876" y="9"/>
                    </a:lnTo>
                    <a:lnTo>
                      <a:pt x="923" y="12"/>
                    </a:lnTo>
                    <a:lnTo>
                      <a:pt x="973" y="17"/>
                    </a:lnTo>
                    <a:lnTo>
                      <a:pt x="1020" y="23"/>
                    </a:lnTo>
                    <a:lnTo>
                      <a:pt x="106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-1269720" y="10594800"/>
                <a:ext cx="1447560" cy="344520"/>
              </a:xfrm>
              <a:custGeom>
                <a:avLst/>
                <a:gdLst/>
                <a:ahLst/>
                <a:rect l="l" t="t" r="r" b="b"/>
                <a:pathLst>
                  <a:path w="912" h="217">
                    <a:moveTo>
                      <a:pt x="734" y="28"/>
                    </a:moveTo>
                    <a:lnTo>
                      <a:pt x="737" y="42"/>
                    </a:lnTo>
                    <a:lnTo>
                      <a:pt x="743" y="56"/>
                    </a:lnTo>
                    <a:lnTo>
                      <a:pt x="743" y="70"/>
                    </a:lnTo>
                    <a:lnTo>
                      <a:pt x="737" y="83"/>
                    </a:lnTo>
                    <a:lnTo>
                      <a:pt x="734" y="97"/>
                    </a:lnTo>
                    <a:lnTo>
                      <a:pt x="732" y="114"/>
                    </a:lnTo>
                    <a:lnTo>
                      <a:pt x="732" y="128"/>
                    </a:lnTo>
                    <a:lnTo>
                      <a:pt x="734" y="144"/>
                    </a:lnTo>
                    <a:lnTo>
                      <a:pt x="746" y="158"/>
                    </a:lnTo>
                    <a:lnTo>
                      <a:pt x="759" y="167"/>
                    </a:lnTo>
                    <a:lnTo>
                      <a:pt x="776" y="169"/>
                    </a:lnTo>
                    <a:lnTo>
                      <a:pt x="795" y="169"/>
                    </a:lnTo>
                    <a:lnTo>
                      <a:pt x="812" y="167"/>
                    </a:lnTo>
                    <a:lnTo>
                      <a:pt x="832" y="164"/>
                    </a:lnTo>
                    <a:lnTo>
                      <a:pt x="851" y="161"/>
                    </a:lnTo>
                    <a:lnTo>
                      <a:pt x="870" y="161"/>
                    </a:lnTo>
                    <a:lnTo>
                      <a:pt x="876" y="158"/>
                    </a:lnTo>
                    <a:lnTo>
                      <a:pt x="884" y="156"/>
                    </a:lnTo>
                    <a:lnTo>
                      <a:pt x="893" y="153"/>
                    </a:lnTo>
                    <a:lnTo>
                      <a:pt x="901" y="153"/>
                    </a:lnTo>
                    <a:lnTo>
                      <a:pt x="904" y="156"/>
                    </a:lnTo>
                    <a:lnTo>
                      <a:pt x="909" y="158"/>
                    </a:lnTo>
                    <a:lnTo>
                      <a:pt x="912" y="161"/>
                    </a:lnTo>
                    <a:lnTo>
                      <a:pt x="912" y="164"/>
                    </a:lnTo>
                    <a:lnTo>
                      <a:pt x="912" y="169"/>
                    </a:lnTo>
                    <a:lnTo>
                      <a:pt x="912" y="178"/>
                    </a:lnTo>
                    <a:lnTo>
                      <a:pt x="909" y="186"/>
                    </a:lnTo>
                    <a:lnTo>
                      <a:pt x="906" y="192"/>
                    </a:lnTo>
                    <a:lnTo>
                      <a:pt x="881" y="200"/>
                    </a:lnTo>
                    <a:lnTo>
                      <a:pt x="859" y="205"/>
                    </a:lnTo>
                    <a:lnTo>
                      <a:pt x="832" y="211"/>
                    </a:lnTo>
                    <a:lnTo>
                      <a:pt x="807" y="214"/>
                    </a:lnTo>
                    <a:lnTo>
                      <a:pt x="779" y="217"/>
                    </a:lnTo>
                    <a:lnTo>
                      <a:pt x="751" y="217"/>
                    </a:lnTo>
                    <a:lnTo>
                      <a:pt x="723" y="217"/>
                    </a:lnTo>
                    <a:lnTo>
                      <a:pt x="698" y="217"/>
                    </a:lnTo>
                    <a:lnTo>
                      <a:pt x="685" y="203"/>
                    </a:lnTo>
                    <a:lnTo>
                      <a:pt x="671" y="186"/>
                    </a:lnTo>
                    <a:lnTo>
                      <a:pt x="665" y="169"/>
                    </a:lnTo>
                    <a:lnTo>
                      <a:pt x="668" y="147"/>
                    </a:lnTo>
                    <a:lnTo>
                      <a:pt x="674" y="128"/>
                    </a:lnTo>
                    <a:lnTo>
                      <a:pt x="679" y="111"/>
                    </a:lnTo>
                    <a:lnTo>
                      <a:pt x="676" y="95"/>
                    </a:lnTo>
                    <a:lnTo>
                      <a:pt x="668" y="75"/>
                    </a:lnTo>
                    <a:lnTo>
                      <a:pt x="637" y="64"/>
                    </a:lnTo>
                    <a:lnTo>
                      <a:pt x="604" y="61"/>
                    </a:lnTo>
                    <a:lnTo>
                      <a:pt x="571" y="58"/>
                    </a:lnTo>
                    <a:lnTo>
                      <a:pt x="540" y="61"/>
                    </a:lnTo>
                    <a:lnTo>
                      <a:pt x="507" y="64"/>
                    </a:lnTo>
                    <a:lnTo>
                      <a:pt x="474" y="70"/>
                    </a:lnTo>
                    <a:lnTo>
                      <a:pt x="441" y="78"/>
                    </a:lnTo>
                    <a:lnTo>
                      <a:pt x="410" y="83"/>
                    </a:lnTo>
                    <a:lnTo>
                      <a:pt x="394" y="89"/>
                    </a:lnTo>
                    <a:lnTo>
                      <a:pt x="380" y="92"/>
                    </a:lnTo>
                    <a:lnTo>
                      <a:pt x="363" y="97"/>
                    </a:lnTo>
                    <a:lnTo>
                      <a:pt x="346" y="100"/>
                    </a:lnTo>
                    <a:lnTo>
                      <a:pt x="333" y="106"/>
                    </a:lnTo>
                    <a:lnTo>
                      <a:pt x="316" y="108"/>
                    </a:lnTo>
                    <a:lnTo>
                      <a:pt x="299" y="111"/>
                    </a:lnTo>
                    <a:lnTo>
                      <a:pt x="283" y="114"/>
                    </a:lnTo>
                    <a:lnTo>
                      <a:pt x="266" y="119"/>
                    </a:lnTo>
                    <a:lnTo>
                      <a:pt x="249" y="125"/>
                    </a:lnTo>
                    <a:lnTo>
                      <a:pt x="230" y="131"/>
                    </a:lnTo>
                    <a:lnTo>
                      <a:pt x="213" y="133"/>
                    </a:lnTo>
                    <a:lnTo>
                      <a:pt x="197" y="139"/>
                    </a:lnTo>
                    <a:lnTo>
                      <a:pt x="180" y="144"/>
                    </a:lnTo>
                    <a:lnTo>
                      <a:pt x="163" y="147"/>
                    </a:lnTo>
                    <a:lnTo>
                      <a:pt x="144" y="153"/>
                    </a:lnTo>
                    <a:lnTo>
                      <a:pt x="130" y="158"/>
                    </a:lnTo>
                    <a:lnTo>
                      <a:pt x="119" y="164"/>
                    </a:lnTo>
                    <a:lnTo>
                      <a:pt x="105" y="169"/>
                    </a:lnTo>
                    <a:lnTo>
                      <a:pt x="91" y="175"/>
                    </a:lnTo>
                    <a:lnTo>
                      <a:pt x="77" y="180"/>
                    </a:lnTo>
                    <a:lnTo>
                      <a:pt x="64" y="186"/>
                    </a:lnTo>
                    <a:lnTo>
                      <a:pt x="50" y="192"/>
                    </a:lnTo>
                    <a:lnTo>
                      <a:pt x="39" y="197"/>
                    </a:lnTo>
                    <a:lnTo>
                      <a:pt x="28" y="200"/>
                    </a:lnTo>
                    <a:lnTo>
                      <a:pt x="19" y="200"/>
                    </a:lnTo>
                    <a:lnTo>
                      <a:pt x="8" y="203"/>
                    </a:lnTo>
                    <a:lnTo>
                      <a:pt x="0" y="197"/>
                    </a:lnTo>
                    <a:lnTo>
                      <a:pt x="0" y="189"/>
                    </a:lnTo>
                    <a:lnTo>
                      <a:pt x="3" y="183"/>
                    </a:lnTo>
                    <a:lnTo>
                      <a:pt x="8" y="178"/>
                    </a:lnTo>
                    <a:lnTo>
                      <a:pt x="16" y="175"/>
                    </a:lnTo>
                    <a:lnTo>
                      <a:pt x="47" y="158"/>
                    </a:lnTo>
                    <a:lnTo>
                      <a:pt x="80" y="144"/>
                    </a:lnTo>
                    <a:lnTo>
                      <a:pt x="114" y="131"/>
                    </a:lnTo>
                    <a:lnTo>
                      <a:pt x="147" y="117"/>
                    </a:lnTo>
                    <a:lnTo>
                      <a:pt x="180" y="103"/>
                    </a:lnTo>
                    <a:lnTo>
                      <a:pt x="216" y="89"/>
                    </a:lnTo>
                    <a:lnTo>
                      <a:pt x="249" y="78"/>
                    </a:lnTo>
                    <a:lnTo>
                      <a:pt x="283" y="67"/>
                    </a:lnTo>
                    <a:lnTo>
                      <a:pt x="316" y="56"/>
                    </a:lnTo>
                    <a:lnTo>
                      <a:pt x="349" y="47"/>
                    </a:lnTo>
                    <a:lnTo>
                      <a:pt x="382" y="39"/>
                    </a:lnTo>
                    <a:lnTo>
                      <a:pt x="416" y="33"/>
                    </a:lnTo>
                    <a:lnTo>
                      <a:pt x="449" y="25"/>
                    </a:lnTo>
                    <a:lnTo>
                      <a:pt x="485" y="20"/>
                    </a:lnTo>
                    <a:lnTo>
                      <a:pt x="518" y="14"/>
                    </a:lnTo>
                    <a:lnTo>
                      <a:pt x="552" y="9"/>
                    </a:lnTo>
                    <a:lnTo>
                      <a:pt x="574" y="9"/>
                    </a:lnTo>
                    <a:lnTo>
                      <a:pt x="599" y="6"/>
                    </a:lnTo>
                    <a:lnTo>
                      <a:pt x="624" y="3"/>
                    </a:lnTo>
                    <a:lnTo>
                      <a:pt x="649" y="0"/>
                    </a:lnTo>
                    <a:lnTo>
                      <a:pt x="674" y="0"/>
                    </a:lnTo>
                    <a:lnTo>
                      <a:pt x="696" y="3"/>
                    </a:lnTo>
                    <a:lnTo>
                      <a:pt x="715" y="14"/>
                    </a:lnTo>
                    <a:lnTo>
                      <a:pt x="7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35040" y="10731600"/>
                <a:ext cx="488880" cy="207720"/>
              </a:xfrm>
              <a:custGeom>
                <a:avLst/>
                <a:gdLst/>
                <a:ahLst/>
                <a:rect l="l" t="t" r="r" b="b"/>
                <a:pathLst>
                  <a:path w="308" h="131">
                    <a:moveTo>
                      <a:pt x="302" y="9"/>
                    </a:moveTo>
                    <a:lnTo>
                      <a:pt x="305" y="17"/>
                    </a:lnTo>
                    <a:lnTo>
                      <a:pt x="308" y="28"/>
                    </a:lnTo>
                    <a:lnTo>
                      <a:pt x="308" y="36"/>
                    </a:lnTo>
                    <a:lnTo>
                      <a:pt x="308" y="47"/>
                    </a:lnTo>
                    <a:lnTo>
                      <a:pt x="302" y="53"/>
                    </a:lnTo>
                    <a:lnTo>
                      <a:pt x="294" y="53"/>
                    </a:lnTo>
                    <a:lnTo>
                      <a:pt x="286" y="56"/>
                    </a:lnTo>
                    <a:lnTo>
                      <a:pt x="280" y="58"/>
                    </a:lnTo>
                    <a:lnTo>
                      <a:pt x="228" y="67"/>
                    </a:lnTo>
                    <a:lnTo>
                      <a:pt x="216" y="72"/>
                    </a:lnTo>
                    <a:lnTo>
                      <a:pt x="203" y="75"/>
                    </a:lnTo>
                    <a:lnTo>
                      <a:pt x="192" y="78"/>
                    </a:lnTo>
                    <a:lnTo>
                      <a:pt x="178" y="81"/>
                    </a:lnTo>
                    <a:lnTo>
                      <a:pt x="164" y="83"/>
                    </a:lnTo>
                    <a:lnTo>
                      <a:pt x="153" y="86"/>
                    </a:lnTo>
                    <a:lnTo>
                      <a:pt x="139" y="89"/>
                    </a:lnTo>
                    <a:lnTo>
                      <a:pt x="128" y="94"/>
                    </a:lnTo>
                    <a:lnTo>
                      <a:pt x="117" y="97"/>
                    </a:lnTo>
                    <a:lnTo>
                      <a:pt x="106" y="100"/>
                    </a:lnTo>
                    <a:lnTo>
                      <a:pt x="94" y="103"/>
                    </a:lnTo>
                    <a:lnTo>
                      <a:pt x="83" y="106"/>
                    </a:lnTo>
                    <a:lnTo>
                      <a:pt x="72" y="108"/>
                    </a:lnTo>
                    <a:lnTo>
                      <a:pt x="64" y="114"/>
                    </a:lnTo>
                    <a:lnTo>
                      <a:pt x="53" y="117"/>
                    </a:lnTo>
                    <a:lnTo>
                      <a:pt x="42" y="119"/>
                    </a:lnTo>
                    <a:lnTo>
                      <a:pt x="33" y="125"/>
                    </a:lnTo>
                    <a:lnTo>
                      <a:pt x="25" y="128"/>
                    </a:lnTo>
                    <a:lnTo>
                      <a:pt x="17" y="131"/>
                    </a:lnTo>
                    <a:lnTo>
                      <a:pt x="6" y="128"/>
                    </a:lnTo>
                    <a:lnTo>
                      <a:pt x="6" y="125"/>
                    </a:lnTo>
                    <a:lnTo>
                      <a:pt x="3" y="119"/>
                    </a:lnTo>
                    <a:lnTo>
                      <a:pt x="3" y="117"/>
                    </a:lnTo>
                    <a:lnTo>
                      <a:pt x="0" y="114"/>
                    </a:lnTo>
                    <a:lnTo>
                      <a:pt x="14" y="100"/>
                    </a:lnTo>
                    <a:lnTo>
                      <a:pt x="31" y="86"/>
                    </a:lnTo>
                    <a:lnTo>
                      <a:pt x="47" y="75"/>
                    </a:lnTo>
                    <a:lnTo>
                      <a:pt x="67" y="67"/>
                    </a:lnTo>
                    <a:lnTo>
                      <a:pt x="86" y="58"/>
                    </a:lnTo>
                    <a:lnTo>
                      <a:pt x="108" y="50"/>
                    </a:lnTo>
                    <a:lnTo>
                      <a:pt x="128" y="45"/>
                    </a:lnTo>
                    <a:lnTo>
                      <a:pt x="150" y="39"/>
                    </a:lnTo>
                    <a:lnTo>
                      <a:pt x="167" y="33"/>
                    </a:lnTo>
                    <a:lnTo>
                      <a:pt x="183" y="28"/>
                    </a:lnTo>
                    <a:lnTo>
                      <a:pt x="200" y="22"/>
                    </a:lnTo>
                    <a:lnTo>
                      <a:pt x="216" y="17"/>
                    </a:lnTo>
                    <a:lnTo>
                      <a:pt x="233" y="11"/>
                    </a:lnTo>
                    <a:lnTo>
                      <a:pt x="250" y="9"/>
                    </a:lnTo>
                    <a:lnTo>
                      <a:pt x="266" y="3"/>
                    </a:lnTo>
                    <a:lnTo>
                      <a:pt x="283" y="0"/>
                    </a:lnTo>
                    <a:lnTo>
                      <a:pt x="289" y="0"/>
                    </a:lnTo>
                    <a:lnTo>
                      <a:pt x="294" y="3"/>
                    </a:lnTo>
                    <a:lnTo>
                      <a:pt x="297" y="6"/>
                    </a:lnTo>
                    <a:lnTo>
                      <a:pt x="30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5240" y="10982160"/>
                <a:ext cx="210960" cy="528840"/>
              </a:xfrm>
              <a:custGeom>
                <a:avLst/>
                <a:gdLst/>
                <a:ahLst/>
                <a:rect l="l" t="t" r="r" b="b"/>
                <a:pathLst>
                  <a:path w="133" h="333">
                    <a:moveTo>
                      <a:pt x="69" y="9"/>
                    </a:moveTo>
                    <a:lnTo>
                      <a:pt x="69" y="14"/>
                    </a:lnTo>
                    <a:lnTo>
                      <a:pt x="66" y="20"/>
                    </a:lnTo>
                    <a:lnTo>
                      <a:pt x="63" y="25"/>
                    </a:lnTo>
                    <a:lnTo>
                      <a:pt x="61" y="31"/>
                    </a:lnTo>
                    <a:lnTo>
                      <a:pt x="55" y="83"/>
                    </a:lnTo>
                    <a:lnTo>
                      <a:pt x="55" y="139"/>
                    </a:lnTo>
                    <a:lnTo>
                      <a:pt x="58" y="192"/>
                    </a:lnTo>
                    <a:lnTo>
                      <a:pt x="63" y="247"/>
                    </a:lnTo>
                    <a:lnTo>
                      <a:pt x="74" y="266"/>
                    </a:lnTo>
                    <a:lnTo>
                      <a:pt x="88" y="283"/>
                    </a:lnTo>
                    <a:lnTo>
                      <a:pt x="105" y="294"/>
                    </a:lnTo>
                    <a:lnTo>
                      <a:pt x="124" y="303"/>
                    </a:lnTo>
                    <a:lnTo>
                      <a:pt x="130" y="308"/>
                    </a:lnTo>
                    <a:lnTo>
                      <a:pt x="133" y="314"/>
                    </a:lnTo>
                    <a:lnTo>
                      <a:pt x="133" y="322"/>
                    </a:lnTo>
                    <a:lnTo>
                      <a:pt x="130" y="327"/>
                    </a:lnTo>
                    <a:lnTo>
                      <a:pt x="116" y="330"/>
                    </a:lnTo>
                    <a:lnTo>
                      <a:pt x="99" y="333"/>
                    </a:lnTo>
                    <a:lnTo>
                      <a:pt x="86" y="330"/>
                    </a:lnTo>
                    <a:lnTo>
                      <a:pt x="69" y="330"/>
                    </a:lnTo>
                    <a:lnTo>
                      <a:pt x="47" y="316"/>
                    </a:lnTo>
                    <a:lnTo>
                      <a:pt x="25" y="297"/>
                    </a:lnTo>
                    <a:lnTo>
                      <a:pt x="8" y="272"/>
                    </a:lnTo>
                    <a:lnTo>
                      <a:pt x="2" y="242"/>
                    </a:lnTo>
                    <a:lnTo>
                      <a:pt x="0" y="230"/>
                    </a:lnTo>
                    <a:lnTo>
                      <a:pt x="0" y="219"/>
                    </a:lnTo>
                    <a:lnTo>
                      <a:pt x="2" y="208"/>
                    </a:lnTo>
                    <a:lnTo>
                      <a:pt x="5" y="197"/>
                    </a:lnTo>
                    <a:lnTo>
                      <a:pt x="8" y="150"/>
                    </a:lnTo>
                    <a:lnTo>
                      <a:pt x="13" y="103"/>
                    </a:lnTo>
                    <a:lnTo>
                      <a:pt x="19" y="53"/>
                    </a:lnTo>
                    <a:lnTo>
                      <a:pt x="36" y="9"/>
                    </a:lnTo>
                    <a:lnTo>
                      <a:pt x="44" y="6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6240" y="11190240"/>
                <a:ext cx="211320" cy="447840"/>
              </a:xfrm>
              <a:custGeom>
                <a:avLst/>
                <a:gdLst/>
                <a:ahLst/>
                <a:rect l="l" t="t" r="r" b="b"/>
                <a:pathLst>
                  <a:path w="133" h="282">
                    <a:moveTo>
                      <a:pt x="77" y="5"/>
                    </a:moveTo>
                    <a:lnTo>
                      <a:pt x="77" y="25"/>
                    </a:lnTo>
                    <a:lnTo>
                      <a:pt x="69" y="38"/>
                    </a:lnTo>
                    <a:lnTo>
                      <a:pt x="64" y="52"/>
                    </a:lnTo>
                    <a:lnTo>
                      <a:pt x="61" y="72"/>
                    </a:lnTo>
                    <a:lnTo>
                      <a:pt x="72" y="97"/>
                    </a:lnTo>
                    <a:lnTo>
                      <a:pt x="83" y="122"/>
                    </a:lnTo>
                    <a:lnTo>
                      <a:pt x="94" y="147"/>
                    </a:lnTo>
                    <a:lnTo>
                      <a:pt x="105" y="174"/>
                    </a:lnTo>
                    <a:lnTo>
                      <a:pt x="111" y="196"/>
                    </a:lnTo>
                    <a:lnTo>
                      <a:pt x="116" y="216"/>
                    </a:lnTo>
                    <a:lnTo>
                      <a:pt x="122" y="235"/>
                    </a:lnTo>
                    <a:lnTo>
                      <a:pt x="133" y="255"/>
                    </a:lnTo>
                    <a:lnTo>
                      <a:pt x="130" y="263"/>
                    </a:lnTo>
                    <a:lnTo>
                      <a:pt x="127" y="271"/>
                    </a:lnTo>
                    <a:lnTo>
                      <a:pt x="122" y="277"/>
                    </a:lnTo>
                    <a:lnTo>
                      <a:pt x="116" y="282"/>
                    </a:lnTo>
                    <a:lnTo>
                      <a:pt x="108" y="282"/>
                    </a:lnTo>
                    <a:lnTo>
                      <a:pt x="102" y="277"/>
                    </a:lnTo>
                    <a:lnTo>
                      <a:pt x="97" y="271"/>
                    </a:lnTo>
                    <a:lnTo>
                      <a:pt x="91" y="266"/>
                    </a:lnTo>
                    <a:lnTo>
                      <a:pt x="89" y="246"/>
                    </a:lnTo>
                    <a:lnTo>
                      <a:pt x="86" y="227"/>
                    </a:lnTo>
                    <a:lnTo>
                      <a:pt x="80" y="208"/>
                    </a:lnTo>
                    <a:lnTo>
                      <a:pt x="69" y="194"/>
                    </a:lnTo>
                    <a:lnTo>
                      <a:pt x="61" y="174"/>
                    </a:lnTo>
                    <a:lnTo>
                      <a:pt x="50" y="155"/>
                    </a:lnTo>
                    <a:lnTo>
                      <a:pt x="36" y="135"/>
                    </a:lnTo>
                    <a:lnTo>
                      <a:pt x="19" y="119"/>
                    </a:lnTo>
                    <a:lnTo>
                      <a:pt x="14" y="111"/>
                    </a:lnTo>
                    <a:lnTo>
                      <a:pt x="8" y="102"/>
                    </a:lnTo>
                    <a:lnTo>
                      <a:pt x="5" y="94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16" y="50"/>
                    </a:lnTo>
                    <a:lnTo>
                      <a:pt x="30" y="33"/>
                    </a:lnTo>
                    <a:lnTo>
                      <a:pt x="41" y="16"/>
                    </a:lnTo>
                    <a:lnTo>
                      <a:pt x="50" y="8"/>
                    </a:lnTo>
                    <a:lnTo>
                      <a:pt x="58" y="2"/>
                    </a:lnTo>
                    <a:lnTo>
                      <a:pt x="69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5600" y="114094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11" y="31"/>
                    </a:moveTo>
                    <a:lnTo>
                      <a:pt x="111" y="45"/>
                    </a:lnTo>
                    <a:lnTo>
                      <a:pt x="106" y="56"/>
                    </a:lnTo>
                    <a:lnTo>
                      <a:pt x="97" y="64"/>
                    </a:lnTo>
                    <a:lnTo>
                      <a:pt x="89" y="75"/>
                    </a:lnTo>
                    <a:lnTo>
                      <a:pt x="70" y="81"/>
                    </a:lnTo>
                    <a:lnTo>
                      <a:pt x="53" y="86"/>
                    </a:lnTo>
                    <a:lnTo>
                      <a:pt x="34" y="89"/>
                    </a:lnTo>
                    <a:lnTo>
                      <a:pt x="14" y="86"/>
                    </a:lnTo>
                    <a:lnTo>
                      <a:pt x="11" y="81"/>
                    </a:lnTo>
                    <a:lnTo>
                      <a:pt x="6" y="75"/>
                    </a:lnTo>
                    <a:lnTo>
                      <a:pt x="0" y="67"/>
                    </a:lnTo>
                    <a:lnTo>
                      <a:pt x="3" y="58"/>
                    </a:lnTo>
                    <a:lnTo>
                      <a:pt x="20" y="56"/>
                    </a:lnTo>
                    <a:lnTo>
                      <a:pt x="34" y="50"/>
                    </a:lnTo>
                    <a:lnTo>
                      <a:pt x="50" y="45"/>
                    </a:lnTo>
                    <a:lnTo>
                      <a:pt x="61" y="34"/>
                    </a:lnTo>
                    <a:lnTo>
                      <a:pt x="61" y="25"/>
                    </a:lnTo>
                    <a:lnTo>
                      <a:pt x="59" y="20"/>
                    </a:lnTo>
                    <a:lnTo>
                      <a:pt x="56" y="14"/>
                    </a:lnTo>
                    <a:lnTo>
                      <a:pt x="56" y="6"/>
                    </a:lnTo>
                    <a:lnTo>
                      <a:pt x="59" y="3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81" y="9"/>
                    </a:lnTo>
                    <a:lnTo>
                      <a:pt x="92" y="14"/>
                    </a:lnTo>
                    <a:lnTo>
                      <a:pt x="103" y="20"/>
                    </a:lnTo>
                    <a:lnTo>
                      <a:pt x="11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87440" y="11426760"/>
                <a:ext cx="692280" cy="295200"/>
              </a:xfrm>
              <a:custGeom>
                <a:avLst/>
                <a:gdLst/>
                <a:ahLst/>
                <a:rect l="l" t="t" r="r" b="b"/>
                <a:pathLst>
                  <a:path w="436" h="186">
                    <a:moveTo>
                      <a:pt x="64" y="20"/>
                    </a:moveTo>
                    <a:lnTo>
                      <a:pt x="81" y="28"/>
                    </a:lnTo>
                    <a:lnTo>
                      <a:pt x="95" y="39"/>
                    </a:lnTo>
                    <a:lnTo>
                      <a:pt x="108" y="47"/>
                    </a:lnTo>
                    <a:lnTo>
                      <a:pt x="125" y="56"/>
                    </a:lnTo>
                    <a:lnTo>
                      <a:pt x="142" y="70"/>
                    </a:lnTo>
                    <a:lnTo>
                      <a:pt x="161" y="86"/>
                    </a:lnTo>
                    <a:lnTo>
                      <a:pt x="178" y="100"/>
                    </a:lnTo>
                    <a:lnTo>
                      <a:pt x="197" y="114"/>
                    </a:lnTo>
                    <a:lnTo>
                      <a:pt x="217" y="128"/>
                    </a:lnTo>
                    <a:lnTo>
                      <a:pt x="239" y="133"/>
                    </a:lnTo>
                    <a:lnTo>
                      <a:pt x="264" y="136"/>
                    </a:lnTo>
                    <a:lnTo>
                      <a:pt x="289" y="133"/>
                    </a:lnTo>
                    <a:lnTo>
                      <a:pt x="297" y="131"/>
                    </a:lnTo>
                    <a:lnTo>
                      <a:pt x="308" y="131"/>
                    </a:lnTo>
                    <a:lnTo>
                      <a:pt x="316" y="128"/>
                    </a:lnTo>
                    <a:lnTo>
                      <a:pt x="325" y="120"/>
                    </a:lnTo>
                    <a:lnTo>
                      <a:pt x="336" y="120"/>
                    </a:lnTo>
                    <a:lnTo>
                      <a:pt x="347" y="117"/>
                    </a:lnTo>
                    <a:lnTo>
                      <a:pt x="355" y="111"/>
                    </a:lnTo>
                    <a:lnTo>
                      <a:pt x="363" y="103"/>
                    </a:lnTo>
                    <a:lnTo>
                      <a:pt x="363" y="92"/>
                    </a:lnTo>
                    <a:lnTo>
                      <a:pt x="361" y="84"/>
                    </a:lnTo>
                    <a:lnTo>
                      <a:pt x="361" y="75"/>
                    </a:lnTo>
                    <a:lnTo>
                      <a:pt x="363" y="70"/>
                    </a:lnTo>
                    <a:lnTo>
                      <a:pt x="369" y="67"/>
                    </a:lnTo>
                    <a:lnTo>
                      <a:pt x="377" y="67"/>
                    </a:lnTo>
                    <a:lnTo>
                      <a:pt x="383" y="70"/>
                    </a:lnTo>
                    <a:lnTo>
                      <a:pt x="391" y="72"/>
                    </a:lnTo>
                    <a:lnTo>
                      <a:pt x="405" y="86"/>
                    </a:lnTo>
                    <a:lnTo>
                      <a:pt x="419" y="100"/>
                    </a:lnTo>
                    <a:lnTo>
                      <a:pt x="430" y="117"/>
                    </a:lnTo>
                    <a:lnTo>
                      <a:pt x="436" y="136"/>
                    </a:lnTo>
                    <a:lnTo>
                      <a:pt x="422" y="150"/>
                    </a:lnTo>
                    <a:lnTo>
                      <a:pt x="405" y="158"/>
                    </a:lnTo>
                    <a:lnTo>
                      <a:pt x="386" y="167"/>
                    </a:lnTo>
                    <a:lnTo>
                      <a:pt x="363" y="172"/>
                    </a:lnTo>
                    <a:lnTo>
                      <a:pt x="344" y="175"/>
                    </a:lnTo>
                    <a:lnTo>
                      <a:pt x="325" y="178"/>
                    </a:lnTo>
                    <a:lnTo>
                      <a:pt x="302" y="181"/>
                    </a:lnTo>
                    <a:lnTo>
                      <a:pt x="283" y="183"/>
                    </a:lnTo>
                    <a:lnTo>
                      <a:pt x="261" y="186"/>
                    </a:lnTo>
                    <a:lnTo>
                      <a:pt x="241" y="183"/>
                    </a:lnTo>
                    <a:lnTo>
                      <a:pt x="222" y="178"/>
                    </a:lnTo>
                    <a:lnTo>
                      <a:pt x="205" y="169"/>
                    </a:lnTo>
                    <a:lnTo>
                      <a:pt x="183" y="167"/>
                    </a:lnTo>
                    <a:lnTo>
                      <a:pt x="169" y="153"/>
                    </a:lnTo>
                    <a:lnTo>
                      <a:pt x="158" y="139"/>
                    </a:lnTo>
                    <a:lnTo>
                      <a:pt x="139" y="133"/>
                    </a:lnTo>
                    <a:lnTo>
                      <a:pt x="125" y="122"/>
                    </a:lnTo>
                    <a:lnTo>
                      <a:pt x="114" y="111"/>
                    </a:lnTo>
                    <a:lnTo>
                      <a:pt x="100" y="100"/>
                    </a:lnTo>
                    <a:lnTo>
                      <a:pt x="89" y="89"/>
                    </a:lnTo>
                    <a:lnTo>
                      <a:pt x="78" y="81"/>
                    </a:lnTo>
                    <a:lnTo>
                      <a:pt x="67" y="70"/>
                    </a:lnTo>
                    <a:lnTo>
                      <a:pt x="56" y="61"/>
                    </a:lnTo>
                    <a:lnTo>
                      <a:pt x="47" y="53"/>
                    </a:lnTo>
                    <a:lnTo>
                      <a:pt x="36" y="42"/>
                    </a:lnTo>
                    <a:lnTo>
                      <a:pt x="25" y="34"/>
                    </a:lnTo>
                    <a:lnTo>
                      <a:pt x="14" y="25"/>
                    </a:lnTo>
                    <a:lnTo>
                      <a:pt x="3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36" y="9"/>
                    </a:lnTo>
                    <a:lnTo>
                      <a:pt x="50" y="14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3560" y="11511000"/>
                <a:ext cx="387360" cy="223920"/>
              </a:xfrm>
              <a:custGeom>
                <a:avLst/>
                <a:gdLst/>
                <a:ahLst/>
                <a:rect l="l" t="t" r="r" b="b"/>
                <a:pathLst>
                  <a:path w="244" h="141">
                    <a:moveTo>
                      <a:pt x="225" y="22"/>
                    </a:moveTo>
                    <a:lnTo>
                      <a:pt x="230" y="39"/>
                    </a:lnTo>
                    <a:lnTo>
                      <a:pt x="241" y="58"/>
                    </a:lnTo>
                    <a:lnTo>
                      <a:pt x="244" y="80"/>
                    </a:lnTo>
                    <a:lnTo>
                      <a:pt x="239" y="100"/>
                    </a:lnTo>
                    <a:lnTo>
                      <a:pt x="228" y="114"/>
                    </a:lnTo>
                    <a:lnTo>
                      <a:pt x="214" y="122"/>
                    </a:lnTo>
                    <a:lnTo>
                      <a:pt x="200" y="130"/>
                    </a:lnTo>
                    <a:lnTo>
                      <a:pt x="183" y="136"/>
                    </a:lnTo>
                    <a:lnTo>
                      <a:pt x="167" y="139"/>
                    </a:lnTo>
                    <a:lnTo>
                      <a:pt x="147" y="141"/>
                    </a:lnTo>
                    <a:lnTo>
                      <a:pt x="130" y="141"/>
                    </a:lnTo>
                    <a:lnTo>
                      <a:pt x="111" y="139"/>
                    </a:lnTo>
                    <a:lnTo>
                      <a:pt x="94" y="133"/>
                    </a:lnTo>
                    <a:lnTo>
                      <a:pt x="78" y="125"/>
                    </a:lnTo>
                    <a:lnTo>
                      <a:pt x="61" y="116"/>
                    </a:lnTo>
                    <a:lnTo>
                      <a:pt x="45" y="108"/>
                    </a:lnTo>
                    <a:lnTo>
                      <a:pt x="31" y="97"/>
                    </a:lnTo>
                    <a:lnTo>
                      <a:pt x="20" y="83"/>
                    </a:lnTo>
                    <a:lnTo>
                      <a:pt x="9" y="69"/>
                    </a:lnTo>
                    <a:lnTo>
                      <a:pt x="3" y="53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3" y="31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9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25" y="33"/>
                    </a:lnTo>
                    <a:lnTo>
                      <a:pt x="36" y="44"/>
                    </a:lnTo>
                    <a:lnTo>
                      <a:pt x="50" y="55"/>
                    </a:lnTo>
                    <a:lnTo>
                      <a:pt x="61" y="64"/>
                    </a:lnTo>
                    <a:lnTo>
                      <a:pt x="75" y="67"/>
                    </a:lnTo>
                    <a:lnTo>
                      <a:pt x="89" y="72"/>
                    </a:lnTo>
                    <a:lnTo>
                      <a:pt x="103" y="75"/>
                    </a:lnTo>
                    <a:lnTo>
                      <a:pt x="117" y="80"/>
                    </a:lnTo>
                    <a:lnTo>
                      <a:pt x="130" y="83"/>
                    </a:lnTo>
                    <a:lnTo>
                      <a:pt x="147" y="83"/>
                    </a:lnTo>
                    <a:lnTo>
                      <a:pt x="161" y="83"/>
                    </a:lnTo>
                    <a:lnTo>
                      <a:pt x="178" y="80"/>
                    </a:lnTo>
                    <a:lnTo>
                      <a:pt x="186" y="72"/>
                    </a:lnTo>
                    <a:lnTo>
                      <a:pt x="194" y="67"/>
                    </a:lnTo>
                    <a:lnTo>
                      <a:pt x="200" y="58"/>
                    </a:lnTo>
                    <a:lnTo>
                      <a:pt x="205" y="47"/>
                    </a:lnTo>
                    <a:lnTo>
                      <a:pt x="203" y="36"/>
                    </a:lnTo>
                    <a:lnTo>
                      <a:pt x="197" y="22"/>
                    </a:lnTo>
                    <a:lnTo>
                      <a:pt x="194" y="11"/>
                    </a:lnTo>
                    <a:lnTo>
                      <a:pt x="203" y="0"/>
                    </a:lnTo>
                    <a:lnTo>
                      <a:pt x="211" y="3"/>
                    </a:lnTo>
                    <a:lnTo>
                      <a:pt x="216" y="8"/>
                    </a:lnTo>
                    <a:lnTo>
                      <a:pt x="222" y="17"/>
                    </a:lnTo>
                    <a:lnTo>
                      <a:pt x="2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814920" y="6248520"/>
              <a:ext cx="730080" cy="263520"/>
            </a:xfrm>
            <a:custGeom>
              <a:avLst/>
              <a:gdLst/>
              <a:ahLst/>
              <a:rect l="l" t="t" r="r" b="b"/>
              <a:pathLst>
                <a:path w="460" h="166">
                  <a:moveTo>
                    <a:pt x="39" y="163"/>
                  </a:moveTo>
                  <a:lnTo>
                    <a:pt x="19" y="138"/>
                  </a:lnTo>
                  <a:lnTo>
                    <a:pt x="5" y="111"/>
                  </a:lnTo>
                  <a:lnTo>
                    <a:pt x="0" y="83"/>
                  </a:lnTo>
                  <a:lnTo>
                    <a:pt x="5" y="55"/>
                  </a:lnTo>
                  <a:lnTo>
                    <a:pt x="14" y="41"/>
                  </a:lnTo>
                  <a:lnTo>
                    <a:pt x="22" y="33"/>
                  </a:lnTo>
                  <a:lnTo>
                    <a:pt x="33" y="22"/>
                  </a:lnTo>
                  <a:lnTo>
                    <a:pt x="47" y="16"/>
                  </a:lnTo>
                  <a:lnTo>
                    <a:pt x="61" y="11"/>
                  </a:lnTo>
                  <a:lnTo>
                    <a:pt x="78" y="5"/>
                  </a:lnTo>
                  <a:lnTo>
                    <a:pt x="91" y="2"/>
                  </a:lnTo>
                  <a:lnTo>
                    <a:pt x="108" y="2"/>
                  </a:lnTo>
                  <a:lnTo>
                    <a:pt x="141" y="2"/>
                  </a:lnTo>
                  <a:lnTo>
                    <a:pt x="175" y="2"/>
                  </a:lnTo>
                  <a:lnTo>
                    <a:pt x="208" y="0"/>
                  </a:lnTo>
                  <a:lnTo>
                    <a:pt x="241" y="0"/>
                  </a:lnTo>
                  <a:lnTo>
                    <a:pt x="274" y="0"/>
                  </a:lnTo>
                  <a:lnTo>
                    <a:pt x="308" y="0"/>
                  </a:lnTo>
                  <a:lnTo>
                    <a:pt x="341" y="2"/>
                  </a:lnTo>
                  <a:lnTo>
                    <a:pt x="374" y="5"/>
                  </a:lnTo>
                  <a:lnTo>
                    <a:pt x="385" y="8"/>
                  </a:lnTo>
                  <a:lnTo>
                    <a:pt x="396" y="13"/>
                  </a:lnTo>
                  <a:lnTo>
                    <a:pt x="405" y="16"/>
                  </a:lnTo>
                  <a:lnTo>
                    <a:pt x="416" y="22"/>
                  </a:lnTo>
                  <a:lnTo>
                    <a:pt x="427" y="25"/>
                  </a:lnTo>
                  <a:lnTo>
                    <a:pt x="438" y="27"/>
                  </a:lnTo>
                  <a:lnTo>
                    <a:pt x="449" y="30"/>
                  </a:lnTo>
                  <a:lnTo>
                    <a:pt x="460" y="30"/>
                  </a:lnTo>
                  <a:lnTo>
                    <a:pt x="457" y="61"/>
                  </a:lnTo>
                  <a:lnTo>
                    <a:pt x="460" y="94"/>
                  </a:lnTo>
                  <a:lnTo>
                    <a:pt x="460" y="124"/>
                  </a:lnTo>
                  <a:lnTo>
                    <a:pt x="455" y="155"/>
                  </a:lnTo>
                  <a:lnTo>
                    <a:pt x="402" y="160"/>
                  </a:lnTo>
                  <a:lnTo>
                    <a:pt x="352" y="166"/>
                  </a:lnTo>
                  <a:lnTo>
                    <a:pt x="299" y="166"/>
                  </a:lnTo>
                  <a:lnTo>
                    <a:pt x="247" y="166"/>
                  </a:lnTo>
                  <a:lnTo>
                    <a:pt x="194" y="166"/>
                  </a:lnTo>
                  <a:lnTo>
                    <a:pt x="141" y="163"/>
                  </a:lnTo>
                  <a:lnTo>
                    <a:pt x="91" y="163"/>
                  </a:lnTo>
                  <a:lnTo>
                    <a:pt x="39" y="163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43360" y="6315120"/>
              <a:ext cx="250920" cy="141120"/>
            </a:xfrm>
            <a:custGeom>
              <a:avLst/>
              <a:gdLst/>
              <a:ahLst/>
              <a:rect l="l" t="t" r="r" b="b"/>
              <a:pathLst>
                <a:path w="158" h="89">
                  <a:moveTo>
                    <a:pt x="3" y="81"/>
                  </a:moveTo>
                  <a:lnTo>
                    <a:pt x="3" y="64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3" y="6"/>
                  </a:lnTo>
                  <a:lnTo>
                    <a:pt x="19" y="6"/>
                  </a:lnTo>
                  <a:lnTo>
                    <a:pt x="39" y="6"/>
                  </a:lnTo>
                  <a:lnTo>
                    <a:pt x="58" y="3"/>
                  </a:lnTo>
                  <a:lnTo>
                    <a:pt x="75" y="0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0" y="3"/>
                  </a:lnTo>
                  <a:lnTo>
                    <a:pt x="147" y="6"/>
                  </a:lnTo>
                  <a:lnTo>
                    <a:pt x="155" y="14"/>
                  </a:lnTo>
                  <a:lnTo>
                    <a:pt x="158" y="31"/>
                  </a:lnTo>
                  <a:lnTo>
                    <a:pt x="158" y="48"/>
                  </a:lnTo>
                  <a:lnTo>
                    <a:pt x="150" y="59"/>
                  </a:lnTo>
                  <a:lnTo>
                    <a:pt x="133" y="70"/>
                  </a:lnTo>
                  <a:lnTo>
                    <a:pt x="116" y="78"/>
                  </a:lnTo>
                  <a:lnTo>
                    <a:pt x="100" y="84"/>
                  </a:lnTo>
                  <a:lnTo>
                    <a:pt x="80" y="86"/>
                  </a:lnTo>
                  <a:lnTo>
                    <a:pt x="61" y="89"/>
                  </a:lnTo>
                  <a:lnTo>
                    <a:pt x="41" y="86"/>
                  </a:lnTo>
                  <a:lnTo>
                    <a:pt x="22" y="86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91160" y="6248520"/>
              <a:ext cx="338040" cy="136440"/>
            </a:xfrm>
            <a:custGeom>
              <a:avLst/>
              <a:gdLst/>
              <a:ahLst/>
              <a:rect l="l" t="t" r="r" b="b"/>
              <a:pathLst>
                <a:path w="213" h="86">
                  <a:moveTo>
                    <a:pt x="199" y="9"/>
                  </a:moveTo>
                  <a:lnTo>
                    <a:pt x="207" y="17"/>
                  </a:lnTo>
                  <a:lnTo>
                    <a:pt x="210" y="28"/>
                  </a:lnTo>
                  <a:lnTo>
                    <a:pt x="213" y="42"/>
                  </a:lnTo>
                  <a:lnTo>
                    <a:pt x="213" y="53"/>
                  </a:lnTo>
                  <a:lnTo>
                    <a:pt x="207" y="64"/>
                  </a:lnTo>
                  <a:lnTo>
                    <a:pt x="205" y="72"/>
                  </a:lnTo>
                  <a:lnTo>
                    <a:pt x="196" y="78"/>
                  </a:lnTo>
                  <a:lnTo>
                    <a:pt x="188" y="81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7"/>
                  </a:lnTo>
                  <a:lnTo>
                    <a:pt x="183" y="61"/>
                  </a:lnTo>
                  <a:lnTo>
                    <a:pt x="171" y="56"/>
                  </a:lnTo>
                  <a:lnTo>
                    <a:pt x="160" y="56"/>
                  </a:lnTo>
                  <a:lnTo>
                    <a:pt x="149" y="56"/>
                  </a:lnTo>
                  <a:lnTo>
                    <a:pt x="138" y="56"/>
                  </a:lnTo>
                  <a:lnTo>
                    <a:pt x="127" y="58"/>
                  </a:lnTo>
                  <a:lnTo>
                    <a:pt x="116" y="61"/>
                  </a:lnTo>
                  <a:lnTo>
                    <a:pt x="102" y="61"/>
                  </a:lnTo>
                  <a:lnTo>
                    <a:pt x="91" y="58"/>
                  </a:lnTo>
                  <a:lnTo>
                    <a:pt x="72" y="58"/>
                  </a:lnTo>
                  <a:lnTo>
                    <a:pt x="55" y="53"/>
                  </a:lnTo>
                  <a:lnTo>
                    <a:pt x="38" y="50"/>
                  </a:lnTo>
                  <a:lnTo>
                    <a:pt x="27" y="64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5" y="81"/>
                  </a:lnTo>
                  <a:lnTo>
                    <a:pt x="19" y="86"/>
                  </a:lnTo>
                  <a:lnTo>
                    <a:pt x="16" y="86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8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0" y="42"/>
                  </a:lnTo>
                  <a:lnTo>
                    <a:pt x="5" y="28"/>
                  </a:lnTo>
                  <a:lnTo>
                    <a:pt x="13" y="17"/>
                  </a:lnTo>
                  <a:lnTo>
                    <a:pt x="27" y="9"/>
                  </a:lnTo>
                  <a:lnTo>
                    <a:pt x="44" y="9"/>
                  </a:lnTo>
                  <a:lnTo>
                    <a:pt x="58" y="6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9" y="9"/>
                  </a:lnTo>
                  <a:lnTo>
                    <a:pt x="133" y="9"/>
                  </a:lnTo>
                  <a:lnTo>
                    <a:pt x="146" y="9"/>
                  </a:lnTo>
                  <a:lnTo>
                    <a:pt x="158" y="6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4" y="3"/>
                  </a:lnTo>
                  <a:lnTo>
                    <a:pt x="19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Conclusion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aching out to guidance counselors and teachers eff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ir efforts must be suppleme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OTTOM LINE: you can’t do it alo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6CC-1883-4440-8B01-6A178BB8248D}" type="slidenum">
              <a:t>28</a:t>
            </a:fld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, contact Don Vickers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 (802) 655-96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vickers@vsa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vsa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276720" y="2111400"/>
          <a:ext cx="2666880" cy="14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111400"/>
                    <a:ext cx="2666880" cy="146988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666-71B1-4686-B617-E6C887847028}" type="slidenum">
              <a:t>29</a:t>
            </a:fld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is VSAC All About?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sure that all Vermonters have the necessary financial and informational resources to pursue their educational goals beyond high schoo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7040" y="2255760"/>
            <a:ext cx="25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…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just wh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I wanted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know!!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EBC-77B3-4E03-93E5-093FB8FF28C0}" type="slidenum">
              <a:t>3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undamental Principl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84400" cy="4724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657240" y="1752480"/>
            <a:ext cx="518148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f you don’t know where you are going, any road will get you there!!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- old Arabic s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D23-1F0A-421D-BF76-725BE0E9F3F7}" type="slidenum">
              <a:t>4</a:t>
            </a:fld>
          </a:p>
        </p:txBody>
      </p:sp>
    </p:spTree>
  </p:cSld>
  <p:transition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686480" cy="469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hat We’ll Look 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828800"/>
          </a:xfrm>
          <a:prstGeom prst="rect">
            <a:avLst/>
          </a:prstGeom>
          <a:gradFill rotWithShape="0">
            <a:gsLst>
              <a:gs pos="0">
                <a:srgbClr val="ffffff">
                  <a:alpha val="80392"/>
                </a:srgbClr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cal development of VSA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nd why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F70-B7D6-4010-A41E-A37B354F1AC4}" type="slidenum">
              <a:t>5</a:t>
            </a:fld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1965 – Landmark Year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4800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25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18916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5181480" y="47242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mont creates VSA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BA3-24D7-41CD-9C27-A879185FEFDD}" type="slidenum">
              <a:t>6</a:t>
            </a:fld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1965 – Unifying Objectiv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4800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09880" cy="25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cc330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18916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5181480" y="47242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mont creates VSA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4880" y="1870200"/>
            <a:ext cx="717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1120" y="2225520"/>
            <a:ext cx="7164720" cy="2043720"/>
          </a:xfrm>
          <a:prstGeom prst="rect">
            <a:avLst/>
          </a:prstGeom>
          <a:solidFill>
            <a:srgbClr val="9adafe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more concentrated foc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mphasized access and choi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aranteed Student Loan progra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ucation Opportunity Gra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D6E-EB1D-4A39-9D68-5FC651A82515}" type="slidenum">
              <a:t>7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VSAC’s Founding Principl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, decision-mak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-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330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837-58FA-4125-A817-863C03B81D94}" type="slidenum">
              <a:t>8</a:t>
            </a:fld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VSAC’s Developmen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457200" y="1116000"/>
            <a:ext cx="9600840" cy="5742000"/>
            <a:chOff x="-457200" y="1116000"/>
            <a:chExt cx="9600840" cy="5742000"/>
          </a:xfrm>
        </p:grpSpPr>
        <p:sp>
          <p:nvSpPr>
            <p:cNvPr id="145" name=""/>
            <p:cNvSpPr/>
            <p:nvPr/>
          </p:nvSpPr>
          <p:spPr>
            <a:xfrm>
              <a:off x="2018160" y="5786280"/>
              <a:ext cx="2733480" cy="459000"/>
            </a:xfrm>
            <a:custGeom>
              <a:avLst/>
              <a:gdLst/>
              <a:ahLst/>
              <a:rect l="l" t="t" r="r" b="b"/>
              <a:pathLst>
                <a:path w="1599" h="289">
                  <a:moveTo>
                    <a:pt x="1599" y="0"/>
                  </a:moveTo>
                  <a:lnTo>
                    <a:pt x="1579" y="33"/>
                  </a:lnTo>
                  <a:lnTo>
                    <a:pt x="0" y="289"/>
                  </a:lnTo>
                  <a:lnTo>
                    <a:pt x="31" y="256"/>
                  </a:lnTo>
                  <a:lnTo>
                    <a:pt x="1599" y="0"/>
                  </a:lnTo>
                  <a:lnTo>
                    <a:pt x="15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9920" y="563868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3200" y="5181480"/>
              <a:ext cx="2509200" cy="459000"/>
            </a:xfrm>
            <a:custGeom>
              <a:avLst/>
              <a:gdLst/>
              <a:ahLst/>
              <a:rect l="l" t="t" r="r" b="b"/>
              <a:pathLst>
                <a:path w="1468" h="289">
                  <a:moveTo>
                    <a:pt x="1468" y="0"/>
                  </a:moveTo>
                  <a:lnTo>
                    <a:pt x="1438" y="33"/>
                  </a:lnTo>
                  <a:lnTo>
                    <a:pt x="0" y="289"/>
                  </a:lnTo>
                  <a:lnTo>
                    <a:pt x="25" y="264"/>
                  </a:lnTo>
                  <a:lnTo>
                    <a:pt x="1468" y="0"/>
                  </a:lnTo>
                  <a:lnTo>
                    <a:pt x="1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97360" y="5029200"/>
              <a:ext cx="2552400" cy="484200"/>
            </a:xfrm>
            <a:custGeom>
              <a:avLst/>
              <a:gdLst/>
              <a:ahLst/>
              <a:rect l="l" t="t" r="r" b="b"/>
              <a:pathLst>
                <a:path w="1493" h="305">
                  <a:moveTo>
                    <a:pt x="1493" y="0"/>
                  </a:moveTo>
                  <a:lnTo>
                    <a:pt x="1463" y="33"/>
                  </a:lnTo>
                  <a:lnTo>
                    <a:pt x="0" y="305"/>
                  </a:lnTo>
                  <a:lnTo>
                    <a:pt x="25" y="273"/>
                  </a:lnTo>
                  <a:lnTo>
                    <a:pt x="1493" y="0"/>
                  </a:lnTo>
                  <a:lnTo>
                    <a:pt x="14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94840" y="4572000"/>
              <a:ext cx="179280" cy="1006560"/>
            </a:xfrm>
            <a:custGeom>
              <a:avLst/>
              <a:gdLst/>
              <a:ahLst/>
              <a:rect l="l" t="t" r="r" b="b"/>
              <a:pathLst>
                <a:path w="105" h="634">
                  <a:moveTo>
                    <a:pt x="105" y="593"/>
                  </a:moveTo>
                  <a:lnTo>
                    <a:pt x="75" y="634"/>
                  </a:lnTo>
                  <a:lnTo>
                    <a:pt x="0" y="8"/>
                  </a:lnTo>
                  <a:lnTo>
                    <a:pt x="25" y="0"/>
                  </a:lnTo>
                  <a:lnTo>
                    <a:pt x="105" y="593"/>
                  </a:lnTo>
                  <a:lnTo>
                    <a:pt x="105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8640" y="4572000"/>
              <a:ext cx="172440" cy="819000"/>
            </a:xfrm>
            <a:custGeom>
              <a:avLst/>
              <a:gdLst/>
              <a:ahLst/>
              <a:rect l="l" t="t" r="r" b="b"/>
              <a:pathLst>
                <a:path w="101" h="516">
                  <a:moveTo>
                    <a:pt x="101" y="471"/>
                  </a:moveTo>
                  <a:lnTo>
                    <a:pt x="76" y="516"/>
                  </a:lnTo>
                  <a:lnTo>
                    <a:pt x="0" y="4"/>
                  </a:lnTo>
                  <a:lnTo>
                    <a:pt x="35" y="0"/>
                  </a:lnTo>
                  <a:lnTo>
                    <a:pt x="101" y="471"/>
                  </a:lnTo>
                  <a:lnTo>
                    <a:pt x="101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66160" y="2590920"/>
              <a:ext cx="343440" cy="1903320"/>
            </a:xfrm>
            <a:custGeom>
              <a:avLst/>
              <a:gdLst/>
              <a:ahLst/>
              <a:rect l="l" t="t" r="r" b="b"/>
              <a:pathLst>
                <a:path w="201" h="1199">
                  <a:moveTo>
                    <a:pt x="201" y="1191"/>
                  </a:moveTo>
                  <a:lnTo>
                    <a:pt x="171" y="1199"/>
                  </a:lnTo>
                  <a:lnTo>
                    <a:pt x="0" y="12"/>
                  </a:lnTo>
                  <a:lnTo>
                    <a:pt x="25" y="0"/>
                  </a:lnTo>
                  <a:lnTo>
                    <a:pt x="201" y="1191"/>
                  </a:lnTo>
                  <a:lnTo>
                    <a:pt x="201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48600" y="2514600"/>
              <a:ext cx="369000" cy="1876320"/>
            </a:xfrm>
            <a:custGeom>
              <a:avLst/>
              <a:gdLst/>
              <a:ahLst/>
              <a:rect l="l" t="t" r="r" b="b"/>
              <a:pathLst>
                <a:path w="216" h="1182">
                  <a:moveTo>
                    <a:pt x="216" y="1178"/>
                  </a:moveTo>
                  <a:lnTo>
                    <a:pt x="186" y="1182"/>
                  </a:lnTo>
                  <a:lnTo>
                    <a:pt x="0" y="4"/>
                  </a:lnTo>
                  <a:lnTo>
                    <a:pt x="35" y="0"/>
                  </a:lnTo>
                  <a:lnTo>
                    <a:pt x="216" y="1178"/>
                  </a:lnTo>
                  <a:lnTo>
                    <a:pt x="216" y="1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240" y="2666880"/>
              <a:ext cx="550440" cy="3478320"/>
            </a:xfrm>
            <a:custGeom>
              <a:avLst/>
              <a:gdLst/>
              <a:ahLst/>
              <a:rect l="l" t="t" r="r" b="b"/>
              <a:pathLst>
                <a:path w="322" h="2191">
                  <a:moveTo>
                    <a:pt x="322" y="2154"/>
                  </a:moveTo>
                  <a:lnTo>
                    <a:pt x="302" y="2191"/>
                  </a:lnTo>
                  <a:lnTo>
                    <a:pt x="0" y="29"/>
                  </a:lnTo>
                  <a:lnTo>
                    <a:pt x="25" y="0"/>
                  </a:lnTo>
                  <a:lnTo>
                    <a:pt x="322" y="2154"/>
                  </a:lnTo>
                  <a:lnTo>
                    <a:pt x="322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400" y="2590920"/>
              <a:ext cx="557280" cy="3458880"/>
            </a:xfrm>
            <a:custGeom>
              <a:avLst/>
              <a:gdLst/>
              <a:ahLst/>
              <a:rect l="l" t="t" r="r" b="b"/>
              <a:pathLst>
                <a:path w="326" h="2179">
                  <a:moveTo>
                    <a:pt x="326" y="2154"/>
                  </a:moveTo>
                  <a:lnTo>
                    <a:pt x="301" y="2179"/>
                  </a:lnTo>
                  <a:lnTo>
                    <a:pt x="0" y="33"/>
                  </a:lnTo>
                  <a:lnTo>
                    <a:pt x="25" y="0"/>
                  </a:lnTo>
                  <a:lnTo>
                    <a:pt x="326" y="2154"/>
                  </a:lnTo>
                  <a:lnTo>
                    <a:pt x="326" y="2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5960" y="2286000"/>
              <a:ext cx="6984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37"/>
                  </a:moveTo>
                  <a:lnTo>
                    <a:pt x="11" y="41"/>
                  </a:lnTo>
                  <a:lnTo>
                    <a:pt x="0" y="21"/>
                  </a:lnTo>
                  <a:lnTo>
                    <a:pt x="36" y="0"/>
                  </a:lnTo>
                  <a:lnTo>
                    <a:pt x="41" y="37"/>
                  </a:lnTo>
                  <a:lnTo>
                    <a:pt x="4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48600" y="2133720"/>
              <a:ext cx="84960" cy="16164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50" y="98"/>
                  </a:moveTo>
                  <a:lnTo>
                    <a:pt x="20" y="102"/>
                  </a:lnTo>
                  <a:lnTo>
                    <a:pt x="0" y="24"/>
                  </a:lnTo>
                  <a:lnTo>
                    <a:pt x="35" y="0"/>
                  </a:lnTo>
                  <a:lnTo>
                    <a:pt x="50" y="98"/>
                  </a:lnTo>
                  <a:lnTo>
                    <a:pt x="5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457200" y="1116000"/>
              <a:ext cx="9600840" cy="5742000"/>
            </a:xfrm>
            <a:custGeom>
              <a:avLst/>
              <a:gdLst/>
              <a:ahLst/>
              <a:rect l="l" t="t" r="r" b="b"/>
              <a:pathLst>
                <a:path w="4992" h="3617">
                  <a:moveTo>
                    <a:pt x="3001" y="870"/>
                  </a:moveTo>
                  <a:lnTo>
                    <a:pt x="2996" y="870"/>
                  </a:lnTo>
                  <a:lnTo>
                    <a:pt x="2986" y="866"/>
                  </a:lnTo>
                  <a:lnTo>
                    <a:pt x="2966" y="862"/>
                  </a:lnTo>
                  <a:lnTo>
                    <a:pt x="2936" y="858"/>
                  </a:lnTo>
                  <a:lnTo>
                    <a:pt x="2901" y="853"/>
                  </a:lnTo>
                  <a:lnTo>
                    <a:pt x="2860" y="849"/>
                  </a:lnTo>
                  <a:lnTo>
                    <a:pt x="2815" y="845"/>
                  </a:lnTo>
                  <a:lnTo>
                    <a:pt x="2760" y="845"/>
                  </a:lnTo>
                  <a:lnTo>
                    <a:pt x="2765" y="890"/>
                  </a:lnTo>
                  <a:lnTo>
                    <a:pt x="2770" y="927"/>
                  </a:lnTo>
                  <a:lnTo>
                    <a:pt x="2956" y="2044"/>
                  </a:lnTo>
                  <a:lnTo>
                    <a:pt x="2966" y="2077"/>
                  </a:lnTo>
                  <a:lnTo>
                    <a:pt x="3001" y="2077"/>
                  </a:lnTo>
                  <a:lnTo>
                    <a:pt x="3036" y="2081"/>
                  </a:lnTo>
                  <a:lnTo>
                    <a:pt x="3067" y="2081"/>
                  </a:lnTo>
                  <a:lnTo>
                    <a:pt x="3102" y="2085"/>
                  </a:lnTo>
                  <a:lnTo>
                    <a:pt x="3132" y="2093"/>
                  </a:lnTo>
                  <a:lnTo>
                    <a:pt x="3162" y="2097"/>
                  </a:lnTo>
                  <a:lnTo>
                    <a:pt x="3187" y="2109"/>
                  </a:lnTo>
                  <a:lnTo>
                    <a:pt x="3212" y="2117"/>
                  </a:lnTo>
                  <a:lnTo>
                    <a:pt x="3217" y="2117"/>
                  </a:lnTo>
                  <a:lnTo>
                    <a:pt x="3217" y="2117"/>
                  </a:lnTo>
                  <a:lnTo>
                    <a:pt x="3212" y="2105"/>
                  </a:lnTo>
                  <a:lnTo>
                    <a:pt x="3207" y="2089"/>
                  </a:lnTo>
                  <a:lnTo>
                    <a:pt x="3192" y="2077"/>
                  </a:lnTo>
                  <a:lnTo>
                    <a:pt x="3177" y="2060"/>
                  </a:lnTo>
                  <a:lnTo>
                    <a:pt x="3157" y="2044"/>
                  </a:lnTo>
                  <a:lnTo>
                    <a:pt x="3137" y="2036"/>
                  </a:lnTo>
                  <a:lnTo>
                    <a:pt x="3117" y="2028"/>
                  </a:lnTo>
                  <a:lnTo>
                    <a:pt x="3097" y="2028"/>
                  </a:lnTo>
                  <a:lnTo>
                    <a:pt x="3052" y="2032"/>
                  </a:lnTo>
                  <a:lnTo>
                    <a:pt x="3016" y="2040"/>
                  </a:lnTo>
                  <a:lnTo>
                    <a:pt x="2986" y="2056"/>
                  </a:lnTo>
                  <a:lnTo>
                    <a:pt x="2966" y="2077"/>
                  </a:lnTo>
                  <a:lnTo>
                    <a:pt x="2956" y="2044"/>
                  </a:lnTo>
                  <a:lnTo>
                    <a:pt x="2981" y="2024"/>
                  </a:lnTo>
                  <a:lnTo>
                    <a:pt x="3011" y="2008"/>
                  </a:lnTo>
                  <a:lnTo>
                    <a:pt x="3052" y="2000"/>
                  </a:lnTo>
                  <a:lnTo>
                    <a:pt x="3092" y="1995"/>
                  </a:lnTo>
                  <a:lnTo>
                    <a:pt x="3122" y="2000"/>
                  </a:lnTo>
                  <a:lnTo>
                    <a:pt x="3152" y="2004"/>
                  </a:lnTo>
                  <a:lnTo>
                    <a:pt x="3182" y="2016"/>
                  </a:lnTo>
                  <a:lnTo>
                    <a:pt x="3207" y="2028"/>
                  </a:lnTo>
                  <a:lnTo>
                    <a:pt x="3227" y="2048"/>
                  </a:lnTo>
                  <a:lnTo>
                    <a:pt x="3243" y="2069"/>
                  </a:lnTo>
                  <a:lnTo>
                    <a:pt x="3248" y="2093"/>
                  </a:lnTo>
                  <a:lnTo>
                    <a:pt x="3253" y="2117"/>
                  </a:lnTo>
                  <a:lnTo>
                    <a:pt x="3248" y="2154"/>
                  </a:lnTo>
                  <a:lnTo>
                    <a:pt x="3243" y="2186"/>
                  </a:lnTo>
                  <a:lnTo>
                    <a:pt x="3227" y="2215"/>
                  </a:lnTo>
                  <a:lnTo>
                    <a:pt x="3202" y="2235"/>
                  </a:lnTo>
                  <a:lnTo>
                    <a:pt x="3177" y="2256"/>
                  </a:lnTo>
                  <a:lnTo>
                    <a:pt x="3147" y="2268"/>
                  </a:lnTo>
                  <a:lnTo>
                    <a:pt x="3117" y="2276"/>
                  </a:lnTo>
                  <a:lnTo>
                    <a:pt x="3082" y="2280"/>
                  </a:lnTo>
                  <a:lnTo>
                    <a:pt x="3057" y="2276"/>
                  </a:lnTo>
                  <a:lnTo>
                    <a:pt x="3036" y="2268"/>
                  </a:lnTo>
                  <a:lnTo>
                    <a:pt x="3011" y="2256"/>
                  </a:lnTo>
                  <a:lnTo>
                    <a:pt x="2981" y="2235"/>
                  </a:lnTo>
                  <a:lnTo>
                    <a:pt x="2981" y="2199"/>
                  </a:lnTo>
                  <a:lnTo>
                    <a:pt x="3011" y="2219"/>
                  </a:lnTo>
                  <a:lnTo>
                    <a:pt x="3036" y="2235"/>
                  </a:lnTo>
                  <a:lnTo>
                    <a:pt x="3062" y="2243"/>
                  </a:lnTo>
                  <a:lnTo>
                    <a:pt x="3087" y="2247"/>
                  </a:lnTo>
                  <a:lnTo>
                    <a:pt x="3112" y="2243"/>
                  </a:lnTo>
                  <a:lnTo>
                    <a:pt x="3137" y="2235"/>
                  </a:lnTo>
                  <a:lnTo>
                    <a:pt x="3157" y="2223"/>
                  </a:lnTo>
                  <a:lnTo>
                    <a:pt x="3182" y="2203"/>
                  </a:lnTo>
                  <a:lnTo>
                    <a:pt x="3182" y="2203"/>
                  </a:lnTo>
                  <a:lnTo>
                    <a:pt x="3152" y="2195"/>
                  </a:lnTo>
                  <a:lnTo>
                    <a:pt x="3127" y="2186"/>
                  </a:lnTo>
                  <a:lnTo>
                    <a:pt x="3102" y="2182"/>
                  </a:lnTo>
                  <a:lnTo>
                    <a:pt x="3077" y="2174"/>
                  </a:lnTo>
                  <a:lnTo>
                    <a:pt x="3052" y="2170"/>
                  </a:lnTo>
                  <a:lnTo>
                    <a:pt x="3026" y="2170"/>
                  </a:lnTo>
                  <a:lnTo>
                    <a:pt x="3001" y="2166"/>
                  </a:lnTo>
                  <a:lnTo>
                    <a:pt x="2976" y="2166"/>
                  </a:lnTo>
                  <a:lnTo>
                    <a:pt x="2981" y="2199"/>
                  </a:lnTo>
                  <a:lnTo>
                    <a:pt x="2981" y="2235"/>
                  </a:lnTo>
                  <a:lnTo>
                    <a:pt x="3031" y="2646"/>
                  </a:lnTo>
                  <a:lnTo>
                    <a:pt x="4665" y="2361"/>
                  </a:lnTo>
                  <a:lnTo>
                    <a:pt x="4665" y="2361"/>
                  </a:lnTo>
                  <a:lnTo>
                    <a:pt x="4640" y="2410"/>
                  </a:lnTo>
                  <a:lnTo>
                    <a:pt x="3031" y="2694"/>
                  </a:lnTo>
                  <a:lnTo>
                    <a:pt x="2795" y="2991"/>
                  </a:lnTo>
                  <a:lnTo>
                    <a:pt x="2765" y="2971"/>
                  </a:lnTo>
                  <a:lnTo>
                    <a:pt x="2986" y="2666"/>
                  </a:lnTo>
                  <a:lnTo>
                    <a:pt x="2986" y="2666"/>
                  </a:lnTo>
                  <a:lnTo>
                    <a:pt x="2911" y="2166"/>
                  </a:lnTo>
                  <a:lnTo>
                    <a:pt x="2865" y="2166"/>
                  </a:lnTo>
                  <a:lnTo>
                    <a:pt x="2825" y="2170"/>
                  </a:lnTo>
                  <a:lnTo>
                    <a:pt x="2785" y="2174"/>
                  </a:lnTo>
                  <a:lnTo>
                    <a:pt x="2755" y="2178"/>
                  </a:lnTo>
                  <a:lnTo>
                    <a:pt x="2725" y="2186"/>
                  </a:lnTo>
                  <a:lnTo>
                    <a:pt x="2705" y="2199"/>
                  </a:lnTo>
                  <a:lnTo>
                    <a:pt x="2685" y="2207"/>
                  </a:lnTo>
                  <a:lnTo>
                    <a:pt x="2669" y="2219"/>
                  </a:lnTo>
                  <a:lnTo>
                    <a:pt x="2765" y="2971"/>
                  </a:lnTo>
                  <a:lnTo>
                    <a:pt x="2795" y="2991"/>
                  </a:lnTo>
                  <a:lnTo>
                    <a:pt x="4374" y="2694"/>
                  </a:lnTo>
                  <a:lnTo>
                    <a:pt x="4640" y="2410"/>
                  </a:lnTo>
                  <a:lnTo>
                    <a:pt x="4640" y="2410"/>
                  </a:lnTo>
                  <a:lnTo>
                    <a:pt x="4665" y="2361"/>
                  </a:lnTo>
                  <a:lnTo>
                    <a:pt x="4333" y="195"/>
                  </a:lnTo>
                  <a:lnTo>
                    <a:pt x="2700" y="496"/>
                  </a:lnTo>
                  <a:lnTo>
                    <a:pt x="2674" y="289"/>
                  </a:lnTo>
                  <a:lnTo>
                    <a:pt x="4168" y="37"/>
                  </a:lnTo>
                  <a:lnTo>
                    <a:pt x="4218" y="28"/>
                  </a:lnTo>
                  <a:lnTo>
                    <a:pt x="4263" y="20"/>
                  </a:lnTo>
                  <a:lnTo>
                    <a:pt x="4303" y="16"/>
                  </a:lnTo>
                  <a:lnTo>
                    <a:pt x="4338" y="8"/>
                  </a:lnTo>
                  <a:lnTo>
                    <a:pt x="4364" y="4"/>
                  </a:lnTo>
                  <a:lnTo>
                    <a:pt x="4389" y="4"/>
                  </a:lnTo>
                  <a:lnTo>
                    <a:pt x="4409" y="0"/>
                  </a:lnTo>
                  <a:lnTo>
                    <a:pt x="4419" y="0"/>
                  </a:lnTo>
                  <a:lnTo>
                    <a:pt x="4454" y="0"/>
                  </a:lnTo>
                  <a:lnTo>
                    <a:pt x="4489" y="8"/>
                  </a:lnTo>
                  <a:lnTo>
                    <a:pt x="4519" y="16"/>
                  </a:lnTo>
                  <a:lnTo>
                    <a:pt x="4545" y="28"/>
                  </a:lnTo>
                  <a:lnTo>
                    <a:pt x="4565" y="49"/>
                  </a:lnTo>
                  <a:lnTo>
                    <a:pt x="4580" y="69"/>
                  </a:lnTo>
                  <a:lnTo>
                    <a:pt x="4590" y="93"/>
                  </a:lnTo>
                  <a:lnTo>
                    <a:pt x="4600" y="122"/>
                  </a:lnTo>
                  <a:lnTo>
                    <a:pt x="4987" y="2642"/>
                  </a:lnTo>
                  <a:lnTo>
                    <a:pt x="4987" y="2642"/>
                  </a:lnTo>
                  <a:lnTo>
                    <a:pt x="4992" y="2674"/>
                  </a:lnTo>
                  <a:lnTo>
                    <a:pt x="4992" y="2707"/>
                  </a:lnTo>
                  <a:lnTo>
                    <a:pt x="4992" y="2739"/>
                  </a:lnTo>
                  <a:lnTo>
                    <a:pt x="4992" y="2772"/>
                  </a:lnTo>
                  <a:lnTo>
                    <a:pt x="4987" y="2812"/>
                  </a:lnTo>
                  <a:lnTo>
                    <a:pt x="4982" y="2849"/>
                  </a:lnTo>
                  <a:lnTo>
                    <a:pt x="4967" y="2877"/>
                  </a:lnTo>
                  <a:lnTo>
                    <a:pt x="4952" y="2898"/>
                  </a:lnTo>
                  <a:lnTo>
                    <a:pt x="4937" y="2906"/>
                  </a:lnTo>
                  <a:lnTo>
                    <a:pt x="4922" y="2914"/>
                  </a:lnTo>
                  <a:lnTo>
                    <a:pt x="4907" y="2922"/>
                  </a:lnTo>
                  <a:lnTo>
                    <a:pt x="4886" y="2930"/>
                  </a:lnTo>
                  <a:lnTo>
                    <a:pt x="4861" y="2938"/>
                  </a:lnTo>
                  <a:lnTo>
                    <a:pt x="4831" y="2946"/>
                  </a:lnTo>
                  <a:lnTo>
                    <a:pt x="4801" y="2950"/>
                  </a:lnTo>
                  <a:lnTo>
                    <a:pt x="4771" y="2959"/>
                  </a:lnTo>
                  <a:lnTo>
                    <a:pt x="2886" y="3296"/>
                  </a:lnTo>
                  <a:lnTo>
                    <a:pt x="2881" y="3308"/>
                  </a:lnTo>
                  <a:lnTo>
                    <a:pt x="2876" y="3324"/>
                  </a:lnTo>
                  <a:lnTo>
                    <a:pt x="2860" y="3337"/>
                  </a:lnTo>
                  <a:lnTo>
                    <a:pt x="2835" y="3353"/>
                  </a:lnTo>
                  <a:lnTo>
                    <a:pt x="2810" y="3369"/>
                  </a:lnTo>
                  <a:lnTo>
                    <a:pt x="2785" y="3381"/>
                  </a:lnTo>
                  <a:lnTo>
                    <a:pt x="2765" y="3385"/>
                  </a:lnTo>
                  <a:lnTo>
                    <a:pt x="2740" y="3389"/>
                  </a:lnTo>
                  <a:lnTo>
                    <a:pt x="2695" y="3389"/>
                  </a:lnTo>
                  <a:lnTo>
                    <a:pt x="2659" y="3381"/>
                  </a:lnTo>
                  <a:lnTo>
                    <a:pt x="2624" y="3377"/>
                  </a:lnTo>
                  <a:lnTo>
                    <a:pt x="2594" y="3365"/>
                  </a:lnTo>
                  <a:lnTo>
                    <a:pt x="2569" y="3353"/>
                  </a:lnTo>
                  <a:lnTo>
                    <a:pt x="2549" y="3333"/>
                  </a:lnTo>
                  <a:lnTo>
                    <a:pt x="2529" y="3316"/>
                  </a:lnTo>
                  <a:lnTo>
                    <a:pt x="2519" y="3292"/>
                  </a:lnTo>
                  <a:lnTo>
                    <a:pt x="548" y="3609"/>
                  </a:lnTo>
                  <a:lnTo>
                    <a:pt x="523" y="3613"/>
                  </a:lnTo>
                  <a:lnTo>
                    <a:pt x="508" y="3613"/>
                  </a:lnTo>
                  <a:lnTo>
                    <a:pt x="493" y="3617"/>
                  </a:lnTo>
                  <a:lnTo>
                    <a:pt x="488" y="3617"/>
                  </a:lnTo>
                  <a:lnTo>
                    <a:pt x="473" y="3613"/>
                  </a:lnTo>
                  <a:lnTo>
                    <a:pt x="457" y="3609"/>
                  </a:lnTo>
                  <a:lnTo>
                    <a:pt x="442" y="3597"/>
                  </a:lnTo>
                  <a:lnTo>
                    <a:pt x="427" y="3584"/>
                  </a:lnTo>
                  <a:lnTo>
                    <a:pt x="412" y="3564"/>
                  </a:lnTo>
                  <a:lnTo>
                    <a:pt x="402" y="3548"/>
                  </a:lnTo>
                  <a:lnTo>
                    <a:pt x="397" y="3528"/>
                  </a:lnTo>
                  <a:lnTo>
                    <a:pt x="392" y="3507"/>
                  </a:lnTo>
                  <a:lnTo>
                    <a:pt x="0" y="756"/>
                  </a:lnTo>
                  <a:lnTo>
                    <a:pt x="10" y="719"/>
                  </a:lnTo>
                  <a:lnTo>
                    <a:pt x="35" y="691"/>
                  </a:lnTo>
                  <a:lnTo>
                    <a:pt x="80" y="667"/>
                  </a:lnTo>
                  <a:lnTo>
                    <a:pt x="146" y="650"/>
                  </a:lnTo>
                  <a:lnTo>
                    <a:pt x="2257" y="276"/>
                  </a:lnTo>
                  <a:lnTo>
                    <a:pt x="2232" y="492"/>
                  </a:lnTo>
                  <a:lnTo>
                    <a:pt x="593" y="772"/>
                  </a:lnTo>
                  <a:lnTo>
                    <a:pt x="553" y="797"/>
                  </a:lnTo>
                  <a:lnTo>
                    <a:pt x="362" y="996"/>
                  </a:lnTo>
                  <a:lnTo>
                    <a:pt x="674" y="3284"/>
                  </a:lnTo>
                  <a:lnTo>
                    <a:pt x="885" y="3040"/>
                  </a:lnTo>
                  <a:lnTo>
                    <a:pt x="885" y="3040"/>
                  </a:lnTo>
                  <a:lnTo>
                    <a:pt x="553" y="797"/>
                  </a:lnTo>
                  <a:lnTo>
                    <a:pt x="593" y="772"/>
                  </a:lnTo>
                  <a:lnTo>
                    <a:pt x="925" y="3016"/>
                  </a:lnTo>
                  <a:lnTo>
                    <a:pt x="2589" y="2747"/>
                  </a:lnTo>
                  <a:lnTo>
                    <a:pt x="2589" y="2788"/>
                  </a:lnTo>
                  <a:lnTo>
                    <a:pt x="920" y="3056"/>
                  </a:lnTo>
                  <a:lnTo>
                    <a:pt x="714" y="3292"/>
                  </a:lnTo>
                  <a:lnTo>
                    <a:pt x="2408" y="3024"/>
                  </a:lnTo>
                  <a:lnTo>
                    <a:pt x="2589" y="2788"/>
                  </a:lnTo>
                  <a:lnTo>
                    <a:pt x="2589" y="2788"/>
                  </a:lnTo>
                  <a:lnTo>
                    <a:pt x="2589" y="2747"/>
                  </a:lnTo>
                  <a:lnTo>
                    <a:pt x="2539" y="2382"/>
                  </a:lnTo>
                  <a:lnTo>
                    <a:pt x="2534" y="2337"/>
                  </a:lnTo>
                  <a:lnTo>
                    <a:pt x="2529" y="2276"/>
                  </a:lnTo>
                  <a:lnTo>
                    <a:pt x="2514" y="2280"/>
                  </a:lnTo>
                  <a:lnTo>
                    <a:pt x="2493" y="2288"/>
                  </a:lnTo>
                  <a:lnTo>
                    <a:pt x="2463" y="2308"/>
                  </a:lnTo>
                  <a:lnTo>
                    <a:pt x="2433" y="2333"/>
                  </a:lnTo>
                  <a:lnTo>
                    <a:pt x="2398" y="2361"/>
                  </a:lnTo>
                  <a:lnTo>
                    <a:pt x="2378" y="2386"/>
                  </a:lnTo>
                  <a:lnTo>
                    <a:pt x="2363" y="2406"/>
                  </a:lnTo>
                  <a:lnTo>
                    <a:pt x="2358" y="2426"/>
                  </a:lnTo>
                  <a:lnTo>
                    <a:pt x="2358" y="2422"/>
                  </a:lnTo>
                  <a:lnTo>
                    <a:pt x="2358" y="2422"/>
                  </a:lnTo>
                  <a:lnTo>
                    <a:pt x="2383" y="2422"/>
                  </a:lnTo>
                  <a:lnTo>
                    <a:pt x="2413" y="2414"/>
                  </a:lnTo>
                  <a:lnTo>
                    <a:pt x="2443" y="2406"/>
                  </a:lnTo>
                  <a:lnTo>
                    <a:pt x="2473" y="2394"/>
                  </a:lnTo>
                  <a:lnTo>
                    <a:pt x="2499" y="2377"/>
                  </a:lnTo>
                  <a:lnTo>
                    <a:pt x="2519" y="2361"/>
                  </a:lnTo>
                  <a:lnTo>
                    <a:pt x="2529" y="2349"/>
                  </a:lnTo>
                  <a:lnTo>
                    <a:pt x="2534" y="2337"/>
                  </a:lnTo>
                  <a:lnTo>
                    <a:pt x="2539" y="2382"/>
                  </a:lnTo>
                  <a:lnTo>
                    <a:pt x="2524" y="2398"/>
                  </a:lnTo>
                  <a:lnTo>
                    <a:pt x="2504" y="2414"/>
                  </a:lnTo>
                  <a:lnTo>
                    <a:pt x="2488" y="2426"/>
                  </a:lnTo>
                  <a:lnTo>
                    <a:pt x="2468" y="2434"/>
                  </a:lnTo>
                  <a:lnTo>
                    <a:pt x="2448" y="2442"/>
                  </a:lnTo>
                  <a:lnTo>
                    <a:pt x="2428" y="2451"/>
                  </a:lnTo>
                  <a:lnTo>
                    <a:pt x="2403" y="2455"/>
                  </a:lnTo>
                  <a:lnTo>
                    <a:pt x="2383" y="2455"/>
                  </a:lnTo>
                  <a:lnTo>
                    <a:pt x="2353" y="2451"/>
                  </a:lnTo>
                  <a:lnTo>
                    <a:pt x="2328" y="2447"/>
                  </a:lnTo>
                  <a:lnTo>
                    <a:pt x="2302" y="2434"/>
                  </a:lnTo>
                  <a:lnTo>
                    <a:pt x="2277" y="2418"/>
                  </a:lnTo>
                  <a:lnTo>
                    <a:pt x="2257" y="2402"/>
                  </a:lnTo>
                  <a:lnTo>
                    <a:pt x="2242" y="2377"/>
                  </a:lnTo>
                  <a:lnTo>
                    <a:pt x="2237" y="2357"/>
                  </a:lnTo>
                  <a:lnTo>
                    <a:pt x="2232" y="2329"/>
                  </a:lnTo>
                  <a:lnTo>
                    <a:pt x="2237" y="2288"/>
                  </a:lnTo>
                  <a:lnTo>
                    <a:pt x="2252" y="2256"/>
                  </a:lnTo>
                  <a:lnTo>
                    <a:pt x="2272" y="2227"/>
                  </a:lnTo>
                  <a:lnTo>
                    <a:pt x="2302" y="2203"/>
                  </a:lnTo>
                  <a:lnTo>
                    <a:pt x="2343" y="2186"/>
                  </a:lnTo>
                  <a:lnTo>
                    <a:pt x="2388" y="2174"/>
                  </a:lnTo>
                  <a:lnTo>
                    <a:pt x="2443" y="2166"/>
                  </a:lnTo>
                  <a:lnTo>
                    <a:pt x="2509" y="2162"/>
                  </a:lnTo>
                  <a:lnTo>
                    <a:pt x="2478" y="2199"/>
                  </a:lnTo>
                  <a:lnTo>
                    <a:pt x="2438" y="2219"/>
                  </a:lnTo>
                  <a:lnTo>
                    <a:pt x="2398" y="2239"/>
                  </a:lnTo>
                  <a:lnTo>
                    <a:pt x="2368" y="2260"/>
                  </a:lnTo>
                  <a:lnTo>
                    <a:pt x="2343" y="2280"/>
                  </a:lnTo>
                  <a:lnTo>
                    <a:pt x="2323" y="2304"/>
                  </a:lnTo>
                  <a:lnTo>
                    <a:pt x="2307" y="2325"/>
                  </a:lnTo>
                  <a:lnTo>
                    <a:pt x="2302" y="2345"/>
                  </a:lnTo>
                  <a:lnTo>
                    <a:pt x="2297" y="2369"/>
                  </a:lnTo>
                  <a:lnTo>
                    <a:pt x="2287" y="2353"/>
                  </a:lnTo>
                  <a:lnTo>
                    <a:pt x="2282" y="2341"/>
                  </a:lnTo>
                  <a:lnTo>
                    <a:pt x="2277" y="2329"/>
                  </a:lnTo>
                  <a:lnTo>
                    <a:pt x="2277" y="2317"/>
                  </a:lnTo>
                  <a:lnTo>
                    <a:pt x="2282" y="2292"/>
                  </a:lnTo>
                  <a:lnTo>
                    <a:pt x="2292" y="2268"/>
                  </a:lnTo>
                  <a:lnTo>
                    <a:pt x="2313" y="2247"/>
                  </a:lnTo>
                  <a:lnTo>
                    <a:pt x="2338" y="2231"/>
                  </a:lnTo>
                  <a:lnTo>
                    <a:pt x="2368" y="2219"/>
                  </a:lnTo>
                  <a:lnTo>
                    <a:pt x="2403" y="2207"/>
                  </a:lnTo>
                  <a:lnTo>
                    <a:pt x="2438" y="2203"/>
                  </a:lnTo>
                  <a:lnTo>
                    <a:pt x="2478" y="2199"/>
                  </a:lnTo>
                  <a:lnTo>
                    <a:pt x="2509" y="2162"/>
                  </a:lnTo>
                  <a:lnTo>
                    <a:pt x="2338" y="1053"/>
                  </a:lnTo>
                  <a:lnTo>
                    <a:pt x="2328" y="1012"/>
                  </a:lnTo>
                  <a:lnTo>
                    <a:pt x="2323" y="955"/>
                  </a:lnTo>
                  <a:lnTo>
                    <a:pt x="2302" y="959"/>
                  </a:lnTo>
                  <a:lnTo>
                    <a:pt x="2282" y="967"/>
                  </a:lnTo>
                  <a:lnTo>
                    <a:pt x="2252" y="988"/>
                  </a:lnTo>
                  <a:lnTo>
                    <a:pt x="2217" y="1008"/>
                  </a:lnTo>
                  <a:lnTo>
                    <a:pt x="2187" y="1032"/>
                  </a:lnTo>
                  <a:lnTo>
                    <a:pt x="2167" y="1053"/>
                  </a:lnTo>
                  <a:lnTo>
                    <a:pt x="2152" y="1069"/>
                  </a:lnTo>
                  <a:lnTo>
                    <a:pt x="2147" y="1085"/>
                  </a:lnTo>
                  <a:lnTo>
                    <a:pt x="2177" y="1085"/>
                  </a:lnTo>
                  <a:lnTo>
                    <a:pt x="2202" y="1081"/>
                  </a:lnTo>
                  <a:lnTo>
                    <a:pt x="2227" y="1073"/>
                  </a:lnTo>
                  <a:lnTo>
                    <a:pt x="2252" y="1065"/>
                  </a:lnTo>
                  <a:lnTo>
                    <a:pt x="2272" y="1057"/>
                  </a:lnTo>
                  <a:lnTo>
                    <a:pt x="2292" y="1044"/>
                  </a:lnTo>
                  <a:lnTo>
                    <a:pt x="2313" y="1028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28" y="1012"/>
                  </a:lnTo>
                  <a:lnTo>
                    <a:pt x="2338" y="1053"/>
                  </a:lnTo>
                  <a:lnTo>
                    <a:pt x="2318" y="1069"/>
                  </a:lnTo>
                  <a:lnTo>
                    <a:pt x="2302" y="1081"/>
                  </a:lnTo>
                  <a:lnTo>
                    <a:pt x="2277" y="1093"/>
                  </a:lnTo>
                  <a:lnTo>
                    <a:pt x="2257" y="1101"/>
                  </a:lnTo>
                  <a:lnTo>
                    <a:pt x="2227" y="1109"/>
                  </a:lnTo>
                  <a:lnTo>
                    <a:pt x="2202" y="1114"/>
                  </a:lnTo>
                  <a:lnTo>
                    <a:pt x="2172" y="1118"/>
                  </a:lnTo>
                  <a:lnTo>
                    <a:pt x="2142" y="1118"/>
                  </a:lnTo>
                  <a:lnTo>
                    <a:pt x="2091" y="1109"/>
                  </a:lnTo>
                  <a:lnTo>
                    <a:pt x="2051" y="1085"/>
                  </a:lnTo>
                  <a:lnTo>
                    <a:pt x="2031" y="1044"/>
                  </a:lnTo>
                  <a:lnTo>
                    <a:pt x="2021" y="988"/>
                  </a:lnTo>
                  <a:lnTo>
                    <a:pt x="2026" y="951"/>
                  </a:lnTo>
                  <a:lnTo>
                    <a:pt x="2041" y="918"/>
                  </a:lnTo>
                  <a:lnTo>
                    <a:pt x="2061" y="890"/>
                  </a:lnTo>
                  <a:lnTo>
                    <a:pt x="2096" y="866"/>
                  </a:lnTo>
                  <a:lnTo>
                    <a:pt x="2116" y="858"/>
                  </a:lnTo>
                  <a:lnTo>
                    <a:pt x="2137" y="845"/>
                  </a:lnTo>
                  <a:lnTo>
                    <a:pt x="2157" y="837"/>
                  </a:lnTo>
                  <a:lnTo>
                    <a:pt x="2182" y="833"/>
                  </a:lnTo>
                  <a:lnTo>
                    <a:pt x="2207" y="829"/>
                  </a:lnTo>
                  <a:lnTo>
                    <a:pt x="2232" y="825"/>
                  </a:lnTo>
                  <a:lnTo>
                    <a:pt x="2257" y="821"/>
                  </a:lnTo>
                  <a:lnTo>
                    <a:pt x="2287" y="821"/>
                  </a:lnTo>
                  <a:lnTo>
                    <a:pt x="2297" y="858"/>
                  </a:lnTo>
                  <a:lnTo>
                    <a:pt x="2277" y="858"/>
                  </a:lnTo>
                  <a:lnTo>
                    <a:pt x="2252" y="862"/>
                  </a:lnTo>
                  <a:lnTo>
                    <a:pt x="2232" y="862"/>
                  </a:lnTo>
                  <a:lnTo>
                    <a:pt x="2212" y="866"/>
                  </a:lnTo>
                  <a:lnTo>
                    <a:pt x="2192" y="870"/>
                  </a:lnTo>
                  <a:lnTo>
                    <a:pt x="2172" y="878"/>
                  </a:lnTo>
                  <a:lnTo>
                    <a:pt x="2152" y="882"/>
                  </a:lnTo>
                  <a:lnTo>
                    <a:pt x="2132" y="890"/>
                  </a:lnTo>
                  <a:lnTo>
                    <a:pt x="2101" y="906"/>
                  </a:lnTo>
                  <a:lnTo>
                    <a:pt x="2081" y="931"/>
                  </a:lnTo>
                  <a:lnTo>
                    <a:pt x="2066" y="955"/>
                  </a:lnTo>
                  <a:lnTo>
                    <a:pt x="2061" y="988"/>
                  </a:lnTo>
                  <a:lnTo>
                    <a:pt x="2061" y="996"/>
                  </a:lnTo>
                  <a:lnTo>
                    <a:pt x="2066" y="1004"/>
                  </a:lnTo>
                  <a:lnTo>
                    <a:pt x="2071" y="1012"/>
                  </a:lnTo>
                  <a:lnTo>
                    <a:pt x="2076" y="1024"/>
                  </a:lnTo>
                  <a:lnTo>
                    <a:pt x="2091" y="1000"/>
                  </a:lnTo>
                  <a:lnTo>
                    <a:pt x="2106" y="979"/>
                  </a:lnTo>
                  <a:lnTo>
                    <a:pt x="2127" y="959"/>
                  </a:lnTo>
                  <a:lnTo>
                    <a:pt x="2152" y="935"/>
                  </a:lnTo>
                  <a:lnTo>
                    <a:pt x="2182" y="914"/>
                  </a:lnTo>
                  <a:lnTo>
                    <a:pt x="2217" y="894"/>
                  </a:lnTo>
                  <a:lnTo>
                    <a:pt x="2252" y="87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97" y="858"/>
                  </a:lnTo>
                  <a:lnTo>
                    <a:pt x="2287" y="821"/>
                  </a:lnTo>
                  <a:lnTo>
                    <a:pt x="2232" y="492"/>
                  </a:lnTo>
                  <a:lnTo>
                    <a:pt x="2257" y="276"/>
                  </a:lnTo>
                  <a:lnTo>
                    <a:pt x="2287" y="309"/>
                  </a:lnTo>
                  <a:lnTo>
                    <a:pt x="2318" y="333"/>
                  </a:lnTo>
                  <a:lnTo>
                    <a:pt x="2348" y="350"/>
                  </a:lnTo>
                  <a:lnTo>
                    <a:pt x="2373" y="354"/>
                  </a:lnTo>
                  <a:lnTo>
                    <a:pt x="2393" y="354"/>
                  </a:lnTo>
                  <a:lnTo>
                    <a:pt x="2413" y="354"/>
                  </a:lnTo>
                  <a:lnTo>
                    <a:pt x="2428" y="350"/>
                  </a:lnTo>
                  <a:lnTo>
                    <a:pt x="2438" y="345"/>
                  </a:lnTo>
                  <a:lnTo>
                    <a:pt x="2488" y="321"/>
                  </a:lnTo>
                  <a:lnTo>
                    <a:pt x="2674" y="289"/>
                  </a:lnTo>
                  <a:lnTo>
                    <a:pt x="2700" y="496"/>
                  </a:lnTo>
                  <a:lnTo>
                    <a:pt x="2740" y="707"/>
                  </a:lnTo>
                  <a:lnTo>
                    <a:pt x="2679" y="748"/>
                  </a:lnTo>
                  <a:lnTo>
                    <a:pt x="2634" y="516"/>
                  </a:lnTo>
                  <a:lnTo>
                    <a:pt x="2438" y="740"/>
                  </a:lnTo>
                  <a:lnTo>
                    <a:pt x="2448" y="792"/>
                  </a:lnTo>
                  <a:lnTo>
                    <a:pt x="2468" y="886"/>
                  </a:lnTo>
                  <a:lnTo>
                    <a:pt x="2649" y="2117"/>
                  </a:lnTo>
                  <a:lnTo>
                    <a:pt x="2674" y="2105"/>
                  </a:lnTo>
                  <a:lnTo>
                    <a:pt x="2700" y="2097"/>
                  </a:lnTo>
                  <a:lnTo>
                    <a:pt x="2730" y="2089"/>
                  </a:lnTo>
                  <a:lnTo>
                    <a:pt x="2755" y="2081"/>
                  </a:lnTo>
                  <a:lnTo>
                    <a:pt x="2785" y="2077"/>
                  </a:lnTo>
                  <a:lnTo>
                    <a:pt x="2820" y="2073"/>
                  </a:lnTo>
                  <a:lnTo>
                    <a:pt x="2855" y="2069"/>
                  </a:lnTo>
                  <a:lnTo>
                    <a:pt x="2891" y="2069"/>
                  </a:lnTo>
                  <a:lnTo>
                    <a:pt x="2891" y="2069"/>
                  </a:lnTo>
                  <a:lnTo>
                    <a:pt x="2690" y="853"/>
                  </a:lnTo>
                  <a:lnTo>
                    <a:pt x="2654" y="853"/>
                  </a:lnTo>
                  <a:lnTo>
                    <a:pt x="2624" y="858"/>
                  </a:lnTo>
                  <a:lnTo>
                    <a:pt x="2594" y="858"/>
                  </a:lnTo>
                  <a:lnTo>
                    <a:pt x="2569" y="862"/>
                  </a:lnTo>
                  <a:lnTo>
                    <a:pt x="2539" y="866"/>
                  </a:lnTo>
                  <a:lnTo>
                    <a:pt x="2514" y="874"/>
                  </a:lnTo>
                  <a:lnTo>
                    <a:pt x="2493" y="878"/>
                  </a:lnTo>
                  <a:lnTo>
                    <a:pt x="2468" y="886"/>
                  </a:lnTo>
                  <a:lnTo>
                    <a:pt x="2448" y="792"/>
                  </a:lnTo>
                  <a:lnTo>
                    <a:pt x="2478" y="784"/>
                  </a:lnTo>
                  <a:lnTo>
                    <a:pt x="2504" y="772"/>
                  </a:lnTo>
                  <a:lnTo>
                    <a:pt x="2534" y="764"/>
                  </a:lnTo>
                  <a:lnTo>
                    <a:pt x="2564" y="760"/>
                  </a:lnTo>
                  <a:lnTo>
                    <a:pt x="2589" y="756"/>
                  </a:lnTo>
                  <a:lnTo>
                    <a:pt x="2619" y="752"/>
                  </a:lnTo>
                  <a:lnTo>
                    <a:pt x="2644" y="748"/>
                  </a:lnTo>
                  <a:lnTo>
                    <a:pt x="2674" y="748"/>
                  </a:lnTo>
                  <a:lnTo>
                    <a:pt x="2740" y="707"/>
                  </a:lnTo>
                  <a:lnTo>
                    <a:pt x="2770" y="687"/>
                  </a:lnTo>
                  <a:lnTo>
                    <a:pt x="2805" y="675"/>
                  </a:lnTo>
                  <a:lnTo>
                    <a:pt x="2845" y="667"/>
                  </a:lnTo>
                  <a:lnTo>
                    <a:pt x="2881" y="662"/>
                  </a:lnTo>
                  <a:lnTo>
                    <a:pt x="2921" y="667"/>
                  </a:lnTo>
                  <a:lnTo>
                    <a:pt x="2956" y="671"/>
                  </a:lnTo>
                  <a:lnTo>
                    <a:pt x="2986" y="683"/>
                  </a:lnTo>
                  <a:lnTo>
                    <a:pt x="3011" y="695"/>
                  </a:lnTo>
                  <a:lnTo>
                    <a:pt x="3026" y="715"/>
                  </a:lnTo>
                  <a:lnTo>
                    <a:pt x="3041" y="740"/>
                  </a:lnTo>
                  <a:lnTo>
                    <a:pt x="3046" y="764"/>
                  </a:lnTo>
                  <a:lnTo>
                    <a:pt x="3052" y="797"/>
                  </a:lnTo>
                  <a:lnTo>
                    <a:pt x="3046" y="837"/>
                  </a:lnTo>
                  <a:lnTo>
                    <a:pt x="3041" y="870"/>
                  </a:lnTo>
                  <a:lnTo>
                    <a:pt x="3026" y="902"/>
                  </a:lnTo>
                  <a:lnTo>
                    <a:pt x="3011" y="923"/>
                  </a:lnTo>
                  <a:lnTo>
                    <a:pt x="2986" y="943"/>
                  </a:lnTo>
                  <a:lnTo>
                    <a:pt x="2956" y="955"/>
                  </a:lnTo>
                  <a:lnTo>
                    <a:pt x="2916" y="963"/>
                  </a:lnTo>
                  <a:lnTo>
                    <a:pt x="2876" y="967"/>
                  </a:lnTo>
                  <a:lnTo>
                    <a:pt x="2860" y="963"/>
                  </a:lnTo>
                  <a:lnTo>
                    <a:pt x="2840" y="959"/>
                  </a:lnTo>
                  <a:lnTo>
                    <a:pt x="2810" y="947"/>
                  </a:lnTo>
                  <a:lnTo>
                    <a:pt x="2770" y="927"/>
                  </a:lnTo>
                  <a:lnTo>
                    <a:pt x="2765" y="890"/>
                  </a:lnTo>
                  <a:lnTo>
                    <a:pt x="2805" y="910"/>
                  </a:lnTo>
                  <a:lnTo>
                    <a:pt x="2840" y="923"/>
                  </a:lnTo>
                  <a:lnTo>
                    <a:pt x="2865" y="927"/>
                  </a:lnTo>
                  <a:lnTo>
                    <a:pt x="2881" y="931"/>
                  </a:lnTo>
                  <a:lnTo>
                    <a:pt x="2916" y="927"/>
                  </a:lnTo>
                  <a:lnTo>
                    <a:pt x="2951" y="914"/>
                  </a:lnTo>
                  <a:lnTo>
                    <a:pt x="2976" y="898"/>
                  </a:lnTo>
                  <a:lnTo>
                    <a:pt x="3001" y="870"/>
                  </a:lnTo>
                  <a:lnTo>
                    <a:pt x="3011" y="784"/>
                  </a:lnTo>
                  <a:lnTo>
                    <a:pt x="3001" y="748"/>
                  </a:lnTo>
                  <a:lnTo>
                    <a:pt x="2981" y="719"/>
                  </a:lnTo>
                  <a:lnTo>
                    <a:pt x="2941" y="703"/>
                  </a:lnTo>
                  <a:lnTo>
                    <a:pt x="2886" y="699"/>
                  </a:lnTo>
                  <a:lnTo>
                    <a:pt x="2855" y="703"/>
                  </a:lnTo>
                  <a:lnTo>
                    <a:pt x="2820" y="711"/>
                  </a:lnTo>
                  <a:lnTo>
                    <a:pt x="2780" y="723"/>
                  </a:lnTo>
                  <a:lnTo>
                    <a:pt x="2740" y="744"/>
                  </a:lnTo>
                  <a:lnTo>
                    <a:pt x="2795" y="744"/>
                  </a:lnTo>
                  <a:lnTo>
                    <a:pt x="2840" y="748"/>
                  </a:lnTo>
                  <a:lnTo>
                    <a:pt x="2886" y="752"/>
                  </a:lnTo>
                  <a:lnTo>
                    <a:pt x="2921" y="756"/>
                  </a:lnTo>
                  <a:lnTo>
                    <a:pt x="2951" y="760"/>
                  </a:lnTo>
                  <a:lnTo>
                    <a:pt x="2976" y="768"/>
                  </a:lnTo>
                  <a:lnTo>
                    <a:pt x="2996" y="776"/>
                  </a:lnTo>
                  <a:lnTo>
                    <a:pt x="3011" y="784"/>
                  </a:lnTo>
                  <a:lnTo>
                    <a:pt x="3001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9960" y="5762520"/>
              <a:ext cx="2714760" cy="451080"/>
            </a:xfrm>
            <a:custGeom>
              <a:avLst/>
              <a:gdLst/>
              <a:ahLst/>
              <a:rect l="l" t="t" r="r" b="b"/>
              <a:pathLst>
                <a:path w="1588" h="284">
                  <a:moveTo>
                    <a:pt x="1588" y="0"/>
                  </a:moveTo>
                  <a:lnTo>
                    <a:pt x="1558" y="37"/>
                  </a:lnTo>
                  <a:lnTo>
                    <a:pt x="0" y="284"/>
                  </a:lnTo>
                  <a:lnTo>
                    <a:pt x="25" y="252"/>
                  </a:lnTo>
                  <a:lnTo>
                    <a:pt x="1588" y="0"/>
                  </a:lnTo>
                  <a:lnTo>
                    <a:pt x="15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13400" y="2038320"/>
            <a:ext cx="3000960" cy="3902760"/>
            <a:chOff x="1013400" y="2038320"/>
            <a:chExt cx="3000960" cy="3902760"/>
          </a:xfrm>
        </p:grpSpPr>
        <p:sp>
          <p:nvSpPr>
            <p:cNvPr id="160" name=""/>
            <p:cNvSpPr/>
            <p:nvPr/>
          </p:nvSpPr>
          <p:spPr>
            <a:xfrm rot="21177000">
              <a:off x="1607040" y="21175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69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69000">
              <a:off x="1230120" y="2742840"/>
              <a:ext cx="2567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Created our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treach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program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by adding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Talent 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Search”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16200" y="1418400"/>
            <a:ext cx="2910600" cy="3495240"/>
            <a:chOff x="5416200" y="1418400"/>
            <a:chExt cx="2910600" cy="3495240"/>
          </a:xfrm>
        </p:grpSpPr>
        <p:sp>
          <p:nvSpPr>
            <p:cNvPr id="163" name=""/>
            <p:cNvSpPr/>
            <p:nvPr/>
          </p:nvSpPr>
          <p:spPr>
            <a:xfrm rot="20944200">
              <a:off x="5765400" y="157320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ff0000"/>
                  </a:solidFill>
                  <a:uFillTx/>
                  <a:latin typeface="Arial Black"/>
                </a:rPr>
                <a:t>1970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047400">
              <a:off x="5602320" y="2195640"/>
              <a:ext cx="2538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Deepen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ur commit-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ment to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need-base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aid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642-1CF4-4A70-B921-077725D0479A}" type="slidenum">
              <a:t>9</a:t>
            </a:fld>
          </a:p>
        </p:txBody>
      </p:sp>
    </p:spTree>
  </p:cSld>
  <p:transition>
    <p:cover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4:55:45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0334129</vt:r8>
  </property>
  <property fmtid="{D5CDD505-2E9C-101B-9397-08002B2CF9AE}" pid="3" name="_AuthorEmail">
    <vt:lpwstr>Post@VSAC.org</vt:lpwstr>
  </property>
  <property fmtid="{D5CDD505-2E9C-101B-9397-08002B2CF9AE}" pid="4" name="_AuthorEmailDisplayName">
    <vt:lpwstr>Bruce Post</vt:lpwstr>
  </property>
  <property fmtid="{D5CDD505-2E9C-101B-9397-08002B2CF9AE}" pid="5" name="_EmailSubject">
    <vt:lpwstr>Vermont Powerpoint</vt:lpwstr>
  </property>
</Properties>
</file>