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C8A-0F08-4AF8-9741-37F33786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F18-0DAA-47C3-9892-E55E2A73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64C-48EA-40CA-B2CF-1D3378A6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26A-BF36-4FDD-A412-751D3AE2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8B09-2D15-40F9-994A-C0AF3431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BC99-A2DB-4D8E-8CFA-C080A898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8124-E7B1-4DD2-9F34-36BA5090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7A5E-DFD1-486C-8972-7943EBD1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9DD8-AAA8-4470-8179-8920164F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849E-785A-4F32-B096-C7D495DC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DCFC-4886-4E82-95BA-25211050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E89-66A6-4AFB-8895-021EAEA8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8CE6-A42D-4F26-AF74-E352CD47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422D-FCC5-4CF2-976E-844026F9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BA02-177F-47AE-B3E3-1B999E7F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8A92-C92F-459F-B1C3-1123061B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C1A4-1CA6-4E32-8D35-11B2D934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B06-5397-4B18-B021-C4B6A52D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CEC-CCCE-438F-9BF2-5A0BBCEB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3E7-1974-421D-A040-4B56EC83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DFC-7B7F-4810-BB21-CCEE45AC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45B-184B-4599-92DC-68DB5C3E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A01-2E8D-4606-B0BA-81A4BA89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D21-BA88-47C7-8181-AE5A218D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B9D1-7043-476E-9DFF-2E75B87F46E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springlogo_md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C973-A68D-4F8B-8336-E0995C7F432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marilyn.leblanc@ed.go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FAFSA – IRS Match</a:t>
            </a:r>
            <a:endParaRPr b="0" lang="en-US" sz="5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B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Madz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Post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nne Sau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0666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springlogo_md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02920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 Black"/>
              </a:rPr>
              <a:t>General Sess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2827-667C-4191-ADB2-FF611A502CE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y Don’t We Already Have a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8 HEA Re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Revenue Code Section 610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8 IRS Restructuring and Refor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dentiality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sury De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t Committee on T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F2F-135A-4782-8271-0979D839302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6705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onfidentiality Studi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a business case can be made), section 6103 should be amended to permit disclosure of necessary items of information for income verification … as contemplated by the HEA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dopted, this provision should permit access by contractors, subject to (certain) limitations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ff of the Joint Committee recommends that the present-law disclosure rules for using contractors for nontax administration purposes should not be expand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596-BFDD-4737-B178-FC1A638E217B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is the Legal Status of a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R 3613 – the “Student Aid Streamlin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losure Act of 2003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d November 21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e Ways and Means Subcommittee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itation to Comment by January 23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5EA-86E9-4F0B-9FF8-829D283D0D4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33F-63FA-4B45-B424-0779C3409EF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hallenges to Implementing a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enda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 Year and IRS Filing vs FAFS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ility of Tax Data and Award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AFSA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2743200"/>
          <a:ext cx="7620120" cy="34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762012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30200" y="58672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Jan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09480" y="5486400"/>
            <a:ext cx="0" cy="4572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286000" y="5562720"/>
            <a:ext cx="0" cy="3808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5600" y="5851440"/>
            <a:ext cx="187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April 1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IRS Filing Da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5562720"/>
            <a:ext cx="0" cy="3808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911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July/Augus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IRS Data Availab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667-D19D-4377-96F2-776B8795992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320" y="6858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hange of Application Process Mindse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FSA is a “two-step”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e FAFSA as soon a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date tax data as soon a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urns are filed with IR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8B4-63A3-4B18-B079-3CA21D12D85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hallenges to Implementing a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gal Authorit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of Contr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ease of Actual Data vs. “Fact of Discrepancy” to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ool’s Third Party Servi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ing Applicant/Taxp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35C-6290-4C98-A442-64350B2CFE1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5335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hallenges to Implementing a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N Mismat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Tax F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in Mari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ded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f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nts from 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nts with Foreign Tax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equent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al Judg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D7C-553E-48F1-8CE9-CA1EF3962BC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is the School’s Role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33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 inform applicants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 with 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sure that updates are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est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ify ED/FSA of 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ld disbur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/Report over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D25-61F9-4997-BDE5-5D2F75F3C0C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09320" y="685440"/>
            <a:ext cx="6705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is the School’s Role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isburs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le Once Notified of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additional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 in recovering over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tolerance for upcoming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 algn="ctr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Ver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Match ultimate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schools great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A7D-CD1F-4B2D-9991-6B79E3830AB2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6705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oday’s Topic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2AF-6F62-4DA7-A0F2-C39D39567AC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Implementation Ide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904-1685-4E89-B803-BD1BEF7DA24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09320" y="533520"/>
            <a:ext cx="6705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Would a FAFSA – IRS Match Work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demonstration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steps in the income verif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tch FAFSA data with IR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dentify discrepa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termine impact of discrepa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tify parties of IRS mat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ep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erform resolution and hold or rec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tep 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alyz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B86-92B5-4A9A-818F-A1F79D1EADE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09320" y="-7668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 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spcBef>
                <a:spcPts val="799"/>
              </a:spcBef>
              <a:buNone/>
              <a:tabLst>
                <a:tab algn="l" pos="0"/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ep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atch FAFSA data with IR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of availability of IR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ng sample for matching in initial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and frequency of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n use of contr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spcBef>
                <a:spcPts val="799"/>
              </a:spcBef>
              <a:buNone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63E-8416-49B6-91AA-44D68E5A661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spcBef>
                <a:spcPts val="799"/>
              </a:spcBef>
              <a:buNone/>
              <a:tabLst>
                <a:tab algn="l" pos="0"/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Step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dentify discrep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ile of applicants to 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discrepancy” defined as greater of $100 or 1% of the item being mat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spcBef>
                <a:spcPts val="799"/>
              </a:spcBef>
              <a:buNone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307-E176-4E2D-B7B8-BE697876A4E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6705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>
              <a:spcBef>
                <a:spcPts val="799"/>
              </a:spcBef>
              <a:buNone/>
              <a:tabLst>
                <a:tab algn="l" pos="0"/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termine impact of discrep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stitutes a discrepancy that must be res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52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EF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52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award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191-1F71-4B78-B2BC-6197D78ED801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tep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Notify parties of IRS match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students and parents be notified of discrepanc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schools be not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ED notify parties only when there is a discrepanc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of data to Third Party Servicers prohib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ontractors in notif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104-E2CA-4B55-907D-E5F7E8AA9C0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09320" y="6858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spcBef>
                <a:spcPts val="700"/>
              </a:spcBef>
              <a:buNone/>
              <a:tabLst>
                <a:tab algn="l" pos="0"/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erform Resolution: Ho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or Recover Over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 possible discrep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tal status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N mis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judg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36512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inimize disruptions to aid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BCF-E9BA-4AE5-99CE-138B591C048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09320" y="5331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Challeng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spcBef>
                <a:spcPts val="799"/>
              </a:spcBef>
              <a:buNone/>
              <a:tabLst>
                <a:tab algn="l" pos="0"/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ep 6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alyz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spcBef>
                <a:spcPts val="799"/>
              </a:spcBef>
              <a:buNone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F35-B0FB-4188-A21E-088F5CF68D3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What’s Nex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2FB-1B3F-4C92-B50D-DA0D8E899CF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5640" y="6854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at’s Next?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v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to explore ways to minimize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is developing different approaches to conducting FAFSA – IR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has started asking for feedback from the financial aid community about match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plans to involve the community throughout the match implement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6C8-7AE5-40F7-8B03-AA446B18C963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ntroduct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eff B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eff.baker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an Madz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ffice of Post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an.madzelan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eanne Sau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ederal Studen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eanne.saunders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A1D-2425-4BDE-A98C-328C807FD79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mments, Suggestions, Offer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, comments, and suggestions.  Please e-mail your thoughts and idea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irsmatch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C3D-1F7C-4249-9D95-B2095BA6458E}" type="slidenum">
              <a:t>30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49240" y="1523880"/>
            <a:ext cx="74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wo Words to Remember --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07680" y="2835360"/>
            <a:ext cx="61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US" sz="7200" spc="-1" strike="noStrike">
                <a:solidFill>
                  <a:srgbClr val="000066"/>
                </a:solidFill>
                <a:latin typeface="Arial"/>
              </a:rPr>
              <a:t>Uncertainty”</a:t>
            </a:r>
            <a:endParaRPr b="0" lang="en-US" sz="7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35640" y="4587840"/>
            <a:ext cx="72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66"/>
                </a:solidFill>
                <a:latin typeface="Arial"/>
              </a:rPr>
              <a:t>“ </a:t>
            </a:r>
            <a:r>
              <a:rPr b="1" i="1" lang="en-US" sz="7200" spc="-1" strike="noStrike">
                <a:solidFill>
                  <a:srgbClr val="000066"/>
                </a:solidFill>
                <a:latin typeface="Arial"/>
              </a:rPr>
              <a:t>Collaboration”</a:t>
            </a:r>
            <a:endParaRPr b="0" lang="en-US" sz="7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9CB-4B59-4FB3-ACEE-D411796C5E2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BB6-A7FB-4DF8-AD22-800FA7066AE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y Is a FAFSA – IRS Match Important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IGHT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HE RIGH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E RIGHT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RIGHT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than $300 million per year in Pell Gr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d in President’s Manage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d in Department’s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ings in President’s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940-A736-4C39-B6E2-105A386A846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9320" y="9144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s a FAFSA – IRS Match a Big Deal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YES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atch of FAFSA data with tax data from the IRS will be a major event in the history of student aid program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significant a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the Pell Gra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Need Analysis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ubsidized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050-D3DA-4399-8B73-D17060ACD57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320" y="9144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is the FAFSA – IRS Match?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AFSA – IRS Match would compare selected data from an applicant’s FAFSA with comparable data submitted by the taxpayer to the 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usted Gros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xes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Earnings from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ing Status (e.g., single, marri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of Tax Form (e.g., 1040, 1040A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40E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F9D-A9C4-41FB-B204-E4D4CDFBED9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egal Stat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4BD-D3AF-46BF-B1BD-4249AEF3EE7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4:52:19Z</dcterms:modified>
  <cp:revision>107</cp:revision>
  <dc:subject/>
  <dc:title>PowerPoint Presentation</dc:title>
</cp:coreProperties>
</file>