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151-E3B3-4A2A-93BB-BBF7BBBA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CB9-BD42-42FA-AE65-9002A3DD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F29-A229-4F46-8357-C1B14F7B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225-4258-45F6-AB8D-B5F24CE4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96E8-13D1-4719-8676-A092B0C9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607F-E492-4752-B8EA-9838E058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BE48-D35F-4221-B9E3-675C531F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A782-AF64-4B9C-A6E0-F482E135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18E1-8BEE-48EE-855B-E97CFE8B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D206-982A-4FEE-9A18-64FD48BD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4C43-4AF3-455A-B6CA-BEA7E19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2DD-520B-44DC-824F-9BA0793A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CD79-CD83-4A24-BE5C-E3DA002C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6704-C1C5-42E9-A8E8-D3E64AB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4F24-95F0-471D-BE2A-1D06D324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C57F-B184-4E4A-BA5D-11EE5BE5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A554-C59E-4943-B960-BEDD3A81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9D7-D1C5-4D79-AA5A-8DDEE7E3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93D-2BC1-4F06-B4EF-D2A54CFC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DB6-056A-49D8-9766-11A6A574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9C6-457B-4FC2-8ECB-9FBE7D1B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DB0-F5F0-4918-BEC2-CCF35A74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564-BFF4-4829-BAFD-69F3F755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863-9715-4C54-AF3A-FB644BD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1FCE-B654-4077-9852-74111F92BB1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springlogo_md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43A-1885-4283-8A38-CE9FCF4ED5C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marilyn.leblanc@ed.go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FAFSA – IRS Match</a:t>
            </a:r>
            <a:endParaRPr b="0" lang="en-US" sz="5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Madz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nne Sau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springlogo_md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2920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 Black"/>
              </a:rPr>
              <a:t>General Sess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8BA5-8482-4A96-A6E9-4CE62F362B7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y Don’t We Already Have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8 HEA Re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Revenue Code Section 61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8 IRS Restructuring and Refo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tiality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sury De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t Committee on T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30F-7A1D-47CB-B9E0-FF3499A09F4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6705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onfidentiality Studi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a business case can be made), section 6103 should be amended to permit disclosure of necessary items of information for income verification … as contemplated by the HEA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dopted, this provision should permit access by contractors, subject to (certain) limitations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ff of the Joint Committee recommends that the present-law disclosure rules for using contractors for nontax administration purposes should not be expand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B3F-5450-45CD-9A3F-F887E662F7E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the Legal Status of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R 3613 – the “Student Aid Streamlin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losure Act of 2003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d November 21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 Ways and Means Subcommittee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itation to Comment by January 23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37F-7313-47E9-83C5-412CB4E38F0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080-4412-4F78-A180-B313C574CB2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hallenges to Implementing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enda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 Year and IRS Filing vs FAFS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ility of Tax Data and Award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AFSA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2743200"/>
          <a:ext cx="7620120" cy="34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762012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30200" y="58672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Jan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09480" y="5486400"/>
            <a:ext cx="0" cy="4572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86000" y="5562720"/>
            <a:ext cx="0" cy="3808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5600" y="5851440"/>
            <a:ext cx="187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April 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IRS Filing Da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5562720"/>
            <a:ext cx="0" cy="3808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911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July/Augu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IRS Data Availab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030-7EEF-4104-9D25-A3EEA2E9FF22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320" y="6858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hange of Application Process Mindse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FSA is a “two-step”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FAFSA as soon a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date tax data as soon a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urns are filed with IR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7DA-35A4-4F7D-8F88-96AC36F16A2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hallenges to Implementing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gal Authorit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of Contr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ease of Actual Data vs. “Fact of Discrepancy” to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’s Third Party Servi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ing Applicant/Taxp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86C-7E17-4899-B92D-6BCCCA97ABC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hallenges to Implementing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N Mismat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Tax F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in 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ded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f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nts from 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nts with Foreign Tax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equent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Judg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08E-B598-4F38-B648-51FF26FADBC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the School’s Role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33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 inform applicant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 with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sure that updates are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est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fy ED/FSA of 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ld disbur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/Report over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9A9-BB11-4AE6-A712-86F6D8F84C4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320" y="685440"/>
            <a:ext cx="6705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the School’s Role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isburs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le Once Notified of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additional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 in recovering over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tolerance for upcoming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 algn="ctr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Match ultimate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schools great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100-4567-4316-ACE3-BA9D6FA45E7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6705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oday’s Topic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054-4695-44B5-9A63-6C307CA58FE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Implementation Ide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E39-EA10-4A5F-BDD2-08B25F5B177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9320" y="53352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Would a FAFSA – IRS Match Work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demonstration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steps in the income verif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tch FAFSA data with IR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dentify discrepa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termine impact of discrepa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tify parties of IRS mat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erform resolution and hold or rec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tep 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alyz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E21-25A8-4058-873E-14025EF0396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09320" y="-7668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 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99"/>
              </a:spcBef>
              <a:buNone/>
              <a:tabLst>
                <a:tab algn="l" pos="0"/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ep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atch FAFSA data with IR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of availability of IR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sample for matching in initial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and frequency of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n use of contr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spcBef>
                <a:spcPts val="799"/>
              </a:spcBef>
              <a:buNone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236-808E-4324-96C6-F473EA8E5C4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99"/>
              </a:spcBef>
              <a:buNone/>
              <a:tabLst>
                <a:tab algn="l" pos="0"/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dentify discrep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ile of applicants to 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discrepancy” defined as greater of $100 or 1% of the item being mat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spcBef>
                <a:spcPts val="799"/>
              </a:spcBef>
              <a:buNone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A6E-D352-4865-8799-7DDD58BA211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>
              <a:spcBef>
                <a:spcPts val="799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termine impact of discrep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stitutes a discrepancy that must be res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EF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award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AE0-EF25-4153-A55A-348B77542D5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tep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otify parties of IRS match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students and parents be notified of discrepanc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schools be not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ED notify parties only when there is a discrepanc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of data to Third Party Servicers prohib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ontractors in notif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861-CA7D-460D-B2B6-2F17F96F340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09320" y="6858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00"/>
              </a:spcBef>
              <a:buNone/>
              <a:tabLst>
                <a:tab algn="l" pos="0"/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erform Resolution: Ho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or Recover Over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possible discrep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tal status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N mis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judg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inimize disruptions to aid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93B-19E0-4811-BFF8-51DA7158AF9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99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ep 6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alyz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spcBef>
                <a:spcPts val="799"/>
              </a:spcBef>
              <a:buNone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88D-A320-4FAF-A870-38440C18D7D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What’s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F9F-D0A4-4DC2-B5A2-173A512C543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5640" y="6854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at’s Next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o explore ways to minimize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is developing different approaches to conducting FAFSA – IR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has started asking for feedback from the financial aid community about match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plans to involve the community throughout the match implement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BA2-4E79-45EB-B528-60829481E01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ntroduct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eff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eff.baker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an Madz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an.madzelan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eanne Sau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eanne.saunders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4D8-0683-4E8A-821C-DB5BCA0D13F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mments, Suggestions, Offer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, comments, and suggestions.  Please e-mail your thoughts and idea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irsmatch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18B-4892-48F7-8472-4E12F7F38D60}" type="slidenum">
              <a:t>30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9240" y="1523880"/>
            <a:ext cx="74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wo Words to Remember --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7680" y="2835360"/>
            <a:ext cx="61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US" sz="7200" spc="-1" strike="noStrike">
                <a:solidFill>
                  <a:srgbClr val="000066"/>
                </a:solidFill>
                <a:latin typeface="Arial"/>
              </a:rPr>
              <a:t>Uncertainty”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35640" y="458784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66"/>
                </a:solidFill>
                <a:latin typeface="Arial"/>
              </a:rPr>
              <a:t>“ </a:t>
            </a:r>
            <a:r>
              <a:rPr b="1" i="1" lang="en-US" sz="7200" spc="-1" strike="noStrike">
                <a:solidFill>
                  <a:srgbClr val="000066"/>
                </a:solidFill>
                <a:latin typeface="Arial"/>
              </a:rPr>
              <a:t>Collaboration”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06A-684A-4BFF-B24F-0C5ED6F6496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6E7-946C-48B3-AB5D-ABDD33D4A6E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y Is a FAFSA – IRS Match Important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HE RIGH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RIGHT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RIGHT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than $300 million per year in Pell Gr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d in President’s Manage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d in Department’s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ings in President’s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3FB-C205-4924-B0C5-C6E6A9B3997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9320" y="9144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s a FAFSA – IRS Match a Big Deal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YE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atch of FAFSA data with tax data from the IRS will be a major event in the history of student aid program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significant a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the Pell Gra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Need Analys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bsidized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45F-7B1F-4250-974C-466ABD9FEFA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320" y="9144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the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FSA – IRS Match would compare selected data from an applicant’s FAFSA with comparable data submitted by the taxpayer to the 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usted Gros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Earnings from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ing Status (e.g., single, marri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of Tax Form (e.g., 1040, 1040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40E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CF2-D135-4838-94C4-EC030DD2078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egal St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089-CA53-47B6-90B3-D9C4E98CC9E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4:52:19Z</dcterms:modified>
  <cp:revision>107</cp:revision>
  <dc:subject/>
  <dc:title>PowerPoint Presentation</dc:title>
</cp:coreProperties>
</file>