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8.wmf" ContentType="image/x-wmf"/>
  <Override PartName="/ppt/media/image7.png" ContentType="image/png"/>
  <Override PartName="/ppt/media/image1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6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971880" y="0"/>
            <a:ext cx="303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6856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934560" y="4419360"/>
            <a:ext cx="514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0" y="8839080"/>
            <a:ext cx="303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971880" y="8839080"/>
            <a:ext cx="303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E72C9-9569-4287-9AFA-8FBA66E3F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3971880" y="8839080"/>
            <a:ext cx="303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CD1C5-BCB5-4D8A-8717-807040A994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0" y="8839080"/>
            <a:ext cx="303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0" y="0"/>
            <a:ext cx="303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971880" y="0"/>
            <a:ext cx="303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57400" y="674640"/>
            <a:ext cx="4697280" cy="3522600"/>
          </a:xfrm>
          <a:prstGeom prst="rect">
            <a:avLst/>
          </a:prstGeom>
          <a:ln w="0">
            <a:noFill/>
          </a:ln>
        </p:spPr>
      </p:sp>
      <p:sp>
        <p:nvSpPr>
          <p:cNvPr id="262" name=""/>
          <p:cNvSpPr/>
          <p:nvPr/>
        </p:nvSpPr>
        <p:spPr>
          <a:xfrm>
            <a:off x="1120680" y="4576680"/>
            <a:ext cx="5073840" cy="41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Speaker: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Day Haywar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Talking Points: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000066"/>
                </a:solidFill>
                <a:latin typeface="Arial"/>
                <a:ea typeface="Arial"/>
              </a:rPr>
              <a:t>This slide high-lights the end state CSB Operations Solution.  </a:t>
            </a:r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000066"/>
                </a:solidFill>
                <a:latin typeface="Arial"/>
                <a:ea typeface="Arial"/>
              </a:rPr>
              <a:t>As you can see from this slide numerous operational redundancies are eliminated.  </a:t>
            </a:r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000066"/>
                </a:solidFill>
                <a:latin typeface="Arial"/>
                <a:ea typeface="Arial"/>
              </a:rPr>
              <a:t>Karen will now discuss how Portfolio Optimization and improved customer satisfaction will be achieved through CSB </a:t>
            </a:r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3971880" y="8839080"/>
            <a:ext cx="303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9A8B5-6479-45B2-AC25-F52FB395E9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8839080"/>
            <a:ext cx="303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0" y="0"/>
            <a:ext cx="303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971880" y="0"/>
            <a:ext cx="303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971880" y="8839080"/>
            <a:ext cx="303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51D80-F2BC-4E2A-8824-0F59592398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0" y="8839080"/>
            <a:ext cx="303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0" y="0"/>
            <a:ext cx="303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971880" y="0"/>
            <a:ext cx="303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3971880" y="8839080"/>
            <a:ext cx="303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198A4-9EBE-41C9-85FD-35C038E3C7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0" y="8839080"/>
            <a:ext cx="303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0" y="0"/>
            <a:ext cx="303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971880" y="0"/>
            <a:ext cx="303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D736-B24E-440E-9BFA-3F8B36294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6130-060D-4262-96B5-415FB3B6E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BE06-C529-46AD-B635-1AE360819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F4CC-D801-4886-A35F-D97B62289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4DABA-35C4-4870-8AAF-63597FA82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42B9C-8EA6-47CD-844A-D41C0642B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CCA5B-96FE-4ED2-814C-165E1F8A9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46DAA-F3BD-4A74-B792-6E47C3808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FC0B3-9F61-4C95-A54C-708A79196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2057040" y="533160"/>
            <a:ext cx="67057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94747-3AC4-4C82-94B0-DE2C09E8E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2561A-68B5-473E-A219-0F0F3A63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46A1-A257-4317-AF14-9C6A5B3C3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D7756-944C-4C94-BE26-BDC3DA82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84A08-6224-43B3-B1E4-166C7DE8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E1264-F26C-429A-A915-98758D43C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9F914-19AC-425B-B8A2-9E48BF2B7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108DB-DFB4-47EA-9E52-38FDC58E5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ABD9-8EE0-4AF0-91E5-8CDE0CA5F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1090-9F1B-4866-AE0D-8C1580349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7760-E413-4D16-9AFE-7939BB2B3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057040" y="533160"/>
            <a:ext cx="67057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BBB7-3EEE-4196-8B86-915C8DA10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4C64-E456-4ED6-A7E1-452D7E5F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F273-0295-49C6-9306-7FB74322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3AC4-FAEC-475B-9F36-4CBA546B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1831E-6FFA-436A-877D-9656F971757B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" name="" descr=""/>
          <p:cNvPicPr/>
          <p:nvPr/>
        </p:nvPicPr>
        <p:blipFill>
          <a:blip r:embed="rId2"/>
          <a:stretch/>
        </p:blipFill>
        <p:spPr>
          <a:xfrm>
            <a:off x="457200" y="428760"/>
            <a:ext cx="1517760" cy="82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A49B8-3430-4F88-9040-AD181A2B20A3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mailto:dan.hayward@ed.gov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590920"/>
            <a:ext cx="777240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Serving Our Mutual Customers</a:t>
            </a:r>
            <a:br>
              <a:rPr sz="3600"/>
            </a:b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Through</a:t>
            </a:r>
            <a:br>
              <a:rPr sz="3600"/>
            </a:b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ommon Services for Borrowers</a:t>
            </a:r>
            <a:br>
              <a:rPr sz="3600"/>
            </a:br>
            <a:br>
              <a:rPr sz="3600"/>
            </a:b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arch 28, 2004</a:t>
            </a:r>
            <a:br>
              <a:rPr sz="2000"/>
            </a:br>
            <a:endParaRPr b="0" lang="en-US" sz="2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n Hay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81280" y="762120"/>
            <a:ext cx="5029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 Black"/>
              </a:rPr>
              <a:t>Direct Loan Session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7200" y="428760"/>
            <a:ext cx="2819520" cy="152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04920" y="14479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SB will achieve efficiencies and improvements while maintaining core knowledge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olidating six call centers into a single, Virtual Service Center using four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75"/>
              </a:spcBef>
              <a:buClr>
                <a:srgbClr val="cc3300"/>
              </a:buClr>
              <a:buSzPct val="150000"/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kersfield, Utica, Laurence and Iowa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ing six inbound mailrooms into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75"/>
              </a:spcBef>
              <a:buClr>
                <a:srgbClr val="000066"/>
              </a:buClr>
              <a:buSzPct val="150000"/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l imaged and que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75"/>
              </a:spcBef>
              <a:buClr>
                <a:srgbClr val="000066"/>
              </a:buClr>
              <a:buSzPct val="150000"/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ivered electronically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he right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ing seven fulfillment (prin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mail) centers into f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lockboxes replaced by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 project managemen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s combined into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057400" y="685800"/>
            <a:ext cx="6629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66"/>
                </a:solidFill>
                <a:latin typeface="Arial Black"/>
              </a:rPr>
              <a:t>CSB End State Vision </a:t>
            </a:r>
            <a:br>
              <a:rPr sz="3400"/>
            </a:b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Consolidated Operation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867280" y="4135320"/>
            <a:ext cx="2667240" cy="201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ACB5-8469-4166-B721-23B75ED9B3F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57200" y="1600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 Black"/>
              </a:rPr>
              <a:t>CSB End State Operations</a:t>
            </a: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159" name="CSB-113rev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467480" cy="46087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486400" y="2895480"/>
            <a:ext cx="89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Times New Roman"/>
              </a:rPr>
              <a:t>Chicago</a:t>
            </a:r>
            <a:r>
              <a:rPr b="1" lang="en-US" sz="800" spc="-1" strike="noStrike">
                <a:solidFill>
                  <a:srgbClr val="5f5f5f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318456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Times New Roman"/>
              </a:rPr>
              <a:t>San Francisco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5A36-C49D-40D5-B0B1-E7694FD81709}" type="slidenum">
              <a:t>11</a:t>
            </a:fld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and better portfolio manage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34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borrower counseling to reduce delinquency and default rates and to increase percentage of performing ac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3680" indent="-2185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ly pre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3680" indent="-2185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Bal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3680" indent="-2185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a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34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performance-based deliverables and incentives for the contrac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34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rogram integrity by identifying and preventing fraud, waste, and abu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2057040" y="68544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66"/>
                </a:solidFill>
                <a:latin typeface="Arial Black"/>
              </a:rPr>
              <a:t>CSB End State Vision </a:t>
            </a: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Improved Portfolio Management</a:t>
            </a:r>
            <a:endParaRPr b="0" lang="en-US" sz="2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8B99-4F9A-447B-A5BC-6C4DAF99304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rcRect l="0" t="0" r="27782" b="0"/>
          <a:stretch/>
        </p:blipFill>
        <p:spPr>
          <a:xfrm>
            <a:off x="838080" y="2438280"/>
            <a:ext cx="2057400" cy="18795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123720" y="380520"/>
            <a:ext cx="4419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SB Benefit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00400" y="2438280"/>
            <a:ext cx="3200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orrow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c0c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c0c0c0"/>
                </a:solidFill>
                <a:latin typeface="Arial"/>
              </a:rPr>
              <a:t>Scho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95480" y="3200400"/>
            <a:ext cx="389916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9880" y="5410080"/>
            <a:ext cx="2260800" cy="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11120" y="1020600"/>
            <a:ext cx="6218640" cy="14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creased Customer Satisfaction and 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mproved Program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rcRect l="0" t="37500" r="0" b="0"/>
          <a:stretch/>
        </p:blipFill>
        <p:spPr>
          <a:xfrm>
            <a:off x="6019920" y="4114800"/>
            <a:ext cx="2057400" cy="20368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6629400" y="2819520"/>
            <a:ext cx="1447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19520" y="5029200"/>
            <a:ext cx="1447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c0c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19920" y="4114800"/>
            <a:ext cx="2057400" cy="205740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CD68-DEF7-48A2-880D-39CB3F1103D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133720" y="304920"/>
            <a:ext cx="67053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SB Benefits Student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467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rrowers will be in a single, integrated system regardless of statu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ayment address and single 800 number for Direct Loan Consolidation, Direct Loan Servicing and Conditionally Discharged Lo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aulted Loans will have a single 800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Web site for all borrowers with increased services for 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th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L Servic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confusion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rcRect l="0" t="0" r="0" b="23990"/>
          <a:stretch/>
        </p:blipFill>
        <p:spPr>
          <a:xfrm>
            <a:off x="4842000" y="4267080"/>
            <a:ext cx="163512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E224-795F-4B31-B6F5-B19933AC967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13716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system will raise the standards for serv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066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line consolid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bmittal and acceptance, including pre-populated loan information for Direct Loans and for FFEL and Perkins loan data stored within NS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066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d customer services (Call Center and We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066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e on-line mail box for borrower correspo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066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/Chat services and deployment of ‘E-minders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066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hanced Online Exit Counsel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720" indent="-14652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olidation op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0720" indent="-14652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hanced personalize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ns counsel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0720" indent="-14652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alized Interactiv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deo Counseling S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2133720" y="304920"/>
            <a:ext cx="67053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SB Benefits Student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934320" y="3886200"/>
            <a:ext cx="1600200" cy="2492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CE63-94E0-48D2-A2BB-CF72AA923B9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762120" y="5791320"/>
            <a:ext cx="289548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2120" y="6172200"/>
            <a:ext cx="2895480" cy="30492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62120" y="5410080"/>
            <a:ext cx="289548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09680" y="228600"/>
            <a:ext cx="6705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SB Web Site - Borrowers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4920" y="12193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121932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ovides “Rule based” access to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6" name="Account%20Summary%20Redone" descr=""/>
          <p:cNvPicPr/>
          <p:nvPr/>
        </p:nvPicPr>
        <p:blipFill>
          <a:blip r:embed="rId1"/>
          <a:stretch/>
        </p:blipFill>
        <p:spPr>
          <a:xfrm>
            <a:off x="3733920" y="1447920"/>
            <a:ext cx="5060880" cy="368460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sp>
        <p:nvSpPr>
          <p:cNvPr id="187" name=""/>
          <p:cNvSpPr txBox="1"/>
          <p:nvPr/>
        </p:nvSpPr>
        <p:spPr>
          <a:xfrm rot="523200">
            <a:off x="5410080" y="2590560"/>
            <a:ext cx="185760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0c0c0"/>
                  </a:solidFill>
                  <a:miter/>
                </a:ln>
                <a:solidFill>
                  <a:srgbClr val="c0c0c0"/>
                </a:solidFill>
                <a:latin typeface="Arial Black"/>
              </a:rPr>
              <a:t>Sample</a:t>
            </a:r>
            <a:endParaRPr b="0" lang="en-US" sz="2400" spc="1" strike="noStrike">
              <a:ln w="9360">
                <a:solidFill>
                  <a:srgbClr val="c0c0c0"/>
                </a:solidFill>
                <a:miter/>
              </a:ln>
              <a:solidFill>
                <a:srgbClr val="c0c0c0"/>
              </a:solidFill>
              <a:latin typeface="Arial Black"/>
              <a:ea typeface="Arial Black"/>
            </a:endParaRPr>
          </a:p>
        </p:txBody>
      </p:sp>
      <p:sp>
        <p:nvSpPr>
          <p:cNvPr id="188" name=""/>
          <p:cNvSpPr/>
          <p:nvPr/>
        </p:nvSpPr>
        <p:spPr>
          <a:xfrm>
            <a:off x="3886200" y="5486400"/>
            <a:ext cx="1219320" cy="99072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962520" y="6172200"/>
            <a:ext cx="1066680" cy="228600"/>
          </a:xfrm>
          <a:prstGeom prst="rect">
            <a:avLst/>
          </a:prstGeom>
          <a:solidFill>
            <a:srgbClr val="66ff66"/>
          </a:solidFill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Ne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962520" y="5867280"/>
            <a:ext cx="1066680" cy="228600"/>
          </a:xfrm>
          <a:prstGeom prst="rect">
            <a:avLst/>
          </a:prstGeom>
          <a:solidFill>
            <a:srgbClr val="ffff66"/>
          </a:solidFill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Enhance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62520" y="5562720"/>
            <a:ext cx="1066680" cy="228600"/>
          </a:xfrm>
          <a:prstGeom prst="rect">
            <a:avLst/>
          </a:prstGeom>
          <a:solidFill>
            <a:srgbClr val="ccccff"/>
          </a:solidFill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Existin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86200" y="5257800"/>
            <a:ext cx="1219320" cy="2286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268520" y="518148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Ke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2120" y="1981080"/>
            <a:ext cx="289548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62120" y="2362320"/>
            <a:ext cx="289548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3124080"/>
            <a:ext cx="289548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62120" y="2743200"/>
            <a:ext cx="289548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3886200"/>
            <a:ext cx="289548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2120" y="3505320"/>
            <a:ext cx="2895480" cy="304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2120" y="4648320"/>
            <a:ext cx="2895480" cy="304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2120" y="4267080"/>
            <a:ext cx="2895480" cy="30492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62120" y="5029200"/>
            <a:ext cx="289548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1981080"/>
            <a:ext cx="35049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lnSpc>
                <a:spcPct val="100000"/>
              </a:lnSpc>
              <a:spcAft>
                <a:spcPts val="675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ount Balances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Aft>
                <a:spcPts val="675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mographic Updat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Aft>
                <a:spcPts val="901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H Enrollme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Aft>
                <a:spcPts val="675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ine Paymen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451"/>
              </a:spcBef>
              <a:spcAft>
                <a:spcPts val="675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ine Bills and Mailbo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224"/>
              </a:spcBef>
              <a:spcAft>
                <a:spcPts val="675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98-E Tax Form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Aft>
                <a:spcPts val="675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-time Consolid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224"/>
              </a:spcBef>
              <a:spcAft>
                <a:spcPts val="675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ayment Calculator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Aft>
                <a:spcPts val="675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dget Calculator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ayment Plan Chang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224"/>
              </a:spcBef>
              <a:spcAft>
                <a:spcPts val="675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ine Due Date Chang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Aft>
                <a:spcPts val="675"/>
              </a:spcAft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CA Contact Inform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A9D1-765C-44DB-82DC-6357B6EDF3E0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rcRect l="0" t="0" r="27782" b="0"/>
          <a:stretch/>
        </p:blipFill>
        <p:spPr>
          <a:xfrm>
            <a:off x="838080" y="2438280"/>
            <a:ext cx="2057400" cy="187956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123720" y="380520"/>
            <a:ext cx="4419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SB Benefit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819520" y="2438280"/>
            <a:ext cx="3200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c0c0"/>
                </a:solidFill>
                <a:latin typeface="Arial"/>
              </a:rPr>
              <a:t>Stud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895480" y="3200400"/>
            <a:ext cx="3899160" cy="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9880" y="5410080"/>
            <a:ext cx="259092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rcRect l="0" t="37500" r="0" b="0"/>
          <a:stretch/>
        </p:blipFill>
        <p:spPr>
          <a:xfrm>
            <a:off x="6324480" y="4191120"/>
            <a:ext cx="2057400" cy="20365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2211120" y="1020600"/>
            <a:ext cx="6218640" cy="14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creased Customer Satisfaction and 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mproved Program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81280" y="5334120"/>
            <a:ext cx="3200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Schools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48120" y="4952880"/>
            <a:ext cx="1447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477120" y="2819520"/>
            <a:ext cx="1447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c0c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38080" y="2438280"/>
            <a:ext cx="2057400" cy="190512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56F1-6246-4814-93B1-E022AD1AAB31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5640" y="304920"/>
            <a:ext cx="6705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SB Benefits School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195480" indent="-1954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Support Servic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800 number for information about students in DL Servicing, Loan Consolidation, Conditional Discharge or Defa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ool Web site containing information on all borrow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conf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>
              <a:lnSpc>
                <a:spcPct val="90000"/>
              </a:lnSpc>
              <a:spcBef>
                <a:spcPts val="96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ized Portfolio Managemen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d initiatives for delinquency and default avoid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collections procedure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ing customized call campaig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ly intervention to improve borr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nquency and default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 Stage Delinquency efforts contin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>
              <a:lnSpc>
                <a:spcPct val="90000"/>
              </a:lnSpc>
              <a:spcBef>
                <a:spcPts val="104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r, less confusing, better servic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tudents and sch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6172200" y="4419720"/>
            <a:ext cx="2629080" cy="177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2EA7-F2D2-4950-8617-FB6EC093391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533520" y="4800600"/>
            <a:ext cx="2895480" cy="304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3520" y="3809880"/>
            <a:ext cx="2895480" cy="381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33520" y="5638680"/>
            <a:ext cx="2895480" cy="609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3520" y="2438280"/>
            <a:ext cx="2895480" cy="381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2895480"/>
            <a:ext cx="2895480" cy="4572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514600" y="304920"/>
            <a:ext cx="6095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SB Web Site - Schools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33520" y="12952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Provides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25" name="Schools%201%20Redone" descr=""/>
          <p:cNvPicPr/>
          <p:nvPr/>
        </p:nvPicPr>
        <p:blipFill>
          <a:blip r:embed="rId1"/>
          <a:stretch/>
        </p:blipFill>
        <p:spPr>
          <a:xfrm>
            <a:off x="3505320" y="1371600"/>
            <a:ext cx="5257800" cy="361332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sp>
        <p:nvSpPr>
          <p:cNvPr id="226" name=""/>
          <p:cNvSpPr txBox="1"/>
          <p:nvPr/>
        </p:nvSpPr>
        <p:spPr>
          <a:xfrm rot="523200">
            <a:off x="5410080" y="2590560"/>
            <a:ext cx="185760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0c0c0"/>
                  </a:solidFill>
                  <a:miter/>
                </a:ln>
                <a:solidFill>
                  <a:srgbClr val="c0c0c0"/>
                </a:solidFill>
                <a:latin typeface="Arial Black"/>
              </a:rPr>
              <a:t>Sample</a:t>
            </a:r>
            <a:endParaRPr b="0" lang="en-US" sz="2400" spc="1" strike="noStrike">
              <a:ln w="9360">
                <a:solidFill>
                  <a:srgbClr val="c0c0c0"/>
                </a:solidFill>
                <a:miter/>
              </a:ln>
              <a:solidFill>
                <a:srgbClr val="c0c0c0"/>
              </a:solidFill>
              <a:latin typeface="Arial Black"/>
              <a:ea typeface="Arial Black"/>
            </a:endParaRPr>
          </a:p>
        </p:txBody>
      </p:sp>
      <p:sp>
        <p:nvSpPr>
          <p:cNvPr id="227" name=""/>
          <p:cNvSpPr/>
          <p:nvPr/>
        </p:nvSpPr>
        <p:spPr>
          <a:xfrm>
            <a:off x="533520" y="1905120"/>
            <a:ext cx="2895480" cy="45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3520" y="4267080"/>
            <a:ext cx="2895480" cy="457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5211720"/>
            <a:ext cx="2895480" cy="3510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3429000"/>
            <a:ext cx="2895480" cy="304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04920" y="1828800"/>
            <a:ext cx="312408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425"/>
              </a:spcBef>
              <a:buClr>
                <a:srgbClr val="ed1b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orrower Account Information</a:t>
            </a:r>
            <a:endParaRPr b="0" lang="en-US" sz="1700" spc="-1" strike="noStrike">
              <a:solidFill>
                <a:srgbClr val="000066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201"/>
              </a:spcBef>
              <a:buClr>
                <a:srgbClr val="ed1b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Repayment Calculators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425"/>
              </a:spcBef>
              <a:buClr>
                <a:srgbClr val="ed1b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Loan Consolidation Calculator</a:t>
            </a:r>
            <a:endParaRPr b="0" lang="en-US" sz="1700" spc="-1" strike="noStrike">
              <a:solidFill>
                <a:srgbClr val="000066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425"/>
              </a:spcBef>
              <a:buClr>
                <a:srgbClr val="ed1b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ntrance and Exit Counseling Material and Reports</a:t>
            </a:r>
            <a:endParaRPr b="0" lang="en-US" sz="1700" spc="-1" strike="noStrike">
              <a:solidFill>
                <a:srgbClr val="000066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425"/>
              </a:spcBef>
              <a:buClr>
                <a:srgbClr val="ed1b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Delinquency Reports 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  and Tools</a:t>
            </a:r>
            <a:endParaRPr b="0" lang="en-US" sz="1700" spc="-1" strike="noStrike">
              <a:solidFill>
                <a:srgbClr val="000066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425"/>
              </a:spcBef>
              <a:buClr>
                <a:srgbClr val="ed1b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lectronic Report Delivery</a:t>
            </a:r>
            <a:endParaRPr b="0" lang="en-US" sz="1700" spc="-1" strike="noStrike">
              <a:solidFill>
                <a:srgbClr val="000066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425"/>
              </a:spcBef>
              <a:buClr>
                <a:srgbClr val="ed1b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NSLDS Data Retrieval </a:t>
            </a:r>
            <a:endParaRPr b="0" lang="en-US" sz="1700" spc="-1" strike="noStrike">
              <a:solidFill>
                <a:srgbClr val="000066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201"/>
              </a:spcBef>
              <a:buClr>
                <a:srgbClr val="ed1b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425"/>
              </a:spcBef>
              <a:buClr>
                <a:srgbClr val="ed1b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mail Communications</a:t>
            </a:r>
            <a:endParaRPr b="0" lang="en-US" sz="1700" spc="-1" strike="noStrike">
              <a:solidFill>
                <a:srgbClr val="000066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with CSRs</a:t>
            </a:r>
            <a:endParaRPr b="0" lang="en-US" sz="1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6200" y="5486400"/>
            <a:ext cx="1219320" cy="99072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962520" y="6172200"/>
            <a:ext cx="1066680" cy="228600"/>
          </a:xfrm>
          <a:prstGeom prst="rect">
            <a:avLst/>
          </a:prstGeom>
          <a:solidFill>
            <a:srgbClr val="66ff66"/>
          </a:solidFill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Ne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962520" y="5867280"/>
            <a:ext cx="1066680" cy="228600"/>
          </a:xfrm>
          <a:prstGeom prst="rect">
            <a:avLst/>
          </a:prstGeom>
          <a:solidFill>
            <a:srgbClr val="ffff66"/>
          </a:solidFill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Enhance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962520" y="5562720"/>
            <a:ext cx="1066680" cy="228600"/>
          </a:xfrm>
          <a:prstGeom prst="rect">
            <a:avLst/>
          </a:prstGeom>
          <a:solidFill>
            <a:srgbClr val="ccccff"/>
          </a:solidFill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Existin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5257800"/>
            <a:ext cx="1219320" cy="2286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203720" y="518148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Ke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8DD9-E582-40D3-BD81-7E5C16A3D61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1640" y="457200"/>
            <a:ext cx="3048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Agenda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038480" y="182880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B Overvie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B End State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efits to Borro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efits to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3252600" cy="487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1796-A326-4B47-BCA3-6A24B8B172D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819520" y="380520"/>
            <a:ext cx="5486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SB Summary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1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SB will integrate the people, processes, and systems that operate the Direct Loan Servicing, Consolidation, Collections, and Disability Discharge contrac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1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SB Team is comprised of familiar faces that have been supporting FSA and Schools for yea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1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SB Solution will provide a system and process enhancements that will benefit borrowers and sch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2971800" y="4114800"/>
            <a:ext cx="3352680" cy="22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AB74-62A4-4884-9220-A12328119BD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99840" y="45684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Questions?????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appreciate your feedback and comments.  We can be reach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e Szab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n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02) 377-34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susan.szabo@ed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n Hayw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ne: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02) 377-32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  <a:hlinkClick r:id="rId1"/>
              </a:rPr>
              <a:t>dan.hayward@ed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2F80-4EF9-4099-97DB-36592C8D8F0E}" type="slidenum">
              <a:t>21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240" y="380520"/>
            <a:ext cx="5791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SB Overview - Goal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1295280"/>
            <a:ext cx="82296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>
              <a:lnSpc>
                <a:spcPct val="10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of the CSB initiative is to modernize and integrate four separate legacy systems into one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285840" indent="-171360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Loan Servicing (DLSS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285840" indent="-17136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n Consolidation (LC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285840" indent="-17136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bt Collection (DMCS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285840" indent="-17136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itional Disability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28584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harge Tracking (CDDTS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285840" indent="-171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28584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4419720"/>
            <a:ext cx="3120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Additionally, CSB will include the Delinquent Loan Data Mart (DLDM) and other FSA data mart function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267080" y="2438280"/>
            <a:ext cx="4496040" cy="35276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648320" y="2362320"/>
            <a:ext cx="3809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AB10-5AAE-45D5-83BF-C2109BDCC55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bines 4 major “legacy” contracts into one Performance-Based Con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st ED contract valued at more than $2 Billion was awarded on November 20, 200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1 Billion in savings to taxp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ed team includes legacy contractor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S, Prime Contractor (DLSS, CDD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S (L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ytheon (DMC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arson Government Solutions (DMCS P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than 30 small and minority-owned business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2285640" y="38052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SB Overview - Contract 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3226" t="0" r="6453" b="6624"/>
          <a:stretch/>
        </p:blipFill>
        <p:spPr>
          <a:xfrm>
            <a:off x="6553080" y="3886200"/>
            <a:ext cx="213372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9385-50C2-4515-836D-B1FCCEF772C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38080" y="1676520"/>
            <a:ext cx="73915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80000"/>
              </a:lnSpc>
              <a:spcBef>
                <a:spcPts val="174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SB is big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36560" indent="-276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tive borrow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8.9 millio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36560" indent="-276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orrower Cal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1.4 million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36560" indent="-276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yments Receiv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4.7 millio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36560" indent="-276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utbound Correspond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3 million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36560" indent="-276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olid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0,00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36560" indent="-2761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289080" indent="-289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rect Loans helps make it big!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36560" indent="-27612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L borrow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6.2 million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36560" indent="-27612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orrower Calls (Utica, Bakersfield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1.0 million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36560" indent="-27612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yments Receiv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4.3 million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36560" indent="-27612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utbound Correspondenc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4.1 million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36560" indent="-27612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olidation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2,00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66"/>
                </a:solidFill>
                <a:latin typeface="Arial Black"/>
              </a:rPr>
              <a:t>CSB Overview </a:t>
            </a:r>
            <a:br>
              <a:rPr sz="3400"/>
            </a:b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Current Volumes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anuary 1, 2004 to March 1, 2004:</a:t>
            </a:r>
            <a:endParaRPr b="0" lang="en-US" sz="2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6521-CE63-433E-B85C-730AB7A8A03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57200" y="5257800"/>
            <a:ext cx="8229600" cy="7621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How Does CSB Support Direct Loan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 non-defaulted Direct Loan borrower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ise 70% of total CSB borr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74% of total CSB c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91% of total CSB pay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ve 87% of total CSB correspo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 defaulted Direct Loan borrowers comprise  8% of total CSB borrowers (28% of total borrowers in D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active DL borrowers comprise 78% of CS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543800" y="2057400"/>
            <a:ext cx="1239840" cy="190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54D1-BDCC-4C0E-B9AA-BB4AE3A97B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4284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SB End State Vision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SB integrates systems and data, helps optimize the FSA portfolio, and improves customer service (borrowers, school and other partner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SB provides a unique opportunity to raise the standards even higher for student le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ward winning Web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SI customer serv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562720" y="4191120"/>
            <a:ext cx="3047760" cy="2068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37F9-9E10-40B0-B8F2-B9A6EEB3D84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228240" y="1828800"/>
            <a:ext cx="350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111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a single system of record for a student  or parent borrower, eliminating data redundancy and reconciliation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1112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2057040" y="68544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66"/>
                </a:solidFill>
                <a:latin typeface="Arial Black"/>
              </a:rPr>
              <a:t>CSB End State Vision </a:t>
            </a: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System and Data Integration</a:t>
            </a:r>
            <a:endParaRPr b="0" lang="en-US" sz="28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657600" y="1828800"/>
            <a:ext cx="5095800" cy="37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354F-2876-46EE-9383-DA3A4C2DBE2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838080" y="2527200"/>
          <a:ext cx="7836120" cy="433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527200"/>
                    <a:ext cx="7836120" cy="43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3124080" y="38862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hase 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14800" y="45720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hase 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77120" y="52578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hase 3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057040" y="68544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66"/>
                </a:solidFill>
                <a:latin typeface="Arial Black"/>
              </a:rPr>
              <a:t>CSB End State Vision</a:t>
            </a:r>
            <a:br>
              <a:rPr sz="3400"/>
            </a:b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Transition Schedule</a:t>
            </a:r>
            <a:endParaRPr b="0" lang="en-US" sz="2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1" name=""/>
          <p:cNvSpPr/>
          <p:nvPr/>
        </p:nvSpPr>
        <p:spPr>
          <a:xfrm>
            <a:off x="6629400" y="609588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647040" y="6051600"/>
            <a:ext cx="2286000" cy="55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Transition Complete – CSB End State Vision Achieved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1371600"/>
            <a:ext cx="81532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acy systems will continue to oper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until implementation of the CSB Solution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3DA8-09D9-4EF4-A232-9AD7431281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5T16:11:26Z</dcterms:created>
  <dc:creator>jennifer.do</dc:creator>
  <dc:description/>
  <dc:language>en-US</dc:language>
  <cp:lastModifiedBy>jennifer.do</cp:lastModifiedBy>
  <dcterms:modified xsi:type="dcterms:W3CDTF">2004-04-05T16:59:43Z</dcterms:modified>
  <cp:revision>57</cp:revision>
  <dc:subject/>
  <dc:title>PowerPoint Presentation</dc:title>
</cp:coreProperties>
</file>