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655-DB6E-4ADC-973A-ABE4B2BF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D7E-B002-44FE-9030-9978DB8A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917-76A8-4655-9CCE-388FE59A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F28-D2CB-429F-BCEC-1947150D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B60-36DC-4C6A-A1A5-22FB3B7E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712-93EE-4B0D-947F-AF5EB371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92A-805B-412B-A241-F6184449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AE1-3177-4739-8B57-EB32A840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914400"/>
            <a:ext cx="723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590-C150-4883-A355-93CF1FC8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CD0-F242-4970-9CC9-2F176BF6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D8E-84E4-45A1-983F-8D66960C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7E0-3EAE-4F6A-856C-84A749B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B399-59AE-49AD-9867-92036C622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1901" t="0" r="950" b="46689"/>
          <a:stretch/>
        </p:blipFill>
        <p:spPr>
          <a:xfrm>
            <a:off x="1219320" y="76320"/>
            <a:ext cx="3886200" cy="761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0" t="0" r="0" b="25495"/>
          <a:stretch/>
        </p:blipFill>
        <p:spPr>
          <a:xfrm>
            <a:off x="158760" y="152280"/>
            <a:ext cx="1060560" cy="1067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ECA-D957-4C2B-B799-E131C8806E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rors &amp; Re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may recall or adjust referral amounts by sending written reques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O. Box 42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wa City, Iowa 522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CC5-0E1E-49DD-93A7-43D469E0D9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y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may accept payment on behalf of ED; however, payment MUST be forwarded to the National Payment Center for credit to the student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can recall the debt and deposit the funds into its Pell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240-7611-4C8A-98EE-06E4AB68F433}" type="slidenum">
              <a:t>11</a:t>
            </a:fld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y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should be forwarded to the following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Payment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O. Box 4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ville, TX  75403-416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D96-6334-4CF0-9773-B52CD65761A0}" type="slidenum">
              <a:t>12</a:t>
            </a:fld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67000" y="2285640"/>
            <a:ext cx="6038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tudents and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O. Box 4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wa City, Iowa 522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1-800-621-31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7B6-1766-4DC5-8976-651D76AB54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 Wheeler,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Servi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2) 377-32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BS01891_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D3F-C350-42BD-AB69-C65A3A49E4F2}" type="slidenum">
              <a:t>14</a:t>
            </a:fld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ring Title IV Overpay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irley Whe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3D8-6F62-4CE3-80E1-0ADA0DBB18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ring a Debt for Coll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s must be at least $25.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al should be in the format provided in the FSA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on school lett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must be reported to NSLDS prior to referral to ED for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F56-4F28-408F-AC69-CE7BBA1092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15C-F18A-436C-A078-039184A702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2819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EF6-E9D1-482B-A233-5E8B5A3B26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utstanding Debts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ademic Y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 – 0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6,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 – 0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,3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2 – 0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,3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3 – 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,7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E7A-FBFB-43C9-A72D-6FA6A2E58B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en Accounts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ademic Y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llar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 – 0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$1,191,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 – 0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$2,579,5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2 – 0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$6,579,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3 – 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$5,630,2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2AD-EEB8-4F3B-AF77-380EBE2680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al is loaded to Collections’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demand letter sent to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is reported to NS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accrual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B39-4EEC-4B16-867E-13EF5B3D163F}" type="slidenum">
              <a:t>8</a:t>
            </a:fld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 60 Day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reported to national credit reporting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transferred to private collection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garnishment of wages and Treasury funds (including tax refu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litigation through the Department of 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C37-89A2-4641-98B7-EA4CE7B07A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22:08Z</dcterms:created>
  <dc:creator>Paul.Hill.Jr</dc:creator>
  <dc:description/>
  <dc:language>en-US</dc:language>
  <cp:lastModifiedBy>jennifer.hatton</cp:lastModifiedBy>
  <dcterms:modified xsi:type="dcterms:W3CDTF">2004-07-16T13:12:55Z</dcterms:modified>
  <cp:revision>17</cp:revision>
  <dc:subject/>
  <dc:title>PowerPoint Presentation</dc:title>
</cp:coreProperties>
</file>