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348-CE48-4B31-8F84-D61E017E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0E2-8537-4C99-BCD4-88FBF41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337-34EE-4ADD-B58B-7DF763E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5A0-5032-40DC-983E-044944BD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C61-14CD-4763-A284-F748A10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51B-16DA-4A54-A197-E1BF830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010-F9DE-447B-94F7-F869A750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E95-C5E6-41E8-AAB4-FD6A1D2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C5D-C2EB-40C0-8330-9B84A503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26D-8A46-4538-8238-E8F6234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7D3-5C5D-4DC4-AAFC-7A0B40B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6F8-9654-45D4-AD73-68F4941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C749-DFA8-4F4D-B2B9-E0A45C01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2004_logo" descr=""/>
          <p:cNvPicPr/>
          <p:nvPr/>
        </p:nvPicPr>
        <p:blipFill>
          <a:blip r:embed="rId2"/>
          <a:srcRect l="1901" t="0" r="950" b="46689"/>
          <a:stretch/>
        </p:blipFill>
        <p:spPr>
          <a:xfrm>
            <a:off x="1219320" y="76320"/>
            <a:ext cx="388620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158760" y="152280"/>
            <a:ext cx="1060560" cy="1067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marilyn.leblanc@ed.gov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SFAA%20Template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F4D-1409-49B0-B5BB-24DBF6CBB9B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y Don’t We Already Have a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HEA Re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venue Code Section 61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IRS Restructuring and Reform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tiality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sury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ommittee on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S00508_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144324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F34-1805-4207-A0B7-F649975A8B5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Legal Status of a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3613 – the “Student Aid Streamlined Discl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f 200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Ways and Means Subcommittee on 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 to Comment by January 23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4CC-827B-419C-A8BB-4B5490B8328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Are the Next Step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it passage of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with IRS staff to gather mor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consult with the financial ai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IRS Match Design Team that includes FAAs, students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IRS Demonstration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925-0232-4BCC-BA8B-0274114E086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24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088-165A-48BC-9628-5E82145BAAA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lendar Challenges to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ing a FAFSA – IRS Match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Year and IRS Filing vs FAFS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Tax Data and Award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FAFSA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895480"/>
          <a:ext cx="76201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7620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57200" y="56386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Ja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62120" y="52578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514600" y="53341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541008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April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IRS Filing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53341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486400"/>
            <a:ext cx="2895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July/Aug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IRS Data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7B1-A8F5-49E8-87B5-C74F2B8ED8F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lendar Challenge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lying for Aid as a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wo-Step Proces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d submit a FAFSA, with estimated income information,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ax data as soon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retur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5634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ends e-mail reminders to students and parents after the April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x filing deadline  reminding them to confirm that their FAFSA contains accur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EFA-2A95-4037-801C-7F7E967A862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-mail Reminde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Selection Criteria in 2004-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atest FAFSA transaction, the student or the student’s parent prov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inc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d from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year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th EFCs &gt;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were selected for verification on last trans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C86-9503-4250-8BD7-C5FE5169DCE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tutory Challenges to Implementing a FAFSA – IRS Mat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Author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ntr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Actual Data vs. “Fact of Discrepancy” to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ing Applicant/Taxp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’s Third Party Serv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715-542E-412A-8847-1CDECFEAF78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tional Challenges to Implementing a FAFSA – IRS Match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Mis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Tax F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Marit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ed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from 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with Foreign Tax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Judgmen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BS00559_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7432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28E-21CE-4BCB-BD4B-36A8ED39E50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School’s Role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-407880">
              <a:spcBef>
                <a:spcPts val="700"/>
              </a:spcBef>
              <a:buClr>
                <a:srgbClr val="0066cc"/>
              </a:buClr>
              <a:buSzPct val="125000"/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nform applicants of IRS match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appl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pplicants upd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ED/FSA of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SzPct val="115000"/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/Report over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spcBef>
                <a:spcPts val="70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737-CD4A-4F79-A35C-B187BCC7449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FSA – IR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286000"/>
            <a:ext cx="67820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ne Sau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lrsstpwatch" descr="Picture of dollar bills and a stop watch."/>
          <p:cNvPicPr/>
          <p:nvPr/>
        </p:nvPicPr>
        <p:blipFill>
          <a:blip r:embed="rId1"/>
          <a:stretch/>
        </p:blipFill>
        <p:spPr>
          <a:xfrm>
            <a:off x="5931000" y="380988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BBA-76DF-4D5B-85E8-F0EF8B85D8B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705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School’s Role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s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Once Notified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dition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recovering over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11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flexibility for upcoming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 ultimat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schools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3EC-4462-4872-962C-7B4F972090B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6C8-9C02-4AC5-B57C-332F0B09286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ow Would a FAFSA – IRS Match Work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eps in the income verif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tch FAFSA data with IR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dentify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termine impact of discrepa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tify parties of IRS mat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form resolution and hold or re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21207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alyz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6DC-CD80-4275-93B5-91F7320A310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Discussion Questions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08D-9C8B-43BE-AC2C-DD34BAEC669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t what time during the processing year should ED perform the match and notify  students, parents and schools of the match results?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5E1-E10E-4152-B7E2-729C945FD0C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kind of toler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3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hould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3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 algn="ctr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 difference between FAFSA data or 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 change in EFC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524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160164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change in award am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S00561_" descr=""/>
          <p:cNvPicPr/>
          <p:nvPr/>
        </p:nvPicPr>
        <p:blipFill>
          <a:blip r:embed="rId1"/>
          <a:stretch/>
        </p:blipFill>
        <p:spPr>
          <a:xfrm>
            <a:off x="3200400" y="4307040"/>
            <a:ext cx="2438280" cy="178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3C0-EECF-4A77-B7F9-3EEA8942466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uld we use prior prior year data to resolve the timing issue?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C9F-B543-4478-BDBF-A45B04BBD76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f all applicants (not just Pell-eligibles) are matched, will ED need to start requiring schools to submit all FAFSA changes to the CPS?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83B-C202-4626-9F90-9B78718E819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documentation or  process should be required to resolve mismatches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4" name="BS00554_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13372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A9B-96B0-4D84-A852-57EA00748F2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666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should the match affect the current verification process/requirement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177-CC9B-42F8-8AB9-C737BEAAD08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oday’s Top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19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D91-C2B7-4C3A-A73A-8EB463846D4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f the school did a Professional Judgment, should ED match on the prior trans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F93-806A-47B2-B16F-6971478BEDF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n a demonstration pilot, must we notify the other schools listed on the student’s application of an IRS discrepancy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D74-D89B-4F9F-B65B-5C5CBD829AA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819160"/>
            <a:ext cx="723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schools resolve “legitimate” discrepancies (e.g., recent divorces or remarriages)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1EE-A21A-4B29-A30A-64DEAA8E816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an IRS match affect QA school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7EC-6DC5-4C9D-993D-A354BA9F75D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should ED notify parties of the IRS match results?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udents and par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spcBef>
                <a:spcPts val="799"/>
              </a:spcBef>
              <a:buNone/>
              <a:tabLst>
                <a:tab algn="l" pos="20559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E03254_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1828800" cy="16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312-968C-4418-95E2-DA284F99291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kind of flexibility should schools have related to current disbursement rules, i.e. liability?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D7C-2448-4BC7-BD84-6CBF1CF5BB1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will the match process address late tax filers and amended returns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EF1-9D55-4DD0-9B0A-9D49A112E45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can ED improve the e-mail reminder process sent to students after the April 15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tax filing deadline?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111-AB84-4633-AB63-785E3507AE4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7760"/>
            <a:ext cx="6705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steps can ED take to minimize disruptions to aid delivery?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20E-9F0D-4885-A0A1-39824AD518F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omments, Suggestions, Offer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.  Please e-mail your thoughts and idea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</a:rPr>
              <a:t>irsmatch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44008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2CB-0C68-4D07-AD19-1BC6BBF73C42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wo Words to Remember—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certaint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llaboratio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0D8-7BC4-4235-9AF8-1474567767E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447-D5F8-4711-A692-8E984AE9C1E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y Is a FAFSA – IRS Match Important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RIGHT MONEY, TO THE RIGHT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 THE RIGHT TIME, IN THE RIGH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300 million per year in Pell Gr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President’s Management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Department’s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s in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04 Budget Conference Report &amp; ACS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F1E-E284-4BF1-8612-D6095FB7C09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a FAFSA – IRS Match a Big Deal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Y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ch of FAFSA data with tax data from the IRS will be a major event in the history of student aid program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ignificant a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the Pell Gra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Need Analys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ubsidiz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9B1-E9B8-4152-9243-FB850759AD7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hat is the FAFSA – IRS Match?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FSA – IRS Match would compare selected data from an applicant’s FAFSA with comparable data submitted by the taxpayer to the IR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Earnings from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ing Status (e.g., single, marri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Tax Form (e.g., 1040, 1040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0E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B62-A7C2-4224-A67B-4DB366E8C55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Legal St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0E4-F3C5-4C4D-A63E-5DD32AB5C4B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22:08Z</dcterms:created>
  <dc:creator>Paul.Hill.Jr</dc:creator>
  <dc:description/>
  <dc:language>en-US</dc:language>
  <cp:lastModifiedBy>DoED</cp:lastModifiedBy>
  <dcterms:modified xsi:type="dcterms:W3CDTF">2004-07-20T12:37:27Z</dcterms:modified>
  <cp:revision>79</cp:revision>
  <dc:subject/>
  <dc:title>PowerPoint Presentation</dc:title>
</cp:coreProperties>
</file>