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8CC-F6FD-46D3-9F4E-E025C988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01D-FC85-493C-8EBD-3CDE59A9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0CD-5238-4AC8-9DD4-26120001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C10-0885-478B-8AAB-961919C4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626-D093-4634-8EC0-28DEA9A5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F54-78FF-4F91-A892-844A865A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56A-8EEE-476D-B4AF-1FA6A590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CF5-107E-4E6E-A594-F5C1F4F4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723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4EE-307B-46E9-9F1C-B5EC4448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3AE-3233-4D2D-B96D-28243EF4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DC1-98DB-4454-BAC4-068AE800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B6B-125F-4553-AE43-32CC9E68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41E0-660C-408E-88F3-9DAB28797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2004_logo" descr=""/>
          <p:cNvPicPr/>
          <p:nvPr/>
        </p:nvPicPr>
        <p:blipFill>
          <a:blip r:embed="rId2"/>
          <a:srcRect l="1901" t="0" r="950" b="46689"/>
          <a:stretch/>
        </p:blipFill>
        <p:spPr>
          <a:xfrm>
            <a:off x="1219320" y="76320"/>
            <a:ext cx="3886200" cy="761760"/>
          </a:xfrm>
          <a:prstGeom prst="rect">
            <a:avLst/>
          </a:prstGeom>
          <a:ln w="0">
            <a:noFill/>
          </a:ln>
        </p:spPr>
      </p:pic>
      <p:pic>
        <p:nvPicPr>
          <p:cNvPr id="6" name="Doefsa1" descr=""/>
          <p:cNvPicPr/>
          <p:nvPr/>
        </p:nvPicPr>
        <p:blipFill>
          <a:blip r:embed="rId3"/>
          <a:srcRect l="0" t="0" r="0" b="25495"/>
          <a:stretch/>
        </p:blipFill>
        <p:spPr>
          <a:xfrm>
            <a:off x="158760" y="152280"/>
            <a:ext cx="1060560" cy="1067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marilyn.leblanc@ed.gov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SFAA%20Template%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734-4F91-445D-8A63-C1BB1D56E61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y Don’t We Already Have a FAFSA – IRS Match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HEA Re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Revenue Code Section 61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IRS Restructuring and Reform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tiality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sury De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Committee on T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BS00508_" descr=""/>
          <p:cNvPicPr/>
          <p:nvPr/>
        </p:nvPicPr>
        <p:blipFill>
          <a:blip r:embed="rId1"/>
          <a:stretch/>
        </p:blipFill>
        <p:spPr>
          <a:xfrm>
            <a:off x="6324480" y="4191120"/>
            <a:ext cx="144324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638-590F-4112-A56D-57E8BB43292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the Legal Status of a FAFSA – IRS Match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 3613 – the “Student Aid Streamlined Disclo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of 200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November 21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Ways and Means Subcommittee on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ation to Comment by January 23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478-1934-4AF7-A275-E8DC322B6D3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hat Are the Next Step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it passage of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with IRS staff to gather mor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consult with the financial aid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n IRS Match Design Team that includes FAAs, students,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n IRS Demonstration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037-EFA0-4382-9C35-7DE7A60A472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hallenge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24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371-3D21-4016-8AB6-96C244A2F9F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lendar Challenges to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mplementing a FAFSA – IRS Match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Year and IRS Filing vs FAFS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Tax Data and Award Ye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FAFSA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2895480"/>
          <a:ext cx="76201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95480"/>
                    <a:ext cx="76201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57200" y="56386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Ja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62120" y="52578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514600" y="53341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5410080"/>
            <a:ext cx="17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April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IRS Filing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29200" y="53341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486400"/>
            <a:ext cx="289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July/Aug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IRS Data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368-DB3E-4A1C-9186-27F95FAE047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alendar Challenges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lying for Aid as a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wo-Step Proces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nd submit a FAFSA, with estimated income information,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tax data as soon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returns ar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sends e-mail reminders to students and parents after the April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x filing deadline  reminding them to confirm that their FAFSA contains accur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295-D369-4EF4-ADBD-18CB47B7020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-mail Reminder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Selection Criteria in 2004-05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atest FAFSA transaction, the student or the student’s parent prov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incom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 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d from selection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year and graduat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th EFCs &gt;7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were selected for verification on last trans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277-5FE3-41A9-9594-828081E3DAA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atutory Challenges to Implementing a FAFSA – IRS Match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l Autho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ontr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of Actual Data vs. “Fact of Discrepancy” to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ing Applicant/Taxp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’s Third Party Serv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352-7511-4CC8-BC79-0014E5288DF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perational Challenges to Implementing a FAFSA – IRS Match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 Mism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Tax Fi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Marit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ed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fi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s from 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s with Foreign Tax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Judgmen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BS00559_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7432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B4E-45C5-41AB-A591-B0520BA19C1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the School’s Role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7880" indent="-407880">
              <a:spcBef>
                <a:spcPts val="700"/>
              </a:spcBef>
              <a:buClr>
                <a:srgbClr val="0066cc"/>
              </a:buClr>
              <a:buSzPct val="125000"/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inform applicants of IRS match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appl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pplicants upd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ED/FSA of 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SzPct val="115000"/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/Report over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spcBef>
                <a:spcPts val="70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F36-8602-4550-8010-2A7374E762A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FSA – IRS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2286000"/>
            <a:ext cx="67820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Madze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of Postsecondary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ne Sau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lrsstpwatch" descr="Picture of dollar bills and a stop watch."/>
          <p:cNvPicPr/>
          <p:nvPr/>
        </p:nvPicPr>
        <p:blipFill>
          <a:blip r:embed="rId1"/>
          <a:stretch/>
        </p:blipFill>
        <p:spPr>
          <a:xfrm>
            <a:off x="5931000" y="3809880"/>
            <a:ext cx="19177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00B-EA12-4769-89E8-E06CAB4A7CC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705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the School’s Role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Once Notified of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dditional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recovering over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flexibility for upcoming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Match ultimate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schools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35A-49AD-40AF-9A4F-58C7FD0AF7C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Iss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597-5C3E-4347-8E1C-939B7521DC6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ow Would a FAFSA – IRS Match Work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00"/>
              </a:spcBef>
              <a:buNone/>
              <a:tabLst>
                <a:tab algn="l" pos="0"/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steps in the income verif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tch FAFSA data with IR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dentify discrepa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termine impact of discrepa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tify parties of IRS mat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erform resolution and hold or rec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Step 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alyz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75C-3CF6-4244-8EE9-FE0987F4945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Discussion Questions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282-E648-4DF3-A54D-59C97C8242D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t what time during the processing year should ED perform the match and notify  students, parents and schools of the match results?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6ED-4BC4-4CB4-BE26-D21E2198A69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hat kind of toler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3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hould we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3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 algn="ctr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y difference between FAFSA data or I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y change in EFC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change in award am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BS00561_" descr=""/>
          <p:cNvPicPr/>
          <p:nvPr/>
        </p:nvPicPr>
        <p:blipFill>
          <a:blip r:embed="rId1"/>
          <a:stretch/>
        </p:blipFill>
        <p:spPr>
          <a:xfrm>
            <a:off x="3200400" y="4307040"/>
            <a:ext cx="2438280" cy="178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1EC-95BC-40D2-AAF5-9A6203CF1B7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uld we use prior prior year data to resolve the timing issue?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F8C-FB14-4A3E-BD2B-2C0BB7AB70F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f all applicants (not just Pell-eligibles) are matched, will ED need to start requiring schools to submit all FAFSA changes to the CPS?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2A5-6A13-4829-B8A7-29F00E22FDD4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documentation or  process should be required to resolve mismatches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4" name="BS00554_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133720" cy="18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884-3AB0-4694-B560-E86B46F3492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666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should the match affect the current verification process/requirement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ABC-EC63-4DB4-B3DB-7A4EB6C15BF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oday’s Topic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19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C83-683E-4EF8-9E40-95367668A44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f the school did a Professional Judgment, should ED match on the prior trans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779-E7AE-451A-BCC7-F8DA823AB46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n a demonstration pilot, must we notify the other schools listed on the student’s application of an IRS discrepancy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EBF-97AF-4BAE-961D-59F9F7DF8C0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8191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will schools resolve “legitimate” discrepancies (e.g., recent divorces or remarriages)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439-D6EB-4D1B-9CDF-A056EF34162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will an IRS match affect QA school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216-1441-43DA-BE2E-D4DE8CBFF3F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43828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should ED notify parties of the IRS match results?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32763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udents and par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spcBef>
                <a:spcPts val="799"/>
              </a:spcBef>
              <a:buNone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E03254_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1828800" cy="16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B51-0609-49A3-943E-C5E0D4BD2960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kind of flexibility should schools have related to current disbursement rules, i.e. liability?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64C-D468-4B52-90F6-C16E2EFC0DC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8954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will the match process address late tax filers and amended return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3A5-4215-4C44-982B-55C7F7FDABE1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can ED improve the e-mail reminder process sent to students after the April 15</a:t>
            </a:r>
            <a:r>
              <a:rPr b="1" lang="en-US" sz="40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tax filing deadline?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6F3-644F-4748-91F6-69A17F25954C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7760"/>
            <a:ext cx="6705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steps can ED take to minimize disruptions to aid delivery?</a:t>
            </a:r>
            <a:br>
              <a:rPr sz="3600"/>
            </a:b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D11-DF51-4D34-898D-2B479864F3F1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ments, Suggestions, Offer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.  Please e-mail your thoughts and idea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</a:rPr>
              <a:t>irsmatch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44008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51B-45B1-4E50-9D31-1EA8F3C46168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52388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wo Words to Remember—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certaint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llaboratio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C49-E309-4286-8B66-65E7A17031E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Backg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2A2-34F8-438E-8F59-0EF7938045D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hy Is a FAFSA – IRS Match Important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RIGHT MONEY, TO THE RIGHT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THE RIGHT TIME, IN THE RIGH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$300 million per year in Pell Gr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President’s Management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Department’s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s in President’s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04 Budget Conference Report &amp; ACS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BB4-F015-40B9-B5C4-EAE55EB0297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s a FAFSA – IRS Match a Big Deal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ch of FAFSA data with tax data from the IRS will be a major event in the history of student aid progra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ignificant a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the Pell Gra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Need Analys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ubsidized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E90-E0B1-4D30-AA1F-9A603969E66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the FAFSA – IRS Match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FSA – IRS Match would compare selected data from an applicant’s FAFSA with comparable data submitted by the taxpayer to the IR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ed Gros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from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ing Status (e.g., single, marri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Tax Form (e.g., 1040, 1040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0E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CD0-A535-470F-A324-9F036E8E300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Legal St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50C-7C6A-4278-8E6C-237791AFDA3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22:08Z</dcterms:created>
  <dc:creator>Paul.Hill.Jr</dc:creator>
  <dc:description/>
  <dc:language>en-US</dc:language>
  <cp:lastModifiedBy>DoED</cp:lastModifiedBy>
  <dcterms:modified xsi:type="dcterms:W3CDTF">2004-07-20T12:37:27Z</dcterms:modified>
  <cp:revision>79</cp:revision>
  <dc:subject/>
  <dc:title>PowerPoint Presentation</dc:title>
</cp:coreProperties>
</file>